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43B-DCB1-420A-8636-76E587023E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on de indicadores de seguridad y 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mado de red de informaciòn 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3D33-0779-4D95-9DA5-5B602CB5C2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9DA-DFFD-4B99-98D8-87390D30D0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AEA6-2BFC-423C-8ED5-D498AED7BE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D3-483D-4EFC-825E-DE09A732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88B-859D-4B39-BE9E-AB4788C2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C44-4026-4302-8943-C35BA363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560-04D2-4B72-A6DA-F2A8A017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A50-3F5C-4E83-8B9C-B193BF55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7C7A-9177-4001-8337-1476B09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E0A-380C-4990-82EB-C433D0F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F80C-FDC8-46D9-B57B-FDBD4D6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9BC2-356B-4A2D-AAC9-4F08DB2E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6E3-0DD2-4339-BB50-AE4E34CE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52EA-EA32-461C-94F3-4D22D27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D4D-F816-4994-B3C2-52B6159B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D9E-4745-4BDA-9904-22045A3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102A-CB6C-414C-9C67-88B25B1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F03C-1485-4133-A305-A02D94AF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AE74-6533-4FB3-9D44-361EAC96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2D68-B0BC-468F-8AFD-0C562DF1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880-71D1-465D-B4F1-A36B168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339-9EEB-4DB5-B0E8-A964AE5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4AF-06D6-47F0-B835-D6AA203D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3F3-D1D9-414F-AE78-B244A603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016-4F9F-4BE0-AFCA-35D0C6A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34C-F4F1-42F9-B246-A6498D16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C27-91C2-4CE0-86D3-912AE75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AD4-C739-488B-A3F3-B62108AC57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0B1F-FC8B-4B1C-B356-82AD5CF53F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80787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ptimización de Recursos en la Gestión del financiado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00400" y="4343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 crisis como oportunidad de mejora……………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nes de continge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yor libertad de deci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cen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primer nivel de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c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manejo, calidad y efici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ineamiento de incentiv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eneficiario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financi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port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c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sten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ic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dicadores c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munica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de 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plementa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elerad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1680" y="19015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bir momentos de la ver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tisfacción 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presa por la respuesta en la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comendar a niveles jerárquicos las respuestas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benefici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GESTIONAR POR LA PRESCRIPCION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BASADA EN GUIAS CLIN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POR EL RECHAZO O LIM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99"/>
                </a:solidFill>
                <a:latin typeface="Arial"/>
              </a:rPr>
              <a:t>APOSTAR A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AGINAR EL MODELO DE OBRA SOCIAL DESE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A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TI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A CRI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IMIENT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EL FUT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209320"/>
            <a:ext cx="739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ERCERI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r a cargo de la obra social toda la cobertura auditable a dista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TION DIRECTA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ionar íntegramente el área metropolitana conviriténdola en modelo de atención y centro de consultas de todo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os Exclusivos de atención del primer ni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cio =  área metropolit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o =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erior d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ción de contrataciones a través de gerenciad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tación completa direc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ción sistemas de auditoría  tradicionales (contención por limitaci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 la prescri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r barreras a la acces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ión continua de la satisfacción, los consumos y los cos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er herramientas a los ges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stener el mensaje de la conducta médica correcta como única respues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rrollar el área de Evaluación de Tecnologias para sustentar políticas en base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evidencia cientí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eficiencia aloc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eq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extualización sanitaria, ética, sociocultural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175248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vincular a los centros productores de demanda inducida de prestaciones de dudoso o nulo benefi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unicar, comunicar, comunicar, explicar, explicar, expli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saje único, coherente, justo, solidario y respons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roblemática prestacional compleja (v.g.: excepciones) es multicaus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abordaje y resolución puede ser múltiple y variar de prestación en prestación y de “caso a cas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2520" y="2361960"/>
            <a:ext cx="8462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stión directa del Primer nivel de aten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ión de indicadores de desempeño y segur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d de informac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n direc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unicación de resultado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Aprovechamiento y Potencialización de ventajas competitiv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76200" y="1599840"/>
            <a:ext cx="846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centr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 de las decisiones en pocos ( Directorio- Gerent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ta velocida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re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tec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problema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respuesta solu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inición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manente de las prior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cho trabajo y pa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plot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xima de los recursos invertidos en sistemas in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c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Dinamica de Gestio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Politicas progresivas en las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á</a:t>
            </a: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reas de gesti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ó</a:t>
            </a: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n direc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23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n de respuestas a los afili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ción de paque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tacionales (v.g.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iru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ores decrecientes por volum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iz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compli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jora del sistema de aten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mediante la protocoliza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de la aten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en terreno de calidad separada de la h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entra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de la aten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para el mejor aprovechamiento de la esc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6480" y="249120"/>
            <a:ext cx="62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líticas Implementa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b7e7ff"/>
                </a:solidFill>
                <a:latin typeface="Arial"/>
              </a:rPr>
              <a:t>Final del 2001</a:t>
            </a:r>
            <a:br>
              <a:rPr sz="6000"/>
            </a:b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itua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a operativa propia pa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onaliz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 la derivac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adecuar oferta a demanda prevalente (caso por cas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strib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v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 fact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 competencia por iguales unidades sani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ro de prestado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trata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a y diversifica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mi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resolver la emergencia con menor influencia de la demanda induc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5760" y="249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liticas Implementa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enso en la utiliza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de insum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has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veces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sto de proced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ianzas estratégicas con aquellos en cri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cerradura+lla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tiz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de procesos de quejas y reclam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levamientos retrospectivos sobre pacientes 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tilizaron materiales 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 costo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tamientos conservadores, no intrumentados o material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ción d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as deci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410080"/>
            <a:ext cx="609480" cy="914400"/>
          </a:xfrm>
          <a:custGeom>
            <a:avLst/>
            <a:gdLst>
              <a:gd name="textAreaLeft" fmla="*/ 81360 w 609480"/>
              <a:gd name="textAreaRight" fmla="*/ 528120 w 6094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5760" y="249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liticas Implementa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os de sistem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ducir los procesos de decisión de ope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ivación inteligente de acuerdo a políticas de la obr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ora de la cartil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úsqueda de prestadores alterna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mplimiento de compromis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m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o regular y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di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ons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 débitos soprpresiv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fia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5760" y="249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liticas Implementa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suasión en utilización del efector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ico en prestaciones obligadas de alto costo en insum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bsid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honorarios a través de relación de ag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nción permanent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tado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enefici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uesta uniforme y sustentada cientificamente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rke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nuevos lanzamien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as cuasi licitato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ención de cos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ementos subsidiados por 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5760" y="249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liticas Implementa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Momentos de la verdad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y algunas Respuest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3733560" cy="3886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tención telefónica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licitud de tu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licitud de atención domicili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licitud de interna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ulta medica ur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ulta medica program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rno y predisposi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 de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tención en interna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ra del medic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mbiente y 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stión de la  que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4343400" cy="3886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l center- 080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rno libre aju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ol satisfacción di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sa operativa 24 h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ultorios no program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orporación médicos- plan fideliza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 del med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mpliación vademecum- genéricos- contratación farmac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formas edif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uzones sellados- sistema especial de respuestas- medico legis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ta programada de auditoria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280" y="1865160"/>
            <a:ext cx="2986560" cy="45972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omentos de 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89520" y="1854360"/>
            <a:ext cx="298476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spuestas a 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438280"/>
            <a:ext cx="85104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Gestión de calidad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en el 1er Nivel de Atenció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7e7ff"/>
                </a:solidFill>
                <a:latin typeface="Arial"/>
              </a:rPr>
              <a:t>ESTRATEGIA DE IMPLEMENTACION DE INTERVENCIONES MULTIFACETIC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CREMENTO EN ACCESIBILIDAD Y CONTINUIDAD DE LA ATEN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cc"/>
                </a:solidFill>
                <a:latin typeface="Arial"/>
              </a:rPr>
              <a:t>ELIMINACION BARRERAS Y OBSTÁC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VOLUCRAMIENTO DE PROFESIONALES EN EL PROYECTO</a:t>
            </a:r>
            <a:r>
              <a:rPr b="1" lang="es-ES" sz="20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cc"/>
                </a:solidFill>
                <a:latin typeface="Arial"/>
              </a:rPr>
              <a:t>FACILIT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MPROMI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EED-BACK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SEMPEÑO SUBOPTI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DISEMINACION, ADAPTACION, CONSENSO E IMPLEMENTACION INICIAL DE GUI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cc"/>
                </a:solidFill>
                <a:latin typeface="Arial"/>
              </a:rPr>
              <a:t>EPS – DBT – DLP - H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355760"/>
            <a:ext cx="58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JORAMIENTO DE LA EFECTIVIDAD CLí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Lucida Sans Unicode"/>
              </a:rPr>
              <a:t>Cambio en el desempeño alcanzado a nivel de criterios luego de implementar la </a:t>
            </a:r>
            <a:r>
              <a:rPr b="1" lang="es-ES" sz="2400" spc="-1" strike="noStrike">
                <a:solidFill>
                  <a:srgbClr val="ffcc66"/>
                </a:solidFill>
                <a:latin typeface="Lucida Sans Unicode"/>
              </a:rPr>
              <a:t>Guía Clínica de Diabetes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320" y="1671480"/>
          <a:ext cx="9067680" cy="4618080"/>
        </p:xfrm>
        <a:graphic>
          <a:graphicData uri="http://schemas.openxmlformats.org/drawingml/2006/table">
            <a:tbl>
              <a:tblPr/>
              <a:tblGrid>
                <a:gridCol w="2133360"/>
                <a:gridCol w="1905120"/>
                <a:gridCol w="1828800"/>
                <a:gridCol w="1600200"/>
                <a:gridCol w="16002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iter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Ejempl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sal 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IC9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Intervencion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C9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-valor&lt;0.0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 – B dif. ABSOLUTA % (IC9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ETE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ASCULOPAT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(12;2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 (67;8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77(s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5 (43;6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ETECCIÓN NEUROPAT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 (10;2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(38;5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47 (s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(17;4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ETECCIÓN OFTALMOPAT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 (25;4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 (82;9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83 (s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 (22;6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ETECCIÓN</a:t>
                      </a:r>
                      <a:r>
                        <a:rPr b="1" lang="es-ES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HI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 (69;8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 (92;99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81 (s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 (9;27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ETECCIÓN</a:t>
                      </a:r>
                      <a:r>
                        <a:rPr b="1" lang="es-E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ISLIP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  (70;8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3 (89;9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3 (s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(5;2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1066680"/>
          <a:ext cx="9144000" cy="5829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371600"/>
                <a:gridCol w="1600200"/>
                <a:gridCol w="1371600"/>
                <a:gridCol w="1600200"/>
              </a:tblGrid>
              <a:tr h="16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AS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C9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C9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MEJO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SOLU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C9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-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alor 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MEJO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21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PI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75% </a:t>
                      </a: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B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= 59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(13;30)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  <a:ea typeface="Arial"/>
                        </a:rPr>
                        <a:t>7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  <a:ea typeface="Arial"/>
                        </a:rPr>
                        <a:t>(63;81)</a:t>
                      </a:r>
                      <a:r>
                        <a:rPr b="0" lang="es-E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0 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(38;62)</a:t>
                      </a: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.01</a:t>
                      </a: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p&lt;.0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4</a:t>
                      </a: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20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ENTE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90% </a:t>
                      </a: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B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=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3 </a:t>
                      </a: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(0;2)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  <a:ea typeface="Times New Roman"/>
                        </a:rPr>
                        <a:t>1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  <a:ea typeface="Times New Roman"/>
                        </a:rPr>
                        <a:t>(4;17)</a:t>
                      </a:r>
                      <a:r>
                        <a:rPr b="1" lang="es-E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3;16)</a:t>
                      </a:r>
                      <a:r>
                        <a:rPr b="1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p&lt;.05)</a:t>
                      </a:r>
                      <a:r>
                        <a:rPr b="1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96880" y="184320"/>
            <a:ext cx="798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Lucida Sans Unicode"/>
              </a:rPr>
              <a:t>ADHERENCIA GUIAS CLINICAS POST-INTER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Lucida Sans Unicode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3280" y="200160"/>
            <a:ext cx="771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REDUCCION EN NUMERO DE CRITERIOS </a:t>
            </a:r>
            <a:r>
              <a:rPr b="1" i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MAS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INCUMPL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OST- IMPLEMENTACION INICIAL DE GUIAS CLIN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jemplo: </a:t>
            </a:r>
            <a:r>
              <a:rPr b="1" i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DIABETES (Ajustado al tamaño muestral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aída en la recau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isminució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embolso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A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egundo ataque “desnate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reciente animo querellan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nómeno judicial ampar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aída del sueldo prome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aparac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n del crédi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ólar fut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666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Monitoreo de la efectividad en la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tenci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ó</a:t>
            </a: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n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P</a:t>
            </a:r>
            <a:r>
              <a:rPr b="1" lang="es-ES" sz="4000" spc="-1" strike="noStrike">
                <a:solidFill>
                  <a:srgbClr val="b7e7ff"/>
                </a:solidFill>
                <a:latin typeface="Arial"/>
              </a:rPr>
              <a:t>rimaria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 de la Salu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9120" y="112680"/>
            <a:ext cx="777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Establecimiento de Estandares Internos de Desempeño Glob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Efectividad Mínima, Promedio, Apropiada y de Excelencia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Cobertura Apropiada y de Excel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7320" y="112680"/>
            <a:ext cx="777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Benchmarking Interno de Desempeño Glob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Centro “Best-Performer”: Supera todos los estándares glob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990720"/>
          <a:ext cx="91440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60" y="112680"/>
            <a:ext cx="90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Benchmarking Interno de Desempeño Glob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Centro “Worst-Performer”: No alcanza ninguno de los estándares glob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990720"/>
          <a:ext cx="91440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4028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1295280" y="3352680"/>
            <a:ext cx="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62320" y="2895120"/>
            <a:ext cx="0" cy="3812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209320"/>
            <a:ext cx="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419720" y="2209320"/>
            <a:ext cx="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334120" y="3276360"/>
            <a:ext cx="0" cy="5331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400800" y="373392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467480" y="4572000"/>
            <a:ext cx="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4800" y="4530600"/>
            <a:ext cx="137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EC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914400"/>
          <a:ext cx="9144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7320" y="152280"/>
            <a:ext cx="60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Variación Semanal de Indicadores de Efectiv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 Narrow"/>
              </a:rPr>
              <a:t>para cada Condición Clí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200" y="122400"/>
            <a:ext cx="9295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Arial Narrow"/>
              </a:rPr>
              <a:t>Variaciones de Efectividad en Atención Ambulatoria </a:t>
            </a:r>
            <a:br>
              <a:rPr sz="2800"/>
            </a:br>
            <a:r>
              <a:rPr b="1" i="1" lang="en-US" sz="2400" spc="-1" strike="noStrike">
                <a:solidFill>
                  <a:srgbClr val="0000a4"/>
                </a:solidFill>
                <a:latin typeface="Arial Narrow"/>
              </a:rPr>
              <a:t>A Nivel de Criterios y Global de una Condición (Examen Periódico de Salu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4"/>
                </a:solidFill>
                <a:latin typeface="Arial Narrow"/>
              </a:rPr>
              <a:t>Y A Nivel de cada Cen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b7e7ff"/>
                </a:solidFill>
                <a:latin typeface="Arial"/>
              </a:rPr>
              <a:t>Esquema de divisi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b7e7ff"/>
                </a:solidFill>
                <a:latin typeface="Arial"/>
              </a:rPr>
              <a:t>n y contrataci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b7e7ff"/>
                </a:solidFill>
                <a:latin typeface="Arial"/>
              </a:rPr>
              <a:t>n de las cirug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í</a:t>
            </a:r>
            <a:r>
              <a:rPr b="0" lang="es-ES" sz="3600" spc="-1" strike="noStrike">
                <a:solidFill>
                  <a:srgbClr val="b7e7ff"/>
                </a:solidFill>
                <a:latin typeface="Arial"/>
              </a:rPr>
              <a:t>as programada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676520"/>
            <a:ext cx="1371600" cy="642600"/>
          </a:xfrm>
          <a:prstGeom prst="rect">
            <a:avLst/>
          </a:prstGeom>
          <a:solidFill>
            <a:srgbClr val="80808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manda conten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981080"/>
            <a:ext cx="28195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65760" y="1585800"/>
            <a:ext cx="3744720" cy="916920"/>
          </a:xfrm>
          <a:prstGeom prst="rect">
            <a:avLst/>
          </a:prstGeom>
          <a:solidFill>
            <a:srgbClr val="800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ra por paquete de cirugías con valores decrecientes a 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ul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teg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003480"/>
            <a:ext cx="1827360" cy="64260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uevas precri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35268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895480"/>
            <a:ext cx="2160720" cy="119124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rmalización realizada por nuestros  méd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352680"/>
            <a:ext cx="1295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759040"/>
            <a:ext cx="2209680" cy="1465560"/>
          </a:xfrm>
          <a:prstGeom prst="rect">
            <a:avLst/>
          </a:prstGeom>
          <a:solidFill>
            <a:srgbClr val="0000a4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aja incidencia de insumos- auditoria en la prescripción-compra modul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3962520"/>
            <a:ext cx="114300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4437000"/>
            <a:ext cx="2614680" cy="228852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ta incidencia de insumos, compra separada de los honorarios previo compromiso para el uso de vademecum prop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tilla reduc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068560" y="4114800"/>
            <a:ext cx="903240" cy="7128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267080"/>
            <a:ext cx="1752480" cy="1739880"/>
          </a:xfrm>
          <a:prstGeom prst="rect">
            <a:avLst/>
          </a:prstGeom>
          <a:solidFill>
            <a:srgbClr val="9966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udit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 de cumplimiento de guías, satisfacción e indicadores de segur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Interior del paí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gresiva integración al modelo primer nivel pro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parición de las gerenciad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rategia para la desterceriz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 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all center como mecanismo de escucha y res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recimiento en el numero de afili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ducción de las op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ducción de los gastos en hospital pu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mento de la atención en red contrat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gos 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versiones en infraestructura del primer nivel en todo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de los dirigentes políticos en la atención prim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ducc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ást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s que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4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mento de las consul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planamiento del gasto en medicamentos y p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ticas del primer ni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mento de p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ticas preve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ducción permanente de los valores de los insumos de alto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cripción ordenada, con evidencia científica y concentración de modelos y marcas para mejorar la nego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stitución pract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ecimiento profes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scendencia acadé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cremento en la satisfacciòn del afiliado, reduccion de esperas y tram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cremento en la satisfaccion del cliente interno-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JORA COMPROBABLE DE LA CALIDAD PREST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stos multiplic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islación de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bertu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in fina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capacidad, diabete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lecciòn ad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isis conju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ación de ag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ejecimiento pobl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cesidades basicas insatisfec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Mejora de la cobertu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in de la emergencia sanitaria anticip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roa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necologia = “Plan Ros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olución y ausencia de listas de esp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torización inmedi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evo pl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n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evo pl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entes gui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nùmero de prestadores y con màs reconocimiento en 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ncipio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68360"/>
            <a:ext cx="755028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lidar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quidad e igualdad en el acceso a los 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videncia científ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respeto absoluto al P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primer nivel y el medico para la optimización del co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sistemas de información y comunicación para la toma de decisiones y medición “on time“ de los gas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ncipio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842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tisfacc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ndicadores de seguridad como medición del éx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rigentes políticos como respaldo a decisiones sanit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municación de resultados para disemi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l modelo prest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reducción de los gastos y la optimización del uso de los recurs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nsecuencias de la mejor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calidad prest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do puede mejor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o perman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biente de trabaj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stimul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exposición de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gún mecanismo de contratación o proceso es para siemp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OBJETIVO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Ideas Fuerza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51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I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ran cambio de estructura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MERGENCIA SANIT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r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cial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 eficiente en la gestión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TACION A CAM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recimiento sostenido, solidez financiera y excelencia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156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SCEN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 activ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cadé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RIZONTALIZ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t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dos los integra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nsaje ú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OBJETIVO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ESTRATEGIAS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deas Fuer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760" y="167652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n de cobertura “pagable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un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z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uestas “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as” a la emergencia sani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ipos de mejora continu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onar sob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múltip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cutiv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atiz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1640" y="5105520"/>
            <a:ext cx="3987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ci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anta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ci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cono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724280"/>
            <a:ext cx="761760" cy="914400"/>
          </a:xfrm>
          <a:custGeom>
            <a:avLst/>
            <a:gdLst>
              <a:gd name="textAreaLeft" fmla="*/ 101880 w 761760"/>
              <a:gd name="textAreaRight" fmla="*/ 659880 w 7617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6:27:48Z</dcterms:created>
  <dc:creator>Mario De Luca</dc:creator>
  <dc:description/>
  <dc:language>en-US</dc:language>
  <cp:lastModifiedBy>C.P.C.E.C.A.B.A.</cp:lastModifiedBy>
  <dcterms:modified xsi:type="dcterms:W3CDTF">2004-07-01T19:33:02Z</dcterms:modified>
  <cp:revision>120</cp:revision>
  <dc:subject/>
  <dc:title>Identificacion Oportunidades de Mejora</dc:title>
</cp:coreProperties>
</file>