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5E03-A347-4F7B-9055-5F8BC6E2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1E2E-3C28-4909-81B8-D279FA7C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184B-3595-44E5-A3B5-17A1845A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0895-6C33-4E5E-A201-11BDDFE3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0EBD-C3D9-4B3E-A79D-FDE428294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7BBB-D21D-4179-AC41-7115C6DF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23B6-319B-4EC2-9AEA-CC7439C8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CFEC-069F-44DF-857A-79EB125E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2DC0-2BAE-474B-8636-9D0C5020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30AD-C92A-441C-9EC9-1DC46414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CEFC-EFBD-4A15-A2B2-D8895D20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2ACD-6B7C-47EF-AF15-C9F9226B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A3A0-5198-4DD3-9DDF-840DFC95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94E1-B028-4A27-AC22-EBD3FE76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C2C2-DADB-4E00-A566-27FDA23D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8D25-FC70-4D78-8F98-997DA3B4D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A449-F865-4258-9270-F3FC3FEDC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7BEB-202D-4C6E-A9DC-2C826CF6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35D5-C161-498A-BB41-A52CE7DF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7378-D9EB-4F9B-92AC-CCC120B6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3A50-80AC-4048-AA61-00FBEED1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5346-2452-4A4D-87E0-4AD0CDB6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67B3-459F-45D2-8FA2-EDBC6FF6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C810-5B4E-441F-8103-6D7170E6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01CB-87C0-45F4-9E3B-27FF392C775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EC70-8541-407E-B5A3-FEB85B2EC86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3520" y="60948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2da. JORNADA DE ADMINISTRACIÓN DE SALU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281952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2209680"/>
            <a:ext cx="7467840" cy="36741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Photina Casual Black"/>
                <a:ea typeface="Times New Roman"/>
              </a:rPr>
              <a:t>La gestión estratégica de pequeñas empresas del s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. Juan A. Larzáb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id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33520" y="3049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imes New Roman"/>
              </a:rPr>
              <a:t>ANÁLISIS ECONÓMICO FINANCIE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1066680"/>
            <a:ext cx="822960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imes New Roman"/>
              </a:rPr>
              <a:t>COSTOS DEL PERS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o de obra intens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o 4 turnos de trabaj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5 días de actividad las 24 h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identes por mayor exposición a riesgos qu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criben tardíamente para ciertas enfermedades (virus HIV-Hepatitis B. C, etc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33520" y="2286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imes New Roman"/>
              </a:rPr>
              <a:t>ANÁLISIS ECONÓMICO FINANCIE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990720"/>
            <a:ext cx="868680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imes New Roman"/>
              </a:rPr>
              <a:t>COSTOS DEL PERS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uralidad de activ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nificación del arte de cur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o porcentaje personal femenino (90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ación de ropa espe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acitación sobre actividades no convenci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o de diferenciales para cubrir francos</a:t>
            </a:r>
            <a:r>
              <a:rPr b="1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y feri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4920" y="91440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264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umentaron el 80,7% de los costos sanatorial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-4320" y="1978560"/>
            <a:ext cx="628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umos Nacionales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50,0%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(1)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sumos Importados           +200,0%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2)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umos de estadía              +47,0%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to de Personal                +76,3%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(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rvicios de Terceros           +47,0%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(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-3960" y="4144320"/>
            <a:ext cx="570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stos Administrativos        +47,0%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(3)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stos de Mantenimiento     +47,0%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3)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ios Públicos                  +9,6%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48360" y="3068640"/>
            <a:ext cx="24732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515440" y="2852640"/>
            <a:ext cx="657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55040" y="2852640"/>
            <a:ext cx="860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7640" y="31752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c00"/>
                </a:solidFill>
                <a:latin typeface="Times New Roman"/>
              </a:rPr>
              <a:t>AUMENTO DE LOS COSTOS SANATO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4495680"/>
            <a:ext cx="355680" cy="1143000"/>
          </a:xfrm>
          <a:custGeom>
            <a:avLst/>
            <a:gdLst>
              <a:gd name="textAreaLeft" fmla="*/ 0 w 355680"/>
              <a:gd name="textAreaRight" fmla="*/ 128520 w 3556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2057400"/>
            <a:ext cx="355680" cy="1828800"/>
          </a:xfrm>
          <a:custGeom>
            <a:avLst/>
            <a:gdLst>
              <a:gd name="textAreaLeft" fmla="*/ 0 w 355680"/>
              <a:gd name="textAreaRight" fmla="*/ 128520 w 3556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2590920"/>
            <a:ext cx="2438280" cy="6184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stos Dire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2,1% de los cos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248520" y="4572000"/>
            <a:ext cx="2514600" cy="7534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stos de estruc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8,6% de los costo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04920" y="91440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48360" y="3068640"/>
            <a:ext cx="24732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515440" y="2852640"/>
            <a:ext cx="657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55040" y="2852640"/>
            <a:ext cx="860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160020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5410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5) Según Variación del IPC Servicios Públicos. Base Tercer Trimestre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114800"/>
            <a:ext cx="9064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733920"/>
            <a:ext cx="830592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) Variación de Mano de Obra 76,3% ($224 incorporados al básico+ 18% aprox. de adicionales del sector+ 47.3% de Cs Soc., SAC, Plus vacacional+ $50 No remunerativos por Dotació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2895480"/>
            <a:ext cx="91440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3) Según variación Indices de Precios al Consumidor Nivel General. Base Diciembre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2362320"/>
            <a:ext cx="8763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Según variación cotización del dólar. Base Diciembre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447920"/>
            <a:ext cx="8839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gún variación de precios de medicamentos y descart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228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1522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3808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BASE DE INFORMA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04920" y="91440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48360" y="3068640"/>
            <a:ext cx="24732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515440" y="2852640"/>
            <a:ext cx="657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55040" y="2852640"/>
            <a:ext cx="860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160020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4114800"/>
            <a:ext cx="9064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19320" y="228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1522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380880"/>
            <a:ext cx="8001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      </a:t>
            </a:r>
            <a:r>
              <a:rPr b="1" lang="es-E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OSTOS DE LA ATENCIÓN MÉD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ité de Cost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os de Cost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62320" y="2057400"/>
            <a:ext cx="6400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 algn="just">
              <a:lnSpc>
                <a:spcPct val="100000"/>
              </a:lnSpc>
              <a:spcBef>
                <a:spcPts val="1749"/>
              </a:spcBef>
              <a:buClr>
                <a:srgbClr val="f98d4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ardi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spcBef>
                <a:spcPts val="1749"/>
              </a:spcBef>
              <a:buClr>
                <a:srgbClr val="f98d4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rófan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spcBef>
                <a:spcPts val="1749"/>
              </a:spcBef>
              <a:buClr>
                <a:srgbClr val="f98d4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ó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spcBef>
                <a:spcPts val="1749"/>
              </a:spcBef>
              <a:buClr>
                <a:srgbClr val="f98d4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dad de terapia intensiv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spcBef>
                <a:spcPts val="1749"/>
              </a:spcBef>
              <a:buClr>
                <a:srgbClr val="f98d4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onatología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81280" y="2057400"/>
            <a:ext cx="228600" cy="3124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91440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48360" y="3068640"/>
            <a:ext cx="24732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515440" y="2852640"/>
            <a:ext cx="657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55040" y="2852640"/>
            <a:ext cx="860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160020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114800"/>
            <a:ext cx="9064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19320" y="228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19320" y="1522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167652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ITES 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1143000"/>
            <a:ext cx="40388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f98d4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ria Clín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98d4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ect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98d4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gur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98d4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2286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ALIDAD DE LA ATENCIÓN MÉDICA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76720" y="1066680"/>
            <a:ext cx="380880" cy="2133720"/>
          </a:xfrm>
          <a:custGeom>
            <a:avLst/>
            <a:gdLst>
              <a:gd name="textAreaLeft" fmla="*/ 243360 w 380880"/>
              <a:gd name="textAreaRight" fmla="*/ 381240 w 38088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3352680"/>
            <a:ext cx="43434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EGOR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REDI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24280" y="4267080"/>
            <a:ext cx="3429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UTOEVALU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IDC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E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657600" y="4495680"/>
            <a:ext cx="990720" cy="4572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57600" y="4952880"/>
            <a:ext cx="990720" cy="6858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57600" y="4952880"/>
            <a:ext cx="9907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5800" y="533520"/>
            <a:ext cx="74674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imes New Roman"/>
              </a:rPr>
              <a:t>COSTOS IMPOSITIV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Presión tributaria desde lo devengado: 17,5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Empresa con deudas impositivas: 20,75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PROPORCIÓN DE LA CARGA IMPOSI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838080" y="2971800"/>
          <a:ext cx="7696440" cy="361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971800"/>
                    <a:ext cx="769644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676520" y="1522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RESIÓN TRIBUT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685800"/>
            <a:ext cx="822960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GANANCIA MÍNIMA PRESUNTA</a:t>
            </a:r>
            <a:r>
              <a:rPr b="1" lang="es-E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y 25585 =responsible sustituto s/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idad de bienes 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édito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no compensable, en efectivo, tres cuotas. Inequidad    real por no ponderación de las deudas (pasiv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CRÉDITOS Y DÉBITOS BANC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amano de la factu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ápita y por módulo,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ye honorari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MI solicita la derog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INGRESOS BRUTOS</a:t>
            </a:r>
            <a:r>
              <a:rPr b="0" lang="es-E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var los ingresos rea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no lo devengado; se debería   ponderar la capacidad contribu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que lo cobra, muchas veces no paga (OS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676520" y="3049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RESIÓN TRIBUT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1289160"/>
            <a:ext cx="838188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IMPUESTO AL VALOR AGREGADO</a:t>
            </a:r>
            <a:r>
              <a:rPr b="1" lang="es-E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hay alícuota minima para Salud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y cálculo matemático perjudicial económico y financi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centaje no compensado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 facturació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4%):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a carga fiscal irrecuper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CONTRIBUCIONES DE LA SEGURIDAD SO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justicia por  alta utilización intensiv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COMPENSACIÓN DE SALDOS TRIBUTARIOS Y MORATO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uesta de cuenta única tribut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057400" y="38088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imes New Roman"/>
              </a:rPr>
              <a:t>COSTOS TARIF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1295280"/>
            <a:ext cx="76960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EVOLUCIÓN DE TARIFAS 2001-200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U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4,6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U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3,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rrafa 10 k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lindro 45 k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75%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33720" y="2895480"/>
            <a:ext cx="2286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3505320"/>
            <a:ext cx="2286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00600" y="5410080"/>
            <a:ext cx="144792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4800600"/>
            <a:ext cx="144792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49528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81080" y="4572000"/>
            <a:ext cx="152640" cy="106668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0880" y="304920"/>
            <a:ext cx="78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Times New Roman"/>
              </a:rPr>
              <a:t>PyMES de la SAL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FINI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s.675/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5800" y="2209680"/>
          <a:ext cx="7848720" cy="4064040"/>
        </p:xfrm>
        <a:graphic>
          <a:graphicData uri="http://schemas.openxmlformats.org/drawingml/2006/table">
            <a:tbl>
              <a:tblPr/>
              <a:tblGrid>
                <a:gridCol w="1962000"/>
                <a:gridCol w="2076480"/>
                <a:gridCol w="1828800"/>
                <a:gridCol w="1981440"/>
              </a:tblGrid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EMPRE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FACTUR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EMPLEA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ACTIVO PATRIMONI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CR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$ 450.0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QUEÑ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$3.240.0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DIAN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$21.600.0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28600" y="762120"/>
            <a:ext cx="86868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imes New Roman"/>
              </a:rPr>
              <a:t>PRECIOS DE LOS SERVICIOS DE SALU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El 95% de los ingresos están vinculados a la Seguridad Social (no forma precio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Reciben frecuentes quitas, débi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Se abonan diferidos 60-90 dí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Se generan deudas de muy difícil cobrab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19160" y="361800"/>
            <a:ext cx="902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cc00"/>
                </a:solidFill>
                <a:latin typeface="Times New Roman"/>
              </a:rPr>
              <a:t>INGRESOS DE AFILIADOS A OBRAS SOCIAL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243828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80880" y="1143000"/>
          <a:ext cx="8382240" cy="5178600"/>
        </p:xfrm>
        <a:graphic>
          <a:graphicData uri="http://schemas.openxmlformats.org/drawingml/2006/table">
            <a:tbl>
              <a:tblPr/>
              <a:tblGrid>
                <a:gridCol w="4191120"/>
                <a:gridCol w="4191120"/>
              </a:tblGrid>
              <a:tr h="225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CREMENTO DE INGRESO A OBRAS SOCIALES DE FEB/02 A AGO/03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7,50% (POR AFILIADO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335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CREMENTO DE INGRESOS AL INSSJyP APORTADO POR LOS ACTIVOS (73% de los ingresos del INSSJyP lo aportan los activos) DE FEB/02 A AGO/0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3,09% (POR AFILIADO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33520" y="228600"/>
            <a:ext cx="632448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Times New Roman"/>
              </a:rPr>
              <a:t>CRISIS SECTO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rocedimientos de cri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ierres parciales y/o tot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ncur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Quieb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cuerdos con el pers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Reducción de t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eudas con proveed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1523880"/>
            <a:ext cx="838080" cy="5029200"/>
          </a:xfrm>
          <a:custGeom>
            <a:avLst/>
            <a:gdLst>
              <a:gd name="textAreaLeft" fmla="*/ 0 w 838080"/>
              <a:gd name="textAreaRight" fmla="*/ 302760 w 838080"/>
              <a:gd name="textAreaTop" fmla="*/ 131040 h 5029200"/>
              <a:gd name="textAreaBottom" fmla="*/ 4898160 h 502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00800" y="36576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25% del s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0880" y="2286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Times New Roman"/>
              </a:rPr>
              <a:t>COMPARACIÓN CON OTROS SECTORES PRODU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33520" y="914400"/>
            <a:ext cx="8305200" cy="5638320"/>
            <a:chOff x="533520" y="914400"/>
            <a:chExt cx="8305200" cy="5638320"/>
          </a:xfrm>
        </p:grpSpPr>
        <p:grpSp>
          <p:nvGrpSpPr>
            <p:cNvPr id="248" name=""/>
            <p:cNvGrpSpPr/>
            <p:nvPr/>
          </p:nvGrpSpPr>
          <p:grpSpPr>
            <a:xfrm>
              <a:off x="539640" y="921240"/>
              <a:ext cx="8291520" cy="5623200"/>
              <a:chOff x="539640" y="921240"/>
              <a:chExt cx="8291520" cy="562320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539640" y="921240"/>
                <a:ext cx="2072520" cy="997560"/>
                <a:chOff x="539640" y="921240"/>
                <a:chExt cx="2072520" cy="9975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98320" y="921240"/>
                  <a:ext cx="1954800" cy="997560"/>
                </a:xfrm>
                <a:prstGeom prst="rect">
                  <a:avLst/>
                </a:prstGeom>
                <a:noFill/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EDUCACIÓ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39640" y="921240"/>
                  <a:ext cx="2072520" cy="997560"/>
                </a:xfrm>
                <a:prstGeom prst="rect">
                  <a:avLst/>
                </a:prstGeom>
                <a:noFill/>
                <a:ln w="0">
                  <a:solidFill>
                    <a:srgbClr val="ff99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2612520" y="921240"/>
                <a:ext cx="2072880" cy="997560"/>
                <a:chOff x="2612520" y="921240"/>
                <a:chExt cx="2072880" cy="99756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2671560" y="921240"/>
                  <a:ext cx="1954080" cy="997560"/>
                </a:xfrm>
                <a:prstGeom prst="rect">
                  <a:avLst/>
                </a:prstGeom>
                <a:noFill/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SALUD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2612520" y="921240"/>
                  <a:ext cx="2072880" cy="997560"/>
                </a:xfrm>
                <a:prstGeom prst="rect">
                  <a:avLst/>
                </a:prstGeom>
                <a:noFill/>
                <a:ln w="0">
                  <a:solidFill>
                    <a:srgbClr val="ff99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685760" y="921240"/>
                <a:ext cx="2072520" cy="997560"/>
                <a:chOff x="4685760" y="921240"/>
                <a:chExt cx="2072520" cy="99756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744440" y="921240"/>
                  <a:ext cx="1954800" cy="997560"/>
                </a:xfrm>
                <a:prstGeom prst="rect">
                  <a:avLst/>
                </a:prstGeom>
                <a:noFill/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TRANSPORT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685760" y="921240"/>
                  <a:ext cx="2072520" cy="997560"/>
                </a:xfrm>
                <a:prstGeom prst="rect">
                  <a:avLst/>
                </a:prstGeom>
                <a:noFill/>
                <a:ln w="0">
                  <a:solidFill>
                    <a:srgbClr val="ff99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6758640" y="921240"/>
                <a:ext cx="2072520" cy="997560"/>
                <a:chOff x="6758640" y="921240"/>
                <a:chExt cx="2072520" cy="99756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6817680" y="921240"/>
                  <a:ext cx="1954440" cy="997560"/>
                </a:xfrm>
                <a:prstGeom prst="rect">
                  <a:avLst/>
                </a:prstGeom>
                <a:noFill/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9900"/>
                      </a:solidFill>
                      <a:latin typeface="Times New Roman"/>
                      <a:ea typeface="Times New Roman"/>
                    </a:rPr>
                    <a:t>RADIO y T.V.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6758640" y="921240"/>
                  <a:ext cx="2072520" cy="997560"/>
                </a:xfrm>
                <a:prstGeom prst="rect">
                  <a:avLst/>
                </a:prstGeom>
                <a:noFill/>
                <a:ln w="0">
                  <a:solidFill>
                    <a:srgbClr val="ff99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539640" y="1919160"/>
                <a:ext cx="2072520" cy="1496160"/>
                <a:chOff x="539640" y="1919160"/>
                <a:chExt cx="2072520" cy="149616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598320" y="1919160"/>
                  <a:ext cx="1954800" cy="1496160"/>
                </a:xfrm>
                <a:prstGeom prst="rect">
                  <a:avLst/>
                </a:prstGeom>
                <a:noFill/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Exento de IVA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39640" y="1919160"/>
                  <a:ext cx="2072520" cy="1496160"/>
                </a:xfrm>
                <a:prstGeom prst="rect">
                  <a:avLst/>
                </a:prstGeom>
                <a:noFill/>
                <a:ln w="0">
                  <a:solidFill>
                    <a:srgbClr val="ff99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2612520" y="1919160"/>
                <a:ext cx="2072880" cy="1496160"/>
                <a:chOff x="2612520" y="1919160"/>
                <a:chExt cx="2072880" cy="14961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2671560" y="1919160"/>
                  <a:ext cx="1954080" cy="1496160"/>
                </a:xfrm>
                <a:prstGeom prst="rect">
                  <a:avLst/>
                </a:prstGeom>
                <a:noFill/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Gravado por IVA, excepto Obras Social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612520" y="1919160"/>
                  <a:ext cx="2072880" cy="1496160"/>
                </a:xfrm>
                <a:prstGeom prst="rect">
                  <a:avLst/>
                </a:prstGeom>
                <a:noFill/>
                <a:ln w="0">
                  <a:solidFill>
                    <a:srgbClr val="ff99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4685760" y="1919160"/>
                <a:ext cx="2072520" cy="1496160"/>
                <a:chOff x="4685760" y="1919160"/>
                <a:chExt cx="2072520" cy="1496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4744440" y="1919160"/>
                  <a:ext cx="1954800" cy="1496160"/>
                </a:xfrm>
                <a:prstGeom prst="rect">
                  <a:avLst/>
                </a:prstGeom>
                <a:noFill/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Gravado parcialment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685760" y="1919160"/>
                  <a:ext cx="2072520" cy="1496160"/>
                </a:xfrm>
                <a:prstGeom prst="rect">
                  <a:avLst/>
                </a:prstGeom>
                <a:noFill/>
                <a:ln w="0">
                  <a:solidFill>
                    <a:srgbClr val="ff99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6758640" y="1919160"/>
                <a:ext cx="2072520" cy="1496160"/>
                <a:chOff x="6758640" y="1919160"/>
                <a:chExt cx="2072520" cy="149616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6817680" y="1919160"/>
                  <a:ext cx="1954440" cy="1496160"/>
                </a:xfrm>
                <a:prstGeom prst="rect">
                  <a:avLst/>
                </a:prstGeom>
                <a:noFill/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Exento de IVA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758640" y="1919160"/>
                  <a:ext cx="2072520" cy="1496160"/>
                </a:xfrm>
                <a:prstGeom prst="rect">
                  <a:avLst/>
                </a:prstGeom>
                <a:noFill/>
                <a:ln w="0">
                  <a:solidFill>
                    <a:srgbClr val="ff99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539640" y="3416040"/>
                <a:ext cx="2072520" cy="3128400"/>
                <a:chOff x="539640" y="3416040"/>
                <a:chExt cx="2072520" cy="31284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98320" y="3416040"/>
                  <a:ext cx="1954800" cy="3128400"/>
                </a:xfrm>
                <a:prstGeom prst="rect">
                  <a:avLst/>
                </a:prstGeom>
                <a:noFill/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ubsidios del 40 al 100% de los sueldos, incluyendo el SAC y los meses de Enero y Febrero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39640" y="3416040"/>
                  <a:ext cx="2072520" cy="3128400"/>
                </a:xfrm>
                <a:prstGeom prst="rect">
                  <a:avLst/>
                </a:prstGeom>
                <a:noFill/>
                <a:ln w="0">
                  <a:solidFill>
                    <a:srgbClr val="ff99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612520" y="3416040"/>
                <a:ext cx="2072880" cy="3128400"/>
                <a:chOff x="2612520" y="3416040"/>
                <a:chExt cx="2072880" cy="312840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671560" y="3416040"/>
                  <a:ext cx="1954080" cy="3128400"/>
                </a:xfrm>
                <a:prstGeom prst="rect">
                  <a:avLst/>
                </a:prstGeom>
                <a:noFill/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No goza de subsidio alguno.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612520" y="3416040"/>
                  <a:ext cx="2072880" cy="3128400"/>
                </a:xfrm>
                <a:prstGeom prst="rect">
                  <a:avLst/>
                </a:prstGeom>
                <a:noFill/>
                <a:ln w="0">
                  <a:solidFill>
                    <a:srgbClr val="ff99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685760" y="3416040"/>
                <a:ext cx="2072520" cy="3128400"/>
                <a:chOff x="4685760" y="3416040"/>
                <a:chExt cx="2072520" cy="312840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744440" y="3416040"/>
                  <a:ext cx="1954800" cy="3128400"/>
                </a:xfrm>
                <a:prstGeom prst="rect">
                  <a:avLst/>
                </a:prstGeom>
                <a:noFill/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uede computar el impuesto a los combustibles líquidos como pago a cuenta de Imp. a las Ganancias e IVA (ley 23.966).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685760" y="3416040"/>
                  <a:ext cx="2072520" cy="3128400"/>
                </a:xfrm>
                <a:prstGeom prst="rect">
                  <a:avLst/>
                </a:prstGeom>
                <a:noFill/>
                <a:ln w="0">
                  <a:solidFill>
                    <a:srgbClr val="ff99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58640" y="3416040"/>
                <a:ext cx="2072520" cy="3128400"/>
                <a:chOff x="6758640" y="3416040"/>
                <a:chExt cx="2072520" cy="312840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817680" y="3416040"/>
                  <a:ext cx="1954440" cy="3128400"/>
                </a:xfrm>
                <a:prstGeom prst="rect">
                  <a:avLst/>
                </a:prstGeom>
                <a:noFill/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No posee subsidios, sin embargo, la ley 25.792 condonó las deudas del IVA del sector y dejó sin efecto las actuaciones judiciales y administrativas.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58640" y="3416040"/>
                  <a:ext cx="2072520" cy="3128400"/>
                </a:xfrm>
                <a:prstGeom prst="rect">
                  <a:avLst/>
                </a:prstGeom>
                <a:noFill/>
                <a:ln w="0">
                  <a:solidFill>
                    <a:srgbClr val="ff99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5" name=""/>
            <p:cNvSpPr/>
            <p:nvPr/>
          </p:nvSpPr>
          <p:spPr>
            <a:xfrm>
              <a:off x="533520" y="914400"/>
              <a:ext cx="8305200" cy="5638320"/>
            </a:xfrm>
            <a:prstGeom prst="rect">
              <a:avLst/>
            </a:prstGeom>
            <a:noFill/>
            <a:ln w="11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0880" y="2286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Times New Roman"/>
              </a:rPr>
              <a:t>COMPARACIÓN CON OTROS SECTORES PRODU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380880" y="1066680"/>
            <a:ext cx="8381520" cy="5333040"/>
            <a:chOff x="380880" y="1066680"/>
            <a:chExt cx="8381520" cy="5333040"/>
          </a:xfrm>
        </p:grpSpPr>
        <p:grpSp>
          <p:nvGrpSpPr>
            <p:cNvPr id="288" name=""/>
            <p:cNvGrpSpPr/>
            <p:nvPr/>
          </p:nvGrpSpPr>
          <p:grpSpPr>
            <a:xfrm>
              <a:off x="380880" y="2190960"/>
              <a:ext cx="8381520" cy="4208760"/>
              <a:chOff x="380880" y="2190960"/>
              <a:chExt cx="8381520" cy="4208760"/>
            </a:xfrm>
          </p:grpSpPr>
          <p:grpSp>
            <p:nvGrpSpPr>
              <p:cNvPr id="289" name=""/>
              <p:cNvGrpSpPr/>
              <p:nvPr/>
            </p:nvGrpSpPr>
            <p:grpSpPr>
              <a:xfrm>
                <a:off x="387000" y="2198520"/>
                <a:ext cx="8367840" cy="4192560"/>
                <a:chOff x="387000" y="2198520"/>
                <a:chExt cx="8367840" cy="419256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387000" y="2198520"/>
                  <a:ext cx="2091600" cy="2246040"/>
                  <a:chOff x="387000" y="2198520"/>
                  <a:chExt cx="2091600" cy="224604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46400" y="2198520"/>
                    <a:ext cx="1972800" cy="2246040"/>
                  </a:xfrm>
                  <a:prstGeom prst="rect">
                    <a:avLst/>
                  </a:prstGeom>
                  <a:noFill/>
                  <a:ln w="93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0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Exención Tributos Provinciales Inm. E IIBB (ej. </a:t>
                    </a:r>
                    <a:r>
                      <a:rPr b="0" lang="en-US" sz="20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Bs.As. art.137, inc.1; art.166, inc, i)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387000" y="2198520"/>
                    <a:ext cx="2091600" cy="2246040"/>
                  </a:xfrm>
                  <a:prstGeom prst="rect">
                    <a:avLst/>
                  </a:prstGeom>
                  <a:noFill/>
                  <a:ln w="0">
                    <a:solidFill>
                      <a:srgbClr val="ff99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2478960" y="2198520"/>
                  <a:ext cx="2091960" cy="2246040"/>
                  <a:chOff x="2478960" y="2198520"/>
                  <a:chExt cx="2091960" cy="224604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>
                    <a:off x="2538720" y="2198520"/>
                    <a:ext cx="1972080" cy="2246040"/>
                  </a:xfrm>
                  <a:prstGeom prst="rect">
                    <a:avLst/>
                  </a:prstGeom>
                  <a:noFill/>
                  <a:ln w="93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Gravado por Tributos Provinciales de IIBB e Inmobiliario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2478960" y="2198520"/>
                    <a:ext cx="2091960" cy="2246040"/>
                  </a:xfrm>
                  <a:prstGeom prst="rect">
                    <a:avLst/>
                  </a:prstGeom>
                  <a:noFill/>
                  <a:ln w="0">
                    <a:solidFill>
                      <a:srgbClr val="ff99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4571280" y="2198520"/>
                  <a:ext cx="2091600" cy="2246040"/>
                  <a:chOff x="4571280" y="2198520"/>
                  <a:chExt cx="2091600" cy="224604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>
                    <a:off x="4630680" y="2198520"/>
                    <a:ext cx="1972800" cy="2246040"/>
                  </a:xfrm>
                  <a:prstGeom prst="rect">
                    <a:avLst/>
                  </a:prstGeom>
                  <a:noFill/>
                  <a:ln w="93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Gravado o exento según las distintas jurisdicciones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4571280" y="2198520"/>
                    <a:ext cx="2091600" cy="2246040"/>
                  </a:xfrm>
                  <a:prstGeom prst="rect">
                    <a:avLst/>
                  </a:prstGeom>
                  <a:noFill/>
                  <a:ln w="0">
                    <a:solidFill>
                      <a:srgbClr val="ff99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6663240" y="2198520"/>
                  <a:ext cx="2091600" cy="2246040"/>
                  <a:chOff x="6663240" y="2198520"/>
                  <a:chExt cx="2091600" cy="224604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>
                    <a:off x="6723000" y="2198520"/>
                    <a:ext cx="1972440" cy="2246040"/>
                  </a:xfrm>
                  <a:prstGeom prst="rect">
                    <a:avLst/>
                  </a:prstGeom>
                  <a:noFill/>
                  <a:ln w="93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Gravado Tributos Provinciales de IIBB e Inmobiliario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6663240" y="2198520"/>
                    <a:ext cx="2091600" cy="2246040"/>
                  </a:xfrm>
                  <a:prstGeom prst="rect">
                    <a:avLst/>
                  </a:prstGeom>
                  <a:noFill/>
                  <a:ln w="0">
                    <a:solidFill>
                      <a:srgbClr val="ff99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387000" y="4444920"/>
                  <a:ext cx="2091600" cy="1946160"/>
                  <a:chOff x="387000" y="4444920"/>
                  <a:chExt cx="2091600" cy="194616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>
                    <a:off x="446400" y="4444920"/>
                    <a:ext cx="1972800" cy="1946160"/>
                  </a:xfrm>
                  <a:prstGeom prst="rect">
                    <a:avLst/>
                  </a:prstGeom>
                  <a:noFill/>
                  <a:ln w="93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No estuvo comprendido en los convenios de Competitividad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387000" y="4444920"/>
                    <a:ext cx="2091600" cy="1946160"/>
                  </a:xfrm>
                  <a:prstGeom prst="rect">
                    <a:avLst/>
                  </a:prstGeom>
                  <a:noFill/>
                  <a:ln w="0">
                    <a:solidFill>
                      <a:srgbClr val="ff99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2478960" y="4444920"/>
                  <a:ext cx="2091960" cy="1946160"/>
                  <a:chOff x="2478960" y="4444920"/>
                  <a:chExt cx="2091960" cy="194616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>
                    <a:off x="2538720" y="4444920"/>
                    <a:ext cx="1972080" cy="1946160"/>
                  </a:xfrm>
                  <a:prstGeom prst="rect">
                    <a:avLst/>
                  </a:prstGeom>
                  <a:noFill/>
                  <a:ln w="93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No estuvo comprendido en los convenios de Competitividad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2478960" y="4444920"/>
                    <a:ext cx="2091960" cy="1946160"/>
                  </a:xfrm>
                  <a:prstGeom prst="rect">
                    <a:avLst/>
                  </a:prstGeom>
                  <a:noFill/>
                  <a:ln w="0">
                    <a:solidFill>
                      <a:srgbClr val="ff99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4571280" y="4444920"/>
                  <a:ext cx="2091600" cy="1946160"/>
                  <a:chOff x="4571280" y="4444920"/>
                  <a:chExt cx="2091600" cy="194616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>
                    <a:off x="4630680" y="4444920"/>
                    <a:ext cx="1972800" cy="1946160"/>
                  </a:xfrm>
                  <a:prstGeom prst="rect">
                    <a:avLst/>
                  </a:prstGeom>
                  <a:noFill/>
                  <a:ln w="93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Comprendido en los convenios de Competitividad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4571280" y="4444920"/>
                    <a:ext cx="2091600" cy="1946160"/>
                  </a:xfrm>
                  <a:prstGeom prst="rect">
                    <a:avLst/>
                  </a:prstGeom>
                  <a:noFill/>
                  <a:ln w="0">
                    <a:solidFill>
                      <a:srgbClr val="ff99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6663240" y="4444920"/>
                  <a:ext cx="2091600" cy="1946160"/>
                  <a:chOff x="6663240" y="4444920"/>
                  <a:chExt cx="2091600" cy="194616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>
                    <a:off x="6723000" y="4444920"/>
                    <a:ext cx="1972440" cy="1946160"/>
                  </a:xfrm>
                  <a:prstGeom prst="rect">
                    <a:avLst/>
                  </a:prstGeom>
                  <a:noFill/>
                  <a:ln w="93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Comprendido en los convenios de Competitividad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6663240" y="4444920"/>
                    <a:ext cx="2091600" cy="1946160"/>
                  </a:xfrm>
                  <a:prstGeom prst="rect">
                    <a:avLst/>
                  </a:prstGeom>
                  <a:noFill/>
                  <a:ln w="0">
                    <a:solidFill>
                      <a:srgbClr val="ff99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4" name=""/>
              <p:cNvSpPr/>
              <p:nvPr/>
            </p:nvSpPr>
            <p:spPr>
              <a:xfrm>
                <a:off x="380880" y="2190960"/>
                <a:ext cx="8381520" cy="4208760"/>
              </a:xfrm>
              <a:prstGeom prst="rect">
                <a:avLst/>
              </a:prstGeom>
              <a:noFill/>
              <a:ln w="11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380880" y="1066680"/>
              <a:ext cx="8381520" cy="1113480"/>
              <a:chOff x="380880" y="1066680"/>
              <a:chExt cx="8381520" cy="111348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387000" y="1074240"/>
                <a:ext cx="8367840" cy="1097280"/>
                <a:chOff x="387000" y="1074240"/>
                <a:chExt cx="8367840" cy="1097280"/>
              </a:xfrm>
            </p:grpSpPr>
            <p:grpSp>
              <p:nvGrpSpPr>
                <p:cNvPr id="317" name=""/>
                <p:cNvGrpSpPr/>
                <p:nvPr/>
              </p:nvGrpSpPr>
              <p:grpSpPr>
                <a:xfrm>
                  <a:off x="387000" y="1074240"/>
                  <a:ext cx="2091600" cy="1097280"/>
                  <a:chOff x="387000" y="1074240"/>
                  <a:chExt cx="2091600" cy="109728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446400" y="1074240"/>
                    <a:ext cx="1972800" cy="1097280"/>
                  </a:xfrm>
                  <a:prstGeom prst="rect">
                    <a:avLst/>
                  </a:prstGeom>
                  <a:noFill/>
                  <a:ln w="93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9900"/>
                        </a:solidFill>
                        <a:latin typeface="Times New Roman"/>
                        <a:ea typeface="Times New Roman"/>
                      </a:rPr>
                      <a:t>EDUCACIÓN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387000" y="1074240"/>
                    <a:ext cx="2091600" cy="1097280"/>
                  </a:xfrm>
                  <a:prstGeom prst="rect">
                    <a:avLst/>
                  </a:prstGeom>
                  <a:noFill/>
                  <a:ln w="0">
                    <a:solidFill>
                      <a:srgbClr val="ff99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2478960" y="1074240"/>
                  <a:ext cx="2091960" cy="1097280"/>
                  <a:chOff x="2478960" y="1074240"/>
                  <a:chExt cx="2091960" cy="109728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>
                    <a:off x="2538720" y="1074240"/>
                    <a:ext cx="1972080" cy="1097280"/>
                  </a:xfrm>
                  <a:prstGeom prst="rect">
                    <a:avLst/>
                  </a:prstGeom>
                  <a:noFill/>
                  <a:ln w="93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9900"/>
                        </a:solidFill>
                        <a:latin typeface="Times New Roman"/>
                        <a:ea typeface="Times New Roman"/>
                      </a:rPr>
                      <a:t>SALUD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2478960" y="1074240"/>
                    <a:ext cx="2091960" cy="1097280"/>
                  </a:xfrm>
                  <a:prstGeom prst="rect">
                    <a:avLst/>
                  </a:prstGeom>
                  <a:noFill/>
                  <a:ln w="0">
                    <a:solidFill>
                      <a:srgbClr val="ff99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4571280" y="1074240"/>
                  <a:ext cx="2091600" cy="1097280"/>
                  <a:chOff x="4571280" y="1074240"/>
                  <a:chExt cx="2091600" cy="109728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>
                    <a:off x="4630680" y="1074240"/>
                    <a:ext cx="1972800" cy="1097280"/>
                  </a:xfrm>
                  <a:prstGeom prst="rect">
                    <a:avLst/>
                  </a:prstGeom>
                  <a:noFill/>
                  <a:ln w="93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9900"/>
                        </a:solidFill>
                        <a:latin typeface="Times New Roman"/>
                        <a:ea typeface="Times New Roman"/>
                      </a:rPr>
                      <a:t>TRANSPORTE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4571280" y="1074240"/>
                    <a:ext cx="2091600" cy="1097280"/>
                  </a:xfrm>
                  <a:prstGeom prst="rect">
                    <a:avLst/>
                  </a:prstGeom>
                  <a:noFill/>
                  <a:ln w="0">
                    <a:solidFill>
                      <a:srgbClr val="ff99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6663240" y="1074240"/>
                  <a:ext cx="2091600" cy="1097280"/>
                  <a:chOff x="6663240" y="1074240"/>
                  <a:chExt cx="2091600" cy="109728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>
                    <a:off x="6723000" y="1074240"/>
                    <a:ext cx="1972440" cy="1097280"/>
                  </a:xfrm>
                  <a:prstGeom prst="rect">
                    <a:avLst/>
                  </a:prstGeom>
                  <a:noFill/>
                  <a:ln w="93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9900"/>
                        </a:solidFill>
                        <a:latin typeface="Times New Roman"/>
                        <a:ea typeface="Times New Roman"/>
                      </a:rPr>
                      <a:t>RADIO y T.V.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6663240" y="1074240"/>
                    <a:ext cx="2091600" cy="1097280"/>
                  </a:xfrm>
                  <a:prstGeom prst="rect">
                    <a:avLst/>
                  </a:prstGeom>
                  <a:noFill/>
                  <a:ln w="0">
                    <a:solidFill>
                      <a:srgbClr val="ff99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9" name=""/>
              <p:cNvSpPr/>
              <p:nvPr/>
            </p:nvSpPr>
            <p:spPr>
              <a:xfrm>
                <a:off x="380880" y="1066680"/>
                <a:ext cx="8381520" cy="1113480"/>
              </a:xfrm>
              <a:prstGeom prst="rect">
                <a:avLst/>
              </a:prstGeom>
              <a:noFill/>
              <a:ln w="11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533520" y="685800"/>
            <a:ext cx="784836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imes New Roman"/>
              </a:rPr>
              <a:t>REINGENIERÍA DE LAS Py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Mecanismo de control prest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Prestaciones Médicas gerenci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Protocolización prest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Asegurar el ingreso en los 10 primeros días del 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Reasegurar las patologías de alto cos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Cambiar la modalidad de pago a profesionales y al pers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447920" y="3049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imes New Roman"/>
              </a:rPr>
              <a:t>GESTIÓN ESTRATÉG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3520" y="1219320"/>
            <a:ext cx="83055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s-ES_tradnl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1" lang="es-E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ORGANIZACIÓN DE LA ATENCIÓN MÉDIC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erte l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razg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rticipativo y democrat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ción médica full tim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rencia administrativa especializ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a sanitario y medicina gerenciada con Guías clín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a de fortalecimiento institucion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ia.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Buenos Air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tiende toda esta problemática e inclusive los grandes cambios en la Atención Méd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09480" y="3808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Times New Roman"/>
              </a:rPr>
              <a:t>INFRAESTRUC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7156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10666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ECIMIENTOS ASISTENCIALES CON Y SIN INTERNACI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, POR SUB SE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80880" y="1828800"/>
          <a:ext cx="8382240" cy="43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8382240" cy="43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4952880" y="2286000"/>
            <a:ext cx="3276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1800 c/intern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1500 Py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66"/>
              </a:buClr>
              <a:buSzPct val="205000"/>
              <a:buFont typeface="Symbol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$6.000 mill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00800" y="2666880"/>
            <a:ext cx="0" cy="457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114800" y="2590560"/>
            <a:ext cx="121932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62120" y="1219320"/>
            <a:ext cx="7848360" cy="42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Ámbito de la Seguridad Soc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sfuerzos perso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operativas de profesio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recimiento desorden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6094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imes New Roman"/>
              </a:rPr>
              <a:t>ORI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0880" y="1600200"/>
            <a:ext cx="87631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Organización rudiment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Anarquía administra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Fuerte liderazgo autoritario médico interesado en su propio resul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Hotelería discret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Escaso comf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0492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imes New Roman"/>
              </a:rPr>
              <a:t>CARACTERÍST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457200"/>
            <a:ext cx="76964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imes New Roman"/>
              </a:rPr>
              <a:t>ESTRUCTURA FÍSICA Y PROCE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Preferentemente uni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Edificios vecinos poco funcio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Procesos escasamente organiz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Resultados insuficientemente medi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Prioritario: resultado profes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0880" y="838080"/>
            <a:ext cx="853452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Garamond"/>
              </a:rPr>
              <a:t>Tres microempres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ff"/>
                </a:solidFill>
                <a:uFillTx/>
                <a:latin typeface="Garamond"/>
              </a:rPr>
              <a:t>MÉDICO ASIST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Garamond"/>
              </a:rPr>
              <a:t>calidad profes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Garamond"/>
              </a:rPr>
              <a:t>relación médico-pac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ff"/>
                </a:solidFill>
                <a:uFillTx/>
                <a:latin typeface="Garamond"/>
              </a:rPr>
              <a:t>HOTELER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Garamond"/>
              </a:rPr>
              <a:t>Calidad percib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Garamond"/>
              </a:rPr>
              <a:t>Paciente como cliente(comfor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ff"/>
                </a:solidFill>
                <a:uFillTx/>
                <a:latin typeface="Garamond"/>
              </a:rPr>
              <a:t>ADMINISTRATIVA ECONÓMICO-FINANCI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Garamond"/>
              </a:rPr>
              <a:t>Análisis de procesos y resul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22440" y="1699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imes New Roman"/>
              </a:rPr>
              <a:t>ORGAN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62120" y="2209680"/>
            <a:ext cx="77724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DIRECTO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Director Méd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Administrad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Encargado de hoteler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2286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imes New Roman"/>
              </a:rPr>
              <a:t>ORGAN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5486400"/>
            <a:ext cx="8001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Century Gothic"/>
              </a:rPr>
              <a:t>Debe haber coordinación y complementar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12193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8d43"/>
                </a:solidFill>
                <a:latin typeface="Times New Roman"/>
                <a:ea typeface="Times New Roman"/>
              </a:rPr>
              <a:t>GESTIÓN ESTRATÉGICA NECES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3808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imes New Roman"/>
              </a:rPr>
              <a:t>ANÁLISIS ECONÓMICO FINANCIE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845820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COSTOS DEL PERS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COSTOS DE LOS INSUM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COSTOS IMPOSITIV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COSTOS TARIF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OTROS COSTOS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(COSTOS DE LA NO CALID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00:00:38Z</dcterms:created>
  <dc:creator>Larzabal</dc:creator>
  <dc:description/>
  <dc:language>en-US</dc:language>
  <cp:lastModifiedBy>C.P.C.E.C.A.B.A.</cp:lastModifiedBy>
  <dcterms:modified xsi:type="dcterms:W3CDTF">2004-07-01T19:36:34Z</dcterms:modified>
  <cp:revision>48</cp:revision>
  <dc:subject/>
  <dc:title>Presentación de PowerPoint</dc:title>
</cp:coreProperties>
</file>