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9290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07F-D495-4FF4-937D-12BB19D0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643-903A-4123-A378-A2494463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F8D-CC62-47E7-9FCA-5450CD47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BF5-CEA5-4014-92F8-9B5B3E38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363-1FA0-41E5-9C6B-B3128AB5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0BD-13E5-4A41-A2BF-8302241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415-A3B2-4273-8089-0FF47CFB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D26-4062-432F-A187-A80930FA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F2E-6E92-493A-982B-F86CCEE7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392-C780-404C-8987-11D6859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49E-1F1D-43A5-8EE6-E6D0602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ECD-FD58-4D61-A9A3-E9D8B176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224-590A-4B4F-9774-460C8E50171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jo Profesional de Cienci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ómicas de la Ciudad Autónom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Buenos 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º Jornada de Administración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0 de Junio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971800"/>
            <a:ext cx="6782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pectos tributarios que impactan en el sistema de Salu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191120"/>
            <a:ext cx="6782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: Prestaciones Médicas y Educ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r. Hugo E. Ka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Times New Roman"/>
              </a:rPr>
              <a:t>6- Aspectos imposi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289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exent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905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6.1. grava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429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grav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4114800"/>
            <a:ext cx="63244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10.5% </a:t>
            </a:r>
            <a:r>
              <a:rPr b="0" i="1" lang="es-AR" sz="3000" spc="-1" strike="noStrike">
                <a:solidFill>
                  <a:srgbClr val="000000"/>
                </a:solidFill>
                <a:latin typeface="Times New Roman"/>
              </a:rPr>
              <a:t>Ley art. 28 inc. i) (50%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057400" y="1828800"/>
            <a:ext cx="6324480" cy="3504960"/>
            <a:chOff x="2057400" y="1828800"/>
            <a:chExt cx="6324480" cy="3504960"/>
          </a:xfrm>
        </p:grpSpPr>
        <p:sp>
          <p:nvSpPr>
            <p:cNvPr id="92" name=""/>
            <p:cNvSpPr/>
            <p:nvPr/>
          </p:nvSpPr>
          <p:spPr>
            <a:xfrm>
              <a:off x="2057400" y="2118960"/>
              <a:ext cx="465480" cy="235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91280" y="2785680"/>
              <a:ext cx="992520" cy="42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35040" y="4055400"/>
              <a:ext cx="1222560" cy="42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90760" y="4619520"/>
              <a:ext cx="366840" cy="70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22880" y="3490920"/>
              <a:ext cx="158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13680" y="4032360"/>
              <a:ext cx="488880" cy="573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14200" y="3714480"/>
              <a:ext cx="967680" cy="48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14200" y="4337640"/>
              <a:ext cx="967680" cy="49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9400" y="3914280"/>
              <a:ext cx="248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69240" y="4196520"/>
              <a:ext cx="248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9240" y="4901760"/>
              <a:ext cx="24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47360" y="1828800"/>
              <a:ext cx="991800" cy="429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f. obli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580000" y="1938600"/>
              <a:ext cx="0" cy="9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80000" y="1938960"/>
              <a:ext cx="56988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23920" y="250344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2640" y="2644560"/>
              <a:ext cx="0" cy="23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2640" y="264456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12640" y="504288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57600" y="4760640"/>
              <a:ext cx="61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069240" y="4196160"/>
              <a:ext cx="0" cy="70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0000" y="2926440"/>
              <a:ext cx="6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13680" y="4760640"/>
              <a:ext cx="488880" cy="573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169400" y="3913920"/>
              <a:ext cx="0" cy="70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02560" y="4337640"/>
              <a:ext cx="36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9400" y="4619520"/>
              <a:ext cx="24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80000" y="4055400"/>
              <a:ext cx="48888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35040" y="4619520"/>
              <a:ext cx="366840" cy="70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63800" y="4619520"/>
              <a:ext cx="366840" cy="70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133720" y="2057400"/>
            <a:ext cx="380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O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286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2787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f. Volu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4068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Entid. bien público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768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800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00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4038480"/>
            <a:ext cx="533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4876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f. Obli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4387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f. volu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1828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2787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58200" y="43117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8769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609588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de: (E) exento; (G) gravado al 10,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28600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514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29068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97648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366228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97648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3662280"/>
            <a:ext cx="4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6.2. Modalidad de la Pres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523880"/>
            <a:ext cx="6248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or el prestador contra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direc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or terceros intervin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209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 que fact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819520"/>
            <a:ext cx="4114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 entidad asistencial,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usuario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42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reintegr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886200"/>
            <a:ext cx="563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6.2.1. Requis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724280"/>
            <a:ext cx="815328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cia emitida por el prestador origin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certifique que los servicios resultan comprendidos  en el beneficio otorg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6.3. Calidad del afili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6.3.1. Afiliado oblig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981080"/>
            <a:ext cx="746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Ley 23.660.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rt. 8º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: Quedan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obligatoriamente incluido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en calidad de beneficiarios de las obras soc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79246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os trabajadores que presten servicios en relación de dependencia,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sea en el ámbito privado o en el sector público del Poder Ejecutivo o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en sus organismos autárquicos y descentralizados; en empresas y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sociedades del Estado; en la Municipalidad de la Ciudad de Buenos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ires y en el Territorio Nacional de la Tierra del Fuego, Antártida e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slas del Atlántico S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os jubilados y pensionados nacionales, y los de la Municipalidad de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 Ciudad de Buenos Ai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os beneficiarios de prestaciones no contributivas nacion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6.3.2. Adherente volu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 considera tal: DR art.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514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upo familiar prima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 afiliado obliga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124080"/>
            <a:ext cx="73152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idos los padre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hijos mayores de 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7238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último caso hasta el límite y en las condiciones que establezcan las respectivas obras so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49528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e elec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5410080"/>
            <a:ext cx="784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iliados a una obra social distinta a aquella que les corresponde por su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6.4. Pago dir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438280"/>
            <a:ext cx="777240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ircunstancias consten en los respectivos comproba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e deben emitir los prestadores del servi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8080" y="947880"/>
            <a:ext cx="7848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6.4.2. Pago por falta de serv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905120"/>
            <a:ext cx="83059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s en las que el beneficiario abona una prestación,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ndo cubierta por el sistem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razones circunstanciales no es brindada por el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7. Incorporación de cosas mue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465280"/>
            <a:ext cx="4800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reve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ropi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 soporte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8. Créditos fiscales comput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752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1. en la entidad prest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2590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io de pror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048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io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3962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s públicos al 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419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or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DE ASISTENCIA SANITARIA, MÉDICA Y PARAMÉ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1508040"/>
            <a:ext cx="77724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990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2. en el afiliado volu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447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jeto inscripto, la salud está vinculada a su actividad grav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819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3. en la empres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hace cargo de una afiliación voluntaria, no derivada de obr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3745080"/>
            <a:ext cx="7162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crédito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hay débito fiscal? Ley art. 21; mayor remune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829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27240" indent="-3272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- DESCRIPCIÓN DE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417760"/>
            <a:ext cx="5943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tuito: hos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neroso: exento art. 7 inc. h apart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657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27240" indent="-3272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ención pri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4419720"/>
            <a:ext cx="5943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iente directo: Gravado 2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- DESCRIPCIÓN DE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536920"/>
            <a:ext cx="769608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ra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egios y Consejos Profesionales, Ley 25.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42900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jas de Previsión Social para Profes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809880"/>
            <a:ext cx="64008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prepagos méd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mutuales / cooper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entidades de bien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5029200"/>
            <a:ext cx="9372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RT / AF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Fondo Especial del Tabaco creado por el artículo 22 de la ley 19.800 DR art. 3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stema preventivo o de seguro de salud mixto: exento o gravado al 10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- Alcance objetivo de la exen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133720"/>
            <a:ext cx="8076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Los servicios de asistencia sanitaria, médica y paraméd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2771640"/>
            <a:ext cx="6477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Times New Roman"/>
              </a:rPr>
              <a:t>atender al paciente en procura exlusivamente de su (Dicts. 47/92 y 23/9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809880"/>
            <a:ext cx="4647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bl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- Alcance objetivo de la exe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72388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de hospitalización en clínicas, sanatorios y establecimientos similare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las prestaciones accesorias de la hospit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rofe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905120"/>
            <a:ext cx="73152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médicos en todas sus especialidades </a:t>
            </a:r>
            <a:r>
              <a:rPr b="0" i="1" lang="es-AR" sz="1600" spc="-1" strike="noStrike">
                <a:solidFill>
                  <a:srgbClr val="000000"/>
                </a:solidFill>
                <a:latin typeface="Times New Roman"/>
              </a:rPr>
              <a:t>radi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ioquímicos, </a:t>
            </a:r>
            <a:r>
              <a:rPr b="0" i="1" lang="es-AR" sz="1600" spc="-1" strike="noStrike">
                <a:solidFill>
                  <a:srgbClr val="000000"/>
                </a:solidFill>
                <a:latin typeface="Times New Roman"/>
              </a:rPr>
              <a:t>laboratorios de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odontólog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kinesiólog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fonoaudiólog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sicólog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5812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éd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545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écnicos auxiliares de la medi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2578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odos los demás servicios relacionados con la asis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562720"/>
            <a:ext cx="784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6720" indent="-2858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rácticas complementarias de diagnóstico. radiología, tomografía computada, ecografía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60958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servicio de ambula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4191120"/>
            <a:ext cx="41148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fermeros, instrument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óp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4724280"/>
            <a:ext cx="45720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cits. 137/94 y 47/2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oberto e Ivo Lencioni SC. TFN Sala B 01.11.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s-AR" sz="3500" spc="-1" strike="noStrike">
                <a:solidFill>
                  <a:srgbClr val="000000"/>
                </a:solidFill>
                <a:latin typeface="Times New Roman"/>
              </a:rPr>
              <a:t>Usuarios del sistema preventivo de salu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2" marL="834120" indent="-1666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mpulsivos </a:t>
            </a:r>
            <a:r>
              <a:rPr b="0" i="1" lang="es-AR" sz="3200" spc="-1" strike="noStrike">
                <a:solidFill>
                  <a:srgbClr val="000000"/>
                </a:solidFill>
                <a:latin typeface="Times New Roman"/>
              </a:rPr>
              <a:t>Obras Sociale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: ex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 algn="just">
              <a:spcBef>
                <a:spcPts val="10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oluntarios</a:t>
            </a: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01840"/>
            <a:ext cx="74678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nsejos y Colegios: ex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os demás casos: gravados al 10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4- Retribución a quienes participan del mercado preventivo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6701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1382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portes y contribuciones a Obras Sociales Ley 23.6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1382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áp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1382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r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1382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rancel dif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1382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1382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agos por falta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4876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roporción en cuotas de tip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286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portes voluntarios a cooperadoras de hos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5- Condiciones subje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a 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l beneficiario de la pr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895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fil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276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obligatorio a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3733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rivado por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191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volu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4724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triculado de Consejo o Cole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18328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0:13:30Z</dcterms:created>
  <dc:creator>Marcelo</dc:creator>
  <dc:description/>
  <dc:language>en-US</dc:language>
  <cp:lastModifiedBy>C.P.C.E.C.A.B.A.</cp:lastModifiedBy>
  <cp:lastPrinted>2004-06-29T17:51:18Z</cp:lastPrinted>
  <dcterms:modified xsi:type="dcterms:W3CDTF">2004-07-01T19:27:24Z</dcterms:modified>
  <cp:revision>28</cp:revision>
  <dc:subject/>
  <dc:title>ASOCIACION ARGENTINA</dc:title>
</cp:coreProperties>
</file>