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34CB-16F7-4109-AD46-A8E8F44F6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5B2E-8B0D-4337-8914-EBDDF8AE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40D1-6C07-4B7A-92B8-E49C8A3D7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4834-7104-4A99-A8EE-90306E0FF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A17A-DE50-4C46-BF3F-F55188DBE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A599-EF2F-4332-86E6-63FB9615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80B7-6A18-4CF8-AA42-D0B79757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4D16-A555-4E99-892E-70FCE537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6952-DC71-447E-8D20-DBB86AE1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F6AE-CC02-4A0E-BD42-92B4AC97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0E7D-9271-4192-8AA8-FEF18EC9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FB14-E5C7-4328-852C-AB398256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2F0C-270A-4599-94CC-5BD7135B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67EC-8999-4151-9681-D10ACC37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5E79-669C-41B8-B479-EE241828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B234-4774-4076-8BB4-FE0DFFDDC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5A02-DBC0-4372-B601-2E62C017E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9D60-7798-4EFD-A3A6-0CFC2E31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D4B1-9B12-4DFB-B0AE-7E1CC3BB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A7E0-000D-4046-8C34-C7BAEFBF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9852-DC5F-407F-BD14-4AA8E23A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689D-45D0-41E5-A330-43FFE073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2BC7-AB95-4D9B-AFD5-969D3705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ED6C-C991-4935-A3A6-E4EB47BD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5C55-BC4D-4D1B-ACCA-76D7FA602425}" type="slidenum">
              <a:rPr b="0" lang="es-A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F38A-FFCC-44AE-8799-BBE3F8DD8597}" type="slidenum">
              <a:rPr b="0" lang="es-A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.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 INEQUIDAD TRIBUTARIA DEL DEVENGADO     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FISCAL EN  LA SALU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El concepto de devengado fiscal, el impuesto a la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ancias y la realidad económic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trina Tributaria - Errepar - Nª 230 - Mayo 199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bilidad e Impuestos: DEVENGADOS = NO VIG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bilidad actual: financiera y fiscal: PERCIB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DUCCIONES ESPECI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2105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evisiones Incobrables: Art. 87 - Inc. B –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ey IG - Art. 133/134/135 D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Índices de Incobrabilidad: DR 2442/02 –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rt. 136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paración con texto anterior: "Otros índices de incobrabilidad”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cepción año 2003: "Cesación de pagos" - Decreto 348/03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creto 925 de INSSJyP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réditos morosos de escasa significación - RG1457/03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evisión para débitos de facturació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MIENTO DEL SISTEM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Deudor principal: El Estado (Obras Socia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ficiencia generaliz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recta asignación de recur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es y auditorías defic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bitos injustificados, arbitrarios y abus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os a cue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nceles sin sust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uración signific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os financi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os impositiv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iones legales = fuera d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nceles baj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uración redu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estos distorsivos (IV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MIENTO DEL SISTEM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Deudor secundario: Medicina Prepa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S DE FACTURAC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s de Facturación: Factura vers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ibos - Rg 1415 – Art. 8 - Inc.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23 - Anexo 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sión para Honor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reamiento ingresos/egre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tributo: Ley 2586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ORTIZ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rtización de Bs. De Uso: Art. 84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y I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. De Uso adquiridos en moneda extranjera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 Art.13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e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erencias de cambio: capitalización o resultado: VN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697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6.-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NNOVADORES: DGR PROVINCIA DE 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gresos Brutos: GACBA - Reducción alícu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% a 1,1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gresos Brutos: PBA - Ley 13113 - Cambio de método de imputación de ingre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19:27:01Z</dcterms:created>
  <dc:creator>BRENDA</dc:creator>
  <dc:description/>
  <dc:language>en-US</dc:language>
  <cp:lastModifiedBy>C.P.C.E.C.A.B.A.</cp:lastModifiedBy>
  <dcterms:modified xsi:type="dcterms:W3CDTF">2004-07-01T19:25:30Z</dcterms:modified>
  <cp:revision>7</cp:revision>
  <dc:subject/>
  <dc:title>1.- LA INEQUIDAD TRIBUTARIA DEL DEVENGADO             FISCAL EN  LA SALUD        </dc:title>
</cp:coreProperties>
</file>