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626-E1F2-452D-8A1B-CF6C5B04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3F7-22F5-4375-A513-E9F261F9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1D0-4E40-4BF0-A56B-089625CE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3F9-C682-4D59-99CB-A5F85DC0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BF3-E191-43EC-AE68-E4E78F0A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9EC-6BBF-4B03-9761-5169EF3C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A1E-6F7A-45AF-BA79-0759BC4E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B27-7AFF-4697-BC77-1CB9A4A9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49A-CC59-4D2A-BDFE-B9CCA091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E51-BAFA-4C69-96A4-E35F5707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C26-B0C4-41E0-9CED-9546FC60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B6E-3C13-49CA-9CDE-6F23B310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2FFB-C824-4AD2-87F4-C3855F4E84D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312408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Régimen de Garantías en Salud y Piloto AUGE 2004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Modelo  de Gestión de Garantí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DENCIA ACTUAL DEL MODELO DE A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905120"/>
            <a:ext cx="3352680" cy="533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213372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981080"/>
            <a:ext cx="2819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ENCION DE CO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8120"/>
            <a:ext cx="3352680" cy="609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S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32004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2666880"/>
            <a:ext cx="281916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ANDARIZACIO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TERAPEU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ROCES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FASIS EN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724280"/>
            <a:ext cx="3276720" cy="609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4876920"/>
            <a:ext cx="1447920" cy="304560"/>
          </a:xfrm>
          <a:prstGeom prst="rightArrow">
            <a:avLst>
              <a:gd name="adj1" fmla="val 50000"/>
              <a:gd name="adj2" fmla="val 118853"/>
            </a:avLst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4572000"/>
            <a:ext cx="266688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NITARIOS Y SO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RGIMIENTO NUE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FILES PROFESIONAL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228600"/>
            <a:ext cx="77724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 BUSQUEDA DE CALIDAD SE APOYA EN DOS IDEAS CLA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 RECONOCIMIENO POR PARTE DE CADA PROFESIONAL DE 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ACIDAD PARA CONTRIBUIR A MEJORAR LA CALIDAD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IO QUE PR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CION DE MEDIDAS QUE HAGAN POSIBLE CONVERT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 DINAMICO LO QUE PARECE ESTA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2819520"/>
            <a:ext cx="533160" cy="685800"/>
          </a:xfrm>
          <a:prstGeom prst="downArrow">
            <a:avLst>
              <a:gd name="adj1" fmla="val 50000"/>
              <a:gd name="adj2" fmla="val 32157"/>
            </a:avLst>
          </a:prstGeom>
          <a:solidFill>
            <a:srgbClr val="ff9999"/>
          </a:solidFill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505320"/>
            <a:ext cx="7162920" cy="106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RA VOLUNTAD DE HACER BIEN LAS C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 PRIMERA VE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4952880"/>
            <a:ext cx="71629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ALUACION O CONTROL PERMITE CONOCER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O DE APROXIMACION ENTRE LOS PROCE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IAMENTE ESTABLECIDOS Y LA PRACT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FESIONAL R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33720" y="2517840"/>
            <a:ext cx="5562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828800"/>
            <a:ext cx="81532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ber lo que hay que hacer para solucionar los problemas de salud, satisfacer las expectativas de los usuarios, y poner los medios y organizar los procesos de manera que sea lógico, fácil e inevitable ofrecer un servicio con la calidad espe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ff"/>
                </a:solidFill>
                <a:latin typeface="Arial Rounded MT Bold"/>
              </a:rPr>
              <a:t>DISEÑO DE LA CALI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ff"/>
                </a:solidFill>
                <a:latin typeface="Arial Rounded MT Bold"/>
              </a:rPr>
              <a:t>EN SERVICIOS DE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09480"/>
            <a:ext cx="365760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Times New Roman"/>
              </a:rPr>
              <a:t>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1676520"/>
            <a:ext cx="6553080" cy="518148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ODELOS DE EXCEL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yudar a mejorar las práct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y capac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jorar el desempeño organiz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eneración y promo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un valor creciente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s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prendizaje organiz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joramiento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4267080"/>
            <a:ext cx="838440" cy="381240"/>
          </a:xfrm>
          <a:prstGeom prst="rightArrow">
            <a:avLst>
              <a:gd name="adj1" fmla="val 50000"/>
              <a:gd name="adj2" fmla="val 54981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54100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6248520"/>
            <a:ext cx="990360" cy="304560"/>
          </a:xfrm>
          <a:prstGeom prst="rightArrow">
            <a:avLst>
              <a:gd name="adj1" fmla="val 50000"/>
              <a:gd name="adj2" fmla="val 81294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14600" y="2514600"/>
            <a:ext cx="373392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E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85800"/>
            <a:ext cx="281952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CLI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724280"/>
            <a:ext cx="266724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GES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09480"/>
            <a:ext cx="2514600" cy="160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M B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648320"/>
            <a:ext cx="2895480" cy="160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ADMINISTR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371600"/>
            <a:ext cx="1904760" cy="228600"/>
          </a:xfrm>
          <a:prstGeom prst="leftRightArrow">
            <a:avLst>
              <a:gd name="adj1" fmla="val 50000"/>
              <a:gd name="adj2" fmla="val 165874"/>
            </a:avLst>
          </a:prstGeom>
          <a:solidFill>
            <a:srgbClr val="00ffcc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257800"/>
            <a:ext cx="1905120" cy="228600"/>
          </a:xfrm>
          <a:prstGeom prst="leftRightArrow">
            <a:avLst>
              <a:gd name="adj1" fmla="val 50000"/>
              <a:gd name="adj2" fmla="val 165905"/>
            </a:avLst>
          </a:prstGeom>
          <a:solidFill>
            <a:srgbClr val="00ffcc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2514600"/>
            <a:ext cx="304920" cy="1981080"/>
          </a:xfrm>
          <a:prstGeom prst="upDownArrow">
            <a:avLst>
              <a:gd name="adj1" fmla="val 50000"/>
              <a:gd name="adj2" fmla="val 129339"/>
            </a:avLst>
          </a:prstGeom>
          <a:solidFill>
            <a:srgbClr val="00ffcc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362320"/>
            <a:ext cx="304920" cy="1981080"/>
          </a:xfrm>
          <a:prstGeom prst="upDownArrow">
            <a:avLst>
              <a:gd name="adj1" fmla="val 50000"/>
              <a:gd name="adj2" fmla="val 129339"/>
            </a:avLst>
          </a:prstGeom>
          <a:solidFill>
            <a:srgbClr val="00ffcc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TIVOS DE LA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IDADES 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Times New Roman"/>
              </a:rPr>
              <a:t>Lograr satisfacción de necesidades y expectativ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Times New Roman"/>
              </a:rPr>
              <a:t>Optimizar recursos humanos y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Times New Roman"/>
              </a:rPr>
              <a:t>Optimizar los procesos organizativos y fun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Times New Roman"/>
              </a:rPr>
              <a:t>Mantener el nivel de calidad en la organización y en los sistemas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0"/>
                </a:solidFill>
                <a:latin typeface="Times New Roman"/>
              </a:rPr>
              <a:t>Definición de Políticas de Calidad con el compromiso direc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0"/>
                </a:solidFill>
                <a:latin typeface="Times New Roman"/>
              </a:rPr>
              <a:t>Organizar la actividad centrándose en los procesos y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0"/>
                </a:solidFill>
                <a:latin typeface="Times New Roman"/>
              </a:rPr>
              <a:t>Trabajo en equipo como vía normal de mej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0"/>
                </a:solidFill>
                <a:latin typeface="Times New Roman"/>
              </a:rPr>
              <a:t>Identificar los procesos claves que inciden de manera especial en la satisfacción de los cl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981080"/>
            <a:ext cx="3274920" cy="1308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114120" bIns="114120" anchor="t">
            <a:spAutoFit/>
          </a:bodyPr>
          <a:p>
            <a:pPr algn="ctr">
              <a:lnSpc>
                <a:spcPct val="95000"/>
              </a:lnSpc>
              <a:spcBef>
                <a:spcPts val="18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c0"/>
                </a:solidFill>
                <a:latin typeface="Arial Black"/>
              </a:rPr>
              <a:t>MONITORIZACIÓN  DE 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c0"/>
                </a:solidFill>
                <a:latin typeface="Arial Black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09680"/>
            <a:ext cx="2743200" cy="10695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114120" bIns="114120" anchor="t">
            <a:spAutoFit/>
          </a:bodyPr>
          <a:p>
            <a:pPr algn="ctr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c0"/>
                </a:solidFill>
                <a:latin typeface="Arial Black"/>
              </a:rPr>
              <a:t>CICLOS DE</a:t>
            </a:r>
            <a:r>
              <a:rPr b="1" lang="es-ES" sz="2400" spc="-1" strike="noStrike">
                <a:solidFill>
                  <a:srgbClr val="0000c0"/>
                </a:solidFill>
                <a:latin typeface="Albertus Extra Bold"/>
              </a:rPr>
              <a:t> </a:t>
            </a:r>
            <a:r>
              <a:rPr b="1" lang="es-ES" sz="2400" spc="-1" strike="noStrike">
                <a:solidFill>
                  <a:srgbClr val="0000c0"/>
                </a:solidFill>
                <a:latin typeface="Arial Black"/>
              </a:rPr>
              <a:t>MEJ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648320"/>
            <a:ext cx="2895480" cy="9615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114120" bIns="114120" anchor="t">
            <a:spAutoFit/>
          </a:bodyPr>
          <a:p>
            <a:pPr algn="ctr">
              <a:lnSpc>
                <a:spcPct val="95000"/>
              </a:lnSpc>
              <a:spcBef>
                <a:spcPts val="18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c0"/>
                </a:solidFill>
                <a:latin typeface="Arial Black"/>
              </a:rPr>
              <a:t>DISEÑO DE 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c0"/>
                </a:solidFill>
                <a:latin typeface="Arial Black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080" y="45720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UPOS DE ACTIVIDADES DE LO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ROGRAMAS DE GESTIÓN DE LA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43828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749000">
            <a:off x="6667560" y="3484440"/>
            <a:ext cx="358560" cy="1752840"/>
          </a:xfrm>
          <a:prstGeom prst="downArrow">
            <a:avLst>
              <a:gd name="adj1" fmla="val 50000"/>
              <a:gd name="adj2" fmla="val 12221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0255400">
            <a:off x="2437920" y="3657600"/>
            <a:ext cx="457200" cy="1752480"/>
          </a:xfrm>
          <a:prstGeom prst="upArrow">
            <a:avLst>
              <a:gd name="adj1" fmla="val 50000"/>
              <a:gd name="adj2" fmla="val 9582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CION, MONITOREO Y DISEÑO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EO                     EVAL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990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590920"/>
            <a:ext cx="3200400" cy="2895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590920"/>
            <a:ext cx="0" cy="1371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200400" y="3886200"/>
            <a:ext cx="1371600" cy="9907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8862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800600"/>
            <a:ext cx="2590920" cy="1752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CRE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L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R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495680"/>
            <a:ext cx="2819520" cy="1981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U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UAL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CED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UIAS CLI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2971800"/>
            <a:ext cx="1371600" cy="11430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RODUC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CRITE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STAND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2590920"/>
            <a:ext cx="83808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3505320"/>
            <a:ext cx="838080" cy="5331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019920" y="30481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38862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2438280"/>
            <a:ext cx="457200" cy="60984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5909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5715000"/>
            <a:ext cx="1981080" cy="380880"/>
          </a:xfrm>
          <a:prstGeom prst="leftRightArrow">
            <a:avLst>
              <a:gd name="adj1" fmla="val 50000"/>
              <a:gd name="adj2" fmla="val 10354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743200"/>
            <a:ext cx="914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3200400"/>
            <a:ext cx="1218960" cy="114300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ND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285640" y="3200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DORES TIPO ..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TASA O 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n Indicadores que miden situaciones para las cuales está permitida la ocurrencia de un número determinado de cas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dividen e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DORES DE </a:t>
            </a: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ESTRUCTURA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DORES DE </a:t>
            </a: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PROCESO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DORES DE </a:t>
            </a: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477120" y="2971800"/>
            <a:ext cx="92376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836640" cy="838440"/>
          </a:xfrm>
          <a:prstGeom prst="rect">
            <a:avLst/>
          </a:prstGeom>
          <a:ln w="0">
            <a:noFill/>
          </a:ln>
        </p:spPr>
      </p:pic>
      <p:pic>
        <p:nvPicPr>
          <p:cNvPr id="127" name=".WMF" descr=""/>
          <p:cNvPicPr/>
          <p:nvPr/>
        </p:nvPicPr>
        <p:blipFill>
          <a:blip r:embed="rId4"/>
          <a:stretch/>
        </p:blipFill>
        <p:spPr>
          <a:xfrm flipH="1">
            <a:off x="6171840" y="5359320"/>
            <a:ext cx="6858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¿Qué es el Régimen de Garantías en Salu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U + 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 es una herramienta de planificación sani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egur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cceso Univers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 todas las prestaciones definidas en la Modalidad de Atención Institucional de FONASA y las acciones de salud púb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arantías explícit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 un conjunto de prioridades sanitarias y las prestaciones asociadas a su resolución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n derechos definidos por le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066680"/>
            <a:ext cx="8915400" cy="12956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019"/>
                </a:solidFill>
                <a:latin typeface="Times New Roman"/>
              </a:rPr>
              <a:t>INTENTA MEDIR SI EL SISTEMA DE ATENCION 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01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30019"/>
                </a:solidFill>
                <a:latin typeface="Times New Roman"/>
              </a:rPr>
              <a:t>DISEÑADO Y ADAPTADO PARA ATENDER LAS REALES 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019"/>
                </a:solidFill>
                <a:latin typeface="Times New Roman"/>
              </a:rPr>
              <a:t>DE LA POBLACION ASIGNADA, SEGÚN EDAD, DIAGNOSTIC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019"/>
                </a:solidFill>
                <a:latin typeface="Times New Roman"/>
              </a:rPr>
              <a:t>RIESGO A LOS CUALES ESTA SOMET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352680"/>
            <a:ext cx="891540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019"/>
                </a:solidFill>
                <a:latin typeface="Times New Roman"/>
              </a:rPr>
              <a:t>INTENTA MEDIR EL “COMO LA ATENCION FUE OTOR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019"/>
                </a:solidFill>
                <a:latin typeface="Times New Roman"/>
              </a:rPr>
              <a:t>O SEA SI TODOS LOS PASOS DEL PROCESO FUERON CUMPLID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019"/>
                </a:solidFill>
                <a:latin typeface="Times New Roman"/>
              </a:rPr>
              <a:t>MANERA ADECUADA. UN BUEN INDICADOR DE PROCESO 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019"/>
                </a:solidFill>
                <a:latin typeface="Times New Roman"/>
              </a:rPr>
              <a:t>VINCULADO A UN RESULTADO DETERMINADO, QUE PRESUME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019"/>
                </a:solidFill>
                <a:latin typeface="Times New Roman"/>
              </a:rPr>
              <a:t>CONOCIMIENTO DE CADA UN DE LAS ETAPAS DEL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791320"/>
            <a:ext cx="89154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019"/>
                </a:solidFill>
                <a:latin typeface="Times New Roman"/>
              </a:rPr>
              <a:t>MIDEN LA EFECTIVIDAD DE LA ATENCION, O SEA MIDEN E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001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30019"/>
                </a:solidFill>
                <a:latin typeface="Times New Roman"/>
              </a:rPr>
              <a:t>GRADO LA ATENCION OTORGADA PRODUJO EL EFECTO DES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899560" y="5100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28600"/>
            <a:ext cx="3581280" cy="8380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Times New Roman"/>
              </a:rPr>
              <a:t>ESTRU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590920"/>
            <a:ext cx="3505320" cy="5331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029200"/>
            <a:ext cx="3429000" cy="6858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94360" y="4857840"/>
            <a:ext cx="2844720" cy="1657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30600">
            <a:off x="1233000" y="1371240"/>
            <a:ext cx="6303960" cy="1922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80"/>
                </a:solidFill>
                <a:latin typeface="Arial"/>
              </a:rPr>
              <a:t>MODELO UNIC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80"/>
                </a:solidFill>
                <a:latin typeface="Arial"/>
              </a:rPr>
              <a:t>DE ACREDITACION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80"/>
                </a:solidFill>
                <a:latin typeface="Arial"/>
              </a:rPr>
              <a:t>HOSPITALES</a:t>
            </a:r>
            <a:r>
              <a:rPr b="1" i="1" lang="en-US" sz="40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j0281068" descr=""/>
          <p:cNvPicPr/>
          <p:nvPr/>
        </p:nvPicPr>
        <p:blipFill>
          <a:blip r:embed="rId2"/>
          <a:stretch/>
        </p:blipFill>
        <p:spPr>
          <a:xfrm>
            <a:off x="6434280" y="4971960"/>
            <a:ext cx="219384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15920" y="1486080"/>
            <a:ext cx="741672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La acreditación es un proceso de evaluación externa periódica de una institución que compara la situación local con estándares conocidos relacionados con la misión y aspectos relevantes de su actividad esencial,  estableciendo el nivel de cumplimiento de el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74760" y="514440"/>
            <a:ext cx="40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ACREDITAC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06440" y="685800"/>
            <a:ext cx="6806520" cy="514440"/>
            <a:chOff x="406440" y="685800"/>
            <a:chExt cx="6806520" cy="514440"/>
          </a:xfrm>
        </p:grpSpPr>
        <p:pic>
          <p:nvPicPr>
            <p:cNvPr id="141" name="BD10284_" descr=""/>
            <p:cNvPicPr/>
            <p:nvPr/>
          </p:nvPicPr>
          <p:blipFill>
            <a:blip r:embed="rId2"/>
            <a:stretch/>
          </p:blipFill>
          <p:spPr>
            <a:xfrm>
              <a:off x="406440" y="685800"/>
              <a:ext cx="213336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117080" y="1028520"/>
              <a:ext cx="60958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19320" y="380880"/>
            <a:ext cx="7924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ROPOSITOS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DE ACREDITACION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714680"/>
            <a:ext cx="883908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685800" algn="just">
              <a:lnSpc>
                <a:spcPct val="14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85800" algn="just">
              <a:lnSpc>
                <a:spcPct val="140000"/>
              </a:lnSpc>
              <a:buClr>
                <a:srgbClr val="ff3399"/>
              </a:buClr>
              <a:buFont typeface="Wingdings" charset="2"/>
              <a:buChar char="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ontribuir a la mejoría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 la calidad  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 la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tención  en salu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ff3399"/>
              </a:buClr>
              <a:buFont typeface="Wingdings" charset="2"/>
              <a:buChar char="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85800" algn="just">
              <a:lnSpc>
                <a:spcPct val="140000"/>
              </a:lnSpc>
              <a:buClr>
                <a:srgbClr val="ff3399"/>
              </a:buClr>
              <a:buFont typeface="Wingdings" charset="2"/>
              <a:buChar char="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Garantizar un nivel de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alidad de la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tención a la pob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30320" y="34308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99ff"/>
                </a:solidFill>
                <a:latin typeface="Arial"/>
              </a:rPr>
              <a:t>OBJETIV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886040"/>
            <a:ext cx="873756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762120" algn="just">
              <a:lnSpc>
                <a:spcPct val="150000"/>
              </a:lnSpc>
              <a:buClr>
                <a:srgbClr val="ff33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Promover la evaluación interna y mejoría de la calidad de la aten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762120" algn="just">
              <a:lnSpc>
                <a:spcPct val="150000"/>
              </a:lnSpc>
              <a:buClr>
                <a:srgbClr val="ff33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Medir el nivel de calidad  de la atención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76212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76212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76212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228600"/>
            <a:ext cx="9804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ASPECTOS  A CONSIDERAR EN EL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209600"/>
            <a:ext cx="85345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Voluntar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Entidad respon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Aspectos de la atención inclu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Tipo de organizaciones a evalu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Condiciones de tra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Particip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Sustent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Sistema de evalu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Instauración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Divulgación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22360" y="57168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ESTANDA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486080"/>
            <a:ext cx="792504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Derechos del pa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Función Clí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Función de Apoyo Clínico   y 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Terapéu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Continuidad de la A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Gestión Dir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Planta Física y Equip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Gestión de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Infecciones intrahospital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ff"/>
              </a:buClr>
              <a:buFont typeface="Bookshelf Symbol 3" charset="2"/>
              <a:buChar char="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ronograma de Implementación RG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mulgación legal: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tes del 21 de mayo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legal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arantías obligatorias para 17 – 25 problemas para Fonasa e Isapres entrarán en vigencia el 1º de abril 2005.  Significa publicar el decreto en noviembre 2004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loto AUGE: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pansión de garantías a 17 problemas de salud el 1º de abril  con gestión de la garantía de oportunidad. Sólo a afiliados a FON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arantías Explícit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63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ceso: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tención de salud está garantizada para todos los chileno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ortunidad: Define el tiempo de espera máximo para las prioridades sanitarias definidas en el AU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idad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lece la forma en que serán resueltos los problemas de salud definidos en el AUGE, por prestadores acredi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cción Financiera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lece el porcentaje de financiamiento de cargo de los seguros de sal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umplimiento de Garantía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415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arantías = Derech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lica responder,  caso a caso,  al 100% de la demanda 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ces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y para las prioridades sanitarias con tiempos de espera 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ortun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, protocolos 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y protección financiera 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pa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definidas por 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ponsables de las Garantí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1966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establecimiento y la red asistenci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be seguir a la persona en el proceso de atención y dar cumplimiento a las garant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NA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 ISAPR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aseguradores tienen la obligación legal de otorgar las garantías mediante convenios con prestadores y monitorear su cumplimiento.  Si la red no cumple deben otorgar la garantía en otro prest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Superintendencia de Salu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iscaliza el cumplimiento y puede di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ner la garantía en otro prestador con cargo al asegurad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Ministerio de Salu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be evaluar el proceso para revisar y proponer nuevas garantí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Gestión de Garantías: Piloto AUG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1966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jemplo:  Cáncer Cervicoute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gestiona la garantía de oportunidad, caso a caso, mediante la citación (y verificación con la prestación trazadora) para asegurar 100% cumplimiento la garantía de oport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monitoriza el cumplimiento de otros plazos de atención (similar al piloto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monitoriza el cumplimiento de la garantía de acceso (atención con garantías) a través del análisis de cambio de estado del caso y el registro de prestaciones traza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quisitos para el Éxit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ecuada definición de garant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ferta pública con complementariedad pri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es asistenciales prepar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de gestión de garantí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 red de encargados AUGE en coordinación con Fon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Información en Salud que apoya la gestión:  SIS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Sistema de Salud se compromete con los derechos en salud de todos los chilenos y chile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61760" y="-36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1676520"/>
            <a:ext cx="3886200" cy="25905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990720"/>
            <a:ext cx="4114800" cy="228600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9999"/>
                </a:solidFill>
                <a:latin typeface="Times New Roman"/>
              </a:rPr>
              <a:t>ACREDI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48006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17:37:18Z</dcterms:created>
  <dc:creator>.</dc:creator>
  <dc:description/>
  <dc:language>en-US</dc:language>
  <cp:lastModifiedBy>C.P.C.E.C.A.B.A.</cp:lastModifiedBy>
  <cp:lastPrinted>2002-04-08T00:29:15Z</cp:lastPrinted>
  <dcterms:modified xsi:type="dcterms:W3CDTF">2004-07-01T19:28:05Z</dcterms:modified>
  <cp:revision>103</cp:revision>
  <dc:subject/>
  <dc:title>INFORME SOBRE LA SALUD EN EL MUNDO 2001 Y REFORMA DE SALUD EN CHILE</dc:title>
</cp:coreProperties>
</file>