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D85C-AF92-4BBA-80BA-4547E6FA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6D3-7CFF-4FFF-A775-B3F96272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414-E758-4CF6-B8A2-7779B52E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5C2-469E-4A49-9D8F-87647E3E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FEC9-AD7E-48DD-8162-C11E3665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B078-0321-4545-B345-E47BD03E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6D49-3AE0-4DAF-A1A2-BF9E2629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DA08-C0B6-4D91-B2CB-46979A29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697F-D0C7-45A3-B62A-CEF26866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BB8D-DA7F-47B7-AF27-48B8DC54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860D-D41C-4024-A0E7-6E58AF39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AE6-D5CF-494C-A1B9-A7973F30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2D02-0BA0-4655-99E4-0DA47DFA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F062-7461-456B-80F2-83FC5E48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2A18-043E-453C-84BE-5802EA48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4CE0-0812-4244-AECD-ACD0EA23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05C1-957F-433D-85DF-E60D1DCE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CF8-DF7B-44CD-B467-67FDE7E4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9F72-CC9C-4761-BDAA-C0BD53FC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78B2-B5C2-4D2C-B701-A749556B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7EED-E50A-4D86-A23D-B1CE040B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4BAF-BEC6-4793-9E64-66C083A1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16C1-75B0-4B66-A8F6-51D296AD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44C6-0B08-4780-830F-25FD424F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85D4-B107-4130-892A-AF6862E7F6F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0E0F-806C-438D-9949-620707CB2CA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9907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Arial"/>
              </a:rPr>
              <a:t>La Calidad como herramienta de Gest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85345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r. Hugo E. A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* Presidente de SA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* Director General de ITA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* Ex Miembro del </a:t>
            </a:r>
            <a:r>
              <a:rPr b="0" i="1" lang="es-ES_tradnl" sz="1600" spc="-1" strike="noStrike">
                <a:solidFill>
                  <a:srgbClr val="ffffff"/>
                </a:solidFill>
                <a:latin typeface="Arial"/>
              </a:rPr>
              <a:t>Executive Board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e ISQ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* Miembro del </a:t>
            </a:r>
            <a:r>
              <a:rPr b="0" i="1" lang="es-ES_tradnl" sz="1600" spc="-1" strike="noStrike">
                <a:solidFill>
                  <a:srgbClr val="ffffff"/>
                </a:solidFill>
                <a:latin typeface="Arial"/>
              </a:rPr>
              <a:t>Council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del Programa ALPHA, ISQu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2ª Jornada de Administración de Sal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ejo Profesional de Ciencias Económ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 la Ciudad Autónoma de Buenos A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0 de junio de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c66"/>
                </a:solidFill>
                <a:latin typeface="Arial"/>
              </a:rPr>
              <a:t>Modalidades de gestión de la calidad VI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Gestión de redes de servicios de salu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atributos de las re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organización con normas comu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prestadores y servicios integr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población defin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programas y objetivos comu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sistema de información apropi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valuación de c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istemas Locales de Salud (SIL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gestión de contratos de ries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gerenci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400" spc="-1" strike="noStrike">
                <a:solidFill>
                  <a:srgbClr val="ffffff"/>
                </a:solidFill>
                <a:latin typeface="Arial"/>
              </a:rPr>
              <a:t>Health Maintenance Organizations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(HMO)</a:t>
            </a:r>
            <a:r>
              <a:rPr b="0" i="1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i="1" lang="es-AR" sz="2400" spc="-1" strike="noStrike">
                <a:solidFill>
                  <a:srgbClr val="ffffff"/>
                </a:solidFill>
                <a:latin typeface="Arial"/>
              </a:rPr>
              <a:t> Managed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4000" spc="-1" strike="noStrike">
                <a:solidFill>
                  <a:srgbClr val="ffcc66"/>
                </a:solidFill>
                <a:latin typeface="Arial"/>
              </a:rPr>
              <a:t>Vertientes de la corriente de Calidad en el campo de la Salud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Gestión de la Calidad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[Quality Management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odelos de gestión institu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dicina basada en evid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í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s de atención clín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6576840"/>
            <a:ext cx="434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Garantía de Calidad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s-ES_tradnl" sz="3200" spc="-1" strike="noStrike">
                <a:solidFill>
                  <a:srgbClr val="ffffff"/>
                </a:solidFill>
                <a:latin typeface="Arial"/>
              </a:rPr>
              <a:t>(Quality Assura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indicadores de c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ducta prescrip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sempeño y efectividad clínic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atisfacción y segur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odalidades de Evaluación Ex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el Estad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Regula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pares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External Peer Revie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Arial"/>
              </a:rPr>
              <a:t>Vertientes de la corriente de Calidad en el campo de la Salud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cc66"/>
                </a:solidFill>
                <a:latin typeface="Arial"/>
              </a:rPr>
              <a:t>Modalidades de gestión </a:t>
            </a:r>
            <a:br>
              <a:rPr sz="4400"/>
            </a:br>
            <a:r>
              <a:rPr b="1" lang="es-AR" sz="4400" spc="-1" strike="noStrike">
                <a:solidFill>
                  <a:srgbClr val="ffcc66"/>
                </a:solidFill>
                <a:latin typeface="Arial"/>
              </a:rPr>
              <a:t>de la calidad 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Gestión de la calidad del producto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control de calidad del producto f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ateneos anátomo-clín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análisis de eventos “centinela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evaluación de enfermedades “trazadora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cc66"/>
                </a:solidFill>
                <a:latin typeface="Arial"/>
              </a:rPr>
              <a:t>Modalidades de gestión </a:t>
            </a:r>
            <a:br>
              <a:rPr sz="4400"/>
            </a:br>
            <a:r>
              <a:rPr b="1" lang="es-AR" sz="4400" spc="-1" strike="noStrike">
                <a:solidFill>
                  <a:srgbClr val="ffcc66"/>
                </a:solidFill>
                <a:latin typeface="Arial"/>
              </a:rPr>
              <a:t>de la calidad 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Programación estructural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programa médico-arquitectónic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organigrama funcion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funciones de unidad administrativ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perfil del puesto de trabaj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estructura departamental </a:t>
            </a:r>
            <a:r>
              <a:rPr b="0" lang="es-AR" sz="3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 estructura matrici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gestión por normas </a:t>
            </a:r>
            <a:r>
              <a:rPr b="0" lang="es-AR" sz="3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 gestión por resultado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cc66"/>
                </a:solidFill>
                <a:latin typeface="Arial"/>
              </a:rPr>
              <a:t>Modalidades de gestión </a:t>
            </a:r>
            <a:br>
              <a:rPr sz="4400"/>
            </a:br>
            <a:r>
              <a:rPr b="1" lang="es-AR" sz="4400" spc="-1" strike="noStrike">
                <a:solidFill>
                  <a:srgbClr val="ffcc66"/>
                </a:solidFill>
                <a:latin typeface="Arial"/>
              </a:rPr>
              <a:t>de la calidad I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Programación de proceso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identificación de los proc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normas de procedimi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flujogra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guías de atención clín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algoritmos y protoco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guías clín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cc66"/>
                </a:solidFill>
                <a:latin typeface="Arial"/>
              </a:rPr>
              <a:t>Modalidades de gestión </a:t>
            </a:r>
            <a:br>
              <a:rPr sz="4000"/>
            </a:br>
            <a:r>
              <a:rPr b="1" lang="es-AR" sz="4000" spc="-1" strike="noStrike">
                <a:solidFill>
                  <a:srgbClr val="ffcc66"/>
                </a:solidFill>
                <a:latin typeface="Arial"/>
              </a:rPr>
              <a:t>de la calidad IV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Círculos de ca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aracterístic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autodesarro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voluntar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articipación de distintas jerarqu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técnicas grup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mpromiso geren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identificación y mejora de proble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identificación de los proce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mités de infecciones hospitalar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mités de historias clín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mités de bioé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cc66"/>
                </a:solidFill>
                <a:latin typeface="Arial"/>
              </a:rPr>
              <a:t>Modalidades de gestión </a:t>
            </a:r>
            <a:br>
              <a:rPr sz="4400"/>
            </a:br>
            <a:r>
              <a:rPr b="1" lang="es-AR" sz="4400" spc="-1" strike="noStrike">
                <a:solidFill>
                  <a:srgbClr val="ffcc66"/>
                </a:solidFill>
                <a:latin typeface="Arial"/>
              </a:rPr>
              <a:t>de la calidad V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Arial"/>
              </a:rPr>
              <a:t>Modelos de gestión integral 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planificación estratég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necesidad de recursos huma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comportamiento de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plan de desarrollo estratég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reingeniería institucion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reconversión organizacion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cc66"/>
                </a:solidFill>
                <a:latin typeface="Arial"/>
              </a:rPr>
              <a:t>Modalidades de gestión de la calidad V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Modelos de gestión integral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Gestión de la Calidad To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(Total quality Management – </a:t>
            </a: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TQM</a:t>
            </a:r>
            <a:r>
              <a:rPr b="0" i="1" lang="es-AR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ompromiso de los direc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necesidades y expectativas de los cli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identificación de procesos y mejora continua (CQ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planificación estraté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omparación con competidores </a:t>
            </a:r>
            <a:r>
              <a:rPr b="0" i="1" lang="es-AR" sz="2000" spc="-1" strike="noStrike">
                <a:solidFill>
                  <a:srgbClr val="ffffff"/>
                </a:solidFill>
                <a:latin typeface="Arial"/>
              </a:rPr>
              <a:t>(benchmarking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ducación continua y bienestar del pers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alidad de proveedores, distribuidores y comercializ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preservación del medio amb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satisfación del cliente (cliente extern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participación del personal (</a:t>
            </a:r>
            <a:r>
              <a:rPr b="0" i="1" lang="es-AR" sz="2000" spc="-1" strike="noStrike">
                <a:solidFill>
                  <a:srgbClr val="ffffff"/>
                </a:solidFill>
                <a:latin typeface="Arial"/>
              </a:rPr>
              <a:t>empowerment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– cliente intern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impacto y responsabilidad social </a:t>
            </a:r>
            <a:r>
              <a:rPr b="0" i="1" lang="es-AR" sz="2000" spc="-1" strike="noStrike">
                <a:solidFill>
                  <a:srgbClr val="ffffff"/>
                </a:solidFill>
                <a:latin typeface="Arial"/>
              </a:rPr>
              <a:t>(accountability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) de innov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19:41:16Z</dcterms:created>
  <dc:creator>Hugo E. Arce</dc:creator>
  <dc:description/>
  <dc:language>en-US</dc:language>
  <cp:lastModifiedBy>C.P.C.E.C.A.B.A.</cp:lastModifiedBy>
  <dcterms:modified xsi:type="dcterms:W3CDTF">2004-07-01T19:30:38Z</dcterms:modified>
  <cp:revision>19</cp:revision>
  <dc:subject/>
  <dc:title>La Calidad como Política de Estado y la toma de decisiones</dc:title>
</cp:coreProperties>
</file>