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9.gif" ContentType="image/gi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91805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AC4-00B5-4A40-B31A-073688EC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651-9374-428B-B5C1-71D3EBF3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609-20D4-4996-B99F-86E702A8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A33-400E-40D9-8694-175DA552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6A8F-1710-4F1E-9523-714848D3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F2A3-71B6-4D89-B831-0BB6B5BA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D636-95BC-427F-87BB-02BC463B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4DAC-76F8-450F-90E1-4123AB1F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1DBE-621C-4324-9F68-E97ABC72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1781-6F84-4FE5-9D53-F1140F15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CA94-9158-4FF0-BBD9-A3377C86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F23-FF1B-4868-96D4-D7789A81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2A25-5F30-47BB-A5CC-6F79269D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DC38-EEA8-4D03-B15D-E60B210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8D61-802A-4C3D-9959-4CF5B18C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E193-D56F-4142-8E02-31D30031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1626-F051-48FC-A84D-F3C7911E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73829-2F3D-462D-9CA9-BBF93C3B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81490-AE67-41EA-B683-51D314D6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2F914-6368-44BE-9347-70C93F52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5DC83-1FB7-4443-8E4E-3D75D94A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8B910-6242-44F3-BEF7-10E61D71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D5D-859F-4D3A-BDF5-51DF8E95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576BE-EF16-4A98-A3FE-72273D74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B4DBB-C51C-44B7-AD87-2327531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F5860-48AE-47AB-82A9-82DF6674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62DE6-DC1A-430B-BCAC-FFF53AA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E1486-F828-452D-8883-832546C3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10018-261A-4F7B-A36A-30ABAD98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F0613-5EE0-4E56-80C5-D0823E93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D2EC-E9FF-405E-BCEC-CC1048FE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46D3C-ED4B-4486-86F6-6D3B9378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DB1AD-86F5-4116-90D8-6F936E43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937-06CD-4E6E-BCE2-A9D82FF1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4A274-5EF4-4817-96AA-0E63C622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C55A-AF25-4475-846A-7B156EF9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8A899-E288-4644-9C0F-479623FD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E838-417D-4266-B7B3-BBDA33F3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9321-4D5B-4C6E-8013-01BFF937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8CC7-C436-4FAF-B5BB-3D41864D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FE079-1D42-4E17-9B87-694C1F2B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2765-7E79-4393-A095-A1F65654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4C92A-C082-4E2A-AC89-490988B4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A68-CBD2-4D6E-9F34-4B73DFB2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A38-1DAF-42CE-B77E-5CBA6F57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067-2CF9-4529-85E1-20F7C247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2C2-211A-408C-8140-EBFD3148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97B-70F6-4973-BA65-0EEE4FE6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42920" y="0"/>
            <a:ext cx="1258920" cy="68565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0066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6920" y="1905120"/>
            <a:ext cx="724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D253-661E-4AE8-8F28-0410072F43D5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-181080" y="-27000"/>
            <a:ext cx="1297080" cy="216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0066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66CA-BDF1-40DF-9467-3D36DE72A93E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38560" y="-27000"/>
            <a:ext cx="44654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B8C1-D643-4B67-9A84-EFECFD6217BB}" type="slidenum">
              <a:rPr b="0" lang="es-MX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3751-850D-46EA-98DD-633355D63560}" type="slidenum">
              <a:rPr b="0" lang="es-MX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308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strategias para nuestra Argentina”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19240" y="6064200"/>
            <a:ext cx="6966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inanzas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52360" y="1628640"/>
            <a:ext cx="940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Quijote y los molinos de viento: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¿ Existen oportunidades de Inversiones Corporativas en el nuevo escenario?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207280" y="5170320"/>
            <a:ext cx="819360" cy="17146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2720" y="652464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aniel Rosamili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763280" y="44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Oportunidades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186920" y="1905120"/>
            <a:ext cx="724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simetrías de mercado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alta de valores de referencia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os activos a precio de liquidación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asez de soluciones creativas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07640" y="44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Algunos Caminos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4716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r a “contrapelo” de la realidad actual: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iangulación entre deuda corporativa y   deuda soberana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Idea de Warren Buffet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ocación de activos remunerados hacia activos productivos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755640" y="-171720"/>
            <a:ext cx="8856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Triangulación</a:t>
            </a:r>
            <a:br>
              <a:rPr sz="3800"/>
            </a:b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 deuda Soberana y Corporativa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08000" y="5732640"/>
            <a:ext cx="1943280" cy="936360"/>
          </a:xfrm>
          <a:prstGeom prst="ellipse">
            <a:avLst/>
          </a:prstGeom>
          <a:solidFill>
            <a:srgbClr val="993366">
              <a:alpha val="99000"/>
            </a:srgbClr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Mercado secundario de deuda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2843280" y="4653000"/>
            <a:ext cx="1472760" cy="1168560"/>
            <a:chOff x="2843280" y="4653000"/>
            <a:chExt cx="1472760" cy="1168560"/>
          </a:xfrm>
        </p:grpSpPr>
        <p:sp>
          <p:nvSpPr>
            <p:cNvPr id="1157" name=""/>
            <p:cNvSpPr/>
            <p:nvPr/>
          </p:nvSpPr>
          <p:spPr>
            <a:xfrm rot="19539000">
              <a:off x="3710160" y="5395680"/>
              <a:ext cx="574560" cy="288720"/>
            </a:xfrm>
            <a:custGeom>
              <a:avLst/>
              <a:gdLst>
                <a:gd name="textAreaLeft" fmla="*/ 89640 w 574560"/>
                <a:gd name="textAreaRight" fmla="*/ 502920 w 574560"/>
                <a:gd name="textAreaTop" fmla="*/ 72000 h 288720"/>
                <a:gd name="textAreaBottom" fmla="*/ 2167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43280" y="4653000"/>
              <a:ext cx="1150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Títulos de deuda Soberana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3780000" y="5523840"/>
            <a:ext cx="1150920" cy="690480"/>
            <a:chOff x="3780000" y="5523840"/>
            <a:chExt cx="1150920" cy="690480"/>
          </a:xfrm>
        </p:grpSpPr>
        <p:sp>
          <p:nvSpPr>
            <p:cNvPr id="1160" name=""/>
            <p:cNvSpPr/>
            <p:nvPr/>
          </p:nvSpPr>
          <p:spPr>
            <a:xfrm rot="8739000">
              <a:off x="3850920" y="5660640"/>
              <a:ext cx="574560" cy="289080"/>
            </a:xfrm>
            <a:custGeom>
              <a:avLst/>
              <a:gdLst>
                <a:gd name="textAreaLeft" fmla="*/ 89640 w 574560"/>
                <a:gd name="textAreaRight" fmla="*/ 502920 w 574560"/>
                <a:gd name="textAreaTop" fmla="*/ 72000 h 289080"/>
                <a:gd name="textAreaBottom" fmla="*/ 217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780000" y="58770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4933800" y="3500280"/>
            <a:ext cx="1613160" cy="1075320"/>
            <a:chOff x="4933800" y="3500280"/>
            <a:chExt cx="1613160" cy="1075320"/>
          </a:xfrm>
        </p:grpSpPr>
        <p:sp>
          <p:nvSpPr>
            <p:cNvPr id="1163" name=""/>
            <p:cNvSpPr/>
            <p:nvPr/>
          </p:nvSpPr>
          <p:spPr>
            <a:xfrm rot="19539000">
              <a:off x="5940360" y="4149360"/>
              <a:ext cx="574920" cy="289080"/>
            </a:xfrm>
            <a:custGeom>
              <a:avLst/>
              <a:gdLst>
                <a:gd name="textAreaLeft" fmla="*/ 89640 w 574920"/>
                <a:gd name="textAreaRight" fmla="*/ 503280 w 574920"/>
                <a:gd name="textAreaTop" fmla="*/ 72000 h 289080"/>
                <a:gd name="textAreaBottom" fmla="*/ 217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933800" y="3500280"/>
              <a:ext cx="1150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Títulos de deuda Soberana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6050160" y="4277520"/>
            <a:ext cx="1761840" cy="1075320"/>
            <a:chOff x="6050160" y="4277520"/>
            <a:chExt cx="1761840" cy="1075320"/>
          </a:xfrm>
        </p:grpSpPr>
        <p:sp>
          <p:nvSpPr>
            <p:cNvPr id="1166" name=""/>
            <p:cNvSpPr/>
            <p:nvPr/>
          </p:nvSpPr>
          <p:spPr>
            <a:xfrm rot="8739000">
              <a:off x="6081480" y="4414320"/>
              <a:ext cx="574560" cy="289080"/>
            </a:xfrm>
            <a:custGeom>
              <a:avLst/>
              <a:gdLst>
                <a:gd name="textAreaLeft" fmla="*/ 89640 w 574560"/>
                <a:gd name="textAreaRight" fmla="*/ 502920 w 574560"/>
                <a:gd name="textAreaTop" fmla="*/ 72000 h 289080"/>
                <a:gd name="textAreaBottom" fmla="*/ 217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229440" y="4619520"/>
              <a:ext cx="1582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Títulos de deuda Corporativos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922560" y="2565360"/>
            <a:ext cx="3457800" cy="663120"/>
            <a:chOff x="3922560" y="2565360"/>
            <a:chExt cx="3457800" cy="663120"/>
          </a:xfrm>
        </p:grpSpPr>
        <p:sp>
          <p:nvSpPr>
            <p:cNvPr id="1169" name=""/>
            <p:cNvSpPr/>
            <p:nvPr/>
          </p:nvSpPr>
          <p:spPr>
            <a:xfrm rot="16200000">
              <a:off x="6948360" y="2707920"/>
              <a:ext cx="574560" cy="289080"/>
            </a:xfrm>
            <a:custGeom>
              <a:avLst/>
              <a:gdLst>
                <a:gd name="textAreaLeft" fmla="*/ 89640 w 574560"/>
                <a:gd name="textAreaRight" fmla="*/ 502920 w 574560"/>
                <a:gd name="textAreaTop" fmla="*/ 72000 h 289080"/>
                <a:gd name="textAreaBottom" fmla="*/ 217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22560" y="2708280"/>
              <a:ext cx="331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ancelan Pasivos financieros con Títulos de deuda Soberana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7380360" y="2600280"/>
            <a:ext cx="1871640" cy="623520"/>
            <a:chOff x="7380360" y="2600280"/>
            <a:chExt cx="1871640" cy="623520"/>
          </a:xfrm>
        </p:grpSpPr>
        <p:sp>
          <p:nvSpPr>
            <p:cNvPr id="1172" name=""/>
            <p:cNvSpPr/>
            <p:nvPr/>
          </p:nvSpPr>
          <p:spPr>
            <a:xfrm rot="5400000">
              <a:off x="7237440" y="2743200"/>
              <a:ext cx="574560" cy="288720"/>
            </a:xfrm>
            <a:custGeom>
              <a:avLst/>
              <a:gdLst>
                <a:gd name="textAreaLeft" fmla="*/ 89640 w 574560"/>
                <a:gd name="textAreaRight" fmla="*/ 502920 w 574560"/>
                <a:gd name="textAreaTop" fmla="*/ 72000 h 288720"/>
                <a:gd name="textAreaBottom" fmla="*/ 2167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669080" y="2703600"/>
              <a:ext cx="1582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trega Títulos Corporativos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3564000" y="1846440"/>
            <a:ext cx="3313080" cy="556200"/>
            <a:chOff x="3564000" y="1846440"/>
            <a:chExt cx="3313080" cy="556200"/>
          </a:xfrm>
        </p:grpSpPr>
        <p:sp>
          <p:nvSpPr>
            <p:cNvPr id="1175" name=""/>
            <p:cNvSpPr/>
            <p:nvPr/>
          </p:nvSpPr>
          <p:spPr>
            <a:xfrm rot="10800000">
              <a:off x="4858920" y="1846440"/>
              <a:ext cx="576360" cy="28728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71640 h 287280"/>
                <a:gd name="textAreaBottom" fmla="*/ 215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564000" y="2095560"/>
              <a:ext cx="33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Títulos Deuda Soberana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564000" y="1268280"/>
            <a:ext cx="3313080" cy="578160"/>
            <a:chOff x="3564000" y="1268280"/>
            <a:chExt cx="3313080" cy="578160"/>
          </a:xfrm>
        </p:grpSpPr>
        <p:sp>
          <p:nvSpPr>
            <p:cNvPr id="1178" name=""/>
            <p:cNvSpPr/>
            <p:nvPr/>
          </p:nvSpPr>
          <p:spPr>
            <a:xfrm>
              <a:off x="4859280" y="1557360"/>
              <a:ext cx="574560" cy="289080"/>
            </a:xfrm>
            <a:custGeom>
              <a:avLst/>
              <a:gdLst>
                <a:gd name="textAreaLeft" fmla="*/ 89640 w 574560"/>
                <a:gd name="textAreaRight" fmla="*/ 502920 w 574560"/>
                <a:gd name="textAreaTop" fmla="*/ 72000 h 289080"/>
                <a:gd name="textAreaBottom" fmla="*/ 217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64000" y="1268280"/>
              <a:ext cx="33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Redescuentos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973080" y="1736280"/>
            <a:ext cx="1366920" cy="1024200"/>
            <a:chOff x="973080" y="1736280"/>
            <a:chExt cx="1366920" cy="1024200"/>
          </a:xfrm>
        </p:grpSpPr>
        <p:sp>
          <p:nvSpPr>
            <p:cNvPr id="1181" name=""/>
            <p:cNvSpPr/>
            <p:nvPr/>
          </p:nvSpPr>
          <p:spPr>
            <a:xfrm rot="10800000">
              <a:off x="1332000" y="1736280"/>
              <a:ext cx="574560" cy="289080"/>
            </a:xfrm>
            <a:custGeom>
              <a:avLst/>
              <a:gdLst>
                <a:gd name="textAreaLeft" fmla="*/ 89640 w 574560"/>
                <a:gd name="textAreaRight" fmla="*/ 502920 w 574560"/>
                <a:gd name="textAreaTop" fmla="*/ 72000 h 289080"/>
                <a:gd name="textAreaBottom" fmla="*/ 217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73080" y="202716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ancela  Deuda Soberana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5884920" y="3573360"/>
            <a:ext cx="2287440" cy="1079640"/>
            <a:chOff x="5884920" y="3573360"/>
            <a:chExt cx="2287440" cy="1079640"/>
          </a:xfrm>
        </p:grpSpPr>
        <p:sp>
          <p:nvSpPr>
            <p:cNvPr id="1184" name=""/>
            <p:cNvSpPr/>
            <p:nvPr/>
          </p:nvSpPr>
          <p:spPr>
            <a:xfrm>
              <a:off x="6588000" y="3573360"/>
              <a:ext cx="1584360" cy="647640"/>
            </a:xfrm>
            <a:prstGeom prst="rect">
              <a:avLst/>
            </a:prstGeom>
            <a:solidFill>
              <a:srgbClr val="993366">
                <a:alpha val="99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Empresas AFJP´s</a:t>
              </a:r>
              <a:endParaRPr b="0" lang="en-US" sz="1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5884920" y="4221000"/>
              <a:ext cx="720720" cy="432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3708360" y="4653000"/>
            <a:ext cx="2303640" cy="1296720"/>
            <a:chOff x="3708360" y="4653000"/>
            <a:chExt cx="2303640" cy="1296720"/>
          </a:xfrm>
        </p:grpSpPr>
        <p:sp>
          <p:nvSpPr>
            <p:cNvPr id="1187" name=""/>
            <p:cNvSpPr/>
            <p:nvPr/>
          </p:nvSpPr>
          <p:spPr>
            <a:xfrm>
              <a:off x="4427640" y="4653000"/>
              <a:ext cx="1584360" cy="936720"/>
            </a:xfrm>
            <a:prstGeom prst="rect">
              <a:avLst/>
            </a:prstGeom>
            <a:solidFill>
              <a:srgbClr val="993366">
                <a:alpha val="99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Individuo Fondo      Ente XX</a:t>
              </a:r>
              <a:endParaRPr b="0" lang="en-US" sz="1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3708360" y="5444640"/>
              <a:ext cx="719280" cy="5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6588000" y="1557360"/>
            <a:ext cx="1584360" cy="2016000"/>
            <a:chOff x="6588000" y="1557360"/>
            <a:chExt cx="1584360" cy="2016000"/>
          </a:xfrm>
        </p:grpSpPr>
        <p:sp>
          <p:nvSpPr>
            <p:cNvPr id="1190" name=""/>
            <p:cNvSpPr/>
            <p:nvPr/>
          </p:nvSpPr>
          <p:spPr>
            <a:xfrm>
              <a:off x="6588000" y="1557360"/>
              <a:ext cx="1584360" cy="647640"/>
            </a:xfrm>
            <a:prstGeom prst="rect">
              <a:avLst/>
            </a:prstGeom>
            <a:solidFill>
              <a:srgbClr val="993366">
                <a:alpha val="99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Bancos comerciales</a:t>
              </a:r>
              <a:endParaRPr b="0" lang="en-US" sz="1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380360" y="2205000"/>
              <a:ext cx="0" cy="136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2124000" y="1557360"/>
            <a:ext cx="4464000" cy="647640"/>
            <a:chOff x="2124000" y="1557360"/>
            <a:chExt cx="4464000" cy="647640"/>
          </a:xfrm>
        </p:grpSpPr>
        <p:sp>
          <p:nvSpPr>
            <p:cNvPr id="1193" name=""/>
            <p:cNvSpPr/>
            <p:nvPr/>
          </p:nvSpPr>
          <p:spPr>
            <a:xfrm>
              <a:off x="2124000" y="1557360"/>
              <a:ext cx="1584360" cy="647640"/>
            </a:xfrm>
            <a:prstGeom prst="rect">
              <a:avLst/>
            </a:prstGeom>
            <a:solidFill>
              <a:srgbClr val="993366">
                <a:alpha val="99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BCRA</a:t>
              </a:r>
              <a:endParaRPr b="0" lang="en-US" sz="1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708360" y="1844640"/>
              <a:ext cx="2879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763280" y="115920"/>
            <a:ext cx="70866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Warren Buffet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258920" y="907920"/>
            <a:ext cx="7777080" cy="935280"/>
            <a:chOff x="1258920" y="907920"/>
            <a:chExt cx="7777080" cy="935280"/>
          </a:xfrm>
        </p:grpSpPr>
        <p:grpSp>
          <p:nvGrpSpPr>
            <p:cNvPr id="1197" name=""/>
            <p:cNvGrpSpPr/>
            <p:nvPr/>
          </p:nvGrpSpPr>
          <p:grpSpPr>
            <a:xfrm>
              <a:off x="1258920" y="907920"/>
              <a:ext cx="7777080" cy="935280"/>
              <a:chOff x="1258920" y="907920"/>
              <a:chExt cx="7777080" cy="935280"/>
            </a:xfrm>
          </p:grpSpPr>
          <p:sp>
            <p:nvSpPr>
              <p:cNvPr id="1198" name=""/>
              <p:cNvSpPr/>
              <p:nvPr/>
            </p:nvSpPr>
            <p:spPr>
              <a:xfrm>
                <a:off x="1258920" y="977760"/>
                <a:ext cx="2592360" cy="865440"/>
              </a:xfrm>
              <a:custGeom>
                <a:avLst/>
                <a:gdLst>
                  <a:gd name="textAreaLeft" fmla="*/ 0 w 2592360"/>
                  <a:gd name="textAreaRight" fmla="*/ 2592360 w 2592360"/>
                  <a:gd name="textAreaTop" fmla="*/ 0 h 865440"/>
                  <a:gd name="textAreaBottom" fmla="*/ 865800 h 86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 txBox="1"/>
              <p:nvPr/>
            </p:nvSpPr>
            <p:spPr>
              <a:xfrm>
                <a:off x="4067280" y="907920"/>
                <a:ext cx="2431800" cy="358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99ccff"/>
                    </a:soli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 Black"/>
                  </a:rPr>
                  <a:t>Empresa objetivo:</a:t>
                </a:r>
                <a:endParaRPr b="0" lang="en-US" sz="2400" spc="1" strike="noStrike">
                  <a:ln w="0">
                    <a:noFill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200" name=""/>
              <p:cNvSpPr txBox="1"/>
              <p:nvPr/>
            </p:nvSpPr>
            <p:spPr>
              <a:xfrm>
                <a:off x="4068720" y="1266840"/>
                <a:ext cx="916200" cy="541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 Black"/>
                  </a:rPr>
                  <a:t>Seguros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201" name=""/>
              <p:cNvSpPr txBox="1"/>
              <p:nvPr/>
            </p:nvSpPr>
            <p:spPr>
              <a:xfrm>
                <a:off x="6764400" y="946080"/>
                <a:ext cx="112068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99ccff"/>
                    </a:soli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 Black"/>
                  </a:rPr>
                  <a:t>Motivo:</a:t>
                </a:r>
                <a:endParaRPr b="0" lang="en-US" sz="2400" spc="1" strike="noStrike">
                  <a:ln w="0">
                    <a:noFill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202" name=""/>
              <p:cNvSpPr txBox="1"/>
              <p:nvPr/>
            </p:nvSpPr>
            <p:spPr>
              <a:xfrm>
                <a:off x="6765840" y="1249200"/>
                <a:ext cx="2270160" cy="463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 Black"/>
                  </a:rPr>
                  <a:t>Cartera de Inversiones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1203" name=""/>
            <p:cNvSpPr txBox="1"/>
            <p:nvPr/>
          </p:nvSpPr>
          <p:spPr>
            <a:xfrm>
              <a:off x="1278000" y="1235160"/>
              <a:ext cx="2303280" cy="3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Compra de empresas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1258920" y="2098800"/>
            <a:ext cx="7705800" cy="718920"/>
          </a:xfrm>
          <a:prstGeom prst="downArrowCallout">
            <a:avLst>
              <a:gd name="adj1" fmla="val 157717"/>
              <a:gd name="adj2" fmla="val 267964"/>
              <a:gd name="adj3" fmla="val 23620"/>
              <a:gd name="adj4" fmla="val 6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0000"/>
                </a:solidFill>
                <a:latin typeface="Arial Black"/>
              </a:rPr>
              <a:t>Que pasa en Argentina?</a:t>
            </a: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2452680" y="2693880"/>
            <a:ext cx="5353200" cy="2489400"/>
            <a:chOff x="2452680" y="2693880"/>
            <a:chExt cx="5353200" cy="2489400"/>
          </a:xfrm>
        </p:grpSpPr>
        <p:pic>
          <p:nvPicPr>
            <p:cNvPr id="1206" name="" descr=""/>
            <p:cNvPicPr/>
            <p:nvPr/>
          </p:nvPicPr>
          <p:blipFill>
            <a:blip r:embed="rId1"/>
            <a:stretch/>
          </p:blipFill>
          <p:spPr>
            <a:xfrm>
              <a:off x="2452680" y="2693880"/>
              <a:ext cx="535320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4267080" y="3968640"/>
              <a:ext cx="16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$ 55,8 MM</a:t>
              </a:r>
              <a:r>
                <a:rPr b="1" lang="es-MX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(Junio 2003)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1187280" y="4869000"/>
            <a:ext cx="7848720" cy="1989000"/>
            <a:chOff x="1187280" y="4869000"/>
            <a:chExt cx="7848720" cy="1989000"/>
          </a:xfrm>
        </p:grpSpPr>
        <p:sp>
          <p:nvSpPr>
            <p:cNvPr id="1209" name=""/>
            <p:cNvSpPr/>
            <p:nvPr/>
          </p:nvSpPr>
          <p:spPr>
            <a:xfrm>
              <a:off x="1224000" y="4869000"/>
              <a:ext cx="7812000" cy="1989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293840" y="5781600"/>
              <a:ext cx="2089080" cy="257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Seguros Generales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93840" y="5506920"/>
              <a:ext cx="2089080" cy="25740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Vida, Vida Prev. y Retiro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293840" y="5235480"/>
              <a:ext cx="2089080" cy="2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AFJP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293840" y="6049800"/>
              <a:ext cx="2089080" cy="2574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ART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293840" y="6318360"/>
              <a:ext cx="2089080" cy="257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Total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479760" y="4941720"/>
              <a:ext cx="134640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Tít. Públicos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61080" y="4941720"/>
              <a:ext cx="134604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Dep. a Plazo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45280" y="4941720"/>
              <a:ext cx="134604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Acciones / ON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618320" y="4941720"/>
              <a:ext cx="134640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Otras (*)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187280" y="6534000"/>
              <a:ext cx="7740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(*) Fondos comunes de inversión, préstamos, etc. 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479760" y="5246640"/>
              <a:ext cx="13464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75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61080" y="5246640"/>
              <a:ext cx="1346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245280" y="5246640"/>
              <a:ext cx="1346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18320" y="5246640"/>
              <a:ext cx="13464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13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479760" y="5519880"/>
              <a:ext cx="134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71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61080" y="5519880"/>
              <a:ext cx="134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245280" y="5519880"/>
              <a:ext cx="134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618320" y="5519880"/>
              <a:ext cx="134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475080" y="5788080"/>
              <a:ext cx="1346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856040" y="5788080"/>
              <a:ext cx="13464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22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40600" y="5788080"/>
              <a:ext cx="1346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13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613640" y="5788080"/>
              <a:ext cx="1346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475080" y="6040440"/>
              <a:ext cx="1346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53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856040" y="6040440"/>
              <a:ext cx="13464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32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0600" y="6040440"/>
              <a:ext cx="1346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613640" y="6040440"/>
              <a:ext cx="1346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479760" y="6343560"/>
              <a:ext cx="134640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72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861080" y="6343560"/>
              <a:ext cx="134604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6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45280" y="6343560"/>
              <a:ext cx="134604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9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18320" y="6343560"/>
              <a:ext cx="134640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Arial"/>
                </a:rPr>
                <a:t>12%</a:t>
              </a:r>
              <a:endParaRPr b="0" lang="en-US" sz="1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042560" y="-34920"/>
            <a:ext cx="82803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Alocación de activos remunerados hacia activos productivos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042920" y="1545840"/>
            <a:ext cx="8353440" cy="53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j. Chil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finales 2002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BID, Corporación de Fomento a la Producción (Gobierno) y AFJPs</a:t>
            </a:r>
            <a:endParaRPr b="0" lang="en-US" sz="21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Programa piloto que puede ser extendido al resto de Latam</a:t>
            </a:r>
            <a:endParaRPr b="0" lang="en-US" sz="21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La idea es dar nacimiento al Venture Capital</a:t>
            </a:r>
            <a:endParaRPr b="0" lang="en-US" sz="21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Los Fondos emiten bonos garantizados por el BID y CORFO</a:t>
            </a:r>
            <a:endParaRPr b="0" lang="en-US" sz="21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Esos bonos pueden ser tomados por la AFJPs y otros inversores</a:t>
            </a:r>
            <a:endParaRPr b="0" lang="en-US" sz="21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BID y CORFO tienen un rol activo en la supervisión de los Fondos</a:t>
            </a:r>
            <a:endParaRPr b="0" lang="en-US" sz="21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04760" y="-270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Reflexiones finales...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332000" y="1411200"/>
            <a:ext cx="7416720" cy="30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undo cambió y cambiará              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La Economía es Portátil”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nemos que entender que existe una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trasl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una Economía de Bienes Básicos, hacia una Economía del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onocimiento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ay caminos al alcance de las manos!!!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1690560" y="4581360"/>
            <a:ext cx="3095640" cy="2106720"/>
            <a:chOff x="1690560" y="4581360"/>
            <a:chExt cx="3095640" cy="2106720"/>
          </a:xfrm>
        </p:grpSpPr>
        <p:sp>
          <p:nvSpPr>
            <p:cNvPr id="1245" name=""/>
            <p:cNvSpPr/>
            <p:nvPr/>
          </p:nvSpPr>
          <p:spPr>
            <a:xfrm>
              <a:off x="4014720" y="4635360"/>
              <a:ext cx="771480" cy="20163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5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338200" y="5103720"/>
              <a:ext cx="1655640" cy="576360"/>
            </a:xfrm>
            <a:custGeom>
              <a:avLst/>
              <a:gdLst>
                <a:gd name="textAreaLeft" fmla="*/ 0 w 1655640"/>
                <a:gd name="textAreaRight" fmla="*/ 1656000 w 1655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14" y="12079"/>
                  </a:moveTo>
                  <a:arcTo wR="-8187" hR="-8187" stAng="10260769" swAng="-8905476"/>
                  <a:lnTo>
                    <a:pt x="828" y="6652"/>
                  </a:lnTo>
                  <a:arcTo wR="10800" hR="10800" stAng="-9444707" swAng="8905476"/>
                  <a:lnTo>
                    <a:pt x="24134" y="8691"/>
                  </a:lnTo>
                  <a:lnTo>
                    <a:pt x="20803" y="13274"/>
                  </a:lnTo>
                  <a:lnTo>
                    <a:pt x="16220" y="9943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338200" y="4600440"/>
              <a:ext cx="1655640" cy="576360"/>
            </a:xfrm>
            <a:custGeom>
              <a:avLst/>
              <a:gdLst>
                <a:gd name="textAreaLeft" fmla="*/ 0 w 1655640"/>
                <a:gd name="textAreaRight" fmla="*/ 1656000 w 1655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14" y="12079"/>
                  </a:moveTo>
                  <a:arcTo wR="-8187" hR="-8187" stAng="10260769" swAng="-8905476"/>
                  <a:lnTo>
                    <a:pt x="828" y="6652"/>
                  </a:lnTo>
                  <a:arcTo wR="10800" hR="10800" stAng="-9444707" swAng="8905476"/>
                  <a:lnTo>
                    <a:pt x="24134" y="8691"/>
                  </a:lnTo>
                  <a:lnTo>
                    <a:pt x="20803" y="13274"/>
                  </a:lnTo>
                  <a:lnTo>
                    <a:pt x="16220" y="9943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690560" y="4581360"/>
              <a:ext cx="863640" cy="2089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pic>
          <p:nvPicPr>
            <p:cNvPr id="1249" name="" descr=""/>
            <p:cNvPicPr/>
            <p:nvPr/>
          </p:nvPicPr>
          <p:blipFill>
            <a:blip r:embed="rId1"/>
            <a:stretch/>
          </p:blipFill>
          <p:spPr>
            <a:xfrm flipH="1">
              <a:off x="1820880" y="4600440"/>
              <a:ext cx="66168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" descr=""/>
            <p:cNvPicPr/>
            <p:nvPr/>
          </p:nvPicPr>
          <p:blipFill>
            <a:blip r:embed="rId2"/>
            <a:stretch/>
          </p:blipFill>
          <p:spPr>
            <a:xfrm flipH="1">
              <a:off x="1820880" y="5297400"/>
              <a:ext cx="66168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" descr=""/>
            <p:cNvPicPr/>
            <p:nvPr/>
          </p:nvPicPr>
          <p:blipFill>
            <a:blip r:embed="rId3"/>
            <a:stretch/>
          </p:blipFill>
          <p:spPr>
            <a:xfrm flipH="1">
              <a:off x="1834560" y="5999040"/>
              <a:ext cx="662040" cy="68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2" name=""/>
          <p:cNvGrpSpPr/>
          <p:nvPr/>
        </p:nvGrpSpPr>
        <p:grpSpPr>
          <a:xfrm>
            <a:off x="4660920" y="4959360"/>
            <a:ext cx="4232160" cy="1297080"/>
            <a:chOff x="4660920" y="4959360"/>
            <a:chExt cx="4232160" cy="1297080"/>
          </a:xfrm>
        </p:grpSpPr>
        <p:sp>
          <p:nvSpPr>
            <p:cNvPr id="1253" name=""/>
            <p:cNvSpPr/>
            <p:nvPr/>
          </p:nvSpPr>
          <p:spPr>
            <a:xfrm>
              <a:off x="5722920" y="5032440"/>
              <a:ext cx="3170160" cy="1116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45320" y="5084640"/>
              <a:ext cx="1296720" cy="1063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5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60920" y="5032440"/>
              <a:ext cx="120492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5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256" name=""/>
            <p:cNvGrpSpPr/>
            <p:nvPr/>
          </p:nvGrpSpPr>
          <p:grpSpPr>
            <a:xfrm>
              <a:off x="7020000" y="4959360"/>
              <a:ext cx="1728720" cy="1297080"/>
              <a:chOff x="7020000" y="4959360"/>
              <a:chExt cx="1728720" cy="1297080"/>
            </a:xfrm>
          </p:grpSpPr>
          <p:sp>
            <p:nvSpPr>
              <p:cNvPr id="1257" name=""/>
              <p:cNvSpPr/>
              <p:nvPr/>
            </p:nvSpPr>
            <p:spPr>
              <a:xfrm>
                <a:off x="7020000" y="4959360"/>
                <a:ext cx="1728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ffff"/>
                    </a:solidFill>
                    <a:latin typeface="Arial"/>
                  </a:rPr>
                  <a:t>Decisión</a:t>
                </a:r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020000" y="5680080"/>
                <a:ext cx="1728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ffff"/>
                    </a:solidFill>
                    <a:latin typeface="Arial"/>
                  </a:rPr>
                  <a:t>Acción</a:t>
                </a:r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020000" y="5335560"/>
                <a:ext cx="1728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7829280" y="5462640"/>
                <a:ext cx="144360" cy="288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</p:grpSp>
    </p:spTree>
  </p:cSld>
  <p:transition>
    <p:strips dir="rd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1677960" y="2577960"/>
            <a:ext cx="60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Muchas Gracias!!!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drosamilia@ciudad.com.ar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14120" y="252360"/>
            <a:ext cx="8994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i="1" lang="es-ES" sz="4200" spc="-1" strike="noStrike">
                <a:solidFill>
                  <a:srgbClr val="ffffcc"/>
                </a:solidFill>
                <a:latin typeface="Tahoma"/>
              </a:rPr>
              <a:t>El Futuro depende de Nosotros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7640" y="2205000"/>
            <a:ext cx="619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Arial"/>
              </a:rPr>
              <a:t>¿Estamos abordando la Agenda Correcta?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77760" y="44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ienen futuro???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39800" y="19051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38800" y="19051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639800" y="40384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292720" y="4005360"/>
            <a:ext cx="2664000" cy="201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4760" y="44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Adivinanza ?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16000" y="3716280"/>
            <a:ext cx="7632360" cy="1379520"/>
            <a:chOff x="1116000" y="3716280"/>
            <a:chExt cx="7632360" cy="1379520"/>
          </a:xfrm>
        </p:grpSpPr>
        <p:sp>
          <p:nvSpPr>
            <p:cNvPr id="224" name="PlaceHolder 2"/>
            <p:cNvSpPr>
              <a:spLocks noGrp="1"/>
            </p:cNvSpPr>
            <p:nvPr>
              <p:ph/>
            </p:nvPr>
          </p:nvSpPr>
          <p:spPr>
            <a:xfrm>
              <a:off x="1763280" y="3716280"/>
              <a:ext cx="6985080" cy="137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 fontScale="99000"/>
            </a:bodyPr>
            <a:p>
              <a:pPr marL="339480" indent="0">
                <a:lnSpc>
                  <a:spcPct val="100000"/>
                </a:lnSpc>
                <a:spcBef>
                  <a:spcPts val="7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s-ES" sz="2800" spc="-1" strike="noStrike">
                  <a:solidFill>
                    <a:srgbClr val="ffffff"/>
                  </a:solidFill>
                  <a:latin typeface="Arial"/>
                </a:rPr>
                <a:t>En que la información que está dentro de ambos se basa en códigos (genético y binario); ambos pueden ser convertidos</a:t>
              </a:r>
              <a:endParaRPr b="0" lang="en-US" sz="2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1116000" y="4076640"/>
              <a:ext cx="86364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"/>
          <p:cNvGrpSpPr/>
          <p:nvPr/>
        </p:nvGrpSpPr>
        <p:grpSpPr>
          <a:xfrm>
            <a:off x="1187280" y="1916280"/>
            <a:ext cx="7561440" cy="1584000"/>
            <a:chOff x="1187280" y="1916280"/>
            <a:chExt cx="7561440" cy="158400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1187280" y="2205000"/>
              <a:ext cx="79236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63640" y="1916280"/>
              <a:ext cx="698508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9000"/>
            </a:bodyPr>
            <a:p>
              <a:pPr marL="270720" indent="-270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" sz="2800" spc="-1" strike="noStrike">
                  <a:solidFill>
                    <a:srgbClr val="ffffff"/>
                  </a:solidFill>
                  <a:latin typeface="Arial"/>
                </a:rPr>
                <a:t>En qué se parecen una naranja a un cd con información almacenada?</a:t>
              </a:r>
              <a:endParaRPr b="0" lang="en-US" sz="2800" spc="-1" strike="noStrike">
                <a:solidFill>
                  <a:srgbClr val="808080"/>
                </a:solidFill>
                <a:latin typeface="Times New Roman"/>
              </a:endParaRPr>
            </a:p>
            <a:p>
              <a:pPr marL="270720" indent="-270720">
                <a:lnSpc>
                  <a:spcPct val="100000"/>
                </a:lnSpc>
                <a:spcBef>
                  <a:spcPts val="700"/>
                </a:spcBef>
                <a:buClr>
                  <a:srgbClr val="dddddd"/>
                </a:buClr>
                <a:buSzPct val="90000"/>
                <a:buFont typeface="Wingdings" charset="2"/>
                <a:buChar char="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8080"/>
                </a:solidFill>
                <a:latin typeface="Times New Roman"/>
              </a:endParaRPr>
            </a:p>
            <a:p>
              <a:pPr marL="270720" indent="-270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2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79280" y="-270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Datos Estadísticos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6000" y="1512720"/>
            <a:ext cx="770400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os servicios representan las 2/3 partes del crecimiento mundial</a:t>
            </a: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n 1999 IBM generó 2.700 patentes; cifra superior a la que generaron 167 países del mundo</a:t>
            </a: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n el 2002 en USA se generaron más patentes en biotecnología que en informática y telcos.</a:t>
            </a: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l costo de codificar un gen bajó de U$S 150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MM a U$S 50MM por gen</a:t>
            </a: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6524640"/>
            <a:ext cx="74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"/>
              </a:rPr>
              <a:t>Fuente: “Los imperios del futuro serán los imperios de la mente“ (J.E. Cabot)</a:t>
            </a:r>
            <a:endParaRPr b="0" lang="en-US" sz="15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33040" y="85680"/>
            <a:ext cx="70866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Einstein en los ´40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74883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...Todos los imperios del futuro serán aquellos del conocimiento y solamente serán exitosos los pueblos que entiendan cómo generar conocimiento y cómo protegerlo; cómo buscar a los jóvenes que tengan capacidad de hacerlo y asegurarse que se queden en el país. Los que no lo entiendan se quedarán con litorales hermosos, con minas, puentes y con una historia fantástica; pero probablemente se queden sin bandera, sin fronteras y mucho menos con el éxito económico.......”</a:t>
            </a:r>
            <a:endParaRPr b="0" lang="en-US" sz="2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6524640"/>
            <a:ext cx="74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"/>
              </a:rPr>
              <a:t>Fuente: “Los imperios del futuro serán los imperios de la mente“ (J.E. Cabot)</a:t>
            </a:r>
            <a:endParaRPr b="0" lang="en-US" sz="15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7640" y="2341440"/>
            <a:ext cx="619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Arial"/>
              </a:rPr>
              <a:t>¿Existen Oportunidades?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44280"/>
            <a:ext cx="708660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Limitantes</a:t>
            </a: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85920" y="1412640"/>
            <a:ext cx="72468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 inversión genuina vendrá del ahorro doméstico; no de fuentes externas</a:t>
            </a: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l acceso al crédito para nuevos desarrollos y proyectos está vedado</a:t>
            </a: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 inversión del sector público está muy influenciada por los pagos de la deuda y por el gasto social</a:t>
            </a: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l crédito tardará 2 ó 3 años en ser una alternativa de financiamiento real</a:t>
            </a: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ntre enero y sept. ´03 la salida neta de capitales se ubicó en U$S 3.816 mil</a:t>
            </a:r>
            <a:endParaRPr b="0" lang="en-US" sz="2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668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Inversiones Corporativas en Arg.</a:t>
            </a:r>
            <a:endParaRPr b="0" lang="en-US" sz="3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57040" y="586728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* Ene-Sept. real. Ultimo trimestre extrapolado linealment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520" y="907920"/>
            <a:ext cx="23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ntidad de Acuerdos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88600" y="880920"/>
            <a:ext cx="22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ontos Involucrados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109520" y="1274760"/>
            <a:ext cx="7481880" cy="4513320"/>
            <a:chOff x="1109520" y="1274760"/>
            <a:chExt cx="7481880" cy="4513320"/>
          </a:xfrm>
        </p:grpSpPr>
        <p:sp>
          <p:nvSpPr>
            <p:cNvPr id="243" name=""/>
            <p:cNvSpPr/>
            <p:nvPr/>
          </p:nvSpPr>
          <p:spPr>
            <a:xfrm>
              <a:off x="1109520" y="1274760"/>
              <a:ext cx="7481880" cy="45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824120" y="1459080"/>
              <a:ext cx="5754600" cy="3154320"/>
              <a:chOff x="1824120" y="1459080"/>
              <a:chExt cx="5754600" cy="315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1824120" y="1459080"/>
                <a:ext cx="5754600" cy="17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24120" y="4579920"/>
                <a:ext cx="5754600" cy="33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24120" y="1476360"/>
                <a:ext cx="48960" cy="310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13560" y="1476360"/>
                <a:ext cx="65160" cy="310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73080" y="1476360"/>
                <a:ext cx="5640480" cy="33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73080" y="4546440"/>
                <a:ext cx="5640480" cy="33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73080" y="1509840"/>
                <a:ext cx="66960" cy="3036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46960" y="1509840"/>
                <a:ext cx="66600" cy="3036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40040" y="1509840"/>
                <a:ext cx="5506920" cy="3312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40040" y="4513320"/>
                <a:ext cx="5506920" cy="3312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40040" y="1542960"/>
                <a:ext cx="48960" cy="297036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96200" y="1542960"/>
                <a:ext cx="50760" cy="297036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89000" y="1542960"/>
                <a:ext cx="5407200" cy="3348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89000" y="4478400"/>
                <a:ext cx="5407200" cy="3492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89000" y="1576440"/>
                <a:ext cx="66960" cy="290196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31040" y="1576440"/>
                <a:ext cx="65160" cy="290196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55960" y="1576440"/>
                <a:ext cx="5275080" cy="3312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55960" y="4444920"/>
                <a:ext cx="5275080" cy="334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055960" y="1609560"/>
                <a:ext cx="66600" cy="283536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264440" y="1609560"/>
                <a:ext cx="66600" cy="283536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22560" y="1609560"/>
                <a:ext cx="5141880" cy="3348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2560" y="4411800"/>
                <a:ext cx="5141880" cy="3312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22560" y="1643040"/>
                <a:ext cx="49320" cy="27687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213680" y="1643040"/>
                <a:ext cx="50760" cy="27687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71880" y="1643040"/>
                <a:ext cx="5041800" cy="3348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71880" y="4378320"/>
                <a:ext cx="5041800" cy="3348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71880" y="1676520"/>
                <a:ext cx="66600" cy="270180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48520" y="1676520"/>
                <a:ext cx="65160" cy="270180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38480" y="1676520"/>
                <a:ext cx="4910040" cy="3492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238480" y="4344840"/>
                <a:ext cx="4910040" cy="3348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238480" y="1711440"/>
                <a:ext cx="48960" cy="263340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97760" y="1711440"/>
                <a:ext cx="50760" cy="263340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87440" y="1711440"/>
                <a:ext cx="4810320" cy="3312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7440" y="4311720"/>
                <a:ext cx="4810320" cy="3312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87440" y="1744560"/>
                <a:ext cx="66960" cy="256716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32600" y="1744560"/>
                <a:ext cx="65160" cy="256716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354400" y="1744560"/>
                <a:ext cx="4678200" cy="3348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54400" y="4278240"/>
                <a:ext cx="4678200" cy="3348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54400" y="1778040"/>
                <a:ext cx="66600" cy="250020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66000" y="1778040"/>
                <a:ext cx="66600" cy="250020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421000" y="1778040"/>
                <a:ext cx="4545000" cy="3312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21000" y="4243320"/>
                <a:ext cx="4545000" cy="3492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421000" y="1811160"/>
                <a:ext cx="49320" cy="243216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15240" y="1811160"/>
                <a:ext cx="50760" cy="243216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470320" y="1811160"/>
                <a:ext cx="4444920" cy="3348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470320" y="4210200"/>
                <a:ext cx="4444920" cy="3312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70320" y="1844640"/>
                <a:ext cx="66600" cy="236556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50080" y="1844640"/>
                <a:ext cx="65160" cy="236556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36920" y="1844640"/>
                <a:ext cx="4313160" cy="3348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536920" y="4176720"/>
                <a:ext cx="4313160" cy="3348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536920" y="1878120"/>
                <a:ext cx="48960" cy="229860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83480" y="1878120"/>
                <a:ext cx="66600" cy="229860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85880" y="1878120"/>
                <a:ext cx="4197600" cy="331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85880" y="4143240"/>
                <a:ext cx="4197600" cy="3348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585880" y="1911240"/>
                <a:ext cx="66960" cy="223200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32720" y="1911240"/>
                <a:ext cx="50760" cy="223200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52840" y="1911240"/>
                <a:ext cx="4079880" cy="349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52840" y="4110120"/>
                <a:ext cx="4079880" cy="331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652840" y="1946160"/>
                <a:ext cx="66600" cy="21639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7560" y="1946160"/>
                <a:ext cx="65160" cy="21639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719440" y="1946160"/>
                <a:ext cx="3948120" cy="3348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719440" y="4076640"/>
                <a:ext cx="3948120" cy="3348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719440" y="1979640"/>
                <a:ext cx="49320" cy="20970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16800" y="1979640"/>
                <a:ext cx="50760" cy="20970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768760" y="1979640"/>
                <a:ext cx="3848040" cy="3348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768760" y="4043520"/>
                <a:ext cx="3848040" cy="3312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68760" y="2013120"/>
                <a:ext cx="66600" cy="203040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51640" y="2013120"/>
                <a:ext cx="65160" cy="203040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35360" y="2013120"/>
                <a:ext cx="3716280" cy="3312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35360" y="4008600"/>
                <a:ext cx="3716280" cy="3492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35360" y="2046240"/>
                <a:ext cx="48960" cy="196236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85040" y="2046240"/>
                <a:ext cx="66600" cy="196236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84320" y="2046240"/>
                <a:ext cx="3600720" cy="334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84320" y="3975120"/>
                <a:ext cx="3600720" cy="334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884320" y="2079720"/>
                <a:ext cx="66960" cy="189540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434280" y="2079720"/>
                <a:ext cx="50760" cy="189540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51280" y="2079720"/>
                <a:ext cx="3483000" cy="3312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951280" y="3941640"/>
                <a:ext cx="3483000" cy="334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51280" y="2112840"/>
                <a:ext cx="66600" cy="182880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69120" y="2112840"/>
                <a:ext cx="65160" cy="182880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17880" y="2112840"/>
                <a:ext cx="3351240" cy="334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17880" y="3908520"/>
                <a:ext cx="3351240" cy="3312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17880" y="2146320"/>
                <a:ext cx="49320" cy="1762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02520" y="2146320"/>
                <a:ext cx="66600" cy="1762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67200" y="2146320"/>
                <a:ext cx="3235320" cy="34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67200" y="3875040"/>
                <a:ext cx="3235320" cy="33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067200" y="2181240"/>
                <a:ext cx="66600" cy="16938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51400" y="2181240"/>
                <a:ext cx="51120" cy="16938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33800" y="2181240"/>
                <a:ext cx="3117600" cy="334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33800" y="3841920"/>
                <a:ext cx="3117600" cy="331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133800" y="2214720"/>
                <a:ext cx="48960" cy="1627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86600" y="2214720"/>
                <a:ext cx="64800" cy="1627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82760" y="2214720"/>
                <a:ext cx="3003840" cy="3312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2760" y="3824280"/>
                <a:ext cx="3003840" cy="1764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182760" y="2247840"/>
                <a:ext cx="66960" cy="157644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35840" y="2247840"/>
                <a:ext cx="50760" cy="157644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49720" y="2247840"/>
                <a:ext cx="2886120" cy="1584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49720" y="3790800"/>
                <a:ext cx="2886120" cy="33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249720" y="2263680"/>
                <a:ext cx="66600" cy="152712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70680" y="2263680"/>
                <a:ext cx="65160" cy="152712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16320" y="2263680"/>
                <a:ext cx="2754360" cy="349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16320" y="3757680"/>
                <a:ext cx="2754360" cy="331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16320" y="2298600"/>
                <a:ext cx="49320" cy="145908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04080" y="2298600"/>
                <a:ext cx="66600" cy="145908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365640" y="2298600"/>
                <a:ext cx="2638440" cy="3348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65640" y="3724200"/>
                <a:ext cx="2638440" cy="3348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365640" y="2332080"/>
                <a:ext cx="66600" cy="139212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52960" y="2332080"/>
                <a:ext cx="51120" cy="139212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32240" y="2332080"/>
                <a:ext cx="2520720" cy="331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32240" y="3691080"/>
                <a:ext cx="2520720" cy="331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32240" y="2365200"/>
                <a:ext cx="49320" cy="1325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88160" y="2365200"/>
                <a:ext cx="64800" cy="1325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481560" y="2365200"/>
                <a:ext cx="2406600" cy="3348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481560" y="3657600"/>
                <a:ext cx="2406600" cy="3348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481560" y="2398680"/>
                <a:ext cx="66600" cy="125892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21200" y="2398680"/>
                <a:ext cx="66960" cy="125892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48160" y="2398680"/>
                <a:ext cx="2273040" cy="33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548160" y="3622680"/>
                <a:ext cx="2273040" cy="34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48160" y="2432160"/>
                <a:ext cx="66600" cy="1190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70440" y="2432160"/>
                <a:ext cx="50760" cy="1190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14760" y="2432160"/>
                <a:ext cx="2155680" cy="3312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14760" y="3589200"/>
                <a:ext cx="2155680" cy="3348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14760" y="2465280"/>
                <a:ext cx="49320" cy="112392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05640" y="2465280"/>
                <a:ext cx="64800" cy="112392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64080" y="2465280"/>
                <a:ext cx="2041560" cy="3348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664080" y="3556080"/>
                <a:ext cx="2041560" cy="3312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664080" y="2498760"/>
                <a:ext cx="66600" cy="105732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54520" y="2498760"/>
                <a:ext cx="51120" cy="105732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30680" y="2498760"/>
                <a:ext cx="1923840" cy="3348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30680" y="3522600"/>
                <a:ext cx="1923840" cy="3348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0680" y="2532240"/>
                <a:ext cx="50760" cy="990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587920" y="2532240"/>
                <a:ext cx="66600" cy="990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781440" y="2532240"/>
                <a:ext cx="1806480" cy="3492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81440" y="3489480"/>
                <a:ext cx="1806480" cy="3312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781440" y="2567160"/>
                <a:ext cx="65160" cy="92232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22760" y="2567160"/>
                <a:ext cx="65160" cy="92232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46600" y="2567160"/>
                <a:ext cx="1676160" cy="3312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46600" y="3456000"/>
                <a:ext cx="1676160" cy="3348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46600" y="2600280"/>
                <a:ext cx="66600" cy="85572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472000" y="2600280"/>
                <a:ext cx="50760" cy="85572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13200" y="2600280"/>
                <a:ext cx="1558800" cy="3348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13200" y="3422520"/>
                <a:ext cx="1558800" cy="3348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13200" y="2633760"/>
                <a:ext cx="49320" cy="7887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407200" y="2633760"/>
                <a:ext cx="64800" cy="7887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62520" y="2633760"/>
                <a:ext cx="1444680" cy="331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62520" y="3387600"/>
                <a:ext cx="1444680" cy="349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62520" y="2666880"/>
                <a:ext cx="66600" cy="7207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340240" y="2666880"/>
                <a:ext cx="66960" cy="7207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29120" y="2666880"/>
                <a:ext cx="1311120" cy="3348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29120" y="3354480"/>
                <a:ext cx="1311120" cy="3312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29120" y="2700360"/>
                <a:ext cx="50760" cy="65412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289480" y="2700360"/>
                <a:ext cx="50760" cy="65412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79880" y="2700360"/>
                <a:ext cx="1209600" cy="3348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079880" y="3321000"/>
                <a:ext cx="1209600" cy="3348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079880" y="2733840"/>
                <a:ext cx="65160" cy="5871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24320" y="2733840"/>
                <a:ext cx="65160" cy="5871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45040" y="2733840"/>
                <a:ext cx="1079280" cy="3312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45040" y="3287880"/>
                <a:ext cx="1079280" cy="3312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45040" y="2766960"/>
                <a:ext cx="66600" cy="52092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73560" y="2766960"/>
                <a:ext cx="50760" cy="52092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11640" y="2766960"/>
                <a:ext cx="961920" cy="3492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11640" y="3254400"/>
                <a:ext cx="961920" cy="3348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11640" y="2801880"/>
                <a:ext cx="50760" cy="45252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106960" y="2801880"/>
                <a:ext cx="66600" cy="45252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2400" y="2801880"/>
                <a:ext cx="844560" cy="3348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62400" y="3220920"/>
                <a:ext cx="844560" cy="3348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62400" y="2835360"/>
                <a:ext cx="65160" cy="38556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41800" y="2835360"/>
                <a:ext cx="65160" cy="38556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7560" y="2835360"/>
                <a:ext cx="714240" cy="3312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27560" y="3187800"/>
                <a:ext cx="714240" cy="3312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27560" y="2868480"/>
                <a:ext cx="50760" cy="31932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991040" y="2868480"/>
                <a:ext cx="50760" cy="31932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78320" y="2868480"/>
                <a:ext cx="612720" cy="334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78320" y="3152880"/>
                <a:ext cx="612720" cy="3492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378320" y="2901960"/>
                <a:ext cx="65160" cy="25092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925880" y="2901960"/>
                <a:ext cx="65160" cy="25092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43480" y="2901960"/>
                <a:ext cx="482400" cy="334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43480" y="3119400"/>
                <a:ext cx="482400" cy="334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43480" y="2935440"/>
                <a:ext cx="66600" cy="1839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859280" y="2935440"/>
                <a:ext cx="66600" cy="1839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10080" y="2935440"/>
                <a:ext cx="349200" cy="331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10080" y="3086280"/>
                <a:ext cx="349200" cy="331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10080" y="2968560"/>
                <a:ext cx="50760" cy="117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808520" y="2968560"/>
                <a:ext cx="50760" cy="117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60840" y="2968560"/>
                <a:ext cx="247680" cy="334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0840" y="3052800"/>
                <a:ext cx="247680" cy="334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60840" y="3002040"/>
                <a:ext cx="65160" cy="507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43360" y="3002040"/>
                <a:ext cx="65160" cy="507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26000" y="3002040"/>
                <a:ext cx="117360" cy="5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1824120" y="1459080"/>
              <a:ext cx="5754600" cy="31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24120" y="1459080"/>
              <a:ext cx="5754600" cy="315432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4120" y="1459080"/>
              <a:ext cx="1440" cy="315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7520" y="461340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57520" y="426096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57520" y="390852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57520" y="355608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7520" y="320364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57520" y="2868480"/>
              <a:ext cx="131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57520" y="2516040"/>
              <a:ext cx="131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57520" y="2163600"/>
              <a:ext cx="131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57520" y="1811160"/>
              <a:ext cx="131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57520" y="145908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24120" y="4613400"/>
              <a:ext cx="5754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1824120" y="4546080"/>
              <a:ext cx="144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786040" y="4546080"/>
              <a:ext cx="144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3747960" y="4546080"/>
              <a:ext cx="18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710240" y="4546080"/>
              <a:ext cx="144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654520" y="4546080"/>
              <a:ext cx="18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616800" y="4546080"/>
              <a:ext cx="144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41520" y="447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25600" y="412596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09680" y="37749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09680" y="34225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09680" y="30700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09680" y="273384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09680" y="23814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09680" y="20289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09680" y="16765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09680" y="13255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71800" y="4797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33720" y="4797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95640" y="4797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41720" y="4797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04000" y="4797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32800" y="4797360"/>
              <a:ext cx="566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2002*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104920" y="1901880"/>
            <a:ext cx="5192640" cy="2711520"/>
            <a:chOff x="2104920" y="1901880"/>
            <a:chExt cx="5192640" cy="2711520"/>
          </a:xfrm>
        </p:grpSpPr>
        <p:grpSp>
          <p:nvGrpSpPr>
            <p:cNvPr id="471" name=""/>
            <p:cNvGrpSpPr/>
            <p:nvPr/>
          </p:nvGrpSpPr>
          <p:grpSpPr>
            <a:xfrm>
              <a:off x="3067200" y="1911240"/>
              <a:ext cx="398160" cy="2702160"/>
              <a:chOff x="3067200" y="1911240"/>
              <a:chExt cx="398160" cy="270216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3067200" y="1911240"/>
                <a:ext cx="398160" cy="2702160"/>
                <a:chOff x="3067200" y="1911240"/>
                <a:chExt cx="398160" cy="270216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3067200" y="1911240"/>
                  <a:ext cx="3981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067200" y="4579920"/>
                  <a:ext cx="3981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49520" y="1928880"/>
                  <a:ext cx="15840" cy="2651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067200" y="1928880"/>
                  <a:ext cx="3823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067200" y="4546440"/>
                  <a:ext cx="3823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067200" y="1962000"/>
                  <a:ext cx="3823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067200" y="4513320"/>
                  <a:ext cx="3823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067200" y="1995480"/>
                  <a:ext cx="3823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067200" y="4495680"/>
                  <a:ext cx="3823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067200" y="2013120"/>
                  <a:ext cx="3823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067200" y="4462560"/>
                  <a:ext cx="3823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067200" y="2046240"/>
                  <a:ext cx="17280" cy="24163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432240" y="2046240"/>
                  <a:ext cx="17280" cy="24163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084480" y="204624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084480" y="442908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084480" y="2079720"/>
                  <a:ext cx="3477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084480" y="4411800"/>
                  <a:ext cx="3477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084480" y="209700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084480" y="437832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084480" y="2130480"/>
                  <a:ext cx="3477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084480" y="434484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084480" y="2163600"/>
                  <a:ext cx="15840" cy="21812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416400" y="2163600"/>
                  <a:ext cx="15840" cy="21812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100320" y="2163600"/>
                  <a:ext cx="3160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100320" y="4327560"/>
                  <a:ext cx="31608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00320" y="2181240"/>
                  <a:ext cx="3160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100320" y="4294080"/>
                  <a:ext cx="3160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00320" y="2214720"/>
                  <a:ext cx="3160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100320" y="4260960"/>
                  <a:ext cx="3160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00320" y="2247840"/>
                  <a:ext cx="17640" cy="201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17960" y="2247840"/>
                  <a:ext cx="2984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117960" y="4243320"/>
                  <a:ext cx="2984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398760" y="2263680"/>
                  <a:ext cx="17640" cy="1979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117960" y="2263680"/>
                  <a:ext cx="28080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117960" y="4210200"/>
                  <a:ext cx="28080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17960" y="2298600"/>
                  <a:ext cx="2808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117960" y="4176720"/>
                  <a:ext cx="2808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117960" y="2332080"/>
                  <a:ext cx="28080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117960" y="4160880"/>
                  <a:ext cx="28080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117960" y="2347920"/>
                  <a:ext cx="2808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117960" y="4125960"/>
                  <a:ext cx="28080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17960" y="2381400"/>
                  <a:ext cx="15840" cy="1744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82920" y="2381400"/>
                  <a:ext cx="15840" cy="1744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133800" y="2381400"/>
                  <a:ext cx="2491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133800" y="4092480"/>
                  <a:ext cx="2491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133800" y="2414520"/>
                  <a:ext cx="2491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133800" y="4059360"/>
                  <a:ext cx="2491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33800" y="2432160"/>
                  <a:ext cx="2491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133800" y="4043520"/>
                  <a:ext cx="2491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133800" y="2465280"/>
                  <a:ext cx="2491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133800" y="4008600"/>
                  <a:ext cx="24912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133800" y="2498760"/>
                  <a:ext cx="15840" cy="1509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365640" y="2498760"/>
                  <a:ext cx="17280" cy="1509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49640" y="2498760"/>
                  <a:ext cx="21600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149640" y="3975120"/>
                  <a:ext cx="2160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149640" y="2516040"/>
                  <a:ext cx="2160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149640" y="3959280"/>
                  <a:ext cx="21600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149640" y="2549520"/>
                  <a:ext cx="2160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149640" y="3925800"/>
                  <a:ext cx="2160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149640" y="2583000"/>
                  <a:ext cx="17280" cy="1342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166920" y="2583000"/>
                  <a:ext cx="1987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166920" y="3892680"/>
                  <a:ext cx="1987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349800" y="2600280"/>
                  <a:ext cx="15840" cy="12924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166920" y="2600280"/>
                  <a:ext cx="1828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166920" y="3875040"/>
                  <a:ext cx="1828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166920" y="2633760"/>
                  <a:ext cx="1828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166920" y="3841920"/>
                  <a:ext cx="1828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66920" y="2666880"/>
                  <a:ext cx="1828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166920" y="3808440"/>
                  <a:ext cx="1828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166920" y="2684520"/>
                  <a:ext cx="1828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166920" y="3790800"/>
                  <a:ext cx="1828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166920" y="2717640"/>
                  <a:ext cx="15840" cy="1073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332160" y="2717640"/>
                  <a:ext cx="17640" cy="1073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182760" y="2717640"/>
                  <a:ext cx="1494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182760" y="3757680"/>
                  <a:ext cx="14940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182760" y="2751120"/>
                  <a:ext cx="14940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182760" y="3724200"/>
                  <a:ext cx="1494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182760" y="2766960"/>
                  <a:ext cx="14940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182760" y="3706920"/>
                  <a:ext cx="14940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182760" y="2801880"/>
                  <a:ext cx="1494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182760" y="3673440"/>
                  <a:ext cx="1494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182760" y="2835360"/>
                  <a:ext cx="17640" cy="838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16320" y="2835360"/>
                  <a:ext cx="15840" cy="838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00400" y="2835360"/>
                  <a:ext cx="1159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200400" y="3639960"/>
                  <a:ext cx="1159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200400" y="2851200"/>
                  <a:ext cx="1159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200400" y="3606840"/>
                  <a:ext cx="1159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200400" y="2884320"/>
                  <a:ext cx="11592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00400" y="3589200"/>
                  <a:ext cx="1159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00400" y="2919240"/>
                  <a:ext cx="15840" cy="669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16240" y="2919240"/>
                  <a:ext cx="100080" cy="16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16240" y="3556080"/>
                  <a:ext cx="1000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300480" y="2935440"/>
                  <a:ext cx="15840" cy="620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16240" y="2935440"/>
                  <a:ext cx="842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16240" y="3522600"/>
                  <a:ext cx="842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16240" y="2968560"/>
                  <a:ext cx="842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16240" y="3505320"/>
                  <a:ext cx="842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16240" y="3002040"/>
                  <a:ext cx="842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16240" y="3471840"/>
                  <a:ext cx="842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16240" y="3019320"/>
                  <a:ext cx="842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16240" y="3438360"/>
                  <a:ext cx="842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16240" y="3052800"/>
                  <a:ext cx="17640" cy="385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82840" y="3052800"/>
                  <a:ext cx="17640" cy="385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33880" y="3052800"/>
                  <a:ext cx="489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233880" y="3422520"/>
                  <a:ext cx="489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33880" y="3086280"/>
                  <a:ext cx="489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233880" y="3387600"/>
                  <a:ext cx="4896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233880" y="3103560"/>
                  <a:ext cx="489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33880" y="3354480"/>
                  <a:ext cx="489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33880" y="3137040"/>
                  <a:ext cx="489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880" y="3338640"/>
                  <a:ext cx="489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880" y="3170160"/>
                  <a:ext cx="15840" cy="168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267000" y="3170160"/>
                  <a:ext cx="15840" cy="168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49720" y="3170160"/>
                  <a:ext cx="172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49720" y="3305160"/>
                  <a:ext cx="172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49720" y="3187800"/>
                  <a:ext cx="172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249720" y="3270240"/>
                  <a:ext cx="1728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49720" y="3220920"/>
                  <a:ext cx="17280" cy="493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3067200" y="1911240"/>
                <a:ext cx="398160" cy="2702160"/>
              </a:xfrm>
              <a:prstGeom prst="rect">
                <a:avLst/>
              </a:prstGeom>
              <a:solidFill>
                <a:srgbClr val="ff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104920" y="1901880"/>
              <a:ext cx="398520" cy="2711520"/>
              <a:chOff x="2104920" y="1901880"/>
              <a:chExt cx="398520" cy="271152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2104920" y="1911240"/>
                <a:ext cx="398520" cy="2702160"/>
                <a:chOff x="2104920" y="1911240"/>
                <a:chExt cx="398520" cy="2702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2104920" y="1911240"/>
                  <a:ext cx="3985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104920" y="4579920"/>
                  <a:ext cx="3985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487600" y="1928880"/>
                  <a:ext cx="15840" cy="2651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104920" y="1928880"/>
                  <a:ext cx="3826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104920" y="4546440"/>
                  <a:ext cx="3826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104920" y="1962000"/>
                  <a:ext cx="3826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104920" y="4513320"/>
                  <a:ext cx="3826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104920" y="1995480"/>
                  <a:ext cx="3826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104920" y="4495680"/>
                  <a:ext cx="3826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104920" y="2013120"/>
                  <a:ext cx="3826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104920" y="4462560"/>
                  <a:ext cx="3826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104920" y="2046240"/>
                  <a:ext cx="17640" cy="24163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470320" y="2046240"/>
                  <a:ext cx="17280" cy="24163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122560" y="204624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122560" y="442908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122560" y="2079720"/>
                  <a:ext cx="3477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122560" y="4411800"/>
                  <a:ext cx="3477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122560" y="209700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122560" y="437832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122560" y="2130480"/>
                  <a:ext cx="3477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122560" y="434484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122560" y="2163600"/>
                  <a:ext cx="15840" cy="21812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454120" y="2163600"/>
                  <a:ext cx="16200" cy="21812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138400" y="2163600"/>
                  <a:ext cx="3157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138400" y="4327560"/>
                  <a:ext cx="3157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138400" y="2181240"/>
                  <a:ext cx="3157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138400" y="4294080"/>
                  <a:ext cx="3157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138400" y="2214720"/>
                  <a:ext cx="3157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138400" y="4260960"/>
                  <a:ext cx="3157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138400" y="2247840"/>
                  <a:ext cx="17280" cy="201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155680" y="2247840"/>
                  <a:ext cx="2984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155680" y="4243320"/>
                  <a:ext cx="2984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436840" y="2263680"/>
                  <a:ext cx="17280" cy="1979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155680" y="2263680"/>
                  <a:ext cx="28116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155680" y="4210200"/>
                  <a:ext cx="2811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155680" y="2298600"/>
                  <a:ext cx="2811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155680" y="4176720"/>
                  <a:ext cx="2811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155680" y="2332080"/>
                  <a:ext cx="2811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155680" y="4160880"/>
                  <a:ext cx="2811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155680" y="2347920"/>
                  <a:ext cx="2811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155680" y="4125960"/>
                  <a:ext cx="28116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155680" y="2381400"/>
                  <a:ext cx="16200" cy="1744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421000" y="2381400"/>
                  <a:ext cx="15840" cy="1744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171880" y="2381400"/>
                  <a:ext cx="2491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171880" y="4092480"/>
                  <a:ext cx="2491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171880" y="2414520"/>
                  <a:ext cx="2491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171880" y="4059360"/>
                  <a:ext cx="2491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171880" y="2432160"/>
                  <a:ext cx="2491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171880" y="4043520"/>
                  <a:ext cx="2491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171880" y="2465280"/>
                  <a:ext cx="2491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171880" y="4008600"/>
                  <a:ext cx="24912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171880" y="2498760"/>
                  <a:ext cx="15840" cy="1509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403360" y="2498760"/>
                  <a:ext cx="17640" cy="1509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187720" y="2498760"/>
                  <a:ext cx="2156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187720" y="3975120"/>
                  <a:ext cx="2156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187720" y="2516040"/>
                  <a:ext cx="2156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187720" y="3959280"/>
                  <a:ext cx="2156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187720" y="2549520"/>
                  <a:ext cx="2156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187720" y="3925800"/>
                  <a:ext cx="2156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187720" y="2583000"/>
                  <a:ext cx="17280" cy="1342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205000" y="2583000"/>
                  <a:ext cx="1983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205000" y="3892680"/>
                  <a:ext cx="1983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387520" y="2600280"/>
                  <a:ext cx="15840" cy="12924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205000" y="2600280"/>
                  <a:ext cx="1825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05000" y="3875040"/>
                  <a:ext cx="1825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205000" y="2633760"/>
                  <a:ext cx="1825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205000" y="3841920"/>
                  <a:ext cx="1825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205000" y="2666880"/>
                  <a:ext cx="1825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205000" y="3808440"/>
                  <a:ext cx="1825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205000" y="2684520"/>
                  <a:ext cx="1825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205000" y="3790800"/>
                  <a:ext cx="1825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205000" y="2717640"/>
                  <a:ext cx="15840" cy="1073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370240" y="2717640"/>
                  <a:ext cx="17280" cy="1073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220840" y="2717640"/>
                  <a:ext cx="1494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220840" y="3757680"/>
                  <a:ext cx="14940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220840" y="2751120"/>
                  <a:ext cx="14940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220840" y="3724200"/>
                  <a:ext cx="1494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220840" y="2766960"/>
                  <a:ext cx="14940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220840" y="3706920"/>
                  <a:ext cx="14940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220840" y="2801880"/>
                  <a:ext cx="1494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220840" y="3673440"/>
                  <a:ext cx="1494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220840" y="2835360"/>
                  <a:ext cx="17640" cy="838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354400" y="2835360"/>
                  <a:ext cx="15840" cy="838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238480" y="2835360"/>
                  <a:ext cx="1159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238480" y="3639960"/>
                  <a:ext cx="1159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238480" y="2851200"/>
                  <a:ext cx="1159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2238480" y="3606840"/>
                  <a:ext cx="1159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238480" y="2884320"/>
                  <a:ext cx="11592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238480" y="3589200"/>
                  <a:ext cx="1159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2238480" y="2919240"/>
                  <a:ext cx="15840" cy="669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254320" y="2919240"/>
                  <a:ext cx="100080" cy="16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54320" y="3556080"/>
                  <a:ext cx="1000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336760" y="2935440"/>
                  <a:ext cx="17640" cy="620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254320" y="2935440"/>
                  <a:ext cx="824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254320" y="3522600"/>
                  <a:ext cx="824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254320" y="2968560"/>
                  <a:ext cx="824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254320" y="3505320"/>
                  <a:ext cx="824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254320" y="3002040"/>
                  <a:ext cx="824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254320" y="3471840"/>
                  <a:ext cx="824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254320" y="3019320"/>
                  <a:ext cx="824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254320" y="3438360"/>
                  <a:ext cx="824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254320" y="3052800"/>
                  <a:ext cx="17280" cy="385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320920" y="3052800"/>
                  <a:ext cx="15840" cy="385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71600" y="3052800"/>
                  <a:ext cx="493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71600" y="3422520"/>
                  <a:ext cx="493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271600" y="3086280"/>
                  <a:ext cx="493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271600" y="3387600"/>
                  <a:ext cx="4932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271600" y="3103560"/>
                  <a:ext cx="493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2271600" y="3354480"/>
                  <a:ext cx="493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2271600" y="3137040"/>
                  <a:ext cx="493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271600" y="3338640"/>
                  <a:ext cx="493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271600" y="3170160"/>
                  <a:ext cx="15840" cy="168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305080" y="3170160"/>
                  <a:ext cx="15840" cy="168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287440" y="3170160"/>
                  <a:ext cx="176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287440" y="3305160"/>
                  <a:ext cx="176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287440" y="3187800"/>
                  <a:ext cx="176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287440" y="3270240"/>
                  <a:ext cx="1764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287440" y="3220920"/>
                  <a:ext cx="17640" cy="493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2" name=""/>
              <p:cNvSpPr/>
              <p:nvPr/>
            </p:nvSpPr>
            <p:spPr>
              <a:xfrm>
                <a:off x="2104920" y="1901880"/>
                <a:ext cx="398520" cy="2701800"/>
              </a:xfrm>
              <a:prstGeom prst="rect">
                <a:avLst/>
              </a:prstGeom>
              <a:solidFill>
                <a:srgbClr val="ff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4029120" y="2136600"/>
              <a:ext cx="398520" cy="2476800"/>
              <a:chOff x="4029120" y="2136600"/>
              <a:chExt cx="398520" cy="247680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4029120" y="2146320"/>
                <a:ext cx="398520" cy="2467080"/>
                <a:chOff x="4029120" y="2146320"/>
                <a:chExt cx="398520" cy="246708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4029120" y="2146320"/>
                  <a:ext cx="3985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029120" y="4579920"/>
                  <a:ext cx="3985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411800" y="2163600"/>
                  <a:ext cx="15840" cy="24163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029120" y="2163600"/>
                  <a:ext cx="3826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029120" y="4546440"/>
                  <a:ext cx="3826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029120" y="2197080"/>
                  <a:ext cx="3826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029120" y="4529160"/>
                  <a:ext cx="38268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029120" y="2214720"/>
                  <a:ext cx="3826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029120" y="4495680"/>
                  <a:ext cx="3826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029120" y="2247840"/>
                  <a:ext cx="38268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029120" y="4478400"/>
                  <a:ext cx="38268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029120" y="2263680"/>
                  <a:ext cx="17280" cy="2214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394160" y="2263680"/>
                  <a:ext cx="17640" cy="2214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046400" y="2263680"/>
                  <a:ext cx="34776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046400" y="444492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046400" y="2298600"/>
                  <a:ext cx="3477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046400" y="4429080"/>
                  <a:ext cx="3477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046400" y="2314440"/>
                  <a:ext cx="347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46400" y="4395960"/>
                  <a:ext cx="3477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46400" y="2347920"/>
                  <a:ext cx="3477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046400" y="4378320"/>
                  <a:ext cx="3477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046400" y="2365200"/>
                  <a:ext cx="15840" cy="201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378320" y="2365200"/>
                  <a:ext cx="15840" cy="201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062240" y="2365200"/>
                  <a:ext cx="3160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062240" y="4344840"/>
                  <a:ext cx="3160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062240" y="2398680"/>
                  <a:ext cx="31608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062240" y="4327560"/>
                  <a:ext cx="31608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062240" y="2414520"/>
                  <a:ext cx="31608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062240" y="4294080"/>
                  <a:ext cx="3160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062240" y="2449440"/>
                  <a:ext cx="17640" cy="1844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79880" y="2449440"/>
                  <a:ext cx="2984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079880" y="4260960"/>
                  <a:ext cx="2984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361040" y="2465280"/>
                  <a:ext cx="17280" cy="1795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79880" y="2465280"/>
                  <a:ext cx="2811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079880" y="4243320"/>
                  <a:ext cx="2811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079880" y="2498760"/>
                  <a:ext cx="2811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79880" y="4210200"/>
                  <a:ext cx="2811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79880" y="2516040"/>
                  <a:ext cx="2811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9880" y="4194000"/>
                  <a:ext cx="281160" cy="16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079880" y="2549520"/>
                  <a:ext cx="2811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079880" y="4160880"/>
                  <a:ext cx="2811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079880" y="2567160"/>
                  <a:ext cx="15840" cy="1593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344840" y="2567160"/>
                  <a:ext cx="16200" cy="1593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095720" y="2567160"/>
                  <a:ext cx="2491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095720" y="4143240"/>
                  <a:ext cx="2491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095720" y="2600280"/>
                  <a:ext cx="2491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095720" y="4110120"/>
                  <a:ext cx="2491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095720" y="2616120"/>
                  <a:ext cx="2491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095720" y="4092480"/>
                  <a:ext cx="2491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095720" y="2649600"/>
                  <a:ext cx="2491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095720" y="4059360"/>
                  <a:ext cx="2491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095720" y="2666880"/>
                  <a:ext cx="17640" cy="1392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327560" y="2666880"/>
                  <a:ext cx="17280" cy="1392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113360" y="2666880"/>
                  <a:ext cx="2142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113360" y="4043520"/>
                  <a:ext cx="21420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113360" y="2700360"/>
                  <a:ext cx="21420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113360" y="4008600"/>
                  <a:ext cx="21420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113360" y="2717640"/>
                  <a:ext cx="2142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113360" y="3992400"/>
                  <a:ext cx="214200" cy="16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113360" y="2751120"/>
                  <a:ext cx="15840" cy="1241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129200" y="2751120"/>
                  <a:ext cx="1983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129200" y="3959280"/>
                  <a:ext cx="1983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311720" y="2784600"/>
                  <a:ext cx="15840" cy="1174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129200" y="2784600"/>
                  <a:ext cx="1825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129200" y="3925800"/>
                  <a:ext cx="1825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129200" y="2801880"/>
                  <a:ext cx="1825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129200" y="3908520"/>
                  <a:ext cx="1825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129200" y="2835360"/>
                  <a:ext cx="1825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129200" y="3875040"/>
                  <a:ext cx="1825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4129200" y="2851200"/>
                  <a:ext cx="1825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4129200" y="3857760"/>
                  <a:ext cx="1825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129200" y="2884320"/>
                  <a:ext cx="15840" cy="9734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294080" y="2884320"/>
                  <a:ext cx="17640" cy="9734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4145040" y="2884320"/>
                  <a:ext cx="1490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145040" y="3824280"/>
                  <a:ext cx="1490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145040" y="2901960"/>
                  <a:ext cx="1490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4145040" y="3808440"/>
                  <a:ext cx="1490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145040" y="2935440"/>
                  <a:ext cx="1490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145040" y="3774960"/>
                  <a:ext cx="1490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145040" y="2952720"/>
                  <a:ext cx="1490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145040" y="3757680"/>
                  <a:ext cx="1490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145040" y="2986200"/>
                  <a:ext cx="17280" cy="771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278240" y="2986200"/>
                  <a:ext cx="15840" cy="771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162320" y="2986200"/>
                  <a:ext cx="1159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162320" y="3724200"/>
                  <a:ext cx="1159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4162320" y="3002040"/>
                  <a:ext cx="11592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162320" y="3706920"/>
                  <a:ext cx="1159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162320" y="3036960"/>
                  <a:ext cx="1159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162320" y="3673440"/>
                  <a:ext cx="1159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162320" y="3052800"/>
                  <a:ext cx="15840" cy="620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178160" y="3052800"/>
                  <a:ext cx="1000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178160" y="3639960"/>
                  <a:ext cx="1000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262400" y="3086280"/>
                  <a:ext cx="15840" cy="553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178160" y="3086280"/>
                  <a:ext cx="842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178160" y="3622680"/>
                  <a:ext cx="842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178160" y="3103560"/>
                  <a:ext cx="842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178160" y="3589200"/>
                  <a:ext cx="842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178160" y="3137040"/>
                  <a:ext cx="842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178160" y="3573360"/>
                  <a:ext cx="842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178160" y="3152880"/>
                  <a:ext cx="8424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178160" y="3540240"/>
                  <a:ext cx="842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178160" y="3187800"/>
                  <a:ext cx="17640" cy="3524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245120" y="3187800"/>
                  <a:ext cx="17280" cy="3524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195800" y="3187800"/>
                  <a:ext cx="493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195800" y="3522600"/>
                  <a:ext cx="493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195800" y="3203640"/>
                  <a:ext cx="493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195800" y="3489480"/>
                  <a:ext cx="493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195800" y="3236760"/>
                  <a:ext cx="493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195800" y="3471840"/>
                  <a:ext cx="493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195800" y="3254400"/>
                  <a:ext cx="493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195800" y="3438360"/>
                  <a:ext cx="493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195800" y="3287880"/>
                  <a:ext cx="15840" cy="150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229280" y="3287880"/>
                  <a:ext cx="15840" cy="150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4211640" y="3287880"/>
                  <a:ext cx="176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211640" y="3422520"/>
                  <a:ext cx="176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211640" y="3305160"/>
                  <a:ext cx="176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4211640" y="3387600"/>
                  <a:ext cx="1764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4211640" y="3338640"/>
                  <a:ext cx="17640" cy="48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4029120" y="2136600"/>
                <a:ext cx="398520" cy="2467080"/>
              </a:xfrm>
              <a:prstGeom prst="rect">
                <a:avLst/>
              </a:prstGeom>
              <a:solidFill>
                <a:srgbClr val="ff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4991040" y="2389320"/>
              <a:ext cx="382680" cy="2224080"/>
              <a:chOff x="4991040" y="2389320"/>
              <a:chExt cx="382680" cy="2224080"/>
            </a:xfrm>
          </p:grpSpPr>
          <p:grpSp>
            <p:nvGrpSpPr>
              <p:cNvPr id="835" name=""/>
              <p:cNvGrpSpPr/>
              <p:nvPr/>
            </p:nvGrpSpPr>
            <p:grpSpPr>
              <a:xfrm>
                <a:off x="4991040" y="2398680"/>
                <a:ext cx="382680" cy="2214720"/>
                <a:chOff x="4991040" y="2398680"/>
                <a:chExt cx="382680" cy="22147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4991040" y="2398680"/>
                  <a:ext cx="38268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91040" y="4579920"/>
                  <a:ext cx="3826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356080" y="2414520"/>
                  <a:ext cx="17640" cy="21654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991040" y="2414520"/>
                  <a:ext cx="3650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991040" y="4562640"/>
                  <a:ext cx="3650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991040" y="2432160"/>
                  <a:ext cx="3650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991040" y="4529160"/>
                  <a:ext cx="3650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991040" y="2465280"/>
                  <a:ext cx="3650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991040" y="4513320"/>
                  <a:ext cx="3650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991040" y="2482920"/>
                  <a:ext cx="3650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991040" y="4495680"/>
                  <a:ext cx="3650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4991040" y="2498760"/>
                  <a:ext cx="17640" cy="199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340240" y="2498760"/>
                  <a:ext cx="15840" cy="199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008680" y="2498760"/>
                  <a:ext cx="3315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008680" y="4462560"/>
                  <a:ext cx="3315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008680" y="2532240"/>
                  <a:ext cx="3315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008680" y="4444920"/>
                  <a:ext cx="3315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008680" y="2549520"/>
                  <a:ext cx="3315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008680" y="4429080"/>
                  <a:ext cx="3315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008680" y="2567160"/>
                  <a:ext cx="3315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008680" y="4395960"/>
                  <a:ext cx="3315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008680" y="2600280"/>
                  <a:ext cx="15840" cy="1795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322960" y="2600280"/>
                  <a:ext cx="17280" cy="1795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024520" y="2600280"/>
                  <a:ext cx="2984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024520" y="4378320"/>
                  <a:ext cx="2984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024520" y="2616120"/>
                  <a:ext cx="2984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024520" y="4344840"/>
                  <a:ext cx="2984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024520" y="2649600"/>
                  <a:ext cx="2984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024520" y="4327560"/>
                  <a:ext cx="2984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024520" y="2666880"/>
                  <a:ext cx="2984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024520" y="4311720"/>
                  <a:ext cx="2984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307120" y="2684520"/>
                  <a:ext cx="15840" cy="1627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24520" y="2684520"/>
                  <a:ext cx="28260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24520" y="4278240"/>
                  <a:ext cx="2826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24520" y="2717640"/>
                  <a:ext cx="17280" cy="1560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041800" y="2717640"/>
                  <a:ext cx="265320" cy="16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041800" y="4260960"/>
                  <a:ext cx="2653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041800" y="2733840"/>
                  <a:ext cx="2653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041800" y="4243320"/>
                  <a:ext cx="2653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041800" y="2751120"/>
                  <a:ext cx="2653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041800" y="4210200"/>
                  <a:ext cx="2653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289480" y="2784600"/>
                  <a:ext cx="17640" cy="1425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041800" y="2784600"/>
                  <a:ext cx="24768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041800" y="4194000"/>
                  <a:ext cx="247680" cy="16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041800" y="2801880"/>
                  <a:ext cx="15840" cy="1392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057640" y="2801880"/>
                  <a:ext cx="2318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057640" y="4160880"/>
                  <a:ext cx="2318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057640" y="2835360"/>
                  <a:ext cx="2318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057640" y="4143240"/>
                  <a:ext cx="2318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57640" y="2851200"/>
                  <a:ext cx="2318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057640" y="4125960"/>
                  <a:ext cx="2318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273640" y="2868480"/>
                  <a:ext cx="15840" cy="1257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057640" y="2868480"/>
                  <a:ext cx="2160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057640" y="4092480"/>
                  <a:ext cx="2160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057640" y="2901960"/>
                  <a:ext cx="17640" cy="1190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075280" y="2901960"/>
                  <a:ext cx="1983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075280" y="4076640"/>
                  <a:ext cx="1983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075280" y="2919240"/>
                  <a:ext cx="1983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075280" y="4059360"/>
                  <a:ext cx="1983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075280" y="2952720"/>
                  <a:ext cx="1983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075280" y="4025880"/>
                  <a:ext cx="1983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257800" y="2968560"/>
                  <a:ext cx="15840" cy="10573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075280" y="2968560"/>
                  <a:ext cx="1825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075280" y="4008600"/>
                  <a:ext cx="1825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075280" y="2986200"/>
                  <a:ext cx="1825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075280" y="3975120"/>
                  <a:ext cx="1825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075280" y="3019320"/>
                  <a:ext cx="15840" cy="955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091120" y="3019320"/>
                  <a:ext cx="1666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091120" y="3959280"/>
                  <a:ext cx="16668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091120" y="3036960"/>
                  <a:ext cx="16668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091120" y="3941640"/>
                  <a:ext cx="1666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240160" y="3052800"/>
                  <a:ext cx="17640" cy="888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091120" y="3052800"/>
                  <a:ext cx="1490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091120" y="3908520"/>
                  <a:ext cx="1490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091120" y="3086280"/>
                  <a:ext cx="1490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091120" y="3892680"/>
                  <a:ext cx="1490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091120" y="3103560"/>
                  <a:ext cx="15840" cy="789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106960" y="3103560"/>
                  <a:ext cx="13320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106960" y="3875040"/>
                  <a:ext cx="13320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106960" y="3119400"/>
                  <a:ext cx="1332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106960" y="3841920"/>
                  <a:ext cx="13320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224320" y="3152880"/>
                  <a:ext cx="15840" cy="689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106960" y="3152880"/>
                  <a:ext cx="1173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106960" y="3824280"/>
                  <a:ext cx="1173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5106960" y="3170160"/>
                  <a:ext cx="1173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106960" y="3790800"/>
                  <a:ext cx="1173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106960" y="3203640"/>
                  <a:ext cx="17640" cy="587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124600" y="3203640"/>
                  <a:ext cx="997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124600" y="3774960"/>
                  <a:ext cx="997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5124600" y="3220920"/>
                  <a:ext cx="997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124600" y="3757680"/>
                  <a:ext cx="997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207040" y="3236760"/>
                  <a:ext cx="17280" cy="520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124600" y="3236760"/>
                  <a:ext cx="824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124600" y="3724200"/>
                  <a:ext cx="824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124600" y="3270240"/>
                  <a:ext cx="824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124600" y="3706920"/>
                  <a:ext cx="824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124600" y="3287880"/>
                  <a:ext cx="824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124600" y="3691080"/>
                  <a:ext cx="824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5124600" y="3305160"/>
                  <a:ext cx="15840" cy="385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140440" y="3305160"/>
                  <a:ext cx="666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140440" y="3657600"/>
                  <a:ext cx="666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191200" y="3338640"/>
                  <a:ext cx="15840" cy="318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140440" y="3338640"/>
                  <a:ext cx="507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140440" y="3639960"/>
                  <a:ext cx="507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140440" y="3354480"/>
                  <a:ext cx="507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140440" y="3606840"/>
                  <a:ext cx="507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140440" y="3387600"/>
                  <a:ext cx="507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5140440" y="3589200"/>
                  <a:ext cx="507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140440" y="3405240"/>
                  <a:ext cx="17280" cy="183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157720" y="3405240"/>
                  <a:ext cx="3348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157720" y="3573360"/>
                  <a:ext cx="3348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173560" y="3422520"/>
                  <a:ext cx="17640" cy="150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157720" y="3422520"/>
                  <a:ext cx="158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157720" y="3540240"/>
                  <a:ext cx="158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157720" y="3456000"/>
                  <a:ext cx="158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157720" y="3522600"/>
                  <a:ext cx="158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157720" y="3471840"/>
                  <a:ext cx="15840" cy="50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4991040" y="2389320"/>
                <a:ext cx="382680" cy="2214360"/>
              </a:xfrm>
              <a:prstGeom prst="rect">
                <a:avLst/>
              </a:prstGeom>
              <a:solidFill>
                <a:srgbClr val="ff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937120" y="3344760"/>
              <a:ext cx="398520" cy="1268640"/>
              <a:chOff x="5937120" y="3344760"/>
              <a:chExt cx="398520" cy="126864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5937120" y="3354480"/>
                <a:ext cx="398520" cy="1258920"/>
                <a:chOff x="5937120" y="3354480"/>
                <a:chExt cx="398520" cy="125892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5937120" y="3354480"/>
                  <a:ext cx="3985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37120" y="4579920"/>
                  <a:ext cx="3985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6318360" y="3371760"/>
                  <a:ext cx="17280" cy="1208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937120" y="3371760"/>
                  <a:ext cx="3812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937120" y="4546440"/>
                  <a:ext cx="3812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937120" y="3405240"/>
                  <a:ext cx="3812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937120" y="4529160"/>
                  <a:ext cx="38124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937120" y="3422520"/>
                  <a:ext cx="15840" cy="1106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302520" y="3422520"/>
                  <a:ext cx="15840" cy="1106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952960" y="3422520"/>
                  <a:ext cx="3495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952960" y="4495680"/>
                  <a:ext cx="3495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952960" y="3456000"/>
                  <a:ext cx="3495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952960" y="4478400"/>
                  <a:ext cx="34956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952960" y="3471840"/>
                  <a:ext cx="17640" cy="1006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284880" y="3471840"/>
                  <a:ext cx="17640" cy="1006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970600" y="3471840"/>
                  <a:ext cx="3142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970600" y="4444920"/>
                  <a:ext cx="31428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970600" y="3505320"/>
                  <a:ext cx="31428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970600" y="4411800"/>
                  <a:ext cx="31428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970600" y="3522600"/>
                  <a:ext cx="15840" cy="889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269040" y="3522600"/>
                  <a:ext cx="15840" cy="889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986440" y="3522600"/>
                  <a:ext cx="2826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986440" y="4395960"/>
                  <a:ext cx="28260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986440" y="3556080"/>
                  <a:ext cx="28260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986440" y="4361040"/>
                  <a:ext cx="28260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986440" y="3573360"/>
                  <a:ext cx="17640" cy="787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251400" y="3573360"/>
                  <a:ext cx="17640" cy="787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6004080" y="3573360"/>
                  <a:ext cx="2473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6004080" y="4344840"/>
                  <a:ext cx="247320" cy="16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004080" y="3606840"/>
                  <a:ext cx="2473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004080" y="4311720"/>
                  <a:ext cx="2473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004080" y="3622680"/>
                  <a:ext cx="15840" cy="689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235560" y="3622680"/>
                  <a:ext cx="15840" cy="689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019920" y="3622680"/>
                  <a:ext cx="21564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019920" y="4294080"/>
                  <a:ext cx="21564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6019920" y="3657600"/>
                  <a:ext cx="2156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019920" y="4260960"/>
                  <a:ext cx="2156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019920" y="3691080"/>
                  <a:ext cx="17280" cy="5698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219720" y="3691080"/>
                  <a:ext cx="15840" cy="5698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037200" y="3691080"/>
                  <a:ext cx="18252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037200" y="4227480"/>
                  <a:ext cx="1825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037200" y="3706920"/>
                  <a:ext cx="18252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037200" y="4210200"/>
                  <a:ext cx="1825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037200" y="3740040"/>
                  <a:ext cx="15840" cy="470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202440" y="3740040"/>
                  <a:ext cx="17280" cy="470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053040" y="3740040"/>
                  <a:ext cx="14940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053040" y="4176720"/>
                  <a:ext cx="14940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053040" y="3757680"/>
                  <a:ext cx="14940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053040" y="4160880"/>
                  <a:ext cx="14940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053040" y="3790800"/>
                  <a:ext cx="17640" cy="370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6186600" y="3790800"/>
                  <a:ext cx="15840" cy="370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070680" y="3790800"/>
                  <a:ext cx="1159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070680" y="4125960"/>
                  <a:ext cx="11592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070680" y="3808440"/>
                  <a:ext cx="1159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070680" y="4092480"/>
                  <a:ext cx="11592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070680" y="3841920"/>
                  <a:ext cx="15840" cy="250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168960" y="3841920"/>
                  <a:ext cx="17640" cy="2505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086520" y="3841920"/>
                  <a:ext cx="824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086520" y="4076640"/>
                  <a:ext cx="8244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086520" y="3857760"/>
                  <a:ext cx="82440" cy="34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086520" y="4043520"/>
                  <a:ext cx="824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086520" y="3892680"/>
                  <a:ext cx="15840" cy="150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6153120" y="3892680"/>
                  <a:ext cx="15840" cy="150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102360" y="3892680"/>
                  <a:ext cx="5076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102360" y="4025880"/>
                  <a:ext cx="507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6102360" y="3908520"/>
                  <a:ext cx="5076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102360" y="3992400"/>
                  <a:ext cx="507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6102360" y="3941640"/>
                  <a:ext cx="17280" cy="50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135840" y="3941640"/>
                  <a:ext cx="17280" cy="50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6119640" y="3941640"/>
                  <a:ext cx="1620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119640" y="3975120"/>
                  <a:ext cx="1620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119640" y="3959280"/>
                  <a:ext cx="1620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5937120" y="3344760"/>
                <a:ext cx="398520" cy="1258920"/>
              </a:xfrm>
              <a:prstGeom prst="rect">
                <a:avLst/>
              </a:prstGeom>
              <a:solidFill>
                <a:srgbClr val="ff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899400" y="4233960"/>
              <a:ext cx="398160" cy="379440"/>
              <a:chOff x="6899400" y="4233960"/>
              <a:chExt cx="398160" cy="379440"/>
            </a:xfrm>
          </p:grpSpPr>
          <p:grpSp>
            <p:nvGrpSpPr>
              <p:cNvPr id="1030" name=""/>
              <p:cNvGrpSpPr/>
              <p:nvPr/>
            </p:nvGrpSpPr>
            <p:grpSpPr>
              <a:xfrm>
                <a:off x="6899400" y="4243320"/>
                <a:ext cx="398160" cy="370080"/>
                <a:chOff x="6899400" y="4243320"/>
                <a:chExt cx="398160" cy="37008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6899400" y="4243320"/>
                  <a:ext cx="39816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899400" y="4579920"/>
                  <a:ext cx="39816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899400" y="4260960"/>
                  <a:ext cx="15840" cy="318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7264440" y="4260960"/>
                  <a:ext cx="33120" cy="318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915240" y="4260960"/>
                  <a:ext cx="34920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915240" y="4562640"/>
                  <a:ext cx="34920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915240" y="4278240"/>
                  <a:ext cx="33120" cy="2844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246800" y="4278240"/>
                  <a:ext cx="17640" cy="2844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948360" y="4278240"/>
                  <a:ext cx="2984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948360" y="4529160"/>
                  <a:ext cx="2984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948360" y="4311720"/>
                  <a:ext cx="17640" cy="2174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213680" y="4311720"/>
                  <a:ext cx="33120" cy="2174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966000" y="4311720"/>
                  <a:ext cx="24768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966000" y="4513320"/>
                  <a:ext cx="247680" cy="15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966000" y="4327560"/>
                  <a:ext cx="33120" cy="185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197840" y="4327560"/>
                  <a:ext cx="15840" cy="185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999120" y="4327560"/>
                  <a:ext cx="198720" cy="17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999120" y="4495680"/>
                  <a:ext cx="19872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999120" y="4344840"/>
                  <a:ext cx="16200" cy="150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164360" y="4344840"/>
                  <a:ext cx="33480" cy="150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015320" y="4344840"/>
                  <a:ext cx="149040" cy="33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015320" y="4462560"/>
                  <a:ext cx="149040" cy="33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015320" y="4378320"/>
                  <a:ext cx="33120" cy="842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148520" y="4378320"/>
                  <a:ext cx="15840" cy="842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048440" y="4378320"/>
                  <a:ext cx="1000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048440" y="4444920"/>
                  <a:ext cx="100080" cy="17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048440" y="4395960"/>
                  <a:ext cx="15840" cy="48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115040" y="4395960"/>
                  <a:ext cx="33480" cy="48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064280" y="4395960"/>
                  <a:ext cx="50760" cy="48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808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0" name=""/>
              <p:cNvSpPr/>
              <p:nvPr/>
            </p:nvSpPr>
            <p:spPr>
              <a:xfrm>
                <a:off x="6899400" y="4233960"/>
                <a:ext cx="398160" cy="369720"/>
              </a:xfrm>
              <a:prstGeom prst="rect">
                <a:avLst/>
              </a:prstGeom>
              <a:solidFill>
                <a:srgbClr val="ff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1" name=""/>
          <p:cNvSpPr/>
          <p:nvPr/>
        </p:nvSpPr>
        <p:spPr>
          <a:xfrm>
            <a:off x="1303920" y="61642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A. Travía &amp; Co. El Cronista 3/10/02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7507440" y="1325520"/>
            <a:ext cx="900720" cy="3412440"/>
            <a:chOff x="7507440" y="1325520"/>
            <a:chExt cx="900720" cy="3412440"/>
          </a:xfrm>
        </p:grpSpPr>
        <p:grpSp>
          <p:nvGrpSpPr>
            <p:cNvPr id="1063" name=""/>
            <p:cNvGrpSpPr/>
            <p:nvPr/>
          </p:nvGrpSpPr>
          <p:grpSpPr>
            <a:xfrm>
              <a:off x="7513560" y="4478400"/>
              <a:ext cx="352800" cy="259560"/>
              <a:chOff x="7513560" y="4478400"/>
              <a:chExt cx="352800" cy="259560"/>
            </a:xfrm>
          </p:grpSpPr>
          <p:sp>
            <p:nvSpPr>
              <p:cNvPr id="1064" name=""/>
              <p:cNvSpPr/>
              <p:nvPr/>
            </p:nvSpPr>
            <p:spPr>
              <a:xfrm>
                <a:off x="7513560" y="4613400"/>
                <a:ext cx="13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745400" y="447840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7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7513560" y="4160880"/>
              <a:ext cx="774000" cy="259560"/>
              <a:chOff x="7513560" y="4160880"/>
              <a:chExt cx="774000" cy="259560"/>
            </a:xfrm>
          </p:grpSpPr>
          <p:sp>
            <p:nvSpPr>
              <p:cNvPr id="1067" name=""/>
              <p:cNvSpPr/>
              <p:nvPr/>
            </p:nvSpPr>
            <p:spPr>
              <a:xfrm>
                <a:off x="7513560" y="4294080"/>
                <a:ext cx="131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45760" y="4160880"/>
                <a:ext cx="54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700" spc="-1" strike="noStrike">
                    <a:solidFill>
                      <a:srgbClr val="000000"/>
                    </a:solidFill>
                    <a:latin typeface="Arial"/>
                  </a:rPr>
                  <a:t>2.500</a:t>
                </a:r>
                <a:endParaRPr b="0" lang="en-US" sz="17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7513560" y="2901960"/>
              <a:ext cx="894600" cy="259560"/>
              <a:chOff x="7513560" y="2901960"/>
              <a:chExt cx="894600" cy="259560"/>
            </a:xfrm>
          </p:grpSpPr>
          <p:sp>
            <p:nvSpPr>
              <p:cNvPr id="1070" name=""/>
              <p:cNvSpPr/>
              <p:nvPr/>
            </p:nvSpPr>
            <p:spPr>
              <a:xfrm>
                <a:off x="7513560" y="3036960"/>
                <a:ext cx="13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746120" y="2901960"/>
                <a:ext cx="662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700" spc="-1" strike="noStrike">
                    <a:solidFill>
                      <a:srgbClr val="000000"/>
                    </a:solidFill>
                    <a:latin typeface="Arial"/>
                  </a:rPr>
                  <a:t>12.500</a:t>
                </a:r>
                <a:endParaRPr b="0" lang="en-US" sz="17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7513560" y="2583000"/>
              <a:ext cx="894600" cy="259560"/>
              <a:chOff x="7513560" y="2583000"/>
              <a:chExt cx="894600" cy="259560"/>
            </a:xfrm>
          </p:grpSpPr>
          <p:sp>
            <p:nvSpPr>
              <p:cNvPr id="1073" name=""/>
              <p:cNvSpPr/>
              <p:nvPr/>
            </p:nvSpPr>
            <p:spPr>
              <a:xfrm>
                <a:off x="7513560" y="2717640"/>
                <a:ext cx="131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746120" y="2583000"/>
                <a:ext cx="662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700" spc="-1" strike="noStrike">
                    <a:solidFill>
                      <a:srgbClr val="000000"/>
                    </a:solidFill>
                    <a:latin typeface="Arial"/>
                  </a:rPr>
                  <a:t>15.000</a:t>
                </a:r>
                <a:endParaRPr b="0" lang="en-US" sz="17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7513560" y="2263680"/>
              <a:ext cx="894600" cy="259560"/>
              <a:chOff x="7513560" y="2263680"/>
              <a:chExt cx="894600" cy="259560"/>
            </a:xfrm>
          </p:grpSpPr>
          <p:sp>
            <p:nvSpPr>
              <p:cNvPr id="1076" name=""/>
              <p:cNvSpPr/>
              <p:nvPr/>
            </p:nvSpPr>
            <p:spPr>
              <a:xfrm>
                <a:off x="7513560" y="2398680"/>
                <a:ext cx="131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746120" y="2263680"/>
                <a:ext cx="662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700" spc="-1" strike="noStrike">
                    <a:solidFill>
                      <a:srgbClr val="000000"/>
                    </a:solidFill>
                    <a:latin typeface="Arial"/>
                  </a:rPr>
                  <a:t>17.500</a:t>
                </a:r>
                <a:endParaRPr b="0" lang="en-US" sz="17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7513560" y="1643040"/>
              <a:ext cx="894600" cy="259560"/>
              <a:chOff x="7513560" y="1643040"/>
              <a:chExt cx="894600" cy="259560"/>
            </a:xfrm>
          </p:grpSpPr>
          <p:sp>
            <p:nvSpPr>
              <p:cNvPr id="1079" name=""/>
              <p:cNvSpPr/>
              <p:nvPr/>
            </p:nvSpPr>
            <p:spPr>
              <a:xfrm>
                <a:off x="7513560" y="1778040"/>
                <a:ext cx="13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746120" y="1643040"/>
                <a:ext cx="662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700" spc="-1" strike="noStrike">
                    <a:solidFill>
                      <a:srgbClr val="000000"/>
                    </a:solidFill>
                    <a:latin typeface="Arial"/>
                  </a:rPr>
                  <a:t>22.500</a:t>
                </a:r>
                <a:endParaRPr b="0" lang="en-US" sz="17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7513560" y="1325520"/>
              <a:ext cx="894600" cy="259560"/>
              <a:chOff x="7513560" y="1325520"/>
              <a:chExt cx="894600" cy="259560"/>
            </a:xfrm>
          </p:grpSpPr>
          <p:sp>
            <p:nvSpPr>
              <p:cNvPr id="1082" name=""/>
              <p:cNvSpPr/>
              <p:nvPr/>
            </p:nvSpPr>
            <p:spPr>
              <a:xfrm>
                <a:off x="7513560" y="1459080"/>
                <a:ext cx="13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746120" y="1325520"/>
                <a:ext cx="662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700" spc="-1" strike="noStrike">
                    <a:solidFill>
                      <a:srgbClr val="000000"/>
                    </a:solidFill>
                    <a:latin typeface="Arial"/>
                  </a:rPr>
                  <a:t>25.000</a:t>
                </a:r>
                <a:endParaRPr b="0" lang="en-US" sz="17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7507440" y="1962000"/>
              <a:ext cx="900720" cy="259560"/>
              <a:chOff x="7507440" y="1962000"/>
              <a:chExt cx="900720" cy="259560"/>
            </a:xfrm>
          </p:grpSpPr>
          <p:sp>
            <p:nvSpPr>
              <p:cNvPr id="1085" name=""/>
              <p:cNvSpPr/>
              <p:nvPr/>
            </p:nvSpPr>
            <p:spPr>
              <a:xfrm>
                <a:off x="7746120" y="1962000"/>
                <a:ext cx="662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7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7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507440" y="2104920"/>
                <a:ext cx="131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7515360" y="3220920"/>
              <a:ext cx="892800" cy="259560"/>
              <a:chOff x="7515360" y="3220920"/>
              <a:chExt cx="892800" cy="259560"/>
            </a:xfrm>
          </p:grpSpPr>
          <p:sp>
            <p:nvSpPr>
              <p:cNvPr id="1088" name=""/>
              <p:cNvSpPr/>
              <p:nvPr/>
            </p:nvSpPr>
            <p:spPr>
              <a:xfrm>
                <a:off x="7746120" y="3220920"/>
                <a:ext cx="662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7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7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515360" y="3360600"/>
                <a:ext cx="131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7515360" y="3540240"/>
              <a:ext cx="772200" cy="259560"/>
              <a:chOff x="7515360" y="3540240"/>
              <a:chExt cx="772200" cy="259560"/>
            </a:xfrm>
          </p:grpSpPr>
          <p:sp>
            <p:nvSpPr>
              <p:cNvPr id="1091" name=""/>
              <p:cNvSpPr/>
              <p:nvPr/>
            </p:nvSpPr>
            <p:spPr>
              <a:xfrm>
                <a:off x="7745760" y="3540240"/>
                <a:ext cx="54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700" spc="-1" strike="noStrike">
                    <a:solidFill>
                      <a:srgbClr val="000000"/>
                    </a:solidFill>
                    <a:latin typeface="Arial"/>
                  </a:rPr>
                  <a:t>7.500</a:t>
                </a:r>
                <a:endParaRPr b="0" lang="en-US" sz="17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515360" y="3710160"/>
                <a:ext cx="13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7523280" y="3841920"/>
              <a:ext cx="764280" cy="259560"/>
              <a:chOff x="7523280" y="3841920"/>
              <a:chExt cx="764280" cy="259560"/>
            </a:xfrm>
          </p:grpSpPr>
          <p:sp>
            <p:nvSpPr>
              <p:cNvPr id="1094" name=""/>
              <p:cNvSpPr/>
              <p:nvPr/>
            </p:nvSpPr>
            <p:spPr>
              <a:xfrm>
                <a:off x="7745760" y="3841920"/>
                <a:ext cx="54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700" spc="-1" strike="noStrike">
                    <a:solidFill>
                      <a:srgbClr val="000000"/>
                    </a:solidFill>
                    <a:latin typeface="Arial"/>
                  </a:rPr>
                  <a:t>5.000</a:t>
                </a:r>
                <a:endParaRPr b="0" lang="en-US" sz="17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523280" y="3978360"/>
                <a:ext cx="13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"/>
          <p:cNvGrpSpPr/>
          <p:nvPr/>
        </p:nvGrpSpPr>
        <p:grpSpPr>
          <a:xfrm>
            <a:off x="6102360" y="4025880"/>
            <a:ext cx="1095480" cy="217440"/>
            <a:chOff x="6102360" y="4025880"/>
            <a:chExt cx="1095480" cy="217440"/>
          </a:xfrm>
        </p:grpSpPr>
        <p:sp>
          <p:nvSpPr>
            <p:cNvPr id="1097" name=""/>
            <p:cNvSpPr/>
            <p:nvPr/>
          </p:nvSpPr>
          <p:spPr>
            <a:xfrm>
              <a:off x="6102360" y="4025880"/>
              <a:ext cx="1012680" cy="150840"/>
            </a:xfrm>
            <a:custGeom>
              <a:avLst/>
              <a:gdLst/>
              <a:ahLst/>
              <a:rect l="l" t="t" r="r" b="b"/>
              <a:pathLst>
                <a:path w="638" h="95">
                  <a:moveTo>
                    <a:pt x="0" y="32"/>
                  </a:moveTo>
                  <a:lnTo>
                    <a:pt x="627" y="95"/>
                  </a:lnTo>
                  <a:lnTo>
                    <a:pt x="638" y="63"/>
                  </a:lnTo>
                  <a:lnTo>
                    <a:pt x="11" y="0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99120" y="4043520"/>
              <a:ext cx="19872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62" y="0"/>
                  </a:moveTo>
                  <a:lnTo>
                    <a:pt x="125" y="63"/>
                  </a:lnTo>
                  <a:lnTo>
                    <a:pt x="62" y="126"/>
                  </a:lnTo>
                  <a:lnTo>
                    <a:pt x="0" y="6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5140440" y="2181240"/>
            <a:ext cx="1095120" cy="1962000"/>
            <a:chOff x="5140440" y="2181240"/>
            <a:chExt cx="1095120" cy="1962000"/>
          </a:xfrm>
        </p:grpSpPr>
        <p:sp>
          <p:nvSpPr>
            <p:cNvPr id="1100" name=""/>
            <p:cNvSpPr/>
            <p:nvPr/>
          </p:nvSpPr>
          <p:spPr>
            <a:xfrm>
              <a:off x="5140440" y="2181240"/>
              <a:ext cx="1028520" cy="1895400"/>
            </a:xfrm>
            <a:custGeom>
              <a:avLst/>
              <a:gdLst/>
              <a:ahLst/>
              <a:rect l="l" t="t" r="r" b="b"/>
              <a:pathLst>
                <a:path w="648" h="1194">
                  <a:moveTo>
                    <a:pt x="0" y="0"/>
                  </a:moveTo>
                  <a:lnTo>
                    <a:pt x="606" y="1183"/>
                  </a:lnTo>
                  <a:lnTo>
                    <a:pt x="648" y="1194"/>
                  </a:lnTo>
                  <a:lnTo>
                    <a:pt x="42" y="1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7200" y="3941640"/>
              <a:ext cx="198360" cy="20160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62" y="0"/>
                  </a:moveTo>
                  <a:lnTo>
                    <a:pt x="125" y="64"/>
                  </a:lnTo>
                  <a:lnTo>
                    <a:pt x="62" y="127"/>
                  </a:lnTo>
                  <a:lnTo>
                    <a:pt x="0" y="6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4178160" y="1560600"/>
            <a:ext cx="1095480" cy="771480"/>
            <a:chOff x="4178160" y="1560600"/>
            <a:chExt cx="1095480" cy="771480"/>
          </a:xfrm>
        </p:grpSpPr>
        <p:sp>
          <p:nvSpPr>
            <p:cNvPr id="1103" name=""/>
            <p:cNvSpPr/>
            <p:nvPr/>
          </p:nvSpPr>
          <p:spPr>
            <a:xfrm>
              <a:off x="4178160" y="1560600"/>
              <a:ext cx="1028880" cy="703080"/>
            </a:xfrm>
            <a:custGeom>
              <a:avLst/>
              <a:gdLst/>
              <a:ahLst/>
              <a:rect l="l" t="t" r="r" b="b"/>
              <a:pathLst>
                <a:path w="648" h="443">
                  <a:moveTo>
                    <a:pt x="0" y="42"/>
                  </a:moveTo>
                  <a:lnTo>
                    <a:pt x="638" y="443"/>
                  </a:lnTo>
                  <a:lnTo>
                    <a:pt x="648" y="401"/>
                  </a:lnTo>
                  <a:lnTo>
                    <a:pt x="11" y="0"/>
                  </a:lnTo>
                  <a:lnTo>
                    <a:pt x="0" y="4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075280" y="2130480"/>
              <a:ext cx="198360" cy="20160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62" y="0"/>
                  </a:moveTo>
                  <a:lnTo>
                    <a:pt x="125" y="63"/>
                  </a:lnTo>
                  <a:lnTo>
                    <a:pt x="62" y="127"/>
                  </a:lnTo>
                  <a:lnTo>
                    <a:pt x="0" y="6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3233880" y="1523880"/>
            <a:ext cx="1065240" cy="1679760"/>
            <a:chOff x="3233880" y="1523880"/>
            <a:chExt cx="1065240" cy="1679760"/>
          </a:xfrm>
        </p:grpSpPr>
        <p:sp>
          <p:nvSpPr>
            <p:cNvPr id="1106" name=""/>
            <p:cNvSpPr/>
            <p:nvPr/>
          </p:nvSpPr>
          <p:spPr>
            <a:xfrm>
              <a:off x="3233880" y="1542960"/>
              <a:ext cx="1028520" cy="1660680"/>
            </a:xfrm>
            <a:custGeom>
              <a:avLst/>
              <a:gdLst/>
              <a:ahLst/>
              <a:rect l="l" t="t" r="r" b="b"/>
              <a:pathLst>
                <a:path w="648" h="1046">
                  <a:moveTo>
                    <a:pt x="0" y="1036"/>
                  </a:moveTo>
                  <a:lnTo>
                    <a:pt x="606" y="0"/>
                  </a:lnTo>
                  <a:lnTo>
                    <a:pt x="648" y="11"/>
                  </a:lnTo>
                  <a:lnTo>
                    <a:pt x="42" y="1046"/>
                  </a:lnTo>
                  <a:lnTo>
                    <a:pt x="0" y="1036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100400" y="1523880"/>
              <a:ext cx="198720" cy="20160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63" y="0"/>
                  </a:moveTo>
                  <a:lnTo>
                    <a:pt x="125" y="64"/>
                  </a:lnTo>
                  <a:lnTo>
                    <a:pt x="63" y="127"/>
                  </a:lnTo>
                  <a:lnTo>
                    <a:pt x="0" y="6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2190600" y="2127240"/>
            <a:ext cx="1175040" cy="1143000"/>
            <a:chOff x="2190600" y="2127240"/>
            <a:chExt cx="1175040" cy="1143000"/>
          </a:xfrm>
        </p:grpSpPr>
        <p:sp>
          <p:nvSpPr>
            <p:cNvPr id="1109" name=""/>
            <p:cNvSpPr/>
            <p:nvPr/>
          </p:nvSpPr>
          <p:spPr>
            <a:xfrm>
              <a:off x="2254320" y="2181240"/>
              <a:ext cx="1046160" cy="1022400"/>
            </a:xfrm>
            <a:custGeom>
              <a:avLst/>
              <a:gdLst/>
              <a:ahLst/>
              <a:rect l="l" t="t" r="r" b="b"/>
              <a:pathLst>
                <a:path w="659" h="644">
                  <a:moveTo>
                    <a:pt x="0" y="42"/>
                  </a:moveTo>
                  <a:lnTo>
                    <a:pt x="648" y="644"/>
                  </a:lnTo>
                  <a:lnTo>
                    <a:pt x="659" y="602"/>
                  </a:lnTo>
                  <a:lnTo>
                    <a:pt x="11" y="0"/>
                  </a:lnTo>
                  <a:lnTo>
                    <a:pt x="0" y="42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90600" y="2127240"/>
              <a:ext cx="198720" cy="20160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63" y="0"/>
                  </a:moveTo>
                  <a:lnTo>
                    <a:pt x="125" y="64"/>
                  </a:lnTo>
                  <a:lnTo>
                    <a:pt x="63" y="127"/>
                  </a:lnTo>
                  <a:lnTo>
                    <a:pt x="0" y="6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166920" y="3070080"/>
              <a:ext cx="198720" cy="2001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63" y="0"/>
                  </a:moveTo>
                  <a:lnTo>
                    <a:pt x="125" y="63"/>
                  </a:lnTo>
                  <a:lnTo>
                    <a:pt x="63" y="126"/>
                  </a:lnTo>
                  <a:lnTo>
                    <a:pt x="0" y="6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4513320" y="5184720"/>
            <a:ext cx="3770280" cy="385920"/>
            <a:chOff x="4513320" y="5184720"/>
            <a:chExt cx="3770280" cy="385920"/>
          </a:xfrm>
        </p:grpSpPr>
        <p:sp>
          <p:nvSpPr>
            <p:cNvPr id="1113" name=""/>
            <p:cNvSpPr/>
            <p:nvPr/>
          </p:nvSpPr>
          <p:spPr>
            <a:xfrm>
              <a:off x="4513320" y="5184720"/>
              <a:ext cx="3770280" cy="38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19520" y="5356440"/>
              <a:ext cx="624960" cy="42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857480" y="5307120"/>
              <a:ext cx="131400" cy="1332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41" y="0"/>
                  </a:moveTo>
                  <a:lnTo>
                    <a:pt x="83" y="42"/>
                  </a:lnTo>
                  <a:lnTo>
                    <a:pt x="41" y="84"/>
                  </a:lnTo>
                  <a:lnTo>
                    <a:pt x="0" y="4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92000" y="524052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Montos Involucrados (U$ Mill.)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1370160" y="5186520"/>
            <a:ext cx="3130560" cy="385560"/>
            <a:chOff x="1370160" y="5186520"/>
            <a:chExt cx="3130560" cy="385560"/>
          </a:xfrm>
        </p:grpSpPr>
        <p:sp>
          <p:nvSpPr>
            <p:cNvPr id="1118" name=""/>
            <p:cNvSpPr/>
            <p:nvPr/>
          </p:nvSpPr>
          <p:spPr>
            <a:xfrm>
              <a:off x="1370160" y="5186520"/>
              <a:ext cx="3130560" cy="385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1452600" y="5319720"/>
              <a:ext cx="663480" cy="117360"/>
              <a:chOff x="1452600" y="5319720"/>
              <a:chExt cx="663480" cy="117360"/>
            </a:xfrm>
          </p:grpSpPr>
          <p:sp>
            <p:nvSpPr>
              <p:cNvPr id="1120" name=""/>
              <p:cNvSpPr/>
              <p:nvPr/>
            </p:nvSpPr>
            <p:spPr>
              <a:xfrm>
                <a:off x="1452600" y="5421240"/>
                <a:ext cx="663480" cy="15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452600" y="5319720"/>
                <a:ext cx="17280" cy="101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082960" y="5319720"/>
                <a:ext cx="33120" cy="101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469880" y="5319720"/>
                <a:ext cx="33480" cy="101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050920" y="5319720"/>
                <a:ext cx="32040" cy="101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503360" y="5319720"/>
                <a:ext cx="33480" cy="101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33640" y="5319720"/>
                <a:ext cx="17280" cy="101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536840" y="5403960"/>
                <a:ext cx="496800" cy="17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536840" y="5319720"/>
                <a:ext cx="15840" cy="84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000160" y="5319720"/>
                <a:ext cx="33480" cy="84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552680" y="5319720"/>
                <a:ext cx="447480" cy="17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552680" y="5337000"/>
                <a:ext cx="33120" cy="66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67040" y="5337000"/>
                <a:ext cx="33120" cy="66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585800" y="5337000"/>
                <a:ext cx="33480" cy="66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951200" y="5337000"/>
                <a:ext cx="15840" cy="66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619280" y="5388120"/>
                <a:ext cx="331920" cy="15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619280" y="5337000"/>
                <a:ext cx="15840" cy="511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917720" y="5337000"/>
                <a:ext cx="33480" cy="511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635120" y="5337000"/>
                <a:ext cx="33480" cy="511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884240" y="5337000"/>
                <a:ext cx="33480" cy="511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668600" y="5337000"/>
                <a:ext cx="215640" cy="16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668600" y="5353200"/>
                <a:ext cx="33120" cy="3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868400" y="5353200"/>
                <a:ext cx="15840" cy="3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701720" y="5370480"/>
                <a:ext cx="166680" cy="17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701720" y="5353200"/>
                <a:ext cx="17640" cy="17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835280" y="5353200"/>
                <a:ext cx="33120" cy="17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719360" y="5353200"/>
                <a:ext cx="31680" cy="17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801800" y="5353200"/>
                <a:ext cx="33480" cy="17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751040" y="5353200"/>
                <a:ext cx="50760" cy="17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2183760" y="5237280"/>
              <a:ext cx="2117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Cantidad de acuerdos</a:t>
              </a:r>
              <a:endParaRPr b="0" lang="en-US" sz="17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3:45:56Z</dcterms:created>
  <dc:creator>Daniel Rosamilia</dc:creator>
  <dc:description/>
  <dc:language>en-US</dc:language>
  <cp:lastModifiedBy>pagina</cp:lastModifiedBy>
  <dcterms:modified xsi:type="dcterms:W3CDTF">2003-11-13T14:30:34Z</dcterms:modified>
  <cp:revision>45</cp:revision>
  <dc:subject/>
  <dc:title>[Nombre de la organización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