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EEE-0A73-471E-A217-8FCEF045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9D7-71DF-4330-98B6-7FC700C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712-FDFF-4AB2-8D2E-11875085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C73-C667-4ECC-A120-953EEBF2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596-70F1-42B9-88EC-127A7CCB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E9A-9459-4BF6-B610-5A8F1A0C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923-26F1-43D8-95B7-E10C02B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9E7-1B57-4043-9FD2-13585EC4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B12-D366-4C1C-A9F2-FAE6A8E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06C-0BB0-40D0-AC31-7459AB8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ED4-6247-4228-883A-2CF4A2E1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52F-696A-47D8-B1F3-2D635C58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AF58-1F3B-4A77-B0DA-D9E9791CBE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Arial"/>
              </a:rPr>
              <a:t>El pensamiento estratég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r. Carlos María Parzian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68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ejo Profesional de Ciencia Económ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udad Autónoma de Buenos 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ahoma"/>
              </a:rPr>
              <a:t>SLADE Sociedad Latino Americana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29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uenos Aires, 7 de noviembr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9AB-107B-4D73-9EF3-1458515E06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i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ner una estrate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cer una estrate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nsar estratégicamente. Ser estrat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95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Di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93C-6615-46DE-B746-D8B177C3E6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i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tiene una meta y se la defien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una fórmula creada para tener log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fine ac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á basada en el hacer y o en el te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y lo que h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y lo que ten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 siempre se la hace con un  mét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s logros generalmente no satisfac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Tener un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885-5F40-4B56-A03D-6D21D8747F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i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un proceso intelectual basado en la reflex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hacen análisis críticos del entorno y de sí m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hace prospección del fut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Hacer un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4D8-B6C3-429E-BB09-8776E67C6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i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abe quién es y adónde est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fine su futuro. Elige su propio cam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oma decisiones más inteli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oma distancia del día a d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er estrat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1AF-1F70-4980-9889-F898DBEA00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i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lajado, auto motiv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flexivo y busca la intu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struye red de relaciones y hace alianz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integra posit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utoestima al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er estrat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FBF-8B79-4C82-BFC5-6AB7A34DAE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i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usca la armon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sarrolla su yo para ser coher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rmoniza  su mundo interior con el mundo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reflex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usca estar más integrado al mu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95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er estrat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FB0-524B-4804-BFA2-688B275C55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95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Beneficios para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Ventajas para las organiz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E74-3849-45A7-9DBD-941CEC066E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sideración de nuevos puntos de v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odificación de prejuicios o asum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tar atención a la intuición. Soñ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nsar en posi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r más rea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Beneficios de ser estrat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 tomar distancia de las exigencias cotidian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A58-E751-4557-AA55-EE054488F5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personas estarán más alineadas con los obje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encuentran y se potencian a los futuros estrate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más motiv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nor grado de estrés organiz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95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Ventajas para la organización estraté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 difundir el desarrollo del pens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4A2-A0B2-4071-9990-B1F39D1BD2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El pensamiento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1BB-2945-4A79-8691-B59A5C7D6D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Objetivo del Trabajo</a:t>
            </a:r>
            <a:br>
              <a:rPr sz="3200"/>
            </a:b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Concepto de hombre</a:t>
            </a:r>
            <a:br>
              <a:rPr sz="3200"/>
            </a:b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Historia</a:t>
            </a:r>
            <a:br>
              <a:rPr sz="3200"/>
            </a:b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Definición de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530-594A-4D25-B9C0-A62B7EF9E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importancia del desarrollo del pensamiento estratég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s benef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95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Objetivo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8CA-762A-49E8-A024-2A6D10E1EE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que busca ser (libre) dueño de su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95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Concepto de h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8CC-5F55-4C1A-8CB8-2FEF4839C1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decuarse al camb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ner un proyecto, un sueño, una vi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cer y tener una estrate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nsar estratégicamente, ser estrat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E68-714F-4DAE-8389-D8DDD1178B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strucción intelectual que liga el presente con el futuro de una manera concre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 que uno es hoy con lo que desea 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95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Definición de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C91-EA5B-4DCD-B9AC-E598DC073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325520"/>
            <a:ext cx="90676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Diferencias entre: Estrategias personal y Estrategia corpo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Diferencias entre: Tener y Hacer estrategias y  Pensar estratég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365-6969-48C8-8289-2CCAD521DA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i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-360" y="2438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ategia Corpo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ategia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1325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Diferencia ent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DD8-34A5-45C3-BCF3-9744BB6C2C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23:26:12Z</dcterms:created>
  <dc:creator>CMP</dc:creator>
  <dc:description/>
  <dc:language>en-US</dc:language>
  <cp:lastModifiedBy>pagina</cp:lastModifiedBy>
  <dcterms:modified xsi:type="dcterms:W3CDTF">2003-11-13T14:32:19Z</dcterms:modified>
  <cp:revision>66</cp:revision>
  <dc:subject/>
  <dc:title>Estrategia y Desarrollo Humano</dc:title>
</cp:coreProperties>
</file>