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39720" y="55742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264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11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25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397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11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25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39720" y="5257440"/>
            <a:ext cx="67773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67773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39360" y="510840"/>
            <a:ext cx="661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39720" y="5257440"/>
            <a:ext cx="67773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264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39720" y="55742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264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311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2520" y="52574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397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311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2520" y="5574240"/>
            <a:ext cx="21819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67773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9360" y="510840"/>
            <a:ext cx="661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2640" y="55742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3972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2640" y="5257440"/>
            <a:ext cx="33073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39720" y="5574240"/>
            <a:ext cx="677736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112160" y="645156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utiger 65 Bold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DBE-4FDC-479F-9B09-AECE082D5BF1}" type="datetime3">
              <a:rPr b="0" lang="en-US" sz="1200" spc="-1" strike="noStrike">
                <a:solidFill>
                  <a:srgbClr val="000000"/>
                </a:solidFill>
                <a:latin typeface="Frutiger 65 Bol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Frutiger 55 Roman"/>
              </a:rPr>
              <a:t>Click to edit the title text format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3120" y="1780920"/>
            <a:ext cx="799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11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57480" indent="-228600">
              <a:spcBef>
                <a:spcPts val="11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00200" indent="-228600">
              <a:spcBef>
                <a:spcPts val="1125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00200" indent="-228600">
              <a:spcBef>
                <a:spcPts val="1125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00200" indent="-228600">
              <a:spcBef>
                <a:spcPts val="1125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576360" y="6451560"/>
            <a:ext cx="3386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65 Bold"/>
              </a:rPr>
              <a:t>Empresa y Comunidad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65 Bold"/>
              </a:rPr>
              <a:t>Alianza Imprescindi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98508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388944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4003560" y="6451560"/>
            <a:ext cx="30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65 Bold"/>
              </a:rPr>
              <a:t>TenarisSiderc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8628120" y="6453360"/>
            <a:ext cx="35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72B-8FD0-4870-9EC9-508E576F3E0D}" type="slidenum">
              <a:rPr b="0" lang="en-US" sz="1200" spc="-1" strike="noStrike">
                <a:solidFill>
                  <a:srgbClr val="000000"/>
                </a:solidFill>
                <a:latin typeface="Frutiger 65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315280" y="230040"/>
            <a:ext cx="547560" cy="54792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98508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7175520" y="6453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10000"/>
                </a:solidFill>
                <a:latin typeface="Frutiger 65 Bold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A1E-ECA8-4E51-AE8F-4CB1D161EC82}" type="datetime3">
              <a:rPr b="0" lang="en-US" sz="1200" spc="-1" strike="noStrike">
                <a:solidFill>
                  <a:srgbClr val="010000"/>
                </a:solidFill>
                <a:latin typeface="Frutiger 65 Bol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4840" y="2668680"/>
            <a:ext cx="7492680" cy="120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85800" algn="ctr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8880" algn="ctr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371600" algn="ctr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4920" y="511200"/>
            <a:ext cx="661356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Frutiger 55 Roman"/>
              </a:rPr>
              <a:t>Empresa y Comunidad: Alianza Imprescindib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64920" y="5320800"/>
            <a:ext cx="67770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utiger 55 Roman"/>
              </a:rPr>
              <a:t>César Papalard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utiger 55 Roman"/>
              </a:rPr>
              <a:t>Gerente de Desarrollo Social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4D7474-0899-454D-9343-ACAA065803C6}" type="datetime3">
              <a:rPr lang="en-US"/>
              <a:t>July 29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1763640"/>
            <a:ext cx="2881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0" algn="just">
              <a:lnSpc>
                <a:spcPct val="9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PEC-Agencia de Desarrollo Loc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 algn="just"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ransformar a Campana en un modelo de desarrollo equitativo, participativo    y sosten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Fortalecimiento institucional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apacitar, apoyar en términos de infraestructura y equipamien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Medición de contamin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trolar los contaminantes en la atmósfe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Festival de Jaz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456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3182760"/>
            <a:ext cx="201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ooperadoras Escolares, Sociedades de Fomento, Centros de Jubilad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4076640"/>
            <a:ext cx="201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CACZ (TenarisSiderca y 15 industrias zonales)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der Ejecutivo Loc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48640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lub Ciudad Campana, Secretaría de Cultura,  Comercio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198900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342900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36572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559116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508720" y="1989000"/>
            <a:ext cx="194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1773360"/>
            <a:ext cx="20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Todas las instituciones de la comunidad de Campan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836640"/>
            <a:ext cx="194472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836640"/>
            <a:ext cx="194472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875640" y="836640"/>
            <a:ext cx="194436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versión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miles $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31640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800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por añ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18684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200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n un añ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948360" y="56134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15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por añ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F1E3D-6F82-4DB9-AC5F-450AB8F1530A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Filantropía y Capital social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2760" y="1836720"/>
            <a:ext cx="7599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135080"/>
            <a:ext cx="8209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pital Social: instituciones, relaciones, comportamientos y valores qu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biernan las interacciones entre las personas y que contribuyen al desarroll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conómico y soc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492280"/>
            <a:ext cx="2448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0066"/>
                </a:solidFill>
                <a:latin typeface="Verdana"/>
              </a:rPr>
              <a:t>Filantrop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Práctica social altruí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aracterizada por las acciones de caridad y generos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Tono egocentr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2492280"/>
            <a:ext cx="2951280" cy="34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c0066"/>
                </a:solidFill>
                <a:latin typeface="Verdana"/>
              </a:rPr>
              <a:t>Desarrollo Soc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Proceso de elevación de calidad de vi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Promueve el acceso a bienes y servicios disponi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onsidera al hombre  sujeto activo de su propio desarroll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FD4DF-3901-4BB0-8440-C13E90B6DE32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La Potencia del trabajo en red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3120" y="1044360"/>
            <a:ext cx="7383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AR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AR" sz="1800" spc="-1" strike="noStrike">
                <a:solidFill>
                  <a:srgbClr val="000000"/>
                </a:solidFill>
                <a:latin typeface="Verdana"/>
              </a:rPr>
              <a:t>... En estas obras nosotros vemos no solamente el espíritu de la empresa, el espíritu de solidaridad de comunidad que es la fuerza de unión entre todos, entre todos los esfuerzos...”</a:t>
            </a:r>
            <a:r>
              <a:rPr b="1" i="1" lang="es-AR" sz="2000" spc="-1" strike="noStrike">
                <a:solidFill>
                  <a:srgbClr val="cc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de: Ing. Roberto Rocca, Chairman del Grupo Techint; Inauguración de consultorios    del Hospital San José, 200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3629160"/>
            <a:ext cx="47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Eleva la efectivida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3994200"/>
            <a:ext cx="47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Contribuye a la formación de plataformas informativas y a la asignación transparente de recurs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53802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0066"/>
                </a:solidFill>
                <a:latin typeface="Verdana"/>
              </a:rPr>
              <a:t>La comunidad se adueña y se hace responsable de su propio desti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869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14972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3195720"/>
            <a:ext cx="47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Refuerza la sustentabilida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328608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A370C-FADA-4226-AAD9-FED2A147CE7E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564920" y="5320800"/>
            <a:ext cx="67770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539360" y="51084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9B71CF7-869D-451C-A4AF-76F050E4B3A5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6040" y="299880"/>
            <a:ext cx="81932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Frutiger 55 Roman"/>
              </a:rPr>
              <a:t>Alcance global y presencia local</a:t>
            </a:r>
            <a:endParaRPr b="0" lang="en-US" sz="3400" spc="-1" strike="noStrike">
              <a:solidFill>
                <a:srgbClr val="009900"/>
              </a:solidFill>
              <a:latin typeface="Frutiger 55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9440" y="1173240"/>
            <a:ext cx="8774280" cy="5037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73320" y="3811680"/>
            <a:ext cx="1149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173320" y="3782880"/>
            <a:ext cx="1149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989240" y="2259000"/>
            <a:ext cx="71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Moscú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71560" y="347040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979320" y="2909880"/>
            <a:ext cx="34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757920" y="4054320"/>
            <a:ext cx="370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198320" y="213984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584520" y="20764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Stavang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40080" y="2471760"/>
            <a:ext cx="987480" cy="328680"/>
            <a:chOff x="3340080" y="2471760"/>
            <a:chExt cx="987480" cy="328680"/>
          </a:xfrm>
        </p:grpSpPr>
        <p:sp>
          <p:nvSpPr>
            <p:cNvPr id="102" name=""/>
            <p:cNvSpPr/>
            <p:nvPr/>
          </p:nvSpPr>
          <p:spPr>
            <a:xfrm>
              <a:off x="3987000" y="2471760"/>
              <a:ext cx="311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buClr>
                  <a:srgbClr val="000099"/>
                </a:buClr>
                <a:buSzPct val="80000"/>
                <a:buFont typeface="Wingdings" charset="2"/>
                <a:buChar char="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0080" y="2559240"/>
              <a:ext cx="987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Londre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7440" y="3881520"/>
            <a:ext cx="49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274840" y="3749760"/>
            <a:ext cx="70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Carac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427440" y="2905200"/>
            <a:ext cx="64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Beij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083280" y="4060800"/>
            <a:ext cx="74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Singap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71320" y="4734000"/>
            <a:ext cx="1388880" cy="426600"/>
            <a:chOff x="1471320" y="4734000"/>
            <a:chExt cx="1388880" cy="426600"/>
          </a:xfrm>
        </p:grpSpPr>
        <p:sp>
          <p:nvSpPr>
            <p:cNvPr id="109" name=""/>
            <p:cNvSpPr/>
            <p:nvPr/>
          </p:nvSpPr>
          <p:spPr>
            <a:xfrm>
              <a:off x="1471320" y="4767120"/>
              <a:ext cx="887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Santa Cruz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de la Sierr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1960" y="473400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buClr>
                  <a:srgbClr val="000099"/>
                </a:buClr>
                <a:buSzPct val="80000"/>
                <a:buFont typeface="Wingdings" charset="2"/>
                <a:buChar char="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252320" y="399744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461840" y="3997440"/>
            <a:ext cx="104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Port Harcou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713640" y="3952800"/>
            <a:ext cx="19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6847560" y="3940200"/>
            <a:ext cx="110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Kuala Lump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13080" y="4078440"/>
            <a:ext cx="1134720" cy="248760"/>
            <a:chOff x="1513080" y="4078440"/>
            <a:chExt cx="1134720" cy="248760"/>
          </a:xfrm>
        </p:grpSpPr>
        <p:sp>
          <p:nvSpPr>
            <p:cNvPr id="116" name=""/>
            <p:cNvSpPr/>
            <p:nvPr/>
          </p:nvSpPr>
          <p:spPr>
            <a:xfrm>
              <a:off x="1513080" y="4086000"/>
              <a:ext cx="66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Bogotá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20760" y="4078440"/>
              <a:ext cx="52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buClr>
                  <a:srgbClr val="000099"/>
                </a:buClr>
                <a:buSzPct val="80000"/>
                <a:buFont typeface="Wingdings" charset="2"/>
                <a:buChar char="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04880" y="4219560"/>
            <a:ext cx="962280" cy="247320"/>
            <a:chOff x="1604880" y="4219560"/>
            <a:chExt cx="962280" cy="247320"/>
          </a:xfrm>
        </p:grpSpPr>
        <p:sp>
          <p:nvSpPr>
            <p:cNvPr id="119" name=""/>
            <p:cNvSpPr/>
            <p:nvPr/>
          </p:nvSpPr>
          <p:spPr>
            <a:xfrm>
              <a:off x="1604880" y="4225680"/>
              <a:ext cx="668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Verdana"/>
                </a:rPr>
                <a:t>Qui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8320" y="4219560"/>
              <a:ext cx="52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buClr>
                  <a:srgbClr val="000099"/>
                </a:buClr>
                <a:buSzPct val="80000"/>
                <a:buFont typeface="Wingdings" charset="2"/>
                <a:buChar char=""/>
                <a:tabLst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48440" y="2887560"/>
            <a:ext cx="5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355360" y="2884320"/>
            <a:ext cx="5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Bak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933000" y="228600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240360" y="2271600"/>
            <a:ext cx="82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Aberde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974400" y="236844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32600" y="2411280"/>
            <a:ext cx="60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Rugb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098240" y="260352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203360" y="2590920"/>
            <a:ext cx="52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Parí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173320" y="3824280"/>
            <a:ext cx="1149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516480"/>
            <a:ext cx="773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Verdana"/>
              </a:rPr>
              <a:t>Tams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09880" y="4903920"/>
            <a:ext cx="1087200" cy="241200"/>
            <a:chOff x="2909880" y="4903920"/>
            <a:chExt cx="1087200" cy="241200"/>
          </a:xfrm>
        </p:grpSpPr>
        <p:sp>
          <p:nvSpPr>
            <p:cNvPr id="132" name=""/>
            <p:cNvSpPr/>
            <p:nvPr/>
          </p:nvSpPr>
          <p:spPr>
            <a:xfrm>
              <a:off x="2968560" y="4903920"/>
              <a:ext cx="1028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cc0066"/>
                  </a:solidFill>
                  <a:latin typeface="Verdana"/>
                </a:rPr>
                <a:t>Confab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9880" y="4992480"/>
              <a:ext cx="53640" cy="53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655720" y="5351400"/>
            <a:ext cx="83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cc0066"/>
                </a:solidFill>
                <a:latin typeface="Verdana"/>
              </a:rPr>
              <a:t>Si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644920" y="5408640"/>
            <a:ext cx="54000" cy="54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614680" y="5226120"/>
            <a:ext cx="143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cc0066"/>
                </a:solidFill>
                <a:latin typeface="Verdana"/>
              </a:rPr>
              <a:t>Siderc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2600280" y="5340240"/>
            <a:ext cx="54000" cy="54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92280" y="3876840"/>
            <a:ext cx="639000" cy="241200"/>
            <a:chOff x="2492280" y="3876840"/>
            <a:chExt cx="639000" cy="241200"/>
          </a:xfrm>
        </p:grpSpPr>
        <p:sp>
          <p:nvSpPr>
            <p:cNvPr id="139" name=""/>
            <p:cNvSpPr/>
            <p:nvPr/>
          </p:nvSpPr>
          <p:spPr>
            <a:xfrm>
              <a:off x="2562480" y="3876840"/>
              <a:ext cx="5688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cc0066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cc0066"/>
                  </a:solidFill>
                  <a:latin typeface="Verdana"/>
                </a:rPr>
                <a:t>Tavsa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92280" y="3983040"/>
              <a:ext cx="54000" cy="540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550880" y="3624120"/>
            <a:ext cx="54000" cy="54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325760" y="2700360"/>
            <a:ext cx="777600" cy="241200"/>
            <a:chOff x="4325760" y="2700360"/>
            <a:chExt cx="777600" cy="241200"/>
          </a:xfrm>
        </p:grpSpPr>
        <p:sp>
          <p:nvSpPr>
            <p:cNvPr id="143" name=""/>
            <p:cNvSpPr/>
            <p:nvPr/>
          </p:nvSpPr>
          <p:spPr>
            <a:xfrm>
              <a:off x="4365360" y="2700360"/>
              <a:ext cx="738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cc0066"/>
                  </a:solidFill>
                  <a:latin typeface="Verdana"/>
                </a:rPr>
                <a:t>Dalmine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5760" y="2819160"/>
              <a:ext cx="54000" cy="540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745400" y="3059280"/>
            <a:ext cx="54000" cy="5364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92560" y="5703840"/>
            <a:ext cx="1901880" cy="423720"/>
            <a:chOff x="5092560" y="5703840"/>
            <a:chExt cx="1901880" cy="423720"/>
          </a:xfrm>
        </p:grpSpPr>
        <p:sp>
          <p:nvSpPr>
            <p:cNvPr id="147" name=""/>
            <p:cNvSpPr/>
            <p:nvPr/>
          </p:nvSpPr>
          <p:spPr>
            <a:xfrm>
              <a:off x="5153040" y="5703840"/>
              <a:ext cx="18414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666666"/>
                  </a:solidFill>
                  <a:latin typeface="Verdana"/>
                </a:rPr>
                <a:t>Centros de Pro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000" spc="-1" strike="noStrike">
                  <a:solidFill>
                    <a:srgbClr val="666666"/>
                  </a:solidFill>
                  <a:latin typeface="Verdana"/>
                </a:rPr>
                <a:t>Centros de Servi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4360" y="5808600"/>
              <a:ext cx="54000" cy="540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5981760"/>
              <a:ext cx="54000" cy="540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312520" y="263052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464080" y="2622600"/>
            <a:ext cx="60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Atyra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7788960" y="2948040"/>
            <a:ext cx="853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cc0066"/>
                </a:solidFill>
                <a:latin typeface="Verdana"/>
              </a:rPr>
              <a:t>NKKTub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483160" y="3475080"/>
            <a:ext cx="58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131120" y="2517840"/>
            <a:ext cx="3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284840" y="2511360"/>
            <a:ext cx="65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995480" y="2579760"/>
            <a:ext cx="15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cc0066"/>
                </a:solidFill>
                <a:latin typeface="Verdana"/>
              </a:rPr>
              <a:t>AlgomaTub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004840" y="2690640"/>
            <a:ext cx="54000" cy="54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627200" y="3232080"/>
            <a:ext cx="25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804320" y="3218040"/>
            <a:ext cx="71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Houst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917960" y="325908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Cair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786200" y="3247920"/>
            <a:ext cx="20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097E6-A2B9-4BF3-84DB-D8119ACF89F0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Datos de Campana </a:t>
            </a:r>
            <a:br>
              <a:rPr sz="3600"/>
            </a:br>
            <a:r>
              <a:rPr b="1" lang="es-ES_tradnl" sz="2000" spc="-1" strike="noStrike">
                <a:solidFill>
                  <a:srgbClr val="009900"/>
                </a:solidFill>
                <a:latin typeface="Frutiger 55 Roman"/>
              </a:rPr>
              <a:t>Provincia de Buenos Aires</a:t>
            </a:r>
            <a:br>
              <a:rPr sz="2000"/>
            </a:br>
            <a:endParaRPr b="0" lang="en-US" sz="20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7416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955 km2 de territo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A 70 km de la ciudad de Buenos Aires, a orillas del río Paran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83.000 habita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69</a:t>
            </a:r>
            <a:r>
              <a:rPr b="0" lang="es-ES_tradnl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tablecimientos industri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73 escuelas públicas de todos los niveles, 17.500 alumn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2 Universida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4% tasa de desemple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00% de la población tiene agua corriente y luz eléctrica, 60% gas       y 50% servicio cloac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 Hospital Municipal con 19 Centros Primarios de Salud en los barri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 Reserva Natural de especies autóctonas (3000 has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6 puertos privados. Puerta de la Argentina al Mercos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EB20-B039-4467-AAEC-94A8F4A148A1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2760" y="272520"/>
            <a:ext cx="76057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TenarisSiderca y sus vínculos con Campana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98680"/>
            <a:ext cx="3816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70% de nuestros empleados vive en Campan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000 empleados más pertenecen a empresas contratist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30% de la población ocupada en el sector privado del partido trabaja en TenarisSider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3000 hijos del personal representan el 15% del alumnado de las escuelas de Campan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076720" y="1492200"/>
            <a:ext cx="35989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300 hectáreas de terrenos ocupa en Campana nuestra planta industrial sobre el río Paraná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narisSiderca es el mayor contribuyente del presupuesto del Municip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3500 visitantes de nuestro país y el mundo pasean anualmente por nuestra planta. Muchos de ellos reconocen a Campana por TenarisSider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888080"/>
            <a:ext cx="37432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1133 viviendas han sido construidas por TenarisSiderca en Campana para el person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C615E-DAC4-4A09-BCEA-2F554B5A025F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Nuestra misión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395280"/>
            <a:ext cx="7238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...Una empresa comprometida con el bienestar de su gente e integrada a su comunidad..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e: “Misión de la Organización Techint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E0039-893B-474B-BC21-8DD092FCF606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Una alianza imprescindible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...Cuando la empresa asume un papel activo, y no confinado puramente a los negocios, con esa trama que integran los proveedores, los clientes, los trabajadores, las instituciones de formación y otros sectores de la comunidad, creo que se vuelve casi indestructible...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de: Paolo Rocca, Presidente y CEO de la Organización Techint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1D32D-4672-422C-BE11-5564E78D1041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Fundamento de las Alianzas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2560" y="111924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otivaciones de la empre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435640" y="111924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otivaciones   de la comun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79736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e distribuye el esfuer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e fortalece la particip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e evita el pater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e transparenta la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216000" y="1916280"/>
            <a:ext cx="4572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r de los equip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Acompañar la búsqueda de sol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Aportar know how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Acompañar el proceso de crecimiento y desarrollo de las instit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1882800"/>
            <a:ext cx="39960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Asumir responsabilidad sobre el propio desarroll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Desarrollar ventajas competitiv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Fortalecer e incrementar su capital so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Verdana"/>
              </a:rPr>
              <a:t>Optimizar recursos y trabaj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6572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9853C-46E5-4F7A-BE95-E6460DAF74B4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2760" y="272520"/>
            <a:ext cx="76057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Plan Estratégico de Acción Comunitaria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557360"/>
            <a:ext cx="73454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iseñamos anualmente el Plan en sintonía con las necesidades observ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yudamos a quien se ayuda, evitando el asistenci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Generamos una red de alianz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plicamos a la gestión comunitaria las mismas pautas de racionalidad que aplicamos en la empre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Focalizamos la tarea en el área geográfica del entorno de la fábr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entramos las acciones especialmente en: salud, vivienda, educ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Publicamos las acciones sin fines de marketing, para generar la identificación positiva entre el personal, la comunidad y la empre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17920-7F65-4809-9425-5576DBEDE4D9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2760" y="272880"/>
            <a:ext cx="7605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Frutiger 55 Roman"/>
              </a:rPr>
              <a:t>Alianzas  </a:t>
            </a:r>
            <a:endParaRPr b="0" lang="en-US" sz="3600" spc="-1" strike="noStrike">
              <a:solidFill>
                <a:srgbClr val="009900"/>
              </a:solidFill>
              <a:latin typeface="Frutiger 55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8720" y="1915920"/>
            <a:ext cx="3562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Plan Alent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sistir a necesidades básic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Generar emple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ejorar el hábit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Campana Ver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omentar la producción de alimento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lnSpc>
                <a:spcPct val="150000"/>
              </a:lnSpc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Mejorar la calidad de la diet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lnSpc>
                <a:spcPct val="150000"/>
              </a:lnSpc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romover la cultura de la huert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lnSpc>
                <a:spcPct val="150000"/>
              </a:lnSpc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olaborar en la forestación urban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0" algn="just"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0" algn="just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9900"/>
                </a:solidFill>
                <a:latin typeface="Verdana"/>
              </a:rPr>
              <a:t>Red de Escuel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-304920" algn="just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Mejorar la calidad de la educació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480" indent="0" algn="just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de los niños de Campan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4920" indent="0" algn="just">
              <a:spcBef>
                <a:spcPts val="7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268280"/>
            <a:ext cx="136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4041720"/>
            <a:ext cx="216072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edades de Fomento, Escuelas, Carit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5084640"/>
            <a:ext cx="208908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inisterio de Educación Provincial, Poder Ejecutivo Local,   UNESCO, Esso, Grupo Minetti, U.T.N., O.D.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49228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422280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544500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noFill/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406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280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por añ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946920" y="256536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8.000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n 20 me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1773360"/>
            <a:ext cx="15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213660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Poder Ejecutivo Local, ONGs, Consejos Escolares, Cáritas,  BID, Voluntari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197000"/>
            <a:ext cx="194472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1197000"/>
            <a:ext cx="194472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75640" y="1197000"/>
            <a:ext cx="1944360" cy="360360"/>
          </a:xfrm>
          <a:prstGeom prst="rect">
            <a:avLst/>
          </a:prstGeom>
          <a:solidFill>
            <a:srgbClr val="eaeaea"/>
          </a:soli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versión </a:t>
            </a: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miles $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530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210 </a:t>
            </a:r>
            <a:r>
              <a:rPr b="1" lang="es-AR" sz="1200" spc="-1" strike="noStrike">
                <a:solidFill>
                  <a:srgbClr val="000000"/>
                </a:solidFill>
                <a:latin typeface="Verdana"/>
              </a:rPr>
              <a:t>en tres añ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10680-0814-43C1-961C-83491074F181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4:31:53Z</dcterms:created>
  <dc:creator>Carolina Roman</dc:creator>
  <dc:description/>
  <dc:language>en-US</dc:language>
  <cp:lastModifiedBy>pagina</cp:lastModifiedBy>
  <cp:lastPrinted>2001-07-02T19:18:08Z</cp:lastPrinted>
  <dcterms:modified xsi:type="dcterms:W3CDTF">2003-11-13T14:26:41Z</dcterms:modified>
  <cp:revision>109</cp:revision>
  <dc:subject/>
  <dc:title>Título de la Presentación Frutiger 55 Roman 28 pto., Interlineado 0,9 líneas. Los títulos pueden tener hasta 3 línea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906600</vt:r8>
  </property>
  <property fmtid="{D5CDD505-2E9C-101B-9397-08002B2CF9AE}" pid="3" name="_AuthorEmail">
    <vt:lpwstr>SIDTAZY@SIDERCA.COM</vt:lpwstr>
  </property>
  <property fmtid="{D5CDD505-2E9C-101B-9397-08002B2CF9AE}" pid="4" name="_AuthorEmailDisplayName">
    <vt:lpwstr>AMEZTOY Maria Eugenia     DESO</vt:lpwstr>
  </property>
  <property fmtid="{D5CDD505-2E9C-101B-9397-08002B2CF9AE}" pid="5" name="_EmailSubject">
    <vt:lpwstr>Solicitud de abstract y material</vt:lpwstr>
  </property>
</Properties>
</file>