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D635-00EF-441E-9EDB-2108CA7A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F837-BD02-4040-925D-82C8DB31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0D64-4E0C-48C7-B2A0-22E84BA9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DB6-219B-4DDE-8505-BEBB1E1A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2F9C-3FA2-4E9F-B099-A33A8574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0CA7-91F6-4A29-9EDA-B7E79989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EA06-A547-4E6C-984D-9851B352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8BE1-BC4E-4A97-90D8-E7F47A0D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14F-40B8-4B5A-BF74-57BB5B67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0EDA-AF03-45AE-84FD-855B3ADE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45A8-273B-4ECF-B084-89EB5505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5B09-14BF-4487-AA0B-F16FA65E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3D0F-8618-4FF1-9762-D3BD9FEDFB1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2362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CT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9640" y="1386000"/>
            <a:ext cx="787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00"/>
                </a:solidFill>
                <a:latin typeface="Times New Roman"/>
              </a:rPr>
              <a:t>CONFLICTO / SITUACION ESTRATEG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971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NTERESES que los vincul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3962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RELACIO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33920" y="356544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DENTIFICAC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3962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P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403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FUER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921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E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547056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on REGLAS DE JU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505320"/>
            <a:ext cx="75960" cy="1371600"/>
          </a:xfrm>
          <a:custGeom>
            <a:avLst/>
            <a:gdLst>
              <a:gd name="textAreaLeft" fmla="*/ 48600 w 75960"/>
              <a:gd name="textAreaRight" fmla="*/ 76320 w 759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52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INTELIGENCIA EMPRESA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23623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RACIONALIDAD INTERDEPEND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9640" y="1386000"/>
            <a:ext cx="7648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00"/>
                </a:solidFill>
                <a:latin typeface="Times New Roman"/>
              </a:rPr>
              <a:t>CONDUCCION ESTRATEG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124080"/>
            <a:ext cx="51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LIBERTAD DE AC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3962520"/>
            <a:ext cx="560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DIALECTICA VOLUNT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4921200"/>
            <a:ext cx="37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INCERTIDU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52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33336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ff33"/>
                </a:solidFill>
                <a:latin typeface="Times New Roman"/>
              </a:rPr>
              <a:t>INTELIGENCIA EMPRESA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057400"/>
            <a:ext cx="91440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Reducir la incertidumbre producto de la dialéctica de merca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Fiscalizar la coordinación entre los objetivos estratégicos y la asignación de recur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Identificar los actores intervinientes en el escenario económico, sus relaciones e intere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etectar las amenazas del escenario para neutralizar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eterminar las oportunidades del escenario para explotar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roporcionar a los niveles inferiores de management, información e inteligencia bás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efinir las variables portadoras de futuro y anticipar las tendencias del merc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9640" y="1203480"/>
            <a:ext cx="7648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OBJETIVO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52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INTELIGENCIA EMPRESA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INTELIGENCIA EMPRESA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600200"/>
            <a:ext cx="86868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NIVELES DE D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2286000"/>
            <a:ext cx="221004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NATURALE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DE  LA D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2286000"/>
            <a:ext cx="220968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EMPRESA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EE.UU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2286000"/>
            <a:ext cx="220968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CLASIFIC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CLA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2286000"/>
            <a:ext cx="221004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NIVEL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INTELIG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2971800"/>
            <a:ext cx="221004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NIVEL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CONCEP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2971800"/>
            <a:ext cx="22096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COPO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2971800"/>
            <a:ext cx="22096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POLI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ESTRATEG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(GENERAL / SECTORI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2971800"/>
            <a:ext cx="221004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INTELIG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EMPRESARI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3809880"/>
            <a:ext cx="221004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NIVEL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APLICACIÓN 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TRANSFORM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3809880"/>
            <a:ext cx="220968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3809880"/>
            <a:ext cx="220968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OPE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809880"/>
            <a:ext cx="221004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INTELIG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COMPETITIV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4648320"/>
            <a:ext cx="221004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NIVEL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EJECU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4648320"/>
            <a:ext cx="22096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FUNC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4648320"/>
            <a:ext cx="22096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TAC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1680" y="4648320"/>
            <a:ext cx="221004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INTELIG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DE MERCAD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86000" y="2057400"/>
            <a:ext cx="4724280" cy="2971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INTELIGENCIA EMPRESA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295280"/>
            <a:ext cx="2057400" cy="91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Times New Roman"/>
              </a:rPr>
              <a:t>DIRIGE INVESTIGACON DE MERC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Times New Roman"/>
              </a:rPr>
              <a:t>DETERMINA CONTEXTO ESTRATEG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9920" y="858960"/>
            <a:ext cx="2971800" cy="1197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Times New Roman"/>
              </a:rPr>
              <a:t>DIRIGE LA OBTENCION IMPARTE REQUERIMIENTO DE INTELIG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Times New Roman"/>
              </a:rPr>
              <a:t>CONFECCIONA PLAN OBTENCION SELECIONA MED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Times New Roman"/>
              </a:rPr>
              <a:t>DIRIGE CONTRA INTELIG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05320" y="1631880"/>
            <a:ext cx="2133360" cy="733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GRUPO DE ANALISIS DE LA COMPETENCIA Y 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3200400"/>
            <a:ext cx="1295280" cy="520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DIVISION OBTEN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3079800"/>
            <a:ext cx="1295280" cy="733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CENTRO DE DIRECCION Y PLA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971800"/>
            <a:ext cx="1905120" cy="946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DIVISION ANALISIS CORPORATIVO, DE PRODUCTOS Y PROC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4800600"/>
            <a:ext cx="1371600" cy="520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DIVISION INNOV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4883040"/>
            <a:ext cx="274320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Times New Roman"/>
              </a:rPr>
              <a:t>OBTIENE INFORMACION SOBRE CANALES DE DISTRIBUCION, PROVEEDORES, OTRAS FUENTES Y LA CORPOR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0" y="4807080"/>
            <a:ext cx="213372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Times New Roman"/>
              </a:rPr>
              <a:t>REALIZA AUDITORIAS, BENCHMARKETING, FACTIBILIDADES Y “PRODUCT CAPABILIT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5964120"/>
            <a:ext cx="3886200" cy="73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Times New Roman"/>
              </a:rPr>
              <a:t>DETECTA INNOVACION EN PRODUCTOS, SERVICIOS Y PROCE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Times New Roman"/>
              </a:rPr>
              <a:t>DETERMINA NECESIDADES DE CAPACIT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82" idx="3"/>
            <a:endCxn id="84" idx="1"/>
          </p:cNvCxnSpPr>
          <p:nvPr/>
        </p:nvCxnSpPr>
        <p:spPr>
          <a:xfrm>
            <a:off x="2514600" y="1757160"/>
            <a:ext cx="991440" cy="24012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93" name=""/>
          <p:cNvCxnSpPr>
            <a:stCxn id="83" idx="2"/>
            <a:endCxn id="80" idx="7"/>
          </p:cNvCxnSpPr>
          <p:nvPr/>
        </p:nvCxnSpPr>
        <p:spPr>
          <a:xfrm flipH="1">
            <a:off x="6318360" y="2057040"/>
            <a:ext cx="1187640" cy="407160"/>
          </a:xfrm>
          <a:prstGeom prst="straightConnector1">
            <a:avLst/>
          </a:prstGeom>
          <a:ln w="38160">
            <a:solidFill>
              <a:srgbClr val="ffff00"/>
            </a:solidFill>
            <a:miter/>
          </a:ln>
        </p:spPr>
      </p:cxnSp>
      <p:cxnSp>
        <p:nvCxnSpPr>
          <p:cNvPr id="94" name=""/>
          <p:cNvCxnSpPr>
            <a:stCxn id="89" idx="0"/>
            <a:endCxn id="85" idx="2"/>
          </p:cNvCxnSpPr>
          <p:nvPr/>
        </p:nvCxnSpPr>
        <p:spPr>
          <a:xfrm flipV="1">
            <a:off x="1523520" y="3717720"/>
            <a:ext cx="724680" cy="116568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95" name=""/>
          <p:cNvCxnSpPr>
            <a:stCxn id="91" idx="0"/>
            <a:endCxn id="88" idx="2"/>
          </p:cNvCxnSpPr>
          <p:nvPr/>
        </p:nvCxnSpPr>
        <p:spPr>
          <a:xfrm flipV="1">
            <a:off x="4533840" y="5317920"/>
            <a:ext cx="38880" cy="64656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96" name=""/>
          <p:cNvCxnSpPr>
            <a:stCxn id="90" idx="0"/>
            <a:endCxn id="87" idx="2"/>
          </p:cNvCxnSpPr>
          <p:nvPr/>
        </p:nvCxnSpPr>
        <p:spPr>
          <a:xfrm flipH="1" flipV="1">
            <a:off x="7124400" y="3913920"/>
            <a:ext cx="800640" cy="89316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97" name=""/>
          <p:cNvCxnSpPr>
            <a:stCxn id="86" idx="3"/>
            <a:endCxn id="87" idx="1"/>
          </p:cNvCxnSpPr>
          <p:nvPr/>
        </p:nvCxnSpPr>
        <p:spPr>
          <a:xfrm flipV="1">
            <a:off x="5257800" y="3443040"/>
            <a:ext cx="915120" cy="2160"/>
          </a:xfrm>
          <a:prstGeom prst="straightConnector1">
            <a:avLst/>
          </a:prstGeom>
          <a:ln w="284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85" idx="3"/>
            <a:endCxn id="86" idx="1"/>
          </p:cNvCxnSpPr>
          <p:nvPr/>
        </p:nvCxnSpPr>
        <p:spPr>
          <a:xfrm flipV="1">
            <a:off x="2895480" y="3444480"/>
            <a:ext cx="1067760" cy="151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86" idx="2"/>
            <a:endCxn id="88" idx="0"/>
          </p:cNvCxnSpPr>
          <p:nvPr/>
        </p:nvCxnSpPr>
        <p:spPr>
          <a:xfrm rot="5400000">
            <a:off x="4095000" y="4286160"/>
            <a:ext cx="991440" cy="38880"/>
          </a:xfrm>
          <a:prstGeom prst="bentConnector3">
            <a:avLst>
              <a:gd name="adj1" fmla="val 49981"/>
            </a:avLst>
          </a:prstGeom>
          <a:ln w="284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0" name=""/>
          <p:cNvCxnSpPr>
            <a:stCxn id="86" idx="0"/>
            <a:endCxn id="84" idx="2"/>
          </p:cNvCxnSpPr>
          <p:nvPr/>
        </p:nvCxnSpPr>
        <p:spPr>
          <a:xfrm flipV="1" rot="16200000">
            <a:off x="4232160" y="2701080"/>
            <a:ext cx="717840" cy="38880"/>
          </a:xfrm>
          <a:prstGeom prst="bentConnector3">
            <a:avLst>
              <a:gd name="adj1" fmla="val 49974"/>
            </a:avLst>
          </a:prstGeom>
          <a:ln w="284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57680" y="380880"/>
            <a:ext cx="3429000" cy="4597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1773360"/>
            <a:ext cx="7505640" cy="3751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Organ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etodología y lenguaje de la Inteligencia Estratégica es aplicable al mundo de los negocios y constituye un soporte útil para la toma de decisiones empresariales. Las estrategias empresariales están fundadas en una dialéctica compleja integrada por el mercado, el consumidor o cliente y la oferta. La IE resuelve o contribuye a resolver los problemas derivados de las incertidumbres o ambigüedades de ellas surg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6:02:44Z</dcterms:created>
  <dc:creator>pp</dc:creator>
  <dc:description/>
  <dc:language>en-US</dc:language>
  <cp:lastModifiedBy>pagina</cp:lastModifiedBy>
  <dcterms:modified xsi:type="dcterms:W3CDTF">2003-11-13T14:28:51Z</dcterms:modified>
  <cp:revision>31</cp:revision>
  <dc:subject/>
  <dc:title>INTELIGENCIA COMPETITIVA</dc:title>
</cp:coreProperties>
</file>