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4FD-4FA6-42D7-9CA2-B4769982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686-3941-401C-966E-174C559D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C31-FB3E-40AE-8DD9-77877AC7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20F-1020-4AF0-85D8-60244E42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3439-448B-4143-9791-11DC53CF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EC0-EC19-434F-97FA-9E3A3E6A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414-53B6-4DE0-B53F-FF0AA33D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C53-F4C6-4911-9593-C05990F3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433-A2D0-4B39-B6B9-D90EC44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312-CB0D-46D0-BB27-BE1008D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87F5-9B45-4705-935B-1789720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A38-D652-4782-A303-A5542BD4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D1DA-E648-40C2-ADE1-0C7CC88EEA1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652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cc00"/>
                </a:solidFill>
                <a:latin typeface="Baskerville Old Face"/>
                <a:ea typeface="Times New Roman"/>
              </a:rPr>
              <a:t>Dimensión Estratégica</a:t>
            </a:r>
            <a:br>
              <a:rPr sz="4400"/>
            </a:br>
            <a:r>
              <a:rPr b="1" lang="es-AR" sz="4400" spc="-1" strike="noStrike">
                <a:solidFill>
                  <a:srgbClr val="ffcc00"/>
                </a:solidFill>
                <a:latin typeface="Baskerville Old Face"/>
                <a:ea typeface="Times New Roman"/>
              </a:rPr>
              <a:t> de la Calidad</a:t>
            </a:r>
            <a:r>
              <a:rPr b="1" lang="es-AR" sz="3200" spc="-1" strike="noStrike">
                <a:solidFill>
                  <a:srgbClr val="ffcc00"/>
                </a:solidFill>
                <a:latin typeface="Baskerville Old Face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Baskerville Old Face"/>
              </a:rPr>
              <a:t>Ing/MBA Roberto Innoc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askerville Old Face"/>
              </a:rPr>
              <a:t>Buenos Aires , 7 de noviembre d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04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Baskerville Old Face"/>
              </a:rPr>
              <a:t>II Simposio Nacional de 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3000" y="2743200"/>
            <a:ext cx="880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perf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dispon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Determinado por é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380880"/>
            <a:ext cx="2057400" cy="13456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Valor para </a:t>
            </a:r>
            <a:br>
              <a:rPr sz="2400"/>
            </a:b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838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144792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Verdana"/>
              </a:rPr>
              <a:t>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2743200"/>
            <a:ext cx="990360" cy="3352680"/>
          </a:xfrm>
          <a:custGeom>
            <a:avLst/>
            <a:gdLst>
              <a:gd name="textAreaLeft" fmla="*/ 0 w 990360"/>
              <a:gd name="textAreaRight" fmla="*/ 357480 w 99036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3429000"/>
            <a:ext cx="2361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satisf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480" y="2743200"/>
            <a:ext cx="880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cc00"/>
                </a:solidFill>
                <a:latin typeface="Verdana"/>
              </a:rPr>
              <a:t>Velocidad del aumento del valor requerido por los comprador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380880"/>
            <a:ext cx="2210040" cy="13456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Valor para </a:t>
            </a:r>
            <a:br>
              <a:rPr sz="2400"/>
            </a:b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838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44792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Verdana"/>
              </a:rPr>
              <a:t>CL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143000" y="3429000"/>
            <a:ext cx="880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440" y="380880"/>
            <a:ext cx="1981440" cy="13456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Valor para </a:t>
            </a:r>
            <a:br>
              <a:rPr sz="2400"/>
            </a:b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44792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rot="21534000">
            <a:off x="5866200" y="4419720"/>
            <a:ext cx="2362320" cy="1904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Verdana"/>
              </a:rPr>
              <a:t>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2971800" cy="28958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CAMBIO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EP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de la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3960" y="548640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alidad en Marco Estraté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68600"/>
          <a:ext cx="4514760" cy="428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68600"/>
                    <a:ext cx="451476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5791320" y="3048120"/>
            <a:ext cx="2971800" cy="2438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4a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4a94"/>
                </a:solidFill>
                <a:latin typeface="Verdana"/>
              </a:rPr>
              <a:t>Visió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4a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4a94"/>
                </a:solidFill>
                <a:latin typeface="Verdana"/>
              </a:rPr>
              <a:t>Posicionamie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4a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4a94"/>
                </a:solidFill>
                <a:latin typeface="Verdana"/>
              </a:rPr>
              <a:t>Estrateg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alidad en Comportamiento Organiz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514600"/>
            <a:ext cx="3352680" cy="2819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572000" cy="4343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72200" y="2209680"/>
            <a:ext cx="2971800" cy="2438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4a94"/>
                </a:solidFill>
                <a:latin typeface="Verdana"/>
              </a:rPr>
              <a:t>liderazg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4a94"/>
                </a:solidFill>
                <a:latin typeface="Verdana"/>
              </a:rPr>
              <a:t>polític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4a94"/>
                </a:solidFill>
                <a:latin typeface="Verdana"/>
              </a:rPr>
              <a:t>Cultura-g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alidad en Dinámica Operativ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505320" y="1828800"/>
          <a:ext cx="4572000" cy="434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457200" y="3809880"/>
            <a:ext cx="2971800" cy="2438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4a94"/>
                </a:solidFill>
                <a:latin typeface="Verdana"/>
              </a:rPr>
              <a:t>Sistema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4a94"/>
                </a:solidFill>
                <a:latin typeface="Verdana"/>
              </a:rPr>
              <a:t>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004a94"/>
                </a:solidFill>
                <a:latin typeface="Verdana"/>
              </a:rPr>
              <a:t>gestió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57200"/>
            <a:ext cx="2057400" cy="15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895480"/>
            <a:ext cx="2743200" cy="2895840"/>
          </a:xfrm>
          <a:custGeom>
            <a:avLst/>
            <a:gdLst>
              <a:gd name="textAreaLeft" fmla="*/ 626040 w 2743200"/>
              <a:gd name="textAreaRight" fmla="*/ 2117160 w 2743200"/>
              <a:gd name="textAreaTop" fmla="*/ 660960 h 2895840"/>
              <a:gd name="textAreaBottom" fmla="*/ 223488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b701a"/>
              </a:gs>
              <a:gs pos="50000">
                <a:srgbClr val="ffa827"/>
              </a:gs>
              <a:gs pos="100000">
                <a:srgbClr val="ab701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p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2895480"/>
            <a:ext cx="2743200" cy="2743200"/>
          </a:xfrm>
          <a:custGeom>
            <a:avLst/>
            <a:gdLst>
              <a:gd name="textAreaLeft" fmla="*/ 626040 w 2743200"/>
              <a:gd name="textAreaRight" fmla="*/ 2117160 w 2743200"/>
              <a:gd name="textAreaTop" fmla="*/ 626040 h 2743200"/>
              <a:gd name="textAreaBottom" fmla="*/ 21171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b7526"/>
              </a:gs>
              <a:gs pos="50000">
                <a:srgbClr val="ffaf39"/>
              </a:gs>
              <a:gs pos="100000">
                <a:srgbClr val="ab752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40280" y="3429000"/>
            <a:ext cx="1214280" cy="990720"/>
          </a:xfrm>
          <a:prstGeom prst="leftRightArrow">
            <a:avLst>
              <a:gd name="adj1" fmla="val 50000"/>
              <a:gd name="adj2" fmla="val 243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Calidad en R &amp;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886200" y="2057400"/>
          <a:ext cx="4572000" cy="434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057400"/>
                    <a:ext cx="45720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80880" y="3429000"/>
            <a:ext cx="2971800" cy="2438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Reflexion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y aprender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los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380880"/>
            <a:ext cx="2057400" cy="1524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ffffff"/>
                </a:solidFill>
                <a:latin typeface="Times New Roman"/>
              </a:rPr>
              <a:t>Plan de reducción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2057400" cy="15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2895480"/>
            <a:ext cx="2971800" cy="2819520"/>
          </a:xfrm>
          <a:custGeom>
            <a:avLst/>
            <a:gdLst>
              <a:gd name="textAreaLeft" fmla="*/ 678240 w 2971800"/>
              <a:gd name="textAreaRight" fmla="*/ 2293560 w 297180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Cost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operación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2895480"/>
            <a:ext cx="2895840" cy="2819520"/>
          </a:xfrm>
          <a:custGeom>
            <a:avLst/>
            <a:gdLst>
              <a:gd name="textAreaLeft" fmla="*/ 660960 w 2895840"/>
              <a:gd name="textAreaRight" fmla="*/ 2234880 w 2895840"/>
              <a:gd name="textAreaTop" fmla="*/ 643680 h 2819520"/>
              <a:gd name="textAreaBottom" fmla="*/ 2175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Cost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suministr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80"/>
                </a:solidFill>
                <a:latin typeface="Times New Roman"/>
              </a:rPr>
              <a:t>satisf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40280" y="3429000"/>
            <a:ext cx="1214280" cy="990720"/>
          </a:xfrm>
          <a:prstGeom prst="leftRightArrow">
            <a:avLst>
              <a:gd name="adj1" fmla="val 50000"/>
              <a:gd name="adj2" fmla="val 243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52680" y="609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Posicionamiento: COSTO +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MPRESA CONECT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con clientes- empleados y provee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EMPOWE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ahoma"/>
              </a:rPr>
              <a:t>LIDERAZGO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2133720" cy="15242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Modelo  </a:t>
            </a:r>
            <a:br>
              <a:rPr sz="2400"/>
            </a:b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Times New Roman"/>
              </a:rPr>
              <a:t>Economía glob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371600" y="1981080"/>
            <a:ext cx="7774560" cy="3490920"/>
            <a:chOff x="1371600" y="1981080"/>
            <a:chExt cx="7774560" cy="3490920"/>
          </a:xfrm>
        </p:grpSpPr>
        <p:sp>
          <p:nvSpPr>
            <p:cNvPr id="47" name=""/>
            <p:cNvSpPr/>
            <p:nvPr/>
          </p:nvSpPr>
          <p:spPr>
            <a:xfrm>
              <a:off x="1371600" y="2705040"/>
              <a:ext cx="3200400" cy="1447920"/>
            </a:xfrm>
            <a:custGeom>
              <a:avLst/>
              <a:gdLst/>
              <a:ahLst/>
              <a:rect l="l" t="t" r="r" b="b"/>
              <a:pathLst>
                <a:path w="1920" h="1128">
                  <a:moveTo>
                    <a:pt x="0" y="984"/>
                  </a:moveTo>
                  <a:cubicBezTo>
                    <a:pt x="272" y="492"/>
                    <a:pt x="544" y="0"/>
                    <a:pt x="864" y="24"/>
                  </a:cubicBezTo>
                  <a:cubicBezTo>
                    <a:pt x="1184" y="48"/>
                    <a:pt x="1744" y="944"/>
                    <a:pt x="1920" y="1128"/>
                  </a:cubicBezTo>
                </a:path>
              </a:pathLst>
            </a:custGeom>
            <a:noFill/>
            <a:ln w="69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1280" y="2438280"/>
              <a:ext cx="3124440" cy="1524240"/>
            </a:xfrm>
            <a:custGeom>
              <a:avLst/>
              <a:gdLst/>
              <a:ahLst/>
              <a:rect l="l" t="t" r="r" b="b"/>
              <a:pathLst>
                <a:path w="2112" h="912">
                  <a:moveTo>
                    <a:pt x="0" y="912"/>
                  </a:moveTo>
                  <a:cubicBezTo>
                    <a:pt x="400" y="456"/>
                    <a:pt x="800" y="0"/>
                    <a:pt x="1152" y="0"/>
                  </a:cubicBezTo>
                  <a:cubicBezTo>
                    <a:pt x="1504" y="0"/>
                    <a:pt x="1952" y="752"/>
                    <a:pt x="2112" y="912"/>
                  </a:cubicBezTo>
                </a:path>
              </a:pathLst>
            </a:custGeom>
            <a:noFill/>
            <a:ln w="82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43600" y="2514600"/>
              <a:ext cx="3048120" cy="1460520"/>
            </a:xfrm>
            <a:custGeom>
              <a:avLst/>
              <a:gdLst/>
              <a:ahLst/>
              <a:rect l="l" t="t" r="r" b="b"/>
              <a:pathLst>
                <a:path w="1920" h="920">
                  <a:moveTo>
                    <a:pt x="0" y="920"/>
                  </a:moveTo>
                  <a:cubicBezTo>
                    <a:pt x="272" y="468"/>
                    <a:pt x="544" y="16"/>
                    <a:pt x="864" y="8"/>
                  </a:cubicBezTo>
                  <a:cubicBezTo>
                    <a:pt x="1184" y="0"/>
                    <a:pt x="1736" y="728"/>
                    <a:pt x="1920" y="872"/>
                  </a:cubicBezTo>
                </a:path>
              </a:pathLst>
            </a:custGeom>
            <a:noFill/>
            <a:ln w="82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4191120"/>
              <a:ext cx="2133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33920" y="4343400"/>
              <a:ext cx="19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26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66"/>
                  </a:solidFill>
                  <a:latin typeface="Bookman Old Style"/>
                </a:rPr>
                <a:t>18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38480" y="19810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66"/>
                  </a:solidFill>
                  <a:latin typeface="Bookman Old Style"/>
                </a:rPr>
                <a:t>19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38680" y="220968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ff0066"/>
                  </a:solidFill>
                  <a:latin typeface="Bookman Old Style"/>
                </a:rPr>
                <a:t>1980-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5105520"/>
              <a:ext cx="259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5800">
              <a:off x="6705360" y="4038480"/>
              <a:ext cx="2438280" cy="609840"/>
            </a:xfrm>
            <a:prstGeom prst="wedgeRoundRectCallout">
              <a:avLst>
                <a:gd name="adj1" fmla="val -62500"/>
                <a:gd name="adj2" fmla="val -129222"/>
                <a:gd name="adj3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ffff"/>
                  </a:solidFill>
                  <a:latin typeface="Bookman Old Style"/>
                </a:rPr>
                <a:t>ESTRATEG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83808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800" spc="-1" strike="noStrike">
                <a:solidFill>
                  <a:srgbClr val="ffff00"/>
                </a:solidFill>
                <a:latin typeface="Times New Roman"/>
              </a:rPr>
              <a:t>SQ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676520"/>
            <a:ext cx="7391520" cy="4400280"/>
          </a:xfrm>
          <a:prstGeom prst="flowChartPunchedTape">
            <a:avLst/>
          </a:prstGeom>
          <a:gradFill rotWithShape="0">
            <a:gsLst>
              <a:gs pos="0">
                <a:srgbClr val="ffff00"/>
              </a:gs>
              <a:gs pos="100000">
                <a:srgbClr val="5ee6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FOCO desde 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Empowerment + Re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Aplicación de técnicas + innov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Jugadores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Wingdings 3"/>
                <a:ea typeface="Wingdings 3"/>
              </a:rPr>
              <a:t>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en valor para clientes + accion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Wingdings 3"/>
                <a:ea typeface="Wingdings 3"/>
              </a:rPr>
              <a:t>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Calidad dictada por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Wingdings 3"/>
                <a:ea typeface="Wingdings 3"/>
              </a:rPr>
              <a:t>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Liderar con coraje, pasión y comunicación en toda la cad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Wingdings 3"/>
                <a:ea typeface="Wingdings 3"/>
              </a:rPr>
              <a:t>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Crecimiento sostenible es aumento constante de satisfacción+ gente+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00"/>
                </a:solidFill>
                <a:latin typeface="Wingdings 3"/>
                <a:ea typeface="Wingdings 3"/>
              </a:rPr>
              <a:t>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Verdana"/>
              </a:rPr>
              <a:t>Pensamiento estraté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3429000"/>
            <a:ext cx="2590560" cy="2971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80"/>
                </a:solidFill>
                <a:latin typeface="Times New Roman"/>
              </a:rPr>
              <a:t>C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523880"/>
            <a:ext cx="2133360" cy="190512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Q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8000" spc="-1" strike="noStrike">
                <a:solidFill>
                  <a:srgbClr val="ffff00"/>
                </a:solidFill>
                <a:latin typeface="Akbar"/>
              </a:rPr>
              <a:t>Gracias</a:t>
            </a:r>
            <a:r>
              <a:rPr b="1" i="1" lang="es-ES_tradnl" sz="80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57150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innocenti@infovia.com.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886200" y="3124080"/>
            <a:ext cx="1574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volución de la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ree"/>
          <p:cNvSpPr/>
          <p:nvPr/>
        </p:nvSpPr>
        <p:spPr>
          <a:xfrm>
            <a:off x="2438280" y="2666880"/>
            <a:ext cx="4191120" cy="3810240"/>
          </a:xfr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5334120"/>
            <a:ext cx="39625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191120"/>
            <a:ext cx="259092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empo + espa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124080"/>
            <a:ext cx="274320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tributos log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523880"/>
            <a:ext cx="3353040" cy="1143000"/>
          </a:xfrm>
          <a:prstGeom prst="ellipse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Concepto holí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Mejor calidad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De reducción de productos defectuo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 rot="5361000">
            <a:off x="3984480" y="2873880"/>
            <a:ext cx="1175040" cy="1301760"/>
          </a:xfrm>
          <a:custGeom>
            <a:avLst/>
            <a:gdLst>
              <a:gd name="textAreaLeft" fmla="*/ 183600 w 1175040"/>
              <a:gd name="textAreaRight" fmla="*/ 1028160 w 1175040"/>
              <a:gd name="textAreaTop" fmla="*/ 325440 h 1301760"/>
              <a:gd name="textAreaBottom" fmla="*/ 976320 h 130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3366"/>
              </a:gs>
              <a:gs pos="50000">
                <a:srgbClr val="e2c7d4"/>
              </a:gs>
              <a:gs pos="100000">
                <a:srgbClr val="99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4600" y="4419720"/>
            <a:ext cx="8433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Aumento en valor y en productos buen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0066"/>
                </a:solidFill>
                <a:latin typeface="Times New Roman"/>
              </a:rPr>
              <a:t>para el cliente en el mercado </a:t>
            </a:r>
            <a:r>
              <a:rPr b="1" i="1" lang="es-ES_tradnl" sz="3600" spc="-1" strike="noStrike">
                <a:solidFill>
                  <a:srgbClr val="ff0066"/>
                </a:solidFill>
                <a:latin typeface="Times New Roman"/>
              </a:rPr>
              <a:t>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209680" y="2286000"/>
            <a:ext cx="4267440" cy="3809880"/>
            <a:chOff x="2209680" y="2286000"/>
            <a:chExt cx="4267440" cy="3809880"/>
          </a:xfrm>
        </p:grpSpPr>
        <p:sp>
          <p:nvSpPr>
            <p:cNvPr id="72" name="Tree"/>
            <p:cNvSpPr/>
            <p:nvPr/>
          </p:nvSpPr>
          <p:spPr>
            <a:xfrm>
              <a:off x="2209680" y="2286000"/>
              <a:ext cx="4191120" cy="3809880"/>
            </a:xfr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14600" y="4952880"/>
              <a:ext cx="3962520" cy="4748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s-ES_tradnl" sz="2500" spc="-1" strike="noStrike">
                  <a:solidFill>
                    <a:srgbClr val="ffffff"/>
                  </a:solidFill>
                  <a:latin typeface="Times New Roman"/>
                </a:rPr>
                <a:t>activida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3809880"/>
              <a:ext cx="3276720" cy="4748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500" spc="-1" strike="noStrike">
                  <a:solidFill>
                    <a:srgbClr val="ffffff"/>
                  </a:solidFill>
                  <a:latin typeface="Times New Roman"/>
                </a:rPr>
                <a:t>ingeniería de calida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2742840"/>
              <a:ext cx="3047760" cy="47484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500" spc="-1" strike="noStrike">
                  <a:solidFill>
                    <a:srgbClr val="ffffff"/>
                  </a:solidFill>
                  <a:latin typeface="Times New Roman"/>
                </a:rPr>
                <a:t>gestión de la calida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 txBox="1"/>
          <p:nvPr/>
        </p:nvSpPr>
        <p:spPr>
          <a:xfrm>
            <a:off x="1823760" y="776520"/>
            <a:ext cx="5496480" cy="8082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</a:rPr>
              <a:t>dimensión estratég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Times New Roman"/>
              </a:rPr>
              <a:t>TQ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228680"/>
            <a:ext cx="7162920" cy="4400640"/>
          </a:xfrm>
          <a:prstGeom prst="flowChartPunchedTape">
            <a:avLst/>
          </a:prstGeom>
          <a:gradFill rotWithShape="0">
            <a:gsLst>
              <a:gs pos="0">
                <a:srgbClr val="ff99cc"/>
              </a:gs>
              <a:gs pos="100000">
                <a:srgbClr val="feb9d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Orientación a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Trabajo en equi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Aplicación de técn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0000"/>
                </a:solidFill>
                <a:latin typeface="Times New Roman"/>
              </a:rPr>
              <a:t>Planeamiento estratég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657600" y="685800"/>
            <a:ext cx="2590920" cy="838080"/>
          </a:xfrm>
          <a:prstGeom prst="ellipse">
            <a:avLst/>
          </a:prstGeom>
          <a:gradFill rotWithShape="0">
            <a:gsLst>
              <a:gs pos="0">
                <a:srgbClr val="907300"/>
              </a:gs>
              <a:gs pos="50000">
                <a:srgbClr val="ffcc00"/>
              </a:gs>
              <a:gs pos="100000">
                <a:srgbClr val="907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209680"/>
            <a:ext cx="2514600" cy="1219320"/>
          </a:xfrm>
          <a:prstGeom prst="ellipse">
            <a:avLst/>
          </a:prstGeom>
          <a:gradFill rotWithShape="0">
            <a:gsLst>
              <a:gs pos="0">
                <a:srgbClr val="907300"/>
              </a:gs>
              <a:gs pos="50000">
                <a:srgbClr val="ffcc00"/>
              </a:gs>
              <a:gs pos="100000">
                <a:srgbClr val="907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267080"/>
            <a:ext cx="2590920" cy="1371600"/>
          </a:xfrm>
          <a:prstGeom prst="ellipse">
            <a:avLst/>
          </a:prstGeom>
          <a:gradFill rotWithShape="0">
            <a:gsLst>
              <a:gs pos="0">
                <a:srgbClr val="ab8900"/>
              </a:gs>
              <a:gs pos="50000">
                <a:srgbClr val="ffcc00"/>
              </a:gs>
              <a:gs pos="100000">
                <a:srgbClr val="ab8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orta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76520"/>
            <a:ext cx="2590920" cy="1371600"/>
          </a:xfrm>
          <a:prstGeom prst="ellipse">
            <a:avLst/>
          </a:prstGeom>
          <a:gradFill rotWithShape="0">
            <a:gsLst>
              <a:gs pos="0">
                <a:srgbClr val="d5aa00"/>
              </a:gs>
              <a:gs pos="50000">
                <a:srgbClr val="ffcc00"/>
              </a:gs>
              <a:gs pos="100000">
                <a:srgbClr val="d5a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flexión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572000"/>
            <a:ext cx="2590920" cy="1371600"/>
          </a:xfrm>
          <a:prstGeom prst="ellipse">
            <a:avLst/>
          </a:prstGeom>
          <a:gradFill rotWithShape="0">
            <a:gsLst>
              <a:gs pos="0">
                <a:srgbClr val="ab8900"/>
              </a:gs>
              <a:gs pos="50000">
                <a:srgbClr val="ffcc00"/>
              </a:gs>
              <a:gs pos="100000">
                <a:srgbClr val="ab8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ná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per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rot="72000">
            <a:off x="1889280" y="1039320"/>
            <a:ext cx="2740680" cy="2132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20" y="243"/>
                </a:moveTo>
                <a:arcTo wR="10800" hR="10800" stAng="-6131184" swAng="5170588"/>
                <a:lnTo>
                  <a:pt x="10800" y="10800"/>
                </a:lnTo>
                <a:close/>
              </a:path>
              <a:path fill="none" w="21600" h="21600">
                <a:moveTo>
                  <a:pt x="8520" y="243"/>
                </a:moveTo>
                <a:arcTo wR="10800" hR="10800" stAng="-6131184" swAng="5170588"/>
              </a:path>
            </a:pathLst>
          </a:custGeom>
          <a:noFill/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 rot="1381800">
            <a:off x="120240" y="2273760"/>
            <a:ext cx="3504600" cy="3252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43" y="176"/>
                </a:moveTo>
                <a:arcTo wR="10800" hR="10800" stAng="-4778209" swAng="6129238"/>
                <a:lnTo>
                  <a:pt x="10800" y="10800"/>
                </a:lnTo>
                <a:close/>
              </a:path>
              <a:path fill="none" w="21600" h="21600">
                <a:moveTo>
                  <a:pt x="12743" y="176"/>
                </a:moveTo>
                <a:arcTo wR="10800" hR="10800" stAng="-4778209" swAng="6129238"/>
              </a:path>
            </a:pathLst>
          </a:custGeom>
          <a:noFill/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rot="9594600">
            <a:off x="5805720" y="2220840"/>
            <a:ext cx="228528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rot="5910600">
            <a:off x="4952880" y="648000"/>
            <a:ext cx="22852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3704600">
            <a:off x="2959200" y="3440160"/>
            <a:ext cx="2894400" cy="2896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25" y="64"/>
                </a:moveTo>
                <a:arcTo wR="10800" hR="10800" stAng="-5774823" swAng="6960970"/>
                <a:lnTo>
                  <a:pt x="10800" y="10800"/>
                </a:lnTo>
                <a:close/>
              </a:path>
              <a:path fill="none" w="21600" h="21600">
                <a:moveTo>
                  <a:pt x="9625" y="64"/>
                </a:moveTo>
                <a:arcTo wR="10800" hR="10800" stAng="-5774823" swAng="6960970"/>
              </a:path>
            </a:pathLst>
          </a:custGeom>
          <a:noFill/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48280" y="3048120"/>
            <a:ext cx="16754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3080" y="2744640"/>
            <a:ext cx="4803120" cy="41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27" y="10"/>
                </a:moveTo>
                <a:arcTo wR="10800" hR="10800" stAng="-5550697" swAng="4883517"/>
                <a:lnTo>
                  <a:pt x="10800" y="10800"/>
                </a:lnTo>
                <a:close/>
              </a:path>
              <a:path fill="none" w="21600" h="21600">
                <a:moveTo>
                  <a:pt x="10327" y="10"/>
                </a:moveTo>
                <a:arcTo wR="10800" hR="10800" stAng="-5550697" swAng="4883517"/>
              </a:path>
            </a:pathLst>
          </a:custGeom>
          <a:noFill/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87680" y="1447560"/>
            <a:ext cx="1339560" cy="4573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71" y="287"/>
                </a:moveTo>
                <a:arcTo wR="10800" hR="10800" stAng="-4606284" swAng="5431874"/>
                <a:lnTo>
                  <a:pt x="10800" y="10800"/>
                </a:lnTo>
                <a:close/>
              </a:path>
              <a:path fill="none" w="21600" h="21600">
                <a:moveTo>
                  <a:pt x="13271" y="287"/>
                </a:moveTo>
                <a:arcTo wR="10800" hR="10800" stAng="-4606284" swAng="5431874"/>
              </a:path>
            </a:pathLst>
          </a:custGeom>
          <a:noFill/>
          <a:ln w="572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3429000"/>
            <a:ext cx="2930760" cy="2666880"/>
          </a:xfrm>
          <a:custGeom>
            <a:avLst/>
            <a:gdLst>
              <a:gd name="textAreaLeft" fmla="*/ 0 w 2930760"/>
              <a:gd name="textAreaRight" fmla="*/ 2931120 w 2930760"/>
              <a:gd name="textAreaTop" fmla="*/ 0 h 2666880"/>
              <a:gd name="textAreaBottom" fmla="*/ 2666880 h 2666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c7779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4a94"/>
                </a:solidFill>
                <a:latin typeface="Verdana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419720"/>
            <a:ext cx="2057400" cy="1600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Valor pa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1600200"/>
            <a:ext cx="2057400" cy="152388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972"/>
                </a:solidFill>
                <a:latin typeface="Verdana"/>
              </a:rPr>
              <a:t>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4343400"/>
            <a:ext cx="2057400" cy="167652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Mod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483760" y="624204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347"/>
            </a:gs>
            <a:gs pos="50000">
              <a:srgbClr val="004a94"/>
            </a:gs>
            <a:gs pos="100000">
              <a:srgbClr val="0023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42720" y="27432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Cambio en el valor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Clientes + exigentes / + calidad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Compradores : entregas a tiemp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                         </a:t>
            </a:r>
            <a:r>
              <a:rPr b="0" lang="es-ES_tradnl" sz="3200" spc="-1" strike="noStrike">
                <a:solidFill>
                  <a:srgbClr val="ffcc00"/>
                </a:solidFill>
                <a:latin typeface="Verdana"/>
              </a:rPr>
              <a:t>menor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440" y="380520"/>
            <a:ext cx="2134080" cy="148032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Valor para </a:t>
            </a:r>
            <a:br>
              <a:rPr sz="2400"/>
            </a:br>
            <a:r>
              <a:rPr b="1" lang="es-ES_tradnl" sz="2400" spc="-1" strike="noStrike">
                <a:solidFill>
                  <a:srgbClr val="004a94"/>
                </a:solidFill>
                <a:latin typeface="Verdana"/>
              </a:rPr>
              <a:t>e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178840" y="6019920"/>
            <a:ext cx="66024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0:57:17Z</dcterms:created>
  <dc:creator>Roberto Innocenti</dc:creator>
  <dc:description/>
  <dc:language>en-US</dc:language>
  <cp:lastModifiedBy>pagina</cp:lastModifiedBy>
  <dcterms:modified xsi:type="dcterms:W3CDTF">2003-11-13T14:25:36Z</dcterms:modified>
  <cp:revision>48</cp:revision>
  <dc:subject/>
  <dc:title>TQM al SQM  Gestión Estratégica de la Calidad  en la  Economía Global </dc:title>
</cp:coreProperties>
</file>