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6F6-DA59-4DEC-8C9B-0F898481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ABC-5BB3-4982-9273-59E2AD03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029-C418-43B2-BC95-8601EB05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372-2C82-4D5E-B079-170F2FF6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3353-097B-48C2-911B-4EF7A7C1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096F-6A34-4795-8585-672B3C65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F79-AC56-44F9-ABF0-9C251214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C29B-9317-45DB-A8EC-65D69CA4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59CC-58C0-41CA-938F-AF972AB2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0CE4-1D35-47DE-BAB1-76CDE063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7D0C-8273-4BFC-ABAF-C32DF143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94C-F8B2-4CFB-9905-D172DBC5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2EA5-9D3D-4F14-A499-8EC07A1F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4C71-3927-4C3F-9B5D-CD7148FE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F2FB-EEF9-4BC5-AB77-279CF4F3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79B9-3AAC-4A19-A121-DDD5E563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DB14-19C9-434F-8CC8-30675449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FE9-1999-43B1-8CB9-7B4E9185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C97-4108-4B58-8F6C-8356648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10A-7DF9-4EDF-9DD4-6BCDC2FC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BCA-2DEA-4891-95D6-09AC6135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445-BE6F-4273-84B0-018A741F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9E2-52DF-4C2D-BE31-2CC499A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667-A9A2-4399-8FD4-5AA9E198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18FE-5EBF-40FB-AC4E-F4D6544C4C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0348-DEE7-4311-8EE3-709BDF5E95C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ceci%20lilo%20and%20stich3" descr=""/>
          <p:cNvPicPr/>
          <p:nvPr/>
        </p:nvPicPr>
        <p:blipFill>
          <a:blip r:embed="rId1"/>
          <a:stretch/>
        </p:blipFill>
        <p:spPr>
          <a:xfrm>
            <a:off x="5599080" y="0"/>
            <a:ext cx="35449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7440" y="1143000"/>
            <a:ext cx="4143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EL UNICO CUE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DE HADAS MOD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EMPIEZA AS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ERASE UNA VEZ 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MUNDO FELIZ D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LOS GURUS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MANAG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SOLUCIONABAN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PROBLEMAS DE 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 Black"/>
              </a:rPr>
              <a:t>EMPRESA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152280"/>
            <a:ext cx="2210040" cy="8384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71800" y="1523880"/>
            <a:ext cx="335268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58720" y="1685880"/>
            <a:ext cx="28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ARQUITECTO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28600"/>
            <a:ext cx="236232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28600"/>
            <a:ext cx="236196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45720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95440" y="457200"/>
            <a:ext cx="200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INFORM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ETI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5410080"/>
            <a:ext cx="3581280" cy="7621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 Black"/>
              </a:rPr>
              <a:t>VA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2362320" cy="1143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657600"/>
            <a:ext cx="2362320" cy="1143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447920"/>
            <a:ext cx="838080" cy="914400"/>
          </a:xfrm>
          <a:custGeom>
            <a:avLst/>
            <a:gdLst>
              <a:gd name="textAreaLeft" fmla="*/ 240480 w 838080"/>
              <a:gd name="textAreaRight" fmla="*/ 717840 w 83808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2018880" y="1485720"/>
            <a:ext cx="838440" cy="914400"/>
          </a:xfrm>
          <a:custGeom>
            <a:avLst/>
            <a:gdLst>
              <a:gd name="textAreaLeft" fmla="*/ 240480 w 838440"/>
              <a:gd name="textAreaRight" fmla="*/ 718200 w 8384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3580920" y="3886200"/>
            <a:ext cx="2210040" cy="129528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75280" y="40226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67360" y="40147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ORGANIZ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7908000">
            <a:off x="2514240" y="289512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2508000">
            <a:off x="5943240" y="289548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Arial Black"/>
              </a:rPr>
              <a:t>ARQUITECTURA ESTRATEG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2174400"/>
            <a:ext cx="77724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 Black"/>
              </a:rPr>
              <a:t>CREA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 Black"/>
              </a:rPr>
              <a:t>EMERG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 Black"/>
              </a:rPr>
              <a:t>MODULAR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 Black"/>
              </a:rPr>
              <a:t>INCREMENT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83680" y="5165640"/>
            <a:ext cx="5787360" cy="1312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 Black"/>
              </a:rPr>
              <a:t>DESCUBRIR, ENTEN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 Black"/>
              </a:rPr>
              <a:t>TOMAR POSIC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Arial Black"/>
              </a:rPr>
              <a:t>ARQUITECTURA ORGANIZACION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2174400"/>
            <a:ext cx="77724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 Black"/>
              </a:rPr>
              <a:t>ORGANI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 Black"/>
              </a:rPr>
              <a:t>INNOV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 Black"/>
              </a:rPr>
              <a:t>CONFIA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 Black"/>
              </a:rPr>
              <a:t>COMPET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94360" y="5165640"/>
            <a:ext cx="5162760" cy="1312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 Black"/>
              </a:rPr>
              <a:t>MISTICA, PERSONA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 Black"/>
              </a:rPr>
              <a:t>APRENDIZA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908000" y="181080"/>
            <a:ext cx="50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EL LIDERAZGO DE 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TRANSFORMAC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02600" y="1752480"/>
            <a:ext cx="623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FUNCION DIRECTIVA 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ESESTABILIZAR LA RU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34280" y="3276720"/>
            <a:ext cx="818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LIDER DEBE EDIFICAR CONFIANZ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Y COMBATIR EL PESIM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15200" y="487692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EBE SER PROTECTOR DE IDEAS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EADOR DE PRINCIPIOS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PROMOTOR DEL ENTUSIA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BD05552_" descr=""/>
          <p:cNvPicPr/>
          <p:nvPr/>
        </p:nvPicPr>
        <p:blipFill>
          <a:blip r:embed="rId1"/>
          <a:stretch/>
        </p:blipFill>
        <p:spPr>
          <a:xfrm>
            <a:off x="7135920" y="685800"/>
            <a:ext cx="18558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71600" y="14479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rear una Visió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337120" y="380880"/>
            <a:ext cx="537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el UNICO sentido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 Black"/>
              </a:rPr>
              <a:t>la función del conduc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59480" y="592596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Arial Black"/>
              </a:rPr>
              <a:t>... Y darle signific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24560" y="452520"/>
            <a:ext cx="6296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33"/>
                </a:solidFill>
                <a:latin typeface="Arial Black"/>
              </a:rPr>
              <a:t>NO PIERDA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33"/>
                </a:solidFill>
                <a:latin typeface="Arial Black"/>
              </a:rPr>
              <a:t>TIEMPO EN MANTEN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33"/>
                </a:solidFill>
                <a:latin typeface="Arial Black"/>
              </a:rPr>
              <a:t>LO QUE ESTA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33"/>
                </a:solidFill>
                <a:latin typeface="Arial Black"/>
              </a:rPr>
              <a:t>SINO EN CRE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33"/>
                </a:solidFill>
                <a:latin typeface="Arial Black"/>
              </a:rPr>
              <a:t>LO QUE NO ES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BD06670_" descr=""/>
          <p:cNvPicPr/>
          <p:nvPr/>
        </p:nvPicPr>
        <p:blipFill>
          <a:blip r:embed="rId1"/>
          <a:stretch/>
        </p:blipFill>
        <p:spPr>
          <a:xfrm>
            <a:off x="2743200" y="4281480"/>
            <a:ext cx="42670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0880" y="1600200"/>
            <a:ext cx="8667720" cy="21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Arial"/>
              </a:rPr>
              <a:t>Imaginar lo que uno puede hacer que suceda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BD04924_" descr=""/>
          <p:cNvPicPr/>
          <p:nvPr/>
        </p:nvPicPr>
        <p:blipFill>
          <a:blip r:embed="rId1"/>
          <a:stretch/>
        </p:blipFill>
        <p:spPr>
          <a:xfrm>
            <a:off x="3708360" y="3657600"/>
            <a:ext cx="20178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03960" y="2209680"/>
            <a:ext cx="528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Para encontrar al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Príncipe Azul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primero hay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que </a:t>
            </a:r>
            <a:r>
              <a:rPr b="0" lang="es-MX" sz="4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esar</a:t>
            </a:r>
            <a:r>
              <a:rPr b="0" lang="es-MX" sz="4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muchos sap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AN02542_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581280" cy="3462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18240" y="304920"/>
            <a:ext cx="463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 Black"/>
              </a:rPr>
              <a:t>Se van a equivoc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 Black"/>
              </a:rPr>
              <a:t>muchas ve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601280" y="228600"/>
            <a:ext cx="446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cc00"/>
                </a:solidFill>
                <a:latin typeface="Arial Black"/>
              </a:rPr>
              <a:t>Todo lo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cc00"/>
                </a:solidFill>
                <a:latin typeface="Arial Black"/>
              </a:rPr>
              <a:t>que digo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cc00"/>
                </a:solidFill>
                <a:latin typeface="Arial Black"/>
              </a:rPr>
              <a:t>puede esta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cc00"/>
                </a:solidFill>
                <a:latin typeface="Arial Black"/>
              </a:rPr>
              <a:t>equivocad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SHAW11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chunny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7238880" cy="4183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35400" y="3473280"/>
            <a:ext cx="304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MUCHAS</a:t>
            </a:r>
            <a:r>
              <a:rPr b="0" lang="es-MX" sz="4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GRACIAS</a:t>
            </a:r>
            <a:r>
              <a:rPr b="0" lang="es-MX" sz="4800" spc="-1" strike="noStrike">
                <a:solidFill>
                  <a:srgbClr val="ffcc00"/>
                </a:solidFill>
                <a:latin typeface="Arial Black"/>
              </a:rPr>
              <a:t>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8000" y="6019920"/>
            <a:ext cx="5115600" cy="734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Arial"/>
              </a:rPr>
              <a:t>Me gustaría seguir compartiendo idea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fernando.grosso@vaneduc.edu.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marilyn_monroe1_8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63240" y="2316240"/>
            <a:ext cx="437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33"/>
                </a:solidFill>
                <a:latin typeface="Arial Black"/>
              </a:rPr>
              <a:t>“</a:t>
            </a:r>
            <a:r>
              <a:rPr b="0" lang="es-MX" sz="4400" spc="-1" strike="noStrike">
                <a:solidFill>
                  <a:srgbClr val="ff9933"/>
                </a:solidFill>
                <a:latin typeface="Arial Black"/>
              </a:rPr>
              <a:t>El Liderazg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33"/>
                </a:solidFill>
                <a:latin typeface="Arial Black"/>
              </a:rPr>
              <a:t>como eje de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9933"/>
                </a:solidFill>
                <a:latin typeface="Arial Black"/>
              </a:rPr>
              <a:t>Competitividad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90160" y="685800"/>
            <a:ext cx="50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ffff"/>
                </a:solidFill>
                <a:uFillTx/>
                <a:latin typeface="Monotype Corsiva"/>
              </a:rPr>
              <a:t>Hoy presentam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70720" y="4740120"/>
            <a:ext cx="429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Sobre el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y el liderazgo arquitectó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44080" y="6553080"/>
            <a:ext cx="25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ffff"/>
                </a:solidFill>
                <a:latin typeface="Arial"/>
              </a:rPr>
              <a:t>© Fernando Grosso -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LA REALIDAD DE LA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EMPRESAS CONTEMPORANE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676520"/>
            <a:ext cx="77724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Black"/>
              </a:rPr>
              <a:t>El fracaso de las m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Black"/>
              </a:rPr>
              <a:t>El fracaso de los paradigmas de gestión de los últimos 20 a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Black"/>
              </a:rPr>
              <a:t>El fracaso del instrumentalism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Black"/>
              </a:rPr>
              <a:t>El fracaso de los gerentes “ultraprofesional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7800" y="4997520"/>
            <a:ext cx="446760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 Black"/>
              </a:rPr>
              <a:t>Los resultad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 Black"/>
              </a:rPr>
              <a:t>no acompañ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 Black"/>
              </a:rPr>
              <a:t>LOS DESAFIOS DE LA</a:t>
            </a:r>
            <a:br>
              <a:rPr sz="4400"/>
            </a:br>
            <a:r>
              <a:rPr b="0" lang="es-MX" sz="6600" spc="-1" strike="noStrike">
                <a:solidFill>
                  <a:srgbClr val="00ffff"/>
                </a:solidFill>
                <a:latin typeface="Arial Black"/>
              </a:rPr>
              <a:t>COMPLEJIDAD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Hay un gran vacío de modelos referencia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Hay que acostumbrarse a la incertidumbre y especular sobre ell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Hay que comprender sucesos y tendencias de un alto grado de abstrac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61400" y="165240"/>
            <a:ext cx="65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s-MX" sz="36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s-ES" sz="3600" spc="-1" strike="noStrike">
                <a:solidFill>
                  <a:srgbClr val="ff0000"/>
                </a:solidFill>
                <a:latin typeface="Arial Black"/>
              </a:rPr>
              <a:t>omper</a:t>
            </a:r>
            <a:r>
              <a:rPr b="0" lang="es-MX" sz="3600" spc="-1" strike="noStrike">
                <a:solidFill>
                  <a:srgbClr val="ff0000"/>
                </a:solidFill>
                <a:latin typeface="Arial Black"/>
              </a:rPr>
              <a:t> el </a:t>
            </a:r>
            <a:r>
              <a:rPr b="0" lang="es-ES" sz="3600" spc="-1" strike="noStrike">
                <a:solidFill>
                  <a:srgbClr val="ff0000"/>
                </a:solidFill>
                <a:latin typeface="Arial Black"/>
              </a:rPr>
              <a:t>paradigma de</a:t>
            </a:r>
            <a:r>
              <a:rPr b="0" lang="es-MX" sz="3600" spc="-1" strike="noStrike">
                <a:solidFill>
                  <a:srgbClr val="ff0000"/>
                </a:solidFill>
                <a:latin typeface="Arial Black"/>
              </a:rPr>
              <a:t> l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s-MX" sz="3600" spc="-1" strike="noStrike">
                <a:solidFill>
                  <a:srgbClr val="ff0000"/>
                </a:solidFill>
                <a:latin typeface="Arial Black"/>
              </a:rPr>
              <a:t>teorías dominantes”, nuest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Arial Black"/>
              </a:rPr>
              <a:t>Universo es cada vez más 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14400" y="2286000"/>
            <a:ext cx="72388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ultivers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or5cc" descr=""/>
          <p:cNvPicPr/>
          <p:nvPr/>
        </p:nvPicPr>
        <p:blipFill>
          <a:blip r:embed="rId2"/>
          <a:stretch/>
        </p:blipFill>
        <p:spPr>
          <a:xfrm>
            <a:off x="6095880" y="1371600"/>
            <a:ext cx="2819520" cy="5105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51640" y="304920"/>
            <a:ext cx="59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Arial Black"/>
              </a:rPr>
              <a:t>REENFOQUE ESTRATEG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26480" y="1752480"/>
            <a:ext cx="402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CAMBIAR EL FOCO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PLANEAMIENTO,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PROGRAMACION Y 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CONTROL A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CAPACIDAD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INTERPRETAC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LA INNOVACION,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COMPETENCIA Y 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 Black"/>
              </a:rPr>
              <a:t>ORGANIC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8720" y="380880"/>
            <a:ext cx="517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¿POR QUÉ PERDURAN 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ORGANIZACIO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80200" y="1752480"/>
            <a:ext cx="6212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0" spc="-1" strike="noStrike">
                <a:solidFill>
                  <a:srgbClr val="66ff99"/>
                </a:solidFill>
                <a:latin typeface="Impact"/>
              </a:rPr>
              <a:t>CREAR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0" spc="-1" strike="noStrike">
                <a:solidFill>
                  <a:srgbClr val="66ff99"/>
                </a:solidFill>
                <a:latin typeface="Impact"/>
              </a:rPr>
              <a:t>VALOR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76200" y="76320"/>
            <a:ext cx="573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Black"/>
              </a:rPr>
              <a:t>CREACION DE VA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 Black"/>
              </a:rPr>
              <a:t>Y COMPETITIV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03760" y="1503360"/>
            <a:ext cx="5866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cc"/>
                </a:solidFill>
                <a:latin typeface="Arial"/>
              </a:rPr>
              <a:t>Diferenciación por e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0000"/>
                </a:solidFill>
                <a:latin typeface="Arial"/>
              </a:rPr>
              <a:t>SERVIC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cc"/>
                </a:solidFill>
                <a:latin typeface="Arial"/>
              </a:rPr>
              <a:t>y la capacidad d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0000"/>
                </a:solidFill>
                <a:latin typeface="Arial"/>
              </a:rPr>
              <a:t>INNOVAC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BD04972_" descr=""/>
          <p:cNvPicPr/>
          <p:nvPr/>
        </p:nvPicPr>
        <p:blipFill>
          <a:blip r:embed="rId1"/>
          <a:stretch/>
        </p:blipFill>
        <p:spPr>
          <a:xfrm>
            <a:off x="2590920" y="4419720"/>
            <a:ext cx="4952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70640" y="152280"/>
            <a:ext cx="623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LLEGAR A DONDE OTROS HAN LLE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ES NECESARIO PARA SEGUIR EN EL JUEG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PERO LOS GANADORES SERAN LOS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TENGAN LA HABILIDAD DE INVENT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NUEVOS JUEG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s-MX" sz="2400" spc="-1" strike="noStrike">
                <a:solidFill>
                  <a:srgbClr val="ff0000"/>
                </a:solidFill>
                <a:latin typeface="Arial Black"/>
              </a:rPr>
              <a:t>Gary Ham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02:26:38Z</dcterms:created>
  <dc:creator>a</dc:creator>
  <dc:description/>
  <dc:language>en-US</dc:language>
  <cp:lastModifiedBy>pagina</cp:lastModifiedBy>
  <dcterms:modified xsi:type="dcterms:W3CDTF">2003-11-13T14:29:39Z</dcterms:modified>
  <cp:revision>9</cp:revision>
  <dc:subject/>
  <dc:title>Presentación de PowerPoint</dc:title>
</cp:coreProperties>
</file>