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68E-D4F4-432A-8195-A6EE36D2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0FF-F2B0-433B-BB06-798C487E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701-A712-4879-8FE7-134BDD6A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C41-EA89-4247-9BB5-5059D6FD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3B2-08BA-4C53-8C65-CED4427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971-C321-4558-B9C6-157095A1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38F-AE27-47D6-B482-35DF919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CEA-391A-4604-AA49-6462520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6C1-C527-485B-BF4C-EFDA77B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AC2-AF79-47D5-9178-3866E5A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8D7-49E3-44E5-BDCF-6E16C54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9AB-3780-48A7-8A6D-4ED6E42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640C-2EC0-4E19-855B-586167BA7A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I° SIMPOSIO NACIONAL de ESTRATEGI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ejo Profesional de Ciencias Económicas y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iedad Latinoamericana de Estrategia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rategias en Salu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FIOS y PERSPECTIVAS FUTURAS del SISTEMA de SALUD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r. Eduardo Filgueira Lima</a:t>
            </a: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uenos Aires,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viembre d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EQUIDAD en los RESULT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(IIP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17524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2286000"/>
            <a:ext cx="4038480" cy="1371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548640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 %&lt; IN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486400"/>
            <a:ext cx="9907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%&gt; IN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90920" y="2438280"/>
            <a:ext cx="4038480" cy="1371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 “en general los gobiernos han estado ocupados en enfrentar realidades muy complejas, ...salud no ha ocupado un lugar de importancia en la agenda, ...y sólo se han enfrentado los problemas coyunturalmente y a medida que se presentaban”, ..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informe OPS sobre la salud en las América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os prob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ifica que el tema se ha convertido en una preocupación principal del equipo de gestión,....en la búsqueda de un nuevo modelo,...dentro de un marco temporal, que puede abarcar entre 1 y 20 años”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os posi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upone que los mismos son incontables,....incumben a la futurología,....o a la ciencia ficción,....o a los buenos deseos,....y pueden abarcar tiempos que van mucho más allá de nuestras realidades,”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sar d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nsamiento posibilís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nsamiento probabilís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upone la formulación de escenarios como instrumentos útiles de reflexión sobre las consecuencias má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a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pueden tener mañana las decisiones que tomemos hoy,...lo que también define el alto grado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ertidumbr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er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esar sobre el decisor de hoy”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 “si no moldeamos conscientemente nuestro futuro alguien lo hará en nuestro lugar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omplejidad del problema requiere de nuevas aptitudes, capacitación de los gestores y de los niveles políticos, ...y una mentalidad innovativa que permita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ar el futu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990720"/>
            <a:ext cx="2743200" cy="1752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2666880"/>
            <a:ext cx="289584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191120"/>
            <a:ext cx="3200400" cy="1904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743200"/>
            <a:ext cx="2819520" cy="19051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ONTEC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971800"/>
            <a:ext cx="1752480" cy="10666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561" y="6500"/>
                </a:lnTo>
                <a:lnTo>
                  <a:pt x="5561" y="9098"/>
                </a:lnTo>
                <a:lnTo>
                  <a:pt x="9098" y="9098"/>
                </a:lnTo>
                <a:lnTo>
                  <a:pt x="9098" y="5561"/>
                </a:lnTo>
                <a:lnTo>
                  <a:pt x="6500" y="5561"/>
                </a:lnTo>
                <a:lnTo>
                  <a:pt x="10800" y="0"/>
                </a:lnTo>
                <a:lnTo>
                  <a:pt x="15100" y="5561"/>
                </a:lnTo>
                <a:lnTo>
                  <a:pt x="12502" y="5561"/>
                </a:lnTo>
                <a:lnTo>
                  <a:pt x="12502" y="9098"/>
                </a:lnTo>
                <a:lnTo>
                  <a:pt x="16039" y="9098"/>
                </a:lnTo>
                <a:lnTo>
                  <a:pt x="16039" y="6500"/>
                </a:lnTo>
                <a:lnTo>
                  <a:pt x="21600" y="10800"/>
                </a:lnTo>
                <a:lnTo>
                  <a:pt x="16039" y="15100"/>
                </a:lnTo>
                <a:lnTo>
                  <a:pt x="16039" y="12502"/>
                </a:lnTo>
                <a:lnTo>
                  <a:pt x="12502" y="12502"/>
                </a:lnTo>
                <a:lnTo>
                  <a:pt x="12502" y="16039"/>
                </a:lnTo>
                <a:lnTo>
                  <a:pt x="15100" y="16039"/>
                </a:lnTo>
                <a:lnTo>
                  <a:pt x="10800" y="21600"/>
                </a:lnTo>
                <a:lnTo>
                  <a:pt x="6500" y="16039"/>
                </a:lnTo>
                <a:lnTo>
                  <a:pt x="9098" y="16039"/>
                </a:lnTo>
                <a:lnTo>
                  <a:pt x="9098" y="12502"/>
                </a:lnTo>
                <a:lnTo>
                  <a:pt x="5561" y="12502"/>
                </a:lnTo>
                <a:lnTo>
                  <a:pt x="5561" y="15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rían crearse 5 escenarios prob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- básic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- “pesimista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- “optimista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-  la búsqueda de un cambio hacia una sociedad má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justa, 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- una “visión” : aquello que queremos crear y qu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guiará la aplicación de nuestras estrategias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00ff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… “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 salud existen solo dos alternativas estratégicas: inclinarse por resolver cuestiones económicas o intentar lograr una sociedad más justa, ...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..hasta el momento casi todos los procesos de reforma han privilegiado la primera,...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..¿son la estrategia correcta?”.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 Health Futures International - Health Futures Network 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a SITUACIÓN del SISTEM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 SALU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 de l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TRATEGIAS de RE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UCHAS GRACIAS !!!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r. Eduardo Filgueira Lima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flima@arnet.com.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AGMENT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Sistema Públic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Niveles Nacional, Provincial y Municipa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( con grandes disparidades regionales )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Sistema de la Seguridad Socia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Obras Sociales Nacional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Obras Sociales Provincial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PAMI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- Obras Sociales de las FF.AA. y de Segurida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- Obras Sociales Privada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.- Obras Sociales de la Universida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.- PROFE, etc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( con grandes disparidades en la cobertura, acceso, et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ERTA de SERVICIO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44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breoferta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sobre oferta de profesionales ( en especi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especialistas )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Id. camas y tecnología de mediana y alt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complejidad</a:t>
            </a:r>
            <a:br>
              <a:rPr sz="2400"/>
            </a:br>
            <a:br>
              <a:rPr sz="24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torsión de la oferta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.- distorsión geográfic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b.- distorsión tecn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reciente exclus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 fuente : SSSalud )</a:t>
            </a:r>
            <a:br>
              <a:rPr sz="1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Población sin cobertura 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5    mil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O. S. Nacionales y de Dirección 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2    mil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PAMI 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3,3 mil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O.S. FF.AA. Y Universitar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1,5 mil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- O.S. Provinci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5,2 mill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- O.S. Pre - pag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2    mill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la población sin cobertura presenta enormes disparidades entre Provincias)</a:t>
            </a:r>
            <a:br>
              <a:rPr sz="18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 el 7 % solo tiene un seguro mínimo, ej.ambulancias )</a:t>
            </a:r>
            <a:br>
              <a:rPr sz="24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 del 3 al 4 % tiene doble cobertura )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STO EN SALUD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 Estimado año 2000, como % PBI )</a:t>
            </a:r>
            <a:br>
              <a:rPr sz="1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.- Gasto Público 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,9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.- Nación 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,28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.- Provinc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,40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.- Municip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,30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- Seguridad Soc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,92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.- Obras Sociales Nacion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,37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.- PAM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,81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.- Obras Sociales Provincia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,74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- Gasto Priva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,24</a:t>
            </a:r>
            <a:br>
              <a:rPr sz="20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 fuente : Ministerio de Economía )      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Total :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9,14 %</a:t>
            </a:r>
            <a:br>
              <a:rPr sz="36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quivalente a $ 24.000 mill/año o sea apxte. $ 650 /hb /año)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INEQUIDAD EN EL FINANCIAMIENTO</a:t>
            </a:r>
            <a:br>
              <a:rPr sz="2000"/>
            </a:b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VINCI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% Presupuest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sto / hab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.S.PROVINCI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IU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27.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278.2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98.13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BA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76.47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    651.6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T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37.3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2.33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B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1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65.7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    238.75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R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65.0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37.9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H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08.78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70.2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HU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55.8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4.9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RI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0.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18.4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70.54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25.8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33.47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JY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4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11.2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8.1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P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0.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97.87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30.43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RJ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8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219.8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0.41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Z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89.0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73.44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8.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72.5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33.32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QN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1.4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230.0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    102.0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RNE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9.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11.6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0.4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A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2.4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14.0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73.34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JU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1.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66.7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40.74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LU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3.0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76.3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.87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CZ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1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347.52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63.0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FE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7.8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65.3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               158.4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G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113.84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63.67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FU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0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303.15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20.04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UC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9.16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   74.67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57.96</a:t>
            </a:r>
            <a:br>
              <a:rPr sz="1400"/>
            </a:b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MEDI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1.1 %      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 107.58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:     2.154.29  Millones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INEQUIDAD EN LOS RESULTAD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TMI evolución 1990 - 2002 )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Tasa de Mortalidad Infantil en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/oo: diferencias entre Provinci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1036800"/>
            <a:ext cx="7983360" cy="4545360"/>
            <a:chOff x="533520" y="1036800"/>
            <a:chExt cx="7983360" cy="4545360"/>
          </a:xfrm>
        </p:grpSpPr>
        <p:sp>
          <p:nvSpPr>
            <p:cNvPr id="50" name=""/>
            <p:cNvSpPr/>
            <p:nvPr/>
          </p:nvSpPr>
          <p:spPr>
            <a:xfrm>
              <a:off x="1376280" y="1209600"/>
              <a:ext cx="7139160" cy="35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6280" y="432756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6280" y="388152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6280" y="343692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6280" y="299088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6280" y="2546280"/>
              <a:ext cx="71391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6280" y="210024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76280" y="1655640"/>
              <a:ext cx="71391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76280" y="1209600"/>
              <a:ext cx="71391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6280" y="1209600"/>
              <a:ext cx="7139160" cy="35481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90720" y="1582560"/>
              <a:ext cx="677880" cy="31752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560" y="1855800"/>
              <a:ext cx="677880" cy="2901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45240" y="2057400"/>
              <a:ext cx="677880" cy="27003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8600" y="3263760"/>
              <a:ext cx="677880" cy="1494000"/>
            </a:xfrm>
            <a:prstGeom prst="rect">
              <a:avLst/>
            </a:prstGeom>
            <a:solidFill>
              <a:srgbClr val="808000"/>
            </a:solidFill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51440" y="3781440"/>
              <a:ext cx="677880" cy="976320"/>
            </a:xfrm>
            <a:prstGeom prst="rect">
              <a:avLst/>
            </a:prstGeom>
            <a:solidFill>
              <a:srgbClr val="808000"/>
            </a:solidFill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23120" y="3924360"/>
              <a:ext cx="689040" cy="833400"/>
            </a:xfrm>
            <a:prstGeom prst="rect">
              <a:avLst/>
            </a:prstGeom>
            <a:solidFill>
              <a:srgbClr val="808000"/>
            </a:solidFill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6280" y="1209600"/>
              <a:ext cx="1800" cy="3548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06440" y="47577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06440" y="432756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06440" y="388152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06440" y="343692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06440" y="299088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6440" y="254628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06440" y="2100240"/>
              <a:ext cx="69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6440" y="165564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06440" y="1209600"/>
              <a:ext cx="698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76280" y="4757760"/>
              <a:ext cx="713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376280" y="4757760"/>
              <a:ext cx="1800" cy="85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760920" y="4757760"/>
              <a:ext cx="1440" cy="85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143760" y="4757760"/>
              <a:ext cx="1440" cy="85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515440" y="4757760"/>
              <a:ext cx="1440" cy="85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01680" y="30193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35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67360" y="3249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30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84520" y="31640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32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01040" y="437040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9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79560" y="4282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16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62400" y="42973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11,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9400" y="45990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39400" y="4154400"/>
              <a:ext cx="16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5480" y="370836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05480" y="326376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5480" y="283212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5480" y="237348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05480" y="192708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5480" y="148284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3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05480" y="1036800"/>
              <a:ext cx="32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7880" y="4987800"/>
              <a:ext cx="64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199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72160" y="4987800"/>
              <a:ext cx="64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199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55000" y="4987800"/>
              <a:ext cx="64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2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332280" y="2900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En º/ºº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30400" y="5346720"/>
              <a:ext cx="128880" cy="157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4840" y="5246640"/>
              <a:ext cx="1497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Mayor TM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54720" y="5346720"/>
              <a:ext cx="139680" cy="157320"/>
            </a:xfrm>
            <a:prstGeom prst="rect">
              <a:avLst/>
            </a:prstGeom>
            <a:solidFill>
              <a:srgbClr val="808000"/>
            </a:solidFill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12120" y="5246640"/>
              <a:ext cx="1517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ahoma"/>
                </a:rPr>
                <a:t>Menor TM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040" y="1371600"/>
            <a:ext cx="8305920" cy="4290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71200" y="129708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haco, Juju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89548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s. 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2960" y="35053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s. 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35812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s. 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640" y="16016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ha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1880" y="175428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orr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71600" y="609480"/>
          <a:ext cx="66294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609480"/>
                    <a:ext cx="66294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447920" y="5640480"/>
          <a:ext cx="6753240" cy="77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640480"/>
                    <a:ext cx="67532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1:17:33Z</dcterms:created>
  <dc:creator>Soporte Tecnico</dc:creator>
  <dc:description/>
  <dc:language>en-US</dc:language>
  <cp:lastModifiedBy>pagina</cp:lastModifiedBy>
  <dcterms:modified xsi:type="dcterms:W3CDTF">2003-11-13T14:23:42Z</dcterms:modified>
  <cp:revision>31</cp:revision>
  <dc:subject/>
  <dc:title>II° SIMPOSIO NACIONAL de ESTRATEGIA Consejo Profesional de Ciencias Económicas y Sociedad Latinoamericana de Estrategia  “Estrategias en Salud”  DESAFIOS y PERSPECTIVAS FUTURAS del SISTEMA de SALUD    Dr. Eduardo Filgueira Lima  Noviembre de 2003</dc:title>
</cp:coreProperties>
</file>