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021-8B2C-4627-BFD9-0E81A67F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401-F4DC-431C-924E-5CEFB466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092-7CE0-4670-AE8D-14019C00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45A-0D2B-4460-B8B7-DFBA2F2C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C9BF-E31D-4E0A-8EC3-C0D4A088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F039-C6D6-4311-B460-3DDC6D83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064A-D8F9-4436-83FF-AAB05879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81E1-C77D-431A-8318-C16AD10F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6C5D-8C85-4551-9658-B593CA47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EA2A-B013-4CF4-B2AB-CE12A19D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C2EB-DA73-4A19-8903-F7DB94F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B41-11C7-47B7-898D-D8776FD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16F4-EF13-46C5-842B-8538063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E39B-3975-48A2-8CD0-802E8934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F21D-79D9-4347-AE05-7E08536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2BD-45DD-4EBC-8AF4-AF89CC72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23D5-EC5A-4997-90A8-99EFBD62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3FC-6B5B-4BAD-81B0-0249D46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A5D-F127-4B42-9934-8D91677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197-B149-45F8-8BA6-CFAD43F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7B3-E578-4261-A5A8-5E974BFA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A72-C728-4E9B-A79D-07D8548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A38-B50C-40EE-AD37-44EB4C9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7AA-90E3-4248-A88F-FDA77F7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AB91-2161-4D30-805A-C706C9A63C2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B6B-7763-4B66-87FA-2F6E04EE727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Mis%20documentos/PUESTO%202/Mis%20docu%202/Clientes%20Proyecto/2002/Proyecto%20La%20Plata/Presentaci&#243;n2.pp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optec.org.br/cooptecsaude/images/medicos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enciaperu.com/graficos/equipo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4120" y="819000"/>
          <a:ext cx="1828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819000"/>
                    <a:ext cx="1828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1080" y="3429000"/>
            <a:ext cx="579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Gestión de la Calidad en Organizaciones de Salud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º Simposio Nacional de Estrateg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5867280"/>
            <a:ext cx="556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ra. CP. María Cristina Ferrar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7 de noviembre de 2003 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276720"/>
            <a:ext cx="617220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9" name="Logo%20arriba%20en%20dos%20líneas" descr=""/>
          <p:cNvPicPr/>
          <p:nvPr/>
        </p:nvPicPr>
        <p:blipFill>
          <a:blip r:embed="rId3"/>
          <a:stretch/>
        </p:blipFill>
        <p:spPr>
          <a:xfrm>
            <a:off x="1371600" y="758880"/>
            <a:ext cx="33526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505320"/>
            <a:ext cx="784872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66"/>
                </a:solidFill>
                <a:latin typeface="Arial"/>
              </a:rPr>
              <a:t>Componentes: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74"/>
              </a:spcBef>
              <a:buClr>
                <a:srgbClr val="003366"/>
              </a:buClr>
              <a:buFont typeface="Arial Narrow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66"/>
                </a:solidFill>
                <a:latin typeface="Arial Narrow"/>
              </a:rPr>
              <a:t>Filosofía de la Mejora Continua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74"/>
              </a:spcBef>
              <a:buClr>
                <a:srgbClr val="003366"/>
              </a:buClr>
              <a:buFont typeface="Arial Narrow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66"/>
                </a:solidFill>
                <a:latin typeface="Arial Narrow"/>
              </a:rPr>
              <a:t>Estructura y Organización para su práctica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 Narrow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66"/>
                </a:solidFill>
                <a:latin typeface="Arial Narrow"/>
              </a:rPr>
              <a:t>Actividades concretas  para mejorar  la calidad</a:t>
            </a:r>
            <a:r>
              <a:rPr b="1" lang="es-ES_tradnl" sz="2400" spc="-1" strike="noStrike">
                <a:solidFill>
                  <a:srgbClr val="00336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346480"/>
            <a:ext cx="815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66"/>
                </a:solidFill>
                <a:latin typeface="Arial"/>
              </a:rPr>
              <a:t>OBJETIVO                            LA MEJORA CONTINUA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438280"/>
            <a:ext cx="1600200" cy="4572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78408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Franklin Gothic Medium Cond"/>
              </a:rPr>
              <a:t>   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1" lang="es-ES_tradnl" sz="3200" spc="-1" strike="noStrike">
                <a:solidFill>
                  <a:srgbClr val="003366"/>
                </a:solidFill>
                <a:latin typeface="Franklin Gothic Medium Cond"/>
              </a:rPr>
              <a:t>n</a:t>
            </a:r>
            <a:r>
              <a:rPr b="1" lang="es-ES_tradnl" sz="3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66"/>
                </a:solidFill>
                <a:latin typeface="Franklin Gothic Medium Cond"/>
              </a:rPr>
              <a:t>programa de Gestión Integral de C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6338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720" y="64008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 Narrow"/>
              </a:rPr>
              <a:t>IMDI, University of Pittsbur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219320"/>
            <a:ext cx="7391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3366"/>
                </a:solidFill>
                <a:latin typeface="Franklin Gothic Medium Cond"/>
              </a:rPr>
              <a:t>Marco conceptual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525760"/>
          <a:ext cx="8305920" cy="3900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lementos estratégicos para la implantación de un Programa de Gestión de Calida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6cc"/>
                    </a:solidFill>
                  </a:tcPr>
                </a:tc>
              </a:tr>
              <a:tr h="321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LIDERAZGO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DEFINICION COMPARTIDA DEL CONTEXTO DE LA ORGANIZACION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FORMACION A TODO EL PERSONAL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ELABORACION DE DOCUMENTOS/BASE DEL PROGRAMA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ESTRUCTURA ORGANIZATIVA Y RECURSOS PARA EL PROGRAMA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CONOCIMIENTOS Y SINTONIZACION CON EL ENTORNO INTERNO Y EXTERNO DE LA ORGANIZACIÓN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REORIENTACION DE LAS ACTIVIDADES DE RELEVANCIA PARA LA GESTION DE LA CALIDAD EXISTENTES EN LA ORGANIZACION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IMPLEMENTACION DE ACTIVIDADES ESPECIFICAS PARA MEJORAR LA CALIDAD EN FORMA TANGIBLE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3366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6019920" y="644508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 Narrow"/>
              </a:rPr>
              <a:t>. María Cristina Ferrar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0"/>
            <a:ext cx="2971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ente: Seminario Internacional de Calidad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ño 2000 - Ana Sainz Roj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rticipación activa del personal.</a:t>
            </a:r>
            <a:br>
              <a:rPr sz="2500"/>
            </a:b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Rol del responsable</a:t>
            </a:r>
            <a:endParaRPr b="1" lang="en-US" sz="2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616120"/>
            <a:ext cx="5943600" cy="39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Estar sensibilizado por satisfacer al clien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Estar informad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Estar comprometido con objetivos y resul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Información sobre áreas de interés para la empres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Técnicas de análisis y solución de problem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Conocimientos de productos y pro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Tener iniciativa y aceptar el riesg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Ser creativo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Arial"/>
              </a:rPr>
              <a:t>Tener satisfecha la necesidad de pertene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Tomar decision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0"/>
            <a:ext cx="3886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3366"/>
                </a:solidFill>
                <a:latin typeface="Arial"/>
              </a:rPr>
              <a:t>Fuente: Pérez -Velazco, Gestión de la Calidad orientada a los procesos. 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590920"/>
            <a:ext cx="2133360" cy="838080"/>
          </a:xfrm>
          <a:prstGeom prst="roundRect">
            <a:avLst>
              <a:gd name="adj" fmla="val 16667"/>
            </a:avLst>
          </a:prstGeom>
          <a:solidFill>
            <a:srgbClr val="d2e8d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UER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886200"/>
            <a:ext cx="2133360" cy="838080"/>
          </a:xfrm>
          <a:prstGeom prst="roundRect">
            <a:avLst>
              <a:gd name="adj" fmla="val 16667"/>
            </a:avLst>
          </a:prstGeom>
          <a:solidFill>
            <a:srgbClr val="d2e8d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BE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5334120"/>
            <a:ext cx="2133360" cy="838080"/>
          </a:xfrm>
          <a:prstGeom prst="roundRect">
            <a:avLst>
              <a:gd name="adj" fmla="val 16667"/>
            </a:avLst>
          </a:prstGeom>
          <a:solidFill>
            <a:srgbClr val="d2e8d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1960" y="1943280"/>
            <a:ext cx="8001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ilar racional: “</a:t>
            </a:r>
            <a:r>
              <a:rPr b="0" i="1" lang="es-ES_tradnl" sz="1800" spc="-1" strike="noStrike">
                <a:solidFill>
                  <a:srgbClr val="ffffff"/>
                </a:solidFill>
                <a:latin typeface="Arial"/>
              </a:rPr>
              <a:t>Hacia una gestión focalizada en resultados”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981080"/>
            <a:ext cx="3809880" cy="1447920"/>
          </a:xfrm>
          <a:prstGeom prst="ellipse">
            <a:avLst/>
          </a:prstGeom>
          <a:solidFill>
            <a:srgbClr val="cce6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35160" y="2209680"/>
            <a:ext cx="2727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itorización de la Calidad</a:t>
            </a:r>
            <a:r>
              <a:rPr b="1" lang="en-US" sz="11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5257800"/>
            <a:ext cx="3429000" cy="1447920"/>
          </a:xfrm>
          <a:prstGeom prst="ellipse">
            <a:avLst/>
          </a:prstGeom>
          <a:solidFill>
            <a:srgbClr val="cce6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59320" y="5508720"/>
            <a:ext cx="2468520" cy="815760"/>
          </a:xfrm>
          <a:prstGeom prst="rect">
            <a:avLst/>
          </a:prstGeom>
          <a:solidFill>
            <a:srgbClr val="cce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de la Ca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2057400"/>
            <a:ext cx="2895480" cy="1447920"/>
          </a:xfrm>
          <a:prstGeom prst="ellipse">
            <a:avLst/>
          </a:prstGeom>
          <a:solidFill>
            <a:srgbClr val="cce6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7640" y="2286000"/>
            <a:ext cx="2154240" cy="905040"/>
          </a:xfrm>
          <a:prstGeom prst="rect">
            <a:avLst/>
          </a:prstGeom>
          <a:solidFill>
            <a:srgbClr val="cce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iclos de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5400000">
            <a:off x="5981760" y="4533840"/>
            <a:ext cx="2209680" cy="60984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16200000">
            <a:off x="1294920" y="4342680"/>
            <a:ext cx="2210040" cy="6858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429000"/>
            <a:ext cx="3048120" cy="12952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3581280"/>
            <a:ext cx="281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¿Qué hacer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 Narrow"/>
              </a:rPr>
              <a:t>¿Cómo hacerl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1360" y="6415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28600"/>
            <a:ext cx="5181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6"/>
                </a:solidFill>
                <a:latin typeface="Franklin Gothic Medium Cond"/>
              </a:rPr>
              <a:t>Actividades concretas</a:t>
            </a:r>
            <a:endParaRPr b="0" lang="en-US" sz="3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144792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680" y="1093680"/>
            <a:ext cx="9144000" cy="5715000"/>
          </a:xfrm>
          <a:prstGeom prst="ellipse">
            <a:avLst/>
          </a:prstGeom>
          <a:noFill/>
          <a:ln w="572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/>
          </p:cNvPr>
          <p:cNvSpPr/>
          <p:nvPr/>
        </p:nvSpPr>
        <p:spPr>
          <a:xfrm>
            <a:off x="3581280" y="1523880"/>
            <a:ext cx="1219320" cy="99072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1523880"/>
            <a:ext cx="1371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 Narrow"/>
              </a:rPr>
              <a:t>Misión Misiones de los proceso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2743200"/>
            <a:ext cx="1219320" cy="38088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711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Valores</a:t>
            </a: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809880"/>
            <a:ext cx="1752480" cy="38124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Socie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336840"/>
            <a:ext cx="1752480" cy="39708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336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Sistema Sanitari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343400"/>
            <a:ext cx="175248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343400"/>
            <a:ext cx="1600200" cy="642600"/>
          </a:xfrm>
          <a:prstGeom prst="rect">
            <a:avLst/>
          </a:prstGeom>
          <a:solidFill>
            <a:srgbClr val="d3f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Accionistas y/o Autoridad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352680"/>
            <a:ext cx="3048120" cy="137160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4038480"/>
            <a:ext cx="1752840" cy="38124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5880" y="4038480"/>
            <a:ext cx="1752840" cy="368280"/>
          </a:xfrm>
          <a:prstGeom prst="rect">
            <a:avLst/>
          </a:prstGeom>
          <a:solidFill>
            <a:srgbClr val="d3f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Pers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565440"/>
            <a:ext cx="1752840" cy="39708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3565440"/>
            <a:ext cx="1752840" cy="368280"/>
          </a:xfrm>
          <a:prstGeom prst="rect">
            <a:avLst/>
          </a:prstGeom>
          <a:solidFill>
            <a:srgbClr val="d3f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Pacientes</a:t>
            </a: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5715000"/>
            <a:ext cx="2590920" cy="38088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5715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Clav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241960"/>
            <a:ext cx="2590920" cy="39672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52419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Estratégic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6248520"/>
            <a:ext cx="2590920" cy="380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6248520"/>
            <a:ext cx="2590920" cy="368280"/>
          </a:xfrm>
          <a:prstGeom prst="rect">
            <a:avLst/>
          </a:prstGeom>
          <a:solidFill>
            <a:srgbClr val="d3f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Sopor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4876920"/>
            <a:ext cx="3505320" cy="182880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Pro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5105520"/>
            <a:ext cx="2514600" cy="91440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5181480"/>
            <a:ext cx="1066680" cy="76212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Resul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5181480"/>
            <a:ext cx="1066680" cy="762120"/>
          </a:xfrm>
          <a:prstGeom prst="rect">
            <a:avLst/>
          </a:prstGeom>
          <a:solidFill>
            <a:srgbClr val="d3f4c2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52862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Evaluación TQ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3429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Plan Estratégico</a:t>
            </a: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 - </a:t>
            </a: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Medio plazo</a:t>
            </a: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4159080"/>
            <a:ext cx="2819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 Narrow"/>
              </a:rPr>
              <a:t>Plan de GestiónAnual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4038480"/>
            <a:ext cx="2895480" cy="609840"/>
          </a:xfrm>
          <a:prstGeom prst="rect">
            <a:avLst/>
          </a:prstGeom>
          <a:noFill/>
          <a:ln w="284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350532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03848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715000" y="3809880"/>
            <a:ext cx="3808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715000" y="4267080"/>
            <a:ext cx="3808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4724280"/>
            <a:ext cx="0" cy="1526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251460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3124080"/>
            <a:ext cx="0" cy="2286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5638680"/>
            <a:ext cx="3808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781680" y="464832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714640" y="4648320"/>
            <a:ext cx="10666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229600" y="3428640"/>
            <a:ext cx="0" cy="16765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714640" y="3429000"/>
            <a:ext cx="25146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610480" y="1905120"/>
            <a:ext cx="0" cy="3200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800240" y="1905120"/>
            <a:ext cx="38098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1981080"/>
            <a:ext cx="289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 Narrow"/>
              </a:rPr>
              <a:t>Corto, Mediano, Largo Plazo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8064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Franklin Gothic Demi Cond"/>
              </a:rPr>
              <a:t>Esquema del sistema de gest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62485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Hospital de Zurmarraga, Rev. de Calidad Asistencial, 200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4876920"/>
            <a:ext cx="3504960" cy="1523880"/>
          </a:xfrm>
          <a:prstGeom prst="rect">
            <a:avLst/>
          </a:prstGeom>
          <a:solidFill>
            <a:srgbClr val="ffffd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819520"/>
            <a:ext cx="3429000" cy="1676160"/>
          </a:xfrm>
          <a:prstGeom prst="rect">
            <a:avLst/>
          </a:prstGeom>
          <a:solidFill>
            <a:srgbClr val="d3f4c2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5029200"/>
            <a:ext cx="327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ándares de ca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 el sistem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2971800"/>
            <a:ext cx="3200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nitorización d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ic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5240" y="1119240"/>
            <a:ext cx="70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ELEMENTOS DEL PLAN DE CALIDAD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2120" y="1981080"/>
            <a:ext cx="7391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154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200010015-001" descr="Image number: 200010015-0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32004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77880" y="17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2286000"/>
            <a:ext cx="23623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666880"/>
            <a:ext cx="7010640" cy="30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ES_tradnl" sz="3000" spc="-1" strike="noStrike">
                <a:solidFill>
                  <a:srgbClr val="003366"/>
                </a:solidFill>
                <a:latin typeface="Arial"/>
              </a:rPr>
              <a:t>Para hacer que un </a:t>
            </a:r>
            <a:r>
              <a:rPr b="1" i="1" lang="es-ES_tradnl" sz="3000" spc="-1" strike="noStrike">
                <a:solidFill>
                  <a:srgbClr val="006666"/>
                </a:solidFill>
                <a:latin typeface="Arial"/>
              </a:rPr>
              <a:t>gran sueño</a:t>
            </a:r>
            <a:r>
              <a:rPr b="1" i="1" lang="es-ES_tradnl" sz="3000" spc="-1" strike="noStrike">
                <a:solidFill>
                  <a:srgbClr val="003366"/>
                </a:solidFill>
                <a:latin typeface="Arial"/>
              </a:rPr>
              <a:t> se convierta en realidad..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003366"/>
                </a:solidFill>
                <a:latin typeface="Arial"/>
              </a:rPr>
              <a:t>primero hay que tener un gran sueño”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6666"/>
                </a:solidFill>
                <a:latin typeface="Arial"/>
              </a:rPr>
              <a:t>La calidad como objetivo cohesionador del sistema nacional de salu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23880" y="25146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Implementar una gestión de calidad en salud como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estrategia nacion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, apoyándose en una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Política de Estad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que garantice su cumplimient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9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 sueño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962520"/>
            <a:ext cx="80773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Líneas estratégic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3366"/>
                </a:solidFill>
                <a:latin typeface="Arial"/>
                <a:ea typeface="Arial"/>
              </a:rPr>
              <a:t>Enfoque en el paci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3366"/>
                </a:solidFill>
                <a:latin typeface="Arial"/>
                <a:ea typeface="Arial"/>
              </a:rPr>
              <a:t>Desarrollo de una cultura de calidad como derecho del paciente y deber del Est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3366"/>
                </a:solidFill>
                <a:latin typeface="Arial"/>
                <a:ea typeface="Arial"/>
              </a:rPr>
              <a:t>Aprendizaje continuo en ac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Implementación de un proyecto  innovador en la atención de problemas de salud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0"/>
            <a:ext cx="3962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“</a:t>
            </a: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Nada sucede que no haya sido antes un sueño”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3352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3366"/>
                </a:solidFill>
                <a:latin typeface="MS Mincho"/>
              </a:rPr>
              <a:t>Carl Sandburg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4419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571840"/>
            <a:ext cx="7924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Acciones concreta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oordinación de las instituciones sanitari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n el nivel municipal y provincial avanzando en la creación de sistemas locales de salud.</a:t>
            </a:r>
            <a:r>
              <a:rPr b="1" lang="es-UY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stalación y </a:t>
            </a:r>
            <a:r>
              <a:rPr b="1" lang="es-UY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celebración de convenios</a:t>
            </a:r>
            <a:r>
              <a:rPr b="1" lang="es-UY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en todas las provincia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iseño y </a:t>
            </a:r>
            <a:r>
              <a:rPr b="1" lang="es-E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difusión de indicadores y estándares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de trato digno y calidad técni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19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 sueño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0"/>
            <a:ext cx="3962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“</a:t>
            </a: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Nada sucede que no haya sido antes un sueño”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3352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3366"/>
                </a:solidFill>
                <a:latin typeface="MS Mincho"/>
              </a:rPr>
              <a:t>Carl Sandburg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3048120"/>
            <a:ext cx="670572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Un sistema de calidad en salud  es aquel que logra los resultados esperados de </a:t>
            </a:r>
            <a:r>
              <a:rPr b="1" i="1" lang="es-ES" sz="2800" spc="-1" strike="noStrike">
                <a:solidFill>
                  <a:srgbClr val="006666"/>
                </a:solidFill>
                <a:latin typeface="Arial"/>
                <a:ea typeface="Times New Roman"/>
              </a:rPr>
              <a:t>recuperar  la salud, prevenir la enfermedad y mejorar la calidad de vida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de toda la población”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700" spc="-1" strike="noStrike">
                <a:solidFill>
                  <a:srgbClr val="003366"/>
                </a:solidFill>
                <a:latin typeface="Arial"/>
                <a:ea typeface="Times New Roman"/>
              </a:rPr>
              <a:t>(Org. Mundial de la Salud, Informe Salud, 2000)</a:t>
            </a:r>
            <a:r>
              <a:rPr b="0" lang="es-ES" sz="17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90720" y="228276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Acciones concretas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19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 sueño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2895480"/>
            <a:ext cx="80773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Difundir los derechos de los pacientes</a:t>
            </a:r>
            <a:r>
              <a:rPr b="1" lang="es-UY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: derecho a recibir información completa, veraz, oportuna y entendida por el paciente y acompañantes. Desarrollo de un Plan de Información a pacientes y familiares.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Articulado en </a:t>
            </a:r>
            <a:r>
              <a:rPr b="1" lang="es-ES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red de los Servicios Estatales y Privados</a:t>
            </a: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, organizados en niveles crecientes de complejidad, integrados, basados en la Atención Primaria como eje con el objeto de hacer el uso más eficiente de los recursos disponibles, evitar superposiciones y estructuras subutilizadas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0"/>
            <a:ext cx="3962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“</a:t>
            </a: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Nada sucede que no haya sido antes un sueño”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53352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3366"/>
                </a:solidFill>
                <a:latin typeface="MS Mincho"/>
              </a:rPr>
              <a:t>Carl Sandburg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90720" y="2514600"/>
            <a:ext cx="81532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3. Creación de </a:t>
            </a:r>
            <a:r>
              <a:rPr b="1" lang="es-ES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comisiones nacionales y regionales</a:t>
            </a: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de calidad formados por autoridades de la comunidad referenciales (profesionales de la salud, credos, ONG’s, universidades, otros) con el objetivo de fortalecer la responsabilidad social y el compromiso con el proyect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4. </a:t>
            </a:r>
            <a:r>
              <a:rPr b="1" lang="es-UY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Estandarización nacional de procesos</a:t>
            </a:r>
            <a:r>
              <a:rPr b="1" lang="es-UY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orientados a la mejora continua y detección de oportunidades de mejora. </a:t>
            </a:r>
            <a:r>
              <a:rPr b="1" lang="es-MX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Priorización de procesos críticos por región/  Detección de oportunidades de mejora generales y específicas Estandarización y creación de normas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1905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 sueño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0"/>
            <a:ext cx="3962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“</a:t>
            </a:r>
            <a:r>
              <a:rPr b="1" i="1" lang="en-US" sz="1700" spc="-1" strike="noStrike">
                <a:solidFill>
                  <a:srgbClr val="003366"/>
                </a:solidFill>
                <a:latin typeface="MS Mincho"/>
              </a:rPr>
              <a:t>Nada sucede que no haya sido antes un sueño”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3352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3366"/>
                </a:solidFill>
                <a:latin typeface="MS Mincho"/>
              </a:rPr>
              <a:t>Carl Sandburg</a:t>
            </a:r>
            <a:endParaRPr b="0" lang="en-US" sz="15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90720" y="3124080"/>
            <a:ext cx="800100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100" spc="-1" strike="noStrike" u="sng">
                <a:solidFill>
                  <a:srgbClr val="006666"/>
                </a:solidFill>
                <a:uFillTx/>
                <a:latin typeface="Arial"/>
              </a:rPr>
              <a:t>Calidad científico-técnica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: capacidad de los implicados –máximo nivel de conocimientos existentes- para resolver problemas de los usuarios 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Formación de profesionale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Evaluación externa de centros y servicios sanitario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905120"/>
            <a:ext cx="8001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as dimensiones de la calida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990720"/>
            <a:ext cx="815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Franklin Gothic Medium Cond"/>
              </a:rPr>
              <a:t>La práctica de la calidad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71600" y="2666880"/>
            <a:ext cx="693432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Arial"/>
              </a:rPr>
              <a:t>Eficacia y Eficiencia</a:t>
            </a: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: es la medida en que una determinada práctica sanitaria mejora el estado de salud de la población que la recibe mediante la búsqueda de la máxima efectividad al menor costo posible </a:t>
            </a:r>
            <a:r>
              <a:rPr b="1" lang="en-US" sz="2100" spc="-1" strike="noStrike">
                <a:solidFill>
                  <a:srgbClr val="006666"/>
                </a:solidFill>
                <a:latin typeface="Arial"/>
              </a:rPr>
              <a:t>disminución costos de no calidad.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normas 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indicadore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guías clínica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buenas práctica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905120"/>
            <a:ext cx="8001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as dimensiones de la calida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990720"/>
            <a:ext cx="815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Franklin Gothic Medium Cond"/>
              </a:rPr>
              <a:t>La práctica de la calidad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62120" y="1905120"/>
            <a:ext cx="8001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as dimensiones de la calida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990720"/>
            <a:ext cx="815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Franklin Gothic Medium Cond"/>
              </a:rPr>
              <a:t>La práctica de la calidad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2590920"/>
            <a:ext cx="7848720" cy="40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100" spc="-1" strike="noStrike" u="sng">
                <a:solidFill>
                  <a:srgbClr val="006666"/>
                </a:solidFill>
                <a:uFillTx/>
                <a:latin typeface="Arial"/>
              </a:rPr>
              <a:t>Satisfacción</a:t>
            </a:r>
            <a:r>
              <a:rPr b="0" lang="es-ES" sz="2100" spc="-1" strike="noStrike">
                <a:solidFill>
                  <a:srgbClr val="003366"/>
                </a:solidFill>
                <a:latin typeface="Arial"/>
              </a:rPr>
              <a:t>: medida en que el servicio ofrecido cumple con las expectativas del usuario: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3366"/>
                </a:solidFill>
                <a:latin typeface="Arial"/>
              </a:rPr>
              <a:t>encuestas de satisfacción de los servicio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700" spc="-1" strike="noStrike">
                <a:solidFill>
                  <a:srgbClr val="003366"/>
                </a:solidFill>
                <a:latin typeface="Arial"/>
              </a:rPr>
              <a:t>focus grup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700" spc="-1" strike="noStrike">
                <a:solidFill>
                  <a:srgbClr val="003366"/>
                </a:solidFill>
                <a:latin typeface="Arial"/>
              </a:rPr>
              <a:t>sistema de quejas</a:t>
            </a: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006666"/>
                </a:solidFill>
                <a:uFillTx/>
                <a:latin typeface="Arial"/>
              </a:rPr>
              <a:t>Planificación Estratégica:</a:t>
            </a:r>
            <a:r>
              <a:rPr b="0" lang="es-ES" sz="2100" spc="-1" strike="noStrike">
                <a:solidFill>
                  <a:srgbClr val="003366"/>
                </a:solidFill>
                <a:latin typeface="Arial"/>
              </a:rPr>
              <a:t>  medida en que la organización define las metas y objetos, los valores que deben compartirse y los procesos específicos para alcanzar los ideales planteados = </a:t>
            </a:r>
            <a:r>
              <a:rPr b="1" lang="es-ES_tradnl" sz="2100" spc="-1" strike="noStrike">
                <a:solidFill>
                  <a:srgbClr val="006666"/>
                </a:solidFill>
                <a:latin typeface="Arial"/>
                <a:ea typeface="Times New Roman"/>
              </a:rPr>
              <a:t>cambio cultural que asuma que toda institución sanitaria es una empresa de  servicios.</a:t>
            </a:r>
            <a:endParaRPr b="0" lang="en-US" sz="2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19320" y="3048120"/>
            <a:ext cx="716256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6666"/>
                </a:solidFill>
                <a:uFillTx/>
                <a:latin typeface="Arial"/>
              </a:rPr>
              <a:t>Accesibilidad</a:t>
            </a:r>
            <a:r>
              <a:rPr b="0" lang="en-US" sz="2200" spc="-1" strike="noStrike" u="sng">
                <a:solidFill>
                  <a:srgbClr val="003366"/>
                </a:solidFill>
                <a:uFillTx/>
                <a:latin typeface="Arial"/>
              </a:rPr>
              <a:t>: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facilidad con la que obtenerse el servicio en relación con los aspectos  (barreras) organizacionales, económicos, culturales: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disminución de % de población no cubierta.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mejora en tiempos de asignación de turnos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Medición de accesibilidad para turnos telefónicos</a:t>
            </a: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88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1905120"/>
            <a:ext cx="48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as dimensiones de la calida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990720"/>
            <a:ext cx="815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Franklin Gothic Medium Cond"/>
              </a:rPr>
              <a:t>La práctica de la calidad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62120" y="28954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Más no es mejor, incluso puede ser peor”  hay que </a:t>
            </a:r>
            <a:r>
              <a:rPr b="1" i="1" lang="es-ES_tradnl" sz="2800" spc="-1" strike="noStrike" u="sng">
                <a:solidFill>
                  <a:srgbClr val="006666"/>
                </a:solidFill>
                <a:uFillTx/>
                <a:latin typeface="Arial"/>
              </a:rPr>
              <a:t>hacer bien lo que es adecuado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: hacer las cosas correctas correctam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i="1" lang="es-ES_tradnl" sz="2800" spc="-1" strike="noStrike" u="sng">
                <a:solidFill>
                  <a:srgbClr val="006666"/>
                </a:solidFill>
                <a:uFillTx/>
                <a:latin typeface="Arial"/>
              </a:rPr>
              <a:t>calidad asistencial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 se ha convertido en un elemento estratégico para la planificación y dirección del sistema de salu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19320" y="9586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Franklin Gothic Demi Cond"/>
              </a:rPr>
              <a:t>Conclusion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H01255J(p)" descr="Haga clic para descargar"/>
          <p:cNvPicPr/>
          <p:nvPr/>
        </p:nvPicPr>
        <p:blipFill>
          <a:blip r:embed="rId1"/>
          <a:stretch/>
        </p:blipFill>
        <p:spPr>
          <a:xfrm>
            <a:off x="7010280" y="2286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914400" y="2209680"/>
            <a:ext cx="73152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600" spc="-1" strike="noStrike">
                <a:solidFill>
                  <a:srgbClr val="003366"/>
                </a:solidFill>
                <a:latin typeface="Arial"/>
              </a:rPr>
              <a:t>Respeto por cubrir la necesidad de la gente sin exclusiones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447920" y="609480"/>
            <a:ext cx="6324480" cy="5791320"/>
            <a:chOff x="1447920" y="609480"/>
            <a:chExt cx="6324480" cy="5791320"/>
          </a:xfrm>
        </p:grpSpPr>
        <p:sp>
          <p:nvSpPr>
            <p:cNvPr id="314" name=""/>
            <p:cNvSpPr/>
            <p:nvPr/>
          </p:nvSpPr>
          <p:spPr>
            <a:xfrm>
              <a:off x="3886200" y="609480"/>
              <a:ext cx="1371600" cy="838440"/>
            </a:xfrm>
            <a:prstGeom prst="star5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47920" y="4114800"/>
              <a:ext cx="533160" cy="533520"/>
            </a:xfrm>
            <a:custGeom>
              <a:avLst/>
              <a:gdLst>
                <a:gd name="textAreaLeft" fmla="*/ 219600 w 533160"/>
                <a:gd name="textAreaRight" fmla="*/ 313560 w 5331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38880" y="4191120"/>
              <a:ext cx="533520" cy="533160"/>
            </a:xfrm>
            <a:custGeom>
              <a:avLst/>
              <a:gdLst>
                <a:gd name="textAreaLeft" fmla="*/ 219960 w 533520"/>
                <a:gd name="textAreaRight" fmla="*/ 313560 w 533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91120" y="5867280"/>
              <a:ext cx="533160" cy="533520"/>
            </a:xfrm>
            <a:custGeom>
              <a:avLst/>
              <a:gdLst>
                <a:gd name="textAreaLeft" fmla="*/ 219600 w 533160"/>
                <a:gd name="textAreaRight" fmla="*/ 313560 w 5331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52560" y="2620800"/>
            <a:ext cx="72388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600" spc="-1" strike="noStrike">
                <a:solidFill>
                  <a:srgbClr val="003366"/>
                </a:solidFill>
                <a:latin typeface="Arial"/>
              </a:rPr>
              <a:t>Severidad de medición para no errar el camino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447920" y="762120"/>
            <a:ext cx="6172200" cy="5105160"/>
            <a:chOff x="1447920" y="762120"/>
            <a:chExt cx="6172200" cy="5105160"/>
          </a:xfrm>
        </p:grpSpPr>
        <p:sp>
          <p:nvSpPr>
            <p:cNvPr id="321" name=""/>
            <p:cNvSpPr/>
            <p:nvPr/>
          </p:nvSpPr>
          <p:spPr>
            <a:xfrm>
              <a:off x="3962520" y="762120"/>
              <a:ext cx="1371600" cy="838080"/>
            </a:xfrm>
            <a:prstGeom prst="star5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2590920"/>
              <a:ext cx="533160" cy="533160"/>
            </a:xfrm>
            <a:custGeom>
              <a:avLst/>
              <a:gdLst>
                <a:gd name="textAreaLeft" fmla="*/ 219600 w 533160"/>
                <a:gd name="textAreaRight" fmla="*/ 313560 w 53316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2438280"/>
              <a:ext cx="533520" cy="533520"/>
            </a:xfrm>
            <a:custGeom>
              <a:avLst/>
              <a:gdLst>
                <a:gd name="textAreaLeft" fmla="*/ 219960 w 533520"/>
                <a:gd name="textAreaRight" fmla="*/ 313560 w 53352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5334120"/>
              <a:ext cx="533520" cy="533160"/>
            </a:xfrm>
            <a:custGeom>
              <a:avLst/>
              <a:gdLst>
                <a:gd name="textAreaLeft" fmla="*/ 219960 w 533520"/>
                <a:gd name="textAreaRight" fmla="*/ 313560 w 533520"/>
                <a:gd name="textAreaTop" fmla="*/ 219600 h 533160"/>
                <a:gd name="textAreaBottom" fmla="*/ 313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52560" y="320040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600" spc="-1" strike="noStrike">
                <a:solidFill>
                  <a:srgbClr val="003366"/>
                </a:solidFill>
                <a:latin typeface="Arial"/>
              </a:rPr>
              <a:t>Prevención para anticipar el error</a:t>
            </a:r>
            <a:endParaRPr b="0" lang="en-US" sz="5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057400" y="2286000"/>
            <a:ext cx="4647960" cy="3276360"/>
            <a:chOff x="2057400" y="2286000"/>
            <a:chExt cx="4647960" cy="3276360"/>
          </a:xfrm>
        </p:grpSpPr>
        <p:sp>
          <p:nvSpPr>
            <p:cNvPr id="328" name=""/>
            <p:cNvSpPr/>
            <p:nvPr/>
          </p:nvSpPr>
          <p:spPr>
            <a:xfrm>
              <a:off x="3773520" y="2286000"/>
              <a:ext cx="1287000" cy="783360"/>
            </a:xfrm>
            <a:prstGeom prst="star5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  <a:effectLst>
              <a:outerShdw dist="107932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7400" y="2570760"/>
              <a:ext cx="500400" cy="498240"/>
            </a:xfrm>
            <a:custGeom>
              <a:avLst/>
              <a:gdLst>
                <a:gd name="textAreaLeft" fmla="*/ 206280 w 500400"/>
                <a:gd name="textAreaRight" fmla="*/ 294120 w 500400"/>
                <a:gd name="textAreaTop" fmla="*/ 205200 h 498240"/>
                <a:gd name="textAreaBottom" fmla="*/ 29304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05320" y="2713320"/>
              <a:ext cx="500040" cy="498600"/>
            </a:xfrm>
            <a:custGeom>
              <a:avLst/>
              <a:gdLst>
                <a:gd name="textAreaLeft" fmla="*/ 205920 w 500040"/>
                <a:gd name="textAreaRight" fmla="*/ 294120 w 500040"/>
                <a:gd name="textAreaTop" fmla="*/ 205560 h 498600"/>
                <a:gd name="textAreaBottom" fmla="*/ 293040 h 49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9720" y="5063760"/>
              <a:ext cx="500040" cy="498600"/>
            </a:xfrm>
            <a:custGeom>
              <a:avLst/>
              <a:gdLst>
                <a:gd name="textAreaLeft" fmla="*/ 205920 w 500040"/>
                <a:gd name="textAreaRight" fmla="*/ 294120 w 500040"/>
                <a:gd name="textAreaTop" fmla="*/ 205560 h 498600"/>
                <a:gd name="textAreaBottom" fmla="*/ 293040 h 49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362320" y="54864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chas Gracias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ría Cristina Ferra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72200" y="65214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apacitacion@icem.com.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2666880"/>
            <a:ext cx="275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Ausencia de motivación en el recurso humano, caída de los valo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486400"/>
            <a:ext cx="30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 Narrow"/>
              </a:rPr>
              <a:t>Temor a la pérdida del empleo, comportamientos reactivos,17.7%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648320"/>
            <a:ext cx="281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 Narrow"/>
              </a:rPr>
              <a:t>Uno de los sectores más afectados: </a:t>
            </a:r>
            <a:r>
              <a:rPr b="1" lang="es-ES" sz="20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el gasto se redujo de 687 a  200 dólares por año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9360" y="2666880"/>
            <a:ext cx="2590920" cy="2971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rot="17047800">
            <a:off x="2832840" y="2574720"/>
            <a:ext cx="3276720" cy="3123720"/>
          </a:xfrm>
          <a:prstGeom prst="blockArc">
            <a:avLst>
              <a:gd name="adj1" fmla="val 13485848"/>
              <a:gd name="adj2" fmla="val 18914152"/>
              <a:gd name="adj3" fmla="val 28532"/>
            </a:avLst>
          </a:prstGeom>
          <a:solidFill>
            <a:srgbClr val="d3f4c2"/>
          </a:solidFill>
          <a:ln w="0">
            <a:noFill/>
          </a:ln>
          <a:effectLst>
            <a:outerShdw dist="107932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895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 Black"/>
              </a:rPr>
              <a:t>RECESION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 rot="704400">
            <a:off x="3047040" y="2818440"/>
            <a:ext cx="3047760" cy="2972160"/>
          </a:xfrm>
          <a:prstGeom prst="blockArc">
            <a:avLst>
              <a:gd name="adj1" fmla="val 13485848"/>
              <a:gd name="adj2" fmla="val 18914152"/>
              <a:gd name="adj3" fmla="val 28532"/>
            </a:avLst>
          </a:prstGeom>
          <a:solidFill>
            <a:srgbClr val="d3f4c2"/>
          </a:solidFill>
          <a:ln w="0">
            <a:noFill/>
          </a:ln>
          <a:effectLst>
            <a:outerShdw dist="107932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6314400">
            <a:off x="3478320" y="2995920"/>
            <a:ext cx="2800440" cy="2567160"/>
          </a:xfrm>
          <a:prstGeom prst="blockArc">
            <a:avLst>
              <a:gd name="adj1" fmla="val 13485848"/>
              <a:gd name="adj2" fmla="val 18914152"/>
              <a:gd name="adj3" fmla="val 28532"/>
            </a:avLst>
          </a:prstGeom>
          <a:solidFill>
            <a:srgbClr val="d3f4c2"/>
          </a:solidFill>
          <a:ln w="0">
            <a:noFill/>
          </a:ln>
          <a:effectLst>
            <a:outerShdw dist="107932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426708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ISTEMA DE SALU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994200">
            <a:off x="3061080" y="2516040"/>
            <a:ext cx="3303720" cy="2881440"/>
          </a:xfrm>
          <a:prstGeom prst="blockArc">
            <a:avLst>
              <a:gd name="adj1" fmla="val 13485848"/>
              <a:gd name="adj2" fmla="val 18914152"/>
              <a:gd name="adj3" fmla="val 28532"/>
            </a:avLst>
          </a:prstGeom>
          <a:solidFill>
            <a:srgbClr val="d3f4c2"/>
          </a:solidFill>
          <a:ln w="0">
            <a:noFill/>
          </a:ln>
          <a:effectLst>
            <a:outerShdw dist="107932" dir="2700000" blurRad="0" rotWithShape="0">
              <a:srgbClr val="33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33960" y="23623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 Black"/>
              </a:rPr>
              <a:t>PESIMISM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895480"/>
            <a:ext cx="2057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2743200"/>
            <a:ext cx="3124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4632480"/>
            <a:ext cx="3186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9680" y="5562720"/>
            <a:ext cx="32767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9680" y="551808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124080"/>
            <a:ext cx="0" cy="8874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5181480"/>
            <a:ext cx="2133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 Black"/>
              </a:rPr>
              <a:t>DESEMPLE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790640"/>
            <a:ext cx="434340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gentina del 2002/ 200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59160" y="3581280"/>
            <a:ext cx="770040" cy="1276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28560" y="2171880"/>
            <a:ext cx="533520" cy="152280"/>
          </a:xfrm>
          <a:prstGeom prst="rect">
            <a:avLst/>
          </a:prstGeom>
          <a:solidFill>
            <a:srgbClr val="9beaf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8560" y="1924200"/>
            <a:ext cx="533520" cy="152280"/>
          </a:xfrm>
          <a:prstGeom prst="rect">
            <a:avLst/>
          </a:prstGeom>
          <a:solidFill>
            <a:srgbClr val="9beaf5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8560" y="2038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24440" y="2743200"/>
            <a:ext cx="0" cy="5335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27672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 Narrow"/>
                <a:ea typeface="Times New Roman"/>
              </a:rPr>
              <a:t>Devaluación, contracción de los recursos disponibles</a:t>
            </a:r>
            <a:r>
              <a:rPr b="1" lang="es-E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7621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3366"/>
                </a:solidFill>
                <a:latin typeface="Franklin Gothic Medium Cond"/>
              </a:rPr>
              <a:t>Calidad en  Salud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oste sanit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uevas prest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 percibe como ilimi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aria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ste de la no calida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satisfacción de los ciudadan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as organiza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alta de coordinación entre nive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istencia atomiz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as de relación, inform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0400" y="1565280"/>
            <a:ext cx="587988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blemas más comu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medico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739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58000" y="64911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aro" descr=""/>
          <p:cNvPicPr/>
          <p:nvPr/>
        </p:nvPicPr>
        <p:blipFill>
          <a:blip r:embed="rId1"/>
          <a:stretch/>
        </p:blipFill>
        <p:spPr>
          <a:xfrm>
            <a:off x="2133720" y="446580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76920" y="4508640"/>
            <a:ext cx="205740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Arial"/>
              </a:rPr>
              <a:t>FARO= Torre alta, situada en las costas, con luz en su parte superior que sirve de señal y guía para los navegantes durante la noche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914480"/>
            <a:ext cx="6476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lave =</a:t>
            </a:r>
            <a:r>
              <a:rPr b="0" i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  FOCALIZARSE EN LA CALIDAD 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79840"/>
            <a:ext cx="2286000" cy="228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590920"/>
            <a:ext cx="792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a Organización Mundial de la Salud (OMS) define el concepto de </a:t>
            </a:r>
            <a:r>
              <a:rPr b="1" lang="es-A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“Calidad”</a:t>
            </a:r>
            <a:r>
              <a:rPr b="0" lang="es-AR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como </a:t>
            </a:r>
            <a:r>
              <a:rPr b="0" i="1" lang="es-AR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toda prestación brindada con un alto nivel de excelencia profesional, uso eficiente de recursos, mínimo nivel de riesgos y un alto grado de satisfacción en los resultados obtenidos por el paciente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66880" y="2592360"/>
            <a:ext cx="4800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3366"/>
                </a:solidFill>
                <a:latin typeface="Arial"/>
              </a:rPr>
              <a:t>¿Cómo </a:t>
            </a:r>
            <a:r>
              <a:rPr b="1" i="1" lang="es-ES" sz="2700" spc="-1" strike="noStrike">
                <a:solidFill>
                  <a:srgbClr val="006666"/>
                </a:solidFill>
                <a:latin typeface="Arial"/>
              </a:rPr>
              <a:t>diseñar y/o rediseñar e implementar</a:t>
            </a:r>
            <a:r>
              <a:rPr b="1" lang="es-ES" sz="2700" spc="-1" strike="noStrike">
                <a:solidFill>
                  <a:srgbClr val="003366"/>
                </a:solidFill>
                <a:latin typeface="Arial"/>
              </a:rPr>
              <a:t> una organización más efectiva y eficiente que se ajuste a las necesidades de sus </a:t>
            </a:r>
            <a:r>
              <a:rPr b="1" lang="es-ES" sz="27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i="1" lang="es-ES" sz="2700" spc="-1" strike="noStrike">
                <a:solidFill>
                  <a:srgbClr val="006666"/>
                </a:solidFill>
                <a:latin typeface="Arial"/>
              </a:rPr>
              <a:t>especiales clientes</a:t>
            </a:r>
            <a:r>
              <a:rPr b="1" lang="es-ES" sz="27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1" lang="es-ES" sz="2700" spc="-1" strike="noStrike">
                <a:solidFill>
                  <a:srgbClr val="003366"/>
                </a:solidFill>
                <a:latin typeface="Arial"/>
              </a:rPr>
              <a:t> y de la comunidad?</a:t>
            </a: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00200" y="3809880"/>
            <a:ext cx="7009920" cy="1143000"/>
            <a:chOff x="1600200" y="3809880"/>
            <a:chExt cx="7009920" cy="1143000"/>
          </a:xfrm>
        </p:grpSpPr>
        <p:sp>
          <p:nvSpPr>
            <p:cNvPr id="142" name=""/>
            <p:cNvSpPr/>
            <p:nvPr/>
          </p:nvSpPr>
          <p:spPr>
            <a:xfrm>
              <a:off x="1600200" y="3809880"/>
              <a:ext cx="1066680" cy="114300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1160" y="3809880"/>
              <a:ext cx="1218960" cy="1066680"/>
            </a:xfrm>
            <a:custGeom>
              <a:avLst/>
              <a:gdLst>
                <a:gd name="textAreaLeft" fmla="*/ 163080 w 1218960"/>
                <a:gd name="textAreaRight" fmla="*/ 1055880 w 1218960"/>
                <a:gd name="textAreaTop" fmla="*/ 186480 h 1066680"/>
                <a:gd name="textAreaBottom" fmla="*/ 773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438280" y="571500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Arial"/>
              </a:rPr>
              <a:t>CALIDAD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562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571500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3366"/>
                </a:solidFill>
                <a:uFillTx/>
                <a:latin typeface="Lucida Handwriting"/>
              </a:rPr>
              <a:t>Calidez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0480" y="990720"/>
            <a:ext cx="81835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Franklin Gothic Medium Cond"/>
              </a:rPr>
              <a:t>Planteo estratégico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990720" y="0"/>
            <a:ext cx="8153280" cy="6783840"/>
            <a:chOff x="990720" y="0"/>
            <a:chExt cx="8153280" cy="6783840"/>
          </a:xfrm>
        </p:grpSpPr>
        <p:sp>
          <p:nvSpPr>
            <p:cNvPr id="150" name=""/>
            <p:cNvSpPr/>
            <p:nvPr/>
          </p:nvSpPr>
          <p:spPr>
            <a:xfrm>
              <a:off x="990720" y="2590920"/>
              <a:ext cx="706320" cy="1112760"/>
            </a:xfrm>
            <a:custGeom>
              <a:avLst/>
              <a:gdLst>
                <a:gd name="textAreaLeft" fmla="*/ 94320 w 706320"/>
                <a:gd name="textAreaRight" fmla="*/ 612000 w 706320"/>
                <a:gd name="textAreaTop" fmla="*/ 194760 h 1112760"/>
                <a:gd name="textAreaBottom" fmla="*/ 806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2e8d2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8040" y="2514600"/>
              <a:ext cx="566640" cy="1036800"/>
            </a:xfrm>
            <a:custGeom>
              <a:avLst/>
              <a:gdLst>
                <a:gd name="textAreaLeft" fmla="*/ 75960 w 566640"/>
                <a:gd name="textAreaRight" fmla="*/ 490680 w 566640"/>
                <a:gd name="textAreaTop" fmla="*/ 181440 h 1036800"/>
                <a:gd name="textAreaBottom" fmla="*/ 751680 h 10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d2e8d2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92240" y="2316240"/>
              <a:ext cx="2133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 u="sng">
                  <a:solidFill>
                    <a:srgbClr val="006666"/>
                  </a:solidFill>
                  <a:uFillTx/>
                  <a:latin typeface="Arial"/>
                </a:rPr>
                <a:t>CALIDAD</a:t>
              </a:r>
              <a:endParaRPr b="0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6680" y="231624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66"/>
                  </a:solidFill>
                  <a:latin typeface="Lucida Handwriting"/>
                </a:rPr>
                <a:t>Calidez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35040" y="3106800"/>
              <a:ext cx="236232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1800" spc="-1" strike="noStrike">
                  <a:solidFill>
                    <a:srgbClr val="003366"/>
                  </a:solidFill>
                  <a:latin typeface="Arial"/>
                </a:rPr>
                <a:t>Proveer servicios con</a:t>
              </a:r>
              <a:r>
                <a:rPr b="0" lang="es-SV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s-SV" sz="2000" spc="-1" strike="noStrike">
                  <a:solidFill>
                    <a:srgbClr val="006666"/>
                  </a:solidFill>
                  <a:latin typeface="Arial"/>
                </a:rPr>
                <a:t>eficiencia, eficacia, oportunidad</a:t>
              </a:r>
              <a:r>
                <a:rPr b="0" lang="es-SV" sz="1800" spc="-1" strike="noStrike">
                  <a:solidFill>
                    <a:srgbClr val="006666"/>
                  </a:solidFill>
                  <a:latin typeface="Arial"/>
                </a:rPr>
                <a:t>,</a:t>
              </a:r>
              <a:r>
                <a:rPr b="0" lang="es-SV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SV" sz="1800" spc="-1" strike="noStrike">
                  <a:solidFill>
                    <a:srgbClr val="003366"/>
                  </a:solidFill>
                  <a:latin typeface="Arial"/>
                </a:rPr>
                <a:t>profesionalismo y responsabilidad, satisfaciendo las expectativas de los clientes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6920" y="3152880"/>
              <a:ext cx="259056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003366"/>
                  </a:solidFill>
                  <a:latin typeface="Arial"/>
                </a:rPr>
                <a:t>Calidad humana en el trato al</a:t>
              </a:r>
              <a:r>
                <a:rPr b="0" lang="es-CO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6666"/>
                  </a:solidFill>
                  <a:latin typeface="Arial"/>
                </a:rPr>
                <a:t>paciente, sus familiares y amigos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lang="es-CO" sz="1800" spc="-1" strike="noStrike">
                  <a:solidFill>
                    <a:srgbClr val="003366"/>
                  </a:solidFill>
                  <a:latin typeface="Arial"/>
                </a:rPr>
                <a:t>reflejad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o</a:t>
              </a:r>
              <a:r>
                <a:rPr b="1" lang="es-CO" sz="1800" spc="-1" strike="noStrike">
                  <a:solidFill>
                    <a:srgbClr val="003366"/>
                  </a:solidFill>
                  <a:latin typeface="Arial"/>
                </a:rPr>
                <a:t> en la actitud de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profesionales médicos, administrativos, que</a:t>
              </a:r>
              <a:r>
                <a:rPr b="1" lang="es-CO" sz="1800" spc="-1" strike="noStrike">
                  <a:solidFill>
                    <a:srgbClr val="003366"/>
                  </a:solidFill>
                  <a:latin typeface="Arial"/>
                </a:rPr>
                <a:t> presta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r>
                <a:rPr b="1" lang="es-CO" sz="1800" spc="-1" strike="noStrike">
                  <a:solidFill>
                    <a:srgbClr val="003366"/>
                  </a:solidFill>
                  <a:latin typeface="Arial"/>
                </a:rPr>
                <a:t> el servicio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080" y="2071800"/>
              <a:ext cx="6098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0" spc="-1" strike="noStrike">
                  <a:solidFill>
                    <a:srgbClr val="003366"/>
                  </a:solidFill>
                  <a:latin typeface="Times New Roman"/>
                </a:rPr>
                <a:t>+</a:t>
              </a:r>
              <a:endParaRPr b="0" lang="en-US" sz="7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71600" y="6172200"/>
              <a:ext cx="67057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66"/>
                  </a:solidFill>
                  <a:latin typeface="Arial"/>
                </a:rPr>
                <a:t>Dimensión </a:t>
              </a:r>
              <a:r>
                <a:rPr b="1" i="1" lang="en-US" sz="2000" spc="-1" strike="noStrike" u="sng">
                  <a:solidFill>
                    <a:srgbClr val="003366"/>
                  </a:solidFill>
                  <a:uFillTx/>
                  <a:latin typeface="Arial"/>
                </a:rPr>
                <a:t>racional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Arial"/>
                </a:rPr>
                <a:t>      </a:t>
              </a:r>
              <a:r>
                <a:rPr b="1" i="1" lang="en-US" sz="20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r>
                <a:rPr b="1" i="1" lang="en-US" sz="3400" spc="-1" strike="noStrike">
                  <a:solidFill>
                    <a:srgbClr val="006666"/>
                  </a:solidFill>
                  <a:latin typeface="Arial"/>
                </a:rPr>
                <a:t>+</a:t>
              </a:r>
              <a:r>
                <a:rPr b="1" i="1" lang="en-US" sz="2000" spc="-1" strike="noStrike">
                  <a:solidFill>
                    <a:srgbClr val="33cccc"/>
                  </a:solidFill>
                  <a:latin typeface="Arial"/>
                </a:rPr>
                <a:t> 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Arial"/>
                </a:rPr>
                <a:t>   Dimensión </a:t>
              </a:r>
              <a:r>
                <a:rPr b="1" i="1" lang="en-US" sz="2000" spc="-1" strike="noStrike" u="sng">
                  <a:solidFill>
                    <a:srgbClr val="003366"/>
                  </a:solidFill>
                  <a:uFillTx/>
                  <a:latin typeface="Arial"/>
                </a:rPr>
                <a:t>emocional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990720"/>
              <a:ext cx="70866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700" spc="-1" strike="noStrike">
                  <a:solidFill>
                    <a:srgbClr val="003366"/>
                  </a:solidFill>
                  <a:latin typeface="Franklin Gothic Medium Cond"/>
                </a:rPr>
                <a:t>Pilares de la Calidad </a:t>
              </a:r>
              <a:endParaRPr b="0" lang="en-US" sz="37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0"/>
              <a:ext cx="3809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1905120"/>
            <a:ext cx="69339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52560" y="1200240"/>
            <a:ext cx="685800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MOCIONAL:</a:t>
            </a:r>
            <a:r>
              <a:rPr b="1" lang="es-ES_tradnl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6666"/>
                </a:solidFill>
                <a:latin typeface="Arial"/>
              </a:rPr>
              <a:t>Desarrollo </a:t>
            </a:r>
            <a:r>
              <a:rPr b="1" lang="es-ES_tradnl" sz="2000" spc="-1" strike="noStrike">
                <a:solidFill>
                  <a:srgbClr val="006666"/>
                </a:solidFill>
                <a:latin typeface="Arial"/>
              </a:rPr>
              <a:t>del talen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3366"/>
                </a:solidFill>
                <a:latin typeface="Arial"/>
              </a:rPr>
              <a:t>            “</a:t>
            </a:r>
            <a:r>
              <a:rPr b="1" i="1" lang="es-ES_tradnl" sz="1600" spc="-1" strike="noStrike">
                <a:solidFill>
                  <a:srgbClr val="003366"/>
                </a:solidFill>
                <a:latin typeface="Arial"/>
              </a:rPr>
              <a:t>Situar a las personas en el corazón de la empresa</a:t>
            </a:r>
            <a:r>
              <a:rPr b="0" i="1" lang="es-ES" sz="1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74"/>
              </a:spcBef>
              <a:buClr>
                <a:srgbClr val="0033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2" name="equip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752480"/>
            <a:ext cx="3048120" cy="1820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28880" y="4152960"/>
            <a:ext cx="678168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I.       RACIONAL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95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6666"/>
                </a:solidFill>
                <a:latin typeface="Arial"/>
              </a:rPr>
              <a:t>Gestión efectiva por </a:t>
            </a:r>
            <a:r>
              <a:rPr b="1" lang="es-ES_tradnl" sz="2000" spc="-1" strike="noStrike">
                <a:solidFill>
                  <a:srgbClr val="006666"/>
                </a:solidFill>
                <a:latin typeface="Arial"/>
              </a:rPr>
              <a:t>proces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_tradnl" sz="1800" spc="-1" strike="noStrike">
                <a:solidFill>
                  <a:srgbClr val="003366"/>
                </a:solidFill>
                <a:latin typeface="Arial"/>
              </a:rPr>
              <a:t>Hacia una gestión focalizada en resul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images" descr=""/>
          <p:cNvPicPr/>
          <p:nvPr/>
        </p:nvPicPr>
        <p:blipFill>
          <a:blip r:embed="rId3"/>
          <a:stretch/>
        </p:blipFill>
        <p:spPr>
          <a:xfrm>
            <a:off x="1619280" y="4686480"/>
            <a:ext cx="1998720" cy="1238040"/>
          </a:xfrm>
          <a:prstGeom prst="rect">
            <a:avLst/>
          </a:prstGeom>
          <a:ln w="0">
            <a:noFill/>
          </a:ln>
        </p:spPr>
      </p:pic>
      <p:pic>
        <p:nvPicPr>
          <p:cNvPr id="165" name="images" descr=""/>
          <p:cNvPicPr/>
          <p:nvPr/>
        </p:nvPicPr>
        <p:blipFill>
          <a:blip r:embed="rId4"/>
          <a:stretch/>
        </p:blipFill>
        <p:spPr>
          <a:xfrm>
            <a:off x="3753000" y="4838760"/>
            <a:ext cx="1904760" cy="987480"/>
          </a:xfrm>
          <a:prstGeom prst="rect">
            <a:avLst/>
          </a:prstGeom>
          <a:ln w="0">
            <a:noFill/>
          </a:ln>
        </p:spPr>
      </p:pic>
      <p:pic>
        <p:nvPicPr>
          <p:cNvPr id="166" name="images" descr=""/>
          <p:cNvPicPr/>
          <p:nvPr/>
        </p:nvPicPr>
        <p:blipFill>
          <a:blip r:embed="rId5"/>
          <a:stretch/>
        </p:blipFill>
        <p:spPr>
          <a:xfrm>
            <a:off x="5810400" y="4838760"/>
            <a:ext cx="1981080" cy="1036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352680" y="0"/>
            <a:ext cx="579132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ILARES DE ACTUAC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90720" y="24382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buClr>
                <a:srgbClr val="0066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RACIONAL: 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Estrategia: </a:t>
            </a:r>
            <a:r>
              <a:rPr b="1" lang="es-ES_tradnl" sz="2200" spc="-1" strike="noStrike">
                <a:solidFill>
                  <a:srgbClr val="006666"/>
                </a:solidFill>
                <a:latin typeface="Arial"/>
                <a:ea typeface="Times New Roman"/>
              </a:rPr>
              <a:t>¿Qué es lo que se quiere mejorar?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990720"/>
            <a:ext cx="8153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Franklin Gothic Medium Cond"/>
              </a:rPr>
              <a:t>Pilares de la calidad</a:t>
            </a:r>
            <a:endParaRPr b="0" lang="en-US" sz="37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7840" y="1905120"/>
            <a:ext cx="8001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ilar racional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Hacia una gestión focalizada en resultados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4876920"/>
            <a:ext cx="7924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acionalizar los </a:t>
            </a:r>
            <a:r>
              <a:rPr b="1" i="1" lang="es-ES_tradnl" sz="2000" spc="-1" strike="noStrike">
                <a:solidFill>
                  <a:srgbClr val="006666"/>
                </a:solidFill>
                <a:latin typeface="Arial"/>
              </a:rPr>
              <a:t>costos operativos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y erradicar los costos de no calidad.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tección de </a:t>
            </a:r>
            <a:r>
              <a:rPr b="1" i="1" lang="es-ES_tradnl" sz="2000" spc="-1" strike="noStrike">
                <a:solidFill>
                  <a:srgbClr val="006666"/>
                </a:solidFill>
                <a:latin typeface="Arial"/>
              </a:rPr>
              <a:t>procesos críticos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. Formación de mandos intermedios mediante la capacitación; definición de mapa base y de diferentes procesos y sus nivele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3" name="Fnt3" descr=""/>
          <p:cNvPicPr/>
          <p:nvPr/>
        </p:nvPicPr>
        <p:blipFill>
          <a:blip r:embed="rId1"/>
          <a:stretch/>
        </p:blipFill>
        <p:spPr>
          <a:xfrm>
            <a:off x="3429000" y="293364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781680" y="64850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 Narrow"/>
              </a:rPr>
              <a:t>María Cristina Ferra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3:02:10Z</dcterms:created>
  <dc:creator>ICEM</dc:creator>
  <dc:description/>
  <dc:language>en-US</dc:language>
  <cp:lastModifiedBy>pagina</cp:lastModifiedBy>
  <dcterms:modified xsi:type="dcterms:W3CDTF">2003-11-13T14:27:37Z</dcterms:modified>
  <cp:revision>127</cp:revision>
  <dc:subject/>
  <dc:title>Presentación de PowerPoint</dc:title>
</cp:coreProperties>
</file>