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33520" y="1523880"/>
            <a:ext cx="800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286000" y="2286000"/>
            <a:ext cx="4648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mic Sans MS"/>
              </a:rPr>
              <a:t>SISTEMAS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2743200" y="4267080"/>
            <a:ext cx="3809880" cy="1143000"/>
          </a:xfrm>
          <a:prstGeom prst="downArrowCallout">
            <a:avLst>
              <a:gd name="adj1" fmla="val 83338"/>
              <a:gd name="adj2" fmla="val 83331"/>
              <a:gd name="adj3" fmla="val 16667"/>
              <a:gd name="adj4" fmla="val 66667"/>
            </a:avLst>
          </a:prstGeom>
          <a:solidFill>
            <a:srgbClr val="0066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CRISIS Y NUEVOS FACTOR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743200" y="5486400"/>
            <a:ext cx="3809880" cy="762120"/>
          </a:xfrm>
          <a:prstGeom prst="rect">
            <a:avLst/>
          </a:prstGeom>
          <a:solidFill>
            <a:srgbClr val="0099cc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ESTRATEGIA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3048120"/>
            <a:ext cx="3809880" cy="1143000"/>
          </a:xfrm>
          <a:prstGeom prst="downArrowCallout">
            <a:avLst>
              <a:gd name="adj1" fmla="val 83338"/>
              <a:gd name="adj2" fmla="val 83331"/>
              <a:gd name="adj3" fmla="val 16667"/>
              <a:gd name="adj4" fmla="val 66667"/>
            </a:avLst>
          </a:prstGeom>
          <a:solidFill>
            <a:srgbClr val="3333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mic Sans MS"/>
              </a:rPr>
              <a:t>RESEÑA ESTRATEGIAS HISTORIC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4114800"/>
            <a:ext cx="739152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Los insumos aumentaron 131%, las amortizaciones de creditos por instrumental y equipos médicos siguieron al dó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El gasto en salud bajó de 650 a 184 dólares per cáp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La participación del gasto privado en salud se situa en el 45% y en ascen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19200" y="3701880"/>
            <a:ext cx="5415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ff"/>
                </a:solidFill>
                <a:latin typeface="Comic Sans MS"/>
              </a:rPr>
              <a:t>Esto sucede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uevos Fa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09880"/>
            <a:ext cx="2743200" cy="525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der Jud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3809880"/>
            <a:ext cx="2879640" cy="525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ión de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uevos Fa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809880"/>
            <a:ext cx="2743200" cy="525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der Jud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3809880"/>
            <a:ext cx="2879640" cy="525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ión de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495680"/>
            <a:ext cx="883908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100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Adquiere inusual protagonismo avanzando sobre la vida institucional del país, alcanzando al Sistema de Salud generan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100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Que la discusión prestacional se traslade al ámbito de la justi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100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Acciones acompañadas de medidas cautelares dictadas sin participación anterior, “inaudita par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100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Casos que reflejan el contenido final del pedido, en doctrina “medidas autosatisfactori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uevos Fa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809880"/>
            <a:ext cx="2743200" cy="525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der Jud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3809880"/>
            <a:ext cx="2879640" cy="525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ión de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1"/>
            <a:endCxn id="119" idx="0"/>
          </p:cNvCxnSpPr>
          <p:nvPr/>
        </p:nvCxnSpPr>
        <p:spPr>
          <a:xfrm flipH="1" flipV="1" rot="10800000">
            <a:off x="303840" y="4073040"/>
            <a:ext cx="724680" cy="804240"/>
          </a:xfrm>
          <a:prstGeom prst="bentConnector4">
            <a:avLst>
              <a:gd name="adj1" fmla="val -31560"/>
              <a:gd name="adj2" fmla="val 66368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04920" y="4876920"/>
            <a:ext cx="1447560" cy="5252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746680"/>
            <a:ext cx="8594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100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Recurso de moda: AMPARO, figura desnaturalizada en su carácter excepcional y restringido, tanto en su planteo como en su admisión y apl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uevos Fa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809880"/>
            <a:ext cx="2743200" cy="525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der Jud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19920" y="3809880"/>
            <a:ext cx="2879640" cy="525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ión de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1"/>
            <a:endCxn id="129" idx="0"/>
          </p:cNvCxnSpPr>
          <p:nvPr/>
        </p:nvCxnSpPr>
        <p:spPr>
          <a:xfrm flipH="1" flipV="1" rot="10800000">
            <a:off x="303840" y="4073040"/>
            <a:ext cx="724680" cy="804240"/>
          </a:xfrm>
          <a:prstGeom prst="bentConnector4">
            <a:avLst>
              <a:gd name="adj1" fmla="val -31560"/>
              <a:gd name="adj2" fmla="val 66368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04920" y="4876920"/>
            <a:ext cx="1447560" cy="5252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562720"/>
            <a:ext cx="85946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100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Bajo su protección se concretan demandas estimuladas por prestadores y orientadas por abogados que viabilizan demandas aprovechando la predisposición de la justicia, que evalua parcialmente su fundamentación sin participación anterior,  “inaudita par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uevos Fa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3809880"/>
            <a:ext cx="2743200" cy="525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der Jud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3809880"/>
            <a:ext cx="2879640" cy="525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ión de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uevos Fa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9880"/>
            <a:ext cx="2743200" cy="525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der Jud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19920" y="3809880"/>
            <a:ext cx="2879640" cy="525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ión del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648320"/>
            <a:ext cx="859464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100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Con un nivel de exigencia basado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100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El conocimiento de lo que la medicina puede ofrecer en general, aplicado a lo individ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100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El estimulo del interés personal del prest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100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Comic Sans MS"/>
              </a:rPr>
              <a:t>El apoyo del espacio jurídico, aprovechado por el interés individual de los agentes involucra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66680" y="4435560"/>
            <a:ext cx="739152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Princip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Recursos disponibles vs desarrollo técnicas diag y terapéu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Beneficio paciente: guía de act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Beneficio social: pauta funda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Nuevas Estrateg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cción: RENOVAR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66680" y="4435560"/>
            <a:ext cx="73915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La contención del gasto no debe impedir la recuperación de la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Pilares: Eficiencia, calidad y beneficio cole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Nuevas Estrateg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66680" y="4038480"/>
            <a:ext cx="739152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Demandemos y alentemos la gestión del Estado para evitar que el derecho a la salud del individuo no se sitúe por encima del derecho cole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Para que bajo principios de equidad, justicia distributiva y valoraciones éticas y bioéticas, la autoridad de aplicación organice los procedimientos de carácter general que den marco regulatorio a esta problem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Nuevas Estrateg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LL DE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2895480"/>
            <a:ext cx="7391520" cy="27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ff"/>
                </a:solidFill>
                <a:latin typeface="Comic Sans MS"/>
              </a:rPr>
              <a:t>Orientación hacia atención primaria, prevención, háb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ff"/>
                </a:solidFill>
                <a:latin typeface="Comic Sans MS"/>
              </a:rPr>
              <a:t>Normas de auditoría más rigurosas, conductas en la atención médica y prescripción de medicamentos y estudios de diag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ff"/>
                </a:solidFill>
                <a:latin typeface="Comic Sans MS"/>
              </a:rPr>
              <a:t>Pautas por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66ff"/>
                </a:solidFill>
                <a:latin typeface="Comic Sans MS"/>
              </a:rPr>
              <a:t>Moderación del uso, et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Comic Sans MS"/>
              </a:rPr>
              <a:t>Contención del costo méd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cc"/>
                </a:solidFill>
                <a:latin typeface="Copperplate Gothic Bold"/>
              </a:rPr>
              <a:t>Reseña historica estrategias, objetivos,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2851200"/>
            <a:ext cx="7391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Fide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Superación expectativas d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Calidad, mejora y satisfacción del cl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stimulación concepto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Reseña historica estrategias, objetivos,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66680" y="4282920"/>
            <a:ext cx="7391520" cy="18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Hecho liminar, efecto visagra que promue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Escenario crít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Entorno sumamente host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Nuevas e impensada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risis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4206960"/>
            <a:ext cx="7391520" cy="24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Con matices según el perfil pobl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Eventos coro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Amparo psicológico en médico de confi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Recategorización de prioridades que desplazó el cuidado de la salud a un segundo orden o situación expec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risis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Manifes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4435560"/>
            <a:ext cx="7391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Incrementos episodios coro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Número de consultas no vinculadas con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Disminución medicina preventiva, control y diagno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Tasas de uso internación menores expec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Demanda conte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risis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2971800"/>
            <a:ext cx="73915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Incremento significativo a partir primeros meses que revierte las indicadores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Reasignación de prioridades incluy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Se potencia el gasto, por demanda conte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66680" y="3902040"/>
            <a:ext cx="7391520" cy="27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La más clara expresión de la debacle económica-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más de 18 millones sin cobertura médica y sin acceso al medic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deudas del Pami con prestadors por más de 500 mil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4451400"/>
            <a:ext cx="73915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seguridad social comprometida económica y financiera 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Comic Sans MS"/>
              </a:rPr>
              <a:t>centros de diagnostico incapaces de afrontar endeudamiento en dó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spcBef>
                <a:spcPts val="1375"/>
              </a:spcBef>
              <a:buClr>
                <a:srgbClr val="063de8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829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52280"/>
            <a:ext cx="5791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219320"/>
            <a:ext cx="77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pperplate Gothic Bold"/>
              </a:rPr>
              <a:t>Aparición de Nuevos y Gravitantes Fa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133720"/>
            <a:ext cx="4156200" cy="52524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ño 200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132000"/>
            <a:ext cx="4156200" cy="525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E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5T23:52:00Z</dcterms:created>
  <dc:creator>Ruben Garcia</dc:creator>
  <dc:description/>
  <dc:language>en-US</dc:language>
  <cp:lastModifiedBy>pagina</cp:lastModifiedBy>
  <cp:lastPrinted>2003-10-27T16:08:47Z</cp:lastPrinted>
  <dcterms:modified xsi:type="dcterms:W3CDTF">2003-11-13T14:32:54Z</dcterms:modified>
  <cp:revision>325</cp:revision>
  <dc:subject/>
  <dc:title>Sin título de diapositiva</dc:title>
</cp:coreProperties>
</file>