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B9D-90F2-4682-938C-5E3ABD84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7B7-53F7-431E-9BCC-71939FBD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9B6-2018-4B62-B41F-09A47465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D15-3E73-48C1-9D53-403CA0FD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02C6-96D1-4D88-A2EE-95349CFC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97C-F71D-449A-972B-0D115BE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71E-601C-4F61-A847-7A89D4CB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6AA9-21C5-4E86-8B78-32ABF2E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5B2-6FEE-476E-82DA-E37D16C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5B53-95CB-413C-8869-5C175C81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10D-378C-49A8-B859-E7A8704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D0D-7B78-449E-B8B5-0E36C46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9318-5D44-416F-B7E7-EE666E8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447-391C-4EA7-89BD-5136B92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EEE-D434-4A70-9752-30027AE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963-2759-42E9-AD6E-8F19E8C0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1E26-2812-42D1-A8A7-F06E0F47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067-D731-4A77-9C97-7298160E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DA3-F6D0-499D-982E-21F8ED0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FA2-2158-4265-ACCA-4302FF8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AD-F53A-492E-8B40-DD8E2AFF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81F-B57C-4709-A247-ED4A71E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2B7-FC6F-4BB9-92A2-B34BAC7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75D-9ACB-4AFF-8DE9-BC2A191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8389-C3C9-4C22-B6DD-87E90501B754}" type="slidenum"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66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48D-ED4F-487C-8D3E-AE7DE93976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66"/>
                </a:solidFill>
                <a:uFillTx/>
                <a:latin typeface="Times New Roman"/>
              </a:rPr>
              <a:t>SIMPOSIO</a:t>
            </a:r>
            <a:r>
              <a:rPr b="1" lang="es-MX" sz="44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000"/>
            </a:br>
            <a:r>
              <a:rPr b="1" lang="es-MX" sz="5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s-MX" sz="4400" spc="-1" strike="noStrike">
                <a:solidFill>
                  <a:srgbClr val="000066"/>
                </a:solidFill>
                <a:latin typeface="Times New Roman"/>
              </a:rPr>
              <a:t>Crecer en tiempos de crisis”</a:t>
            </a:r>
            <a:br>
              <a:rPr sz="4400"/>
            </a:b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Estrategia contracíclica</a:t>
            </a:r>
            <a:br>
              <a:rPr sz="3600"/>
            </a:b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Banco Ciudad de Buenos Air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3760" y="53337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Times New Roman"/>
              </a:rPr>
              <a:t>Buenos Aires –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Times New Roman"/>
              </a:rPr>
              <a:t>Carlos A. R. Cl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Times New Roman"/>
              </a:rPr>
              <a:t>ccleri@bcba.Com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1295280" y="5257800"/>
          <a:ext cx="457200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257800"/>
                    <a:ext cx="4572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Accione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Optimización de la estructura de sucursa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nversión edilic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ncorporación tecnológica - informátic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Reformas de procesos, estructuras y dotaciones con el objetivo de brindar calidad de atención al cliente interno y extern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Desarrollo Humano. Aumentar el profesionalismo para mejorar los vínculos con los clientes.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Recambio generacional. Plan de Jóvenes Profesiona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olítica Comercial agresiva.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Individuos y Py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l Banco en la crisis - Salir del rebaño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aída de depósitos por debajo del sist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edido de asistencia al Central que no exceden la relación establecida por la nor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Anticipo a jubilados con fondos propi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Sostenimiento de la oferta crediticia, cumpliendo un rol contracíclico. Mantenimiento de las tasas por debajo del promedio financiero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Sostenimiento de las tasas pactadas pre-cris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Recomposición gradual de la liquidez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l Banco lidera la primera devolución de depósi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l Banco devuelve al Banco Central la totalidad de los redescuentos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(30 de juli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rimero en recomponer la oferta crediticia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(hipotecarios, prendarios, PyM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recimiento de la imagen del Ban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Algunos resultado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7010640" cy="4800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33720" y="380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Times New Roman"/>
              </a:rPr>
              <a:t>Patrimonio Neto sobre Activo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380880"/>
            <a:ext cx="682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Activos inmovilizados sobre Patrimonio Ne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934320" cy="403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18600" y="685800"/>
            <a:ext cx="73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Pasivo sobre Patrimonio Neto </a:t>
            </a: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(vece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467840" cy="4419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89680" y="968400"/>
            <a:ext cx="59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Disponibilidades sobre Depósi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Escenario Inicial</a:t>
            </a:r>
            <a:r>
              <a:rPr b="1" lang="es-E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(agosto ´96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ncumplimientos normativos con el BCR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Baja calidad de la cartera de préstamos </a:t>
            </a: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(18% en situación irregular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liquidez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Rentabilidad deficitar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Mala relación entre préstamos y depósito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ncidencia negativa de cargos por incobrabilida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imes New Roman"/>
              </a:rPr>
              <a:t>Calificación e Moody´s AA</a:t>
            </a:r>
            <a:br>
              <a:rPr sz="3600"/>
            </a:br>
            <a:r>
              <a:rPr b="1" lang="es-ES" sz="2400" spc="-1" strike="noStrike">
                <a:solidFill>
                  <a:srgbClr val="0000cc"/>
                </a:solidFill>
                <a:latin typeface="Times New Roman"/>
              </a:rPr>
              <a:t>(máxima calificación posible AA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2320560"/>
            <a:ext cx="8077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imes New Roman"/>
              </a:rPr>
              <a:t>Calificación del Público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Times New Roman"/>
              </a:rPr>
              <a:t>Máxima confiabilida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Hoy el Banco es: el 10° Banco del sist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n Activos y Patrimonio Neto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y el 5° en Depósitos y Préstam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Banco Ciudad demostró que: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51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La Banca Pública es necesar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Que se puede ser eficient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Que tiene un rol contra cícli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Que es importante la existencia de testigos de los costos del dinero y de los servicios bancari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Que la gente responde al estímulo de quienes se brindan en su fav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Baja generación e ingresos por servici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nadecuado nivel de capitalizació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Amenazas externa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oncentració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xtranjerizació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Decisiones adoptada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lan de encuadramiento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(3 año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Saneamiento de la cartera de préstam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apitalización del Ban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Atender de </a:t>
            </a:r>
            <a:r>
              <a:rPr b="1" i="1" lang="es-ES" sz="3200" spc="-1" strike="noStrike">
                <a:solidFill>
                  <a:srgbClr val="000066"/>
                </a:solidFill>
                <a:latin typeface="Times New Roman"/>
              </a:rPr>
              <a:t>eficientemente</a:t>
            </a: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 las necesidades financieras de </a:t>
            </a:r>
            <a:r>
              <a:rPr b="1" i="1" lang="es-ES" sz="3200" spc="-1" strike="noStrike">
                <a:solidFill>
                  <a:srgbClr val="000066"/>
                </a:solidFill>
                <a:latin typeface="Times New Roman"/>
              </a:rPr>
              <a:t>todos</a:t>
            </a: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 los vecinos del Area Metropolitana de Buenos Aires, especialmente los que no son considerador por otros Bancos del Sist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Valor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ficiencia, eficacia, sostenibilidad y compromiso soci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Objetivos de la actual Administración </a:t>
            </a:r>
            <a:r>
              <a:rPr b="1" lang="es-ES" sz="2800" spc="-1" strike="noStrike" u="sng">
                <a:solidFill>
                  <a:srgbClr val="0000cc"/>
                </a:solidFill>
                <a:uFillTx/>
                <a:latin typeface="Times New Roman"/>
              </a:rPr>
              <a:t>(fines del 2000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Mostrar que el Sector Público puede modernizarse y desenvolverse en situaciones de alta competencia como el sector financier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Que un Banco Público puede y debe cumplir un rol contracíclico, cubriendo las zonas no satisfecha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Que las metas pueden ser alcanzadas si no se está afectado por reclamos sectoriales o intereses político-partidari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ropender a la rentabilidad operativa para permitir la sostenibilidad de los servicios del Banco en el largo plaz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Fomentar la generación de empleo, especialmente a partir del apoyo a las iniciativas productivas (PyM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Fomentar la creación de capital soci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Fortaleza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onfiabilidad y predisposición a favor de los ciudadanos del AMB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Atención personalizada, con independencia del status social del client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apacidad y experiencia en manejo de Banca Pers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Tasas de interés por debajo de la med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ompetitividad de la oferta de produc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ompromiso del pers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Debilidade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structura pesada, burocrática y fragmentad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Impulso tecnológi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Operatoria compleja y diversificada.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Mezcla masivo y comercial, dificultad para combinar funciones sociales y actividades competitiv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Target en arco desde altos ingresos hasta sumergidos.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Imposibilidad para tener una estrategia únic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roblemas de integración territori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Amenaza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Agresividad de la competencia por parte de la banca privad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cc"/>
                </a:solidFill>
                <a:uFillTx/>
                <a:latin typeface="Times New Roman"/>
              </a:rPr>
              <a:t>Oportunidad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Penetrar en el mercado en tiempos de cris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Especializarse en segm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Consolidarse como Banco regional metropolitan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21:45:10Z</dcterms:created>
  <dc:creator>Cleri</dc:creator>
  <dc:description/>
  <dc:language>en-US</dc:language>
  <cp:lastModifiedBy>pagina</cp:lastModifiedBy>
  <dcterms:modified xsi:type="dcterms:W3CDTF">2003-11-13T14:22:27Z</dcterms:modified>
  <cp:revision>5</cp:revision>
  <dc:subject/>
  <dc:title>SIMPOSIO SLADE-CPCE  “Salir Del Rebaño” Estrategia del Banco Ciudad de Buenos Aires</dc:title>
</cp:coreProperties>
</file>