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D030-9F43-4071-BA4C-A71AA2B9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33EE-A7A6-45ED-B1F8-9B03E2E0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D892-7529-4F45-B1AD-18DFFDEB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C75-0B90-4498-97F9-C36BE01E1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1ED9-42D0-432C-886E-C92C8EB6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FE0D-461D-42D2-AAFD-402A6DF0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D3F6-C54B-4B49-94D1-FE32E5CB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37C4-D39D-4528-9701-390FAC1A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0B57-DB03-4FE7-BB22-1D5B8C3F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56AB-2FC5-48F0-AB86-1F060A6A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18AF-CAB1-4193-9361-2743B06C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C80C-AADF-4B45-9EC5-24C099CC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3942-BF2F-48F3-A5FE-8308997D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FABE-1B4E-4A2F-A602-0D04AE66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8E9E-C1DC-4332-8CF2-A49CCF4B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C0E8-81DC-45F1-B104-2F6F5B1A6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EBB3-FA51-43BB-BA9F-C64E5548F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838D-93E4-4C03-B962-6D5764A9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7083-E9D3-415E-9648-08449AA8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568B-A6E8-416D-A72C-A2B0371D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F124-12E7-4D7E-A47B-5626B4CE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479E-FDAB-4829-8515-B88403CB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2238-B7BB-4DEA-B16D-CE4E0515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BF50-7379-4B14-B329-D2754FEA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C4AF-0101-41E1-827B-1DDA6AE08DA2}" type="slidenum">
              <a:rPr b="1" lang="es-MX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61C2-2890-4057-86ED-A529F501C4A7}" type="slidenum">
              <a:rPr b="1" lang="es-MX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lbianco@garantizar.com.ar" TargetMode="External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90280" y="1260000"/>
            <a:ext cx="7671600" cy="13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2do. SIMPOSIO NACIONAL DE ESTRATEGIAS</a:t>
            </a:r>
            <a:br>
              <a:rPr sz="3200"/>
            </a:b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“Estrategias para nuestra Argentina”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15640" y="3141360"/>
            <a:ext cx="7273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s-MX" sz="3200" spc="-1" strike="noStrike">
                <a:solidFill>
                  <a:srgbClr val="006666"/>
                </a:solidFill>
                <a:latin typeface="Arial"/>
              </a:rPr>
              <a:t>Teoría del caos: ¿Fundamentación teórica de la Dirección por Valores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66"/>
                </a:solidFill>
                <a:latin typeface="Arial"/>
              </a:rPr>
              <a:t>Dr. LUIS MARIO BIANCO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11280" y="5445000"/>
            <a:ext cx="424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Arial"/>
              </a:rPr>
              <a:t>Ciudad Autónoma de Buenos Air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Arial"/>
              </a:rPr>
              <a:t>7 de noviembre de 200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8459640" y="6237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00000" y="2637000"/>
            <a:ext cx="75978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Arial"/>
              </a:rPr>
              <a:t>Podemos decir que es el estado final en el movimiento de un sistema complejo que se aparta del estado de equilibrio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177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7596360" y="6308640"/>
            <a:ext cx="576000" cy="216000"/>
          </a:xfrm>
          <a:custGeom>
            <a:avLst/>
            <a:gdLst>
              <a:gd name="textAreaLeft" fmla="*/ 13680 w 576000"/>
              <a:gd name="textAreaRight" fmla="*/ 562320 w 57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40" h="21600">
                <a:moveTo>
                  <a:pt x="0" y="0"/>
                </a:moveTo>
                <a:lnTo>
                  <a:pt x="57540" y="0"/>
                </a:lnTo>
                <a:lnTo>
                  <a:pt x="57540" y="21600"/>
                </a:lnTo>
                <a:lnTo>
                  <a:pt x="0" y="21600"/>
                </a:lnTo>
                <a:close/>
              </a:path>
              <a:path fill="lightenLess" w="57540" h="21600">
                <a:moveTo>
                  <a:pt x="0" y="0"/>
                </a:moveTo>
                <a:lnTo>
                  <a:pt x="57540" y="0"/>
                </a:lnTo>
                <a:lnTo>
                  <a:pt x="56140" y="1400"/>
                </a:lnTo>
                <a:lnTo>
                  <a:pt x="1400" y="1400"/>
                </a:lnTo>
                <a:close/>
              </a:path>
              <a:path fill="darken" w="57540" h="21600">
                <a:moveTo>
                  <a:pt x="57540" y="0"/>
                </a:moveTo>
                <a:lnTo>
                  <a:pt x="57540" y="21600"/>
                </a:lnTo>
                <a:lnTo>
                  <a:pt x="56140" y="20200"/>
                </a:lnTo>
                <a:lnTo>
                  <a:pt x="56140" y="1400"/>
                </a:lnTo>
                <a:close/>
              </a:path>
              <a:path fill="darkenLess" w="57540" h="21600">
                <a:moveTo>
                  <a:pt x="57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40" y="20200"/>
                </a:lnTo>
                <a:close/>
              </a:path>
              <a:path fill="lighten" w="57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40" h="21600">
                <a:moveTo>
                  <a:pt x="21764" y="10800"/>
                </a:moveTo>
                <a:lnTo>
                  <a:pt x="35777" y="3794"/>
                </a:lnTo>
                <a:lnTo>
                  <a:pt x="3577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76000" cy="216000"/>
          </a:xfrm>
          <a:custGeom>
            <a:avLst/>
            <a:gdLst>
              <a:gd name="textAreaLeft" fmla="*/ 13680 w 576000"/>
              <a:gd name="textAreaRight" fmla="*/ 562320 w 57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40" h="21600">
                <a:moveTo>
                  <a:pt x="0" y="0"/>
                </a:moveTo>
                <a:lnTo>
                  <a:pt x="57540" y="0"/>
                </a:lnTo>
                <a:lnTo>
                  <a:pt x="57540" y="21600"/>
                </a:lnTo>
                <a:lnTo>
                  <a:pt x="0" y="21600"/>
                </a:lnTo>
                <a:close/>
              </a:path>
              <a:path fill="lightenLess" w="57540" h="21600">
                <a:moveTo>
                  <a:pt x="0" y="0"/>
                </a:moveTo>
                <a:lnTo>
                  <a:pt x="57540" y="0"/>
                </a:lnTo>
                <a:lnTo>
                  <a:pt x="56140" y="1400"/>
                </a:lnTo>
                <a:lnTo>
                  <a:pt x="1400" y="1400"/>
                </a:lnTo>
                <a:close/>
              </a:path>
              <a:path fill="darken" w="57540" h="21600">
                <a:moveTo>
                  <a:pt x="57540" y="0"/>
                </a:moveTo>
                <a:lnTo>
                  <a:pt x="57540" y="21600"/>
                </a:lnTo>
                <a:lnTo>
                  <a:pt x="56140" y="20200"/>
                </a:lnTo>
                <a:lnTo>
                  <a:pt x="56140" y="1400"/>
                </a:lnTo>
                <a:close/>
              </a:path>
              <a:path fill="darkenLess" w="57540" h="21600">
                <a:moveTo>
                  <a:pt x="57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40" y="20200"/>
                </a:lnTo>
                <a:close/>
              </a:path>
              <a:path fill="lighten" w="57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40" h="21600">
                <a:moveTo>
                  <a:pt x="21764" y="3794"/>
                </a:moveTo>
                <a:lnTo>
                  <a:pt x="35777" y="10800"/>
                </a:lnTo>
                <a:lnTo>
                  <a:pt x="2176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280" y="692280"/>
            <a:ext cx="7924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6666"/>
                </a:solidFill>
                <a:latin typeface="Arial"/>
              </a:rPr>
              <a:t>¿ QUE ES EL CAOS 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13960" y="75060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6666"/>
                </a:solidFill>
                <a:latin typeface="Arial"/>
              </a:rPr>
              <a:t>DEL CAOS AL ORDEN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26920" y="2636640"/>
            <a:ext cx="7693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El Caos se autoorganiza a través de los denominados atractores extraños que generan un nuevo orde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previousslide"/>
          </p:cNvPr>
          <p:cNvSpPr/>
          <p:nvPr/>
        </p:nvSpPr>
        <p:spPr>
          <a:xfrm>
            <a:off x="7380360" y="6597720"/>
            <a:ext cx="647640" cy="260280"/>
          </a:xfrm>
          <a:custGeom>
            <a:avLst/>
            <a:gdLst>
              <a:gd name="textAreaLeft" fmla="*/ 16560 w 647640"/>
              <a:gd name="textAreaRight" fmla="*/ 631080 w 647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3702" h="21600">
                <a:moveTo>
                  <a:pt x="0" y="0"/>
                </a:moveTo>
                <a:lnTo>
                  <a:pt x="53702" y="0"/>
                </a:lnTo>
                <a:lnTo>
                  <a:pt x="53702" y="21600"/>
                </a:lnTo>
                <a:lnTo>
                  <a:pt x="0" y="21600"/>
                </a:lnTo>
                <a:close/>
              </a:path>
              <a:path fill="lightenLess" w="53702" h="21600">
                <a:moveTo>
                  <a:pt x="0" y="0"/>
                </a:moveTo>
                <a:lnTo>
                  <a:pt x="53702" y="0"/>
                </a:lnTo>
                <a:lnTo>
                  <a:pt x="52302" y="1400"/>
                </a:lnTo>
                <a:lnTo>
                  <a:pt x="1400" y="1400"/>
                </a:lnTo>
                <a:close/>
              </a:path>
              <a:path fill="darken" w="53702" h="21600">
                <a:moveTo>
                  <a:pt x="53702" y="0"/>
                </a:moveTo>
                <a:lnTo>
                  <a:pt x="53702" y="21600"/>
                </a:lnTo>
                <a:lnTo>
                  <a:pt x="52302" y="20200"/>
                </a:lnTo>
                <a:lnTo>
                  <a:pt x="52302" y="1400"/>
                </a:lnTo>
                <a:close/>
              </a:path>
              <a:path fill="darkenLess" w="53702" h="21600">
                <a:moveTo>
                  <a:pt x="53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2" y="20200"/>
                </a:lnTo>
                <a:close/>
              </a:path>
              <a:path fill="lighten" w="53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2" h="21600">
                <a:moveTo>
                  <a:pt x="19844" y="10800"/>
                </a:moveTo>
                <a:lnTo>
                  <a:pt x="33857" y="3794"/>
                </a:lnTo>
                <a:lnTo>
                  <a:pt x="3385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8244000" y="6597720"/>
            <a:ext cx="576000" cy="260280"/>
          </a:xfrm>
          <a:custGeom>
            <a:avLst/>
            <a:gdLst>
              <a:gd name="textAreaLeft" fmla="*/ 16560 w 576000"/>
              <a:gd name="textAreaRight" fmla="*/ 559440 w 576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7765" h="21600">
                <a:moveTo>
                  <a:pt x="0" y="0"/>
                </a:moveTo>
                <a:lnTo>
                  <a:pt x="47765" y="0"/>
                </a:lnTo>
                <a:lnTo>
                  <a:pt x="47765" y="21600"/>
                </a:lnTo>
                <a:lnTo>
                  <a:pt x="0" y="21600"/>
                </a:lnTo>
                <a:close/>
              </a:path>
              <a:path fill="lightenLess" w="47765" h="21600">
                <a:moveTo>
                  <a:pt x="0" y="0"/>
                </a:moveTo>
                <a:lnTo>
                  <a:pt x="47765" y="0"/>
                </a:lnTo>
                <a:lnTo>
                  <a:pt x="46365" y="1400"/>
                </a:lnTo>
                <a:lnTo>
                  <a:pt x="1400" y="1400"/>
                </a:lnTo>
                <a:close/>
              </a:path>
              <a:path fill="darken" w="47765" h="21600">
                <a:moveTo>
                  <a:pt x="47765" y="0"/>
                </a:moveTo>
                <a:lnTo>
                  <a:pt x="47765" y="21600"/>
                </a:lnTo>
                <a:lnTo>
                  <a:pt x="46365" y="20200"/>
                </a:lnTo>
                <a:lnTo>
                  <a:pt x="46365" y="1400"/>
                </a:lnTo>
                <a:close/>
              </a:path>
              <a:path fill="darkenLess" w="47765" h="21600">
                <a:moveTo>
                  <a:pt x="47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365" y="20200"/>
                </a:lnTo>
                <a:close/>
              </a:path>
              <a:path fill="lighten" w="47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765" h="21600">
                <a:moveTo>
                  <a:pt x="16876" y="3794"/>
                </a:moveTo>
                <a:lnTo>
                  <a:pt x="30889" y="10800"/>
                </a:lnTo>
                <a:lnTo>
                  <a:pt x="1687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7000"/>
            <a:ext cx="777996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LOS VALORES COMO ESTADOS ATRACTO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187280" y="2565360"/>
            <a:ext cx="734400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Cuando los valores culturales operativos se transforman en estados atractores, entran en juego para la creación de un nuevo orden en un  estadío superio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previousslide"/>
          </p:cNvPr>
          <p:cNvSpPr/>
          <p:nvPr/>
        </p:nvSpPr>
        <p:spPr>
          <a:xfrm>
            <a:off x="7164360" y="6308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7956720" y="6308640"/>
            <a:ext cx="576000" cy="216000"/>
          </a:xfrm>
          <a:custGeom>
            <a:avLst/>
            <a:gdLst>
              <a:gd name="textAreaLeft" fmla="*/ 13680 w 576000"/>
              <a:gd name="textAreaRight" fmla="*/ 562320 w 57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40" h="21600">
                <a:moveTo>
                  <a:pt x="0" y="0"/>
                </a:moveTo>
                <a:lnTo>
                  <a:pt x="57540" y="0"/>
                </a:lnTo>
                <a:lnTo>
                  <a:pt x="57540" y="21600"/>
                </a:lnTo>
                <a:lnTo>
                  <a:pt x="0" y="21600"/>
                </a:lnTo>
                <a:close/>
              </a:path>
              <a:path fill="lightenLess" w="57540" h="21600">
                <a:moveTo>
                  <a:pt x="0" y="0"/>
                </a:moveTo>
                <a:lnTo>
                  <a:pt x="57540" y="0"/>
                </a:lnTo>
                <a:lnTo>
                  <a:pt x="56140" y="1400"/>
                </a:lnTo>
                <a:lnTo>
                  <a:pt x="1400" y="1400"/>
                </a:lnTo>
                <a:close/>
              </a:path>
              <a:path fill="darken" w="57540" h="21600">
                <a:moveTo>
                  <a:pt x="57540" y="0"/>
                </a:moveTo>
                <a:lnTo>
                  <a:pt x="57540" y="21600"/>
                </a:lnTo>
                <a:lnTo>
                  <a:pt x="56140" y="20200"/>
                </a:lnTo>
                <a:lnTo>
                  <a:pt x="56140" y="1400"/>
                </a:lnTo>
                <a:close/>
              </a:path>
              <a:path fill="darkenLess" w="57540" h="21600">
                <a:moveTo>
                  <a:pt x="57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40" y="20200"/>
                </a:lnTo>
                <a:close/>
              </a:path>
              <a:path fill="lighten" w="57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40" h="21600">
                <a:moveTo>
                  <a:pt x="21764" y="3794"/>
                </a:moveTo>
                <a:lnTo>
                  <a:pt x="35777" y="10800"/>
                </a:lnTo>
                <a:lnTo>
                  <a:pt x="2176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PUNTOS DE BIFUR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Son hitos de la evolución del sistema en los cuales cada decisión tomada en dichos puntos implica la amplificación de una situación, transformándola en una palanca que puede ser exitosa o no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7093080" y="6597720"/>
            <a:ext cx="647640" cy="260280"/>
          </a:xfrm>
          <a:custGeom>
            <a:avLst/>
            <a:gdLst>
              <a:gd name="textAreaLeft" fmla="*/ 16560 w 647640"/>
              <a:gd name="textAreaRight" fmla="*/ 631080 w 64764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3702" h="21600">
                <a:moveTo>
                  <a:pt x="0" y="0"/>
                </a:moveTo>
                <a:lnTo>
                  <a:pt x="53702" y="0"/>
                </a:lnTo>
                <a:lnTo>
                  <a:pt x="53702" y="21600"/>
                </a:lnTo>
                <a:lnTo>
                  <a:pt x="0" y="21600"/>
                </a:lnTo>
                <a:close/>
              </a:path>
              <a:path fill="lightenLess" w="53702" h="21600">
                <a:moveTo>
                  <a:pt x="0" y="0"/>
                </a:moveTo>
                <a:lnTo>
                  <a:pt x="53702" y="0"/>
                </a:lnTo>
                <a:lnTo>
                  <a:pt x="52302" y="1400"/>
                </a:lnTo>
                <a:lnTo>
                  <a:pt x="1400" y="1400"/>
                </a:lnTo>
                <a:close/>
              </a:path>
              <a:path fill="darken" w="53702" h="21600">
                <a:moveTo>
                  <a:pt x="53702" y="0"/>
                </a:moveTo>
                <a:lnTo>
                  <a:pt x="53702" y="21600"/>
                </a:lnTo>
                <a:lnTo>
                  <a:pt x="52302" y="20200"/>
                </a:lnTo>
                <a:lnTo>
                  <a:pt x="52302" y="1400"/>
                </a:lnTo>
                <a:close/>
              </a:path>
              <a:path fill="darkenLess" w="53702" h="21600">
                <a:moveTo>
                  <a:pt x="53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2" y="20200"/>
                </a:lnTo>
                <a:close/>
              </a:path>
              <a:path fill="lighten" w="53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2" h="21600">
                <a:moveTo>
                  <a:pt x="19844" y="10800"/>
                </a:moveTo>
                <a:lnTo>
                  <a:pt x="33857" y="3794"/>
                </a:lnTo>
                <a:lnTo>
                  <a:pt x="3385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8028000" y="6597720"/>
            <a:ext cx="720720" cy="260280"/>
          </a:xfrm>
          <a:custGeom>
            <a:avLst/>
            <a:gdLst>
              <a:gd name="textAreaLeft" fmla="*/ 16560 w 720720"/>
              <a:gd name="textAreaRight" fmla="*/ 704160 w 72072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9758" h="21600">
                <a:moveTo>
                  <a:pt x="0" y="0"/>
                </a:moveTo>
                <a:lnTo>
                  <a:pt x="59758" y="0"/>
                </a:lnTo>
                <a:lnTo>
                  <a:pt x="59758" y="21600"/>
                </a:lnTo>
                <a:lnTo>
                  <a:pt x="0" y="21600"/>
                </a:lnTo>
                <a:close/>
              </a:path>
              <a:path fill="lightenLess" w="59758" h="21600">
                <a:moveTo>
                  <a:pt x="0" y="0"/>
                </a:moveTo>
                <a:lnTo>
                  <a:pt x="59758" y="0"/>
                </a:lnTo>
                <a:lnTo>
                  <a:pt x="58358" y="1400"/>
                </a:lnTo>
                <a:lnTo>
                  <a:pt x="1400" y="1400"/>
                </a:lnTo>
                <a:close/>
              </a:path>
              <a:path fill="darken" w="59758" h="21600">
                <a:moveTo>
                  <a:pt x="59758" y="0"/>
                </a:moveTo>
                <a:lnTo>
                  <a:pt x="59758" y="21600"/>
                </a:lnTo>
                <a:lnTo>
                  <a:pt x="58358" y="20200"/>
                </a:lnTo>
                <a:lnTo>
                  <a:pt x="58358" y="1400"/>
                </a:lnTo>
                <a:close/>
              </a:path>
              <a:path fill="darkenLess" w="59758" h="21600">
                <a:moveTo>
                  <a:pt x="59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358" y="20200"/>
                </a:lnTo>
                <a:close/>
              </a:path>
              <a:path fill="lighten" w="59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758" h="21600">
                <a:moveTo>
                  <a:pt x="22873" y="3794"/>
                </a:moveTo>
                <a:lnTo>
                  <a:pt x="36885" y="10800"/>
                </a:lnTo>
                <a:lnTo>
                  <a:pt x="2287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04600" y="885600"/>
            <a:ext cx="7826040" cy="68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PUNTOS DE BIFUR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71280" y="2491920"/>
            <a:ext cx="7692840" cy="32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El momento anterior a estos estados es cuando las organizaciones desarrollan el máximo de creatividad e innovació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6948360" y="6597720"/>
            <a:ext cx="648000" cy="260280"/>
          </a:xfrm>
          <a:custGeom>
            <a:avLst/>
            <a:gdLst>
              <a:gd name="textAreaLeft" fmla="*/ 16560 w 648000"/>
              <a:gd name="textAreaRight" fmla="*/ 631440 w 648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53731" h="21600">
                <a:moveTo>
                  <a:pt x="0" y="0"/>
                </a:moveTo>
                <a:lnTo>
                  <a:pt x="53731" y="0"/>
                </a:lnTo>
                <a:lnTo>
                  <a:pt x="53731" y="21600"/>
                </a:lnTo>
                <a:lnTo>
                  <a:pt x="0" y="21600"/>
                </a:lnTo>
                <a:close/>
              </a:path>
              <a:path fill="lightenLess" w="53731" h="21600">
                <a:moveTo>
                  <a:pt x="0" y="0"/>
                </a:moveTo>
                <a:lnTo>
                  <a:pt x="53731" y="0"/>
                </a:lnTo>
                <a:lnTo>
                  <a:pt x="52331" y="1400"/>
                </a:lnTo>
                <a:lnTo>
                  <a:pt x="1400" y="1400"/>
                </a:lnTo>
                <a:close/>
              </a:path>
              <a:path fill="darken" w="53731" h="21600">
                <a:moveTo>
                  <a:pt x="53731" y="0"/>
                </a:moveTo>
                <a:lnTo>
                  <a:pt x="53731" y="21600"/>
                </a:lnTo>
                <a:lnTo>
                  <a:pt x="52331" y="20200"/>
                </a:lnTo>
                <a:lnTo>
                  <a:pt x="52331" y="1400"/>
                </a:lnTo>
                <a:close/>
              </a:path>
              <a:path fill="darkenLess" w="53731" h="21600">
                <a:moveTo>
                  <a:pt x="53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31" y="20200"/>
                </a:lnTo>
                <a:close/>
              </a:path>
              <a:path fill="lighten" w="53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31" h="21600">
                <a:moveTo>
                  <a:pt x="19859" y="10800"/>
                </a:moveTo>
                <a:lnTo>
                  <a:pt x="33872" y="3794"/>
                </a:lnTo>
                <a:lnTo>
                  <a:pt x="3387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7885080" y="6597720"/>
            <a:ext cx="574560" cy="260280"/>
          </a:xfrm>
          <a:custGeom>
            <a:avLst/>
            <a:gdLst>
              <a:gd name="textAreaLeft" fmla="*/ 16560 w 574560"/>
              <a:gd name="textAreaRight" fmla="*/ 558000 w 5745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7645" h="21600">
                <a:moveTo>
                  <a:pt x="0" y="0"/>
                </a:moveTo>
                <a:lnTo>
                  <a:pt x="47645" y="0"/>
                </a:lnTo>
                <a:lnTo>
                  <a:pt x="47645" y="21600"/>
                </a:lnTo>
                <a:lnTo>
                  <a:pt x="0" y="21600"/>
                </a:lnTo>
                <a:close/>
              </a:path>
              <a:path fill="lightenLess" w="47645" h="21600">
                <a:moveTo>
                  <a:pt x="0" y="0"/>
                </a:moveTo>
                <a:lnTo>
                  <a:pt x="47645" y="0"/>
                </a:lnTo>
                <a:lnTo>
                  <a:pt x="46245" y="1400"/>
                </a:lnTo>
                <a:lnTo>
                  <a:pt x="1400" y="1400"/>
                </a:lnTo>
                <a:close/>
              </a:path>
              <a:path fill="darken" w="47645" h="21600">
                <a:moveTo>
                  <a:pt x="47645" y="0"/>
                </a:moveTo>
                <a:lnTo>
                  <a:pt x="47645" y="21600"/>
                </a:lnTo>
                <a:lnTo>
                  <a:pt x="46245" y="20200"/>
                </a:lnTo>
                <a:lnTo>
                  <a:pt x="46245" y="1400"/>
                </a:lnTo>
                <a:close/>
              </a:path>
              <a:path fill="darkenLess" w="47645" h="21600">
                <a:moveTo>
                  <a:pt x="47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45" y="20200"/>
                </a:lnTo>
                <a:close/>
              </a:path>
              <a:path fill="lighten" w="47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645" h="21600">
                <a:moveTo>
                  <a:pt x="16816" y="3794"/>
                </a:moveTo>
                <a:lnTo>
                  <a:pt x="30829" y="10800"/>
                </a:lnTo>
                <a:lnTo>
                  <a:pt x="1681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87280" y="2565360"/>
            <a:ext cx="76327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s-ES_tradnl" sz="3200" spc="-1" strike="noStrike">
                <a:solidFill>
                  <a:srgbClr val="003366"/>
                </a:solidFill>
                <a:latin typeface="Arial"/>
              </a:rPr>
              <a:t>La creatividad es un proceso psicológico precedente a la innovación y negativamente condicionado por el exceso de estabilidad y orden.”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59000" y="6093000"/>
            <a:ext cx="19195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66"/>
                </a:solidFill>
                <a:latin typeface="Bookman"/>
              </a:rPr>
              <a:t>S. Garcia – W. Dol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7667640" y="6308640"/>
            <a:ext cx="576360" cy="217440"/>
          </a:xfrm>
          <a:custGeom>
            <a:avLst/>
            <a:gdLst>
              <a:gd name="textAreaLeft" fmla="*/ 14040 w 576360"/>
              <a:gd name="textAreaRight" fmla="*/ 562320 w 57636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57195" h="21600">
                <a:moveTo>
                  <a:pt x="0" y="0"/>
                </a:moveTo>
                <a:lnTo>
                  <a:pt x="57195" y="0"/>
                </a:lnTo>
                <a:lnTo>
                  <a:pt x="57195" y="21600"/>
                </a:lnTo>
                <a:lnTo>
                  <a:pt x="0" y="21600"/>
                </a:lnTo>
                <a:close/>
              </a:path>
              <a:path fill="lightenLess" w="57195" h="21600">
                <a:moveTo>
                  <a:pt x="0" y="0"/>
                </a:moveTo>
                <a:lnTo>
                  <a:pt x="57195" y="0"/>
                </a:lnTo>
                <a:lnTo>
                  <a:pt x="55795" y="1400"/>
                </a:lnTo>
                <a:lnTo>
                  <a:pt x="1400" y="1400"/>
                </a:lnTo>
                <a:close/>
              </a:path>
              <a:path fill="darken" w="57195" h="21600">
                <a:moveTo>
                  <a:pt x="57195" y="0"/>
                </a:moveTo>
                <a:lnTo>
                  <a:pt x="57195" y="21600"/>
                </a:lnTo>
                <a:lnTo>
                  <a:pt x="55795" y="20200"/>
                </a:lnTo>
                <a:lnTo>
                  <a:pt x="55795" y="1400"/>
                </a:lnTo>
                <a:close/>
              </a:path>
              <a:path fill="darkenLess" w="57195" h="21600">
                <a:moveTo>
                  <a:pt x="57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795" y="20200"/>
                </a:lnTo>
                <a:close/>
              </a:path>
              <a:path fill="lighten" w="57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195" h="21600">
                <a:moveTo>
                  <a:pt x="21591" y="10800"/>
                </a:moveTo>
                <a:lnTo>
                  <a:pt x="35604" y="3794"/>
                </a:lnTo>
                <a:lnTo>
                  <a:pt x="3560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8317080" y="6308640"/>
            <a:ext cx="502920" cy="216000"/>
          </a:xfrm>
          <a:custGeom>
            <a:avLst/>
            <a:gdLst>
              <a:gd name="textAreaLeft" fmla="*/ 13680 w 502920"/>
              <a:gd name="textAreaRight" fmla="*/ 489240 w 502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244" h="21600">
                <a:moveTo>
                  <a:pt x="0" y="0"/>
                </a:moveTo>
                <a:lnTo>
                  <a:pt x="50244" y="0"/>
                </a:lnTo>
                <a:lnTo>
                  <a:pt x="50244" y="21600"/>
                </a:lnTo>
                <a:lnTo>
                  <a:pt x="0" y="21600"/>
                </a:lnTo>
                <a:close/>
              </a:path>
              <a:path fill="lightenLess" w="50244" h="21600">
                <a:moveTo>
                  <a:pt x="0" y="0"/>
                </a:moveTo>
                <a:lnTo>
                  <a:pt x="50244" y="0"/>
                </a:lnTo>
                <a:lnTo>
                  <a:pt x="48844" y="1400"/>
                </a:lnTo>
                <a:lnTo>
                  <a:pt x="1400" y="1400"/>
                </a:lnTo>
                <a:close/>
              </a:path>
              <a:path fill="darken" w="50244" h="21600">
                <a:moveTo>
                  <a:pt x="50244" y="0"/>
                </a:moveTo>
                <a:lnTo>
                  <a:pt x="50244" y="21600"/>
                </a:lnTo>
                <a:lnTo>
                  <a:pt x="48844" y="20200"/>
                </a:lnTo>
                <a:lnTo>
                  <a:pt x="48844" y="1400"/>
                </a:lnTo>
                <a:close/>
              </a:path>
              <a:path fill="darkenLess" w="50244" h="21600">
                <a:moveTo>
                  <a:pt x="5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44" y="20200"/>
                </a:lnTo>
                <a:close/>
              </a:path>
              <a:path fill="lighten" w="5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44" h="21600">
                <a:moveTo>
                  <a:pt x="18116" y="3794"/>
                </a:moveTo>
                <a:lnTo>
                  <a:pt x="32129" y="10800"/>
                </a:lnTo>
                <a:lnTo>
                  <a:pt x="1811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280" y="764640"/>
            <a:ext cx="7924680" cy="8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6666"/>
                </a:solidFill>
                <a:latin typeface="Arial"/>
              </a:rPr>
              <a:t>CREATIVIDAD E INNOVAC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16000" y="2637000"/>
            <a:ext cx="7704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Por ello, un estado de equilibrio permanente tiende al desfasaje del sistema con su contexto preparando un nuevo camino hacia el desorde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7812000" y="6381720"/>
            <a:ext cx="433440" cy="216000"/>
          </a:xfrm>
          <a:custGeom>
            <a:avLst/>
            <a:gdLst>
              <a:gd name="textAreaLeft" fmla="*/ 13680 w 433440"/>
              <a:gd name="textAreaRight" fmla="*/ 419760 w 433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7" y="10800"/>
                </a:moveTo>
                <a:lnTo>
                  <a:pt x="28660" y="3794"/>
                </a:lnTo>
                <a:lnTo>
                  <a:pt x="2866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8461440" y="6381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280" y="836280"/>
            <a:ext cx="79246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DEL ORDEN AL DESORD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LOS VALORES COMO ATRACTO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3640" y="4653000"/>
            <a:ext cx="4921200" cy="1081080"/>
          </a:xfrm>
          <a:custGeom>
            <a:avLst/>
            <a:gdLst/>
            <a:ahLst/>
            <a:rect l="l" t="t" r="r" b="b"/>
            <a:pathLst>
              <a:path w="3099" h="605">
                <a:moveTo>
                  <a:pt x="0" y="0"/>
                </a:moveTo>
                <a:cubicBezTo>
                  <a:pt x="68" y="200"/>
                  <a:pt x="136" y="401"/>
                  <a:pt x="589" y="499"/>
                </a:cubicBezTo>
                <a:cubicBezTo>
                  <a:pt x="1042" y="597"/>
                  <a:pt x="2343" y="575"/>
                  <a:pt x="2721" y="590"/>
                </a:cubicBezTo>
                <a:cubicBezTo>
                  <a:pt x="3099" y="605"/>
                  <a:pt x="2978" y="597"/>
                  <a:pt x="2857" y="590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203640" y="3500280"/>
            <a:ext cx="4608360" cy="1224000"/>
          </a:xfrm>
          <a:custGeom>
            <a:avLst/>
            <a:gdLst/>
            <a:ahLst/>
            <a:rect l="l" t="t" r="r" b="b"/>
            <a:pathLst>
              <a:path w="3099" h="605">
                <a:moveTo>
                  <a:pt x="0" y="0"/>
                </a:moveTo>
                <a:cubicBezTo>
                  <a:pt x="68" y="200"/>
                  <a:pt x="136" y="401"/>
                  <a:pt x="589" y="499"/>
                </a:cubicBezTo>
                <a:cubicBezTo>
                  <a:pt x="1042" y="597"/>
                  <a:pt x="2343" y="575"/>
                  <a:pt x="2721" y="590"/>
                </a:cubicBezTo>
                <a:cubicBezTo>
                  <a:pt x="3099" y="605"/>
                  <a:pt x="2978" y="597"/>
                  <a:pt x="2857" y="590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80000" y="5229360"/>
            <a:ext cx="34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51280" y="5661000"/>
            <a:ext cx="44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Arial"/>
              </a:rPr>
              <a:t>Estados atractores - 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no adecu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4000" y="249228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Arial"/>
              </a:rPr>
              <a:t>Estados atractores - 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valores culturales autoorganiz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6920" y="4724280"/>
            <a:ext cx="24498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640" y="285264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Arial"/>
              </a:rPr>
              <a:t>Punto de Bifurc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92360" y="3716280"/>
            <a:ext cx="1224000" cy="792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90280" y="1260000"/>
            <a:ext cx="7671600" cy="13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La Teoría del Caos ¿es una posible fundamentación teórica de la Dirección por Valores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2411280" y="3500280"/>
            <a:ext cx="482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66"/>
                </a:solidFill>
                <a:latin typeface="Arial"/>
              </a:rPr>
              <a:t>MUCHAS GRACI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602136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Dr. Luis Mario Bianco                                        </a:t>
            </a:r>
            <a:r>
              <a:rPr b="0" lang="es-MX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lbianco@garantizar.com.ar</a:t>
            </a: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28560" y="242100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43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300" spc="-1" strike="noStrike">
                <a:solidFill>
                  <a:srgbClr val="2b2a15"/>
                </a:solidFill>
                <a:latin typeface="Arial"/>
              </a:rPr>
              <a:t>La necesidad de absorber un creciente grado de complejidad, dio lugar a que las organizaciones evolucionaran desde la conducción tradicional hacia la Dirección por Objetivos.  Actualmente se está desarrollando un nuevo concepto sobre Dirección por Valores.</a:t>
            </a:r>
            <a:endParaRPr b="0" lang="en-US" sz="3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7740720" y="616428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8317080" y="616428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6666"/>
                </a:solidFill>
                <a:latin typeface="Arial"/>
              </a:rPr>
              <a:t>EVOLUCION DE SISTEMAS </a:t>
            </a:r>
            <a:br>
              <a:rPr sz="3600"/>
            </a:br>
            <a:r>
              <a:rPr b="1" lang="es-AR" sz="3600" spc="-1" strike="noStrike">
                <a:solidFill>
                  <a:srgbClr val="006666"/>
                </a:solidFill>
                <a:latin typeface="Arial"/>
              </a:rPr>
              <a:t>DE DIRE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¿QUE ES LA DIRECCION POR  VALOR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03280" y="2491920"/>
            <a:ext cx="73440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Podemos considerarla como un marco global en el cual la acción empresaria se configura articulando valores esenciales que orientan su comportamiento hacia la creación de valo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172360" y="6308640"/>
            <a:ext cx="574920" cy="289080"/>
          </a:xfrm>
          <a:custGeom>
            <a:avLst/>
            <a:gdLst>
              <a:gd name="textAreaLeft" fmla="*/ 18720 w 574920"/>
              <a:gd name="textAreaRight" fmla="*/ 556200 w 5749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28600" y="1219320"/>
          <a:ext cx="8686440" cy="5409720"/>
        </p:xfrm>
        <a:graphic>
          <a:graphicData uri="http://schemas.openxmlformats.org/drawingml/2006/table">
            <a:tbl>
              <a:tblPr/>
              <a:tblGrid>
                <a:gridCol w="2425680"/>
                <a:gridCol w="1956240"/>
                <a:gridCol w="2270160"/>
                <a:gridCol w="2034360"/>
              </a:tblGrid>
              <a:tr h="576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pI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pO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pV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</a:tr>
              <a:tr h="109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ITUACIÓN DE APLICACIÓN PREFERENTE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Rutina o emergencias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omplejidad moderada. Producción relativamente estandarizable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Necesidad de creatividad para la solución de problemas complejos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TIPO DE LIDERAZGO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irigista tradicional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dministrador de recursos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Legitimador de transformaciones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TIPO DE OFERTA DE PRODUCTOS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onopolista. Estandarizada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egmentada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ltamente diversificada y cambiante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NECESIDAD DE TOLERANCIA DE AMBIGÜEDAD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Baja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edia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lta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NECESIDAD DE AUTONOMÍA Y RESPONSABILIDAD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Baja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edia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lta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STABILIDAD DEL ENTORNO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ntorno estable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ntorno moderadamente cambiante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Entorno muy cambiante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00000" y="838080"/>
            <a:ext cx="777888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¿QUE ES LA DIRECCION POR VALOR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Arial"/>
              </a:rPr>
              <a:t>Propone un esquema multidimensional basado en un núcleo formado por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3500280"/>
            <a:ext cx="806436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400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La Visión y la Misión, como valore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finale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4508640"/>
            <a:ext cx="8064360" cy="9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0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Valores culturales operativos, como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valores derivado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5661000"/>
            <a:ext cx="853272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0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Objetivos de mediano y corto plazo para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la acción empresaria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8459640" y="6524640"/>
            <a:ext cx="684360" cy="333360"/>
          </a:xfrm>
          <a:custGeom>
            <a:avLst/>
            <a:gdLst>
              <a:gd name="textAreaLeft" fmla="*/ 21600 w 684360"/>
              <a:gd name="textAreaRight" fmla="*/ 662760 w 684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4318" h="21600">
                <a:moveTo>
                  <a:pt x="0" y="0"/>
                </a:moveTo>
                <a:lnTo>
                  <a:pt x="44318" y="0"/>
                </a:lnTo>
                <a:lnTo>
                  <a:pt x="44318" y="21600"/>
                </a:lnTo>
                <a:lnTo>
                  <a:pt x="0" y="21600"/>
                </a:lnTo>
                <a:close/>
              </a:path>
              <a:path fill="lightenLess" w="44318" h="21600">
                <a:moveTo>
                  <a:pt x="0" y="0"/>
                </a:moveTo>
                <a:lnTo>
                  <a:pt x="44318" y="0"/>
                </a:lnTo>
                <a:lnTo>
                  <a:pt x="42918" y="1400"/>
                </a:lnTo>
                <a:lnTo>
                  <a:pt x="1400" y="1400"/>
                </a:lnTo>
                <a:close/>
              </a:path>
              <a:path fill="darken" w="44318" h="21600">
                <a:moveTo>
                  <a:pt x="44318" y="0"/>
                </a:moveTo>
                <a:lnTo>
                  <a:pt x="44318" y="21600"/>
                </a:lnTo>
                <a:lnTo>
                  <a:pt x="42918" y="20200"/>
                </a:lnTo>
                <a:lnTo>
                  <a:pt x="42918" y="1400"/>
                </a:lnTo>
                <a:close/>
              </a:path>
              <a:path fill="darkenLess" w="44318" h="21600">
                <a:moveTo>
                  <a:pt x="44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18" y="20200"/>
                </a:lnTo>
                <a:close/>
              </a:path>
              <a:path fill="lighten" w="44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318" h="21600">
                <a:moveTo>
                  <a:pt x="15153" y="3794"/>
                </a:moveTo>
                <a:lnTo>
                  <a:pt x="29166" y="10800"/>
                </a:lnTo>
                <a:lnTo>
                  <a:pt x="1515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previousslide"/>
          </p:cNvPr>
          <p:cNvSpPr/>
          <p:nvPr/>
        </p:nvSpPr>
        <p:spPr>
          <a:xfrm>
            <a:off x="7667640" y="6524640"/>
            <a:ext cx="649440" cy="333360"/>
          </a:xfrm>
          <a:custGeom>
            <a:avLst/>
            <a:gdLst>
              <a:gd name="textAreaLeft" fmla="*/ 21600 w 649440"/>
              <a:gd name="textAreaRight" fmla="*/ 627840 w 6494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2058" h="21600">
                <a:moveTo>
                  <a:pt x="0" y="0"/>
                </a:moveTo>
                <a:lnTo>
                  <a:pt x="42058" y="0"/>
                </a:lnTo>
                <a:lnTo>
                  <a:pt x="42058" y="21600"/>
                </a:lnTo>
                <a:lnTo>
                  <a:pt x="0" y="21600"/>
                </a:lnTo>
                <a:close/>
              </a:path>
              <a:path fill="lightenLess" w="42058" h="21600">
                <a:moveTo>
                  <a:pt x="0" y="0"/>
                </a:moveTo>
                <a:lnTo>
                  <a:pt x="42058" y="0"/>
                </a:lnTo>
                <a:lnTo>
                  <a:pt x="40658" y="1400"/>
                </a:lnTo>
                <a:lnTo>
                  <a:pt x="1400" y="1400"/>
                </a:lnTo>
                <a:close/>
              </a:path>
              <a:path fill="darken" w="42058" h="21600">
                <a:moveTo>
                  <a:pt x="42058" y="0"/>
                </a:moveTo>
                <a:lnTo>
                  <a:pt x="42058" y="21600"/>
                </a:lnTo>
                <a:lnTo>
                  <a:pt x="40658" y="20200"/>
                </a:lnTo>
                <a:lnTo>
                  <a:pt x="40658" y="1400"/>
                </a:lnTo>
                <a:close/>
              </a:path>
              <a:path fill="darkenLess" w="42058" h="21600">
                <a:moveTo>
                  <a:pt x="420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658" y="20200"/>
                </a:lnTo>
                <a:close/>
              </a:path>
              <a:path fill="lighten" w="420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058" h="21600">
                <a:moveTo>
                  <a:pt x="14023" y="10800"/>
                </a:moveTo>
                <a:lnTo>
                  <a:pt x="28036" y="3794"/>
                </a:lnTo>
                <a:lnTo>
                  <a:pt x="2803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LA ESTRATEGIA EN LA DIRECCION POR VALO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26560" y="2781360"/>
            <a:ext cx="79218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Se formula proyectando los valores finales (Visión / Misión) derivando de ellos los valores culturales, llegando luego hasta la realidad empresaria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7596360" y="6597720"/>
            <a:ext cx="576000" cy="260280"/>
          </a:xfrm>
          <a:custGeom>
            <a:avLst/>
            <a:gdLst>
              <a:gd name="textAreaLeft" fmla="*/ 16560 w 576000"/>
              <a:gd name="textAreaRight" fmla="*/ 559440 w 576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7765" h="21600">
                <a:moveTo>
                  <a:pt x="0" y="0"/>
                </a:moveTo>
                <a:lnTo>
                  <a:pt x="47765" y="0"/>
                </a:lnTo>
                <a:lnTo>
                  <a:pt x="47765" y="21600"/>
                </a:lnTo>
                <a:lnTo>
                  <a:pt x="0" y="21600"/>
                </a:lnTo>
                <a:close/>
              </a:path>
              <a:path fill="lightenLess" w="47765" h="21600">
                <a:moveTo>
                  <a:pt x="0" y="0"/>
                </a:moveTo>
                <a:lnTo>
                  <a:pt x="47765" y="0"/>
                </a:lnTo>
                <a:lnTo>
                  <a:pt x="46365" y="1400"/>
                </a:lnTo>
                <a:lnTo>
                  <a:pt x="1400" y="1400"/>
                </a:lnTo>
                <a:close/>
              </a:path>
              <a:path fill="darken" w="47765" h="21600">
                <a:moveTo>
                  <a:pt x="47765" y="0"/>
                </a:moveTo>
                <a:lnTo>
                  <a:pt x="47765" y="21600"/>
                </a:lnTo>
                <a:lnTo>
                  <a:pt x="46365" y="20200"/>
                </a:lnTo>
                <a:lnTo>
                  <a:pt x="46365" y="1400"/>
                </a:lnTo>
                <a:close/>
              </a:path>
              <a:path fill="darkenLess" w="47765" h="21600">
                <a:moveTo>
                  <a:pt x="47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365" y="20200"/>
                </a:lnTo>
                <a:close/>
              </a:path>
              <a:path fill="lighten" w="47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765" h="21600">
                <a:moveTo>
                  <a:pt x="16876" y="10800"/>
                </a:moveTo>
                <a:lnTo>
                  <a:pt x="30889" y="3794"/>
                </a:lnTo>
                <a:lnTo>
                  <a:pt x="3088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388360" y="6597720"/>
            <a:ext cx="504720" cy="260280"/>
          </a:xfrm>
          <a:custGeom>
            <a:avLst/>
            <a:gdLst>
              <a:gd name="textAreaLeft" fmla="*/ 16560 w 504720"/>
              <a:gd name="textAreaRight" fmla="*/ 488160 w 50472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1857" h="21600">
                <a:moveTo>
                  <a:pt x="0" y="0"/>
                </a:moveTo>
                <a:lnTo>
                  <a:pt x="41857" y="0"/>
                </a:lnTo>
                <a:lnTo>
                  <a:pt x="41857" y="21600"/>
                </a:lnTo>
                <a:lnTo>
                  <a:pt x="0" y="21600"/>
                </a:lnTo>
                <a:close/>
              </a:path>
              <a:path fill="lightenLess" w="41857" h="21600">
                <a:moveTo>
                  <a:pt x="0" y="0"/>
                </a:moveTo>
                <a:lnTo>
                  <a:pt x="41857" y="0"/>
                </a:lnTo>
                <a:lnTo>
                  <a:pt x="40457" y="1400"/>
                </a:lnTo>
                <a:lnTo>
                  <a:pt x="1400" y="1400"/>
                </a:lnTo>
                <a:close/>
              </a:path>
              <a:path fill="darken" w="41857" h="21600">
                <a:moveTo>
                  <a:pt x="41857" y="0"/>
                </a:moveTo>
                <a:lnTo>
                  <a:pt x="41857" y="21600"/>
                </a:lnTo>
                <a:lnTo>
                  <a:pt x="40457" y="20200"/>
                </a:lnTo>
                <a:lnTo>
                  <a:pt x="40457" y="1400"/>
                </a:lnTo>
                <a:close/>
              </a:path>
              <a:path fill="darkenLess" w="41857" h="21600">
                <a:moveTo>
                  <a:pt x="41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57" y="20200"/>
                </a:lnTo>
                <a:close/>
              </a:path>
              <a:path fill="lighten" w="41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857" h="21600">
                <a:moveTo>
                  <a:pt x="13922" y="3794"/>
                </a:moveTo>
                <a:lnTo>
                  <a:pt x="27935" y="10800"/>
                </a:lnTo>
                <a:lnTo>
                  <a:pt x="1392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ALGUNOS VALORES CULTURALES OPERA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5280" y="2362320"/>
            <a:ext cx="7775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Orientación hacia el client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Excelencia en diseño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Capacidad en investigación y desarrollo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Privilegiar el trabajo en equipo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Desarrollo de la iniciativa del personal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Creativida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317080" y="6597720"/>
            <a:ext cx="504720" cy="260280"/>
          </a:xfrm>
          <a:custGeom>
            <a:avLst/>
            <a:gdLst>
              <a:gd name="textAreaLeft" fmla="*/ 16560 w 504720"/>
              <a:gd name="textAreaRight" fmla="*/ 488160 w 50472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1857" h="21600">
                <a:moveTo>
                  <a:pt x="0" y="0"/>
                </a:moveTo>
                <a:lnTo>
                  <a:pt x="41857" y="0"/>
                </a:lnTo>
                <a:lnTo>
                  <a:pt x="41857" y="21600"/>
                </a:lnTo>
                <a:lnTo>
                  <a:pt x="0" y="21600"/>
                </a:lnTo>
                <a:close/>
              </a:path>
              <a:path fill="lightenLess" w="41857" h="21600">
                <a:moveTo>
                  <a:pt x="0" y="0"/>
                </a:moveTo>
                <a:lnTo>
                  <a:pt x="41857" y="0"/>
                </a:lnTo>
                <a:lnTo>
                  <a:pt x="40457" y="1400"/>
                </a:lnTo>
                <a:lnTo>
                  <a:pt x="1400" y="1400"/>
                </a:lnTo>
                <a:close/>
              </a:path>
              <a:path fill="darken" w="41857" h="21600">
                <a:moveTo>
                  <a:pt x="41857" y="0"/>
                </a:moveTo>
                <a:lnTo>
                  <a:pt x="41857" y="21600"/>
                </a:lnTo>
                <a:lnTo>
                  <a:pt x="40457" y="20200"/>
                </a:lnTo>
                <a:lnTo>
                  <a:pt x="40457" y="1400"/>
                </a:lnTo>
                <a:close/>
              </a:path>
              <a:path fill="darkenLess" w="41857" h="21600">
                <a:moveTo>
                  <a:pt x="41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57" y="20200"/>
                </a:lnTo>
                <a:close/>
              </a:path>
              <a:path fill="lighten" w="41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857" h="21600">
                <a:moveTo>
                  <a:pt x="13922" y="3794"/>
                </a:moveTo>
                <a:lnTo>
                  <a:pt x="27935" y="10800"/>
                </a:lnTo>
                <a:lnTo>
                  <a:pt x="1392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7524720" y="6597720"/>
            <a:ext cx="576360" cy="260280"/>
          </a:xfrm>
          <a:custGeom>
            <a:avLst/>
            <a:gdLst>
              <a:gd name="textAreaLeft" fmla="*/ 16560 w 576360"/>
              <a:gd name="textAreaRight" fmla="*/ 559800 w 576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7794" h="21600">
                <a:moveTo>
                  <a:pt x="0" y="0"/>
                </a:moveTo>
                <a:lnTo>
                  <a:pt x="47794" y="0"/>
                </a:lnTo>
                <a:lnTo>
                  <a:pt x="47794" y="21600"/>
                </a:lnTo>
                <a:lnTo>
                  <a:pt x="0" y="21600"/>
                </a:lnTo>
                <a:close/>
              </a:path>
              <a:path fill="lightenLess" w="47794" h="21600">
                <a:moveTo>
                  <a:pt x="0" y="0"/>
                </a:moveTo>
                <a:lnTo>
                  <a:pt x="47794" y="0"/>
                </a:lnTo>
                <a:lnTo>
                  <a:pt x="46394" y="1400"/>
                </a:lnTo>
                <a:lnTo>
                  <a:pt x="1400" y="1400"/>
                </a:lnTo>
                <a:close/>
              </a:path>
              <a:path fill="darken" w="47794" h="21600">
                <a:moveTo>
                  <a:pt x="47794" y="0"/>
                </a:moveTo>
                <a:lnTo>
                  <a:pt x="47794" y="21600"/>
                </a:lnTo>
                <a:lnTo>
                  <a:pt x="46394" y="20200"/>
                </a:lnTo>
                <a:lnTo>
                  <a:pt x="46394" y="1400"/>
                </a:lnTo>
                <a:close/>
              </a:path>
              <a:path fill="darkenLess" w="47794" h="21600">
                <a:moveTo>
                  <a:pt x="4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394" y="20200"/>
                </a:lnTo>
                <a:close/>
              </a:path>
              <a:path fill="lighten" w="4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794" h="21600">
                <a:moveTo>
                  <a:pt x="16891" y="10800"/>
                </a:moveTo>
                <a:lnTo>
                  <a:pt x="30904" y="3794"/>
                </a:lnTo>
                <a:lnTo>
                  <a:pt x="3090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ALGUNOS VALORES CULTURALES OPERA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621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Orientación hacia los empleado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Articulación de alianzas estratégica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Productividad y eficiencia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Orientación hacia la calida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Honestidad y transparencia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Cuidado del medio ambient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Arial"/>
              </a:rPr>
              <a:t>Profesionalida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8317080" y="6453360"/>
            <a:ext cx="576000" cy="404640"/>
          </a:xfrm>
          <a:custGeom>
            <a:avLst/>
            <a:gdLst>
              <a:gd name="textAreaLeft" fmla="*/ 25920 w 576000"/>
              <a:gd name="textAreaRight" fmla="*/ 550080 w 576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39" h="21600">
                <a:moveTo>
                  <a:pt x="0" y="0"/>
                </a:moveTo>
                <a:lnTo>
                  <a:pt x="30739" y="0"/>
                </a:lnTo>
                <a:lnTo>
                  <a:pt x="30739" y="21600"/>
                </a:lnTo>
                <a:lnTo>
                  <a:pt x="0" y="21600"/>
                </a:lnTo>
                <a:close/>
              </a:path>
              <a:path fill="lightenLess" w="30739" h="21600">
                <a:moveTo>
                  <a:pt x="0" y="0"/>
                </a:moveTo>
                <a:lnTo>
                  <a:pt x="30739" y="0"/>
                </a:lnTo>
                <a:lnTo>
                  <a:pt x="29339" y="1400"/>
                </a:lnTo>
                <a:lnTo>
                  <a:pt x="1400" y="1400"/>
                </a:lnTo>
                <a:close/>
              </a:path>
              <a:path fill="darken" w="30739" h="21600">
                <a:moveTo>
                  <a:pt x="30739" y="0"/>
                </a:moveTo>
                <a:lnTo>
                  <a:pt x="30739" y="21600"/>
                </a:lnTo>
                <a:lnTo>
                  <a:pt x="29339" y="20200"/>
                </a:lnTo>
                <a:lnTo>
                  <a:pt x="29339" y="1400"/>
                </a:lnTo>
                <a:close/>
              </a:path>
              <a:path fill="darkenLess" w="30739" h="21600">
                <a:moveTo>
                  <a:pt x="3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9" y="20200"/>
                </a:lnTo>
                <a:close/>
              </a:path>
              <a:path fill="lighten" w="3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9" h="21600">
                <a:moveTo>
                  <a:pt x="8363" y="3794"/>
                </a:moveTo>
                <a:lnTo>
                  <a:pt x="22376" y="10800"/>
                </a:lnTo>
                <a:lnTo>
                  <a:pt x="836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752472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10800"/>
                </a:moveTo>
                <a:lnTo>
                  <a:pt x="22386" y="3794"/>
                </a:lnTo>
                <a:lnTo>
                  <a:pt x="2238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42920" y="2492280"/>
            <a:ext cx="7777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Arial"/>
              </a:rPr>
              <a:t>Las organizaciones podemos considerarlas en forma similar a lo que en la física moderna se denomina sistemas caóticos ó complejos, ya que las mismas poseen  las características básicas de dichos sistemas.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692280"/>
            <a:ext cx="79250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6666"/>
                </a:solidFill>
                <a:latin typeface="Arial"/>
              </a:rPr>
              <a:t>LAS ORGANIZACIONES COMO SISTEMAS CAÓTIC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7596360" y="6597720"/>
            <a:ext cx="576000" cy="260280"/>
          </a:xfrm>
          <a:custGeom>
            <a:avLst/>
            <a:gdLst>
              <a:gd name="textAreaLeft" fmla="*/ 16560 w 576000"/>
              <a:gd name="textAreaRight" fmla="*/ 559440 w 576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7765" h="21600">
                <a:moveTo>
                  <a:pt x="0" y="0"/>
                </a:moveTo>
                <a:lnTo>
                  <a:pt x="47765" y="0"/>
                </a:lnTo>
                <a:lnTo>
                  <a:pt x="47765" y="21600"/>
                </a:lnTo>
                <a:lnTo>
                  <a:pt x="0" y="21600"/>
                </a:lnTo>
                <a:close/>
              </a:path>
              <a:path fill="lightenLess" w="47765" h="21600">
                <a:moveTo>
                  <a:pt x="0" y="0"/>
                </a:moveTo>
                <a:lnTo>
                  <a:pt x="47765" y="0"/>
                </a:lnTo>
                <a:lnTo>
                  <a:pt x="46365" y="1400"/>
                </a:lnTo>
                <a:lnTo>
                  <a:pt x="1400" y="1400"/>
                </a:lnTo>
                <a:close/>
              </a:path>
              <a:path fill="darken" w="47765" h="21600">
                <a:moveTo>
                  <a:pt x="47765" y="0"/>
                </a:moveTo>
                <a:lnTo>
                  <a:pt x="47765" y="21600"/>
                </a:lnTo>
                <a:lnTo>
                  <a:pt x="46365" y="20200"/>
                </a:lnTo>
                <a:lnTo>
                  <a:pt x="46365" y="1400"/>
                </a:lnTo>
                <a:close/>
              </a:path>
              <a:path fill="darkenLess" w="47765" h="21600">
                <a:moveTo>
                  <a:pt x="47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365" y="20200"/>
                </a:lnTo>
                <a:close/>
              </a:path>
              <a:path fill="lighten" w="47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765" h="21600">
                <a:moveTo>
                  <a:pt x="16876" y="10800"/>
                </a:moveTo>
                <a:lnTo>
                  <a:pt x="30889" y="3794"/>
                </a:lnTo>
                <a:lnTo>
                  <a:pt x="3088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8388360" y="6597720"/>
            <a:ext cx="504720" cy="260280"/>
          </a:xfrm>
          <a:custGeom>
            <a:avLst/>
            <a:gdLst>
              <a:gd name="textAreaLeft" fmla="*/ 16560 w 504720"/>
              <a:gd name="textAreaRight" fmla="*/ 488160 w 50472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1857" h="21600">
                <a:moveTo>
                  <a:pt x="0" y="0"/>
                </a:moveTo>
                <a:lnTo>
                  <a:pt x="41857" y="0"/>
                </a:lnTo>
                <a:lnTo>
                  <a:pt x="41857" y="21600"/>
                </a:lnTo>
                <a:lnTo>
                  <a:pt x="0" y="21600"/>
                </a:lnTo>
                <a:close/>
              </a:path>
              <a:path fill="lightenLess" w="41857" h="21600">
                <a:moveTo>
                  <a:pt x="0" y="0"/>
                </a:moveTo>
                <a:lnTo>
                  <a:pt x="41857" y="0"/>
                </a:lnTo>
                <a:lnTo>
                  <a:pt x="40457" y="1400"/>
                </a:lnTo>
                <a:lnTo>
                  <a:pt x="1400" y="1400"/>
                </a:lnTo>
                <a:close/>
              </a:path>
              <a:path fill="darken" w="41857" h="21600">
                <a:moveTo>
                  <a:pt x="41857" y="0"/>
                </a:moveTo>
                <a:lnTo>
                  <a:pt x="41857" y="21600"/>
                </a:lnTo>
                <a:lnTo>
                  <a:pt x="40457" y="20200"/>
                </a:lnTo>
                <a:lnTo>
                  <a:pt x="40457" y="1400"/>
                </a:lnTo>
                <a:close/>
              </a:path>
              <a:path fill="darkenLess" w="41857" h="21600">
                <a:moveTo>
                  <a:pt x="41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57" y="20200"/>
                </a:lnTo>
                <a:close/>
              </a:path>
              <a:path fill="lighten" w="41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857" h="21600">
                <a:moveTo>
                  <a:pt x="13922" y="3794"/>
                </a:moveTo>
                <a:lnTo>
                  <a:pt x="27935" y="10800"/>
                </a:lnTo>
                <a:lnTo>
                  <a:pt x="1392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909000" y="774360"/>
            <a:ext cx="7760880" cy="11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CARACTERISTICAS ESENCIALES COMPARAD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3716280"/>
            <a:ext cx="84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Estructuras disipativas – 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permanente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interacción con el contex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32846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Sistemas dinámicos de no equilibr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458136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003366"/>
                </a:solidFill>
                <a:latin typeface="Arial"/>
              </a:rPr>
              <a:t>Autopoiéticas – 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capacidad de auto-organizar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508464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003366"/>
                </a:solidFill>
                <a:latin typeface="Arial"/>
              </a:rPr>
              <a:t>Alta sensibilidad 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a sus condiciones inici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2852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Sistemas abiertos 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(apertura / clausur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551664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MX" sz="2800" spc="-1" strike="noStrike">
                <a:solidFill>
                  <a:srgbClr val="003366"/>
                </a:solidFill>
                <a:latin typeface="Arial"/>
              </a:rPr>
              <a:t>Condiciones de irreversibilida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2349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Arial"/>
              </a:rPr>
              <a:t>Las organizaciones s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7020000" y="6597720"/>
            <a:ext cx="576360" cy="260280"/>
          </a:xfrm>
          <a:custGeom>
            <a:avLst/>
            <a:gdLst>
              <a:gd name="textAreaLeft" fmla="*/ 16560 w 576360"/>
              <a:gd name="textAreaRight" fmla="*/ 559800 w 576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7794" h="21600">
                <a:moveTo>
                  <a:pt x="0" y="0"/>
                </a:moveTo>
                <a:lnTo>
                  <a:pt x="47794" y="0"/>
                </a:lnTo>
                <a:lnTo>
                  <a:pt x="47794" y="21600"/>
                </a:lnTo>
                <a:lnTo>
                  <a:pt x="0" y="21600"/>
                </a:lnTo>
                <a:close/>
              </a:path>
              <a:path fill="lightenLess" w="47794" h="21600">
                <a:moveTo>
                  <a:pt x="0" y="0"/>
                </a:moveTo>
                <a:lnTo>
                  <a:pt x="47794" y="0"/>
                </a:lnTo>
                <a:lnTo>
                  <a:pt x="46394" y="1400"/>
                </a:lnTo>
                <a:lnTo>
                  <a:pt x="1400" y="1400"/>
                </a:lnTo>
                <a:close/>
              </a:path>
              <a:path fill="darken" w="47794" h="21600">
                <a:moveTo>
                  <a:pt x="47794" y="0"/>
                </a:moveTo>
                <a:lnTo>
                  <a:pt x="47794" y="21600"/>
                </a:lnTo>
                <a:lnTo>
                  <a:pt x="46394" y="20200"/>
                </a:lnTo>
                <a:lnTo>
                  <a:pt x="46394" y="1400"/>
                </a:lnTo>
                <a:close/>
              </a:path>
              <a:path fill="darkenLess" w="47794" h="21600">
                <a:moveTo>
                  <a:pt x="4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394" y="20200"/>
                </a:lnTo>
                <a:close/>
              </a:path>
              <a:path fill="lighten" w="4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794" h="21600">
                <a:moveTo>
                  <a:pt x="16891" y="10800"/>
                </a:moveTo>
                <a:lnTo>
                  <a:pt x="30904" y="3794"/>
                </a:lnTo>
                <a:lnTo>
                  <a:pt x="3090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7812000" y="6597720"/>
            <a:ext cx="576360" cy="260280"/>
          </a:xfrm>
          <a:custGeom>
            <a:avLst/>
            <a:gdLst>
              <a:gd name="textAreaLeft" fmla="*/ 16560 w 576360"/>
              <a:gd name="textAreaRight" fmla="*/ 559800 w 576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47794" h="21600">
                <a:moveTo>
                  <a:pt x="0" y="0"/>
                </a:moveTo>
                <a:lnTo>
                  <a:pt x="47794" y="0"/>
                </a:lnTo>
                <a:lnTo>
                  <a:pt x="47794" y="21600"/>
                </a:lnTo>
                <a:lnTo>
                  <a:pt x="0" y="21600"/>
                </a:lnTo>
                <a:close/>
              </a:path>
              <a:path fill="lightenLess" w="47794" h="21600">
                <a:moveTo>
                  <a:pt x="0" y="0"/>
                </a:moveTo>
                <a:lnTo>
                  <a:pt x="47794" y="0"/>
                </a:lnTo>
                <a:lnTo>
                  <a:pt x="46394" y="1400"/>
                </a:lnTo>
                <a:lnTo>
                  <a:pt x="1400" y="1400"/>
                </a:lnTo>
                <a:close/>
              </a:path>
              <a:path fill="darken" w="47794" h="21600">
                <a:moveTo>
                  <a:pt x="47794" y="0"/>
                </a:moveTo>
                <a:lnTo>
                  <a:pt x="47794" y="21600"/>
                </a:lnTo>
                <a:lnTo>
                  <a:pt x="46394" y="20200"/>
                </a:lnTo>
                <a:lnTo>
                  <a:pt x="46394" y="1400"/>
                </a:lnTo>
                <a:close/>
              </a:path>
              <a:path fill="darkenLess" w="47794" h="21600">
                <a:moveTo>
                  <a:pt x="4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394" y="20200"/>
                </a:lnTo>
                <a:close/>
              </a:path>
              <a:path fill="lighten" w="4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794" h="21600">
                <a:moveTo>
                  <a:pt x="16891" y="3794"/>
                </a:moveTo>
                <a:lnTo>
                  <a:pt x="30904" y="10800"/>
                </a:lnTo>
                <a:lnTo>
                  <a:pt x="1689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11280" y="2492280"/>
            <a:ext cx="8532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7760" indent="5443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s-ES_tradnl" sz="3000" spc="-1" strike="noStrike">
                <a:solidFill>
                  <a:srgbClr val="003366"/>
                </a:solidFill>
                <a:latin typeface="Arial"/>
              </a:rPr>
              <a:t>Cuando se contempla un sistema caótico en un momento determinado del mismo, todo lo que se ve es caos, es decir, desorden, aparente  ausencia de orden e impredictibilidad total. Sin embargo, cuando se puede contemplar el desarrollo del sistema con la suficiente perspectiva, puede verse un cierto orden que emerge desde el caos.”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66200" y="6384960"/>
            <a:ext cx="1965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66"/>
                </a:solidFill>
                <a:latin typeface="Bookman"/>
              </a:rPr>
              <a:t> </a:t>
            </a:r>
            <a:r>
              <a:rPr b="1" lang="es-ES_tradnl" sz="1400" spc="-1" strike="noStrike">
                <a:solidFill>
                  <a:srgbClr val="003366"/>
                </a:solidFill>
                <a:latin typeface="Bookman"/>
              </a:rPr>
              <a:t>S. Garcia – W. Dol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7740720" y="6381720"/>
            <a:ext cx="576360" cy="142920"/>
          </a:xfrm>
          <a:custGeom>
            <a:avLst/>
            <a:gdLst>
              <a:gd name="textAreaLeft" fmla="*/ 9000 w 576360"/>
              <a:gd name="textAreaRight" fmla="*/ 567360 w 57636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86943" h="21600">
                <a:moveTo>
                  <a:pt x="0" y="0"/>
                </a:moveTo>
                <a:lnTo>
                  <a:pt x="86943" y="0"/>
                </a:lnTo>
                <a:lnTo>
                  <a:pt x="86943" y="21600"/>
                </a:lnTo>
                <a:lnTo>
                  <a:pt x="0" y="21600"/>
                </a:lnTo>
                <a:close/>
              </a:path>
              <a:path fill="lightenLess" w="86943" h="21600">
                <a:moveTo>
                  <a:pt x="0" y="0"/>
                </a:moveTo>
                <a:lnTo>
                  <a:pt x="86943" y="0"/>
                </a:lnTo>
                <a:lnTo>
                  <a:pt x="85543" y="1400"/>
                </a:lnTo>
                <a:lnTo>
                  <a:pt x="1400" y="1400"/>
                </a:lnTo>
                <a:close/>
              </a:path>
              <a:path fill="darken" w="86943" h="21600">
                <a:moveTo>
                  <a:pt x="86943" y="0"/>
                </a:moveTo>
                <a:lnTo>
                  <a:pt x="86943" y="21600"/>
                </a:lnTo>
                <a:lnTo>
                  <a:pt x="85543" y="20200"/>
                </a:lnTo>
                <a:lnTo>
                  <a:pt x="85543" y="1400"/>
                </a:lnTo>
                <a:close/>
              </a:path>
              <a:path fill="darkenLess" w="86943" h="21600">
                <a:moveTo>
                  <a:pt x="869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543" y="20200"/>
                </a:lnTo>
                <a:close/>
              </a:path>
              <a:path fill="lighten" w="869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943" h="21600">
                <a:moveTo>
                  <a:pt x="36465" y="10800"/>
                </a:moveTo>
                <a:lnTo>
                  <a:pt x="50478" y="3794"/>
                </a:lnTo>
                <a:lnTo>
                  <a:pt x="5047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8459640" y="6381720"/>
            <a:ext cx="432000" cy="142920"/>
          </a:xfrm>
          <a:custGeom>
            <a:avLst/>
            <a:gdLst>
              <a:gd name="textAreaLeft" fmla="*/ 9000 w 432000"/>
              <a:gd name="textAreaRight" fmla="*/ 423000 w 43200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65180" h="21600">
                <a:moveTo>
                  <a:pt x="0" y="0"/>
                </a:moveTo>
                <a:lnTo>
                  <a:pt x="65180" y="0"/>
                </a:lnTo>
                <a:lnTo>
                  <a:pt x="65180" y="21600"/>
                </a:lnTo>
                <a:lnTo>
                  <a:pt x="0" y="21600"/>
                </a:lnTo>
                <a:close/>
              </a:path>
              <a:path fill="lightenLess" w="65180" h="21600">
                <a:moveTo>
                  <a:pt x="0" y="0"/>
                </a:moveTo>
                <a:lnTo>
                  <a:pt x="65180" y="0"/>
                </a:lnTo>
                <a:lnTo>
                  <a:pt x="63780" y="1400"/>
                </a:lnTo>
                <a:lnTo>
                  <a:pt x="1400" y="1400"/>
                </a:lnTo>
                <a:close/>
              </a:path>
              <a:path fill="darken" w="65180" h="21600">
                <a:moveTo>
                  <a:pt x="65180" y="0"/>
                </a:moveTo>
                <a:lnTo>
                  <a:pt x="65180" y="21600"/>
                </a:lnTo>
                <a:lnTo>
                  <a:pt x="63780" y="20200"/>
                </a:lnTo>
                <a:lnTo>
                  <a:pt x="63780" y="1400"/>
                </a:lnTo>
                <a:close/>
              </a:path>
              <a:path fill="darkenLess" w="65180" h="21600">
                <a:moveTo>
                  <a:pt x="65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780" y="20200"/>
                </a:lnTo>
                <a:close/>
              </a:path>
              <a:path fill="lighten" w="65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180" h="21600">
                <a:moveTo>
                  <a:pt x="25583" y="3794"/>
                </a:moveTo>
                <a:lnTo>
                  <a:pt x="39596" y="10800"/>
                </a:lnTo>
                <a:lnTo>
                  <a:pt x="2558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792468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6666"/>
                </a:solidFill>
                <a:latin typeface="Arial"/>
              </a:rPr>
              <a:t>SISTEMAS CAÓTIC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20:37:15Z</dcterms:created>
  <dc:creator>vivi</dc:creator>
  <dc:description/>
  <dc:language>en-US</dc:language>
  <cp:lastModifiedBy>pagina</cp:lastModifiedBy>
  <dcterms:modified xsi:type="dcterms:W3CDTF">2003-11-13T14:35:50Z</dcterms:modified>
  <cp:revision>9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01125197</vt:r8>
  </property>
  <property fmtid="{D5CDD505-2E9C-101B-9397-08002B2CF9AE}" pid="3" name="_AuthorEmail">
    <vt:lpwstr>vmonetta@grupogz.com.ar</vt:lpwstr>
  </property>
  <property fmtid="{D5CDD505-2E9C-101B-9397-08002B2CF9AE}" pid="4" name="_AuthorEmailDisplayName">
    <vt:lpwstr>Viviana Monetta</vt:lpwstr>
  </property>
  <property fmtid="{D5CDD505-2E9C-101B-9397-08002B2CF9AE}" pid="5" name="_EmailSubject">
    <vt:lpwstr>PPT / Viviana</vt:lpwstr>
  </property>
  <property fmtid="{D5CDD505-2E9C-101B-9397-08002B2CF9AE}" pid="6" name="_ReviewingToolsShownOnce">
    <vt:lpwstr/>
  </property>
</Properties>
</file>