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arrow.wav" ContentType="audio/x-wav"/>
  <Override PartName="/ppt/media/arpaascendente.wav" ContentType="audio/x-wav"/>
  <Override PartName="/ppt/media/image13.jpeg" ContentType="image/jpeg"/>
  <Override PartName="/ppt/media/AVISO.WAV" ContentType="audio/x-wav"/>
  <Override PartName="/ppt/media/image12.png" ContentType="image/png"/>
  <Override PartName="/ppt/media/image11.jpeg" ContentType="image/jpeg"/>
  <Override PartName="/ppt/media/CASHPLS.WAV" ContentType="audio/x-wav"/>
  <Override PartName="/ppt/media/image9.png" ContentType="image/png"/>
  <Override PartName="/ppt/media/image22.jpeg" ContentType="image/jpeg"/>
  <Override PartName="/ppt/media/aqju32jx%5B1%5D.wav" ContentType="audio/x-wav"/>
  <Override PartName="/ppt/media/CHINK.wav" ContentType="audio/x-wav"/>
  <Override PartName="/ppt/media/image1.png" ContentType="image/png"/>
  <Override PartName="/ppt/media/suction.wav" ContentType="audio/x-wav"/>
  <Override PartName="/ppt/media/image2.png" ContentType="image/png"/>
  <Override PartName="/ppt/media/MELODRAM.wav" ContentType="audio/x-wav"/>
  <Override PartName="/ppt/media/breeze.wav" ContentType="audio/x-wav"/>
  <Override PartName="/ppt/media/image17.gif" ContentType="image/gif"/>
  <Override PartName="/ppt/media/chimes.wav" ContentType="audio/x-wav"/>
  <Override PartName="/ppt/media/wind.wav" ContentType="audio/x-wav"/>
  <Override PartName="/ppt/media/image18.wmf" ContentType="image/x-wmf"/>
  <Override PartName="/ppt/media/image19.gif" ContentType="image/gif"/>
  <Override PartName="/ppt/media/image20.gif" ContentType="image/gif"/>
  <Override PartName="/ppt/media/campanas%20iglesia.wav" ContentType="audio/x-wav"/>
  <Override PartName="/ppt/media/image6.jpeg" ContentType="image/jpeg"/>
  <Override PartName="/ppt/media/type.wav" ContentType="audio/x-wav"/>
  <Override PartName="/ppt/media/image14.gif" ContentType="image/gif"/>
  <Override PartName="/ppt/media/push.wav" ContentType="audio/x-wav"/>
  <Override PartName="/ppt/media/image23.gif" ContentType="image/gif"/>
  <Override PartName="/ppt/media/image3.png" ContentType="image/png"/>
  <Override PartName="/ppt/media/ATAQUE.WAV" ContentType="audio/x-wav"/>
  <Override PartName="/ppt/media/pasarimagenrapidamente.wav" ContentType="audio/x-wav"/>
  <Override PartName="/ppt/media/image7.jpeg" ContentType="image/jpeg"/>
  <Override PartName="/ppt/media/applause.wav" ContentType="audio/x-wav"/>
  <Override PartName="/ppt/media/intriga%5B1%5D.wav" ContentType="audio/x-wav"/>
  <Override PartName="/ppt/media/image5.png" ContentType="image/png"/>
  <Override PartName="/ppt/media/image8.jpeg" ContentType="image/jpeg"/>
  <Override PartName="/ppt/media/image21.gif" ContentType="image/gif"/>
  <Override PartName="/ppt/media/image10.jpeg" ContentType="image/jpeg"/>
  <Override PartName="/ppt/media/CASHMIN.WAV" ContentType="audio/x-wav"/>
  <Override PartName="/ppt/media/CALCULAT.WAV" ContentType="audio/x-wav"/>
  <Override PartName="/ppt/media/image16.gif" ContentType="image/gif"/>
  <Override PartName="/ppt/media/FLATALO.wav" ContentType="audio/x-wav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12038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713D-6751-4CED-9F72-876740AD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8C60-9EA9-4249-97B2-BFCE5A9A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6ED4-5010-4762-A139-6A9931FC4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C328-FA4F-4D82-A12C-955F4F7C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2116-9FAF-474B-BDDA-13FC9204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2EF3-3423-40ED-B7C7-BBB0D382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FF02-C655-40CA-BCC7-EE596BD0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6FE7-E8B1-4830-9638-6A5B1921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AEBC-0E28-4D70-81D5-3E97E2D2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7792-FC07-4719-93A8-C17C2666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EB40-E678-4F6C-A0F7-CAAA7258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F420-AB05-4C52-8E80-757CF4D5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5356-D828-46E6-9C97-34848309E5D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breeze.wav"/><Relationship Id="rId3" Type="http://schemas.openxmlformats.org/officeDocument/2006/relationships/audio" Target="../media/pasarimagenrapidamente.wav"/><Relationship Id="rId4" Type="http://schemas.openxmlformats.org/officeDocument/2006/relationships/audio" Target="../media/pasarimagenrapidamente.wav"/><Relationship Id="rId5" Type="http://schemas.openxmlformats.org/officeDocument/2006/relationships/audio" Target="../media/arpaascendente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image" Target="../media/image18.wmf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audio" Target="../media/FLATALO.wav"/><Relationship Id="rId5" Type="http://schemas.openxmlformats.org/officeDocument/2006/relationships/audio" Target="../media/pasarimagenrapidamente.wav"/><Relationship Id="rId6" Type="http://schemas.openxmlformats.org/officeDocument/2006/relationships/audio" Target="../media/pasarimagenrapidamente.wav"/><Relationship Id="rId7" Type="http://schemas.openxmlformats.org/officeDocument/2006/relationships/audio" Target="../media/pasarimagenrapidamente.wav"/><Relationship Id="rId8" Type="http://schemas.openxmlformats.org/officeDocument/2006/relationships/audio" Target="../media/pasarimagenrapidamente.wav"/><Relationship Id="rId9" Type="http://schemas.openxmlformats.org/officeDocument/2006/relationships/audio" Target="../media/breeze.wav"/><Relationship Id="rId10" Type="http://schemas.openxmlformats.org/officeDocument/2006/relationships/audio" Target="../media/AVISO.WAV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audio" Target="../media/FLATALO.wav"/><Relationship Id="rId6" Type="http://schemas.openxmlformats.org/officeDocument/2006/relationships/audio" Target="../media/pasarimagenrapidamente.wav"/><Relationship Id="rId7" Type="http://schemas.openxmlformats.org/officeDocument/2006/relationships/audio" Target="../media/pasarimagenrapidamente.wav"/><Relationship Id="rId8" Type="http://schemas.openxmlformats.org/officeDocument/2006/relationships/audio" Target="../media/AVISO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audio" Target="../media/FLATALO.wav"/><Relationship Id="rId5" Type="http://schemas.openxmlformats.org/officeDocument/2006/relationships/audio" Target="../media/pasarimagenrapidamente.wav"/><Relationship Id="rId6" Type="http://schemas.openxmlformats.org/officeDocument/2006/relationships/audio" Target="../media/pasarimagenrapidamente.wav"/><Relationship Id="rId7" Type="http://schemas.openxmlformats.org/officeDocument/2006/relationships/audio" Target="../media/AVISO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audio" Target="../media/FLATALO.wav"/><Relationship Id="rId5" Type="http://schemas.openxmlformats.org/officeDocument/2006/relationships/audio" Target="../media/pasarimagenrapidamente.wav"/><Relationship Id="rId6" Type="http://schemas.openxmlformats.org/officeDocument/2006/relationships/audio" Target="../media/pasarimagenrapidamente.wav"/><Relationship Id="rId7" Type="http://schemas.openxmlformats.org/officeDocument/2006/relationships/audio" Target="../media/AVISO.WAV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audio" Target="../media/arrow.wav"/><Relationship Id="rId7" Type="http://schemas.openxmlformats.org/officeDocument/2006/relationships/audio" Target="../media/campanas%20iglesia.wav"/><Relationship Id="rId8" Type="http://schemas.openxmlformats.org/officeDocument/2006/relationships/audio" Target="../media/campanas%20iglesia.wav"/><Relationship Id="rId9" Type="http://schemas.openxmlformats.org/officeDocument/2006/relationships/audio" Target="../media/campanas%20iglesia.wav"/><Relationship Id="rId10" Type="http://schemas.openxmlformats.org/officeDocument/2006/relationships/audio" Target="../media/campanas%20iglesia.wav"/><Relationship Id="rId1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arpaascendent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audio" Target="../media/wind.wav"/><Relationship Id="rId5" Type="http://schemas.openxmlformats.org/officeDocument/2006/relationships/audio" Target="../media/campanas%20iglesia.wav"/><Relationship Id="rId6" Type="http://schemas.openxmlformats.org/officeDocument/2006/relationships/audio" Target="../media/campanas%20iglesia.wav"/><Relationship Id="rId7" Type="http://schemas.openxmlformats.org/officeDocument/2006/relationships/audio" Target="../media/campanas%20iglesia.wav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audio" Target="../media/breeze.wav"/><Relationship Id="rId3" Type="http://schemas.openxmlformats.org/officeDocument/2006/relationships/audio" Target="../media/push.wav"/><Relationship Id="rId4" Type="http://schemas.openxmlformats.org/officeDocument/2006/relationships/audio" Target="../media/ATAQUE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12.png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AVISO.WAV"/><Relationship Id="rId3" Type="http://schemas.openxmlformats.org/officeDocument/2006/relationships/audio" Target="../media/CHINK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audio" Target="../media/MELODRAM.wav"/><Relationship Id="rId4" Type="http://schemas.openxmlformats.org/officeDocument/2006/relationships/audio" Target="../media/aqju32jx%5B1%5D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intriga%5B1%5D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suction.wav"/><Relationship Id="rId3" Type="http://schemas.openxmlformats.org/officeDocument/2006/relationships/audio" Target="../media/FLATALO.wav"/><Relationship Id="rId4" Type="http://schemas.openxmlformats.org/officeDocument/2006/relationships/audio" Target="../media/FLATALO.wav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LCULAT.WAV"/><Relationship Id="rId3" Type="http://schemas.openxmlformats.org/officeDocument/2006/relationships/audio" Target="../media/CALCULAT.WAV"/><Relationship Id="rId4" Type="http://schemas.openxmlformats.org/officeDocument/2006/relationships/audio" Target="../media/ATAQUE.WAV"/><Relationship Id="rId5" Type="http://schemas.openxmlformats.org/officeDocument/2006/relationships/audio" Target="../media/CASHMIN.WAV"/><Relationship Id="rId6" Type="http://schemas.openxmlformats.org/officeDocument/2006/relationships/audio" Target="../media/CASHPLS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75"/>
            </a:gs>
            <a:gs pos="5000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1160" y="3008880"/>
            <a:ext cx="8496000" cy="1175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1° Simposio sobre Registros Contables, Laborales, Tributarios</a:t>
            </a:r>
            <a:br>
              <a:rPr sz="2400"/>
            </a:br>
            <a:r>
              <a:rPr b="1" lang="en-US" sz="2300" spc="-1" strike="noStrike">
                <a:solidFill>
                  <a:srgbClr val="3333cc"/>
                </a:solidFill>
                <a:latin typeface="Verdana"/>
              </a:rPr>
              <a:t>y Sociales y su documentación respaldator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-316080"/>
            <a:ext cx="9143640" cy="2276280"/>
            <a:chOff x="0" y="-316080"/>
            <a:chExt cx="9143640" cy="227628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19080" y="49680"/>
              <a:ext cx="1317960" cy="137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1253520" y="49680"/>
              <a:ext cx="3300840" cy="141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4548240" y="49680"/>
              <a:ext cx="4595400" cy="14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19080" y="1426320"/>
              <a:ext cx="3805920" cy="53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5"/>
            <a:stretch/>
          </p:blipFill>
          <p:spPr>
            <a:xfrm>
              <a:off x="0" y="-316080"/>
              <a:ext cx="1340640" cy="39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212480" y="-316080"/>
              <a:ext cx="7907760" cy="3988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24000" y="2781360"/>
            <a:ext cx="381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Lo que ent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Quien de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Las pérd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87280" y="2057400"/>
            <a:ext cx="8399520" cy="3603600"/>
            <a:chOff x="287280" y="2057400"/>
            <a:chExt cx="8399520" cy="3603600"/>
          </a:xfrm>
        </p:grpSpPr>
        <p:sp>
          <p:nvSpPr>
            <p:cNvPr id="223" name=""/>
            <p:cNvSpPr/>
            <p:nvPr/>
          </p:nvSpPr>
          <p:spPr>
            <a:xfrm>
              <a:off x="304920" y="2666880"/>
              <a:ext cx="8381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54360" y="2666880"/>
              <a:ext cx="17640" cy="299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7280" y="2057400"/>
              <a:ext cx="17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Times New Roman"/>
                </a:rPr>
                <a:t>Deb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16680" y="2057400"/>
              <a:ext cx="17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6600"/>
                  </a:solidFill>
                  <a:latin typeface="Times New Roman"/>
                </a:rPr>
                <a:t>Habe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788000" y="2708280"/>
            <a:ext cx="403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Lo que s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A quien se de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Las gananc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26920" y="765000"/>
            <a:ext cx="7345440" cy="48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A PARTIDA DOBL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60480" y="57960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cc"/>
                </a:solidFill>
                <a:latin typeface="Times New Roman"/>
              </a:rPr>
              <a:t>El DEBE tiene que ser IGUAL al HA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asarimagenrapidament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asarimagenrapidament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4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0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mph" presetID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paascendente.wav"/>
                                        </p:tgtEl>
                                      </p:cMediaNode>
                                    </p:audio>
                                    <p:anim calcmode="discrete" valueType="str">
                                      <p:cBhvr additive="repl">
                                        <p:cTn id="32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971640" y="98280"/>
            <a:ext cx="7056360" cy="67453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11280" y="0"/>
            <a:ext cx="7705800" cy="70992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6443640" y="7893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55e5e"/>
              </a:gs>
              <a:gs pos="100000">
                <a:srgbClr val="ff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4" dur="8074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8074"/>
                            </p:stCondLst>
                            <p:childTnLst>
                              <p:par>
                                <p:cTn id="340" nodeType="afterEffect" fill="hold" presetClass="entr" presetID="55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5e"/>
            </a:gs>
            <a:gs pos="100000">
              <a:srgbClr val="ff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9144000" cy="6858000"/>
          </a:xfrm>
          <a:prstGeom prst="horizontalScroll">
            <a:avLst>
              <a:gd name="adj" fmla="val 7615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0800000"/>
          </a:gradFill>
          <a:ln w="9360">
            <a:solidFill>
              <a:srgbClr val="5f5f5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0033"/>
                </a:solidFill>
                <a:latin typeface="Times New Roman"/>
              </a:rPr>
              <a:t>VERIFICACIÓN DE</a:t>
            </a:r>
            <a:r>
              <a:rPr b="1" lang="en-US" sz="85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8000" spc="-1" strike="noStrike">
                <a:solidFill>
                  <a:srgbClr val="990033"/>
                </a:solidFill>
                <a:latin typeface="Times New Roman"/>
              </a:rPr>
              <a:t>CRÉDITO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3962520" y="152280"/>
            <a:ext cx="1257120" cy="22100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6781680" y="3429000"/>
            <a:ext cx="1344600" cy="23623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914400" y="3429000"/>
            <a:ext cx="1344600" cy="23623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23880" y="124452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752480" y="1218960"/>
            <a:ext cx="2057400" cy="2057400"/>
          </a:xfrm>
          <a:prstGeom prst="line">
            <a:avLst/>
          </a:prstGeom>
          <a:ln w="11448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32880" y="5445720"/>
            <a:ext cx="4202640" cy="5040"/>
          </a:xfrm>
          <a:prstGeom prst="line">
            <a:avLst/>
          </a:prstGeom>
          <a:ln w="11448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05760" y="1222920"/>
            <a:ext cx="2066040" cy="2048760"/>
          </a:xfrm>
          <a:prstGeom prst="line">
            <a:avLst/>
          </a:prstGeom>
          <a:ln w="11448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2438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O N T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57913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A U 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48520" y="5867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remove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57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358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359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24000" y="256536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2- Se refinanció la deuda entregándose un pagaré por el 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ismo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valor; el cual 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no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fue pag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4365720"/>
            <a:ext cx="455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99"/>
                </a:solidFill>
                <a:uFillTx/>
                <a:latin typeface="Times New Roman"/>
              </a:rPr>
              <a:t>Asiento -1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Máquina (causa)                     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228600" y="3735360"/>
            <a:ext cx="8458200" cy="2718000"/>
            <a:chOff x="228600" y="3735360"/>
            <a:chExt cx="8458200" cy="2718000"/>
          </a:xfrm>
        </p:grpSpPr>
        <p:sp>
          <p:nvSpPr>
            <p:cNvPr id="250" name=""/>
            <p:cNvSpPr/>
            <p:nvPr/>
          </p:nvSpPr>
          <p:spPr>
            <a:xfrm>
              <a:off x="304920" y="4249800"/>
              <a:ext cx="8381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00720" y="4292640"/>
              <a:ext cx="0" cy="216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28600" y="373536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Deb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58000" y="373536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6600"/>
                  </a:solidFill>
                  <a:latin typeface="Times New Roman"/>
                </a:rPr>
                <a:t>Hab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4495680" y="479736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roveedor ABCSA (deuda)     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4000" y="11970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1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1-  Se compró una máquina en $ 1.000 a ABC S.A. con la condición de pagarla dentro de un 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522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54360" y="5575320"/>
            <a:ext cx="4572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6600"/>
                </a:solidFill>
                <a:latin typeface="Times New Roman"/>
              </a:rPr>
              <a:t>Obligaciones a pa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6600"/>
                </a:solidFill>
                <a:latin typeface="Times New Roman"/>
              </a:rPr>
              <a:t>ABCV S.A. </a:t>
            </a:r>
            <a:r>
              <a:rPr b="1" lang="es-ES_tradnl" sz="2400" spc="-1" strike="noStrike">
                <a:solidFill>
                  <a:srgbClr val="ff6600"/>
                </a:solidFill>
                <a:latin typeface="Times New Roman"/>
              </a:rPr>
              <a:t>(deuda)</a:t>
            </a:r>
            <a:r>
              <a:rPr b="0" lang="es-ES_tradnl" sz="2400" spc="-1" strike="noStrike">
                <a:solidFill>
                  <a:srgbClr val="ff6600"/>
                </a:solidFill>
                <a:latin typeface="Times New Roman"/>
              </a:rPr>
              <a:t>               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-17640" y="5122800"/>
            <a:ext cx="5077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cc99"/>
                </a:solidFill>
                <a:uFillTx/>
                <a:latin typeface="Times New Roman"/>
              </a:rPr>
              <a:t>Asiento -2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99"/>
                </a:solidFill>
                <a:latin typeface="Times New Roman"/>
              </a:rPr>
              <a:t>Proveed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99"/>
                </a:solidFill>
                <a:latin typeface="Times New Roman"/>
              </a:rPr>
              <a:t>ABCSA (deuda)                      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5640" y="260280"/>
            <a:ext cx="7559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66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MPRAR UNA MÁQUINA A CRÉD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0" y="5084640"/>
            <a:ext cx="8856720" cy="1081080"/>
            <a:chOff x="0" y="5084640"/>
            <a:chExt cx="8856720" cy="1081080"/>
          </a:xfrm>
        </p:grpSpPr>
        <p:sp>
          <p:nvSpPr>
            <p:cNvPr id="261" name=""/>
            <p:cNvSpPr/>
            <p:nvPr/>
          </p:nvSpPr>
          <p:spPr>
            <a:xfrm>
              <a:off x="0" y="5734080"/>
              <a:ext cx="4356000" cy="0"/>
            </a:xfrm>
            <a:prstGeom prst="line">
              <a:avLst/>
            </a:prstGeom>
            <a:ln w="572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6165720"/>
              <a:ext cx="4356000" cy="0"/>
            </a:xfrm>
            <a:prstGeom prst="line">
              <a:avLst/>
            </a:prstGeom>
            <a:ln w="572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00720" y="5084640"/>
              <a:ext cx="4356000" cy="0"/>
            </a:xfrm>
            <a:prstGeom prst="line">
              <a:avLst/>
            </a:prstGeom>
            <a:ln w="572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2124000" y="4869000"/>
            <a:ext cx="5687280" cy="1528560"/>
            <a:chOff x="2124000" y="4869000"/>
            <a:chExt cx="5687280" cy="1528560"/>
          </a:xfrm>
        </p:grpSpPr>
        <p:pic>
          <p:nvPicPr>
            <p:cNvPr id="265" name="" descr=""/>
            <p:cNvPicPr/>
            <p:nvPr/>
          </p:nvPicPr>
          <p:blipFill>
            <a:blip r:embed="rId2"/>
            <a:stretch/>
          </p:blipFill>
          <p:spPr>
            <a:xfrm flipH="1">
              <a:off x="7154280" y="6093000"/>
              <a:ext cx="65700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3"/>
            <a:stretch/>
          </p:blipFill>
          <p:spPr>
            <a:xfrm flipH="1">
              <a:off x="2124000" y="4869000"/>
              <a:ext cx="657360" cy="304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LATA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asarimagenrapidament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asarimagenrapidament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asarimagenrapidament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asarimagenrapidament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indefinite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VIS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24000" y="1484280"/>
            <a:ext cx="853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3333cc"/>
                </a:solidFill>
                <a:latin typeface="Times New Roman"/>
              </a:rPr>
              <a:t>Se obtiene de Juan Sinalma un préstamo por $10.000 a abonar dentro de un año, emitiéndose un pagaré por $14.000 que incluye un interés al 40% anu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5029200"/>
            <a:ext cx="8381880" cy="1295280"/>
            <a:chOff x="304920" y="5029200"/>
            <a:chExt cx="8381880" cy="1295280"/>
          </a:xfrm>
        </p:grpSpPr>
        <p:sp>
          <p:nvSpPr>
            <p:cNvPr id="269" name=""/>
            <p:cNvSpPr/>
            <p:nvPr/>
          </p:nvSpPr>
          <p:spPr>
            <a:xfrm>
              <a:off x="304920" y="5029200"/>
              <a:ext cx="8381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95680" y="502920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228600" y="4419720"/>
            <a:ext cx="8610480" cy="1701720"/>
            <a:chOff x="228600" y="4419720"/>
            <a:chExt cx="8610480" cy="1701720"/>
          </a:xfrm>
        </p:grpSpPr>
        <p:sp>
          <p:nvSpPr>
            <p:cNvPr id="272" name=""/>
            <p:cNvSpPr/>
            <p:nvPr/>
          </p:nvSpPr>
          <p:spPr>
            <a:xfrm>
              <a:off x="228600" y="5105520"/>
              <a:ext cx="42670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Caja </a:t>
              </a: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</a:rPr>
                <a:t>(causa)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                     10.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Intereses </a:t>
              </a: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</a:rPr>
                <a:t>(causa)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                4.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8600" y="44197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Deb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58000" y="44197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6600"/>
                  </a:solidFill>
                  <a:latin typeface="Times New Roman"/>
                </a:rPr>
                <a:t>Hab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95680" y="502920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6600"/>
                  </a:solidFill>
                  <a:latin typeface="Times New Roman"/>
                </a:rPr>
                <a:t>Juan Sinalma </a:t>
              </a:r>
              <a:r>
                <a:rPr b="1" lang="es-ES_tradnl" sz="2400" spc="-1" strike="noStrike">
                  <a:solidFill>
                    <a:srgbClr val="ff6600"/>
                  </a:solidFill>
                  <a:latin typeface="Times New Roman"/>
                </a:rPr>
                <a:t>(deuda)       14.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755640" y="260280"/>
            <a:ext cx="7559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66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UTUO FINANCIERO SIN GARANT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908000" y="5157720"/>
            <a:ext cx="5905800" cy="952560"/>
            <a:chOff x="1908000" y="5157720"/>
            <a:chExt cx="5905800" cy="952560"/>
          </a:xfrm>
        </p:grpSpPr>
        <p:pic>
          <p:nvPicPr>
            <p:cNvPr id="278" name="" descr=""/>
            <p:cNvPicPr/>
            <p:nvPr/>
          </p:nvPicPr>
          <p:blipFill>
            <a:blip r:embed="rId2"/>
            <a:stretch/>
          </p:blipFill>
          <p:spPr>
            <a:xfrm flipH="1">
              <a:off x="7164360" y="5157720"/>
              <a:ext cx="64944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3"/>
            <a:stretch/>
          </p:blipFill>
          <p:spPr>
            <a:xfrm flipH="1">
              <a:off x="1908000" y="5229360"/>
              <a:ext cx="64944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4"/>
            <a:stretch/>
          </p:blipFill>
          <p:spPr>
            <a:xfrm flipH="1">
              <a:off x="2484360" y="5805360"/>
              <a:ext cx="649440" cy="304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LATA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asarimagenrapidament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asarimagenrapidament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3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VIS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04920" y="213372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e obtiene un crédito bancario por $2.000, con garantía hipotecaria, cuyo monto se acreditó en cuenta corriente en el mismo ban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04920" y="5029200"/>
            <a:ext cx="8381880" cy="1295280"/>
            <a:chOff x="304920" y="5029200"/>
            <a:chExt cx="8381880" cy="1295280"/>
          </a:xfrm>
        </p:grpSpPr>
        <p:sp>
          <p:nvSpPr>
            <p:cNvPr id="283" name=""/>
            <p:cNvSpPr/>
            <p:nvPr/>
          </p:nvSpPr>
          <p:spPr>
            <a:xfrm>
              <a:off x="304920" y="5029200"/>
              <a:ext cx="8381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95680" y="502920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228600" y="4419720"/>
            <a:ext cx="8610480" cy="1701720"/>
            <a:chOff x="228600" y="4419720"/>
            <a:chExt cx="8610480" cy="1701720"/>
          </a:xfrm>
        </p:grpSpPr>
        <p:sp>
          <p:nvSpPr>
            <p:cNvPr id="286" name=""/>
            <p:cNvSpPr/>
            <p:nvPr/>
          </p:nvSpPr>
          <p:spPr>
            <a:xfrm>
              <a:off x="228600" y="5105520"/>
              <a:ext cx="4848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Banco Prestador S.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Cuenta corriente </a:t>
              </a: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</a:rPr>
                <a:t>(causa)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    2.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" y="44197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Deb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58000" y="44197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6600"/>
                  </a:solidFill>
                  <a:latin typeface="Times New Roman"/>
                </a:rPr>
                <a:t>Hab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495680" y="5029200"/>
              <a:ext cx="43434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Banco Prestador S.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(deuda hipotecaria)          </a:t>
              </a: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  2.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755640" y="260280"/>
            <a:ext cx="7559640" cy="1068840"/>
          </a:xfrm>
          <a:prstGeom prst="rect">
            <a:avLst/>
          </a:prstGeom>
          <a:solidFill>
            <a:srgbClr val="ffff00"/>
          </a:solidFill>
          <a:ln w="9360">
            <a:solidFill>
              <a:srgbClr val="66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ÉSTAMO BANCARIO CON GARANT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102120" y="5901120"/>
            <a:ext cx="4674240" cy="655920"/>
            <a:chOff x="3102120" y="5901120"/>
            <a:chExt cx="4674240" cy="655920"/>
          </a:xfrm>
        </p:grpSpPr>
        <p:pic>
          <p:nvPicPr>
            <p:cNvPr id="292" name="" descr=""/>
            <p:cNvPicPr/>
            <p:nvPr/>
          </p:nvPicPr>
          <p:blipFill>
            <a:blip r:embed="rId2"/>
            <a:stretch/>
          </p:blipFill>
          <p:spPr>
            <a:xfrm flipH="1" rot="1458000">
              <a:off x="7093080" y="6021000"/>
              <a:ext cx="64908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3"/>
            <a:stretch/>
          </p:blipFill>
          <p:spPr>
            <a:xfrm flipH="1" rot="993600">
              <a:off x="3131640" y="6165720"/>
              <a:ext cx="649440" cy="304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LATA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asarimagenrapidament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500"/>
                            </p:stCondLst>
                            <p:childTnLst>
                              <p:par>
                                <p:cTn id="5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asarimagenrapidament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500"/>
                            </p:stCondLst>
                            <p:childTnLst>
                              <p:par>
                                <p:cTn id="5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5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VIS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24000" y="206064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Un vendedor presenta una liquidación de gastos de viaje que no fueron abonados por $ 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304920" y="5029200"/>
            <a:ext cx="8381880" cy="838080"/>
            <a:chOff x="304920" y="5029200"/>
            <a:chExt cx="8381880" cy="838080"/>
          </a:xfrm>
        </p:grpSpPr>
        <p:sp>
          <p:nvSpPr>
            <p:cNvPr id="296" name=""/>
            <p:cNvSpPr/>
            <p:nvPr/>
          </p:nvSpPr>
          <p:spPr>
            <a:xfrm>
              <a:off x="304920" y="5029200"/>
              <a:ext cx="8381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95680" y="50292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8600" y="4419720"/>
            <a:ext cx="8610480" cy="1145520"/>
            <a:chOff x="228600" y="4419720"/>
            <a:chExt cx="8610480" cy="1145520"/>
          </a:xfrm>
        </p:grpSpPr>
        <p:sp>
          <p:nvSpPr>
            <p:cNvPr id="299" name=""/>
            <p:cNvSpPr/>
            <p:nvPr/>
          </p:nvSpPr>
          <p:spPr>
            <a:xfrm>
              <a:off x="228600" y="5105520"/>
              <a:ext cx="42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Gastos de viaje </a:t>
              </a: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</a:rPr>
                <a:t>(causa)         5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8600" y="44197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Deb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58000" y="44197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6600"/>
                  </a:solidFill>
                  <a:latin typeface="Times New Roman"/>
                </a:rPr>
                <a:t>Hab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95680" y="502920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6600"/>
                  </a:solidFill>
                  <a:latin typeface="Times New Roman"/>
                </a:rPr>
                <a:t>Pedro Vendetuto </a:t>
              </a:r>
              <a:r>
                <a:rPr b="1" lang="es-ES_tradnl" sz="2400" spc="-1" strike="noStrike">
                  <a:solidFill>
                    <a:srgbClr val="ff6600"/>
                  </a:solidFill>
                  <a:latin typeface="Times New Roman"/>
                </a:rPr>
                <a:t>(deuda)    5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755640" y="260280"/>
            <a:ext cx="7559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66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GASTOS NO AB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958480" y="5437800"/>
            <a:ext cx="5099040" cy="462600"/>
            <a:chOff x="2958480" y="5437800"/>
            <a:chExt cx="5099040" cy="462600"/>
          </a:xfrm>
        </p:grpSpPr>
        <p:pic>
          <p:nvPicPr>
            <p:cNvPr id="305" name="" descr=""/>
            <p:cNvPicPr/>
            <p:nvPr/>
          </p:nvPicPr>
          <p:blipFill>
            <a:blip r:embed="rId2"/>
            <a:stretch/>
          </p:blipFill>
          <p:spPr>
            <a:xfrm flipH="1" rot="900600">
              <a:off x="7379640" y="5516640"/>
              <a:ext cx="64944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3"/>
            <a:stretch/>
          </p:blipFill>
          <p:spPr>
            <a:xfrm flipH="1" rot="900000">
              <a:off x="2986560" y="5516640"/>
              <a:ext cx="649440" cy="304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LATA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asarimagenrapidament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asarimagenrapidament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500"/>
                            </p:stCondLst>
                            <p:childTnLst>
                              <p:par>
                                <p:cTn id="5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3500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VIS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LA PARTIDA DOBLE NOS BRINDA UNA HERRAMIENTA PARA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ar si una deuda es legítima: CA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ar si el acreedor es legítimo y no se duplica la deu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SzPct val="2056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ar si la deuda no fue cancelada en todo o en par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SzPct val="2056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ar si el monto insinuado es correcto, considerando el valor de la maquinaria al momento de su compra y eventualmente si al efectuarse la refinanciación no se ha “abultado” la deuda por el reconocimiento de intereses y/u otros conceptos que no resulten justificados: CONTRAPRES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panas%20iglesi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4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panas%20iglesi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9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panas%20iglesi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4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panas%20iglesi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9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afdb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0"/>
            <a:ext cx="9144000" cy="6858000"/>
          </a:xfrm>
          <a:prstGeom prst="horizontalScroll">
            <a:avLst>
              <a:gd name="adj" fmla="val 7615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0800000"/>
          </a:gradFill>
          <a:ln w="9360">
            <a:solidFill>
              <a:srgbClr val="5f5f5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0033"/>
                </a:solidFill>
                <a:latin typeface="Times New Roman"/>
              </a:rPr>
              <a:t>ACCIONES DE RECOMPOSICIÓN PATRIMONIA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438280" y="325440"/>
            <a:ext cx="4314960" cy="6192720"/>
          </a:xfrm>
          <a:prstGeom prst="rect">
            <a:avLst/>
          </a:prstGeom>
          <a:ln w="9360">
            <a:solidFill>
              <a:srgbClr val="ff99ff"/>
            </a:solidFill>
            <a:miter/>
          </a:ln>
          <a:effectLst>
            <a:outerShdw dist="107932" dir="2700000" blurRad="0" rotWithShape="0">
              <a:srgbClr val="ff9900">
                <a:alpha val="50000"/>
              </a:srgbClr>
            </a:outerShdw>
          </a:effectLst>
        </p:spPr>
      </p:pic>
      <p:sp>
        <p:nvSpPr>
          <p:cNvPr id="50" name=""/>
          <p:cNvSpPr/>
          <p:nvPr/>
        </p:nvSpPr>
        <p:spPr>
          <a:xfrm rot="20875200">
            <a:off x="1042920" y="2060640"/>
            <a:ext cx="6977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0" spc="-1" strike="noStrike">
                <a:solidFill>
                  <a:srgbClr val="990033"/>
                </a:solidFill>
                <a:latin typeface="Forte"/>
              </a:rPr>
              <a:t>El sindico y la Partida Dobl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19640" y="587700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Dr. Domingo O. Rodrígu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43680" y="6311880"/>
            <a:ext cx="4066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ntique Olive"/>
              </a:rPr>
              <a:t>drodriguez1@cponline.org.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paascendent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nodeType="afterEffect" fill="hold" presetClass="entr" presetID="27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880"/>
                            </p:stCondLst>
                            <p:childTnLst>
                              <p:par>
                                <p:cTn id="29" nodeType="after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afdb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755640" y="476280"/>
            <a:ext cx="727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XTENSIÓN DE LA QUIEBRA (art. 161 Ley 2452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1765800"/>
            <a:ext cx="9144000" cy="40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4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“…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spuesto de los bienes como si fueran propios 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4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“…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a desviado indebidamente el interés social 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4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“…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xiste confusión patrimonial inescindible, que impida   la clara delimitación de sus activos    y     pasivos 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4000" y="11253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QUIE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71640" y="5445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risprudenci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87640" y="5516640"/>
            <a:ext cx="583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FIBRASUR S.A. s/quiebra s/extensión a HISISA S.A. s/quiebra CNCOM Sala B – 18/02/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asos: “Swift Deltec”, “Oddon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afdb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24000" y="476280"/>
            <a:ext cx="8280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ESPONSABILIDAD DE TERCEROS (art. 173 Ley 2452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4360" y="1712520"/>
            <a:ext cx="8769600" cy="30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4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“…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olosamente hubieren producido, facilitado, permitido, agravado la situación patrimonial del deudor o su insolvencia 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4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“…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articipen dolosamente en actos, tendientes a la disminución del activo o exageración del pasivo 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36720" y="5013360"/>
            <a:ext cx="6407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structuras Elcora S.A. s/quiebra c/Y.R. y otros s/ordinario” CNCOM Sala B 26/11/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honotone  Co. SRL s/quiebra s/responsabilidad de terceros” CNCOM Sala D 10/09/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4000" y="11253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IE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9640" y="4941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risprudenci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ac19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7120" y="105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LA PARTIDA DOBLE FACILITA INVESTIGAR TODO EL PATRIMONI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-221040" y="1342800"/>
            <a:ext cx="90918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SzPct val="2057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partir del conocimiento de una deuda o de la compra de una máquina se puede determinar: su existencia en el activo del deudor o su salida del patrimonio (mediante una contrapartida legítima) o eventuales responsabilidades de  los administradores en el caso de desconocerse su destin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SzPct val="2057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terminar la existencia de actos que pudieran ser declarados ineficaces (a título gratuito, garantías, etc.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SzPct val="2057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stablecer el desvío de bienes en interés de terceros que justifique promover una acción de extensión de quiebra, responsabilidad, etc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4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panas%20iglesi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panas%20iglesi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panas%20iglesi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258920" y="29242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ff"/>
                </a:solidFill>
                <a:latin typeface="Times New Roman"/>
              </a:rPr>
              <a:t>A PARTIR DE LA CA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1908000" y="1341360"/>
            <a:ext cx="5185080" cy="47275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0033"/>
                </a:solidFill>
                <a:latin typeface="Times New Roman"/>
              </a:rPr>
              <a:t>ENCONTR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s-ES" sz="4400" spc="-1" strike="noStrike">
                <a:solidFill>
                  <a:srgbClr val="990033"/>
                </a:solidFill>
                <a:latin typeface="Times New Roman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s-ES" sz="4400" spc="-1" strike="noStrike">
                <a:solidFill>
                  <a:srgbClr val="990033"/>
                </a:solidFill>
                <a:latin typeface="Times New Roman"/>
              </a:rPr>
              <a:t>AC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3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3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3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3000"/>
                            </p:stCondLst>
                            <p:childTnLst>
                              <p:par>
                                <p:cTn id="6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0"/>
                            </p:stCondLst>
                            <p:childTnLst>
                              <p:par>
                                <p:cTn id="698" nodeType="afterEffect" fill="hold" presetClass="entr" presetID="23" presetSubtype="16">
                                  <p:stCondLst>
                                    <p:cond delay="25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TAQU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8000"/>
                            </p:stCondLst>
                            <p:childTnLst>
                              <p:par>
                                <p:cTn id="703" nodeType="afterEffect" fill="hold" presetClass="emph" presetID="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04" dur="2000" fill="hold"/>
                                        <p:tgtEl>
                                          <p:spTgt spid="3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05" nodeType="withEffect" fill="hold" presetClass="emph" presetID="19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06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animClr clrSpc="rgb">
                                      <p:cBhvr>
                                        <p:cTn id="707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708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2">
            <a:lum contrast="22000"/>
          </a:blip>
          <a:stretch/>
        </p:blipFill>
        <p:spPr>
          <a:xfrm>
            <a:off x="1763640" y="476280"/>
            <a:ext cx="5570640" cy="6048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 rot="734400">
            <a:off x="5830560" y="1052280"/>
            <a:ext cx="3313080" cy="1224000"/>
          </a:xfrm>
          <a:prstGeom prst="wedgeEllipseCallout">
            <a:avLst>
              <a:gd name="adj1" fmla="val -55759"/>
              <a:gd name="adj2" fmla="val 106263"/>
            </a:avLst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Sydnie"/>
              </a:rPr>
              <a:t>Gracias, Luc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4" dur="1" fill="hold"/>
                                        <p:tgtEl>
                                          <p:spTgt spid="3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mph" presetID="3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728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29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30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731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mph" presetID="3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733" dur="2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34" dur="2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35" dur="2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736" dur="2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mph" presetID="1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str">
                                      <p:cBhvr additive="repl">
                                        <p:cTn id="738" dur="2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70"/>
                                  </p:iterate>
                                  <p:childTnLst>
                                    <p:animScale>
                                      <p:cBhvr>
                                        <p:cTn id="7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A EMPRESA ANTES DE LA INSOLVENC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826920" y="1700280"/>
            <a:ext cx="7705440" cy="4524120"/>
            <a:chOff x="826920" y="1700280"/>
            <a:chExt cx="7705440" cy="4524120"/>
          </a:xfrm>
        </p:grpSpPr>
        <p:grpSp>
          <p:nvGrpSpPr>
            <p:cNvPr id="55" name=""/>
            <p:cNvGrpSpPr/>
            <p:nvPr/>
          </p:nvGrpSpPr>
          <p:grpSpPr>
            <a:xfrm>
              <a:off x="826920" y="1700280"/>
              <a:ext cx="7705440" cy="4524120"/>
              <a:chOff x="826920" y="1700280"/>
              <a:chExt cx="7705440" cy="4524120"/>
            </a:xfrm>
          </p:grpSpPr>
          <p:sp>
            <p:nvSpPr>
              <p:cNvPr id="56" name=""/>
              <p:cNvSpPr/>
              <p:nvPr/>
            </p:nvSpPr>
            <p:spPr>
              <a:xfrm>
                <a:off x="826920" y="1700280"/>
                <a:ext cx="7705440" cy="4524120"/>
              </a:xfrm>
              <a:custGeom>
                <a:avLst/>
                <a:gdLst/>
                <a:ahLst/>
                <a:rect l="l" t="t" r="r" b="b"/>
                <a:pathLst>
                  <a:path w="3221" h="2714">
                    <a:moveTo>
                      <a:pt x="0" y="2435"/>
                    </a:moveTo>
                    <a:lnTo>
                      <a:pt x="404" y="0"/>
                    </a:lnTo>
                    <a:lnTo>
                      <a:pt x="3221" y="364"/>
                    </a:lnTo>
                    <a:lnTo>
                      <a:pt x="3200" y="2714"/>
                    </a:lnTo>
                    <a:lnTo>
                      <a:pt x="0" y="2435"/>
                    </a:lnTo>
                    <a:close/>
                  </a:path>
                </a:pathLst>
              </a:custGeom>
              <a:solidFill>
                <a:srgbClr val="b2d1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76600" y="1734840"/>
                <a:ext cx="7610400" cy="4437720"/>
              </a:xfrm>
              <a:custGeom>
                <a:avLst/>
                <a:gdLst/>
                <a:ahLst/>
                <a:rect l="l" t="t" r="r" b="b"/>
                <a:pathLst>
                  <a:path w="3181" h="2662">
                    <a:moveTo>
                      <a:pt x="3181" y="362"/>
                    </a:moveTo>
                    <a:lnTo>
                      <a:pt x="398" y="0"/>
                    </a:lnTo>
                    <a:lnTo>
                      <a:pt x="0" y="2394"/>
                    </a:lnTo>
                    <a:lnTo>
                      <a:pt x="3142" y="2662"/>
                    </a:lnTo>
                    <a:lnTo>
                      <a:pt x="3181" y="3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951120" y="1796400"/>
                <a:ext cx="7452000" cy="4311000"/>
              </a:xfrm>
              <a:custGeom>
                <a:avLst/>
                <a:gdLst/>
                <a:ahLst/>
                <a:rect l="l" t="t" r="r" b="b"/>
                <a:pathLst>
                  <a:path w="3115" h="2586">
                    <a:moveTo>
                      <a:pt x="0" y="2325"/>
                    </a:moveTo>
                    <a:lnTo>
                      <a:pt x="386" y="0"/>
                    </a:lnTo>
                    <a:lnTo>
                      <a:pt x="3115" y="356"/>
                    </a:lnTo>
                    <a:lnTo>
                      <a:pt x="3077" y="2586"/>
                    </a:lnTo>
                    <a:lnTo>
                      <a:pt x="0" y="2325"/>
                    </a:lnTo>
                    <a:close/>
                  </a:path>
                </a:pathLst>
              </a:custGeom>
              <a:solidFill>
                <a:srgbClr val="b2d1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032480" y="1851840"/>
                <a:ext cx="7306200" cy="4202640"/>
              </a:xfrm>
              <a:custGeom>
                <a:avLst/>
                <a:gdLst/>
                <a:ahLst/>
                <a:rect l="l" t="t" r="r" b="b"/>
                <a:pathLst>
                  <a:path w="3054" h="2521">
                    <a:moveTo>
                      <a:pt x="3054" y="351"/>
                    </a:moveTo>
                    <a:lnTo>
                      <a:pt x="375" y="0"/>
                    </a:lnTo>
                    <a:lnTo>
                      <a:pt x="0" y="2266"/>
                    </a:lnTo>
                    <a:lnTo>
                      <a:pt x="3015" y="2521"/>
                    </a:lnTo>
                    <a:lnTo>
                      <a:pt x="3054" y="3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63520" y="1946520"/>
                <a:ext cx="7076520" cy="4030920"/>
              </a:xfrm>
              <a:custGeom>
                <a:avLst/>
                <a:gdLst/>
                <a:ahLst/>
                <a:rect l="l" t="t" r="r" b="b"/>
                <a:pathLst>
                  <a:path w="2958" h="2418">
                    <a:moveTo>
                      <a:pt x="2958" y="341"/>
                    </a:moveTo>
                    <a:lnTo>
                      <a:pt x="2923" y="2418"/>
                    </a:lnTo>
                    <a:lnTo>
                      <a:pt x="0" y="2173"/>
                    </a:lnTo>
                    <a:lnTo>
                      <a:pt x="360" y="0"/>
                    </a:lnTo>
                    <a:lnTo>
                      <a:pt x="2958" y="341"/>
                    </a:lnTo>
                    <a:close/>
                  </a:path>
                </a:pathLst>
              </a:custGeom>
              <a:solidFill>
                <a:srgbClr val="b2d1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63520" y="1946520"/>
                <a:ext cx="7076520" cy="4030920"/>
              </a:xfrm>
              <a:custGeom>
                <a:avLst/>
                <a:gdLst/>
                <a:ahLst/>
                <a:rect l="l" t="t" r="r" b="b"/>
                <a:pathLst>
                  <a:path w="2958" h="2418">
                    <a:moveTo>
                      <a:pt x="2958" y="341"/>
                    </a:moveTo>
                    <a:lnTo>
                      <a:pt x="2923" y="2418"/>
                    </a:lnTo>
                    <a:lnTo>
                      <a:pt x="0" y="2173"/>
                    </a:lnTo>
                    <a:lnTo>
                      <a:pt x="360" y="0"/>
                    </a:lnTo>
                    <a:lnTo>
                      <a:pt x="2958" y="341"/>
                    </a:lnTo>
                    <a:close/>
                  </a:path>
                </a:pathLst>
              </a:custGeom>
              <a:solidFill>
                <a:srgbClr val="b2d1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434040" y="2376720"/>
                <a:ext cx="2921400" cy="3238920"/>
              </a:xfrm>
              <a:custGeom>
                <a:avLst/>
                <a:gdLst/>
                <a:ahLst/>
                <a:rect l="l" t="t" r="r" b="b"/>
                <a:pathLst>
                  <a:path w="1221" h="1943">
                    <a:moveTo>
                      <a:pt x="611" y="1943"/>
                    </a:moveTo>
                    <a:lnTo>
                      <a:pt x="674" y="1938"/>
                    </a:lnTo>
                    <a:lnTo>
                      <a:pt x="734" y="1923"/>
                    </a:lnTo>
                    <a:lnTo>
                      <a:pt x="792" y="1899"/>
                    </a:lnTo>
                    <a:lnTo>
                      <a:pt x="849" y="1866"/>
                    </a:lnTo>
                    <a:lnTo>
                      <a:pt x="901" y="1826"/>
                    </a:lnTo>
                    <a:lnTo>
                      <a:pt x="951" y="1777"/>
                    </a:lnTo>
                    <a:lnTo>
                      <a:pt x="998" y="1720"/>
                    </a:lnTo>
                    <a:lnTo>
                      <a:pt x="1042" y="1659"/>
                    </a:lnTo>
                    <a:lnTo>
                      <a:pt x="1081" y="1589"/>
                    </a:lnTo>
                    <a:lnTo>
                      <a:pt x="1117" y="1514"/>
                    </a:lnTo>
                    <a:lnTo>
                      <a:pt x="1148" y="1435"/>
                    </a:lnTo>
                    <a:lnTo>
                      <a:pt x="1174" y="1350"/>
                    </a:lnTo>
                    <a:lnTo>
                      <a:pt x="1193" y="1261"/>
                    </a:lnTo>
                    <a:lnTo>
                      <a:pt x="1208" y="1167"/>
                    </a:lnTo>
                    <a:lnTo>
                      <a:pt x="1217" y="1071"/>
                    </a:lnTo>
                    <a:lnTo>
                      <a:pt x="1221" y="972"/>
                    </a:lnTo>
                    <a:lnTo>
                      <a:pt x="1217" y="873"/>
                    </a:lnTo>
                    <a:lnTo>
                      <a:pt x="1208" y="776"/>
                    </a:lnTo>
                    <a:lnTo>
                      <a:pt x="1193" y="683"/>
                    </a:lnTo>
                    <a:lnTo>
                      <a:pt x="1174" y="594"/>
                    </a:lnTo>
                    <a:lnTo>
                      <a:pt x="1148" y="508"/>
                    </a:lnTo>
                    <a:lnTo>
                      <a:pt x="1117" y="428"/>
                    </a:lnTo>
                    <a:lnTo>
                      <a:pt x="1081" y="354"/>
                    </a:lnTo>
                    <a:lnTo>
                      <a:pt x="1042" y="284"/>
                    </a:lnTo>
                    <a:lnTo>
                      <a:pt x="998" y="222"/>
                    </a:lnTo>
                    <a:lnTo>
                      <a:pt x="951" y="165"/>
                    </a:lnTo>
                    <a:lnTo>
                      <a:pt x="901" y="117"/>
                    </a:lnTo>
                    <a:lnTo>
                      <a:pt x="849" y="76"/>
                    </a:lnTo>
                    <a:lnTo>
                      <a:pt x="792" y="44"/>
                    </a:lnTo>
                    <a:lnTo>
                      <a:pt x="734" y="19"/>
                    </a:lnTo>
                    <a:lnTo>
                      <a:pt x="674" y="5"/>
                    </a:lnTo>
                    <a:lnTo>
                      <a:pt x="611" y="0"/>
                    </a:lnTo>
                    <a:lnTo>
                      <a:pt x="549" y="5"/>
                    </a:lnTo>
                    <a:lnTo>
                      <a:pt x="487" y="19"/>
                    </a:lnTo>
                    <a:lnTo>
                      <a:pt x="429" y="44"/>
                    </a:lnTo>
                    <a:lnTo>
                      <a:pt x="374" y="76"/>
                    </a:lnTo>
                    <a:lnTo>
                      <a:pt x="320" y="117"/>
                    </a:lnTo>
                    <a:lnTo>
                      <a:pt x="270" y="165"/>
                    </a:lnTo>
                    <a:lnTo>
                      <a:pt x="223" y="222"/>
                    </a:lnTo>
                    <a:lnTo>
                      <a:pt x="179" y="284"/>
                    </a:lnTo>
                    <a:lnTo>
                      <a:pt x="140" y="354"/>
                    </a:lnTo>
                    <a:lnTo>
                      <a:pt x="104" y="428"/>
                    </a:lnTo>
                    <a:lnTo>
                      <a:pt x="75" y="508"/>
                    </a:lnTo>
                    <a:lnTo>
                      <a:pt x="49" y="594"/>
                    </a:lnTo>
                    <a:lnTo>
                      <a:pt x="28" y="683"/>
                    </a:lnTo>
                    <a:lnTo>
                      <a:pt x="13" y="776"/>
                    </a:lnTo>
                    <a:lnTo>
                      <a:pt x="4" y="873"/>
                    </a:lnTo>
                    <a:lnTo>
                      <a:pt x="0" y="972"/>
                    </a:lnTo>
                    <a:lnTo>
                      <a:pt x="4" y="1071"/>
                    </a:lnTo>
                    <a:lnTo>
                      <a:pt x="13" y="1167"/>
                    </a:lnTo>
                    <a:lnTo>
                      <a:pt x="28" y="1261"/>
                    </a:lnTo>
                    <a:lnTo>
                      <a:pt x="49" y="1350"/>
                    </a:lnTo>
                    <a:lnTo>
                      <a:pt x="75" y="1435"/>
                    </a:lnTo>
                    <a:lnTo>
                      <a:pt x="104" y="1514"/>
                    </a:lnTo>
                    <a:lnTo>
                      <a:pt x="140" y="1589"/>
                    </a:lnTo>
                    <a:lnTo>
                      <a:pt x="179" y="1659"/>
                    </a:lnTo>
                    <a:lnTo>
                      <a:pt x="223" y="1720"/>
                    </a:lnTo>
                    <a:lnTo>
                      <a:pt x="270" y="1777"/>
                    </a:lnTo>
                    <a:lnTo>
                      <a:pt x="320" y="1826"/>
                    </a:lnTo>
                    <a:lnTo>
                      <a:pt x="374" y="1866"/>
                    </a:lnTo>
                    <a:lnTo>
                      <a:pt x="429" y="1899"/>
                    </a:lnTo>
                    <a:lnTo>
                      <a:pt x="487" y="1923"/>
                    </a:lnTo>
                    <a:lnTo>
                      <a:pt x="549" y="1938"/>
                    </a:lnTo>
                    <a:lnTo>
                      <a:pt x="611" y="1943"/>
                    </a:lnTo>
                    <a:close/>
                  </a:path>
                </a:pathLst>
              </a:custGeom>
              <a:solidFill>
                <a:srgbClr val="b2d1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470040" y="2414880"/>
                <a:ext cx="2854080" cy="3165480"/>
              </a:xfrm>
              <a:custGeom>
                <a:avLst/>
                <a:gdLst/>
                <a:ahLst/>
                <a:rect l="l" t="t" r="r" b="b"/>
                <a:pathLst>
                  <a:path w="1193" h="1899">
                    <a:moveTo>
                      <a:pt x="596" y="1899"/>
                    </a:moveTo>
                    <a:lnTo>
                      <a:pt x="657" y="1894"/>
                    </a:lnTo>
                    <a:lnTo>
                      <a:pt x="716" y="1879"/>
                    </a:lnTo>
                    <a:lnTo>
                      <a:pt x="772" y="1856"/>
                    </a:lnTo>
                    <a:lnTo>
                      <a:pt x="828" y="1824"/>
                    </a:lnTo>
                    <a:lnTo>
                      <a:pt x="880" y="1783"/>
                    </a:lnTo>
                    <a:lnTo>
                      <a:pt x="930" y="1736"/>
                    </a:lnTo>
                    <a:lnTo>
                      <a:pt x="975" y="1681"/>
                    </a:lnTo>
                    <a:lnTo>
                      <a:pt x="1017" y="1621"/>
                    </a:lnTo>
                    <a:lnTo>
                      <a:pt x="1056" y="1553"/>
                    </a:lnTo>
                    <a:lnTo>
                      <a:pt x="1090" y="1480"/>
                    </a:lnTo>
                    <a:lnTo>
                      <a:pt x="1121" y="1402"/>
                    </a:lnTo>
                    <a:lnTo>
                      <a:pt x="1146" y="1319"/>
                    </a:lnTo>
                    <a:lnTo>
                      <a:pt x="1165" y="1232"/>
                    </a:lnTo>
                    <a:lnTo>
                      <a:pt x="1181" y="1141"/>
                    </a:lnTo>
                    <a:lnTo>
                      <a:pt x="1189" y="1046"/>
                    </a:lnTo>
                    <a:lnTo>
                      <a:pt x="1193" y="949"/>
                    </a:lnTo>
                    <a:lnTo>
                      <a:pt x="1189" y="852"/>
                    </a:lnTo>
                    <a:lnTo>
                      <a:pt x="1181" y="758"/>
                    </a:lnTo>
                    <a:lnTo>
                      <a:pt x="1165" y="667"/>
                    </a:lnTo>
                    <a:lnTo>
                      <a:pt x="1146" y="579"/>
                    </a:lnTo>
                    <a:lnTo>
                      <a:pt x="1121" y="496"/>
                    </a:lnTo>
                    <a:lnTo>
                      <a:pt x="1090" y="418"/>
                    </a:lnTo>
                    <a:lnTo>
                      <a:pt x="1056" y="345"/>
                    </a:lnTo>
                    <a:lnTo>
                      <a:pt x="1017" y="277"/>
                    </a:lnTo>
                    <a:lnTo>
                      <a:pt x="975" y="215"/>
                    </a:lnTo>
                    <a:lnTo>
                      <a:pt x="930" y="162"/>
                    </a:lnTo>
                    <a:lnTo>
                      <a:pt x="880" y="113"/>
                    </a:lnTo>
                    <a:lnTo>
                      <a:pt x="828" y="74"/>
                    </a:lnTo>
                    <a:lnTo>
                      <a:pt x="772" y="42"/>
                    </a:lnTo>
                    <a:lnTo>
                      <a:pt x="716" y="19"/>
                    </a:lnTo>
                    <a:lnTo>
                      <a:pt x="657" y="4"/>
                    </a:lnTo>
                    <a:lnTo>
                      <a:pt x="596" y="0"/>
                    </a:lnTo>
                    <a:lnTo>
                      <a:pt x="534" y="4"/>
                    </a:lnTo>
                    <a:lnTo>
                      <a:pt x="475" y="19"/>
                    </a:lnTo>
                    <a:lnTo>
                      <a:pt x="419" y="42"/>
                    </a:lnTo>
                    <a:lnTo>
                      <a:pt x="364" y="74"/>
                    </a:lnTo>
                    <a:lnTo>
                      <a:pt x="312" y="113"/>
                    </a:lnTo>
                    <a:lnTo>
                      <a:pt x="263" y="162"/>
                    </a:lnTo>
                    <a:lnTo>
                      <a:pt x="216" y="215"/>
                    </a:lnTo>
                    <a:lnTo>
                      <a:pt x="174" y="277"/>
                    </a:lnTo>
                    <a:lnTo>
                      <a:pt x="136" y="345"/>
                    </a:lnTo>
                    <a:lnTo>
                      <a:pt x="102" y="418"/>
                    </a:lnTo>
                    <a:lnTo>
                      <a:pt x="71" y="496"/>
                    </a:lnTo>
                    <a:lnTo>
                      <a:pt x="47" y="579"/>
                    </a:lnTo>
                    <a:lnTo>
                      <a:pt x="26" y="667"/>
                    </a:lnTo>
                    <a:lnTo>
                      <a:pt x="11" y="758"/>
                    </a:lnTo>
                    <a:lnTo>
                      <a:pt x="3" y="852"/>
                    </a:lnTo>
                    <a:lnTo>
                      <a:pt x="0" y="949"/>
                    </a:lnTo>
                    <a:lnTo>
                      <a:pt x="3" y="1046"/>
                    </a:lnTo>
                    <a:lnTo>
                      <a:pt x="11" y="1141"/>
                    </a:lnTo>
                    <a:lnTo>
                      <a:pt x="26" y="1232"/>
                    </a:lnTo>
                    <a:lnTo>
                      <a:pt x="47" y="1319"/>
                    </a:lnTo>
                    <a:lnTo>
                      <a:pt x="71" y="1402"/>
                    </a:lnTo>
                    <a:lnTo>
                      <a:pt x="102" y="1480"/>
                    </a:lnTo>
                    <a:lnTo>
                      <a:pt x="136" y="1553"/>
                    </a:lnTo>
                    <a:lnTo>
                      <a:pt x="174" y="1621"/>
                    </a:lnTo>
                    <a:lnTo>
                      <a:pt x="216" y="1681"/>
                    </a:lnTo>
                    <a:lnTo>
                      <a:pt x="263" y="1736"/>
                    </a:lnTo>
                    <a:lnTo>
                      <a:pt x="312" y="1783"/>
                    </a:lnTo>
                    <a:lnTo>
                      <a:pt x="364" y="1824"/>
                    </a:lnTo>
                    <a:lnTo>
                      <a:pt x="419" y="1856"/>
                    </a:lnTo>
                    <a:lnTo>
                      <a:pt x="475" y="1879"/>
                    </a:lnTo>
                    <a:lnTo>
                      <a:pt x="534" y="1894"/>
                    </a:lnTo>
                    <a:lnTo>
                      <a:pt x="596" y="1899"/>
                    </a:lnTo>
                    <a:close/>
                  </a:path>
                </a:pathLst>
              </a:custGeom>
              <a:solidFill>
                <a:srgbClr val="b5d3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501360" y="2450160"/>
                <a:ext cx="2786760" cy="3092400"/>
              </a:xfrm>
              <a:custGeom>
                <a:avLst/>
                <a:gdLst/>
                <a:ahLst/>
                <a:rect l="l" t="t" r="r" b="b"/>
                <a:pathLst>
                  <a:path w="1165" h="1855">
                    <a:moveTo>
                      <a:pt x="583" y="1855"/>
                    </a:moveTo>
                    <a:lnTo>
                      <a:pt x="643" y="1850"/>
                    </a:lnTo>
                    <a:lnTo>
                      <a:pt x="701" y="1835"/>
                    </a:lnTo>
                    <a:lnTo>
                      <a:pt x="756" y="1813"/>
                    </a:lnTo>
                    <a:lnTo>
                      <a:pt x="810" y="1782"/>
                    </a:lnTo>
                    <a:lnTo>
                      <a:pt x="860" y="1743"/>
                    </a:lnTo>
                    <a:lnTo>
                      <a:pt x="909" y="1696"/>
                    </a:lnTo>
                    <a:lnTo>
                      <a:pt x="954" y="1642"/>
                    </a:lnTo>
                    <a:lnTo>
                      <a:pt x="995" y="1584"/>
                    </a:lnTo>
                    <a:lnTo>
                      <a:pt x="1032" y="1517"/>
                    </a:lnTo>
                    <a:lnTo>
                      <a:pt x="1066" y="1446"/>
                    </a:lnTo>
                    <a:lnTo>
                      <a:pt x="1095" y="1370"/>
                    </a:lnTo>
                    <a:lnTo>
                      <a:pt x="1120" y="1288"/>
                    </a:lnTo>
                    <a:lnTo>
                      <a:pt x="1139" y="1204"/>
                    </a:lnTo>
                    <a:lnTo>
                      <a:pt x="1154" y="1115"/>
                    </a:lnTo>
                    <a:lnTo>
                      <a:pt x="1162" y="1022"/>
                    </a:lnTo>
                    <a:lnTo>
                      <a:pt x="1165" y="928"/>
                    </a:lnTo>
                    <a:lnTo>
                      <a:pt x="1162" y="834"/>
                    </a:lnTo>
                    <a:lnTo>
                      <a:pt x="1154" y="741"/>
                    </a:lnTo>
                    <a:lnTo>
                      <a:pt x="1139" y="652"/>
                    </a:lnTo>
                    <a:lnTo>
                      <a:pt x="1120" y="566"/>
                    </a:lnTo>
                    <a:lnTo>
                      <a:pt x="1095" y="485"/>
                    </a:lnTo>
                    <a:lnTo>
                      <a:pt x="1066" y="409"/>
                    </a:lnTo>
                    <a:lnTo>
                      <a:pt x="1032" y="337"/>
                    </a:lnTo>
                    <a:lnTo>
                      <a:pt x="995" y="271"/>
                    </a:lnTo>
                    <a:lnTo>
                      <a:pt x="954" y="212"/>
                    </a:lnTo>
                    <a:lnTo>
                      <a:pt x="909" y="159"/>
                    </a:lnTo>
                    <a:lnTo>
                      <a:pt x="860" y="112"/>
                    </a:lnTo>
                    <a:lnTo>
                      <a:pt x="810" y="73"/>
                    </a:lnTo>
                    <a:lnTo>
                      <a:pt x="756" y="42"/>
                    </a:lnTo>
                    <a:lnTo>
                      <a:pt x="701" y="19"/>
                    </a:lnTo>
                    <a:lnTo>
                      <a:pt x="643" y="4"/>
                    </a:lnTo>
                    <a:lnTo>
                      <a:pt x="583" y="0"/>
                    </a:lnTo>
                    <a:lnTo>
                      <a:pt x="523" y="4"/>
                    </a:lnTo>
                    <a:lnTo>
                      <a:pt x="466" y="19"/>
                    </a:lnTo>
                    <a:lnTo>
                      <a:pt x="409" y="42"/>
                    </a:lnTo>
                    <a:lnTo>
                      <a:pt x="355" y="73"/>
                    </a:lnTo>
                    <a:lnTo>
                      <a:pt x="305" y="112"/>
                    </a:lnTo>
                    <a:lnTo>
                      <a:pt x="256" y="159"/>
                    </a:lnTo>
                    <a:lnTo>
                      <a:pt x="213" y="212"/>
                    </a:lnTo>
                    <a:lnTo>
                      <a:pt x="170" y="271"/>
                    </a:lnTo>
                    <a:lnTo>
                      <a:pt x="133" y="337"/>
                    </a:lnTo>
                    <a:lnTo>
                      <a:pt x="99" y="409"/>
                    </a:lnTo>
                    <a:lnTo>
                      <a:pt x="70" y="485"/>
                    </a:lnTo>
                    <a:lnTo>
                      <a:pt x="45" y="566"/>
                    </a:lnTo>
                    <a:lnTo>
                      <a:pt x="26" y="652"/>
                    </a:lnTo>
                    <a:lnTo>
                      <a:pt x="11" y="741"/>
                    </a:lnTo>
                    <a:lnTo>
                      <a:pt x="3" y="834"/>
                    </a:lnTo>
                    <a:lnTo>
                      <a:pt x="0" y="928"/>
                    </a:lnTo>
                    <a:lnTo>
                      <a:pt x="3" y="1022"/>
                    </a:lnTo>
                    <a:lnTo>
                      <a:pt x="11" y="1115"/>
                    </a:lnTo>
                    <a:lnTo>
                      <a:pt x="26" y="1204"/>
                    </a:lnTo>
                    <a:lnTo>
                      <a:pt x="45" y="1288"/>
                    </a:lnTo>
                    <a:lnTo>
                      <a:pt x="70" y="1370"/>
                    </a:lnTo>
                    <a:lnTo>
                      <a:pt x="99" y="1446"/>
                    </a:lnTo>
                    <a:lnTo>
                      <a:pt x="133" y="1517"/>
                    </a:lnTo>
                    <a:lnTo>
                      <a:pt x="170" y="1584"/>
                    </a:lnTo>
                    <a:lnTo>
                      <a:pt x="213" y="1642"/>
                    </a:lnTo>
                    <a:lnTo>
                      <a:pt x="256" y="1696"/>
                    </a:lnTo>
                    <a:lnTo>
                      <a:pt x="305" y="1743"/>
                    </a:lnTo>
                    <a:lnTo>
                      <a:pt x="355" y="1782"/>
                    </a:lnTo>
                    <a:lnTo>
                      <a:pt x="409" y="1813"/>
                    </a:lnTo>
                    <a:lnTo>
                      <a:pt x="466" y="1835"/>
                    </a:lnTo>
                    <a:lnTo>
                      <a:pt x="523" y="1850"/>
                    </a:lnTo>
                    <a:lnTo>
                      <a:pt x="583" y="1855"/>
                    </a:lnTo>
                    <a:close/>
                  </a:path>
                </a:pathLst>
              </a:custGeom>
              <a:solidFill>
                <a:srgbClr val="bcd8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537360" y="2486880"/>
                <a:ext cx="2720160" cy="3020400"/>
              </a:xfrm>
              <a:custGeom>
                <a:avLst/>
                <a:gdLst/>
                <a:ahLst/>
                <a:rect l="l" t="t" r="r" b="b"/>
                <a:pathLst>
                  <a:path w="1137" h="1812">
                    <a:moveTo>
                      <a:pt x="568" y="1812"/>
                    </a:moveTo>
                    <a:lnTo>
                      <a:pt x="626" y="1807"/>
                    </a:lnTo>
                    <a:lnTo>
                      <a:pt x="683" y="1794"/>
                    </a:lnTo>
                    <a:lnTo>
                      <a:pt x="736" y="1771"/>
                    </a:lnTo>
                    <a:lnTo>
                      <a:pt x="790" y="1740"/>
                    </a:lnTo>
                    <a:lnTo>
                      <a:pt x="839" y="1703"/>
                    </a:lnTo>
                    <a:lnTo>
                      <a:pt x="886" y="1658"/>
                    </a:lnTo>
                    <a:lnTo>
                      <a:pt x="929" y="1606"/>
                    </a:lnTo>
                    <a:lnTo>
                      <a:pt x="970" y="1546"/>
                    </a:lnTo>
                    <a:lnTo>
                      <a:pt x="1007" y="1482"/>
                    </a:lnTo>
                    <a:lnTo>
                      <a:pt x="1040" y="1413"/>
                    </a:lnTo>
                    <a:lnTo>
                      <a:pt x="1069" y="1338"/>
                    </a:lnTo>
                    <a:lnTo>
                      <a:pt x="1092" y="1258"/>
                    </a:lnTo>
                    <a:lnTo>
                      <a:pt x="1111" y="1176"/>
                    </a:lnTo>
                    <a:lnTo>
                      <a:pt x="1126" y="1088"/>
                    </a:lnTo>
                    <a:lnTo>
                      <a:pt x="1134" y="999"/>
                    </a:lnTo>
                    <a:lnTo>
                      <a:pt x="1137" y="906"/>
                    </a:lnTo>
                    <a:lnTo>
                      <a:pt x="1134" y="814"/>
                    </a:lnTo>
                    <a:lnTo>
                      <a:pt x="1126" y="723"/>
                    </a:lnTo>
                    <a:lnTo>
                      <a:pt x="1111" y="637"/>
                    </a:lnTo>
                    <a:lnTo>
                      <a:pt x="1092" y="552"/>
                    </a:lnTo>
                    <a:lnTo>
                      <a:pt x="1069" y="474"/>
                    </a:lnTo>
                    <a:lnTo>
                      <a:pt x="1040" y="400"/>
                    </a:lnTo>
                    <a:lnTo>
                      <a:pt x="1007" y="330"/>
                    </a:lnTo>
                    <a:lnTo>
                      <a:pt x="970" y="265"/>
                    </a:lnTo>
                    <a:lnTo>
                      <a:pt x="929" y="207"/>
                    </a:lnTo>
                    <a:lnTo>
                      <a:pt x="886" y="155"/>
                    </a:lnTo>
                    <a:lnTo>
                      <a:pt x="839" y="109"/>
                    </a:lnTo>
                    <a:lnTo>
                      <a:pt x="790" y="72"/>
                    </a:lnTo>
                    <a:lnTo>
                      <a:pt x="736" y="41"/>
                    </a:lnTo>
                    <a:lnTo>
                      <a:pt x="683" y="18"/>
                    </a:lnTo>
                    <a:lnTo>
                      <a:pt x="626" y="5"/>
                    </a:lnTo>
                    <a:lnTo>
                      <a:pt x="568" y="0"/>
                    </a:lnTo>
                    <a:lnTo>
                      <a:pt x="509" y="5"/>
                    </a:lnTo>
                    <a:lnTo>
                      <a:pt x="454" y="18"/>
                    </a:lnTo>
                    <a:lnTo>
                      <a:pt x="399" y="41"/>
                    </a:lnTo>
                    <a:lnTo>
                      <a:pt x="347" y="72"/>
                    </a:lnTo>
                    <a:lnTo>
                      <a:pt x="297" y="109"/>
                    </a:lnTo>
                    <a:lnTo>
                      <a:pt x="250" y="155"/>
                    </a:lnTo>
                    <a:lnTo>
                      <a:pt x="206" y="207"/>
                    </a:lnTo>
                    <a:lnTo>
                      <a:pt x="167" y="265"/>
                    </a:lnTo>
                    <a:lnTo>
                      <a:pt x="129" y="330"/>
                    </a:lnTo>
                    <a:lnTo>
                      <a:pt x="97" y="400"/>
                    </a:lnTo>
                    <a:lnTo>
                      <a:pt x="68" y="474"/>
                    </a:lnTo>
                    <a:lnTo>
                      <a:pt x="45" y="552"/>
                    </a:lnTo>
                    <a:lnTo>
                      <a:pt x="26" y="637"/>
                    </a:lnTo>
                    <a:lnTo>
                      <a:pt x="11" y="723"/>
                    </a:lnTo>
                    <a:lnTo>
                      <a:pt x="3" y="814"/>
                    </a:lnTo>
                    <a:lnTo>
                      <a:pt x="0" y="906"/>
                    </a:lnTo>
                    <a:lnTo>
                      <a:pt x="3" y="999"/>
                    </a:lnTo>
                    <a:lnTo>
                      <a:pt x="11" y="1088"/>
                    </a:lnTo>
                    <a:lnTo>
                      <a:pt x="26" y="1176"/>
                    </a:lnTo>
                    <a:lnTo>
                      <a:pt x="45" y="1258"/>
                    </a:lnTo>
                    <a:lnTo>
                      <a:pt x="68" y="1338"/>
                    </a:lnTo>
                    <a:lnTo>
                      <a:pt x="97" y="1413"/>
                    </a:lnTo>
                    <a:lnTo>
                      <a:pt x="129" y="1482"/>
                    </a:lnTo>
                    <a:lnTo>
                      <a:pt x="167" y="1546"/>
                    </a:lnTo>
                    <a:lnTo>
                      <a:pt x="206" y="1606"/>
                    </a:lnTo>
                    <a:lnTo>
                      <a:pt x="250" y="1658"/>
                    </a:lnTo>
                    <a:lnTo>
                      <a:pt x="297" y="1703"/>
                    </a:lnTo>
                    <a:lnTo>
                      <a:pt x="347" y="1740"/>
                    </a:lnTo>
                    <a:lnTo>
                      <a:pt x="399" y="1771"/>
                    </a:lnTo>
                    <a:lnTo>
                      <a:pt x="454" y="1794"/>
                    </a:lnTo>
                    <a:lnTo>
                      <a:pt x="509" y="1807"/>
                    </a:lnTo>
                    <a:lnTo>
                      <a:pt x="568" y="1812"/>
                    </a:lnTo>
                    <a:close/>
                  </a:path>
                </a:pathLst>
              </a:custGeom>
              <a:solidFill>
                <a:srgbClr val="c1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568320" y="2521800"/>
                <a:ext cx="2657520" cy="2946960"/>
              </a:xfrm>
              <a:custGeom>
                <a:avLst/>
                <a:gdLst/>
                <a:ahLst/>
                <a:rect l="l" t="t" r="r" b="b"/>
                <a:pathLst>
                  <a:path w="1111" h="1768">
                    <a:moveTo>
                      <a:pt x="555" y="1768"/>
                    </a:moveTo>
                    <a:lnTo>
                      <a:pt x="611" y="1763"/>
                    </a:lnTo>
                    <a:lnTo>
                      <a:pt x="667" y="1750"/>
                    </a:lnTo>
                    <a:lnTo>
                      <a:pt x="720" y="1729"/>
                    </a:lnTo>
                    <a:lnTo>
                      <a:pt x="770" y="1698"/>
                    </a:lnTo>
                    <a:lnTo>
                      <a:pt x="819" y="1661"/>
                    </a:lnTo>
                    <a:lnTo>
                      <a:pt x="866" y="1617"/>
                    </a:lnTo>
                    <a:lnTo>
                      <a:pt x="908" y="1567"/>
                    </a:lnTo>
                    <a:lnTo>
                      <a:pt x="947" y="1508"/>
                    </a:lnTo>
                    <a:lnTo>
                      <a:pt x="985" y="1447"/>
                    </a:lnTo>
                    <a:lnTo>
                      <a:pt x="1015" y="1379"/>
                    </a:lnTo>
                    <a:lnTo>
                      <a:pt x="1045" y="1306"/>
                    </a:lnTo>
                    <a:lnTo>
                      <a:pt x="1067" y="1229"/>
                    </a:lnTo>
                    <a:lnTo>
                      <a:pt x="1087" y="1148"/>
                    </a:lnTo>
                    <a:lnTo>
                      <a:pt x="1100" y="1064"/>
                    </a:lnTo>
                    <a:lnTo>
                      <a:pt x="1108" y="976"/>
                    </a:lnTo>
                    <a:lnTo>
                      <a:pt x="1111" y="885"/>
                    </a:lnTo>
                    <a:lnTo>
                      <a:pt x="1108" y="794"/>
                    </a:lnTo>
                    <a:lnTo>
                      <a:pt x="1100" y="707"/>
                    </a:lnTo>
                    <a:lnTo>
                      <a:pt x="1087" y="622"/>
                    </a:lnTo>
                    <a:lnTo>
                      <a:pt x="1067" y="541"/>
                    </a:lnTo>
                    <a:lnTo>
                      <a:pt x="1045" y="463"/>
                    </a:lnTo>
                    <a:lnTo>
                      <a:pt x="1015" y="390"/>
                    </a:lnTo>
                    <a:lnTo>
                      <a:pt x="985" y="322"/>
                    </a:lnTo>
                    <a:lnTo>
                      <a:pt x="947" y="260"/>
                    </a:lnTo>
                    <a:lnTo>
                      <a:pt x="908" y="202"/>
                    </a:lnTo>
                    <a:lnTo>
                      <a:pt x="866" y="151"/>
                    </a:lnTo>
                    <a:lnTo>
                      <a:pt x="819" y="108"/>
                    </a:lnTo>
                    <a:lnTo>
                      <a:pt x="770" y="70"/>
                    </a:lnTo>
                    <a:lnTo>
                      <a:pt x="720" y="41"/>
                    </a:lnTo>
                    <a:lnTo>
                      <a:pt x="667" y="18"/>
                    </a:lnTo>
                    <a:lnTo>
                      <a:pt x="611" y="5"/>
                    </a:lnTo>
                    <a:lnTo>
                      <a:pt x="555" y="0"/>
                    </a:lnTo>
                    <a:lnTo>
                      <a:pt x="498" y="5"/>
                    </a:lnTo>
                    <a:lnTo>
                      <a:pt x="443" y="18"/>
                    </a:lnTo>
                    <a:lnTo>
                      <a:pt x="389" y="41"/>
                    </a:lnTo>
                    <a:lnTo>
                      <a:pt x="339" y="70"/>
                    </a:lnTo>
                    <a:lnTo>
                      <a:pt x="290" y="108"/>
                    </a:lnTo>
                    <a:lnTo>
                      <a:pt x="245" y="151"/>
                    </a:lnTo>
                    <a:lnTo>
                      <a:pt x="201" y="202"/>
                    </a:lnTo>
                    <a:lnTo>
                      <a:pt x="162" y="260"/>
                    </a:lnTo>
                    <a:lnTo>
                      <a:pt x="126" y="322"/>
                    </a:lnTo>
                    <a:lnTo>
                      <a:pt x="94" y="390"/>
                    </a:lnTo>
                    <a:lnTo>
                      <a:pt x="66" y="463"/>
                    </a:lnTo>
                    <a:lnTo>
                      <a:pt x="43" y="541"/>
                    </a:lnTo>
                    <a:lnTo>
                      <a:pt x="24" y="622"/>
                    </a:lnTo>
                    <a:lnTo>
                      <a:pt x="11" y="707"/>
                    </a:lnTo>
                    <a:lnTo>
                      <a:pt x="3" y="794"/>
                    </a:lnTo>
                    <a:lnTo>
                      <a:pt x="0" y="885"/>
                    </a:lnTo>
                    <a:lnTo>
                      <a:pt x="3" y="976"/>
                    </a:lnTo>
                    <a:lnTo>
                      <a:pt x="11" y="1064"/>
                    </a:lnTo>
                    <a:lnTo>
                      <a:pt x="24" y="1148"/>
                    </a:lnTo>
                    <a:lnTo>
                      <a:pt x="43" y="1229"/>
                    </a:lnTo>
                    <a:lnTo>
                      <a:pt x="66" y="1306"/>
                    </a:lnTo>
                    <a:lnTo>
                      <a:pt x="94" y="1379"/>
                    </a:lnTo>
                    <a:lnTo>
                      <a:pt x="126" y="1447"/>
                    </a:lnTo>
                    <a:lnTo>
                      <a:pt x="162" y="1508"/>
                    </a:lnTo>
                    <a:lnTo>
                      <a:pt x="201" y="1567"/>
                    </a:lnTo>
                    <a:lnTo>
                      <a:pt x="245" y="1617"/>
                    </a:lnTo>
                    <a:lnTo>
                      <a:pt x="290" y="1661"/>
                    </a:lnTo>
                    <a:lnTo>
                      <a:pt x="339" y="1698"/>
                    </a:lnTo>
                    <a:lnTo>
                      <a:pt x="389" y="1729"/>
                    </a:lnTo>
                    <a:lnTo>
                      <a:pt x="443" y="1750"/>
                    </a:lnTo>
                    <a:lnTo>
                      <a:pt x="498" y="1763"/>
                    </a:lnTo>
                    <a:lnTo>
                      <a:pt x="555" y="1768"/>
                    </a:lnTo>
                    <a:close/>
                  </a:path>
                </a:pathLst>
              </a:custGeom>
              <a:solidFill>
                <a:srgbClr val="c4db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601800" y="2558520"/>
                <a:ext cx="2590920" cy="2875320"/>
              </a:xfrm>
              <a:custGeom>
                <a:avLst/>
                <a:gdLst/>
                <a:ahLst/>
                <a:rect l="l" t="t" r="r" b="b"/>
                <a:pathLst>
                  <a:path w="1083" h="1725">
                    <a:moveTo>
                      <a:pt x="541" y="1725"/>
                    </a:moveTo>
                    <a:lnTo>
                      <a:pt x="596" y="1720"/>
                    </a:lnTo>
                    <a:lnTo>
                      <a:pt x="649" y="1707"/>
                    </a:lnTo>
                    <a:lnTo>
                      <a:pt x="703" y="1686"/>
                    </a:lnTo>
                    <a:lnTo>
                      <a:pt x="752" y="1657"/>
                    </a:lnTo>
                    <a:lnTo>
                      <a:pt x="799" y="1621"/>
                    </a:lnTo>
                    <a:lnTo>
                      <a:pt x="844" y="1577"/>
                    </a:lnTo>
                    <a:lnTo>
                      <a:pt x="886" y="1529"/>
                    </a:lnTo>
                    <a:lnTo>
                      <a:pt x="924" y="1472"/>
                    </a:lnTo>
                    <a:lnTo>
                      <a:pt x="959" y="1412"/>
                    </a:lnTo>
                    <a:lnTo>
                      <a:pt x="990" y="1345"/>
                    </a:lnTo>
                    <a:lnTo>
                      <a:pt x="1018" y="1274"/>
                    </a:lnTo>
                    <a:lnTo>
                      <a:pt x="1040" y="1199"/>
                    </a:lnTo>
                    <a:lnTo>
                      <a:pt x="1058" y="1120"/>
                    </a:lnTo>
                    <a:lnTo>
                      <a:pt x="1071" y="1037"/>
                    </a:lnTo>
                    <a:lnTo>
                      <a:pt x="1079" y="951"/>
                    </a:lnTo>
                    <a:lnTo>
                      <a:pt x="1083" y="863"/>
                    </a:lnTo>
                    <a:lnTo>
                      <a:pt x="1079" y="775"/>
                    </a:lnTo>
                    <a:lnTo>
                      <a:pt x="1071" y="689"/>
                    </a:lnTo>
                    <a:lnTo>
                      <a:pt x="1058" y="607"/>
                    </a:lnTo>
                    <a:lnTo>
                      <a:pt x="1040" y="527"/>
                    </a:lnTo>
                    <a:lnTo>
                      <a:pt x="1018" y="451"/>
                    </a:lnTo>
                    <a:lnTo>
                      <a:pt x="990" y="379"/>
                    </a:lnTo>
                    <a:lnTo>
                      <a:pt x="959" y="314"/>
                    </a:lnTo>
                    <a:lnTo>
                      <a:pt x="924" y="253"/>
                    </a:lnTo>
                    <a:lnTo>
                      <a:pt x="886" y="196"/>
                    </a:lnTo>
                    <a:lnTo>
                      <a:pt x="844" y="147"/>
                    </a:lnTo>
                    <a:lnTo>
                      <a:pt x="799" y="103"/>
                    </a:lnTo>
                    <a:lnTo>
                      <a:pt x="752" y="68"/>
                    </a:lnTo>
                    <a:lnTo>
                      <a:pt x="703" y="39"/>
                    </a:lnTo>
                    <a:lnTo>
                      <a:pt x="649" y="17"/>
                    </a:lnTo>
                    <a:lnTo>
                      <a:pt x="596" y="4"/>
                    </a:lnTo>
                    <a:lnTo>
                      <a:pt x="541" y="0"/>
                    </a:lnTo>
                    <a:lnTo>
                      <a:pt x="485" y="4"/>
                    </a:lnTo>
                    <a:lnTo>
                      <a:pt x="432" y="17"/>
                    </a:lnTo>
                    <a:lnTo>
                      <a:pt x="380" y="39"/>
                    </a:lnTo>
                    <a:lnTo>
                      <a:pt x="330" y="68"/>
                    </a:lnTo>
                    <a:lnTo>
                      <a:pt x="283" y="103"/>
                    </a:lnTo>
                    <a:lnTo>
                      <a:pt x="239" y="147"/>
                    </a:lnTo>
                    <a:lnTo>
                      <a:pt x="197" y="196"/>
                    </a:lnTo>
                    <a:lnTo>
                      <a:pt x="159" y="253"/>
                    </a:lnTo>
                    <a:lnTo>
                      <a:pt x="124" y="314"/>
                    </a:lnTo>
                    <a:lnTo>
                      <a:pt x="93" y="379"/>
                    </a:lnTo>
                    <a:lnTo>
                      <a:pt x="65" y="451"/>
                    </a:lnTo>
                    <a:lnTo>
                      <a:pt x="42" y="527"/>
                    </a:lnTo>
                    <a:lnTo>
                      <a:pt x="25" y="607"/>
                    </a:lnTo>
                    <a:lnTo>
                      <a:pt x="12" y="689"/>
                    </a:lnTo>
                    <a:lnTo>
                      <a:pt x="3" y="775"/>
                    </a:lnTo>
                    <a:lnTo>
                      <a:pt x="0" y="863"/>
                    </a:lnTo>
                    <a:lnTo>
                      <a:pt x="3" y="951"/>
                    </a:lnTo>
                    <a:lnTo>
                      <a:pt x="12" y="1037"/>
                    </a:lnTo>
                    <a:lnTo>
                      <a:pt x="25" y="1120"/>
                    </a:lnTo>
                    <a:lnTo>
                      <a:pt x="42" y="1199"/>
                    </a:lnTo>
                    <a:lnTo>
                      <a:pt x="65" y="1274"/>
                    </a:lnTo>
                    <a:lnTo>
                      <a:pt x="93" y="1345"/>
                    </a:lnTo>
                    <a:lnTo>
                      <a:pt x="124" y="1412"/>
                    </a:lnTo>
                    <a:lnTo>
                      <a:pt x="159" y="1472"/>
                    </a:lnTo>
                    <a:lnTo>
                      <a:pt x="197" y="1529"/>
                    </a:lnTo>
                    <a:lnTo>
                      <a:pt x="239" y="1577"/>
                    </a:lnTo>
                    <a:lnTo>
                      <a:pt x="283" y="1621"/>
                    </a:lnTo>
                    <a:lnTo>
                      <a:pt x="330" y="1657"/>
                    </a:lnTo>
                    <a:lnTo>
                      <a:pt x="380" y="1686"/>
                    </a:lnTo>
                    <a:lnTo>
                      <a:pt x="432" y="1707"/>
                    </a:lnTo>
                    <a:lnTo>
                      <a:pt x="485" y="1720"/>
                    </a:lnTo>
                    <a:lnTo>
                      <a:pt x="541" y="1725"/>
                    </a:lnTo>
                    <a:close/>
                  </a:path>
                </a:pathLst>
              </a:custGeom>
              <a:solidFill>
                <a:srgbClr val="c9d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632760" y="2595240"/>
                <a:ext cx="2528640" cy="2800440"/>
              </a:xfrm>
              <a:custGeom>
                <a:avLst/>
                <a:gdLst/>
                <a:ahLst/>
                <a:rect l="l" t="t" r="r" b="b"/>
                <a:pathLst>
                  <a:path w="1057" h="1680">
                    <a:moveTo>
                      <a:pt x="528" y="1680"/>
                    </a:moveTo>
                    <a:lnTo>
                      <a:pt x="581" y="1675"/>
                    </a:lnTo>
                    <a:lnTo>
                      <a:pt x="635" y="1662"/>
                    </a:lnTo>
                    <a:lnTo>
                      <a:pt x="685" y="1643"/>
                    </a:lnTo>
                    <a:lnTo>
                      <a:pt x="734" y="1614"/>
                    </a:lnTo>
                    <a:lnTo>
                      <a:pt x="779" y="1578"/>
                    </a:lnTo>
                    <a:lnTo>
                      <a:pt x="823" y="1537"/>
                    </a:lnTo>
                    <a:lnTo>
                      <a:pt x="863" y="1489"/>
                    </a:lnTo>
                    <a:lnTo>
                      <a:pt x="902" y="1434"/>
                    </a:lnTo>
                    <a:lnTo>
                      <a:pt x="936" y="1375"/>
                    </a:lnTo>
                    <a:lnTo>
                      <a:pt x="966" y="1310"/>
                    </a:lnTo>
                    <a:lnTo>
                      <a:pt x="993" y="1240"/>
                    </a:lnTo>
                    <a:lnTo>
                      <a:pt x="1014" y="1167"/>
                    </a:lnTo>
                    <a:lnTo>
                      <a:pt x="1032" y="1091"/>
                    </a:lnTo>
                    <a:lnTo>
                      <a:pt x="1045" y="1010"/>
                    </a:lnTo>
                    <a:lnTo>
                      <a:pt x="1053" y="927"/>
                    </a:lnTo>
                    <a:lnTo>
                      <a:pt x="1057" y="841"/>
                    </a:lnTo>
                    <a:lnTo>
                      <a:pt x="1053" y="755"/>
                    </a:lnTo>
                    <a:lnTo>
                      <a:pt x="1045" y="672"/>
                    </a:lnTo>
                    <a:lnTo>
                      <a:pt x="1032" y="591"/>
                    </a:lnTo>
                    <a:lnTo>
                      <a:pt x="1014" y="513"/>
                    </a:lnTo>
                    <a:lnTo>
                      <a:pt x="993" y="440"/>
                    </a:lnTo>
                    <a:lnTo>
                      <a:pt x="966" y="370"/>
                    </a:lnTo>
                    <a:lnTo>
                      <a:pt x="936" y="307"/>
                    </a:lnTo>
                    <a:lnTo>
                      <a:pt x="902" y="247"/>
                    </a:lnTo>
                    <a:lnTo>
                      <a:pt x="863" y="192"/>
                    </a:lnTo>
                    <a:lnTo>
                      <a:pt x="823" y="143"/>
                    </a:lnTo>
                    <a:lnTo>
                      <a:pt x="779" y="103"/>
                    </a:lnTo>
                    <a:lnTo>
                      <a:pt x="734" y="67"/>
                    </a:lnTo>
                    <a:lnTo>
                      <a:pt x="685" y="38"/>
                    </a:lnTo>
                    <a:lnTo>
                      <a:pt x="635" y="18"/>
                    </a:lnTo>
                    <a:lnTo>
                      <a:pt x="581" y="5"/>
                    </a:lnTo>
                    <a:lnTo>
                      <a:pt x="528" y="0"/>
                    </a:lnTo>
                    <a:lnTo>
                      <a:pt x="474" y="5"/>
                    </a:lnTo>
                    <a:lnTo>
                      <a:pt x="422" y="18"/>
                    </a:lnTo>
                    <a:lnTo>
                      <a:pt x="372" y="38"/>
                    </a:lnTo>
                    <a:lnTo>
                      <a:pt x="323" y="67"/>
                    </a:lnTo>
                    <a:lnTo>
                      <a:pt x="276" y="103"/>
                    </a:lnTo>
                    <a:lnTo>
                      <a:pt x="234" y="143"/>
                    </a:lnTo>
                    <a:lnTo>
                      <a:pt x="192" y="192"/>
                    </a:lnTo>
                    <a:lnTo>
                      <a:pt x="154" y="247"/>
                    </a:lnTo>
                    <a:lnTo>
                      <a:pt x="120" y="307"/>
                    </a:lnTo>
                    <a:lnTo>
                      <a:pt x="91" y="370"/>
                    </a:lnTo>
                    <a:lnTo>
                      <a:pt x="63" y="440"/>
                    </a:lnTo>
                    <a:lnTo>
                      <a:pt x="42" y="513"/>
                    </a:lnTo>
                    <a:lnTo>
                      <a:pt x="25" y="591"/>
                    </a:lnTo>
                    <a:lnTo>
                      <a:pt x="12" y="672"/>
                    </a:lnTo>
                    <a:lnTo>
                      <a:pt x="3" y="755"/>
                    </a:lnTo>
                    <a:lnTo>
                      <a:pt x="0" y="841"/>
                    </a:lnTo>
                    <a:lnTo>
                      <a:pt x="3" y="927"/>
                    </a:lnTo>
                    <a:lnTo>
                      <a:pt x="12" y="1010"/>
                    </a:lnTo>
                    <a:lnTo>
                      <a:pt x="25" y="1091"/>
                    </a:lnTo>
                    <a:lnTo>
                      <a:pt x="42" y="1167"/>
                    </a:lnTo>
                    <a:lnTo>
                      <a:pt x="63" y="1240"/>
                    </a:lnTo>
                    <a:lnTo>
                      <a:pt x="91" y="1310"/>
                    </a:lnTo>
                    <a:lnTo>
                      <a:pt x="120" y="1375"/>
                    </a:lnTo>
                    <a:lnTo>
                      <a:pt x="154" y="1434"/>
                    </a:lnTo>
                    <a:lnTo>
                      <a:pt x="192" y="1489"/>
                    </a:lnTo>
                    <a:lnTo>
                      <a:pt x="234" y="1537"/>
                    </a:lnTo>
                    <a:lnTo>
                      <a:pt x="276" y="1578"/>
                    </a:lnTo>
                    <a:lnTo>
                      <a:pt x="323" y="1614"/>
                    </a:lnTo>
                    <a:lnTo>
                      <a:pt x="372" y="1643"/>
                    </a:lnTo>
                    <a:lnTo>
                      <a:pt x="422" y="1662"/>
                    </a:lnTo>
                    <a:lnTo>
                      <a:pt x="474" y="1675"/>
                    </a:lnTo>
                    <a:lnTo>
                      <a:pt x="528" y="1680"/>
                    </a:lnTo>
                    <a:close/>
                  </a:path>
                </a:pathLst>
              </a:custGeom>
              <a:solidFill>
                <a:srgbClr val="cee2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668400" y="2630160"/>
                <a:ext cx="2457000" cy="2730600"/>
              </a:xfrm>
              <a:custGeom>
                <a:avLst/>
                <a:gdLst/>
                <a:ahLst/>
                <a:rect l="l" t="t" r="r" b="b"/>
                <a:pathLst>
                  <a:path w="1027" h="1638">
                    <a:moveTo>
                      <a:pt x="513" y="1638"/>
                    </a:moveTo>
                    <a:lnTo>
                      <a:pt x="564" y="1633"/>
                    </a:lnTo>
                    <a:lnTo>
                      <a:pt x="616" y="1622"/>
                    </a:lnTo>
                    <a:lnTo>
                      <a:pt x="665" y="1601"/>
                    </a:lnTo>
                    <a:lnTo>
                      <a:pt x="712" y="1573"/>
                    </a:lnTo>
                    <a:lnTo>
                      <a:pt x="758" y="1539"/>
                    </a:lnTo>
                    <a:lnTo>
                      <a:pt x="800" y="1499"/>
                    </a:lnTo>
                    <a:lnTo>
                      <a:pt x="840" y="1452"/>
                    </a:lnTo>
                    <a:lnTo>
                      <a:pt x="876" y="1398"/>
                    </a:lnTo>
                    <a:lnTo>
                      <a:pt x="910" y="1340"/>
                    </a:lnTo>
                    <a:lnTo>
                      <a:pt x="939" y="1278"/>
                    </a:lnTo>
                    <a:lnTo>
                      <a:pt x="965" y="1210"/>
                    </a:lnTo>
                    <a:lnTo>
                      <a:pt x="986" y="1138"/>
                    </a:lnTo>
                    <a:lnTo>
                      <a:pt x="1004" y="1064"/>
                    </a:lnTo>
                    <a:lnTo>
                      <a:pt x="1017" y="984"/>
                    </a:lnTo>
                    <a:lnTo>
                      <a:pt x="1024" y="903"/>
                    </a:lnTo>
                    <a:lnTo>
                      <a:pt x="1027" y="820"/>
                    </a:lnTo>
                    <a:lnTo>
                      <a:pt x="1024" y="736"/>
                    </a:lnTo>
                    <a:lnTo>
                      <a:pt x="1017" y="655"/>
                    </a:lnTo>
                    <a:lnTo>
                      <a:pt x="1004" y="577"/>
                    </a:lnTo>
                    <a:lnTo>
                      <a:pt x="986" y="500"/>
                    </a:lnTo>
                    <a:lnTo>
                      <a:pt x="965" y="429"/>
                    </a:lnTo>
                    <a:lnTo>
                      <a:pt x="939" y="362"/>
                    </a:lnTo>
                    <a:lnTo>
                      <a:pt x="910" y="299"/>
                    </a:lnTo>
                    <a:lnTo>
                      <a:pt x="876" y="241"/>
                    </a:lnTo>
                    <a:lnTo>
                      <a:pt x="840" y="187"/>
                    </a:lnTo>
                    <a:lnTo>
                      <a:pt x="800" y="140"/>
                    </a:lnTo>
                    <a:lnTo>
                      <a:pt x="758" y="99"/>
                    </a:lnTo>
                    <a:lnTo>
                      <a:pt x="712" y="65"/>
                    </a:lnTo>
                    <a:lnTo>
                      <a:pt x="665" y="38"/>
                    </a:lnTo>
                    <a:lnTo>
                      <a:pt x="616" y="17"/>
                    </a:lnTo>
                    <a:lnTo>
                      <a:pt x="564" y="5"/>
                    </a:lnTo>
                    <a:lnTo>
                      <a:pt x="513" y="0"/>
                    </a:lnTo>
                    <a:lnTo>
                      <a:pt x="461" y="5"/>
                    </a:lnTo>
                    <a:lnTo>
                      <a:pt x="409" y="17"/>
                    </a:lnTo>
                    <a:lnTo>
                      <a:pt x="360" y="38"/>
                    </a:lnTo>
                    <a:lnTo>
                      <a:pt x="313" y="65"/>
                    </a:lnTo>
                    <a:lnTo>
                      <a:pt x="268" y="99"/>
                    </a:lnTo>
                    <a:lnTo>
                      <a:pt x="225" y="140"/>
                    </a:lnTo>
                    <a:lnTo>
                      <a:pt x="186" y="187"/>
                    </a:lnTo>
                    <a:lnTo>
                      <a:pt x="149" y="241"/>
                    </a:lnTo>
                    <a:lnTo>
                      <a:pt x="117" y="299"/>
                    </a:lnTo>
                    <a:lnTo>
                      <a:pt x="87" y="362"/>
                    </a:lnTo>
                    <a:lnTo>
                      <a:pt x="61" y="429"/>
                    </a:lnTo>
                    <a:lnTo>
                      <a:pt x="40" y="500"/>
                    </a:lnTo>
                    <a:lnTo>
                      <a:pt x="23" y="577"/>
                    </a:lnTo>
                    <a:lnTo>
                      <a:pt x="10" y="655"/>
                    </a:lnTo>
                    <a:lnTo>
                      <a:pt x="3" y="736"/>
                    </a:lnTo>
                    <a:lnTo>
                      <a:pt x="0" y="820"/>
                    </a:lnTo>
                    <a:lnTo>
                      <a:pt x="3" y="903"/>
                    </a:lnTo>
                    <a:lnTo>
                      <a:pt x="10" y="984"/>
                    </a:lnTo>
                    <a:lnTo>
                      <a:pt x="23" y="1064"/>
                    </a:lnTo>
                    <a:lnTo>
                      <a:pt x="40" y="1138"/>
                    </a:lnTo>
                    <a:lnTo>
                      <a:pt x="61" y="1210"/>
                    </a:lnTo>
                    <a:lnTo>
                      <a:pt x="87" y="1278"/>
                    </a:lnTo>
                    <a:lnTo>
                      <a:pt x="117" y="1340"/>
                    </a:lnTo>
                    <a:lnTo>
                      <a:pt x="149" y="1398"/>
                    </a:lnTo>
                    <a:lnTo>
                      <a:pt x="186" y="1452"/>
                    </a:lnTo>
                    <a:lnTo>
                      <a:pt x="225" y="1499"/>
                    </a:lnTo>
                    <a:lnTo>
                      <a:pt x="268" y="1539"/>
                    </a:lnTo>
                    <a:lnTo>
                      <a:pt x="313" y="1573"/>
                    </a:lnTo>
                    <a:lnTo>
                      <a:pt x="360" y="1601"/>
                    </a:lnTo>
                    <a:lnTo>
                      <a:pt x="409" y="1622"/>
                    </a:lnTo>
                    <a:lnTo>
                      <a:pt x="461" y="1633"/>
                    </a:lnTo>
                    <a:lnTo>
                      <a:pt x="513" y="1638"/>
                    </a:lnTo>
                    <a:close/>
                  </a:path>
                </a:pathLst>
              </a:custGeom>
              <a:solidFill>
                <a:srgbClr val="d3e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700080" y="2668680"/>
                <a:ext cx="2394720" cy="2653560"/>
              </a:xfrm>
              <a:custGeom>
                <a:avLst/>
                <a:gdLst/>
                <a:ahLst/>
                <a:rect l="l" t="t" r="r" b="b"/>
                <a:pathLst>
                  <a:path w="1001" h="1592">
                    <a:moveTo>
                      <a:pt x="500" y="1592"/>
                    </a:moveTo>
                    <a:lnTo>
                      <a:pt x="551" y="1588"/>
                    </a:lnTo>
                    <a:lnTo>
                      <a:pt x="600" y="1576"/>
                    </a:lnTo>
                    <a:lnTo>
                      <a:pt x="649" y="1557"/>
                    </a:lnTo>
                    <a:lnTo>
                      <a:pt x="694" y="1531"/>
                    </a:lnTo>
                    <a:lnTo>
                      <a:pt x="738" y="1497"/>
                    </a:lnTo>
                    <a:lnTo>
                      <a:pt x="780" y="1456"/>
                    </a:lnTo>
                    <a:lnTo>
                      <a:pt x="819" y="1411"/>
                    </a:lnTo>
                    <a:lnTo>
                      <a:pt x="855" y="1360"/>
                    </a:lnTo>
                    <a:lnTo>
                      <a:pt x="887" y="1304"/>
                    </a:lnTo>
                    <a:lnTo>
                      <a:pt x="915" y="1242"/>
                    </a:lnTo>
                    <a:lnTo>
                      <a:pt x="941" y="1177"/>
                    </a:lnTo>
                    <a:lnTo>
                      <a:pt x="962" y="1107"/>
                    </a:lnTo>
                    <a:lnTo>
                      <a:pt x="978" y="1034"/>
                    </a:lnTo>
                    <a:lnTo>
                      <a:pt x="991" y="958"/>
                    </a:lnTo>
                    <a:lnTo>
                      <a:pt x="998" y="878"/>
                    </a:lnTo>
                    <a:lnTo>
                      <a:pt x="1001" y="797"/>
                    </a:lnTo>
                    <a:lnTo>
                      <a:pt x="998" y="716"/>
                    </a:lnTo>
                    <a:lnTo>
                      <a:pt x="991" y="636"/>
                    </a:lnTo>
                    <a:lnTo>
                      <a:pt x="978" y="560"/>
                    </a:lnTo>
                    <a:lnTo>
                      <a:pt x="962" y="487"/>
                    </a:lnTo>
                    <a:lnTo>
                      <a:pt x="941" y="417"/>
                    </a:lnTo>
                    <a:lnTo>
                      <a:pt x="915" y="352"/>
                    </a:lnTo>
                    <a:lnTo>
                      <a:pt x="887" y="291"/>
                    </a:lnTo>
                    <a:lnTo>
                      <a:pt x="855" y="234"/>
                    </a:lnTo>
                    <a:lnTo>
                      <a:pt x="819" y="182"/>
                    </a:lnTo>
                    <a:lnTo>
                      <a:pt x="780" y="136"/>
                    </a:lnTo>
                    <a:lnTo>
                      <a:pt x="738" y="96"/>
                    </a:lnTo>
                    <a:lnTo>
                      <a:pt x="694" y="63"/>
                    </a:lnTo>
                    <a:lnTo>
                      <a:pt x="649" y="36"/>
                    </a:lnTo>
                    <a:lnTo>
                      <a:pt x="600" y="16"/>
                    </a:lnTo>
                    <a:lnTo>
                      <a:pt x="551" y="5"/>
                    </a:lnTo>
                    <a:lnTo>
                      <a:pt x="500" y="0"/>
                    </a:lnTo>
                    <a:lnTo>
                      <a:pt x="449" y="5"/>
                    </a:lnTo>
                    <a:lnTo>
                      <a:pt x="399" y="16"/>
                    </a:lnTo>
                    <a:lnTo>
                      <a:pt x="350" y="36"/>
                    </a:lnTo>
                    <a:lnTo>
                      <a:pt x="305" y="63"/>
                    </a:lnTo>
                    <a:lnTo>
                      <a:pt x="261" y="96"/>
                    </a:lnTo>
                    <a:lnTo>
                      <a:pt x="220" y="136"/>
                    </a:lnTo>
                    <a:lnTo>
                      <a:pt x="182" y="182"/>
                    </a:lnTo>
                    <a:lnTo>
                      <a:pt x="146" y="234"/>
                    </a:lnTo>
                    <a:lnTo>
                      <a:pt x="113" y="291"/>
                    </a:lnTo>
                    <a:lnTo>
                      <a:pt x="86" y="352"/>
                    </a:lnTo>
                    <a:lnTo>
                      <a:pt x="60" y="417"/>
                    </a:lnTo>
                    <a:lnTo>
                      <a:pt x="39" y="487"/>
                    </a:lnTo>
                    <a:lnTo>
                      <a:pt x="22" y="560"/>
                    </a:lnTo>
                    <a:lnTo>
                      <a:pt x="10" y="636"/>
                    </a:lnTo>
                    <a:lnTo>
                      <a:pt x="3" y="716"/>
                    </a:lnTo>
                    <a:lnTo>
                      <a:pt x="0" y="797"/>
                    </a:lnTo>
                    <a:lnTo>
                      <a:pt x="3" y="878"/>
                    </a:lnTo>
                    <a:lnTo>
                      <a:pt x="10" y="958"/>
                    </a:lnTo>
                    <a:lnTo>
                      <a:pt x="22" y="1034"/>
                    </a:lnTo>
                    <a:lnTo>
                      <a:pt x="39" y="1107"/>
                    </a:lnTo>
                    <a:lnTo>
                      <a:pt x="60" y="1177"/>
                    </a:lnTo>
                    <a:lnTo>
                      <a:pt x="86" y="1242"/>
                    </a:lnTo>
                    <a:lnTo>
                      <a:pt x="113" y="1304"/>
                    </a:lnTo>
                    <a:lnTo>
                      <a:pt x="146" y="1360"/>
                    </a:lnTo>
                    <a:lnTo>
                      <a:pt x="182" y="1411"/>
                    </a:lnTo>
                    <a:lnTo>
                      <a:pt x="220" y="1456"/>
                    </a:lnTo>
                    <a:lnTo>
                      <a:pt x="261" y="1497"/>
                    </a:lnTo>
                    <a:lnTo>
                      <a:pt x="305" y="1531"/>
                    </a:lnTo>
                    <a:lnTo>
                      <a:pt x="350" y="1557"/>
                    </a:lnTo>
                    <a:lnTo>
                      <a:pt x="399" y="1576"/>
                    </a:lnTo>
                    <a:lnTo>
                      <a:pt x="449" y="1588"/>
                    </a:lnTo>
                    <a:lnTo>
                      <a:pt x="500" y="1592"/>
                    </a:lnTo>
                    <a:close/>
                  </a:path>
                </a:pathLst>
              </a:custGeom>
              <a:solidFill>
                <a:srgbClr val="d8e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733200" y="2703600"/>
                <a:ext cx="2325600" cy="2583720"/>
              </a:xfrm>
              <a:custGeom>
                <a:avLst/>
                <a:gdLst/>
                <a:ahLst/>
                <a:rect l="l" t="t" r="r" b="b"/>
                <a:pathLst>
                  <a:path w="972" h="1550">
                    <a:moveTo>
                      <a:pt x="486" y="1550"/>
                    </a:moveTo>
                    <a:lnTo>
                      <a:pt x="536" y="1547"/>
                    </a:lnTo>
                    <a:lnTo>
                      <a:pt x="585" y="1534"/>
                    </a:lnTo>
                    <a:lnTo>
                      <a:pt x="630" y="1516"/>
                    </a:lnTo>
                    <a:lnTo>
                      <a:pt x="675" y="1489"/>
                    </a:lnTo>
                    <a:lnTo>
                      <a:pt x="718" y="1456"/>
                    </a:lnTo>
                    <a:lnTo>
                      <a:pt x="758" y="1417"/>
                    </a:lnTo>
                    <a:lnTo>
                      <a:pt x="795" y="1373"/>
                    </a:lnTo>
                    <a:lnTo>
                      <a:pt x="830" y="1323"/>
                    </a:lnTo>
                    <a:lnTo>
                      <a:pt x="862" y="1268"/>
                    </a:lnTo>
                    <a:lnTo>
                      <a:pt x="890" y="1209"/>
                    </a:lnTo>
                    <a:lnTo>
                      <a:pt x="914" y="1145"/>
                    </a:lnTo>
                    <a:lnTo>
                      <a:pt x="933" y="1076"/>
                    </a:lnTo>
                    <a:lnTo>
                      <a:pt x="951" y="1007"/>
                    </a:lnTo>
                    <a:lnTo>
                      <a:pt x="963" y="932"/>
                    </a:lnTo>
                    <a:lnTo>
                      <a:pt x="969" y="856"/>
                    </a:lnTo>
                    <a:lnTo>
                      <a:pt x="972" y="776"/>
                    </a:lnTo>
                    <a:lnTo>
                      <a:pt x="969" y="697"/>
                    </a:lnTo>
                    <a:lnTo>
                      <a:pt x="963" y="620"/>
                    </a:lnTo>
                    <a:lnTo>
                      <a:pt x="951" y="546"/>
                    </a:lnTo>
                    <a:lnTo>
                      <a:pt x="933" y="474"/>
                    </a:lnTo>
                    <a:lnTo>
                      <a:pt x="914" y="406"/>
                    </a:lnTo>
                    <a:lnTo>
                      <a:pt x="890" y="343"/>
                    </a:lnTo>
                    <a:lnTo>
                      <a:pt x="862" y="283"/>
                    </a:lnTo>
                    <a:lnTo>
                      <a:pt x="830" y="227"/>
                    </a:lnTo>
                    <a:lnTo>
                      <a:pt x="795" y="177"/>
                    </a:lnTo>
                    <a:lnTo>
                      <a:pt x="758" y="133"/>
                    </a:lnTo>
                    <a:lnTo>
                      <a:pt x="718" y="94"/>
                    </a:lnTo>
                    <a:lnTo>
                      <a:pt x="675" y="62"/>
                    </a:lnTo>
                    <a:lnTo>
                      <a:pt x="630" y="34"/>
                    </a:lnTo>
                    <a:lnTo>
                      <a:pt x="585" y="16"/>
                    </a:lnTo>
                    <a:lnTo>
                      <a:pt x="536" y="3"/>
                    </a:lnTo>
                    <a:lnTo>
                      <a:pt x="486" y="0"/>
                    </a:lnTo>
                    <a:lnTo>
                      <a:pt x="435" y="3"/>
                    </a:lnTo>
                    <a:lnTo>
                      <a:pt x="388" y="16"/>
                    </a:lnTo>
                    <a:lnTo>
                      <a:pt x="341" y="34"/>
                    </a:lnTo>
                    <a:lnTo>
                      <a:pt x="297" y="62"/>
                    </a:lnTo>
                    <a:lnTo>
                      <a:pt x="255" y="94"/>
                    </a:lnTo>
                    <a:lnTo>
                      <a:pt x="215" y="133"/>
                    </a:lnTo>
                    <a:lnTo>
                      <a:pt x="177" y="177"/>
                    </a:lnTo>
                    <a:lnTo>
                      <a:pt x="143" y="227"/>
                    </a:lnTo>
                    <a:lnTo>
                      <a:pt x="111" y="283"/>
                    </a:lnTo>
                    <a:lnTo>
                      <a:pt x="83" y="343"/>
                    </a:lnTo>
                    <a:lnTo>
                      <a:pt x="59" y="406"/>
                    </a:lnTo>
                    <a:lnTo>
                      <a:pt x="39" y="474"/>
                    </a:lnTo>
                    <a:lnTo>
                      <a:pt x="21" y="546"/>
                    </a:lnTo>
                    <a:lnTo>
                      <a:pt x="10" y="620"/>
                    </a:lnTo>
                    <a:lnTo>
                      <a:pt x="4" y="697"/>
                    </a:lnTo>
                    <a:lnTo>
                      <a:pt x="0" y="776"/>
                    </a:lnTo>
                    <a:lnTo>
                      <a:pt x="4" y="856"/>
                    </a:lnTo>
                    <a:lnTo>
                      <a:pt x="10" y="932"/>
                    </a:lnTo>
                    <a:lnTo>
                      <a:pt x="21" y="1007"/>
                    </a:lnTo>
                    <a:lnTo>
                      <a:pt x="39" y="1076"/>
                    </a:lnTo>
                    <a:lnTo>
                      <a:pt x="59" y="1145"/>
                    </a:lnTo>
                    <a:lnTo>
                      <a:pt x="83" y="1209"/>
                    </a:lnTo>
                    <a:lnTo>
                      <a:pt x="111" y="1268"/>
                    </a:lnTo>
                    <a:lnTo>
                      <a:pt x="143" y="1323"/>
                    </a:lnTo>
                    <a:lnTo>
                      <a:pt x="177" y="1373"/>
                    </a:lnTo>
                    <a:lnTo>
                      <a:pt x="215" y="1417"/>
                    </a:lnTo>
                    <a:lnTo>
                      <a:pt x="255" y="1456"/>
                    </a:lnTo>
                    <a:lnTo>
                      <a:pt x="297" y="1489"/>
                    </a:lnTo>
                    <a:lnTo>
                      <a:pt x="341" y="1516"/>
                    </a:lnTo>
                    <a:lnTo>
                      <a:pt x="388" y="1534"/>
                    </a:lnTo>
                    <a:lnTo>
                      <a:pt x="435" y="1547"/>
                    </a:lnTo>
                    <a:lnTo>
                      <a:pt x="486" y="1550"/>
                    </a:lnTo>
                    <a:close/>
                  </a:path>
                </a:pathLst>
              </a:custGeom>
              <a:solidFill>
                <a:srgbClr val="dde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764520" y="2742120"/>
                <a:ext cx="2262600" cy="2508480"/>
              </a:xfrm>
              <a:custGeom>
                <a:avLst/>
                <a:gdLst/>
                <a:ahLst/>
                <a:rect l="l" t="t" r="r" b="b"/>
                <a:pathLst>
                  <a:path w="946" h="1505">
                    <a:moveTo>
                      <a:pt x="473" y="1505"/>
                    </a:moveTo>
                    <a:lnTo>
                      <a:pt x="521" y="1501"/>
                    </a:lnTo>
                    <a:lnTo>
                      <a:pt x="568" y="1490"/>
                    </a:lnTo>
                    <a:lnTo>
                      <a:pt x="614" y="1471"/>
                    </a:lnTo>
                    <a:lnTo>
                      <a:pt x="658" y="1446"/>
                    </a:lnTo>
                    <a:lnTo>
                      <a:pt x="698" y="1414"/>
                    </a:lnTo>
                    <a:lnTo>
                      <a:pt x="737" y="1376"/>
                    </a:lnTo>
                    <a:lnTo>
                      <a:pt x="774" y="1333"/>
                    </a:lnTo>
                    <a:lnTo>
                      <a:pt x="807" y="1284"/>
                    </a:lnTo>
                    <a:lnTo>
                      <a:pt x="838" y="1232"/>
                    </a:lnTo>
                    <a:lnTo>
                      <a:pt x="865" y="1174"/>
                    </a:lnTo>
                    <a:lnTo>
                      <a:pt x="890" y="1112"/>
                    </a:lnTo>
                    <a:lnTo>
                      <a:pt x="909" y="1045"/>
                    </a:lnTo>
                    <a:lnTo>
                      <a:pt x="925" y="977"/>
                    </a:lnTo>
                    <a:lnTo>
                      <a:pt x="937" y="904"/>
                    </a:lnTo>
                    <a:lnTo>
                      <a:pt x="943" y="829"/>
                    </a:lnTo>
                    <a:lnTo>
                      <a:pt x="946" y="753"/>
                    </a:lnTo>
                    <a:lnTo>
                      <a:pt x="943" y="675"/>
                    </a:lnTo>
                    <a:lnTo>
                      <a:pt x="937" y="601"/>
                    </a:lnTo>
                    <a:lnTo>
                      <a:pt x="925" y="529"/>
                    </a:lnTo>
                    <a:lnTo>
                      <a:pt x="909" y="459"/>
                    </a:lnTo>
                    <a:lnTo>
                      <a:pt x="890" y="394"/>
                    </a:lnTo>
                    <a:lnTo>
                      <a:pt x="865" y="331"/>
                    </a:lnTo>
                    <a:lnTo>
                      <a:pt x="838" y="274"/>
                    </a:lnTo>
                    <a:lnTo>
                      <a:pt x="807" y="221"/>
                    </a:lnTo>
                    <a:lnTo>
                      <a:pt x="774" y="172"/>
                    </a:lnTo>
                    <a:lnTo>
                      <a:pt x="737" y="128"/>
                    </a:lnTo>
                    <a:lnTo>
                      <a:pt x="698" y="91"/>
                    </a:lnTo>
                    <a:lnTo>
                      <a:pt x="658" y="58"/>
                    </a:lnTo>
                    <a:lnTo>
                      <a:pt x="614" y="34"/>
                    </a:lnTo>
                    <a:lnTo>
                      <a:pt x="568" y="15"/>
                    </a:lnTo>
                    <a:lnTo>
                      <a:pt x="521" y="3"/>
                    </a:lnTo>
                    <a:lnTo>
                      <a:pt x="473" y="0"/>
                    </a:lnTo>
                    <a:lnTo>
                      <a:pt x="424" y="3"/>
                    </a:lnTo>
                    <a:lnTo>
                      <a:pt x="377" y="15"/>
                    </a:lnTo>
                    <a:lnTo>
                      <a:pt x="331" y="34"/>
                    </a:lnTo>
                    <a:lnTo>
                      <a:pt x="289" y="58"/>
                    </a:lnTo>
                    <a:lnTo>
                      <a:pt x="247" y="91"/>
                    </a:lnTo>
                    <a:lnTo>
                      <a:pt x="208" y="128"/>
                    </a:lnTo>
                    <a:lnTo>
                      <a:pt x="172" y="172"/>
                    </a:lnTo>
                    <a:lnTo>
                      <a:pt x="138" y="221"/>
                    </a:lnTo>
                    <a:lnTo>
                      <a:pt x="107" y="274"/>
                    </a:lnTo>
                    <a:lnTo>
                      <a:pt x="81" y="331"/>
                    </a:lnTo>
                    <a:lnTo>
                      <a:pt x="57" y="394"/>
                    </a:lnTo>
                    <a:lnTo>
                      <a:pt x="38" y="459"/>
                    </a:lnTo>
                    <a:lnTo>
                      <a:pt x="21" y="529"/>
                    </a:lnTo>
                    <a:lnTo>
                      <a:pt x="10" y="601"/>
                    </a:lnTo>
                    <a:lnTo>
                      <a:pt x="2" y="675"/>
                    </a:lnTo>
                    <a:lnTo>
                      <a:pt x="0" y="753"/>
                    </a:lnTo>
                    <a:lnTo>
                      <a:pt x="2" y="829"/>
                    </a:lnTo>
                    <a:lnTo>
                      <a:pt x="10" y="904"/>
                    </a:lnTo>
                    <a:lnTo>
                      <a:pt x="21" y="977"/>
                    </a:lnTo>
                    <a:lnTo>
                      <a:pt x="38" y="1045"/>
                    </a:lnTo>
                    <a:lnTo>
                      <a:pt x="57" y="1112"/>
                    </a:lnTo>
                    <a:lnTo>
                      <a:pt x="81" y="1174"/>
                    </a:lnTo>
                    <a:lnTo>
                      <a:pt x="107" y="1232"/>
                    </a:lnTo>
                    <a:lnTo>
                      <a:pt x="138" y="1284"/>
                    </a:lnTo>
                    <a:lnTo>
                      <a:pt x="172" y="1333"/>
                    </a:lnTo>
                    <a:lnTo>
                      <a:pt x="208" y="1376"/>
                    </a:lnTo>
                    <a:lnTo>
                      <a:pt x="247" y="1414"/>
                    </a:lnTo>
                    <a:lnTo>
                      <a:pt x="289" y="1446"/>
                    </a:lnTo>
                    <a:lnTo>
                      <a:pt x="331" y="1471"/>
                    </a:lnTo>
                    <a:lnTo>
                      <a:pt x="377" y="1490"/>
                    </a:lnTo>
                    <a:lnTo>
                      <a:pt x="424" y="1501"/>
                    </a:lnTo>
                    <a:lnTo>
                      <a:pt x="473" y="1505"/>
                    </a:lnTo>
                    <a:close/>
                  </a:path>
                </a:pathLst>
              </a:custGeom>
              <a:solidFill>
                <a:srgbClr val="e2ed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795480" y="2776680"/>
                <a:ext cx="2198880" cy="2439000"/>
              </a:xfrm>
              <a:custGeom>
                <a:avLst/>
                <a:gdLst/>
                <a:ahLst/>
                <a:rect l="l" t="t" r="r" b="b"/>
                <a:pathLst>
                  <a:path w="919" h="1463">
                    <a:moveTo>
                      <a:pt x="460" y="1463"/>
                    </a:moveTo>
                    <a:lnTo>
                      <a:pt x="507" y="1459"/>
                    </a:lnTo>
                    <a:lnTo>
                      <a:pt x="552" y="1448"/>
                    </a:lnTo>
                    <a:lnTo>
                      <a:pt x="596" y="1430"/>
                    </a:lnTo>
                    <a:lnTo>
                      <a:pt x="638" y="1406"/>
                    </a:lnTo>
                    <a:lnTo>
                      <a:pt x="679" y="1375"/>
                    </a:lnTo>
                    <a:lnTo>
                      <a:pt x="718" y="1338"/>
                    </a:lnTo>
                    <a:lnTo>
                      <a:pt x="752" y="1295"/>
                    </a:lnTo>
                    <a:lnTo>
                      <a:pt x="784" y="1248"/>
                    </a:lnTo>
                    <a:lnTo>
                      <a:pt x="815" y="1196"/>
                    </a:lnTo>
                    <a:lnTo>
                      <a:pt x="841" y="1140"/>
                    </a:lnTo>
                    <a:lnTo>
                      <a:pt x="864" y="1079"/>
                    </a:lnTo>
                    <a:lnTo>
                      <a:pt x="883" y="1016"/>
                    </a:lnTo>
                    <a:lnTo>
                      <a:pt x="898" y="950"/>
                    </a:lnTo>
                    <a:lnTo>
                      <a:pt x="909" y="880"/>
                    </a:lnTo>
                    <a:lnTo>
                      <a:pt x="917" y="807"/>
                    </a:lnTo>
                    <a:lnTo>
                      <a:pt x="919" y="732"/>
                    </a:lnTo>
                    <a:lnTo>
                      <a:pt x="917" y="657"/>
                    </a:lnTo>
                    <a:lnTo>
                      <a:pt x="909" y="584"/>
                    </a:lnTo>
                    <a:lnTo>
                      <a:pt x="898" y="515"/>
                    </a:lnTo>
                    <a:lnTo>
                      <a:pt x="883" y="446"/>
                    </a:lnTo>
                    <a:lnTo>
                      <a:pt x="864" y="383"/>
                    </a:lnTo>
                    <a:lnTo>
                      <a:pt x="841" y="323"/>
                    </a:lnTo>
                    <a:lnTo>
                      <a:pt x="815" y="266"/>
                    </a:lnTo>
                    <a:lnTo>
                      <a:pt x="784" y="214"/>
                    </a:lnTo>
                    <a:lnTo>
                      <a:pt x="752" y="167"/>
                    </a:lnTo>
                    <a:lnTo>
                      <a:pt x="718" y="125"/>
                    </a:lnTo>
                    <a:lnTo>
                      <a:pt x="679" y="88"/>
                    </a:lnTo>
                    <a:lnTo>
                      <a:pt x="638" y="57"/>
                    </a:lnTo>
                    <a:lnTo>
                      <a:pt x="596" y="33"/>
                    </a:lnTo>
                    <a:lnTo>
                      <a:pt x="552" y="15"/>
                    </a:lnTo>
                    <a:lnTo>
                      <a:pt x="507" y="3"/>
                    </a:lnTo>
                    <a:lnTo>
                      <a:pt x="460" y="0"/>
                    </a:lnTo>
                    <a:lnTo>
                      <a:pt x="413" y="3"/>
                    </a:lnTo>
                    <a:lnTo>
                      <a:pt x="367" y="15"/>
                    </a:lnTo>
                    <a:lnTo>
                      <a:pt x="323" y="33"/>
                    </a:lnTo>
                    <a:lnTo>
                      <a:pt x="281" y="57"/>
                    </a:lnTo>
                    <a:lnTo>
                      <a:pt x="240" y="88"/>
                    </a:lnTo>
                    <a:lnTo>
                      <a:pt x="203" y="125"/>
                    </a:lnTo>
                    <a:lnTo>
                      <a:pt x="167" y="167"/>
                    </a:lnTo>
                    <a:lnTo>
                      <a:pt x="135" y="214"/>
                    </a:lnTo>
                    <a:lnTo>
                      <a:pt x="106" y="266"/>
                    </a:lnTo>
                    <a:lnTo>
                      <a:pt x="78" y="323"/>
                    </a:lnTo>
                    <a:lnTo>
                      <a:pt x="56" y="383"/>
                    </a:lnTo>
                    <a:lnTo>
                      <a:pt x="36" y="446"/>
                    </a:lnTo>
                    <a:lnTo>
                      <a:pt x="21" y="515"/>
                    </a:lnTo>
                    <a:lnTo>
                      <a:pt x="10" y="584"/>
                    </a:lnTo>
                    <a:lnTo>
                      <a:pt x="2" y="657"/>
                    </a:lnTo>
                    <a:lnTo>
                      <a:pt x="0" y="732"/>
                    </a:lnTo>
                    <a:lnTo>
                      <a:pt x="2" y="807"/>
                    </a:lnTo>
                    <a:lnTo>
                      <a:pt x="10" y="880"/>
                    </a:lnTo>
                    <a:lnTo>
                      <a:pt x="21" y="950"/>
                    </a:lnTo>
                    <a:lnTo>
                      <a:pt x="36" y="1016"/>
                    </a:lnTo>
                    <a:lnTo>
                      <a:pt x="56" y="1079"/>
                    </a:lnTo>
                    <a:lnTo>
                      <a:pt x="78" y="1140"/>
                    </a:lnTo>
                    <a:lnTo>
                      <a:pt x="106" y="1196"/>
                    </a:lnTo>
                    <a:lnTo>
                      <a:pt x="135" y="1248"/>
                    </a:lnTo>
                    <a:lnTo>
                      <a:pt x="167" y="1295"/>
                    </a:lnTo>
                    <a:lnTo>
                      <a:pt x="203" y="1338"/>
                    </a:lnTo>
                    <a:lnTo>
                      <a:pt x="240" y="1375"/>
                    </a:lnTo>
                    <a:lnTo>
                      <a:pt x="281" y="1406"/>
                    </a:lnTo>
                    <a:lnTo>
                      <a:pt x="323" y="1430"/>
                    </a:lnTo>
                    <a:lnTo>
                      <a:pt x="367" y="1448"/>
                    </a:lnTo>
                    <a:lnTo>
                      <a:pt x="413" y="1459"/>
                    </a:lnTo>
                    <a:lnTo>
                      <a:pt x="460" y="1463"/>
                    </a:lnTo>
                    <a:close/>
                  </a:path>
                </a:pathLst>
              </a:custGeom>
              <a:solidFill>
                <a:srgbClr val="e5ef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831120" y="2815200"/>
                <a:ext cx="2131560" cy="2361960"/>
              </a:xfrm>
              <a:custGeom>
                <a:avLst/>
                <a:gdLst/>
                <a:ahLst/>
                <a:rect l="l" t="t" r="r" b="b"/>
                <a:pathLst>
                  <a:path w="891" h="1417">
                    <a:moveTo>
                      <a:pt x="445" y="1417"/>
                    </a:moveTo>
                    <a:lnTo>
                      <a:pt x="490" y="1414"/>
                    </a:lnTo>
                    <a:lnTo>
                      <a:pt x="534" y="1402"/>
                    </a:lnTo>
                    <a:lnTo>
                      <a:pt x="578" y="1384"/>
                    </a:lnTo>
                    <a:lnTo>
                      <a:pt x="618" y="1362"/>
                    </a:lnTo>
                    <a:lnTo>
                      <a:pt x="657" y="1331"/>
                    </a:lnTo>
                    <a:lnTo>
                      <a:pt x="694" y="1297"/>
                    </a:lnTo>
                    <a:lnTo>
                      <a:pt x="729" y="1256"/>
                    </a:lnTo>
                    <a:lnTo>
                      <a:pt x="761" y="1209"/>
                    </a:lnTo>
                    <a:lnTo>
                      <a:pt x="789" y="1159"/>
                    </a:lnTo>
                    <a:lnTo>
                      <a:pt x="815" y="1105"/>
                    </a:lnTo>
                    <a:lnTo>
                      <a:pt x="837" y="1047"/>
                    </a:lnTo>
                    <a:lnTo>
                      <a:pt x="855" y="985"/>
                    </a:lnTo>
                    <a:lnTo>
                      <a:pt x="871" y="920"/>
                    </a:lnTo>
                    <a:lnTo>
                      <a:pt x="881" y="852"/>
                    </a:lnTo>
                    <a:lnTo>
                      <a:pt x="889" y="782"/>
                    </a:lnTo>
                    <a:lnTo>
                      <a:pt x="891" y="709"/>
                    </a:lnTo>
                    <a:lnTo>
                      <a:pt x="889" y="636"/>
                    </a:lnTo>
                    <a:lnTo>
                      <a:pt x="881" y="566"/>
                    </a:lnTo>
                    <a:lnTo>
                      <a:pt x="871" y="498"/>
                    </a:lnTo>
                    <a:lnTo>
                      <a:pt x="855" y="433"/>
                    </a:lnTo>
                    <a:lnTo>
                      <a:pt x="837" y="370"/>
                    </a:lnTo>
                    <a:lnTo>
                      <a:pt x="815" y="311"/>
                    </a:lnTo>
                    <a:lnTo>
                      <a:pt x="789" y="258"/>
                    </a:lnTo>
                    <a:lnTo>
                      <a:pt x="761" y="208"/>
                    </a:lnTo>
                    <a:lnTo>
                      <a:pt x="729" y="162"/>
                    </a:lnTo>
                    <a:lnTo>
                      <a:pt x="694" y="120"/>
                    </a:lnTo>
                    <a:lnTo>
                      <a:pt x="657" y="86"/>
                    </a:lnTo>
                    <a:lnTo>
                      <a:pt x="618" y="55"/>
                    </a:lnTo>
                    <a:lnTo>
                      <a:pt x="578" y="32"/>
                    </a:lnTo>
                    <a:lnTo>
                      <a:pt x="534" y="14"/>
                    </a:lnTo>
                    <a:lnTo>
                      <a:pt x="490" y="3"/>
                    </a:lnTo>
                    <a:lnTo>
                      <a:pt x="445" y="0"/>
                    </a:lnTo>
                    <a:lnTo>
                      <a:pt x="399" y="3"/>
                    </a:lnTo>
                    <a:lnTo>
                      <a:pt x="355" y="14"/>
                    </a:lnTo>
                    <a:lnTo>
                      <a:pt x="313" y="32"/>
                    </a:lnTo>
                    <a:lnTo>
                      <a:pt x="271" y="55"/>
                    </a:lnTo>
                    <a:lnTo>
                      <a:pt x="234" y="86"/>
                    </a:lnTo>
                    <a:lnTo>
                      <a:pt x="196" y="120"/>
                    </a:lnTo>
                    <a:lnTo>
                      <a:pt x="162" y="162"/>
                    </a:lnTo>
                    <a:lnTo>
                      <a:pt x="130" y="208"/>
                    </a:lnTo>
                    <a:lnTo>
                      <a:pt x="102" y="258"/>
                    </a:lnTo>
                    <a:lnTo>
                      <a:pt x="76" y="311"/>
                    </a:lnTo>
                    <a:lnTo>
                      <a:pt x="53" y="370"/>
                    </a:lnTo>
                    <a:lnTo>
                      <a:pt x="36" y="433"/>
                    </a:lnTo>
                    <a:lnTo>
                      <a:pt x="19" y="498"/>
                    </a:lnTo>
                    <a:lnTo>
                      <a:pt x="10" y="566"/>
                    </a:lnTo>
                    <a:lnTo>
                      <a:pt x="2" y="636"/>
                    </a:lnTo>
                    <a:lnTo>
                      <a:pt x="0" y="709"/>
                    </a:lnTo>
                    <a:lnTo>
                      <a:pt x="2" y="782"/>
                    </a:lnTo>
                    <a:lnTo>
                      <a:pt x="10" y="852"/>
                    </a:lnTo>
                    <a:lnTo>
                      <a:pt x="19" y="920"/>
                    </a:lnTo>
                    <a:lnTo>
                      <a:pt x="36" y="985"/>
                    </a:lnTo>
                    <a:lnTo>
                      <a:pt x="53" y="1047"/>
                    </a:lnTo>
                    <a:lnTo>
                      <a:pt x="76" y="1105"/>
                    </a:lnTo>
                    <a:lnTo>
                      <a:pt x="102" y="1159"/>
                    </a:lnTo>
                    <a:lnTo>
                      <a:pt x="130" y="1209"/>
                    </a:lnTo>
                    <a:lnTo>
                      <a:pt x="162" y="1256"/>
                    </a:lnTo>
                    <a:lnTo>
                      <a:pt x="196" y="1297"/>
                    </a:lnTo>
                    <a:lnTo>
                      <a:pt x="234" y="1331"/>
                    </a:lnTo>
                    <a:lnTo>
                      <a:pt x="271" y="1362"/>
                    </a:lnTo>
                    <a:lnTo>
                      <a:pt x="313" y="1384"/>
                    </a:lnTo>
                    <a:lnTo>
                      <a:pt x="355" y="1402"/>
                    </a:lnTo>
                    <a:lnTo>
                      <a:pt x="399" y="1414"/>
                    </a:lnTo>
                    <a:lnTo>
                      <a:pt x="445" y="1417"/>
                    </a:lnTo>
                    <a:close/>
                  </a:path>
                </a:pathLst>
              </a:custGeom>
              <a:solidFill>
                <a:srgbClr val="edf4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62800" y="2850120"/>
                <a:ext cx="2064240" cy="2292120"/>
              </a:xfrm>
              <a:custGeom>
                <a:avLst/>
                <a:gdLst/>
                <a:ahLst/>
                <a:rect l="l" t="t" r="r" b="b"/>
                <a:pathLst>
                  <a:path w="863" h="1375">
                    <a:moveTo>
                      <a:pt x="432" y="1375"/>
                    </a:moveTo>
                    <a:lnTo>
                      <a:pt x="475" y="1371"/>
                    </a:lnTo>
                    <a:lnTo>
                      <a:pt x="519" y="1360"/>
                    </a:lnTo>
                    <a:lnTo>
                      <a:pt x="560" y="1344"/>
                    </a:lnTo>
                    <a:lnTo>
                      <a:pt x="600" y="1321"/>
                    </a:lnTo>
                    <a:lnTo>
                      <a:pt x="638" y="1292"/>
                    </a:lnTo>
                    <a:lnTo>
                      <a:pt x="673" y="1258"/>
                    </a:lnTo>
                    <a:lnTo>
                      <a:pt x="706" y="1217"/>
                    </a:lnTo>
                    <a:lnTo>
                      <a:pt x="737" y="1173"/>
                    </a:lnTo>
                    <a:lnTo>
                      <a:pt x="764" y="1125"/>
                    </a:lnTo>
                    <a:lnTo>
                      <a:pt x="790" y="1071"/>
                    </a:lnTo>
                    <a:lnTo>
                      <a:pt x="811" y="1014"/>
                    </a:lnTo>
                    <a:lnTo>
                      <a:pt x="829" y="954"/>
                    </a:lnTo>
                    <a:lnTo>
                      <a:pt x="844" y="893"/>
                    </a:lnTo>
                    <a:lnTo>
                      <a:pt x="855" y="826"/>
                    </a:lnTo>
                    <a:lnTo>
                      <a:pt x="862" y="758"/>
                    </a:lnTo>
                    <a:lnTo>
                      <a:pt x="863" y="688"/>
                    </a:lnTo>
                    <a:lnTo>
                      <a:pt x="862" y="618"/>
                    </a:lnTo>
                    <a:lnTo>
                      <a:pt x="855" y="550"/>
                    </a:lnTo>
                    <a:lnTo>
                      <a:pt x="844" y="484"/>
                    </a:lnTo>
                    <a:lnTo>
                      <a:pt x="829" y="420"/>
                    </a:lnTo>
                    <a:lnTo>
                      <a:pt x="811" y="360"/>
                    </a:lnTo>
                    <a:lnTo>
                      <a:pt x="790" y="303"/>
                    </a:lnTo>
                    <a:lnTo>
                      <a:pt x="764" y="250"/>
                    </a:lnTo>
                    <a:lnTo>
                      <a:pt x="737" y="201"/>
                    </a:lnTo>
                    <a:lnTo>
                      <a:pt x="706" y="157"/>
                    </a:lnTo>
                    <a:lnTo>
                      <a:pt x="673" y="117"/>
                    </a:lnTo>
                    <a:lnTo>
                      <a:pt x="638" y="83"/>
                    </a:lnTo>
                    <a:lnTo>
                      <a:pt x="600" y="53"/>
                    </a:lnTo>
                    <a:lnTo>
                      <a:pt x="560" y="31"/>
                    </a:lnTo>
                    <a:lnTo>
                      <a:pt x="519" y="14"/>
                    </a:lnTo>
                    <a:lnTo>
                      <a:pt x="475" y="3"/>
                    </a:lnTo>
                    <a:lnTo>
                      <a:pt x="432" y="0"/>
                    </a:lnTo>
                    <a:lnTo>
                      <a:pt x="388" y="3"/>
                    </a:lnTo>
                    <a:lnTo>
                      <a:pt x="344" y="14"/>
                    </a:lnTo>
                    <a:lnTo>
                      <a:pt x="303" y="31"/>
                    </a:lnTo>
                    <a:lnTo>
                      <a:pt x="263" y="53"/>
                    </a:lnTo>
                    <a:lnTo>
                      <a:pt x="225" y="83"/>
                    </a:lnTo>
                    <a:lnTo>
                      <a:pt x="190" y="117"/>
                    </a:lnTo>
                    <a:lnTo>
                      <a:pt x="157" y="157"/>
                    </a:lnTo>
                    <a:lnTo>
                      <a:pt x="126" y="201"/>
                    </a:lnTo>
                    <a:lnTo>
                      <a:pt x="99" y="250"/>
                    </a:lnTo>
                    <a:lnTo>
                      <a:pt x="73" y="303"/>
                    </a:lnTo>
                    <a:lnTo>
                      <a:pt x="52" y="360"/>
                    </a:lnTo>
                    <a:lnTo>
                      <a:pt x="34" y="420"/>
                    </a:lnTo>
                    <a:lnTo>
                      <a:pt x="19" y="484"/>
                    </a:lnTo>
                    <a:lnTo>
                      <a:pt x="8" y="550"/>
                    </a:lnTo>
                    <a:lnTo>
                      <a:pt x="2" y="618"/>
                    </a:lnTo>
                    <a:lnTo>
                      <a:pt x="0" y="688"/>
                    </a:lnTo>
                    <a:lnTo>
                      <a:pt x="2" y="758"/>
                    </a:lnTo>
                    <a:lnTo>
                      <a:pt x="8" y="826"/>
                    </a:lnTo>
                    <a:lnTo>
                      <a:pt x="19" y="893"/>
                    </a:lnTo>
                    <a:lnTo>
                      <a:pt x="34" y="954"/>
                    </a:lnTo>
                    <a:lnTo>
                      <a:pt x="52" y="1014"/>
                    </a:lnTo>
                    <a:lnTo>
                      <a:pt x="73" y="1071"/>
                    </a:lnTo>
                    <a:lnTo>
                      <a:pt x="99" y="1125"/>
                    </a:lnTo>
                    <a:lnTo>
                      <a:pt x="126" y="1173"/>
                    </a:lnTo>
                    <a:lnTo>
                      <a:pt x="157" y="1217"/>
                    </a:lnTo>
                    <a:lnTo>
                      <a:pt x="190" y="1258"/>
                    </a:lnTo>
                    <a:lnTo>
                      <a:pt x="225" y="1292"/>
                    </a:lnTo>
                    <a:lnTo>
                      <a:pt x="263" y="1321"/>
                    </a:lnTo>
                    <a:lnTo>
                      <a:pt x="303" y="1344"/>
                    </a:lnTo>
                    <a:lnTo>
                      <a:pt x="344" y="1360"/>
                    </a:lnTo>
                    <a:lnTo>
                      <a:pt x="388" y="1371"/>
                    </a:lnTo>
                    <a:lnTo>
                      <a:pt x="432" y="1375"/>
                    </a:lnTo>
                    <a:close/>
                  </a:path>
                </a:pathLst>
              </a:custGeom>
              <a:solidFill>
                <a:srgbClr val="eff7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898440" y="2888640"/>
                <a:ext cx="1997280" cy="2218680"/>
              </a:xfrm>
              <a:custGeom>
                <a:avLst/>
                <a:gdLst/>
                <a:ahLst/>
                <a:rect l="l" t="t" r="r" b="b"/>
                <a:pathLst>
                  <a:path w="835" h="1331">
                    <a:moveTo>
                      <a:pt x="417" y="1331"/>
                    </a:moveTo>
                    <a:lnTo>
                      <a:pt x="459" y="1327"/>
                    </a:lnTo>
                    <a:lnTo>
                      <a:pt x="501" y="1318"/>
                    </a:lnTo>
                    <a:lnTo>
                      <a:pt x="542" y="1301"/>
                    </a:lnTo>
                    <a:lnTo>
                      <a:pt x="580" y="1279"/>
                    </a:lnTo>
                    <a:lnTo>
                      <a:pt x="616" y="1249"/>
                    </a:lnTo>
                    <a:lnTo>
                      <a:pt x="650" y="1217"/>
                    </a:lnTo>
                    <a:lnTo>
                      <a:pt x="683" y="1178"/>
                    </a:lnTo>
                    <a:lnTo>
                      <a:pt x="714" y="1136"/>
                    </a:lnTo>
                    <a:lnTo>
                      <a:pt x="739" y="1089"/>
                    </a:lnTo>
                    <a:lnTo>
                      <a:pt x="764" y="1037"/>
                    </a:lnTo>
                    <a:lnTo>
                      <a:pt x="785" y="982"/>
                    </a:lnTo>
                    <a:lnTo>
                      <a:pt x="803" y="923"/>
                    </a:lnTo>
                    <a:lnTo>
                      <a:pt x="816" y="863"/>
                    </a:lnTo>
                    <a:lnTo>
                      <a:pt x="827" y="800"/>
                    </a:lnTo>
                    <a:lnTo>
                      <a:pt x="834" y="733"/>
                    </a:lnTo>
                    <a:lnTo>
                      <a:pt x="835" y="665"/>
                    </a:lnTo>
                    <a:lnTo>
                      <a:pt x="834" y="597"/>
                    </a:lnTo>
                    <a:lnTo>
                      <a:pt x="827" y="530"/>
                    </a:lnTo>
                    <a:lnTo>
                      <a:pt x="816" y="467"/>
                    </a:lnTo>
                    <a:lnTo>
                      <a:pt x="803" y="405"/>
                    </a:lnTo>
                    <a:lnTo>
                      <a:pt x="785" y="347"/>
                    </a:lnTo>
                    <a:lnTo>
                      <a:pt x="764" y="293"/>
                    </a:lnTo>
                    <a:lnTo>
                      <a:pt x="739" y="241"/>
                    </a:lnTo>
                    <a:lnTo>
                      <a:pt x="714" y="194"/>
                    </a:lnTo>
                    <a:lnTo>
                      <a:pt x="683" y="151"/>
                    </a:lnTo>
                    <a:lnTo>
                      <a:pt x="650" y="113"/>
                    </a:lnTo>
                    <a:lnTo>
                      <a:pt x="616" y="79"/>
                    </a:lnTo>
                    <a:lnTo>
                      <a:pt x="580" y="52"/>
                    </a:lnTo>
                    <a:lnTo>
                      <a:pt x="542" y="29"/>
                    </a:lnTo>
                    <a:lnTo>
                      <a:pt x="501" y="13"/>
                    </a:lnTo>
                    <a:lnTo>
                      <a:pt x="459" y="3"/>
                    </a:lnTo>
                    <a:lnTo>
                      <a:pt x="417" y="0"/>
                    </a:lnTo>
                    <a:lnTo>
                      <a:pt x="374" y="3"/>
                    </a:lnTo>
                    <a:lnTo>
                      <a:pt x="332" y="13"/>
                    </a:lnTo>
                    <a:lnTo>
                      <a:pt x="293" y="29"/>
                    </a:lnTo>
                    <a:lnTo>
                      <a:pt x="254" y="52"/>
                    </a:lnTo>
                    <a:lnTo>
                      <a:pt x="217" y="79"/>
                    </a:lnTo>
                    <a:lnTo>
                      <a:pt x="183" y="113"/>
                    </a:lnTo>
                    <a:lnTo>
                      <a:pt x="150" y="151"/>
                    </a:lnTo>
                    <a:lnTo>
                      <a:pt x="121" y="194"/>
                    </a:lnTo>
                    <a:lnTo>
                      <a:pt x="95" y="241"/>
                    </a:lnTo>
                    <a:lnTo>
                      <a:pt x="71" y="293"/>
                    </a:lnTo>
                    <a:lnTo>
                      <a:pt x="50" y="347"/>
                    </a:lnTo>
                    <a:lnTo>
                      <a:pt x="32" y="405"/>
                    </a:lnTo>
                    <a:lnTo>
                      <a:pt x="19" y="467"/>
                    </a:lnTo>
                    <a:lnTo>
                      <a:pt x="8" y="530"/>
                    </a:lnTo>
                    <a:lnTo>
                      <a:pt x="1" y="597"/>
                    </a:lnTo>
                    <a:lnTo>
                      <a:pt x="0" y="665"/>
                    </a:lnTo>
                    <a:lnTo>
                      <a:pt x="1" y="733"/>
                    </a:lnTo>
                    <a:lnTo>
                      <a:pt x="8" y="800"/>
                    </a:lnTo>
                    <a:lnTo>
                      <a:pt x="19" y="863"/>
                    </a:lnTo>
                    <a:lnTo>
                      <a:pt x="32" y="923"/>
                    </a:lnTo>
                    <a:lnTo>
                      <a:pt x="50" y="982"/>
                    </a:lnTo>
                    <a:lnTo>
                      <a:pt x="71" y="1037"/>
                    </a:lnTo>
                    <a:lnTo>
                      <a:pt x="95" y="1089"/>
                    </a:lnTo>
                    <a:lnTo>
                      <a:pt x="121" y="1136"/>
                    </a:lnTo>
                    <a:lnTo>
                      <a:pt x="150" y="1178"/>
                    </a:lnTo>
                    <a:lnTo>
                      <a:pt x="183" y="1217"/>
                    </a:lnTo>
                    <a:lnTo>
                      <a:pt x="217" y="1249"/>
                    </a:lnTo>
                    <a:lnTo>
                      <a:pt x="254" y="1279"/>
                    </a:lnTo>
                    <a:lnTo>
                      <a:pt x="293" y="1301"/>
                    </a:lnTo>
                    <a:lnTo>
                      <a:pt x="332" y="1318"/>
                    </a:lnTo>
                    <a:lnTo>
                      <a:pt x="374" y="1327"/>
                    </a:lnTo>
                    <a:lnTo>
                      <a:pt x="417" y="1331"/>
                    </a:lnTo>
                    <a:close/>
                  </a:path>
                </a:pathLst>
              </a:custGeom>
              <a:solidFill>
                <a:srgbClr val="f4f7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929400" y="2923560"/>
                <a:ext cx="1932840" cy="2145600"/>
              </a:xfrm>
              <a:custGeom>
                <a:avLst/>
                <a:gdLst/>
                <a:ahLst/>
                <a:rect l="l" t="t" r="r" b="b"/>
                <a:pathLst>
                  <a:path w="808" h="1287">
                    <a:moveTo>
                      <a:pt x="404" y="1287"/>
                    </a:moveTo>
                    <a:lnTo>
                      <a:pt x="446" y="1284"/>
                    </a:lnTo>
                    <a:lnTo>
                      <a:pt x="485" y="1274"/>
                    </a:lnTo>
                    <a:lnTo>
                      <a:pt x="524" y="1258"/>
                    </a:lnTo>
                    <a:lnTo>
                      <a:pt x="561" y="1237"/>
                    </a:lnTo>
                    <a:lnTo>
                      <a:pt x="597" y="1209"/>
                    </a:lnTo>
                    <a:lnTo>
                      <a:pt x="629" y="1177"/>
                    </a:lnTo>
                    <a:lnTo>
                      <a:pt x="662" y="1141"/>
                    </a:lnTo>
                    <a:lnTo>
                      <a:pt x="689" y="1099"/>
                    </a:lnTo>
                    <a:lnTo>
                      <a:pt x="715" y="1053"/>
                    </a:lnTo>
                    <a:lnTo>
                      <a:pt x="739" y="1004"/>
                    </a:lnTo>
                    <a:lnTo>
                      <a:pt x="759" y="951"/>
                    </a:lnTo>
                    <a:lnTo>
                      <a:pt x="777" y="894"/>
                    </a:lnTo>
                    <a:lnTo>
                      <a:pt x="790" y="836"/>
                    </a:lnTo>
                    <a:lnTo>
                      <a:pt x="799" y="774"/>
                    </a:lnTo>
                    <a:lnTo>
                      <a:pt x="806" y="711"/>
                    </a:lnTo>
                    <a:lnTo>
                      <a:pt x="808" y="644"/>
                    </a:lnTo>
                    <a:lnTo>
                      <a:pt x="806" y="578"/>
                    </a:lnTo>
                    <a:lnTo>
                      <a:pt x="799" y="514"/>
                    </a:lnTo>
                    <a:lnTo>
                      <a:pt x="790" y="453"/>
                    </a:lnTo>
                    <a:lnTo>
                      <a:pt x="777" y="394"/>
                    </a:lnTo>
                    <a:lnTo>
                      <a:pt x="759" y="337"/>
                    </a:lnTo>
                    <a:lnTo>
                      <a:pt x="739" y="284"/>
                    </a:lnTo>
                    <a:lnTo>
                      <a:pt x="715" y="235"/>
                    </a:lnTo>
                    <a:lnTo>
                      <a:pt x="689" y="188"/>
                    </a:lnTo>
                    <a:lnTo>
                      <a:pt x="662" y="147"/>
                    </a:lnTo>
                    <a:lnTo>
                      <a:pt x="629" y="110"/>
                    </a:lnTo>
                    <a:lnTo>
                      <a:pt x="597" y="78"/>
                    </a:lnTo>
                    <a:lnTo>
                      <a:pt x="561" y="50"/>
                    </a:lnTo>
                    <a:lnTo>
                      <a:pt x="524" y="29"/>
                    </a:lnTo>
                    <a:lnTo>
                      <a:pt x="485" y="13"/>
                    </a:lnTo>
                    <a:lnTo>
                      <a:pt x="446" y="3"/>
                    </a:lnTo>
                    <a:lnTo>
                      <a:pt x="404" y="0"/>
                    </a:lnTo>
                    <a:lnTo>
                      <a:pt x="363" y="3"/>
                    </a:lnTo>
                    <a:lnTo>
                      <a:pt x="322" y="13"/>
                    </a:lnTo>
                    <a:lnTo>
                      <a:pt x="283" y="29"/>
                    </a:lnTo>
                    <a:lnTo>
                      <a:pt x="246" y="50"/>
                    </a:lnTo>
                    <a:lnTo>
                      <a:pt x="212" y="78"/>
                    </a:lnTo>
                    <a:lnTo>
                      <a:pt x="178" y="110"/>
                    </a:lnTo>
                    <a:lnTo>
                      <a:pt x="147" y="147"/>
                    </a:lnTo>
                    <a:lnTo>
                      <a:pt x="118" y="188"/>
                    </a:lnTo>
                    <a:lnTo>
                      <a:pt x="92" y="235"/>
                    </a:lnTo>
                    <a:lnTo>
                      <a:pt x="69" y="284"/>
                    </a:lnTo>
                    <a:lnTo>
                      <a:pt x="48" y="337"/>
                    </a:lnTo>
                    <a:lnTo>
                      <a:pt x="32" y="394"/>
                    </a:lnTo>
                    <a:lnTo>
                      <a:pt x="17" y="453"/>
                    </a:lnTo>
                    <a:lnTo>
                      <a:pt x="8" y="514"/>
                    </a:lnTo>
                    <a:lnTo>
                      <a:pt x="1" y="578"/>
                    </a:lnTo>
                    <a:lnTo>
                      <a:pt x="0" y="644"/>
                    </a:lnTo>
                    <a:lnTo>
                      <a:pt x="1" y="711"/>
                    </a:lnTo>
                    <a:lnTo>
                      <a:pt x="8" y="774"/>
                    </a:lnTo>
                    <a:lnTo>
                      <a:pt x="17" y="836"/>
                    </a:lnTo>
                    <a:lnTo>
                      <a:pt x="32" y="894"/>
                    </a:lnTo>
                    <a:lnTo>
                      <a:pt x="48" y="951"/>
                    </a:lnTo>
                    <a:lnTo>
                      <a:pt x="69" y="1004"/>
                    </a:lnTo>
                    <a:lnTo>
                      <a:pt x="92" y="1053"/>
                    </a:lnTo>
                    <a:lnTo>
                      <a:pt x="118" y="1099"/>
                    </a:lnTo>
                    <a:lnTo>
                      <a:pt x="147" y="1141"/>
                    </a:lnTo>
                    <a:lnTo>
                      <a:pt x="178" y="1177"/>
                    </a:lnTo>
                    <a:lnTo>
                      <a:pt x="212" y="1209"/>
                    </a:lnTo>
                    <a:lnTo>
                      <a:pt x="246" y="1237"/>
                    </a:lnTo>
                    <a:lnTo>
                      <a:pt x="283" y="1258"/>
                    </a:lnTo>
                    <a:lnTo>
                      <a:pt x="322" y="1274"/>
                    </a:lnTo>
                    <a:lnTo>
                      <a:pt x="363" y="1284"/>
                    </a:lnTo>
                    <a:lnTo>
                      <a:pt x="404" y="1287"/>
                    </a:lnTo>
                    <a:close/>
                  </a:path>
                </a:pathLst>
              </a:custGeom>
              <a:solidFill>
                <a:srgbClr val="f9fc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963240" y="2960280"/>
                <a:ext cx="1868400" cy="2073960"/>
              </a:xfrm>
              <a:custGeom>
                <a:avLst/>
                <a:gdLst/>
                <a:ahLst/>
                <a:rect l="l" t="t" r="r" b="b"/>
                <a:pathLst>
                  <a:path w="781" h="1244">
                    <a:moveTo>
                      <a:pt x="390" y="1244"/>
                    </a:moveTo>
                    <a:lnTo>
                      <a:pt x="430" y="1241"/>
                    </a:lnTo>
                    <a:lnTo>
                      <a:pt x="469" y="1231"/>
                    </a:lnTo>
                    <a:lnTo>
                      <a:pt x="506" y="1216"/>
                    </a:lnTo>
                    <a:lnTo>
                      <a:pt x="542" y="1195"/>
                    </a:lnTo>
                    <a:lnTo>
                      <a:pt x="576" y="1169"/>
                    </a:lnTo>
                    <a:lnTo>
                      <a:pt x="609" y="1137"/>
                    </a:lnTo>
                    <a:lnTo>
                      <a:pt x="638" y="1101"/>
                    </a:lnTo>
                    <a:lnTo>
                      <a:pt x="665" y="1062"/>
                    </a:lnTo>
                    <a:lnTo>
                      <a:pt x="691" y="1017"/>
                    </a:lnTo>
                    <a:lnTo>
                      <a:pt x="714" y="969"/>
                    </a:lnTo>
                    <a:lnTo>
                      <a:pt x="734" y="918"/>
                    </a:lnTo>
                    <a:lnTo>
                      <a:pt x="750" y="864"/>
                    </a:lnTo>
                    <a:lnTo>
                      <a:pt x="763" y="807"/>
                    </a:lnTo>
                    <a:lnTo>
                      <a:pt x="773" y="747"/>
                    </a:lnTo>
                    <a:lnTo>
                      <a:pt x="779" y="685"/>
                    </a:lnTo>
                    <a:lnTo>
                      <a:pt x="781" y="622"/>
                    </a:lnTo>
                    <a:lnTo>
                      <a:pt x="779" y="559"/>
                    </a:lnTo>
                    <a:lnTo>
                      <a:pt x="773" y="497"/>
                    </a:lnTo>
                    <a:lnTo>
                      <a:pt x="763" y="437"/>
                    </a:lnTo>
                    <a:lnTo>
                      <a:pt x="750" y="380"/>
                    </a:lnTo>
                    <a:lnTo>
                      <a:pt x="734" y="325"/>
                    </a:lnTo>
                    <a:lnTo>
                      <a:pt x="714" y="275"/>
                    </a:lnTo>
                    <a:lnTo>
                      <a:pt x="691" y="226"/>
                    </a:lnTo>
                    <a:lnTo>
                      <a:pt x="665" y="182"/>
                    </a:lnTo>
                    <a:lnTo>
                      <a:pt x="638" y="142"/>
                    </a:lnTo>
                    <a:lnTo>
                      <a:pt x="609" y="106"/>
                    </a:lnTo>
                    <a:lnTo>
                      <a:pt x="576" y="75"/>
                    </a:lnTo>
                    <a:lnTo>
                      <a:pt x="542" y="49"/>
                    </a:lnTo>
                    <a:lnTo>
                      <a:pt x="506" y="28"/>
                    </a:lnTo>
                    <a:lnTo>
                      <a:pt x="469" y="13"/>
                    </a:lnTo>
                    <a:lnTo>
                      <a:pt x="430" y="4"/>
                    </a:lnTo>
                    <a:lnTo>
                      <a:pt x="390" y="0"/>
                    </a:lnTo>
                    <a:lnTo>
                      <a:pt x="349" y="4"/>
                    </a:lnTo>
                    <a:lnTo>
                      <a:pt x="312" y="13"/>
                    </a:lnTo>
                    <a:lnTo>
                      <a:pt x="273" y="28"/>
                    </a:lnTo>
                    <a:lnTo>
                      <a:pt x="237" y="49"/>
                    </a:lnTo>
                    <a:lnTo>
                      <a:pt x="203" y="75"/>
                    </a:lnTo>
                    <a:lnTo>
                      <a:pt x="172" y="106"/>
                    </a:lnTo>
                    <a:lnTo>
                      <a:pt x="141" y="142"/>
                    </a:lnTo>
                    <a:lnTo>
                      <a:pt x="114" y="182"/>
                    </a:lnTo>
                    <a:lnTo>
                      <a:pt x="89" y="226"/>
                    </a:lnTo>
                    <a:lnTo>
                      <a:pt x="67" y="275"/>
                    </a:lnTo>
                    <a:lnTo>
                      <a:pt x="47" y="325"/>
                    </a:lnTo>
                    <a:lnTo>
                      <a:pt x="31" y="380"/>
                    </a:lnTo>
                    <a:lnTo>
                      <a:pt x="18" y="437"/>
                    </a:lnTo>
                    <a:lnTo>
                      <a:pt x="8" y="497"/>
                    </a:lnTo>
                    <a:lnTo>
                      <a:pt x="2" y="559"/>
                    </a:lnTo>
                    <a:lnTo>
                      <a:pt x="0" y="622"/>
                    </a:lnTo>
                    <a:lnTo>
                      <a:pt x="2" y="685"/>
                    </a:lnTo>
                    <a:lnTo>
                      <a:pt x="8" y="747"/>
                    </a:lnTo>
                    <a:lnTo>
                      <a:pt x="18" y="807"/>
                    </a:lnTo>
                    <a:lnTo>
                      <a:pt x="31" y="864"/>
                    </a:lnTo>
                    <a:lnTo>
                      <a:pt x="47" y="918"/>
                    </a:lnTo>
                    <a:lnTo>
                      <a:pt x="67" y="969"/>
                    </a:lnTo>
                    <a:lnTo>
                      <a:pt x="89" y="1017"/>
                    </a:lnTo>
                    <a:lnTo>
                      <a:pt x="114" y="1062"/>
                    </a:lnTo>
                    <a:lnTo>
                      <a:pt x="141" y="1101"/>
                    </a:lnTo>
                    <a:lnTo>
                      <a:pt x="172" y="1137"/>
                    </a:lnTo>
                    <a:lnTo>
                      <a:pt x="203" y="1169"/>
                    </a:lnTo>
                    <a:lnTo>
                      <a:pt x="237" y="1195"/>
                    </a:lnTo>
                    <a:lnTo>
                      <a:pt x="273" y="1216"/>
                    </a:lnTo>
                    <a:lnTo>
                      <a:pt x="312" y="1231"/>
                    </a:lnTo>
                    <a:lnTo>
                      <a:pt x="349" y="1241"/>
                    </a:lnTo>
                    <a:lnTo>
                      <a:pt x="390" y="12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922480" y="2655000"/>
                <a:ext cx="241200" cy="169920"/>
              </a:xfrm>
              <a:custGeom>
                <a:avLst/>
                <a:gdLst/>
                <a:ahLst/>
                <a:rect l="l" t="t" r="r" b="b"/>
                <a:pathLst>
                  <a:path w="101" h="102">
                    <a:moveTo>
                      <a:pt x="101" y="47"/>
                    </a:moveTo>
                    <a:lnTo>
                      <a:pt x="0" y="0"/>
                    </a:lnTo>
                    <a:lnTo>
                      <a:pt x="5" y="102"/>
                    </a:lnTo>
                    <a:lnTo>
                      <a:pt x="16" y="94"/>
                    </a:lnTo>
                    <a:lnTo>
                      <a:pt x="28" y="88"/>
                    </a:lnTo>
                    <a:lnTo>
                      <a:pt x="41" y="80"/>
                    </a:lnTo>
                    <a:lnTo>
                      <a:pt x="52" y="73"/>
                    </a:lnTo>
                    <a:lnTo>
                      <a:pt x="65" y="67"/>
                    </a:lnTo>
                    <a:lnTo>
                      <a:pt x="77" y="60"/>
                    </a:lnTo>
                    <a:lnTo>
                      <a:pt x="89" y="54"/>
                    </a:lnTo>
                    <a:lnTo>
                      <a:pt x="101" y="4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589920" y="2463480"/>
                <a:ext cx="260640" cy="161640"/>
              </a:xfrm>
              <a:custGeom>
                <a:avLst/>
                <a:gdLst/>
                <a:ahLst/>
                <a:rect l="l" t="t" r="r" b="b"/>
                <a:pathLst>
                  <a:path w="109" h="97">
                    <a:moveTo>
                      <a:pt x="109" y="83"/>
                    </a:moveTo>
                    <a:lnTo>
                      <a:pt x="49" y="0"/>
                    </a:lnTo>
                    <a:lnTo>
                      <a:pt x="0" y="97"/>
                    </a:lnTo>
                    <a:lnTo>
                      <a:pt x="13" y="94"/>
                    </a:lnTo>
                    <a:lnTo>
                      <a:pt x="28" y="92"/>
                    </a:lnTo>
                    <a:lnTo>
                      <a:pt x="41" y="89"/>
                    </a:lnTo>
                    <a:lnTo>
                      <a:pt x="56" y="87"/>
                    </a:lnTo>
                    <a:lnTo>
                      <a:pt x="68" y="86"/>
                    </a:lnTo>
                    <a:lnTo>
                      <a:pt x="81" y="84"/>
                    </a:lnTo>
                    <a:lnTo>
                      <a:pt x="96" y="83"/>
                    </a:lnTo>
                    <a:lnTo>
                      <a:pt x="109" y="8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620800" y="2836800"/>
                <a:ext cx="232200" cy="139680"/>
              </a:xfrm>
              <a:custGeom>
                <a:avLst/>
                <a:gdLst/>
                <a:ahLst/>
                <a:rect l="l" t="t" r="r" b="b"/>
                <a:pathLst>
                  <a:path w="97" h="84">
                    <a:moveTo>
                      <a:pt x="97" y="21"/>
                    </a:moveTo>
                    <a:lnTo>
                      <a:pt x="0" y="0"/>
                    </a:lnTo>
                    <a:lnTo>
                      <a:pt x="24" y="84"/>
                    </a:lnTo>
                    <a:lnTo>
                      <a:pt x="32" y="76"/>
                    </a:lnTo>
                    <a:lnTo>
                      <a:pt x="42" y="68"/>
                    </a:lnTo>
                    <a:lnTo>
                      <a:pt x="50" y="60"/>
                    </a:lnTo>
                    <a:lnTo>
                      <a:pt x="60" y="52"/>
                    </a:lnTo>
                    <a:lnTo>
                      <a:pt x="69" y="44"/>
                    </a:lnTo>
                    <a:lnTo>
                      <a:pt x="79" y="35"/>
                    </a:lnTo>
                    <a:lnTo>
                      <a:pt x="87" y="29"/>
                    </a:lnTo>
                    <a:lnTo>
                      <a:pt x="97" y="2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250080" y="2530440"/>
                <a:ext cx="255960" cy="181440"/>
              </a:xfrm>
              <a:custGeom>
                <a:avLst/>
                <a:gdLst/>
                <a:ahLst/>
                <a:rect l="l" t="t" r="r" b="b"/>
                <a:pathLst>
                  <a:path w="107" h="109">
                    <a:moveTo>
                      <a:pt x="107" y="72"/>
                    </a:moveTo>
                    <a:lnTo>
                      <a:pt x="22" y="0"/>
                    </a:lnTo>
                    <a:lnTo>
                      <a:pt x="0" y="109"/>
                    </a:lnTo>
                    <a:lnTo>
                      <a:pt x="13" y="103"/>
                    </a:lnTo>
                    <a:lnTo>
                      <a:pt x="26" y="98"/>
                    </a:lnTo>
                    <a:lnTo>
                      <a:pt x="38" y="93"/>
                    </a:lnTo>
                    <a:lnTo>
                      <a:pt x="53" y="88"/>
                    </a:lnTo>
                    <a:lnTo>
                      <a:pt x="66" y="83"/>
                    </a:lnTo>
                    <a:lnTo>
                      <a:pt x="79" y="80"/>
                    </a:lnTo>
                    <a:lnTo>
                      <a:pt x="94" y="75"/>
                    </a:lnTo>
                    <a:lnTo>
                      <a:pt x="107" y="7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956040" y="2473560"/>
                <a:ext cx="236520" cy="142920"/>
              </a:xfrm>
              <a:custGeom>
                <a:avLst/>
                <a:gdLst/>
                <a:ahLst/>
                <a:rect l="l" t="t" r="r" b="b"/>
                <a:pathLst>
                  <a:path w="99" h="86">
                    <a:moveTo>
                      <a:pt x="99" y="86"/>
                    </a:moveTo>
                    <a:lnTo>
                      <a:pt x="65" y="0"/>
                    </a:lnTo>
                    <a:lnTo>
                      <a:pt x="0" y="77"/>
                    </a:lnTo>
                    <a:lnTo>
                      <a:pt x="13" y="77"/>
                    </a:lnTo>
                    <a:lnTo>
                      <a:pt x="26" y="77"/>
                    </a:lnTo>
                    <a:lnTo>
                      <a:pt x="37" y="78"/>
                    </a:lnTo>
                    <a:lnTo>
                      <a:pt x="50" y="78"/>
                    </a:lnTo>
                    <a:lnTo>
                      <a:pt x="62" y="80"/>
                    </a:lnTo>
                    <a:lnTo>
                      <a:pt x="75" y="81"/>
                    </a:lnTo>
                    <a:lnTo>
                      <a:pt x="86" y="85"/>
                    </a:lnTo>
                    <a:lnTo>
                      <a:pt x="99" y="8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766760" y="3112200"/>
                <a:ext cx="299160" cy="2178360"/>
              </a:xfrm>
              <a:prstGeom prst="rect">
                <a:avLst/>
              </a:prstGeom>
              <a:solidFill>
                <a:srgbClr val="00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570840" y="5042520"/>
                <a:ext cx="2736360" cy="491760"/>
              </a:xfrm>
              <a:custGeom>
                <a:avLst/>
                <a:gdLst/>
                <a:ahLst/>
                <a:rect l="l" t="t" r="r" b="b"/>
                <a:pathLst>
                  <a:path w="1144" h="295">
                    <a:moveTo>
                      <a:pt x="1144" y="295"/>
                    </a:moveTo>
                    <a:lnTo>
                      <a:pt x="1138" y="264"/>
                    </a:lnTo>
                    <a:lnTo>
                      <a:pt x="1126" y="235"/>
                    </a:lnTo>
                    <a:lnTo>
                      <a:pt x="1110" y="207"/>
                    </a:lnTo>
                    <a:lnTo>
                      <a:pt x="1089" y="180"/>
                    </a:lnTo>
                    <a:lnTo>
                      <a:pt x="1063" y="154"/>
                    </a:lnTo>
                    <a:lnTo>
                      <a:pt x="1034" y="130"/>
                    </a:lnTo>
                    <a:lnTo>
                      <a:pt x="1001" y="107"/>
                    </a:lnTo>
                    <a:lnTo>
                      <a:pt x="964" y="86"/>
                    </a:lnTo>
                    <a:lnTo>
                      <a:pt x="924" y="66"/>
                    </a:lnTo>
                    <a:lnTo>
                      <a:pt x="881" y="50"/>
                    </a:lnTo>
                    <a:lnTo>
                      <a:pt x="834" y="35"/>
                    </a:lnTo>
                    <a:lnTo>
                      <a:pt x="787" y="22"/>
                    </a:lnTo>
                    <a:lnTo>
                      <a:pt x="735" y="13"/>
                    </a:lnTo>
                    <a:lnTo>
                      <a:pt x="683" y="6"/>
                    </a:lnTo>
                    <a:lnTo>
                      <a:pt x="628" y="1"/>
                    </a:lnTo>
                    <a:lnTo>
                      <a:pt x="573" y="0"/>
                    </a:lnTo>
                    <a:lnTo>
                      <a:pt x="516" y="1"/>
                    </a:lnTo>
                    <a:lnTo>
                      <a:pt x="463" y="6"/>
                    </a:lnTo>
                    <a:lnTo>
                      <a:pt x="409" y="13"/>
                    </a:lnTo>
                    <a:lnTo>
                      <a:pt x="359" y="22"/>
                    </a:lnTo>
                    <a:lnTo>
                      <a:pt x="310" y="35"/>
                    </a:lnTo>
                    <a:lnTo>
                      <a:pt x="265" y="50"/>
                    </a:lnTo>
                    <a:lnTo>
                      <a:pt x="221" y="66"/>
                    </a:lnTo>
                    <a:lnTo>
                      <a:pt x="180" y="86"/>
                    </a:lnTo>
                    <a:lnTo>
                      <a:pt x="145" y="107"/>
                    </a:lnTo>
                    <a:lnTo>
                      <a:pt x="111" y="130"/>
                    </a:lnTo>
                    <a:lnTo>
                      <a:pt x="81" y="154"/>
                    </a:lnTo>
                    <a:lnTo>
                      <a:pt x="55" y="180"/>
                    </a:lnTo>
                    <a:lnTo>
                      <a:pt x="34" y="207"/>
                    </a:lnTo>
                    <a:lnTo>
                      <a:pt x="18" y="235"/>
                    </a:lnTo>
                    <a:lnTo>
                      <a:pt x="7" y="264"/>
                    </a:lnTo>
                    <a:lnTo>
                      <a:pt x="0" y="295"/>
                    </a:lnTo>
                    <a:lnTo>
                      <a:pt x="1144" y="295"/>
                    </a:lnTo>
                    <a:close/>
                  </a:path>
                </a:pathLst>
              </a:custGeom>
              <a:solidFill>
                <a:srgbClr val="00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003480" y="3367080"/>
                <a:ext cx="574200" cy="964800"/>
              </a:xfrm>
              <a:custGeom>
                <a:avLst/>
                <a:gdLst/>
                <a:ahLst/>
                <a:rect l="l" t="t" r="r" b="b"/>
                <a:pathLst>
                  <a:path w="240" h="579">
                    <a:moveTo>
                      <a:pt x="240" y="571"/>
                    </a:moveTo>
                    <a:lnTo>
                      <a:pt x="21" y="0"/>
                    </a:lnTo>
                    <a:lnTo>
                      <a:pt x="0" y="8"/>
                    </a:lnTo>
                    <a:lnTo>
                      <a:pt x="219" y="579"/>
                    </a:lnTo>
                    <a:lnTo>
                      <a:pt x="240" y="571"/>
                    </a:lnTo>
                    <a:close/>
                  </a:path>
                </a:pathLst>
              </a:custGeom>
              <a:solidFill>
                <a:srgbClr val="00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702160" y="3362040"/>
                <a:ext cx="193680" cy="1041840"/>
              </a:xfrm>
              <a:custGeom>
                <a:avLst/>
                <a:gdLst/>
                <a:ahLst/>
                <a:rect l="l" t="t" r="r" b="b"/>
                <a:pathLst>
                  <a:path w="81" h="625">
                    <a:moveTo>
                      <a:pt x="58" y="0"/>
                    </a:moveTo>
                    <a:lnTo>
                      <a:pt x="0" y="623"/>
                    </a:lnTo>
                    <a:lnTo>
                      <a:pt x="22" y="625"/>
                    </a:lnTo>
                    <a:lnTo>
                      <a:pt x="81" y="1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00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79200" y="3391920"/>
                <a:ext cx="853920" cy="970200"/>
              </a:xfrm>
              <a:custGeom>
                <a:avLst/>
                <a:gdLst/>
                <a:ahLst/>
                <a:rect l="l" t="t" r="r" b="b"/>
                <a:pathLst>
                  <a:path w="357" h="582">
                    <a:moveTo>
                      <a:pt x="337" y="0"/>
                    </a:moveTo>
                    <a:lnTo>
                      <a:pt x="0" y="571"/>
                    </a:lnTo>
                    <a:lnTo>
                      <a:pt x="19" y="582"/>
                    </a:lnTo>
                    <a:lnTo>
                      <a:pt x="357" y="11"/>
                    </a:lnTo>
                    <a:lnTo>
                      <a:pt x="337" y="0"/>
                    </a:lnTo>
                    <a:close/>
                  </a:path>
                </a:pathLst>
              </a:custGeom>
              <a:solidFill>
                <a:srgbClr val="00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293200" y="2850120"/>
                <a:ext cx="5016600" cy="616680"/>
              </a:xfrm>
              <a:custGeom>
                <a:avLst/>
                <a:gdLst/>
                <a:ahLst/>
                <a:rect l="l" t="t" r="r" b="b"/>
                <a:pathLst>
                  <a:path w="2097" h="370">
                    <a:moveTo>
                      <a:pt x="2086" y="0"/>
                    </a:moveTo>
                    <a:lnTo>
                      <a:pt x="2097" y="78"/>
                    </a:lnTo>
                    <a:lnTo>
                      <a:pt x="10" y="370"/>
                    </a:lnTo>
                    <a:lnTo>
                      <a:pt x="0" y="292"/>
                    </a:lnTo>
                    <a:lnTo>
                      <a:pt x="2086" y="0"/>
                    </a:lnTo>
                    <a:close/>
                  </a:path>
                </a:pathLst>
              </a:custGeom>
              <a:solidFill>
                <a:srgbClr val="00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661280" y="2643480"/>
                <a:ext cx="535680" cy="371880"/>
              </a:xfrm>
              <a:custGeom>
                <a:avLst/>
                <a:gdLst/>
                <a:ahLst/>
                <a:rect l="l" t="t" r="r" b="b"/>
                <a:pathLst>
                  <a:path w="224" h="223">
                    <a:moveTo>
                      <a:pt x="112" y="223"/>
                    </a:moveTo>
                    <a:lnTo>
                      <a:pt x="135" y="221"/>
                    </a:lnTo>
                    <a:lnTo>
                      <a:pt x="156" y="215"/>
                    </a:lnTo>
                    <a:lnTo>
                      <a:pt x="175" y="203"/>
                    </a:lnTo>
                    <a:lnTo>
                      <a:pt x="192" y="190"/>
                    </a:lnTo>
                    <a:lnTo>
                      <a:pt x="205" y="174"/>
                    </a:lnTo>
                    <a:lnTo>
                      <a:pt x="216" y="155"/>
                    </a:lnTo>
                    <a:lnTo>
                      <a:pt x="223" y="134"/>
                    </a:lnTo>
                    <a:lnTo>
                      <a:pt x="224" y="111"/>
                    </a:lnTo>
                    <a:lnTo>
                      <a:pt x="223" y="88"/>
                    </a:lnTo>
                    <a:lnTo>
                      <a:pt x="216" y="69"/>
                    </a:lnTo>
                    <a:lnTo>
                      <a:pt x="205" y="49"/>
                    </a:lnTo>
                    <a:lnTo>
                      <a:pt x="192" y="33"/>
                    </a:lnTo>
                    <a:lnTo>
                      <a:pt x="175" y="20"/>
                    </a:lnTo>
                    <a:lnTo>
                      <a:pt x="156" y="9"/>
                    </a:lnTo>
                    <a:lnTo>
                      <a:pt x="135" y="2"/>
                    </a:lnTo>
                    <a:lnTo>
                      <a:pt x="112" y="0"/>
                    </a:lnTo>
                    <a:lnTo>
                      <a:pt x="89" y="2"/>
                    </a:lnTo>
                    <a:lnTo>
                      <a:pt x="68" y="9"/>
                    </a:lnTo>
                    <a:lnTo>
                      <a:pt x="49" y="20"/>
                    </a:lnTo>
                    <a:lnTo>
                      <a:pt x="33" y="33"/>
                    </a:lnTo>
                    <a:lnTo>
                      <a:pt x="20" y="49"/>
                    </a:lnTo>
                    <a:lnTo>
                      <a:pt x="8" y="69"/>
                    </a:lnTo>
                    <a:lnTo>
                      <a:pt x="2" y="88"/>
                    </a:lnTo>
                    <a:lnTo>
                      <a:pt x="0" y="111"/>
                    </a:lnTo>
                    <a:lnTo>
                      <a:pt x="2" y="134"/>
                    </a:lnTo>
                    <a:lnTo>
                      <a:pt x="8" y="155"/>
                    </a:lnTo>
                    <a:lnTo>
                      <a:pt x="20" y="174"/>
                    </a:lnTo>
                    <a:lnTo>
                      <a:pt x="33" y="190"/>
                    </a:lnTo>
                    <a:lnTo>
                      <a:pt x="49" y="203"/>
                    </a:lnTo>
                    <a:lnTo>
                      <a:pt x="68" y="215"/>
                    </a:lnTo>
                    <a:lnTo>
                      <a:pt x="89" y="221"/>
                    </a:lnTo>
                    <a:lnTo>
                      <a:pt x="112" y="223"/>
                    </a:lnTo>
                    <a:close/>
                  </a:path>
                </a:pathLst>
              </a:custGeom>
              <a:solidFill>
                <a:srgbClr val="00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132600" y="3023640"/>
                <a:ext cx="591120" cy="978120"/>
              </a:xfrm>
              <a:custGeom>
                <a:avLst/>
                <a:gdLst/>
                <a:ahLst/>
                <a:rect l="l" t="t" r="r" b="b"/>
                <a:pathLst>
                  <a:path w="247" h="587">
                    <a:moveTo>
                      <a:pt x="21" y="587"/>
                    </a:moveTo>
                    <a:lnTo>
                      <a:pt x="247" y="0"/>
                    </a:lnTo>
                    <a:lnTo>
                      <a:pt x="219" y="8"/>
                    </a:lnTo>
                    <a:lnTo>
                      <a:pt x="0" y="579"/>
                    </a:lnTo>
                    <a:lnTo>
                      <a:pt x="21" y="587"/>
                    </a:lnTo>
                    <a:close/>
                  </a:path>
                </a:pathLst>
              </a:custGeom>
              <a:solidFill>
                <a:srgbClr val="00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17320" y="3003480"/>
                <a:ext cx="198360" cy="1041840"/>
              </a:xfrm>
              <a:custGeom>
                <a:avLst/>
                <a:gdLst/>
                <a:ahLst/>
                <a:rect l="l" t="t" r="r" b="b"/>
                <a:pathLst>
                  <a:path w="83" h="625">
                    <a:moveTo>
                      <a:pt x="0" y="2"/>
                    </a:moveTo>
                    <a:lnTo>
                      <a:pt x="60" y="625"/>
                    </a:lnTo>
                    <a:lnTo>
                      <a:pt x="83" y="624"/>
                    </a:lnTo>
                    <a:lnTo>
                      <a:pt x="2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29640" y="2968560"/>
                <a:ext cx="909000" cy="1036800"/>
              </a:xfrm>
              <a:custGeom>
                <a:avLst/>
                <a:gdLst/>
                <a:ahLst/>
                <a:rect l="l" t="t" r="r" b="b"/>
                <a:pathLst>
                  <a:path w="380" h="622">
                    <a:moveTo>
                      <a:pt x="0" y="12"/>
                    </a:moveTo>
                    <a:lnTo>
                      <a:pt x="360" y="622"/>
                    </a:lnTo>
                    <a:lnTo>
                      <a:pt x="380" y="611"/>
                    </a:lnTo>
                    <a:lnTo>
                      <a:pt x="19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743120" y="4310640"/>
                <a:ext cx="1975680" cy="710280"/>
              </a:xfrm>
              <a:custGeom>
                <a:avLst/>
                <a:gdLst/>
                <a:ahLst/>
                <a:rect l="l" t="t" r="r" b="b"/>
                <a:pathLst>
                  <a:path w="826" h="426">
                    <a:moveTo>
                      <a:pt x="0" y="0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2" y="54"/>
                    </a:lnTo>
                    <a:lnTo>
                      <a:pt x="8" y="95"/>
                    </a:lnTo>
                    <a:lnTo>
                      <a:pt x="18" y="135"/>
                    </a:lnTo>
                    <a:lnTo>
                      <a:pt x="32" y="172"/>
                    </a:lnTo>
                    <a:lnTo>
                      <a:pt x="50" y="210"/>
                    </a:lnTo>
                    <a:lnTo>
                      <a:pt x="71" y="244"/>
                    </a:lnTo>
                    <a:lnTo>
                      <a:pt x="94" y="275"/>
                    </a:lnTo>
                    <a:lnTo>
                      <a:pt x="122" y="304"/>
                    </a:lnTo>
                    <a:lnTo>
                      <a:pt x="151" y="332"/>
                    </a:lnTo>
                    <a:lnTo>
                      <a:pt x="182" y="354"/>
                    </a:lnTo>
                    <a:lnTo>
                      <a:pt x="216" y="375"/>
                    </a:lnTo>
                    <a:lnTo>
                      <a:pt x="253" y="393"/>
                    </a:lnTo>
                    <a:lnTo>
                      <a:pt x="290" y="408"/>
                    </a:lnTo>
                    <a:lnTo>
                      <a:pt x="331" y="418"/>
                    </a:lnTo>
                    <a:lnTo>
                      <a:pt x="372" y="424"/>
                    </a:lnTo>
                    <a:lnTo>
                      <a:pt x="414" y="426"/>
                    </a:lnTo>
                    <a:lnTo>
                      <a:pt x="456" y="424"/>
                    </a:lnTo>
                    <a:lnTo>
                      <a:pt x="496" y="418"/>
                    </a:lnTo>
                    <a:lnTo>
                      <a:pt x="535" y="408"/>
                    </a:lnTo>
                    <a:lnTo>
                      <a:pt x="574" y="393"/>
                    </a:lnTo>
                    <a:lnTo>
                      <a:pt x="610" y="375"/>
                    </a:lnTo>
                    <a:lnTo>
                      <a:pt x="644" y="354"/>
                    </a:lnTo>
                    <a:lnTo>
                      <a:pt x="675" y="332"/>
                    </a:lnTo>
                    <a:lnTo>
                      <a:pt x="706" y="304"/>
                    </a:lnTo>
                    <a:lnTo>
                      <a:pt x="732" y="275"/>
                    </a:lnTo>
                    <a:lnTo>
                      <a:pt x="756" y="244"/>
                    </a:lnTo>
                    <a:lnTo>
                      <a:pt x="776" y="210"/>
                    </a:lnTo>
                    <a:lnTo>
                      <a:pt x="793" y="172"/>
                    </a:lnTo>
                    <a:lnTo>
                      <a:pt x="808" y="135"/>
                    </a:lnTo>
                    <a:lnTo>
                      <a:pt x="818" y="95"/>
                    </a:lnTo>
                    <a:lnTo>
                      <a:pt x="824" y="54"/>
                    </a:lnTo>
                    <a:lnTo>
                      <a:pt x="826" y="12"/>
                    </a:lnTo>
                    <a:lnTo>
                      <a:pt x="826" y="9"/>
                    </a:lnTo>
                    <a:lnTo>
                      <a:pt x="826" y="5"/>
                    </a:lnTo>
                    <a:lnTo>
                      <a:pt x="826" y="4"/>
                    </a:lnTo>
                    <a:lnTo>
                      <a:pt x="82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347920" y="4432320"/>
                <a:ext cx="1170000" cy="86400"/>
              </a:xfrm>
              <a:custGeom>
                <a:avLst/>
                <a:gdLst/>
                <a:ahLst/>
                <a:rect l="l" t="t" r="r" b="b"/>
                <a:pathLst>
                  <a:path w="489" h="52">
                    <a:moveTo>
                      <a:pt x="474" y="52"/>
                    </a:moveTo>
                    <a:lnTo>
                      <a:pt x="479" y="39"/>
                    </a:lnTo>
                    <a:lnTo>
                      <a:pt x="482" y="26"/>
                    </a:lnTo>
                    <a:lnTo>
                      <a:pt x="485" y="13"/>
                    </a:lnTo>
                    <a:lnTo>
                      <a:pt x="489" y="0"/>
                    </a:lnTo>
                    <a:lnTo>
                      <a:pt x="0" y="35"/>
                    </a:lnTo>
                    <a:lnTo>
                      <a:pt x="474" y="52"/>
                    </a:lnTo>
                    <a:close/>
                  </a:path>
                </a:pathLst>
              </a:custGeom>
              <a:solidFill>
                <a:srgbClr val="282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355120" y="4590720"/>
                <a:ext cx="1083960" cy="78120"/>
              </a:xfrm>
              <a:custGeom>
                <a:avLst/>
                <a:gdLst/>
                <a:ahLst/>
                <a:rect l="l" t="t" r="r" b="b"/>
                <a:pathLst>
                  <a:path w="453" h="47">
                    <a:moveTo>
                      <a:pt x="427" y="47"/>
                    </a:moveTo>
                    <a:lnTo>
                      <a:pt x="434" y="35"/>
                    </a:lnTo>
                    <a:lnTo>
                      <a:pt x="442" y="24"/>
                    </a:lnTo>
                    <a:lnTo>
                      <a:pt x="448" y="11"/>
                    </a:lnTo>
                    <a:lnTo>
                      <a:pt x="453" y="0"/>
                    </a:lnTo>
                    <a:lnTo>
                      <a:pt x="0" y="32"/>
                    </a:lnTo>
                    <a:lnTo>
                      <a:pt x="427" y="47"/>
                    </a:lnTo>
                    <a:close/>
                  </a:path>
                </a:pathLst>
              </a:custGeom>
              <a:solidFill>
                <a:srgbClr val="282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391480" y="4749120"/>
                <a:ext cx="899280" cy="64800"/>
              </a:xfrm>
              <a:custGeom>
                <a:avLst/>
                <a:gdLst/>
                <a:ahLst/>
                <a:rect l="l" t="t" r="r" b="b"/>
                <a:pathLst>
                  <a:path w="376" h="39">
                    <a:moveTo>
                      <a:pt x="337" y="39"/>
                    </a:moveTo>
                    <a:lnTo>
                      <a:pt x="347" y="31"/>
                    </a:lnTo>
                    <a:lnTo>
                      <a:pt x="357" y="21"/>
                    </a:lnTo>
                    <a:lnTo>
                      <a:pt x="367" y="12"/>
                    </a:lnTo>
                    <a:lnTo>
                      <a:pt x="376" y="0"/>
                    </a:lnTo>
                    <a:lnTo>
                      <a:pt x="0" y="28"/>
                    </a:lnTo>
                    <a:lnTo>
                      <a:pt x="337" y="39"/>
                    </a:lnTo>
                    <a:close/>
                  </a:path>
                </a:pathLst>
              </a:custGeom>
              <a:solidFill>
                <a:srgbClr val="282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013440" y="3930480"/>
                <a:ext cx="1983240" cy="708120"/>
              </a:xfrm>
              <a:custGeom>
                <a:avLst/>
                <a:gdLst/>
                <a:ahLst/>
                <a:rect l="l" t="t" r="r" b="b"/>
                <a:pathLst>
                  <a:path w="829" h="425">
                    <a:moveTo>
                      <a:pt x="2" y="0"/>
                    </a:moveTo>
                    <a:lnTo>
                      <a:pt x="2" y="3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53"/>
                    </a:lnTo>
                    <a:lnTo>
                      <a:pt x="8" y="94"/>
                    </a:lnTo>
                    <a:lnTo>
                      <a:pt x="19" y="134"/>
                    </a:lnTo>
                    <a:lnTo>
                      <a:pt x="32" y="172"/>
                    </a:lnTo>
                    <a:lnTo>
                      <a:pt x="50" y="209"/>
                    </a:lnTo>
                    <a:lnTo>
                      <a:pt x="71" y="243"/>
                    </a:lnTo>
                    <a:lnTo>
                      <a:pt x="96" y="274"/>
                    </a:lnTo>
                    <a:lnTo>
                      <a:pt x="122" y="303"/>
                    </a:lnTo>
                    <a:lnTo>
                      <a:pt x="151" y="331"/>
                    </a:lnTo>
                    <a:lnTo>
                      <a:pt x="183" y="353"/>
                    </a:lnTo>
                    <a:lnTo>
                      <a:pt x="217" y="374"/>
                    </a:lnTo>
                    <a:lnTo>
                      <a:pt x="255" y="392"/>
                    </a:lnTo>
                    <a:lnTo>
                      <a:pt x="292" y="407"/>
                    </a:lnTo>
                    <a:lnTo>
                      <a:pt x="333" y="417"/>
                    </a:lnTo>
                    <a:lnTo>
                      <a:pt x="373" y="423"/>
                    </a:lnTo>
                    <a:lnTo>
                      <a:pt x="415" y="425"/>
                    </a:lnTo>
                    <a:lnTo>
                      <a:pt x="457" y="423"/>
                    </a:lnTo>
                    <a:lnTo>
                      <a:pt x="498" y="417"/>
                    </a:lnTo>
                    <a:lnTo>
                      <a:pt x="539" y="407"/>
                    </a:lnTo>
                    <a:lnTo>
                      <a:pt x="576" y="392"/>
                    </a:lnTo>
                    <a:lnTo>
                      <a:pt x="613" y="374"/>
                    </a:lnTo>
                    <a:lnTo>
                      <a:pt x="647" y="353"/>
                    </a:lnTo>
                    <a:lnTo>
                      <a:pt x="678" y="331"/>
                    </a:lnTo>
                    <a:lnTo>
                      <a:pt x="707" y="303"/>
                    </a:lnTo>
                    <a:lnTo>
                      <a:pt x="735" y="274"/>
                    </a:lnTo>
                    <a:lnTo>
                      <a:pt x="758" y="243"/>
                    </a:lnTo>
                    <a:lnTo>
                      <a:pt x="779" y="209"/>
                    </a:lnTo>
                    <a:lnTo>
                      <a:pt x="797" y="172"/>
                    </a:lnTo>
                    <a:lnTo>
                      <a:pt x="811" y="134"/>
                    </a:lnTo>
                    <a:lnTo>
                      <a:pt x="821" y="94"/>
                    </a:lnTo>
                    <a:lnTo>
                      <a:pt x="827" y="53"/>
                    </a:lnTo>
                    <a:lnTo>
                      <a:pt x="829" y="11"/>
                    </a:lnTo>
                    <a:lnTo>
                      <a:pt x="829" y="8"/>
                    </a:lnTo>
                    <a:lnTo>
                      <a:pt x="829" y="6"/>
                    </a:lnTo>
                    <a:lnTo>
                      <a:pt x="829" y="3"/>
                    </a:lnTo>
                    <a:lnTo>
                      <a:pt x="829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611400" y="4087080"/>
                <a:ext cx="1172160" cy="83520"/>
              </a:xfrm>
              <a:custGeom>
                <a:avLst/>
                <a:gdLst/>
                <a:ahLst/>
                <a:rect l="l" t="t" r="r" b="b"/>
                <a:pathLst>
                  <a:path w="490" h="50">
                    <a:moveTo>
                      <a:pt x="475" y="50"/>
                    </a:moveTo>
                    <a:lnTo>
                      <a:pt x="480" y="37"/>
                    </a:lnTo>
                    <a:lnTo>
                      <a:pt x="483" y="26"/>
                    </a:lnTo>
                    <a:lnTo>
                      <a:pt x="487" y="13"/>
                    </a:lnTo>
                    <a:lnTo>
                      <a:pt x="490" y="0"/>
                    </a:lnTo>
                    <a:lnTo>
                      <a:pt x="0" y="34"/>
                    </a:lnTo>
                    <a:lnTo>
                      <a:pt x="475" y="50"/>
                    </a:lnTo>
                    <a:close/>
                  </a:path>
                </a:pathLst>
              </a:custGeom>
              <a:solidFill>
                <a:srgbClr val="282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618960" y="4244040"/>
                <a:ext cx="1090440" cy="78120"/>
              </a:xfrm>
              <a:custGeom>
                <a:avLst/>
                <a:gdLst/>
                <a:ahLst/>
                <a:rect l="l" t="t" r="r" b="b"/>
                <a:pathLst>
                  <a:path w="456" h="47">
                    <a:moveTo>
                      <a:pt x="430" y="47"/>
                    </a:moveTo>
                    <a:lnTo>
                      <a:pt x="437" y="36"/>
                    </a:lnTo>
                    <a:lnTo>
                      <a:pt x="443" y="23"/>
                    </a:lnTo>
                    <a:lnTo>
                      <a:pt x="450" y="11"/>
                    </a:lnTo>
                    <a:lnTo>
                      <a:pt x="456" y="0"/>
                    </a:lnTo>
                    <a:lnTo>
                      <a:pt x="0" y="31"/>
                    </a:lnTo>
                    <a:lnTo>
                      <a:pt x="430" y="47"/>
                    </a:lnTo>
                    <a:close/>
                  </a:path>
                </a:pathLst>
              </a:custGeom>
              <a:solidFill>
                <a:srgbClr val="282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656760" y="4403880"/>
                <a:ext cx="902160" cy="64800"/>
              </a:xfrm>
              <a:custGeom>
                <a:avLst/>
                <a:gdLst/>
                <a:ahLst/>
                <a:rect l="l" t="t" r="r" b="b"/>
                <a:pathLst>
                  <a:path w="377" h="39">
                    <a:moveTo>
                      <a:pt x="338" y="39"/>
                    </a:moveTo>
                    <a:lnTo>
                      <a:pt x="349" y="29"/>
                    </a:lnTo>
                    <a:lnTo>
                      <a:pt x="359" y="19"/>
                    </a:lnTo>
                    <a:lnTo>
                      <a:pt x="369" y="9"/>
                    </a:lnTo>
                    <a:lnTo>
                      <a:pt x="377" y="0"/>
                    </a:lnTo>
                    <a:lnTo>
                      <a:pt x="0" y="26"/>
                    </a:lnTo>
                    <a:lnTo>
                      <a:pt x="338" y="39"/>
                    </a:lnTo>
                    <a:close/>
                  </a:path>
                </a:pathLst>
              </a:custGeom>
              <a:solidFill>
                <a:srgbClr val="282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472640" y="5199120"/>
                <a:ext cx="1330200" cy="64800"/>
              </a:xfrm>
              <a:custGeom>
                <a:avLst/>
                <a:gdLst/>
                <a:ahLst/>
                <a:rect l="l" t="t" r="r" b="b"/>
                <a:pathLst>
                  <a:path w="556" h="39">
                    <a:moveTo>
                      <a:pt x="556" y="39"/>
                    </a:moveTo>
                    <a:lnTo>
                      <a:pt x="548" y="34"/>
                    </a:lnTo>
                    <a:lnTo>
                      <a:pt x="538" y="29"/>
                    </a:lnTo>
                    <a:lnTo>
                      <a:pt x="530" y="24"/>
                    </a:lnTo>
                    <a:lnTo>
                      <a:pt x="521" y="19"/>
                    </a:lnTo>
                    <a:lnTo>
                      <a:pt x="512" y="14"/>
                    </a:lnTo>
                    <a:lnTo>
                      <a:pt x="503" y="10"/>
                    </a:lnTo>
                    <a:lnTo>
                      <a:pt x="493" y="5"/>
                    </a:lnTo>
                    <a:lnTo>
                      <a:pt x="483" y="0"/>
                    </a:lnTo>
                    <a:lnTo>
                      <a:pt x="0" y="21"/>
                    </a:lnTo>
                    <a:lnTo>
                      <a:pt x="556" y="39"/>
                    </a:lnTo>
                    <a:close/>
                  </a:path>
                </a:pathLst>
              </a:custGeom>
              <a:solidFill>
                <a:srgbClr val="282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599360" y="5344200"/>
                <a:ext cx="1437480" cy="73080"/>
              </a:xfrm>
              <a:custGeom>
                <a:avLst/>
                <a:gdLst/>
                <a:ahLst/>
                <a:rect l="l" t="t" r="r" b="b"/>
                <a:pathLst>
                  <a:path w="601" h="44">
                    <a:moveTo>
                      <a:pt x="601" y="44"/>
                    </a:moveTo>
                    <a:lnTo>
                      <a:pt x="593" y="33"/>
                    </a:lnTo>
                    <a:lnTo>
                      <a:pt x="584" y="22"/>
                    </a:lnTo>
                    <a:lnTo>
                      <a:pt x="575" y="10"/>
                    </a:lnTo>
                    <a:lnTo>
                      <a:pt x="563" y="0"/>
                    </a:lnTo>
                    <a:lnTo>
                      <a:pt x="0" y="23"/>
                    </a:lnTo>
                    <a:lnTo>
                      <a:pt x="601" y="44"/>
                    </a:lnTo>
                    <a:close/>
                  </a:path>
                </a:pathLst>
              </a:custGeom>
              <a:solidFill>
                <a:srgbClr val="282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1979640" y="4365720"/>
              <a:ext cx="1512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6600ff"/>
                  </a:solidFill>
                  <a:latin typeface="Times New Roman"/>
                </a:rPr>
                <a:t>ACTIV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00720" y="4005360"/>
              <a:ext cx="151308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6600ff"/>
                  </a:solidFill>
                  <a:latin typeface="Times New Roman"/>
                </a:rPr>
                <a:t>PASIV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VIS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N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A EMPRESA INSOLVE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826920" y="1700280"/>
            <a:ext cx="7705440" cy="4524120"/>
            <a:chOff x="826920" y="1700280"/>
            <a:chExt cx="7705440" cy="4524120"/>
          </a:xfrm>
        </p:grpSpPr>
        <p:sp>
          <p:nvSpPr>
            <p:cNvPr id="108" name=""/>
            <p:cNvSpPr/>
            <p:nvPr/>
          </p:nvSpPr>
          <p:spPr>
            <a:xfrm flipH="1">
              <a:off x="826920" y="1700280"/>
              <a:ext cx="7705440" cy="4524120"/>
            </a:xfrm>
            <a:custGeom>
              <a:avLst/>
              <a:gdLst/>
              <a:ahLst/>
              <a:rect l="l" t="t" r="r" b="b"/>
              <a:pathLst>
                <a:path w="3221" h="2714">
                  <a:moveTo>
                    <a:pt x="0" y="2435"/>
                  </a:moveTo>
                  <a:lnTo>
                    <a:pt x="404" y="0"/>
                  </a:lnTo>
                  <a:lnTo>
                    <a:pt x="3221" y="364"/>
                  </a:lnTo>
                  <a:lnTo>
                    <a:pt x="3200" y="2714"/>
                  </a:lnTo>
                  <a:lnTo>
                    <a:pt x="0" y="2435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872280" y="1734840"/>
              <a:ext cx="7610400" cy="4437720"/>
            </a:xfrm>
            <a:custGeom>
              <a:avLst/>
              <a:gdLst/>
              <a:ahLst/>
              <a:rect l="l" t="t" r="r" b="b"/>
              <a:pathLst>
                <a:path w="3181" h="2662">
                  <a:moveTo>
                    <a:pt x="3181" y="362"/>
                  </a:moveTo>
                  <a:lnTo>
                    <a:pt x="398" y="0"/>
                  </a:lnTo>
                  <a:lnTo>
                    <a:pt x="0" y="2394"/>
                  </a:lnTo>
                  <a:lnTo>
                    <a:pt x="3142" y="2662"/>
                  </a:lnTo>
                  <a:lnTo>
                    <a:pt x="3181" y="3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956160" y="1796400"/>
              <a:ext cx="7452000" cy="4311000"/>
            </a:xfrm>
            <a:custGeom>
              <a:avLst/>
              <a:gdLst/>
              <a:ahLst/>
              <a:rect l="l" t="t" r="r" b="b"/>
              <a:pathLst>
                <a:path w="3115" h="2586">
                  <a:moveTo>
                    <a:pt x="0" y="2325"/>
                  </a:moveTo>
                  <a:lnTo>
                    <a:pt x="386" y="0"/>
                  </a:lnTo>
                  <a:lnTo>
                    <a:pt x="3115" y="356"/>
                  </a:lnTo>
                  <a:lnTo>
                    <a:pt x="3077" y="2586"/>
                  </a:lnTo>
                  <a:lnTo>
                    <a:pt x="0" y="2325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020240" y="1851840"/>
              <a:ext cx="7306200" cy="4202640"/>
            </a:xfrm>
            <a:custGeom>
              <a:avLst/>
              <a:gdLst/>
              <a:ahLst/>
              <a:rect l="l" t="t" r="r" b="b"/>
              <a:pathLst>
                <a:path w="3054" h="2521">
                  <a:moveTo>
                    <a:pt x="3054" y="351"/>
                  </a:moveTo>
                  <a:lnTo>
                    <a:pt x="375" y="0"/>
                  </a:lnTo>
                  <a:lnTo>
                    <a:pt x="0" y="2266"/>
                  </a:lnTo>
                  <a:lnTo>
                    <a:pt x="3015" y="2521"/>
                  </a:lnTo>
                  <a:lnTo>
                    <a:pt x="3054" y="3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118880" y="1946520"/>
              <a:ext cx="7076520" cy="4030920"/>
            </a:xfrm>
            <a:custGeom>
              <a:avLst/>
              <a:gdLst/>
              <a:ahLst/>
              <a:rect l="l" t="t" r="r" b="b"/>
              <a:pathLst>
                <a:path w="2958" h="2418">
                  <a:moveTo>
                    <a:pt x="2958" y="341"/>
                  </a:moveTo>
                  <a:lnTo>
                    <a:pt x="2923" y="2418"/>
                  </a:lnTo>
                  <a:lnTo>
                    <a:pt x="0" y="2173"/>
                  </a:lnTo>
                  <a:lnTo>
                    <a:pt x="360" y="0"/>
                  </a:lnTo>
                  <a:lnTo>
                    <a:pt x="2958" y="341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118880" y="1946520"/>
              <a:ext cx="7076520" cy="4030920"/>
            </a:xfrm>
            <a:custGeom>
              <a:avLst/>
              <a:gdLst/>
              <a:ahLst/>
              <a:rect l="l" t="t" r="r" b="b"/>
              <a:pathLst>
                <a:path w="2958" h="2418">
                  <a:moveTo>
                    <a:pt x="2958" y="341"/>
                  </a:moveTo>
                  <a:lnTo>
                    <a:pt x="2923" y="2418"/>
                  </a:lnTo>
                  <a:lnTo>
                    <a:pt x="0" y="2173"/>
                  </a:lnTo>
                  <a:lnTo>
                    <a:pt x="360" y="0"/>
                  </a:lnTo>
                  <a:lnTo>
                    <a:pt x="2958" y="341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3003480" y="2376720"/>
              <a:ext cx="2921400" cy="3238920"/>
            </a:xfrm>
            <a:custGeom>
              <a:avLst/>
              <a:gdLst/>
              <a:ahLst/>
              <a:rect l="l" t="t" r="r" b="b"/>
              <a:pathLst>
                <a:path w="1221" h="1943">
                  <a:moveTo>
                    <a:pt x="611" y="1943"/>
                  </a:moveTo>
                  <a:lnTo>
                    <a:pt x="674" y="1938"/>
                  </a:lnTo>
                  <a:lnTo>
                    <a:pt x="734" y="1923"/>
                  </a:lnTo>
                  <a:lnTo>
                    <a:pt x="792" y="1899"/>
                  </a:lnTo>
                  <a:lnTo>
                    <a:pt x="849" y="1866"/>
                  </a:lnTo>
                  <a:lnTo>
                    <a:pt x="901" y="1826"/>
                  </a:lnTo>
                  <a:lnTo>
                    <a:pt x="951" y="1777"/>
                  </a:lnTo>
                  <a:lnTo>
                    <a:pt x="998" y="1720"/>
                  </a:lnTo>
                  <a:lnTo>
                    <a:pt x="1042" y="1659"/>
                  </a:lnTo>
                  <a:lnTo>
                    <a:pt x="1081" y="1589"/>
                  </a:lnTo>
                  <a:lnTo>
                    <a:pt x="1117" y="1514"/>
                  </a:lnTo>
                  <a:lnTo>
                    <a:pt x="1148" y="1435"/>
                  </a:lnTo>
                  <a:lnTo>
                    <a:pt x="1174" y="1350"/>
                  </a:lnTo>
                  <a:lnTo>
                    <a:pt x="1193" y="1261"/>
                  </a:lnTo>
                  <a:lnTo>
                    <a:pt x="1208" y="1167"/>
                  </a:lnTo>
                  <a:lnTo>
                    <a:pt x="1217" y="1071"/>
                  </a:lnTo>
                  <a:lnTo>
                    <a:pt x="1221" y="972"/>
                  </a:lnTo>
                  <a:lnTo>
                    <a:pt x="1217" y="873"/>
                  </a:lnTo>
                  <a:lnTo>
                    <a:pt x="1208" y="776"/>
                  </a:lnTo>
                  <a:lnTo>
                    <a:pt x="1193" y="683"/>
                  </a:lnTo>
                  <a:lnTo>
                    <a:pt x="1174" y="594"/>
                  </a:lnTo>
                  <a:lnTo>
                    <a:pt x="1148" y="508"/>
                  </a:lnTo>
                  <a:lnTo>
                    <a:pt x="1117" y="428"/>
                  </a:lnTo>
                  <a:lnTo>
                    <a:pt x="1081" y="354"/>
                  </a:lnTo>
                  <a:lnTo>
                    <a:pt x="1042" y="284"/>
                  </a:lnTo>
                  <a:lnTo>
                    <a:pt x="998" y="222"/>
                  </a:lnTo>
                  <a:lnTo>
                    <a:pt x="951" y="165"/>
                  </a:lnTo>
                  <a:lnTo>
                    <a:pt x="901" y="117"/>
                  </a:lnTo>
                  <a:lnTo>
                    <a:pt x="849" y="76"/>
                  </a:lnTo>
                  <a:lnTo>
                    <a:pt x="792" y="44"/>
                  </a:lnTo>
                  <a:lnTo>
                    <a:pt x="734" y="19"/>
                  </a:lnTo>
                  <a:lnTo>
                    <a:pt x="674" y="5"/>
                  </a:lnTo>
                  <a:lnTo>
                    <a:pt x="611" y="0"/>
                  </a:lnTo>
                  <a:lnTo>
                    <a:pt x="549" y="5"/>
                  </a:lnTo>
                  <a:lnTo>
                    <a:pt x="487" y="19"/>
                  </a:lnTo>
                  <a:lnTo>
                    <a:pt x="429" y="44"/>
                  </a:lnTo>
                  <a:lnTo>
                    <a:pt x="374" y="76"/>
                  </a:lnTo>
                  <a:lnTo>
                    <a:pt x="320" y="117"/>
                  </a:lnTo>
                  <a:lnTo>
                    <a:pt x="270" y="165"/>
                  </a:lnTo>
                  <a:lnTo>
                    <a:pt x="223" y="222"/>
                  </a:lnTo>
                  <a:lnTo>
                    <a:pt x="179" y="284"/>
                  </a:lnTo>
                  <a:lnTo>
                    <a:pt x="140" y="354"/>
                  </a:lnTo>
                  <a:lnTo>
                    <a:pt x="104" y="428"/>
                  </a:lnTo>
                  <a:lnTo>
                    <a:pt x="75" y="508"/>
                  </a:lnTo>
                  <a:lnTo>
                    <a:pt x="49" y="594"/>
                  </a:lnTo>
                  <a:lnTo>
                    <a:pt x="28" y="683"/>
                  </a:lnTo>
                  <a:lnTo>
                    <a:pt x="13" y="776"/>
                  </a:lnTo>
                  <a:lnTo>
                    <a:pt x="4" y="873"/>
                  </a:lnTo>
                  <a:lnTo>
                    <a:pt x="0" y="972"/>
                  </a:lnTo>
                  <a:lnTo>
                    <a:pt x="4" y="1071"/>
                  </a:lnTo>
                  <a:lnTo>
                    <a:pt x="13" y="1167"/>
                  </a:lnTo>
                  <a:lnTo>
                    <a:pt x="28" y="1261"/>
                  </a:lnTo>
                  <a:lnTo>
                    <a:pt x="49" y="1350"/>
                  </a:lnTo>
                  <a:lnTo>
                    <a:pt x="75" y="1435"/>
                  </a:lnTo>
                  <a:lnTo>
                    <a:pt x="104" y="1514"/>
                  </a:lnTo>
                  <a:lnTo>
                    <a:pt x="140" y="1589"/>
                  </a:lnTo>
                  <a:lnTo>
                    <a:pt x="179" y="1659"/>
                  </a:lnTo>
                  <a:lnTo>
                    <a:pt x="223" y="1720"/>
                  </a:lnTo>
                  <a:lnTo>
                    <a:pt x="270" y="1777"/>
                  </a:lnTo>
                  <a:lnTo>
                    <a:pt x="320" y="1826"/>
                  </a:lnTo>
                  <a:lnTo>
                    <a:pt x="374" y="1866"/>
                  </a:lnTo>
                  <a:lnTo>
                    <a:pt x="429" y="1899"/>
                  </a:lnTo>
                  <a:lnTo>
                    <a:pt x="487" y="1923"/>
                  </a:lnTo>
                  <a:lnTo>
                    <a:pt x="549" y="1938"/>
                  </a:lnTo>
                  <a:lnTo>
                    <a:pt x="611" y="1943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035160" y="2414880"/>
              <a:ext cx="2854080" cy="3165480"/>
            </a:xfrm>
            <a:custGeom>
              <a:avLst/>
              <a:gdLst/>
              <a:ahLst/>
              <a:rect l="l" t="t" r="r" b="b"/>
              <a:pathLst>
                <a:path w="1193" h="1899">
                  <a:moveTo>
                    <a:pt x="596" y="1899"/>
                  </a:moveTo>
                  <a:lnTo>
                    <a:pt x="657" y="1894"/>
                  </a:lnTo>
                  <a:lnTo>
                    <a:pt x="716" y="1879"/>
                  </a:lnTo>
                  <a:lnTo>
                    <a:pt x="772" y="1856"/>
                  </a:lnTo>
                  <a:lnTo>
                    <a:pt x="828" y="1824"/>
                  </a:lnTo>
                  <a:lnTo>
                    <a:pt x="880" y="1783"/>
                  </a:lnTo>
                  <a:lnTo>
                    <a:pt x="930" y="1736"/>
                  </a:lnTo>
                  <a:lnTo>
                    <a:pt x="975" y="1681"/>
                  </a:lnTo>
                  <a:lnTo>
                    <a:pt x="1017" y="1621"/>
                  </a:lnTo>
                  <a:lnTo>
                    <a:pt x="1056" y="1553"/>
                  </a:lnTo>
                  <a:lnTo>
                    <a:pt x="1090" y="1480"/>
                  </a:lnTo>
                  <a:lnTo>
                    <a:pt x="1121" y="1402"/>
                  </a:lnTo>
                  <a:lnTo>
                    <a:pt x="1146" y="1319"/>
                  </a:lnTo>
                  <a:lnTo>
                    <a:pt x="1165" y="1232"/>
                  </a:lnTo>
                  <a:lnTo>
                    <a:pt x="1181" y="1141"/>
                  </a:lnTo>
                  <a:lnTo>
                    <a:pt x="1189" y="1046"/>
                  </a:lnTo>
                  <a:lnTo>
                    <a:pt x="1193" y="949"/>
                  </a:lnTo>
                  <a:lnTo>
                    <a:pt x="1189" y="852"/>
                  </a:lnTo>
                  <a:lnTo>
                    <a:pt x="1181" y="758"/>
                  </a:lnTo>
                  <a:lnTo>
                    <a:pt x="1165" y="667"/>
                  </a:lnTo>
                  <a:lnTo>
                    <a:pt x="1146" y="579"/>
                  </a:lnTo>
                  <a:lnTo>
                    <a:pt x="1121" y="496"/>
                  </a:lnTo>
                  <a:lnTo>
                    <a:pt x="1090" y="418"/>
                  </a:lnTo>
                  <a:lnTo>
                    <a:pt x="1056" y="345"/>
                  </a:lnTo>
                  <a:lnTo>
                    <a:pt x="1017" y="277"/>
                  </a:lnTo>
                  <a:lnTo>
                    <a:pt x="975" y="215"/>
                  </a:lnTo>
                  <a:lnTo>
                    <a:pt x="930" y="162"/>
                  </a:lnTo>
                  <a:lnTo>
                    <a:pt x="880" y="113"/>
                  </a:lnTo>
                  <a:lnTo>
                    <a:pt x="828" y="74"/>
                  </a:lnTo>
                  <a:lnTo>
                    <a:pt x="772" y="42"/>
                  </a:lnTo>
                  <a:lnTo>
                    <a:pt x="716" y="19"/>
                  </a:lnTo>
                  <a:lnTo>
                    <a:pt x="657" y="4"/>
                  </a:lnTo>
                  <a:lnTo>
                    <a:pt x="596" y="0"/>
                  </a:lnTo>
                  <a:lnTo>
                    <a:pt x="534" y="4"/>
                  </a:lnTo>
                  <a:lnTo>
                    <a:pt x="475" y="19"/>
                  </a:lnTo>
                  <a:lnTo>
                    <a:pt x="419" y="42"/>
                  </a:lnTo>
                  <a:lnTo>
                    <a:pt x="364" y="74"/>
                  </a:lnTo>
                  <a:lnTo>
                    <a:pt x="312" y="113"/>
                  </a:lnTo>
                  <a:lnTo>
                    <a:pt x="263" y="162"/>
                  </a:lnTo>
                  <a:lnTo>
                    <a:pt x="216" y="215"/>
                  </a:lnTo>
                  <a:lnTo>
                    <a:pt x="174" y="277"/>
                  </a:lnTo>
                  <a:lnTo>
                    <a:pt x="136" y="345"/>
                  </a:lnTo>
                  <a:lnTo>
                    <a:pt x="102" y="418"/>
                  </a:lnTo>
                  <a:lnTo>
                    <a:pt x="71" y="496"/>
                  </a:lnTo>
                  <a:lnTo>
                    <a:pt x="47" y="579"/>
                  </a:lnTo>
                  <a:lnTo>
                    <a:pt x="26" y="667"/>
                  </a:lnTo>
                  <a:lnTo>
                    <a:pt x="11" y="758"/>
                  </a:lnTo>
                  <a:lnTo>
                    <a:pt x="3" y="852"/>
                  </a:lnTo>
                  <a:lnTo>
                    <a:pt x="0" y="949"/>
                  </a:lnTo>
                  <a:lnTo>
                    <a:pt x="3" y="1046"/>
                  </a:lnTo>
                  <a:lnTo>
                    <a:pt x="11" y="1141"/>
                  </a:lnTo>
                  <a:lnTo>
                    <a:pt x="26" y="1232"/>
                  </a:lnTo>
                  <a:lnTo>
                    <a:pt x="47" y="1319"/>
                  </a:lnTo>
                  <a:lnTo>
                    <a:pt x="71" y="1402"/>
                  </a:lnTo>
                  <a:lnTo>
                    <a:pt x="102" y="1480"/>
                  </a:lnTo>
                  <a:lnTo>
                    <a:pt x="136" y="1553"/>
                  </a:lnTo>
                  <a:lnTo>
                    <a:pt x="174" y="1621"/>
                  </a:lnTo>
                  <a:lnTo>
                    <a:pt x="216" y="1681"/>
                  </a:lnTo>
                  <a:lnTo>
                    <a:pt x="263" y="1736"/>
                  </a:lnTo>
                  <a:lnTo>
                    <a:pt x="312" y="1783"/>
                  </a:lnTo>
                  <a:lnTo>
                    <a:pt x="364" y="1824"/>
                  </a:lnTo>
                  <a:lnTo>
                    <a:pt x="419" y="1856"/>
                  </a:lnTo>
                  <a:lnTo>
                    <a:pt x="475" y="1879"/>
                  </a:lnTo>
                  <a:lnTo>
                    <a:pt x="534" y="1894"/>
                  </a:lnTo>
                  <a:lnTo>
                    <a:pt x="596" y="1899"/>
                  </a:lnTo>
                  <a:close/>
                </a:path>
              </a:pathLst>
            </a:custGeom>
            <a:solidFill>
              <a:srgbClr val="b5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070800" y="2450160"/>
              <a:ext cx="2786760" cy="3092400"/>
            </a:xfrm>
            <a:custGeom>
              <a:avLst/>
              <a:gdLst/>
              <a:ahLst/>
              <a:rect l="l" t="t" r="r" b="b"/>
              <a:pathLst>
                <a:path w="1165" h="1855">
                  <a:moveTo>
                    <a:pt x="583" y="1855"/>
                  </a:moveTo>
                  <a:lnTo>
                    <a:pt x="643" y="1850"/>
                  </a:lnTo>
                  <a:lnTo>
                    <a:pt x="701" y="1835"/>
                  </a:lnTo>
                  <a:lnTo>
                    <a:pt x="756" y="1813"/>
                  </a:lnTo>
                  <a:lnTo>
                    <a:pt x="810" y="1782"/>
                  </a:lnTo>
                  <a:lnTo>
                    <a:pt x="860" y="1743"/>
                  </a:lnTo>
                  <a:lnTo>
                    <a:pt x="909" y="1696"/>
                  </a:lnTo>
                  <a:lnTo>
                    <a:pt x="954" y="1642"/>
                  </a:lnTo>
                  <a:lnTo>
                    <a:pt x="995" y="1584"/>
                  </a:lnTo>
                  <a:lnTo>
                    <a:pt x="1032" y="1517"/>
                  </a:lnTo>
                  <a:lnTo>
                    <a:pt x="1066" y="1446"/>
                  </a:lnTo>
                  <a:lnTo>
                    <a:pt x="1095" y="1370"/>
                  </a:lnTo>
                  <a:lnTo>
                    <a:pt x="1120" y="1288"/>
                  </a:lnTo>
                  <a:lnTo>
                    <a:pt x="1139" y="1204"/>
                  </a:lnTo>
                  <a:lnTo>
                    <a:pt x="1154" y="1115"/>
                  </a:lnTo>
                  <a:lnTo>
                    <a:pt x="1162" y="1022"/>
                  </a:lnTo>
                  <a:lnTo>
                    <a:pt x="1165" y="928"/>
                  </a:lnTo>
                  <a:lnTo>
                    <a:pt x="1162" y="834"/>
                  </a:lnTo>
                  <a:lnTo>
                    <a:pt x="1154" y="741"/>
                  </a:lnTo>
                  <a:lnTo>
                    <a:pt x="1139" y="652"/>
                  </a:lnTo>
                  <a:lnTo>
                    <a:pt x="1120" y="566"/>
                  </a:lnTo>
                  <a:lnTo>
                    <a:pt x="1095" y="485"/>
                  </a:lnTo>
                  <a:lnTo>
                    <a:pt x="1066" y="409"/>
                  </a:lnTo>
                  <a:lnTo>
                    <a:pt x="1032" y="337"/>
                  </a:lnTo>
                  <a:lnTo>
                    <a:pt x="995" y="271"/>
                  </a:lnTo>
                  <a:lnTo>
                    <a:pt x="954" y="212"/>
                  </a:lnTo>
                  <a:lnTo>
                    <a:pt x="909" y="159"/>
                  </a:lnTo>
                  <a:lnTo>
                    <a:pt x="860" y="112"/>
                  </a:lnTo>
                  <a:lnTo>
                    <a:pt x="810" y="73"/>
                  </a:lnTo>
                  <a:lnTo>
                    <a:pt x="756" y="42"/>
                  </a:lnTo>
                  <a:lnTo>
                    <a:pt x="701" y="19"/>
                  </a:lnTo>
                  <a:lnTo>
                    <a:pt x="643" y="4"/>
                  </a:lnTo>
                  <a:lnTo>
                    <a:pt x="583" y="0"/>
                  </a:lnTo>
                  <a:lnTo>
                    <a:pt x="523" y="4"/>
                  </a:lnTo>
                  <a:lnTo>
                    <a:pt x="466" y="19"/>
                  </a:lnTo>
                  <a:lnTo>
                    <a:pt x="409" y="42"/>
                  </a:lnTo>
                  <a:lnTo>
                    <a:pt x="355" y="73"/>
                  </a:lnTo>
                  <a:lnTo>
                    <a:pt x="305" y="112"/>
                  </a:lnTo>
                  <a:lnTo>
                    <a:pt x="256" y="159"/>
                  </a:lnTo>
                  <a:lnTo>
                    <a:pt x="213" y="212"/>
                  </a:lnTo>
                  <a:lnTo>
                    <a:pt x="170" y="271"/>
                  </a:lnTo>
                  <a:lnTo>
                    <a:pt x="133" y="337"/>
                  </a:lnTo>
                  <a:lnTo>
                    <a:pt x="99" y="409"/>
                  </a:lnTo>
                  <a:lnTo>
                    <a:pt x="70" y="485"/>
                  </a:lnTo>
                  <a:lnTo>
                    <a:pt x="45" y="566"/>
                  </a:lnTo>
                  <a:lnTo>
                    <a:pt x="26" y="652"/>
                  </a:lnTo>
                  <a:lnTo>
                    <a:pt x="11" y="741"/>
                  </a:lnTo>
                  <a:lnTo>
                    <a:pt x="3" y="834"/>
                  </a:lnTo>
                  <a:lnTo>
                    <a:pt x="0" y="928"/>
                  </a:lnTo>
                  <a:lnTo>
                    <a:pt x="3" y="1022"/>
                  </a:lnTo>
                  <a:lnTo>
                    <a:pt x="11" y="1115"/>
                  </a:lnTo>
                  <a:lnTo>
                    <a:pt x="26" y="1204"/>
                  </a:lnTo>
                  <a:lnTo>
                    <a:pt x="45" y="1288"/>
                  </a:lnTo>
                  <a:lnTo>
                    <a:pt x="70" y="1370"/>
                  </a:lnTo>
                  <a:lnTo>
                    <a:pt x="99" y="1446"/>
                  </a:lnTo>
                  <a:lnTo>
                    <a:pt x="133" y="1517"/>
                  </a:lnTo>
                  <a:lnTo>
                    <a:pt x="170" y="1584"/>
                  </a:lnTo>
                  <a:lnTo>
                    <a:pt x="213" y="1642"/>
                  </a:lnTo>
                  <a:lnTo>
                    <a:pt x="256" y="1696"/>
                  </a:lnTo>
                  <a:lnTo>
                    <a:pt x="305" y="1743"/>
                  </a:lnTo>
                  <a:lnTo>
                    <a:pt x="355" y="1782"/>
                  </a:lnTo>
                  <a:lnTo>
                    <a:pt x="409" y="1813"/>
                  </a:lnTo>
                  <a:lnTo>
                    <a:pt x="466" y="1835"/>
                  </a:lnTo>
                  <a:lnTo>
                    <a:pt x="523" y="1850"/>
                  </a:lnTo>
                  <a:lnTo>
                    <a:pt x="583" y="1855"/>
                  </a:lnTo>
                  <a:close/>
                </a:path>
              </a:pathLst>
            </a:custGeom>
            <a:solidFill>
              <a:srgbClr val="bcd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101760" y="2486880"/>
              <a:ext cx="2720160" cy="3020400"/>
            </a:xfrm>
            <a:custGeom>
              <a:avLst/>
              <a:gdLst/>
              <a:ahLst/>
              <a:rect l="l" t="t" r="r" b="b"/>
              <a:pathLst>
                <a:path w="1137" h="1812">
                  <a:moveTo>
                    <a:pt x="568" y="1812"/>
                  </a:moveTo>
                  <a:lnTo>
                    <a:pt x="626" y="1807"/>
                  </a:lnTo>
                  <a:lnTo>
                    <a:pt x="683" y="1794"/>
                  </a:lnTo>
                  <a:lnTo>
                    <a:pt x="736" y="1771"/>
                  </a:lnTo>
                  <a:lnTo>
                    <a:pt x="790" y="1740"/>
                  </a:lnTo>
                  <a:lnTo>
                    <a:pt x="839" y="1703"/>
                  </a:lnTo>
                  <a:lnTo>
                    <a:pt x="886" y="1658"/>
                  </a:lnTo>
                  <a:lnTo>
                    <a:pt x="929" y="1606"/>
                  </a:lnTo>
                  <a:lnTo>
                    <a:pt x="970" y="1546"/>
                  </a:lnTo>
                  <a:lnTo>
                    <a:pt x="1007" y="1482"/>
                  </a:lnTo>
                  <a:lnTo>
                    <a:pt x="1040" y="1413"/>
                  </a:lnTo>
                  <a:lnTo>
                    <a:pt x="1069" y="1338"/>
                  </a:lnTo>
                  <a:lnTo>
                    <a:pt x="1092" y="1258"/>
                  </a:lnTo>
                  <a:lnTo>
                    <a:pt x="1111" y="1176"/>
                  </a:lnTo>
                  <a:lnTo>
                    <a:pt x="1126" y="1088"/>
                  </a:lnTo>
                  <a:lnTo>
                    <a:pt x="1134" y="999"/>
                  </a:lnTo>
                  <a:lnTo>
                    <a:pt x="1137" y="906"/>
                  </a:lnTo>
                  <a:lnTo>
                    <a:pt x="1134" y="814"/>
                  </a:lnTo>
                  <a:lnTo>
                    <a:pt x="1126" y="723"/>
                  </a:lnTo>
                  <a:lnTo>
                    <a:pt x="1111" y="637"/>
                  </a:lnTo>
                  <a:lnTo>
                    <a:pt x="1092" y="552"/>
                  </a:lnTo>
                  <a:lnTo>
                    <a:pt x="1069" y="474"/>
                  </a:lnTo>
                  <a:lnTo>
                    <a:pt x="1040" y="400"/>
                  </a:lnTo>
                  <a:lnTo>
                    <a:pt x="1007" y="330"/>
                  </a:lnTo>
                  <a:lnTo>
                    <a:pt x="970" y="265"/>
                  </a:lnTo>
                  <a:lnTo>
                    <a:pt x="929" y="207"/>
                  </a:lnTo>
                  <a:lnTo>
                    <a:pt x="886" y="155"/>
                  </a:lnTo>
                  <a:lnTo>
                    <a:pt x="839" y="109"/>
                  </a:lnTo>
                  <a:lnTo>
                    <a:pt x="790" y="72"/>
                  </a:lnTo>
                  <a:lnTo>
                    <a:pt x="736" y="41"/>
                  </a:lnTo>
                  <a:lnTo>
                    <a:pt x="683" y="18"/>
                  </a:lnTo>
                  <a:lnTo>
                    <a:pt x="626" y="5"/>
                  </a:lnTo>
                  <a:lnTo>
                    <a:pt x="568" y="0"/>
                  </a:lnTo>
                  <a:lnTo>
                    <a:pt x="509" y="5"/>
                  </a:lnTo>
                  <a:lnTo>
                    <a:pt x="454" y="18"/>
                  </a:lnTo>
                  <a:lnTo>
                    <a:pt x="399" y="41"/>
                  </a:lnTo>
                  <a:lnTo>
                    <a:pt x="347" y="72"/>
                  </a:lnTo>
                  <a:lnTo>
                    <a:pt x="297" y="109"/>
                  </a:lnTo>
                  <a:lnTo>
                    <a:pt x="250" y="155"/>
                  </a:lnTo>
                  <a:lnTo>
                    <a:pt x="206" y="207"/>
                  </a:lnTo>
                  <a:lnTo>
                    <a:pt x="167" y="265"/>
                  </a:lnTo>
                  <a:lnTo>
                    <a:pt x="129" y="330"/>
                  </a:lnTo>
                  <a:lnTo>
                    <a:pt x="97" y="400"/>
                  </a:lnTo>
                  <a:lnTo>
                    <a:pt x="68" y="474"/>
                  </a:lnTo>
                  <a:lnTo>
                    <a:pt x="45" y="552"/>
                  </a:lnTo>
                  <a:lnTo>
                    <a:pt x="26" y="637"/>
                  </a:lnTo>
                  <a:lnTo>
                    <a:pt x="11" y="723"/>
                  </a:lnTo>
                  <a:lnTo>
                    <a:pt x="3" y="814"/>
                  </a:lnTo>
                  <a:lnTo>
                    <a:pt x="0" y="906"/>
                  </a:lnTo>
                  <a:lnTo>
                    <a:pt x="3" y="999"/>
                  </a:lnTo>
                  <a:lnTo>
                    <a:pt x="11" y="1088"/>
                  </a:lnTo>
                  <a:lnTo>
                    <a:pt x="26" y="1176"/>
                  </a:lnTo>
                  <a:lnTo>
                    <a:pt x="45" y="1258"/>
                  </a:lnTo>
                  <a:lnTo>
                    <a:pt x="68" y="1338"/>
                  </a:lnTo>
                  <a:lnTo>
                    <a:pt x="97" y="1413"/>
                  </a:lnTo>
                  <a:lnTo>
                    <a:pt x="129" y="1482"/>
                  </a:lnTo>
                  <a:lnTo>
                    <a:pt x="167" y="1546"/>
                  </a:lnTo>
                  <a:lnTo>
                    <a:pt x="206" y="1606"/>
                  </a:lnTo>
                  <a:lnTo>
                    <a:pt x="250" y="1658"/>
                  </a:lnTo>
                  <a:lnTo>
                    <a:pt x="297" y="1703"/>
                  </a:lnTo>
                  <a:lnTo>
                    <a:pt x="347" y="1740"/>
                  </a:lnTo>
                  <a:lnTo>
                    <a:pt x="399" y="1771"/>
                  </a:lnTo>
                  <a:lnTo>
                    <a:pt x="454" y="1794"/>
                  </a:lnTo>
                  <a:lnTo>
                    <a:pt x="509" y="1807"/>
                  </a:lnTo>
                  <a:lnTo>
                    <a:pt x="568" y="1812"/>
                  </a:lnTo>
                  <a:close/>
                </a:path>
              </a:pathLst>
            </a:custGeom>
            <a:solidFill>
              <a:srgbClr val="c1d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3133440" y="2521800"/>
              <a:ext cx="2657520" cy="2946960"/>
            </a:xfrm>
            <a:custGeom>
              <a:avLst/>
              <a:gdLst/>
              <a:ahLst/>
              <a:rect l="l" t="t" r="r" b="b"/>
              <a:pathLst>
                <a:path w="1111" h="1768">
                  <a:moveTo>
                    <a:pt x="555" y="1768"/>
                  </a:moveTo>
                  <a:lnTo>
                    <a:pt x="611" y="1763"/>
                  </a:lnTo>
                  <a:lnTo>
                    <a:pt x="667" y="1750"/>
                  </a:lnTo>
                  <a:lnTo>
                    <a:pt x="720" y="1729"/>
                  </a:lnTo>
                  <a:lnTo>
                    <a:pt x="770" y="1698"/>
                  </a:lnTo>
                  <a:lnTo>
                    <a:pt x="819" y="1661"/>
                  </a:lnTo>
                  <a:lnTo>
                    <a:pt x="866" y="1617"/>
                  </a:lnTo>
                  <a:lnTo>
                    <a:pt x="908" y="1567"/>
                  </a:lnTo>
                  <a:lnTo>
                    <a:pt x="947" y="1508"/>
                  </a:lnTo>
                  <a:lnTo>
                    <a:pt x="985" y="1447"/>
                  </a:lnTo>
                  <a:lnTo>
                    <a:pt x="1015" y="1379"/>
                  </a:lnTo>
                  <a:lnTo>
                    <a:pt x="1045" y="1306"/>
                  </a:lnTo>
                  <a:lnTo>
                    <a:pt x="1067" y="1229"/>
                  </a:lnTo>
                  <a:lnTo>
                    <a:pt x="1087" y="1148"/>
                  </a:lnTo>
                  <a:lnTo>
                    <a:pt x="1100" y="1064"/>
                  </a:lnTo>
                  <a:lnTo>
                    <a:pt x="1108" y="976"/>
                  </a:lnTo>
                  <a:lnTo>
                    <a:pt x="1111" y="885"/>
                  </a:lnTo>
                  <a:lnTo>
                    <a:pt x="1108" y="794"/>
                  </a:lnTo>
                  <a:lnTo>
                    <a:pt x="1100" y="707"/>
                  </a:lnTo>
                  <a:lnTo>
                    <a:pt x="1087" y="622"/>
                  </a:lnTo>
                  <a:lnTo>
                    <a:pt x="1067" y="541"/>
                  </a:lnTo>
                  <a:lnTo>
                    <a:pt x="1045" y="463"/>
                  </a:lnTo>
                  <a:lnTo>
                    <a:pt x="1015" y="390"/>
                  </a:lnTo>
                  <a:lnTo>
                    <a:pt x="985" y="322"/>
                  </a:lnTo>
                  <a:lnTo>
                    <a:pt x="947" y="260"/>
                  </a:lnTo>
                  <a:lnTo>
                    <a:pt x="908" y="202"/>
                  </a:lnTo>
                  <a:lnTo>
                    <a:pt x="866" y="151"/>
                  </a:lnTo>
                  <a:lnTo>
                    <a:pt x="819" y="108"/>
                  </a:lnTo>
                  <a:lnTo>
                    <a:pt x="770" y="70"/>
                  </a:lnTo>
                  <a:lnTo>
                    <a:pt x="720" y="41"/>
                  </a:lnTo>
                  <a:lnTo>
                    <a:pt x="667" y="18"/>
                  </a:lnTo>
                  <a:lnTo>
                    <a:pt x="611" y="5"/>
                  </a:lnTo>
                  <a:lnTo>
                    <a:pt x="555" y="0"/>
                  </a:lnTo>
                  <a:lnTo>
                    <a:pt x="498" y="5"/>
                  </a:lnTo>
                  <a:lnTo>
                    <a:pt x="443" y="18"/>
                  </a:lnTo>
                  <a:lnTo>
                    <a:pt x="389" y="41"/>
                  </a:lnTo>
                  <a:lnTo>
                    <a:pt x="339" y="70"/>
                  </a:lnTo>
                  <a:lnTo>
                    <a:pt x="290" y="108"/>
                  </a:lnTo>
                  <a:lnTo>
                    <a:pt x="245" y="151"/>
                  </a:lnTo>
                  <a:lnTo>
                    <a:pt x="201" y="202"/>
                  </a:lnTo>
                  <a:lnTo>
                    <a:pt x="162" y="260"/>
                  </a:lnTo>
                  <a:lnTo>
                    <a:pt x="126" y="322"/>
                  </a:lnTo>
                  <a:lnTo>
                    <a:pt x="94" y="390"/>
                  </a:lnTo>
                  <a:lnTo>
                    <a:pt x="66" y="463"/>
                  </a:lnTo>
                  <a:lnTo>
                    <a:pt x="43" y="541"/>
                  </a:lnTo>
                  <a:lnTo>
                    <a:pt x="24" y="622"/>
                  </a:lnTo>
                  <a:lnTo>
                    <a:pt x="11" y="707"/>
                  </a:lnTo>
                  <a:lnTo>
                    <a:pt x="3" y="794"/>
                  </a:lnTo>
                  <a:lnTo>
                    <a:pt x="0" y="885"/>
                  </a:lnTo>
                  <a:lnTo>
                    <a:pt x="3" y="976"/>
                  </a:lnTo>
                  <a:lnTo>
                    <a:pt x="11" y="1064"/>
                  </a:lnTo>
                  <a:lnTo>
                    <a:pt x="24" y="1148"/>
                  </a:lnTo>
                  <a:lnTo>
                    <a:pt x="43" y="1229"/>
                  </a:lnTo>
                  <a:lnTo>
                    <a:pt x="66" y="1306"/>
                  </a:lnTo>
                  <a:lnTo>
                    <a:pt x="94" y="1379"/>
                  </a:lnTo>
                  <a:lnTo>
                    <a:pt x="126" y="1447"/>
                  </a:lnTo>
                  <a:lnTo>
                    <a:pt x="162" y="1508"/>
                  </a:lnTo>
                  <a:lnTo>
                    <a:pt x="201" y="1567"/>
                  </a:lnTo>
                  <a:lnTo>
                    <a:pt x="245" y="1617"/>
                  </a:lnTo>
                  <a:lnTo>
                    <a:pt x="290" y="1661"/>
                  </a:lnTo>
                  <a:lnTo>
                    <a:pt x="339" y="1698"/>
                  </a:lnTo>
                  <a:lnTo>
                    <a:pt x="389" y="1729"/>
                  </a:lnTo>
                  <a:lnTo>
                    <a:pt x="443" y="1750"/>
                  </a:lnTo>
                  <a:lnTo>
                    <a:pt x="498" y="1763"/>
                  </a:lnTo>
                  <a:lnTo>
                    <a:pt x="555" y="1768"/>
                  </a:lnTo>
                  <a:close/>
                </a:path>
              </a:pathLst>
            </a:custGeom>
            <a:solidFill>
              <a:srgbClr val="c4db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3166200" y="2558520"/>
              <a:ext cx="2590920" cy="2875320"/>
            </a:xfrm>
            <a:custGeom>
              <a:avLst/>
              <a:gdLst/>
              <a:ahLst/>
              <a:rect l="l" t="t" r="r" b="b"/>
              <a:pathLst>
                <a:path w="1083" h="1725">
                  <a:moveTo>
                    <a:pt x="541" y="1725"/>
                  </a:moveTo>
                  <a:lnTo>
                    <a:pt x="596" y="1720"/>
                  </a:lnTo>
                  <a:lnTo>
                    <a:pt x="649" y="1707"/>
                  </a:lnTo>
                  <a:lnTo>
                    <a:pt x="703" y="1686"/>
                  </a:lnTo>
                  <a:lnTo>
                    <a:pt x="752" y="1657"/>
                  </a:lnTo>
                  <a:lnTo>
                    <a:pt x="799" y="1621"/>
                  </a:lnTo>
                  <a:lnTo>
                    <a:pt x="844" y="1577"/>
                  </a:lnTo>
                  <a:lnTo>
                    <a:pt x="886" y="1529"/>
                  </a:lnTo>
                  <a:lnTo>
                    <a:pt x="924" y="1472"/>
                  </a:lnTo>
                  <a:lnTo>
                    <a:pt x="959" y="1412"/>
                  </a:lnTo>
                  <a:lnTo>
                    <a:pt x="990" y="1345"/>
                  </a:lnTo>
                  <a:lnTo>
                    <a:pt x="1018" y="1274"/>
                  </a:lnTo>
                  <a:lnTo>
                    <a:pt x="1040" y="1199"/>
                  </a:lnTo>
                  <a:lnTo>
                    <a:pt x="1058" y="1120"/>
                  </a:lnTo>
                  <a:lnTo>
                    <a:pt x="1071" y="1037"/>
                  </a:lnTo>
                  <a:lnTo>
                    <a:pt x="1079" y="951"/>
                  </a:lnTo>
                  <a:lnTo>
                    <a:pt x="1083" y="863"/>
                  </a:lnTo>
                  <a:lnTo>
                    <a:pt x="1079" y="775"/>
                  </a:lnTo>
                  <a:lnTo>
                    <a:pt x="1071" y="689"/>
                  </a:lnTo>
                  <a:lnTo>
                    <a:pt x="1058" y="607"/>
                  </a:lnTo>
                  <a:lnTo>
                    <a:pt x="1040" y="527"/>
                  </a:lnTo>
                  <a:lnTo>
                    <a:pt x="1018" y="451"/>
                  </a:lnTo>
                  <a:lnTo>
                    <a:pt x="990" y="379"/>
                  </a:lnTo>
                  <a:lnTo>
                    <a:pt x="959" y="314"/>
                  </a:lnTo>
                  <a:lnTo>
                    <a:pt x="924" y="253"/>
                  </a:lnTo>
                  <a:lnTo>
                    <a:pt x="886" y="196"/>
                  </a:lnTo>
                  <a:lnTo>
                    <a:pt x="844" y="147"/>
                  </a:lnTo>
                  <a:lnTo>
                    <a:pt x="799" y="103"/>
                  </a:lnTo>
                  <a:lnTo>
                    <a:pt x="752" y="68"/>
                  </a:lnTo>
                  <a:lnTo>
                    <a:pt x="703" y="39"/>
                  </a:lnTo>
                  <a:lnTo>
                    <a:pt x="649" y="17"/>
                  </a:lnTo>
                  <a:lnTo>
                    <a:pt x="596" y="4"/>
                  </a:lnTo>
                  <a:lnTo>
                    <a:pt x="541" y="0"/>
                  </a:lnTo>
                  <a:lnTo>
                    <a:pt x="485" y="4"/>
                  </a:lnTo>
                  <a:lnTo>
                    <a:pt x="432" y="17"/>
                  </a:lnTo>
                  <a:lnTo>
                    <a:pt x="380" y="39"/>
                  </a:lnTo>
                  <a:lnTo>
                    <a:pt x="330" y="68"/>
                  </a:lnTo>
                  <a:lnTo>
                    <a:pt x="283" y="103"/>
                  </a:lnTo>
                  <a:lnTo>
                    <a:pt x="239" y="147"/>
                  </a:lnTo>
                  <a:lnTo>
                    <a:pt x="197" y="196"/>
                  </a:lnTo>
                  <a:lnTo>
                    <a:pt x="159" y="253"/>
                  </a:lnTo>
                  <a:lnTo>
                    <a:pt x="124" y="314"/>
                  </a:lnTo>
                  <a:lnTo>
                    <a:pt x="93" y="379"/>
                  </a:lnTo>
                  <a:lnTo>
                    <a:pt x="65" y="451"/>
                  </a:lnTo>
                  <a:lnTo>
                    <a:pt x="42" y="527"/>
                  </a:lnTo>
                  <a:lnTo>
                    <a:pt x="25" y="607"/>
                  </a:lnTo>
                  <a:lnTo>
                    <a:pt x="12" y="689"/>
                  </a:lnTo>
                  <a:lnTo>
                    <a:pt x="3" y="775"/>
                  </a:lnTo>
                  <a:lnTo>
                    <a:pt x="0" y="863"/>
                  </a:lnTo>
                  <a:lnTo>
                    <a:pt x="3" y="951"/>
                  </a:lnTo>
                  <a:lnTo>
                    <a:pt x="12" y="1037"/>
                  </a:lnTo>
                  <a:lnTo>
                    <a:pt x="25" y="1120"/>
                  </a:lnTo>
                  <a:lnTo>
                    <a:pt x="42" y="1199"/>
                  </a:lnTo>
                  <a:lnTo>
                    <a:pt x="65" y="1274"/>
                  </a:lnTo>
                  <a:lnTo>
                    <a:pt x="93" y="1345"/>
                  </a:lnTo>
                  <a:lnTo>
                    <a:pt x="124" y="1412"/>
                  </a:lnTo>
                  <a:lnTo>
                    <a:pt x="159" y="1472"/>
                  </a:lnTo>
                  <a:lnTo>
                    <a:pt x="197" y="1529"/>
                  </a:lnTo>
                  <a:lnTo>
                    <a:pt x="239" y="1577"/>
                  </a:lnTo>
                  <a:lnTo>
                    <a:pt x="283" y="1621"/>
                  </a:lnTo>
                  <a:lnTo>
                    <a:pt x="330" y="1657"/>
                  </a:lnTo>
                  <a:lnTo>
                    <a:pt x="380" y="1686"/>
                  </a:lnTo>
                  <a:lnTo>
                    <a:pt x="432" y="1707"/>
                  </a:lnTo>
                  <a:lnTo>
                    <a:pt x="485" y="1720"/>
                  </a:lnTo>
                  <a:lnTo>
                    <a:pt x="541" y="1725"/>
                  </a:lnTo>
                  <a:close/>
                </a:path>
              </a:pathLst>
            </a:custGeom>
            <a:solidFill>
              <a:srgbClr val="c9d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3197880" y="2595240"/>
              <a:ext cx="2528640" cy="2800440"/>
            </a:xfrm>
            <a:custGeom>
              <a:avLst/>
              <a:gdLst/>
              <a:ahLst/>
              <a:rect l="l" t="t" r="r" b="b"/>
              <a:pathLst>
                <a:path w="1057" h="1680">
                  <a:moveTo>
                    <a:pt x="528" y="1680"/>
                  </a:moveTo>
                  <a:lnTo>
                    <a:pt x="581" y="1675"/>
                  </a:lnTo>
                  <a:lnTo>
                    <a:pt x="635" y="1662"/>
                  </a:lnTo>
                  <a:lnTo>
                    <a:pt x="685" y="1643"/>
                  </a:lnTo>
                  <a:lnTo>
                    <a:pt x="734" y="1614"/>
                  </a:lnTo>
                  <a:lnTo>
                    <a:pt x="779" y="1578"/>
                  </a:lnTo>
                  <a:lnTo>
                    <a:pt x="823" y="1537"/>
                  </a:lnTo>
                  <a:lnTo>
                    <a:pt x="863" y="1489"/>
                  </a:lnTo>
                  <a:lnTo>
                    <a:pt x="902" y="1434"/>
                  </a:lnTo>
                  <a:lnTo>
                    <a:pt x="936" y="1375"/>
                  </a:lnTo>
                  <a:lnTo>
                    <a:pt x="966" y="1310"/>
                  </a:lnTo>
                  <a:lnTo>
                    <a:pt x="993" y="1240"/>
                  </a:lnTo>
                  <a:lnTo>
                    <a:pt x="1014" y="1167"/>
                  </a:lnTo>
                  <a:lnTo>
                    <a:pt x="1032" y="1091"/>
                  </a:lnTo>
                  <a:lnTo>
                    <a:pt x="1045" y="1010"/>
                  </a:lnTo>
                  <a:lnTo>
                    <a:pt x="1053" y="927"/>
                  </a:lnTo>
                  <a:lnTo>
                    <a:pt x="1057" y="841"/>
                  </a:lnTo>
                  <a:lnTo>
                    <a:pt x="1053" y="755"/>
                  </a:lnTo>
                  <a:lnTo>
                    <a:pt x="1045" y="672"/>
                  </a:lnTo>
                  <a:lnTo>
                    <a:pt x="1032" y="591"/>
                  </a:lnTo>
                  <a:lnTo>
                    <a:pt x="1014" y="513"/>
                  </a:lnTo>
                  <a:lnTo>
                    <a:pt x="993" y="440"/>
                  </a:lnTo>
                  <a:lnTo>
                    <a:pt x="966" y="370"/>
                  </a:lnTo>
                  <a:lnTo>
                    <a:pt x="936" y="307"/>
                  </a:lnTo>
                  <a:lnTo>
                    <a:pt x="902" y="247"/>
                  </a:lnTo>
                  <a:lnTo>
                    <a:pt x="863" y="192"/>
                  </a:lnTo>
                  <a:lnTo>
                    <a:pt x="823" y="143"/>
                  </a:lnTo>
                  <a:lnTo>
                    <a:pt x="779" y="103"/>
                  </a:lnTo>
                  <a:lnTo>
                    <a:pt x="734" y="67"/>
                  </a:lnTo>
                  <a:lnTo>
                    <a:pt x="685" y="38"/>
                  </a:lnTo>
                  <a:lnTo>
                    <a:pt x="635" y="18"/>
                  </a:lnTo>
                  <a:lnTo>
                    <a:pt x="581" y="5"/>
                  </a:lnTo>
                  <a:lnTo>
                    <a:pt x="528" y="0"/>
                  </a:lnTo>
                  <a:lnTo>
                    <a:pt x="474" y="5"/>
                  </a:lnTo>
                  <a:lnTo>
                    <a:pt x="422" y="18"/>
                  </a:lnTo>
                  <a:lnTo>
                    <a:pt x="372" y="38"/>
                  </a:lnTo>
                  <a:lnTo>
                    <a:pt x="323" y="67"/>
                  </a:lnTo>
                  <a:lnTo>
                    <a:pt x="276" y="103"/>
                  </a:lnTo>
                  <a:lnTo>
                    <a:pt x="234" y="143"/>
                  </a:lnTo>
                  <a:lnTo>
                    <a:pt x="192" y="192"/>
                  </a:lnTo>
                  <a:lnTo>
                    <a:pt x="154" y="247"/>
                  </a:lnTo>
                  <a:lnTo>
                    <a:pt x="120" y="307"/>
                  </a:lnTo>
                  <a:lnTo>
                    <a:pt x="91" y="370"/>
                  </a:lnTo>
                  <a:lnTo>
                    <a:pt x="63" y="440"/>
                  </a:lnTo>
                  <a:lnTo>
                    <a:pt x="42" y="513"/>
                  </a:lnTo>
                  <a:lnTo>
                    <a:pt x="25" y="591"/>
                  </a:lnTo>
                  <a:lnTo>
                    <a:pt x="12" y="672"/>
                  </a:lnTo>
                  <a:lnTo>
                    <a:pt x="3" y="755"/>
                  </a:lnTo>
                  <a:lnTo>
                    <a:pt x="0" y="841"/>
                  </a:lnTo>
                  <a:lnTo>
                    <a:pt x="3" y="927"/>
                  </a:lnTo>
                  <a:lnTo>
                    <a:pt x="12" y="1010"/>
                  </a:lnTo>
                  <a:lnTo>
                    <a:pt x="25" y="1091"/>
                  </a:lnTo>
                  <a:lnTo>
                    <a:pt x="42" y="1167"/>
                  </a:lnTo>
                  <a:lnTo>
                    <a:pt x="63" y="1240"/>
                  </a:lnTo>
                  <a:lnTo>
                    <a:pt x="91" y="1310"/>
                  </a:lnTo>
                  <a:lnTo>
                    <a:pt x="120" y="1375"/>
                  </a:lnTo>
                  <a:lnTo>
                    <a:pt x="154" y="1434"/>
                  </a:lnTo>
                  <a:lnTo>
                    <a:pt x="192" y="1489"/>
                  </a:lnTo>
                  <a:lnTo>
                    <a:pt x="234" y="1537"/>
                  </a:lnTo>
                  <a:lnTo>
                    <a:pt x="276" y="1578"/>
                  </a:lnTo>
                  <a:lnTo>
                    <a:pt x="323" y="1614"/>
                  </a:lnTo>
                  <a:lnTo>
                    <a:pt x="372" y="1643"/>
                  </a:lnTo>
                  <a:lnTo>
                    <a:pt x="422" y="1662"/>
                  </a:lnTo>
                  <a:lnTo>
                    <a:pt x="474" y="1675"/>
                  </a:lnTo>
                  <a:lnTo>
                    <a:pt x="528" y="1680"/>
                  </a:lnTo>
                  <a:close/>
                </a:path>
              </a:pathLst>
            </a:custGeom>
            <a:solidFill>
              <a:srgbClr val="cee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233520" y="2630160"/>
              <a:ext cx="2457000" cy="2730600"/>
            </a:xfrm>
            <a:custGeom>
              <a:avLst/>
              <a:gdLst/>
              <a:ahLst/>
              <a:rect l="l" t="t" r="r" b="b"/>
              <a:pathLst>
                <a:path w="1027" h="1638">
                  <a:moveTo>
                    <a:pt x="513" y="1638"/>
                  </a:moveTo>
                  <a:lnTo>
                    <a:pt x="564" y="1633"/>
                  </a:lnTo>
                  <a:lnTo>
                    <a:pt x="616" y="1622"/>
                  </a:lnTo>
                  <a:lnTo>
                    <a:pt x="665" y="1601"/>
                  </a:lnTo>
                  <a:lnTo>
                    <a:pt x="712" y="1573"/>
                  </a:lnTo>
                  <a:lnTo>
                    <a:pt x="758" y="1539"/>
                  </a:lnTo>
                  <a:lnTo>
                    <a:pt x="800" y="1499"/>
                  </a:lnTo>
                  <a:lnTo>
                    <a:pt x="840" y="1452"/>
                  </a:lnTo>
                  <a:lnTo>
                    <a:pt x="876" y="1398"/>
                  </a:lnTo>
                  <a:lnTo>
                    <a:pt x="910" y="1340"/>
                  </a:lnTo>
                  <a:lnTo>
                    <a:pt x="939" y="1278"/>
                  </a:lnTo>
                  <a:lnTo>
                    <a:pt x="965" y="1210"/>
                  </a:lnTo>
                  <a:lnTo>
                    <a:pt x="986" y="1138"/>
                  </a:lnTo>
                  <a:lnTo>
                    <a:pt x="1004" y="1064"/>
                  </a:lnTo>
                  <a:lnTo>
                    <a:pt x="1017" y="984"/>
                  </a:lnTo>
                  <a:lnTo>
                    <a:pt x="1024" y="903"/>
                  </a:lnTo>
                  <a:lnTo>
                    <a:pt x="1027" y="820"/>
                  </a:lnTo>
                  <a:lnTo>
                    <a:pt x="1024" y="736"/>
                  </a:lnTo>
                  <a:lnTo>
                    <a:pt x="1017" y="655"/>
                  </a:lnTo>
                  <a:lnTo>
                    <a:pt x="1004" y="577"/>
                  </a:lnTo>
                  <a:lnTo>
                    <a:pt x="986" y="500"/>
                  </a:lnTo>
                  <a:lnTo>
                    <a:pt x="965" y="429"/>
                  </a:lnTo>
                  <a:lnTo>
                    <a:pt x="939" y="362"/>
                  </a:lnTo>
                  <a:lnTo>
                    <a:pt x="910" y="299"/>
                  </a:lnTo>
                  <a:lnTo>
                    <a:pt x="876" y="241"/>
                  </a:lnTo>
                  <a:lnTo>
                    <a:pt x="840" y="187"/>
                  </a:lnTo>
                  <a:lnTo>
                    <a:pt x="800" y="140"/>
                  </a:lnTo>
                  <a:lnTo>
                    <a:pt x="758" y="99"/>
                  </a:lnTo>
                  <a:lnTo>
                    <a:pt x="712" y="65"/>
                  </a:lnTo>
                  <a:lnTo>
                    <a:pt x="665" y="38"/>
                  </a:lnTo>
                  <a:lnTo>
                    <a:pt x="616" y="17"/>
                  </a:lnTo>
                  <a:lnTo>
                    <a:pt x="564" y="5"/>
                  </a:lnTo>
                  <a:lnTo>
                    <a:pt x="513" y="0"/>
                  </a:lnTo>
                  <a:lnTo>
                    <a:pt x="461" y="5"/>
                  </a:lnTo>
                  <a:lnTo>
                    <a:pt x="409" y="17"/>
                  </a:lnTo>
                  <a:lnTo>
                    <a:pt x="360" y="38"/>
                  </a:lnTo>
                  <a:lnTo>
                    <a:pt x="313" y="65"/>
                  </a:lnTo>
                  <a:lnTo>
                    <a:pt x="268" y="99"/>
                  </a:lnTo>
                  <a:lnTo>
                    <a:pt x="225" y="140"/>
                  </a:lnTo>
                  <a:lnTo>
                    <a:pt x="186" y="187"/>
                  </a:lnTo>
                  <a:lnTo>
                    <a:pt x="149" y="241"/>
                  </a:lnTo>
                  <a:lnTo>
                    <a:pt x="117" y="299"/>
                  </a:lnTo>
                  <a:lnTo>
                    <a:pt x="87" y="362"/>
                  </a:lnTo>
                  <a:lnTo>
                    <a:pt x="61" y="429"/>
                  </a:lnTo>
                  <a:lnTo>
                    <a:pt x="40" y="500"/>
                  </a:lnTo>
                  <a:lnTo>
                    <a:pt x="23" y="577"/>
                  </a:lnTo>
                  <a:lnTo>
                    <a:pt x="10" y="655"/>
                  </a:lnTo>
                  <a:lnTo>
                    <a:pt x="3" y="736"/>
                  </a:lnTo>
                  <a:lnTo>
                    <a:pt x="0" y="820"/>
                  </a:lnTo>
                  <a:lnTo>
                    <a:pt x="3" y="903"/>
                  </a:lnTo>
                  <a:lnTo>
                    <a:pt x="10" y="984"/>
                  </a:lnTo>
                  <a:lnTo>
                    <a:pt x="23" y="1064"/>
                  </a:lnTo>
                  <a:lnTo>
                    <a:pt x="40" y="1138"/>
                  </a:lnTo>
                  <a:lnTo>
                    <a:pt x="61" y="1210"/>
                  </a:lnTo>
                  <a:lnTo>
                    <a:pt x="87" y="1278"/>
                  </a:lnTo>
                  <a:lnTo>
                    <a:pt x="117" y="1340"/>
                  </a:lnTo>
                  <a:lnTo>
                    <a:pt x="149" y="1398"/>
                  </a:lnTo>
                  <a:lnTo>
                    <a:pt x="186" y="1452"/>
                  </a:lnTo>
                  <a:lnTo>
                    <a:pt x="225" y="1499"/>
                  </a:lnTo>
                  <a:lnTo>
                    <a:pt x="268" y="1539"/>
                  </a:lnTo>
                  <a:lnTo>
                    <a:pt x="313" y="1573"/>
                  </a:lnTo>
                  <a:lnTo>
                    <a:pt x="360" y="1601"/>
                  </a:lnTo>
                  <a:lnTo>
                    <a:pt x="409" y="1622"/>
                  </a:lnTo>
                  <a:lnTo>
                    <a:pt x="461" y="1633"/>
                  </a:lnTo>
                  <a:lnTo>
                    <a:pt x="513" y="1638"/>
                  </a:lnTo>
                  <a:close/>
                </a:path>
              </a:pathLst>
            </a:custGeom>
            <a:solidFill>
              <a:srgbClr val="d3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3264480" y="2668680"/>
              <a:ext cx="2394720" cy="2653560"/>
            </a:xfrm>
            <a:custGeom>
              <a:avLst/>
              <a:gdLst/>
              <a:ahLst/>
              <a:rect l="l" t="t" r="r" b="b"/>
              <a:pathLst>
                <a:path w="1001" h="1592">
                  <a:moveTo>
                    <a:pt x="500" y="1592"/>
                  </a:moveTo>
                  <a:lnTo>
                    <a:pt x="551" y="1588"/>
                  </a:lnTo>
                  <a:lnTo>
                    <a:pt x="600" y="1576"/>
                  </a:lnTo>
                  <a:lnTo>
                    <a:pt x="649" y="1557"/>
                  </a:lnTo>
                  <a:lnTo>
                    <a:pt x="694" y="1531"/>
                  </a:lnTo>
                  <a:lnTo>
                    <a:pt x="738" y="1497"/>
                  </a:lnTo>
                  <a:lnTo>
                    <a:pt x="780" y="1456"/>
                  </a:lnTo>
                  <a:lnTo>
                    <a:pt x="819" y="1411"/>
                  </a:lnTo>
                  <a:lnTo>
                    <a:pt x="855" y="1360"/>
                  </a:lnTo>
                  <a:lnTo>
                    <a:pt x="887" y="1304"/>
                  </a:lnTo>
                  <a:lnTo>
                    <a:pt x="915" y="1242"/>
                  </a:lnTo>
                  <a:lnTo>
                    <a:pt x="941" y="1177"/>
                  </a:lnTo>
                  <a:lnTo>
                    <a:pt x="962" y="1107"/>
                  </a:lnTo>
                  <a:lnTo>
                    <a:pt x="978" y="1034"/>
                  </a:lnTo>
                  <a:lnTo>
                    <a:pt x="991" y="958"/>
                  </a:lnTo>
                  <a:lnTo>
                    <a:pt x="998" y="878"/>
                  </a:lnTo>
                  <a:lnTo>
                    <a:pt x="1001" y="797"/>
                  </a:lnTo>
                  <a:lnTo>
                    <a:pt x="998" y="716"/>
                  </a:lnTo>
                  <a:lnTo>
                    <a:pt x="991" y="636"/>
                  </a:lnTo>
                  <a:lnTo>
                    <a:pt x="978" y="560"/>
                  </a:lnTo>
                  <a:lnTo>
                    <a:pt x="962" y="487"/>
                  </a:lnTo>
                  <a:lnTo>
                    <a:pt x="941" y="417"/>
                  </a:lnTo>
                  <a:lnTo>
                    <a:pt x="915" y="352"/>
                  </a:lnTo>
                  <a:lnTo>
                    <a:pt x="887" y="291"/>
                  </a:lnTo>
                  <a:lnTo>
                    <a:pt x="855" y="234"/>
                  </a:lnTo>
                  <a:lnTo>
                    <a:pt x="819" y="182"/>
                  </a:lnTo>
                  <a:lnTo>
                    <a:pt x="780" y="136"/>
                  </a:lnTo>
                  <a:lnTo>
                    <a:pt x="738" y="96"/>
                  </a:lnTo>
                  <a:lnTo>
                    <a:pt x="694" y="63"/>
                  </a:lnTo>
                  <a:lnTo>
                    <a:pt x="649" y="36"/>
                  </a:lnTo>
                  <a:lnTo>
                    <a:pt x="600" y="16"/>
                  </a:lnTo>
                  <a:lnTo>
                    <a:pt x="551" y="5"/>
                  </a:lnTo>
                  <a:lnTo>
                    <a:pt x="500" y="0"/>
                  </a:lnTo>
                  <a:lnTo>
                    <a:pt x="449" y="5"/>
                  </a:lnTo>
                  <a:lnTo>
                    <a:pt x="399" y="16"/>
                  </a:lnTo>
                  <a:lnTo>
                    <a:pt x="350" y="36"/>
                  </a:lnTo>
                  <a:lnTo>
                    <a:pt x="305" y="63"/>
                  </a:lnTo>
                  <a:lnTo>
                    <a:pt x="261" y="96"/>
                  </a:lnTo>
                  <a:lnTo>
                    <a:pt x="220" y="136"/>
                  </a:lnTo>
                  <a:lnTo>
                    <a:pt x="182" y="182"/>
                  </a:lnTo>
                  <a:lnTo>
                    <a:pt x="146" y="234"/>
                  </a:lnTo>
                  <a:lnTo>
                    <a:pt x="113" y="291"/>
                  </a:lnTo>
                  <a:lnTo>
                    <a:pt x="86" y="352"/>
                  </a:lnTo>
                  <a:lnTo>
                    <a:pt x="60" y="417"/>
                  </a:lnTo>
                  <a:lnTo>
                    <a:pt x="39" y="487"/>
                  </a:lnTo>
                  <a:lnTo>
                    <a:pt x="22" y="560"/>
                  </a:lnTo>
                  <a:lnTo>
                    <a:pt x="10" y="636"/>
                  </a:lnTo>
                  <a:lnTo>
                    <a:pt x="3" y="716"/>
                  </a:lnTo>
                  <a:lnTo>
                    <a:pt x="0" y="797"/>
                  </a:lnTo>
                  <a:lnTo>
                    <a:pt x="3" y="878"/>
                  </a:lnTo>
                  <a:lnTo>
                    <a:pt x="10" y="958"/>
                  </a:lnTo>
                  <a:lnTo>
                    <a:pt x="22" y="1034"/>
                  </a:lnTo>
                  <a:lnTo>
                    <a:pt x="39" y="1107"/>
                  </a:lnTo>
                  <a:lnTo>
                    <a:pt x="60" y="1177"/>
                  </a:lnTo>
                  <a:lnTo>
                    <a:pt x="86" y="1242"/>
                  </a:lnTo>
                  <a:lnTo>
                    <a:pt x="113" y="1304"/>
                  </a:lnTo>
                  <a:lnTo>
                    <a:pt x="146" y="1360"/>
                  </a:lnTo>
                  <a:lnTo>
                    <a:pt x="182" y="1411"/>
                  </a:lnTo>
                  <a:lnTo>
                    <a:pt x="220" y="1456"/>
                  </a:lnTo>
                  <a:lnTo>
                    <a:pt x="261" y="1497"/>
                  </a:lnTo>
                  <a:lnTo>
                    <a:pt x="305" y="1531"/>
                  </a:lnTo>
                  <a:lnTo>
                    <a:pt x="350" y="1557"/>
                  </a:lnTo>
                  <a:lnTo>
                    <a:pt x="399" y="1576"/>
                  </a:lnTo>
                  <a:lnTo>
                    <a:pt x="449" y="1588"/>
                  </a:lnTo>
                  <a:lnTo>
                    <a:pt x="500" y="1592"/>
                  </a:lnTo>
                  <a:close/>
                </a:path>
              </a:pathLst>
            </a:custGeom>
            <a:solidFill>
              <a:srgbClr val="d8e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3300480" y="2703600"/>
              <a:ext cx="2325600" cy="2583720"/>
            </a:xfrm>
            <a:custGeom>
              <a:avLst/>
              <a:gdLst/>
              <a:ahLst/>
              <a:rect l="l" t="t" r="r" b="b"/>
              <a:pathLst>
                <a:path w="972" h="1550">
                  <a:moveTo>
                    <a:pt x="486" y="1550"/>
                  </a:moveTo>
                  <a:lnTo>
                    <a:pt x="536" y="1547"/>
                  </a:lnTo>
                  <a:lnTo>
                    <a:pt x="585" y="1534"/>
                  </a:lnTo>
                  <a:lnTo>
                    <a:pt x="630" y="1516"/>
                  </a:lnTo>
                  <a:lnTo>
                    <a:pt x="675" y="1489"/>
                  </a:lnTo>
                  <a:lnTo>
                    <a:pt x="718" y="1456"/>
                  </a:lnTo>
                  <a:lnTo>
                    <a:pt x="758" y="1417"/>
                  </a:lnTo>
                  <a:lnTo>
                    <a:pt x="795" y="1373"/>
                  </a:lnTo>
                  <a:lnTo>
                    <a:pt x="830" y="1323"/>
                  </a:lnTo>
                  <a:lnTo>
                    <a:pt x="862" y="1268"/>
                  </a:lnTo>
                  <a:lnTo>
                    <a:pt x="890" y="1209"/>
                  </a:lnTo>
                  <a:lnTo>
                    <a:pt x="914" y="1145"/>
                  </a:lnTo>
                  <a:lnTo>
                    <a:pt x="933" y="1076"/>
                  </a:lnTo>
                  <a:lnTo>
                    <a:pt x="951" y="1007"/>
                  </a:lnTo>
                  <a:lnTo>
                    <a:pt x="963" y="932"/>
                  </a:lnTo>
                  <a:lnTo>
                    <a:pt x="969" y="856"/>
                  </a:lnTo>
                  <a:lnTo>
                    <a:pt x="972" y="776"/>
                  </a:lnTo>
                  <a:lnTo>
                    <a:pt x="969" y="697"/>
                  </a:lnTo>
                  <a:lnTo>
                    <a:pt x="963" y="620"/>
                  </a:lnTo>
                  <a:lnTo>
                    <a:pt x="951" y="546"/>
                  </a:lnTo>
                  <a:lnTo>
                    <a:pt x="933" y="474"/>
                  </a:lnTo>
                  <a:lnTo>
                    <a:pt x="914" y="406"/>
                  </a:lnTo>
                  <a:lnTo>
                    <a:pt x="890" y="343"/>
                  </a:lnTo>
                  <a:lnTo>
                    <a:pt x="862" y="283"/>
                  </a:lnTo>
                  <a:lnTo>
                    <a:pt x="830" y="227"/>
                  </a:lnTo>
                  <a:lnTo>
                    <a:pt x="795" y="177"/>
                  </a:lnTo>
                  <a:lnTo>
                    <a:pt x="758" y="133"/>
                  </a:lnTo>
                  <a:lnTo>
                    <a:pt x="718" y="94"/>
                  </a:lnTo>
                  <a:lnTo>
                    <a:pt x="675" y="62"/>
                  </a:lnTo>
                  <a:lnTo>
                    <a:pt x="630" y="34"/>
                  </a:lnTo>
                  <a:lnTo>
                    <a:pt x="585" y="16"/>
                  </a:lnTo>
                  <a:lnTo>
                    <a:pt x="536" y="3"/>
                  </a:lnTo>
                  <a:lnTo>
                    <a:pt x="486" y="0"/>
                  </a:lnTo>
                  <a:lnTo>
                    <a:pt x="435" y="3"/>
                  </a:lnTo>
                  <a:lnTo>
                    <a:pt x="388" y="16"/>
                  </a:lnTo>
                  <a:lnTo>
                    <a:pt x="341" y="34"/>
                  </a:lnTo>
                  <a:lnTo>
                    <a:pt x="297" y="62"/>
                  </a:lnTo>
                  <a:lnTo>
                    <a:pt x="255" y="94"/>
                  </a:lnTo>
                  <a:lnTo>
                    <a:pt x="215" y="133"/>
                  </a:lnTo>
                  <a:lnTo>
                    <a:pt x="177" y="177"/>
                  </a:lnTo>
                  <a:lnTo>
                    <a:pt x="143" y="227"/>
                  </a:lnTo>
                  <a:lnTo>
                    <a:pt x="111" y="283"/>
                  </a:lnTo>
                  <a:lnTo>
                    <a:pt x="83" y="343"/>
                  </a:lnTo>
                  <a:lnTo>
                    <a:pt x="59" y="406"/>
                  </a:lnTo>
                  <a:lnTo>
                    <a:pt x="39" y="474"/>
                  </a:lnTo>
                  <a:lnTo>
                    <a:pt x="21" y="546"/>
                  </a:lnTo>
                  <a:lnTo>
                    <a:pt x="10" y="620"/>
                  </a:lnTo>
                  <a:lnTo>
                    <a:pt x="4" y="697"/>
                  </a:lnTo>
                  <a:lnTo>
                    <a:pt x="0" y="776"/>
                  </a:lnTo>
                  <a:lnTo>
                    <a:pt x="4" y="856"/>
                  </a:lnTo>
                  <a:lnTo>
                    <a:pt x="10" y="932"/>
                  </a:lnTo>
                  <a:lnTo>
                    <a:pt x="21" y="1007"/>
                  </a:lnTo>
                  <a:lnTo>
                    <a:pt x="39" y="1076"/>
                  </a:lnTo>
                  <a:lnTo>
                    <a:pt x="59" y="1145"/>
                  </a:lnTo>
                  <a:lnTo>
                    <a:pt x="83" y="1209"/>
                  </a:lnTo>
                  <a:lnTo>
                    <a:pt x="111" y="1268"/>
                  </a:lnTo>
                  <a:lnTo>
                    <a:pt x="143" y="1323"/>
                  </a:lnTo>
                  <a:lnTo>
                    <a:pt x="177" y="1373"/>
                  </a:lnTo>
                  <a:lnTo>
                    <a:pt x="215" y="1417"/>
                  </a:lnTo>
                  <a:lnTo>
                    <a:pt x="255" y="1456"/>
                  </a:lnTo>
                  <a:lnTo>
                    <a:pt x="297" y="1489"/>
                  </a:lnTo>
                  <a:lnTo>
                    <a:pt x="341" y="1516"/>
                  </a:lnTo>
                  <a:lnTo>
                    <a:pt x="388" y="1534"/>
                  </a:lnTo>
                  <a:lnTo>
                    <a:pt x="435" y="1547"/>
                  </a:lnTo>
                  <a:lnTo>
                    <a:pt x="486" y="1550"/>
                  </a:lnTo>
                  <a:close/>
                </a:path>
              </a:pathLst>
            </a:custGeom>
            <a:solidFill>
              <a:srgbClr val="dde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3331800" y="2742120"/>
              <a:ext cx="2262600" cy="2508480"/>
            </a:xfrm>
            <a:custGeom>
              <a:avLst/>
              <a:gdLst/>
              <a:ahLst/>
              <a:rect l="l" t="t" r="r" b="b"/>
              <a:pathLst>
                <a:path w="946" h="1505">
                  <a:moveTo>
                    <a:pt x="473" y="1505"/>
                  </a:moveTo>
                  <a:lnTo>
                    <a:pt x="521" y="1501"/>
                  </a:lnTo>
                  <a:lnTo>
                    <a:pt x="568" y="1490"/>
                  </a:lnTo>
                  <a:lnTo>
                    <a:pt x="614" y="1471"/>
                  </a:lnTo>
                  <a:lnTo>
                    <a:pt x="658" y="1446"/>
                  </a:lnTo>
                  <a:lnTo>
                    <a:pt x="698" y="1414"/>
                  </a:lnTo>
                  <a:lnTo>
                    <a:pt x="737" y="1376"/>
                  </a:lnTo>
                  <a:lnTo>
                    <a:pt x="774" y="1333"/>
                  </a:lnTo>
                  <a:lnTo>
                    <a:pt x="807" y="1284"/>
                  </a:lnTo>
                  <a:lnTo>
                    <a:pt x="838" y="1232"/>
                  </a:lnTo>
                  <a:lnTo>
                    <a:pt x="865" y="1174"/>
                  </a:lnTo>
                  <a:lnTo>
                    <a:pt x="890" y="1112"/>
                  </a:lnTo>
                  <a:lnTo>
                    <a:pt x="909" y="1045"/>
                  </a:lnTo>
                  <a:lnTo>
                    <a:pt x="925" y="977"/>
                  </a:lnTo>
                  <a:lnTo>
                    <a:pt x="937" y="904"/>
                  </a:lnTo>
                  <a:lnTo>
                    <a:pt x="943" y="829"/>
                  </a:lnTo>
                  <a:lnTo>
                    <a:pt x="946" y="753"/>
                  </a:lnTo>
                  <a:lnTo>
                    <a:pt x="943" y="675"/>
                  </a:lnTo>
                  <a:lnTo>
                    <a:pt x="937" y="601"/>
                  </a:lnTo>
                  <a:lnTo>
                    <a:pt x="925" y="529"/>
                  </a:lnTo>
                  <a:lnTo>
                    <a:pt x="909" y="459"/>
                  </a:lnTo>
                  <a:lnTo>
                    <a:pt x="890" y="394"/>
                  </a:lnTo>
                  <a:lnTo>
                    <a:pt x="865" y="331"/>
                  </a:lnTo>
                  <a:lnTo>
                    <a:pt x="838" y="274"/>
                  </a:lnTo>
                  <a:lnTo>
                    <a:pt x="807" y="221"/>
                  </a:lnTo>
                  <a:lnTo>
                    <a:pt x="774" y="172"/>
                  </a:lnTo>
                  <a:lnTo>
                    <a:pt x="737" y="128"/>
                  </a:lnTo>
                  <a:lnTo>
                    <a:pt x="698" y="91"/>
                  </a:lnTo>
                  <a:lnTo>
                    <a:pt x="658" y="58"/>
                  </a:lnTo>
                  <a:lnTo>
                    <a:pt x="614" y="34"/>
                  </a:lnTo>
                  <a:lnTo>
                    <a:pt x="568" y="15"/>
                  </a:lnTo>
                  <a:lnTo>
                    <a:pt x="521" y="3"/>
                  </a:lnTo>
                  <a:lnTo>
                    <a:pt x="473" y="0"/>
                  </a:lnTo>
                  <a:lnTo>
                    <a:pt x="424" y="3"/>
                  </a:lnTo>
                  <a:lnTo>
                    <a:pt x="377" y="15"/>
                  </a:lnTo>
                  <a:lnTo>
                    <a:pt x="331" y="34"/>
                  </a:lnTo>
                  <a:lnTo>
                    <a:pt x="289" y="58"/>
                  </a:lnTo>
                  <a:lnTo>
                    <a:pt x="247" y="91"/>
                  </a:lnTo>
                  <a:lnTo>
                    <a:pt x="208" y="128"/>
                  </a:lnTo>
                  <a:lnTo>
                    <a:pt x="172" y="172"/>
                  </a:lnTo>
                  <a:lnTo>
                    <a:pt x="138" y="221"/>
                  </a:lnTo>
                  <a:lnTo>
                    <a:pt x="107" y="274"/>
                  </a:lnTo>
                  <a:lnTo>
                    <a:pt x="81" y="331"/>
                  </a:lnTo>
                  <a:lnTo>
                    <a:pt x="57" y="394"/>
                  </a:lnTo>
                  <a:lnTo>
                    <a:pt x="38" y="459"/>
                  </a:lnTo>
                  <a:lnTo>
                    <a:pt x="21" y="529"/>
                  </a:lnTo>
                  <a:lnTo>
                    <a:pt x="10" y="601"/>
                  </a:lnTo>
                  <a:lnTo>
                    <a:pt x="2" y="675"/>
                  </a:lnTo>
                  <a:lnTo>
                    <a:pt x="0" y="753"/>
                  </a:lnTo>
                  <a:lnTo>
                    <a:pt x="2" y="829"/>
                  </a:lnTo>
                  <a:lnTo>
                    <a:pt x="10" y="904"/>
                  </a:lnTo>
                  <a:lnTo>
                    <a:pt x="21" y="977"/>
                  </a:lnTo>
                  <a:lnTo>
                    <a:pt x="38" y="1045"/>
                  </a:lnTo>
                  <a:lnTo>
                    <a:pt x="57" y="1112"/>
                  </a:lnTo>
                  <a:lnTo>
                    <a:pt x="81" y="1174"/>
                  </a:lnTo>
                  <a:lnTo>
                    <a:pt x="107" y="1232"/>
                  </a:lnTo>
                  <a:lnTo>
                    <a:pt x="138" y="1284"/>
                  </a:lnTo>
                  <a:lnTo>
                    <a:pt x="172" y="1333"/>
                  </a:lnTo>
                  <a:lnTo>
                    <a:pt x="208" y="1376"/>
                  </a:lnTo>
                  <a:lnTo>
                    <a:pt x="247" y="1414"/>
                  </a:lnTo>
                  <a:lnTo>
                    <a:pt x="289" y="1446"/>
                  </a:lnTo>
                  <a:lnTo>
                    <a:pt x="331" y="1471"/>
                  </a:lnTo>
                  <a:lnTo>
                    <a:pt x="377" y="1490"/>
                  </a:lnTo>
                  <a:lnTo>
                    <a:pt x="424" y="1501"/>
                  </a:lnTo>
                  <a:lnTo>
                    <a:pt x="473" y="1505"/>
                  </a:lnTo>
                  <a:close/>
                </a:path>
              </a:pathLst>
            </a:custGeom>
            <a:solidFill>
              <a:srgbClr val="e2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3364920" y="2776680"/>
              <a:ext cx="2198880" cy="2439000"/>
            </a:xfrm>
            <a:custGeom>
              <a:avLst/>
              <a:gdLst/>
              <a:ahLst/>
              <a:rect l="l" t="t" r="r" b="b"/>
              <a:pathLst>
                <a:path w="919" h="1463">
                  <a:moveTo>
                    <a:pt x="460" y="1463"/>
                  </a:moveTo>
                  <a:lnTo>
                    <a:pt x="507" y="1459"/>
                  </a:lnTo>
                  <a:lnTo>
                    <a:pt x="552" y="1448"/>
                  </a:lnTo>
                  <a:lnTo>
                    <a:pt x="596" y="1430"/>
                  </a:lnTo>
                  <a:lnTo>
                    <a:pt x="638" y="1406"/>
                  </a:lnTo>
                  <a:lnTo>
                    <a:pt x="679" y="1375"/>
                  </a:lnTo>
                  <a:lnTo>
                    <a:pt x="718" y="1338"/>
                  </a:lnTo>
                  <a:lnTo>
                    <a:pt x="752" y="1295"/>
                  </a:lnTo>
                  <a:lnTo>
                    <a:pt x="784" y="1248"/>
                  </a:lnTo>
                  <a:lnTo>
                    <a:pt x="815" y="1196"/>
                  </a:lnTo>
                  <a:lnTo>
                    <a:pt x="841" y="1140"/>
                  </a:lnTo>
                  <a:lnTo>
                    <a:pt x="864" y="1079"/>
                  </a:lnTo>
                  <a:lnTo>
                    <a:pt x="883" y="1016"/>
                  </a:lnTo>
                  <a:lnTo>
                    <a:pt x="898" y="950"/>
                  </a:lnTo>
                  <a:lnTo>
                    <a:pt x="909" y="880"/>
                  </a:lnTo>
                  <a:lnTo>
                    <a:pt x="917" y="807"/>
                  </a:lnTo>
                  <a:lnTo>
                    <a:pt x="919" y="732"/>
                  </a:lnTo>
                  <a:lnTo>
                    <a:pt x="917" y="657"/>
                  </a:lnTo>
                  <a:lnTo>
                    <a:pt x="909" y="584"/>
                  </a:lnTo>
                  <a:lnTo>
                    <a:pt x="898" y="515"/>
                  </a:lnTo>
                  <a:lnTo>
                    <a:pt x="883" y="446"/>
                  </a:lnTo>
                  <a:lnTo>
                    <a:pt x="864" y="383"/>
                  </a:lnTo>
                  <a:lnTo>
                    <a:pt x="841" y="323"/>
                  </a:lnTo>
                  <a:lnTo>
                    <a:pt x="815" y="266"/>
                  </a:lnTo>
                  <a:lnTo>
                    <a:pt x="784" y="214"/>
                  </a:lnTo>
                  <a:lnTo>
                    <a:pt x="752" y="167"/>
                  </a:lnTo>
                  <a:lnTo>
                    <a:pt x="718" y="125"/>
                  </a:lnTo>
                  <a:lnTo>
                    <a:pt x="679" y="88"/>
                  </a:lnTo>
                  <a:lnTo>
                    <a:pt x="638" y="57"/>
                  </a:lnTo>
                  <a:lnTo>
                    <a:pt x="596" y="33"/>
                  </a:lnTo>
                  <a:lnTo>
                    <a:pt x="552" y="15"/>
                  </a:lnTo>
                  <a:lnTo>
                    <a:pt x="507" y="3"/>
                  </a:lnTo>
                  <a:lnTo>
                    <a:pt x="460" y="0"/>
                  </a:lnTo>
                  <a:lnTo>
                    <a:pt x="413" y="3"/>
                  </a:lnTo>
                  <a:lnTo>
                    <a:pt x="367" y="15"/>
                  </a:lnTo>
                  <a:lnTo>
                    <a:pt x="323" y="33"/>
                  </a:lnTo>
                  <a:lnTo>
                    <a:pt x="281" y="57"/>
                  </a:lnTo>
                  <a:lnTo>
                    <a:pt x="240" y="88"/>
                  </a:lnTo>
                  <a:lnTo>
                    <a:pt x="203" y="125"/>
                  </a:lnTo>
                  <a:lnTo>
                    <a:pt x="167" y="167"/>
                  </a:lnTo>
                  <a:lnTo>
                    <a:pt x="135" y="214"/>
                  </a:lnTo>
                  <a:lnTo>
                    <a:pt x="106" y="266"/>
                  </a:lnTo>
                  <a:lnTo>
                    <a:pt x="78" y="323"/>
                  </a:lnTo>
                  <a:lnTo>
                    <a:pt x="56" y="383"/>
                  </a:lnTo>
                  <a:lnTo>
                    <a:pt x="36" y="446"/>
                  </a:lnTo>
                  <a:lnTo>
                    <a:pt x="21" y="515"/>
                  </a:lnTo>
                  <a:lnTo>
                    <a:pt x="10" y="584"/>
                  </a:lnTo>
                  <a:lnTo>
                    <a:pt x="2" y="657"/>
                  </a:lnTo>
                  <a:lnTo>
                    <a:pt x="0" y="732"/>
                  </a:lnTo>
                  <a:lnTo>
                    <a:pt x="2" y="807"/>
                  </a:lnTo>
                  <a:lnTo>
                    <a:pt x="10" y="880"/>
                  </a:lnTo>
                  <a:lnTo>
                    <a:pt x="21" y="950"/>
                  </a:lnTo>
                  <a:lnTo>
                    <a:pt x="36" y="1016"/>
                  </a:lnTo>
                  <a:lnTo>
                    <a:pt x="56" y="1079"/>
                  </a:lnTo>
                  <a:lnTo>
                    <a:pt x="78" y="1140"/>
                  </a:lnTo>
                  <a:lnTo>
                    <a:pt x="106" y="1196"/>
                  </a:lnTo>
                  <a:lnTo>
                    <a:pt x="135" y="1248"/>
                  </a:lnTo>
                  <a:lnTo>
                    <a:pt x="167" y="1295"/>
                  </a:lnTo>
                  <a:lnTo>
                    <a:pt x="203" y="1338"/>
                  </a:lnTo>
                  <a:lnTo>
                    <a:pt x="240" y="1375"/>
                  </a:lnTo>
                  <a:lnTo>
                    <a:pt x="281" y="1406"/>
                  </a:lnTo>
                  <a:lnTo>
                    <a:pt x="323" y="1430"/>
                  </a:lnTo>
                  <a:lnTo>
                    <a:pt x="367" y="1448"/>
                  </a:lnTo>
                  <a:lnTo>
                    <a:pt x="413" y="1459"/>
                  </a:lnTo>
                  <a:lnTo>
                    <a:pt x="460" y="1463"/>
                  </a:lnTo>
                  <a:close/>
                </a:path>
              </a:pathLst>
            </a:custGeom>
            <a:solidFill>
              <a:srgbClr val="e5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3396240" y="2815200"/>
              <a:ext cx="2131560" cy="2361960"/>
            </a:xfrm>
            <a:custGeom>
              <a:avLst/>
              <a:gdLst/>
              <a:ahLst/>
              <a:rect l="l" t="t" r="r" b="b"/>
              <a:pathLst>
                <a:path w="891" h="1417">
                  <a:moveTo>
                    <a:pt x="445" y="1417"/>
                  </a:moveTo>
                  <a:lnTo>
                    <a:pt x="490" y="1414"/>
                  </a:lnTo>
                  <a:lnTo>
                    <a:pt x="534" y="1402"/>
                  </a:lnTo>
                  <a:lnTo>
                    <a:pt x="578" y="1384"/>
                  </a:lnTo>
                  <a:lnTo>
                    <a:pt x="618" y="1362"/>
                  </a:lnTo>
                  <a:lnTo>
                    <a:pt x="657" y="1331"/>
                  </a:lnTo>
                  <a:lnTo>
                    <a:pt x="694" y="1297"/>
                  </a:lnTo>
                  <a:lnTo>
                    <a:pt x="729" y="1256"/>
                  </a:lnTo>
                  <a:lnTo>
                    <a:pt x="761" y="1209"/>
                  </a:lnTo>
                  <a:lnTo>
                    <a:pt x="789" y="1159"/>
                  </a:lnTo>
                  <a:lnTo>
                    <a:pt x="815" y="1105"/>
                  </a:lnTo>
                  <a:lnTo>
                    <a:pt x="837" y="1047"/>
                  </a:lnTo>
                  <a:lnTo>
                    <a:pt x="855" y="985"/>
                  </a:lnTo>
                  <a:lnTo>
                    <a:pt x="871" y="920"/>
                  </a:lnTo>
                  <a:lnTo>
                    <a:pt x="881" y="852"/>
                  </a:lnTo>
                  <a:lnTo>
                    <a:pt x="889" y="782"/>
                  </a:lnTo>
                  <a:lnTo>
                    <a:pt x="891" y="709"/>
                  </a:lnTo>
                  <a:lnTo>
                    <a:pt x="889" y="636"/>
                  </a:lnTo>
                  <a:lnTo>
                    <a:pt x="881" y="566"/>
                  </a:lnTo>
                  <a:lnTo>
                    <a:pt x="871" y="498"/>
                  </a:lnTo>
                  <a:lnTo>
                    <a:pt x="855" y="433"/>
                  </a:lnTo>
                  <a:lnTo>
                    <a:pt x="837" y="370"/>
                  </a:lnTo>
                  <a:lnTo>
                    <a:pt x="815" y="311"/>
                  </a:lnTo>
                  <a:lnTo>
                    <a:pt x="789" y="258"/>
                  </a:lnTo>
                  <a:lnTo>
                    <a:pt x="761" y="208"/>
                  </a:lnTo>
                  <a:lnTo>
                    <a:pt x="729" y="162"/>
                  </a:lnTo>
                  <a:lnTo>
                    <a:pt x="694" y="120"/>
                  </a:lnTo>
                  <a:lnTo>
                    <a:pt x="657" y="86"/>
                  </a:lnTo>
                  <a:lnTo>
                    <a:pt x="618" y="55"/>
                  </a:lnTo>
                  <a:lnTo>
                    <a:pt x="578" y="32"/>
                  </a:lnTo>
                  <a:lnTo>
                    <a:pt x="534" y="14"/>
                  </a:lnTo>
                  <a:lnTo>
                    <a:pt x="490" y="3"/>
                  </a:lnTo>
                  <a:lnTo>
                    <a:pt x="445" y="0"/>
                  </a:lnTo>
                  <a:lnTo>
                    <a:pt x="399" y="3"/>
                  </a:lnTo>
                  <a:lnTo>
                    <a:pt x="355" y="14"/>
                  </a:lnTo>
                  <a:lnTo>
                    <a:pt x="313" y="32"/>
                  </a:lnTo>
                  <a:lnTo>
                    <a:pt x="271" y="55"/>
                  </a:lnTo>
                  <a:lnTo>
                    <a:pt x="234" y="86"/>
                  </a:lnTo>
                  <a:lnTo>
                    <a:pt x="196" y="120"/>
                  </a:lnTo>
                  <a:lnTo>
                    <a:pt x="162" y="162"/>
                  </a:lnTo>
                  <a:lnTo>
                    <a:pt x="130" y="208"/>
                  </a:lnTo>
                  <a:lnTo>
                    <a:pt x="102" y="258"/>
                  </a:lnTo>
                  <a:lnTo>
                    <a:pt x="76" y="311"/>
                  </a:lnTo>
                  <a:lnTo>
                    <a:pt x="53" y="370"/>
                  </a:lnTo>
                  <a:lnTo>
                    <a:pt x="36" y="433"/>
                  </a:lnTo>
                  <a:lnTo>
                    <a:pt x="19" y="498"/>
                  </a:lnTo>
                  <a:lnTo>
                    <a:pt x="10" y="566"/>
                  </a:lnTo>
                  <a:lnTo>
                    <a:pt x="2" y="636"/>
                  </a:lnTo>
                  <a:lnTo>
                    <a:pt x="0" y="709"/>
                  </a:lnTo>
                  <a:lnTo>
                    <a:pt x="2" y="782"/>
                  </a:lnTo>
                  <a:lnTo>
                    <a:pt x="10" y="852"/>
                  </a:lnTo>
                  <a:lnTo>
                    <a:pt x="19" y="920"/>
                  </a:lnTo>
                  <a:lnTo>
                    <a:pt x="36" y="985"/>
                  </a:lnTo>
                  <a:lnTo>
                    <a:pt x="53" y="1047"/>
                  </a:lnTo>
                  <a:lnTo>
                    <a:pt x="76" y="1105"/>
                  </a:lnTo>
                  <a:lnTo>
                    <a:pt x="102" y="1159"/>
                  </a:lnTo>
                  <a:lnTo>
                    <a:pt x="130" y="1209"/>
                  </a:lnTo>
                  <a:lnTo>
                    <a:pt x="162" y="1256"/>
                  </a:lnTo>
                  <a:lnTo>
                    <a:pt x="196" y="1297"/>
                  </a:lnTo>
                  <a:lnTo>
                    <a:pt x="234" y="1331"/>
                  </a:lnTo>
                  <a:lnTo>
                    <a:pt x="271" y="1362"/>
                  </a:lnTo>
                  <a:lnTo>
                    <a:pt x="313" y="1384"/>
                  </a:lnTo>
                  <a:lnTo>
                    <a:pt x="355" y="1402"/>
                  </a:lnTo>
                  <a:lnTo>
                    <a:pt x="399" y="1414"/>
                  </a:lnTo>
                  <a:lnTo>
                    <a:pt x="445" y="1417"/>
                  </a:lnTo>
                  <a:close/>
                </a:path>
              </a:pathLst>
            </a:custGeom>
            <a:solidFill>
              <a:srgbClr val="edf4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3432240" y="2850120"/>
              <a:ext cx="2064240" cy="2292120"/>
            </a:xfrm>
            <a:custGeom>
              <a:avLst/>
              <a:gdLst/>
              <a:ahLst/>
              <a:rect l="l" t="t" r="r" b="b"/>
              <a:pathLst>
                <a:path w="863" h="1375">
                  <a:moveTo>
                    <a:pt x="432" y="1375"/>
                  </a:moveTo>
                  <a:lnTo>
                    <a:pt x="475" y="1371"/>
                  </a:lnTo>
                  <a:lnTo>
                    <a:pt x="519" y="1360"/>
                  </a:lnTo>
                  <a:lnTo>
                    <a:pt x="560" y="1344"/>
                  </a:lnTo>
                  <a:lnTo>
                    <a:pt x="600" y="1321"/>
                  </a:lnTo>
                  <a:lnTo>
                    <a:pt x="638" y="1292"/>
                  </a:lnTo>
                  <a:lnTo>
                    <a:pt x="673" y="1258"/>
                  </a:lnTo>
                  <a:lnTo>
                    <a:pt x="706" y="1217"/>
                  </a:lnTo>
                  <a:lnTo>
                    <a:pt x="737" y="1173"/>
                  </a:lnTo>
                  <a:lnTo>
                    <a:pt x="764" y="1125"/>
                  </a:lnTo>
                  <a:lnTo>
                    <a:pt x="790" y="1071"/>
                  </a:lnTo>
                  <a:lnTo>
                    <a:pt x="811" y="1014"/>
                  </a:lnTo>
                  <a:lnTo>
                    <a:pt x="829" y="954"/>
                  </a:lnTo>
                  <a:lnTo>
                    <a:pt x="844" y="893"/>
                  </a:lnTo>
                  <a:lnTo>
                    <a:pt x="855" y="826"/>
                  </a:lnTo>
                  <a:lnTo>
                    <a:pt x="862" y="758"/>
                  </a:lnTo>
                  <a:lnTo>
                    <a:pt x="863" y="688"/>
                  </a:lnTo>
                  <a:lnTo>
                    <a:pt x="862" y="618"/>
                  </a:lnTo>
                  <a:lnTo>
                    <a:pt x="855" y="550"/>
                  </a:lnTo>
                  <a:lnTo>
                    <a:pt x="844" y="484"/>
                  </a:lnTo>
                  <a:lnTo>
                    <a:pt x="829" y="420"/>
                  </a:lnTo>
                  <a:lnTo>
                    <a:pt x="811" y="360"/>
                  </a:lnTo>
                  <a:lnTo>
                    <a:pt x="790" y="303"/>
                  </a:lnTo>
                  <a:lnTo>
                    <a:pt x="764" y="250"/>
                  </a:lnTo>
                  <a:lnTo>
                    <a:pt x="737" y="201"/>
                  </a:lnTo>
                  <a:lnTo>
                    <a:pt x="706" y="157"/>
                  </a:lnTo>
                  <a:lnTo>
                    <a:pt x="673" y="117"/>
                  </a:lnTo>
                  <a:lnTo>
                    <a:pt x="638" y="83"/>
                  </a:lnTo>
                  <a:lnTo>
                    <a:pt x="600" y="53"/>
                  </a:lnTo>
                  <a:lnTo>
                    <a:pt x="560" y="31"/>
                  </a:lnTo>
                  <a:lnTo>
                    <a:pt x="519" y="14"/>
                  </a:lnTo>
                  <a:lnTo>
                    <a:pt x="475" y="3"/>
                  </a:lnTo>
                  <a:lnTo>
                    <a:pt x="432" y="0"/>
                  </a:lnTo>
                  <a:lnTo>
                    <a:pt x="388" y="3"/>
                  </a:lnTo>
                  <a:lnTo>
                    <a:pt x="344" y="14"/>
                  </a:lnTo>
                  <a:lnTo>
                    <a:pt x="303" y="31"/>
                  </a:lnTo>
                  <a:lnTo>
                    <a:pt x="263" y="53"/>
                  </a:lnTo>
                  <a:lnTo>
                    <a:pt x="225" y="83"/>
                  </a:lnTo>
                  <a:lnTo>
                    <a:pt x="190" y="117"/>
                  </a:lnTo>
                  <a:lnTo>
                    <a:pt x="157" y="157"/>
                  </a:lnTo>
                  <a:lnTo>
                    <a:pt x="126" y="201"/>
                  </a:lnTo>
                  <a:lnTo>
                    <a:pt x="99" y="250"/>
                  </a:lnTo>
                  <a:lnTo>
                    <a:pt x="73" y="303"/>
                  </a:lnTo>
                  <a:lnTo>
                    <a:pt x="52" y="360"/>
                  </a:lnTo>
                  <a:lnTo>
                    <a:pt x="34" y="420"/>
                  </a:lnTo>
                  <a:lnTo>
                    <a:pt x="19" y="484"/>
                  </a:lnTo>
                  <a:lnTo>
                    <a:pt x="8" y="550"/>
                  </a:lnTo>
                  <a:lnTo>
                    <a:pt x="2" y="618"/>
                  </a:lnTo>
                  <a:lnTo>
                    <a:pt x="0" y="688"/>
                  </a:lnTo>
                  <a:lnTo>
                    <a:pt x="2" y="758"/>
                  </a:lnTo>
                  <a:lnTo>
                    <a:pt x="8" y="826"/>
                  </a:lnTo>
                  <a:lnTo>
                    <a:pt x="19" y="893"/>
                  </a:lnTo>
                  <a:lnTo>
                    <a:pt x="34" y="954"/>
                  </a:lnTo>
                  <a:lnTo>
                    <a:pt x="52" y="1014"/>
                  </a:lnTo>
                  <a:lnTo>
                    <a:pt x="73" y="1071"/>
                  </a:lnTo>
                  <a:lnTo>
                    <a:pt x="99" y="1125"/>
                  </a:lnTo>
                  <a:lnTo>
                    <a:pt x="126" y="1173"/>
                  </a:lnTo>
                  <a:lnTo>
                    <a:pt x="157" y="1217"/>
                  </a:lnTo>
                  <a:lnTo>
                    <a:pt x="190" y="1258"/>
                  </a:lnTo>
                  <a:lnTo>
                    <a:pt x="225" y="1292"/>
                  </a:lnTo>
                  <a:lnTo>
                    <a:pt x="263" y="1321"/>
                  </a:lnTo>
                  <a:lnTo>
                    <a:pt x="303" y="1344"/>
                  </a:lnTo>
                  <a:lnTo>
                    <a:pt x="344" y="1360"/>
                  </a:lnTo>
                  <a:lnTo>
                    <a:pt x="388" y="1371"/>
                  </a:lnTo>
                  <a:lnTo>
                    <a:pt x="432" y="1375"/>
                  </a:lnTo>
                  <a:close/>
                </a:path>
              </a:pathLst>
            </a:custGeom>
            <a:solidFill>
              <a:srgbClr val="eff7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3463560" y="2888640"/>
              <a:ext cx="1997280" cy="2218680"/>
            </a:xfrm>
            <a:custGeom>
              <a:avLst/>
              <a:gdLst/>
              <a:ahLst/>
              <a:rect l="l" t="t" r="r" b="b"/>
              <a:pathLst>
                <a:path w="835" h="1331">
                  <a:moveTo>
                    <a:pt x="417" y="1331"/>
                  </a:moveTo>
                  <a:lnTo>
                    <a:pt x="459" y="1327"/>
                  </a:lnTo>
                  <a:lnTo>
                    <a:pt x="501" y="1318"/>
                  </a:lnTo>
                  <a:lnTo>
                    <a:pt x="542" y="1301"/>
                  </a:lnTo>
                  <a:lnTo>
                    <a:pt x="580" y="1279"/>
                  </a:lnTo>
                  <a:lnTo>
                    <a:pt x="616" y="1249"/>
                  </a:lnTo>
                  <a:lnTo>
                    <a:pt x="650" y="1217"/>
                  </a:lnTo>
                  <a:lnTo>
                    <a:pt x="683" y="1178"/>
                  </a:lnTo>
                  <a:lnTo>
                    <a:pt x="714" y="1136"/>
                  </a:lnTo>
                  <a:lnTo>
                    <a:pt x="739" y="1089"/>
                  </a:lnTo>
                  <a:lnTo>
                    <a:pt x="764" y="1037"/>
                  </a:lnTo>
                  <a:lnTo>
                    <a:pt x="785" y="982"/>
                  </a:lnTo>
                  <a:lnTo>
                    <a:pt x="803" y="923"/>
                  </a:lnTo>
                  <a:lnTo>
                    <a:pt x="816" y="863"/>
                  </a:lnTo>
                  <a:lnTo>
                    <a:pt x="827" y="800"/>
                  </a:lnTo>
                  <a:lnTo>
                    <a:pt x="834" y="733"/>
                  </a:lnTo>
                  <a:lnTo>
                    <a:pt x="835" y="665"/>
                  </a:lnTo>
                  <a:lnTo>
                    <a:pt x="834" y="597"/>
                  </a:lnTo>
                  <a:lnTo>
                    <a:pt x="827" y="530"/>
                  </a:lnTo>
                  <a:lnTo>
                    <a:pt x="816" y="467"/>
                  </a:lnTo>
                  <a:lnTo>
                    <a:pt x="803" y="405"/>
                  </a:lnTo>
                  <a:lnTo>
                    <a:pt x="785" y="347"/>
                  </a:lnTo>
                  <a:lnTo>
                    <a:pt x="764" y="293"/>
                  </a:lnTo>
                  <a:lnTo>
                    <a:pt x="739" y="241"/>
                  </a:lnTo>
                  <a:lnTo>
                    <a:pt x="714" y="194"/>
                  </a:lnTo>
                  <a:lnTo>
                    <a:pt x="683" y="151"/>
                  </a:lnTo>
                  <a:lnTo>
                    <a:pt x="650" y="113"/>
                  </a:lnTo>
                  <a:lnTo>
                    <a:pt x="616" y="79"/>
                  </a:lnTo>
                  <a:lnTo>
                    <a:pt x="580" y="52"/>
                  </a:lnTo>
                  <a:lnTo>
                    <a:pt x="542" y="29"/>
                  </a:lnTo>
                  <a:lnTo>
                    <a:pt x="501" y="13"/>
                  </a:lnTo>
                  <a:lnTo>
                    <a:pt x="459" y="3"/>
                  </a:lnTo>
                  <a:lnTo>
                    <a:pt x="417" y="0"/>
                  </a:lnTo>
                  <a:lnTo>
                    <a:pt x="374" y="3"/>
                  </a:lnTo>
                  <a:lnTo>
                    <a:pt x="332" y="13"/>
                  </a:lnTo>
                  <a:lnTo>
                    <a:pt x="293" y="29"/>
                  </a:lnTo>
                  <a:lnTo>
                    <a:pt x="254" y="52"/>
                  </a:lnTo>
                  <a:lnTo>
                    <a:pt x="217" y="79"/>
                  </a:lnTo>
                  <a:lnTo>
                    <a:pt x="183" y="113"/>
                  </a:lnTo>
                  <a:lnTo>
                    <a:pt x="150" y="151"/>
                  </a:lnTo>
                  <a:lnTo>
                    <a:pt x="121" y="194"/>
                  </a:lnTo>
                  <a:lnTo>
                    <a:pt x="95" y="241"/>
                  </a:lnTo>
                  <a:lnTo>
                    <a:pt x="71" y="293"/>
                  </a:lnTo>
                  <a:lnTo>
                    <a:pt x="50" y="347"/>
                  </a:lnTo>
                  <a:lnTo>
                    <a:pt x="32" y="405"/>
                  </a:lnTo>
                  <a:lnTo>
                    <a:pt x="19" y="467"/>
                  </a:lnTo>
                  <a:lnTo>
                    <a:pt x="8" y="530"/>
                  </a:lnTo>
                  <a:lnTo>
                    <a:pt x="1" y="597"/>
                  </a:lnTo>
                  <a:lnTo>
                    <a:pt x="0" y="665"/>
                  </a:lnTo>
                  <a:lnTo>
                    <a:pt x="1" y="733"/>
                  </a:lnTo>
                  <a:lnTo>
                    <a:pt x="8" y="800"/>
                  </a:lnTo>
                  <a:lnTo>
                    <a:pt x="19" y="863"/>
                  </a:lnTo>
                  <a:lnTo>
                    <a:pt x="32" y="923"/>
                  </a:lnTo>
                  <a:lnTo>
                    <a:pt x="50" y="982"/>
                  </a:lnTo>
                  <a:lnTo>
                    <a:pt x="71" y="1037"/>
                  </a:lnTo>
                  <a:lnTo>
                    <a:pt x="95" y="1089"/>
                  </a:lnTo>
                  <a:lnTo>
                    <a:pt x="121" y="1136"/>
                  </a:lnTo>
                  <a:lnTo>
                    <a:pt x="150" y="1178"/>
                  </a:lnTo>
                  <a:lnTo>
                    <a:pt x="183" y="1217"/>
                  </a:lnTo>
                  <a:lnTo>
                    <a:pt x="217" y="1249"/>
                  </a:lnTo>
                  <a:lnTo>
                    <a:pt x="254" y="1279"/>
                  </a:lnTo>
                  <a:lnTo>
                    <a:pt x="293" y="1301"/>
                  </a:lnTo>
                  <a:lnTo>
                    <a:pt x="332" y="1318"/>
                  </a:lnTo>
                  <a:lnTo>
                    <a:pt x="374" y="1327"/>
                  </a:lnTo>
                  <a:lnTo>
                    <a:pt x="417" y="1331"/>
                  </a:lnTo>
                  <a:close/>
                </a:path>
              </a:pathLst>
            </a:custGeom>
            <a:solidFill>
              <a:srgbClr val="f4f7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496680" y="2923560"/>
              <a:ext cx="1932840" cy="2145600"/>
            </a:xfrm>
            <a:custGeom>
              <a:avLst/>
              <a:gdLst/>
              <a:ahLst/>
              <a:rect l="l" t="t" r="r" b="b"/>
              <a:pathLst>
                <a:path w="808" h="1287">
                  <a:moveTo>
                    <a:pt x="404" y="1287"/>
                  </a:moveTo>
                  <a:lnTo>
                    <a:pt x="446" y="1284"/>
                  </a:lnTo>
                  <a:lnTo>
                    <a:pt x="485" y="1274"/>
                  </a:lnTo>
                  <a:lnTo>
                    <a:pt x="524" y="1258"/>
                  </a:lnTo>
                  <a:lnTo>
                    <a:pt x="561" y="1237"/>
                  </a:lnTo>
                  <a:lnTo>
                    <a:pt x="597" y="1209"/>
                  </a:lnTo>
                  <a:lnTo>
                    <a:pt x="629" y="1177"/>
                  </a:lnTo>
                  <a:lnTo>
                    <a:pt x="662" y="1141"/>
                  </a:lnTo>
                  <a:lnTo>
                    <a:pt x="689" y="1099"/>
                  </a:lnTo>
                  <a:lnTo>
                    <a:pt x="715" y="1053"/>
                  </a:lnTo>
                  <a:lnTo>
                    <a:pt x="739" y="1004"/>
                  </a:lnTo>
                  <a:lnTo>
                    <a:pt x="759" y="951"/>
                  </a:lnTo>
                  <a:lnTo>
                    <a:pt x="777" y="894"/>
                  </a:lnTo>
                  <a:lnTo>
                    <a:pt x="790" y="836"/>
                  </a:lnTo>
                  <a:lnTo>
                    <a:pt x="799" y="774"/>
                  </a:lnTo>
                  <a:lnTo>
                    <a:pt x="806" y="711"/>
                  </a:lnTo>
                  <a:lnTo>
                    <a:pt x="808" y="644"/>
                  </a:lnTo>
                  <a:lnTo>
                    <a:pt x="806" y="578"/>
                  </a:lnTo>
                  <a:lnTo>
                    <a:pt x="799" y="514"/>
                  </a:lnTo>
                  <a:lnTo>
                    <a:pt x="790" y="453"/>
                  </a:lnTo>
                  <a:lnTo>
                    <a:pt x="777" y="394"/>
                  </a:lnTo>
                  <a:lnTo>
                    <a:pt x="759" y="337"/>
                  </a:lnTo>
                  <a:lnTo>
                    <a:pt x="739" y="284"/>
                  </a:lnTo>
                  <a:lnTo>
                    <a:pt x="715" y="235"/>
                  </a:lnTo>
                  <a:lnTo>
                    <a:pt x="689" y="188"/>
                  </a:lnTo>
                  <a:lnTo>
                    <a:pt x="662" y="147"/>
                  </a:lnTo>
                  <a:lnTo>
                    <a:pt x="629" y="110"/>
                  </a:lnTo>
                  <a:lnTo>
                    <a:pt x="597" y="78"/>
                  </a:lnTo>
                  <a:lnTo>
                    <a:pt x="561" y="50"/>
                  </a:lnTo>
                  <a:lnTo>
                    <a:pt x="524" y="29"/>
                  </a:lnTo>
                  <a:lnTo>
                    <a:pt x="485" y="13"/>
                  </a:lnTo>
                  <a:lnTo>
                    <a:pt x="446" y="3"/>
                  </a:lnTo>
                  <a:lnTo>
                    <a:pt x="404" y="0"/>
                  </a:lnTo>
                  <a:lnTo>
                    <a:pt x="363" y="3"/>
                  </a:lnTo>
                  <a:lnTo>
                    <a:pt x="322" y="13"/>
                  </a:lnTo>
                  <a:lnTo>
                    <a:pt x="283" y="29"/>
                  </a:lnTo>
                  <a:lnTo>
                    <a:pt x="246" y="50"/>
                  </a:lnTo>
                  <a:lnTo>
                    <a:pt x="212" y="78"/>
                  </a:lnTo>
                  <a:lnTo>
                    <a:pt x="178" y="110"/>
                  </a:lnTo>
                  <a:lnTo>
                    <a:pt x="147" y="147"/>
                  </a:lnTo>
                  <a:lnTo>
                    <a:pt x="118" y="188"/>
                  </a:lnTo>
                  <a:lnTo>
                    <a:pt x="92" y="235"/>
                  </a:lnTo>
                  <a:lnTo>
                    <a:pt x="69" y="284"/>
                  </a:lnTo>
                  <a:lnTo>
                    <a:pt x="48" y="337"/>
                  </a:lnTo>
                  <a:lnTo>
                    <a:pt x="32" y="394"/>
                  </a:lnTo>
                  <a:lnTo>
                    <a:pt x="17" y="453"/>
                  </a:lnTo>
                  <a:lnTo>
                    <a:pt x="8" y="514"/>
                  </a:lnTo>
                  <a:lnTo>
                    <a:pt x="1" y="578"/>
                  </a:lnTo>
                  <a:lnTo>
                    <a:pt x="0" y="644"/>
                  </a:lnTo>
                  <a:lnTo>
                    <a:pt x="1" y="711"/>
                  </a:lnTo>
                  <a:lnTo>
                    <a:pt x="8" y="774"/>
                  </a:lnTo>
                  <a:lnTo>
                    <a:pt x="17" y="836"/>
                  </a:lnTo>
                  <a:lnTo>
                    <a:pt x="32" y="894"/>
                  </a:lnTo>
                  <a:lnTo>
                    <a:pt x="48" y="951"/>
                  </a:lnTo>
                  <a:lnTo>
                    <a:pt x="69" y="1004"/>
                  </a:lnTo>
                  <a:lnTo>
                    <a:pt x="92" y="1053"/>
                  </a:lnTo>
                  <a:lnTo>
                    <a:pt x="118" y="1099"/>
                  </a:lnTo>
                  <a:lnTo>
                    <a:pt x="147" y="1141"/>
                  </a:lnTo>
                  <a:lnTo>
                    <a:pt x="178" y="1177"/>
                  </a:lnTo>
                  <a:lnTo>
                    <a:pt x="212" y="1209"/>
                  </a:lnTo>
                  <a:lnTo>
                    <a:pt x="246" y="1237"/>
                  </a:lnTo>
                  <a:lnTo>
                    <a:pt x="283" y="1258"/>
                  </a:lnTo>
                  <a:lnTo>
                    <a:pt x="322" y="1274"/>
                  </a:lnTo>
                  <a:lnTo>
                    <a:pt x="363" y="1284"/>
                  </a:lnTo>
                  <a:lnTo>
                    <a:pt x="404" y="1287"/>
                  </a:lnTo>
                  <a:close/>
                </a:path>
              </a:pathLst>
            </a:custGeom>
            <a:solidFill>
              <a:srgbClr val="f9f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527640" y="2960280"/>
              <a:ext cx="1868400" cy="2073960"/>
            </a:xfrm>
            <a:custGeom>
              <a:avLst/>
              <a:gdLst/>
              <a:ahLst/>
              <a:rect l="l" t="t" r="r" b="b"/>
              <a:pathLst>
                <a:path w="781" h="1244">
                  <a:moveTo>
                    <a:pt x="390" y="1244"/>
                  </a:moveTo>
                  <a:lnTo>
                    <a:pt x="430" y="1241"/>
                  </a:lnTo>
                  <a:lnTo>
                    <a:pt x="469" y="1231"/>
                  </a:lnTo>
                  <a:lnTo>
                    <a:pt x="506" y="1216"/>
                  </a:lnTo>
                  <a:lnTo>
                    <a:pt x="542" y="1195"/>
                  </a:lnTo>
                  <a:lnTo>
                    <a:pt x="576" y="1169"/>
                  </a:lnTo>
                  <a:lnTo>
                    <a:pt x="609" y="1137"/>
                  </a:lnTo>
                  <a:lnTo>
                    <a:pt x="638" y="1101"/>
                  </a:lnTo>
                  <a:lnTo>
                    <a:pt x="665" y="1062"/>
                  </a:lnTo>
                  <a:lnTo>
                    <a:pt x="691" y="1017"/>
                  </a:lnTo>
                  <a:lnTo>
                    <a:pt x="714" y="969"/>
                  </a:lnTo>
                  <a:lnTo>
                    <a:pt x="734" y="918"/>
                  </a:lnTo>
                  <a:lnTo>
                    <a:pt x="750" y="864"/>
                  </a:lnTo>
                  <a:lnTo>
                    <a:pt x="763" y="807"/>
                  </a:lnTo>
                  <a:lnTo>
                    <a:pt x="773" y="747"/>
                  </a:lnTo>
                  <a:lnTo>
                    <a:pt x="779" y="685"/>
                  </a:lnTo>
                  <a:lnTo>
                    <a:pt x="781" y="622"/>
                  </a:lnTo>
                  <a:lnTo>
                    <a:pt x="779" y="559"/>
                  </a:lnTo>
                  <a:lnTo>
                    <a:pt x="773" y="497"/>
                  </a:lnTo>
                  <a:lnTo>
                    <a:pt x="763" y="437"/>
                  </a:lnTo>
                  <a:lnTo>
                    <a:pt x="750" y="380"/>
                  </a:lnTo>
                  <a:lnTo>
                    <a:pt x="734" y="325"/>
                  </a:lnTo>
                  <a:lnTo>
                    <a:pt x="714" y="275"/>
                  </a:lnTo>
                  <a:lnTo>
                    <a:pt x="691" y="226"/>
                  </a:lnTo>
                  <a:lnTo>
                    <a:pt x="665" y="182"/>
                  </a:lnTo>
                  <a:lnTo>
                    <a:pt x="638" y="142"/>
                  </a:lnTo>
                  <a:lnTo>
                    <a:pt x="609" y="106"/>
                  </a:lnTo>
                  <a:lnTo>
                    <a:pt x="576" y="75"/>
                  </a:lnTo>
                  <a:lnTo>
                    <a:pt x="542" y="49"/>
                  </a:lnTo>
                  <a:lnTo>
                    <a:pt x="506" y="28"/>
                  </a:lnTo>
                  <a:lnTo>
                    <a:pt x="469" y="13"/>
                  </a:lnTo>
                  <a:lnTo>
                    <a:pt x="430" y="4"/>
                  </a:lnTo>
                  <a:lnTo>
                    <a:pt x="390" y="0"/>
                  </a:lnTo>
                  <a:lnTo>
                    <a:pt x="349" y="4"/>
                  </a:lnTo>
                  <a:lnTo>
                    <a:pt x="312" y="13"/>
                  </a:lnTo>
                  <a:lnTo>
                    <a:pt x="273" y="28"/>
                  </a:lnTo>
                  <a:lnTo>
                    <a:pt x="237" y="49"/>
                  </a:lnTo>
                  <a:lnTo>
                    <a:pt x="203" y="75"/>
                  </a:lnTo>
                  <a:lnTo>
                    <a:pt x="172" y="106"/>
                  </a:lnTo>
                  <a:lnTo>
                    <a:pt x="141" y="142"/>
                  </a:lnTo>
                  <a:lnTo>
                    <a:pt x="114" y="182"/>
                  </a:lnTo>
                  <a:lnTo>
                    <a:pt x="89" y="226"/>
                  </a:lnTo>
                  <a:lnTo>
                    <a:pt x="67" y="275"/>
                  </a:lnTo>
                  <a:lnTo>
                    <a:pt x="47" y="325"/>
                  </a:lnTo>
                  <a:lnTo>
                    <a:pt x="31" y="380"/>
                  </a:lnTo>
                  <a:lnTo>
                    <a:pt x="18" y="437"/>
                  </a:lnTo>
                  <a:lnTo>
                    <a:pt x="8" y="497"/>
                  </a:lnTo>
                  <a:lnTo>
                    <a:pt x="2" y="559"/>
                  </a:lnTo>
                  <a:lnTo>
                    <a:pt x="0" y="622"/>
                  </a:lnTo>
                  <a:lnTo>
                    <a:pt x="2" y="685"/>
                  </a:lnTo>
                  <a:lnTo>
                    <a:pt x="8" y="747"/>
                  </a:lnTo>
                  <a:lnTo>
                    <a:pt x="18" y="807"/>
                  </a:lnTo>
                  <a:lnTo>
                    <a:pt x="31" y="864"/>
                  </a:lnTo>
                  <a:lnTo>
                    <a:pt x="47" y="918"/>
                  </a:lnTo>
                  <a:lnTo>
                    <a:pt x="67" y="969"/>
                  </a:lnTo>
                  <a:lnTo>
                    <a:pt x="89" y="1017"/>
                  </a:lnTo>
                  <a:lnTo>
                    <a:pt x="114" y="1062"/>
                  </a:lnTo>
                  <a:lnTo>
                    <a:pt x="141" y="1101"/>
                  </a:lnTo>
                  <a:lnTo>
                    <a:pt x="172" y="1137"/>
                  </a:lnTo>
                  <a:lnTo>
                    <a:pt x="203" y="1169"/>
                  </a:lnTo>
                  <a:lnTo>
                    <a:pt x="237" y="1195"/>
                  </a:lnTo>
                  <a:lnTo>
                    <a:pt x="273" y="1216"/>
                  </a:lnTo>
                  <a:lnTo>
                    <a:pt x="312" y="1231"/>
                  </a:lnTo>
                  <a:lnTo>
                    <a:pt x="349" y="1241"/>
                  </a:lnTo>
                  <a:lnTo>
                    <a:pt x="390" y="12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6195600" y="2655000"/>
              <a:ext cx="241200" cy="169920"/>
            </a:xfrm>
            <a:custGeom>
              <a:avLst/>
              <a:gdLst/>
              <a:ahLst/>
              <a:rect l="l" t="t" r="r" b="b"/>
              <a:pathLst>
                <a:path w="101" h="102">
                  <a:moveTo>
                    <a:pt x="101" y="47"/>
                  </a:moveTo>
                  <a:lnTo>
                    <a:pt x="0" y="0"/>
                  </a:lnTo>
                  <a:lnTo>
                    <a:pt x="5" y="102"/>
                  </a:lnTo>
                  <a:lnTo>
                    <a:pt x="16" y="94"/>
                  </a:lnTo>
                  <a:lnTo>
                    <a:pt x="28" y="88"/>
                  </a:lnTo>
                  <a:lnTo>
                    <a:pt x="41" y="80"/>
                  </a:lnTo>
                  <a:lnTo>
                    <a:pt x="52" y="73"/>
                  </a:lnTo>
                  <a:lnTo>
                    <a:pt x="65" y="67"/>
                  </a:lnTo>
                  <a:lnTo>
                    <a:pt x="77" y="60"/>
                  </a:lnTo>
                  <a:lnTo>
                    <a:pt x="89" y="54"/>
                  </a:lnTo>
                  <a:lnTo>
                    <a:pt x="101" y="4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508720" y="2463480"/>
              <a:ext cx="260640" cy="161640"/>
            </a:xfrm>
            <a:custGeom>
              <a:avLst/>
              <a:gdLst/>
              <a:ahLst/>
              <a:rect l="l" t="t" r="r" b="b"/>
              <a:pathLst>
                <a:path w="109" h="97">
                  <a:moveTo>
                    <a:pt x="109" y="83"/>
                  </a:moveTo>
                  <a:lnTo>
                    <a:pt x="49" y="0"/>
                  </a:lnTo>
                  <a:lnTo>
                    <a:pt x="0" y="97"/>
                  </a:lnTo>
                  <a:lnTo>
                    <a:pt x="13" y="94"/>
                  </a:lnTo>
                  <a:lnTo>
                    <a:pt x="28" y="92"/>
                  </a:lnTo>
                  <a:lnTo>
                    <a:pt x="41" y="89"/>
                  </a:lnTo>
                  <a:lnTo>
                    <a:pt x="56" y="87"/>
                  </a:lnTo>
                  <a:lnTo>
                    <a:pt x="68" y="86"/>
                  </a:lnTo>
                  <a:lnTo>
                    <a:pt x="81" y="84"/>
                  </a:lnTo>
                  <a:lnTo>
                    <a:pt x="96" y="83"/>
                  </a:lnTo>
                  <a:lnTo>
                    <a:pt x="109" y="8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6505920" y="2836800"/>
              <a:ext cx="232200" cy="139680"/>
            </a:xfrm>
            <a:custGeom>
              <a:avLst/>
              <a:gdLst/>
              <a:ahLst/>
              <a:rect l="l" t="t" r="r" b="b"/>
              <a:pathLst>
                <a:path w="97" h="84">
                  <a:moveTo>
                    <a:pt x="97" y="21"/>
                  </a:moveTo>
                  <a:lnTo>
                    <a:pt x="0" y="0"/>
                  </a:lnTo>
                  <a:lnTo>
                    <a:pt x="24" y="84"/>
                  </a:lnTo>
                  <a:lnTo>
                    <a:pt x="32" y="76"/>
                  </a:lnTo>
                  <a:lnTo>
                    <a:pt x="42" y="68"/>
                  </a:lnTo>
                  <a:lnTo>
                    <a:pt x="50" y="60"/>
                  </a:lnTo>
                  <a:lnTo>
                    <a:pt x="60" y="52"/>
                  </a:lnTo>
                  <a:lnTo>
                    <a:pt x="69" y="44"/>
                  </a:lnTo>
                  <a:lnTo>
                    <a:pt x="79" y="35"/>
                  </a:lnTo>
                  <a:lnTo>
                    <a:pt x="87" y="29"/>
                  </a:lnTo>
                  <a:lnTo>
                    <a:pt x="97" y="2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852880" y="2530440"/>
              <a:ext cx="255960" cy="181440"/>
            </a:xfrm>
            <a:custGeom>
              <a:avLst/>
              <a:gdLst/>
              <a:ahLst/>
              <a:rect l="l" t="t" r="r" b="b"/>
              <a:pathLst>
                <a:path w="107" h="109">
                  <a:moveTo>
                    <a:pt x="107" y="72"/>
                  </a:moveTo>
                  <a:lnTo>
                    <a:pt x="22" y="0"/>
                  </a:lnTo>
                  <a:lnTo>
                    <a:pt x="0" y="109"/>
                  </a:lnTo>
                  <a:lnTo>
                    <a:pt x="13" y="103"/>
                  </a:lnTo>
                  <a:lnTo>
                    <a:pt x="26" y="98"/>
                  </a:lnTo>
                  <a:lnTo>
                    <a:pt x="38" y="93"/>
                  </a:lnTo>
                  <a:lnTo>
                    <a:pt x="53" y="88"/>
                  </a:lnTo>
                  <a:lnTo>
                    <a:pt x="66" y="83"/>
                  </a:lnTo>
                  <a:lnTo>
                    <a:pt x="79" y="80"/>
                  </a:lnTo>
                  <a:lnTo>
                    <a:pt x="94" y="75"/>
                  </a:lnTo>
                  <a:lnTo>
                    <a:pt x="107" y="7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166360" y="2473560"/>
              <a:ext cx="236520" cy="142920"/>
            </a:xfrm>
            <a:custGeom>
              <a:avLst/>
              <a:gdLst/>
              <a:ahLst/>
              <a:rect l="l" t="t" r="r" b="b"/>
              <a:pathLst>
                <a:path w="99" h="86">
                  <a:moveTo>
                    <a:pt x="99" y="86"/>
                  </a:moveTo>
                  <a:lnTo>
                    <a:pt x="65" y="0"/>
                  </a:lnTo>
                  <a:lnTo>
                    <a:pt x="0" y="77"/>
                  </a:lnTo>
                  <a:lnTo>
                    <a:pt x="13" y="77"/>
                  </a:lnTo>
                  <a:lnTo>
                    <a:pt x="26" y="77"/>
                  </a:lnTo>
                  <a:lnTo>
                    <a:pt x="37" y="78"/>
                  </a:lnTo>
                  <a:lnTo>
                    <a:pt x="50" y="78"/>
                  </a:lnTo>
                  <a:lnTo>
                    <a:pt x="62" y="80"/>
                  </a:lnTo>
                  <a:lnTo>
                    <a:pt x="75" y="81"/>
                  </a:lnTo>
                  <a:lnTo>
                    <a:pt x="86" y="85"/>
                  </a:lnTo>
                  <a:lnTo>
                    <a:pt x="99" y="8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293000" y="3112200"/>
              <a:ext cx="299160" cy="2178360"/>
            </a:xfrm>
            <a:prstGeom prst="rect">
              <a:avLst/>
            </a:pr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051720" y="5042520"/>
              <a:ext cx="2736360" cy="491760"/>
            </a:xfrm>
            <a:custGeom>
              <a:avLst/>
              <a:gdLst/>
              <a:ahLst/>
              <a:rect l="l" t="t" r="r" b="b"/>
              <a:pathLst>
                <a:path w="1144" h="295">
                  <a:moveTo>
                    <a:pt x="1144" y="295"/>
                  </a:moveTo>
                  <a:lnTo>
                    <a:pt x="1138" y="264"/>
                  </a:lnTo>
                  <a:lnTo>
                    <a:pt x="1126" y="235"/>
                  </a:lnTo>
                  <a:lnTo>
                    <a:pt x="1110" y="207"/>
                  </a:lnTo>
                  <a:lnTo>
                    <a:pt x="1089" y="180"/>
                  </a:lnTo>
                  <a:lnTo>
                    <a:pt x="1063" y="154"/>
                  </a:lnTo>
                  <a:lnTo>
                    <a:pt x="1034" y="130"/>
                  </a:lnTo>
                  <a:lnTo>
                    <a:pt x="1001" y="107"/>
                  </a:lnTo>
                  <a:lnTo>
                    <a:pt x="964" y="86"/>
                  </a:lnTo>
                  <a:lnTo>
                    <a:pt x="924" y="66"/>
                  </a:lnTo>
                  <a:lnTo>
                    <a:pt x="881" y="50"/>
                  </a:lnTo>
                  <a:lnTo>
                    <a:pt x="834" y="35"/>
                  </a:lnTo>
                  <a:lnTo>
                    <a:pt x="787" y="22"/>
                  </a:lnTo>
                  <a:lnTo>
                    <a:pt x="735" y="13"/>
                  </a:lnTo>
                  <a:lnTo>
                    <a:pt x="683" y="6"/>
                  </a:lnTo>
                  <a:lnTo>
                    <a:pt x="628" y="1"/>
                  </a:lnTo>
                  <a:lnTo>
                    <a:pt x="573" y="0"/>
                  </a:lnTo>
                  <a:lnTo>
                    <a:pt x="516" y="1"/>
                  </a:lnTo>
                  <a:lnTo>
                    <a:pt x="463" y="6"/>
                  </a:lnTo>
                  <a:lnTo>
                    <a:pt x="409" y="13"/>
                  </a:lnTo>
                  <a:lnTo>
                    <a:pt x="359" y="22"/>
                  </a:lnTo>
                  <a:lnTo>
                    <a:pt x="310" y="35"/>
                  </a:lnTo>
                  <a:lnTo>
                    <a:pt x="265" y="50"/>
                  </a:lnTo>
                  <a:lnTo>
                    <a:pt x="221" y="66"/>
                  </a:lnTo>
                  <a:lnTo>
                    <a:pt x="180" y="86"/>
                  </a:lnTo>
                  <a:lnTo>
                    <a:pt x="145" y="107"/>
                  </a:lnTo>
                  <a:lnTo>
                    <a:pt x="111" y="130"/>
                  </a:lnTo>
                  <a:lnTo>
                    <a:pt x="81" y="154"/>
                  </a:lnTo>
                  <a:lnTo>
                    <a:pt x="55" y="180"/>
                  </a:lnTo>
                  <a:lnTo>
                    <a:pt x="34" y="207"/>
                  </a:lnTo>
                  <a:lnTo>
                    <a:pt x="18" y="235"/>
                  </a:lnTo>
                  <a:lnTo>
                    <a:pt x="7" y="264"/>
                  </a:lnTo>
                  <a:lnTo>
                    <a:pt x="0" y="295"/>
                  </a:lnTo>
                  <a:lnTo>
                    <a:pt x="1144" y="295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781240" y="3367080"/>
              <a:ext cx="574200" cy="964800"/>
            </a:xfrm>
            <a:custGeom>
              <a:avLst/>
              <a:gdLst/>
              <a:ahLst/>
              <a:rect l="l" t="t" r="r" b="b"/>
              <a:pathLst>
                <a:path w="240" h="579">
                  <a:moveTo>
                    <a:pt x="240" y="571"/>
                  </a:moveTo>
                  <a:lnTo>
                    <a:pt x="21" y="0"/>
                  </a:lnTo>
                  <a:lnTo>
                    <a:pt x="0" y="8"/>
                  </a:lnTo>
                  <a:lnTo>
                    <a:pt x="219" y="579"/>
                  </a:lnTo>
                  <a:lnTo>
                    <a:pt x="240" y="571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6463440" y="3362040"/>
              <a:ext cx="193680" cy="1041840"/>
            </a:xfrm>
            <a:custGeom>
              <a:avLst/>
              <a:gdLst/>
              <a:ahLst/>
              <a:rect l="l" t="t" r="r" b="b"/>
              <a:pathLst>
                <a:path w="81" h="625">
                  <a:moveTo>
                    <a:pt x="58" y="0"/>
                  </a:moveTo>
                  <a:lnTo>
                    <a:pt x="0" y="623"/>
                  </a:lnTo>
                  <a:lnTo>
                    <a:pt x="22" y="625"/>
                  </a:lnTo>
                  <a:lnTo>
                    <a:pt x="81" y="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6626160" y="3391920"/>
              <a:ext cx="853920" cy="970200"/>
            </a:xfrm>
            <a:custGeom>
              <a:avLst/>
              <a:gdLst/>
              <a:ahLst/>
              <a:rect l="l" t="t" r="r" b="b"/>
              <a:pathLst>
                <a:path w="357" h="582">
                  <a:moveTo>
                    <a:pt x="337" y="0"/>
                  </a:moveTo>
                  <a:lnTo>
                    <a:pt x="0" y="571"/>
                  </a:lnTo>
                  <a:lnTo>
                    <a:pt x="19" y="582"/>
                  </a:lnTo>
                  <a:lnTo>
                    <a:pt x="357" y="11"/>
                  </a:lnTo>
                  <a:lnTo>
                    <a:pt x="337" y="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049120" y="2850120"/>
              <a:ext cx="5016600" cy="616680"/>
            </a:xfrm>
            <a:custGeom>
              <a:avLst/>
              <a:gdLst/>
              <a:ahLst/>
              <a:rect l="l" t="t" r="r" b="b"/>
              <a:pathLst>
                <a:path w="2097" h="370">
                  <a:moveTo>
                    <a:pt x="2086" y="0"/>
                  </a:moveTo>
                  <a:lnTo>
                    <a:pt x="2097" y="78"/>
                  </a:lnTo>
                  <a:lnTo>
                    <a:pt x="10" y="370"/>
                  </a:lnTo>
                  <a:lnTo>
                    <a:pt x="0" y="292"/>
                  </a:lnTo>
                  <a:lnTo>
                    <a:pt x="2086" y="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4162320" y="2643480"/>
              <a:ext cx="535680" cy="371880"/>
            </a:xfrm>
            <a:custGeom>
              <a:avLst/>
              <a:gdLst/>
              <a:ahLst/>
              <a:rect l="l" t="t" r="r" b="b"/>
              <a:pathLst>
                <a:path w="224" h="223">
                  <a:moveTo>
                    <a:pt x="112" y="223"/>
                  </a:moveTo>
                  <a:lnTo>
                    <a:pt x="135" y="221"/>
                  </a:lnTo>
                  <a:lnTo>
                    <a:pt x="156" y="215"/>
                  </a:lnTo>
                  <a:lnTo>
                    <a:pt x="175" y="203"/>
                  </a:lnTo>
                  <a:lnTo>
                    <a:pt x="192" y="190"/>
                  </a:lnTo>
                  <a:lnTo>
                    <a:pt x="205" y="174"/>
                  </a:lnTo>
                  <a:lnTo>
                    <a:pt x="216" y="155"/>
                  </a:lnTo>
                  <a:lnTo>
                    <a:pt x="223" y="134"/>
                  </a:lnTo>
                  <a:lnTo>
                    <a:pt x="224" y="111"/>
                  </a:lnTo>
                  <a:lnTo>
                    <a:pt x="223" y="88"/>
                  </a:lnTo>
                  <a:lnTo>
                    <a:pt x="216" y="69"/>
                  </a:lnTo>
                  <a:lnTo>
                    <a:pt x="205" y="49"/>
                  </a:lnTo>
                  <a:lnTo>
                    <a:pt x="192" y="33"/>
                  </a:lnTo>
                  <a:lnTo>
                    <a:pt x="175" y="20"/>
                  </a:lnTo>
                  <a:lnTo>
                    <a:pt x="156" y="9"/>
                  </a:lnTo>
                  <a:lnTo>
                    <a:pt x="135" y="2"/>
                  </a:lnTo>
                  <a:lnTo>
                    <a:pt x="112" y="0"/>
                  </a:lnTo>
                  <a:lnTo>
                    <a:pt x="89" y="2"/>
                  </a:lnTo>
                  <a:lnTo>
                    <a:pt x="68" y="9"/>
                  </a:lnTo>
                  <a:lnTo>
                    <a:pt x="49" y="20"/>
                  </a:lnTo>
                  <a:lnTo>
                    <a:pt x="33" y="33"/>
                  </a:lnTo>
                  <a:lnTo>
                    <a:pt x="20" y="49"/>
                  </a:lnTo>
                  <a:lnTo>
                    <a:pt x="8" y="69"/>
                  </a:lnTo>
                  <a:lnTo>
                    <a:pt x="2" y="88"/>
                  </a:lnTo>
                  <a:lnTo>
                    <a:pt x="0" y="111"/>
                  </a:lnTo>
                  <a:lnTo>
                    <a:pt x="2" y="134"/>
                  </a:lnTo>
                  <a:lnTo>
                    <a:pt x="8" y="155"/>
                  </a:lnTo>
                  <a:lnTo>
                    <a:pt x="20" y="174"/>
                  </a:lnTo>
                  <a:lnTo>
                    <a:pt x="33" y="190"/>
                  </a:lnTo>
                  <a:lnTo>
                    <a:pt x="49" y="203"/>
                  </a:lnTo>
                  <a:lnTo>
                    <a:pt x="68" y="215"/>
                  </a:lnTo>
                  <a:lnTo>
                    <a:pt x="89" y="221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635560" y="3023640"/>
              <a:ext cx="591120" cy="978120"/>
            </a:xfrm>
            <a:custGeom>
              <a:avLst/>
              <a:gdLst/>
              <a:ahLst/>
              <a:rect l="l" t="t" r="r" b="b"/>
              <a:pathLst>
                <a:path w="247" h="587">
                  <a:moveTo>
                    <a:pt x="21" y="587"/>
                  </a:moveTo>
                  <a:lnTo>
                    <a:pt x="247" y="0"/>
                  </a:lnTo>
                  <a:lnTo>
                    <a:pt x="219" y="8"/>
                  </a:lnTo>
                  <a:lnTo>
                    <a:pt x="0" y="579"/>
                  </a:lnTo>
                  <a:lnTo>
                    <a:pt x="21" y="58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343240" y="3003480"/>
              <a:ext cx="198360" cy="1041840"/>
            </a:xfrm>
            <a:custGeom>
              <a:avLst/>
              <a:gdLst/>
              <a:ahLst/>
              <a:rect l="l" t="t" r="r" b="b"/>
              <a:pathLst>
                <a:path w="83" h="625">
                  <a:moveTo>
                    <a:pt x="0" y="2"/>
                  </a:moveTo>
                  <a:lnTo>
                    <a:pt x="60" y="625"/>
                  </a:lnTo>
                  <a:lnTo>
                    <a:pt x="83" y="624"/>
                  </a:lnTo>
                  <a:lnTo>
                    <a:pt x="2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520280" y="2968560"/>
              <a:ext cx="909000" cy="1036800"/>
            </a:xfrm>
            <a:custGeom>
              <a:avLst/>
              <a:gdLst/>
              <a:ahLst/>
              <a:rect l="l" t="t" r="r" b="b"/>
              <a:pathLst>
                <a:path w="380" h="622">
                  <a:moveTo>
                    <a:pt x="0" y="12"/>
                  </a:moveTo>
                  <a:lnTo>
                    <a:pt x="360" y="622"/>
                  </a:lnTo>
                  <a:lnTo>
                    <a:pt x="380" y="611"/>
                  </a:lnTo>
                  <a:lnTo>
                    <a:pt x="19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640480" y="4310640"/>
              <a:ext cx="1975680" cy="710280"/>
            </a:xfrm>
            <a:custGeom>
              <a:avLst/>
              <a:gdLst/>
              <a:ahLst/>
              <a:rect l="l" t="t" r="r" b="b"/>
              <a:pathLst>
                <a:path w="826" h="426">
                  <a:moveTo>
                    <a:pt x="0" y="0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2" y="54"/>
                  </a:lnTo>
                  <a:lnTo>
                    <a:pt x="8" y="95"/>
                  </a:lnTo>
                  <a:lnTo>
                    <a:pt x="18" y="135"/>
                  </a:lnTo>
                  <a:lnTo>
                    <a:pt x="32" y="172"/>
                  </a:lnTo>
                  <a:lnTo>
                    <a:pt x="50" y="210"/>
                  </a:lnTo>
                  <a:lnTo>
                    <a:pt x="71" y="244"/>
                  </a:lnTo>
                  <a:lnTo>
                    <a:pt x="94" y="275"/>
                  </a:lnTo>
                  <a:lnTo>
                    <a:pt x="122" y="304"/>
                  </a:lnTo>
                  <a:lnTo>
                    <a:pt x="151" y="332"/>
                  </a:lnTo>
                  <a:lnTo>
                    <a:pt x="182" y="354"/>
                  </a:lnTo>
                  <a:lnTo>
                    <a:pt x="216" y="375"/>
                  </a:lnTo>
                  <a:lnTo>
                    <a:pt x="253" y="393"/>
                  </a:lnTo>
                  <a:lnTo>
                    <a:pt x="290" y="408"/>
                  </a:lnTo>
                  <a:lnTo>
                    <a:pt x="331" y="418"/>
                  </a:lnTo>
                  <a:lnTo>
                    <a:pt x="372" y="424"/>
                  </a:lnTo>
                  <a:lnTo>
                    <a:pt x="414" y="426"/>
                  </a:lnTo>
                  <a:lnTo>
                    <a:pt x="456" y="424"/>
                  </a:lnTo>
                  <a:lnTo>
                    <a:pt x="496" y="418"/>
                  </a:lnTo>
                  <a:lnTo>
                    <a:pt x="535" y="408"/>
                  </a:lnTo>
                  <a:lnTo>
                    <a:pt x="574" y="393"/>
                  </a:lnTo>
                  <a:lnTo>
                    <a:pt x="610" y="375"/>
                  </a:lnTo>
                  <a:lnTo>
                    <a:pt x="644" y="354"/>
                  </a:lnTo>
                  <a:lnTo>
                    <a:pt x="675" y="332"/>
                  </a:lnTo>
                  <a:lnTo>
                    <a:pt x="706" y="304"/>
                  </a:lnTo>
                  <a:lnTo>
                    <a:pt x="732" y="275"/>
                  </a:lnTo>
                  <a:lnTo>
                    <a:pt x="756" y="244"/>
                  </a:lnTo>
                  <a:lnTo>
                    <a:pt x="776" y="210"/>
                  </a:lnTo>
                  <a:lnTo>
                    <a:pt x="793" y="172"/>
                  </a:lnTo>
                  <a:lnTo>
                    <a:pt x="808" y="135"/>
                  </a:lnTo>
                  <a:lnTo>
                    <a:pt x="818" y="95"/>
                  </a:lnTo>
                  <a:lnTo>
                    <a:pt x="824" y="54"/>
                  </a:lnTo>
                  <a:lnTo>
                    <a:pt x="826" y="12"/>
                  </a:lnTo>
                  <a:lnTo>
                    <a:pt x="826" y="9"/>
                  </a:lnTo>
                  <a:lnTo>
                    <a:pt x="826" y="5"/>
                  </a:lnTo>
                  <a:lnTo>
                    <a:pt x="826" y="4"/>
                  </a:lnTo>
                  <a:lnTo>
                    <a:pt x="8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5841360" y="4432320"/>
              <a:ext cx="1170000" cy="86400"/>
            </a:xfrm>
            <a:custGeom>
              <a:avLst/>
              <a:gdLst/>
              <a:ahLst/>
              <a:rect l="l" t="t" r="r" b="b"/>
              <a:pathLst>
                <a:path w="489" h="52">
                  <a:moveTo>
                    <a:pt x="474" y="52"/>
                  </a:moveTo>
                  <a:lnTo>
                    <a:pt x="479" y="39"/>
                  </a:lnTo>
                  <a:lnTo>
                    <a:pt x="482" y="26"/>
                  </a:lnTo>
                  <a:lnTo>
                    <a:pt x="485" y="13"/>
                  </a:lnTo>
                  <a:lnTo>
                    <a:pt x="489" y="0"/>
                  </a:lnTo>
                  <a:lnTo>
                    <a:pt x="0" y="35"/>
                  </a:lnTo>
                  <a:lnTo>
                    <a:pt x="474" y="52"/>
                  </a:lnTo>
                  <a:close/>
                </a:path>
              </a:pathLst>
            </a:custGeom>
            <a:solidFill>
              <a:srgbClr val="282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5919840" y="4590720"/>
              <a:ext cx="1083960" cy="78120"/>
            </a:xfrm>
            <a:custGeom>
              <a:avLst/>
              <a:gdLst/>
              <a:ahLst/>
              <a:rect l="l" t="t" r="r" b="b"/>
              <a:pathLst>
                <a:path w="453" h="47">
                  <a:moveTo>
                    <a:pt x="427" y="47"/>
                  </a:moveTo>
                  <a:lnTo>
                    <a:pt x="434" y="35"/>
                  </a:lnTo>
                  <a:lnTo>
                    <a:pt x="442" y="24"/>
                  </a:lnTo>
                  <a:lnTo>
                    <a:pt x="448" y="11"/>
                  </a:lnTo>
                  <a:lnTo>
                    <a:pt x="453" y="0"/>
                  </a:lnTo>
                  <a:lnTo>
                    <a:pt x="0" y="32"/>
                  </a:lnTo>
                  <a:lnTo>
                    <a:pt x="427" y="47"/>
                  </a:lnTo>
                  <a:close/>
                </a:path>
              </a:pathLst>
            </a:custGeom>
            <a:solidFill>
              <a:srgbClr val="282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6068520" y="4749120"/>
              <a:ext cx="899280" cy="64800"/>
            </a:xfrm>
            <a:custGeom>
              <a:avLst/>
              <a:gdLst/>
              <a:ahLst/>
              <a:rect l="l" t="t" r="r" b="b"/>
              <a:pathLst>
                <a:path w="376" h="39">
                  <a:moveTo>
                    <a:pt x="337" y="39"/>
                  </a:moveTo>
                  <a:lnTo>
                    <a:pt x="347" y="31"/>
                  </a:lnTo>
                  <a:lnTo>
                    <a:pt x="357" y="21"/>
                  </a:lnTo>
                  <a:lnTo>
                    <a:pt x="367" y="12"/>
                  </a:lnTo>
                  <a:lnTo>
                    <a:pt x="376" y="0"/>
                  </a:lnTo>
                  <a:lnTo>
                    <a:pt x="0" y="28"/>
                  </a:lnTo>
                  <a:lnTo>
                    <a:pt x="337" y="39"/>
                  </a:lnTo>
                  <a:close/>
                </a:path>
              </a:pathLst>
            </a:custGeom>
            <a:solidFill>
              <a:srgbClr val="282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1362240" y="3930480"/>
              <a:ext cx="1983240" cy="708120"/>
            </a:xfrm>
            <a:custGeom>
              <a:avLst/>
              <a:gdLst/>
              <a:ahLst/>
              <a:rect l="l" t="t" r="r" b="b"/>
              <a:pathLst>
                <a:path w="829" h="425">
                  <a:moveTo>
                    <a:pt x="2" y="0"/>
                  </a:moveTo>
                  <a:lnTo>
                    <a:pt x="2" y="3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53"/>
                  </a:lnTo>
                  <a:lnTo>
                    <a:pt x="8" y="94"/>
                  </a:lnTo>
                  <a:lnTo>
                    <a:pt x="19" y="134"/>
                  </a:lnTo>
                  <a:lnTo>
                    <a:pt x="32" y="172"/>
                  </a:lnTo>
                  <a:lnTo>
                    <a:pt x="50" y="209"/>
                  </a:lnTo>
                  <a:lnTo>
                    <a:pt x="71" y="243"/>
                  </a:lnTo>
                  <a:lnTo>
                    <a:pt x="96" y="274"/>
                  </a:lnTo>
                  <a:lnTo>
                    <a:pt x="122" y="303"/>
                  </a:lnTo>
                  <a:lnTo>
                    <a:pt x="151" y="331"/>
                  </a:lnTo>
                  <a:lnTo>
                    <a:pt x="183" y="353"/>
                  </a:lnTo>
                  <a:lnTo>
                    <a:pt x="217" y="374"/>
                  </a:lnTo>
                  <a:lnTo>
                    <a:pt x="255" y="392"/>
                  </a:lnTo>
                  <a:lnTo>
                    <a:pt x="292" y="407"/>
                  </a:lnTo>
                  <a:lnTo>
                    <a:pt x="333" y="417"/>
                  </a:lnTo>
                  <a:lnTo>
                    <a:pt x="373" y="423"/>
                  </a:lnTo>
                  <a:lnTo>
                    <a:pt x="415" y="425"/>
                  </a:lnTo>
                  <a:lnTo>
                    <a:pt x="457" y="423"/>
                  </a:lnTo>
                  <a:lnTo>
                    <a:pt x="498" y="417"/>
                  </a:lnTo>
                  <a:lnTo>
                    <a:pt x="539" y="407"/>
                  </a:lnTo>
                  <a:lnTo>
                    <a:pt x="576" y="392"/>
                  </a:lnTo>
                  <a:lnTo>
                    <a:pt x="613" y="374"/>
                  </a:lnTo>
                  <a:lnTo>
                    <a:pt x="647" y="353"/>
                  </a:lnTo>
                  <a:lnTo>
                    <a:pt x="678" y="331"/>
                  </a:lnTo>
                  <a:lnTo>
                    <a:pt x="707" y="303"/>
                  </a:lnTo>
                  <a:lnTo>
                    <a:pt x="735" y="274"/>
                  </a:lnTo>
                  <a:lnTo>
                    <a:pt x="758" y="243"/>
                  </a:lnTo>
                  <a:lnTo>
                    <a:pt x="779" y="209"/>
                  </a:lnTo>
                  <a:lnTo>
                    <a:pt x="797" y="172"/>
                  </a:lnTo>
                  <a:lnTo>
                    <a:pt x="811" y="134"/>
                  </a:lnTo>
                  <a:lnTo>
                    <a:pt x="821" y="94"/>
                  </a:lnTo>
                  <a:lnTo>
                    <a:pt x="827" y="53"/>
                  </a:lnTo>
                  <a:lnTo>
                    <a:pt x="829" y="11"/>
                  </a:lnTo>
                  <a:lnTo>
                    <a:pt x="829" y="8"/>
                  </a:lnTo>
                  <a:lnTo>
                    <a:pt x="829" y="6"/>
                  </a:lnTo>
                  <a:lnTo>
                    <a:pt x="829" y="3"/>
                  </a:lnTo>
                  <a:lnTo>
                    <a:pt x="829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1575720" y="4087080"/>
              <a:ext cx="1172160" cy="83520"/>
            </a:xfrm>
            <a:custGeom>
              <a:avLst/>
              <a:gdLst/>
              <a:ahLst/>
              <a:rect l="l" t="t" r="r" b="b"/>
              <a:pathLst>
                <a:path w="490" h="50">
                  <a:moveTo>
                    <a:pt x="475" y="50"/>
                  </a:moveTo>
                  <a:lnTo>
                    <a:pt x="480" y="37"/>
                  </a:lnTo>
                  <a:lnTo>
                    <a:pt x="483" y="26"/>
                  </a:lnTo>
                  <a:lnTo>
                    <a:pt x="487" y="13"/>
                  </a:lnTo>
                  <a:lnTo>
                    <a:pt x="490" y="0"/>
                  </a:lnTo>
                  <a:lnTo>
                    <a:pt x="0" y="34"/>
                  </a:lnTo>
                  <a:lnTo>
                    <a:pt x="475" y="50"/>
                  </a:lnTo>
                  <a:close/>
                </a:path>
              </a:pathLst>
            </a:custGeom>
            <a:solidFill>
              <a:srgbClr val="282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649520" y="4244040"/>
              <a:ext cx="1090440" cy="78120"/>
            </a:xfrm>
            <a:custGeom>
              <a:avLst/>
              <a:gdLst/>
              <a:ahLst/>
              <a:rect l="l" t="t" r="r" b="b"/>
              <a:pathLst>
                <a:path w="456" h="47">
                  <a:moveTo>
                    <a:pt x="430" y="47"/>
                  </a:moveTo>
                  <a:lnTo>
                    <a:pt x="437" y="36"/>
                  </a:lnTo>
                  <a:lnTo>
                    <a:pt x="443" y="23"/>
                  </a:lnTo>
                  <a:lnTo>
                    <a:pt x="450" y="11"/>
                  </a:lnTo>
                  <a:lnTo>
                    <a:pt x="456" y="0"/>
                  </a:lnTo>
                  <a:lnTo>
                    <a:pt x="0" y="31"/>
                  </a:lnTo>
                  <a:lnTo>
                    <a:pt x="430" y="47"/>
                  </a:lnTo>
                  <a:close/>
                </a:path>
              </a:pathLst>
            </a:custGeom>
            <a:solidFill>
              <a:srgbClr val="282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800360" y="4403880"/>
              <a:ext cx="902160" cy="64800"/>
            </a:xfrm>
            <a:custGeom>
              <a:avLst/>
              <a:gdLst/>
              <a:ahLst/>
              <a:rect l="l" t="t" r="r" b="b"/>
              <a:pathLst>
                <a:path w="377" h="39">
                  <a:moveTo>
                    <a:pt x="338" y="39"/>
                  </a:moveTo>
                  <a:lnTo>
                    <a:pt x="349" y="29"/>
                  </a:lnTo>
                  <a:lnTo>
                    <a:pt x="359" y="19"/>
                  </a:lnTo>
                  <a:lnTo>
                    <a:pt x="369" y="9"/>
                  </a:lnTo>
                  <a:lnTo>
                    <a:pt x="377" y="0"/>
                  </a:lnTo>
                  <a:lnTo>
                    <a:pt x="0" y="26"/>
                  </a:lnTo>
                  <a:lnTo>
                    <a:pt x="338" y="39"/>
                  </a:lnTo>
                  <a:close/>
                </a:path>
              </a:pathLst>
            </a:custGeom>
            <a:solidFill>
              <a:srgbClr val="282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556080" y="5199120"/>
              <a:ext cx="1330200" cy="64800"/>
            </a:xfrm>
            <a:custGeom>
              <a:avLst/>
              <a:gdLst/>
              <a:ahLst/>
              <a:rect l="l" t="t" r="r" b="b"/>
              <a:pathLst>
                <a:path w="556" h="39">
                  <a:moveTo>
                    <a:pt x="556" y="39"/>
                  </a:moveTo>
                  <a:lnTo>
                    <a:pt x="548" y="34"/>
                  </a:lnTo>
                  <a:lnTo>
                    <a:pt x="538" y="29"/>
                  </a:lnTo>
                  <a:lnTo>
                    <a:pt x="530" y="24"/>
                  </a:lnTo>
                  <a:lnTo>
                    <a:pt x="521" y="19"/>
                  </a:lnTo>
                  <a:lnTo>
                    <a:pt x="512" y="14"/>
                  </a:lnTo>
                  <a:lnTo>
                    <a:pt x="503" y="10"/>
                  </a:lnTo>
                  <a:lnTo>
                    <a:pt x="493" y="5"/>
                  </a:lnTo>
                  <a:lnTo>
                    <a:pt x="483" y="0"/>
                  </a:lnTo>
                  <a:lnTo>
                    <a:pt x="0" y="21"/>
                  </a:lnTo>
                  <a:lnTo>
                    <a:pt x="556" y="39"/>
                  </a:lnTo>
                  <a:close/>
                </a:path>
              </a:pathLst>
            </a:custGeom>
            <a:solidFill>
              <a:srgbClr val="282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322080" y="5344200"/>
              <a:ext cx="1437480" cy="73080"/>
            </a:xfrm>
            <a:custGeom>
              <a:avLst/>
              <a:gdLst/>
              <a:ahLst/>
              <a:rect l="l" t="t" r="r" b="b"/>
              <a:pathLst>
                <a:path w="601" h="44">
                  <a:moveTo>
                    <a:pt x="601" y="44"/>
                  </a:moveTo>
                  <a:lnTo>
                    <a:pt x="593" y="33"/>
                  </a:lnTo>
                  <a:lnTo>
                    <a:pt x="584" y="22"/>
                  </a:lnTo>
                  <a:lnTo>
                    <a:pt x="575" y="10"/>
                  </a:lnTo>
                  <a:lnTo>
                    <a:pt x="563" y="0"/>
                  </a:lnTo>
                  <a:lnTo>
                    <a:pt x="0" y="23"/>
                  </a:lnTo>
                  <a:lnTo>
                    <a:pt x="601" y="44"/>
                  </a:lnTo>
                  <a:close/>
                </a:path>
              </a:pathLst>
            </a:custGeom>
            <a:solidFill>
              <a:srgbClr val="282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692360" y="3933720"/>
            <a:ext cx="15127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ff"/>
                </a:solidFill>
                <a:latin typeface="Times New Roman"/>
              </a:rPr>
              <a:t>A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40360" y="4292640"/>
            <a:ext cx="1513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ff"/>
                </a:solidFill>
                <a:latin typeface="Times New Roman"/>
              </a:rPr>
              <a:t>P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619280" y="4365720"/>
            <a:ext cx="1697040" cy="249228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9" name=""/>
          <p:cNvSpPr/>
          <p:nvPr/>
        </p:nvSpPr>
        <p:spPr>
          <a:xfrm>
            <a:off x="3390840" y="101268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5050"/>
                </a:solidFill>
                <a:latin typeface="Times New Roman"/>
              </a:rPr>
              <a:t>APARECE EL SÍND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ELODRA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qju32jx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65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66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9009" t="19981" r="7745" b="14726"/>
          <a:stretch/>
        </p:blipFill>
        <p:spPr>
          <a:xfrm>
            <a:off x="0" y="0"/>
            <a:ext cx="9144000" cy="71215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intriga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084720" y="692280"/>
            <a:ext cx="1152720" cy="107928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637000"/>
            <a:ext cx="9144000" cy="0"/>
          </a:xfrm>
          <a:prstGeom prst="line">
            <a:avLst/>
          </a:prstGeom>
          <a:ln w="3240">
            <a:solidFill>
              <a:srgbClr val="66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93880" y="549360"/>
            <a:ext cx="1795320" cy="16970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24000" y="836640"/>
            <a:ext cx="1150920" cy="1081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3141720"/>
            <a:ext cx="1152720" cy="107928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0920" y="3141720"/>
            <a:ext cx="1150920" cy="10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84720" y="692280"/>
            <a:ext cx="1151280" cy="1081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51640" y="2708280"/>
            <a:ext cx="2055600" cy="187308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84720" y="3068640"/>
            <a:ext cx="1151280" cy="1081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90520" y="934920"/>
            <a:ext cx="1440000" cy="1191240"/>
            <a:chOff x="290520" y="934920"/>
            <a:chExt cx="1440000" cy="1191240"/>
          </a:xfrm>
        </p:grpSpPr>
        <p:sp>
          <p:nvSpPr>
            <p:cNvPr id="171" name=""/>
            <p:cNvSpPr/>
            <p:nvPr/>
          </p:nvSpPr>
          <p:spPr>
            <a:xfrm flipH="1">
              <a:off x="1298520" y="1438200"/>
              <a:ext cx="43200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0520" y="934920"/>
              <a:ext cx="122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3399"/>
                  </a:solidFill>
                  <a:latin typeface="Times New Roman"/>
                </a:rPr>
                <a:t>Desvíos de Bie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3" name=""/>
          <p:cNvGraphicFramePr/>
          <p:nvPr/>
        </p:nvGraphicFramePr>
        <p:xfrm>
          <a:off x="1925640" y="4648320"/>
          <a:ext cx="5977080" cy="1095120"/>
        </p:xfrm>
        <a:graphic>
          <a:graphicData uri="http://schemas.openxmlformats.org/drawingml/2006/table">
            <a:tbl>
              <a:tblPr/>
              <a:tblGrid>
                <a:gridCol w="2992320"/>
                <a:gridCol w="2984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eb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curso Preven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omposición Patrimon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uperación Opera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quid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uer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74" name=""/>
          <p:cNvGrpSpPr/>
          <p:nvPr/>
        </p:nvGrpSpPr>
        <p:grpSpPr>
          <a:xfrm>
            <a:off x="2700360" y="5805360"/>
            <a:ext cx="3967200" cy="1036800"/>
            <a:chOff x="2700360" y="5805360"/>
            <a:chExt cx="3967200" cy="1036800"/>
          </a:xfrm>
        </p:grpSpPr>
        <p:sp>
          <p:nvSpPr>
            <p:cNvPr id="175" name=""/>
            <p:cNvSpPr/>
            <p:nvPr/>
          </p:nvSpPr>
          <p:spPr>
            <a:xfrm>
              <a:off x="3419640" y="6221520"/>
              <a:ext cx="2663640" cy="620640"/>
            </a:xfrm>
            <a:prstGeom prst="ellipse">
              <a:avLst/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</a:rPr>
                <a:t>ACREED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00360" y="5805360"/>
              <a:ext cx="2016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4940280" y="5805360"/>
              <a:ext cx="172728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7451640" y="836640"/>
            <a:ext cx="1692360" cy="1191240"/>
            <a:chOff x="7451640" y="836640"/>
            <a:chExt cx="1692360" cy="1191240"/>
          </a:xfrm>
        </p:grpSpPr>
        <p:sp>
          <p:nvSpPr>
            <p:cNvPr id="179" name=""/>
            <p:cNvSpPr/>
            <p:nvPr/>
          </p:nvSpPr>
          <p:spPr>
            <a:xfrm flipH="1">
              <a:off x="7451640" y="1268280"/>
              <a:ext cx="64944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740720" y="836640"/>
              <a:ext cx="140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3399"/>
                  </a:solidFill>
                  <a:latin typeface="Times New Roman"/>
                </a:rPr>
                <a:t>Entran deudas ilegítim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0" y="2085840"/>
            <a:ext cx="1800360" cy="1959120"/>
            <a:chOff x="0" y="2085840"/>
            <a:chExt cx="1800360" cy="1959120"/>
          </a:xfrm>
        </p:grpSpPr>
        <p:sp>
          <p:nvSpPr>
            <p:cNvPr id="182" name=""/>
            <p:cNvSpPr/>
            <p:nvPr/>
          </p:nvSpPr>
          <p:spPr>
            <a:xfrm>
              <a:off x="0" y="350028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3399"/>
                  </a:solidFill>
                  <a:latin typeface="Times New Roman"/>
                </a:rPr>
                <a:t>Recuperarl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506520" y="2085840"/>
              <a:ext cx="1224000" cy="1959120"/>
              <a:chOff x="506520" y="2085840"/>
              <a:chExt cx="1224000" cy="1959120"/>
            </a:xfrm>
          </p:grpSpPr>
          <p:sp>
            <p:nvSpPr>
              <p:cNvPr id="184" name=""/>
              <p:cNvSpPr/>
              <p:nvPr/>
            </p:nvSpPr>
            <p:spPr>
              <a:xfrm>
                <a:off x="506520" y="4044960"/>
                <a:ext cx="122400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06520" y="2085840"/>
                <a:ext cx="0" cy="194472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" name=""/>
          <p:cNvSpPr/>
          <p:nvPr/>
        </p:nvSpPr>
        <p:spPr>
          <a:xfrm>
            <a:off x="3203640" y="1844640"/>
            <a:ext cx="3024000" cy="1441440"/>
          </a:xfrm>
          <a:custGeom>
            <a:avLst/>
            <a:gdLst>
              <a:gd name="textAreaLeft" fmla="*/ 690120 w 3024000"/>
              <a:gd name="textAreaRight" fmla="*/ 2333880 w 3024000"/>
              <a:gd name="textAreaTop" fmla="*/ 329040 h 1441440"/>
              <a:gd name="textAreaBottom" fmla="*/ 11124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9900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ÍND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17600" y="-52560"/>
            <a:ext cx="8386200" cy="4705560"/>
            <a:chOff x="417600" y="-52560"/>
            <a:chExt cx="8386200" cy="4705560"/>
          </a:xfrm>
        </p:grpSpPr>
        <p:sp>
          <p:nvSpPr>
            <p:cNvPr id="188" name=""/>
            <p:cNvSpPr/>
            <p:nvPr/>
          </p:nvSpPr>
          <p:spPr>
            <a:xfrm>
              <a:off x="4910040" y="1989000"/>
              <a:ext cx="0" cy="266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417600" y="-52560"/>
              <a:ext cx="8386200" cy="2200320"/>
              <a:chOff x="417600" y="-52560"/>
              <a:chExt cx="8386200" cy="220032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523440" y="-52560"/>
                <a:ext cx="8280360" cy="2200320"/>
                <a:chOff x="523440" y="-52560"/>
                <a:chExt cx="8280360" cy="22003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4915800" y="347400"/>
                  <a:ext cx="0" cy="180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23440" y="-52560"/>
                  <a:ext cx="828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9900cc"/>
                      </a:solidFill>
                      <a:latin typeface="Times New Roman"/>
                    </a:rPr>
                    <a:t>EVOLUCIÓN DEL PATRIMONI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94720" y="14040"/>
                  <a:ext cx="431640" cy="33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9900cc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227440" y="14040"/>
                  <a:ext cx="431640" cy="33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9900cc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" name=""/>
              <p:cNvSpPr/>
              <p:nvPr/>
            </p:nvSpPr>
            <p:spPr>
              <a:xfrm>
                <a:off x="417600" y="377640"/>
                <a:ext cx="820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"/>
          <p:cNvGrpSpPr/>
          <p:nvPr/>
        </p:nvGrpSpPr>
        <p:grpSpPr>
          <a:xfrm>
            <a:off x="6588000" y="1844640"/>
            <a:ext cx="2556000" cy="1800360"/>
            <a:chOff x="6588000" y="1844640"/>
            <a:chExt cx="2556000" cy="1800360"/>
          </a:xfrm>
        </p:grpSpPr>
        <p:grpSp>
          <p:nvGrpSpPr>
            <p:cNvPr id="197" name=""/>
            <p:cNvGrpSpPr/>
            <p:nvPr/>
          </p:nvGrpSpPr>
          <p:grpSpPr>
            <a:xfrm>
              <a:off x="7343640" y="3068640"/>
              <a:ext cx="1800360" cy="576360"/>
              <a:chOff x="7343640" y="3068640"/>
              <a:chExt cx="1800360" cy="576360"/>
            </a:xfrm>
          </p:grpSpPr>
          <p:sp>
            <p:nvSpPr>
              <p:cNvPr id="198" name=""/>
              <p:cNvSpPr/>
              <p:nvPr/>
            </p:nvSpPr>
            <p:spPr>
              <a:xfrm>
                <a:off x="7667640" y="3645000"/>
                <a:ext cx="64764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343640" y="3068640"/>
                <a:ext cx="180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3399"/>
                    </a:solidFill>
                    <a:latin typeface="Times New Roman"/>
                  </a:rPr>
                  <a:t>Eliminarl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6588000" y="1844640"/>
              <a:ext cx="0" cy="86364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LATALO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16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LATALO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51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578480" y="2981160"/>
            <a:ext cx="1440" cy="819360"/>
          </a:xfrm>
          <a:prstGeom prst="line">
            <a:avLst/>
          </a:prstGeom>
          <a:ln w="61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66880" y="3886200"/>
            <a:ext cx="3886200" cy="762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 INMEDI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19520" y="2133720"/>
            <a:ext cx="3409920" cy="933480"/>
          </a:xfrm>
          <a:prstGeom prst="rect">
            <a:avLst/>
          </a:prstGeom>
          <a:solidFill>
            <a:srgbClr val="b2b2b2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SÍNDICO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533520"/>
            <a:ext cx="3365640" cy="93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QUIEBRA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81720" y="3905280"/>
            <a:ext cx="2743200" cy="762120"/>
          </a:xfrm>
          <a:custGeom>
            <a:avLst/>
            <a:gdLst>
              <a:gd name="textAreaLeft" fmla="*/ 428400 w 2743200"/>
              <a:gd name="textAreaRight" fmla="*/ 2094840 w 2743200"/>
              <a:gd name="textAreaTop" fmla="*/ 44640 h 762120"/>
              <a:gd name="textAreaBottom" fmla="*/ 7174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1271"/>
                </a:moveTo>
                <a:lnTo>
                  <a:pt x="15814" y="1271"/>
                </a:lnTo>
                <a:lnTo>
                  <a:pt x="15814" y="0"/>
                </a:lnTo>
                <a:lnTo>
                  <a:pt x="21600" y="10800"/>
                </a:lnTo>
                <a:lnTo>
                  <a:pt x="15814" y="21600"/>
                </a:lnTo>
                <a:lnTo>
                  <a:pt x="15814" y="20329"/>
                </a:lnTo>
                <a:lnTo>
                  <a:pt x="3375" y="20329"/>
                </a:lnTo>
                <a:close/>
              </a:path>
              <a:path w="21600" h="21600">
                <a:moveTo>
                  <a:pt x="0" y="1271"/>
                </a:moveTo>
                <a:lnTo>
                  <a:pt x="675" y="1271"/>
                </a:lnTo>
                <a:lnTo>
                  <a:pt x="675" y="20329"/>
                </a:lnTo>
                <a:lnTo>
                  <a:pt x="0" y="20329"/>
                </a:lnTo>
                <a:close/>
              </a:path>
              <a:path w="21600" h="21600">
                <a:moveTo>
                  <a:pt x="1350" y="1271"/>
                </a:moveTo>
                <a:lnTo>
                  <a:pt x="2700" y="1271"/>
                </a:lnTo>
                <a:lnTo>
                  <a:pt x="2700" y="20329"/>
                </a:lnTo>
                <a:lnTo>
                  <a:pt x="1350" y="20329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EL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4952880"/>
            <a:ext cx="358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cc99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AU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cc99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EGER BIENES Y DEREC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324480" y="4952880"/>
            <a:ext cx="2819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cc99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MINIST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cc99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cc99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479736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cc99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TRAR” EL P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14480" y="3924360"/>
            <a:ext cx="2743200" cy="762120"/>
          </a:xfrm>
          <a:custGeom>
            <a:avLst/>
            <a:gdLst>
              <a:gd name="textAreaLeft" fmla="*/ 428760 w 2743200"/>
              <a:gd name="textAreaRight" fmla="*/ 2095200 w 2743200"/>
              <a:gd name="textAreaTop" fmla="*/ 44640 h 762120"/>
              <a:gd name="textAreaBottom" fmla="*/ 7174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1271"/>
                </a:moveTo>
                <a:lnTo>
                  <a:pt x="15814" y="1271"/>
                </a:lnTo>
                <a:lnTo>
                  <a:pt x="15814" y="0"/>
                </a:lnTo>
                <a:lnTo>
                  <a:pt x="21600" y="10800"/>
                </a:lnTo>
                <a:lnTo>
                  <a:pt x="15814" y="21600"/>
                </a:lnTo>
                <a:lnTo>
                  <a:pt x="15814" y="20329"/>
                </a:lnTo>
                <a:lnTo>
                  <a:pt x="3375" y="20329"/>
                </a:lnTo>
                <a:close/>
              </a:path>
              <a:path w="21600" h="21600">
                <a:moveTo>
                  <a:pt x="0" y="1271"/>
                </a:moveTo>
                <a:lnTo>
                  <a:pt x="675" y="1271"/>
                </a:lnTo>
                <a:lnTo>
                  <a:pt x="675" y="20329"/>
                </a:lnTo>
                <a:lnTo>
                  <a:pt x="0" y="20329"/>
                </a:lnTo>
                <a:close/>
              </a:path>
              <a:path w="21600" h="21600">
                <a:moveTo>
                  <a:pt x="1350" y="1271"/>
                </a:moveTo>
                <a:lnTo>
                  <a:pt x="2700" y="1271"/>
                </a:lnTo>
                <a:lnTo>
                  <a:pt x="2700" y="20329"/>
                </a:lnTo>
                <a:lnTo>
                  <a:pt x="1350" y="20329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T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1523880"/>
            <a:ext cx="0" cy="609840"/>
          </a:xfrm>
          <a:prstGeom prst="line">
            <a:avLst/>
          </a:prstGeom>
          <a:ln w="61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56610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cc99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UPERAR LO DESVI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LCULA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LCULA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TAQU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500"/>
                            </p:stCondLst>
                            <p:childTnLst>
                              <p:par>
                                <p:cTn id="19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M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3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8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remove" presetClass="emph" presetID="3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5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6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PL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971640" y="444600"/>
            <a:ext cx="7200720" cy="5902200"/>
          </a:xfrm>
          <a:prstGeom prst="rect">
            <a:avLst/>
          </a:prstGeom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13" name=""/>
          <p:cNvSpPr/>
          <p:nvPr/>
        </p:nvSpPr>
        <p:spPr>
          <a:xfrm>
            <a:off x="1979640" y="6093000"/>
            <a:ext cx="54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92360" y="6278400"/>
            <a:ext cx="59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Fray Luca Paccioli (1445-151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44000" cy="825336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12560" y="3213000"/>
            <a:ext cx="65516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LA PARTIDA DO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9520" y="553680"/>
            <a:ext cx="7921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defa9"/>
                </a:solidFill>
                <a:latin typeface="Elephant"/>
              </a:rPr>
              <a:t>“</a:t>
            </a:r>
            <a:r>
              <a:rPr b="1" i="1" lang="es-ES_tradnl" sz="2400" spc="-1" strike="noStrike">
                <a:solidFill>
                  <a:srgbClr val="edefa9"/>
                </a:solidFill>
                <a:latin typeface="Elephant"/>
              </a:rPr>
              <a:t>Quien recibe es deudor, quien entrega es acreed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edefa9"/>
                </a:solidFill>
                <a:latin typeface="Elephant"/>
              </a:rPr>
              <a:t>“</a:t>
            </a:r>
            <a:r>
              <a:rPr b="1" i="1" lang="es-ES_tradnl" sz="2400" spc="-1" strike="noStrike">
                <a:solidFill>
                  <a:srgbClr val="edefa9"/>
                </a:solidFill>
                <a:latin typeface="Elephant"/>
              </a:rPr>
              <a:t>No hay deudor sin acreedor ni acreedor sin deud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edefa9"/>
                </a:solidFill>
                <a:latin typeface="Elephant"/>
              </a:rPr>
              <a:t>“</a:t>
            </a:r>
            <a:r>
              <a:rPr b="1" i="1" lang="es-ES_tradnl" sz="2400" spc="-1" strike="noStrike">
                <a:solidFill>
                  <a:srgbClr val="edefa9"/>
                </a:solidFill>
                <a:latin typeface="Elephant"/>
              </a:rPr>
              <a:t>Todo valor que entra debe ser equivalente al que sa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edefa9"/>
                </a:solidFill>
                <a:latin typeface="Elephant"/>
              </a:rPr>
              <a:t>“</a:t>
            </a:r>
            <a:r>
              <a:rPr b="1" i="1" lang="es-ES_tradnl" sz="2400" spc="-1" strike="noStrike">
                <a:solidFill>
                  <a:srgbClr val="edefa9"/>
                </a:solidFill>
                <a:latin typeface="Elephant"/>
              </a:rPr>
              <a:t>Todo lo que entra por una cuenta debe salir por  la misma 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edefa9"/>
                </a:solidFill>
                <a:latin typeface="Elephant"/>
              </a:rPr>
              <a:t>“</a:t>
            </a:r>
            <a:r>
              <a:rPr b="1" i="1" lang="es-ES_tradnl" sz="2400" spc="-1" strike="noStrike">
                <a:solidFill>
                  <a:srgbClr val="edefa9"/>
                </a:solidFill>
                <a:latin typeface="Elephant"/>
              </a:rPr>
              <a:t>Las perdidas se debitan, las ganancias se acredita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311800" y="5570640"/>
            <a:ext cx="1079640" cy="9223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751280" y="602136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defa9"/>
                </a:solidFill>
                <a:latin typeface="Times New Roman"/>
              </a:rPr>
              <a:t>Fray Luca Paccioli (1445-15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">
    <p:dissolv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263" dur="2000" fill="hold"/>
                                        <p:tgtEl>
                                          <p:spTgt spid="217"/>
                                        </p:tgtEl>
                                      </p:cBhvr>
                                      <p:to x="180000" y="1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000"/>
                            </p:stCondLst>
                            <p:childTnLst>
                              <p:par>
                                <p:cTn id="269" nodeType="after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6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9680"/>
                            </p:stCondLst>
                            <p:childTnLst>
                              <p:par>
                                <p:cTn id="2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59259E-006 L 0.5066 -0.01065 E">
                                      <p:cBhvr>
                                        <p:cTn id="283" dur="3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2680"/>
                            </p:stCondLst>
                            <p:childTnLst>
                              <p:par>
                                <p:cTn id="2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1T21:15:31Z</dcterms:created>
  <dc:creator>DOMINGO O. RODRIGUEZ</dc:creator>
  <dc:description/>
  <dc:language>en-US</dc:language>
  <cp:lastModifiedBy>C.P.C.E.C.A.B.A.</cp:lastModifiedBy>
  <dcterms:modified xsi:type="dcterms:W3CDTF">2004-08-30T20:19:39Z</dcterms:modified>
  <cp:revision>90</cp:revision>
  <dc:subject/>
  <dc:title>Sin título de diapositiva</dc:title>
</cp:coreProperties>
</file>