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54F3-0668-4C8C-99D1-2FA225AA7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D8D0-298A-4069-8320-9AF1EEC2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83AA-2415-442A-B643-8209F02CC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485C-764D-428A-A945-E1329A445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D8F2-1FB4-450B-899F-62BE20912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A758-C7EA-42EC-A6F7-054AB8FE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2C80-7D2A-40D2-B894-32A3DDC1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8905-4AC8-4CF9-ADD4-0A2B70DD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0294-7E15-4C24-8D51-20081EEC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B3B2-BA7D-4727-8462-25A60362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9C11-1362-453B-904A-65803EB6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E214-F152-4751-BA9D-5D19C6A0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5433-B4BA-44B9-84AD-A31044DF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5439-A7ED-406A-89F8-BDF1F239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9F5B-28F4-4A72-880A-913CAEE5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BA81-430B-4362-B6AF-CC5476034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1393-1321-424E-AF71-3C344427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1472-31B5-4473-A241-4A458D33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E909-A65D-4AC1-B8A7-368A12FF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93DA-2C71-4026-B23A-4466189E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DB0F-9531-450B-9A81-FEF14D96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ADCA-096B-4724-A3FF-861E397E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61AD-69E3-4260-BB82-7722DA0E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2270-0194-4EDE-B838-2FF2D267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3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4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A5A2-5D06-4F58-805E-815B683CD3A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4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6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0CD2-A595-4E74-A5BD-AB771BD1AB4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" y="5943600"/>
            <a:ext cx="868680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Monotype Corsiva"/>
              </a:rPr>
              <a:t>Dirección General de Protección de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480" y="15228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Monotype Corsiva"/>
              </a:rPr>
              <a:t>Gobierno de la Ciudad Autónoma de Buenos Ai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690640" y="1295280"/>
          <a:ext cx="3603960" cy="445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90640" y="1295280"/>
                    <a:ext cx="360396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495360" y="838080"/>
            <a:ext cx="8153280" cy="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143000" y="30636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Haettenschweiler"/>
              </a:rPr>
              <a:t>Informes profesionales exigibles para la Rúbric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228600"/>
            <a:ext cx="685800" cy="685800"/>
          </a:xfrm>
          <a:prstGeom prst="ellipse">
            <a:avLst/>
          </a:prstGeom>
          <a:solidFill>
            <a:srgbClr val="cc3300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14400" y="838080"/>
            <a:ext cx="79246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1523880"/>
            <a:ext cx="8763120" cy="510552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2041560"/>
            <a:ext cx="304920" cy="304920"/>
          </a:xfrm>
          <a:prstGeom prst="sun">
            <a:avLst>
              <a:gd name="adj" fmla="val 2500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3124080"/>
            <a:ext cx="304920" cy="304920"/>
          </a:xfrm>
          <a:prstGeom prst="sun">
            <a:avLst>
              <a:gd name="adj" fmla="val 2500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4327560"/>
            <a:ext cx="304920" cy="304920"/>
          </a:xfrm>
          <a:prstGeom prst="sun">
            <a:avLst>
              <a:gd name="adj" fmla="val 2500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5334120"/>
            <a:ext cx="304920" cy="304560"/>
          </a:xfrm>
          <a:prstGeom prst="sun">
            <a:avLst>
              <a:gd name="adj" fmla="val 2500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19810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forme especial sobre almacenamiento de la información en Hojas Móv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30322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forme especial sobre almacenamiento de la información en Microfic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42512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forme especial sobre Extravío del Registro del Art. 52 de la Ley 20.7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524196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forme especial sobre Rúbrica de Registros Laborales (para Trámites Precalifica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95360" y="1752480"/>
            <a:ext cx="8153280" cy="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1560" y="1219320"/>
            <a:ext cx="79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Monotype Corsiva"/>
              </a:rPr>
              <a:t>Gobierno de la Ciudad Autónoma de Buenos A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29280" y="3124080"/>
            <a:ext cx="685800" cy="762120"/>
          </a:xfrm>
          <a:prstGeom prst="downArrow">
            <a:avLst>
              <a:gd name="adj1" fmla="val 50000"/>
              <a:gd name="adj2" fmla="val 27782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41148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ubsecretaría de Justicia y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86080" y="23623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cretaría de Justicia y Seguridad Urb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29280" y="4767120"/>
            <a:ext cx="685800" cy="762120"/>
          </a:xfrm>
          <a:prstGeom prst="downArrow">
            <a:avLst>
              <a:gd name="adj1" fmla="val 50000"/>
              <a:gd name="adj2" fmla="val 27782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5783400"/>
            <a:ext cx="71625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rección General de Protección del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0536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108320" y="0"/>
          <a:ext cx="925560" cy="11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08320" y="0"/>
                    <a:ext cx="9255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762120"/>
            <a:ext cx="861048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partir del 1º de abril del año 2003 el Gobierno de la Ciudad de Buenos Aires, a través de la Dirección General de Protección del Trabajo, asume la facultad de rubricar los libros de registro de personal, y todo instrumento individual de contralor del cumplimiento de la normativa laboral vigente, exigidos en el ámbito geográfico de la Ciudad Autónoma de Buenos Aires.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ara la rúbrica de documentación laboral, el empleador debe dirigirse 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154080"/>
            <a:ext cx="6934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Haettenschweiler"/>
              </a:rPr>
              <a:t>Rúbrica de Documentación Labor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76320"/>
            <a:ext cx="685800" cy="685800"/>
          </a:xfrm>
          <a:prstGeom prst="ellipse">
            <a:avLst/>
          </a:prstGeom>
          <a:solidFill>
            <a:srgbClr val="cc3300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685800"/>
            <a:ext cx="79246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2666880"/>
            <a:ext cx="4114800" cy="320040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52880" y="2666880"/>
            <a:ext cx="4114800" cy="320040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2971800"/>
            <a:ext cx="388620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Horarios: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9:30 a 13:00: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recepción para rubricar hasta 5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rámites por persona.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:00 a 17:00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retiro de documentación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rubrica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Martes y Jueves de 15:00 a 17:00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recepción de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más de 5 trámites por persona.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3960" y="2133720"/>
            <a:ext cx="2971800" cy="838080"/>
          </a:xfrm>
          <a:prstGeom prst="rect">
            <a:avLst/>
          </a:prstGeom>
          <a:solidFill>
            <a:srgbClr val="9cb5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76240" y="2163600"/>
            <a:ext cx="266724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oreno 1170 – Dirección General de Protección del Trabaj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24560" y="2133720"/>
            <a:ext cx="2971800" cy="838080"/>
          </a:xfrm>
          <a:prstGeom prst="rect">
            <a:avLst/>
          </a:prstGeom>
          <a:solidFill>
            <a:srgbClr val="9cb5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76840" y="2163600"/>
            <a:ext cx="266724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Viamonte 1549 – Consejo Profesional de Ciencias Económ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971800"/>
            <a:ext cx="388620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Horarios: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9:30 a 13:00: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recepción para rubricar hasta 5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rámites por persona.</a:t>
            </a:r>
            <a:br>
              <a:rPr sz="1600"/>
            </a:b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:00 a 17:00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retiro de documentación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rubrica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Lunes a Vierne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de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9:30 a 10:30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recepción de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más de 5 trámites por persona.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6019920"/>
            <a:ext cx="8610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nsulta de requisitos: </a:t>
            </a:r>
            <a:r>
              <a:rPr b="0" lang="es-ES_tradnl" sz="1800" spc="-1" strike="noStrike" u="sng">
                <a:solidFill>
                  <a:srgbClr val="660066"/>
                </a:solidFill>
                <a:uFillTx/>
                <a:latin typeface="Times New Roman"/>
              </a:rPr>
              <a:t>www</a:t>
            </a:r>
            <a:r>
              <a:rPr b="0" lang="es-ES_tradnl" sz="1800" spc="-1" strike="noStrike" u="sng">
                <a:solidFill>
                  <a:srgbClr val="660066"/>
                </a:solidFill>
                <a:uFillTx/>
                <a:latin typeface="Times New Roman"/>
              </a:rPr>
              <a:t>.</a:t>
            </a:r>
            <a:r>
              <a:rPr b="0" lang="es-ES_tradnl" sz="1800" spc="-1" strike="noStrike" u="sng">
                <a:solidFill>
                  <a:srgbClr val="660066"/>
                </a:solidFill>
                <a:uFillTx/>
                <a:latin typeface="Times New Roman"/>
              </a:rPr>
              <a:t>buenosaires</a:t>
            </a:r>
            <a:r>
              <a:rPr b="0" lang="es-ES_tradnl" sz="1800" spc="-1" strike="noStrike" u="sng">
                <a:solidFill>
                  <a:srgbClr val="660066"/>
                </a:solidFill>
                <a:uFillTx/>
                <a:latin typeface="Times New Roman"/>
              </a:rPr>
              <a:t>.</a:t>
            </a:r>
            <a:r>
              <a:rPr b="0" lang="es-ES_tradnl" sz="1800" spc="-1" strike="noStrike" u="sng">
                <a:solidFill>
                  <a:srgbClr val="660066"/>
                </a:solidFill>
                <a:uFillTx/>
                <a:latin typeface="Times New Roman"/>
              </a:rPr>
              <a:t>gov</a:t>
            </a:r>
            <a:r>
              <a:rPr b="0" lang="es-ES_tradnl" sz="1800" spc="-1" strike="noStrike" u="sng">
                <a:solidFill>
                  <a:srgbClr val="660066"/>
                </a:solidFill>
                <a:uFillTx/>
                <a:latin typeface="Times New Roman"/>
              </a:rPr>
              <a:t>.</a:t>
            </a:r>
            <a:r>
              <a:rPr b="0" lang="es-ES_tradnl" sz="1800" spc="-1" strike="noStrike" u="sng">
                <a:solidFill>
                  <a:srgbClr val="660066"/>
                </a:solidFill>
                <a:uFillTx/>
                <a:latin typeface="Times New Roman"/>
              </a:rPr>
              <a:t>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" sz="1800" spc="-1" strike="noStrike" u="sng">
                <a:solidFill>
                  <a:srgbClr val="990099"/>
                </a:solidFill>
                <a:uFillTx/>
                <a:latin typeface="Times New Roman"/>
              </a:rPr>
              <a:t>www.cpcecf.org.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880" y="228600"/>
            <a:ext cx="685800" cy="685800"/>
          </a:xfrm>
          <a:prstGeom prst="ellipse">
            <a:avLst/>
          </a:prstGeom>
          <a:solidFill>
            <a:srgbClr val="cc3300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838080"/>
            <a:ext cx="79246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228600"/>
            <a:ext cx="7696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Haettenschweiler"/>
              </a:rPr>
              <a:t>Antecedentes Normativ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86080" y="1828800"/>
            <a:ext cx="6172200" cy="1219320"/>
            <a:chOff x="1486080" y="1828800"/>
            <a:chExt cx="6172200" cy="1219320"/>
          </a:xfrm>
        </p:grpSpPr>
        <p:sp>
          <p:nvSpPr>
            <p:cNvPr id="121" name=""/>
            <p:cNvSpPr/>
            <p:nvPr/>
          </p:nvSpPr>
          <p:spPr>
            <a:xfrm>
              <a:off x="1486080" y="1828800"/>
              <a:ext cx="6172200" cy="1219320"/>
            </a:xfrm>
            <a:prstGeom prst="rect">
              <a:avLst/>
            </a:prstGeom>
            <a:solidFill>
              <a:srgbClr val="fefde3"/>
            </a:solidFill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4240" y="2039760"/>
              <a:ext cx="6095880" cy="78552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ONSTITUCIÓN DE LA CIUDAD DE BUENOS AI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(Autonomía Ciudad de Buenos Air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486080" y="4648320"/>
            <a:ext cx="6172200" cy="1218960"/>
            <a:chOff x="1486080" y="4648320"/>
            <a:chExt cx="6172200" cy="1218960"/>
          </a:xfrm>
        </p:grpSpPr>
        <p:sp>
          <p:nvSpPr>
            <p:cNvPr id="124" name=""/>
            <p:cNvSpPr/>
            <p:nvPr/>
          </p:nvSpPr>
          <p:spPr>
            <a:xfrm>
              <a:off x="1486080" y="4648320"/>
              <a:ext cx="6172200" cy="1218960"/>
            </a:xfrm>
            <a:prstGeom prst="rect">
              <a:avLst/>
            </a:prstGeom>
            <a:solidFill>
              <a:srgbClr val="fefde3"/>
            </a:solidFill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24240" y="4724280"/>
              <a:ext cx="609588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LEY 265/9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Establece las competencias de la Autoridad Administrativa del Traba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4286160" y="3429000"/>
            <a:ext cx="571680" cy="609480"/>
          </a:xfrm>
          <a:prstGeom prst="downArrow">
            <a:avLst>
              <a:gd name="adj1" fmla="val 50000"/>
              <a:gd name="adj2" fmla="val 26653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1486080" y="304920"/>
            <a:ext cx="6172200" cy="1523880"/>
            <a:chOff x="1486080" y="304920"/>
            <a:chExt cx="6172200" cy="1523880"/>
          </a:xfrm>
        </p:grpSpPr>
        <p:sp>
          <p:nvSpPr>
            <p:cNvPr id="128" name=""/>
            <p:cNvSpPr/>
            <p:nvPr/>
          </p:nvSpPr>
          <p:spPr>
            <a:xfrm>
              <a:off x="1486080" y="304920"/>
              <a:ext cx="6172200" cy="1523880"/>
            </a:xfrm>
            <a:prstGeom prst="rect">
              <a:avLst/>
            </a:prstGeom>
            <a:solidFill>
              <a:srgbClr val="fefde3"/>
            </a:solidFill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24240" y="457200"/>
              <a:ext cx="609588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onvenio Nº 50 de Entendimiento y Acciones Conjuntas en materia de Inspección del Trabajo y Fortalecimiento de la Autoridad Administrativa del Traba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Firmado entre el MTEySS y el GCAB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486080" y="2971800"/>
            <a:ext cx="6172200" cy="1219320"/>
            <a:chOff x="1486080" y="2971800"/>
            <a:chExt cx="6172200" cy="1219320"/>
          </a:xfrm>
        </p:grpSpPr>
        <p:sp>
          <p:nvSpPr>
            <p:cNvPr id="131" name=""/>
            <p:cNvSpPr/>
            <p:nvPr/>
          </p:nvSpPr>
          <p:spPr>
            <a:xfrm>
              <a:off x="1486080" y="2971800"/>
              <a:ext cx="6172200" cy="1219320"/>
            </a:xfrm>
            <a:prstGeom prst="rect">
              <a:avLst/>
            </a:prstGeom>
            <a:solidFill>
              <a:srgbClr val="fefde3"/>
            </a:solidFill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3880" y="3182760"/>
              <a:ext cx="60962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rotocolo Adicional Nº 01  28/08/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Determina el traspaso de Rúbric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486080" y="5334120"/>
            <a:ext cx="6286320" cy="1218960"/>
            <a:chOff x="1486080" y="5334120"/>
            <a:chExt cx="6286320" cy="1218960"/>
          </a:xfrm>
        </p:grpSpPr>
        <p:sp>
          <p:nvSpPr>
            <p:cNvPr id="134" name=""/>
            <p:cNvSpPr/>
            <p:nvPr/>
          </p:nvSpPr>
          <p:spPr>
            <a:xfrm>
              <a:off x="1523880" y="5334120"/>
              <a:ext cx="6172200" cy="1218960"/>
            </a:xfrm>
            <a:prstGeom prst="rect">
              <a:avLst/>
            </a:prstGeom>
            <a:solidFill>
              <a:srgbClr val="fefde3"/>
            </a:solidFill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86080" y="5334120"/>
              <a:ext cx="628632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Disposición 263 – DGPDT-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Procedimiento en materia de Rúbrica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Documentación Labo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4286160" y="2133720"/>
            <a:ext cx="571680" cy="609480"/>
          </a:xfrm>
          <a:prstGeom prst="downArrow">
            <a:avLst>
              <a:gd name="adj1" fmla="val 50000"/>
              <a:gd name="adj2" fmla="val 26653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4419720"/>
            <a:ext cx="571680" cy="609480"/>
          </a:xfrm>
          <a:prstGeom prst="downArrow">
            <a:avLst>
              <a:gd name="adj1" fmla="val 50000"/>
              <a:gd name="adj2" fmla="val 26653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80880" y="1523880"/>
            <a:ext cx="8305920" cy="510552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28600"/>
            <a:ext cx="685800" cy="685800"/>
          </a:xfrm>
          <a:prstGeom prst="ellipse">
            <a:avLst/>
          </a:prstGeom>
          <a:solidFill>
            <a:srgbClr val="cc3300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838080"/>
            <a:ext cx="79246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228600"/>
            <a:ext cx="769608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Haettenschweiler"/>
              </a:rPr>
              <a:t>Disposición 263-DGPDT-03        </a:t>
            </a:r>
            <a:r>
              <a:rPr b="0" lang="es-ES_tradnl" sz="2400" spc="-1" strike="noStrike">
                <a:solidFill>
                  <a:srgbClr val="000000"/>
                </a:solidFill>
                <a:latin typeface="Haettenschweiler"/>
              </a:rPr>
              <a:t>(Vigencia a partir del 1 de julio de 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81080" y="990720"/>
            <a:ext cx="5181840" cy="39888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TRÁMITES SUJETOS A RÚB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215100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736640"/>
            <a:ext cx="304920" cy="304920"/>
          </a:xfrm>
          <a:prstGeom prst="sun">
            <a:avLst>
              <a:gd name="adj" fmla="val 2500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16606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ibro especial de sueldos y jornales (Ley 20.744 – Art. 5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3336840"/>
            <a:ext cx="304920" cy="304920"/>
          </a:xfrm>
          <a:prstGeom prst="sun">
            <a:avLst>
              <a:gd name="adj" fmla="val 2500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23036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2133720"/>
            <a:ext cx="3200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ibro Man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25322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81080" y="23796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Hojas Móv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3880" y="27608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26082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icrofich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326088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ibro para la Pequeña y Mediana Industria (Ley 24.46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4022640"/>
            <a:ext cx="304920" cy="304920"/>
          </a:xfrm>
          <a:prstGeom prst="sun">
            <a:avLst>
              <a:gd name="adj" fmla="val 2500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394668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ibro para Peluqueros (Ley 23.94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4708440"/>
            <a:ext cx="304920" cy="304920"/>
          </a:xfrm>
          <a:prstGeom prst="sun">
            <a:avLst>
              <a:gd name="adj" fmla="val 2500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63248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ibro para la actividad rural (Ley 22.24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5425920"/>
            <a:ext cx="304920" cy="304920"/>
          </a:xfrm>
          <a:prstGeom prst="sun">
            <a:avLst>
              <a:gd name="adj" fmla="val 2500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533412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lanillas de Horario (Ley 20.744 y 11.54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6095880"/>
            <a:ext cx="304920" cy="304920"/>
          </a:xfrm>
          <a:prstGeom prst="sun">
            <a:avLst>
              <a:gd name="adj" fmla="val 2500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71600" y="600408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lanillas de Kilometraje (CCT 40/8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0880" y="304920"/>
            <a:ext cx="8305920" cy="632448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2590920"/>
            <a:ext cx="304920" cy="304560"/>
          </a:xfrm>
          <a:prstGeom prst="sun">
            <a:avLst>
              <a:gd name="adj" fmla="val 2500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245124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solución 490 -MTySS- Obleas de Transporte (Sistema de Registro Art. 52 – Ley 20.74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3787920"/>
            <a:ext cx="304920" cy="304560"/>
          </a:xfrm>
          <a:prstGeom prst="sun">
            <a:avLst>
              <a:gd name="adj" fmla="val 2500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370512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ibro de altas y bajas para la actividad gastronó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465444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ibro para la actividad bancaria – Horas ext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5715000"/>
            <a:ext cx="304920" cy="304920"/>
          </a:xfrm>
          <a:prstGeom prst="sun">
            <a:avLst>
              <a:gd name="adj" fmla="val 2500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71600" y="560376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entralización de rúbrica de documentación laboral. Resolución 168 ST/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609480"/>
            <a:ext cx="304920" cy="304920"/>
          </a:xfrm>
          <a:prstGeom prst="sun">
            <a:avLst>
              <a:gd name="adj" fmla="val 2500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55260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ibretas de Trabajadores de Casa de Renta (Ley 12.98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600200"/>
            <a:ext cx="304920" cy="304920"/>
          </a:xfrm>
          <a:prstGeom prst="sun">
            <a:avLst>
              <a:gd name="adj" fmla="val 2500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150192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ibretas de Trabajadores Automotor de Pasaj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066680" y="1523880"/>
            <a:ext cx="7772400" cy="510552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609480"/>
            <a:ext cx="685800" cy="685800"/>
          </a:xfrm>
          <a:prstGeom prst="ellipse">
            <a:avLst/>
          </a:prstGeom>
          <a:solidFill>
            <a:srgbClr val="cc3300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1219320"/>
            <a:ext cx="79246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19320" y="228600"/>
            <a:ext cx="76960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Haettenschweiler"/>
              </a:rPr>
              <a:t>Centralización de Rúbrica de Documentación Laboral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Haettenschweiler"/>
              </a:rPr>
              <a:t>Resolución 168 ST/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1828800"/>
            <a:ext cx="304920" cy="304920"/>
          </a:xfrm>
          <a:prstGeom prst="diamond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75248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mpleadores que desarrollan actividad en más de una jurisdi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2651040"/>
            <a:ext cx="304920" cy="304920"/>
          </a:xfrm>
          <a:prstGeom prst="diamond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2575080"/>
            <a:ext cx="7010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ciedades, asociaciones o entidades regularmente constituidas, centralizan 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57400" y="3429000"/>
            <a:ext cx="609480" cy="380880"/>
          </a:xfrm>
          <a:custGeom>
            <a:avLst/>
            <a:gdLst>
              <a:gd name="textAreaLeft" fmla="*/ 81360 w 609480"/>
              <a:gd name="textAreaRight" fmla="*/ 528120 w 6094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95480" y="342900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omicilio leg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57400" y="3870360"/>
            <a:ext cx="609480" cy="380880"/>
          </a:xfrm>
          <a:custGeom>
            <a:avLst/>
            <a:gdLst>
              <a:gd name="textAreaLeft" fmla="*/ 81360 w 609480"/>
              <a:gd name="textAreaRight" fmla="*/ 528120 w 6094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95480" y="38703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siento principal de sus nego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7400" y="4327560"/>
            <a:ext cx="609480" cy="380880"/>
          </a:xfrm>
          <a:custGeom>
            <a:avLst/>
            <a:gdLst>
              <a:gd name="textAreaLeft" fmla="*/ 81360 w 609480"/>
              <a:gd name="textAreaRight" fmla="*/ 528120 w 6094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95480" y="4327560"/>
            <a:ext cx="556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de de su administración, en la cual debe prestar servicios al menos el 20% del per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95280" y="5394240"/>
            <a:ext cx="304920" cy="304920"/>
          </a:xfrm>
          <a:prstGeom prst="diamond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531828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ciedades irregulares o Person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57400" y="5867280"/>
            <a:ext cx="609480" cy="381240"/>
          </a:xfrm>
          <a:custGeom>
            <a:avLst/>
            <a:gdLst>
              <a:gd name="textAreaLeft" fmla="*/ 81360 w 609480"/>
              <a:gd name="textAreaRight" fmla="*/ 528120 w 609480"/>
              <a:gd name="textAreaTop" fmla="*/ 66600 h 381240"/>
              <a:gd name="textAreaBottom" fmla="*/ 27648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95480" y="5927760"/>
            <a:ext cx="601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ueden centralizar en el asiento principal de sus nego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09480" y="1219320"/>
            <a:ext cx="8229600" cy="510516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304920"/>
            <a:ext cx="685800" cy="685800"/>
          </a:xfrm>
          <a:prstGeom prst="ellipse">
            <a:avLst/>
          </a:prstGeom>
          <a:solidFill>
            <a:srgbClr val="cc3300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14400" y="914400"/>
            <a:ext cx="79246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19320" y="304920"/>
            <a:ext cx="76960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Haettenschweiler"/>
              </a:rPr>
              <a:t>Requisitos para solicitar la centralizac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600200"/>
            <a:ext cx="304920" cy="304920"/>
          </a:xfrm>
          <a:prstGeom prst="flowChartSort">
            <a:avLst/>
          </a:prstGeom>
          <a:solidFill>
            <a:srgbClr val="ffffcc"/>
          </a:solidFill>
          <a:ln w="38160">
            <a:solidFill>
              <a:srgbClr val="9cb5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2209680"/>
            <a:ext cx="304920" cy="304920"/>
          </a:xfrm>
          <a:prstGeom prst="flowChartSort">
            <a:avLst/>
          </a:prstGeom>
          <a:solidFill>
            <a:srgbClr val="ffffcc"/>
          </a:solidFill>
          <a:ln w="38160">
            <a:solidFill>
              <a:srgbClr val="9cb5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2895480"/>
            <a:ext cx="304920" cy="304920"/>
          </a:xfrm>
          <a:prstGeom prst="flowChartSort">
            <a:avLst/>
          </a:prstGeom>
          <a:solidFill>
            <a:srgbClr val="ffffcc"/>
          </a:solidFill>
          <a:ln w="38160">
            <a:solidFill>
              <a:srgbClr val="9cb5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43000" y="15238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ota solicitando centralización, acreditación de personería invoc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21178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der - Auto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287964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otocopia de C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3581280"/>
            <a:ext cx="304920" cy="304920"/>
          </a:xfrm>
          <a:prstGeom prst="flowChartSort">
            <a:avLst/>
          </a:prstGeom>
          <a:solidFill>
            <a:srgbClr val="ffffcc"/>
          </a:solidFill>
          <a:ln w="38160">
            <a:solidFill>
              <a:srgbClr val="9cb5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43000" y="35053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omicilio de cada una de las sucursales (GCBA y demás jurisdicc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4251240"/>
            <a:ext cx="304920" cy="304920"/>
          </a:xfrm>
          <a:prstGeom prst="flowChartSort">
            <a:avLst/>
          </a:prstGeom>
          <a:solidFill>
            <a:srgbClr val="ffffcc"/>
          </a:solidFill>
          <a:ln w="38160">
            <a:solidFill>
              <a:srgbClr val="9cb5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4937040"/>
            <a:ext cx="304920" cy="304920"/>
          </a:xfrm>
          <a:prstGeom prst="flowChartSort">
            <a:avLst/>
          </a:prstGeom>
          <a:solidFill>
            <a:srgbClr val="ffffcc"/>
          </a:solidFill>
          <a:ln w="38160">
            <a:solidFill>
              <a:srgbClr val="9cb5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41590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dicar domicilio de centra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49212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ómina con carácter de Declaración Jurada, del personal ocupado en cada lugar de trabajo, detallando fecha de ingreso, categoría y número de CU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5867280"/>
            <a:ext cx="304920" cy="304920"/>
          </a:xfrm>
          <a:prstGeom prst="flowChartSort">
            <a:avLst/>
          </a:prstGeom>
          <a:solidFill>
            <a:srgbClr val="ffffcc"/>
          </a:solidFill>
          <a:ln w="38160">
            <a:solidFill>
              <a:srgbClr val="9cb5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43000" y="57913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inco últimos formularios 931 presentados en la AF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.P.C.E.C.A.B.A.</cp:lastModifiedBy>
  <dcterms:modified xsi:type="dcterms:W3CDTF">2004-08-30T20:21:37Z</dcterms:modified>
  <cp:revision>2</cp:revision>
  <dc:subject/>
  <dc:title>Presentación de PowerPoint</dc:title>
</cp:coreProperties>
</file>