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DB52-D854-45BB-999E-C768FBDE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F857-8D90-4AAA-8C58-9DDD18A8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E14A-11E1-4A46-9221-C5A125F6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774C-B7C6-4B47-BCD7-3E53F0A0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209-763A-4FED-910D-AE2ED82C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E2A5-0BB0-4CA6-8EF5-546409D4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C2E-897D-483F-988D-0D74C49B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9D0F-655D-4A6A-944B-116FA652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17E-3DD5-4734-93C5-E6141CB4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4D36-54E2-4B48-85F3-33E7A35E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22CD-4F3D-4878-8092-934A476D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B07E-15CB-4C86-91F3-8EB4766A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298A-835B-435A-83C7-05C7A8F9041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9600" y="2057400"/>
            <a:ext cx="7666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LEY 258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ORDENAMIENTO LAB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24880" y="380880"/>
            <a:ext cx="34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ÍTULO I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DMINISTRACIÓN DEL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9960" y="1676520"/>
            <a:ext cx="8702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t. 28 - Crea el Sistema Integral de Inspección del Trabajo y la Seguridad Social (SIDITY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ntrol y fiscalización de las normas del trabajo y seguridad so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 integran la Administración Nacional, Provincial y de la CAB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t. 29 – El Ministerio de Trabajo de la Nación es la autoridad de Aplicación del SIDITYSS. Deberá vela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Que los distintos servicios del sistema cumplan con lo estipulado por la Organización Internacional del Trabajo en la mater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ordinar la actuación de los servici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alizar acciones de inspección complementarias en aquellas jurisdicciones donde se registre un elevado nivel de incumplimiento de la normativa laboral y de la seguridad so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cabar y promover la detección del trabajo no registr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1560" y="914400"/>
            <a:ext cx="870264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t. 30 -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uando un servicio local de inspección del trabajo no cumpla con las exigencias de los Convenios de la Organización Internacional del Trabajo o con las que se deriven de este capítulo, el MINISTERIO DE TRABAJO, EMPLEO Y SEGURIDAD SOCIAL previa intervención del Consejo Federal del Trabajo, ejercerá coordinadamente con éste y con las jurisdicciones provinciales las correspondientes facultad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t. 31 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berán informar a las organizaciones empresariales y sindicales acerca de las actividades realizadas y de los resultados alcanzados. Los representantes sindicales de los trabajadores tendrán derecho a acompañar al inspector durante la inspección y a ser informados de sus resulta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t. 32 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el ejercicio de sus funciones y dentro de su jurisdicción, los inspectores están facultados par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ntrar en los lugares sujetos a inspecció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sin necesidad de notificación previa ni de orden judicial de allanami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querir la informació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y realizar las diligencias probatorias que consideren necesarias, incluida la identificación de las personas que se encuentren en el lugar de trabajo inspeccion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olicitar los documentos y dat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que estimen necesarios para el ejercicio de sus funciones, intimar el cumplimiento de las normas y hacer comparecer a los responsables de su cumplimi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lausurar los lugares de trabaj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n los supuestos legalmente previstos y ordenar la suspensión inmediata de tareas que —a juicio de la autoridad de aplicación— impliquen un riesgo grave e inminente para la salud y la seguridad de los trabajad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todos los casos los inspectores labrarán un acta circunstanciada del procedimiento que firmarán junto al o los sujetos responsab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1560" y="762120"/>
            <a:ext cx="870264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t. 33 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probada la infracción a las normas laborales que impliquen, de alguna forma,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a evasión tributaria o a la Seguridad Social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el hecho deberá ser denunciado formalmente a la Administración Federal de Ingresos Públicos y/o a los otros organismos de control fiscal. Ello sin perjuicio, en el caso que corresponda, de la notificación fehaciente a las autoridades de control migratorio a los fines de la aplicación de la Ley Nº 25.87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t. 34 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MINISTERIO DE TRABAJO, EMPLEO Y SEGURIDAD SOCIAL deberá destinar la totalidad de los recursos obtenidos por la aplicación de sanciones pecuniarias a la infracción de la normativa laboral, sea por imperio de la Ley Nº 25.212 o del artículo 37 de la presente, al fortalecimiento del servicio de la inspección del trabaj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t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35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in perjuicio de las facultades propias en materia de inspección del trabajo de los Gobiernos Provinciales y de la Ciudad Autónoma de Buenos Aires, el MINISTERIO DE TRABAJO, EMPLEO Y SEGURIDAD SOCIAL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alizará en todo el territorio nacional acciones coordinadas con las respectivas jurisdicciones de fiscalización para la erradicación del trabajo infantil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actuaciones labradas por dicho Ministerio en las que s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erifiquen incumplimientos, deberán ser remitidas a dichas administraciones local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las que continuarán con el procedimiento para la aplicación de las sanciones correspond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t.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6.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l MINISTERIO DE TRABAJO, EMPLEO Y SEGURIDAD SOCIAL procederá, sin perjuicio de las facultades concurrentes de la Administración Federal de Ingresos Públicos,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 verificar y fiscalizar en todo el territorio nacional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el cumplimiento por parte de los empleadores de la obligación de declarar e ingresar los aportes y contribuciones sobre la nómina salarial, que integran el Sistema Unico de la Seguridad Social, a cargo de la Administración Nacional de la Seguridad Social, conforme a las normas reglamentarias vigentes en la mater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1560" y="762120"/>
            <a:ext cx="8702640" cy="42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t. 37 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uando el MINISTERIO DE TRABAJO, EMPLEO Y SEGURIDAD SOCIAL, en ejercicio de las facultades conferidas en el artículo anterior,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erifique infraccion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de los empleadores a las obligaciones d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a seguridad social aplicará las penalidades correspondientes, utilizando la tipificación, procedimiento y régimen sancionatorio que, a tal efecto, aplica la Administración Federal de Ingresos Públic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 Posteriormente, remitirá las actuaciones a la Administración Federal de Ingresos Públicos para la determinación, notificación, percepción y, en su caso, ejecución de la deuda, en el marco de su compete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pítulo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mplificación Regist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t.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39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l MINISTERIO DE TRABAJO, EMPLEO Y SEGURIDAD SOCIAL establecerá el organismo encargado y los procedimientos destinados a la simplificación y unificación en materia de inscripción laboral y de la Seguridad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9:58:22Z</dcterms:created>
  <dc:creator>y</dc:creator>
  <dc:description/>
  <dc:language>en-US</dc:language>
  <cp:lastModifiedBy>C.P.C.E.C.A.B.A.</cp:lastModifiedBy>
  <dcterms:modified xsi:type="dcterms:W3CDTF">2004-08-30T20:28:41Z</dcterms:modified>
  <cp:revision>8</cp:revision>
  <dc:subject/>
  <dc:title>Presentación de PowerPoint</dc:title>
</cp:coreProperties>
</file>