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C21-EE79-4D67-B679-6122BD78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B64-CB02-47DD-897C-57989249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EC3-CFAA-4A7C-8410-65343BC9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480-75D3-4C55-ADAA-AE2D9461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160A-A36B-49FA-9DFC-A218602C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3BC0-10CF-47BE-9261-C29A6CDF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8234-5673-458E-A146-9804217B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8A6D-E584-48A8-B99E-77E36998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BF32-2510-42C4-B9B3-9204D4A1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BE8F-2003-41FE-8C95-9727F6EB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73E9-8434-4AD9-8B54-416E1191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D827-2353-4F05-A5F2-79B4F7F6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22DE-4907-4F53-AADA-269AFAC2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BB2A-9026-4FF4-95D0-9736249B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86BA-AB05-4BEC-8869-DB0DB945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3187-F87A-42DA-8B14-89408902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97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620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213372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297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620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1624-D46D-46E5-AD8C-420C984E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342-D324-415A-99E3-A080A6F7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36C-9B80-4D55-805B-85A15B9C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2E4-13E4-43AB-8A48-6E80A064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146-D89F-4E0D-9188-786EA9CD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37D-A42B-41AB-BBCD-0CADFB7C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1368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35A-59AA-4C3B-B861-56154007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3372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1368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3372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F789-FF12-4D23-9E46-8E6E95D9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EBE9-D0E9-40B4-AB55-7F7117F3F9EE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61A8-0A4C-4F0A-B0CC-D74E64169A72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UNIONES A DISTANC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SPECTOS A DESTAC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a. Norma Cristob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QUORUM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SOLO SE ALCANZA CON LOS MIEMBROS </a:t>
            </a:r>
            <a:r>
              <a:rPr b="0" i="1" lang="es-MX" sz="3200" spc="-1" strike="noStrike">
                <a:solidFill>
                  <a:srgbClr val="eaeaea"/>
                </a:solidFill>
                <a:latin typeface="Arial"/>
              </a:rPr>
              <a:t>PRESENT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ART. 266 VOTAN AUSENTES SI HAY QUORUI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CRETO 677-2001ART. 65 QUORUM CON PRESENTES, SALVO PREVISION ESTATUTAR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Norma Cristob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bd189"/>
                </a:solidFill>
                <a:latin typeface="Arial"/>
              </a:rPr>
              <a:t>CONTINUANDO CON EL DTO. 677-01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ACTAS FIRMADAS DENTRO DE LOS CINCO DIAS POR PRESENTES Y REPRESENTANTE ORGANO DE FISCALIZAC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Norma Cristob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bd189"/>
                </a:solidFill>
                <a:latin typeface="Arial"/>
              </a:rPr>
              <a:t>POR TANTO SE INFIERE QU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EBEN EXISTIR SIEMPRE MIEMBROS PRESENTES EN SEDE O JURISDICC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 POSIBLE PORQUE EXISTE ORGANO DE FISCALIZACION INTER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O AUN CUANDO EL QUORUM SE FORME SOBRE LA TOTALIDAD DE LOS REUNIDOS 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PRESENTES O A DI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Norma Cristob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CONCLUYENDO</a:t>
            </a: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SIBLE REUNIONES A DISTANCIA EN LA JURISDICCION DEBIDAMENTE REGULAD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DEM  CITADAS EN EXTRAÑA JUISDICCION SIEMPRE QU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NO SE VULNERE EL DERECHO A DELIBERAR DE L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</a:rPr>
              <a:t>DIRECTORES PRESENTES  EN MINORIA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Arial"/>
              </a:rPr>
              <a:t>EN ESTE CASO PROPICIAMOS LA EXISTENCIA SIEMPRE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DEL ORGANOS DE FISCALIZACION INTERN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Norma Cristob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MUCHAS GRACI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a. Norma Cristob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UNIONES            DE                  DIRECTO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UNIONES         DE              ASAMBL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Norma Cristob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ASAMBLE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ART. 233 2DO. PARRAF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LEVARSE A CABO EN LA SEDE O EN LUGAR DE SU JURISDICC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Norma Cristob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DIRECTORI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EXISTE NORMA SIMILAR; SE APLICA ANALOGIA DENTRO DE LA LEY POR 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APARTADO 1 DEL TITULO PRELIMINAR C COM Y ART 16 C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s-MX" sz="2800" spc="-1" strike="noStrike">
                <a:solidFill>
                  <a:srgbClr val="ffff00"/>
                </a:solidFill>
                <a:latin typeface="Arial"/>
              </a:rPr>
              <a:t>O SEA ART 233 LS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Norma Cristob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DOS POSIBILIDAD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ATUTO NO REGLAMENTA LA FORMA DE REUNION DEL DIRECTO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ATUTO REGLAMENTA LA FORMA DE REUNION DEL DIRECTO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Norma Cristob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bd189"/>
                </a:solidFill>
                <a:latin typeface="Arial"/>
              </a:rPr>
              <a:t>ESTATUTO NO REGLAMENTA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ANALOGIA ART. 233 LSC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ART. 266 CARGO PERSONAL E INDELEG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ART. 256 MAYORIA ABSOLUTA DOMICILIO EN EL PA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IGJ R 6-80 FACULTADA PARA ASISTI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Norma Cristob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E INFIERE QU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 DE LEGE LATA EL REALIZAR LA REUNION EN  LA SEDE SOCIAL O DENTRO DE LA JURISDICC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O CONTRARIO LE OTORGA AL DIRECTOR IMPEDIDO DE PARTICIPAR SOLICITAR SU NULIDAD                         AUN EN EL CASO DE MINOR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Norma Cristob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DERECHO A DELIBER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IMPORTANCIA OTORGADA POR EL LEGIS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ART. 272 DIRECTO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STINTO ASAMBLEA ART. 24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Norma Cristob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ESTATUTO REGLAMENTA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RT 260 AMPLIO ESPECTR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IMIT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QUORUM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CARGO INDELEGAB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REUNIONES PERIODICA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IMPIDE VOTO POR CORRESPONDENC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EXIGE UN TEMARIO A PRIORI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a. Norma Cristob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16:14:04Z</dcterms:created>
  <dc:creator>Usuario</dc:creator>
  <dc:description/>
  <dc:language>en-US</dc:language>
  <cp:lastModifiedBy>C.P.C.E.C.A.B.A.</cp:lastModifiedBy>
  <dcterms:modified xsi:type="dcterms:W3CDTF">2004-08-30T20:27:26Z</dcterms:modified>
  <cp:revision>6</cp:revision>
  <dc:subject/>
  <dc:title>REUNIONES A DISTANCIA</dc:title>
</cp:coreProperties>
</file>