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E51-C858-4125-8EB5-F8E160A1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142-7FAB-4B05-82E7-A5F0F1A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3D5-1AB5-4350-8B1F-37230323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305-6AF7-43C3-B7C0-CC2715DE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9961-BF55-4A74-B8A9-CED6BAFC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B04C-0DC0-488A-AB6C-BC0A766F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A37D-8685-4705-A121-2628CE9A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B72E-CAF3-48F2-98B5-D84AAB3F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5E8-031D-46DA-B072-AE518D22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FE8-7742-4932-915B-67DF449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DAF6-89F5-467C-8533-CA3DC4A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491-8A18-4EC7-896F-A510FC5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F3E-A83A-40EB-97ED-63A9960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B52B-0A70-42B0-A318-894E11C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A155-3970-46E7-9117-96F92C3B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9D4-6B7E-4680-9A15-B6293788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B156-F664-4FC3-B040-540E281F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FA7-1DB0-4CAB-9C68-A095988D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BE3-8430-455A-8A87-B6AF688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46D-CC12-4631-A814-9A6AD89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08C-0E74-4F1A-94FF-BFE4CBC4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2D1-F892-4503-AD8F-31E06DE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055-CC53-4EE2-A1AE-24F7DF9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235-AA97-4F56-9D36-B06481B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728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FEC-C8EB-48AF-B58D-15D12816B71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6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081-B850-4BB0-B4E4-B904CD6A3D8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NORMATIVA VIGENTE SOBRE REGISTROS CONTAB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QUISITOS DE LA PRESENTACION ART. 61 LSC (ART.83 RG 6/80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OSICION AMPLIA DEL SISTEMA A AUTORIZA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LICAR MODIFICACION PROPUESTA Y DIFERENCIAS CON EL SISTEMA ANTERIO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ISIGNACION DEL LIBRO O REGISTRO NUEV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TECNICA DEL GRADO DE INALTERABILIDAD DE LAS REGIST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DE QUE SE PERMITE LA INDIVIDUALIZACION DE OPE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QUISITOS EXIGIDOS POR LA IGJ ACTUALME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NOTA DE SOLICITUD DEL PEDIDO DE AUTORIZACIO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SCRIPCION DEL SISTEMA CERTIFICADA POR CONTADOR PUBLIC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CERTIFICACION CONTABLE SOBRE EL ESTADO DE LOS REGISTRO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MODELOS EN BLANCO - POR DUPLICADO (SUSCRIPTO POR CONTADOR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MODELO EJEMPLIFICATIVO (SUSCRIPTO POR CONTADOR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LAN DE CUENTAS (SUSCRIPTO POR CONTADOR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QUISITOS EXIGIDOS POR LA IGJ ACTUALME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ICTAMEN PRECALIFICATORIO CERTIFICADO POR CONTADOR (LEGALIZADO POR EL CONSEJO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CUMPLIMIENTO RG 9/98 (RELEVAMIENTO DE LIBROS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COPIA DE LA AUTORIZACION ANTERIOR (EN CASO QUE SE REEMPLAZE OTRO SISTEMA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FORMULARIO Nº 9 TIMBRAD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LA DESCRIPCION DEL SISTEMA DEBE CONTEN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OSICION AMPLIA Y PRECISA DEL SISTEMA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QUEMA DESCRIPTIVO DEL CIRCUITO ADMINISTRATIV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NUMERACION DE LA DENOMINACION DE LOS REGISTRO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IBROS QUE SE REEMPLAZ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SISTEMA DE ARCHIVO DE LA DOCUMENTACION RESPALDATORIA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SISTEMA Y PERIODICIDAD EN LA NUMERACION DE LOS REGISTRO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LA DESCRIPCION DEL SISTEMA DEBE CONTEN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MANIFESTACION QUE SE CONSERVARA EL LIBRO INVENTARIO Y BALANC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FORME JUSTIFICANDO LA INALTERABILIDAD DEL SISTEMA DE REGISTRACIO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NATURALEZA DEL REGISTRO A UTILIZAR, TIPO DE TECNOLOGIA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SOBRE LA NATURALEZA DEL REGISTRO A UTILIZAR, SE INFORMAR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APEL: CARACTERISTICA DEL PAPEL Y TIPO DE TINTA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MEDIOS OPTICOS Y MICROFICHAS: COMPROMISO DE: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DISPONIBILIDAD DE LA INFORMACI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POSIBILIDAD DE LECTURA DE LOS REGISTR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IMPRESIÓN EN PAP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MANTENIMIENTO DEL SOFT Y HARDWARE PARA SU LECTUR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COMISION NACIONAL DE VALOR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QUISITOS DE LA PRESENTACION ART. 61 LSC (ART.23 y 24 Cap. V RG 368/01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OSICION AMPLIA DEL SISTEMA A AUTORIZA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DETALLE DE LOS REGISTR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ESQUEMA DEL FLUIR DE LAS REGISTRACION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STEMA DE ARCHIVO DE LA DOCUMENTACI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PLAN DE CUENT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ENTROS DE COSTOS (SI EXISTIER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FORME DE CONTADOR PUBLICO SOBRE LOS CONTROLES REALIZADOS AL SISTEMA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COMISION NACIONAL DE VALOR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QUISITOS DEL SISTEMA PROPUES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ERMITIR LA INDIVIDUALIZACION DE LAS OPE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ERMITIR LA VERIFICACION DE LOS ASIENTOS CONTABLES CON LA DOCUMENTACIO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LMACENAMIENTO DE LA INFORMACION QUE PERMITA LA VISUALIZACION EN PANTALLA O SU IMPRESIÓN EN PAPEL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COMISION NACIONAL DE VALOR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INFORME DEL AUDITO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ARRAFO EN EL INFORME DE AUDITORIA SOBRE LA SEGURIDAD E INTEGRIDAD SOBRE EL CUAL FUE AUTORIZADO EL SISTEMA DE REGISTR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</a:t>
            </a: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 Y 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AUTORIDAD DE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INSTITUTO NACIONAL DE ASOCIATIVISMO Y ECONOMIA SOCIAL (INAES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REGIMEN NORMATIVO BASICO VIGENTE EN MATERIA DE MEDIOS DE REGISTRACION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DIGO DE COMER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EY DE SOCIEDADES COMERCI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EY 20.337 (COOPERATIVA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EY 20.321 MODIFICADA POR LEY 23.566 (MUTUAL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EY 19.836 (FUNDACION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IGENCIAS LEGALES (ART. 38 L. 20.337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LIBROS ENCUADERNADOS Y FOLIADOS-FORMALIDADES COD. COM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RUBRICADOS EN EL INA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E PUEDEN AUTORIZAR MEDIOS MECANICOS Y LIBROS DE HOJAS MOVI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QUE PERMITE EL INA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PLICA EL ART. 38 DE LA LEY 20.33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E PRESCINDE DE LAS FORMALIDADES DEL ART. 53 C.C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UTORIZA SISTEMAS DE REG. CONTABLES POR MEIDOS MECANICOS Y LIBROS DE HOJAS MOVILES, SALVO LOS LIBROS SOCIALES Y EL INVENTARIO Y BALANC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SISTEMAS QUE SE PERMITEN AUTORIZ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MEDIOS MECANIC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LIBROS DE HOJAS MOV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SOLO SE AUTORIZÓ EL SISTEMA DE HOJAS MOV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EXIGENCIAS LEGALES (ART. 1 Y 4 R INAM 115/88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LIBROS ENCUADERNADOS Y FOLIADOS-FORMALIDADES COD. COM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RUBRICADOS EN EL INA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E PUEDEN AUTORIZAR MEDIOS MECANICOS EXCEPTO EL INVENTARIO Y BALAN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E PODRA RUBRICAR HOJAS CON POSTERIORIDAD A SU P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QUE PERMITE EL INA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PLICA EL ART. 4 R INAM 115/8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PERO ADMITE SISTEMAS POR ORDENADORES Y NO MECANIC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EMPRE TIENE QUE EXISTIR LA SALIDA  EN PAP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SISTEMAS QUE SE PERMITEN AUTORIZ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MEDIOS MECANICOS O POR ORDENADO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LIBROS DE HOJAS MOV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SOLO SE AUTORIZÓ EL SISTEMA DE HOJAS MOV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 Y 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REQUISITOS DE LA PRESENTACION (ART. 1 ANEXO R INAM 115/88-MUTUAL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OSICION AMPLIA DEL SISTEMA A AUTORIZA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LICAR MODIFICACION PROPUESTA Y DIFERENCIAS CON EL SISTEMA ANTERIO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ISIGNACION DEL LIBRO O REGISTRO NUEV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TECNICA DEL GRADO DE INALTERABILIDAD DE LAS REGIST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DE QUE SE PERMITE LA INDIVIDUALIZACION DE OPE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OPERATIVAS Y MUTU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TRAMITE PARA RUBRICA DE LIBR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PRESENTACION DEL LIBRO ANTERIOR COMPLE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PRESENTACION DEL CONTINUADOR EN BLAN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MPAÑIAS DE SEGUR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EMPLAZO DE LIBROS POR SOPORTES OPTIC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SOLUCION 29458/03 (Superint. De Seguros de la Nació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PTO. 37.4 DEL REGLAMENTO GENERAL DE LA ACTIVIDAD ASEGURADOR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MPAÑIAS DE SEGUR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QUISITOS DE LA SOLICITUD PARA UTILIZAR SOPORTES OPTIC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NSTANCIA DE LA INSCRIPCION EN IGJ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NOMINA DE LIBROS A REEMPLAZ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CTAS DEL ORG. DE ADMINISTRAC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INFORME DE CONTADOR PUBL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LAN DE CUENTAS Y MODELOS DE REGIST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ROMISO DE MANTENER LOS EQUIPOS PARA LECTURA E IMPRE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LEY DE SOCIEDADES COMERCI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RT. 61 DE LA LEY 19.550 SANCIONADA EL 03/04/197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IFICADA POR LEY 22.903 SANCIONADA EL 09/09/198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MPAÑIAS DE SEGUR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INFORMES POSTERIORES DE AUDITOR EXTER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SOBRE LA SEGURIDAD E INTEGRIDAD DE LOS SISTEM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QUE SE HAN UTILIZADO SOPORTES NO REGRABA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COMPAÑIAS DE SEGUR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LIBRO INVENTARIO Y BALANCES - MENSUALME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DENOMINACION DEL REGIST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MES O PERIODO AL QUE CORRESPONDE EL REGIST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NOMBRE DEL ARCHIVO GRABAD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CANTIDAD DE FOLIOS QUE CONTIENE EL REGISTRO CONT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CADENA DE CARACTERES AL SOMETER EL ARCHIVO AL PROGRAMA MD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OR RES. 6/80 IGJ SE ESTABLECEN LOS REQUISITOS PARA EMITIR LA AUTORIZACION DEL SISTEMA PARA SOCIEDADES, ASOCIACIONES Y FUND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OR RES. 368/01 LA CNV AUTORIZA A REEMPLAZAR LOS LIBROS RUBRIC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OR RES. 29458/03 LA SSN PERMITE REEMPLAZAR LIBROS POR MEDIOS OPT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OR ART. 38 L. 20.337 EL INAES AUTORIZA SISTEMAS DE REG. CONTABLE A COOPER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OR ART. 4 R. INAM 115/88 EL INAES AUTORIZA SISTEMAS DE REG. CONTABLE A MUTU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POR ULTIM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OS MEDIOS NO TRADICIONALES DE REGISTRACION TIENEN SUFICIENTE SUSTENTO LEGAL PARA SU USO INTENSIV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OS LIBROS RUBRICADOS PUEDEN SER REEMPLAZADOS POR LISTADOS DE COMPUTADOR, MICROFILMS Y SOPORTES MAGNETICOS U OTR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EXISTE UN VARIADA Y DISPERSA NORMATIVA DE APLICACIÓN NO UNIFOR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HAY UNA NECESIDAD UNIFICAR LA LEGISLACION SOBRE REGISTRACION CONTABLE, ACORDE CON LA NUEVA TECNOLOG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NORMAS REGLAMENTARIA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CIEDADES: ART. 83 Y 84 RES. 6/80 IGJ Y ART. 23 Y 24 DEL CAPIT. V RES. 368/01 CNV (REGLAMENTAN ART. 61 LEY SOCIEDADE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SOCIACIONES CIVILES: ART. 1 Y 2  D. 6700/32 Y ART. 103 RES. 6/80 IG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FUNDACIONES: ART. 142 RES. 6/80 IGJ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OOPERATIVAS: ART. 38 LEY 20.33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UTUALES: ART. 1 Y 4 RES. INAM 115/8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OMPANIAS DE SEGUROS: RES. 29458/01 SS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LEY SE SOCIEDADES COMERCIAL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ISTICAS ART. 61 LEY 19.55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EDIOS NO TRADICIONALES DE REGISTRACION (ORDENADORES, MEDIOS MECANICOS, MAGNETICOS U OTRO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UTORIZACION POR AUTORIDAD OFICIAL DE CONTRO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ICITUD DE AUTORIZACION AUTOMATICAMENTE APROBADA EN LOS 30 DIAS DE PRESEN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LEY SE SOCIEDADES COMERCIAL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ISTICAS ART. 61 LEY 19.55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E PERMITE ASIENTOS GLOBALES NO MAYORES A UN M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RESINDENCIA DE TODOS LOS LIBROS SALVO EL DE “INVENTARIOS Y BALANCES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PETICION  INCLUIRA UNA “ADECUADA DESCRIPCION DEL SISTEMA” Y DEBERA TRANSCRIBIRSE  EN EL LIBRO “INVENTARIOS Y BALANCES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ASOCIACIONES CIVILES</a:t>
            </a: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 Y FUND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AUTORIDAD DE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LA INSPECCION GENERAL DE JUSTICI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Times New Roman"/>
              </a:rPr>
              <a:t>ASOCIACIONES Y FUND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EXIGENCIAS LEGALES (ART.104-142 RG IGJ 6/80 Y DTO. 6700/32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LIBROS ENCUADERNADOS Y FOLIADOS-FORMALIDADES COD. COM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UBRICADOS EN LA IGJ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6633"/>
                </a:solidFill>
                <a:latin typeface="Times New Roman"/>
              </a:rPr>
              <a:t>ASOCIACIONES Y FUNDACION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QUE PERMITE LA IGJ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PLICAR EL ART. 61 DE LA LEY DE SOCIEDADES COMERCIAL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E PRESCINDE DE LAS FORMALIDADES DEL ART. 53 C.C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UTORIZA SISTEMAS DE REG. CONTABLES POR ORDENADORES, MEDIOS MAGNETICOS, DISCOS OPTICOS U OTROS, SALVO EL INVENTARIO Y BALANC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º Simposio sobre registros contables, laborales, tributarios y social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4:52:33Z</dcterms:created>
  <dc:creator>Iglesias &amp; Asociados</dc:creator>
  <dc:description/>
  <dc:language>en-US</dc:language>
  <cp:lastModifiedBy>C.P.C.E.C.A.B.A.</cp:lastModifiedBy>
  <cp:lastPrinted>2004-08-17T18:37:51Z</cp:lastPrinted>
  <dcterms:modified xsi:type="dcterms:W3CDTF">2004-09-03T15:25:16Z</dcterms:modified>
  <cp:revision>45</cp:revision>
  <dc:subject/>
  <dc:title>LOS REGISTROS CONTABLES EN EL PROYECTO DE CODIGO CIVIL UNIFICADO</dc:title>
</cp:coreProperties>
</file>