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F69-CFA3-4638-8500-A5F8FB77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53E-33D0-4F3F-AD33-3C1AB2B8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D8B-139F-4958-B5A4-AEC2E190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EB7-75D8-42BF-847F-CBB72F7A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BF84-BC69-4057-A8FF-30EC5F53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7EE4-2811-4B18-87A5-94CF074E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CB89-EC61-4B0E-A449-43E30C26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7D25-815D-4430-A47E-BA838E1C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CE6D-EEAD-4183-8D3E-88153227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BE0A-0CFB-421E-9131-0CC8D24A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A310-0221-4A8B-9BC1-5A11382F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4D8-6F5F-4A85-BB8E-215FB138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87D0-673E-4540-9CD0-27424FE0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594E-1005-4731-BCD2-3250D96A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5917-1268-4041-AB01-2793BE71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3A3E-A697-489C-8C8F-AA82AF4B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C827-5420-4442-9BD1-51637E94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4AA-C405-42F8-832D-C7A57F47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F03-17A0-4BA6-8BF7-C852186C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310-6114-47C5-A2B4-E09A77D5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06B-7078-442C-87A5-624921B8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F40-FC2D-4FF2-A9AE-4D598257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010-3187-4C6D-9200-12E858B0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101-B0FD-4433-8E8C-330DA720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1243-04C7-4AB5-8E72-F5A1228955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4D01-2D47-4FF6-B7FE-7E81683B2B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53080" y="5943600"/>
            <a:ext cx="213372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11560" y="22525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760" y="330120"/>
            <a:ext cx="8311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º SIMPOSIO SOBRE REGISTROS CONTABLES,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BORALES, TRIBUTARIOS Y SOCIALES Y SU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ACIÓN RESPALDATOR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ciliando cultura, normas y tecnologí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20760" y="2666880"/>
            <a:ext cx="66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CUMENTO ELECTRONICO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 FIRMA DIGITAL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19160" y="4697280"/>
            <a:ext cx="55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R.DANIEL RICARDO ALTMAR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8160" y="6093000"/>
            <a:ext cx="21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info@altmark-brenna.com.a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971800" y="304920"/>
            <a:ext cx="2743200" cy="6094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RMA DIGIT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1752480"/>
            <a:ext cx="2361960" cy="1447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ALIDEZ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3657600"/>
            <a:ext cx="2361960" cy="8380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VIGENCIA DE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ERTIFICADO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4419720"/>
            <a:ext cx="281952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ERTIFICADO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CENCIAD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5638680"/>
            <a:ext cx="236232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BIDAMEN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ERIFICAD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91440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3200400"/>
            <a:ext cx="0" cy="2438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752120" y="2438280"/>
            <a:ext cx="1295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2438280"/>
            <a:ext cx="0" cy="1219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2438280"/>
            <a:ext cx="1600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2438280"/>
            <a:ext cx="0" cy="198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4495680"/>
            <a:ext cx="0" cy="53352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029200"/>
            <a:ext cx="297180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743200" y="457200"/>
            <a:ext cx="35053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EY DE FIRMA DIGIT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1981080"/>
            <a:ext cx="3276360" cy="8384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DERNO CONCEPTO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STANCI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809880"/>
            <a:ext cx="1828800" cy="1067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CEP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MPLIO D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RM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03280" y="32148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rt.3°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4038480"/>
            <a:ext cx="2971800" cy="99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MPLIACIÓN DE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CEPTO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SCRI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35268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rt.6°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5562720"/>
            <a:ext cx="3276720" cy="990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CEPTO AMPLI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 SOPOR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114300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2819520"/>
            <a:ext cx="0" cy="2743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142640" y="2362320"/>
            <a:ext cx="1676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362320"/>
            <a:ext cx="0" cy="1447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228600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10280" y="2286000"/>
            <a:ext cx="0" cy="1752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52920" y="507852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rt.6°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743200" y="304920"/>
            <a:ext cx="3581280" cy="6094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EY DE FIRMA DIGIT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981080"/>
            <a:ext cx="1447920" cy="6098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UTO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3920" y="12952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Art.7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905120"/>
            <a:ext cx="236196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RMA DIGIT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SUN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124080"/>
            <a:ext cx="205740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RM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LECTRÓNIC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419720"/>
            <a:ext cx="1905120" cy="990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QUIE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UEB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648320"/>
            <a:ext cx="2743200" cy="7617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ESUNCIÓN D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IDA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5943600"/>
            <a:ext cx="1981080" cy="6858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MITEN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61722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28720" y="60958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ispositivo programad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609480"/>
            <a:ext cx="1295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609480"/>
            <a:ext cx="0" cy="1371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2590920"/>
            <a:ext cx="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3886200"/>
            <a:ext cx="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2286000"/>
            <a:ext cx="3733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2666880"/>
            <a:ext cx="0" cy="198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72520" y="41292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rt.8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505320" y="457200"/>
            <a:ext cx="182880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362320"/>
            <a:ext cx="335304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ALOR PROBATORI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1640" y="114300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rt.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029200"/>
            <a:ext cx="236196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ONSERVACIÓ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4724280"/>
            <a:ext cx="1828800" cy="16002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rt.30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Ley 24.624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1066680"/>
            <a:ext cx="0" cy="129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828800" y="2743200"/>
            <a:ext cx="838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2743200"/>
            <a:ext cx="0" cy="228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5640" y="449568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rt.1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9920" y="2743200"/>
            <a:ext cx="609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9400" y="2743200"/>
            <a:ext cx="0" cy="1981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590920" y="304920"/>
            <a:ext cx="373356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ERTIFICADOS DIGIT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048120"/>
            <a:ext cx="2057400" cy="838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OCUMEN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IGIT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3048120"/>
            <a:ext cx="2133720" cy="838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RM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IGIT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4876920"/>
            <a:ext cx="2438280" cy="838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TIDA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ERTIFICAN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5715000"/>
            <a:ext cx="2286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ERIFIC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762120"/>
            <a:ext cx="0" cy="1218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1981080"/>
            <a:ext cx="556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15920" y="149688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rt.1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1981080"/>
            <a:ext cx="0" cy="1067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1981080"/>
            <a:ext cx="0" cy="1067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8880" y="3886200"/>
            <a:ext cx="0" cy="990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571500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971440" y="6095880"/>
            <a:ext cx="4267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00600" y="3124080"/>
            <a:ext cx="528120" cy="82512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0" y="380880"/>
            <a:ext cx="4857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RECHO INFORMÁTICO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990720"/>
            <a:ext cx="0" cy="3045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175248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2590920"/>
            <a:ext cx="0" cy="228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90920" y="2666880"/>
            <a:ext cx="457200" cy="1295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752480" y="2438280"/>
            <a:ext cx="914400" cy="5335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59092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358128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2590920"/>
            <a:ext cx="83844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438280" y="2590920"/>
            <a:ext cx="990720" cy="327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371600"/>
            <a:ext cx="205740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PUEST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53341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PACTO DE LA INFORMÁTIC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971800"/>
            <a:ext cx="220968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TRA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962520"/>
            <a:ext cx="160020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RAUD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3048120"/>
            <a:ext cx="3581280" cy="533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OS PERSONAL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4038480"/>
            <a:ext cx="3047760" cy="6098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4876920"/>
            <a:ext cx="4343400" cy="6094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IMEN DEL SOFTWA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867280"/>
            <a:ext cx="48006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CUMENTO ELECTRÓNI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8080" y="380880"/>
            <a:ext cx="7296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OCUMENTO DIGITAL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- Valor Jurídico y Probatorio -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057400"/>
            <a:ext cx="7086600" cy="8380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OCUMENTO DIGITAL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3276720"/>
            <a:ext cx="32763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neració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4495680"/>
            <a:ext cx="32763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chivo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3276360" cy="6094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nsmisió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2971800"/>
            <a:ext cx="0" cy="30481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6019920"/>
            <a:ext cx="7621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3657600"/>
            <a:ext cx="838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4876920"/>
            <a:ext cx="838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676520" y="380880"/>
            <a:ext cx="5629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OCUMENTO DIGITAL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- Valor Jurídico y Probatorio -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1600200"/>
            <a:ext cx="327672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cum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274320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enerad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2362320"/>
            <a:ext cx="281952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producid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276720"/>
            <a:ext cx="579096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 Soporte Electrónico u Óptico Indele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114800"/>
            <a:ext cx="228600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IGINAL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724280"/>
            <a:ext cx="3124080" cy="3812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eno Valor Probatori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638680"/>
            <a:ext cx="2895480" cy="8384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érdida de Valor 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imer Origi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4724280"/>
            <a:ext cx="2362320" cy="3812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ula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5867280"/>
            <a:ext cx="22096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struc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1981080"/>
            <a:ext cx="0" cy="1295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733920"/>
            <a:ext cx="0" cy="3808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4495680"/>
            <a:ext cx="0" cy="3812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4876920"/>
            <a:ext cx="18288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6248520"/>
            <a:ext cx="3049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5105520"/>
            <a:ext cx="0" cy="1143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5105520"/>
            <a:ext cx="0" cy="1143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6248520"/>
            <a:ext cx="2286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286000" y="457200"/>
            <a:ext cx="4657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OCUMENTO DIGITAL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- Valor Jurídico y Probatorio -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1523880"/>
            <a:ext cx="350496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ENTICIDA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ALTERABILIDA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SEGURIDA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895480"/>
            <a:ext cx="144756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OBJETO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809880"/>
            <a:ext cx="3809880" cy="457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ÉCNICAS DE AUTENTICACIÓ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32560" y="2971800"/>
            <a:ext cx="3656880" cy="3682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IDENTIFICACIÓN DEL EMISOR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5760" y="3581280"/>
            <a:ext cx="3626640" cy="6426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ONTENIDO DE L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XPRESIÓN DE LA VOLUNTA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5040" y="4495680"/>
            <a:ext cx="3877920" cy="8254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ódigo de identifica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rsonal (tarjeta magnética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2440" y="5334120"/>
            <a:ext cx="1825200" cy="459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riptografí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1560" y="5791320"/>
            <a:ext cx="5659560" cy="8254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iometría: detección de las característica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físicas del operad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2057400"/>
            <a:ext cx="0" cy="838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35268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124080"/>
            <a:ext cx="24386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3429000"/>
            <a:ext cx="0" cy="6094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267080"/>
            <a:ext cx="0" cy="838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5029200"/>
            <a:ext cx="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105520"/>
            <a:ext cx="5335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4267080"/>
            <a:ext cx="0" cy="1295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562720"/>
            <a:ext cx="3049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4267080"/>
            <a:ext cx="0" cy="17528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01992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00400" y="457200"/>
            <a:ext cx="2666880" cy="914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PACT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2209680"/>
            <a:ext cx="320040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FORMÁTIC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3886200"/>
            <a:ext cx="3200400" cy="1066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886200"/>
            <a:ext cx="3047760" cy="1066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CORPORA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5638680"/>
            <a:ext cx="46479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PUESTAS JURÍDICA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371600"/>
            <a:ext cx="0" cy="838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2971800"/>
            <a:ext cx="0" cy="5335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3505320"/>
            <a:ext cx="2666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33720" y="3505320"/>
            <a:ext cx="2286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505320"/>
            <a:ext cx="0" cy="3808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3505320"/>
            <a:ext cx="0" cy="3808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3505320"/>
            <a:ext cx="0" cy="2133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981080" y="609480"/>
            <a:ext cx="5257800" cy="10670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CUMENTO ELECTRÓNI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52480" y="2362320"/>
            <a:ext cx="5658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ALOR JURÍDICO Y PROBATORIO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962520"/>
            <a:ext cx="3276720" cy="533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DERNO CONCEP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0" y="4038480"/>
            <a:ext cx="3990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uperar requisitos sustanciales</a:t>
            </a:r>
            <a:endParaRPr b="0" i="1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4572000"/>
            <a:ext cx="1523880" cy="4572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rm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5257800"/>
            <a:ext cx="1524240" cy="4572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por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5943600"/>
            <a:ext cx="1676160" cy="4572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scritur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676520"/>
            <a:ext cx="0" cy="6094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980720" y="2895480"/>
            <a:ext cx="2590920" cy="990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4191120"/>
            <a:ext cx="7621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4343400"/>
            <a:ext cx="1905120" cy="3808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4419720"/>
            <a:ext cx="1371600" cy="838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4495680"/>
            <a:ext cx="685800" cy="1371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8120" y="838080"/>
            <a:ext cx="3124080" cy="99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RMA DIGIT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743200"/>
            <a:ext cx="3581640" cy="1143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riptografí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Asimétric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181480"/>
            <a:ext cx="289584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tidad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ertifican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5181480"/>
            <a:ext cx="312408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av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ública y Priv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1828800"/>
            <a:ext cx="0" cy="838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057040" y="3809880"/>
            <a:ext cx="1676520" cy="1371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3886200"/>
            <a:ext cx="1676520" cy="1219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8120" y="533520"/>
            <a:ext cx="2666880" cy="533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RMA DIGIT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2057400"/>
            <a:ext cx="34290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ANCIÓN LEGISLATIV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886200"/>
            <a:ext cx="190512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FICAC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RÍDIC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5943600"/>
            <a:ext cx="4343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RIPTOGRAFÍA ASIMÉTRIC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520" y="335268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ónic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git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76520" y="762120"/>
            <a:ext cx="1371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762120"/>
            <a:ext cx="0" cy="3124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6560" y="3200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Art.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1066680"/>
            <a:ext cx="0" cy="990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43200" y="3657600"/>
            <a:ext cx="106668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4495680"/>
            <a:ext cx="114300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5029200"/>
            <a:ext cx="0" cy="9144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14:37:39Z</dcterms:created>
  <dc:creator>Compaq</dc:creator>
  <dc:description/>
  <dc:language>en-US</dc:language>
  <cp:lastModifiedBy>C.P.C.E.C.A.B.A.</cp:lastModifiedBy>
  <cp:lastPrinted>2004-08-20T13:06:48Z</cp:lastPrinted>
  <dcterms:modified xsi:type="dcterms:W3CDTF">2004-08-30T20:18:07Z</dcterms:modified>
  <cp:revision>54</cp:revision>
  <dc:subject/>
  <dc:title>Sin título de diapositiva</dc:title>
</cp:coreProperties>
</file>