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A64-20A0-4EC1-90DA-9BF9259F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D9C-6E6C-40C8-A56A-4760EFB4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32E-4D05-492E-ACA9-FAE49492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4F3-432D-421C-BFED-73CD9CD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03C-5F63-4187-A43B-F14EB4C7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101-BADB-4B52-B685-15C60B6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853-1DAE-472D-8755-A18E154A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BAC-E332-4FDA-A39C-66EDFCA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02F-FEE9-43E7-9134-00FC94F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BD0-1116-4533-9852-58732F2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0C8-9C9D-4B2E-8A70-281031F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2B2-EF2E-4346-9736-380989B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283-2930-47A3-9029-3534475FA62C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8380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UNIVERSIDAD NACIONAL DEL S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4520" y="2787480"/>
            <a:ext cx="48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ic. FABIO ROT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9200" y="45720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7DB-7A5A-4EA9-9D6C-7D52E6BD78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640080"/>
            <a:ext cx="8497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Según HAX y MAJLU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La estrategia </a:t>
            </a:r>
            <a:r>
              <a:rPr b="1" lang="es-AR" sz="1800" spc="-1" strike="noStrike">
                <a:solidFill>
                  <a:srgbClr val="0000cc"/>
                </a:solidFill>
                <a:latin typeface="Tahoma"/>
              </a:rPr>
              <a:t>[en general]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1.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termina y revela el propósito organizativo en términos de objetivos a largo plazo, programas de acción y prioridades de asig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lecciona los negocios en los que participa o debe participar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9F2-45C1-4AC3-B23B-BD87FB730B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74920"/>
            <a:ext cx="84978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3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tenta alcanzar una ventaja sostenible de largo plazo en cada uno de sus negocios, respondiendo en forma apropiada a las oportunidades y amenazas provenientes del medio en el que actúa la empresa y a los puntos fuertes y débile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dentifica las tareas de gestión específicas en los niveles corporativos, de negocios y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8E2-42D4-4561-A1EA-47098EA88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39600"/>
            <a:ext cx="864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5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Constituye un patrón de decisiones unificador e integ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fine la naturaleza de las contribuciones económicas y no económicas que pretende hacer a sus “stakeholders”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7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a expresión del propósito estratégico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7E4-1416-405F-95B1-E1F4E20DF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89120"/>
            <a:ext cx="864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Apunta a desarrollar y fomentar las competencias centrale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 medio para invertir selectivamente en recursos tangibles e intangibles a fin de desarrollar las capacidades que garanticen una ventaja competitiva sosteni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DEA-EF93-42A8-88BD-B4E19B261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54600" y="54936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ARACTERÍSTICA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13012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ESTAR RELACIONADAS CON LOS OBJETIVOS A LARGO PLAZO DE UNA ORGANIZACIÓN. POR LO TANTO, SE REQUIERE UNA VISIÓN DE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3C1-FC9A-4C76-A7B1-E711E547E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26240" y="5493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6243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VALOR, LO QUE IMPLICA EL CRECIMIENTO DE LAS ORGANIZACIONES. EL CRECIMIENTO IMPLICA MAYORES NECESIDADE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A34-215C-4E4A-A7C7-0B1DD994A4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557360"/>
            <a:ext cx="86421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RECIMIENTO REQUIERE CREATIVIDAD E INNOVACIÓN; AL MENOS EN ALGÚN SENTIDO: FINANZAS, MARKETING, PRODUCCIÓN, PRODUCTOS Y/O SERVICIOS, TECNOLOGÍA DE LOS PRODUCTOS, DE LOS PROCESOS Y DE LA INFORMACIÓN, ADMINISTRACIÓN DEL CAPITAL INTELECTUA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E4B-5128-429B-9724-1D4A0C71CB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07920"/>
            <a:ext cx="86425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NOVACIÓN Y LA CREATIVIDAD NO SIEMPRE REQUIEREN DE LA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VENCIÓN DE LA PÓLVOR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PUEDEN SER MUCHAS VECES COMO LA PIMIENTA: UNA PEQUEÑA DOSIS ES SUFICIENTE PARA REALZAR Y SABORIZAR LAS COMIDAS. LA MÁS DE LAS VECES, TAMPOCO REQUIEREN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NTARSE A PENSAR HASTA QUE SE PRENDA LA LAMPARI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, SINO MÁS BIEN NECESITAN DE UN ESTUDIO SISTEMÁTICO DE L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BCC-EFDA-47A3-92D7-98CC14342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343160"/>
            <a:ext cx="8713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EN FINANZAS DEBEN CUMPLIR CON EL OBJETIVO DE MAXIMIZAR EL VALOR ACTUAL DEL PATRIMONIO NETO A VALORES DE MERCADO. PERO SI ÉSTE NO SE CUMPLE, REALMENTE NO HABRÍA CREA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62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19F-CB95-4577-9810-C3674AE60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498680"/>
            <a:ext cx="8713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FINANZAS DE LA EMPRESA, COMO DISCIPLINA, DEBEN DESARROLLAR MÉTODOS Y HERRAMIENTAS PARA MEDIR LA CREACIÓN DE VALOR. LA EFICACIA DE LAS ESTRATEGIAS SE DEBE M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135-DA8D-444B-BD39-3B5E92ADE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68280"/>
            <a:ext cx="8642160" cy="256284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FORMULACIÓN DE ESTRATEGIAS FINANCIERAS EN CONTEX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DE ALTA INCERTIDUMBRE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5920" y="4148640"/>
            <a:ext cx="5804280" cy="459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EL FINANCIAMIENT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7D0-57D6-434A-BE82-335EB0BA46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55304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ADECUARSE AL ENTORNO EN EL QUE OPERA LA ORGANIZACIÓN, PERO VISTO CON UNA ÓPTICA PROSPECTIVA. ES EL AJUSTE ESTRATÉGICO NO DEL PRESENTE, SINO D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1C9-2388-43FC-98D1-AA81883EE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42596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N EL MUNDO MODERNO, EL ENTORNO EN EL QUE OPERAN LAS ORGANIZACIONES ES ALTAMENTE COMPETITIVO; Y LOS COMPETIDORES TIENEN UNA ALTA CAPACIDAD DE IM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20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90B-2680-4B96-A309-A1034CF50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409040"/>
            <a:ext cx="8785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AMBIÉN PUEDEN SURGIR IMITADORES ILEGALES. LAS ESTRATEGIAS PERSIGUEN LA OBTENCIÓN DE VENTAJAS ESTRATÉGICAS; QUE SON VERDADERA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E0A-1493-491D-8CDE-BD6F5F1C7A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1829520"/>
            <a:ext cx="8785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OPORTUNIDADES, Y/O CAPITALIZAR LAS QUE EXISTAN, TRATANDO DE SOSLAYAR LAS AMENAZAS. DEBEN APROVECHAR LAS FORTALEZAS DE LA ORGANIZACIÓN Y SUPERAR LAS DE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572-EBC7-4BAB-86C1-58DA48DA0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36512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Resumen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SON CONJUNTOS DE POLÍTICAS, DECISIONES Y ACCIONES QUE LLEVAN A LAS ORGANIZACIONES DE UN ESTADIO ACTUAL DETERMINADO A UN ESTADIO FUTURO QUE MAXIMICE LA RIQUEZA DE SUS PROPIE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58B-ECE3-4317-9FC8-460D5D50F8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23520" cy="3624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4000" y="4941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BEMOS ACOTAR QUE LA ALTA INCERTIDUMBRE ATENTA CONTRA LAS ESTRATEGIAS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F29-6F94-4614-9E26-11DE3E0D71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03640" y="1268280"/>
            <a:ext cx="2735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149720"/>
            <a:ext cx="2158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149720"/>
            <a:ext cx="1726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149720"/>
            <a:ext cx="1942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899800">
            <a:off x="3142080" y="2166120"/>
            <a:ext cx="431640" cy="2376360"/>
          </a:xfrm>
          <a:prstGeom prst="downArrow">
            <a:avLst>
              <a:gd name="adj1" fmla="val 50000"/>
              <a:gd name="adj2" fmla="val 13763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481200">
            <a:off x="5771520" y="2056320"/>
            <a:ext cx="431640" cy="2592360"/>
          </a:xfrm>
          <a:prstGeom prst="downArrow">
            <a:avLst>
              <a:gd name="adj1" fmla="val 50000"/>
              <a:gd name="adj2" fmla="val 15014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49228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108-8B66-42D5-972E-7B3D613F20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8040" y="26028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MODELOS FINANCIE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96600" cy="4092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A32-10D9-48BF-9F18-C7D66BDEBD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2240" cy="6037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705-4FBB-4DFD-86A2-7DEB193893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85080" cy="60404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4EC-B081-4860-8D62-79EA336832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5760"/>
            <a:ext cx="8209080" cy="192276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DINERO SE INMOVILIZA CON LA ESPERANZA DE SU RECUPERACIÓN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073-F159-4B11-B06B-91EB6B28A79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052640"/>
            <a:ext cx="7632720" cy="8254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FINANCIAMIENTO A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 TRAVÉS DEL 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852640"/>
            <a:ext cx="3168720" cy="180036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C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852640"/>
            <a:ext cx="3527640" cy="172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ARRY MARKOV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WILLIAM SHA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516640"/>
            <a:ext cx="5184720" cy="93672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9560" y="5589720"/>
            <a:ext cx="49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PREMIOS NOBEL EN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908400">
            <a:off x="3309120" y="1564560"/>
            <a:ext cx="288720" cy="1728720"/>
          </a:xfrm>
          <a:prstGeom prst="downArrow">
            <a:avLst>
              <a:gd name="adj1" fmla="val 50000"/>
              <a:gd name="adj2" fmla="val 149688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7731200">
            <a:off x="5607000" y="1528560"/>
            <a:ext cx="304560" cy="1800360"/>
          </a:xfrm>
          <a:prstGeom prst="downArrow">
            <a:avLst>
              <a:gd name="adj1" fmla="val 50000"/>
              <a:gd name="adj2" fmla="val 147784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7709600">
            <a:off x="3267720" y="4229280"/>
            <a:ext cx="304920" cy="1728720"/>
          </a:xfrm>
          <a:prstGeom prst="downArrow">
            <a:avLst>
              <a:gd name="adj1" fmla="val 50000"/>
              <a:gd name="adj2" fmla="val 14173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756600">
            <a:off x="5543280" y="4186080"/>
            <a:ext cx="289080" cy="1800000"/>
          </a:xfrm>
          <a:prstGeom prst="downArrow">
            <a:avLst>
              <a:gd name="adj1" fmla="val 50000"/>
              <a:gd name="adj2" fmla="val 15566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FA1-CA97-459A-8326-01533C1337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5329080" cy="666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12000" y="2133720"/>
            <a:ext cx="2793960" cy="289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F7D-8D29-4B4C-A9FE-5FF531404F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UPUESTOS “MUY”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3560" y="1773360"/>
            <a:ext cx="50835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AZONABLEMENTE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FINANCIERO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e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REALE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CDB-7BAA-4BA2-BB57-DC6F8CD9A6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29480" y="765000"/>
            <a:ext cx="64656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ORIDADES EN EL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UTO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933720"/>
            <a:ext cx="6912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DE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FINANCIERA ÓP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6B9-49A3-418C-A02E-CE747032E5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39280" y="476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00" y="1557360"/>
            <a:ext cx="80247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1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PRINCIPAL Y A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EFICIENCIA DEL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IFERENCIA DE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LAN DE INCE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2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ACREEDORES Y ACCIONI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NIPULEO DEL VALOR DE LOS B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YOR RIESGO PARA LOS ACREE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DF6-99A3-48A6-AB5C-A2B64871B0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6560" y="1557360"/>
            <a:ext cx="69062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3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CLIENTE Y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UDAS RESPECTO AL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L SERVICIO DE POS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USO DEL PRODUCTO ADQUIR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fotocopias i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C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4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 GENERAL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NTRATADOS Y CONTRA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2D9-F851-4368-BCB3-E4A8EA13BD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2600" y="404640"/>
            <a:ext cx="60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OCURRE CUANDO UN GRUPO DE PARTICIPANTES TIENE MEJOR INFORMACIÓN O MÁS OPORTUNA, QUE LA DE OTR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2FF-2FF1-452B-AE28-0BC8E3E403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844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ES EL CONOCI-MIENTO SUPERIOR QUE TIENEN LOS ADMINIS-TRADORES ACERCA DE   LAS PERSPECTIVAS DE LA FIRMA, MIENTRAS QUE LOS INVERSORES EN LA MISMA FORMAN PARTE DEL GRUPO DESINFOR-M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0AF-EB54-4DF2-80BF-D51E6E59F5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421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UNA SEÑAL ES UNA ACCIÓN TOMADA POR LOS MÁS INFORMADOS, PROVEYENDO INFORMACIÓN CREÍBLE A LOS MENOS INFOR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54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EÑ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7AF-9495-4BC7-82BC-6004E57A03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2349360"/>
            <a:ext cx="6912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TEORÍA DE LA AGENCIA DERIVA DEL HECHO DE QUE LAS DECISIONES DENTRO DE LA FIRMA SON TOMADAS POR LOS ADMINISTRADORES, QUE SON AGENTES DE LOS INVE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940-FF18-46B4-BFDF-4C1CE1CDC9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509120"/>
            <a:ext cx="8729640" cy="43909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LO SE MANIFIESTA EN UN CONTEXTO DINÁMICO, INCIERTO Y BAJO CONDICIONES DE RIESGO; DONDE SE ENTRELAZA LO ECONÓMICO CON LO POLÍTICO Y LO SOCIAL, TANTO A NIVEL NACIONAL COMO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7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99C-A455-43B1-A436-D09382C75A2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206064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ONFLICTO DE INTERESES ENTR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DMINISTRADORES Y LOS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UEDE CONDUCIR A UNA SUBOPTIMIZ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IÓN EN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NTRO DE LA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B43-F9F0-4717-B49C-D74BD570D6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692280"/>
            <a:ext cx="7416720" cy="420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AS OPCIONES REAL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EL 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Y LA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46A-535A-43C6-800E-9164E34E2D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056240"/>
            <a:ext cx="7850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VOLUCRA EN SU ANÁLISIS A LA INCERTIDUMBRE, AL DESCON-TAR EL FLUJO DE FONDOS ESPERADO A UNA TASA DE COSTO DE CAPITAL, QUE INCLUYE UN CIERTO PREMIO POR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ERO UNA VEZ TOMADA LA DECISIÓN EN BASE A ESE CRITERIO, LA CUESTIÓN SE TORNA </a:t>
            </a:r>
            <a:r>
              <a:rPr b="1" lang="es-AR" sz="2400" spc="-1" strike="noStrike" u="sng">
                <a:solidFill>
                  <a:srgbClr val="ff3300"/>
                </a:solidFill>
                <a:uFillTx/>
                <a:latin typeface="Tahoma"/>
              </a:rPr>
              <a:t>DETERMINIS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387-DAC9-48CB-83C3-F5833FA62A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19232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NO PERMITE SEGUIR LA EVOLUCIÓN DEL PROCESO DE INVERSIÓN EN EL TIEMPO: LA MODIFICACIÓN DE INGRESOS, DESEM-BOLSOS Y TASAS, ASÍ COMO EL AGREGADO DE NUEVA INFORMACIÓN; TODO LO CUAL –ENTRE OTRAS CUESTIONES– LE AGREGARÍA REALMENTE FLEXIBILIDAD Y LO CONVERTIRÍA EN UNA VERDA-DERA HERRAMIENTA ESTRATÉGICA.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093-85EA-4F79-8406-281835FB43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559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OPCIONES REALES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PERMITEN UN MEJOR MANEJO ESTRATÉGICO Y UNA FLEXIBILIDAD MÁS CONDUCENTE EN SITUACIONES DE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A FLEXIBILIDAD RESULTA MÁS IMPORTANTE AÚN EN CONTEXTOS DE ALTA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AB9-ED33-40DC-8938-6D8E8102AC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213012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PANSIÓN O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CON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ABA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TENSIÓN DE LA VID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DIFERIMIENT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62064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OPCION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LGUNAS 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33B-C1B5-472E-AC93-3ECCB4154B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933840"/>
            <a:ext cx="734364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SIGUIENDO A </a:t>
            </a:r>
            <a:r>
              <a:rPr b="1" i="1" lang="es-ES" sz="2400" spc="-1" strike="noStrike">
                <a:solidFill>
                  <a:srgbClr val="0000ff"/>
                </a:solidFill>
                <a:latin typeface="Tahoma"/>
              </a:rPr>
              <a:t>ALBERTO MARCEL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, DIGAMOS,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L VALOR DE LA FLEXIBILIDAD ES MAYOR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XISTE UN ALTO NIVEL DE INCERTI-DUMBRE SOBRE EL FUTU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EFD-3CF2-4736-ADDC-A676DA7EFB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63332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S PROBABLE ADQUIRIR NUEVA INFOR-MACIÓN SOBRE LA EVOLUCIÓN FUTURA CON EL TRANSCURSO DEL TIEM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FB0-F9A4-4468-A5FD-186460BD26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42920" y="1488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LA GERENCIA TIENE CAPACIDAD DE MA-NIOBRA Y AGILIDAD PARA RESPONDER ADECUADAMENTE AL RECIBIR NUEVA INFORMACIÓN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C7E-8215-4C90-BEF5-0D79C66995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268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1628640"/>
            <a:ext cx="4896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42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OPCIONE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98900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0FC-C090-4686-A272-D31022B552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44520"/>
            <a:ext cx="8353440" cy="320220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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E PROCESO DEBE CREAR VALOR. POR LO TANTO SE REQUIERE LA APLICACIÓN DE ESTRATEGIAS DE NEGOCIOS Y DE ESTRATEGI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BB1-201B-4FCE-A76B-B9A4E1F383A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87280" y="549360"/>
            <a:ext cx="6769440" cy="459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 </a:t>
            </a:r>
            <a:r>
              <a:rPr b="1" lang="es-A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DECISIONES A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989000"/>
            <a:ext cx="8642160" cy="1015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ALTA INCERTIDUMBRE INHIBE EL PEN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ÉGICO Y EL PLANEAMIENT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4005360"/>
            <a:ext cx="5400720" cy="21283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 REQUIERE EL APOY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ÁCTIC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NNOVACIÓN Y CREA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125360"/>
            <a:ext cx="358920" cy="790920"/>
          </a:xfrm>
          <a:prstGeom prst="downArrow">
            <a:avLst>
              <a:gd name="adj1" fmla="val 50000"/>
              <a:gd name="adj2" fmla="val 5509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358920" cy="792000"/>
          </a:xfrm>
          <a:prstGeom prst="downArrow">
            <a:avLst>
              <a:gd name="adj1" fmla="val 50000"/>
              <a:gd name="adj2" fmla="val 55165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416-8C01-4633-9B68-112ADD84B7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341360"/>
            <a:ext cx="705816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A MAYOR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3789360"/>
            <a:ext cx="770544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MÁS Y MEJORES ESTRATEG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92280"/>
            <a:ext cx="358560" cy="1224000"/>
          </a:xfrm>
          <a:prstGeom prst="downArrow">
            <a:avLst>
              <a:gd name="adj1" fmla="val 50000"/>
              <a:gd name="adj2" fmla="val 85341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9D3-CE79-49D8-A8FB-D9BB1B2AD4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9200" y="310824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600-979D-4277-998F-3FD5671BDD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570320"/>
            <a:ext cx="8729640" cy="4482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OBJETIVO FINANCIERO DE LAS ORGANIZACIONES MODERNAS ES LA MAXIMIZACIÓN DEL VALOR ACTUAL DEL PATRIMONIO NETO, A VALORES DE MERCADO. SI ELLO SE CUMPLE, SE PUEDE AFIRMAR QUE LAS DECISIONES TOMADAS EN LA ORGANIZACIÓN CREARON VALOR. EN CASO CONTRARIO, NO SE PUEDE HACER TAL AFI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62064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1F8-E1CE-4DE2-9386-91FD179067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2493360"/>
            <a:ext cx="55450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ALOR TIEMPO D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ERRAMIENTAS DE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2480" y="476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413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E77-2D6D-4C3C-867F-89C9B47E2D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2417760"/>
            <a:ext cx="640872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REATIVIDAD 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VALUACIÓN DE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Y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MPREVISIBI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2480" y="6206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62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34C-3069-40F8-9AD1-2C46C6DE7E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9760" y="836640"/>
            <a:ext cx="579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INCERTIDUMBRE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No se puede prever el futu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NTEXTOS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MBIANTE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TURBULENT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FLACIONARI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AÓTIC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+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GLOB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4EA-A7C1-4F95-A7E4-331A4F842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6:30:23Z</dcterms:created>
  <dc:creator>Fabio Rotstein</dc:creator>
  <dc:description/>
  <dc:language>en-US</dc:language>
  <cp:lastModifiedBy>C.P.C.E.C.A.B.A.</cp:lastModifiedBy>
  <dcterms:modified xsi:type="dcterms:W3CDTF">2004-09-24T15:28:28Z</dcterms:modified>
  <cp:revision>203</cp:revision>
  <dc:subject/>
  <dc:title>Diapositiva 1</dc:title>
</cp:coreProperties>
</file>