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6313-31E7-4D1F-8552-B3E17D99F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97F4-2874-440D-A3E7-C1B8D086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9B14-2AC3-4A9C-AC64-835FF3D06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3695-CBC6-450C-910D-91BD38E75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D9C5-3B8D-4803-9227-035D1305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E293-64EA-471E-9CE3-339454C9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0B8D-C06D-4F22-B51F-9A3C6FFD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BA15-C174-47EC-8F73-7518B1FF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F824-F508-4C97-8364-1CAC58CF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9E84-0016-43B6-9D08-F605DCE7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C5ED-8125-4391-A810-B910ADBE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BFC9-E55B-46DB-8E2C-C90CF005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9DA4-75D6-4077-A22F-1BDA9BCF82A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Primera Jornada sobre Mercado de Capitales</a:t>
            </a:r>
            <a:br>
              <a:rPr sz="40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turos, Opciones y Nuevos Instrumentos de Negoci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món Altkorn Mo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ltkorn@ciudad.com.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0 de mayo d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Situación en Latinoamé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BM&amp;F de San Pablo sigue creciendo y consolida su clearinghouse para negocios financieros, cambiarios, agropecuarios y sobre ac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xder de México, a punto de quebrar, se convierte luego en la segunda bolsa de derivados de la reg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mbas tienen como principal producto subyacente a la tasa de interés de corto plaz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guen muy de cerca los cambios e innovaciones de los mercados internaci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Situación en Argent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mercado está segmen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ltan produc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incorporación de estructuras del O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enfrenta un nuevo proceso binario: la constitución de un gran mercado, con integridad financiera, liquidez y multiplicidad de productos, o la coexistencia de pequeñas unidades sin masa crí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inúa el riesgo de que el mercado de productos argentinos sea absorbido por alguna bolsa interna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Ventajas de tener un mercado de derivados loc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o de coberturas integrales para las empresas, sobre múltiples produc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dustria de servicios sofisticada, con grandes efectos multiplicadores sobre la economía real y sobre el sector financi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lida los procesos de entrada de capital, genera mayor rotación de recursos financieros internos, y provee de un marco de financiamiento anticícl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troalimenta al mercado de capitales lo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vee de mejora crediticia para el sector privado y públ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Indice de te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lasificación de los productos deriv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istoria y evolución en los mercados internaci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tintos productos para cubrir las necesidades de cobertura de la empr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tuación actual en Latinoamérica y en la Argen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ntajas de tener un mercado local de deriv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Distintos tipos de Deriv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704880" y="2232000"/>
          <a:ext cx="7886520" cy="563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2232000"/>
                    <a:ext cx="7886520" cy="56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Historia de los productos deriv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1848 se funda la Chicago Board of Trade (CBO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 principio se negociaban sólo productos agríco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1903 son las primeras discusiones para armar una Clearinghouse centraliz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1936 se crea la Commodity Exchange Authority, quien prohibe la negociación de opciones agrícolas por más de 50 añ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1967 se devalúa la libra, que pasa de 2,80 a 2,4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1968 la CBOT plantea la negociaci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ón del índice Dow Jones Industrial Average.  Fracasa en el int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n 1971 cae el acuerdo de Bretton Woods.  El oro deja de venderse a $35 la onza.  Fin de los tipos de cambio fij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Historia de los productos deriv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Mayo de 1972.  La CME introduce los futuros sobre divi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n 1974 la NYMEX lista su primer contrato sobre petról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n 1975 comienza la negociación de futuros sobre oro, y la CBOT lanza el primer contrato mundial sobre tasas de interés (GNM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n 1977 la CBOT habilita futuros sobre los T-B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n octubre de 1979 Paul Volcker anuncia que la Fed se focalizará en la oferta monetaria, no en la tasa de interés para bajar la infl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n 1981 se lanza el Eurodollar, primer contrato de tasa de interés sin entrega fís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Historia de los productos deriv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n 1982 se lista el futuro sobre S&amp;P 500 en C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n 1984 se firma acuerdo entre la CME y la bolsa de Singapur (SIMEX): comienza la globalización de derivado.   También se autorizan las opciones agríco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n 1987 la CME y Reuters anuncian el desarrollo de Globex (plataforma electrónic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n 1990 nace la bolsa de futuros de Alemania (DTB).  Dará luego lugar al Eurex, actual líder mund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n 1997 la bolsa de Sydney decide eliminar totalmente la negociación a viva voz, mientras la CBOT abre el mayor piso de la hist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n 1999 LIFFE cierra su piso y se vuelve 100% electrón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Times New Roman"/>
              </a:rPr>
              <a:t>Situaciones recie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Chicago y Frankfurt se pelean por el mercado mund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Se desarrollan los futuros energéticos y ambient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gue el proceso de fusión de bolsas y clearinghou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inua la incorporación en bolsa de productos over the cou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negociación electrónica ganó la batal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gue creciendo el volumen negociado y la cantidad de produc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a vez hay más productos estructur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Times New Roman"/>
              </a:rPr>
              <a:t>Antes y ahora en los Deriv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Commod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Coberturas si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Piso de nego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Membres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Coope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A viva 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Con entrega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Ti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Ruedas o cor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Bol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uturos con ingenie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Manejo integral de ries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Negociación electró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Derechos de nego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Sociedades for pro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Casamiento electró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Liquidación por di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Tic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P.C.´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.C.N.´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Distintos productos para cubrir las necesidades empresari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sas de interés de corto y largo plaz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nedas y cross r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dices y subíndices bursát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si todos los commodities agrarios y pecuar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ergía (petróleo, gas, electricida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enómenos de la naturaleza (lluvia, terremotos, temperatur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tintos indicadores de evolución de prec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oss entre inflación, tasa de interés y tipo de camb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0T20:07:31Z</dcterms:created>
  <dc:creator>x</dc:creator>
  <dc:description/>
  <dc:language>en-US</dc:language>
  <cp:lastModifiedBy>pagina</cp:lastModifiedBy>
  <dcterms:modified xsi:type="dcterms:W3CDTF">2004-05-26T13:29:01Z</dcterms:modified>
  <cp:revision>33</cp:revision>
  <dc:subject/>
  <dc:title>Seminario sobre Futuros y Opciones Herramientas financieras para el manejo empresario</dc:title>
</cp:coreProperties>
</file>