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763-51DF-4A5E-ACD7-2F8149AB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647-A3FF-4897-9FBB-21352AE8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FE2-C580-41C4-8DB2-D1257038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71E-C3F8-4BBB-9FC8-EAA11F70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69B-3B87-420C-A6D3-9C0626F2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B30-A80C-4B26-B8EB-444CF480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F3D-68A9-4EB5-87B8-AD211D15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3EF-AEBA-4AA9-A4EF-ED87201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3A2-2307-4A2C-9381-7B226A0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3F6-779D-48A6-9648-64C4B424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34C-0EBE-41E5-B318-C8B3A9E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653-2C14-4F77-B45D-3050D19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38080" y="1981080"/>
            <a:ext cx="7543800" cy="472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117-AB4D-4F15-8C73-329FBAF000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423-0AC0-479B-B3CD-6A1E80A1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2895480"/>
            <a:ext cx="830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MERA JORNADA SOBRE EL MERCADO DE CAPITAL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Argentina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5434560"/>
            <a:ext cx="3333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Jorge 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80880"/>
            <a:ext cx="5639040" cy="127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5a5c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Consejo Profesional de Ciencias Económicas de la Ciudad Autónoma de Buenos 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3805200"/>
            <a:ext cx="870588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GIMEN DE TRANSPARENCIA DE L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ERTA PÚBLIC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EC 677/01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132-E7AE-460D-83A8-609920AC1B2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FB207-36F2-4EA2-9A13-5C7F56D6755D}" type="datetime1">
              <a:rPr lang="en-US"/>
              <a:t>07/30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DESIGN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Por la Asamblea de Accionist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Directamente por la Asamb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A propuesta del Directo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Intervención del Comité de Auditor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Condiciones para auditar estados contables (declaración jur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Actuación de los Consejos Profesion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igila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44A-68F6-4879-B695-34CBDD0748A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4492-B4DB-4621-BA62-E446AC8BDEC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22860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FACULTADES DE LA CN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 respecto a la actividad de Con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ctaminantes y firmas de Auditoria  en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ue actúan en el ámbito de la Ofert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toriz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form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gla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ancion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D57-77B1-4A3D-890D-154C61DAD5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9D68B-97EF-46DF-ACDA-289E1C2653B4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79250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FACULTADES DE LA CN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ts val="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licitar a Consejos Profesionales información relativa a hechos  inherentes a su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zar inspecciones y solicitar acla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comendar princip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4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terminar criterios de indepen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ts val="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igilar la actividad e independencia de los Contadores dictaminantes y firmas de auditoría externa en forma adicional y sin perjuicio de la competencia de los consejos profe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09B-4350-4B89-AB33-1EBD2B4CC4E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74974-F27D-4144-A053-9CC94F5F2BDC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FACULTADES DE LA CN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36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reforma incluye entre las personas a las que alcanza el poder sancionatorio de la CNV a los contadores dictaminantes y a las firmas de auditoría externa má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á del socio suscriptor del o los documentos objeto de ob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060-CAA7-466A-B307-40F2474C52A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4363-3AEB-4EDA-937D-A6CCAE8227E7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POTESTAD DE FISC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POTESTAD SANCION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competencia respecto del contralor de la actividad de los contadores certificantes y firmas de auditoría siempre las tuvo la CNV, como derivación del contralor de los E.E.C.C. de las emis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 respecto al Decreto 677/01 se encuentra una única tipificación de conducta infractora en el art. 12 cuando establece: “La falsedad u omisión de las declaraciones juradas de información de las sanciones de las que hubiere sido pasibles, sean de índole penal, administrativa o profesinal de carácter público será considerada falta grave a los efectos del art. 10 de la Ley 17.811 y sus modific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AF2-5627-4C2C-91F6-321950C9A78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4F9F2-E401-470C-988E-CE9C0B68DBAE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SA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 el art. 10 de la Ley 17.811 (que incorpora el Decreto 677/01) “Las personas físicas y jurídicas que infrinjan las disposiciones de la presente ley y las aplicables, serán pasibles de las siguientes  san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Apercib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) Mu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Inhabilitación hasta de CINCO (5) años para ejercer funciones como directores, administradores, síndicos, miembros del consejo de vigilancia, integrantes del consejo de calificación,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ntadores dictaminantes o auditores extern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o gerentes de emisoras autorizadas a hacer ofert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181-EB26-42EF-90F4-613023BC74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4C614-0D7A-466C-81D4-7C467B3EDFA6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38224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VALORIZACIÓN DE LAS SA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A los fines de la fijación de sanciones, la COMISION NACIONAL DE VALORES deberá tener especialmente  en cuenta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El daño a la confianza en el mercado de capita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La magnitud de la infracción los beneficios generados o los perjuicios ocasionados por el infract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El volumen operativo del infract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La actuación individual de los miembros de los órganos  de  administración y fiscalización y su vinculación con el grupo de control, en particular, el carácter de miembro (s) independiente (s) o externo (s) de dichos órgan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La circunstancia de haber sido, en los SEIS (6) años anteriores sancionado por aplicación de la presente ley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C79-FD39-4028-A96F-E468C024DDD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177D9-0EEA-4C01-9533-A67BD85F248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6600cc"/>
                </a:solidFill>
                <a:latin typeface="Times New Roman"/>
              </a:rPr>
              <a:t>DESIGNACIÓN POR CNV DE AUDITORES EXTERNOS PROPUESTOS POR LA MINORÍA (5% DEL CAPITAL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48C-C6A6-452F-AFBC-8734FEA4F0E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BED03-116C-4AF7-BAA0-AE0C03F5F1D0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FACULTADES DE LA CN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2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 los casos en que los derechos de los accionistas minoritarios puedan resultar afectados, la COMISIÓN NACIONAL DE VALORES podrá, previa opinión del órgano de fiscalización y del Comité de Auditoría de la Sociedad,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ruir a la sociedad la designación de un auditor externo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puesto por estos para la realización de una o varias tareas, a costa de los requirientes” (Capítulo III art. 9.5 de las Norm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D46-70CE-47D8-BD57-04C34699F47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F2A03-97A5-46FC-A25A-7C311D3E6C3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QUISITOS GENERALES PARA INSTRUIR EL NOMBRAMIENTO DE UN AUDITOR EXTERNO A SOLICITUD DE ACCIONISTAS MINOR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Los presentantes deberán acreditar haber agotado las instancias internas con los órganos societarios compe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cribir en detalle el daño y la ausencia de otras alternativas para evit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cribir el alcance de la auditoria  que solicitan sea realizada, su plazo de duración y de que modo la misma evitara el perjuicio a sus der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) Proponer hasta TRES (3)  estudios de auditores externos, revistiendo el  carácter de independientes y asumiendo el compromiso de hacerse cargo los peticionantes del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B8A-89AC-4FDD-857E-6F31BD0E5A7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31792-ECFF-4F5A-A468-B85E66B3E769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creto 677/01 (Transparencia y Mejores Practicas para el Mercado de Capit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ditor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mité de Audi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soluciones Reglamentarias de la C.N.V. 400 Y 401 (Incorporadas a T.O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7a7a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2B2-C1B5-44BA-958A-54EC347B8D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46B1C-5833-4304-85BD-EEFC7B08E3E2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33cc"/>
                </a:solidFill>
                <a:latin typeface="Times New Roman"/>
              </a:rPr>
              <a:t>COMITÉ DE AUDITO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D88-330F-43FC-9436-1CB017EA8A6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EAD0E-2B26-4206-B91C-EA6033E7E33D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CONSTITU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3 miembros del directorio con mayoría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BD5-2F87-4C92-B2C4-7E5E5F74AF9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FA018-335B-4618-BE56-C8109E51CE60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1. INDEPEND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752-9F9A-400F-A94A-861B0B07F92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6A0FD-438A-4562-8446-066F4C7F2CEF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imes New Roman"/>
              </a:rPr>
              <a:t>Se  define  por la negativa, es  decir  indicando la  condiciones de  NO independenci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ea  también   miembro  del  órgano  de administración o  dependientes de los  accionistas que  son titulares de “participaciones significativas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Este  vinculado a la emisora por una  relación de  dependencia, o  si estuvo vinculado a ella por una relación de dependencia durante los  últimos  TRES (3) añ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c) Tenga   relaciones  profesionales o pertenezca   a una sociedad o asociación profesional  que mantenga relaciones profesionales con,  o perciba  remuneraciones u honorarios (distintos de los correspondientes a las funciones que cumple  en el órgano de adminsitración) de, la  emisora o los accionistas de  esta  que tengan en ella  en forma  directa o  indirecta “participa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. CRITERIOS DE INDEPENDENCIA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(art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3E-09A0-450E-9E2E-9CB2D7611D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3C6C6-6C7B-43C9-92B8-22C09220CE4C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ignificativas” o influencias significativa o con sociedades en las que estoy  también tengan en forma directa o  indirecta “participaciones significativas” o cuentes con influencia significativ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En forma  directa  o indirecta,  sea  titular  de una  “participación significativa” en la  emisora o en una sociedad que  tenga en ella una  “participación significativa” o cuente  en ella  con influencia  significativ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R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En forma directa  o indirecta,  venda  o  provea  bienes  servicios  a la  emisora o   a los  accionistas de esta que tenga  en ella  en forma directa o indirecta  “participaciones  significativas” o influencia  significativa  por importes sustancialmente superiores a los percibidos  como compensación por  sus  funciones como integrante  del órgano  de  administr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ea cónyuge, pariente hasta el cuarto grado de consanguinidad o segundo grado de afinidad de individuos, que de integrar el órgano de administración, no reunirían la condición de independientes establecidas en estas Norma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401-1B66-4D73-AE77-2A679E6FB37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7B6E0-24E3-4C8B-8B1C-F79E4AEC8685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En todos los  casos las  referencias  a “participaciones significativas” , se considerarán referidas  a aquellas personas que posean  acciones que  representen por lo menos  el TREINTA Y CINCO POR  CIENTO (35%) del capital social, o una cantidad  menor  cuando  tuvieren derecho  a la elección de uno  o más directores por  clase  de  acciones o tuvieren  con otros   accionistas convenios  relativos  al gobierno y  administración  de la sociedad de que  se trate, o de  su controlant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3. PARTICIPACION E INFLUENCIA SIGNIFIC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C88-5817-4B54-A482-1EF8BC0A8F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301E3-D80E-4766-912C-C29C419A2A6E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cta  su propio  reg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 reúne  con  una frecuencia  no inferior al  Directorio (una  vez  cada 3 me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leva libro  de  actas (iguales normas que el  Directo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os  restantes miembros  de los órganos de administración y los miembros del órgano de fiscalización podrán asistir  a la  deliberación  del  Comité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  voz  pero  sin v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4.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097-DA26-4457-B5C8-6514D26F12A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E1516-BEAE-4A29-BA75-1A608DEEFF8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5. ATRIBUCIÓN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– FACULTADES Y DEB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pinar sobre propuestas de auditores exter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upervisar sobre control int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upervisar sobre políticas de información sobre gest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formar sobre aplicación donde existe conflicto de inter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pinar sobre propuestas de honorarios y planes de pociones sobre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64F-4E34-41E6-ACAE-5F52AA5DE5A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2862C-D407-4E3A-85B8-4372A0A733B5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pinar sobre cumplimiento de exigencias legales en materia de emisiones sin derecho prefer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erificar sobre cumplimiento de normas y conduc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pinar sobre operaciones con parte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be formular plan de acciones del ejerc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uede recabar asesoramiento profe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licitar asistencia y colaboracion a Directores, Síndicos,  Gerentes y miembros del órgano de fisc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4D4-25D4-43C9-B35A-29CC5A114C7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701C-7F36-46E9-9294-589C181FF3B1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visar  los planes  de los  auditores Externos  e Internos y evaluara  su 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 respecto  la  evaluación de las funciones de la Auditoria  externa  de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Analizar los diferentes  servicios  prestados por los  auditores externos y  su relación la  independencia de estos, de acuerdo con las normas  establecidas en la Resolución  Técnica Nº 7 de la  FEDERACION ARGENTINA D E CONSEJOS PROFESIONALES DE CIENCIAS  ECONÓMICAS y en toda otra reglamentación que,  al respecto,  dicten las  autoridades  que llevan el contralor  de la matricula  profesional y en el artículo  18  de este Cap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6. OTRAS ATRIBUCIONES Y OBLIG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2E9-0934-428A-9F79-7505B7F7EE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C9BB0-CED5-487F-B22C-10BE3396144A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00cc"/>
                </a:solidFill>
                <a:latin typeface="Times New Roman"/>
              </a:rPr>
              <a:t>INTRODUCCIÓN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ecreto 677/01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C62-A2F2-43DB-8E5C-43B3E745D1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89762-0F40-49E4-8D15-B30FCB135822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s-C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Informar los honorarios facturados, exponien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separadame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b.1)  Los correspondientes  a la  auditoría  externa  y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tros servicios  relacionados  destinados  a 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torgar confiabilidad  a  terce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b.2) Los correspondientes a servicios especiales 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 distintos de los mencionados  anteriorm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Dicha evaluación  deberá  ser realizada por el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Comité de Auditoria, e incluirá  la verificación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de las políticas que estos  tienen  en materia  de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independencia en sus respectivas estructuras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 para asegurar el cumplimiento de las mis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283-2DD9-485C-9D90-98429685E2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87ABD-13CD-4244-B03E-6D0863DF869F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s-C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mitir para  su publicación  con la  frecuencia  que  determine un informe  en el que  dé cuenta  del  tratamiento dado  durante el ejercicio  a las cuestiones de su  competenci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R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ar  a publicidad las opiniones previstas  en los incisos a), d), e), f) y  h) del art. 15 Régimen de Transparencia de la Oferta Pública del Decreto Nº 677/0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) Dentro de los  SESENTA (60) días corridos de iniciado  el ejercicio,  presentar  al  Directorio y al órgano de fiscalización de la  emisora  el plan de actuación previsto en el artículo 15  del Régimen de Transparencia de la Oferta Pública del Decreto Nº 677/0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358-9E96-4499-9B14-492970DDBD7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97271-4D61-4FD3-B00C-6630DA817253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1" lang="es-C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especto a  operaciones que las partes relacionadas efectúen  con habitualidad, podrá emitirse  una opinión  con carácter  genérico, pero  limitada  a una vigencia  en el tiempo que no podrá superar  UN (1) AÑO o el inicio de un nuevo ejercicio  económico o a condiciones económicas predetermin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g) Cumplir  con todas aquellas obligaciones que le resulten impuestas por el estatuto, así como las leyes y los reglamentos  aplicables  a la emisora por su condición de  tal o por la actividad que  desarrol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CE7-CC15-48B9-BE4B-7F9EFE9B7E9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5C44D-FE70-44BD-B511-C5ABBD260C67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00cc"/>
                </a:solidFill>
                <a:latin typeface="Times New Roman"/>
              </a:rPr>
              <a:t>PARTES RELACIONAD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9F4-40D8-43D9-86D5-F01E9183A74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CBA9B-16E1-4919-A0B5-063FC705DBB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519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DEFIN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1.  Personas en relación con la sociedad emiso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Directo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omisión Fiscalizado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onsejo de Vigila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Ger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. Personas controlantes o con participación significativa en el capi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3. Sociedades bajo control común de control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- Ascendentes, descendentes, cónyuges, hermanos, et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4. Sociedades en las que las personas físicas referidas en 1 a 4 posean  participaciones significativas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CC0-A865-4976-844C-B5DF1ED31E8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00D08-97C5-45A9-9CF1-071A13B12490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20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Monto relev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cto o contrato con monto superior al 1%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trimonio social (último balance aproba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xcede de $ 300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Intervenciones Prev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pinión del Comité de Auditoria requerida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rec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Hecho Esen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ben ser informados como hecho es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Aprobación previa por asamble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uando tenga dictamen adverso del C.A. (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azonablemente adecuada al merca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DC4-7C04-467C-89B8-4F3A8EC96730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CDD38-92D8-4EF8-BB28-1E1E08D638A0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50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es-CR" sz="5000" spc="-1" strike="noStrike">
                <a:solidFill>
                  <a:srgbClr val="6600cc"/>
                </a:solidFill>
                <a:latin typeface="Times New Roman"/>
              </a:rPr>
              <a:t>TEMAS ESPECIAL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tiro Voluntario de la Ofert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ferta Pública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ecio Equit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sponsabilidad de los integrantes de los organos sociales de las emisoras (art. 276 de la LS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8E1-3F49-40FF-BB15-AAB4EB99FFD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40A35-4C40-4261-9EEF-EBB5771CDD0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440" y="1519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RETIRO VOLUNTARIO DE LA OFERTA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Deben promover una Oferta Publica de Adquisi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plicación del art. 221 L S 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ondicion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Será para todas las obligaciones convert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No es necesario extender la OPA a favor de los que votaron a favor del reti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anterior debe explicitarse en el prosp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El precio ofrecido deberá ser EQUITATIV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EBD-2E0F-423F-9B27-8E0491DC2B09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DB912-11CD-47A7-9775-D91E6615A55D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PRECIO EQUITATIVO PONDE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lor patrimonial sobre balance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lor de la Compañía (valuación por fondos descontad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lor de liquid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ecio ofrecido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609-CBE3-403E-8EA0-41B68C693279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CF63E-6F44-4EB2-9F48-DCC5C2AF917A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895480"/>
            <a:ext cx="830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MERA JORNADA SOBRE EL MERCADO DE CAPITAL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Argentina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4120" y="5434560"/>
            <a:ext cx="333360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Jorge 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80880"/>
            <a:ext cx="5639040" cy="127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5a5c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Consejo Profesional de Ciencias Económicas de la Ciudad Autónoma de Buenos 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5840" y="3805200"/>
            <a:ext cx="870588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GIMEN DE TRANSPARENCIA DE L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ERTA PÚBLIC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EC 677/01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F2B-1BB7-4529-9658-7DFBB494B997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CB82D-3563-4947-BFBD-343FDD054EEC}" type="datetime1">
              <a:rPr lang="en-US"/>
              <a:t>07/30/26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1519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CONTENIDO  –  CONCEPTOS BÁSICOS  – DEFIN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sumidor financiero – Inversor institucion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formación plena – Transparencia – Eficiencia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tección del publico inversor- Trato igualitario entre inversores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tección de la estabilidad de las entidades inversoras e intermediarios finan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cepto de “valor negociabl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bertad de creación de va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és Social – Interés común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altad de la información publica. (auditores externos y Comité de Auditor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FC8-346B-4BD1-A113-2A80E091B19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73892-9C18-4853-9BD5-2A56503DC41E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3333cc"/>
                </a:solidFill>
                <a:latin typeface="Times New Roman"/>
              </a:rPr>
              <a:t>DESARROLLO TEMÁTIC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Á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ociedades con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ersonas que actúan en la O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tidades autorregul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E62-8319-451A-9CEB-BF1E08015DA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CBECA-A002-4573-9645-02FFA7253FD0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DEBER DE INFOR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A la C.N.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0000"/>
                </a:solidFill>
                <a:latin typeface="Times New Roman"/>
              </a:rPr>
              <a:t>Como</a:t>
            </a: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 (en forma directa, veraz, suficiente y oportuna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0000"/>
                </a:solidFill>
                <a:latin typeface="Times New Roman"/>
              </a:rPr>
              <a:t>Quienes</a:t>
            </a: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 deben informa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dministradores y órganos de fiscalización.Intermediarios autoriz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irectores, Administradores,  Síndicos y 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Times New Roman"/>
              </a:rPr>
              <a:t>Gere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C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Calificadoras de Riesg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irectores y Funcionarios C.N.V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física o jurídica que adquiera o enajene acciones  de una sociedad que realice oferta publica de valores negociables  en cantidad tal que implique un cambio en las tenencias que configuran  el o los grupos de control afectando su conform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F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adquiera  o enajene por cualquier medio acciones de una emisora cuyo capital se hallare comprendido en el régimen de la oferta pública y que  otorgare  el CINCO POR CIENTO (5%) o más de los votos que pudieren emitirse a los fines  de la formación de la voluntad social y que otorgare el 5 % de los vo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(WE)"/>
              <a:buChar char="G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física o jurídica que celebre pactos o convenios de  accionistas cuyo objeto  sea  ejercer el derecho  a voto en una sociedad cuyas  acciones están  admitidas  a la oferta públi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CA1-1423-41DF-B5AC-F3FA06FE5D1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970D4-8CF6-4A2A-BCE7-4EE5634E73DB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DEBER DE INFOR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A las entidades autorregul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0000"/>
                </a:solidFill>
                <a:latin typeface="Times New Roman"/>
              </a:rPr>
              <a:t>Deben informar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dministradores y órganos de fiscalización.Intermediarios autoriz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irectores, Administradores,  Síndicos y 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Times New Roman"/>
              </a:rPr>
              <a:t>Gere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C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física o jurídica que adquiera o enajene acciones  de una sociedad que realice oferta publica de valores negociables  en cantidad tal que implique un cambio en las tenencias que configuran  el o los grupos de control afectando su conform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Arial (WE)"/>
              <a:buChar char="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adquiera  o enajene por cualquier medio acciones de una emisora cuyo capital se hallare comprendido en el régimen de la oferta pública y que  otorgare  el CINCO POR CIENTO (5%) o más de los votos que pudieren emitirse a los fines  de la formación de la voluntad social y que otorgare el 5 % de los vo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(WE)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oda persona física o jurídica que celebre pactos o convenios de  accionistas cuyo objeto  sea  ejercer el derecho  a voto en una sociedad cuyas  acciones están  admitidas  a la oferta públi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F2B-BE8F-4ED5-909A-3013FAE985E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FC868-5151-4719-945C-2B406A15D651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772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eber de lealtad y diligencia.  Debe ser observado p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rect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dminist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Fiscaliz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3EA-F4D0-4658-9C7E-9FAFF11D221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7F31A-2225-4AEF-9FA7-625A8FD8C105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00cc"/>
                </a:solidFill>
                <a:latin typeface="Times New Roman"/>
              </a:rPr>
              <a:t>AUDITORES EXTERN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8DB-DC7E-49A2-9FC3-3AAC640E2F3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B513-D55F-4012-A827-01F4AA8A7A94}" type="datetime1">
              <a:rPr lang="en-US"/>
              <a:t>07/30/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47:19Z</dcterms:created>
  <dc:creator>NARCISO MUÑOZ</dc:creator>
  <dc:description/>
  <dc:language>en-US</dc:language>
  <cp:lastModifiedBy>pagina</cp:lastModifiedBy>
  <dcterms:modified xsi:type="dcterms:W3CDTF">2004-05-26T13:30:30Z</dcterms:modified>
  <cp:revision>163</cp:revision>
  <dc:subject/>
  <dc:title>Sin título de diapositiva</dc:title>
</cp:coreProperties>
</file>