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4C04-ABB3-406E-961A-DFE1E66A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92BD-ABF5-4C89-AE49-B05E8FB06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E76-3CC8-42B8-A2C6-7F05A943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1DD-1594-4AF7-964B-2C8FBDA3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B6599-D453-498F-9A44-9B28807E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B43F-0F73-4951-9AB4-6553C242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9BB0-CD81-4B98-B79C-5232702C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2A8A-DB94-4BFE-A0DF-C429E71F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A63C-6417-442A-898D-482F05109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5270-2290-49F5-8B49-05741551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3634-C104-4CA3-81D5-263DEDEB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9B9F-B1BF-452E-AFFA-13581919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123D-04A8-469A-9517-8592B763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6795-A73C-43CF-A66F-8B5F4E75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90F9-ECBE-4789-B4C1-F0E9F5D1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6928-1C9F-4437-BE09-92E1D9A96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706B-F602-4846-A27C-0B8FCB3D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947F-4488-4BC4-BDC4-046317A9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3B9A-938F-4177-B6A0-4272560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1D8-28CA-44FC-AAD3-C93FB19D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4693-A444-4455-B281-7B384CEE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758-14D9-41E2-97E0-2E29B958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8D1-DCAA-450A-A88D-AEE5ED8B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B72-6A57-4233-BB62-5EC79387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51DD-C6CC-4D15-9C04-76B8F5E5DD15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6632-A7E2-4DD3-947F-F98F37147DD2}" type="slidenum">
              <a:rPr b="0" lang="es-E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Nuevas estrategias y oportunidades de financiamiento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4479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ercado de capit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tructuras teóricas para la securitización de activos ilíquido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sset backed securit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y-thro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ass-through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952880" y="2057040"/>
            <a:ext cx="3733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ones negoc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7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on garantía re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ones negociables con recurso limitad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5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bligación negoci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iduciari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601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ondos Comunes Cerra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12120" indent="-312120">
              <a:lnSpc>
                <a:spcPct val="70000"/>
              </a:lnSpc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99"/>
                </a:solidFill>
                <a:latin typeface="Times New Roman"/>
              </a:rPr>
              <a:t>Fideicomisos Financier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2" name="">
            <a:hlinkClick r:id="rId1" action="ppaction://hlinksldjump"/>
          </p:cNvPr>
          <p:cNvSpPr/>
          <p:nvPr/>
        </p:nvSpPr>
        <p:spPr>
          <a:xfrm>
            <a:off x="7696080" y="61722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Fideicomi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81057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Definición Legal ( Art. 1 Ley 24.44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Habrá fideicomiso cuando una persona (fiduciante) transmite uno o más bienes en propiedad fiduciaria a otra parte (fiduciario) quien se obliga a ejercerla en beneficio de quien se designe en el acto respectivo (beneficiario), y a transmitirlo, al cumplimiento de un plazo o condición, al fiduciante, al beneficiario o al fideicomisari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>
            <a:hlinkClick r:id="rId1" action="ppaction://hlinksldjump"/>
          </p:cNvPr>
          <p:cNvSpPr/>
          <p:nvPr/>
        </p:nvSpPr>
        <p:spPr>
          <a:xfrm>
            <a:off x="7696080" y="6248520"/>
            <a:ext cx="609840" cy="38088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172" y="1400"/>
                </a:lnTo>
                <a:lnTo>
                  <a:pt x="1400" y="140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172" y="20200"/>
                </a:lnTo>
                <a:lnTo>
                  <a:pt x="33172" y="140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72" y="2020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72" h="21600">
                <a:moveTo>
                  <a:pt x="10280" y="3794"/>
                </a:moveTo>
                <a:lnTo>
                  <a:pt x="24293" y="10800"/>
                </a:lnTo>
                <a:lnTo>
                  <a:pt x="10280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lasificación de Fideicomiso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09280" y="2133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existencia o no de titulización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Comú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93348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iduciarios Financieros: Autorizados por CNV ( Registro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933480" indent="-1965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Patrimonio: $ 1 mill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Por objeto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garantí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7696080" y="5943600"/>
            <a:ext cx="762120" cy="357120"/>
          </a:xfrm>
          <a:custGeom>
            <a:avLst/>
            <a:gdLst>
              <a:gd name="textAreaLeft" fmla="*/ 23040 w 762120"/>
              <a:gd name="textAreaRight" fmla="*/ 739080 w 76212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46071" h="21600">
                <a:moveTo>
                  <a:pt x="0" y="0"/>
                </a:moveTo>
                <a:lnTo>
                  <a:pt x="46071" y="0"/>
                </a:lnTo>
                <a:lnTo>
                  <a:pt x="46071" y="21600"/>
                </a:lnTo>
                <a:lnTo>
                  <a:pt x="0" y="21600"/>
                </a:lnTo>
                <a:close/>
              </a:path>
              <a:path fill="lightenLess" w="46071" h="21600">
                <a:moveTo>
                  <a:pt x="0" y="0"/>
                </a:moveTo>
                <a:lnTo>
                  <a:pt x="46071" y="0"/>
                </a:lnTo>
                <a:lnTo>
                  <a:pt x="44671" y="1400"/>
                </a:lnTo>
                <a:lnTo>
                  <a:pt x="1400" y="1400"/>
                </a:lnTo>
                <a:close/>
              </a:path>
              <a:path fill="darken" w="46071" h="21600">
                <a:moveTo>
                  <a:pt x="46071" y="0"/>
                </a:moveTo>
                <a:lnTo>
                  <a:pt x="46071" y="21600"/>
                </a:lnTo>
                <a:lnTo>
                  <a:pt x="44671" y="20200"/>
                </a:lnTo>
                <a:lnTo>
                  <a:pt x="44671" y="1400"/>
                </a:lnTo>
                <a:close/>
              </a:path>
              <a:path fill="darkenLess" w="46071" h="21600">
                <a:moveTo>
                  <a:pt x="46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71" y="20200"/>
                </a:lnTo>
                <a:close/>
              </a:path>
              <a:path fill="lighten" w="46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71" h="21600">
                <a:moveTo>
                  <a:pt x="16029" y="3794"/>
                </a:moveTo>
                <a:lnTo>
                  <a:pt x="30042" y="10800"/>
                </a:lnTo>
                <a:lnTo>
                  <a:pt x="16029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28600" y="3200400"/>
            <a:ext cx="175248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Fiduciante/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10280" y="3124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enefici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05320" y="320040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duci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52480" y="3048120"/>
            <a:ext cx="2133720" cy="457200"/>
          </a:xfrm>
          <a:custGeom>
            <a:avLst/>
            <a:gdLst>
              <a:gd name="textAreaLeft" fmla="*/ 373320 w 2133720"/>
              <a:gd name="textAreaRight" fmla="*/ 1546920 w 2133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105520" y="3124080"/>
            <a:ext cx="2286000" cy="38124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95280" y="91440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Introducción a una Operación Estructurada con FF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12760" y="2251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57400" y="34290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I; FFF; PI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5485680" y="33526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TD y/o C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0" y="4267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1828800"/>
            <a:ext cx="2971800" cy="68580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Originante o generador de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los activos ilíqui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1600200" y="4267080"/>
            <a:ext cx="1905120" cy="533520"/>
          </a:xfrm>
          <a:custGeom>
            <a:avLst/>
            <a:gdLst>
              <a:gd name="textAreaLeft" fmla="*/ 333720 w 1905120"/>
              <a:gd name="textAreaRight" fmla="*/ 1381680 w 1905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028480" y="4190400"/>
            <a:ext cx="1981080" cy="6094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143000" y="2514600"/>
            <a:ext cx="0" cy="6094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43400" y="2819520"/>
            <a:ext cx="0" cy="45720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581280" y="2057400"/>
            <a:ext cx="4038840" cy="68580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18080" y="1981080"/>
            <a:ext cx="3946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Ingeniería para transformarlos  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67280" y="42670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010280" y="4572000"/>
            <a:ext cx="1905120" cy="15238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deicomis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eneficiari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sidu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Mecanismos de </a:t>
            </a:r>
            <a:br>
              <a:rPr sz="4400"/>
            </a:b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Credit Enhance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Interno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ctivos elegib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Estructura lega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obrecolateriz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ubordinación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Fondo de reserva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Activos en reserva para reemplazo por mor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Externo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Garantías de terceros: SGR; Fondos de Garantí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Cartas de crédito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Seguros ( Hipotecas: ley 24.626 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plicación a 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yectos de Invers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2286000"/>
            <a:ext cx="1981080" cy="1828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piet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2362320"/>
            <a:ext cx="1981080" cy="1904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piet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52680" y="2209680"/>
            <a:ext cx="2743200" cy="19814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ehícul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CC/ F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Explotació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Times New Roman"/>
              </a:rPr>
              <a:t>diversificad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6520" y="2209680"/>
            <a:ext cx="2286000" cy="533520"/>
          </a:xfrm>
          <a:custGeom>
            <a:avLst/>
            <a:gdLst>
              <a:gd name="textAreaLeft" fmla="*/ 404640 w 2286000"/>
              <a:gd name="textAreaRight" fmla="*/ 1652760 w 2286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50" hR="21600" stAng="10800000" swAng="5400000"/>
                <a:lnTo>
                  <a:pt x="11790" y="0"/>
                </a:lnTo>
                <a:arcTo wR="7650" hR="21600" stAng="-5400000" swAng="2702979"/>
                <a:lnTo>
                  <a:pt x="21162" y="14400"/>
                </a:lnTo>
                <a:lnTo>
                  <a:pt x="17370" y="21600"/>
                </a:lnTo>
                <a:lnTo>
                  <a:pt x="12702" y="14400"/>
                </a:lnTo>
                <a:lnTo>
                  <a:pt x="14862" y="14400"/>
                </a:lnTo>
                <a:arcTo wR="7650" hR="21600" stAng="-2697021" swAng="-2361886"/>
                <a:lnTo>
                  <a:pt x="9720" y="806"/>
                </a:lnTo>
                <a:arcTo wR="7650" hR="21600" stAng="-5741093" swAng="-5058907"/>
                <a:close/>
              </a:path>
              <a:path fill="darkenLess" w="21600" h="21600">
                <a:moveTo>
                  <a:pt x="0" y="21600"/>
                </a:moveTo>
                <a:arcTo wR="7650" hR="21600" stAng="10800000" swAng="5400000"/>
                <a:lnTo>
                  <a:pt x="7650" y="0"/>
                </a:lnTo>
                <a:arcTo wR="7650" hR="21600" stAng="-5400000" swAng="341093"/>
                <a:lnTo>
                  <a:pt x="9720" y="806"/>
                </a:lnTo>
                <a:arcTo wR="7650" hR="21600" stAng="-5741093" swAng="-5058907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2743200"/>
            <a:ext cx="990720" cy="304920"/>
          </a:xfrm>
          <a:custGeom>
            <a:avLst/>
            <a:gdLst>
              <a:gd name="textAreaLeft" fmla="*/ 173160 w 990720"/>
              <a:gd name="textAreaRight" fmla="*/ 718200 w 9907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27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676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amp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ienes de uso, etc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5638680" y="190512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sultad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l negocio $$$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71600" y="4191120"/>
            <a:ext cx="3429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ertificados de participación en el negoc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flipV="1">
            <a:off x="1523160" y="3581280"/>
            <a:ext cx="2057400" cy="609840"/>
          </a:xfrm>
          <a:custGeom>
            <a:avLst/>
            <a:gdLst>
              <a:gd name="textAreaLeft" fmla="*/ 359640 w 2057400"/>
              <a:gd name="textAreaRight" fmla="*/ 1491480 w 2057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3657600" y="380880"/>
            <a:ext cx="21528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YECT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715000" y="380880"/>
            <a:ext cx="32241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grari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anader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mobiliario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estales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08" name=""/>
          <p:cNvSpPr/>
          <p:nvPr/>
        </p:nvSpPr>
        <p:spPr>
          <a:xfrm>
            <a:off x="4267080" y="42670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3366"/>
                </a:solidFill>
                <a:latin typeface="Times New Roman"/>
              </a:rPr>
              <a:t>Participantes</a:t>
            </a:r>
            <a:r>
              <a:rPr b="0" lang="es-ES_tradnl" sz="2400" spc="-1" strike="noStrike">
                <a:solidFill>
                  <a:srgbClr val="003366"/>
                </a:solidFill>
                <a:latin typeface="Times New Roman"/>
              </a:rPr>
              <a:t>: fiduciarios, operadores, organizadores, agentes colocadores, asesores legales, auditores externos, asesores impositivos, CNV, mercados autoregulados, calificadora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ndos de inversión direc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Ley 24441 ( modifica a la 24083 de FCI) ...Fondos con objetos especiales de invers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t. 14 de la Res. 271/97 de la CNV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ueden ser comprados por AFJP. Presentación del plan de inversión, producción y estrategia, antecedentes técnicos y empresarios de los participantes del proyec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rt.21 decreto 133/99 de marzo´99 : definición de FID sobre la base legal de un FCC o FF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ndos de inversión direc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924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Objetivo: instrumento moderno para lograr un esquema de financiación eficiente para impulsar procesos de invers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entajas: posibilita potenciar la producción y rentabilidad de productores independientes; libera el proyecto de la carga por financiamiento; permite hacer líquida la inversión  antes de la maduración del proyecto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Propietario (fiduciant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ede los activos al FID por  un tiempo determina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Transcurrido el plazo recupera el pleno dominio de lo ced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Recibe Certificados de Participación de una de las Series, a través de los cuales participa de los beneficios del patrimonio fideicomitid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609480" y="1676520"/>
            <a:ext cx="24386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+ $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7280" y="1676520"/>
            <a:ext cx="2438640" cy="91440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- $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3733920"/>
            <a:ext cx="2286000" cy="53316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termediari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98560" y="293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24080" y="1523880"/>
            <a:ext cx="2819520" cy="1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3124080" y="2819520"/>
            <a:ext cx="2819520" cy="1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6000" y="103176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lujo de fond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13160" y="27846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4308480"/>
            <a:ext cx="2895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rcado prim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rcado secundari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Liquidez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315200" y="4343400"/>
            <a:ext cx="14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28800" y="4267080"/>
            <a:ext cx="1440" cy="914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487692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nta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13560" y="5222880"/>
            <a:ext cx="2149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iesg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l emisor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De la emis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48120" y="5562720"/>
            <a:ext cx="3504960" cy="144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>
            <a:hlinkClick r:id="rId1" action="ppaction://hlinksldjump"/>
          </p:cNvPr>
          <p:cNvSpPr/>
          <p:nvPr/>
        </p:nvSpPr>
        <p:spPr>
          <a:xfrm>
            <a:off x="5562720" y="2895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>
            <a:hlinkClick r:id="rId2" action="ppaction://hlinksldjump"/>
          </p:cNvPr>
          <p:cNvSpPr/>
          <p:nvPr/>
        </p:nvSpPr>
        <p:spPr>
          <a:xfrm>
            <a:off x="6019920" y="44956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66" h="21600">
                <a:moveTo>
                  <a:pt x="14577" y="3794"/>
                </a:moveTo>
                <a:lnTo>
                  <a:pt x="28590" y="10800"/>
                </a:lnTo>
                <a:lnTo>
                  <a:pt x="14577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>
            <a:hlinkClick r:id="rId3" action="ppaction://hlinksldjump"/>
          </p:cNvPr>
          <p:cNvSpPr/>
          <p:nvPr/>
        </p:nvSpPr>
        <p:spPr>
          <a:xfrm>
            <a:off x="8381880" y="56386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3794"/>
                </a:moveTo>
                <a:lnTo>
                  <a:pt x="33981" y="10800"/>
                </a:lnTo>
                <a:lnTo>
                  <a:pt x="19968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2895480"/>
            <a:ext cx="2667240" cy="152424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Particular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Institucionales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AFJP, FC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ías de Seguro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145800" y="2819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461880" y="244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</a:rPr>
              <a:t>Emisore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stado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ntidades Financier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mpresas Primera Líne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imes New Roman"/>
              </a:rPr>
              <a:t>Empresas Pym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0"/>
            <a:ext cx="7772400" cy="838080"/>
          </a:xfrm>
          <a:prstGeom prst="rect">
            <a:avLst/>
          </a:pr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rcado de Capitales y Economía Re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5562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8915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duciari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sarrollo del fondo ( regla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itularidad fiduciaria de los a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jecuta el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dministra los bie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stados contables y valuación de activ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Información actualizad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rvicio de caj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Prestigio profesion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240" y="76176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D: participant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Inversores (Beneficiarios)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ompradores de los certificados de particip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Obtienen seguridad y liquidez al participar en el proyect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Tienen una participación proporcional en las utilidades a través de los certificados  de participació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7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lificadoras de ries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Calificación trimest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ditoría exter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Auditoría técn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ID: pa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ción de viabilidad del proye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udio de comerci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quema operativo del FI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ción del FF o FC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dacción del prospec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ción del FI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utorización O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alific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asificación de 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Valores Negociab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81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66"/>
                </a:solidFill>
                <a:latin typeface="Times New Roman"/>
              </a:rPr>
              <a:t>Primarios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ítulos de deuda privada ( O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tructurados: FCC y FF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3366"/>
                </a:solidFill>
                <a:latin typeface="Times New Roman"/>
              </a:rPr>
              <a:t>Derivados:</a:t>
            </a:r>
            <a:endParaRPr b="0" lang="en-US" sz="3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Futu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Opc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Forward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Swa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426708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699160" y="575640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5105520"/>
            <a:ext cx="3200400" cy="7617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iamient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00400" y="5638680"/>
            <a:ext cx="2438280" cy="533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quidez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4120" y="4952880"/>
            <a:ext cx="3352680" cy="9907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bertura de riesgo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822960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buClr>
                <a:srgbClr val="cc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ermedi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ercado prim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Entidades especializad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sesoramiento integr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Colocación de los títulos val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367160" y="2214360"/>
            <a:ext cx="4213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Mercado secundar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Negoci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Bursátiles o públic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Extrabursátiles (OTC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3429000" y="56386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">
            <a:hlinkClick r:id="rId2" action="ppaction://hlinksldjump"/>
          </p:cNvPr>
          <p:cNvSpPr/>
          <p:nvPr/>
        </p:nvSpPr>
        <p:spPr>
          <a:xfrm>
            <a:off x="77724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ratos de coloca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Underwrit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Underwriting stand b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cc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Best effor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7620120" y="59436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strumentos</a:t>
            </a:r>
            <a:br>
              <a:rPr sz="4000"/>
            </a:b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53352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29200" y="47520"/>
            <a:ext cx="619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028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57600" y="4267080"/>
            <a:ext cx="1600200" cy="167652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ehícul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905120" y="4191120"/>
            <a:ext cx="2057400" cy="4572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81480" y="4267080"/>
            <a:ext cx="1981440" cy="38124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750657"/>
                <a:lnTo>
                  <a:pt x="21478" y="17730"/>
                </a:lnTo>
                <a:lnTo>
                  <a:pt x="17280" y="21600"/>
                </a:lnTo>
                <a:lnTo>
                  <a:pt x="12838" y="17730"/>
                </a:lnTo>
                <a:lnTo>
                  <a:pt x="14998" y="17730"/>
                </a:lnTo>
                <a:arcTo wR="7560" hR="21600" stAng="-1649343" swAng="-3393222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0440" y="-111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4920" y="762120"/>
            <a:ext cx="4422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Times New Roman"/>
              </a:rPr>
              <a:t>Emisiones Clásicas: “on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3962520" y="2664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248520" y="6019920"/>
            <a:ext cx="88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81080" y="3733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I, FFF,P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33920" y="9144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alores Negociables: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N; Accion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1752480" y="5562000"/>
            <a:ext cx="1981440" cy="609480"/>
          </a:xfrm>
          <a:custGeom>
            <a:avLst/>
            <a:gdLst>
              <a:gd name="textAreaLeft" fmla="*/ 346680 w 1981440"/>
              <a:gd name="textAreaRight" fmla="*/ 1436760 w 198144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104800" y="5410080"/>
            <a:ext cx="1981080" cy="60984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1676520"/>
            <a:ext cx="1600200" cy="1676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pres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86400" y="1676520"/>
            <a:ext cx="1600200" cy="167616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versor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00200"/>
            <a:ext cx="2057400" cy="45720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3494034"/>
                <a:lnTo>
                  <a:pt x="21428" y="17025"/>
                </a:lnTo>
                <a:lnTo>
                  <a:pt x="17280" y="21600"/>
                </a:lnTo>
                <a:lnTo>
                  <a:pt x="12788" y="17025"/>
                </a:lnTo>
                <a:lnTo>
                  <a:pt x="14948" y="17025"/>
                </a:lnTo>
                <a:arcTo wR="7560" hR="21600" stAng="-1905966" swAng="-3136599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276000" y="2590200"/>
            <a:ext cx="1981080" cy="60948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980360" y="601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$$$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572000" y="35812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Valores Negociables: Títulos de deuda; Certificados de Participació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1800" y="3200400"/>
            <a:ext cx="462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Times New Roman"/>
              </a:rPr>
              <a:t>Emisiones Estructuradas: “off”</a:t>
            </a:r>
            <a:endParaRPr b="0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777240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cccc99"/>
          </a:solidFill>
          <a:ln cap="sq"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Estructurados</a:t>
            </a:r>
            <a:br>
              <a:rPr sz="4000"/>
            </a:b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0" i="1" lang="es-ES_tradnl" sz="2400" spc="-1" strike="noStrike">
                <a:solidFill>
                  <a:srgbClr val="003366"/>
                </a:solidFill>
                <a:latin typeface="Times New Roman"/>
              </a:rPr>
              <a:t>Emisiones off balance sheet</a:t>
            </a: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”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Titulización: concep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Transformación de activos inmovilizados en activos líquid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Flujo de fondos predecible; Estandarización de origen, administración y recupero; Análisis de flujo de información  (seguimiento después de la colocación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vos reales (recursos forestales, mineros, cultivos, ganado, inmuebles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Activos financieros (hipotecas, prendas, facturas, contratos de suministro, warrants, contratos de leasing, letras de cambio, cupones de tarjetas de crédito, títulos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ónica Erpen                               Consejo Profesional de Ciencias Económicas 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6-04-20T07:06:24Z</dcterms:created>
  <dc:creator>MERVAL</dc:creator>
  <dc:description/>
  <dc:language>en-US</dc:language>
  <cp:lastModifiedBy>pagina</cp:lastModifiedBy>
  <cp:lastPrinted>2001-10-01T20:28:03Z</cp:lastPrinted>
  <dcterms:modified xsi:type="dcterms:W3CDTF">2004-05-26T13:31:07Z</dcterms:modified>
  <cp:revision>53</cp:revision>
  <dc:subject/>
  <dc:title>DINAMICA DEL  MERCADO DE CAPITALES</dc:title>
</cp:coreProperties>
</file>