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98088" cy="7239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6DB-0719-4B2A-A947-E09282C2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950760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600" y="4287240"/>
            <a:ext cx="950760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DBB8-9814-4B7C-A5EB-EE0F2AF7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848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600" y="428724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8480" y="428724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B6C6-9E40-4330-B1A0-B33852D6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85112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5480" y="185112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600" y="428724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428724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5480" y="428724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833-CBCE-4549-8C3E-81ECB0F62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A36D-136A-482B-AA7B-891A3F69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36600" y="1851120"/>
            <a:ext cx="95076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4508-7414-42BA-A39D-0AC7CBB7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9507600" cy="46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788F-8830-44C5-AB60-3DDF8C2F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4639680" cy="46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08480" y="1851120"/>
            <a:ext cx="4639680" cy="46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E1C3-39B5-4733-B4C4-D4B71F69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40AB-B6A6-4914-A838-A2A7C71E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6720" y="399600"/>
            <a:ext cx="8582040" cy="48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62D2-091E-4035-9FB6-DB45ED75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08480" y="1851120"/>
            <a:ext cx="4639680" cy="46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6600" y="428724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86C6-00D0-4733-B99D-FA93EE23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600" y="1851120"/>
            <a:ext cx="95076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0ADA-6131-473B-BEF7-04D444DD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4639680" cy="46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848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08480" y="428724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9F7A-B260-4974-BECB-8B28741F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0848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36600" y="4287240"/>
            <a:ext cx="950760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5947-4650-4539-A657-5DC98268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950760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600" y="4287240"/>
            <a:ext cx="950760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80E6-6066-4164-B113-634B5E28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848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36600" y="428724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208480" y="428724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E9E9-8B32-4A8F-8159-0965D8A5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51040" y="185112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65480" y="185112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36600" y="428724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51040" y="428724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765480" y="4287240"/>
            <a:ext cx="30610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F52F-CBC1-442C-BD53-60FEE29F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9507600" cy="46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D237-723D-4F26-8A2B-FAAA881D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4639680" cy="46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8480" y="1851120"/>
            <a:ext cx="4639680" cy="46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6C7-B333-4DE6-8675-B5F8AF60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4570-1306-4E4C-9E57-EEE468A9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6720" y="399600"/>
            <a:ext cx="8582040" cy="48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65E-F5D1-4EBC-80F3-BC634E1C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8480" y="1851120"/>
            <a:ext cx="4639680" cy="46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600" y="428724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36F-794A-43F8-9AA9-E367341D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4639680" cy="46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848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8480" y="428724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C6AC-4268-4944-995B-266C06DE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60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8480" y="1851120"/>
            <a:ext cx="463968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600" y="4287240"/>
            <a:ext cx="9507600" cy="22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24D-B2D0-460D-9CD1-6B9FA2A0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600" y="1851120"/>
            <a:ext cx="9507600" cy="46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6720" y="6676560"/>
            <a:ext cx="21034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9520" y="6676560"/>
            <a:ext cx="319752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67240" y="6835320"/>
            <a:ext cx="21034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DF93-422B-475B-9F39-B3934661D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66720"/>
            <a:ext cx="9107280" cy="152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548560" y="249120"/>
          <a:ext cx="895320" cy="8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8560" y="249120"/>
                    <a:ext cx="8953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6720" y="1527120"/>
            <a:ext cx="858204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56720" y="6676560"/>
            <a:ext cx="21034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49520" y="6676560"/>
            <a:ext cx="319752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236000" y="6676560"/>
            <a:ext cx="210312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8F18-FBC7-43BA-9DF1-C091E26DB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666720"/>
            <a:ext cx="9107280" cy="152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8548560" y="249120"/>
          <a:ext cx="895320" cy="8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8560" y="249120"/>
                    <a:ext cx="8953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504720" y="1693800"/>
            <a:ext cx="908784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4240" y="3076560"/>
            <a:ext cx="10012320" cy="14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estión de Reclamos de Clientes en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el Banco Société Générale Argentina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6400440"/>
            <a:ext cx="10096560" cy="56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s-ES_tradnl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Que hicimos con los Clientes Interno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714680"/>
            <a:ext cx="944892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 algn="just">
              <a:spcBef>
                <a:spcPts val="624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Circuito de Resolución de las No Conformidades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590920"/>
            <a:ext cx="2057400" cy="1218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RRESPON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4343400"/>
            <a:ext cx="2361960" cy="1219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PAR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2590920"/>
            <a:ext cx="1981440" cy="12189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REA/A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SPONS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38280" y="32004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32004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32004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32004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447560" y="502920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447920" y="380952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763120" y="38098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324480" y="5029200"/>
            <a:ext cx="2438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2803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forma la 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803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signa la 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4632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suelve la 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419720"/>
            <a:ext cx="2590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forma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spuesta a la 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6324480"/>
            <a:ext cx="3962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Tableros de Seguimie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55627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C92-BE33-4A47-9102-55C16EFC2E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ue resultados obtuvimo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937260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57840" indent="-35784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Entrenamiento efectivo del personal de áreas centrales y agencias en el relevamiento periódico de los procesos en que intervienen y la detección de NC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Involucramiento del personal en la generación de soluciones para sus propios problemas (NC)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Generación de conductas proactivas, por parte de las áreas centrales que quieran evitar ser informadas en las NC.  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Detección y resolución efectiva de más de 600 NC durante los últimos 2 años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Generación de estadísticas trimestrales, que permiten el segui-miento de los procesos del Banco con mayor nivel de criticidad, detectando focos de conflicto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819-C450-46B5-A43F-3C4EE849A5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o continuamo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9372600" cy="463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257040" indent="-257040" algn="just">
              <a:lnSpc>
                <a:spcPct val="95000"/>
              </a:lnSpc>
              <a:spcBef>
                <a:spcPts val="1562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Lanzamiento del Contrato de Servicio Interno entre Clientes y Proveedores Internos, para la mejora de procesos críticos. Consiste en un compromiso escrito en el que se acuerdan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57040" algn="just">
              <a:spcBef>
                <a:spcPts val="825"/>
              </a:spcBef>
              <a:spcAft>
                <a:spcPts val="689"/>
              </a:spcAft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Las necesidades del cliente final (sea interno o externo)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57040" algn="just">
              <a:lnSpc>
                <a:spcPct val="90000"/>
              </a:lnSpc>
              <a:spcBef>
                <a:spcPts val="825"/>
              </a:spcBef>
              <a:spcAft>
                <a:spcPts val="689"/>
              </a:spcAft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Los compromisos recíprocos asumidos por los proveeedores y clientes interno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57040" algn="just">
              <a:lnSpc>
                <a:spcPct val="90000"/>
              </a:lnSpc>
              <a:spcBef>
                <a:spcPts val="825"/>
              </a:spcBef>
              <a:spcAft>
                <a:spcPts val="689"/>
              </a:spcAft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El nivel de servicio a brindar y los indicadores de medición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57040" algn="just">
              <a:lnSpc>
                <a:spcPct val="90000"/>
              </a:lnSpc>
              <a:spcBef>
                <a:spcPts val="825"/>
              </a:spcBef>
              <a:spcAft>
                <a:spcPts val="689"/>
              </a:spcAft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Las modalidades específicas de ejecución de los compromiso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57040" algn="just">
              <a:lnSpc>
                <a:spcPct val="90000"/>
              </a:lnSpc>
              <a:spcBef>
                <a:spcPts val="825"/>
              </a:spcBef>
              <a:spcAft>
                <a:spcPts val="689"/>
              </a:spcAft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Una instancia periódica de revisión del cumplimiento del servicio pactado y de resolución de problemas eventuale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just">
              <a:lnSpc>
                <a:spcPct val="95000"/>
              </a:lnSpc>
              <a:spcBef>
                <a:spcPts val="1562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Al presente se llevan firmados 4 Contratos de Servicio y hay otros 2 en curso de implementación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D08-8EC8-441A-9A2F-C62374A587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ue piensan nuestros Cliente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7960" y="1688760"/>
            <a:ext cx="858204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spcBef>
                <a:spcPts val="2339"/>
              </a:spcBef>
              <a:buClr>
                <a:srgbClr val="00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mpacto de la nueva metodología de Gestión de Reclamos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358128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66680" y="2286000"/>
          <a:ext cx="86677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8667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601-0D26-4748-800F-6203E0B29F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ue piensan nuestros Cliente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7960" y="1599840"/>
            <a:ext cx="858204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10000"/>
              </a:lnSpc>
              <a:spcBef>
                <a:spcPts val="3900"/>
              </a:spcBef>
              <a:buClr>
                <a:srgbClr val="00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volución de la Calidad de Servicio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4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4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3900"/>
              </a:spcBef>
              <a:buClr>
                <a:srgbClr val="00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anking de la Calidad de Servicio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914400" y="2057400"/>
          <a:ext cx="70102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0102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66680" y="5029200"/>
          <a:ext cx="7772400" cy="1905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029200"/>
                    <a:ext cx="77724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6858000" y="35812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ase: 100 = año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6FD-AF18-450F-AF13-BFDC3EE3AF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ue piensan nuestros Cliente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7960" y="1599840"/>
            <a:ext cx="858204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Porqué siguen siendo clientes de la SGA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3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20000"/>
              </a:lnSpc>
              <a:spcBef>
                <a:spcPts val="3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750"/>
              </a:spcBef>
              <a:buClr>
                <a:srgbClr val="000000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volución de la Capacidad de Retención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34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14400" y="4724280"/>
          <a:ext cx="67438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724280"/>
                    <a:ext cx="67438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066680" y="2209680"/>
          <a:ext cx="8134560" cy="213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209680"/>
                    <a:ext cx="813456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6705720" y="6400800"/>
            <a:ext cx="2590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Base: 100 = año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44D-93EF-4B16-B053-46BB4F7422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uienes Somo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9448920" cy="508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 algn="just">
              <a:spcBef>
                <a:spcPts val="1562"/>
              </a:spcBef>
              <a:spcAft>
                <a:spcPts val="774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En el Mundo (Grupo Société Générale)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080" indent="-277200" algn="just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7° Empresa francesa por su Capitalización Bursátil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080" indent="-277200" algn="just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6° Grupo Bancario de la Zona Euro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080" indent="-277200" algn="just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1° banco minorista privado en Franci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080" indent="-277200" algn="just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2630 agencias en Francia y 500 en otros 25 paíse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080" indent="-277200" algn="just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7,9 millones de clientes en Francia y 4,5 millones en otros países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-277200" algn="just">
              <a:spcBef>
                <a:spcPts val="3124"/>
              </a:spcBef>
              <a:spcAft>
                <a:spcPts val="774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En la Argentina (Banco Société Générale Argentina)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080" indent="-277200" algn="just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180.000 cliente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080" indent="-277200" algn="just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61 agencias en Capital Federal, Gran Buenos Aires e Interior del Paí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080" indent="-277200" algn="just">
              <a:spcBef>
                <a:spcPts val="11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Categoría D1 (arg.) en depósitos de Corto Plazo (Fitch Ratings)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1F2-BD27-4EEB-8403-DA102B7BE2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o estábamo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937260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46320" indent="-34632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Se actuaba en forma reactiva, sin contar con un criterio base establecido para la Gestión de Reclamos de Clientes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El Servicio de Post-Venta y Calidad (1 persona) respondía los reclamos que llegaban a la Dirección General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Las agencias respondía la mayoría de los reclamos que les presentaban, derivando los más complejos a Post-Venta. 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Se llevaban estadísticas parciales, solamente de los reclamos que pasaban por Post-Venta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No se efectuaban mediciones regulares sobre el Nivel de Satisfacción de los Clientes con la Calidad de Servicio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No había ninguna metodología prevista para la detección y resolución de problemas de los Clientes Internos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346320" algn="just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La comunicación de Post-Venta con las a´reas centrales y agencias del Banco, era casi nula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A66D-91A5-47A5-A0D0-6407FC84F3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ue nos propusimo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944892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35160" indent="-335160" algn="just">
              <a:lnSpc>
                <a:spcPct val="80000"/>
              </a:lnSpc>
              <a:spcBef>
                <a:spcPts val="1089"/>
              </a:spcBef>
              <a:spcAft>
                <a:spcPts val="774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Pasar de una actitud meramente reactiva a una proactiva, transformando los Reclamos de los clientes externos y los Problemas de los clientes internos en Oportunidades de Mejora. 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160" indent="-335160" algn="just">
              <a:lnSpc>
                <a:spcPct val="80000"/>
              </a:lnSpc>
              <a:spcBef>
                <a:spcPts val="108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Coadyuvar al cambio cultural de la organización, orientándola al objetivo de Mejora Continua establecido en el Plan de Calidad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160" indent="-335160" algn="just">
              <a:lnSpc>
                <a:spcPct val="80000"/>
              </a:lnSpc>
              <a:spcBef>
                <a:spcPts val="1089"/>
              </a:spcBef>
              <a:spcAft>
                <a:spcPts val="774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Establecer una red confiable de interlocutores que permitiera una comunicación fluida con todas las áreas centrales y agencias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160" indent="-335160" algn="just">
              <a:lnSpc>
                <a:spcPct val="80000"/>
              </a:lnSpc>
              <a:spcBef>
                <a:spcPts val="1089"/>
              </a:spcBef>
              <a:spcAft>
                <a:spcPts val="774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Implementar gradualmente un circuito totalmente automatizado para la Resolución de Reclamos de Clientes Externos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160" indent="-335160" algn="just">
              <a:lnSpc>
                <a:spcPct val="80000"/>
              </a:lnSpc>
              <a:spcBef>
                <a:spcPts val="1089"/>
              </a:spcBef>
              <a:spcAft>
                <a:spcPts val="774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Establecer un circuito para la resolución de los Problemas  (No Conformidades) de los Clientes Internos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160" indent="-335160" algn="just">
              <a:lnSpc>
                <a:spcPct val="80000"/>
              </a:lnSpc>
              <a:spcBef>
                <a:spcPts val="1089"/>
              </a:spcBef>
              <a:spcAft>
                <a:spcPts val="774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Generación de estadísticas que permiten la identificación  de los procesos del Banco con mayor nivel de criticidad, facilitando la fijación de prioridades para su optimización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ED7-FB81-4533-899B-BA668043FF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omo empezamo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612440"/>
            <a:ext cx="9448560" cy="410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31480" indent="-231480" algn="just">
              <a:lnSpc>
                <a:spcPct val="90000"/>
              </a:lnSpc>
              <a:spcBef>
                <a:spcPts val="1562"/>
              </a:spcBef>
              <a:spcAft>
                <a:spcPts val="774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2000: Creación de una red de Corresponsales de Calidad, con el rol de interlocutores entre el Dpto. Calidad y las Areas Centrales y Agencias, a cargo de las siguientes funciones 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040" indent="-231480" algn="just">
              <a:lnSpc>
                <a:spcPct val="95000"/>
              </a:lnSpc>
              <a:spcBef>
                <a:spcPts val="123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Times New Roman"/>
              </a:rPr>
              <a:t>Reclamos de Clientes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: seguimiento y control del circuito de resolución de los reclamos que son responsabilidad de su área o agenci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040" indent="-231480" algn="just">
              <a:lnSpc>
                <a:spcPct val="95000"/>
              </a:lnSpc>
              <a:spcBef>
                <a:spcPts val="123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Times New Roman"/>
              </a:rPr>
              <a:t>Comunicación Interna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: difusión de novedades en materia de Calidad y sensibilización del personal de su área o agencia acerca de conceptos teóricos o buenas prácticas en la materia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7040" indent="-231480" algn="just">
              <a:lnSpc>
                <a:spcPct val="95000"/>
              </a:lnSpc>
              <a:spcBef>
                <a:spcPts val="123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Times New Roman"/>
              </a:rPr>
              <a:t>Mejora Contínua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: detección de problemas en los procesos en que su área o agencia desempeña el rol de cliente interno. Resolución de problemas en los que interviene como proveedor interno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480" indent="-231480" algn="just">
              <a:lnSpc>
                <a:spcPct val="90000"/>
              </a:lnSpc>
              <a:spcBef>
                <a:spcPts val="938"/>
              </a:spcBef>
              <a:spcAft>
                <a:spcPts val="774"/>
              </a:spcAft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Actualmente el Banco cuenta con 61 corresponsales en su red de agencias y 42 en las áreas centrales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45B4-905B-4993-938C-E2C4CF82D5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Que hicimos con los Clientes Externo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14680"/>
            <a:ext cx="937260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 algn="just">
              <a:lnSpc>
                <a:spcPct val="85000"/>
              </a:lnSpc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2000: Creación de un Circuito de Gestión de Reclamos, que permitiese el seguimiento y control de los mismos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3200400"/>
            <a:ext cx="18288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L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Formul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del Recla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2711520"/>
            <a:ext cx="173844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G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505320"/>
            <a:ext cx="173844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TELEMK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4267080"/>
            <a:ext cx="173844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OTRAS V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14000" y="3314160"/>
            <a:ext cx="2145240" cy="916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SECTOR/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SPONSABLE/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suelve/n Recla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6200" y="5715000"/>
            <a:ext cx="2133720" cy="914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DEPAR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743200"/>
            <a:ext cx="385920" cy="1905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ía d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7339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2680" y="3733920"/>
            <a:ext cx="762120" cy="761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352680" y="2895120"/>
            <a:ext cx="762120" cy="838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289548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28954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733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44956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7339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76920" y="4952880"/>
            <a:ext cx="1676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49528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6019920"/>
            <a:ext cx="990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7010280" y="3809520"/>
            <a:ext cx="0" cy="221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3809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86800" y="426708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19920" y="6324480"/>
            <a:ext cx="2666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447560" y="6172200"/>
            <a:ext cx="2438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447920" y="4190760"/>
            <a:ext cx="0" cy="19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486400"/>
            <a:ext cx="2590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unica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spuesta a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10280" y="4572000"/>
            <a:ext cx="1143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pifica y Re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Recla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24960" y="4724280"/>
            <a:ext cx="12571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sp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Recla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C05-D80D-41C7-A941-44154B7D90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Que hicimos con los Clientes Externo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714680"/>
            <a:ext cx="929628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 algn="just">
              <a:lnSpc>
                <a:spcPct val="85000"/>
              </a:lnSpc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2002: Automatización completa del Circuito de Gestión de Reclamos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3048120"/>
            <a:ext cx="182880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CLIE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Formul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del Recla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590920"/>
            <a:ext cx="173844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AG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352680"/>
            <a:ext cx="173844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TELEMK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4114800"/>
            <a:ext cx="173844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OTRAS V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14000" y="3152160"/>
            <a:ext cx="2145240" cy="916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SECTOR/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SPONSABLE/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Resuelve/n Recla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6172200"/>
            <a:ext cx="2819520" cy="685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DEPTO. DE CALIDA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Supervisa el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2590920"/>
            <a:ext cx="385920" cy="1904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ía de Ingr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5812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3581280"/>
            <a:ext cx="76212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352680" y="2743200"/>
            <a:ext cx="76212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281952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28195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58128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86800" y="41148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943600" y="5410080"/>
            <a:ext cx="2743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523880" y="4038480"/>
            <a:ext cx="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4800600"/>
            <a:ext cx="2590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munica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spuesta a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2637000"/>
            <a:ext cx="14479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m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Reclamo Tip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4800600"/>
            <a:ext cx="152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sp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 Recla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69800" y="5016600"/>
            <a:ext cx="1829520" cy="64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SECTOR/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GE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523520" y="541008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5943600"/>
            <a:ext cx="7162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43434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2165-FEB4-4B4E-B536-ACE7E71347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Que resultados obtuvimo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9372600" cy="48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57840" indent="-35784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Contar con un circuito único - claramente definido y conocido por toda la organización - para la Gestión de Reclamos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Cambio de la mentalidad imperante de </a:t>
            </a:r>
            <a:r>
              <a:rPr b="1" i="1" lang="es-CL" sz="2500" spc="-1" strike="noStrike">
                <a:solidFill>
                  <a:srgbClr val="000000"/>
                </a:solidFill>
                <a:latin typeface="Times New Roman"/>
              </a:rPr>
              <a:t>“El Reclamo es una amenaza”</a:t>
            </a: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s-CL" sz="2500" spc="-1" strike="noStrike">
                <a:solidFill>
                  <a:srgbClr val="000000"/>
                </a:solidFill>
                <a:latin typeface="Times New Roman"/>
              </a:rPr>
              <a:t>“El Reclamo es una oportunidad de Mejora”</a:t>
            </a: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Sensibilización del personal de agencias y áreas centrales y sobre la necesidad de brindar contención y una atención adecuada a los clientes que presentan reclamos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Blanqueo” de un gran número de Reclamos que eran resueltos por las agencias, sin conocimiento del Depto. Calidad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Generación de estadísticas mensuales, que permitieron el desarrollo de Indices de seguimiento y la posterior fijación de Estándares de Calidad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0D1-2DCB-4B58-8585-6AC7AEA4B8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720" y="399600"/>
            <a:ext cx="858204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Que hicimos con los Clientes Internos..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536840"/>
            <a:ext cx="937260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14200" indent="-21420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2000: Encuesta de Calidad al Cliente Interno, para relevar problemas (No Conformidades) existentes en los procesos.  Las NC halladas fueron totalmente resueltas durante el año. 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2001: los Corresponsales de Calidad generan los Reportes Trimestrales de Calidad,  donde informan las NC detectadas en áreas centrales/agencias. Incluyen los siguientes pasos: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320" indent="-214200" algn="just">
              <a:lnSpc>
                <a:spcPct val="90000"/>
              </a:lnSpc>
              <a:spcBef>
                <a:spcPts val="825"/>
              </a:spcBef>
              <a:spcAft>
                <a:spcPts val="689"/>
              </a:spcAft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Realización de reuniones periódicas de relevamiento de No Conformidades con el personal de las áreas centrales y agencia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320" indent="-214200" algn="just">
              <a:lnSpc>
                <a:spcPct val="90000"/>
              </a:lnSpc>
              <a:spcBef>
                <a:spcPts val="825"/>
              </a:spcBef>
              <a:spcAft>
                <a:spcPts val="689"/>
              </a:spcAft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Descripción detallada de las NC detectadas e identificación del área o agencia responsable de las misma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320" indent="-214200" algn="just">
              <a:lnSpc>
                <a:spcPct val="90000"/>
              </a:lnSpc>
              <a:spcBef>
                <a:spcPts val="825"/>
              </a:spcBef>
              <a:spcAft>
                <a:spcPts val="689"/>
              </a:spcAft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Propuesta de soluciones para las NC detectadas (optativa)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 algn="just">
              <a:lnSpc>
                <a:spcPct val="95000"/>
              </a:lnSpc>
              <a:spcBef>
                <a:spcPts val="14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000000"/>
                </a:solidFill>
                <a:latin typeface="Times New Roman"/>
              </a:rPr>
              <a:t>2002: se implementan las Fichas de No Conformidad, para la detección y resolución de problemas urgentes en procesos.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98F-B5EA-47F5-BE80-FDF2BC8ECA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21:55:31Z</dcterms:created>
  <dc:creator>JonMMx 2000</dc:creator>
  <dc:description/>
  <dc:language>en-US</dc:language>
  <cp:lastModifiedBy>Dr. Marcelo Artana</cp:lastModifiedBy>
  <cp:lastPrinted>2003-04-11T13:48:28Z</cp:lastPrinted>
  <dcterms:modified xsi:type="dcterms:W3CDTF">2003-04-16T12:49:44Z</dcterms:modified>
  <cp:revision>168</cp:revision>
  <dc:subject/>
  <dc:title>PLAN CALIDAD SG</dc:title>
</cp:coreProperties>
</file>