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96234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401-6220-4D65-B5F4-ACB910FA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35-B983-4B8C-B0AA-757759D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9796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97960" y="42832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753-A132-4D9F-827A-D63D5D71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7120" y="213372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08440" y="213372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7120" y="42832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08440" y="4283280"/>
            <a:ext cx="277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A54-21AF-4D8A-A5FC-77301C36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924-1ECE-4E7B-BCBC-31E5FF9F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445-A01E-448F-8CF7-67325A9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7960" y="213372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B5A-C797-4BCA-ACCE-D84A959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D6F-1267-48BB-9776-CD11F77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950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B6A-B9EF-4DB7-A3B2-0C0DB8B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7960" y="213372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30A-73DA-4AA4-9AB5-CB750A0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20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796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97960" y="428328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CCD-3871-4673-B6F9-CEAFC88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7960" y="2133720"/>
            <a:ext cx="4201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861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BF5-1BCA-48C9-B54F-1A2B52B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9434-0E6D-4B77-BEBA-A7CFF9DC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flipH="1" rot="10800000">
            <a:off x="0" y="1294560"/>
            <a:ext cx="9906120" cy="795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6320" y="171360"/>
            <a:ext cx="914400" cy="914040"/>
            <a:chOff x="76320" y="171360"/>
            <a:chExt cx="914400" cy="914040"/>
          </a:xfrm>
        </p:grpSpPr>
        <p:grpSp>
          <p:nvGrpSpPr>
            <p:cNvPr id="7" name=""/>
            <p:cNvGrpSpPr/>
            <p:nvPr/>
          </p:nvGrpSpPr>
          <p:grpSpPr>
            <a:xfrm>
              <a:off x="250920" y="171360"/>
              <a:ext cx="565920" cy="554040"/>
              <a:chOff x="250920" y="171360"/>
              <a:chExt cx="565920" cy="554040"/>
            </a:xfrm>
          </p:grpSpPr>
          <p:sp>
            <p:nvSpPr>
              <p:cNvPr id="8" name=""/>
              <p:cNvSpPr/>
              <p:nvPr/>
            </p:nvSpPr>
            <p:spPr>
              <a:xfrm>
                <a:off x="278640" y="198000"/>
                <a:ext cx="498600" cy="4903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50920" y="171360"/>
                <a:ext cx="565920" cy="554040"/>
              </a:xfrm>
              <a:custGeom>
                <a:avLst/>
                <a:gdLst/>
                <a:ahLst/>
                <a:rect l="l" t="t" r="r" b="b"/>
                <a:pathLst>
                  <a:path w="397" h="394">
                    <a:moveTo>
                      <a:pt x="0" y="393"/>
                    </a:moveTo>
                    <a:lnTo>
                      <a:pt x="396" y="393"/>
                    </a:lnTo>
                    <a:lnTo>
                      <a:pt x="396" y="0"/>
                    </a:lnTo>
                    <a:lnTo>
                      <a:pt x="0" y="393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714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76320" y="808560"/>
              <a:ext cx="9144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b2b2b2"/>
                  </a:solidFill>
                  <a:latin typeface="Verdana"/>
                </a:rPr>
                <a:t>PREMIO NACIONAL A LA CALIDAD </a:t>
              </a:r>
              <a:br>
                <a:rPr sz="800"/>
              </a:b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81080"/>
            <a:ext cx="861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ffff"/>
                </a:solidFill>
                <a:latin typeface="Verdana"/>
              </a:rPr>
              <a:t>Las Bases del Premio Nacional a la Calidad como Modelo de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24320" y="5391000"/>
            <a:ext cx="1295280" cy="1257480"/>
            <a:chOff x="4324320" y="5391000"/>
            <a:chExt cx="1295280" cy="1257480"/>
          </a:xfrm>
        </p:grpSpPr>
        <p:grpSp>
          <p:nvGrpSpPr>
            <p:cNvPr id="49" name=""/>
            <p:cNvGrpSpPr/>
            <p:nvPr/>
          </p:nvGrpSpPr>
          <p:grpSpPr>
            <a:xfrm>
              <a:off x="4572000" y="5391000"/>
              <a:ext cx="801360" cy="761760"/>
              <a:chOff x="4572000" y="5391000"/>
              <a:chExt cx="801360" cy="761760"/>
            </a:xfrm>
          </p:grpSpPr>
          <p:sp>
            <p:nvSpPr>
              <p:cNvPr id="50" name=""/>
              <p:cNvSpPr/>
              <p:nvPr/>
            </p:nvSpPr>
            <p:spPr>
              <a:xfrm>
                <a:off x="4611240" y="5427720"/>
                <a:ext cx="706320" cy="674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572000" y="5391000"/>
                <a:ext cx="801360" cy="761760"/>
              </a:xfrm>
              <a:custGeom>
                <a:avLst/>
                <a:gdLst/>
                <a:ahLst/>
                <a:rect l="l" t="t" r="r" b="b"/>
                <a:pathLst>
                  <a:path w="397" h="394">
                    <a:moveTo>
                      <a:pt x="0" y="393"/>
                    </a:moveTo>
                    <a:lnTo>
                      <a:pt x="396" y="393"/>
                    </a:lnTo>
                    <a:lnTo>
                      <a:pt x="396" y="0"/>
                    </a:lnTo>
                    <a:lnTo>
                      <a:pt x="0" y="393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714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4324320" y="626760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b2b2b2"/>
                  </a:solidFill>
                  <a:latin typeface="Verdana"/>
                </a:rPr>
                <a:t>PREMIO NACIONAL A LA CALIDAD </a:t>
              </a:r>
              <a:br>
                <a:rPr sz="800"/>
              </a:b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cc33"/>
                </a:solidFill>
                <a:latin typeface="Verdana"/>
              </a:rPr>
              <a:t>Consejo Profesional de Ciencias Económicas</a:t>
            </a:r>
            <a:br>
              <a:rPr sz="1800"/>
            </a:br>
            <a:r>
              <a:rPr b="1" i="1" lang="es-AR" sz="2000" spc="-1" strike="noStrike">
                <a:solidFill>
                  <a:srgbClr val="33cc33"/>
                </a:solidFill>
                <a:latin typeface="Verdana"/>
              </a:rPr>
              <a:t>Primer Seminario Argentino de la Calidad</a:t>
            </a:r>
            <a:br>
              <a:rPr sz="2000"/>
            </a:br>
            <a:r>
              <a:rPr b="1" lang="es-AR" sz="1800" spc="-1" strike="noStrike">
                <a:solidFill>
                  <a:srgbClr val="33cc33"/>
                </a:solidFill>
                <a:latin typeface="Verdana"/>
              </a:rPr>
              <a:t>Buenos Aires - 14 de Abril d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99680" y="4521240"/>
            <a:ext cx="34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ff"/>
                </a:solidFill>
                <a:latin typeface="Verdana"/>
              </a:rPr>
              <a:t>Ing. Héctor R. Sambuc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188120" y="3206880"/>
            <a:ext cx="2546280" cy="1434960"/>
          </a:xfrm>
          <a:prstGeom prst="roundRect">
            <a:avLst>
              <a:gd name="adj" fmla="val 12495"/>
            </a:avLst>
          </a:prstGeom>
          <a:solidFill>
            <a:srgbClr val="00ffff"/>
          </a:solidFill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MEJORA en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articip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160" y="3282840"/>
            <a:ext cx="2190600" cy="1435320"/>
          </a:xfrm>
          <a:prstGeom prst="roundRect">
            <a:avLst>
              <a:gd name="adj" fmla="val 12495"/>
            </a:avLst>
          </a:prstGeom>
          <a:solidFill>
            <a:srgbClr val="00ffff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xce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200" y="759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Algunos beneficios 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de la excelencia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57400" y="1981080"/>
            <a:ext cx="5297040" cy="1225800"/>
            <a:chOff x="2057400" y="1981080"/>
            <a:chExt cx="5297040" cy="1225800"/>
          </a:xfrm>
        </p:grpSpPr>
        <p:sp>
          <p:nvSpPr>
            <p:cNvPr id="86" name=""/>
            <p:cNvSpPr/>
            <p:nvPr/>
          </p:nvSpPr>
          <p:spPr>
            <a:xfrm flipV="1">
              <a:off x="2057400" y="2432160"/>
              <a:ext cx="801360" cy="77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47680" y="1981080"/>
              <a:ext cx="3830400" cy="838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Verdana"/>
                </a:rPr>
                <a:t>LEALTAD de CL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Nos vuelven a compr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75200" y="2444760"/>
              <a:ext cx="579240" cy="5968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59160" y="3048120"/>
            <a:ext cx="4741920" cy="838080"/>
            <a:chOff x="2459160" y="3048120"/>
            <a:chExt cx="4741920" cy="838080"/>
          </a:xfrm>
        </p:grpSpPr>
        <p:sp>
          <p:nvSpPr>
            <p:cNvPr id="90" name=""/>
            <p:cNvSpPr/>
            <p:nvPr/>
          </p:nvSpPr>
          <p:spPr>
            <a:xfrm flipV="1">
              <a:off x="2459160" y="3422160"/>
              <a:ext cx="476280" cy="2415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41560" y="3048120"/>
              <a:ext cx="3811680" cy="83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Verdana"/>
                </a:rPr>
                <a:t>RECOMENDACION a O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Nos generan más negoc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3429000"/>
              <a:ext cx="419400" cy="1461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40160" y="4114800"/>
            <a:ext cx="4660920" cy="838080"/>
            <a:chOff x="2540160" y="4114800"/>
            <a:chExt cx="4660920" cy="838080"/>
          </a:xfrm>
        </p:grpSpPr>
        <p:sp>
          <p:nvSpPr>
            <p:cNvPr id="94" name=""/>
            <p:cNvSpPr/>
            <p:nvPr/>
          </p:nvSpPr>
          <p:spPr>
            <a:xfrm>
              <a:off x="2540160" y="4425840"/>
              <a:ext cx="355320" cy="2984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4114800"/>
              <a:ext cx="3864240" cy="83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Verdana"/>
                </a:rPr>
                <a:t>DIFERENCI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Mayores márge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781680" y="4260960"/>
              <a:ext cx="419400" cy="23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050920" y="4794120"/>
            <a:ext cx="5372280" cy="1739880"/>
            <a:chOff x="2050920" y="4794120"/>
            <a:chExt cx="5372280" cy="1739880"/>
          </a:xfrm>
        </p:grpSpPr>
        <p:sp>
          <p:nvSpPr>
            <p:cNvPr id="98" name=""/>
            <p:cNvSpPr/>
            <p:nvPr/>
          </p:nvSpPr>
          <p:spPr>
            <a:xfrm>
              <a:off x="2050920" y="4959360"/>
              <a:ext cx="692280" cy="83196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7680" y="5162400"/>
              <a:ext cx="3944880" cy="1371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Verdana"/>
                </a:rPr>
                <a:t>MENORES  COS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Eliminación de re-trabaj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Se hace solo lo que agrega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Menores mer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858000" y="4794120"/>
              <a:ext cx="565200" cy="9972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56840" y="5105520"/>
            <a:ext cx="8915760" cy="1447560"/>
            <a:chOff x="456840" y="5105520"/>
            <a:chExt cx="8915760" cy="1447560"/>
          </a:xfrm>
        </p:grpSpPr>
        <p:sp>
          <p:nvSpPr>
            <p:cNvPr id="102" name=""/>
            <p:cNvSpPr/>
            <p:nvPr/>
          </p:nvSpPr>
          <p:spPr>
            <a:xfrm>
              <a:off x="3162240" y="5105520"/>
              <a:ext cx="6210360" cy="1447560"/>
            </a:xfrm>
            <a:custGeom>
              <a:avLst/>
              <a:gdLst>
                <a:gd name="textAreaLeft" fmla="*/ 0 w 6210360"/>
                <a:gd name="textAreaRight" fmla="*/ 6210720 w 621036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3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...</a:t>
              </a: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que satisfagan consistentemente a todos aquellos vinculados con la organizació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Clientes, Accionistas, Empleados, Proveedores y en términos generales, a la Sociedad en su conju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0800000">
              <a:off x="456840" y="5410080"/>
              <a:ext cx="2343240" cy="66672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198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RESULT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6840" y="1752480"/>
            <a:ext cx="8909280" cy="1371600"/>
            <a:chOff x="456840" y="1752480"/>
            <a:chExt cx="8909280" cy="1371600"/>
          </a:xfrm>
        </p:grpSpPr>
        <p:sp>
          <p:nvSpPr>
            <p:cNvPr id="105" name=""/>
            <p:cNvSpPr/>
            <p:nvPr/>
          </p:nvSpPr>
          <p:spPr>
            <a:xfrm flipV="1" rot="10800000">
              <a:off x="456840" y="2132640"/>
              <a:ext cx="2352600" cy="68580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5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1752480"/>
              <a:ext cx="6165720" cy="137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Directivos con la vocación y el compromiso de mejorar permanentemente los resultados, a través del perfeccionamiento constante de su liderazgo y del sistema de 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600" y="1523880"/>
            <a:ext cx="9372600" cy="527688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7760" y="3467160"/>
            <a:ext cx="8915760" cy="1371600"/>
            <a:chOff x="437760" y="3467160"/>
            <a:chExt cx="8915760" cy="1371600"/>
          </a:xfrm>
        </p:grpSpPr>
        <p:sp>
          <p:nvSpPr>
            <p:cNvPr id="109" name=""/>
            <p:cNvSpPr/>
            <p:nvPr/>
          </p:nvSpPr>
          <p:spPr>
            <a:xfrm>
              <a:off x="3181320" y="3467160"/>
              <a:ext cx="617220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...que asegure la continuidad de esos resultados a lo largo del tiempo, como consecuencia de la aplicación de los principios y enfoques del mod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0800000">
              <a:off x="437760" y="3866040"/>
              <a:ext cx="2352600" cy="72396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5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SISTEMA DE G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Empresas de Excelencia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5400" y="2362320"/>
            <a:ext cx="9582120" cy="3276360"/>
            <a:chOff x="95400" y="2362320"/>
            <a:chExt cx="9582120" cy="3276360"/>
          </a:xfrm>
        </p:grpSpPr>
        <p:sp>
          <p:nvSpPr>
            <p:cNvPr id="114" name=""/>
            <p:cNvSpPr/>
            <p:nvPr/>
          </p:nvSpPr>
          <p:spPr>
            <a:xfrm>
              <a:off x="95400" y="2362320"/>
              <a:ext cx="9582120" cy="3276360"/>
            </a:xfrm>
            <a:prstGeom prst="rect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2666880"/>
              <a:ext cx="2514600" cy="2590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Verdana"/>
                </a:rPr>
                <a:t>LIDERAZ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5320" y="2666880"/>
              <a:ext cx="2590560" cy="2590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ISTEMA DE GEST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1800" y="3657600"/>
              <a:ext cx="380880" cy="60948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a6b7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3657600"/>
              <a:ext cx="380880" cy="60948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a6b7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8480" y="2666880"/>
              <a:ext cx="2819520" cy="2610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0" y="5986440"/>
            <a:ext cx="9906120" cy="873720"/>
            <a:chOff x="0" y="5986440"/>
            <a:chExt cx="9906120" cy="873720"/>
          </a:xfrm>
        </p:grpSpPr>
        <p:sp>
          <p:nvSpPr>
            <p:cNvPr id="121" name=""/>
            <p:cNvSpPr/>
            <p:nvPr/>
          </p:nvSpPr>
          <p:spPr>
            <a:xfrm>
              <a:off x="304920" y="5986440"/>
              <a:ext cx="2361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150 pu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6016680"/>
              <a:ext cx="2793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400 Pu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583320"/>
              <a:ext cx="99061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TOTAL : 1000 Pu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6016680"/>
              <a:ext cx="27939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450 Pu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75920" y="4667400"/>
            <a:ext cx="8687160" cy="1885680"/>
            <a:chOff x="475920" y="4667400"/>
            <a:chExt cx="8687160" cy="1885680"/>
          </a:xfrm>
        </p:grpSpPr>
        <p:sp>
          <p:nvSpPr>
            <p:cNvPr id="126" name=""/>
            <p:cNvSpPr/>
            <p:nvPr/>
          </p:nvSpPr>
          <p:spPr>
            <a:xfrm>
              <a:off x="3371760" y="4667400"/>
              <a:ext cx="5791320" cy="1885680"/>
            </a:xfrm>
            <a:custGeom>
              <a:avLst/>
              <a:gdLst>
                <a:gd name="textAreaLeft" fmla="*/ 0 w 5791320"/>
                <a:gd name="textAreaRight" fmla="*/ 5791680 w 579132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198000" tIns="0" bIns="46800" anchor="ctr">
              <a:noAutofit/>
            </a:bodyPr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Satisfacción y Lealtad de 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Participación de 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Económico-Financie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Opera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Provee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Cadena de Distrib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Recursos Huma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1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Verdana"/>
                </a:rPr>
                <a:t>Responsabilidad So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10800000">
              <a:off x="475920" y="5047200"/>
              <a:ext cx="2266920" cy="83772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198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Verdana"/>
                </a:rPr>
                <a:t>RESULT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6840" y="1447920"/>
            <a:ext cx="8687160" cy="1009440"/>
            <a:chOff x="456840" y="1447920"/>
            <a:chExt cx="8687160" cy="1009440"/>
          </a:xfrm>
        </p:grpSpPr>
        <p:sp>
          <p:nvSpPr>
            <p:cNvPr id="129" name=""/>
            <p:cNvSpPr/>
            <p:nvPr/>
          </p:nvSpPr>
          <p:spPr>
            <a:xfrm flipV="1" rot="10800000">
              <a:off x="456840" y="1675440"/>
              <a:ext cx="2257560" cy="68580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25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Verdana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1447920"/>
              <a:ext cx="5791320" cy="1009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marL="666720" indent="-190440">
                <a:lnSpc>
                  <a:spcPct val="12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Dirección Estratég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66720" indent="-190440">
                <a:lnSpc>
                  <a:spcPct val="12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66720" indent="-190440">
                <a:lnSpc>
                  <a:spcPct val="12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Responsabilidad So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6840" y="2743200"/>
            <a:ext cx="8687160" cy="1714680"/>
            <a:chOff x="456840" y="2743200"/>
            <a:chExt cx="8687160" cy="1714680"/>
          </a:xfrm>
        </p:grpSpPr>
        <p:sp>
          <p:nvSpPr>
            <p:cNvPr id="132" name=""/>
            <p:cNvSpPr/>
            <p:nvPr/>
          </p:nvSpPr>
          <p:spPr>
            <a:xfrm>
              <a:off x="3352680" y="2743200"/>
              <a:ext cx="5791320" cy="1714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ctr">
              <a:noAutofit/>
            </a:bodyPr>
            <a:p>
              <a:pPr marL="476280" indent="-190440">
                <a:lnSpc>
                  <a:spcPct val="13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Verdana"/>
                </a:rPr>
                <a:t>Planeamiento Estraté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3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Verdana"/>
                </a:rPr>
                <a:t>Enfoque en Clientes y 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3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Verdana"/>
                </a:rPr>
                <a:t>Gestión de los 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76280" indent="-190440">
                <a:lnSpc>
                  <a:spcPct val="13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33cc"/>
                  </a:solidFill>
                  <a:latin typeface="Verdana"/>
                </a:rPr>
                <a:t>Gestión de los Recursos  Hum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10800000">
              <a:off x="456840" y="3276720"/>
              <a:ext cx="2228760" cy="914400"/>
            </a:xfrm>
            <a:prstGeom prst="parallelogram">
              <a:avLst>
                <a:gd name="adj" fmla="val 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198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Verdana"/>
                </a:rPr>
                <a:t>SISTEMA DE GES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8600" y="1219320"/>
            <a:ext cx="9372600" cy="558144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184640" y="2867040"/>
            <a:ext cx="2367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2040" y="4065480"/>
            <a:ext cx="222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724280"/>
            <a:ext cx="3549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Aspectos a Consid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6680" y="3513240"/>
            <a:ext cx="247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rite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05120" y="2666880"/>
            <a:ext cx="3359880" cy="3013200"/>
            <a:chOff x="1905120" y="2666880"/>
            <a:chExt cx="3359880" cy="3013200"/>
          </a:xfrm>
        </p:grpSpPr>
        <p:grpSp>
          <p:nvGrpSpPr>
            <p:cNvPr id="141" name=""/>
            <p:cNvGrpSpPr/>
            <p:nvPr/>
          </p:nvGrpSpPr>
          <p:grpSpPr>
            <a:xfrm>
              <a:off x="1905120" y="4632120"/>
              <a:ext cx="3359880" cy="1047960"/>
              <a:chOff x="1905120" y="4632120"/>
              <a:chExt cx="3359880" cy="1047960"/>
            </a:xfrm>
          </p:grpSpPr>
          <p:sp>
            <p:nvSpPr>
              <p:cNvPr id="142" name=""/>
              <p:cNvSpPr/>
              <p:nvPr/>
            </p:nvSpPr>
            <p:spPr>
              <a:xfrm>
                <a:off x="4605120" y="4632120"/>
                <a:ext cx="659880" cy="1047960"/>
              </a:xfrm>
              <a:custGeom>
                <a:avLst/>
                <a:gdLst/>
                <a:ahLst/>
                <a:rect l="l" t="t" r="r" b="b"/>
                <a:pathLst>
                  <a:path w="384" h="660">
                    <a:moveTo>
                      <a:pt x="196" y="659"/>
                    </a:moveTo>
                    <a:lnTo>
                      <a:pt x="0" y="231"/>
                    </a:lnTo>
                    <a:lnTo>
                      <a:pt x="143" y="0"/>
                    </a:lnTo>
                    <a:lnTo>
                      <a:pt x="383" y="363"/>
                    </a:lnTo>
                    <a:lnTo>
                      <a:pt x="196" y="659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36680" y="4632120"/>
                <a:ext cx="2617200" cy="368280"/>
              </a:xfrm>
              <a:custGeom>
                <a:avLst/>
                <a:gdLst/>
                <a:ahLst/>
                <a:rect l="l" t="t" r="r" b="b"/>
                <a:pathLst>
                  <a:path w="1522" h="232">
                    <a:moveTo>
                      <a:pt x="0" y="231"/>
                    </a:moveTo>
                    <a:lnTo>
                      <a:pt x="1378" y="231"/>
                    </a:lnTo>
                    <a:lnTo>
                      <a:pt x="1521" y="0"/>
                    </a:lnTo>
                    <a:lnTo>
                      <a:pt x="272" y="1"/>
                    </a:lnTo>
                    <a:lnTo>
                      <a:pt x="0" y="231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05120" y="4998960"/>
                <a:ext cx="3038400" cy="681120"/>
              </a:xfrm>
              <a:custGeom>
                <a:avLst/>
                <a:gdLst/>
                <a:ahLst/>
                <a:rect l="l" t="t" r="r" b="b"/>
                <a:pathLst>
                  <a:path w="1767" h="429">
                    <a:moveTo>
                      <a:pt x="0" y="428"/>
                    </a:moveTo>
                    <a:lnTo>
                      <a:pt x="1766" y="428"/>
                    </a:lnTo>
                    <a:lnTo>
                      <a:pt x="1570" y="0"/>
                    </a:lnTo>
                    <a:lnTo>
                      <a:pt x="194" y="0"/>
                    </a:lnTo>
                    <a:lnTo>
                      <a:pt x="0" y="428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92120" y="3983040"/>
              <a:ext cx="2498040" cy="911160"/>
              <a:chOff x="2292120" y="3983040"/>
              <a:chExt cx="2498040" cy="9111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12360" y="3983040"/>
                <a:ext cx="577800" cy="909720"/>
              </a:xfrm>
              <a:custGeom>
                <a:avLst/>
                <a:gdLst/>
                <a:ahLst/>
                <a:rect l="l" t="t" r="r" b="b"/>
                <a:pathLst>
                  <a:path w="336" h="573">
                    <a:moveTo>
                      <a:pt x="0" y="155"/>
                    </a:moveTo>
                    <a:lnTo>
                      <a:pt x="198" y="572"/>
                    </a:lnTo>
                    <a:lnTo>
                      <a:pt x="335" y="358"/>
                    </a:lnTo>
                    <a:lnTo>
                      <a:pt x="96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30520" y="3983040"/>
                <a:ext cx="1747080" cy="245880"/>
              </a:xfrm>
              <a:custGeom>
                <a:avLst/>
                <a:gdLst/>
                <a:ahLst/>
                <a:rect l="l" t="t" r="r" b="b"/>
                <a:pathLst>
                  <a:path w="1016" h="155">
                    <a:moveTo>
                      <a:pt x="0" y="154"/>
                    </a:moveTo>
                    <a:lnTo>
                      <a:pt x="919" y="154"/>
                    </a:lnTo>
                    <a:lnTo>
                      <a:pt x="1015" y="0"/>
                    </a:lnTo>
                    <a:lnTo>
                      <a:pt x="256" y="0"/>
                    </a:lnTo>
                    <a:lnTo>
                      <a:pt x="0" y="154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92120" y="4227480"/>
                <a:ext cx="2262600" cy="666720"/>
              </a:xfrm>
              <a:custGeom>
                <a:avLst/>
                <a:gdLst/>
                <a:ahLst/>
                <a:rect l="l" t="t" r="r" b="b"/>
                <a:pathLst>
                  <a:path w="1316" h="420">
                    <a:moveTo>
                      <a:pt x="0" y="419"/>
                    </a:moveTo>
                    <a:lnTo>
                      <a:pt x="1315" y="419"/>
                    </a:lnTo>
                    <a:lnTo>
                      <a:pt x="1116" y="0"/>
                    </a:lnTo>
                    <a:lnTo>
                      <a:pt x="197" y="0"/>
                    </a:lnTo>
                    <a:lnTo>
                      <a:pt x="0" y="419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687760" y="3322440"/>
              <a:ext cx="1627920" cy="795600"/>
              <a:chOff x="2687760" y="3322440"/>
              <a:chExt cx="1627920" cy="795600"/>
            </a:xfrm>
          </p:grpSpPr>
          <p:sp>
            <p:nvSpPr>
              <p:cNvPr id="150" name=""/>
              <p:cNvSpPr/>
              <p:nvPr/>
            </p:nvSpPr>
            <p:spPr>
              <a:xfrm>
                <a:off x="3817080" y="3322440"/>
                <a:ext cx="498600" cy="795600"/>
              </a:xfrm>
              <a:custGeom>
                <a:avLst/>
                <a:gdLst/>
                <a:ahLst/>
                <a:rect l="l" t="t" r="r" b="b"/>
                <a:pathLst>
                  <a:path w="290" h="501">
                    <a:moveTo>
                      <a:pt x="198" y="500"/>
                    </a:moveTo>
                    <a:lnTo>
                      <a:pt x="289" y="357"/>
                    </a:lnTo>
                    <a:lnTo>
                      <a:pt x="50" y="0"/>
                    </a:lnTo>
                    <a:lnTo>
                      <a:pt x="0" y="75"/>
                    </a:lnTo>
                    <a:lnTo>
                      <a:pt x="198" y="500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31560" y="3322440"/>
                <a:ext cx="871200" cy="119160"/>
              </a:xfrm>
              <a:custGeom>
                <a:avLst/>
                <a:gdLst/>
                <a:ahLst/>
                <a:rect l="l" t="t" r="r" b="b"/>
                <a:pathLst>
                  <a:path w="507" h="75">
                    <a:moveTo>
                      <a:pt x="0" y="74"/>
                    </a:moveTo>
                    <a:lnTo>
                      <a:pt x="456" y="74"/>
                    </a:lnTo>
                    <a:lnTo>
                      <a:pt x="506" y="0"/>
                    </a:lnTo>
                    <a:lnTo>
                      <a:pt x="158" y="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87760" y="3440160"/>
                <a:ext cx="1471680" cy="677880"/>
              </a:xfrm>
              <a:custGeom>
                <a:avLst/>
                <a:gdLst/>
                <a:ahLst/>
                <a:rect l="l" t="t" r="r" b="b"/>
                <a:pathLst>
                  <a:path w="856" h="427">
                    <a:moveTo>
                      <a:pt x="0" y="426"/>
                    </a:moveTo>
                    <a:lnTo>
                      <a:pt x="855" y="426"/>
                    </a:lnTo>
                    <a:lnTo>
                      <a:pt x="656" y="0"/>
                    </a:lnTo>
                    <a:lnTo>
                      <a:pt x="199" y="0"/>
                    </a:lnTo>
                    <a:lnTo>
                      <a:pt x="0" y="426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079440" y="2666880"/>
              <a:ext cx="761400" cy="673200"/>
              <a:chOff x="3079440" y="2666880"/>
              <a:chExt cx="761400" cy="673200"/>
            </a:xfrm>
          </p:grpSpPr>
          <p:sp>
            <p:nvSpPr>
              <p:cNvPr id="154" name=""/>
              <p:cNvSpPr/>
              <p:nvPr/>
            </p:nvSpPr>
            <p:spPr>
              <a:xfrm>
                <a:off x="3421440" y="2666880"/>
                <a:ext cx="419400" cy="673200"/>
              </a:xfrm>
              <a:custGeom>
                <a:avLst/>
                <a:gdLst/>
                <a:ahLst/>
                <a:rect l="l" t="t" r="r" b="b"/>
                <a:pathLst>
                  <a:path w="244" h="424">
                    <a:moveTo>
                      <a:pt x="197" y="423"/>
                    </a:moveTo>
                    <a:lnTo>
                      <a:pt x="243" y="358"/>
                    </a:lnTo>
                    <a:lnTo>
                      <a:pt x="0" y="0"/>
                    </a:lnTo>
                    <a:lnTo>
                      <a:pt x="197" y="423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79440" y="2666880"/>
                <a:ext cx="682560" cy="673200"/>
              </a:xfrm>
              <a:custGeom>
                <a:avLst/>
                <a:gdLst/>
                <a:ahLst/>
                <a:rect l="l" t="t" r="r" b="b"/>
                <a:pathLst>
                  <a:path w="397" h="424">
                    <a:moveTo>
                      <a:pt x="0" y="423"/>
                    </a:moveTo>
                    <a:lnTo>
                      <a:pt x="396" y="423"/>
                    </a:lnTo>
                    <a:lnTo>
                      <a:pt x="199" y="0"/>
                    </a:lnTo>
                    <a:lnTo>
                      <a:pt x="0" y="423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2895480" y="4419720"/>
            <a:ext cx="9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18148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606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895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33"/>
                </a:solidFill>
                <a:latin typeface="Verdana"/>
              </a:rPr>
              <a:t>Estructura del Modelo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onente: Liderazgo</a:t>
            </a:r>
            <a:endParaRPr b="1" lang="en-US" sz="24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666720" indent="-380880">
              <a:lnSpc>
                <a:spcPct val="29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Direc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380880">
              <a:lnSpc>
                <a:spcPct val="29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380880">
              <a:lnSpc>
                <a:spcPct val="29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ponsabil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onente: Sistema de Gestión</a:t>
            </a:r>
            <a:endParaRPr b="1" lang="en-US" sz="24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523880"/>
            <a:ext cx="91440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571680" indent="-285840">
              <a:lnSpc>
                <a:spcPct val="235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Planeamiento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roceso de Plane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strategias y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Enfoque en Clientes y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Conocimiento de Clientes y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Gestión de las Relaciones con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Manejo de Quejas y Recl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Determinación de la satisfacción y la lealtad de los cl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br>
              <a:rPr sz="3600"/>
            </a:b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onente: Sistema de Gestión</a:t>
            </a:r>
            <a:endParaRPr b="1" lang="en-US" sz="24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523880"/>
            <a:ext cx="91440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571680" indent="-285840">
              <a:lnSpc>
                <a:spcPct val="95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Gestión de los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Diseño de la gestión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roceso de Diseño de Productos y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rocesos de Producción, Servicio y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rocesos relativos a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rocesos relativos a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Gestión de los 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Planeamiento y con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ducación, Capacitación y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Satisfacción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Modelo del Premio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ponente: Resultados</a:t>
            </a:r>
            <a:endParaRPr b="1" lang="en-US" sz="24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23880"/>
            <a:ext cx="91440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Satisfacción y Lealtad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Económico-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Prove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Cadena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ponsabil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285840"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432080" y="1903320"/>
            <a:ext cx="7761240" cy="4954680"/>
            <a:chOff x="1432080" y="1903320"/>
            <a:chExt cx="7761240" cy="4954680"/>
          </a:xfrm>
        </p:grpSpPr>
        <p:grpSp>
          <p:nvGrpSpPr>
            <p:cNvPr id="170" name=""/>
            <p:cNvGrpSpPr/>
            <p:nvPr/>
          </p:nvGrpSpPr>
          <p:grpSpPr>
            <a:xfrm>
              <a:off x="1432080" y="1903320"/>
              <a:ext cx="7761240" cy="4954680"/>
              <a:chOff x="1432080" y="1903320"/>
              <a:chExt cx="7761240" cy="4954680"/>
            </a:xfrm>
          </p:grpSpPr>
          <p:sp>
            <p:nvSpPr>
              <p:cNvPr id="171" name=""/>
              <p:cNvSpPr/>
              <p:nvPr/>
            </p:nvSpPr>
            <p:spPr>
              <a:xfrm>
                <a:off x="5546880" y="1905120"/>
                <a:ext cx="1084320" cy="1019160"/>
              </a:xfrm>
              <a:custGeom>
                <a:avLst/>
                <a:gdLst/>
                <a:ahLst/>
                <a:rect l="l" t="t" r="r" b="b"/>
                <a:pathLst>
                  <a:path w="630" h="642">
                    <a:moveTo>
                      <a:pt x="629" y="318"/>
                    </a:moveTo>
                    <a:lnTo>
                      <a:pt x="629" y="641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629" y="318"/>
                    </a:lnTo>
                  </a:path>
                </a:pathLst>
              </a:custGeom>
              <a:solidFill>
                <a:srgbClr val="99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1432080" y="1903320"/>
                <a:ext cx="7761240" cy="4954680"/>
                <a:chOff x="1432080" y="1903320"/>
                <a:chExt cx="7761240" cy="495468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432080" y="1903320"/>
                  <a:ext cx="7761240" cy="4954680"/>
                  <a:chOff x="1432080" y="1903320"/>
                  <a:chExt cx="7761240" cy="4954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3159000" y="3430440"/>
                    <a:ext cx="4953240" cy="34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2159">
                        <a:moveTo>
                          <a:pt x="0" y="1621"/>
                        </a:moveTo>
                        <a:lnTo>
                          <a:pt x="0" y="2158"/>
                        </a:lnTo>
                        <a:lnTo>
                          <a:pt x="2879" y="325"/>
                        </a:lnTo>
                        <a:lnTo>
                          <a:pt x="2879" y="0"/>
                        </a:lnTo>
                        <a:lnTo>
                          <a:pt x="0" y="1621"/>
                        </a:lnTo>
                      </a:path>
                    </a:pathLst>
                  </a:custGeom>
                  <a:solidFill>
                    <a:srgbClr val="99ffc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432080" y="1903320"/>
                    <a:ext cx="7761240" cy="409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513" h="2582">
                        <a:moveTo>
                          <a:pt x="0" y="1612"/>
                        </a:moveTo>
                        <a:lnTo>
                          <a:pt x="3007" y="320"/>
                        </a:lnTo>
                        <a:lnTo>
                          <a:pt x="2379" y="0"/>
                        </a:lnTo>
                        <a:lnTo>
                          <a:pt x="4386" y="104"/>
                        </a:lnTo>
                        <a:lnTo>
                          <a:pt x="4512" y="1396"/>
                        </a:lnTo>
                        <a:lnTo>
                          <a:pt x="3886" y="965"/>
                        </a:lnTo>
                        <a:lnTo>
                          <a:pt x="1000" y="2581"/>
                        </a:lnTo>
                        <a:lnTo>
                          <a:pt x="0" y="1612"/>
                        </a:lnTo>
                      </a:path>
                    </a:pathLst>
                  </a:custGeom>
                  <a:solidFill>
                    <a:srgbClr val="99ffcc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1432080" y="4470480"/>
                  <a:ext cx="1728720" cy="2387520"/>
                </a:xfrm>
                <a:custGeom>
                  <a:avLst/>
                  <a:gdLst/>
                  <a:ahLst/>
                  <a:rect l="l" t="t" r="r" b="b"/>
                  <a:pathLst>
                    <a:path w="1005" h="1504">
                      <a:moveTo>
                        <a:pt x="0" y="0"/>
                      </a:moveTo>
                      <a:lnTo>
                        <a:pt x="1004" y="968"/>
                      </a:lnTo>
                      <a:lnTo>
                        <a:pt x="1004" y="1503"/>
                      </a:lnTo>
                      <a:lnTo>
                        <a:pt x="0" y="48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10440" y="3430440"/>
                  <a:ext cx="1082880" cy="1273320"/>
                </a:xfrm>
                <a:custGeom>
                  <a:avLst/>
                  <a:gdLst/>
                  <a:ahLst/>
                  <a:rect l="l" t="t" r="r" b="b"/>
                  <a:pathLst>
                    <a:path w="630" h="802">
                      <a:moveTo>
                        <a:pt x="0" y="0"/>
                      </a:moveTo>
                      <a:lnTo>
                        <a:pt x="0" y="326"/>
                      </a:lnTo>
                      <a:lnTo>
                        <a:pt x="629" y="801"/>
                      </a:lnTo>
                      <a:lnTo>
                        <a:pt x="629" y="4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9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 rot="19951200">
              <a:off x="5771520" y="2895480"/>
              <a:ext cx="24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5f5f5f"/>
                  </a:solidFill>
                  <a:latin typeface="Tahoma"/>
                </a:rPr>
                <a:t>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715000" y="4821120"/>
            <a:ext cx="3794040" cy="183204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58840"/>
                <a:tab algn="l" pos="2317680"/>
                <a:tab algn="l" pos="3476520"/>
                <a:tab algn="l" pos="4635360"/>
                <a:tab algn="l" pos="5794200"/>
                <a:tab algn="l" pos="6953400"/>
                <a:tab algn="l" pos="8112240"/>
                <a:tab algn="l" pos="9271080"/>
                <a:tab algn="l" pos="1042992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Arial"/>
              </a:rPr>
              <a:t>Involucramiento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58840"/>
                <a:tab algn="l" pos="2317680"/>
                <a:tab algn="l" pos="3476520"/>
                <a:tab algn="l" pos="4635360"/>
                <a:tab algn="l" pos="5794200"/>
                <a:tab algn="l" pos="6953400"/>
                <a:tab algn="l" pos="8112240"/>
                <a:tab algn="l" pos="9271080"/>
                <a:tab algn="l" pos="1042992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Arial"/>
              </a:rPr>
              <a:t>del Persona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080" y="4789440"/>
            <a:ext cx="3565440" cy="18637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58840"/>
                <a:tab algn="l" pos="2317680"/>
                <a:tab algn="l" pos="3476520"/>
                <a:tab algn="l" pos="4635360"/>
                <a:tab algn="l" pos="5794200"/>
                <a:tab algn="l" pos="6953400"/>
                <a:tab algn="l" pos="8112240"/>
                <a:tab algn="l" pos="927108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ejoramiento Continuo de los Proces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71800" y="3200400"/>
            <a:ext cx="3328920" cy="2057400"/>
            <a:chOff x="2971800" y="3200400"/>
            <a:chExt cx="3328920" cy="2057400"/>
          </a:xfrm>
        </p:grpSpPr>
        <p:sp>
          <p:nvSpPr>
            <p:cNvPr id="182" name=""/>
            <p:cNvSpPr/>
            <p:nvPr/>
          </p:nvSpPr>
          <p:spPr>
            <a:xfrm flipV="1">
              <a:off x="2971800" y="3276720"/>
              <a:ext cx="965160" cy="1164960"/>
            </a:xfrm>
            <a:prstGeom prst="line">
              <a:avLst/>
            </a:prstGeom>
            <a:ln w="10152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2520" y="5257800"/>
              <a:ext cx="1504800" cy="0"/>
            </a:xfrm>
            <a:prstGeom prst="line">
              <a:avLst/>
            </a:prstGeom>
            <a:ln w="10152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3200400"/>
              <a:ext cx="814320" cy="965160"/>
            </a:xfrm>
            <a:prstGeom prst="line">
              <a:avLst/>
            </a:prstGeom>
            <a:ln w="10152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629080" y="1143000"/>
            <a:ext cx="4219200" cy="3949200"/>
            <a:chOff x="2629080" y="1143000"/>
            <a:chExt cx="4219200" cy="3949200"/>
          </a:xfrm>
        </p:grpSpPr>
        <p:grpSp>
          <p:nvGrpSpPr>
            <p:cNvPr id="186" name=""/>
            <p:cNvGrpSpPr/>
            <p:nvPr/>
          </p:nvGrpSpPr>
          <p:grpSpPr>
            <a:xfrm>
              <a:off x="2666880" y="1143000"/>
              <a:ext cx="4114800" cy="1891800"/>
              <a:chOff x="2666880" y="1143000"/>
              <a:chExt cx="4114800" cy="1891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309920" y="1143000"/>
                <a:ext cx="94104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66880" y="1379160"/>
                <a:ext cx="4114800" cy="165564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158840"/>
                    <a:tab algn="l" pos="2317680"/>
                    <a:tab algn="l" pos="3476520"/>
                    <a:tab algn="l" pos="4635360"/>
                    <a:tab algn="l" pos="5794200"/>
                    <a:tab algn="l" pos="6953400"/>
                    <a:tab algn="l" pos="8112240"/>
                    <a:tab algn="l" pos="9271080"/>
                    <a:tab algn="l" pos="10429920"/>
                  </a:tabLst>
                </a:pPr>
                <a:r>
                  <a:rPr b="1" lang="en-US" sz="2700" spc="-1" strike="noStrike">
                    <a:solidFill>
                      <a:srgbClr val="ffffff"/>
                    </a:solidFill>
                    <a:latin typeface="Arial"/>
                  </a:rPr>
                  <a:t>Foco en los Clientes y el Mercado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629080" y="2724120"/>
              <a:ext cx="4219200" cy="2368080"/>
              <a:chOff x="2629080" y="2724120"/>
              <a:chExt cx="4219200" cy="23680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629080" y="2724120"/>
                <a:ext cx="4219200" cy="2368080"/>
                <a:chOff x="2629080" y="2724120"/>
                <a:chExt cx="4219200" cy="236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629080" y="2724120"/>
                  <a:ext cx="2078640" cy="2303280"/>
                </a:xfrm>
                <a:custGeom>
                  <a:avLst/>
                  <a:gdLst/>
                  <a:ahLst/>
                  <a:rect l="l" t="t" r="r" b="b"/>
                  <a:pathLst>
                    <a:path w="1209" h="1451">
                      <a:moveTo>
                        <a:pt x="403" y="1242"/>
                      </a:moveTo>
                      <a:lnTo>
                        <a:pt x="0" y="1450"/>
                      </a:lnTo>
                      <a:lnTo>
                        <a:pt x="1208" y="0"/>
                      </a:lnTo>
                      <a:lnTo>
                        <a:pt x="1208" y="290"/>
                      </a:lnTo>
                      <a:lnTo>
                        <a:pt x="403" y="1242"/>
                      </a:lnTo>
                    </a:path>
                  </a:pathLst>
                </a:custGeom>
                <a:solidFill>
                  <a:srgbClr val="c0fef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99640" y="4763880"/>
                  <a:ext cx="4081680" cy="328320"/>
                </a:xfrm>
                <a:custGeom>
                  <a:avLst/>
                  <a:gdLst/>
                  <a:ahLst/>
                  <a:rect l="l" t="t" r="r" b="b"/>
                  <a:pathLst>
                    <a:path w="2374" h="207">
                      <a:moveTo>
                        <a:pt x="402" y="0"/>
                      </a:moveTo>
                      <a:lnTo>
                        <a:pt x="1971" y="0"/>
                      </a:lnTo>
                      <a:lnTo>
                        <a:pt x="2373" y="206"/>
                      </a:lnTo>
                      <a:lnTo>
                        <a:pt x="0" y="206"/>
                      </a:lnTo>
                      <a:lnTo>
                        <a:pt x="402" y="0"/>
                      </a:lnTo>
                    </a:path>
                  </a:pathLst>
                </a:custGeom>
                <a:solidFill>
                  <a:srgbClr val="ff001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71440" y="2724120"/>
                  <a:ext cx="2076840" cy="2303280"/>
                </a:xfrm>
                <a:custGeom>
                  <a:avLst/>
                  <a:gdLst/>
                  <a:ahLst/>
                  <a:rect l="l" t="t" r="r" b="b"/>
                  <a:pathLst>
                    <a:path w="1208" h="1451">
                      <a:moveTo>
                        <a:pt x="805" y="1242"/>
                      </a:moveTo>
                      <a:lnTo>
                        <a:pt x="1207" y="1450"/>
                      </a:lnTo>
                      <a:lnTo>
                        <a:pt x="0" y="0"/>
                      </a:lnTo>
                      <a:lnTo>
                        <a:pt x="0" y="290"/>
                      </a:lnTo>
                      <a:lnTo>
                        <a:pt x="805" y="1242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7160" y="3414600"/>
                <a:ext cx="1971720" cy="146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33"/>
                </a:solidFill>
                <a:latin typeface="Verdana"/>
              </a:rPr>
              <a:t>Conceptos centrales del modelo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Objetivos para esta hora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Lograr que ustedes comprendan la esencia y los beneficios potenciales del “Modelo de Gestión” del Premio Nacional a la Cal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Generar el entusismo para que mañana mismo comiencen a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Verdana"/>
              </a:rPr>
              <a:t>implementar al menos una idea</a:t>
            </a: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 de las vistas aqu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Responder eficazmente a todas las inquietudes que genere esta present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679840" y="1916280"/>
            <a:ext cx="6643440" cy="3635280"/>
            <a:chOff x="2679840" y="1916280"/>
            <a:chExt cx="6643440" cy="3635280"/>
          </a:xfrm>
        </p:grpSpPr>
        <p:sp>
          <p:nvSpPr>
            <p:cNvPr id="197" name=""/>
            <p:cNvSpPr/>
            <p:nvPr/>
          </p:nvSpPr>
          <p:spPr>
            <a:xfrm>
              <a:off x="2679840" y="1916280"/>
              <a:ext cx="6643440" cy="36352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54600" y="3032280"/>
              <a:ext cx="2487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EJ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TINU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44600" y="230040"/>
            <a:ext cx="2190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6000" y="3124080"/>
            <a:ext cx="119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G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9360" y="4057560"/>
            <a:ext cx="151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Super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0880" y="4915080"/>
            <a:ext cx="80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Lí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440" y="2141640"/>
            <a:ext cx="125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9760" y="2792520"/>
            <a:ext cx="1973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9760" y="3755880"/>
            <a:ext cx="1893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" y="4653000"/>
            <a:ext cx="1893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9760" y="5551560"/>
            <a:ext cx="1893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760" y="1893960"/>
            <a:ext cx="1893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680920" y="1905120"/>
            <a:ext cx="2940120" cy="1828800"/>
            <a:chOff x="2680920" y="1905120"/>
            <a:chExt cx="2940120" cy="1828800"/>
          </a:xfrm>
        </p:grpSpPr>
        <p:sp>
          <p:nvSpPr>
            <p:cNvPr id="210" name=""/>
            <p:cNvSpPr/>
            <p:nvPr/>
          </p:nvSpPr>
          <p:spPr>
            <a:xfrm rot="5400000">
              <a:off x="3236400" y="1349280"/>
              <a:ext cx="1828800" cy="29401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15480" y="2200320"/>
              <a:ext cx="1909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NNOV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685960" y="1924200"/>
            <a:ext cx="6621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673360" y="1910880"/>
            <a:ext cx="6656400" cy="3645000"/>
            <a:chOff x="2673360" y="1910880"/>
            <a:chExt cx="6656400" cy="3645000"/>
          </a:xfrm>
        </p:grpSpPr>
        <p:sp>
          <p:nvSpPr>
            <p:cNvPr id="214" name=""/>
            <p:cNvSpPr/>
            <p:nvPr/>
          </p:nvSpPr>
          <p:spPr>
            <a:xfrm rot="16200000">
              <a:off x="4178880" y="405000"/>
              <a:ext cx="3645000" cy="6656400"/>
            </a:xfrm>
            <a:prstGeom prst="rtTriangl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0080" y="4114800"/>
              <a:ext cx="2216160" cy="1003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CUMPL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de 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Tahoma"/>
                </a:rPr>
                <a:t>STAND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743200" y="2819520"/>
            <a:ext cx="6621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08280" y="4648320"/>
            <a:ext cx="36925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8280" y="3733920"/>
            <a:ext cx="6621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89200" y="5543640"/>
            <a:ext cx="6621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15400" y="4648320"/>
            <a:ext cx="3808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33"/>
                </a:solidFill>
                <a:latin typeface="Verdana"/>
              </a:rPr>
              <a:t>Roles y Responsabilidades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¿Como se evalúa?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61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iste una metodología sumamente rigurosa para establecer los “porcentajes de logro”, para cada uno de los Facto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126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ra los componentes de liderazgo y Sistema de Gestión, se toman en consideración tanto lo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métodos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 utiliza la empresa como el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rado de aplicació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e los mismos en la organiz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126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 el caso del componente Resultados, se consideran los mismos tanto en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valor absoluto y relativ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, así como la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volución y tendenci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a lo largo del tiemp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1981080"/>
            <a:ext cx="861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ffff"/>
                </a:solidFill>
                <a:latin typeface="Verdana"/>
              </a:rPr>
              <a:t>¡ Muchas Gracia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324320" y="5391000"/>
            <a:ext cx="1295280" cy="1257480"/>
            <a:chOff x="4324320" y="5391000"/>
            <a:chExt cx="1295280" cy="1257480"/>
          </a:xfrm>
        </p:grpSpPr>
        <p:grpSp>
          <p:nvGrpSpPr>
            <p:cNvPr id="226" name=""/>
            <p:cNvGrpSpPr/>
            <p:nvPr/>
          </p:nvGrpSpPr>
          <p:grpSpPr>
            <a:xfrm>
              <a:off x="4572000" y="5391000"/>
              <a:ext cx="801360" cy="761760"/>
              <a:chOff x="4572000" y="5391000"/>
              <a:chExt cx="801360" cy="76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4611240" y="5427720"/>
                <a:ext cx="706320" cy="674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0" y="5391000"/>
                <a:ext cx="801360" cy="761760"/>
              </a:xfrm>
              <a:custGeom>
                <a:avLst/>
                <a:gdLst/>
                <a:ahLst/>
                <a:rect l="l" t="t" r="r" b="b"/>
                <a:pathLst>
                  <a:path w="397" h="394">
                    <a:moveTo>
                      <a:pt x="0" y="393"/>
                    </a:moveTo>
                    <a:lnTo>
                      <a:pt x="396" y="393"/>
                    </a:lnTo>
                    <a:lnTo>
                      <a:pt x="396" y="0"/>
                    </a:lnTo>
                    <a:lnTo>
                      <a:pt x="0" y="393"/>
                    </a:lnTo>
                  </a:path>
                </a:pathLst>
              </a:custGeom>
              <a:solidFill>
                <a:srgbClr val="714400"/>
              </a:solidFill>
              <a:ln cap="rnd" w="12600">
                <a:solidFill>
                  <a:srgbClr val="714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324320" y="6267600"/>
              <a:ext cx="1295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b2b2b2"/>
                  </a:solidFill>
                  <a:latin typeface="Verdana"/>
                </a:rPr>
                <a:t>PREMIO NACIONAL A LA CALIDAD </a:t>
              </a:r>
              <a:br>
                <a:rPr sz="800"/>
              </a:b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cc33"/>
                </a:solidFill>
                <a:latin typeface="Verdana"/>
              </a:rPr>
              <a:t>Consejo Profesional de Ciencias Económicas</a:t>
            </a:r>
            <a:br>
              <a:rPr sz="1800"/>
            </a:br>
            <a:r>
              <a:rPr b="1" i="1" lang="es-AR" sz="2000" spc="-1" strike="noStrike">
                <a:solidFill>
                  <a:srgbClr val="33cc33"/>
                </a:solidFill>
                <a:latin typeface="Verdana"/>
              </a:rPr>
              <a:t>Primer Seminario Argentino de la Calidad</a:t>
            </a:r>
            <a:br>
              <a:rPr sz="2000"/>
            </a:br>
            <a:r>
              <a:rPr b="1" lang="es-AR" sz="1800" spc="-1" strike="noStrike">
                <a:solidFill>
                  <a:srgbClr val="33cc33"/>
                </a:solidFill>
                <a:latin typeface="Verdana"/>
              </a:rPr>
              <a:t>Buenos Aires - 14 de Abril d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9680" y="4521240"/>
            <a:ext cx="34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ffff"/>
                </a:solidFill>
                <a:latin typeface="Verdana"/>
              </a:rPr>
              <a:t>Ing. Héctor R. Sambuc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90400" y="2286000"/>
            <a:ext cx="88884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b2b2b2"/>
                </a:solidFill>
                <a:latin typeface="Verdana"/>
              </a:rPr>
              <a:t>Preguntas &amp; Respuest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ffff"/>
                </a:solidFill>
                <a:latin typeface="Verdana"/>
              </a:rPr>
              <a:t>fpnc@fpnc.org.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ffff"/>
                </a:solidFill>
                <a:latin typeface="Verdana"/>
              </a:rPr>
              <a:t>hector.sambucetti@fibertel.com.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02920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0520" y="4373640"/>
            <a:ext cx="893268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1600200"/>
            <a:ext cx="9372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0" tIns="44280" bIns="4428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4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XEROX ARGENTINA I.C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IBIÉ ARGENTINA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Premio fue declarado desierto en todas su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6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UTOMACIÓN MICROMECÁNICA S.A.I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7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SIDERAR S.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3M  ARGENTINA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8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YPF S.A División Lubric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1999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UTREC PUBLICIDAD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2000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HOTEL INTER-CONTINENTAL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TARANTO SAN JUAN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UNILEVER DE ARGENTINA S.A.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iv. Limpieza y Cuidado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2001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TELECOM PERSONAL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2002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Premio fue declarado desierto en todas su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560" y="9540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Empresas Ganadoras 1994-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04920" y="1428840"/>
          <a:ext cx="931536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28840"/>
                    <a:ext cx="93153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Asignación de Puntajes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Asignación de Puntajes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390680"/>
          <a:ext cx="9696600" cy="626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90680"/>
                    <a:ext cx="969660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90400" y="470520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Verdana"/>
              </a:rPr>
              <a:t>Sus base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ff"/>
                </a:solidFill>
                <a:latin typeface="Verdana"/>
              </a:rPr>
              <a:t>Un modelo para una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ff"/>
                </a:solidFill>
                <a:latin typeface="Verdana"/>
              </a:rPr>
              <a:t>Gestión de Excelenc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Premio Nacional a la Calidad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88604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Verdana"/>
              </a:rPr>
              <a:t>El Premio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Verdana"/>
              </a:rPr>
              <a:t>El mayor reconocimiento público a la excelencia en la gestión de una empresa que opere en nuestro paí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Objetivos del Premio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 Premio Nacional a la Calidad fue instituido por Ley 24127 para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..."la promoción, desarrollo y difusión de los procesos y sistemas, destinados al mejoramiento continuo de la calidad en los productos y en los servicios que se originan en el sector empresario..., a fin de apoyar la modernización y competitividad de esas organizaciones"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¿Quién Premia?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l Art. 3 de la Ley 24127 establece que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66"/>
                </a:solidFill>
                <a:latin typeface="Verdana"/>
              </a:rPr>
              <a:t>"la Nación Argentina otorgará anualmente el Premio, el que será entregado por el Presidente de la Nación, en la ceremonia o acto que se realice al efecto."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¿Quién Administra?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 misma Ley establece que, para el ámbito privado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Verdana"/>
              </a:rPr>
              <a:t>..."la administración del Premio Nacional a la Calidad, será ejercida por una Fundación creada con ese objeto por esta Ley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...</a:t>
            </a:r>
            <a:r>
              <a:rPr b="1" i="1" lang="en-US" sz="2000" spc="-1" strike="noStrike">
                <a:solidFill>
                  <a:srgbClr val="ffff66"/>
                </a:solidFill>
                <a:latin typeface="Verdana"/>
              </a:rPr>
              <a:t> el Ministerio de Economía y Obras y Servicios Públicos, será la Autoridad de Aplicación del Premio para el Sector Privado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91320" y="3200400"/>
            <a:ext cx="2948040" cy="3276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JUNT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JUECE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EXAMIN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209680"/>
            <a:ext cx="4468680" cy="4267440"/>
          </a:xfrm>
          <a:prstGeom prst="rect">
            <a:avLst/>
          </a:prstGeom>
          <a:solidFill>
            <a:srgbClr val="0099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209680"/>
            <a:ext cx="4468680" cy="992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UNDACION PRE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ACIONAL A L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400560"/>
            <a:ext cx="1052640" cy="2877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5480" y="3400560"/>
            <a:ext cx="2315880" cy="1587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CONSEJ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DMINIS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5486400"/>
            <a:ext cx="2104920" cy="762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EJECU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886200"/>
            <a:ext cx="380880" cy="609480"/>
          </a:xfrm>
          <a:custGeom>
            <a:avLst/>
            <a:gdLst>
              <a:gd name="textAreaLeft" fmla="*/ 59400 w 380880"/>
              <a:gd name="textAreaRight" fmla="*/ 333360 w 3808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6b7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238560" y="4914720"/>
            <a:ext cx="380880" cy="609840"/>
          </a:xfrm>
          <a:custGeom>
            <a:avLst/>
            <a:gdLst>
              <a:gd name="textAreaLeft" fmla="*/ 59400 w 380880"/>
              <a:gd name="textAreaRight" fmla="*/ 333360 w 3808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6b7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562720"/>
            <a:ext cx="914400" cy="609480"/>
          </a:xfrm>
          <a:prstGeom prst="leftRightArrow">
            <a:avLst>
              <a:gd name="adj1" fmla="val 50000"/>
              <a:gd name="adj2" fmla="val 29867"/>
            </a:avLst>
          </a:prstGeom>
          <a:gradFill rotWithShape="0">
            <a:gsLst>
              <a:gs pos="0">
                <a:srgbClr val="003399"/>
              </a:gs>
              <a:gs pos="100000">
                <a:srgbClr val="7590c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886200"/>
            <a:ext cx="838440" cy="609480"/>
          </a:xfrm>
          <a:custGeom>
            <a:avLst/>
            <a:gdLst>
              <a:gd name="textAreaLeft" fmla="*/ 131040 w 838440"/>
              <a:gd name="textAreaRight" fmla="*/ 733680 w 8384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6b7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8560" y="9540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Verdana"/>
              </a:rPr>
              <a:t>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5562720"/>
            <a:ext cx="21049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ases del Pre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Valores de la Excelencia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El foco en Clientes y Merc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n liderazgo ejemplar y visio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na gestión por procesos, basada en “hechos y dato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El énfasis en la mejora continua, la creatividad y la innov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1966"/>
            </a:gs>
            <a:gs pos="50000">
              <a:srgbClr val="3333cc"/>
            </a:gs>
            <a:gs pos="100000">
              <a:srgbClr val="191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95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cc33"/>
                </a:solidFill>
                <a:latin typeface="Verdana"/>
              </a:rPr>
              <a:t>Valores de la Excelencia</a:t>
            </a:r>
            <a:endParaRPr b="1" lang="en-US" sz="36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La valoración, el desarrollo y la participación del pers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El desarrollo de las relaciones con las cadenas de abastecimiento y distribu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La orientación hacia los result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8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La responsabilidad social de la empre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2T19:58:46Z</dcterms:created>
  <dc:creator>Hector Sambucetti</dc:creator>
  <dc:description/>
  <dc:language>en-US</dc:language>
  <cp:lastModifiedBy>Dr. Marcelo Artana</cp:lastModifiedBy>
  <cp:lastPrinted>2000-08-01T12:41:14Z</cp:lastPrinted>
  <dcterms:modified xsi:type="dcterms:W3CDTF">2003-04-21T15:43:18Z</dcterms:modified>
  <cp:revision>294</cp:revision>
  <dc:subject>PNC</dc:subject>
  <dc:title>Presentación a Impripost</dc:title>
</cp:coreProperties>
</file>