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11120" y="66600"/>
            <a:ext cx="8323560" cy="6677280"/>
          </a:xfrm>
          <a:prstGeom prst="rect">
            <a:avLst/>
          </a:prstGeom>
          <a:solidFill>
            <a:srgbClr val="cce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19240" y="66600"/>
            <a:ext cx="1096920" cy="6677280"/>
          </a:xfrm>
          <a:prstGeom prst="rect">
            <a:avLst/>
          </a:prstGeom>
          <a:solidFill>
            <a:srgbClr val="99c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9240" y="66600"/>
            <a:ext cx="1096920" cy="890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9240" y="66600"/>
            <a:ext cx="1091880" cy="890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38320" y="37152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4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25720" y="36036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c2d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8839080" cy="6019920"/>
          </a:xfrm>
          <a:prstGeom prst="rect">
            <a:avLst/>
          </a:prstGeom>
          <a:gradFill rotWithShape="0">
            <a:gsLst>
              <a:gs pos="0">
                <a:srgbClr val="cce1eb"/>
              </a:gs>
              <a:gs pos="50000">
                <a:srgbClr val="ffffff"/>
              </a:gs>
              <a:gs pos="100000">
                <a:srgbClr val="cce1e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4442400" y="1546560"/>
            <a:ext cx="1096920" cy="9982080"/>
          </a:xfrm>
          <a:prstGeom prst="rect">
            <a:avLst/>
          </a:prstGeom>
          <a:gradFill rotWithShape="0">
            <a:gsLst>
              <a:gs pos="0">
                <a:srgbClr val="99c2d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809200" y="0"/>
            <a:ext cx="1325520" cy="7086600"/>
          </a:xfrm>
          <a:prstGeom prst="rect">
            <a:avLst/>
          </a:prstGeom>
          <a:gradFill rotWithShape="0">
            <a:gsLst>
              <a:gs pos="0">
                <a:srgbClr val="99c2d6"/>
              </a:gs>
              <a:gs pos="50000">
                <a:srgbClr val="ffffff"/>
              </a:gs>
              <a:gs pos="100000">
                <a:srgbClr val="99c2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59092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ORGANISMO ARGENTINO </a:t>
            </a:r>
            <a:br>
              <a:rPr sz="4400"/>
            </a:b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DE ACREDI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315280" y="6248520"/>
          <a:ext cx="55584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5280" y="6248520"/>
                    <a:ext cx="5558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7658280" y="6248520"/>
            <a:ext cx="720720" cy="531720"/>
            <a:chOff x="7658280" y="6248520"/>
            <a:chExt cx="720720" cy="531720"/>
          </a:xfrm>
        </p:grpSpPr>
        <p:graphicFrame>
          <p:nvGraphicFramePr>
            <p:cNvPr id="51" name=""/>
            <p:cNvGraphicFramePr/>
            <p:nvPr/>
          </p:nvGraphicFramePr>
          <p:xfrm>
            <a:off x="7658280" y="6248520"/>
            <a:ext cx="534960" cy="53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58280" y="6248520"/>
                      <a:ext cx="534960" cy="5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" name=""/>
            <p:cNvGraphicFramePr/>
            <p:nvPr/>
          </p:nvGraphicFramePr>
          <p:xfrm>
            <a:off x="8251920" y="6470640"/>
            <a:ext cx="127080" cy="123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51920" y="6470640"/>
                      <a:ext cx="127080" cy="12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" name=""/>
          <p:cNvGrpSpPr/>
          <p:nvPr/>
        </p:nvGrpSpPr>
        <p:grpSpPr>
          <a:xfrm>
            <a:off x="8871120" y="6253200"/>
            <a:ext cx="653400" cy="520560"/>
            <a:chOff x="8871120" y="6253200"/>
            <a:chExt cx="653400" cy="520560"/>
          </a:xfrm>
        </p:grpSpPr>
        <p:graphicFrame>
          <p:nvGraphicFramePr>
            <p:cNvPr id="56" name=""/>
            <p:cNvGraphicFramePr/>
            <p:nvPr/>
          </p:nvGraphicFramePr>
          <p:xfrm>
            <a:off x="8969040" y="6253200"/>
            <a:ext cx="555480" cy="520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969040" y="6253200"/>
                      <a:ext cx="55548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8871120" y="6467400"/>
            <a:ext cx="126720" cy="12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871120" y="6467400"/>
                      <a:ext cx="126720" cy="12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57560" y="360360"/>
            <a:ext cx="604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c2d6"/>
                </a:solidFill>
                <a:latin typeface="Times New Roman"/>
              </a:rPr>
              <a:t>OA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23880" y="320760"/>
            <a:ext cx="8077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6699"/>
                </a:solidFill>
                <a:latin typeface="Arial"/>
              </a:rPr>
              <a:t>Certificaciones ISO 9000 y 14000 en el Mun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650960" y="1227240"/>
          <a:ext cx="7569360" cy="5016240"/>
        </p:xfrm>
        <a:graphic>
          <a:graphicData uri="http://schemas.openxmlformats.org/drawingml/2006/table">
            <a:tbl>
              <a:tblPr/>
              <a:tblGrid>
                <a:gridCol w="1514520"/>
                <a:gridCol w="1512720"/>
                <a:gridCol w="1514520"/>
                <a:gridCol w="1513080"/>
                <a:gridCol w="15145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O 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O 14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nt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i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nt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i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.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2.7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4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3.4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1.9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8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3.6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8.6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.8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0.6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.7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57560" y="380880"/>
            <a:ext cx="604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c2d6"/>
                </a:solidFill>
                <a:latin typeface="Times New Roman"/>
              </a:rPr>
              <a:t>OA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23880" y="320760"/>
            <a:ext cx="8077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6699"/>
                </a:solidFill>
                <a:latin typeface="Arial"/>
              </a:rPr>
              <a:t>Visión de los Clien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447920" y="1752480"/>
          <a:ext cx="7975440" cy="43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7975440" cy="4311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57560" y="380880"/>
            <a:ext cx="604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c2d6"/>
                </a:solidFill>
                <a:latin typeface="Times New Roman"/>
              </a:rPr>
              <a:t>OA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447920" y="1447920"/>
          <a:ext cx="8931240" cy="494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893124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1523880" y="32076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6699"/>
                </a:solidFill>
                <a:latin typeface="Arial"/>
              </a:rPr>
              <a:t>Visión simplificada de la Calid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(con ejemplos de una Empres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523880" y="3885840"/>
            <a:ext cx="6934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v. Julio A. Roca 65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5º Piso - Sectores 8 y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pital Federal (106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uenos Aires – 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leFax: (54 11) 4349-39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reo electrónico: </a:t>
            </a:r>
            <a:r>
              <a:rPr b="1" lang="es-MX" sz="1800" spc="-1" strike="noStrike">
                <a:solidFill>
                  <a:srgbClr val="006699"/>
                </a:solidFill>
                <a:latin typeface="Arial"/>
              </a:rPr>
              <a:t>info@oaa.org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ágina web: </a:t>
            </a:r>
            <a:r>
              <a:rPr b="1" lang="es-MX" sz="1800" spc="-1" strike="noStrike" u="sng">
                <a:solidFill>
                  <a:srgbClr val="006699"/>
                </a:solidFill>
                <a:uFillTx/>
                <a:latin typeface="Arial"/>
              </a:rPr>
              <a:t>http://www.oaa.org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560" y="360360"/>
            <a:ext cx="604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c2d6"/>
                </a:solidFill>
                <a:latin typeface="Times New Roman"/>
              </a:rPr>
              <a:t>OA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39600" y="2238480"/>
            <a:ext cx="4502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ORGANISMO ARGENTINO 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DE ACREDIT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00280" y="938160"/>
            <a:ext cx="876276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u creación por el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creto Nº 1474/94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tiene por objetivo ofrecer las herramientas y crear los organismos que conformen la infraestructura de la cal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ermite a las empresas contar con instrumentos confiables para certificar sus sistemas de calidad, productos, servicios y procesos a través de un mecanismo que cuenta con los organismos de normalización, acreditación, certificación, laboratorios y personal, operando de conformidad con las normas internacionales vig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560" y="360360"/>
            <a:ext cx="604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c2d6"/>
                </a:solidFill>
                <a:latin typeface="Times New Roman"/>
              </a:rPr>
              <a:t>OA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207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Arial"/>
              </a:rPr>
              <a:t>Sistema Nacional de Normas, Calidad y Cert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254240" y="4548240"/>
            <a:ext cx="8319960" cy="1999800"/>
            <a:chOff x="1254240" y="4548240"/>
            <a:chExt cx="8319960" cy="1999800"/>
          </a:xfrm>
        </p:grpSpPr>
        <p:sp>
          <p:nvSpPr>
            <p:cNvPr id="64" name=""/>
            <p:cNvSpPr/>
            <p:nvPr/>
          </p:nvSpPr>
          <p:spPr>
            <a:xfrm>
              <a:off x="4829040" y="4548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114280" y="5157360"/>
              <a:ext cx="6019920" cy="417960"/>
              <a:chOff x="2114280" y="5157360"/>
              <a:chExt cx="6019920" cy="41796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2124000" y="5157360"/>
                <a:ext cx="6010200" cy="417960"/>
                <a:chOff x="2124000" y="5157360"/>
                <a:chExt cx="6010200" cy="417960"/>
              </a:xfrm>
            </p:grpSpPr>
            <p:sp>
              <p:nvSpPr>
                <p:cNvPr id="67" name=""/>
                <p:cNvSpPr/>
                <p:nvPr/>
              </p:nvSpPr>
              <p:spPr>
                <a:xfrm flipV="1">
                  <a:off x="2124000" y="5157360"/>
                  <a:ext cx="0" cy="41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V="1">
                  <a:off x="4048200" y="5157360"/>
                  <a:ext cx="0" cy="41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6105600" y="5157360"/>
                  <a:ext cx="0" cy="41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V="1">
                  <a:off x="8134200" y="5157360"/>
                  <a:ext cx="0" cy="41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 flipH="1">
                <a:off x="2114280" y="5157720"/>
                <a:ext cx="601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1254240" y="5556240"/>
              <a:ext cx="7767360" cy="938880"/>
              <a:chOff x="1254240" y="5556240"/>
              <a:chExt cx="7767360" cy="9388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3168720" y="5556240"/>
                <a:ext cx="1751040" cy="934920"/>
                <a:chOff x="3168720" y="5556240"/>
                <a:chExt cx="1751040" cy="934920"/>
              </a:xfrm>
            </p:grpSpPr>
            <p:grpSp>
              <p:nvGrpSpPr>
                <p:cNvPr id="74" name=""/>
                <p:cNvGrpSpPr/>
                <p:nvPr/>
              </p:nvGrpSpPr>
              <p:grpSpPr>
                <a:xfrm>
                  <a:off x="3168720" y="5556240"/>
                  <a:ext cx="1751040" cy="819000"/>
                  <a:chOff x="3168720" y="5556240"/>
                  <a:chExt cx="1751040" cy="819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3168720" y="5556240"/>
                    <a:ext cx="1724040" cy="79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6" h="501">
                        <a:moveTo>
                          <a:pt x="76" y="0"/>
                        </a:moveTo>
                        <a:lnTo>
                          <a:pt x="60" y="2"/>
                        </a:lnTo>
                        <a:lnTo>
                          <a:pt x="45" y="6"/>
                        </a:lnTo>
                        <a:lnTo>
                          <a:pt x="33" y="14"/>
                        </a:lnTo>
                        <a:lnTo>
                          <a:pt x="22" y="24"/>
                        </a:lnTo>
                        <a:lnTo>
                          <a:pt x="13" y="38"/>
                        </a:lnTo>
                        <a:lnTo>
                          <a:pt x="5" y="51"/>
                        </a:lnTo>
                        <a:lnTo>
                          <a:pt x="0" y="67"/>
                        </a:lnTo>
                        <a:lnTo>
                          <a:pt x="0" y="83"/>
                        </a:lnTo>
                        <a:lnTo>
                          <a:pt x="0" y="416"/>
                        </a:lnTo>
                        <a:lnTo>
                          <a:pt x="0" y="434"/>
                        </a:lnTo>
                        <a:lnTo>
                          <a:pt x="5" y="449"/>
                        </a:lnTo>
                        <a:lnTo>
                          <a:pt x="13" y="463"/>
                        </a:lnTo>
                        <a:lnTo>
                          <a:pt x="22" y="477"/>
                        </a:lnTo>
                        <a:lnTo>
                          <a:pt x="33" y="487"/>
                        </a:lnTo>
                        <a:lnTo>
                          <a:pt x="45" y="495"/>
                        </a:lnTo>
                        <a:lnTo>
                          <a:pt x="60" y="499"/>
                        </a:lnTo>
                        <a:lnTo>
                          <a:pt x="76" y="501"/>
                        </a:lnTo>
                        <a:lnTo>
                          <a:pt x="1010" y="501"/>
                        </a:lnTo>
                        <a:lnTo>
                          <a:pt x="1025" y="499"/>
                        </a:lnTo>
                        <a:lnTo>
                          <a:pt x="1039" y="495"/>
                        </a:lnTo>
                        <a:lnTo>
                          <a:pt x="1052" y="487"/>
                        </a:lnTo>
                        <a:lnTo>
                          <a:pt x="1065" y="477"/>
                        </a:lnTo>
                        <a:lnTo>
                          <a:pt x="1074" y="463"/>
                        </a:lnTo>
                        <a:lnTo>
                          <a:pt x="1081" y="449"/>
                        </a:lnTo>
                        <a:lnTo>
                          <a:pt x="1085" y="434"/>
                        </a:lnTo>
                        <a:lnTo>
                          <a:pt x="1086" y="416"/>
                        </a:lnTo>
                        <a:lnTo>
                          <a:pt x="1086" y="83"/>
                        </a:lnTo>
                        <a:lnTo>
                          <a:pt x="1085" y="67"/>
                        </a:lnTo>
                        <a:lnTo>
                          <a:pt x="1081" y="51"/>
                        </a:lnTo>
                        <a:lnTo>
                          <a:pt x="1074" y="38"/>
                        </a:lnTo>
                        <a:lnTo>
                          <a:pt x="1065" y="24"/>
                        </a:lnTo>
                        <a:lnTo>
                          <a:pt x="1052" y="14"/>
                        </a:lnTo>
                        <a:lnTo>
                          <a:pt x="1039" y="6"/>
                        </a:lnTo>
                        <a:lnTo>
                          <a:pt x="1025" y="2"/>
                        </a:lnTo>
                        <a:lnTo>
                          <a:pt x="1010" y="0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3190680" y="5581800"/>
                    <a:ext cx="1729080" cy="79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500">
                        <a:moveTo>
                          <a:pt x="78" y="0"/>
                        </a:moveTo>
                        <a:lnTo>
                          <a:pt x="62" y="2"/>
                        </a:lnTo>
                        <a:lnTo>
                          <a:pt x="48" y="6"/>
                        </a:lnTo>
                        <a:lnTo>
                          <a:pt x="33" y="14"/>
                        </a:lnTo>
                        <a:lnTo>
                          <a:pt x="22" y="26"/>
                        </a:lnTo>
                        <a:lnTo>
                          <a:pt x="13" y="37"/>
                        </a:lnTo>
                        <a:lnTo>
                          <a:pt x="6" y="51"/>
                        </a:lnTo>
                        <a:lnTo>
                          <a:pt x="0" y="67"/>
                        </a:lnTo>
                        <a:lnTo>
                          <a:pt x="0" y="85"/>
                        </a:lnTo>
                        <a:lnTo>
                          <a:pt x="0" y="418"/>
                        </a:lnTo>
                        <a:lnTo>
                          <a:pt x="0" y="433"/>
                        </a:lnTo>
                        <a:lnTo>
                          <a:pt x="6" y="449"/>
                        </a:lnTo>
                        <a:lnTo>
                          <a:pt x="13" y="463"/>
                        </a:lnTo>
                        <a:lnTo>
                          <a:pt x="22" y="477"/>
                        </a:lnTo>
                        <a:lnTo>
                          <a:pt x="33" y="487"/>
                        </a:lnTo>
                        <a:lnTo>
                          <a:pt x="48" y="494"/>
                        </a:lnTo>
                        <a:lnTo>
                          <a:pt x="62" y="498"/>
                        </a:lnTo>
                        <a:lnTo>
                          <a:pt x="78" y="500"/>
                        </a:lnTo>
                        <a:lnTo>
                          <a:pt x="1011" y="500"/>
                        </a:lnTo>
                        <a:lnTo>
                          <a:pt x="1027" y="498"/>
                        </a:lnTo>
                        <a:lnTo>
                          <a:pt x="1042" y="494"/>
                        </a:lnTo>
                        <a:lnTo>
                          <a:pt x="1054" y="487"/>
                        </a:lnTo>
                        <a:lnTo>
                          <a:pt x="1067" y="477"/>
                        </a:lnTo>
                        <a:lnTo>
                          <a:pt x="1076" y="463"/>
                        </a:lnTo>
                        <a:lnTo>
                          <a:pt x="1083" y="449"/>
                        </a:lnTo>
                        <a:lnTo>
                          <a:pt x="1087" y="433"/>
                        </a:lnTo>
                        <a:lnTo>
                          <a:pt x="1089" y="418"/>
                        </a:lnTo>
                        <a:lnTo>
                          <a:pt x="1089" y="85"/>
                        </a:lnTo>
                        <a:lnTo>
                          <a:pt x="1087" y="67"/>
                        </a:lnTo>
                        <a:lnTo>
                          <a:pt x="1083" y="51"/>
                        </a:lnTo>
                        <a:lnTo>
                          <a:pt x="1076" y="37"/>
                        </a:lnTo>
                        <a:lnTo>
                          <a:pt x="1067" y="26"/>
                        </a:lnTo>
                        <a:lnTo>
                          <a:pt x="1054" y="14"/>
                        </a:lnTo>
                        <a:lnTo>
                          <a:pt x="1042" y="6"/>
                        </a:lnTo>
                        <a:lnTo>
                          <a:pt x="1027" y="2"/>
                        </a:lnTo>
                        <a:lnTo>
                          <a:pt x="1011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3179520" y="5568840"/>
                    <a:ext cx="1725840" cy="79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7" h="500">
                        <a:moveTo>
                          <a:pt x="78" y="0"/>
                        </a:moveTo>
                        <a:lnTo>
                          <a:pt x="62" y="2"/>
                        </a:lnTo>
                        <a:lnTo>
                          <a:pt x="47" y="6"/>
                        </a:lnTo>
                        <a:lnTo>
                          <a:pt x="33" y="14"/>
                        </a:lnTo>
                        <a:lnTo>
                          <a:pt x="22" y="26"/>
                        </a:lnTo>
                        <a:lnTo>
                          <a:pt x="13" y="38"/>
                        </a:lnTo>
                        <a:lnTo>
                          <a:pt x="6" y="51"/>
                        </a:lnTo>
                        <a:lnTo>
                          <a:pt x="0" y="67"/>
                        </a:lnTo>
                        <a:lnTo>
                          <a:pt x="0" y="85"/>
                        </a:lnTo>
                        <a:lnTo>
                          <a:pt x="0" y="418"/>
                        </a:lnTo>
                        <a:lnTo>
                          <a:pt x="0" y="433"/>
                        </a:lnTo>
                        <a:lnTo>
                          <a:pt x="6" y="449"/>
                        </a:lnTo>
                        <a:lnTo>
                          <a:pt x="13" y="463"/>
                        </a:lnTo>
                        <a:lnTo>
                          <a:pt x="22" y="477"/>
                        </a:lnTo>
                        <a:lnTo>
                          <a:pt x="33" y="487"/>
                        </a:lnTo>
                        <a:lnTo>
                          <a:pt x="47" y="495"/>
                        </a:lnTo>
                        <a:lnTo>
                          <a:pt x="62" y="498"/>
                        </a:lnTo>
                        <a:lnTo>
                          <a:pt x="78" y="500"/>
                        </a:lnTo>
                        <a:lnTo>
                          <a:pt x="1011" y="500"/>
                        </a:lnTo>
                        <a:lnTo>
                          <a:pt x="1027" y="498"/>
                        </a:lnTo>
                        <a:lnTo>
                          <a:pt x="1041" y="495"/>
                        </a:lnTo>
                        <a:lnTo>
                          <a:pt x="1054" y="487"/>
                        </a:lnTo>
                        <a:lnTo>
                          <a:pt x="1065" y="477"/>
                        </a:lnTo>
                        <a:lnTo>
                          <a:pt x="1074" y="463"/>
                        </a:lnTo>
                        <a:lnTo>
                          <a:pt x="1081" y="449"/>
                        </a:lnTo>
                        <a:lnTo>
                          <a:pt x="1085" y="433"/>
                        </a:lnTo>
                        <a:lnTo>
                          <a:pt x="1087" y="418"/>
                        </a:lnTo>
                        <a:lnTo>
                          <a:pt x="1087" y="85"/>
                        </a:lnTo>
                        <a:lnTo>
                          <a:pt x="1085" y="67"/>
                        </a:lnTo>
                        <a:lnTo>
                          <a:pt x="1081" y="51"/>
                        </a:lnTo>
                        <a:lnTo>
                          <a:pt x="1074" y="38"/>
                        </a:lnTo>
                        <a:lnTo>
                          <a:pt x="1065" y="26"/>
                        </a:lnTo>
                        <a:lnTo>
                          <a:pt x="1054" y="14"/>
                        </a:lnTo>
                        <a:lnTo>
                          <a:pt x="1041" y="6"/>
                        </a:lnTo>
                        <a:lnTo>
                          <a:pt x="1027" y="2"/>
                        </a:lnTo>
                        <a:lnTo>
                          <a:pt x="1011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>
                  <a:off x="3763800" y="557532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375000" y="57564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427200" y="593568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363840" y="612612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238720" y="5556240"/>
                <a:ext cx="1751040" cy="934920"/>
                <a:chOff x="5238720" y="5556240"/>
                <a:chExt cx="1751040" cy="93492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5238720" y="5556240"/>
                  <a:ext cx="1751040" cy="819000"/>
                  <a:chOff x="5238720" y="5556240"/>
                  <a:chExt cx="1751040" cy="8190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5238720" y="5556240"/>
                    <a:ext cx="1724040" cy="79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6" h="501">
                        <a:moveTo>
                          <a:pt x="76" y="0"/>
                        </a:moveTo>
                        <a:lnTo>
                          <a:pt x="60" y="2"/>
                        </a:lnTo>
                        <a:lnTo>
                          <a:pt x="45" y="6"/>
                        </a:lnTo>
                        <a:lnTo>
                          <a:pt x="33" y="14"/>
                        </a:lnTo>
                        <a:lnTo>
                          <a:pt x="22" y="24"/>
                        </a:lnTo>
                        <a:lnTo>
                          <a:pt x="13" y="38"/>
                        </a:lnTo>
                        <a:lnTo>
                          <a:pt x="5" y="51"/>
                        </a:lnTo>
                        <a:lnTo>
                          <a:pt x="0" y="67"/>
                        </a:lnTo>
                        <a:lnTo>
                          <a:pt x="0" y="83"/>
                        </a:lnTo>
                        <a:lnTo>
                          <a:pt x="0" y="416"/>
                        </a:lnTo>
                        <a:lnTo>
                          <a:pt x="0" y="434"/>
                        </a:lnTo>
                        <a:lnTo>
                          <a:pt x="5" y="449"/>
                        </a:lnTo>
                        <a:lnTo>
                          <a:pt x="13" y="463"/>
                        </a:lnTo>
                        <a:lnTo>
                          <a:pt x="22" y="477"/>
                        </a:lnTo>
                        <a:lnTo>
                          <a:pt x="33" y="487"/>
                        </a:lnTo>
                        <a:lnTo>
                          <a:pt x="45" y="495"/>
                        </a:lnTo>
                        <a:lnTo>
                          <a:pt x="60" y="499"/>
                        </a:lnTo>
                        <a:lnTo>
                          <a:pt x="76" y="501"/>
                        </a:lnTo>
                        <a:lnTo>
                          <a:pt x="1010" y="501"/>
                        </a:lnTo>
                        <a:lnTo>
                          <a:pt x="1025" y="499"/>
                        </a:lnTo>
                        <a:lnTo>
                          <a:pt x="1039" y="495"/>
                        </a:lnTo>
                        <a:lnTo>
                          <a:pt x="1052" y="487"/>
                        </a:lnTo>
                        <a:lnTo>
                          <a:pt x="1065" y="477"/>
                        </a:lnTo>
                        <a:lnTo>
                          <a:pt x="1074" y="463"/>
                        </a:lnTo>
                        <a:lnTo>
                          <a:pt x="1081" y="449"/>
                        </a:lnTo>
                        <a:lnTo>
                          <a:pt x="1085" y="434"/>
                        </a:lnTo>
                        <a:lnTo>
                          <a:pt x="1086" y="416"/>
                        </a:lnTo>
                        <a:lnTo>
                          <a:pt x="1086" y="83"/>
                        </a:lnTo>
                        <a:lnTo>
                          <a:pt x="1085" y="67"/>
                        </a:lnTo>
                        <a:lnTo>
                          <a:pt x="1081" y="51"/>
                        </a:lnTo>
                        <a:lnTo>
                          <a:pt x="1074" y="38"/>
                        </a:lnTo>
                        <a:lnTo>
                          <a:pt x="1065" y="24"/>
                        </a:lnTo>
                        <a:lnTo>
                          <a:pt x="1052" y="14"/>
                        </a:lnTo>
                        <a:lnTo>
                          <a:pt x="1039" y="6"/>
                        </a:lnTo>
                        <a:lnTo>
                          <a:pt x="1025" y="2"/>
                        </a:lnTo>
                        <a:lnTo>
                          <a:pt x="1010" y="0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5260680" y="5581800"/>
                    <a:ext cx="1729080" cy="79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500">
                        <a:moveTo>
                          <a:pt x="78" y="0"/>
                        </a:moveTo>
                        <a:lnTo>
                          <a:pt x="62" y="2"/>
                        </a:lnTo>
                        <a:lnTo>
                          <a:pt x="48" y="6"/>
                        </a:lnTo>
                        <a:lnTo>
                          <a:pt x="33" y="14"/>
                        </a:lnTo>
                        <a:lnTo>
                          <a:pt x="22" y="26"/>
                        </a:lnTo>
                        <a:lnTo>
                          <a:pt x="13" y="37"/>
                        </a:lnTo>
                        <a:lnTo>
                          <a:pt x="6" y="51"/>
                        </a:lnTo>
                        <a:lnTo>
                          <a:pt x="0" y="67"/>
                        </a:lnTo>
                        <a:lnTo>
                          <a:pt x="0" y="85"/>
                        </a:lnTo>
                        <a:lnTo>
                          <a:pt x="0" y="418"/>
                        </a:lnTo>
                        <a:lnTo>
                          <a:pt x="0" y="433"/>
                        </a:lnTo>
                        <a:lnTo>
                          <a:pt x="6" y="449"/>
                        </a:lnTo>
                        <a:lnTo>
                          <a:pt x="13" y="463"/>
                        </a:lnTo>
                        <a:lnTo>
                          <a:pt x="22" y="477"/>
                        </a:lnTo>
                        <a:lnTo>
                          <a:pt x="33" y="487"/>
                        </a:lnTo>
                        <a:lnTo>
                          <a:pt x="48" y="494"/>
                        </a:lnTo>
                        <a:lnTo>
                          <a:pt x="62" y="498"/>
                        </a:lnTo>
                        <a:lnTo>
                          <a:pt x="78" y="500"/>
                        </a:lnTo>
                        <a:lnTo>
                          <a:pt x="1011" y="500"/>
                        </a:lnTo>
                        <a:lnTo>
                          <a:pt x="1027" y="498"/>
                        </a:lnTo>
                        <a:lnTo>
                          <a:pt x="1042" y="494"/>
                        </a:lnTo>
                        <a:lnTo>
                          <a:pt x="1054" y="487"/>
                        </a:lnTo>
                        <a:lnTo>
                          <a:pt x="1067" y="477"/>
                        </a:lnTo>
                        <a:lnTo>
                          <a:pt x="1076" y="463"/>
                        </a:lnTo>
                        <a:lnTo>
                          <a:pt x="1083" y="449"/>
                        </a:lnTo>
                        <a:lnTo>
                          <a:pt x="1087" y="433"/>
                        </a:lnTo>
                        <a:lnTo>
                          <a:pt x="1089" y="418"/>
                        </a:lnTo>
                        <a:lnTo>
                          <a:pt x="1089" y="85"/>
                        </a:lnTo>
                        <a:lnTo>
                          <a:pt x="1087" y="67"/>
                        </a:lnTo>
                        <a:lnTo>
                          <a:pt x="1083" y="51"/>
                        </a:lnTo>
                        <a:lnTo>
                          <a:pt x="1076" y="37"/>
                        </a:lnTo>
                        <a:lnTo>
                          <a:pt x="1067" y="26"/>
                        </a:lnTo>
                        <a:lnTo>
                          <a:pt x="1054" y="14"/>
                        </a:lnTo>
                        <a:lnTo>
                          <a:pt x="1042" y="6"/>
                        </a:lnTo>
                        <a:lnTo>
                          <a:pt x="1027" y="2"/>
                        </a:lnTo>
                        <a:lnTo>
                          <a:pt x="1011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5249520" y="5568840"/>
                    <a:ext cx="1725840" cy="79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7" h="500">
                        <a:moveTo>
                          <a:pt x="78" y="0"/>
                        </a:moveTo>
                        <a:lnTo>
                          <a:pt x="62" y="2"/>
                        </a:lnTo>
                        <a:lnTo>
                          <a:pt x="47" y="6"/>
                        </a:lnTo>
                        <a:lnTo>
                          <a:pt x="33" y="14"/>
                        </a:lnTo>
                        <a:lnTo>
                          <a:pt x="22" y="26"/>
                        </a:lnTo>
                        <a:lnTo>
                          <a:pt x="13" y="38"/>
                        </a:lnTo>
                        <a:lnTo>
                          <a:pt x="6" y="51"/>
                        </a:lnTo>
                        <a:lnTo>
                          <a:pt x="0" y="67"/>
                        </a:lnTo>
                        <a:lnTo>
                          <a:pt x="0" y="85"/>
                        </a:lnTo>
                        <a:lnTo>
                          <a:pt x="0" y="418"/>
                        </a:lnTo>
                        <a:lnTo>
                          <a:pt x="0" y="433"/>
                        </a:lnTo>
                        <a:lnTo>
                          <a:pt x="6" y="449"/>
                        </a:lnTo>
                        <a:lnTo>
                          <a:pt x="13" y="463"/>
                        </a:lnTo>
                        <a:lnTo>
                          <a:pt x="22" y="477"/>
                        </a:lnTo>
                        <a:lnTo>
                          <a:pt x="33" y="487"/>
                        </a:lnTo>
                        <a:lnTo>
                          <a:pt x="47" y="495"/>
                        </a:lnTo>
                        <a:lnTo>
                          <a:pt x="62" y="498"/>
                        </a:lnTo>
                        <a:lnTo>
                          <a:pt x="78" y="500"/>
                        </a:lnTo>
                        <a:lnTo>
                          <a:pt x="1011" y="500"/>
                        </a:lnTo>
                        <a:lnTo>
                          <a:pt x="1027" y="498"/>
                        </a:lnTo>
                        <a:lnTo>
                          <a:pt x="1041" y="495"/>
                        </a:lnTo>
                        <a:lnTo>
                          <a:pt x="1054" y="487"/>
                        </a:lnTo>
                        <a:lnTo>
                          <a:pt x="1065" y="477"/>
                        </a:lnTo>
                        <a:lnTo>
                          <a:pt x="1074" y="463"/>
                        </a:lnTo>
                        <a:lnTo>
                          <a:pt x="1081" y="449"/>
                        </a:lnTo>
                        <a:lnTo>
                          <a:pt x="1085" y="433"/>
                        </a:lnTo>
                        <a:lnTo>
                          <a:pt x="1087" y="418"/>
                        </a:lnTo>
                        <a:lnTo>
                          <a:pt x="1087" y="85"/>
                        </a:lnTo>
                        <a:lnTo>
                          <a:pt x="1085" y="67"/>
                        </a:lnTo>
                        <a:lnTo>
                          <a:pt x="1081" y="51"/>
                        </a:lnTo>
                        <a:lnTo>
                          <a:pt x="1074" y="38"/>
                        </a:lnTo>
                        <a:lnTo>
                          <a:pt x="1065" y="26"/>
                        </a:lnTo>
                        <a:lnTo>
                          <a:pt x="1054" y="14"/>
                        </a:lnTo>
                        <a:lnTo>
                          <a:pt x="1041" y="6"/>
                        </a:lnTo>
                        <a:lnTo>
                          <a:pt x="1027" y="2"/>
                        </a:lnTo>
                        <a:lnTo>
                          <a:pt x="1011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5833800" y="557532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445000" y="57564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497200" y="593568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433840" y="612612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7270560" y="5556240"/>
                <a:ext cx="1751040" cy="934920"/>
                <a:chOff x="7270560" y="5556240"/>
                <a:chExt cx="1751040" cy="934920"/>
              </a:xfrm>
            </p:grpSpPr>
            <p:grpSp>
              <p:nvGrpSpPr>
                <p:cNvPr id="92" name=""/>
                <p:cNvGrpSpPr/>
                <p:nvPr/>
              </p:nvGrpSpPr>
              <p:grpSpPr>
                <a:xfrm>
                  <a:off x="7270560" y="5556240"/>
                  <a:ext cx="1751040" cy="819000"/>
                  <a:chOff x="7270560" y="5556240"/>
                  <a:chExt cx="1751040" cy="8190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7270560" y="5556240"/>
                    <a:ext cx="1724040" cy="79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6" h="501">
                        <a:moveTo>
                          <a:pt x="76" y="0"/>
                        </a:moveTo>
                        <a:lnTo>
                          <a:pt x="60" y="2"/>
                        </a:lnTo>
                        <a:lnTo>
                          <a:pt x="45" y="6"/>
                        </a:lnTo>
                        <a:lnTo>
                          <a:pt x="33" y="14"/>
                        </a:lnTo>
                        <a:lnTo>
                          <a:pt x="22" y="24"/>
                        </a:lnTo>
                        <a:lnTo>
                          <a:pt x="13" y="38"/>
                        </a:lnTo>
                        <a:lnTo>
                          <a:pt x="5" y="51"/>
                        </a:lnTo>
                        <a:lnTo>
                          <a:pt x="0" y="67"/>
                        </a:lnTo>
                        <a:lnTo>
                          <a:pt x="0" y="83"/>
                        </a:lnTo>
                        <a:lnTo>
                          <a:pt x="0" y="416"/>
                        </a:lnTo>
                        <a:lnTo>
                          <a:pt x="0" y="434"/>
                        </a:lnTo>
                        <a:lnTo>
                          <a:pt x="5" y="449"/>
                        </a:lnTo>
                        <a:lnTo>
                          <a:pt x="13" y="463"/>
                        </a:lnTo>
                        <a:lnTo>
                          <a:pt x="22" y="477"/>
                        </a:lnTo>
                        <a:lnTo>
                          <a:pt x="33" y="487"/>
                        </a:lnTo>
                        <a:lnTo>
                          <a:pt x="45" y="495"/>
                        </a:lnTo>
                        <a:lnTo>
                          <a:pt x="60" y="499"/>
                        </a:lnTo>
                        <a:lnTo>
                          <a:pt x="76" y="501"/>
                        </a:lnTo>
                        <a:lnTo>
                          <a:pt x="1010" y="501"/>
                        </a:lnTo>
                        <a:lnTo>
                          <a:pt x="1025" y="499"/>
                        </a:lnTo>
                        <a:lnTo>
                          <a:pt x="1039" y="495"/>
                        </a:lnTo>
                        <a:lnTo>
                          <a:pt x="1052" y="487"/>
                        </a:lnTo>
                        <a:lnTo>
                          <a:pt x="1065" y="477"/>
                        </a:lnTo>
                        <a:lnTo>
                          <a:pt x="1074" y="463"/>
                        </a:lnTo>
                        <a:lnTo>
                          <a:pt x="1081" y="449"/>
                        </a:lnTo>
                        <a:lnTo>
                          <a:pt x="1085" y="434"/>
                        </a:lnTo>
                        <a:lnTo>
                          <a:pt x="1086" y="416"/>
                        </a:lnTo>
                        <a:lnTo>
                          <a:pt x="1086" y="83"/>
                        </a:lnTo>
                        <a:lnTo>
                          <a:pt x="1085" y="67"/>
                        </a:lnTo>
                        <a:lnTo>
                          <a:pt x="1081" y="51"/>
                        </a:lnTo>
                        <a:lnTo>
                          <a:pt x="1074" y="38"/>
                        </a:lnTo>
                        <a:lnTo>
                          <a:pt x="1065" y="24"/>
                        </a:lnTo>
                        <a:lnTo>
                          <a:pt x="1052" y="14"/>
                        </a:lnTo>
                        <a:lnTo>
                          <a:pt x="1039" y="6"/>
                        </a:lnTo>
                        <a:lnTo>
                          <a:pt x="1025" y="2"/>
                        </a:lnTo>
                        <a:lnTo>
                          <a:pt x="1010" y="0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292520" y="5581800"/>
                    <a:ext cx="1729080" cy="79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500">
                        <a:moveTo>
                          <a:pt x="78" y="0"/>
                        </a:moveTo>
                        <a:lnTo>
                          <a:pt x="62" y="2"/>
                        </a:lnTo>
                        <a:lnTo>
                          <a:pt x="48" y="6"/>
                        </a:lnTo>
                        <a:lnTo>
                          <a:pt x="33" y="14"/>
                        </a:lnTo>
                        <a:lnTo>
                          <a:pt x="22" y="26"/>
                        </a:lnTo>
                        <a:lnTo>
                          <a:pt x="13" y="37"/>
                        </a:lnTo>
                        <a:lnTo>
                          <a:pt x="6" y="51"/>
                        </a:lnTo>
                        <a:lnTo>
                          <a:pt x="0" y="67"/>
                        </a:lnTo>
                        <a:lnTo>
                          <a:pt x="0" y="85"/>
                        </a:lnTo>
                        <a:lnTo>
                          <a:pt x="0" y="418"/>
                        </a:lnTo>
                        <a:lnTo>
                          <a:pt x="0" y="433"/>
                        </a:lnTo>
                        <a:lnTo>
                          <a:pt x="6" y="449"/>
                        </a:lnTo>
                        <a:lnTo>
                          <a:pt x="13" y="463"/>
                        </a:lnTo>
                        <a:lnTo>
                          <a:pt x="22" y="477"/>
                        </a:lnTo>
                        <a:lnTo>
                          <a:pt x="33" y="487"/>
                        </a:lnTo>
                        <a:lnTo>
                          <a:pt x="48" y="494"/>
                        </a:lnTo>
                        <a:lnTo>
                          <a:pt x="62" y="498"/>
                        </a:lnTo>
                        <a:lnTo>
                          <a:pt x="78" y="500"/>
                        </a:lnTo>
                        <a:lnTo>
                          <a:pt x="1011" y="500"/>
                        </a:lnTo>
                        <a:lnTo>
                          <a:pt x="1027" y="498"/>
                        </a:lnTo>
                        <a:lnTo>
                          <a:pt x="1042" y="494"/>
                        </a:lnTo>
                        <a:lnTo>
                          <a:pt x="1054" y="487"/>
                        </a:lnTo>
                        <a:lnTo>
                          <a:pt x="1067" y="477"/>
                        </a:lnTo>
                        <a:lnTo>
                          <a:pt x="1076" y="463"/>
                        </a:lnTo>
                        <a:lnTo>
                          <a:pt x="1083" y="449"/>
                        </a:lnTo>
                        <a:lnTo>
                          <a:pt x="1087" y="433"/>
                        </a:lnTo>
                        <a:lnTo>
                          <a:pt x="1089" y="418"/>
                        </a:lnTo>
                        <a:lnTo>
                          <a:pt x="1089" y="85"/>
                        </a:lnTo>
                        <a:lnTo>
                          <a:pt x="1087" y="67"/>
                        </a:lnTo>
                        <a:lnTo>
                          <a:pt x="1083" y="51"/>
                        </a:lnTo>
                        <a:lnTo>
                          <a:pt x="1076" y="37"/>
                        </a:lnTo>
                        <a:lnTo>
                          <a:pt x="1067" y="26"/>
                        </a:lnTo>
                        <a:lnTo>
                          <a:pt x="1054" y="14"/>
                        </a:lnTo>
                        <a:lnTo>
                          <a:pt x="1042" y="6"/>
                        </a:lnTo>
                        <a:lnTo>
                          <a:pt x="1027" y="2"/>
                        </a:lnTo>
                        <a:lnTo>
                          <a:pt x="1011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281360" y="5568840"/>
                    <a:ext cx="1725840" cy="79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7" h="500">
                        <a:moveTo>
                          <a:pt x="78" y="0"/>
                        </a:moveTo>
                        <a:lnTo>
                          <a:pt x="62" y="2"/>
                        </a:lnTo>
                        <a:lnTo>
                          <a:pt x="47" y="6"/>
                        </a:lnTo>
                        <a:lnTo>
                          <a:pt x="33" y="14"/>
                        </a:lnTo>
                        <a:lnTo>
                          <a:pt x="22" y="26"/>
                        </a:lnTo>
                        <a:lnTo>
                          <a:pt x="13" y="38"/>
                        </a:lnTo>
                        <a:lnTo>
                          <a:pt x="6" y="51"/>
                        </a:lnTo>
                        <a:lnTo>
                          <a:pt x="0" y="67"/>
                        </a:lnTo>
                        <a:lnTo>
                          <a:pt x="0" y="85"/>
                        </a:lnTo>
                        <a:lnTo>
                          <a:pt x="0" y="418"/>
                        </a:lnTo>
                        <a:lnTo>
                          <a:pt x="0" y="433"/>
                        </a:lnTo>
                        <a:lnTo>
                          <a:pt x="6" y="449"/>
                        </a:lnTo>
                        <a:lnTo>
                          <a:pt x="13" y="463"/>
                        </a:lnTo>
                        <a:lnTo>
                          <a:pt x="22" y="477"/>
                        </a:lnTo>
                        <a:lnTo>
                          <a:pt x="33" y="487"/>
                        </a:lnTo>
                        <a:lnTo>
                          <a:pt x="47" y="495"/>
                        </a:lnTo>
                        <a:lnTo>
                          <a:pt x="62" y="498"/>
                        </a:lnTo>
                        <a:lnTo>
                          <a:pt x="78" y="500"/>
                        </a:lnTo>
                        <a:lnTo>
                          <a:pt x="1011" y="500"/>
                        </a:lnTo>
                        <a:lnTo>
                          <a:pt x="1027" y="498"/>
                        </a:lnTo>
                        <a:lnTo>
                          <a:pt x="1041" y="495"/>
                        </a:lnTo>
                        <a:lnTo>
                          <a:pt x="1054" y="487"/>
                        </a:lnTo>
                        <a:lnTo>
                          <a:pt x="1065" y="477"/>
                        </a:lnTo>
                        <a:lnTo>
                          <a:pt x="1074" y="463"/>
                        </a:lnTo>
                        <a:lnTo>
                          <a:pt x="1081" y="449"/>
                        </a:lnTo>
                        <a:lnTo>
                          <a:pt x="1085" y="433"/>
                        </a:lnTo>
                        <a:lnTo>
                          <a:pt x="1087" y="418"/>
                        </a:lnTo>
                        <a:lnTo>
                          <a:pt x="1087" y="85"/>
                        </a:lnTo>
                        <a:lnTo>
                          <a:pt x="1085" y="67"/>
                        </a:lnTo>
                        <a:lnTo>
                          <a:pt x="1081" y="51"/>
                        </a:lnTo>
                        <a:lnTo>
                          <a:pt x="1074" y="38"/>
                        </a:lnTo>
                        <a:lnTo>
                          <a:pt x="1065" y="26"/>
                        </a:lnTo>
                        <a:lnTo>
                          <a:pt x="1054" y="14"/>
                        </a:lnTo>
                        <a:lnTo>
                          <a:pt x="1041" y="6"/>
                        </a:lnTo>
                        <a:lnTo>
                          <a:pt x="1027" y="2"/>
                        </a:lnTo>
                        <a:lnTo>
                          <a:pt x="1011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" name=""/>
                <p:cNvSpPr/>
                <p:nvPr/>
              </p:nvSpPr>
              <p:spPr>
                <a:xfrm>
                  <a:off x="7865640" y="557532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476840" y="57564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529040" y="593568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465680" y="612612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254240" y="5560920"/>
                <a:ext cx="1751040" cy="934200"/>
                <a:chOff x="1254240" y="5560920"/>
                <a:chExt cx="1751040" cy="934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1254240" y="5560920"/>
                  <a:ext cx="1751040" cy="818280"/>
                  <a:chOff x="1254240" y="5560920"/>
                  <a:chExt cx="1751040" cy="8182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1254240" y="5560920"/>
                    <a:ext cx="1724040" cy="79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6" h="501">
                        <a:moveTo>
                          <a:pt x="76" y="0"/>
                        </a:moveTo>
                        <a:lnTo>
                          <a:pt x="60" y="2"/>
                        </a:lnTo>
                        <a:lnTo>
                          <a:pt x="45" y="6"/>
                        </a:lnTo>
                        <a:lnTo>
                          <a:pt x="33" y="14"/>
                        </a:lnTo>
                        <a:lnTo>
                          <a:pt x="22" y="24"/>
                        </a:lnTo>
                        <a:lnTo>
                          <a:pt x="13" y="38"/>
                        </a:lnTo>
                        <a:lnTo>
                          <a:pt x="5" y="51"/>
                        </a:lnTo>
                        <a:lnTo>
                          <a:pt x="0" y="67"/>
                        </a:lnTo>
                        <a:lnTo>
                          <a:pt x="0" y="83"/>
                        </a:lnTo>
                        <a:lnTo>
                          <a:pt x="0" y="416"/>
                        </a:lnTo>
                        <a:lnTo>
                          <a:pt x="0" y="434"/>
                        </a:lnTo>
                        <a:lnTo>
                          <a:pt x="5" y="449"/>
                        </a:lnTo>
                        <a:lnTo>
                          <a:pt x="13" y="463"/>
                        </a:lnTo>
                        <a:lnTo>
                          <a:pt x="22" y="477"/>
                        </a:lnTo>
                        <a:lnTo>
                          <a:pt x="33" y="487"/>
                        </a:lnTo>
                        <a:lnTo>
                          <a:pt x="45" y="495"/>
                        </a:lnTo>
                        <a:lnTo>
                          <a:pt x="60" y="499"/>
                        </a:lnTo>
                        <a:lnTo>
                          <a:pt x="76" y="501"/>
                        </a:lnTo>
                        <a:lnTo>
                          <a:pt x="1010" y="501"/>
                        </a:lnTo>
                        <a:lnTo>
                          <a:pt x="1025" y="499"/>
                        </a:lnTo>
                        <a:lnTo>
                          <a:pt x="1039" y="495"/>
                        </a:lnTo>
                        <a:lnTo>
                          <a:pt x="1052" y="487"/>
                        </a:lnTo>
                        <a:lnTo>
                          <a:pt x="1065" y="477"/>
                        </a:lnTo>
                        <a:lnTo>
                          <a:pt x="1074" y="463"/>
                        </a:lnTo>
                        <a:lnTo>
                          <a:pt x="1081" y="449"/>
                        </a:lnTo>
                        <a:lnTo>
                          <a:pt x="1085" y="434"/>
                        </a:lnTo>
                        <a:lnTo>
                          <a:pt x="1086" y="416"/>
                        </a:lnTo>
                        <a:lnTo>
                          <a:pt x="1086" y="83"/>
                        </a:lnTo>
                        <a:lnTo>
                          <a:pt x="1085" y="67"/>
                        </a:lnTo>
                        <a:lnTo>
                          <a:pt x="1081" y="51"/>
                        </a:lnTo>
                        <a:lnTo>
                          <a:pt x="1074" y="38"/>
                        </a:lnTo>
                        <a:lnTo>
                          <a:pt x="1065" y="24"/>
                        </a:lnTo>
                        <a:lnTo>
                          <a:pt x="1052" y="14"/>
                        </a:lnTo>
                        <a:lnTo>
                          <a:pt x="1039" y="6"/>
                        </a:lnTo>
                        <a:lnTo>
                          <a:pt x="1025" y="2"/>
                        </a:lnTo>
                        <a:lnTo>
                          <a:pt x="1010" y="0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276200" y="5586120"/>
                    <a:ext cx="1729080" cy="79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500">
                        <a:moveTo>
                          <a:pt x="78" y="0"/>
                        </a:moveTo>
                        <a:lnTo>
                          <a:pt x="62" y="2"/>
                        </a:lnTo>
                        <a:lnTo>
                          <a:pt x="48" y="6"/>
                        </a:lnTo>
                        <a:lnTo>
                          <a:pt x="33" y="14"/>
                        </a:lnTo>
                        <a:lnTo>
                          <a:pt x="22" y="26"/>
                        </a:lnTo>
                        <a:lnTo>
                          <a:pt x="13" y="37"/>
                        </a:lnTo>
                        <a:lnTo>
                          <a:pt x="6" y="51"/>
                        </a:lnTo>
                        <a:lnTo>
                          <a:pt x="0" y="67"/>
                        </a:lnTo>
                        <a:lnTo>
                          <a:pt x="0" y="85"/>
                        </a:lnTo>
                        <a:lnTo>
                          <a:pt x="0" y="418"/>
                        </a:lnTo>
                        <a:lnTo>
                          <a:pt x="0" y="433"/>
                        </a:lnTo>
                        <a:lnTo>
                          <a:pt x="6" y="449"/>
                        </a:lnTo>
                        <a:lnTo>
                          <a:pt x="13" y="463"/>
                        </a:lnTo>
                        <a:lnTo>
                          <a:pt x="22" y="477"/>
                        </a:lnTo>
                        <a:lnTo>
                          <a:pt x="33" y="487"/>
                        </a:lnTo>
                        <a:lnTo>
                          <a:pt x="48" y="494"/>
                        </a:lnTo>
                        <a:lnTo>
                          <a:pt x="62" y="498"/>
                        </a:lnTo>
                        <a:lnTo>
                          <a:pt x="78" y="500"/>
                        </a:lnTo>
                        <a:lnTo>
                          <a:pt x="1011" y="500"/>
                        </a:lnTo>
                        <a:lnTo>
                          <a:pt x="1027" y="498"/>
                        </a:lnTo>
                        <a:lnTo>
                          <a:pt x="1042" y="494"/>
                        </a:lnTo>
                        <a:lnTo>
                          <a:pt x="1054" y="487"/>
                        </a:lnTo>
                        <a:lnTo>
                          <a:pt x="1067" y="477"/>
                        </a:lnTo>
                        <a:lnTo>
                          <a:pt x="1076" y="463"/>
                        </a:lnTo>
                        <a:lnTo>
                          <a:pt x="1083" y="449"/>
                        </a:lnTo>
                        <a:lnTo>
                          <a:pt x="1087" y="433"/>
                        </a:lnTo>
                        <a:lnTo>
                          <a:pt x="1089" y="418"/>
                        </a:lnTo>
                        <a:lnTo>
                          <a:pt x="1089" y="85"/>
                        </a:lnTo>
                        <a:lnTo>
                          <a:pt x="1087" y="67"/>
                        </a:lnTo>
                        <a:lnTo>
                          <a:pt x="1083" y="51"/>
                        </a:lnTo>
                        <a:lnTo>
                          <a:pt x="1076" y="37"/>
                        </a:lnTo>
                        <a:lnTo>
                          <a:pt x="1067" y="26"/>
                        </a:lnTo>
                        <a:lnTo>
                          <a:pt x="1054" y="14"/>
                        </a:lnTo>
                        <a:lnTo>
                          <a:pt x="1042" y="6"/>
                        </a:lnTo>
                        <a:lnTo>
                          <a:pt x="1027" y="2"/>
                        </a:lnTo>
                        <a:lnTo>
                          <a:pt x="1011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265040" y="5573160"/>
                    <a:ext cx="1725840" cy="79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7" h="500">
                        <a:moveTo>
                          <a:pt x="78" y="0"/>
                        </a:moveTo>
                        <a:lnTo>
                          <a:pt x="62" y="2"/>
                        </a:lnTo>
                        <a:lnTo>
                          <a:pt x="47" y="6"/>
                        </a:lnTo>
                        <a:lnTo>
                          <a:pt x="33" y="14"/>
                        </a:lnTo>
                        <a:lnTo>
                          <a:pt x="22" y="26"/>
                        </a:lnTo>
                        <a:lnTo>
                          <a:pt x="13" y="38"/>
                        </a:lnTo>
                        <a:lnTo>
                          <a:pt x="6" y="51"/>
                        </a:lnTo>
                        <a:lnTo>
                          <a:pt x="0" y="67"/>
                        </a:lnTo>
                        <a:lnTo>
                          <a:pt x="0" y="85"/>
                        </a:lnTo>
                        <a:lnTo>
                          <a:pt x="0" y="418"/>
                        </a:lnTo>
                        <a:lnTo>
                          <a:pt x="0" y="433"/>
                        </a:lnTo>
                        <a:lnTo>
                          <a:pt x="6" y="449"/>
                        </a:lnTo>
                        <a:lnTo>
                          <a:pt x="13" y="463"/>
                        </a:lnTo>
                        <a:lnTo>
                          <a:pt x="22" y="477"/>
                        </a:lnTo>
                        <a:lnTo>
                          <a:pt x="33" y="487"/>
                        </a:lnTo>
                        <a:lnTo>
                          <a:pt x="47" y="495"/>
                        </a:lnTo>
                        <a:lnTo>
                          <a:pt x="62" y="498"/>
                        </a:lnTo>
                        <a:lnTo>
                          <a:pt x="78" y="500"/>
                        </a:lnTo>
                        <a:lnTo>
                          <a:pt x="1011" y="500"/>
                        </a:lnTo>
                        <a:lnTo>
                          <a:pt x="1027" y="498"/>
                        </a:lnTo>
                        <a:lnTo>
                          <a:pt x="1041" y="495"/>
                        </a:lnTo>
                        <a:lnTo>
                          <a:pt x="1054" y="487"/>
                        </a:lnTo>
                        <a:lnTo>
                          <a:pt x="1065" y="477"/>
                        </a:lnTo>
                        <a:lnTo>
                          <a:pt x="1074" y="463"/>
                        </a:lnTo>
                        <a:lnTo>
                          <a:pt x="1081" y="449"/>
                        </a:lnTo>
                        <a:lnTo>
                          <a:pt x="1085" y="433"/>
                        </a:lnTo>
                        <a:lnTo>
                          <a:pt x="1087" y="418"/>
                        </a:lnTo>
                        <a:lnTo>
                          <a:pt x="1087" y="85"/>
                        </a:lnTo>
                        <a:lnTo>
                          <a:pt x="1085" y="67"/>
                        </a:lnTo>
                        <a:lnTo>
                          <a:pt x="1081" y="51"/>
                        </a:lnTo>
                        <a:lnTo>
                          <a:pt x="1074" y="38"/>
                        </a:lnTo>
                        <a:lnTo>
                          <a:pt x="1065" y="26"/>
                        </a:lnTo>
                        <a:lnTo>
                          <a:pt x="1054" y="14"/>
                        </a:lnTo>
                        <a:lnTo>
                          <a:pt x="1041" y="6"/>
                        </a:lnTo>
                        <a:lnTo>
                          <a:pt x="1027" y="2"/>
                        </a:lnTo>
                        <a:lnTo>
                          <a:pt x="1011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" name=""/>
                <p:cNvSpPr/>
                <p:nvPr/>
              </p:nvSpPr>
              <p:spPr>
                <a:xfrm>
                  <a:off x="1849320" y="5579640"/>
                  <a:ext cx="36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460520" y="5760720"/>
                  <a:ext cx="36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512720" y="5940000"/>
                  <a:ext cx="36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449360" y="6130440"/>
                  <a:ext cx="36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" name=""/>
            <p:cNvSpPr/>
            <p:nvPr/>
          </p:nvSpPr>
          <p:spPr>
            <a:xfrm>
              <a:off x="5238720" y="5605560"/>
              <a:ext cx="17524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OMIT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DE ACREDITACI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Ó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 LABORATORIOS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 CALIBRACI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77200" y="5780160"/>
              <a:ext cx="1371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ERTIFICACIÓN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DE AUDIT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81320" y="5608440"/>
              <a:ext cx="17524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OMIT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DE ACREDITACI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Ó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 LABORATORIOS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ENSAY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95280" y="5634000"/>
              <a:ext cx="17528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OMIT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DE ACREDITACI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Ó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ORGANISMO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DE CERTIFIC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9334440" y="5310000"/>
              <a:ext cx="239760" cy="1238040"/>
              <a:chOff x="9334440" y="5310000"/>
              <a:chExt cx="239760" cy="123804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9334440" y="5310000"/>
                <a:ext cx="239760" cy="1238040"/>
                <a:chOff x="9334440" y="5310000"/>
                <a:chExt cx="239760" cy="1238040"/>
              </a:xfrm>
            </p:grpSpPr>
            <p:grpSp>
              <p:nvGrpSpPr>
                <p:cNvPr id="115" name=""/>
                <p:cNvGrpSpPr/>
                <p:nvPr/>
              </p:nvGrpSpPr>
              <p:grpSpPr>
                <a:xfrm>
                  <a:off x="9334440" y="5310000"/>
                  <a:ext cx="239760" cy="1238040"/>
                  <a:chOff x="9334440" y="5310000"/>
                  <a:chExt cx="239760" cy="12380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9334440" y="5310000"/>
                    <a:ext cx="216000" cy="121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764">
                        <a:moveTo>
                          <a:pt x="22" y="0"/>
                        </a:moveTo>
                        <a:lnTo>
                          <a:pt x="15" y="2"/>
                        </a:lnTo>
                        <a:lnTo>
                          <a:pt x="8" y="8"/>
                        </a:lnTo>
                        <a:lnTo>
                          <a:pt x="2" y="16"/>
                        </a:lnTo>
                        <a:lnTo>
                          <a:pt x="0" y="23"/>
                        </a:lnTo>
                        <a:lnTo>
                          <a:pt x="0" y="738"/>
                        </a:lnTo>
                        <a:lnTo>
                          <a:pt x="2" y="748"/>
                        </a:lnTo>
                        <a:lnTo>
                          <a:pt x="8" y="756"/>
                        </a:lnTo>
                        <a:lnTo>
                          <a:pt x="15" y="762"/>
                        </a:lnTo>
                        <a:lnTo>
                          <a:pt x="22" y="764"/>
                        </a:lnTo>
                        <a:lnTo>
                          <a:pt x="113" y="764"/>
                        </a:lnTo>
                        <a:lnTo>
                          <a:pt x="122" y="762"/>
                        </a:lnTo>
                        <a:lnTo>
                          <a:pt x="129" y="756"/>
                        </a:lnTo>
                        <a:lnTo>
                          <a:pt x="134" y="748"/>
                        </a:lnTo>
                        <a:lnTo>
                          <a:pt x="136" y="738"/>
                        </a:lnTo>
                        <a:lnTo>
                          <a:pt x="136" y="23"/>
                        </a:lnTo>
                        <a:lnTo>
                          <a:pt x="134" y="16"/>
                        </a:lnTo>
                        <a:lnTo>
                          <a:pt x="129" y="8"/>
                        </a:lnTo>
                        <a:lnTo>
                          <a:pt x="122" y="2"/>
                        </a:lnTo>
                        <a:lnTo>
                          <a:pt x="1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9358560" y="5335200"/>
                    <a:ext cx="215640" cy="121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764">
                        <a:moveTo>
                          <a:pt x="23" y="0"/>
                        </a:moveTo>
                        <a:lnTo>
                          <a:pt x="14" y="2"/>
                        </a:lnTo>
                        <a:lnTo>
                          <a:pt x="7" y="7"/>
                        </a:lnTo>
                        <a:lnTo>
                          <a:pt x="2" y="15"/>
                        </a:lnTo>
                        <a:lnTo>
                          <a:pt x="0" y="25"/>
                        </a:lnTo>
                        <a:lnTo>
                          <a:pt x="0" y="738"/>
                        </a:lnTo>
                        <a:lnTo>
                          <a:pt x="2" y="748"/>
                        </a:lnTo>
                        <a:lnTo>
                          <a:pt x="7" y="756"/>
                        </a:lnTo>
                        <a:lnTo>
                          <a:pt x="14" y="762"/>
                        </a:lnTo>
                        <a:lnTo>
                          <a:pt x="23" y="764"/>
                        </a:lnTo>
                        <a:lnTo>
                          <a:pt x="114" y="764"/>
                        </a:lnTo>
                        <a:lnTo>
                          <a:pt x="123" y="762"/>
                        </a:lnTo>
                        <a:lnTo>
                          <a:pt x="130" y="756"/>
                        </a:lnTo>
                        <a:lnTo>
                          <a:pt x="134" y="748"/>
                        </a:lnTo>
                        <a:lnTo>
                          <a:pt x="136" y="738"/>
                        </a:lnTo>
                        <a:lnTo>
                          <a:pt x="136" y="25"/>
                        </a:lnTo>
                        <a:lnTo>
                          <a:pt x="134" y="15"/>
                        </a:lnTo>
                        <a:lnTo>
                          <a:pt x="130" y="7"/>
                        </a:lnTo>
                        <a:lnTo>
                          <a:pt x="123" y="2"/>
                        </a:lnTo>
                        <a:lnTo>
                          <a:pt x="1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9347400" y="5322600"/>
                    <a:ext cx="214200" cy="121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764">
                        <a:moveTo>
                          <a:pt x="23" y="0"/>
                        </a:moveTo>
                        <a:lnTo>
                          <a:pt x="14" y="2"/>
                        </a:lnTo>
                        <a:lnTo>
                          <a:pt x="7" y="8"/>
                        </a:lnTo>
                        <a:lnTo>
                          <a:pt x="1" y="15"/>
                        </a:lnTo>
                        <a:lnTo>
                          <a:pt x="0" y="25"/>
                        </a:lnTo>
                        <a:lnTo>
                          <a:pt x="0" y="738"/>
                        </a:lnTo>
                        <a:lnTo>
                          <a:pt x="1" y="748"/>
                        </a:lnTo>
                        <a:lnTo>
                          <a:pt x="7" y="756"/>
                        </a:lnTo>
                        <a:lnTo>
                          <a:pt x="14" y="762"/>
                        </a:lnTo>
                        <a:lnTo>
                          <a:pt x="23" y="764"/>
                        </a:lnTo>
                        <a:lnTo>
                          <a:pt x="114" y="764"/>
                        </a:lnTo>
                        <a:lnTo>
                          <a:pt x="121" y="762"/>
                        </a:lnTo>
                        <a:lnTo>
                          <a:pt x="128" y="756"/>
                        </a:lnTo>
                        <a:lnTo>
                          <a:pt x="133" y="748"/>
                        </a:lnTo>
                        <a:lnTo>
                          <a:pt x="135" y="738"/>
                        </a:lnTo>
                        <a:lnTo>
                          <a:pt x="135" y="25"/>
                        </a:lnTo>
                        <a:lnTo>
                          <a:pt x="133" y="15"/>
                        </a:lnTo>
                        <a:lnTo>
                          <a:pt x="128" y="8"/>
                        </a:lnTo>
                        <a:lnTo>
                          <a:pt x="121" y="2"/>
                        </a:lnTo>
                        <a:lnTo>
                          <a:pt x="1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>
                  <a:off x="9401040" y="5329080"/>
                  <a:ext cx="11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9435960" y="55069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9406800" y="5687640"/>
                  <a:ext cx="102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9406800" y="5865480"/>
                  <a:ext cx="102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9409320" y="6048000"/>
                  <a:ext cx="9360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9367920" y="6195600"/>
                  <a:ext cx="158760" cy="231840"/>
                </a:xfrm>
                <a:prstGeom prst="rect">
                  <a:avLst/>
                </a:prstGeom>
                <a:solidFill>
                  <a:srgbClr val="bd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9411480" y="6235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472320" y="5502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501120" y="5683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501120" y="58611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497880" y="6043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9493200" y="6230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9496440" y="62341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" name=""/>
          <p:cNvGrpSpPr/>
          <p:nvPr/>
        </p:nvGrpSpPr>
        <p:grpSpPr>
          <a:xfrm>
            <a:off x="977760" y="3570120"/>
            <a:ext cx="8596440" cy="1535400"/>
            <a:chOff x="977760" y="3570120"/>
            <a:chExt cx="8596440" cy="1535400"/>
          </a:xfrm>
        </p:grpSpPr>
        <p:grpSp>
          <p:nvGrpSpPr>
            <p:cNvPr id="133" name=""/>
            <p:cNvGrpSpPr/>
            <p:nvPr/>
          </p:nvGrpSpPr>
          <p:grpSpPr>
            <a:xfrm>
              <a:off x="9317160" y="3951360"/>
              <a:ext cx="257040" cy="1154160"/>
              <a:chOff x="9317160" y="3951360"/>
              <a:chExt cx="257040" cy="1154160"/>
            </a:xfrm>
          </p:grpSpPr>
          <p:sp>
            <p:nvSpPr>
              <p:cNvPr id="134" name=""/>
              <p:cNvSpPr/>
              <p:nvPr/>
            </p:nvSpPr>
            <p:spPr>
              <a:xfrm>
                <a:off x="9496080" y="3970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9464400" y="4148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9493200" y="4329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493200" y="450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489960" y="4689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483480" y="4879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9317160" y="3951360"/>
                <a:ext cx="257040" cy="1154160"/>
                <a:chOff x="9317160" y="3951360"/>
                <a:chExt cx="257040" cy="1154160"/>
              </a:xfrm>
            </p:grpSpPr>
            <p:grpSp>
              <p:nvGrpSpPr>
                <p:cNvPr id="141" name=""/>
                <p:cNvGrpSpPr/>
                <p:nvPr/>
              </p:nvGrpSpPr>
              <p:grpSpPr>
                <a:xfrm>
                  <a:off x="9317160" y="3951360"/>
                  <a:ext cx="257040" cy="1154160"/>
                  <a:chOff x="9317160" y="3951360"/>
                  <a:chExt cx="257040" cy="115416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9317160" y="3951360"/>
                    <a:ext cx="233280" cy="112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711">
                        <a:moveTo>
                          <a:pt x="24" y="0"/>
                        </a:moveTo>
                        <a:lnTo>
                          <a:pt x="15" y="2"/>
                        </a:lnTo>
                        <a:lnTo>
                          <a:pt x="8" y="8"/>
                        </a:lnTo>
                        <a:lnTo>
                          <a:pt x="2" y="16"/>
                        </a:lnTo>
                        <a:lnTo>
                          <a:pt x="0" y="26"/>
                        </a:lnTo>
                        <a:lnTo>
                          <a:pt x="0" y="683"/>
                        </a:lnTo>
                        <a:lnTo>
                          <a:pt x="2" y="695"/>
                        </a:lnTo>
                        <a:lnTo>
                          <a:pt x="8" y="703"/>
                        </a:lnTo>
                        <a:lnTo>
                          <a:pt x="15" y="709"/>
                        </a:lnTo>
                        <a:lnTo>
                          <a:pt x="24" y="711"/>
                        </a:lnTo>
                        <a:lnTo>
                          <a:pt x="124" y="711"/>
                        </a:lnTo>
                        <a:lnTo>
                          <a:pt x="133" y="709"/>
                        </a:lnTo>
                        <a:lnTo>
                          <a:pt x="140" y="703"/>
                        </a:lnTo>
                        <a:lnTo>
                          <a:pt x="145" y="695"/>
                        </a:lnTo>
                        <a:lnTo>
                          <a:pt x="147" y="683"/>
                        </a:lnTo>
                        <a:lnTo>
                          <a:pt x="147" y="26"/>
                        </a:lnTo>
                        <a:lnTo>
                          <a:pt x="145" y="16"/>
                        </a:lnTo>
                        <a:lnTo>
                          <a:pt x="140" y="8"/>
                        </a:lnTo>
                        <a:lnTo>
                          <a:pt x="133" y="2"/>
                        </a:lnTo>
                        <a:lnTo>
                          <a:pt x="124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a3e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9340920" y="3976920"/>
                    <a:ext cx="233280" cy="11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711">
                        <a:moveTo>
                          <a:pt x="25" y="0"/>
                        </a:moveTo>
                        <a:lnTo>
                          <a:pt x="14" y="2"/>
                        </a:lnTo>
                        <a:lnTo>
                          <a:pt x="7" y="8"/>
                        </a:lnTo>
                        <a:lnTo>
                          <a:pt x="2" y="16"/>
                        </a:lnTo>
                        <a:lnTo>
                          <a:pt x="0" y="27"/>
                        </a:lnTo>
                        <a:lnTo>
                          <a:pt x="0" y="685"/>
                        </a:lnTo>
                        <a:lnTo>
                          <a:pt x="2" y="695"/>
                        </a:lnTo>
                        <a:lnTo>
                          <a:pt x="7" y="703"/>
                        </a:lnTo>
                        <a:lnTo>
                          <a:pt x="14" y="709"/>
                        </a:lnTo>
                        <a:lnTo>
                          <a:pt x="25" y="711"/>
                        </a:lnTo>
                        <a:lnTo>
                          <a:pt x="123" y="711"/>
                        </a:lnTo>
                        <a:lnTo>
                          <a:pt x="132" y="709"/>
                        </a:lnTo>
                        <a:lnTo>
                          <a:pt x="139" y="703"/>
                        </a:lnTo>
                        <a:lnTo>
                          <a:pt x="145" y="695"/>
                        </a:lnTo>
                        <a:lnTo>
                          <a:pt x="147" y="685"/>
                        </a:lnTo>
                        <a:lnTo>
                          <a:pt x="147" y="27"/>
                        </a:lnTo>
                        <a:lnTo>
                          <a:pt x="145" y="16"/>
                        </a:lnTo>
                        <a:lnTo>
                          <a:pt x="139" y="8"/>
                        </a:lnTo>
                        <a:lnTo>
                          <a:pt x="132" y="2"/>
                        </a:lnTo>
                        <a:lnTo>
                          <a:pt x="123" y="0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3d7a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9329760" y="3964320"/>
                    <a:ext cx="231840" cy="11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711">
                        <a:moveTo>
                          <a:pt x="23" y="0"/>
                        </a:moveTo>
                        <a:lnTo>
                          <a:pt x="14" y="2"/>
                        </a:lnTo>
                        <a:lnTo>
                          <a:pt x="7" y="8"/>
                        </a:lnTo>
                        <a:lnTo>
                          <a:pt x="1" y="16"/>
                        </a:lnTo>
                        <a:lnTo>
                          <a:pt x="0" y="27"/>
                        </a:lnTo>
                        <a:lnTo>
                          <a:pt x="0" y="683"/>
                        </a:lnTo>
                        <a:lnTo>
                          <a:pt x="1" y="695"/>
                        </a:lnTo>
                        <a:lnTo>
                          <a:pt x="7" y="703"/>
                        </a:lnTo>
                        <a:lnTo>
                          <a:pt x="14" y="709"/>
                        </a:lnTo>
                        <a:lnTo>
                          <a:pt x="23" y="711"/>
                        </a:lnTo>
                        <a:lnTo>
                          <a:pt x="123" y="711"/>
                        </a:lnTo>
                        <a:lnTo>
                          <a:pt x="132" y="709"/>
                        </a:lnTo>
                        <a:lnTo>
                          <a:pt x="139" y="703"/>
                        </a:lnTo>
                        <a:lnTo>
                          <a:pt x="144" y="695"/>
                        </a:lnTo>
                        <a:lnTo>
                          <a:pt x="146" y="683"/>
                        </a:lnTo>
                        <a:lnTo>
                          <a:pt x="146" y="27"/>
                        </a:lnTo>
                        <a:lnTo>
                          <a:pt x="144" y="16"/>
                        </a:lnTo>
                        <a:lnTo>
                          <a:pt x="139" y="8"/>
                        </a:lnTo>
                        <a:lnTo>
                          <a:pt x="132" y="2"/>
                        </a:lnTo>
                        <a:lnTo>
                          <a:pt x="12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66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" name=""/>
                <p:cNvSpPr/>
                <p:nvPr/>
              </p:nvSpPr>
              <p:spPr>
                <a:xfrm>
                  <a:off x="9391320" y="3970440"/>
                  <a:ext cx="11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9426240" y="41482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9397440" y="4329360"/>
                  <a:ext cx="102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9397440" y="4508640"/>
                  <a:ext cx="102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9401400" y="4689720"/>
                  <a:ext cx="93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9403560" y="4876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>
              <a:off x="2009880" y="3875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29040" y="3875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24240" y="3570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000160" y="387504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977760" y="4152960"/>
              <a:ext cx="4870080" cy="596880"/>
              <a:chOff x="977760" y="4152960"/>
              <a:chExt cx="4870080" cy="59688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790800" y="4156200"/>
                <a:ext cx="2057040" cy="593640"/>
                <a:chOff x="3790800" y="4156200"/>
                <a:chExt cx="2057040" cy="59364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3790800" y="4156200"/>
                  <a:ext cx="2057040" cy="593640"/>
                  <a:chOff x="3790800" y="4156200"/>
                  <a:chExt cx="2057040" cy="59364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3790800" y="4156200"/>
                    <a:ext cx="203652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66" h="358">
                        <a:moveTo>
                          <a:pt x="54" y="0"/>
                        </a:moveTo>
                        <a:lnTo>
                          <a:pt x="43" y="2"/>
                        </a:lnTo>
                        <a:lnTo>
                          <a:pt x="32" y="4"/>
                        </a:lnTo>
                        <a:lnTo>
                          <a:pt x="23" y="9"/>
                        </a:lnTo>
                        <a:lnTo>
                          <a:pt x="16" y="17"/>
                        </a:lnTo>
                        <a:lnTo>
                          <a:pt x="9" y="27"/>
                        </a:lnTo>
                        <a:lnTo>
                          <a:pt x="3" y="37"/>
                        </a:lnTo>
                        <a:lnTo>
                          <a:pt x="1" y="49"/>
                        </a:lnTo>
                        <a:lnTo>
                          <a:pt x="0" y="61"/>
                        </a:lnTo>
                        <a:lnTo>
                          <a:pt x="0" y="297"/>
                        </a:lnTo>
                        <a:lnTo>
                          <a:pt x="1" y="309"/>
                        </a:lnTo>
                        <a:lnTo>
                          <a:pt x="3" y="321"/>
                        </a:lnTo>
                        <a:lnTo>
                          <a:pt x="9" y="331"/>
                        </a:lnTo>
                        <a:lnTo>
                          <a:pt x="16" y="340"/>
                        </a:lnTo>
                        <a:lnTo>
                          <a:pt x="23" y="348"/>
                        </a:lnTo>
                        <a:lnTo>
                          <a:pt x="32" y="354"/>
                        </a:lnTo>
                        <a:lnTo>
                          <a:pt x="43" y="356"/>
                        </a:lnTo>
                        <a:lnTo>
                          <a:pt x="54" y="358"/>
                        </a:lnTo>
                        <a:lnTo>
                          <a:pt x="1412" y="358"/>
                        </a:lnTo>
                        <a:lnTo>
                          <a:pt x="1423" y="356"/>
                        </a:lnTo>
                        <a:lnTo>
                          <a:pt x="1434" y="354"/>
                        </a:lnTo>
                        <a:lnTo>
                          <a:pt x="1443" y="348"/>
                        </a:lnTo>
                        <a:lnTo>
                          <a:pt x="1450" y="340"/>
                        </a:lnTo>
                        <a:lnTo>
                          <a:pt x="1457" y="331"/>
                        </a:lnTo>
                        <a:lnTo>
                          <a:pt x="1463" y="321"/>
                        </a:lnTo>
                        <a:lnTo>
                          <a:pt x="1464" y="309"/>
                        </a:lnTo>
                        <a:lnTo>
                          <a:pt x="1466" y="297"/>
                        </a:lnTo>
                        <a:lnTo>
                          <a:pt x="1466" y="61"/>
                        </a:lnTo>
                        <a:lnTo>
                          <a:pt x="1464" y="49"/>
                        </a:lnTo>
                        <a:lnTo>
                          <a:pt x="1463" y="37"/>
                        </a:lnTo>
                        <a:lnTo>
                          <a:pt x="1457" y="27"/>
                        </a:lnTo>
                        <a:lnTo>
                          <a:pt x="1450" y="17"/>
                        </a:lnTo>
                        <a:lnTo>
                          <a:pt x="1443" y="9"/>
                        </a:lnTo>
                        <a:lnTo>
                          <a:pt x="1434" y="4"/>
                        </a:lnTo>
                        <a:lnTo>
                          <a:pt x="1423" y="2"/>
                        </a:lnTo>
                        <a:lnTo>
                          <a:pt x="1412" y="0"/>
                        </a:lnTo>
                        <a:lnTo>
                          <a:pt x="54" y="0"/>
                        </a:lnTo>
                        <a:close/>
                      </a:path>
                    </a:pathLst>
                  </a:custGeom>
                  <a:solidFill>
                    <a:srgbClr val="a3e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810240" y="4183200"/>
                    <a:ext cx="2037600" cy="56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7" h="357">
                        <a:moveTo>
                          <a:pt x="56" y="0"/>
                        </a:moveTo>
                        <a:lnTo>
                          <a:pt x="45" y="2"/>
                        </a:lnTo>
                        <a:lnTo>
                          <a:pt x="35" y="4"/>
                        </a:lnTo>
                        <a:lnTo>
                          <a:pt x="25" y="10"/>
                        </a:lnTo>
                        <a:lnTo>
                          <a:pt x="16" y="18"/>
                        </a:lnTo>
                        <a:lnTo>
                          <a:pt x="9" y="26"/>
                        </a:lnTo>
                        <a:lnTo>
                          <a:pt x="4" y="36"/>
                        </a:lnTo>
                        <a:lnTo>
                          <a:pt x="2" y="48"/>
                        </a:lnTo>
                        <a:lnTo>
                          <a:pt x="0" y="59"/>
                        </a:lnTo>
                        <a:lnTo>
                          <a:pt x="0" y="298"/>
                        </a:lnTo>
                        <a:lnTo>
                          <a:pt x="2" y="310"/>
                        </a:lnTo>
                        <a:lnTo>
                          <a:pt x="4" y="319"/>
                        </a:lnTo>
                        <a:lnTo>
                          <a:pt x="9" y="331"/>
                        </a:lnTo>
                        <a:lnTo>
                          <a:pt x="16" y="339"/>
                        </a:lnTo>
                        <a:lnTo>
                          <a:pt x="25" y="347"/>
                        </a:lnTo>
                        <a:lnTo>
                          <a:pt x="35" y="353"/>
                        </a:lnTo>
                        <a:lnTo>
                          <a:pt x="45" y="355"/>
                        </a:lnTo>
                        <a:lnTo>
                          <a:pt x="56" y="357"/>
                        </a:lnTo>
                        <a:lnTo>
                          <a:pt x="1412" y="357"/>
                        </a:lnTo>
                        <a:lnTo>
                          <a:pt x="1423" y="355"/>
                        </a:lnTo>
                        <a:lnTo>
                          <a:pt x="1434" y="353"/>
                        </a:lnTo>
                        <a:lnTo>
                          <a:pt x="1443" y="347"/>
                        </a:lnTo>
                        <a:lnTo>
                          <a:pt x="1450" y="339"/>
                        </a:lnTo>
                        <a:lnTo>
                          <a:pt x="1458" y="331"/>
                        </a:lnTo>
                        <a:lnTo>
                          <a:pt x="1463" y="319"/>
                        </a:lnTo>
                        <a:lnTo>
                          <a:pt x="1465" y="310"/>
                        </a:lnTo>
                        <a:lnTo>
                          <a:pt x="1467" y="298"/>
                        </a:lnTo>
                        <a:lnTo>
                          <a:pt x="1467" y="59"/>
                        </a:lnTo>
                        <a:lnTo>
                          <a:pt x="1465" y="48"/>
                        </a:lnTo>
                        <a:lnTo>
                          <a:pt x="1463" y="36"/>
                        </a:lnTo>
                        <a:lnTo>
                          <a:pt x="1458" y="26"/>
                        </a:lnTo>
                        <a:lnTo>
                          <a:pt x="1450" y="18"/>
                        </a:lnTo>
                        <a:lnTo>
                          <a:pt x="1443" y="10"/>
                        </a:lnTo>
                        <a:lnTo>
                          <a:pt x="1434" y="4"/>
                        </a:lnTo>
                        <a:lnTo>
                          <a:pt x="1423" y="2"/>
                        </a:lnTo>
                        <a:lnTo>
                          <a:pt x="1412" y="0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3d7a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3800520" y="4170240"/>
                    <a:ext cx="2036160" cy="56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6" h="357">
                        <a:moveTo>
                          <a:pt x="54" y="0"/>
                        </a:moveTo>
                        <a:lnTo>
                          <a:pt x="43" y="2"/>
                        </a:lnTo>
                        <a:lnTo>
                          <a:pt x="34" y="4"/>
                        </a:lnTo>
                        <a:lnTo>
                          <a:pt x="25" y="10"/>
                        </a:lnTo>
                        <a:lnTo>
                          <a:pt x="16" y="18"/>
                        </a:lnTo>
                        <a:lnTo>
                          <a:pt x="9" y="26"/>
                        </a:lnTo>
                        <a:lnTo>
                          <a:pt x="3" y="36"/>
                        </a:lnTo>
                        <a:lnTo>
                          <a:pt x="2" y="48"/>
                        </a:lnTo>
                        <a:lnTo>
                          <a:pt x="0" y="60"/>
                        </a:lnTo>
                        <a:lnTo>
                          <a:pt x="0" y="298"/>
                        </a:lnTo>
                        <a:lnTo>
                          <a:pt x="2" y="310"/>
                        </a:lnTo>
                        <a:lnTo>
                          <a:pt x="3" y="320"/>
                        </a:lnTo>
                        <a:lnTo>
                          <a:pt x="9" y="331"/>
                        </a:lnTo>
                        <a:lnTo>
                          <a:pt x="16" y="339"/>
                        </a:lnTo>
                        <a:lnTo>
                          <a:pt x="25" y="347"/>
                        </a:lnTo>
                        <a:lnTo>
                          <a:pt x="34" y="353"/>
                        </a:lnTo>
                        <a:lnTo>
                          <a:pt x="43" y="355"/>
                        </a:lnTo>
                        <a:lnTo>
                          <a:pt x="54" y="357"/>
                        </a:lnTo>
                        <a:lnTo>
                          <a:pt x="1412" y="357"/>
                        </a:lnTo>
                        <a:lnTo>
                          <a:pt x="1423" y="355"/>
                        </a:lnTo>
                        <a:lnTo>
                          <a:pt x="1434" y="353"/>
                        </a:lnTo>
                        <a:lnTo>
                          <a:pt x="1443" y="347"/>
                        </a:lnTo>
                        <a:lnTo>
                          <a:pt x="1450" y="339"/>
                        </a:lnTo>
                        <a:lnTo>
                          <a:pt x="1457" y="331"/>
                        </a:lnTo>
                        <a:lnTo>
                          <a:pt x="1463" y="320"/>
                        </a:lnTo>
                        <a:lnTo>
                          <a:pt x="1465" y="310"/>
                        </a:lnTo>
                        <a:lnTo>
                          <a:pt x="1466" y="298"/>
                        </a:lnTo>
                        <a:lnTo>
                          <a:pt x="1466" y="60"/>
                        </a:lnTo>
                        <a:lnTo>
                          <a:pt x="1465" y="48"/>
                        </a:lnTo>
                        <a:lnTo>
                          <a:pt x="1463" y="36"/>
                        </a:lnTo>
                        <a:lnTo>
                          <a:pt x="1457" y="26"/>
                        </a:lnTo>
                        <a:lnTo>
                          <a:pt x="1450" y="18"/>
                        </a:lnTo>
                        <a:lnTo>
                          <a:pt x="1443" y="10"/>
                        </a:lnTo>
                        <a:lnTo>
                          <a:pt x="1434" y="4"/>
                        </a:lnTo>
                        <a:lnTo>
                          <a:pt x="1423" y="2"/>
                        </a:lnTo>
                        <a:lnTo>
                          <a:pt x="1412" y="0"/>
                        </a:lnTo>
                        <a:lnTo>
                          <a:pt x="54" y="0"/>
                        </a:lnTo>
                        <a:close/>
                      </a:path>
                    </a:pathLst>
                  </a:custGeom>
                  <a:solidFill>
                    <a:srgbClr val="66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>
                  <a:off x="3876840" y="4214880"/>
                  <a:ext cx="190476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ORGANISMO DE</a:t>
                  </a:r>
                  <a:r>
                    <a:rPr b="1" lang="es-MX" sz="1600" spc="-1" strike="noStrike">
                      <a:solidFill>
                        <a:srgbClr val="000000"/>
                      </a:solidFill>
                      <a:latin typeface="Arial"/>
                    </a:rPr>
                    <a:t> ACREDIT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977760" y="4152960"/>
                <a:ext cx="2057040" cy="593640"/>
                <a:chOff x="977760" y="4152960"/>
                <a:chExt cx="2057040" cy="59364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977760" y="4152960"/>
                  <a:ext cx="2057040" cy="593640"/>
                  <a:chOff x="977760" y="4152960"/>
                  <a:chExt cx="2057040" cy="59364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977760" y="4152960"/>
                    <a:ext cx="203652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66" h="358">
                        <a:moveTo>
                          <a:pt x="54" y="0"/>
                        </a:moveTo>
                        <a:lnTo>
                          <a:pt x="43" y="2"/>
                        </a:lnTo>
                        <a:lnTo>
                          <a:pt x="32" y="4"/>
                        </a:lnTo>
                        <a:lnTo>
                          <a:pt x="23" y="9"/>
                        </a:lnTo>
                        <a:lnTo>
                          <a:pt x="16" y="17"/>
                        </a:lnTo>
                        <a:lnTo>
                          <a:pt x="9" y="27"/>
                        </a:lnTo>
                        <a:lnTo>
                          <a:pt x="3" y="37"/>
                        </a:lnTo>
                        <a:lnTo>
                          <a:pt x="1" y="49"/>
                        </a:lnTo>
                        <a:lnTo>
                          <a:pt x="0" y="61"/>
                        </a:lnTo>
                        <a:lnTo>
                          <a:pt x="0" y="297"/>
                        </a:lnTo>
                        <a:lnTo>
                          <a:pt x="1" y="309"/>
                        </a:lnTo>
                        <a:lnTo>
                          <a:pt x="3" y="321"/>
                        </a:lnTo>
                        <a:lnTo>
                          <a:pt x="9" y="331"/>
                        </a:lnTo>
                        <a:lnTo>
                          <a:pt x="16" y="340"/>
                        </a:lnTo>
                        <a:lnTo>
                          <a:pt x="23" y="348"/>
                        </a:lnTo>
                        <a:lnTo>
                          <a:pt x="32" y="354"/>
                        </a:lnTo>
                        <a:lnTo>
                          <a:pt x="43" y="356"/>
                        </a:lnTo>
                        <a:lnTo>
                          <a:pt x="54" y="358"/>
                        </a:lnTo>
                        <a:lnTo>
                          <a:pt x="1412" y="358"/>
                        </a:lnTo>
                        <a:lnTo>
                          <a:pt x="1423" y="356"/>
                        </a:lnTo>
                        <a:lnTo>
                          <a:pt x="1434" y="354"/>
                        </a:lnTo>
                        <a:lnTo>
                          <a:pt x="1443" y="348"/>
                        </a:lnTo>
                        <a:lnTo>
                          <a:pt x="1450" y="340"/>
                        </a:lnTo>
                        <a:lnTo>
                          <a:pt x="1457" y="331"/>
                        </a:lnTo>
                        <a:lnTo>
                          <a:pt x="1463" y="321"/>
                        </a:lnTo>
                        <a:lnTo>
                          <a:pt x="1464" y="309"/>
                        </a:lnTo>
                        <a:lnTo>
                          <a:pt x="1466" y="297"/>
                        </a:lnTo>
                        <a:lnTo>
                          <a:pt x="1466" y="61"/>
                        </a:lnTo>
                        <a:lnTo>
                          <a:pt x="1464" y="49"/>
                        </a:lnTo>
                        <a:lnTo>
                          <a:pt x="1463" y="37"/>
                        </a:lnTo>
                        <a:lnTo>
                          <a:pt x="1457" y="27"/>
                        </a:lnTo>
                        <a:lnTo>
                          <a:pt x="1450" y="17"/>
                        </a:lnTo>
                        <a:lnTo>
                          <a:pt x="1443" y="9"/>
                        </a:lnTo>
                        <a:lnTo>
                          <a:pt x="1434" y="4"/>
                        </a:lnTo>
                        <a:lnTo>
                          <a:pt x="1423" y="2"/>
                        </a:lnTo>
                        <a:lnTo>
                          <a:pt x="1412" y="0"/>
                        </a:lnTo>
                        <a:lnTo>
                          <a:pt x="54" y="0"/>
                        </a:lnTo>
                        <a:close/>
                      </a:path>
                    </a:pathLst>
                  </a:custGeom>
                  <a:solidFill>
                    <a:srgbClr val="a3e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997200" y="4179960"/>
                    <a:ext cx="2037600" cy="56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7" h="357">
                        <a:moveTo>
                          <a:pt x="56" y="0"/>
                        </a:moveTo>
                        <a:lnTo>
                          <a:pt x="45" y="2"/>
                        </a:lnTo>
                        <a:lnTo>
                          <a:pt x="35" y="4"/>
                        </a:lnTo>
                        <a:lnTo>
                          <a:pt x="25" y="10"/>
                        </a:lnTo>
                        <a:lnTo>
                          <a:pt x="16" y="18"/>
                        </a:lnTo>
                        <a:lnTo>
                          <a:pt x="9" y="26"/>
                        </a:lnTo>
                        <a:lnTo>
                          <a:pt x="4" y="36"/>
                        </a:lnTo>
                        <a:lnTo>
                          <a:pt x="2" y="48"/>
                        </a:lnTo>
                        <a:lnTo>
                          <a:pt x="0" y="59"/>
                        </a:lnTo>
                        <a:lnTo>
                          <a:pt x="0" y="298"/>
                        </a:lnTo>
                        <a:lnTo>
                          <a:pt x="2" y="310"/>
                        </a:lnTo>
                        <a:lnTo>
                          <a:pt x="4" y="319"/>
                        </a:lnTo>
                        <a:lnTo>
                          <a:pt x="9" y="331"/>
                        </a:lnTo>
                        <a:lnTo>
                          <a:pt x="16" y="339"/>
                        </a:lnTo>
                        <a:lnTo>
                          <a:pt x="25" y="347"/>
                        </a:lnTo>
                        <a:lnTo>
                          <a:pt x="35" y="353"/>
                        </a:lnTo>
                        <a:lnTo>
                          <a:pt x="45" y="355"/>
                        </a:lnTo>
                        <a:lnTo>
                          <a:pt x="56" y="357"/>
                        </a:lnTo>
                        <a:lnTo>
                          <a:pt x="1412" y="357"/>
                        </a:lnTo>
                        <a:lnTo>
                          <a:pt x="1423" y="355"/>
                        </a:lnTo>
                        <a:lnTo>
                          <a:pt x="1434" y="353"/>
                        </a:lnTo>
                        <a:lnTo>
                          <a:pt x="1443" y="347"/>
                        </a:lnTo>
                        <a:lnTo>
                          <a:pt x="1450" y="339"/>
                        </a:lnTo>
                        <a:lnTo>
                          <a:pt x="1458" y="331"/>
                        </a:lnTo>
                        <a:lnTo>
                          <a:pt x="1463" y="319"/>
                        </a:lnTo>
                        <a:lnTo>
                          <a:pt x="1465" y="310"/>
                        </a:lnTo>
                        <a:lnTo>
                          <a:pt x="1467" y="298"/>
                        </a:lnTo>
                        <a:lnTo>
                          <a:pt x="1467" y="59"/>
                        </a:lnTo>
                        <a:lnTo>
                          <a:pt x="1465" y="48"/>
                        </a:lnTo>
                        <a:lnTo>
                          <a:pt x="1463" y="36"/>
                        </a:lnTo>
                        <a:lnTo>
                          <a:pt x="1458" y="26"/>
                        </a:lnTo>
                        <a:lnTo>
                          <a:pt x="1450" y="18"/>
                        </a:lnTo>
                        <a:lnTo>
                          <a:pt x="1443" y="10"/>
                        </a:lnTo>
                        <a:lnTo>
                          <a:pt x="1434" y="4"/>
                        </a:lnTo>
                        <a:lnTo>
                          <a:pt x="1423" y="2"/>
                        </a:lnTo>
                        <a:lnTo>
                          <a:pt x="1412" y="0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3d7a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987480" y="4167000"/>
                    <a:ext cx="2036160" cy="56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6" h="357">
                        <a:moveTo>
                          <a:pt x="54" y="0"/>
                        </a:moveTo>
                        <a:lnTo>
                          <a:pt x="43" y="2"/>
                        </a:lnTo>
                        <a:lnTo>
                          <a:pt x="34" y="4"/>
                        </a:lnTo>
                        <a:lnTo>
                          <a:pt x="25" y="10"/>
                        </a:lnTo>
                        <a:lnTo>
                          <a:pt x="16" y="18"/>
                        </a:lnTo>
                        <a:lnTo>
                          <a:pt x="9" y="26"/>
                        </a:lnTo>
                        <a:lnTo>
                          <a:pt x="3" y="36"/>
                        </a:lnTo>
                        <a:lnTo>
                          <a:pt x="2" y="48"/>
                        </a:lnTo>
                        <a:lnTo>
                          <a:pt x="0" y="60"/>
                        </a:lnTo>
                        <a:lnTo>
                          <a:pt x="0" y="298"/>
                        </a:lnTo>
                        <a:lnTo>
                          <a:pt x="2" y="310"/>
                        </a:lnTo>
                        <a:lnTo>
                          <a:pt x="3" y="320"/>
                        </a:lnTo>
                        <a:lnTo>
                          <a:pt x="9" y="331"/>
                        </a:lnTo>
                        <a:lnTo>
                          <a:pt x="16" y="339"/>
                        </a:lnTo>
                        <a:lnTo>
                          <a:pt x="25" y="347"/>
                        </a:lnTo>
                        <a:lnTo>
                          <a:pt x="34" y="353"/>
                        </a:lnTo>
                        <a:lnTo>
                          <a:pt x="43" y="355"/>
                        </a:lnTo>
                        <a:lnTo>
                          <a:pt x="54" y="357"/>
                        </a:lnTo>
                        <a:lnTo>
                          <a:pt x="1412" y="357"/>
                        </a:lnTo>
                        <a:lnTo>
                          <a:pt x="1423" y="355"/>
                        </a:lnTo>
                        <a:lnTo>
                          <a:pt x="1434" y="353"/>
                        </a:lnTo>
                        <a:lnTo>
                          <a:pt x="1443" y="347"/>
                        </a:lnTo>
                        <a:lnTo>
                          <a:pt x="1450" y="339"/>
                        </a:lnTo>
                        <a:lnTo>
                          <a:pt x="1457" y="331"/>
                        </a:lnTo>
                        <a:lnTo>
                          <a:pt x="1463" y="320"/>
                        </a:lnTo>
                        <a:lnTo>
                          <a:pt x="1465" y="310"/>
                        </a:lnTo>
                        <a:lnTo>
                          <a:pt x="1466" y="298"/>
                        </a:lnTo>
                        <a:lnTo>
                          <a:pt x="1466" y="60"/>
                        </a:lnTo>
                        <a:lnTo>
                          <a:pt x="1465" y="48"/>
                        </a:lnTo>
                        <a:lnTo>
                          <a:pt x="1463" y="36"/>
                        </a:lnTo>
                        <a:lnTo>
                          <a:pt x="1457" y="26"/>
                        </a:lnTo>
                        <a:lnTo>
                          <a:pt x="1450" y="18"/>
                        </a:lnTo>
                        <a:lnTo>
                          <a:pt x="1443" y="10"/>
                        </a:lnTo>
                        <a:lnTo>
                          <a:pt x="1434" y="4"/>
                        </a:lnTo>
                        <a:lnTo>
                          <a:pt x="1423" y="2"/>
                        </a:lnTo>
                        <a:lnTo>
                          <a:pt x="1412" y="0"/>
                        </a:lnTo>
                        <a:lnTo>
                          <a:pt x="54" y="0"/>
                        </a:lnTo>
                        <a:close/>
                      </a:path>
                    </a:pathLst>
                  </a:custGeom>
                  <a:solidFill>
                    <a:srgbClr val="66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1154520" y="4199040"/>
                  <a:ext cx="172116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ORGANISMO 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600" spc="-1" strike="noStrike">
                      <a:solidFill>
                        <a:srgbClr val="000000"/>
                      </a:solidFill>
                      <a:latin typeface="Arial"/>
                    </a:rPr>
                    <a:t>NORMALIZ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8" name=""/>
          <p:cNvGrpSpPr/>
          <p:nvPr/>
        </p:nvGrpSpPr>
        <p:grpSpPr>
          <a:xfrm>
            <a:off x="1200240" y="2616120"/>
            <a:ext cx="8477640" cy="1157040"/>
            <a:chOff x="1200240" y="2616120"/>
            <a:chExt cx="8477640" cy="1157040"/>
          </a:xfrm>
        </p:grpSpPr>
        <p:sp>
          <p:nvSpPr>
            <p:cNvPr id="169" name=""/>
            <p:cNvSpPr/>
            <p:nvPr/>
          </p:nvSpPr>
          <p:spPr>
            <a:xfrm>
              <a:off x="5391000" y="32655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9317160" y="2616120"/>
              <a:ext cx="360720" cy="1157040"/>
              <a:chOff x="9317160" y="2616120"/>
              <a:chExt cx="360720" cy="1157040"/>
            </a:xfrm>
          </p:grpSpPr>
          <p:sp>
            <p:nvSpPr>
              <p:cNvPr id="171" name=""/>
              <p:cNvSpPr/>
              <p:nvPr/>
            </p:nvSpPr>
            <p:spPr>
              <a:xfrm>
                <a:off x="9634320" y="28638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496080" y="2635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9493200" y="2994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493200" y="3176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489960" y="3354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9483480" y="3548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9317160" y="2616120"/>
                <a:ext cx="257040" cy="1157040"/>
                <a:chOff x="9317160" y="2616120"/>
                <a:chExt cx="257040" cy="11570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9317160" y="2616120"/>
                  <a:ext cx="257040" cy="1157040"/>
                  <a:chOff x="9317160" y="2616120"/>
                  <a:chExt cx="257040" cy="11570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9317160" y="2616120"/>
                    <a:ext cx="233280" cy="11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711">
                        <a:moveTo>
                          <a:pt x="24" y="0"/>
                        </a:moveTo>
                        <a:lnTo>
                          <a:pt x="15" y="2"/>
                        </a:lnTo>
                        <a:lnTo>
                          <a:pt x="8" y="8"/>
                        </a:lnTo>
                        <a:lnTo>
                          <a:pt x="2" y="16"/>
                        </a:lnTo>
                        <a:lnTo>
                          <a:pt x="0" y="28"/>
                        </a:lnTo>
                        <a:lnTo>
                          <a:pt x="0" y="685"/>
                        </a:lnTo>
                        <a:lnTo>
                          <a:pt x="2" y="695"/>
                        </a:lnTo>
                        <a:lnTo>
                          <a:pt x="8" y="703"/>
                        </a:lnTo>
                        <a:lnTo>
                          <a:pt x="15" y="709"/>
                        </a:lnTo>
                        <a:lnTo>
                          <a:pt x="24" y="711"/>
                        </a:lnTo>
                        <a:lnTo>
                          <a:pt x="124" y="711"/>
                        </a:lnTo>
                        <a:lnTo>
                          <a:pt x="133" y="709"/>
                        </a:lnTo>
                        <a:lnTo>
                          <a:pt x="140" y="703"/>
                        </a:lnTo>
                        <a:lnTo>
                          <a:pt x="145" y="695"/>
                        </a:lnTo>
                        <a:lnTo>
                          <a:pt x="147" y="685"/>
                        </a:lnTo>
                        <a:lnTo>
                          <a:pt x="147" y="28"/>
                        </a:lnTo>
                        <a:lnTo>
                          <a:pt x="145" y="16"/>
                        </a:lnTo>
                        <a:lnTo>
                          <a:pt x="140" y="8"/>
                        </a:lnTo>
                        <a:lnTo>
                          <a:pt x="133" y="2"/>
                        </a:lnTo>
                        <a:lnTo>
                          <a:pt x="124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9340920" y="2644560"/>
                    <a:ext cx="233280" cy="11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711">
                        <a:moveTo>
                          <a:pt x="25" y="0"/>
                        </a:moveTo>
                        <a:lnTo>
                          <a:pt x="14" y="2"/>
                        </a:lnTo>
                        <a:lnTo>
                          <a:pt x="7" y="8"/>
                        </a:lnTo>
                        <a:lnTo>
                          <a:pt x="2" y="15"/>
                        </a:lnTo>
                        <a:lnTo>
                          <a:pt x="0" y="25"/>
                        </a:lnTo>
                        <a:lnTo>
                          <a:pt x="0" y="683"/>
                        </a:lnTo>
                        <a:lnTo>
                          <a:pt x="2" y="695"/>
                        </a:lnTo>
                        <a:lnTo>
                          <a:pt x="7" y="703"/>
                        </a:lnTo>
                        <a:lnTo>
                          <a:pt x="14" y="709"/>
                        </a:lnTo>
                        <a:lnTo>
                          <a:pt x="25" y="711"/>
                        </a:lnTo>
                        <a:lnTo>
                          <a:pt x="123" y="711"/>
                        </a:lnTo>
                        <a:lnTo>
                          <a:pt x="132" y="709"/>
                        </a:lnTo>
                        <a:lnTo>
                          <a:pt x="139" y="703"/>
                        </a:lnTo>
                        <a:lnTo>
                          <a:pt x="145" y="695"/>
                        </a:lnTo>
                        <a:lnTo>
                          <a:pt x="147" y="683"/>
                        </a:lnTo>
                        <a:lnTo>
                          <a:pt x="147" y="25"/>
                        </a:lnTo>
                        <a:lnTo>
                          <a:pt x="145" y="15"/>
                        </a:lnTo>
                        <a:lnTo>
                          <a:pt x="139" y="8"/>
                        </a:lnTo>
                        <a:lnTo>
                          <a:pt x="132" y="2"/>
                        </a:lnTo>
                        <a:lnTo>
                          <a:pt x="123" y="0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9329760" y="2631960"/>
                    <a:ext cx="231840" cy="11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711">
                        <a:moveTo>
                          <a:pt x="23" y="0"/>
                        </a:moveTo>
                        <a:lnTo>
                          <a:pt x="14" y="2"/>
                        </a:lnTo>
                        <a:lnTo>
                          <a:pt x="7" y="8"/>
                        </a:lnTo>
                        <a:lnTo>
                          <a:pt x="1" y="16"/>
                        </a:lnTo>
                        <a:lnTo>
                          <a:pt x="0" y="25"/>
                        </a:lnTo>
                        <a:lnTo>
                          <a:pt x="0" y="683"/>
                        </a:lnTo>
                        <a:lnTo>
                          <a:pt x="1" y="693"/>
                        </a:lnTo>
                        <a:lnTo>
                          <a:pt x="7" y="703"/>
                        </a:lnTo>
                        <a:lnTo>
                          <a:pt x="14" y="709"/>
                        </a:lnTo>
                        <a:lnTo>
                          <a:pt x="23" y="711"/>
                        </a:lnTo>
                        <a:lnTo>
                          <a:pt x="123" y="711"/>
                        </a:lnTo>
                        <a:lnTo>
                          <a:pt x="132" y="709"/>
                        </a:lnTo>
                        <a:lnTo>
                          <a:pt x="139" y="703"/>
                        </a:lnTo>
                        <a:lnTo>
                          <a:pt x="144" y="693"/>
                        </a:lnTo>
                        <a:lnTo>
                          <a:pt x="146" y="683"/>
                        </a:lnTo>
                        <a:lnTo>
                          <a:pt x="146" y="25"/>
                        </a:lnTo>
                        <a:lnTo>
                          <a:pt x="144" y="16"/>
                        </a:lnTo>
                        <a:lnTo>
                          <a:pt x="139" y="8"/>
                        </a:lnTo>
                        <a:lnTo>
                          <a:pt x="132" y="2"/>
                        </a:lnTo>
                        <a:lnTo>
                          <a:pt x="12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9391320" y="2635200"/>
                  <a:ext cx="11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9426240" y="28159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9397440" y="2993760"/>
                  <a:ext cx="102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9397440" y="3176280"/>
                  <a:ext cx="102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01400" y="3354120"/>
                  <a:ext cx="93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403560" y="3544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6629400" y="2997360"/>
              <a:ext cx="1747800" cy="541080"/>
              <a:chOff x="6629400" y="2997360"/>
              <a:chExt cx="1747800" cy="54108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6629400" y="2997360"/>
                <a:ext cx="1747800" cy="541080"/>
                <a:chOff x="6629400" y="2997360"/>
                <a:chExt cx="1747800" cy="5410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629400" y="2997360"/>
                  <a:ext cx="1724040" cy="515880"/>
                </a:xfrm>
                <a:custGeom>
                  <a:avLst/>
                  <a:gdLst/>
                  <a:ahLst/>
                  <a:rect l="l" t="t" r="r" b="b"/>
                  <a:pathLst>
                    <a:path w="1086" h="325">
                      <a:moveTo>
                        <a:pt x="49" y="0"/>
                      </a:moveTo>
                      <a:lnTo>
                        <a:pt x="40" y="2"/>
                      </a:lnTo>
                      <a:lnTo>
                        <a:pt x="29" y="4"/>
                      </a:lnTo>
                      <a:lnTo>
                        <a:pt x="14" y="16"/>
                      </a:lnTo>
                      <a:lnTo>
                        <a:pt x="3" y="34"/>
                      </a:lnTo>
                      <a:lnTo>
                        <a:pt x="2" y="45"/>
                      </a:lnTo>
                      <a:lnTo>
                        <a:pt x="0" y="55"/>
                      </a:lnTo>
                      <a:lnTo>
                        <a:pt x="0" y="270"/>
                      </a:lnTo>
                      <a:lnTo>
                        <a:pt x="2" y="282"/>
                      </a:lnTo>
                      <a:lnTo>
                        <a:pt x="3" y="292"/>
                      </a:lnTo>
                      <a:lnTo>
                        <a:pt x="14" y="309"/>
                      </a:lnTo>
                      <a:lnTo>
                        <a:pt x="29" y="321"/>
                      </a:lnTo>
                      <a:lnTo>
                        <a:pt x="40" y="323"/>
                      </a:lnTo>
                      <a:lnTo>
                        <a:pt x="49" y="325"/>
                      </a:lnTo>
                      <a:lnTo>
                        <a:pt x="1037" y="325"/>
                      </a:lnTo>
                      <a:lnTo>
                        <a:pt x="1046" y="323"/>
                      </a:lnTo>
                      <a:lnTo>
                        <a:pt x="1057" y="321"/>
                      </a:lnTo>
                      <a:lnTo>
                        <a:pt x="1072" y="309"/>
                      </a:lnTo>
                      <a:lnTo>
                        <a:pt x="1082" y="292"/>
                      </a:lnTo>
                      <a:lnTo>
                        <a:pt x="1084" y="282"/>
                      </a:lnTo>
                      <a:lnTo>
                        <a:pt x="1086" y="270"/>
                      </a:lnTo>
                      <a:lnTo>
                        <a:pt x="1086" y="55"/>
                      </a:lnTo>
                      <a:lnTo>
                        <a:pt x="1084" y="45"/>
                      </a:lnTo>
                      <a:lnTo>
                        <a:pt x="1082" y="34"/>
                      </a:lnTo>
                      <a:lnTo>
                        <a:pt x="1072" y="16"/>
                      </a:lnTo>
                      <a:lnTo>
                        <a:pt x="1057" y="4"/>
                      </a:lnTo>
                      <a:lnTo>
                        <a:pt x="1046" y="2"/>
                      </a:lnTo>
                      <a:lnTo>
                        <a:pt x="1037" y="0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651720" y="3025800"/>
                  <a:ext cx="1725480" cy="512640"/>
                </a:xfrm>
                <a:custGeom>
                  <a:avLst/>
                  <a:gdLst/>
                  <a:ahLst/>
                  <a:rect l="l" t="t" r="r" b="b"/>
                  <a:pathLst>
                    <a:path w="1087" h="323">
                      <a:moveTo>
                        <a:pt x="51" y="0"/>
                      </a:moveTo>
                      <a:lnTo>
                        <a:pt x="40" y="2"/>
                      </a:lnTo>
                      <a:lnTo>
                        <a:pt x="31" y="4"/>
                      </a:lnTo>
                      <a:lnTo>
                        <a:pt x="15" y="16"/>
                      </a:lnTo>
                      <a:lnTo>
                        <a:pt x="4" y="31"/>
                      </a:lnTo>
                      <a:lnTo>
                        <a:pt x="2" y="43"/>
                      </a:lnTo>
                      <a:lnTo>
                        <a:pt x="0" y="53"/>
                      </a:lnTo>
                      <a:lnTo>
                        <a:pt x="0" y="270"/>
                      </a:lnTo>
                      <a:lnTo>
                        <a:pt x="2" y="280"/>
                      </a:lnTo>
                      <a:lnTo>
                        <a:pt x="4" y="291"/>
                      </a:lnTo>
                      <a:lnTo>
                        <a:pt x="15" y="307"/>
                      </a:lnTo>
                      <a:lnTo>
                        <a:pt x="31" y="319"/>
                      </a:lnTo>
                      <a:lnTo>
                        <a:pt x="40" y="321"/>
                      </a:lnTo>
                      <a:lnTo>
                        <a:pt x="51" y="323"/>
                      </a:lnTo>
                      <a:lnTo>
                        <a:pt x="1038" y="323"/>
                      </a:lnTo>
                      <a:lnTo>
                        <a:pt x="1047" y="321"/>
                      </a:lnTo>
                      <a:lnTo>
                        <a:pt x="1058" y="319"/>
                      </a:lnTo>
                      <a:lnTo>
                        <a:pt x="1072" y="307"/>
                      </a:lnTo>
                      <a:lnTo>
                        <a:pt x="1083" y="291"/>
                      </a:lnTo>
                      <a:lnTo>
                        <a:pt x="1085" y="280"/>
                      </a:lnTo>
                      <a:lnTo>
                        <a:pt x="1087" y="270"/>
                      </a:lnTo>
                      <a:lnTo>
                        <a:pt x="1087" y="53"/>
                      </a:lnTo>
                      <a:lnTo>
                        <a:pt x="1085" y="43"/>
                      </a:lnTo>
                      <a:lnTo>
                        <a:pt x="1083" y="31"/>
                      </a:lnTo>
                      <a:lnTo>
                        <a:pt x="1072" y="16"/>
                      </a:lnTo>
                      <a:lnTo>
                        <a:pt x="1058" y="4"/>
                      </a:lnTo>
                      <a:lnTo>
                        <a:pt x="1047" y="2"/>
                      </a:lnTo>
                      <a:lnTo>
                        <a:pt x="1038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640560" y="3009960"/>
                  <a:ext cx="1724040" cy="515880"/>
                </a:xfrm>
                <a:custGeom>
                  <a:avLst/>
                  <a:gdLst/>
                  <a:ahLst/>
                  <a:rect l="l" t="t" r="r" b="b"/>
                  <a:pathLst>
                    <a:path w="1086" h="325">
                      <a:moveTo>
                        <a:pt x="49" y="0"/>
                      </a:moveTo>
                      <a:lnTo>
                        <a:pt x="40" y="2"/>
                      </a:lnTo>
                      <a:lnTo>
                        <a:pt x="29" y="4"/>
                      </a:lnTo>
                      <a:lnTo>
                        <a:pt x="14" y="16"/>
                      </a:lnTo>
                      <a:lnTo>
                        <a:pt x="4" y="34"/>
                      </a:lnTo>
                      <a:lnTo>
                        <a:pt x="2" y="45"/>
                      </a:lnTo>
                      <a:lnTo>
                        <a:pt x="0" y="55"/>
                      </a:lnTo>
                      <a:lnTo>
                        <a:pt x="0" y="272"/>
                      </a:lnTo>
                      <a:lnTo>
                        <a:pt x="2" y="282"/>
                      </a:lnTo>
                      <a:lnTo>
                        <a:pt x="4" y="294"/>
                      </a:lnTo>
                      <a:lnTo>
                        <a:pt x="14" y="309"/>
                      </a:lnTo>
                      <a:lnTo>
                        <a:pt x="29" y="321"/>
                      </a:lnTo>
                      <a:lnTo>
                        <a:pt x="40" y="323"/>
                      </a:lnTo>
                      <a:lnTo>
                        <a:pt x="49" y="325"/>
                      </a:lnTo>
                      <a:lnTo>
                        <a:pt x="1037" y="325"/>
                      </a:lnTo>
                      <a:lnTo>
                        <a:pt x="1046" y="323"/>
                      </a:lnTo>
                      <a:lnTo>
                        <a:pt x="1057" y="321"/>
                      </a:lnTo>
                      <a:lnTo>
                        <a:pt x="1072" y="309"/>
                      </a:lnTo>
                      <a:lnTo>
                        <a:pt x="1083" y="294"/>
                      </a:lnTo>
                      <a:lnTo>
                        <a:pt x="1085" y="282"/>
                      </a:lnTo>
                      <a:lnTo>
                        <a:pt x="1086" y="272"/>
                      </a:lnTo>
                      <a:lnTo>
                        <a:pt x="1086" y="55"/>
                      </a:lnTo>
                      <a:lnTo>
                        <a:pt x="1085" y="45"/>
                      </a:lnTo>
                      <a:lnTo>
                        <a:pt x="1083" y="34"/>
                      </a:lnTo>
                      <a:lnTo>
                        <a:pt x="1072" y="16"/>
                      </a:lnTo>
                      <a:lnTo>
                        <a:pt x="1057" y="4"/>
                      </a:lnTo>
                      <a:lnTo>
                        <a:pt x="1046" y="2"/>
                      </a:lnTo>
                      <a:lnTo>
                        <a:pt x="1037" y="0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6762600" y="3024000"/>
                <a:ext cx="154944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CONSEJ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</a:rPr>
                  <a:t>ASESOR</a:t>
                </a: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1200240" y="2951280"/>
              <a:ext cx="4241160" cy="642960"/>
              <a:chOff x="1200240" y="2951280"/>
              <a:chExt cx="4241160" cy="64296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1200240" y="2951280"/>
                <a:ext cx="4241160" cy="642960"/>
                <a:chOff x="1200240" y="2951280"/>
                <a:chExt cx="4241160" cy="6429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200240" y="2951280"/>
                  <a:ext cx="4220280" cy="619200"/>
                </a:xfrm>
                <a:custGeom>
                  <a:avLst/>
                  <a:gdLst/>
                  <a:ahLst/>
                  <a:rect l="l" t="t" r="r" b="b"/>
                  <a:pathLst>
                    <a:path w="2987" h="390">
                      <a:moveTo>
                        <a:pt x="60" y="0"/>
                      </a:moveTo>
                      <a:lnTo>
                        <a:pt x="47" y="2"/>
                      </a:lnTo>
                      <a:lnTo>
                        <a:pt x="36" y="6"/>
                      </a:lnTo>
                      <a:lnTo>
                        <a:pt x="25" y="10"/>
                      </a:lnTo>
                      <a:lnTo>
                        <a:pt x="16" y="17"/>
                      </a:lnTo>
                      <a:lnTo>
                        <a:pt x="9" y="27"/>
                      </a:lnTo>
                      <a:lnTo>
                        <a:pt x="3" y="39"/>
                      </a:lnTo>
                      <a:lnTo>
                        <a:pt x="0" y="51"/>
                      </a:lnTo>
                      <a:lnTo>
                        <a:pt x="0" y="65"/>
                      </a:lnTo>
                      <a:lnTo>
                        <a:pt x="0" y="325"/>
                      </a:lnTo>
                      <a:lnTo>
                        <a:pt x="0" y="338"/>
                      </a:lnTo>
                      <a:lnTo>
                        <a:pt x="3" y="350"/>
                      </a:lnTo>
                      <a:lnTo>
                        <a:pt x="9" y="360"/>
                      </a:lnTo>
                      <a:lnTo>
                        <a:pt x="16" y="370"/>
                      </a:lnTo>
                      <a:lnTo>
                        <a:pt x="25" y="378"/>
                      </a:lnTo>
                      <a:lnTo>
                        <a:pt x="36" y="384"/>
                      </a:lnTo>
                      <a:lnTo>
                        <a:pt x="47" y="388"/>
                      </a:lnTo>
                      <a:lnTo>
                        <a:pt x="60" y="390"/>
                      </a:lnTo>
                      <a:lnTo>
                        <a:pt x="2927" y="390"/>
                      </a:lnTo>
                      <a:lnTo>
                        <a:pt x="2940" y="388"/>
                      </a:lnTo>
                      <a:lnTo>
                        <a:pt x="2951" y="384"/>
                      </a:lnTo>
                      <a:lnTo>
                        <a:pt x="2960" y="378"/>
                      </a:lnTo>
                      <a:lnTo>
                        <a:pt x="2969" y="370"/>
                      </a:lnTo>
                      <a:lnTo>
                        <a:pt x="2976" y="360"/>
                      </a:lnTo>
                      <a:lnTo>
                        <a:pt x="2982" y="350"/>
                      </a:lnTo>
                      <a:lnTo>
                        <a:pt x="2985" y="338"/>
                      </a:lnTo>
                      <a:lnTo>
                        <a:pt x="2987" y="325"/>
                      </a:lnTo>
                      <a:lnTo>
                        <a:pt x="2987" y="65"/>
                      </a:lnTo>
                      <a:lnTo>
                        <a:pt x="2985" y="51"/>
                      </a:lnTo>
                      <a:lnTo>
                        <a:pt x="2982" y="39"/>
                      </a:lnTo>
                      <a:lnTo>
                        <a:pt x="2976" y="27"/>
                      </a:lnTo>
                      <a:lnTo>
                        <a:pt x="2969" y="17"/>
                      </a:lnTo>
                      <a:lnTo>
                        <a:pt x="2960" y="10"/>
                      </a:lnTo>
                      <a:lnTo>
                        <a:pt x="2951" y="6"/>
                      </a:lnTo>
                      <a:lnTo>
                        <a:pt x="2940" y="2"/>
                      </a:lnTo>
                      <a:lnTo>
                        <a:pt x="2927" y="0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220040" y="2975040"/>
                  <a:ext cx="4221360" cy="619200"/>
                </a:xfrm>
                <a:custGeom>
                  <a:avLst/>
                  <a:gdLst/>
                  <a:ahLst/>
                  <a:rect l="l" t="t" r="r" b="b"/>
                  <a:pathLst>
                    <a:path w="2988" h="390">
                      <a:moveTo>
                        <a:pt x="60" y="0"/>
                      </a:moveTo>
                      <a:lnTo>
                        <a:pt x="47" y="2"/>
                      </a:lnTo>
                      <a:lnTo>
                        <a:pt x="37" y="6"/>
                      </a:lnTo>
                      <a:lnTo>
                        <a:pt x="26" y="12"/>
                      </a:lnTo>
                      <a:lnTo>
                        <a:pt x="17" y="20"/>
                      </a:lnTo>
                      <a:lnTo>
                        <a:pt x="9" y="30"/>
                      </a:lnTo>
                      <a:lnTo>
                        <a:pt x="4" y="40"/>
                      </a:lnTo>
                      <a:lnTo>
                        <a:pt x="0" y="52"/>
                      </a:lnTo>
                      <a:lnTo>
                        <a:pt x="0" y="65"/>
                      </a:lnTo>
                      <a:lnTo>
                        <a:pt x="0" y="325"/>
                      </a:lnTo>
                      <a:lnTo>
                        <a:pt x="0" y="339"/>
                      </a:lnTo>
                      <a:lnTo>
                        <a:pt x="4" y="351"/>
                      </a:lnTo>
                      <a:lnTo>
                        <a:pt x="9" y="363"/>
                      </a:lnTo>
                      <a:lnTo>
                        <a:pt x="17" y="373"/>
                      </a:lnTo>
                      <a:lnTo>
                        <a:pt x="26" y="381"/>
                      </a:lnTo>
                      <a:lnTo>
                        <a:pt x="37" y="387"/>
                      </a:lnTo>
                      <a:lnTo>
                        <a:pt x="47" y="388"/>
                      </a:lnTo>
                      <a:lnTo>
                        <a:pt x="60" y="390"/>
                      </a:lnTo>
                      <a:lnTo>
                        <a:pt x="2928" y="390"/>
                      </a:lnTo>
                      <a:lnTo>
                        <a:pt x="2941" y="388"/>
                      </a:lnTo>
                      <a:lnTo>
                        <a:pt x="2952" y="387"/>
                      </a:lnTo>
                      <a:lnTo>
                        <a:pt x="2962" y="381"/>
                      </a:lnTo>
                      <a:lnTo>
                        <a:pt x="2971" y="373"/>
                      </a:lnTo>
                      <a:lnTo>
                        <a:pt x="2979" y="363"/>
                      </a:lnTo>
                      <a:lnTo>
                        <a:pt x="2984" y="351"/>
                      </a:lnTo>
                      <a:lnTo>
                        <a:pt x="2986" y="339"/>
                      </a:lnTo>
                      <a:lnTo>
                        <a:pt x="2988" y="325"/>
                      </a:lnTo>
                      <a:lnTo>
                        <a:pt x="2988" y="65"/>
                      </a:lnTo>
                      <a:lnTo>
                        <a:pt x="2986" y="52"/>
                      </a:lnTo>
                      <a:lnTo>
                        <a:pt x="2984" y="40"/>
                      </a:lnTo>
                      <a:lnTo>
                        <a:pt x="2979" y="30"/>
                      </a:lnTo>
                      <a:lnTo>
                        <a:pt x="2971" y="20"/>
                      </a:lnTo>
                      <a:lnTo>
                        <a:pt x="2962" y="12"/>
                      </a:lnTo>
                      <a:lnTo>
                        <a:pt x="2952" y="6"/>
                      </a:lnTo>
                      <a:lnTo>
                        <a:pt x="2941" y="2"/>
                      </a:lnTo>
                      <a:lnTo>
                        <a:pt x="2928" y="0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09960" y="2963880"/>
                  <a:ext cx="4220280" cy="619200"/>
                </a:xfrm>
                <a:custGeom>
                  <a:avLst/>
                  <a:gdLst/>
                  <a:ahLst/>
                  <a:rect l="l" t="t" r="r" b="b"/>
                  <a:pathLst>
                    <a:path w="2987" h="390">
                      <a:moveTo>
                        <a:pt x="60" y="0"/>
                      </a:moveTo>
                      <a:lnTo>
                        <a:pt x="47" y="2"/>
                      </a:lnTo>
                      <a:lnTo>
                        <a:pt x="36" y="6"/>
                      </a:lnTo>
                      <a:lnTo>
                        <a:pt x="25" y="11"/>
                      </a:lnTo>
                      <a:lnTo>
                        <a:pt x="16" y="19"/>
                      </a:lnTo>
                      <a:lnTo>
                        <a:pt x="9" y="29"/>
                      </a:lnTo>
                      <a:lnTo>
                        <a:pt x="4" y="39"/>
                      </a:lnTo>
                      <a:lnTo>
                        <a:pt x="0" y="51"/>
                      </a:lnTo>
                      <a:lnTo>
                        <a:pt x="0" y="65"/>
                      </a:lnTo>
                      <a:lnTo>
                        <a:pt x="0" y="325"/>
                      </a:lnTo>
                      <a:lnTo>
                        <a:pt x="0" y="338"/>
                      </a:lnTo>
                      <a:lnTo>
                        <a:pt x="4" y="350"/>
                      </a:lnTo>
                      <a:lnTo>
                        <a:pt x="9" y="360"/>
                      </a:lnTo>
                      <a:lnTo>
                        <a:pt x="16" y="370"/>
                      </a:lnTo>
                      <a:lnTo>
                        <a:pt x="25" y="378"/>
                      </a:lnTo>
                      <a:lnTo>
                        <a:pt x="36" y="384"/>
                      </a:lnTo>
                      <a:lnTo>
                        <a:pt x="47" y="388"/>
                      </a:lnTo>
                      <a:lnTo>
                        <a:pt x="60" y="390"/>
                      </a:lnTo>
                      <a:lnTo>
                        <a:pt x="2928" y="390"/>
                      </a:lnTo>
                      <a:lnTo>
                        <a:pt x="2940" y="388"/>
                      </a:lnTo>
                      <a:lnTo>
                        <a:pt x="2951" y="384"/>
                      </a:lnTo>
                      <a:lnTo>
                        <a:pt x="2960" y="378"/>
                      </a:lnTo>
                      <a:lnTo>
                        <a:pt x="2969" y="370"/>
                      </a:lnTo>
                      <a:lnTo>
                        <a:pt x="2977" y="360"/>
                      </a:lnTo>
                      <a:lnTo>
                        <a:pt x="2982" y="350"/>
                      </a:lnTo>
                      <a:lnTo>
                        <a:pt x="2986" y="338"/>
                      </a:lnTo>
                      <a:lnTo>
                        <a:pt x="2987" y="325"/>
                      </a:lnTo>
                      <a:lnTo>
                        <a:pt x="2987" y="65"/>
                      </a:lnTo>
                      <a:lnTo>
                        <a:pt x="2986" y="51"/>
                      </a:lnTo>
                      <a:lnTo>
                        <a:pt x="2982" y="39"/>
                      </a:lnTo>
                      <a:lnTo>
                        <a:pt x="2977" y="29"/>
                      </a:lnTo>
                      <a:lnTo>
                        <a:pt x="2969" y="19"/>
                      </a:lnTo>
                      <a:lnTo>
                        <a:pt x="2960" y="11"/>
                      </a:lnTo>
                      <a:lnTo>
                        <a:pt x="2951" y="6"/>
                      </a:lnTo>
                      <a:lnTo>
                        <a:pt x="2940" y="2"/>
                      </a:lnTo>
                      <a:lnTo>
                        <a:pt x="2928" y="0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1599840" y="3015000"/>
                <a:ext cx="34678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CONSEJO NACIONAL DE NORMAS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</a:rPr>
                  <a:t>CALIDAD Y CERTIFIC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1288440" y="6418440"/>
            <a:ext cx="2315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 u="sng">
                <a:solidFill>
                  <a:srgbClr val="000000"/>
                </a:solidFill>
                <a:uFillTx/>
                <a:latin typeface="Arial"/>
              </a:rPr>
              <a:t>Fuente: Decreto Nº 1474 </a:t>
            </a:r>
            <a:r>
              <a:rPr b="0" lang="es-MX" sz="1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MX" sz="1300" spc="-1" strike="noStrike" u="sng">
                <a:solidFill>
                  <a:srgbClr val="000000"/>
                </a:solidFill>
                <a:uFillTx/>
                <a:latin typeface="Arial"/>
              </a:rPr>
              <a:t> 9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38080" y="1031760"/>
            <a:ext cx="86868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una entidad privada sin fines de lucro, creada dentro del marco de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stema Nacional de Normas, Calidad y Certifica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para desarrollar las funciones establecidas en el Decreto Nº 1474 del año 1994. Tiene como autoridad de aplicación l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ecretaría de Industria, Comercio y Minerí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2563920"/>
            <a:ext cx="807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336699"/>
                </a:solidFill>
                <a:latin typeface="Arial"/>
              </a:rPr>
              <a:t>¿Cuáles son sus funciones actual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560" y="360360"/>
            <a:ext cx="604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c2d6"/>
                </a:solidFill>
                <a:latin typeface="Times New Roman"/>
              </a:rPr>
              <a:t>OA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42800" y="45878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credi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3149640"/>
            <a:ext cx="0" cy="340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320760"/>
            <a:ext cx="8077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6699"/>
                </a:solidFill>
                <a:latin typeface="Arial"/>
              </a:rPr>
              <a:t>¿Qué es el OAA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30840" y="3790800"/>
            <a:ext cx="316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boratorios de Calibra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Norma IRAM 301 – Norma ISO/IEC 170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51040" y="386712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30840" y="3156120"/>
            <a:ext cx="316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boratorios de Ensay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Norma IRAM 301 – Norma ISO/IEC 170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51040" y="323208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0560" y="4413240"/>
            <a:ext cx="585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rganismos de Certificación de Sistemas de Gestión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Norma IRAM 364 – Guía ISO/IEC 6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51040" y="448956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0560" y="6013440"/>
            <a:ext cx="451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rganismos de Certificación de Producto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Norma IRAM 352 – Guía ISO/IEC 6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51040" y="608976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1280" y="5384880"/>
            <a:ext cx="667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rganismos de Certificación de Sistemas de Gestión Ambienta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Guía ISO/IEC 6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51040" y="546084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560" y="360360"/>
            <a:ext cx="604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c2d6"/>
                </a:solidFill>
                <a:latin typeface="Times New Roman"/>
              </a:rPr>
              <a:t>OA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320760"/>
            <a:ext cx="8077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6699"/>
                </a:solidFill>
                <a:latin typeface="Arial"/>
              </a:rPr>
              <a:t>Acreditación de Laboratorios. Normas Aplicab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40000" y="1606680"/>
            <a:ext cx="5715000" cy="761760"/>
            <a:chOff x="2340000" y="1606680"/>
            <a:chExt cx="5715000" cy="761760"/>
          </a:xfrm>
        </p:grpSpPr>
        <p:sp>
          <p:nvSpPr>
            <p:cNvPr id="220" name=""/>
            <p:cNvSpPr/>
            <p:nvPr/>
          </p:nvSpPr>
          <p:spPr>
            <a:xfrm>
              <a:off x="2340000" y="1606680"/>
              <a:ext cx="57150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90000" y="1670040"/>
              <a:ext cx="49053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OA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Acredita según Norma IRAM 308 – Guía ISO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/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IEC 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844280" y="2368440"/>
            <a:ext cx="3353040" cy="3314880"/>
            <a:chOff x="1844280" y="2368440"/>
            <a:chExt cx="3353040" cy="3314880"/>
          </a:xfrm>
        </p:grpSpPr>
        <p:sp>
          <p:nvSpPr>
            <p:cNvPr id="223" name=""/>
            <p:cNvSpPr/>
            <p:nvPr/>
          </p:nvSpPr>
          <p:spPr>
            <a:xfrm>
              <a:off x="2359080" y="4464000"/>
              <a:ext cx="251460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59080" y="2825640"/>
              <a:ext cx="251460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14440" y="3144960"/>
              <a:ext cx="26164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Laboratorios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Ensay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14440" y="4767120"/>
              <a:ext cx="2616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Laboratorios de Calib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97320" y="2368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844280" y="25970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44640" y="2597040"/>
              <a:ext cx="0" cy="246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44640" y="5057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44640" y="3435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987800" y="2959200"/>
            <a:ext cx="3384720" cy="2533680"/>
            <a:chOff x="4987800" y="2959200"/>
            <a:chExt cx="3384720" cy="2533680"/>
          </a:xfrm>
        </p:grpSpPr>
        <p:sp>
          <p:nvSpPr>
            <p:cNvPr id="233" name=""/>
            <p:cNvSpPr/>
            <p:nvPr/>
          </p:nvSpPr>
          <p:spPr>
            <a:xfrm>
              <a:off x="6111720" y="2959200"/>
              <a:ext cx="19051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11720" y="4578480"/>
              <a:ext cx="19051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987800" y="3103560"/>
              <a:ext cx="3384720" cy="2252160"/>
              <a:chOff x="4987800" y="3103560"/>
              <a:chExt cx="3384720" cy="2252160"/>
            </a:xfrm>
          </p:grpSpPr>
          <p:sp>
            <p:nvSpPr>
              <p:cNvPr id="236" name=""/>
              <p:cNvSpPr/>
              <p:nvPr/>
            </p:nvSpPr>
            <p:spPr>
              <a:xfrm>
                <a:off x="4987800" y="5035680"/>
                <a:ext cx="102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87800" y="3416400"/>
                <a:ext cx="102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56400" y="3103560"/>
                <a:ext cx="261612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IRAM 301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ISO</a:t>
                </a: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</a:t>
                </a: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IEC 1702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49920" y="4724280"/>
                <a:ext cx="261612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IRAM 301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ISO</a:t>
                </a: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</a:t>
                </a: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IEC 1702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23880" y="320760"/>
            <a:ext cx="2362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6699"/>
                </a:solidFill>
                <a:latin typeface="Arial"/>
              </a:rPr>
              <a:t>Estructur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59640" y="4548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89640" y="4699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560" y="360360"/>
            <a:ext cx="604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c2d6"/>
                </a:solidFill>
                <a:latin typeface="Times New Roman"/>
              </a:rPr>
              <a:t>OA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70160" y="58680"/>
            <a:ext cx="6302160" cy="6583320"/>
            <a:chOff x="2270160" y="58680"/>
            <a:chExt cx="6302160" cy="6583320"/>
          </a:xfrm>
        </p:grpSpPr>
        <p:sp>
          <p:nvSpPr>
            <p:cNvPr id="245" name=""/>
            <p:cNvSpPr/>
            <p:nvPr/>
          </p:nvSpPr>
          <p:spPr>
            <a:xfrm>
              <a:off x="2279160" y="58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57000" y="2324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16400" y="24969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13520" y="2319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56360" y="24890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39320" y="2317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31400" y="2479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88320" y="2652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23800" y="20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42760" y="2840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8560" y="406440"/>
              <a:ext cx="49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ENT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64000" y="4064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15400" y="1214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2270160" y="157320"/>
              <a:ext cx="5486400" cy="2761920"/>
              <a:chOff x="2270160" y="157320"/>
              <a:chExt cx="5486400" cy="2761920"/>
            </a:xfrm>
          </p:grpSpPr>
          <p:sp>
            <p:nvSpPr>
              <p:cNvPr id="259" name=""/>
              <p:cNvSpPr/>
              <p:nvPr/>
            </p:nvSpPr>
            <p:spPr>
              <a:xfrm rot="5400000">
                <a:off x="4622400" y="-438120"/>
                <a:ext cx="509400" cy="17002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6058080" y="241200"/>
                <a:ext cx="1698480" cy="339840"/>
                <a:chOff x="6058080" y="241200"/>
                <a:chExt cx="1698480" cy="339840"/>
              </a:xfrm>
            </p:grpSpPr>
            <p:sp>
              <p:nvSpPr>
                <p:cNvPr id="261" name=""/>
                <p:cNvSpPr/>
                <p:nvPr/>
              </p:nvSpPr>
              <p:spPr>
                <a:xfrm rot="5400000">
                  <a:off x="6737400" y="-438120"/>
                  <a:ext cx="339840" cy="1698480"/>
                </a:xfrm>
                <a:prstGeom prst="rect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390360" y="285840"/>
                  <a:ext cx="1079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800" spc="-1" strike="noStrike">
                      <a:solidFill>
                        <a:srgbClr val="000000"/>
                      </a:solidFill>
                      <a:latin typeface="Arial"/>
                    </a:rPr>
                    <a:t>COMISIÓN REVISOR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MX" sz="800" spc="-1" strike="noStrike">
                      <a:solidFill>
                        <a:srgbClr val="000000"/>
                      </a:solidFill>
                      <a:latin typeface="Arial"/>
                    </a:rPr>
                    <a:t>DE CUENTA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 rot="5400000">
                <a:off x="4620600" y="504720"/>
                <a:ext cx="487440" cy="14842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2971440" y="368280"/>
                <a:ext cx="3683160" cy="1908360"/>
                <a:chOff x="2971440" y="368280"/>
                <a:chExt cx="3683160" cy="1908360"/>
              </a:xfrm>
            </p:grpSpPr>
            <p:sp>
              <p:nvSpPr>
                <p:cNvPr id="265" name=""/>
                <p:cNvSpPr/>
                <p:nvPr/>
              </p:nvSpPr>
              <p:spPr>
                <a:xfrm rot="5400000">
                  <a:off x="2895120" y="2054160"/>
                  <a:ext cx="241560" cy="25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5400000">
                  <a:off x="2972880" y="2179440"/>
                  <a:ext cx="84240" cy="87480"/>
                </a:xfrm>
                <a:custGeom>
                  <a:avLst/>
                  <a:gdLst/>
                  <a:ahLst/>
                  <a:rect l="l" t="t" r="r" b="b"/>
                  <a:pathLst>
                    <a:path w="53" h="55">
                      <a:moveTo>
                        <a:pt x="0" y="55"/>
                      </a:moveTo>
                      <a:lnTo>
                        <a:pt x="53" y="28"/>
                      </a:lnTo>
                      <a:lnTo>
                        <a:pt x="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5400000">
                  <a:off x="6489360" y="2062080"/>
                  <a:ext cx="244440" cy="25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5400000">
                  <a:off x="6567840" y="2189880"/>
                  <a:ext cx="86040" cy="87480"/>
                </a:xfrm>
                <a:custGeom>
                  <a:avLst/>
                  <a:gdLst/>
                  <a:ahLst/>
                  <a:rect l="l" t="t" r="r" b="b"/>
                  <a:pathLst>
                    <a:path w="54" h="55">
                      <a:moveTo>
                        <a:pt x="0" y="55"/>
                      </a:moveTo>
                      <a:lnTo>
                        <a:pt x="54" y="28"/>
                      </a:lnTo>
                      <a:lnTo>
                        <a:pt x="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005280" y="368280"/>
                  <a:ext cx="3611520" cy="1585800"/>
                  <a:chOff x="3005280" y="368280"/>
                  <a:chExt cx="3611520" cy="158580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rot="5400000">
                    <a:off x="4798440" y="135360"/>
                    <a:ext cx="25200" cy="3611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4835160" y="368280"/>
                    <a:ext cx="1209600" cy="639720"/>
                    <a:chOff x="4835160" y="368280"/>
                    <a:chExt cx="1209600" cy="639720"/>
                  </a:xfrm>
                </p:grpSpPr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4835160" y="668160"/>
                      <a:ext cx="87480" cy="339840"/>
                      <a:chOff x="4835160" y="668160"/>
                      <a:chExt cx="87480" cy="33984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 rot="5400000">
                        <a:off x="4789080" y="822240"/>
                        <a:ext cx="181080" cy="255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 rot="5400000">
                        <a:off x="4836600" y="666360"/>
                        <a:ext cx="8424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55">
                            <a:moveTo>
                              <a:pt x="53" y="0"/>
                            </a:moveTo>
                            <a:lnTo>
                              <a:pt x="0" y="29"/>
                            </a:lnTo>
                            <a:lnTo>
                              <a:pt x="53" y="55"/>
                            </a:lnTo>
                            <a:lnTo>
                              <a:pt x="53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 rot="5400000">
                        <a:off x="4834440" y="919800"/>
                        <a:ext cx="8892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55">
                            <a:moveTo>
                              <a:pt x="0" y="55"/>
                            </a:moveTo>
                            <a:lnTo>
                              <a:pt x="56" y="29"/>
                            </a:lnTo>
                            <a:lnTo>
                              <a:pt x="0" y="0"/>
                            </a:lnTo>
                            <a:lnTo>
                              <a:pt x="0" y="5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6" name=""/>
                    <p:cNvGrpSpPr/>
                    <p:nvPr/>
                  </p:nvGrpSpPr>
                  <p:grpSpPr>
                    <a:xfrm>
                      <a:off x="5727240" y="368280"/>
                      <a:ext cx="317520" cy="87480"/>
                      <a:chOff x="5727240" y="368280"/>
                      <a:chExt cx="317520" cy="87480"/>
                    </a:xfrm>
                  </p:grpSpPr>
                  <p:sp>
                    <p:nvSpPr>
                      <p:cNvPr id="277" name=""/>
                      <p:cNvSpPr/>
                      <p:nvPr/>
                    </p:nvSpPr>
                    <p:spPr>
                      <a:xfrm rot="5400000">
                        <a:off x="5913000" y="291960"/>
                        <a:ext cx="25200" cy="2379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 rot="5400000">
                        <a:off x="5727960" y="367560"/>
                        <a:ext cx="87480" cy="8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56">
                            <a:moveTo>
                              <a:pt x="0" y="0"/>
                            </a:moveTo>
                            <a:lnTo>
                              <a:pt x="28" y="56"/>
                            </a:lnTo>
                            <a:lnTo>
                              <a:pt x="55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120" bIns="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79" name=""/>
                  <p:cNvSpPr/>
                  <p:nvPr/>
                </p:nvSpPr>
                <p:spPr>
                  <a:xfrm rot="5400000">
                    <a:off x="4658400" y="1715400"/>
                    <a:ext cx="424080" cy="252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0" name=""/>
              <p:cNvGrpSpPr/>
              <p:nvPr/>
            </p:nvGrpSpPr>
            <p:grpSpPr>
              <a:xfrm>
                <a:off x="2270160" y="2278080"/>
                <a:ext cx="5138280" cy="641160"/>
                <a:chOff x="2270160" y="2278080"/>
                <a:chExt cx="5138280" cy="641160"/>
              </a:xfrm>
            </p:grpSpPr>
            <p:grpSp>
              <p:nvGrpSpPr>
                <p:cNvPr id="281" name=""/>
                <p:cNvGrpSpPr/>
                <p:nvPr/>
              </p:nvGrpSpPr>
              <p:grpSpPr>
                <a:xfrm>
                  <a:off x="5814720" y="2282760"/>
                  <a:ext cx="1593720" cy="636480"/>
                  <a:chOff x="5814720" y="2282760"/>
                  <a:chExt cx="1593720" cy="63648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rot="5400000">
                    <a:off x="6293160" y="1803960"/>
                    <a:ext cx="636480" cy="159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267240" y="2419200"/>
                    <a:ext cx="6850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CONSEJO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6215400" y="2589120"/>
                    <a:ext cx="7930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EJECUTIVO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2270160" y="2279520"/>
                  <a:ext cx="1844640" cy="636840"/>
                  <a:chOff x="2270160" y="2279520"/>
                  <a:chExt cx="1844640" cy="636840"/>
                </a:xfrm>
              </p:grpSpPr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2270160" y="2279520"/>
                    <a:ext cx="1595520" cy="636840"/>
                    <a:chOff x="2270160" y="2279520"/>
                    <a:chExt cx="1595520" cy="63684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rot="5400000">
                      <a:off x="2749320" y="1800000"/>
                      <a:ext cx="636840" cy="1595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2628720" y="2433600"/>
                      <a:ext cx="762840" cy="335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J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9" name=""/>
                  <p:cNvSpPr/>
                  <p:nvPr/>
                </p:nvSpPr>
                <p:spPr>
                  <a:xfrm>
                    <a:off x="3863880" y="2595600"/>
                    <a:ext cx="250920" cy="14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4076640" y="2278080"/>
                  <a:ext cx="1594080" cy="636480"/>
                  <a:chOff x="4076640" y="2278080"/>
                  <a:chExt cx="1594080" cy="6364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5400000">
                    <a:off x="4555440" y="1799280"/>
                    <a:ext cx="636480" cy="1594080"/>
                  </a:xfrm>
                  <a:prstGeom prst="rect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4265280" y="2368440"/>
                    <a:ext cx="1218240" cy="442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VICEPRESIDENTE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900" spc="-1" strike="noStrike">
                        <a:solidFill>
                          <a:srgbClr val="000000"/>
                        </a:solidFill>
                        <a:latin typeface="Arial"/>
                      </a:rPr>
                      <a:t>RESPONSABLE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900" spc="-1" strike="noStrike">
                        <a:solidFill>
                          <a:srgbClr val="000000"/>
                        </a:solidFill>
                        <a:latin typeface="Arial"/>
                      </a:rPr>
                      <a:t>DE LA CALIDA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3" name=""/>
            <p:cNvSpPr/>
            <p:nvPr/>
          </p:nvSpPr>
          <p:spPr>
            <a:xfrm>
              <a:off x="4412520" y="309600"/>
              <a:ext cx="933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SAMBLE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21880" y="1157400"/>
              <a:ext cx="89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ESIDE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4832280" y="3270240"/>
              <a:ext cx="3129840" cy="3371760"/>
              <a:chOff x="4832280" y="3270240"/>
              <a:chExt cx="3129840" cy="3371760"/>
            </a:xfrm>
          </p:grpSpPr>
          <p:sp>
            <p:nvSpPr>
              <p:cNvPr id="296" name=""/>
              <p:cNvSpPr/>
              <p:nvPr/>
            </p:nvSpPr>
            <p:spPr>
              <a:xfrm>
                <a:off x="7019640" y="3270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057800" y="34290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929360" y="454824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745040" y="4849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798880" y="45450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46280" y="4699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781400" y="578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781400" y="59468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4832280" y="5962680"/>
                <a:ext cx="1590480" cy="679320"/>
                <a:chOff x="4832280" y="5962680"/>
                <a:chExt cx="1590480" cy="679320"/>
              </a:xfrm>
            </p:grpSpPr>
            <p:sp>
              <p:nvSpPr>
                <p:cNvPr id="305" name=""/>
                <p:cNvSpPr/>
                <p:nvPr/>
              </p:nvSpPr>
              <p:spPr>
                <a:xfrm rot="5400000">
                  <a:off x="5287680" y="5506920"/>
                  <a:ext cx="679320" cy="1590480"/>
                </a:xfrm>
                <a:prstGeom prst="rect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317560" y="6002280"/>
                  <a:ext cx="648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mité de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144760" y="6151320"/>
                  <a:ext cx="9853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creditación de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138280" y="6298920"/>
                  <a:ext cx="9928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boratorios de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279760" y="6449760"/>
                  <a:ext cx="6894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alibr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986080" y="6445080"/>
                  <a:ext cx="356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5132160" y="5416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51080" y="5710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7722720" y="4971960"/>
                <a:ext cx="88920" cy="173160"/>
                <a:chOff x="7722720" y="4971960"/>
                <a:chExt cx="88920" cy="173160"/>
              </a:xfrm>
            </p:grpSpPr>
            <p:sp>
              <p:nvSpPr>
                <p:cNvPr id="314" name=""/>
                <p:cNvSpPr/>
                <p:nvPr/>
              </p:nvSpPr>
              <p:spPr>
                <a:xfrm rot="5400000">
                  <a:off x="7722000" y="5004360"/>
                  <a:ext cx="90360" cy="25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5400000">
                  <a:off x="7723440" y="5056920"/>
                  <a:ext cx="87480" cy="88920"/>
                </a:xfrm>
                <a:custGeom>
                  <a:avLst/>
                  <a:gdLst/>
                  <a:ahLst/>
                  <a:rect l="l" t="t" r="r" b="b"/>
                  <a:pathLst>
                    <a:path w="55" h="56">
                      <a:moveTo>
                        <a:pt x="0" y="56"/>
                      </a:moveTo>
                      <a:lnTo>
                        <a:pt x="55" y="27"/>
                      </a:lnTo>
                      <a:lnTo>
                        <a:pt x="0" y="0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5522400" y="4292640"/>
                <a:ext cx="87480" cy="216000"/>
                <a:chOff x="5522400" y="4292640"/>
                <a:chExt cx="87480" cy="216000"/>
              </a:xfrm>
            </p:grpSpPr>
            <p:sp>
              <p:nvSpPr>
                <p:cNvPr id="317" name=""/>
                <p:cNvSpPr/>
                <p:nvPr/>
              </p:nvSpPr>
              <p:spPr>
                <a:xfrm rot="5400000">
                  <a:off x="5500440" y="4346640"/>
                  <a:ext cx="13320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5400000">
                  <a:off x="5521680" y="4420440"/>
                  <a:ext cx="88920" cy="87480"/>
                </a:xfrm>
                <a:custGeom>
                  <a:avLst/>
                  <a:gdLst/>
                  <a:ahLst/>
                  <a:rect l="l" t="t" r="r" b="b"/>
                  <a:pathLst>
                    <a:path w="56" h="55">
                      <a:moveTo>
                        <a:pt x="0" y="55"/>
                      </a:moveTo>
                      <a:lnTo>
                        <a:pt x="56" y="28"/>
                      </a:lnTo>
                      <a:lnTo>
                        <a:pt x="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7737120" y="4292640"/>
                <a:ext cx="87480" cy="216000"/>
                <a:chOff x="7737120" y="4292640"/>
                <a:chExt cx="87480" cy="216000"/>
              </a:xfrm>
            </p:grpSpPr>
            <p:sp>
              <p:nvSpPr>
                <p:cNvPr id="320" name=""/>
                <p:cNvSpPr/>
                <p:nvPr/>
              </p:nvSpPr>
              <p:spPr>
                <a:xfrm rot="5400000">
                  <a:off x="7714800" y="4346280"/>
                  <a:ext cx="133200" cy="25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rot="5400000">
                  <a:off x="7736400" y="4420440"/>
                  <a:ext cx="88920" cy="87480"/>
                </a:xfrm>
                <a:custGeom>
                  <a:avLst/>
                  <a:gdLst/>
                  <a:ahLst/>
                  <a:rect l="l" t="t" r="r" b="b"/>
                  <a:pathLst>
                    <a:path w="56" h="55">
                      <a:moveTo>
                        <a:pt x="0" y="55"/>
                      </a:moveTo>
                      <a:lnTo>
                        <a:pt x="56" y="26"/>
                      </a:lnTo>
                      <a:lnTo>
                        <a:pt x="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7745040" y="5013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3067200" y="2362320"/>
              <a:ext cx="5505120" cy="3954240"/>
              <a:chOff x="3067200" y="2362320"/>
              <a:chExt cx="5505120" cy="39542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067200" y="2914560"/>
                <a:ext cx="3585960" cy="628920"/>
                <a:chOff x="3067200" y="2914560"/>
                <a:chExt cx="3585960" cy="62892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6566040" y="2914560"/>
                  <a:ext cx="87120" cy="319320"/>
                  <a:chOff x="6566040" y="2914560"/>
                  <a:chExt cx="87120" cy="31932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rot="5400000">
                    <a:off x="6491520" y="3021120"/>
                    <a:ext cx="238320" cy="252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rot="5400000">
                    <a:off x="6565680" y="3146400"/>
                    <a:ext cx="874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5">
                        <a:moveTo>
                          <a:pt x="0" y="55"/>
                        </a:moveTo>
                        <a:lnTo>
                          <a:pt x="55" y="26"/>
                        </a:lnTo>
                        <a:lnTo>
                          <a:pt x="0" y="0"/>
                        </a:lnTo>
                        <a:lnTo>
                          <a:pt x="0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8" name=""/>
                <p:cNvSpPr/>
                <p:nvPr/>
              </p:nvSpPr>
              <p:spPr>
                <a:xfrm>
                  <a:off x="3067200" y="293364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876920" y="29275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067200" y="3543480"/>
                  <a:ext cx="2819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4394160" y="2362320"/>
                <a:ext cx="4178160" cy="3954240"/>
                <a:chOff x="4394160" y="2362320"/>
                <a:chExt cx="4178160" cy="3954240"/>
              </a:xfrm>
            </p:grpSpPr>
            <p:grpSp>
              <p:nvGrpSpPr>
                <p:cNvPr id="332" name=""/>
                <p:cNvGrpSpPr/>
                <p:nvPr/>
              </p:nvGrpSpPr>
              <p:grpSpPr>
                <a:xfrm>
                  <a:off x="5878440" y="3232080"/>
                  <a:ext cx="1595520" cy="636480"/>
                  <a:chOff x="5878440" y="3232080"/>
                  <a:chExt cx="1595520" cy="6364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rot="5400000">
                    <a:off x="6357960" y="2752560"/>
                    <a:ext cx="636480" cy="159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342840" y="3400560"/>
                    <a:ext cx="6681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ERENCI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309360" y="3559320"/>
                    <a:ext cx="738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OPERATIV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4394160" y="3862440"/>
                  <a:ext cx="4178160" cy="2454120"/>
                  <a:chOff x="4394160" y="3862440"/>
                  <a:chExt cx="4178160" cy="245412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4394160" y="3862440"/>
                    <a:ext cx="4178160" cy="2454120"/>
                    <a:chOff x="4394160" y="3862440"/>
                    <a:chExt cx="4178160" cy="2454120"/>
                  </a:xfrm>
                </p:grpSpPr>
                <p:grpSp>
                  <p:nvGrpSpPr>
                    <p:cNvPr id="338" name=""/>
                    <p:cNvGrpSpPr/>
                    <p:nvPr/>
                  </p:nvGrpSpPr>
                  <p:grpSpPr>
                    <a:xfrm>
                      <a:off x="4394160" y="3862440"/>
                      <a:ext cx="4178160" cy="2454120"/>
                      <a:chOff x="4394160" y="3862440"/>
                      <a:chExt cx="4178160" cy="2454120"/>
                    </a:xfrm>
                  </p:grpSpPr>
                  <p:sp>
                    <p:nvSpPr>
                      <p:cNvPr id="339" name=""/>
                      <p:cNvSpPr/>
                      <p:nvPr/>
                    </p:nvSpPr>
                    <p:spPr>
                      <a:xfrm rot="5400000">
                        <a:off x="7508520" y="3941640"/>
                        <a:ext cx="466560" cy="15937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 rot="5400000">
                        <a:off x="5384880" y="3940200"/>
                        <a:ext cx="466560" cy="1596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" name=""/>
                      <p:cNvSpPr/>
                      <p:nvPr/>
                    </p:nvSpPr>
                    <p:spPr>
                      <a:xfrm rot="5400000">
                        <a:off x="6666120" y="3180600"/>
                        <a:ext cx="25560" cy="22273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2" name=""/>
                      <p:cNvSpPr/>
                      <p:nvPr/>
                    </p:nvSpPr>
                    <p:spPr>
                      <a:xfrm rot="5400000">
                        <a:off x="6406560" y="4062240"/>
                        <a:ext cx="425520" cy="255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 rot="5400000">
                        <a:off x="4593600" y="4537800"/>
                        <a:ext cx="25200" cy="42408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 rot="5400000">
                        <a:off x="7394040" y="4728960"/>
                        <a:ext cx="765360" cy="15908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" name=""/>
                      <p:cNvSpPr/>
                      <p:nvPr/>
                    </p:nvSpPr>
                    <p:spPr>
                      <a:xfrm rot="5400000">
                        <a:off x="5275080" y="4736880"/>
                        <a:ext cx="679320" cy="1596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46" name=""/>
                      <p:cNvGrpSpPr/>
                      <p:nvPr/>
                    </p:nvGrpSpPr>
                    <p:grpSpPr>
                      <a:xfrm>
                        <a:off x="4397400" y="5505480"/>
                        <a:ext cx="423360" cy="87120"/>
                        <a:chOff x="4397400" y="5505480"/>
                        <a:chExt cx="423360" cy="87120"/>
                      </a:xfrm>
                    </p:grpSpPr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 rot="5400000">
                          <a:off x="4557600" y="5376600"/>
                          <a:ext cx="25200" cy="34596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" name=""/>
                        <p:cNvSpPr/>
                        <p:nvPr/>
                      </p:nvSpPr>
                      <p:spPr>
                        <a:xfrm rot="5400000">
                          <a:off x="4735080" y="5506920"/>
                          <a:ext cx="87120" cy="83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53">
                              <a:moveTo>
                                <a:pt x="55" y="53"/>
                              </a:moveTo>
                              <a:lnTo>
                                <a:pt x="28" y="0"/>
                              </a:lnTo>
                              <a:lnTo>
                                <a:pt x="0" y="53"/>
                              </a:lnTo>
                              <a:lnTo>
                                <a:pt x="55" y="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080" bIns="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49" name=""/>
                      <p:cNvGrpSpPr/>
                      <p:nvPr/>
                    </p:nvGrpSpPr>
                    <p:grpSpPr>
                      <a:xfrm>
                        <a:off x="4394160" y="6229440"/>
                        <a:ext cx="424080" cy="87120"/>
                        <a:chOff x="4394160" y="6229440"/>
                        <a:chExt cx="424080" cy="87120"/>
                      </a:xfrm>
                    </p:grpSpPr>
                    <p:sp>
                      <p:nvSpPr>
                        <p:cNvPr id="350" name=""/>
                        <p:cNvSpPr/>
                        <p:nvPr/>
                      </p:nvSpPr>
                      <p:spPr>
                        <a:xfrm rot="5400000">
                          <a:off x="4554720" y="6100560"/>
                          <a:ext cx="25200" cy="3463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1" name=""/>
                        <p:cNvSpPr/>
                        <p:nvPr/>
                      </p:nvSpPr>
                      <p:spPr>
                        <a:xfrm rot="5400000">
                          <a:off x="4732560" y="6230880"/>
                          <a:ext cx="87120" cy="84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53">
                              <a:moveTo>
                                <a:pt x="55" y="53"/>
                              </a:moveTo>
                              <a:lnTo>
                                <a:pt x="28" y="0"/>
                              </a:lnTo>
                              <a:lnTo>
                                <a:pt x="0" y="53"/>
                              </a:lnTo>
                              <a:lnTo>
                                <a:pt x="55" y="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440" bIns="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52" name=""/>
                      <p:cNvSpPr/>
                      <p:nvPr/>
                    </p:nvSpPr>
                    <p:spPr>
                      <a:xfrm>
                        <a:off x="4400640" y="4743360"/>
                        <a:ext cx="0" cy="15303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4962600" y="5248440"/>
                      <a:ext cx="1295280" cy="609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té de</a:t>
                      </a: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creditación de Laboratorios de Ensayo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4" name=""/>
                  <p:cNvSpPr/>
                  <p:nvPr/>
                </p:nvSpPr>
                <p:spPr>
                  <a:xfrm>
                    <a:off x="6902280" y="4718160"/>
                    <a:ext cx="16322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E CERTIFICACIÓ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5442840" y="4595760"/>
                    <a:ext cx="35892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ÁRE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5097960" y="4754520"/>
                    <a:ext cx="102960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LABORATORIO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7351200" y="4572000"/>
                    <a:ext cx="75816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MX" sz="1000" spc="-1" strike="noStrike">
                        <a:solidFill>
                          <a:srgbClr val="000000"/>
                        </a:solidFill>
                        <a:latin typeface="Arial"/>
                      </a:rPr>
                      <a:t>ÁREA ORG.</a:t>
                    </a:r>
                    <a:r>
                      <a:rPr b="1" lang="es-E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7465680" y="5191200"/>
                    <a:ext cx="648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omité de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7294320" y="5340240"/>
                    <a:ext cx="98532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creditación de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7308000" y="5487840"/>
                    <a:ext cx="73980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Organismo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059320" y="5487840"/>
                    <a:ext cx="21852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e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7386480" y="5638680"/>
                    <a:ext cx="7671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rtificació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7411680" y="2362320"/>
                  <a:ext cx="1157400" cy="476280"/>
                  <a:chOff x="7411680" y="2362320"/>
                  <a:chExt cx="1157400" cy="47628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rot="5400000">
                    <a:off x="7857720" y="2127240"/>
                    <a:ext cx="476280" cy="946440"/>
                  </a:xfrm>
                  <a:prstGeom prst="rect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7411680" y="2448000"/>
                    <a:ext cx="1037880" cy="304920"/>
                    <a:chOff x="7411680" y="2448000"/>
                    <a:chExt cx="1037880" cy="30492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flipH="1">
                      <a:off x="7411680" y="2597040"/>
                      <a:ext cx="228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7746480" y="2448000"/>
                      <a:ext cx="70308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té de</a:t>
                      </a: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476440" y="-1363680"/>
            <a:ext cx="495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7560" y="360360"/>
            <a:ext cx="604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c2d6"/>
                </a:solidFill>
                <a:latin typeface="Times New Roman"/>
              </a:rPr>
              <a:t>OA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1066680"/>
            <a:ext cx="82296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OAA es miembro pleno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LA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ernational Laboratory Accreditation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AF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International Accreditation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AA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eramerican Accreditation Co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816120" y="3352680"/>
            <a:ext cx="8658000" cy="2593440"/>
            <a:chOff x="816120" y="3352680"/>
            <a:chExt cx="8658000" cy="2593440"/>
          </a:xfrm>
        </p:grpSpPr>
        <p:sp>
          <p:nvSpPr>
            <p:cNvPr id="372" name=""/>
            <p:cNvSpPr/>
            <p:nvPr/>
          </p:nvSpPr>
          <p:spPr>
            <a:xfrm>
              <a:off x="816120" y="3352680"/>
              <a:ext cx="8658000" cy="25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rincipal obje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Firma de Acuerdos 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Reconocimiento (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ML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a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5133960" y="3733920"/>
              <a:ext cx="0" cy="1218960"/>
              <a:chOff x="5133960" y="3733920"/>
              <a:chExt cx="0" cy="1218960"/>
            </a:xfrm>
          </p:grpSpPr>
          <p:sp>
            <p:nvSpPr>
              <p:cNvPr id="374" name=""/>
              <p:cNvSpPr/>
              <p:nvPr/>
            </p:nvSpPr>
            <p:spPr>
              <a:xfrm>
                <a:off x="5133960" y="37339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133960" y="4724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133960" y="5410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1523880" y="320760"/>
            <a:ext cx="8077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6699"/>
                </a:solidFill>
                <a:latin typeface="Arial"/>
              </a:rPr>
              <a:t>Relaciones internacion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76320" y="57150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ue las mercaderías ensayadas y las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ertificaciones realizadas por entes acreditados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un país signatario del MLA sean aceptadas por los otr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íses signatarios,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vitand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sí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barreras técnicas al comerci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57560" y="360360"/>
            <a:ext cx="604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c2d6"/>
                </a:solidFill>
                <a:latin typeface="Times New Roman"/>
              </a:rPr>
              <a:t>OA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83400" y="6335640"/>
            <a:ext cx="113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 u="sng">
                <a:solidFill>
                  <a:srgbClr val="000000"/>
                </a:solidFill>
                <a:uFillTx/>
                <a:latin typeface="Arial"/>
              </a:rPr>
              <a:t>Fuente: OA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123840"/>
            <a:ext cx="2943360" cy="2238480"/>
          </a:xfrm>
          <a:prstGeom prst="rect">
            <a:avLst/>
          </a:prstGeom>
          <a:solidFill>
            <a:srgbClr val="cce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447920" y="822240"/>
          <a:ext cx="792468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22240"/>
                    <a:ext cx="792468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1523880" y="320760"/>
            <a:ext cx="8077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6699"/>
                </a:solidFill>
                <a:latin typeface="Arial"/>
              </a:rPr>
              <a:t>Acreditaciones vigentes a marzo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54864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336699"/>
                </a:solidFill>
                <a:latin typeface="Arial"/>
              </a:rPr>
              <a:t>Laborator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86400" y="541008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Organismos de Cer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57560" y="360360"/>
            <a:ext cx="604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c2d6"/>
                </a:solidFill>
                <a:latin typeface="Times New Roman"/>
              </a:rPr>
              <a:t>OA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3880" y="32076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6699"/>
                </a:solidFill>
                <a:latin typeface="Arial"/>
              </a:rPr>
              <a:t>Evolución de la actividad de acreditació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6699"/>
                </a:solidFill>
                <a:latin typeface="Arial"/>
              </a:rPr>
              <a:t>acumulado a marzo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83400" y="6338880"/>
            <a:ext cx="113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 u="sng">
                <a:solidFill>
                  <a:srgbClr val="000000"/>
                </a:solidFill>
                <a:uFillTx/>
                <a:latin typeface="Arial"/>
              </a:rPr>
              <a:t>Fuente: OA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143000" y="1211400"/>
          <a:ext cx="8967960" cy="47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1400"/>
                    <a:ext cx="896796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57560" y="360360"/>
            <a:ext cx="604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c2d6"/>
                </a:solidFill>
                <a:latin typeface="Times New Roman"/>
              </a:rPr>
              <a:t>OA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560" y="360360"/>
            <a:ext cx="604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c2d6"/>
                </a:solidFill>
                <a:latin typeface="Times New Roman"/>
              </a:rPr>
              <a:t>OA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83400" y="6335640"/>
            <a:ext cx="113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 u="sng">
                <a:solidFill>
                  <a:srgbClr val="000000"/>
                </a:solidFill>
                <a:uFillTx/>
                <a:latin typeface="Arial"/>
              </a:rPr>
              <a:t>Fuente: OA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-76320" y="1552680"/>
          <a:ext cx="9525240" cy="49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552680"/>
                    <a:ext cx="9525240" cy="49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1523880" y="320760"/>
            <a:ext cx="8077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6699"/>
                </a:solidFill>
                <a:latin typeface="Arial"/>
              </a:rPr>
              <a:t>Evolución del número de ensayos acredit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7:34:48Z</dcterms:created>
  <dc:creator/>
  <dc:description/>
  <dc:language>en-US</dc:language>
  <cp:lastModifiedBy>Dr. Marcelo Artana</cp:lastModifiedBy>
  <dcterms:modified xsi:type="dcterms:W3CDTF">2003-04-16T12:42:55Z</dcterms:modified>
  <cp:revision>179</cp:revision>
  <dc:subject/>
  <dc:title>Presentación de PowerPoint</dc:title>
</cp:coreProperties>
</file>