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jpeg" ContentType="image/jpeg"/>
  <Override PartName="/ppt/media/image9.wmf" ContentType="image/x-wmf"/>
  <Override PartName="/ppt/media/image14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0.wmf" ContentType="image/x-wmf"/>
  <Override PartName="/ppt/media/image4.jpeg" ContentType="image/jpeg"/>
  <Override PartName="/ppt/media/image25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907588" cy="6858000"/>
  <p:notesSz cx="676116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0B75-A4F7-4005-83A9-8572AA24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5960" y="3738600"/>
            <a:ext cx="6934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5960" y="4654440"/>
            <a:ext cx="6934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BD3A-9CE9-48E6-A04B-0951D083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5960" y="37386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9160" y="37386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5960" y="46544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9160" y="46544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F227-1907-4767-93E9-AC9F527F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5960" y="3738600"/>
            <a:ext cx="223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30640" y="3738600"/>
            <a:ext cx="223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5320" y="3738600"/>
            <a:ext cx="223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5960" y="4654440"/>
            <a:ext cx="223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30640" y="4654440"/>
            <a:ext cx="223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5320" y="4654440"/>
            <a:ext cx="223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DDC3-5095-4F20-B98E-A6219ADD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D2C5-F593-4032-B3F3-1A422198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85960" y="37386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CE40-52B5-4F2F-8E4C-8AF1AFED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5960" y="37386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1795-E25B-499B-8535-C81EA3FA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5960" y="37386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9160" y="37386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0B28-78E6-4864-A4B7-72790E29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8689-DF12-481F-BE58-854CA204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42560" y="19252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223E-CDD5-42B5-AC38-1BFFC76D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5960" y="37386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9160" y="37386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85960" y="46544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34FA-295A-459E-AC98-035E3ED8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5960" y="37386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646-12C3-4014-B867-9DD4E55D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5960" y="37386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9160" y="37386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9160" y="46544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F5C6-BB59-4A8E-BE9C-CD7228FD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5960" y="37386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9160" y="37386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85960" y="4654440"/>
            <a:ext cx="6934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B810-6AC6-4234-A39D-9E9CFF59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5960" y="3738600"/>
            <a:ext cx="6934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785960" y="4654440"/>
            <a:ext cx="6934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1467-B735-4EB5-8F75-D3A0E272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5960" y="37386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9160" y="37386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5960" y="46544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9160" y="46544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B077-D1AF-4240-9CA3-573545DB8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5960" y="3738600"/>
            <a:ext cx="223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30640" y="3738600"/>
            <a:ext cx="223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5320" y="3738600"/>
            <a:ext cx="223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785960" y="4654440"/>
            <a:ext cx="223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130640" y="4654440"/>
            <a:ext cx="223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5320" y="4654440"/>
            <a:ext cx="2232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BCC0-B269-4458-BEFC-7337E128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5960" y="37386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BBAB-C5EE-4880-BE3D-41B322ED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5960" y="37386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39160" y="37386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9EA8-D7D0-48BC-BB3C-B279E16D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80D0-BA0B-4FE8-86B5-0A342212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42560" y="19252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55B2-6570-4A9C-8B96-6F1E6DBE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5960" y="37386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9160" y="37386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5960" y="46544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7BE4-F8AA-4901-8EA2-933ED17C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5960" y="37386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9160" y="37386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9160" y="46544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354E-97F2-4E0F-BDA0-A4F0FE66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5960" y="37386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9160" y="37386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5960" y="4654440"/>
            <a:ext cx="6934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292D-42C4-44F9-A3AB-70BBA535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612000" cy="6858000"/>
            <a:chOff x="0" y="0"/>
            <a:chExt cx="9612000" cy="6858000"/>
          </a:xfrm>
        </p:grpSpPr>
        <p:sp>
          <p:nvSpPr>
            <p:cNvPr id="1" name=""/>
            <p:cNvSpPr/>
            <p:nvPr/>
          </p:nvSpPr>
          <p:spPr>
            <a:xfrm>
              <a:off x="577800" y="237960"/>
              <a:ext cx="903420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1523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00520" y="1600200"/>
              <a:ext cx="839304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72800" y="60958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8A15-BF22-4C46-B898-CB5F22EA9304}" type="datetime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714480" y="60958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429680" y="60958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6694-E16A-4D0A-A905-EED95DDB065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612000" cy="6858000"/>
            <a:chOff x="0" y="0"/>
            <a:chExt cx="9612000" cy="6858000"/>
          </a:xfrm>
        </p:grpSpPr>
        <p:sp>
          <p:nvSpPr>
            <p:cNvPr id="46" name=""/>
            <p:cNvSpPr/>
            <p:nvPr/>
          </p:nvSpPr>
          <p:spPr>
            <a:xfrm>
              <a:off x="577800" y="237960"/>
              <a:ext cx="903420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523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1042560" y="61009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9E3C-4FF4-4FFC-90AA-B46D237F1B95}" type="datetime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684600" y="61009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7399440" y="61009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1AF4-12E0-48C1-8C1E-38F487789FF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image" Target="../media/image25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7.png"/><Relationship Id="rId25" Type="http://schemas.openxmlformats.org/officeDocument/2006/relationships/image" Target="../media/image28.png"/><Relationship Id="rId26" Type="http://schemas.openxmlformats.org/officeDocument/2006/relationships/image" Target="../media/image4.jpeg"/><Relationship Id="rId2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image" Target="../media/image21.png"/><Relationship Id="rId24" Type="http://schemas.openxmlformats.org/officeDocument/2006/relationships/image" Target="../media/image22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4.png"/><Relationship Id="rId29" Type="http://schemas.openxmlformats.org/officeDocument/2006/relationships/image" Target="../media/image21.png"/><Relationship Id="rId30" Type="http://schemas.openxmlformats.org/officeDocument/2006/relationships/image" Target="../media/image22.png"/><Relationship Id="rId31" Type="http://schemas.openxmlformats.org/officeDocument/2006/relationships/image" Target="../media/image15.png"/><Relationship Id="rId32" Type="http://schemas.openxmlformats.org/officeDocument/2006/relationships/image" Target="../media/image15.png"/><Relationship Id="rId33" Type="http://schemas.openxmlformats.org/officeDocument/2006/relationships/image" Target="../media/image15.png"/><Relationship Id="rId34" Type="http://schemas.openxmlformats.org/officeDocument/2006/relationships/image" Target="../media/image16.png"/><Relationship Id="rId35" Type="http://schemas.openxmlformats.org/officeDocument/2006/relationships/image" Target="../media/image25.png"/><Relationship Id="rId36" Type="http://schemas.openxmlformats.org/officeDocument/2006/relationships/image" Target="../media/image25.png"/><Relationship Id="rId37" Type="http://schemas.openxmlformats.org/officeDocument/2006/relationships/image" Target="../media/image25.png"/><Relationship Id="rId38" Type="http://schemas.openxmlformats.org/officeDocument/2006/relationships/image" Target="../media/image26.png"/><Relationship Id="rId39" Type="http://schemas.openxmlformats.org/officeDocument/2006/relationships/image" Target="../media/image17.png"/><Relationship Id="rId40" Type="http://schemas.openxmlformats.org/officeDocument/2006/relationships/image" Target="../media/image18.png"/><Relationship Id="rId4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72800" y="266652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Premio Nacional a la Calidad</a:t>
            </a:r>
            <a:br>
              <a:rPr sz="4400"/>
            </a:b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República Argentin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80" y="15840"/>
            <a:ext cx="1981080" cy="951120"/>
          </a:xfrm>
          <a:prstGeom prst="rect">
            <a:avLst/>
          </a:prstGeom>
          <a:solidFill>
            <a:srgbClr val="fcfdc6"/>
          </a:solidFill>
          <a:ln w="1260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mio Nacional a la Calidad: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7496280" y="3914640"/>
            <a:ext cx="16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2000"/>
                </a:solidFill>
                <a:latin typeface="Times New Roman"/>
              </a:rPr>
              <a:t>200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10160" y="3276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2000"/>
                </a:solidFill>
                <a:latin typeface="Times New Roman"/>
              </a:rPr>
              <a:t>Baldrig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073160" y="1692360"/>
            <a:ext cx="165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2000"/>
                </a:solidFill>
                <a:latin typeface="Times New Roman"/>
              </a:rPr>
              <a:t>MARCO POLITICO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066680" y="233856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2000"/>
                </a:solidFill>
                <a:latin typeface="Times New Roman"/>
              </a:rPr>
              <a:t>INAP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760040" y="647280"/>
            <a:ext cx="7045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33"/>
                </a:solidFill>
                <a:latin typeface="Times New Roman"/>
              </a:rPr>
              <a:t>Premio Nacional de Calidad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819600" y="383688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3546360" y="4829040"/>
            <a:ext cx="633600" cy="3384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5035680" y="4829040"/>
            <a:ext cx="573120" cy="3384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3030480" y="4340160"/>
            <a:ext cx="2973240" cy="840960"/>
            <a:chOff x="3030480" y="4340160"/>
            <a:chExt cx="2973240" cy="840960"/>
          </a:xfrm>
        </p:grpSpPr>
        <p:sp>
          <p:nvSpPr>
            <p:cNvPr id="743" name=""/>
            <p:cNvSpPr/>
            <p:nvPr/>
          </p:nvSpPr>
          <p:spPr>
            <a:xfrm>
              <a:off x="5317200" y="4340160"/>
              <a:ext cx="686520" cy="839880"/>
            </a:xfrm>
            <a:custGeom>
              <a:avLst/>
              <a:gdLst/>
              <a:ahLst/>
              <a:rect l="l" t="t" r="r" b="b"/>
              <a:pathLst>
                <a:path w="389" h="547">
                  <a:moveTo>
                    <a:pt x="0" y="149"/>
                  </a:moveTo>
                  <a:lnTo>
                    <a:pt x="231" y="547"/>
                  </a:lnTo>
                  <a:lnTo>
                    <a:pt x="389" y="343"/>
                  </a:lnTo>
                  <a:lnTo>
                    <a:pt x="112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bf5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431160" y="4340160"/>
              <a:ext cx="2081520" cy="226800"/>
            </a:xfrm>
            <a:custGeom>
              <a:avLst/>
              <a:gdLst/>
              <a:ahLst/>
              <a:rect l="l" t="t" r="r" b="b"/>
              <a:pathLst>
                <a:path w="1179" h="148">
                  <a:moveTo>
                    <a:pt x="0" y="148"/>
                  </a:moveTo>
                  <a:lnTo>
                    <a:pt x="1067" y="148"/>
                  </a:lnTo>
                  <a:lnTo>
                    <a:pt x="1179" y="0"/>
                  </a:lnTo>
                  <a:lnTo>
                    <a:pt x="298" y="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5f009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030480" y="4566960"/>
              <a:ext cx="2692800" cy="614160"/>
            </a:xfrm>
            <a:custGeom>
              <a:avLst/>
              <a:gdLst/>
              <a:ahLst/>
              <a:rect l="l" t="t" r="r" b="b"/>
              <a:pathLst>
                <a:path w="1525" h="400">
                  <a:moveTo>
                    <a:pt x="0" y="400"/>
                  </a:moveTo>
                  <a:lnTo>
                    <a:pt x="1525" y="400"/>
                  </a:lnTo>
                  <a:lnTo>
                    <a:pt x="1294" y="0"/>
                  </a:lnTo>
                  <a:lnTo>
                    <a:pt x="227" y="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9f3fd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3909960" y="3728880"/>
            <a:ext cx="1038240" cy="111240"/>
          </a:xfrm>
          <a:custGeom>
            <a:avLst/>
            <a:gdLst/>
            <a:ahLst/>
            <a:rect l="l" t="t" r="r" b="b"/>
            <a:pathLst>
              <a:path w="588" h="72">
                <a:moveTo>
                  <a:pt x="0" y="72"/>
                </a:moveTo>
                <a:lnTo>
                  <a:pt x="530" y="72"/>
                </a:lnTo>
                <a:lnTo>
                  <a:pt x="588" y="0"/>
                </a:lnTo>
                <a:lnTo>
                  <a:pt x="183" y="0"/>
                </a:lnTo>
                <a:lnTo>
                  <a:pt x="0" y="72"/>
                </a:lnTo>
                <a:close/>
              </a:path>
            </a:pathLst>
          </a:custGeom>
          <a:solidFill>
            <a:srgbClr val="bf3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500280" y="3840120"/>
            <a:ext cx="1751040" cy="623880"/>
          </a:xfrm>
          <a:custGeom>
            <a:avLst/>
            <a:gdLst/>
            <a:ahLst/>
            <a:rect l="l" t="t" r="r" b="b"/>
            <a:pathLst>
              <a:path w="992" h="407">
                <a:moveTo>
                  <a:pt x="0" y="407"/>
                </a:moveTo>
                <a:lnTo>
                  <a:pt x="992" y="407"/>
                </a:lnTo>
                <a:lnTo>
                  <a:pt x="762" y="0"/>
                </a:lnTo>
                <a:lnTo>
                  <a:pt x="231" y="0"/>
                </a:lnTo>
                <a:lnTo>
                  <a:pt x="0" y="407"/>
                </a:lnTo>
                <a:close/>
              </a:path>
            </a:pathLst>
          </a:custGeom>
          <a:solidFill>
            <a:srgbClr val="ff5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3968640" y="3122640"/>
            <a:ext cx="904320" cy="622440"/>
            <a:chOff x="3968640" y="3122640"/>
            <a:chExt cx="904320" cy="622440"/>
          </a:xfrm>
        </p:grpSpPr>
        <p:sp>
          <p:nvSpPr>
            <p:cNvPr id="749" name=""/>
            <p:cNvSpPr/>
            <p:nvPr/>
          </p:nvSpPr>
          <p:spPr>
            <a:xfrm>
              <a:off x="4374000" y="3122640"/>
              <a:ext cx="498960" cy="622440"/>
            </a:xfrm>
            <a:custGeom>
              <a:avLst/>
              <a:gdLst/>
              <a:ahLst/>
              <a:rect l="l" t="t" r="r" b="b"/>
              <a:pathLst>
                <a:path w="283" h="405">
                  <a:moveTo>
                    <a:pt x="230" y="405"/>
                  </a:moveTo>
                  <a:lnTo>
                    <a:pt x="283" y="342"/>
                  </a:lnTo>
                  <a:lnTo>
                    <a:pt x="0" y="0"/>
                  </a:lnTo>
                  <a:lnTo>
                    <a:pt x="230" y="405"/>
                  </a:lnTo>
                  <a:close/>
                </a:path>
              </a:pathLst>
            </a:custGeom>
            <a:solidFill>
              <a:srgbClr val="ff9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968640" y="3122640"/>
              <a:ext cx="811080" cy="622440"/>
            </a:xfrm>
            <a:custGeom>
              <a:avLst/>
              <a:gdLst/>
              <a:ahLst/>
              <a:rect l="l" t="t" r="r" b="b"/>
              <a:pathLst>
                <a:path w="460" h="405">
                  <a:moveTo>
                    <a:pt x="0" y="405"/>
                  </a:moveTo>
                  <a:lnTo>
                    <a:pt x="460" y="405"/>
                  </a:lnTo>
                  <a:lnTo>
                    <a:pt x="230" y="0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ff9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1073160" y="2795760"/>
            <a:ext cx="84200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725560" y="1600200"/>
            <a:ext cx="0" cy="48769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725560" y="5410080"/>
            <a:ext cx="67676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25560" y="6477120"/>
            <a:ext cx="67676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725560" y="5603760"/>
            <a:ext cx="611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048120" y="5530680"/>
            <a:ext cx="611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2000"/>
                </a:solidFill>
                <a:latin typeface="Times New Roman"/>
              </a:rPr>
              <a:t>CARTA COMPROMISO CON EL CIUDADAN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725560" y="5943600"/>
            <a:ext cx="67676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111480" y="6019920"/>
            <a:ext cx="572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260880" y="5950080"/>
            <a:ext cx="489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rot="10800000">
            <a:off x="1563840" y="2877840"/>
            <a:ext cx="66708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2000"/>
                </a:solidFill>
                <a:latin typeface="Times New Roman"/>
              </a:rPr>
              <a:t>SUBSECRETARIA DE LA GESTION PUBLICA  - (DND)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481720" y="3187800"/>
            <a:ext cx="1379520" cy="633240"/>
          </a:xfrm>
          <a:prstGeom prst="rightArrow">
            <a:avLst>
              <a:gd name="adj1" fmla="val 50000"/>
              <a:gd name="adj2" fmla="val 54463"/>
            </a:avLst>
          </a:prstGeom>
          <a:solidFill>
            <a:srgbClr val="ff99ff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689880" y="4548240"/>
            <a:ext cx="1398600" cy="633240"/>
          </a:xfrm>
          <a:prstGeom prst="rightArrow">
            <a:avLst>
              <a:gd name="adj1" fmla="val 50000"/>
              <a:gd name="adj2" fmla="val 55216"/>
            </a:avLst>
          </a:prstGeom>
          <a:solidFill>
            <a:srgbClr val="a01ab2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232680" y="3821040"/>
            <a:ext cx="1379520" cy="633600"/>
          </a:xfrm>
          <a:prstGeom prst="rightArrow">
            <a:avLst>
              <a:gd name="adj1" fmla="val 50000"/>
              <a:gd name="adj2" fmla="val 54432"/>
            </a:avLst>
          </a:prstGeom>
          <a:solidFill>
            <a:srgbClr val="ff33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772400" y="391464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8389800" y="454824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389800" y="4548240"/>
            <a:ext cx="113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229600" y="4648320"/>
            <a:ext cx="11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2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6760" y="1981080"/>
            <a:ext cx="535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048120" y="2338560"/>
            <a:ext cx="57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2000"/>
                </a:solidFill>
                <a:latin typeface="Times New Roman"/>
              </a:rPr>
              <a:t>CAPACITACION EN LA TEMATICA DE LA CALIDAD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048120" y="1814400"/>
            <a:ext cx="604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2000"/>
                </a:solidFill>
                <a:latin typeface="Times New Roman"/>
              </a:rPr>
              <a:t>DISTINCIONES, COMPROMIISOS Y CONVENI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073160" y="1600200"/>
            <a:ext cx="2003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111480" y="1692360"/>
            <a:ext cx="5753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413000" y="2333520"/>
            <a:ext cx="97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509840" y="4611600"/>
            <a:ext cx="12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11480" y="5948280"/>
            <a:ext cx="5448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01840" y="5948280"/>
            <a:ext cx="535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048120" y="6019920"/>
            <a:ext cx="67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2000"/>
                </a:solidFill>
                <a:latin typeface="Times New Roman"/>
              </a:rPr>
              <a:t>UNIDAD CERTIFICADORA DE LOS PROCESOS DE CALIDAD</a:t>
            </a:r>
            <a:r>
              <a:rPr b="0" lang="es-MX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711120" y="469440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bfae2"/>
                </a:solidFill>
                <a:latin typeface="Arial"/>
              </a:rPr>
              <a:t>CRITERI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541840" y="3340080"/>
            <a:ext cx="12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2000"/>
                </a:solidFill>
                <a:latin typeface="Arial"/>
              </a:rPr>
              <a:t>METOD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225440" y="1600200"/>
            <a:ext cx="82677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990720" y="2286000"/>
            <a:ext cx="84200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561120" y="469440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bfae2"/>
                </a:solidFill>
                <a:latin typeface="Arial"/>
              </a:rPr>
              <a:t>EVALUACI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rot="10800000">
            <a:off x="4334040" y="4033440"/>
            <a:ext cx="885600" cy="414360"/>
          </a:xfrm>
          <a:prstGeom prst="rtTriangl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rot="10800000">
            <a:off x="6229440" y="3990960"/>
            <a:ext cx="1200240" cy="308160"/>
          </a:xfrm>
          <a:prstGeom prst="rtTriangl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277040" y="3838680"/>
            <a:ext cx="324000" cy="299880"/>
          </a:xfrm>
          <a:prstGeom prst="rtTriangl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rot="5400000">
            <a:off x="7438680" y="4124160"/>
            <a:ext cx="156960" cy="176040"/>
          </a:xfrm>
          <a:prstGeom prst="rtTriangl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316560" y="396540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2000"/>
                </a:solidFill>
                <a:latin typeface="Arial"/>
              </a:rPr>
              <a:t>SISTEM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rot="10800000">
            <a:off x="3921120" y="3846240"/>
            <a:ext cx="1114560" cy="493560"/>
          </a:xfrm>
          <a:prstGeom prst="rtTriangl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613320" y="413244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2000"/>
                </a:solidFill>
                <a:latin typeface="Arial"/>
              </a:rPr>
              <a:t>EVALUACI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846680" y="3730680"/>
            <a:ext cx="592200" cy="733320"/>
          </a:xfrm>
          <a:custGeom>
            <a:avLst/>
            <a:gdLst/>
            <a:ahLst/>
            <a:rect l="l" t="t" r="r" b="b"/>
            <a:pathLst>
              <a:path w="335" h="478">
                <a:moveTo>
                  <a:pt x="229" y="478"/>
                </a:moveTo>
                <a:lnTo>
                  <a:pt x="335" y="341"/>
                </a:lnTo>
                <a:lnTo>
                  <a:pt x="58" y="0"/>
                </a:lnTo>
                <a:lnTo>
                  <a:pt x="0" y="72"/>
                </a:lnTo>
                <a:lnTo>
                  <a:pt x="229" y="478"/>
                </a:lnTo>
                <a:close/>
              </a:path>
            </a:pathLst>
          </a:custGeom>
          <a:solidFill>
            <a:srgbClr val="ff9f7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1036800" y="327960"/>
            <a:ext cx="830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6633"/>
                </a:solidFill>
                <a:latin typeface="Times New Roman"/>
              </a:rPr>
              <a:t>El Premio Nacional de Calidad y la </a:t>
            </a:r>
            <a:br>
              <a:rPr sz="4000"/>
            </a:br>
            <a:r>
              <a:rPr b="1" lang="es-MX" sz="4000" spc="-1" strike="noStrike">
                <a:solidFill>
                  <a:srgbClr val="996633"/>
                </a:solidFill>
                <a:latin typeface="Times New Roman"/>
              </a:rPr>
              <a:t>Carta Compromiso con el Ciudadano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3746520" y="2797200"/>
            <a:ext cx="3132360" cy="2396160"/>
            <a:chOff x="3746520" y="2797200"/>
            <a:chExt cx="3132360" cy="2396160"/>
          </a:xfrm>
        </p:grpSpPr>
        <p:sp>
          <p:nvSpPr>
            <p:cNvPr id="793" name=""/>
            <p:cNvSpPr/>
            <p:nvPr/>
          </p:nvSpPr>
          <p:spPr>
            <a:xfrm>
              <a:off x="5150520" y="2797200"/>
              <a:ext cx="1728360" cy="2396160"/>
            </a:xfrm>
            <a:custGeom>
              <a:avLst/>
              <a:gdLst/>
              <a:ahLst/>
              <a:rect l="l" t="t" r="r" b="b"/>
              <a:pathLst>
                <a:path w="283" h="405">
                  <a:moveTo>
                    <a:pt x="230" y="405"/>
                  </a:moveTo>
                  <a:lnTo>
                    <a:pt x="283" y="342"/>
                  </a:lnTo>
                  <a:lnTo>
                    <a:pt x="0" y="0"/>
                  </a:lnTo>
                  <a:lnTo>
                    <a:pt x="230" y="405"/>
                  </a:lnTo>
                  <a:close/>
                </a:path>
              </a:pathLst>
            </a:custGeom>
            <a:solidFill>
              <a:srgbClr val="ffbf1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746520" y="2797200"/>
              <a:ext cx="2808360" cy="2396160"/>
            </a:xfrm>
            <a:custGeom>
              <a:avLst/>
              <a:gdLst/>
              <a:ahLst/>
              <a:rect l="l" t="t" r="r" b="b"/>
              <a:pathLst>
                <a:path w="460" h="405">
                  <a:moveTo>
                    <a:pt x="0" y="405"/>
                  </a:moveTo>
                  <a:lnTo>
                    <a:pt x="460" y="405"/>
                  </a:lnTo>
                  <a:lnTo>
                    <a:pt x="230" y="0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ff9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830840" y="1798560"/>
            <a:ext cx="606240" cy="779400"/>
          </a:xfrm>
          <a:prstGeom prst="upArrow">
            <a:avLst>
              <a:gd name="adj1" fmla="val 50000"/>
              <a:gd name="adj2" fmla="val 32141"/>
            </a:avLst>
          </a:prstGeom>
          <a:solidFill>
            <a:srgbClr val="fb0101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351240" y="5388120"/>
            <a:ext cx="399960" cy="514080"/>
          </a:xfrm>
          <a:prstGeom prst="upArrow">
            <a:avLst>
              <a:gd name="adj1" fmla="val 50000"/>
              <a:gd name="adj2" fmla="val 32133"/>
            </a:avLst>
          </a:prstGeom>
          <a:solidFill>
            <a:srgbClr val="339966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968640" y="5388120"/>
            <a:ext cx="400320" cy="514080"/>
          </a:xfrm>
          <a:prstGeom prst="upArrow">
            <a:avLst>
              <a:gd name="adj1" fmla="val 50000"/>
              <a:gd name="adj2" fmla="val 32104"/>
            </a:avLst>
          </a:prstGeom>
          <a:solidFill>
            <a:srgbClr val="339966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586400" y="5388120"/>
            <a:ext cx="399960" cy="514080"/>
          </a:xfrm>
          <a:prstGeom prst="upArrow">
            <a:avLst>
              <a:gd name="adj1" fmla="val 50000"/>
              <a:gd name="adj2" fmla="val 32133"/>
            </a:avLst>
          </a:prstGeom>
          <a:solidFill>
            <a:srgbClr val="339966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203800" y="5388120"/>
            <a:ext cx="399960" cy="514080"/>
          </a:xfrm>
          <a:prstGeom prst="upArrow">
            <a:avLst>
              <a:gd name="adj1" fmla="val 50000"/>
              <a:gd name="adj2" fmla="val 32133"/>
            </a:avLst>
          </a:prstGeom>
          <a:solidFill>
            <a:srgbClr val="339966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821200" y="5388120"/>
            <a:ext cx="400320" cy="514080"/>
          </a:xfrm>
          <a:prstGeom prst="upArrow">
            <a:avLst>
              <a:gd name="adj1" fmla="val 50000"/>
              <a:gd name="adj2" fmla="val 32104"/>
            </a:avLst>
          </a:prstGeom>
          <a:solidFill>
            <a:srgbClr val="339966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438960" y="5388120"/>
            <a:ext cx="399960" cy="514080"/>
          </a:xfrm>
          <a:prstGeom prst="upArrow">
            <a:avLst>
              <a:gd name="adj1" fmla="val 50000"/>
              <a:gd name="adj2" fmla="val 32133"/>
            </a:avLst>
          </a:prstGeom>
          <a:solidFill>
            <a:srgbClr val="339966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058160" y="5388120"/>
            <a:ext cx="399960" cy="514080"/>
          </a:xfrm>
          <a:prstGeom prst="upArrow">
            <a:avLst>
              <a:gd name="adj1" fmla="val 50000"/>
              <a:gd name="adj2" fmla="val 32133"/>
            </a:avLst>
          </a:prstGeom>
          <a:solidFill>
            <a:srgbClr val="339966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658120" y="1898640"/>
            <a:ext cx="175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b0101"/>
                </a:solidFill>
                <a:latin typeface="Times New Roman"/>
              </a:rPr>
              <a:t>Premio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623400" y="5935680"/>
            <a:ext cx="35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9900"/>
                </a:solidFill>
                <a:latin typeface="Times New Roman"/>
              </a:rPr>
              <a:t>Carta Compromis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556760" y="3241800"/>
            <a:ext cx="19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850b"/>
                </a:solidFill>
                <a:latin typeface="Times New Roman"/>
              </a:rPr>
              <a:t>Nivel de</a:t>
            </a:r>
            <a:br>
              <a:rPr sz="4000"/>
            </a:br>
            <a:r>
              <a:rPr b="1" lang="en-US" sz="4000" spc="-1" strike="noStrike">
                <a:solidFill>
                  <a:srgbClr val="ff850b"/>
                </a:solidFill>
                <a:latin typeface="Times New Roman"/>
              </a:rPr>
              <a:t>Calidad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986520" y="2792520"/>
            <a:ext cx="476280" cy="2401920"/>
          </a:xfrm>
          <a:prstGeom prst="rect">
            <a:avLst/>
          </a:prstGeom>
          <a:gradFill rotWithShape="0">
            <a:gsLst>
              <a:gs pos="0">
                <a:srgbClr val="fb0101"/>
              </a:gs>
              <a:gs pos="100000">
                <a:srgbClr val="009900"/>
              </a:gs>
            </a:gsLst>
            <a:lin ang="5400000"/>
          </a:gra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969840" y="3351240"/>
            <a:ext cx="366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850b"/>
                </a:solidFill>
                <a:latin typeface="Times New Roman"/>
              </a:rPr>
              <a:t>Organizaciones </a:t>
            </a:r>
            <a:br>
              <a:rPr sz="4000"/>
            </a:br>
            <a:r>
              <a:rPr b="1" lang="en-US" sz="4000" spc="-1" strike="noStrike">
                <a:solidFill>
                  <a:srgbClr val="ff850b"/>
                </a:solidFill>
                <a:latin typeface="Times New Roman"/>
              </a:rPr>
              <a:t>del Estado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500120" y="258120"/>
            <a:ext cx="752472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Bases conceptuales del proces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660680" y="1866960"/>
            <a:ext cx="685008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40000"/>
              </a:lnSpc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996633"/>
                </a:solidFill>
                <a:latin typeface="Book Antiqua"/>
              </a:rPr>
              <a:t>Junta de evaluación independiente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lnSpc>
                <a:spcPct val="140000"/>
              </a:lnSpc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996633"/>
                </a:solidFill>
                <a:latin typeface="Book Antiqua"/>
              </a:rPr>
              <a:t>Confidencialidad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lnSpc>
                <a:spcPct val="140000"/>
              </a:lnSpc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996633"/>
                </a:solidFill>
                <a:latin typeface="Book Antiqua"/>
              </a:rPr>
              <a:t>Código de ética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lnSpc>
                <a:spcPct val="140000"/>
              </a:lnSpc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996633"/>
                </a:solidFill>
                <a:latin typeface="Book Antiqua"/>
              </a:rPr>
              <a:t>Trabajo en equipo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184480" y="5010120"/>
            <a:ext cx="6975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redibilidad y Confianz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1"/>
          <a:stretch/>
        </p:blipFill>
        <p:spPr>
          <a:xfrm>
            <a:off x="6581880" y="2895480"/>
            <a:ext cx="1412640" cy="21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retaría Técnica del Premio Nacional a la Calidad para el Sector Público</a:t>
            </a:r>
          </a:p>
        </p:txBody>
      </p:sp>
    </p:spTree>
  </p:cSld>
  <p:transition advTm="18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7980480" y="4191120"/>
            <a:ext cx="1544400" cy="423720"/>
          </a:xfrm>
          <a:prstGeom prst="rect">
            <a:avLst/>
          </a:prstGeom>
          <a:solidFill>
            <a:srgbClr val="cccc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324480" y="2895480"/>
            <a:ext cx="1544760" cy="424080"/>
          </a:xfrm>
          <a:prstGeom prst="rect">
            <a:avLst/>
          </a:prstGeom>
          <a:solidFill>
            <a:srgbClr val="9ddfa6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402000"/>
                </a:solidFill>
                <a:latin typeface="Arial"/>
              </a:rPr>
              <a:t>VISITA AL ORGANISMO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724280" y="1690560"/>
            <a:ext cx="1403640" cy="443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402000"/>
                </a:solidFill>
                <a:latin typeface="Arial"/>
              </a:rPr>
              <a:t>EVALUACION DE CONSENSO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6432480" y="309600"/>
            <a:ext cx="1263600" cy="923760"/>
            <a:chOff x="6432480" y="309600"/>
            <a:chExt cx="1263600" cy="923760"/>
          </a:xfrm>
        </p:grpSpPr>
        <p:sp>
          <p:nvSpPr>
            <p:cNvPr id="816" name=""/>
            <p:cNvSpPr/>
            <p:nvPr/>
          </p:nvSpPr>
          <p:spPr>
            <a:xfrm>
              <a:off x="6594120" y="309600"/>
              <a:ext cx="939960" cy="9237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432480" y="482400"/>
              <a:ext cx="12636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402000"/>
                  </a:solidFill>
                  <a:latin typeface="Arial"/>
                </a:rPr>
                <a:t>2do</a:t>
              </a:r>
              <a:r>
                <a:rPr b="1" lang="es-MX" sz="1000" spc="-1" strike="noStrike">
                  <a:solidFill>
                    <a:srgbClr val="402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402000"/>
                  </a:solidFill>
                  <a:latin typeface="Arial"/>
                </a:rPr>
                <a:t>Corte de </a:t>
              </a:r>
              <a:endParaRPr b="0" lang="en-US" sz="10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402000"/>
                  </a:solidFill>
                  <a:latin typeface="Arial"/>
                </a:rPr>
                <a:t>Jueces</a:t>
              </a:r>
              <a:endParaRPr b="0" lang="en-US" sz="1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pic>
        <p:nvPicPr>
          <p:cNvPr id="818" name="PREMIO" descr=""/>
          <p:cNvPicPr/>
          <p:nvPr/>
        </p:nvPicPr>
        <p:blipFill>
          <a:blip r:embed="rId1"/>
          <a:stretch/>
        </p:blipFill>
        <p:spPr>
          <a:xfrm>
            <a:off x="1467000" y="325440"/>
            <a:ext cx="576000" cy="1198440"/>
          </a:xfrm>
          <a:prstGeom prst="rect">
            <a:avLst/>
          </a:prstGeom>
          <a:ln w="0">
            <a:noFill/>
          </a:ln>
        </p:spPr>
      </p:pic>
      <p:grpSp>
        <p:nvGrpSpPr>
          <p:cNvPr id="819" name=""/>
          <p:cNvGrpSpPr/>
          <p:nvPr/>
        </p:nvGrpSpPr>
        <p:grpSpPr>
          <a:xfrm>
            <a:off x="8077320" y="309600"/>
            <a:ext cx="1263600" cy="923760"/>
            <a:chOff x="8077320" y="309600"/>
            <a:chExt cx="1263600" cy="923760"/>
          </a:xfrm>
        </p:grpSpPr>
        <p:sp>
          <p:nvSpPr>
            <p:cNvPr id="820" name=""/>
            <p:cNvSpPr/>
            <p:nvPr/>
          </p:nvSpPr>
          <p:spPr>
            <a:xfrm>
              <a:off x="8239320" y="309600"/>
              <a:ext cx="939600" cy="9237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077320" y="572760"/>
              <a:ext cx="1263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402000"/>
                  </a:solidFill>
                  <a:latin typeface="Arial"/>
                </a:rPr>
                <a:t>Consenso </a:t>
              </a:r>
              <a:endParaRPr b="0" lang="en-US" sz="10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402000"/>
                  </a:solidFill>
                  <a:latin typeface="Arial"/>
                </a:rPr>
                <a:t>de Jueces</a:t>
              </a:r>
              <a:endParaRPr b="0" lang="en-US" sz="1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4800600" y="309600"/>
            <a:ext cx="1263600" cy="923760"/>
            <a:chOff x="4800600" y="309600"/>
            <a:chExt cx="1263600" cy="923760"/>
          </a:xfrm>
        </p:grpSpPr>
        <p:sp>
          <p:nvSpPr>
            <p:cNvPr id="823" name=""/>
            <p:cNvSpPr/>
            <p:nvPr/>
          </p:nvSpPr>
          <p:spPr>
            <a:xfrm>
              <a:off x="4962240" y="309600"/>
              <a:ext cx="939960" cy="9237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800600" y="482400"/>
              <a:ext cx="12636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402000"/>
                  </a:solidFill>
                  <a:latin typeface="Arial"/>
                </a:rPr>
                <a:t>1er</a:t>
              </a:r>
              <a:r>
                <a:rPr b="1" lang="es-MX" sz="1000" spc="-1" strike="noStrike">
                  <a:solidFill>
                    <a:srgbClr val="402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402000"/>
                  </a:solidFill>
                  <a:latin typeface="Arial"/>
                </a:rPr>
                <a:t>Corte de </a:t>
              </a:r>
              <a:endParaRPr b="0" lang="en-US" sz="10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402000"/>
                  </a:solidFill>
                  <a:latin typeface="Arial"/>
                </a:rPr>
                <a:t>Jueces</a:t>
              </a:r>
              <a:endParaRPr b="0" lang="en-US" sz="1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4648320" y="5181480"/>
            <a:ext cx="4876560" cy="1246320"/>
            <a:chOff x="4648320" y="5181480"/>
            <a:chExt cx="4876560" cy="1246320"/>
          </a:xfrm>
        </p:grpSpPr>
        <p:grpSp>
          <p:nvGrpSpPr>
            <p:cNvPr id="826" name=""/>
            <p:cNvGrpSpPr/>
            <p:nvPr/>
          </p:nvGrpSpPr>
          <p:grpSpPr>
            <a:xfrm>
              <a:off x="8238960" y="5181480"/>
              <a:ext cx="1057320" cy="1246320"/>
              <a:chOff x="8238960" y="5181480"/>
              <a:chExt cx="1057320" cy="1246320"/>
            </a:xfrm>
          </p:grpSpPr>
          <p:grpSp>
            <p:nvGrpSpPr>
              <p:cNvPr id="827" name=""/>
              <p:cNvGrpSpPr/>
              <p:nvPr/>
            </p:nvGrpSpPr>
            <p:grpSpPr>
              <a:xfrm>
                <a:off x="8238960" y="5181480"/>
                <a:ext cx="1057320" cy="1158840"/>
                <a:chOff x="8238960" y="5181480"/>
                <a:chExt cx="1057320" cy="115884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8321760" y="6226200"/>
                  <a:ext cx="188640" cy="114120"/>
                </a:xfrm>
                <a:custGeom>
                  <a:avLst/>
                  <a:gdLst/>
                  <a:ahLst/>
                  <a:rect l="l" t="t" r="r" b="b"/>
                  <a:pathLst>
                    <a:path w="356" h="214">
                      <a:moveTo>
                        <a:pt x="228" y="0"/>
                      </a:moveTo>
                      <a:lnTo>
                        <a:pt x="47" y="18"/>
                      </a:lnTo>
                      <a:lnTo>
                        <a:pt x="29" y="32"/>
                      </a:lnTo>
                      <a:lnTo>
                        <a:pt x="18" y="48"/>
                      </a:lnTo>
                      <a:lnTo>
                        <a:pt x="7" y="66"/>
                      </a:lnTo>
                      <a:lnTo>
                        <a:pt x="0" y="97"/>
                      </a:lnTo>
                      <a:lnTo>
                        <a:pt x="1" y="130"/>
                      </a:lnTo>
                      <a:lnTo>
                        <a:pt x="7" y="148"/>
                      </a:lnTo>
                      <a:lnTo>
                        <a:pt x="18" y="168"/>
                      </a:lnTo>
                      <a:lnTo>
                        <a:pt x="37" y="185"/>
                      </a:lnTo>
                      <a:lnTo>
                        <a:pt x="59" y="199"/>
                      </a:lnTo>
                      <a:lnTo>
                        <a:pt x="82" y="208"/>
                      </a:lnTo>
                      <a:lnTo>
                        <a:pt x="101" y="212"/>
                      </a:lnTo>
                      <a:lnTo>
                        <a:pt x="127" y="214"/>
                      </a:lnTo>
                      <a:lnTo>
                        <a:pt x="125" y="212"/>
                      </a:lnTo>
                      <a:lnTo>
                        <a:pt x="267" y="197"/>
                      </a:lnTo>
                      <a:lnTo>
                        <a:pt x="356" y="0"/>
                      </a:lnTo>
                      <a:lnTo>
                        <a:pt x="228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8238960" y="5181480"/>
                  <a:ext cx="1057320" cy="1157400"/>
                </a:xfrm>
                <a:custGeom>
                  <a:avLst/>
                  <a:gdLst/>
                  <a:ahLst/>
                  <a:rect l="l" t="t" r="r" b="b"/>
                  <a:pathLst>
                    <a:path w="1996" h="2188">
                      <a:moveTo>
                        <a:pt x="126" y="4"/>
                      </a:moveTo>
                      <a:lnTo>
                        <a:pt x="112" y="8"/>
                      </a:lnTo>
                      <a:lnTo>
                        <a:pt x="94" y="17"/>
                      </a:lnTo>
                      <a:lnTo>
                        <a:pt x="72" y="37"/>
                      </a:lnTo>
                      <a:lnTo>
                        <a:pt x="42" y="67"/>
                      </a:lnTo>
                      <a:lnTo>
                        <a:pt x="21" y="98"/>
                      </a:lnTo>
                      <a:lnTo>
                        <a:pt x="9" y="131"/>
                      </a:lnTo>
                      <a:lnTo>
                        <a:pt x="4" y="161"/>
                      </a:lnTo>
                      <a:lnTo>
                        <a:pt x="0" y="199"/>
                      </a:lnTo>
                      <a:lnTo>
                        <a:pt x="0" y="236"/>
                      </a:lnTo>
                      <a:lnTo>
                        <a:pt x="5" y="267"/>
                      </a:lnTo>
                      <a:lnTo>
                        <a:pt x="9" y="300"/>
                      </a:lnTo>
                      <a:lnTo>
                        <a:pt x="15" y="328"/>
                      </a:lnTo>
                      <a:lnTo>
                        <a:pt x="35" y="403"/>
                      </a:lnTo>
                      <a:lnTo>
                        <a:pt x="64" y="485"/>
                      </a:lnTo>
                      <a:lnTo>
                        <a:pt x="106" y="576"/>
                      </a:lnTo>
                      <a:lnTo>
                        <a:pt x="148" y="680"/>
                      </a:lnTo>
                      <a:lnTo>
                        <a:pt x="191" y="771"/>
                      </a:lnTo>
                      <a:lnTo>
                        <a:pt x="227" y="861"/>
                      </a:lnTo>
                      <a:lnTo>
                        <a:pt x="269" y="970"/>
                      </a:lnTo>
                      <a:lnTo>
                        <a:pt x="306" y="1109"/>
                      </a:lnTo>
                      <a:lnTo>
                        <a:pt x="330" y="1230"/>
                      </a:lnTo>
                      <a:lnTo>
                        <a:pt x="354" y="1382"/>
                      </a:lnTo>
                      <a:lnTo>
                        <a:pt x="366" y="1545"/>
                      </a:lnTo>
                      <a:lnTo>
                        <a:pt x="384" y="1690"/>
                      </a:lnTo>
                      <a:lnTo>
                        <a:pt x="384" y="1770"/>
                      </a:lnTo>
                      <a:lnTo>
                        <a:pt x="384" y="1873"/>
                      </a:lnTo>
                      <a:lnTo>
                        <a:pt x="384" y="1939"/>
                      </a:lnTo>
                      <a:lnTo>
                        <a:pt x="379" y="2002"/>
                      </a:lnTo>
                      <a:lnTo>
                        <a:pt x="360" y="2067"/>
                      </a:lnTo>
                      <a:lnTo>
                        <a:pt x="347" y="2105"/>
                      </a:lnTo>
                      <a:lnTo>
                        <a:pt x="330" y="2139"/>
                      </a:lnTo>
                      <a:lnTo>
                        <a:pt x="313" y="2161"/>
                      </a:lnTo>
                      <a:lnTo>
                        <a:pt x="301" y="2174"/>
                      </a:lnTo>
                      <a:lnTo>
                        <a:pt x="288" y="2188"/>
                      </a:lnTo>
                      <a:lnTo>
                        <a:pt x="465" y="2168"/>
                      </a:lnTo>
                      <a:lnTo>
                        <a:pt x="809" y="2121"/>
                      </a:lnTo>
                      <a:lnTo>
                        <a:pt x="1093" y="2085"/>
                      </a:lnTo>
                      <a:lnTo>
                        <a:pt x="1420" y="2048"/>
                      </a:lnTo>
                      <a:lnTo>
                        <a:pt x="1663" y="2036"/>
                      </a:lnTo>
                      <a:lnTo>
                        <a:pt x="1851" y="2042"/>
                      </a:lnTo>
                      <a:lnTo>
                        <a:pt x="1899" y="2042"/>
                      </a:lnTo>
                      <a:lnTo>
                        <a:pt x="1929" y="2036"/>
                      </a:lnTo>
                      <a:lnTo>
                        <a:pt x="1947" y="2006"/>
                      </a:lnTo>
                      <a:lnTo>
                        <a:pt x="1966" y="1973"/>
                      </a:lnTo>
                      <a:lnTo>
                        <a:pt x="1981" y="1923"/>
                      </a:lnTo>
                      <a:lnTo>
                        <a:pt x="1990" y="1864"/>
                      </a:lnTo>
                      <a:lnTo>
                        <a:pt x="1996" y="1806"/>
                      </a:lnTo>
                      <a:lnTo>
                        <a:pt x="1996" y="1723"/>
                      </a:lnTo>
                      <a:lnTo>
                        <a:pt x="1993" y="1657"/>
                      </a:lnTo>
                      <a:lnTo>
                        <a:pt x="1990" y="1551"/>
                      </a:lnTo>
                      <a:lnTo>
                        <a:pt x="1972" y="1436"/>
                      </a:lnTo>
                      <a:lnTo>
                        <a:pt x="1941" y="1288"/>
                      </a:lnTo>
                      <a:lnTo>
                        <a:pt x="1905" y="1152"/>
                      </a:lnTo>
                      <a:lnTo>
                        <a:pt x="1875" y="1031"/>
                      </a:lnTo>
                      <a:lnTo>
                        <a:pt x="1826" y="898"/>
                      </a:lnTo>
                      <a:lnTo>
                        <a:pt x="1778" y="777"/>
                      </a:lnTo>
                      <a:lnTo>
                        <a:pt x="1736" y="662"/>
                      </a:lnTo>
                      <a:lnTo>
                        <a:pt x="1669" y="497"/>
                      </a:lnTo>
                      <a:lnTo>
                        <a:pt x="1633" y="401"/>
                      </a:lnTo>
                      <a:lnTo>
                        <a:pt x="1611" y="336"/>
                      </a:lnTo>
                      <a:lnTo>
                        <a:pt x="1599" y="286"/>
                      </a:lnTo>
                      <a:lnTo>
                        <a:pt x="1593" y="238"/>
                      </a:lnTo>
                      <a:lnTo>
                        <a:pt x="1593" y="197"/>
                      </a:lnTo>
                      <a:lnTo>
                        <a:pt x="1621" y="50"/>
                      </a:lnTo>
                      <a:lnTo>
                        <a:pt x="1633" y="19"/>
                      </a:lnTo>
                      <a:lnTo>
                        <a:pt x="145" y="0"/>
                      </a:lnTo>
                      <a:lnTo>
                        <a:pt x="126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8294760" y="5234040"/>
                  <a:ext cx="87120" cy="76320"/>
                </a:xfrm>
                <a:custGeom>
                  <a:avLst/>
                  <a:gdLst/>
                  <a:ahLst/>
                  <a:rect l="l" t="t" r="r" b="b"/>
                  <a:pathLst>
                    <a:path w="164" h="143">
                      <a:moveTo>
                        <a:pt x="164" y="10"/>
                      </a:moveTo>
                      <a:lnTo>
                        <a:pt x="122" y="131"/>
                      </a:lnTo>
                      <a:lnTo>
                        <a:pt x="80" y="143"/>
                      </a:lnTo>
                      <a:lnTo>
                        <a:pt x="58" y="141"/>
                      </a:lnTo>
                      <a:lnTo>
                        <a:pt x="37" y="133"/>
                      </a:lnTo>
                      <a:lnTo>
                        <a:pt x="21" y="119"/>
                      </a:lnTo>
                      <a:lnTo>
                        <a:pt x="10" y="105"/>
                      </a:lnTo>
                      <a:lnTo>
                        <a:pt x="3" y="87"/>
                      </a:lnTo>
                      <a:lnTo>
                        <a:pt x="0" y="71"/>
                      </a:lnTo>
                      <a:lnTo>
                        <a:pt x="1" y="49"/>
                      </a:lnTo>
                      <a:lnTo>
                        <a:pt x="7" y="34"/>
                      </a:lnTo>
                      <a:lnTo>
                        <a:pt x="19" y="22"/>
                      </a:lnTo>
                      <a:lnTo>
                        <a:pt x="34" y="12"/>
                      </a:lnTo>
                      <a:lnTo>
                        <a:pt x="52" y="7"/>
                      </a:lnTo>
                      <a:lnTo>
                        <a:pt x="68" y="4"/>
                      </a:lnTo>
                      <a:lnTo>
                        <a:pt x="85" y="1"/>
                      </a:lnTo>
                      <a:lnTo>
                        <a:pt x="98" y="1"/>
                      </a:lnTo>
                      <a:lnTo>
                        <a:pt x="115" y="0"/>
                      </a:lnTo>
                      <a:lnTo>
                        <a:pt x="164" y="1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8329680" y="5229360"/>
                  <a:ext cx="60120" cy="61920"/>
                </a:xfrm>
                <a:custGeom>
                  <a:avLst/>
                  <a:gdLst/>
                  <a:ahLst/>
                  <a:rect l="l" t="t" r="r" b="b"/>
                  <a:pathLst>
                    <a:path w="114" h="117">
                      <a:moveTo>
                        <a:pt x="0" y="14"/>
                      </a:moveTo>
                      <a:lnTo>
                        <a:pt x="21" y="29"/>
                      </a:lnTo>
                      <a:lnTo>
                        <a:pt x="31" y="44"/>
                      </a:lnTo>
                      <a:lnTo>
                        <a:pt x="36" y="59"/>
                      </a:lnTo>
                      <a:lnTo>
                        <a:pt x="37" y="82"/>
                      </a:lnTo>
                      <a:lnTo>
                        <a:pt x="33" y="100"/>
                      </a:lnTo>
                      <a:lnTo>
                        <a:pt x="21" y="117"/>
                      </a:lnTo>
                      <a:lnTo>
                        <a:pt x="114" y="97"/>
                      </a:lnTo>
                      <a:lnTo>
                        <a:pt x="106" y="0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8312040" y="5181480"/>
                  <a:ext cx="884160" cy="128880"/>
                </a:xfrm>
                <a:custGeom>
                  <a:avLst/>
                  <a:gdLst/>
                  <a:ahLst/>
                  <a:rect l="l" t="t" r="r" b="b"/>
                  <a:pathLst>
                    <a:path w="1671" h="242">
                      <a:moveTo>
                        <a:pt x="1582" y="18"/>
                      </a:moveTo>
                      <a:lnTo>
                        <a:pt x="0" y="0"/>
                      </a:lnTo>
                      <a:lnTo>
                        <a:pt x="45" y="7"/>
                      </a:lnTo>
                      <a:lnTo>
                        <a:pt x="61" y="12"/>
                      </a:lnTo>
                      <a:lnTo>
                        <a:pt x="78" y="19"/>
                      </a:lnTo>
                      <a:lnTo>
                        <a:pt x="89" y="30"/>
                      </a:lnTo>
                      <a:lnTo>
                        <a:pt x="102" y="47"/>
                      </a:lnTo>
                      <a:lnTo>
                        <a:pt x="108" y="66"/>
                      </a:lnTo>
                      <a:lnTo>
                        <a:pt x="112" y="86"/>
                      </a:lnTo>
                      <a:lnTo>
                        <a:pt x="114" y="106"/>
                      </a:lnTo>
                      <a:lnTo>
                        <a:pt x="115" y="123"/>
                      </a:lnTo>
                      <a:lnTo>
                        <a:pt x="112" y="148"/>
                      </a:lnTo>
                      <a:lnTo>
                        <a:pt x="108" y="173"/>
                      </a:lnTo>
                      <a:lnTo>
                        <a:pt x="97" y="194"/>
                      </a:lnTo>
                      <a:lnTo>
                        <a:pt x="80" y="215"/>
                      </a:lnTo>
                      <a:lnTo>
                        <a:pt x="59" y="229"/>
                      </a:lnTo>
                      <a:lnTo>
                        <a:pt x="42" y="242"/>
                      </a:lnTo>
                      <a:lnTo>
                        <a:pt x="145" y="230"/>
                      </a:lnTo>
                      <a:lnTo>
                        <a:pt x="260" y="212"/>
                      </a:lnTo>
                      <a:lnTo>
                        <a:pt x="443" y="200"/>
                      </a:lnTo>
                      <a:lnTo>
                        <a:pt x="594" y="188"/>
                      </a:lnTo>
                      <a:lnTo>
                        <a:pt x="776" y="188"/>
                      </a:lnTo>
                      <a:lnTo>
                        <a:pt x="975" y="194"/>
                      </a:lnTo>
                      <a:lnTo>
                        <a:pt x="1224" y="200"/>
                      </a:lnTo>
                      <a:lnTo>
                        <a:pt x="1460" y="218"/>
                      </a:lnTo>
                      <a:lnTo>
                        <a:pt x="1557" y="236"/>
                      </a:lnTo>
                      <a:lnTo>
                        <a:pt x="1585" y="240"/>
                      </a:lnTo>
                      <a:lnTo>
                        <a:pt x="1615" y="241"/>
                      </a:lnTo>
                      <a:lnTo>
                        <a:pt x="1636" y="236"/>
                      </a:lnTo>
                      <a:lnTo>
                        <a:pt x="1654" y="218"/>
                      </a:lnTo>
                      <a:lnTo>
                        <a:pt x="1664" y="196"/>
                      </a:lnTo>
                      <a:lnTo>
                        <a:pt x="1669" y="177"/>
                      </a:lnTo>
                      <a:lnTo>
                        <a:pt x="1671" y="155"/>
                      </a:lnTo>
                      <a:lnTo>
                        <a:pt x="1667" y="117"/>
                      </a:lnTo>
                      <a:lnTo>
                        <a:pt x="1659" y="93"/>
                      </a:lnTo>
                      <a:lnTo>
                        <a:pt x="1647" y="68"/>
                      </a:lnTo>
                      <a:lnTo>
                        <a:pt x="1636" y="52"/>
                      </a:lnTo>
                      <a:lnTo>
                        <a:pt x="1623" y="38"/>
                      </a:lnTo>
                      <a:lnTo>
                        <a:pt x="1604" y="25"/>
                      </a:lnTo>
                      <a:lnTo>
                        <a:pt x="1582" y="1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3" name=""/>
              <p:cNvGrpSpPr/>
              <p:nvPr/>
            </p:nvGrpSpPr>
            <p:grpSpPr>
              <a:xfrm>
                <a:off x="8983440" y="6002280"/>
                <a:ext cx="282600" cy="425520"/>
                <a:chOff x="8983440" y="6002280"/>
                <a:chExt cx="282600" cy="42552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8983440" y="6113520"/>
                  <a:ext cx="282600" cy="314280"/>
                </a:xfrm>
                <a:custGeom>
                  <a:avLst/>
                  <a:gdLst/>
                  <a:ahLst/>
                  <a:rect l="l" t="t" r="r" b="b"/>
                  <a:pathLst>
                    <a:path w="535" h="592">
                      <a:moveTo>
                        <a:pt x="184" y="30"/>
                      </a:moveTo>
                      <a:lnTo>
                        <a:pt x="132" y="229"/>
                      </a:lnTo>
                      <a:lnTo>
                        <a:pt x="70" y="398"/>
                      </a:lnTo>
                      <a:lnTo>
                        <a:pt x="0" y="592"/>
                      </a:lnTo>
                      <a:lnTo>
                        <a:pt x="59" y="554"/>
                      </a:lnTo>
                      <a:lnTo>
                        <a:pt x="128" y="510"/>
                      </a:lnTo>
                      <a:lnTo>
                        <a:pt x="166" y="490"/>
                      </a:lnTo>
                      <a:lnTo>
                        <a:pt x="197" y="477"/>
                      </a:lnTo>
                      <a:lnTo>
                        <a:pt x="227" y="470"/>
                      </a:lnTo>
                      <a:lnTo>
                        <a:pt x="255" y="467"/>
                      </a:lnTo>
                      <a:lnTo>
                        <a:pt x="294" y="459"/>
                      </a:lnTo>
                      <a:lnTo>
                        <a:pt x="270" y="394"/>
                      </a:lnTo>
                      <a:lnTo>
                        <a:pt x="300" y="390"/>
                      </a:lnTo>
                      <a:lnTo>
                        <a:pt x="337" y="398"/>
                      </a:lnTo>
                      <a:lnTo>
                        <a:pt x="373" y="416"/>
                      </a:lnTo>
                      <a:lnTo>
                        <a:pt x="401" y="434"/>
                      </a:lnTo>
                      <a:lnTo>
                        <a:pt x="425" y="454"/>
                      </a:lnTo>
                      <a:lnTo>
                        <a:pt x="451" y="474"/>
                      </a:lnTo>
                      <a:lnTo>
                        <a:pt x="490" y="510"/>
                      </a:lnTo>
                      <a:lnTo>
                        <a:pt x="535" y="546"/>
                      </a:lnTo>
                      <a:lnTo>
                        <a:pt x="525" y="419"/>
                      </a:lnTo>
                      <a:lnTo>
                        <a:pt x="501" y="319"/>
                      </a:lnTo>
                      <a:lnTo>
                        <a:pt x="476" y="202"/>
                      </a:lnTo>
                      <a:lnTo>
                        <a:pt x="455" y="116"/>
                      </a:lnTo>
                      <a:lnTo>
                        <a:pt x="441" y="48"/>
                      </a:lnTo>
                      <a:lnTo>
                        <a:pt x="435" y="0"/>
                      </a:lnTo>
                      <a:lnTo>
                        <a:pt x="184" y="3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9058320" y="6002280"/>
                  <a:ext cx="172800" cy="165240"/>
                </a:xfrm>
                <a:prstGeom prst="ellipse">
                  <a:avLst/>
                </a:prstGeom>
                <a:solidFill>
                  <a:srgbClr val="ffff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9061560" y="6006960"/>
                  <a:ext cx="164880" cy="158760"/>
                </a:xfrm>
                <a:custGeom>
                  <a:avLst/>
                  <a:gdLst/>
                  <a:ahLst/>
                  <a:rect l="l" t="t" r="r" b="b"/>
                  <a:pathLst>
                    <a:path w="312" h="302">
                      <a:moveTo>
                        <a:pt x="153" y="0"/>
                      </a:moveTo>
                      <a:lnTo>
                        <a:pt x="142" y="56"/>
                      </a:lnTo>
                      <a:lnTo>
                        <a:pt x="110" y="7"/>
                      </a:lnTo>
                      <a:lnTo>
                        <a:pt x="117" y="61"/>
                      </a:lnTo>
                      <a:lnTo>
                        <a:pt x="78" y="20"/>
                      </a:lnTo>
                      <a:lnTo>
                        <a:pt x="93" y="74"/>
                      </a:lnTo>
                      <a:lnTo>
                        <a:pt x="51" y="42"/>
                      </a:lnTo>
                      <a:lnTo>
                        <a:pt x="75" y="92"/>
                      </a:lnTo>
                      <a:lnTo>
                        <a:pt x="22" y="73"/>
                      </a:lnTo>
                      <a:lnTo>
                        <a:pt x="60" y="114"/>
                      </a:lnTo>
                      <a:lnTo>
                        <a:pt x="5" y="108"/>
                      </a:lnTo>
                      <a:lnTo>
                        <a:pt x="57" y="135"/>
                      </a:lnTo>
                      <a:lnTo>
                        <a:pt x="0" y="150"/>
                      </a:lnTo>
                      <a:lnTo>
                        <a:pt x="57" y="163"/>
                      </a:lnTo>
                      <a:lnTo>
                        <a:pt x="5" y="187"/>
                      </a:lnTo>
                      <a:lnTo>
                        <a:pt x="61" y="188"/>
                      </a:lnTo>
                      <a:lnTo>
                        <a:pt x="20" y="226"/>
                      </a:lnTo>
                      <a:lnTo>
                        <a:pt x="74" y="210"/>
                      </a:lnTo>
                      <a:lnTo>
                        <a:pt x="44" y="256"/>
                      </a:lnTo>
                      <a:lnTo>
                        <a:pt x="93" y="229"/>
                      </a:lnTo>
                      <a:lnTo>
                        <a:pt x="78" y="281"/>
                      </a:lnTo>
                      <a:lnTo>
                        <a:pt x="112" y="243"/>
                      </a:lnTo>
                      <a:lnTo>
                        <a:pt x="111" y="297"/>
                      </a:lnTo>
                      <a:lnTo>
                        <a:pt x="136" y="247"/>
                      </a:lnTo>
                      <a:lnTo>
                        <a:pt x="153" y="302"/>
                      </a:lnTo>
                      <a:lnTo>
                        <a:pt x="167" y="249"/>
                      </a:lnTo>
                      <a:lnTo>
                        <a:pt x="184" y="299"/>
                      </a:lnTo>
                      <a:lnTo>
                        <a:pt x="194" y="244"/>
                      </a:lnTo>
                      <a:lnTo>
                        <a:pt x="222" y="287"/>
                      </a:lnTo>
                      <a:lnTo>
                        <a:pt x="215" y="232"/>
                      </a:lnTo>
                      <a:lnTo>
                        <a:pt x="254" y="263"/>
                      </a:lnTo>
                      <a:lnTo>
                        <a:pt x="235" y="213"/>
                      </a:lnTo>
                      <a:lnTo>
                        <a:pt x="286" y="231"/>
                      </a:lnTo>
                      <a:lnTo>
                        <a:pt x="251" y="192"/>
                      </a:lnTo>
                      <a:lnTo>
                        <a:pt x="305" y="191"/>
                      </a:lnTo>
                      <a:lnTo>
                        <a:pt x="257" y="169"/>
                      </a:lnTo>
                      <a:lnTo>
                        <a:pt x="312" y="150"/>
                      </a:lnTo>
                      <a:lnTo>
                        <a:pt x="255" y="136"/>
                      </a:lnTo>
                      <a:lnTo>
                        <a:pt x="308" y="115"/>
                      </a:lnTo>
                      <a:lnTo>
                        <a:pt x="249" y="112"/>
                      </a:lnTo>
                      <a:lnTo>
                        <a:pt x="296" y="82"/>
                      </a:lnTo>
                      <a:lnTo>
                        <a:pt x="240" y="90"/>
                      </a:lnTo>
                      <a:lnTo>
                        <a:pt x="273" y="50"/>
                      </a:lnTo>
                      <a:lnTo>
                        <a:pt x="223" y="73"/>
                      </a:lnTo>
                      <a:lnTo>
                        <a:pt x="242" y="27"/>
                      </a:lnTo>
                      <a:lnTo>
                        <a:pt x="201" y="61"/>
                      </a:lnTo>
                      <a:lnTo>
                        <a:pt x="208" y="9"/>
                      </a:lnTo>
                      <a:lnTo>
                        <a:pt x="175" y="53"/>
                      </a:lnTo>
                      <a:lnTo>
                        <a:pt x="153" y="0"/>
                      </a:lnTo>
                      <a:close/>
                    </a:path>
                  </a:pathLst>
                </a:custGeom>
                <a:solidFill>
                  <a:srgbClr val="808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9090000" y="6027840"/>
                  <a:ext cx="109440" cy="114120"/>
                </a:xfrm>
                <a:prstGeom prst="ellipse">
                  <a:avLst/>
                </a:prstGeom>
                <a:solidFill>
                  <a:srgbClr val="ffff00"/>
                </a:solidFill>
                <a:ln w="79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9101160" y="6164280"/>
                  <a:ext cx="25200" cy="169920"/>
                </a:xfrm>
                <a:custGeom>
                  <a:avLst/>
                  <a:gdLst/>
                  <a:ahLst/>
                  <a:rect l="l" t="t" r="r" b="b"/>
                  <a:pathLst>
                    <a:path w="48" h="323">
                      <a:moveTo>
                        <a:pt x="48" y="297"/>
                      </a:moveTo>
                      <a:lnTo>
                        <a:pt x="21" y="310"/>
                      </a:lnTo>
                      <a:lnTo>
                        <a:pt x="0" y="323"/>
                      </a:lnTo>
                      <a:lnTo>
                        <a:pt x="46" y="0"/>
                      </a:lnTo>
                      <a:lnTo>
                        <a:pt x="46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9" name=""/>
              <p:cNvSpPr/>
              <p:nvPr/>
            </p:nvSpPr>
            <p:spPr>
              <a:xfrm>
                <a:off x="8390160" y="5469120"/>
                <a:ext cx="768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200" spc="-1" strike="noStrike">
                    <a:solidFill>
                      <a:srgbClr val="402000"/>
                    </a:solidFill>
                    <a:latin typeface="Arial"/>
                  </a:rPr>
                  <a:t>PNC</a:t>
                </a:r>
                <a:endParaRPr b="0" lang="en-US" sz="2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>
              <a:off x="4648320" y="5549760"/>
              <a:ext cx="1544400" cy="42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402000"/>
                  </a:solidFill>
                  <a:latin typeface="Arial"/>
                </a:rPr>
                <a:t>EVALUACIÓN CONSENSO</a:t>
              </a:r>
              <a:r>
                <a:rPr b="0" lang="es-ES" sz="12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303960" y="5549760"/>
              <a:ext cx="1544760" cy="42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402000"/>
                  </a:solidFill>
                  <a:latin typeface="Arial"/>
                </a:rPr>
                <a:t>VISITA AL ORGANISMO</a:t>
              </a:r>
              <a:endParaRPr b="0" lang="en-US" sz="10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980480" y="5549760"/>
              <a:ext cx="1544400" cy="42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402000"/>
                  </a:solidFill>
                  <a:latin typeface="Arial"/>
                </a:rPr>
                <a:t>PREMIO</a:t>
              </a:r>
              <a:endParaRPr b="0" lang="en-US" sz="10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6816600" y="1636560"/>
            <a:ext cx="519120" cy="574920"/>
          </a:xfrm>
          <a:prstGeom prst="noSmoking">
            <a:avLst>
              <a:gd name="adj" fmla="val 12500"/>
            </a:avLst>
          </a:prstGeom>
          <a:solidFill>
            <a:srgbClr val="fb0101"/>
          </a:solidFill>
          <a:ln w="12600">
            <a:solidFill>
              <a:srgbClr val="fb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160960" y="1636560"/>
            <a:ext cx="519120" cy="574920"/>
          </a:xfrm>
          <a:prstGeom prst="noSmoking">
            <a:avLst>
              <a:gd name="adj" fmla="val 12500"/>
            </a:avLst>
          </a:prstGeom>
          <a:solidFill>
            <a:srgbClr val="fb0101"/>
          </a:solidFill>
          <a:ln w="12600">
            <a:solidFill>
              <a:srgbClr val="fb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648320" y="4191120"/>
            <a:ext cx="1544400" cy="423720"/>
          </a:xfrm>
          <a:prstGeom prst="rect">
            <a:avLst/>
          </a:prstGeom>
          <a:solidFill>
            <a:srgbClr val="cccc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402000"/>
                </a:solidFill>
                <a:latin typeface="Arial"/>
              </a:rPr>
              <a:t>EVALUACIÓN CONSENSO</a:t>
            </a:r>
            <a:r>
              <a:rPr b="0" lang="es-ES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303960" y="4191120"/>
            <a:ext cx="1544760" cy="423720"/>
          </a:xfrm>
          <a:prstGeom prst="rect">
            <a:avLst/>
          </a:prstGeom>
          <a:solidFill>
            <a:srgbClr val="cccc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402000"/>
                </a:solidFill>
                <a:latin typeface="Arial"/>
              </a:rPr>
              <a:t>VISITA AL ORGANISMO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8493120" y="4114800"/>
            <a:ext cx="519120" cy="574560"/>
          </a:xfrm>
          <a:prstGeom prst="noSmoking">
            <a:avLst>
              <a:gd name="adj" fmla="val 12500"/>
            </a:avLst>
          </a:prstGeom>
          <a:solidFill>
            <a:srgbClr val="fb0101"/>
          </a:solidFill>
          <a:ln w="12600">
            <a:solidFill>
              <a:srgbClr val="fb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8493120" y="1636560"/>
            <a:ext cx="519120" cy="574920"/>
          </a:xfrm>
          <a:prstGeom prst="noSmoking">
            <a:avLst>
              <a:gd name="adj" fmla="val 12500"/>
            </a:avLst>
          </a:prstGeom>
          <a:solidFill>
            <a:srgbClr val="fb0101"/>
          </a:solidFill>
          <a:ln w="12600">
            <a:solidFill>
              <a:srgbClr val="fb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719600" y="2886120"/>
            <a:ext cx="1403280" cy="442800"/>
          </a:xfrm>
          <a:prstGeom prst="rect">
            <a:avLst/>
          </a:prstGeom>
          <a:solidFill>
            <a:srgbClr val="9ddf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402000"/>
                </a:solidFill>
                <a:latin typeface="Arial"/>
              </a:rPr>
              <a:t>EVALUACION DE CONSENSO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816600" y="2819520"/>
            <a:ext cx="519120" cy="574560"/>
          </a:xfrm>
          <a:prstGeom prst="noSmoking">
            <a:avLst>
              <a:gd name="adj" fmla="val 12500"/>
            </a:avLst>
          </a:prstGeom>
          <a:solidFill>
            <a:srgbClr val="fb0101"/>
          </a:solidFill>
          <a:ln w="12600">
            <a:solidFill>
              <a:srgbClr val="fb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493120" y="2819520"/>
            <a:ext cx="519120" cy="574560"/>
          </a:xfrm>
          <a:prstGeom prst="noSmoking">
            <a:avLst>
              <a:gd name="adj" fmla="val 12500"/>
            </a:avLst>
          </a:prstGeom>
          <a:solidFill>
            <a:srgbClr val="fb0101"/>
          </a:solidFill>
          <a:ln w="12600">
            <a:solidFill>
              <a:srgbClr val="fb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1066680" y="1487520"/>
            <a:ext cx="3581640" cy="1179360"/>
            <a:chOff x="1066680" y="1487520"/>
            <a:chExt cx="3581640" cy="1179360"/>
          </a:xfrm>
        </p:grpSpPr>
        <p:sp>
          <p:nvSpPr>
            <p:cNvPr id="853" name=""/>
            <p:cNvSpPr/>
            <p:nvPr/>
          </p:nvSpPr>
          <p:spPr>
            <a:xfrm>
              <a:off x="3112920" y="2232000"/>
              <a:ext cx="1535400" cy="434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402000"/>
                  </a:solidFill>
                  <a:latin typeface="Arial"/>
                </a:rPr>
                <a:t>EVALUACIÓN INDIVIDUAL </a:t>
              </a:r>
              <a:endParaRPr b="0" lang="en-US" sz="1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952720" y="1861920"/>
              <a:ext cx="1542960" cy="4240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402000"/>
                  </a:solidFill>
                  <a:latin typeface="Arial"/>
                </a:rPr>
                <a:t>EVALUACIÓN INDIVIDUAL</a:t>
              </a:r>
              <a:r>
                <a:rPr b="0" lang="es-ES" sz="1200" spc="-1" strike="noStrike">
                  <a:solidFill>
                    <a:srgbClr val="402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066680" y="1771560"/>
              <a:ext cx="1457280" cy="758880"/>
            </a:xfrm>
            <a:prstGeom prst="flowChartMultidocumen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402000"/>
                  </a:solidFill>
                  <a:latin typeface="Arial"/>
                </a:rPr>
                <a:t>PRESENTACION DEL </a:t>
              </a:r>
              <a:endParaRPr b="0" lang="en-US" sz="10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402000"/>
                  </a:solidFill>
                  <a:latin typeface="Arial"/>
                </a:rPr>
                <a:t>ORGANISMO</a:t>
              </a:r>
              <a:r>
                <a:rPr b="0" lang="es-ES" sz="12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819520" y="1487520"/>
              <a:ext cx="1542960" cy="423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402000"/>
                  </a:solidFill>
                  <a:latin typeface="Arial"/>
                </a:rPr>
                <a:t>EVALUACIÓN INDIVIDUAL</a:t>
              </a:r>
              <a:r>
                <a:rPr b="0" lang="es-ES" sz="1200" spc="-1" strike="noStrike">
                  <a:solidFill>
                    <a:srgbClr val="402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2523960" y="1771200"/>
              <a:ext cx="295560" cy="36828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523960" y="2139840"/>
              <a:ext cx="588960" cy="39060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540160" y="2139840"/>
              <a:ext cx="412560" cy="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1066680" y="2782800"/>
            <a:ext cx="3581640" cy="1179360"/>
            <a:chOff x="1066680" y="2782800"/>
            <a:chExt cx="3581640" cy="1179360"/>
          </a:xfrm>
        </p:grpSpPr>
        <p:sp>
          <p:nvSpPr>
            <p:cNvPr id="861" name=""/>
            <p:cNvSpPr/>
            <p:nvPr/>
          </p:nvSpPr>
          <p:spPr>
            <a:xfrm>
              <a:off x="3112920" y="3527280"/>
              <a:ext cx="1535400" cy="434880"/>
            </a:xfrm>
            <a:prstGeom prst="rect">
              <a:avLst/>
            </a:prstGeom>
            <a:solidFill>
              <a:srgbClr val="9ddf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402000"/>
                  </a:solidFill>
                  <a:latin typeface="Arial"/>
                </a:rPr>
                <a:t>EVALUACIÓN INDIVIDUAL </a:t>
              </a:r>
              <a:endParaRPr b="0" lang="en-US" sz="1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952720" y="3157200"/>
              <a:ext cx="1542960" cy="424080"/>
            </a:xfrm>
            <a:prstGeom prst="rect">
              <a:avLst/>
            </a:prstGeom>
            <a:solidFill>
              <a:srgbClr val="9ddf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402000"/>
                  </a:solidFill>
                  <a:latin typeface="Arial"/>
                </a:rPr>
                <a:t>EVALUACIÓN INDIVIDUAL</a:t>
              </a:r>
              <a:r>
                <a:rPr b="0" lang="es-ES" sz="1200" spc="-1" strike="noStrike">
                  <a:solidFill>
                    <a:srgbClr val="402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066680" y="3066840"/>
              <a:ext cx="1457280" cy="758880"/>
            </a:xfrm>
            <a:prstGeom prst="flowChartMultidocument">
              <a:avLst/>
            </a:prstGeom>
            <a:solidFill>
              <a:srgbClr val="9ddf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402000"/>
                  </a:solidFill>
                  <a:latin typeface="Arial"/>
                </a:rPr>
                <a:t>PRESENTACION DEL </a:t>
              </a:r>
              <a:endParaRPr b="0" lang="en-US" sz="10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402000"/>
                  </a:solidFill>
                  <a:latin typeface="Arial"/>
                </a:rPr>
                <a:t>ORGANISMO</a:t>
              </a:r>
              <a:r>
                <a:rPr b="0" lang="es-ES" sz="12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819520" y="2782800"/>
              <a:ext cx="1542960" cy="423720"/>
            </a:xfrm>
            <a:prstGeom prst="rect">
              <a:avLst/>
            </a:prstGeom>
            <a:solidFill>
              <a:srgbClr val="9ddf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402000"/>
                  </a:solidFill>
                  <a:latin typeface="Arial"/>
                </a:rPr>
                <a:t>EVALUACIÓN INDIVIDUAL</a:t>
              </a:r>
              <a:r>
                <a:rPr b="0" lang="es-ES" sz="1200" spc="-1" strike="noStrike">
                  <a:solidFill>
                    <a:srgbClr val="402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2523960" y="3066480"/>
              <a:ext cx="295560" cy="36828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523960" y="3435120"/>
              <a:ext cx="588960" cy="39060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540160" y="3435120"/>
              <a:ext cx="412560" cy="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1066680" y="4078440"/>
            <a:ext cx="3581640" cy="1179360"/>
            <a:chOff x="1066680" y="4078440"/>
            <a:chExt cx="3581640" cy="1179360"/>
          </a:xfrm>
        </p:grpSpPr>
        <p:sp>
          <p:nvSpPr>
            <p:cNvPr id="869" name=""/>
            <p:cNvSpPr/>
            <p:nvPr/>
          </p:nvSpPr>
          <p:spPr>
            <a:xfrm>
              <a:off x="3112920" y="4822920"/>
              <a:ext cx="1535400" cy="434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402000"/>
                  </a:solidFill>
                  <a:latin typeface="Arial"/>
                </a:rPr>
                <a:t>EVALUACIÓN INDIVIDUAL </a:t>
              </a:r>
              <a:endParaRPr b="0" lang="en-US" sz="1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952720" y="4452840"/>
              <a:ext cx="1542960" cy="424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402000"/>
                  </a:solidFill>
                  <a:latin typeface="Arial"/>
                </a:rPr>
                <a:t>EVALUACIÓN INDIVIDUAL</a:t>
              </a:r>
              <a:r>
                <a:rPr b="0" lang="es-ES" sz="1200" spc="-1" strike="noStrike">
                  <a:solidFill>
                    <a:srgbClr val="402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066680" y="4362480"/>
              <a:ext cx="1457280" cy="758880"/>
            </a:xfrm>
            <a:prstGeom prst="flowChartMultidocumen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402000"/>
                  </a:solidFill>
                  <a:latin typeface="Arial"/>
                </a:rPr>
                <a:t>PRESENTACION DEL </a:t>
              </a:r>
              <a:endParaRPr b="0" lang="en-US" sz="10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402000"/>
                  </a:solidFill>
                  <a:latin typeface="Arial"/>
                </a:rPr>
                <a:t>ORGANISMO</a:t>
              </a:r>
              <a:r>
                <a:rPr b="0" lang="es-ES" sz="12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819520" y="4078440"/>
              <a:ext cx="1542960" cy="423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402000"/>
                  </a:solidFill>
                  <a:latin typeface="Arial"/>
                </a:rPr>
                <a:t>EVALUACIÓN INDIVIDUAL</a:t>
              </a:r>
              <a:r>
                <a:rPr b="0" lang="es-ES" sz="1200" spc="-1" strike="noStrike">
                  <a:solidFill>
                    <a:srgbClr val="402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2523960" y="4362120"/>
              <a:ext cx="295560" cy="36828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523960" y="4730760"/>
              <a:ext cx="588960" cy="39060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540160" y="4730760"/>
              <a:ext cx="412560" cy="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1066680" y="5373720"/>
            <a:ext cx="3581640" cy="1179360"/>
            <a:chOff x="1066680" y="5373720"/>
            <a:chExt cx="3581640" cy="1179360"/>
          </a:xfrm>
        </p:grpSpPr>
        <p:sp>
          <p:nvSpPr>
            <p:cNvPr id="877" name=""/>
            <p:cNvSpPr/>
            <p:nvPr/>
          </p:nvSpPr>
          <p:spPr>
            <a:xfrm>
              <a:off x="3112920" y="6118200"/>
              <a:ext cx="1535400" cy="434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402000"/>
                  </a:solidFill>
                  <a:latin typeface="Arial"/>
                </a:rPr>
                <a:t>EVALUACIÓN INDIVIDUAL </a:t>
              </a:r>
              <a:endParaRPr b="0" lang="en-US" sz="1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952720" y="5748120"/>
              <a:ext cx="1542960" cy="42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402000"/>
                  </a:solidFill>
                  <a:latin typeface="Arial"/>
                </a:rPr>
                <a:t>EVALUACIÓN INDIVIDUAL</a:t>
              </a:r>
              <a:r>
                <a:rPr b="0" lang="es-ES" sz="1200" spc="-1" strike="noStrike">
                  <a:solidFill>
                    <a:srgbClr val="402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066680" y="5657760"/>
              <a:ext cx="1457280" cy="758880"/>
            </a:xfrm>
            <a:prstGeom prst="flowChartMultidocumen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402000"/>
                  </a:solidFill>
                  <a:latin typeface="Arial"/>
                </a:rPr>
                <a:t>PRESENTACION DEL </a:t>
              </a:r>
              <a:endParaRPr b="0" lang="en-US" sz="10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402000"/>
                  </a:solidFill>
                  <a:latin typeface="Arial"/>
                </a:rPr>
                <a:t>ORGANISMO</a:t>
              </a:r>
              <a:r>
                <a:rPr b="0" lang="es-ES" sz="12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819520" y="5373720"/>
              <a:ext cx="1542960" cy="423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402000"/>
                  </a:solidFill>
                  <a:latin typeface="Arial"/>
                </a:rPr>
                <a:t>EVALUACIÓN INDIVIDUAL</a:t>
              </a:r>
              <a:r>
                <a:rPr b="0" lang="es-ES" sz="1200" spc="-1" strike="noStrike">
                  <a:solidFill>
                    <a:srgbClr val="402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2523960" y="5657400"/>
              <a:ext cx="295560" cy="36828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523960" y="6026040"/>
              <a:ext cx="588960" cy="39060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540160" y="6026040"/>
              <a:ext cx="412560" cy="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2371680" y="685800"/>
            <a:ext cx="2124000" cy="398880"/>
            <a:chOff x="2371680" y="685800"/>
            <a:chExt cx="2124000" cy="398880"/>
          </a:xfrm>
        </p:grpSpPr>
        <p:sp>
          <p:nvSpPr>
            <p:cNvPr id="885" name=""/>
            <p:cNvSpPr/>
            <p:nvPr/>
          </p:nvSpPr>
          <p:spPr>
            <a:xfrm>
              <a:off x="2371680" y="1082520"/>
              <a:ext cx="2124000" cy="0"/>
            </a:xfrm>
            <a:prstGeom prst="line">
              <a:avLst/>
            </a:prstGeom>
            <a:ln w="572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666520" y="685800"/>
              <a:ext cx="145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2000"/>
                  </a:solidFill>
                  <a:latin typeface="Arial"/>
                </a:rPr>
                <a:t>PROCESO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/>
          </p:nvPr>
        </p:nvSpPr>
        <p:spPr>
          <a:xfrm>
            <a:off x="1302840" y="1649520"/>
            <a:ext cx="7939080" cy="4503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996633"/>
                </a:solidFill>
                <a:latin typeface="Book Antiqua"/>
              </a:rPr>
              <a:t>Liderazgo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996633"/>
                </a:solidFill>
                <a:latin typeface="Book Antiqua"/>
              </a:rPr>
              <a:t>Enfoque</a:t>
            </a:r>
            <a:r>
              <a:rPr b="1" lang="es-ES_tradnl" sz="3000" spc="-1" strike="noStrike">
                <a:solidFill>
                  <a:srgbClr val="996633"/>
                </a:solidFill>
                <a:latin typeface="Book Antiqua"/>
              </a:rPr>
              <a:t> </a:t>
            </a:r>
            <a:r>
              <a:rPr b="1" lang="es-ES_tradnl" sz="3000" spc="-1" strike="noStrike">
                <a:solidFill>
                  <a:srgbClr val="996633"/>
                </a:solidFill>
                <a:latin typeface="Book Antiqua"/>
              </a:rPr>
              <a:t>en el cliente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996633"/>
                </a:solidFill>
                <a:latin typeface="Book Antiqua"/>
              </a:rPr>
              <a:t>Desarrollo del  persona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996633"/>
                </a:solidFill>
                <a:latin typeface="Book Antiqua"/>
              </a:rPr>
              <a:t>Información y análisis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996633"/>
                </a:solidFill>
                <a:latin typeface="Book Antiqua"/>
              </a:rPr>
              <a:t>Planificación 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996633"/>
                </a:solidFill>
                <a:latin typeface="Book Antiqua"/>
              </a:rPr>
              <a:t>Aseguramiento y mejora de la calidad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996633"/>
                </a:solidFill>
                <a:latin typeface="Book Antiqua"/>
              </a:rPr>
              <a:t>Impacto en el entorno físico y socia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996633"/>
                </a:solidFill>
                <a:latin typeface="Book Antiqua"/>
              </a:rPr>
              <a:t>Resultados de la gestion de calidad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1"/>
          <a:stretch/>
        </p:blipFill>
        <p:spPr>
          <a:xfrm>
            <a:off x="6445080" y="1981080"/>
            <a:ext cx="2065680" cy="219564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2"/>
          <p:cNvSpPr>
            <a:spLocks noGrp="1"/>
          </p:cNvSpPr>
          <p:nvPr>
            <p:ph type="title"/>
          </p:nvPr>
        </p:nvSpPr>
        <p:spPr>
          <a:xfrm>
            <a:off x="3436560" y="240840"/>
            <a:ext cx="532116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Criterios de Evaluación</a:t>
            </a:r>
            <a:br>
              <a:rPr sz="40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para el Sector Publico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1887480" y="222120"/>
            <a:ext cx="787320" cy="1387440"/>
            <a:chOff x="1887480" y="222120"/>
            <a:chExt cx="787320" cy="1387440"/>
          </a:xfrm>
        </p:grpSpPr>
        <p:pic>
          <p:nvPicPr>
            <p:cNvPr id="891" name="PREMIO" descr=""/>
            <p:cNvPicPr/>
            <p:nvPr/>
          </p:nvPicPr>
          <p:blipFill>
            <a:blip r:embed="rId2"/>
            <a:stretch/>
          </p:blipFill>
          <p:spPr>
            <a:xfrm>
              <a:off x="1887480" y="222120"/>
              <a:ext cx="7873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887480" y="222120"/>
              <a:ext cx="787320" cy="1387440"/>
            </a:xfrm>
            <a:prstGeom prst="rect">
              <a:avLst/>
            </a:prstGeom>
            <a:noFill/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retaría Técnica del Premio Nacional a la Calidad para el Sector Público</a:t>
            </a:r>
          </a:p>
        </p:txBody>
      </p:sp>
    </p:spTree>
  </p:cSld>
  <p:transition advTm="18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642960" y="955800"/>
            <a:ext cx="20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087560" y="459360"/>
            <a:ext cx="851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33"/>
                </a:solidFill>
                <a:latin typeface="Times New Roman"/>
              </a:rPr>
              <a:t>Relación entre criterios del Premi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5670720" y="1598760"/>
            <a:ext cx="3923640" cy="5000040"/>
            <a:chOff x="5670720" y="1598760"/>
            <a:chExt cx="3923640" cy="5000040"/>
          </a:xfrm>
        </p:grpSpPr>
        <p:sp>
          <p:nvSpPr>
            <p:cNvPr id="896" name=""/>
            <p:cNvSpPr/>
            <p:nvPr/>
          </p:nvSpPr>
          <p:spPr>
            <a:xfrm>
              <a:off x="5670720" y="1598760"/>
              <a:ext cx="3923640" cy="50000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897" name="PANZA3" descr=""/>
            <p:cNvPicPr/>
            <p:nvPr/>
          </p:nvPicPr>
          <p:blipFill>
            <a:blip r:embed="rId1"/>
            <a:stretch/>
          </p:blipFill>
          <p:spPr>
            <a:xfrm>
              <a:off x="5695200" y="1650240"/>
              <a:ext cx="3865320" cy="491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8" name=""/>
          <p:cNvGrpSpPr/>
          <p:nvPr/>
        </p:nvGrpSpPr>
        <p:grpSpPr>
          <a:xfrm>
            <a:off x="2781360" y="2259000"/>
            <a:ext cx="968400" cy="1458000"/>
            <a:chOff x="2781360" y="2259000"/>
            <a:chExt cx="968400" cy="1458000"/>
          </a:xfrm>
        </p:grpSpPr>
        <p:grpSp>
          <p:nvGrpSpPr>
            <p:cNvPr id="899" name=""/>
            <p:cNvGrpSpPr/>
            <p:nvPr/>
          </p:nvGrpSpPr>
          <p:grpSpPr>
            <a:xfrm>
              <a:off x="2781360" y="2259000"/>
              <a:ext cx="968400" cy="1456920"/>
              <a:chOff x="2781360" y="2259000"/>
              <a:chExt cx="968400" cy="1456920"/>
            </a:xfrm>
          </p:grpSpPr>
          <p:pic>
            <p:nvPicPr>
              <p:cNvPr id="9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781360" y="2259000"/>
                <a:ext cx="262440" cy="14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3800" y="2259000"/>
                <a:ext cx="262440" cy="14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306600" y="2259000"/>
                <a:ext cx="262440" cy="14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569040" y="2259000"/>
                <a:ext cx="180720" cy="1456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04" name=""/>
            <p:cNvSpPr/>
            <p:nvPr/>
          </p:nvSpPr>
          <p:spPr>
            <a:xfrm>
              <a:off x="2781360" y="2259000"/>
              <a:ext cx="968400" cy="1458000"/>
            </a:xfrm>
            <a:prstGeom prst="rect">
              <a:avLst/>
            </a:prstGeom>
            <a:noFill/>
            <a:ln w="11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2397240" y="303840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651040" y="2274840"/>
            <a:ext cx="951120" cy="145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bfae2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130480" y="2820960"/>
            <a:ext cx="492120" cy="291960"/>
          </a:xfrm>
          <a:prstGeom prst="rightArrow">
            <a:avLst>
              <a:gd name="adj1" fmla="val 50000"/>
              <a:gd name="adj2" fmla="val 42139"/>
            </a:avLst>
          </a:prstGeom>
          <a:solidFill>
            <a:srgbClr val="ffff00"/>
          </a:solidFill>
          <a:ln w="144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916440" y="2820960"/>
            <a:ext cx="563400" cy="291960"/>
          </a:xfrm>
          <a:prstGeom prst="rightArrow">
            <a:avLst>
              <a:gd name="adj1" fmla="val 50000"/>
              <a:gd name="adj2" fmla="val 48243"/>
            </a:avLst>
          </a:prstGeom>
          <a:solidFill>
            <a:srgbClr val="ff9999"/>
          </a:solidFill>
          <a:ln w="144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789280" y="2259000"/>
            <a:ext cx="961920" cy="1455840"/>
          </a:xfrm>
          <a:prstGeom prst="rect">
            <a:avLst/>
          </a:prstGeom>
          <a:noFill/>
          <a:ln w="572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12280" y="4235400"/>
            <a:ext cx="5432040" cy="22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100" spc="-1" strike="noStrike">
                <a:solidFill>
                  <a:srgbClr val="9a7f32"/>
                </a:solidFill>
                <a:latin typeface="Times New Roman"/>
              </a:rPr>
              <a:t>   </a:t>
            </a:r>
            <a:r>
              <a:rPr b="1" i="1" lang="es-ES_tradnl" sz="3100" spc="-1" strike="noStrike">
                <a:solidFill>
                  <a:srgbClr val="9a7f32"/>
                </a:solidFill>
                <a:latin typeface="Times New Roman"/>
              </a:rPr>
              <a:t>Autor: </a:t>
            </a:r>
            <a:endParaRPr b="0" lang="en-US" sz="31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100" spc="-1" strike="noStrike">
                <a:solidFill>
                  <a:srgbClr val="9a7f32"/>
                </a:solidFill>
                <a:latin typeface="Times New Roman"/>
              </a:rPr>
              <a:t>       </a:t>
            </a:r>
            <a:r>
              <a:rPr b="1" i="1" lang="es-ES_tradnl" sz="3100" spc="-1" strike="noStrike">
                <a:solidFill>
                  <a:srgbClr val="9a7f32"/>
                </a:solidFill>
                <a:latin typeface="Times New Roman"/>
              </a:rPr>
              <a:t>Ing. Victor PANZA</a:t>
            </a:r>
            <a:endParaRPr b="0" lang="en-US" sz="31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100" spc="-1" strike="noStrike">
                <a:solidFill>
                  <a:srgbClr val="9a7f32"/>
                </a:solidFill>
                <a:latin typeface="Times New Roman"/>
              </a:rPr>
              <a:t>       </a:t>
            </a:r>
            <a:r>
              <a:rPr b="1" i="1" lang="es-ES_tradnl" sz="3100" spc="-1" strike="noStrike">
                <a:solidFill>
                  <a:srgbClr val="9a7f32"/>
                </a:solidFill>
                <a:latin typeface="Times New Roman"/>
              </a:rPr>
              <a:t>Gte. De Calidad de 3M</a:t>
            </a:r>
            <a:endParaRPr b="0" lang="en-US" sz="31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100" spc="-1" strike="noStrike">
                <a:solidFill>
                  <a:srgbClr val="9a7f32"/>
                </a:solidFill>
                <a:latin typeface="Times New Roman"/>
              </a:rPr>
              <a:t>      </a:t>
            </a:r>
            <a:r>
              <a:rPr b="1" i="1" lang="es-ES_tradnl" sz="3100" spc="-1" strike="noStrike">
                <a:solidFill>
                  <a:srgbClr val="9a7f32"/>
                </a:solidFill>
                <a:latin typeface="Times New Roman"/>
              </a:rPr>
              <a:t>Juez del Premio Privado</a:t>
            </a:r>
            <a:endParaRPr b="0" lang="en-US" sz="31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"/>
          <p:cNvGrpSpPr/>
          <p:nvPr/>
        </p:nvGrpSpPr>
        <p:grpSpPr>
          <a:xfrm>
            <a:off x="1092240" y="1868400"/>
            <a:ext cx="8350200" cy="441360"/>
            <a:chOff x="1092240" y="1868400"/>
            <a:chExt cx="8350200" cy="441360"/>
          </a:xfrm>
        </p:grpSpPr>
        <p:grpSp>
          <p:nvGrpSpPr>
            <p:cNvPr id="912" name=""/>
            <p:cNvGrpSpPr/>
            <p:nvPr/>
          </p:nvGrpSpPr>
          <p:grpSpPr>
            <a:xfrm>
              <a:off x="1092240" y="1868400"/>
              <a:ext cx="8349480" cy="441000"/>
              <a:chOff x="1092240" y="1868400"/>
              <a:chExt cx="8349480" cy="441000"/>
            </a:xfrm>
          </p:grpSpPr>
          <p:pic>
            <p:nvPicPr>
              <p:cNvPr id="9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92240" y="1868400"/>
                <a:ext cx="2263680" cy="44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355920" y="1868400"/>
                <a:ext cx="2263680" cy="44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619960" y="1868400"/>
                <a:ext cx="2263680" cy="44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883640" y="1868400"/>
                <a:ext cx="1558080" cy="44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7" name=""/>
            <p:cNvSpPr/>
            <p:nvPr/>
          </p:nvSpPr>
          <p:spPr>
            <a:xfrm>
              <a:off x="1092240" y="1868400"/>
              <a:ext cx="8350200" cy="441360"/>
            </a:xfrm>
            <a:prstGeom prst="rect">
              <a:avLst/>
            </a:prstGeom>
            <a:noFill/>
            <a:ln w="11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2665440" y="1949400"/>
            <a:ext cx="664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es-MX" sz="20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402000"/>
                </a:solidFill>
                <a:latin typeface="Arial"/>
              </a:rPr>
              <a:t>RESULTADOS DE LA GESTION DE CALIDAD   =   22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052640" y="2352600"/>
            <a:ext cx="843588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071720" y="1824120"/>
            <a:ext cx="839772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9487080" y="1784520"/>
            <a:ext cx="0" cy="61596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1092240" y="3451320"/>
            <a:ext cx="5308200" cy="430200"/>
            <a:chOff x="1092240" y="3451320"/>
            <a:chExt cx="5308200" cy="430200"/>
          </a:xfrm>
        </p:grpSpPr>
        <p:grpSp>
          <p:nvGrpSpPr>
            <p:cNvPr id="923" name=""/>
            <p:cNvGrpSpPr/>
            <p:nvPr/>
          </p:nvGrpSpPr>
          <p:grpSpPr>
            <a:xfrm>
              <a:off x="1092240" y="3451320"/>
              <a:ext cx="5307840" cy="429840"/>
              <a:chOff x="1092240" y="3451320"/>
              <a:chExt cx="5307840" cy="429840"/>
            </a:xfrm>
          </p:grpSpPr>
          <p:pic>
            <p:nvPicPr>
              <p:cNvPr id="92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2240" y="3451320"/>
                <a:ext cx="1438920" cy="42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531160" y="3451320"/>
                <a:ext cx="1438920" cy="42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970440" y="3451320"/>
                <a:ext cx="1438920" cy="42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409720" y="3451320"/>
                <a:ext cx="990360" cy="42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8" name=""/>
            <p:cNvSpPr/>
            <p:nvPr/>
          </p:nvSpPr>
          <p:spPr>
            <a:xfrm>
              <a:off x="1092240" y="3451320"/>
              <a:ext cx="5308200" cy="430200"/>
            </a:xfrm>
            <a:prstGeom prst="rect">
              <a:avLst/>
            </a:prstGeom>
            <a:noFill/>
            <a:ln w="11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929" name=""/>
          <p:cNvSpPr/>
          <p:nvPr/>
        </p:nvSpPr>
        <p:spPr>
          <a:xfrm>
            <a:off x="6523920" y="3532320"/>
            <a:ext cx="2990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2000"/>
                </a:solidFill>
                <a:latin typeface="Arial"/>
              </a:rPr>
              <a:t>PLANIFICACIÓN   =   14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066680" y="3924360"/>
            <a:ext cx="5337360" cy="0"/>
          </a:xfrm>
          <a:prstGeom prst="line">
            <a:avLst/>
          </a:prstGeom>
          <a:ln w="763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371280" y="4078440"/>
            <a:ext cx="2495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2000"/>
                </a:solidFill>
                <a:latin typeface="Arial"/>
              </a:rPr>
              <a:t>LIDERAZGO   =   13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1087560" y="3967200"/>
            <a:ext cx="4978440" cy="430200"/>
            <a:chOff x="1087560" y="3967200"/>
            <a:chExt cx="4978440" cy="430200"/>
          </a:xfrm>
        </p:grpSpPr>
        <p:grpSp>
          <p:nvGrpSpPr>
            <p:cNvPr id="933" name=""/>
            <p:cNvGrpSpPr/>
            <p:nvPr/>
          </p:nvGrpSpPr>
          <p:grpSpPr>
            <a:xfrm>
              <a:off x="1087560" y="3967200"/>
              <a:ext cx="4977720" cy="429840"/>
              <a:chOff x="1087560" y="3967200"/>
              <a:chExt cx="4977720" cy="429840"/>
            </a:xfrm>
          </p:grpSpPr>
          <p:pic>
            <p:nvPicPr>
              <p:cNvPr id="93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087560" y="3967200"/>
                <a:ext cx="2895120" cy="42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982680" y="3967200"/>
                <a:ext cx="2082600" cy="42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6" name=""/>
            <p:cNvSpPr/>
            <p:nvPr/>
          </p:nvSpPr>
          <p:spPr>
            <a:xfrm>
              <a:off x="1087560" y="3967200"/>
              <a:ext cx="4978440" cy="430200"/>
            </a:xfrm>
            <a:prstGeom prst="rect">
              <a:avLst/>
            </a:prstGeom>
            <a:noFill/>
            <a:ln w="11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6108840" y="3902040"/>
            <a:ext cx="0" cy="54612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028880" y="4437000"/>
            <a:ext cx="508932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853080" y="5659560"/>
            <a:ext cx="4176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2000"/>
                </a:solidFill>
                <a:latin typeface="Arial"/>
              </a:rPr>
              <a:t>INFORMACION Y ANALISIS   =   4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092240" y="5527800"/>
            <a:ext cx="1501560" cy="430200"/>
            <a:chOff x="1092240" y="5527800"/>
            <a:chExt cx="1501560" cy="430200"/>
          </a:xfrm>
        </p:grpSpPr>
        <p:grpSp>
          <p:nvGrpSpPr>
            <p:cNvPr id="941" name=""/>
            <p:cNvGrpSpPr/>
            <p:nvPr/>
          </p:nvGrpSpPr>
          <p:grpSpPr>
            <a:xfrm>
              <a:off x="1092240" y="5527800"/>
              <a:ext cx="1501560" cy="429840"/>
              <a:chOff x="1092240" y="5527800"/>
              <a:chExt cx="1501560" cy="429840"/>
            </a:xfrm>
          </p:grpSpPr>
          <p:pic>
            <p:nvPicPr>
              <p:cNvPr id="94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92240" y="5527800"/>
                <a:ext cx="611280" cy="42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03520" y="5527800"/>
                <a:ext cx="611280" cy="42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314800" y="5527800"/>
                <a:ext cx="279000" cy="42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45" name=""/>
            <p:cNvSpPr/>
            <p:nvPr/>
          </p:nvSpPr>
          <p:spPr>
            <a:xfrm>
              <a:off x="1092240" y="5527800"/>
              <a:ext cx="1501560" cy="430200"/>
            </a:xfrm>
            <a:prstGeom prst="rect">
              <a:avLst/>
            </a:prstGeom>
            <a:noFill/>
            <a:ln w="11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071720" y="6000840"/>
            <a:ext cx="159696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637000" y="5518080"/>
            <a:ext cx="0" cy="50796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1047600" y="4965840"/>
            <a:ext cx="2756160" cy="491760"/>
            <a:chOff x="1047600" y="4965840"/>
            <a:chExt cx="2756160" cy="491760"/>
          </a:xfrm>
        </p:grpSpPr>
        <p:grpSp>
          <p:nvGrpSpPr>
            <p:cNvPr id="949" name=""/>
            <p:cNvGrpSpPr/>
            <p:nvPr/>
          </p:nvGrpSpPr>
          <p:grpSpPr>
            <a:xfrm>
              <a:off x="1047600" y="4965840"/>
              <a:ext cx="2755800" cy="491400"/>
              <a:chOff x="1047600" y="4965840"/>
              <a:chExt cx="2755800" cy="491400"/>
            </a:xfrm>
          </p:grpSpPr>
          <p:pic>
            <p:nvPicPr>
              <p:cNvPr id="950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1047600" y="4965840"/>
                <a:ext cx="1399680" cy="49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1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447280" y="4965840"/>
                <a:ext cx="1356120" cy="491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52" name=""/>
            <p:cNvSpPr/>
            <p:nvPr/>
          </p:nvSpPr>
          <p:spPr>
            <a:xfrm>
              <a:off x="1047600" y="4965840"/>
              <a:ext cx="2756160" cy="491760"/>
            </a:xfrm>
            <a:prstGeom prst="rect">
              <a:avLst/>
            </a:prstGeom>
            <a:noFill/>
            <a:ln w="11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1092240" y="2382840"/>
            <a:ext cx="6099840" cy="502920"/>
            <a:chOff x="1092240" y="2382840"/>
            <a:chExt cx="6099840" cy="502920"/>
          </a:xfrm>
        </p:grpSpPr>
        <p:grpSp>
          <p:nvGrpSpPr>
            <p:cNvPr id="954" name=""/>
            <p:cNvGrpSpPr/>
            <p:nvPr/>
          </p:nvGrpSpPr>
          <p:grpSpPr>
            <a:xfrm>
              <a:off x="1092240" y="2382840"/>
              <a:ext cx="6099120" cy="496800"/>
              <a:chOff x="1092240" y="2382840"/>
              <a:chExt cx="6099120" cy="496800"/>
            </a:xfrm>
          </p:grpSpPr>
          <p:pic>
            <p:nvPicPr>
              <p:cNvPr id="955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092240" y="2382840"/>
                <a:ext cx="248256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6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3574800" y="2382840"/>
                <a:ext cx="2482560" cy="4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6057720" y="2382840"/>
                <a:ext cx="1133640" cy="496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58" name=""/>
            <p:cNvSpPr/>
            <p:nvPr/>
          </p:nvSpPr>
          <p:spPr>
            <a:xfrm>
              <a:off x="1092240" y="2388240"/>
              <a:ext cx="6099840" cy="497520"/>
            </a:xfrm>
            <a:prstGeom prst="rect">
              <a:avLst/>
            </a:prstGeom>
            <a:noFill/>
            <a:ln w="11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1092240" y="2938320"/>
            <a:ext cx="5300640" cy="430200"/>
            <a:chOff x="1092240" y="2938320"/>
            <a:chExt cx="5300640" cy="430200"/>
          </a:xfrm>
        </p:grpSpPr>
        <p:grpSp>
          <p:nvGrpSpPr>
            <p:cNvPr id="960" name=""/>
            <p:cNvGrpSpPr/>
            <p:nvPr/>
          </p:nvGrpSpPr>
          <p:grpSpPr>
            <a:xfrm>
              <a:off x="1092240" y="2938320"/>
              <a:ext cx="5300280" cy="429840"/>
              <a:chOff x="1092240" y="2938320"/>
              <a:chExt cx="5300280" cy="429840"/>
            </a:xfrm>
          </p:grpSpPr>
          <p:pic>
            <p:nvPicPr>
              <p:cNvPr id="96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1092240" y="2938320"/>
                <a:ext cx="1437120" cy="42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2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2529360" y="2938320"/>
                <a:ext cx="1437120" cy="42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3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3966480" y="2938320"/>
                <a:ext cx="1437120" cy="42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4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5403600" y="2938320"/>
                <a:ext cx="988920" cy="42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5" name=""/>
            <p:cNvSpPr/>
            <p:nvPr/>
          </p:nvSpPr>
          <p:spPr>
            <a:xfrm>
              <a:off x="1092240" y="2938320"/>
              <a:ext cx="5300640" cy="430200"/>
            </a:xfrm>
            <a:prstGeom prst="rect">
              <a:avLst/>
            </a:prstGeom>
            <a:noFill/>
            <a:ln w="11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1314360" y="3000240"/>
            <a:ext cx="484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2000"/>
                </a:solidFill>
                <a:latin typeface="Arial"/>
              </a:rPr>
              <a:t>DESARROLLO DEL PERSONAL   =   14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504160" y="799200"/>
            <a:ext cx="686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6633"/>
                </a:solidFill>
                <a:latin typeface="Times New Roman"/>
              </a:rPr>
              <a:t>Peso relativo de los criterios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1092240" y="4483080"/>
            <a:ext cx="3397320" cy="439920"/>
            <a:chOff x="1092240" y="4483080"/>
            <a:chExt cx="3397320" cy="439920"/>
          </a:xfrm>
        </p:grpSpPr>
        <p:grpSp>
          <p:nvGrpSpPr>
            <p:cNvPr id="969" name=""/>
            <p:cNvGrpSpPr/>
            <p:nvPr/>
          </p:nvGrpSpPr>
          <p:grpSpPr>
            <a:xfrm>
              <a:off x="1092240" y="4483080"/>
              <a:ext cx="3396960" cy="439560"/>
              <a:chOff x="1092240" y="4483080"/>
              <a:chExt cx="3396960" cy="439560"/>
            </a:xfrm>
          </p:grpSpPr>
          <p:pic>
            <p:nvPicPr>
              <p:cNvPr id="970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1092240" y="4483080"/>
                <a:ext cx="138276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1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2475000" y="4483080"/>
                <a:ext cx="138276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2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857760" y="4483080"/>
                <a:ext cx="631440" cy="439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73" name=""/>
            <p:cNvSpPr/>
            <p:nvPr/>
          </p:nvSpPr>
          <p:spPr>
            <a:xfrm>
              <a:off x="1092240" y="4483080"/>
              <a:ext cx="3397320" cy="439920"/>
            </a:xfrm>
            <a:prstGeom prst="rect">
              <a:avLst/>
            </a:prstGeom>
            <a:noFill/>
            <a:ln w="11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4540680" y="5110200"/>
            <a:ext cx="4260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2000"/>
                </a:solidFill>
                <a:latin typeface="Arial"/>
              </a:rPr>
              <a:t>IMPACTO EN EL ENTORNO    =   7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923000" y="4557600"/>
            <a:ext cx="4516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2000"/>
                </a:solidFill>
                <a:latin typeface="Arial"/>
              </a:rPr>
              <a:t>ASEGURAMIENTO Y MEJORA   =   9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829520" y="2503440"/>
            <a:ext cx="4301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9f3"/>
                </a:solidFill>
                <a:latin typeface="Arial"/>
              </a:rPr>
              <a:t>ENFOQUE EN EL CLIENTE   =    17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047600" y="1785960"/>
            <a:ext cx="0" cy="426240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076400" y="2895480"/>
            <a:ext cx="613728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081080" y="3409920"/>
            <a:ext cx="538812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071720" y="3924360"/>
            <a:ext cx="531144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081080" y="4967280"/>
            <a:ext cx="346392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182000" y="2343240"/>
            <a:ext cx="0" cy="58428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803760" y="4952880"/>
            <a:ext cx="0" cy="54612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429240" y="2927520"/>
            <a:ext cx="0" cy="102852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533840" y="4470480"/>
            <a:ext cx="0" cy="53316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040560" y="273600"/>
            <a:ext cx="549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6633"/>
                </a:solidFill>
                <a:latin typeface="Times New Roman"/>
              </a:rPr>
              <a:t>Modelo de Evaluación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042920" y="5500800"/>
            <a:ext cx="280188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1563840" y="222120"/>
            <a:ext cx="787320" cy="1387440"/>
            <a:chOff x="1563840" y="222120"/>
            <a:chExt cx="787320" cy="1387440"/>
          </a:xfrm>
        </p:grpSpPr>
        <p:pic>
          <p:nvPicPr>
            <p:cNvPr id="989" name="PREMIO" descr=""/>
            <p:cNvPicPr/>
            <p:nvPr/>
          </p:nvPicPr>
          <p:blipFill>
            <a:blip r:embed="rId26"/>
            <a:stretch/>
          </p:blipFill>
          <p:spPr>
            <a:xfrm>
              <a:off x="1563840" y="222120"/>
              <a:ext cx="7873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0" name=""/>
            <p:cNvSpPr/>
            <p:nvPr/>
          </p:nvSpPr>
          <p:spPr>
            <a:xfrm>
              <a:off x="1563840" y="222120"/>
              <a:ext cx="787320" cy="1387440"/>
            </a:xfrm>
            <a:prstGeom prst="rect">
              <a:avLst/>
            </a:prstGeom>
            <a:noFill/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retaría Técnica del Premio Nacional a la Calidad para el Sector Públic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REMIO" descr=""/>
          <p:cNvPicPr/>
          <p:nvPr/>
        </p:nvPicPr>
        <p:blipFill>
          <a:blip r:embed="rId1"/>
          <a:stretch/>
        </p:blipFill>
        <p:spPr>
          <a:xfrm>
            <a:off x="7267680" y="262080"/>
            <a:ext cx="471240" cy="979200"/>
          </a:xfrm>
          <a:prstGeom prst="rect">
            <a:avLst/>
          </a:prstGeom>
          <a:ln w="0">
            <a:noFill/>
          </a:ln>
        </p:spPr>
      </p:pic>
      <p:pic>
        <p:nvPicPr>
          <p:cNvPr id="992" name="PRIVADO" descr=""/>
          <p:cNvPicPr/>
          <p:nvPr/>
        </p:nvPicPr>
        <p:blipFill>
          <a:blip r:embed="rId2"/>
          <a:stretch/>
        </p:blipFill>
        <p:spPr>
          <a:xfrm>
            <a:off x="2793960" y="309600"/>
            <a:ext cx="806400" cy="900000"/>
          </a:xfrm>
          <a:prstGeom prst="rect">
            <a:avLst/>
          </a:prstGeom>
          <a:ln w="0">
            <a:noFill/>
          </a:ln>
        </p:spPr>
      </p:pic>
      <p:grpSp>
        <p:nvGrpSpPr>
          <p:cNvPr id="993" name=""/>
          <p:cNvGrpSpPr/>
          <p:nvPr/>
        </p:nvGrpSpPr>
        <p:grpSpPr>
          <a:xfrm>
            <a:off x="5438880" y="1320840"/>
            <a:ext cx="4092120" cy="1094400"/>
            <a:chOff x="5438880" y="1320840"/>
            <a:chExt cx="4092120" cy="1094400"/>
          </a:xfrm>
        </p:grpSpPr>
        <p:grpSp>
          <p:nvGrpSpPr>
            <p:cNvPr id="994" name=""/>
            <p:cNvGrpSpPr/>
            <p:nvPr/>
          </p:nvGrpSpPr>
          <p:grpSpPr>
            <a:xfrm>
              <a:off x="5438880" y="1320840"/>
              <a:ext cx="4091760" cy="1081440"/>
              <a:chOff x="5438880" y="1320840"/>
              <a:chExt cx="4091760" cy="1081440"/>
            </a:xfrm>
          </p:grpSpPr>
          <p:pic>
            <p:nvPicPr>
              <p:cNvPr id="9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438880" y="1320840"/>
                <a:ext cx="1665360" cy="10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104240" y="1320840"/>
                <a:ext cx="1665360" cy="10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769960" y="1320840"/>
                <a:ext cx="760680" cy="1081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98" name=""/>
            <p:cNvSpPr/>
            <p:nvPr/>
          </p:nvSpPr>
          <p:spPr>
            <a:xfrm>
              <a:off x="5438880" y="1332360"/>
              <a:ext cx="4092120" cy="1082880"/>
            </a:xfrm>
            <a:prstGeom prst="rect">
              <a:avLst/>
            </a:prstGeom>
            <a:noFill/>
            <a:ln w="11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1158840" y="3908520"/>
            <a:ext cx="4051440" cy="1038960"/>
            <a:chOff x="1158840" y="3908520"/>
            <a:chExt cx="4051440" cy="1038960"/>
          </a:xfrm>
        </p:grpSpPr>
        <p:grpSp>
          <p:nvGrpSpPr>
            <p:cNvPr id="1000" name=""/>
            <p:cNvGrpSpPr/>
            <p:nvPr/>
          </p:nvGrpSpPr>
          <p:grpSpPr>
            <a:xfrm>
              <a:off x="1158840" y="3908520"/>
              <a:ext cx="4050720" cy="1038240"/>
              <a:chOff x="1158840" y="3908520"/>
              <a:chExt cx="4050720" cy="1038240"/>
            </a:xfrm>
          </p:grpSpPr>
          <p:pic>
            <p:nvPicPr>
              <p:cNvPr id="100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8840" y="3908520"/>
                <a:ext cx="2355840" cy="103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514680" y="3908520"/>
                <a:ext cx="1694880" cy="1038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3" name=""/>
            <p:cNvSpPr/>
            <p:nvPr/>
          </p:nvSpPr>
          <p:spPr>
            <a:xfrm>
              <a:off x="1158840" y="3908520"/>
              <a:ext cx="4051440" cy="1038960"/>
            </a:xfrm>
            <a:prstGeom prst="rect">
              <a:avLst/>
            </a:prstGeom>
            <a:noFill/>
            <a:ln w="11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1171440" y="1320840"/>
            <a:ext cx="4092480" cy="1094400"/>
            <a:chOff x="1171440" y="1320840"/>
            <a:chExt cx="4092480" cy="1094400"/>
          </a:xfrm>
        </p:grpSpPr>
        <p:grpSp>
          <p:nvGrpSpPr>
            <p:cNvPr id="1005" name=""/>
            <p:cNvGrpSpPr/>
            <p:nvPr/>
          </p:nvGrpSpPr>
          <p:grpSpPr>
            <a:xfrm>
              <a:off x="1171440" y="1320840"/>
              <a:ext cx="4092120" cy="1081440"/>
              <a:chOff x="1171440" y="1320840"/>
              <a:chExt cx="4092120" cy="1081440"/>
            </a:xfrm>
          </p:grpSpPr>
          <p:pic>
            <p:nvPicPr>
              <p:cNvPr id="10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171440" y="1320840"/>
                <a:ext cx="1665720" cy="10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837160" y="1320840"/>
                <a:ext cx="1665720" cy="10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502880" y="1320840"/>
                <a:ext cx="760680" cy="1081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9" name=""/>
            <p:cNvSpPr/>
            <p:nvPr/>
          </p:nvSpPr>
          <p:spPr>
            <a:xfrm>
              <a:off x="1171440" y="1332360"/>
              <a:ext cx="4092480" cy="1082880"/>
            </a:xfrm>
            <a:prstGeom prst="rect">
              <a:avLst/>
            </a:prstGeom>
            <a:noFill/>
            <a:ln w="11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1155600" y="2917800"/>
            <a:ext cx="4083120" cy="430200"/>
            <a:chOff x="1155600" y="2917800"/>
            <a:chExt cx="4083120" cy="430200"/>
          </a:xfrm>
        </p:grpSpPr>
        <p:grpSp>
          <p:nvGrpSpPr>
            <p:cNvPr id="1011" name=""/>
            <p:cNvGrpSpPr/>
            <p:nvPr/>
          </p:nvGrpSpPr>
          <p:grpSpPr>
            <a:xfrm>
              <a:off x="1155600" y="2917800"/>
              <a:ext cx="4082760" cy="429840"/>
              <a:chOff x="1155600" y="2917800"/>
              <a:chExt cx="4082760" cy="429840"/>
            </a:xfrm>
          </p:grpSpPr>
          <p:pic>
            <p:nvPicPr>
              <p:cNvPr id="101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5600" y="2917800"/>
                <a:ext cx="1107000" cy="42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262600" y="2917800"/>
                <a:ext cx="1107000" cy="42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369600" y="2917800"/>
                <a:ext cx="1107000" cy="42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4476600" y="2917800"/>
                <a:ext cx="761760" cy="42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6" name=""/>
            <p:cNvSpPr/>
            <p:nvPr/>
          </p:nvSpPr>
          <p:spPr>
            <a:xfrm>
              <a:off x="1155600" y="2917800"/>
              <a:ext cx="4083120" cy="430200"/>
            </a:xfrm>
            <a:prstGeom prst="rect">
              <a:avLst/>
            </a:prstGeom>
            <a:noFill/>
            <a:ln w="11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1152360" y="3421080"/>
            <a:ext cx="4062600" cy="430200"/>
            <a:chOff x="1152360" y="3421080"/>
            <a:chExt cx="4062600" cy="430200"/>
          </a:xfrm>
        </p:grpSpPr>
        <p:grpSp>
          <p:nvGrpSpPr>
            <p:cNvPr id="1018" name=""/>
            <p:cNvGrpSpPr/>
            <p:nvPr/>
          </p:nvGrpSpPr>
          <p:grpSpPr>
            <a:xfrm>
              <a:off x="1152360" y="3421080"/>
              <a:ext cx="4062600" cy="429840"/>
              <a:chOff x="1152360" y="3421080"/>
              <a:chExt cx="4062600" cy="429840"/>
            </a:xfrm>
          </p:grpSpPr>
          <p:pic>
            <p:nvPicPr>
              <p:cNvPr id="101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1152360" y="3421080"/>
                <a:ext cx="1101240" cy="42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2253600" y="3421080"/>
                <a:ext cx="1101240" cy="42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3355200" y="3421080"/>
                <a:ext cx="1101240" cy="42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456800" y="3421080"/>
                <a:ext cx="758160" cy="42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23" name=""/>
            <p:cNvSpPr/>
            <p:nvPr/>
          </p:nvSpPr>
          <p:spPr>
            <a:xfrm>
              <a:off x="1152360" y="3421080"/>
              <a:ext cx="4062600" cy="430200"/>
            </a:xfrm>
            <a:prstGeom prst="rect">
              <a:avLst/>
            </a:prstGeom>
            <a:noFill/>
            <a:ln w="11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1141560" y="6019920"/>
            <a:ext cx="4098600" cy="441360"/>
            <a:chOff x="1141560" y="6019920"/>
            <a:chExt cx="4098600" cy="441360"/>
          </a:xfrm>
        </p:grpSpPr>
        <p:grpSp>
          <p:nvGrpSpPr>
            <p:cNvPr id="1025" name=""/>
            <p:cNvGrpSpPr/>
            <p:nvPr/>
          </p:nvGrpSpPr>
          <p:grpSpPr>
            <a:xfrm>
              <a:off x="1141560" y="6019920"/>
              <a:ext cx="4098240" cy="441000"/>
              <a:chOff x="1141560" y="6019920"/>
              <a:chExt cx="4098240" cy="441000"/>
            </a:xfrm>
          </p:grpSpPr>
          <p:pic>
            <p:nvPicPr>
              <p:cNvPr id="1026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1141560" y="6019920"/>
                <a:ext cx="1110960" cy="44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7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2252520" y="6019920"/>
                <a:ext cx="1110960" cy="44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8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3363840" y="6019920"/>
                <a:ext cx="1110960" cy="44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9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4475160" y="6019920"/>
                <a:ext cx="764640" cy="44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30" name=""/>
            <p:cNvSpPr/>
            <p:nvPr/>
          </p:nvSpPr>
          <p:spPr>
            <a:xfrm>
              <a:off x="1141560" y="6019920"/>
              <a:ext cx="4098600" cy="441360"/>
            </a:xfrm>
            <a:prstGeom prst="rect">
              <a:avLst/>
            </a:prstGeom>
            <a:noFill/>
            <a:ln w="11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1158840" y="5018040"/>
            <a:ext cx="4076640" cy="491760"/>
            <a:chOff x="1158840" y="5018040"/>
            <a:chExt cx="4076640" cy="491760"/>
          </a:xfrm>
        </p:grpSpPr>
        <p:grpSp>
          <p:nvGrpSpPr>
            <p:cNvPr id="1032" name=""/>
            <p:cNvGrpSpPr/>
            <p:nvPr/>
          </p:nvGrpSpPr>
          <p:grpSpPr>
            <a:xfrm>
              <a:off x="1158840" y="5018040"/>
              <a:ext cx="4076280" cy="491400"/>
              <a:chOff x="1158840" y="5018040"/>
              <a:chExt cx="4076280" cy="491400"/>
            </a:xfrm>
          </p:grpSpPr>
          <p:pic>
            <p:nvPicPr>
              <p:cNvPr id="1033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1158840" y="5018040"/>
                <a:ext cx="2070360" cy="49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4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3229200" y="5018040"/>
                <a:ext cx="2005920" cy="491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35" name=""/>
            <p:cNvSpPr/>
            <p:nvPr/>
          </p:nvSpPr>
          <p:spPr>
            <a:xfrm>
              <a:off x="1158840" y="5018040"/>
              <a:ext cx="4076640" cy="491760"/>
            </a:xfrm>
            <a:prstGeom prst="rect">
              <a:avLst/>
            </a:prstGeom>
            <a:noFill/>
            <a:ln w="11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1162080" y="3379680"/>
            <a:ext cx="407520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088000" y="2930400"/>
            <a:ext cx="232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2000"/>
                </a:solidFill>
                <a:latin typeface="Arial"/>
              </a:rPr>
              <a:t>2. Planeamien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246640" y="2859120"/>
            <a:ext cx="0" cy="271476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130400" y="3889440"/>
            <a:ext cx="407484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150920" y="2887560"/>
            <a:ext cx="413712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166760" y="4989600"/>
            <a:ext cx="407664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147680" y="5549760"/>
            <a:ext cx="412596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131840" y="6504120"/>
            <a:ext cx="414360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41560" y="5975280"/>
            <a:ext cx="4117680" cy="1908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249880" y="5954760"/>
            <a:ext cx="0" cy="57780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609000" y="2457360"/>
            <a:ext cx="331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SISTEMA DE GES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70600" y="5586480"/>
            <a:ext cx="209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273280" y="4849920"/>
            <a:ext cx="198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9f3"/>
                </a:solidFill>
                <a:latin typeface="Arial"/>
              </a:rPr>
              <a:t>6. Resultad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136520" y="2441520"/>
            <a:ext cx="4132440" cy="180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639080" y="3425760"/>
            <a:ext cx="321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2000"/>
                </a:solidFill>
                <a:latin typeface="Arial"/>
              </a:rPr>
              <a:t>3. Enfoque en clien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573200" y="4246560"/>
            <a:ext cx="3351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2000"/>
                </a:solidFill>
                <a:latin typeface="Arial"/>
              </a:rPr>
              <a:t>4. Gestión de proces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648800" y="5067360"/>
            <a:ext cx="3199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2000"/>
                </a:solidFill>
                <a:latin typeface="Arial"/>
              </a:rPr>
              <a:t>5. Recursos Human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257200" y="6019920"/>
            <a:ext cx="198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2000"/>
                </a:solidFill>
                <a:latin typeface="Arial"/>
              </a:rPr>
              <a:t>6. Resultad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5370480" y="6019920"/>
            <a:ext cx="4098960" cy="441360"/>
            <a:chOff x="5370480" y="6019920"/>
            <a:chExt cx="4098960" cy="441360"/>
          </a:xfrm>
        </p:grpSpPr>
        <p:grpSp>
          <p:nvGrpSpPr>
            <p:cNvPr id="1055" name=""/>
            <p:cNvGrpSpPr/>
            <p:nvPr/>
          </p:nvGrpSpPr>
          <p:grpSpPr>
            <a:xfrm>
              <a:off x="5370480" y="6019920"/>
              <a:ext cx="4098960" cy="441000"/>
              <a:chOff x="5370480" y="6019920"/>
              <a:chExt cx="4098960" cy="441000"/>
            </a:xfrm>
          </p:grpSpPr>
          <p:pic>
            <p:nvPicPr>
              <p:cNvPr id="1056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370480" y="6019920"/>
                <a:ext cx="1111320" cy="44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7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6481800" y="6019920"/>
                <a:ext cx="1111320" cy="44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8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7593120" y="6019920"/>
                <a:ext cx="1111320" cy="44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9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704440" y="6019920"/>
                <a:ext cx="765000" cy="44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60" name=""/>
            <p:cNvSpPr/>
            <p:nvPr/>
          </p:nvSpPr>
          <p:spPr>
            <a:xfrm>
              <a:off x="5370480" y="6019920"/>
              <a:ext cx="4098960" cy="441360"/>
            </a:xfrm>
            <a:prstGeom prst="rect">
              <a:avLst/>
            </a:prstGeom>
            <a:noFill/>
            <a:ln w="11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5388120" y="5018040"/>
            <a:ext cx="4119480" cy="491760"/>
            <a:chOff x="5388120" y="5018040"/>
            <a:chExt cx="4119480" cy="491760"/>
          </a:xfrm>
        </p:grpSpPr>
        <p:grpSp>
          <p:nvGrpSpPr>
            <p:cNvPr id="1062" name=""/>
            <p:cNvGrpSpPr/>
            <p:nvPr/>
          </p:nvGrpSpPr>
          <p:grpSpPr>
            <a:xfrm>
              <a:off x="5388120" y="5018040"/>
              <a:ext cx="4119120" cy="491400"/>
              <a:chOff x="5388120" y="5018040"/>
              <a:chExt cx="4119120" cy="491400"/>
            </a:xfrm>
          </p:grpSpPr>
          <p:pic>
            <p:nvPicPr>
              <p:cNvPr id="1063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5388120" y="5018040"/>
                <a:ext cx="2091960" cy="49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4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480080" y="5018040"/>
                <a:ext cx="2027160" cy="491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65" name=""/>
            <p:cNvSpPr/>
            <p:nvPr/>
          </p:nvSpPr>
          <p:spPr>
            <a:xfrm>
              <a:off x="5388120" y="5018040"/>
              <a:ext cx="4119480" cy="491760"/>
            </a:xfrm>
            <a:prstGeom prst="rect">
              <a:avLst/>
            </a:prstGeom>
            <a:noFill/>
            <a:ln w="11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5429160" y="3421080"/>
            <a:ext cx="4062600" cy="430200"/>
            <a:chOff x="5429160" y="3421080"/>
            <a:chExt cx="4062600" cy="430200"/>
          </a:xfrm>
        </p:grpSpPr>
        <p:grpSp>
          <p:nvGrpSpPr>
            <p:cNvPr id="1067" name=""/>
            <p:cNvGrpSpPr/>
            <p:nvPr/>
          </p:nvGrpSpPr>
          <p:grpSpPr>
            <a:xfrm>
              <a:off x="5429160" y="3421080"/>
              <a:ext cx="4062600" cy="429840"/>
              <a:chOff x="5429160" y="3421080"/>
              <a:chExt cx="4062600" cy="429840"/>
            </a:xfrm>
          </p:grpSpPr>
          <p:pic>
            <p:nvPicPr>
              <p:cNvPr id="106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5429160" y="3421080"/>
                <a:ext cx="1101240" cy="42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9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6530400" y="3421080"/>
                <a:ext cx="1101240" cy="42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632000" y="3421080"/>
                <a:ext cx="1101240" cy="42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733600" y="3421080"/>
                <a:ext cx="758160" cy="42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72" name=""/>
            <p:cNvSpPr/>
            <p:nvPr/>
          </p:nvSpPr>
          <p:spPr>
            <a:xfrm>
              <a:off x="5429160" y="3421080"/>
              <a:ext cx="4062600" cy="430200"/>
            </a:xfrm>
            <a:prstGeom prst="rect">
              <a:avLst/>
            </a:prstGeom>
            <a:noFill/>
            <a:ln w="11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5437080" y="2917800"/>
            <a:ext cx="4083120" cy="430200"/>
            <a:chOff x="5437080" y="2917800"/>
            <a:chExt cx="4083120" cy="430200"/>
          </a:xfrm>
        </p:grpSpPr>
        <p:grpSp>
          <p:nvGrpSpPr>
            <p:cNvPr id="1074" name=""/>
            <p:cNvGrpSpPr/>
            <p:nvPr/>
          </p:nvGrpSpPr>
          <p:grpSpPr>
            <a:xfrm>
              <a:off x="5437080" y="2917800"/>
              <a:ext cx="4082760" cy="429840"/>
              <a:chOff x="5437080" y="2917800"/>
              <a:chExt cx="4082760" cy="429840"/>
            </a:xfrm>
          </p:grpSpPr>
          <p:pic>
            <p:nvPicPr>
              <p:cNvPr id="1075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5437080" y="2917800"/>
                <a:ext cx="1107000" cy="42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6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6544080" y="2917800"/>
                <a:ext cx="1107000" cy="42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7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7651080" y="2917800"/>
                <a:ext cx="1107000" cy="42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8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8758080" y="2917800"/>
                <a:ext cx="761760" cy="42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79" name=""/>
            <p:cNvSpPr/>
            <p:nvPr/>
          </p:nvSpPr>
          <p:spPr>
            <a:xfrm>
              <a:off x="5437080" y="2917800"/>
              <a:ext cx="4083120" cy="430200"/>
            </a:xfrm>
            <a:prstGeom prst="rect">
              <a:avLst/>
            </a:prstGeom>
            <a:noFill/>
            <a:ln w="11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5388120" y="3903840"/>
            <a:ext cx="4108320" cy="1043640"/>
            <a:chOff x="5388120" y="3903840"/>
            <a:chExt cx="4108320" cy="1043640"/>
          </a:xfrm>
        </p:grpSpPr>
        <p:grpSp>
          <p:nvGrpSpPr>
            <p:cNvPr id="1081" name=""/>
            <p:cNvGrpSpPr/>
            <p:nvPr/>
          </p:nvGrpSpPr>
          <p:grpSpPr>
            <a:xfrm>
              <a:off x="5388120" y="3903840"/>
              <a:ext cx="4107600" cy="1042920"/>
              <a:chOff x="5388120" y="3903840"/>
              <a:chExt cx="4107600" cy="1042920"/>
            </a:xfrm>
          </p:grpSpPr>
          <p:pic>
            <p:nvPicPr>
              <p:cNvPr id="1082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5388120" y="3903840"/>
                <a:ext cx="2388960" cy="104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3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7777080" y="3903840"/>
                <a:ext cx="1718640" cy="1042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84" name=""/>
            <p:cNvSpPr/>
            <p:nvPr/>
          </p:nvSpPr>
          <p:spPr>
            <a:xfrm>
              <a:off x="5388120" y="3903840"/>
              <a:ext cx="4108320" cy="1043640"/>
            </a:xfrm>
            <a:prstGeom prst="rect">
              <a:avLst/>
            </a:prstGeom>
            <a:noFill/>
            <a:ln w="11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085" name=""/>
          <p:cNvSpPr/>
          <p:nvPr/>
        </p:nvSpPr>
        <p:spPr>
          <a:xfrm>
            <a:off x="5419800" y="3379680"/>
            <a:ext cx="407520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382440" y="2952720"/>
            <a:ext cx="222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2000"/>
                </a:solidFill>
                <a:latin typeface="Arial"/>
              </a:rPr>
              <a:t>5. Planifica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9513720" y="2859120"/>
            <a:ext cx="0" cy="271476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440320" y="3889440"/>
            <a:ext cx="407520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427720" y="2887560"/>
            <a:ext cx="410832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396040" y="4989600"/>
            <a:ext cx="407664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376960" y="5549760"/>
            <a:ext cx="416880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361120" y="6504120"/>
            <a:ext cx="414324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370480" y="5975280"/>
            <a:ext cx="4118040" cy="1908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9478800" y="5954760"/>
            <a:ext cx="0" cy="57780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432400" y="2441520"/>
            <a:ext cx="4132440" cy="180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882760" y="3448080"/>
            <a:ext cx="321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2000"/>
                </a:solidFill>
                <a:latin typeface="Arial"/>
              </a:rPr>
              <a:t>2. Enfoque en clien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544360" y="3987720"/>
            <a:ext cx="389772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2000"/>
                </a:solidFill>
                <a:latin typeface="Arial"/>
              </a:rPr>
              <a:t>4. Información y análisi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2000"/>
                </a:solidFill>
                <a:latin typeface="Arial"/>
              </a:rPr>
              <a:t>6. Aseguramiento y mejor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628600" y="5089680"/>
            <a:ext cx="3728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2000"/>
                </a:solidFill>
                <a:latin typeface="Arial"/>
              </a:rPr>
              <a:t>3. Desarrollo del person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502320" y="6041880"/>
            <a:ext cx="198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2000"/>
                </a:solidFill>
                <a:latin typeface="Arial"/>
              </a:rPr>
              <a:t>6. Resultad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150920" y="1284120"/>
            <a:ext cx="4176720" cy="180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291280" y="1271520"/>
            <a:ext cx="0" cy="121284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380200" y="1284120"/>
            <a:ext cx="4176720" cy="180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9520200" y="1271520"/>
            <a:ext cx="0" cy="118440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805000" y="1440000"/>
            <a:ext cx="33732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9f3"/>
                </a:solidFill>
                <a:latin typeface="Arial"/>
              </a:rPr>
              <a:t>1. Liderazg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9f3"/>
                </a:solidFill>
                <a:latin typeface="Arial"/>
              </a:rPr>
              <a:t>7. Impacto entorno F.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847880" y="1700280"/>
            <a:ext cx="2800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9f3"/>
                </a:solidFill>
                <a:latin typeface="Arial"/>
              </a:rPr>
              <a:t>1. Liderazg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424480" y="1271520"/>
            <a:ext cx="0" cy="119880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402160" y="5954760"/>
            <a:ext cx="0" cy="57780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398920" y="2859120"/>
            <a:ext cx="0" cy="272412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131840" y="2859120"/>
            <a:ext cx="0" cy="271476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135080" y="5954760"/>
            <a:ext cx="0" cy="57780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176480" y="1252440"/>
            <a:ext cx="0" cy="121284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retaría Técnica del Premio Nacional a la Calidad para el Sector Públic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/>
          <p:nvPr/>
        </p:nvSpPr>
        <p:spPr>
          <a:xfrm>
            <a:off x="1255680" y="4459320"/>
            <a:ext cx="78519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5180040" y="2101680"/>
            <a:ext cx="19080" cy="2811600"/>
            <a:chOff x="5180040" y="2101680"/>
            <a:chExt cx="19080" cy="2811600"/>
          </a:xfrm>
        </p:grpSpPr>
        <p:sp>
          <p:nvSpPr>
            <p:cNvPr id="1114" name=""/>
            <p:cNvSpPr/>
            <p:nvPr/>
          </p:nvSpPr>
          <p:spPr>
            <a:xfrm>
              <a:off x="5180040" y="21016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180040" y="21016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180040" y="2120760"/>
              <a:ext cx="19080" cy="43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180040" y="2558880"/>
              <a:ext cx="1908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180040" y="2579760"/>
              <a:ext cx="19080" cy="527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180040" y="3116160"/>
              <a:ext cx="19080" cy="436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180040" y="3562200"/>
              <a:ext cx="19080" cy="43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180040" y="4010040"/>
              <a:ext cx="19080" cy="43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180040" y="4456080"/>
              <a:ext cx="19080" cy="43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180040" y="48942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180040" y="48942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2288880" y="312120"/>
            <a:ext cx="598644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ronograma del Premi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547080" y="2233440"/>
            <a:ext cx="1428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do. trimestre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541480" y="2233440"/>
            <a:ext cx="1367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er. trimestre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7506720" y="2233440"/>
            <a:ext cx="1367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to. trimestre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1246320" y="2124000"/>
            <a:ext cx="7866000" cy="19080"/>
            <a:chOff x="1246320" y="2124000"/>
            <a:chExt cx="7866000" cy="19080"/>
          </a:xfrm>
        </p:grpSpPr>
        <p:sp>
          <p:nvSpPr>
            <p:cNvPr id="1130" name=""/>
            <p:cNvSpPr/>
            <p:nvPr/>
          </p:nvSpPr>
          <p:spPr>
            <a:xfrm>
              <a:off x="1246320" y="2124000"/>
              <a:ext cx="19080" cy="190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246320" y="2124000"/>
              <a:ext cx="19080" cy="190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265400" y="2124000"/>
              <a:ext cx="1949400" cy="190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35320" y="2124000"/>
              <a:ext cx="1947960" cy="190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183280" y="2124000"/>
              <a:ext cx="20520" cy="190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203800" y="2124000"/>
              <a:ext cx="1944720" cy="190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148520" y="2124000"/>
              <a:ext cx="20520" cy="190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169040" y="2124000"/>
              <a:ext cx="1943280" cy="190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1246320" y="2143080"/>
            <a:ext cx="19080" cy="43488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183280" y="2143080"/>
            <a:ext cx="11160" cy="43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148520" y="2143080"/>
            <a:ext cx="11160" cy="43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476360" y="2719440"/>
            <a:ext cx="1742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fo. preliminar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292560" y="2741760"/>
            <a:ext cx="617760" cy="228600"/>
          </a:xfrm>
          <a:prstGeom prst="rect">
            <a:avLst/>
          </a:prstGeom>
          <a:solidFill>
            <a:srgbClr val="fb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9f3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fff9f3"/>
                </a:solidFill>
                <a:latin typeface="Arial"/>
              </a:rPr>
              <a:t>abril  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246320" y="2581200"/>
            <a:ext cx="19080" cy="2088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265400" y="2581200"/>
            <a:ext cx="194940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235320" y="2581200"/>
            <a:ext cx="194796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183280" y="2581200"/>
            <a:ext cx="205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203800" y="2581200"/>
            <a:ext cx="19447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148520" y="2581200"/>
            <a:ext cx="205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169040" y="2581200"/>
            <a:ext cx="194328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246320" y="2602080"/>
            <a:ext cx="19080" cy="5270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183280" y="2602080"/>
            <a:ext cx="11160" cy="52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148520" y="2602080"/>
            <a:ext cx="11160" cy="52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476720" y="3213000"/>
            <a:ext cx="1491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fo. extenso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940560" y="3211560"/>
            <a:ext cx="605520" cy="228600"/>
          </a:xfrm>
          <a:prstGeom prst="rect">
            <a:avLst/>
          </a:prstGeom>
          <a:solidFill>
            <a:srgbClr val="fb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9f3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9f3"/>
                </a:solidFill>
                <a:latin typeface="Arial"/>
              </a:rPr>
              <a:t>mayo 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246320" y="3129120"/>
            <a:ext cx="19080" cy="936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214800" y="31291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183280" y="31291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148520" y="31291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9112320" y="3129120"/>
            <a:ext cx="19080" cy="936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246320" y="3138480"/>
            <a:ext cx="19080" cy="43668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148520" y="3138480"/>
            <a:ext cx="11160" cy="43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382040" y="3660840"/>
            <a:ext cx="1274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60120" y="3686040"/>
            <a:ext cx="2594520" cy="228600"/>
          </a:xfrm>
          <a:prstGeom prst="rect">
            <a:avLst/>
          </a:prstGeom>
          <a:solidFill>
            <a:srgbClr val="fb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9f3"/>
                </a:solidFill>
                <a:latin typeface="Arial"/>
              </a:rPr>
              <a:t>        </a:t>
            </a:r>
            <a:r>
              <a:rPr b="1" lang="en-US" sz="1500" spc="-1" strike="noStrike">
                <a:solidFill>
                  <a:srgbClr val="fff9f3"/>
                </a:solidFill>
                <a:latin typeface="Arial"/>
              </a:rPr>
              <a:t>Junio a septiembre        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246320" y="3575160"/>
            <a:ext cx="1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265400" y="3575160"/>
            <a:ext cx="19494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214800" y="357516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224160" y="3575160"/>
            <a:ext cx="19591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183280" y="357516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194440" y="3575160"/>
            <a:ext cx="1954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148520" y="357516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159680" y="3575160"/>
            <a:ext cx="19526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9112320" y="3575160"/>
            <a:ext cx="1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246320" y="3584520"/>
            <a:ext cx="19080" cy="43488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183280" y="3584520"/>
            <a:ext cx="11160" cy="43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148520" y="3584520"/>
            <a:ext cx="11160" cy="43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382760" y="4106880"/>
            <a:ext cx="1245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eremonia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246320" y="4022640"/>
            <a:ext cx="19080" cy="97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214800" y="40226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183280" y="40226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148520" y="40226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9112320" y="4022640"/>
            <a:ext cx="19080" cy="97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246320" y="4032360"/>
            <a:ext cx="19080" cy="4363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183280" y="4032360"/>
            <a:ext cx="11160" cy="43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148520" y="4032360"/>
            <a:ext cx="11160" cy="43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495440" y="4537080"/>
            <a:ext cx="1207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fo. Retro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739640" y="4586400"/>
            <a:ext cx="1375200" cy="259560"/>
          </a:xfrm>
          <a:prstGeom prst="rect">
            <a:avLst/>
          </a:prstGeom>
          <a:solidFill>
            <a:srgbClr val="fb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9f3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fff9f3"/>
                </a:solidFill>
                <a:latin typeface="Arial"/>
              </a:rPr>
              <a:t>Nov.  Dic.</a:t>
            </a:r>
            <a:r>
              <a:rPr b="1" lang="en-US" sz="1700" spc="-1" strike="noStrike">
                <a:solidFill>
                  <a:srgbClr val="fff9f3"/>
                </a:solidFill>
                <a:latin typeface="Arial"/>
              </a:rPr>
              <a:t>    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246320" y="446868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214800" y="4468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183280" y="44686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148520" y="44686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9112320" y="446868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246320" y="4478400"/>
            <a:ext cx="19080" cy="4381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183280" y="4478400"/>
            <a:ext cx="11160" cy="43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7148520" y="4478400"/>
            <a:ext cx="11160" cy="43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1246320" y="4916520"/>
            <a:ext cx="7866000" cy="19080"/>
            <a:chOff x="1246320" y="4916520"/>
            <a:chExt cx="7866000" cy="19080"/>
          </a:xfrm>
        </p:grpSpPr>
        <p:sp>
          <p:nvSpPr>
            <p:cNvPr id="1196" name=""/>
            <p:cNvSpPr/>
            <p:nvPr/>
          </p:nvSpPr>
          <p:spPr>
            <a:xfrm>
              <a:off x="1246320" y="4916520"/>
              <a:ext cx="19080" cy="190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246320" y="4916520"/>
              <a:ext cx="19080" cy="190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265400" y="4916520"/>
              <a:ext cx="1949400" cy="190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214800" y="4916520"/>
              <a:ext cx="20520" cy="190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235320" y="4916520"/>
              <a:ext cx="1947960" cy="190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183280" y="4916520"/>
              <a:ext cx="20520" cy="190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203800" y="4916520"/>
              <a:ext cx="1944720" cy="190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148520" y="4916520"/>
              <a:ext cx="20520" cy="190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169040" y="4916520"/>
              <a:ext cx="1943280" cy="190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9112320" y="2124000"/>
            <a:ext cx="19080" cy="2811600"/>
            <a:chOff x="9112320" y="2124000"/>
            <a:chExt cx="19080" cy="2811600"/>
          </a:xfrm>
        </p:grpSpPr>
        <p:sp>
          <p:nvSpPr>
            <p:cNvPr id="1206" name=""/>
            <p:cNvSpPr/>
            <p:nvPr/>
          </p:nvSpPr>
          <p:spPr>
            <a:xfrm>
              <a:off x="9112320" y="2124000"/>
              <a:ext cx="19080" cy="190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9112320" y="2124000"/>
              <a:ext cx="19080" cy="190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9112320" y="2143080"/>
              <a:ext cx="19080" cy="4348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9112320" y="2581200"/>
              <a:ext cx="19080" cy="208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9112320" y="2602080"/>
              <a:ext cx="19080" cy="5270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9112320" y="3138480"/>
              <a:ext cx="19080" cy="4366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9112320" y="3584520"/>
              <a:ext cx="19080" cy="4348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9112320" y="4032360"/>
              <a:ext cx="19080" cy="4363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9112320" y="4478400"/>
              <a:ext cx="19080" cy="4381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9112320" y="4916520"/>
              <a:ext cx="19080" cy="190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112320" y="4916520"/>
              <a:ext cx="19080" cy="190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8031240" y="5181480"/>
            <a:ext cx="1213920" cy="1280880"/>
            <a:chOff x="8031240" y="5181480"/>
            <a:chExt cx="1213920" cy="1280880"/>
          </a:xfrm>
        </p:grpSpPr>
        <p:grpSp>
          <p:nvGrpSpPr>
            <p:cNvPr id="1218" name=""/>
            <p:cNvGrpSpPr/>
            <p:nvPr/>
          </p:nvGrpSpPr>
          <p:grpSpPr>
            <a:xfrm>
              <a:off x="8031240" y="5278320"/>
              <a:ext cx="982080" cy="1184040"/>
              <a:chOff x="8031240" y="5278320"/>
              <a:chExt cx="982080" cy="1184040"/>
            </a:xfrm>
          </p:grpSpPr>
          <p:sp>
            <p:nvSpPr>
              <p:cNvPr id="1219" name=""/>
              <p:cNvSpPr/>
              <p:nvPr/>
            </p:nvSpPr>
            <p:spPr>
              <a:xfrm>
                <a:off x="8370720" y="5316120"/>
                <a:ext cx="259920" cy="311400"/>
              </a:xfrm>
              <a:custGeom>
                <a:avLst/>
                <a:gdLst/>
                <a:ahLst/>
                <a:rect l="l" t="t" r="r" b="b"/>
                <a:pathLst>
                  <a:path w="655" h="781">
                    <a:moveTo>
                      <a:pt x="16" y="189"/>
                    </a:moveTo>
                    <a:lnTo>
                      <a:pt x="59" y="90"/>
                    </a:lnTo>
                    <a:lnTo>
                      <a:pt x="123" y="28"/>
                    </a:lnTo>
                    <a:lnTo>
                      <a:pt x="191" y="0"/>
                    </a:lnTo>
                    <a:lnTo>
                      <a:pt x="273" y="11"/>
                    </a:lnTo>
                    <a:lnTo>
                      <a:pt x="337" y="65"/>
                    </a:lnTo>
                    <a:lnTo>
                      <a:pt x="381" y="151"/>
                    </a:lnTo>
                    <a:lnTo>
                      <a:pt x="421" y="258"/>
                    </a:lnTo>
                    <a:lnTo>
                      <a:pt x="428" y="336"/>
                    </a:lnTo>
                    <a:lnTo>
                      <a:pt x="588" y="300"/>
                    </a:lnTo>
                    <a:lnTo>
                      <a:pt x="623" y="287"/>
                    </a:lnTo>
                    <a:lnTo>
                      <a:pt x="655" y="319"/>
                    </a:lnTo>
                    <a:lnTo>
                      <a:pt x="635" y="336"/>
                    </a:lnTo>
                    <a:lnTo>
                      <a:pt x="428" y="407"/>
                    </a:lnTo>
                    <a:lnTo>
                      <a:pt x="428" y="497"/>
                    </a:lnTo>
                    <a:lnTo>
                      <a:pt x="417" y="628"/>
                    </a:lnTo>
                    <a:lnTo>
                      <a:pt x="360" y="743"/>
                    </a:lnTo>
                    <a:lnTo>
                      <a:pt x="302" y="776"/>
                    </a:lnTo>
                    <a:lnTo>
                      <a:pt x="218" y="781"/>
                    </a:lnTo>
                    <a:lnTo>
                      <a:pt x="143" y="764"/>
                    </a:lnTo>
                    <a:lnTo>
                      <a:pt x="99" y="707"/>
                    </a:lnTo>
                    <a:lnTo>
                      <a:pt x="39" y="596"/>
                    </a:lnTo>
                    <a:lnTo>
                      <a:pt x="28" y="529"/>
                    </a:lnTo>
                    <a:lnTo>
                      <a:pt x="4" y="407"/>
                    </a:lnTo>
                    <a:lnTo>
                      <a:pt x="0" y="311"/>
                    </a:lnTo>
                    <a:lnTo>
                      <a:pt x="4" y="246"/>
                    </a:lnTo>
                    <a:lnTo>
                      <a:pt x="16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031240" y="5657760"/>
                <a:ext cx="426960" cy="288720"/>
              </a:xfrm>
              <a:custGeom>
                <a:avLst/>
                <a:gdLst/>
                <a:ahLst/>
                <a:rect l="l" t="t" r="r" b="b"/>
                <a:pathLst>
                  <a:path w="1074" h="730">
                    <a:moveTo>
                      <a:pt x="928" y="354"/>
                    </a:moveTo>
                    <a:lnTo>
                      <a:pt x="992" y="251"/>
                    </a:lnTo>
                    <a:lnTo>
                      <a:pt x="1061" y="148"/>
                    </a:lnTo>
                    <a:lnTo>
                      <a:pt x="1074" y="70"/>
                    </a:lnTo>
                    <a:lnTo>
                      <a:pt x="1048" y="26"/>
                    </a:lnTo>
                    <a:lnTo>
                      <a:pt x="997" y="0"/>
                    </a:lnTo>
                    <a:lnTo>
                      <a:pt x="945" y="13"/>
                    </a:lnTo>
                    <a:lnTo>
                      <a:pt x="893" y="40"/>
                    </a:lnTo>
                    <a:lnTo>
                      <a:pt x="868" y="83"/>
                    </a:lnTo>
                    <a:lnTo>
                      <a:pt x="863" y="199"/>
                    </a:lnTo>
                    <a:lnTo>
                      <a:pt x="824" y="341"/>
                    </a:lnTo>
                    <a:lnTo>
                      <a:pt x="730" y="488"/>
                    </a:lnTo>
                    <a:lnTo>
                      <a:pt x="657" y="627"/>
                    </a:lnTo>
                    <a:lnTo>
                      <a:pt x="618" y="640"/>
                    </a:lnTo>
                    <a:lnTo>
                      <a:pt x="552" y="601"/>
                    </a:lnTo>
                    <a:lnTo>
                      <a:pt x="440" y="436"/>
                    </a:lnTo>
                    <a:lnTo>
                      <a:pt x="341" y="337"/>
                    </a:lnTo>
                    <a:lnTo>
                      <a:pt x="268" y="285"/>
                    </a:lnTo>
                    <a:lnTo>
                      <a:pt x="199" y="290"/>
                    </a:lnTo>
                    <a:lnTo>
                      <a:pt x="152" y="316"/>
                    </a:lnTo>
                    <a:lnTo>
                      <a:pt x="126" y="354"/>
                    </a:lnTo>
                    <a:lnTo>
                      <a:pt x="86" y="423"/>
                    </a:lnTo>
                    <a:lnTo>
                      <a:pt x="22" y="471"/>
                    </a:lnTo>
                    <a:lnTo>
                      <a:pt x="4" y="479"/>
                    </a:lnTo>
                    <a:lnTo>
                      <a:pt x="0" y="531"/>
                    </a:lnTo>
                    <a:lnTo>
                      <a:pt x="43" y="518"/>
                    </a:lnTo>
                    <a:lnTo>
                      <a:pt x="126" y="453"/>
                    </a:lnTo>
                    <a:lnTo>
                      <a:pt x="156" y="393"/>
                    </a:lnTo>
                    <a:lnTo>
                      <a:pt x="195" y="363"/>
                    </a:lnTo>
                    <a:lnTo>
                      <a:pt x="277" y="363"/>
                    </a:lnTo>
                    <a:lnTo>
                      <a:pt x="371" y="449"/>
                    </a:lnTo>
                    <a:lnTo>
                      <a:pt x="436" y="544"/>
                    </a:lnTo>
                    <a:lnTo>
                      <a:pt x="513" y="666"/>
                    </a:lnTo>
                    <a:lnTo>
                      <a:pt x="578" y="722"/>
                    </a:lnTo>
                    <a:lnTo>
                      <a:pt x="661" y="730"/>
                    </a:lnTo>
                    <a:lnTo>
                      <a:pt x="708" y="683"/>
                    </a:lnTo>
                    <a:lnTo>
                      <a:pt x="790" y="588"/>
                    </a:lnTo>
                    <a:lnTo>
                      <a:pt x="872" y="441"/>
                    </a:lnTo>
                    <a:lnTo>
                      <a:pt x="928" y="3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8416800" y="5640120"/>
                <a:ext cx="210960" cy="479520"/>
              </a:xfrm>
              <a:custGeom>
                <a:avLst/>
                <a:gdLst/>
                <a:ahLst/>
                <a:rect l="l" t="t" r="r" b="b"/>
                <a:pathLst>
                  <a:path w="531" h="1208">
                    <a:moveTo>
                      <a:pt x="48" y="74"/>
                    </a:moveTo>
                    <a:lnTo>
                      <a:pt x="88" y="21"/>
                    </a:lnTo>
                    <a:lnTo>
                      <a:pt x="215" y="0"/>
                    </a:lnTo>
                    <a:lnTo>
                      <a:pt x="291" y="12"/>
                    </a:lnTo>
                    <a:lnTo>
                      <a:pt x="384" y="94"/>
                    </a:lnTo>
                    <a:lnTo>
                      <a:pt x="479" y="235"/>
                    </a:lnTo>
                    <a:lnTo>
                      <a:pt x="520" y="390"/>
                    </a:lnTo>
                    <a:lnTo>
                      <a:pt x="531" y="612"/>
                    </a:lnTo>
                    <a:lnTo>
                      <a:pt x="531" y="785"/>
                    </a:lnTo>
                    <a:lnTo>
                      <a:pt x="504" y="998"/>
                    </a:lnTo>
                    <a:lnTo>
                      <a:pt x="448" y="1118"/>
                    </a:lnTo>
                    <a:lnTo>
                      <a:pt x="384" y="1180"/>
                    </a:lnTo>
                    <a:lnTo>
                      <a:pt x="300" y="1208"/>
                    </a:lnTo>
                    <a:lnTo>
                      <a:pt x="215" y="1183"/>
                    </a:lnTo>
                    <a:lnTo>
                      <a:pt x="168" y="1086"/>
                    </a:lnTo>
                    <a:lnTo>
                      <a:pt x="155" y="973"/>
                    </a:lnTo>
                    <a:lnTo>
                      <a:pt x="159" y="908"/>
                    </a:lnTo>
                    <a:lnTo>
                      <a:pt x="155" y="797"/>
                    </a:lnTo>
                    <a:lnTo>
                      <a:pt x="101" y="650"/>
                    </a:lnTo>
                    <a:lnTo>
                      <a:pt x="60" y="530"/>
                    </a:lnTo>
                    <a:lnTo>
                      <a:pt x="24" y="419"/>
                    </a:lnTo>
                    <a:lnTo>
                      <a:pt x="0" y="329"/>
                    </a:lnTo>
                    <a:lnTo>
                      <a:pt x="0" y="197"/>
                    </a:lnTo>
                    <a:lnTo>
                      <a:pt x="28" y="123"/>
                    </a:lnTo>
                    <a:lnTo>
                      <a:pt x="48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8516880" y="5278320"/>
                <a:ext cx="496440" cy="441360"/>
              </a:xfrm>
              <a:custGeom>
                <a:avLst/>
                <a:gdLst/>
                <a:ahLst/>
                <a:rect l="l" t="t" r="r" b="b"/>
                <a:pathLst>
                  <a:path w="1252" h="1109">
                    <a:moveTo>
                      <a:pt x="346" y="851"/>
                    </a:moveTo>
                    <a:lnTo>
                      <a:pt x="223" y="899"/>
                    </a:lnTo>
                    <a:lnTo>
                      <a:pt x="55" y="945"/>
                    </a:lnTo>
                    <a:lnTo>
                      <a:pt x="0" y="1006"/>
                    </a:lnTo>
                    <a:lnTo>
                      <a:pt x="55" y="1098"/>
                    </a:lnTo>
                    <a:lnTo>
                      <a:pt x="152" y="1109"/>
                    </a:lnTo>
                    <a:lnTo>
                      <a:pt x="203" y="1056"/>
                    </a:lnTo>
                    <a:lnTo>
                      <a:pt x="394" y="945"/>
                    </a:lnTo>
                    <a:lnTo>
                      <a:pt x="561" y="798"/>
                    </a:lnTo>
                    <a:lnTo>
                      <a:pt x="749" y="629"/>
                    </a:lnTo>
                    <a:lnTo>
                      <a:pt x="845" y="526"/>
                    </a:lnTo>
                    <a:lnTo>
                      <a:pt x="976" y="366"/>
                    </a:lnTo>
                    <a:lnTo>
                      <a:pt x="1036" y="268"/>
                    </a:lnTo>
                    <a:lnTo>
                      <a:pt x="1252" y="182"/>
                    </a:lnTo>
                    <a:lnTo>
                      <a:pt x="1239" y="148"/>
                    </a:lnTo>
                    <a:lnTo>
                      <a:pt x="1095" y="197"/>
                    </a:lnTo>
                    <a:lnTo>
                      <a:pt x="1064" y="197"/>
                    </a:lnTo>
                    <a:lnTo>
                      <a:pt x="1155" y="99"/>
                    </a:lnTo>
                    <a:lnTo>
                      <a:pt x="1155" y="62"/>
                    </a:lnTo>
                    <a:lnTo>
                      <a:pt x="1120" y="37"/>
                    </a:lnTo>
                    <a:lnTo>
                      <a:pt x="1040" y="169"/>
                    </a:lnTo>
                    <a:lnTo>
                      <a:pt x="1023" y="169"/>
                    </a:lnTo>
                    <a:lnTo>
                      <a:pt x="1052" y="8"/>
                    </a:lnTo>
                    <a:lnTo>
                      <a:pt x="1016" y="0"/>
                    </a:lnTo>
                    <a:lnTo>
                      <a:pt x="992" y="148"/>
                    </a:lnTo>
                    <a:lnTo>
                      <a:pt x="969" y="132"/>
                    </a:lnTo>
                    <a:lnTo>
                      <a:pt x="880" y="75"/>
                    </a:lnTo>
                    <a:lnTo>
                      <a:pt x="872" y="107"/>
                    </a:lnTo>
                    <a:lnTo>
                      <a:pt x="965" y="197"/>
                    </a:lnTo>
                    <a:lnTo>
                      <a:pt x="969" y="243"/>
                    </a:lnTo>
                    <a:lnTo>
                      <a:pt x="944" y="316"/>
                    </a:lnTo>
                    <a:lnTo>
                      <a:pt x="813" y="465"/>
                    </a:lnTo>
                    <a:lnTo>
                      <a:pt x="585" y="666"/>
                    </a:lnTo>
                    <a:lnTo>
                      <a:pt x="346" y="8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8555040" y="6011640"/>
                <a:ext cx="199440" cy="450720"/>
              </a:xfrm>
              <a:custGeom>
                <a:avLst/>
                <a:gdLst/>
                <a:ahLst/>
                <a:rect l="l" t="t" r="r" b="b"/>
                <a:pathLst>
                  <a:path w="503" h="1135">
                    <a:moveTo>
                      <a:pt x="67" y="0"/>
                    </a:moveTo>
                    <a:lnTo>
                      <a:pt x="176" y="110"/>
                    </a:lnTo>
                    <a:lnTo>
                      <a:pt x="311" y="271"/>
                    </a:lnTo>
                    <a:lnTo>
                      <a:pt x="360" y="370"/>
                    </a:lnTo>
                    <a:lnTo>
                      <a:pt x="391" y="477"/>
                    </a:lnTo>
                    <a:lnTo>
                      <a:pt x="391" y="555"/>
                    </a:lnTo>
                    <a:lnTo>
                      <a:pt x="360" y="628"/>
                    </a:lnTo>
                    <a:lnTo>
                      <a:pt x="247" y="777"/>
                    </a:lnTo>
                    <a:lnTo>
                      <a:pt x="143" y="875"/>
                    </a:lnTo>
                    <a:lnTo>
                      <a:pt x="108" y="946"/>
                    </a:lnTo>
                    <a:lnTo>
                      <a:pt x="116" y="987"/>
                    </a:lnTo>
                    <a:lnTo>
                      <a:pt x="203" y="999"/>
                    </a:lnTo>
                    <a:lnTo>
                      <a:pt x="420" y="1011"/>
                    </a:lnTo>
                    <a:lnTo>
                      <a:pt x="503" y="1069"/>
                    </a:lnTo>
                    <a:lnTo>
                      <a:pt x="499" y="1106"/>
                    </a:lnTo>
                    <a:lnTo>
                      <a:pt x="356" y="1135"/>
                    </a:lnTo>
                    <a:lnTo>
                      <a:pt x="308" y="1106"/>
                    </a:lnTo>
                    <a:lnTo>
                      <a:pt x="176" y="1060"/>
                    </a:lnTo>
                    <a:lnTo>
                      <a:pt x="60" y="1045"/>
                    </a:lnTo>
                    <a:lnTo>
                      <a:pt x="19" y="1032"/>
                    </a:lnTo>
                    <a:lnTo>
                      <a:pt x="23" y="949"/>
                    </a:lnTo>
                    <a:lnTo>
                      <a:pt x="83" y="863"/>
                    </a:lnTo>
                    <a:lnTo>
                      <a:pt x="176" y="777"/>
                    </a:lnTo>
                    <a:lnTo>
                      <a:pt x="251" y="686"/>
                    </a:lnTo>
                    <a:lnTo>
                      <a:pt x="300" y="600"/>
                    </a:lnTo>
                    <a:lnTo>
                      <a:pt x="300" y="506"/>
                    </a:lnTo>
                    <a:lnTo>
                      <a:pt x="271" y="370"/>
                    </a:lnTo>
                    <a:lnTo>
                      <a:pt x="180" y="284"/>
                    </a:lnTo>
                    <a:lnTo>
                      <a:pt x="56" y="193"/>
                    </a:lnTo>
                    <a:lnTo>
                      <a:pt x="0" y="143"/>
                    </a:lnTo>
                    <a:lnTo>
                      <a:pt x="0" y="7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8323200" y="6032160"/>
                <a:ext cx="202680" cy="414360"/>
              </a:xfrm>
              <a:custGeom>
                <a:avLst/>
                <a:gdLst/>
                <a:ahLst/>
                <a:rect l="l" t="t" r="r" b="b"/>
                <a:pathLst>
                  <a:path w="509" h="1044">
                    <a:moveTo>
                      <a:pt x="299" y="127"/>
                    </a:moveTo>
                    <a:lnTo>
                      <a:pt x="402" y="12"/>
                    </a:lnTo>
                    <a:lnTo>
                      <a:pt x="478" y="0"/>
                    </a:lnTo>
                    <a:lnTo>
                      <a:pt x="509" y="41"/>
                    </a:lnTo>
                    <a:lnTo>
                      <a:pt x="465" y="110"/>
                    </a:lnTo>
                    <a:lnTo>
                      <a:pt x="402" y="148"/>
                    </a:lnTo>
                    <a:lnTo>
                      <a:pt x="307" y="209"/>
                    </a:lnTo>
                    <a:lnTo>
                      <a:pt x="259" y="294"/>
                    </a:lnTo>
                    <a:lnTo>
                      <a:pt x="270" y="418"/>
                    </a:lnTo>
                    <a:lnTo>
                      <a:pt x="323" y="593"/>
                    </a:lnTo>
                    <a:lnTo>
                      <a:pt x="377" y="786"/>
                    </a:lnTo>
                    <a:lnTo>
                      <a:pt x="426" y="912"/>
                    </a:lnTo>
                    <a:lnTo>
                      <a:pt x="449" y="999"/>
                    </a:lnTo>
                    <a:lnTo>
                      <a:pt x="430" y="1035"/>
                    </a:lnTo>
                    <a:lnTo>
                      <a:pt x="383" y="1044"/>
                    </a:lnTo>
                    <a:lnTo>
                      <a:pt x="299" y="1023"/>
                    </a:lnTo>
                    <a:lnTo>
                      <a:pt x="179" y="1010"/>
                    </a:lnTo>
                    <a:lnTo>
                      <a:pt x="92" y="1023"/>
                    </a:lnTo>
                    <a:lnTo>
                      <a:pt x="56" y="1023"/>
                    </a:lnTo>
                    <a:lnTo>
                      <a:pt x="0" y="949"/>
                    </a:lnTo>
                    <a:lnTo>
                      <a:pt x="8" y="920"/>
                    </a:lnTo>
                    <a:lnTo>
                      <a:pt x="103" y="920"/>
                    </a:lnTo>
                    <a:lnTo>
                      <a:pt x="251" y="949"/>
                    </a:lnTo>
                    <a:lnTo>
                      <a:pt x="330" y="970"/>
                    </a:lnTo>
                    <a:lnTo>
                      <a:pt x="366" y="983"/>
                    </a:lnTo>
                    <a:lnTo>
                      <a:pt x="377" y="949"/>
                    </a:lnTo>
                    <a:lnTo>
                      <a:pt x="342" y="822"/>
                    </a:lnTo>
                    <a:lnTo>
                      <a:pt x="282" y="618"/>
                    </a:lnTo>
                    <a:lnTo>
                      <a:pt x="223" y="470"/>
                    </a:lnTo>
                    <a:lnTo>
                      <a:pt x="203" y="361"/>
                    </a:lnTo>
                    <a:lnTo>
                      <a:pt x="203" y="274"/>
                    </a:lnTo>
                    <a:lnTo>
                      <a:pt x="223" y="188"/>
                    </a:lnTo>
                    <a:lnTo>
                      <a:pt x="270" y="139"/>
                    </a:lnTo>
                    <a:lnTo>
                      <a:pt x="330" y="102"/>
                    </a:lnTo>
                    <a:lnTo>
                      <a:pt x="354" y="73"/>
                    </a:lnTo>
                    <a:lnTo>
                      <a:pt x="299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225" name=""/>
            <p:cNvSpPr/>
            <p:nvPr/>
          </p:nvSpPr>
          <p:spPr>
            <a:xfrm>
              <a:off x="8802720" y="5381280"/>
              <a:ext cx="415440" cy="528840"/>
            </a:xfrm>
            <a:custGeom>
              <a:avLst/>
              <a:gdLst/>
              <a:ahLst/>
              <a:rect l="l" t="t" r="r" b="b"/>
              <a:pathLst>
                <a:path w="1049" h="1333">
                  <a:moveTo>
                    <a:pt x="334" y="66"/>
                  </a:moveTo>
                  <a:lnTo>
                    <a:pt x="589" y="25"/>
                  </a:lnTo>
                  <a:lnTo>
                    <a:pt x="644" y="0"/>
                  </a:lnTo>
                  <a:lnTo>
                    <a:pt x="764" y="362"/>
                  </a:lnTo>
                  <a:lnTo>
                    <a:pt x="846" y="557"/>
                  </a:lnTo>
                  <a:lnTo>
                    <a:pt x="933" y="751"/>
                  </a:lnTo>
                  <a:lnTo>
                    <a:pt x="1049" y="938"/>
                  </a:lnTo>
                  <a:lnTo>
                    <a:pt x="941" y="861"/>
                  </a:lnTo>
                  <a:lnTo>
                    <a:pt x="826" y="816"/>
                  </a:lnTo>
                  <a:lnTo>
                    <a:pt x="787" y="816"/>
                  </a:lnTo>
                  <a:lnTo>
                    <a:pt x="764" y="927"/>
                  </a:lnTo>
                  <a:lnTo>
                    <a:pt x="751" y="1082"/>
                  </a:lnTo>
                  <a:lnTo>
                    <a:pt x="743" y="1267"/>
                  </a:lnTo>
                  <a:lnTo>
                    <a:pt x="743" y="1333"/>
                  </a:lnTo>
                  <a:lnTo>
                    <a:pt x="624" y="1160"/>
                  </a:lnTo>
                  <a:lnTo>
                    <a:pt x="548" y="1013"/>
                  </a:lnTo>
                  <a:lnTo>
                    <a:pt x="513" y="988"/>
                  </a:lnTo>
                  <a:lnTo>
                    <a:pt x="453" y="1135"/>
                  </a:lnTo>
                  <a:lnTo>
                    <a:pt x="394" y="1271"/>
                  </a:lnTo>
                  <a:lnTo>
                    <a:pt x="338" y="1087"/>
                  </a:lnTo>
                  <a:lnTo>
                    <a:pt x="286" y="938"/>
                  </a:lnTo>
                  <a:lnTo>
                    <a:pt x="263" y="865"/>
                  </a:lnTo>
                  <a:lnTo>
                    <a:pt x="227" y="865"/>
                  </a:lnTo>
                  <a:lnTo>
                    <a:pt x="148" y="976"/>
                  </a:lnTo>
                  <a:lnTo>
                    <a:pt x="88" y="1049"/>
                  </a:lnTo>
                  <a:lnTo>
                    <a:pt x="37" y="1124"/>
                  </a:lnTo>
                  <a:lnTo>
                    <a:pt x="0" y="1059"/>
                  </a:lnTo>
                  <a:lnTo>
                    <a:pt x="49" y="898"/>
                  </a:lnTo>
                  <a:lnTo>
                    <a:pt x="101" y="751"/>
                  </a:lnTo>
                  <a:lnTo>
                    <a:pt x="148" y="567"/>
                  </a:lnTo>
                  <a:lnTo>
                    <a:pt x="179" y="390"/>
                  </a:lnTo>
                  <a:lnTo>
                    <a:pt x="212" y="184"/>
                  </a:lnTo>
                  <a:lnTo>
                    <a:pt x="334" y="6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8935920" y="5483160"/>
              <a:ext cx="309240" cy="474480"/>
            </a:xfrm>
            <a:custGeom>
              <a:avLst/>
              <a:gdLst/>
              <a:ahLst/>
              <a:rect l="l" t="t" r="r" b="b"/>
              <a:pathLst>
                <a:path w="781" h="1199">
                  <a:moveTo>
                    <a:pt x="454" y="17"/>
                  </a:moveTo>
                  <a:lnTo>
                    <a:pt x="363" y="0"/>
                  </a:lnTo>
                  <a:lnTo>
                    <a:pt x="398" y="116"/>
                  </a:lnTo>
                  <a:lnTo>
                    <a:pt x="458" y="260"/>
                  </a:lnTo>
                  <a:lnTo>
                    <a:pt x="514" y="386"/>
                  </a:lnTo>
                  <a:lnTo>
                    <a:pt x="577" y="493"/>
                  </a:lnTo>
                  <a:lnTo>
                    <a:pt x="633" y="596"/>
                  </a:lnTo>
                  <a:lnTo>
                    <a:pt x="538" y="543"/>
                  </a:lnTo>
                  <a:lnTo>
                    <a:pt x="470" y="493"/>
                  </a:lnTo>
                  <a:lnTo>
                    <a:pt x="435" y="493"/>
                  </a:lnTo>
                  <a:lnTo>
                    <a:pt x="410" y="641"/>
                  </a:lnTo>
                  <a:lnTo>
                    <a:pt x="387" y="805"/>
                  </a:lnTo>
                  <a:lnTo>
                    <a:pt x="387" y="941"/>
                  </a:lnTo>
                  <a:lnTo>
                    <a:pt x="387" y="1011"/>
                  </a:lnTo>
                  <a:lnTo>
                    <a:pt x="291" y="855"/>
                  </a:lnTo>
                  <a:lnTo>
                    <a:pt x="179" y="671"/>
                  </a:lnTo>
                  <a:lnTo>
                    <a:pt x="107" y="547"/>
                  </a:lnTo>
                  <a:lnTo>
                    <a:pt x="72" y="493"/>
                  </a:lnTo>
                  <a:lnTo>
                    <a:pt x="41" y="325"/>
                  </a:lnTo>
                  <a:lnTo>
                    <a:pt x="49" y="222"/>
                  </a:lnTo>
                  <a:lnTo>
                    <a:pt x="16" y="99"/>
                  </a:lnTo>
                  <a:lnTo>
                    <a:pt x="0" y="185"/>
                  </a:lnTo>
                  <a:lnTo>
                    <a:pt x="0" y="325"/>
                  </a:lnTo>
                  <a:lnTo>
                    <a:pt x="24" y="493"/>
                  </a:lnTo>
                  <a:lnTo>
                    <a:pt x="88" y="604"/>
                  </a:lnTo>
                  <a:lnTo>
                    <a:pt x="160" y="744"/>
                  </a:lnTo>
                  <a:lnTo>
                    <a:pt x="280" y="937"/>
                  </a:lnTo>
                  <a:lnTo>
                    <a:pt x="394" y="1113"/>
                  </a:lnTo>
                  <a:lnTo>
                    <a:pt x="431" y="1199"/>
                  </a:lnTo>
                  <a:lnTo>
                    <a:pt x="478" y="1199"/>
                  </a:lnTo>
                  <a:lnTo>
                    <a:pt x="478" y="1159"/>
                  </a:lnTo>
                  <a:lnTo>
                    <a:pt x="443" y="986"/>
                  </a:lnTo>
                  <a:lnTo>
                    <a:pt x="443" y="826"/>
                  </a:lnTo>
                  <a:lnTo>
                    <a:pt x="454" y="679"/>
                  </a:lnTo>
                  <a:lnTo>
                    <a:pt x="466" y="596"/>
                  </a:lnTo>
                  <a:lnTo>
                    <a:pt x="490" y="579"/>
                  </a:lnTo>
                  <a:lnTo>
                    <a:pt x="573" y="621"/>
                  </a:lnTo>
                  <a:lnTo>
                    <a:pt x="657" y="694"/>
                  </a:lnTo>
                  <a:lnTo>
                    <a:pt x="740" y="769"/>
                  </a:lnTo>
                  <a:lnTo>
                    <a:pt x="781" y="776"/>
                  </a:lnTo>
                  <a:lnTo>
                    <a:pt x="781" y="715"/>
                  </a:lnTo>
                  <a:lnTo>
                    <a:pt x="674" y="555"/>
                  </a:lnTo>
                  <a:lnTo>
                    <a:pt x="590" y="407"/>
                  </a:lnTo>
                  <a:lnTo>
                    <a:pt x="505" y="239"/>
                  </a:lnTo>
                  <a:lnTo>
                    <a:pt x="458" y="128"/>
                  </a:lnTo>
                  <a:lnTo>
                    <a:pt x="431" y="17"/>
                  </a:lnTo>
                  <a:lnTo>
                    <a:pt x="418" y="0"/>
                  </a:lnTo>
                  <a:lnTo>
                    <a:pt x="418" y="25"/>
                  </a:lnTo>
                  <a:lnTo>
                    <a:pt x="45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789760" y="5501880"/>
              <a:ext cx="226800" cy="439920"/>
            </a:xfrm>
            <a:custGeom>
              <a:avLst/>
              <a:gdLst/>
              <a:ahLst/>
              <a:rect l="l" t="t" r="r" b="b"/>
              <a:pathLst>
                <a:path w="573" h="1109">
                  <a:moveTo>
                    <a:pt x="192" y="4"/>
                  </a:moveTo>
                  <a:lnTo>
                    <a:pt x="156" y="222"/>
                  </a:lnTo>
                  <a:lnTo>
                    <a:pt x="105" y="444"/>
                  </a:lnTo>
                  <a:lnTo>
                    <a:pt x="45" y="629"/>
                  </a:lnTo>
                  <a:lnTo>
                    <a:pt x="0" y="851"/>
                  </a:lnTo>
                  <a:lnTo>
                    <a:pt x="0" y="905"/>
                  </a:lnTo>
                  <a:lnTo>
                    <a:pt x="68" y="888"/>
                  </a:lnTo>
                  <a:lnTo>
                    <a:pt x="152" y="769"/>
                  </a:lnTo>
                  <a:lnTo>
                    <a:pt x="235" y="641"/>
                  </a:lnTo>
                  <a:lnTo>
                    <a:pt x="276" y="616"/>
                  </a:lnTo>
                  <a:lnTo>
                    <a:pt x="311" y="654"/>
                  </a:lnTo>
                  <a:lnTo>
                    <a:pt x="344" y="794"/>
                  </a:lnTo>
                  <a:lnTo>
                    <a:pt x="371" y="974"/>
                  </a:lnTo>
                  <a:lnTo>
                    <a:pt x="379" y="1102"/>
                  </a:lnTo>
                  <a:lnTo>
                    <a:pt x="415" y="1109"/>
                  </a:lnTo>
                  <a:lnTo>
                    <a:pt x="466" y="949"/>
                  </a:lnTo>
                  <a:lnTo>
                    <a:pt x="534" y="813"/>
                  </a:lnTo>
                  <a:lnTo>
                    <a:pt x="573" y="715"/>
                  </a:lnTo>
                  <a:lnTo>
                    <a:pt x="526" y="654"/>
                  </a:lnTo>
                  <a:lnTo>
                    <a:pt x="486" y="788"/>
                  </a:lnTo>
                  <a:lnTo>
                    <a:pt x="431" y="928"/>
                  </a:lnTo>
                  <a:lnTo>
                    <a:pt x="415" y="928"/>
                  </a:lnTo>
                  <a:lnTo>
                    <a:pt x="383" y="781"/>
                  </a:lnTo>
                  <a:lnTo>
                    <a:pt x="359" y="654"/>
                  </a:lnTo>
                  <a:lnTo>
                    <a:pt x="323" y="555"/>
                  </a:lnTo>
                  <a:lnTo>
                    <a:pt x="287" y="505"/>
                  </a:lnTo>
                  <a:lnTo>
                    <a:pt x="264" y="518"/>
                  </a:lnTo>
                  <a:lnTo>
                    <a:pt x="192" y="629"/>
                  </a:lnTo>
                  <a:lnTo>
                    <a:pt x="120" y="727"/>
                  </a:lnTo>
                  <a:lnTo>
                    <a:pt x="85" y="781"/>
                  </a:lnTo>
                  <a:lnTo>
                    <a:pt x="60" y="805"/>
                  </a:lnTo>
                  <a:lnTo>
                    <a:pt x="56" y="744"/>
                  </a:lnTo>
                  <a:lnTo>
                    <a:pt x="105" y="591"/>
                  </a:lnTo>
                  <a:lnTo>
                    <a:pt x="163" y="444"/>
                  </a:lnTo>
                  <a:lnTo>
                    <a:pt x="200" y="272"/>
                  </a:lnTo>
                  <a:lnTo>
                    <a:pt x="224" y="136"/>
                  </a:lnTo>
                  <a:lnTo>
                    <a:pt x="252" y="0"/>
                  </a:lnTo>
                  <a:lnTo>
                    <a:pt x="19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8788320" y="5181480"/>
              <a:ext cx="374400" cy="411120"/>
            </a:xfrm>
            <a:custGeom>
              <a:avLst/>
              <a:gdLst/>
              <a:ahLst/>
              <a:rect l="l" t="t" r="r" b="b"/>
              <a:pathLst>
                <a:path w="945" h="1035">
                  <a:moveTo>
                    <a:pt x="466" y="217"/>
                  </a:moveTo>
                  <a:lnTo>
                    <a:pt x="526" y="155"/>
                  </a:lnTo>
                  <a:lnTo>
                    <a:pt x="598" y="61"/>
                  </a:lnTo>
                  <a:lnTo>
                    <a:pt x="662" y="0"/>
                  </a:lnTo>
                  <a:lnTo>
                    <a:pt x="685" y="8"/>
                  </a:lnTo>
                  <a:lnTo>
                    <a:pt x="693" y="69"/>
                  </a:lnTo>
                  <a:lnTo>
                    <a:pt x="669" y="192"/>
                  </a:lnTo>
                  <a:lnTo>
                    <a:pt x="658" y="254"/>
                  </a:lnTo>
                  <a:lnTo>
                    <a:pt x="662" y="283"/>
                  </a:lnTo>
                  <a:lnTo>
                    <a:pt x="776" y="283"/>
                  </a:lnTo>
                  <a:lnTo>
                    <a:pt x="852" y="278"/>
                  </a:lnTo>
                  <a:lnTo>
                    <a:pt x="877" y="303"/>
                  </a:lnTo>
                  <a:lnTo>
                    <a:pt x="860" y="341"/>
                  </a:lnTo>
                  <a:lnTo>
                    <a:pt x="825" y="402"/>
                  </a:lnTo>
                  <a:lnTo>
                    <a:pt x="792" y="431"/>
                  </a:lnTo>
                  <a:lnTo>
                    <a:pt x="840" y="463"/>
                  </a:lnTo>
                  <a:lnTo>
                    <a:pt x="920" y="492"/>
                  </a:lnTo>
                  <a:lnTo>
                    <a:pt x="945" y="528"/>
                  </a:lnTo>
                  <a:lnTo>
                    <a:pt x="932" y="553"/>
                  </a:lnTo>
                  <a:lnTo>
                    <a:pt x="885" y="578"/>
                  </a:lnTo>
                  <a:lnTo>
                    <a:pt x="829" y="603"/>
                  </a:lnTo>
                  <a:lnTo>
                    <a:pt x="829" y="624"/>
                  </a:lnTo>
                  <a:lnTo>
                    <a:pt x="877" y="714"/>
                  </a:lnTo>
                  <a:lnTo>
                    <a:pt x="908" y="759"/>
                  </a:lnTo>
                  <a:lnTo>
                    <a:pt x="889" y="796"/>
                  </a:lnTo>
                  <a:lnTo>
                    <a:pt x="860" y="813"/>
                  </a:lnTo>
                  <a:lnTo>
                    <a:pt x="730" y="800"/>
                  </a:lnTo>
                  <a:lnTo>
                    <a:pt x="697" y="800"/>
                  </a:lnTo>
                  <a:lnTo>
                    <a:pt x="697" y="836"/>
                  </a:lnTo>
                  <a:lnTo>
                    <a:pt x="716" y="936"/>
                  </a:lnTo>
                  <a:lnTo>
                    <a:pt x="709" y="981"/>
                  </a:lnTo>
                  <a:lnTo>
                    <a:pt x="693" y="997"/>
                  </a:lnTo>
                  <a:lnTo>
                    <a:pt x="645" y="972"/>
                  </a:lnTo>
                  <a:lnTo>
                    <a:pt x="549" y="861"/>
                  </a:lnTo>
                  <a:lnTo>
                    <a:pt x="526" y="870"/>
                  </a:lnTo>
                  <a:lnTo>
                    <a:pt x="501" y="932"/>
                  </a:lnTo>
                  <a:lnTo>
                    <a:pt x="454" y="1029"/>
                  </a:lnTo>
                  <a:lnTo>
                    <a:pt x="398" y="1035"/>
                  </a:lnTo>
                  <a:lnTo>
                    <a:pt x="375" y="936"/>
                  </a:lnTo>
                  <a:lnTo>
                    <a:pt x="358" y="800"/>
                  </a:lnTo>
                  <a:lnTo>
                    <a:pt x="338" y="800"/>
                  </a:lnTo>
                  <a:lnTo>
                    <a:pt x="195" y="849"/>
                  </a:lnTo>
                  <a:lnTo>
                    <a:pt x="123" y="861"/>
                  </a:lnTo>
                  <a:lnTo>
                    <a:pt x="107" y="836"/>
                  </a:lnTo>
                  <a:lnTo>
                    <a:pt x="191" y="639"/>
                  </a:lnTo>
                  <a:lnTo>
                    <a:pt x="183" y="624"/>
                  </a:lnTo>
                  <a:lnTo>
                    <a:pt x="27" y="616"/>
                  </a:lnTo>
                  <a:lnTo>
                    <a:pt x="0" y="591"/>
                  </a:lnTo>
                  <a:lnTo>
                    <a:pt x="0" y="549"/>
                  </a:lnTo>
                  <a:lnTo>
                    <a:pt x="167" y="463"/>
                  </a:lnTo>
                  <a:lnTo>
                    <a:pt x="167" y="442"/>
                  </a:lnTo>
                  <a:lnTo>
                    <a:pt x="111" y="341"/>
                  </a:lnTo>
                  <a:lnTo>
                    <a:pt x="95" y="295"/>
                  </a:lnTo>
                  <a:lnTo>
                    <a:pt x="119" y="266"/>
                  </a:lnTo>
                  <a:lnTo>
                    <a:pt x="255" y="291"/>
                  </a:lnTo>
                  <a:lnTo>
                    <a:pt x="266" y="291"/>
                  </a:lnTo>
                  <a:lnTo>
                    <a:pt x="266" y="110"/>
                  </a:lnTo>
                  <a:lnTo>
                    <a:pt x="299" y="86"/>
                  </a:lnTo>
                  <a:lnTo>
                    <a:pt x="338" y="86"/>
                  </a:lnTo>
                  <a:lnTo>
                    <a:pt x="422" y="197"/>
                  </a:lnTo>
                  <a:lnTo>
                    <a:pt x="466" y="2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8829720" y="5221080"/>
              <a:ext cx="294840" cy="325440"/>
            </a:xfrm>
            <a:custGeom>
              <a:avLst/>
              <a:gdLst/>
              <a:ahLst/>
              <a:rect l="l" t="t" r="r" b="b"/>
              <a:pathLst>
                <a:path w="743" h="820">
                  <a:moveTo>
                    <a:pt x="552" y="0"/>
                  </a:moveTo>
                  <a:lnTo>
                    <a:pt x="532" y="111"/>
                  </a:lnTo>
                  <a:lnTo>
                    <a:pt x="496" y="230"/>
                  </a:lnTo>
                  <a:lnTo>
                    <a:pt x="708" y="230"/>
                  </a:lnTo>
                  <a:lnTo>
                    <a:pt x="636" y="352"/>
                  </a:lnTo>
                  <a:lnTo>
                    <a:pt x="743" y="431"/>
                  </a:lnTo>
                  <a:lnTo>
                    <a:pt x="675" y="475"/>
                  </a:lnTo>
                  <a:lnTo>
                    <a:pt x="659" y="517"/>
                  </a:lnTo>
                  <a:lnTo>
                    <a:pt x="712" y="651"/>
                  </a:lnTo>
                  <a:lnTo>
                    <a:pt x="603" y="639"/>
                  </a:lnTo>
                  <a:lnTo>
                    <a:pt x="576" y="623"/>
                  </a:lnTo>
                  <a:lnTo>
                    <a:pt x="545" y="636"/>
                  </a:lnTo>
                  <a:lnTo>
                    <a:pt x="545" y="799"/>
                  </a:lnTo>
                  <a:lnTo>
                    <a:pt x="448" y="689"/>
                  </a:lnTo>
                  <a:lnTo>
                    <a:pt x="413" y="684"/>
                  </a:lnTo>
                  <a:lnTo>
                    <a:pt x="324" y="820"/>
                  </a:lnTo>
                  <a:lnTo>
                    <a:pt x="301" y="664"/>
                  </a:lnTo>
                  <a:lnTo>
                    <a:pt x="264" y="647"/>
                  </a:lnTo>
                  <a:lnTo>
                    <a:pt x="132" y="689"/>
                  </a:lnTo>
                  <a:lnTo>
                    <a:pt x="85" y="684"/>
                  </a:lnTo>
                  <a:lnTo>
                    <a:pt x="113" y="590"/>
                  </a:lnTo>
                  <a:lnTo>
                    <a:pt x="149" y="517"/>
                  </a:lnTo>
                  <a:lnTo>
                    <a:pt x="149" y="479"/>
                  </a:lnTo>
                  <a:lnTo>
                    <a:pt x="29" y="479"/>
                  </a:lnTo>
                  <a:lnTo>
                    <a:pt x="0" y="463"/>
                  </a:lnTo>
                  <a:lnTo>
                    <a:pt x="124" y="377"/>
                  </a:lnTo>
                  <a:lnTo>
                    <a:pt x="121" y="345"/>
                  </a:lnTo>
                  <a:lnTo>
                    <a:pt x="77" y="245"/>
                  </a:lnTo>
                  <a:lnTo>
                    <a:pt x="89" y="234"/>
                  </a:lnTo>
                  <a:lnTo>
                    <a:pt x="196" y="245"/>
                  </a:lnTo>
                  <a:lnTo>
                    <a:pt x="217" y="230"/>
                  </a:lnTo>
                  <a:lnTo>
                    <a:pt x="217" y="75"/>
                  </a:lnTo>
                  <a:lnTo>
                    <a:pt x="252" y="82"/>
                  </a:lnTo>
                  <a:lnTo>
                    <a:pt x="341" y="180"/>
                  </a:lnTo>
                  <a:lnTo>
                    <a:pt x="376" y="180"/>
                  </a:lnTo>
                  <a:lnTo>
                    <a:pt x="516" y="25"/>
                  </a:lnTo>
                  <a:lnTo>
                    <a:pt x="552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3303720" y="2119320"/>
            <a:ext cx="19080" cy="2811600"/>
            <a:chOff x="3303720" y="2119320"/>
            <a:chExt cx="19080" cy="2811600"/>
          </a:xfrm>
        </p:grpSpPr>
        <p:sp>
          <p:nvSpPr>
            <p:cNvPr id="1231" name=""/>
            <p:cNvSpPr/>
            <p:nvPr/>
          </p:nvSpPr>
          <p:spPr>
            <a:xfrm>
              <a:off x="3303720" y="2119320"/>
              <a:ext cx="19080" cy="190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303720" y="2119320"/>
              <a:ext cx="19080" cy="190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303720" y="2138400"/>
              <a:ext cx="19080" cy="4348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303720" y="2576520"/>
              <a:ext cx="19080" cy="208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303720" y="2597400"/>
              <a:ext cx="19080" cy="5270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303720" y="3133800"/>
              <a:ext cx="19080" cy="4366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303720" y="3579840"/>
              <a:ext cx="19080" cy="4348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303720" y="4027680"/>
              <a:ext cx="19080" cy="4363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303720" y="4473720"/>
              <a:ext cx="19080" cy="4381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303720" y="4911840"/>
              <a:ext cx="19080" cy="190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303720" y="4911840"/>
              <a:ext cx="19080" cy="190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242" name=""/>
          <p:cNvSpPr/>
          <p:nvPr/>
        </p:nvSpPr>
        <p:spPr>
          <a:xfrm>
            <a:off x="1268280" y="3583080"/>
            <a:ext cx="19080" cy="1908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268280" y="3583080"/>
            <a:ext cx="19080" cy="1908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897600" y="4071960"/>
            <a:ext cx="990720" cy="533520"/>
          </a:xfrm>
          <a:custGeom>
            <a:avLst/>
            <a:gdLst>
              <a:gd name="textAreaLeft" fmla="*/ 247680 w 990720"/>
              <a:gd name="textAreaRight" fmla="*/ 743040 w 990720"/>
              <a:gd name="textAreaTop" fmla="*/ 1548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66ccff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45" name="PREMIO" descr=""/>
          <p:cNvPicPr/>
          <p:nvPr/>
        </p:nvPicPr>
        <p:blipFill>
          <a:blip r:embed="rId1"/>
          <a:stretch/>
        </p:blipFill>
        <p:spPr>
          <a:xfrm>
            <a:off x="7227720" y="3843360"/>
            <a:ext cx="335160" cy="585720"/>
          </a:xfrm>
          <a:prstGeom prst="rect">
            <a:avLst/>
          </a:prstGeom>
          <a:ln w="0">
            <a:noFill/>
          </a:ln>
        </p:spPr>
      </p:pic>
      <p:grpSp>
        <p:nvGrpSpPr>
          <p:cNvPr id="1246" name=""/>
          <p:cNvGrpSpPr/>
          <p:nvPr/>
        </p:nvGrpSpPr>
        <p:grpSpPr>
          <a:xfrm>
            <a:off x="1263600" y="3087720"/>
            <a:ext cx="7866000" cy="19080"/>
            <a:chOff x="1263600" y="3087720"/>
            <a:chExt cx="7866000" cy="19080"/>
          </a:xfrm>
        </p:grpSpPr>
        <p:sp>
          <p:nvSpPr>
            <p:cNvPr id="1247" name=""/>
            <p:cNvSpPr/>
            <p:nvPr/>
          </p:nvSpPr>
          <p:spPr>
            <a:xfrm>
              <a:off x="1263600" y="30877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263600" y="30877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282680" y="3087720"/>
              <a:ext cx="1949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232080" y="308772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252600" y="3087720"/>
              <a:ext cx="19479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200560" y="308772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221080" y="3087720"/>
              <a:ext cx="1944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165800" y="308772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186320" y="3087720"/>
              <a:ext cx="1943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1292400" y="3564000"/>
            <a:ext cx="7866000" cy="19080"/>
            <a:chOff x="1292400" y="3564000"/>
            <a:chExt cx="7866000" cy="19080"/>
          </a:xfrm>
        </p:grpSpPr>
        <p:sp>
          <p:nvSpPr>
            <p:cNvPr id="1257" name=""/>
            <p:cNvSpPr/>
            <p:nvPr/>
          </p:nvSpPr>
          <p:spPr>
            <a:xfrm>
              <a:off x="1292400" y="3564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292400" y="3564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311480" y="3564000"/>
              <a:ext cx="1949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260880" y="35640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281400" y="3564000"/>
              <a:ext cx="19479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229360" y="35640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249880" y="3564000"/>
              <a:ext cx="1944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194600" y="35640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215120" y="3564000"/>
              <a:ext cx="1943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266" name=""/>
          <p:cNvSpPr/>
          <p:nvPr/>
        </p:nvSpPr>
        <p:spPr>
          <a:xfrm rot="10800000">
            <a:off x="7461000" y="4079520"/>
            <a:ext cx="106200" cy="220680"/>
          </a:xfrm>
          <a:prstGeom prst="rtTriangl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H="1" rot="10800000">
            <a:off x="7223760" y="4073400"/>
            <a:ext cx="90360" cy="238320"/>
          </a:xfrm>
          <a:prstGeom prst="rtTriangl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7194600" y="4066920"/>
            <a:ext cx="123840" cy="140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 flipV="1">
            <a:off x="7453440" y="4066920"/>
            <a:ext cx="117360" cy="126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1254240" y="4021200"/>
            <a:ext cx="7866000" cy="19080"/>
            <a:chOff x="1254240" y="4021200"/>
            <a:chExt cx="7866000" cy="19080"/>
          </a:xfrm>
        </p:grpSpPr>
        <p:sp>
          <p:nvSpPr>
            <p:cNvPr id="1271" name=""/>
            <p:cNvSpPr/>
            <p:nvPr/>
          </p:nvSpPr>
          <p:spPr>
            <a:xfrm>
              <a:off x="1254240" y="40212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254240" y="40212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273320" y="4021200"/>
              <a:ext cx="1949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222720" y="40212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243240" y="4021200"/>
              <a:ext cx="19479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191200" y="40212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211720" y="4021200"/>
              <a:ext cx="1944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156440" y="40212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176960" y="4021200"/>
              <a:ext cx="1943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retaría Técnica del Premio Nacional a la Calidad para el Sector Públic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425680" y="-88920"/>
            <a:ext cx="612792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Trofeo del sector públic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281" name=""/>
          <p:cNvGrpSpPr/>
          <p:nvPr/>
        </p:nvGrpSpPr>
        <p:grpSpPr>
          <a:xfrm>
            <a:off x="6610320" y="1771560"/>
            <a:ext cx="2800440" cy="4743720"/>
            <a:chOff x="6610320" y="1771560"/>
            <a:chExt cx="2800440" cy="4743720"/>
          </a:xfrm>
        </p:grpSpPr>
        <p:pic>
          <p:nvPicPr>
            <p:cNvPr id="1282" name="PREMIO" descr=""/>
            <p:cNvPicPr/>
            <p:nvPr/>
          </p:nvPicPr>
          <p:blipFill>
            <a:blip r:embed="rId1"/>
            <a:stretch/>
          </p:blipFill>
          <p:spPr>
            <a:xfrm>
              <a:off x="6657840" y="1790640"/>
              <a:ext cx="2678040" cy="46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3" name=""/>
            <p:cNvSpPr/>
            <p:nvPr/>
          </p:nvSpPr>
          <p:spPr>
            <a:xfrm>
              <a:off x="6610320" y="1771560"/>
              <a:ext cx="2800440" cy="474372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284" name=""/>
          <p:cNvSpPr/>
          <p:nvPr/>
        </p:nvSpPr>
        <p:spPr>
          <a:xfrm>
            <a:off x="1023840" y="1627200"/>
            <a:ext cx="547056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Arial"/>
              </a:rPr>
              <a:t>“ </a:t>
            </a:r>
            <a:r>
              <a:rPr b="0" lang="en-US" sz="1600" spc="-1" strike="noStrike">
                <a:solidFill>
                  <a:srgbClr val="402000"/>
                </a:solidFill>
                <a:latin typeface="Arial"/>
              </a:rPr>
              <a:t>El Trofeo distingue, marca y simboliza lo que se premia.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Arial"/>
              </a:rPr>
              <a:t>Objeto para mirar y para mirarnos ya que en lo que premiamos se manifiestan nuestros valores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Arial"/>
              </a:rPr>
              <a:t>Encontrar la calidad en la precisión, el detalle, la exactitud y la sutileza..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Arial"/>
              </a:rPr>
              <a:t>Entender el trofeo como un conjunto organizado que refleja a la administración publica que se apoya sobre una base firme que representa al pueblo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Arial"/>
              </a:rPr>
              <a:t>El premio se otorga a quien se destaca de sus pares -todos están construidos con la misma madera-, a quien ha pulido más sus asperezas, a quien ha logrado más brillo pero no de pinturas o barnices ya que no se puede premiar las máscaras que se cubren de colores que no les son propios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Arial"/>
              </a:rPr>
              <a:t>Los materiales son nobles y de nuestra tierra... madera de algarrobo del Chaco para el conjunto y laja negra de San Luis para la base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Arial"/>
              </a:rPr>
              <a:t>Tienen una fuerte identidad. no pretenden ser ni más ni menos lo que son, quizás por eso son tan preciados.”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938160" y="974880"/>
            <a:ext cx="856296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Arial"/>
              </a:rPr>
              <a:t>Tal como lo interpreta su autora, la diseñadora Patricia Muñoz, ganadora del concurso abierto realizado por la Secretaría de la Función Pública en el año 1993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956200" y="3354480"/>
            <a:ext cx="576360" cy="372960"/>
          </a:xfrm>
          <a:prstGeom prst="rect">
            <a:avLst/>
          </a:prstGeom>
          <a:solidFill>
            <a:srgbClr val="9966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32560" y="3379680"/>
            <a:ext cx="399960" cy="357120"/>
          </a:xfrm>
          <a:prstGeom prst="rect">
            <a:avLst/>
          </a:prstGeom>
          <a:solidFill>
            <a:srgbClr val="9966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30840" y="3195720"/>
            <a:ext cx="668520" cy="241200"/>
          </a:xfrm>
          <a:prstGeom prst="rect">
            <a:avLst/>
          </a:prstGeom>
          <a:solidFill>
            <a:srgbClr val="9966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45080" y="3220920"/>
            <a:ext cx="432000" cy="312840"/>
          </a:xfrm>
          <a:prstGeom prst="rect">
            <a:avLst/>
          </a:prstGeom>
          <a:solidFill>
            <a:srgbClr val="9966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77080" y="3578400"/>
            <a:ext cx="555480" cy="357120"/>
          </a:xfrm>
          <a:custGeom>
            <a:avLst/>
            <a:gdLst/>
            <a:ahLst/>
            <a:rect l="l" t="t" r="r" b="b"/>
            <a:pathLst>
              <a:path w="1444" h="1406">
                <a:moveTo>
                  <a:pt x="58" y="435"/>
                </a:moveTo>
                <a:lnTo>
                  <a:pt x="74" y="357"/>
                </a:lnTo>
                <a:lnTo>
                  <a:pt x="111" y="331"/>
                </a:lnTo>
                <a:lnTo>
                  <a:pt x="115" y="245"/>
                </a:lnTo>
                <a:lnTo>
                  <a:pt x="94" y="185"/>
                </a:lnTo>
                <a:lnTo>
                  <a:pt x="33" y="142"/>
                </a:lnTo>
                <a:lnTo>
                  <a:pt x="0" y="45"/>
                </a:lnTo>
                <a:lnTo>
                  <a:pt x="45" y="0"/>
                </a:lnTo>
                <a:lnTo>
                  <a:pt x="119" y="48"/>
                </a:lnTo>
                <a:lnTo>
                  <a:pt x="144" y="89"/>
                </a:lnTo>
                <a:lnTo>
                  <a:pt x="267" y="115"/>
                </a:lnTo>
                <a:lnTo>
                  <a:pt x="291" y="48"/>
                </a:lnTo>
                <a:lnTo>
                  <a:pt x="357" y="74"/>
                </a:lnTo>
                <a:lnTo>
                  <a:pt x="361" y="152"/>
                </a:lnTo>
                <a:lnTo>
                  <a:pt x="410" y="175"/>
                </a:lnTo>
                <a:lnTo>
                  <a:pt x="415" y="257"/>
                </a:lnTo>
                <a:lnTo>
                  <a:pt x="464" y="279"/>
                </a:lnTo>
                <a:lnTo>
                  <a:pt x="525" y="286"/>
                </a:lnTo>
                <a:lnTo>
                  <a:pt x="546" y="337"/>
                </a:lnTo>
                <a:lnTo>
                  <a:pt x="579" y="398"/>
                </a:lnTo>
                <a:lnTo>
                  <a:pt x="632" y="419"/>
                </a:lnTo>
                <a:lnTo>
                  <a:pt x="710" y="423"/>
                </a:lnTo>
                <a:lnTo>
                  <a:pt x="729" y="382"/>
                </a:lnTo>
                <a:lnTo>
                  <a:pt x="759" y="331"/>
                </a:lnTo>
                <a:lnTo>
                  <a:pt x="829" y="345"/>
                </a:lnTo>
                <a:lnTo>
                  <a:pt x="904" y="357"/>
                </a:lnTo>
                <a:lnTo>
                  <a:pt x="920" y="312"/>
                </a:lnTo>
                <a:lnTo>
                  <a:pt x="990" y="316"/>
                </a:lnTo>
                <a:lnTo>
                  <a:pt x="1043" y="308"/>
                </a:lnTo>
                <a:lnTo>
                  <a:pt x="1093" y="341"/>
                </a:lnTo>
                <a:lnTo>
                  <a:pt x="1175" y="415"/>
                </a:lnTo>
                <a:lnTo>
                  <a:pt x="1216" y="497"/>
                </a:lnTo>
                <a:lnTo>
                  <a:pt x="1224" y="557"/>
                </a:lnTo>
                <a:lnTo>
                  <a:pt x="1207" y="613"/>
                </a:lnTo>
                <a:lnTo>
                  <a:pt x="1207" y="642"/>
                </a:lnTo>
                <a:lnTo>
                  <a:pt x="1220" y="662"/>
                </a:lnTo>
                <a:lnTo>
                  <a:pt x="1220" y="683"/>
                </a:lnTo>
                <a:lnTo>
                  <a:pt x="1207" y="724"/>
                </a:lnTo>
                <a:lnTo>
                  <a:pt x="1203" y="790"/>
                </a:lnTo>
                <a:lnTo>
                  <a:pt x="1220" y="831"/>
                </a:lnTo>
                <a:lnTo>
                  <a:pt x="1298" y="863"/>
                </a:lnTo>
                <a:lnTo>
                  <a:pt x="1318" y="872"/>
                </a:lnTo>
                <a:lnTo>
                  <a:pt x="1331" y="921"/>
                </a:lnTo>
                <a:lnTo>
                  <a:pt x="1302" y="983"/>
                </a:lnTo>
                <a:lnTo>
                  <a:pt x="1298" y="1057"/>
                </a:lnTo>
                <a:lnTo>
                  <a:pt x="1359" y="1102"/>
                </a:lnTo>
                <a:lnTo>
                  <a:pt x="1444" y="1101"/>
                </a:lnTo>
                <a:lnTo>
                  <a:pt x="1444" y="1398"/>
                </a:lnTo>
                <a:lnTo>
                  <a:pt x="1335" y="1398"/>
                </a:lnTo>
                <a:lnTo>
                  <a:pt x="1285" y="1389"/>
                </a:lnTo>
                <a:lnTo>
                  <a:pt x="1244" y="1406"/>
                </a:lnTo>
                <a:lnTo>
                  <a:pt x="1121" y="1389"/>
                </a:lnTo>
                <a:lnTo>
                  <a:pt x="1117" y="1344"/>
                </a:lnTo>
                <a:lnTo>
                  <a:pt x="1088" y="1340"/>
                </a:lnTo>
                <a:lnTo>
                  <a:pt x="1080" y="1307"/>
                </a:lnTo>
                <a:lnTo>
                  <a:pt x="1084" y="1278"/>
                </a:lnTo>
                <a:lnTo>
                  <a:pt x="1056" y="1250"/>
                </a:lnTo>
                <a:lnTo>
                  <a:pt x="974" y="1262"/>
                </a:lnTo>
                <a:lnTo>
                  <a:pt x="904" y="1295"/>
                </a:lnTo>
                <a:lnTo>
                  <a:pt x="863" y="1315"/>
                </a:lnTo>
                <a:lnTo>
                  <a:pt x="743" y="1303"/>
                </a:lnTo>
                <a:lnTo>
                  <a:pt x="726" y="1278"/>
                </a:lnTo>
                <a:lnTo>
                  <a:pt x="694" y="1287"/>
                </a:lnTo>
                <a:lnTo>
                  <a:pt x="661" y="1274"/>
                </a:lnTo>
                <a:lnTo>
                  <a:pt x="636" y="1233"/>
                </a:lnTo>
                <a:lnTo>
                  <a:pt x="595" y="1217"/>
                </a:lnTo>
                <a:lnTo>
                  <a:pt x="579" y="1168"/>
                </a:lnTo>
                <a:lnTo>
                  <a:pt x="538" y="1159"/>
                </a:lnTo>
                <a:lnTo>
                  <a:pt x="517" y="1118"/>
                </a:lnTo>
                <a:lnTo>
                  <a:pt x="460" y="1020"/>
                </a:lnTo>
                <a:lnTo>
                  <a:pt x="431" y="1015"/>
                </a:lnTo>
                <a:lnTo>
                  <a:pt x="435" y="1048"/>
                </a:lnTo>
                <a:lnTo>
                  <a:pt x="406" y="1040"/>
                </a:lnTo>
                <a:lnTo>
                  <a:pt x="369" y="999"/>
                </a:lnTo>
                <a:lnTo>
                  <a:pt x="353" y="1020"/>
                </a:lnTo>
                <a:lnTo>
                  <a:pt x="361" y="1044"/>
                </a:lnTo>
                <a:lnTo>
                  <a:pt x="345" y="1052"/>
                </a:lnTo>
                <a:lnTo>
                  <a:pt x="316" y="1020"/>
                </a:lnTo>
                <a:lnTo>
                  <a:pt x="271" y="1007"/>
                </a:lnTo>
                <a:lnTo>
                  <a:pt x="262" y="977"/>
                </a:lnTo>
                <a:lnTo>
                  <a:pt x="256" y="934"/>
                </a:lnTo>
                <a:lnTo>
                  <a:pt x="264" y="896"/>
                </a:lnTo>
                <a:lnTo>
                  <a:pt x="268" y="871"/>
                </a:lnTo>
                <a:lnTo>
                  <a:pt x="248" y="830"/>
                </a:lnTo>
                <a:lnTo>
                  <a:pt x="198" y="805"/>
                </a:lnTo>
                <a:lnTo>
                  <a:pt x="160" y="797"/>
                </a:lnTo>
                <a:lnTo>
                  <a:pt x="139" y="773"/>
                </a:lnTo>
                <a:lnTo>
                  <a:pt x="112" y="723"/>
                </a:lnTo>
                <a:lnTo>
                  <a:pt x="96" y="712"/>
                </a:lnTo>
                <a:lnTo>
                  <a:pt x="69" y="706"/>
                </a:lnTo>
                <a:lnTo>
                  <a:pt x="46" y="683"/>
                </a:lnTo>
                <a:lnTo>
                  <a:pt x="44" y="657"/>
                </a:lnTo>
                <a:lnTo>
                  <a:pt x="49" y="626"/>
                </a:lnTo>
                <a:lnTo>
                  <a:pt x="88" y="596"/>
                </a:lnTo>
                <a:lnTo>
                  <a:pt x="127" y="557"/>
                </a:lnTo>
                <a:lnTo>
                  <a:pt x="102" y="530"/>
                </a:lnTo>
                <a:lnTo>
                  <a:pt x="115" y="489"/>
                </a:lnTo>
                <a:lnTo>
                  <a:pt x="100" y="461"/>
                </a:lnTo>
                <a:lnTo>
                  <a:pt x="58" y="435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37400" y="3683160"/>
            <a:ext cx="255600" cy="188640"/>
          </a:xfrm>
          <a:custGeom>
            <a:avLst/>
            <a:gdLst/>
            <a:ahLst/>
            <a:rect l="l" t="t" r="r" b="b"/>
            <a:pathLst>
              <a:path w="663" h="745">
                <a:moveTo>
                  <a:pt x="117" y="259"/>
                </a:moveTo>
                <a:lnTo>
                  <a:pt x="198" y="87"/>
                </a:lnTo>
                <a:lnTo>
                  <a:pt x="251" y="31"/>
                </a:lnTo>
                <a:lnTo>
                  <a:pt x="300" y="16"/>
                </a:lnTo>
                <a:lnTo>
                  <a:pt x="378" y="0"/>
                </a:lnTo>
                <a:lnTo>
                  <a:pt x="423" y="26"/>
                </a:lnTo>
                <a:lnTo>
                  <a:pt x="469" y="51"/>
                </a:lnTo>
                <a:lnTo>
                  <a:pt x="485" y="80"/>
                </a:lnTo>
                <a:lnTo>
                  <a:pt x="470" y="120"/>
                </a:lnTo>
                <a:lnTo>
                  <a:pt x="497" y="149"/>
                </a:lnTo>
                <a:lnTo>
                  <a:pt x="457" y="189"/>
                </a:lnTo>
                <a:lnTo>
                  <a:pt x="416" y="221"/>
                </a:lnTo>
                <a:lnTo>
                  <a:pt x="411" y="248"/>
                </a:lnTo>
                <a:lnTo>
                  <a:pt x="415" y="277"/>
                </a:lnTo>
                <a:lnTo>
                  <a:pt x="436" y="297"/>
                </a:lnTo>
                <a:lnTo>
                  <a:pt x="466" y="305"/>
                </a:lnTo>
                <a:lnTo>
                  <a:pt x="481" y="314"/>
                </a:lnTo>
                <a:lnTo>
                  <a:pt x="490" y="334"/>
                </a:lnTo>
                <a:lnTo>
                  <a:pt x="506" y="363"/>
                </a:lnTo>
                <a:lnTo>
                  <a:pt x="526" y="386"/>
                </a:lnTo>
                <a:lnTo>
                  <a:pt x="567" y="396"/>
                </a:lnTo>
                <a:lnTo>
                  <a:pt x="617" y="422"/>
                </a:lnTo>
                <a:lnTo>
                  <a:pt x="637" y="464"/>
                </a:lnTo>
                <a:lnTo>
                  <a:pt x="625" y="527"/>
                </a:lnTo>
                <a:lnTo>
                  <a:pt x="626" y="562"/>
                </a:lnTo>
                <a:lnTo>
                  <a:pt x="638" y="597"/>
                </a:lnTo>
                <a:lnTo>
                  <a:pt x="657" y="612"/>
                </a:lnTo>
                <a:lnTo>
                  <a:pt x="663" y="628"/>
                </a:lnTo>
                <a:lnTo>
                  <a:pt x="621" y="633"/>
                </a:lnTo>
                <a:lnTo>
                  <a:pt x="585" y="650"/>
                </a:lnTo>
                <a:lnTo>
                  <a:pt x="558" y="690"/>
                </a:lnTo>
                <a:lnTo>
                  <a:pt x="543" y="716"/>
                </a:lnTo>
                <a:lnTo>
                  <a:pt x="550" y="737"/>
                </a:lnTo>
                <a:lnTo>
                  <a:pt x="546" y="740"/>
                </a:lnTo>
                <a:lnTo>
                  <a:pt x="535" y="737"/>
                </a:lnTo>
                <a:lnTo>
                  <a:pt x="478" y="723"/>
                </a:lnTo>
                <a:lnTo>
                  <a:pt x="416" y="745"/>
                </a:lnTo>
                <a:lnTo>
                  <a:pt x="341" y="714"/>
                </a:lnTo>
                <a:lnTo>
                  <a:pt x="330" y="633"/>
                </a:lnTo>
                <a:lnTo>
                  <a:pt x="292" y="636"/>
                </a:lnTo>
                <a:lnTo>
                  <a:pt x="301" y="587"/>
                </a:lnTo>
                <a:lnTo>
                  <a:pt x="47" y="427"/>
                </a:lnTo>
                <a:lnTo>
                  <a:pt x="0" y="318"/>
                </a:lnTo>
                <a:lnTo>
                  <a:pt x="117" y="259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08520" y="3790800"/>
            <a:ext cx="654120" cy="379440"/>
          </a:xfrm>
          <a:custGeom>
            <a:avLst/>
            <a:gdLst/>
            <a:ahLst/>
            <a:rect l="l" t="t" r="r" b="b"/>
            <a:pathLst>
              <a:path w="1701" h="1501">
                <a:moveTo>
                  <a:pt x="188" y="24"/>
                </a:moveTo>
                <a:lnTo>
                  <a:pt x="383" y="0"/>
                </a:lnTo>
                <a:lnTo>
                  <a:pt x="640" y="160"/>
                </a:lnTo>
                <a:lnTo>
                  <a:pt x="629" y="208"/>
                </a:lnTo>
                <a:lnTo>
                  <a:pt x="668" y="207"/>
                </a:lnTo>
                <a:lnTo>
                  <a:pt x="681" y="286"/>
                </a:lnTo>
                <a:lnTo>
                  <a:pt x="808" y="342"/>
                </a:lnTo>
                <a:lnTo>
                  <a:pt x="892" y="310"/>
                </a:lnTo>
                <a:lnTo>
                  <a:pt x="972" y="322"/>
                </a:lnTo>
                <a:lnTo>
                  <a:pt x="989" y="342"/>
                </a:lnTo>
                <a:lnTo>
                  <a:pt x="1031" y="342"/>
                </a:lnTo>
                <a:lnTo>
                  <a:pt x="1051" y="377"/>
                </a:lnTo>
                <a:lnTo>
                  <a:pt x="1135" y="462"/>
                </a:lnTo>
                <a:lnTo>
                  <a:pt x="1171" y="511"/>
                </a:lnTo>
                <a:lnTo>
                  <a:pt x="1190" y="553"/>
                </a:lnTo>
                <a:lnTo>
                  <a:pt x="1202" y="602"/>
                </a:lnTo>
                <a:lnTo>
                  <a:pt x="1239" y="639"/>
                </a:lnTo>
                <a:lnTo>
                  <a:pt x="1250" y="693"/>
                </a:lnTo>
                <a:lnTo>
                  <a:pt x="1293" y="710"/>
                </a:lnTo>
                <a:lnTo>
                  <a:pt x="1286" y="771"/>
                </a:lnTo>
                <a:lnTo>
                  <a:pt x="1293" y="820"/>
                </a:lnTo>
                <a:lnTo>
                  <a:pt x="1404" y="818"/>
                </a:lnTo>
                <a:lnTo>
                  <a:pt x="1515" y="774"/>
                </a:lnTo>
                <a:lnTo>
                  <a:pt x="1640" y="729"/>
                </a:lnTo>
                <a:lnTo>
                  <a:pt x="1669" y="769"/>
                </a:lnTo>
                <a:lnTo>
                  <a:pt x="1697" y="818"/>
                </a:lnTo>
                <a:lnTo>
                  <a:pt x="1701" y="868"/>
                </a:lnTo>
                <a:lnTo>
                  <a:pt x="1683" y="921"/>
                </a:lnTo>
                <a:lnTo>
                  <a:pt x="1656" y="975"/>
                </a:lnTo>
                <a:lnTo>
                  <a:pt x="1619" y="1042"/>
                </a:lnTo>
                <a:lnTo>
                  <a:pt x="1572" y="1087"/>
                </a:lnTo>
                <a:lnTo>
                  <a:pt x="1502" y="1137"/>
                </a:lnTo>
                <a:lnTo>
                  <a:pt x="1438" y="1165"/>
                </a:lnTo>
                <a:lnTo>
                  <a:pt x="1380" y="1185"/>
                </a:lnTo>
                <a:lnTo>
                  <a:pt x="1178" y="1263"/>
                </a:lnTo>
                <a:lnTo>
                  <a:pt x="946" y="1501"/>
                </a:lnTo>
                <a:lnTo>
                  <a:pt x="851" y="1356"/>
                </a:lnTo>
                <a:lnTo>
                  <a:pt x="802" y="1365"/>
                </a:lnTo>
                <a:lnTo>
                  <a:pt x="775" y="1342"/>
                </a:lnTo>
                <a:lnTo>
                  <a:pt x="752" y="1349"/>
                </a:lnTo>
                <a:lnTo>
                  <a:pt x="759" y="1383"/>
                </a:lnTo>
                <a:lnTo>
                  <a:pt x="751" y="1416"/>
                </a:lnTo>
                <a:lnTo>
                  <a:pt x="730" y="1435"/>
                </a:lnTo>
                <a:lnTo>
                  <a:pt x="693" y="1442"/>
                </a:lnTo>
                <a:lnTo>
                  <a:pt x="650" y="1313"/>
                </a:lnTo>
                <a:lnTo>
                  <a:pt x="561" y="1165"/>
                </a:lnTo>
                <a:lnTo>
                  <a:pt x="451" y="1050"/>
                </a:lnTo>
                <a:lnTo>
                  <a:pt x="414" y="1057"/>
                </a:lnTo>
                <a:lnTo>
                  <a:pt x="383" y="1026"/>
                </a:lnTo>
                <a:lnTo>
                  <a:pt x="352" y="984"/>
                </a:lnTo>
                <a:lnTo>
                  <a:pt x="352" y="911"/>
                </a:lnTo>
                <a:lnTo>
                  <a:pt x="315" y="893"/>
                </a:lnTo>
                <a:lnTo>
                  <a:pt x="335" y="856"/>
                </a:lnTo>
                <a:lnTo>
                  <a:pt x="323" y="833"/>
                </a:lnTo>
                <a:lnTo>
                  <a:pt x="272" y="710"/>
                </a:lnTo>
                <a:lnTo>
                  <a:pt x="218" y="687"/>
                </a:lnTo>
                <a:lnTo>
                  <a:pt x="201" y="639"/>
                </a:lnTo>
                <a:lnTo>
                  <a:pt x="188" y="589"/>
                </a:lnTo>
                <a:lnTo>
                  <a:pt x="114" y="450"/>
                </a:lnTo>
                <a:lnTo>
                  <a:pt x="79" y="414"/>
                </a:lnTo>
                <a:lnTo>
                  <a:pt x="64" y="369"/>
                </a:lnTo>
                <a:lnTo>
                  <a:pt x="39" y="339"/>
                </a:lnTo>
                <a:lnTo>
                  <a:pt x="0" y="334"/>
                </a:lnTo>
                <a:lnTo>
                  <a:pt x="4" y="306"/>
                </a:lnTo>
                <a:lnTo>
                  <a:pt x="12" y="291"/>
                </a:lnTo>
                <a:lnTo>
                  <a:pt x="7" y="277"/>
                </a:lnTo>
                <a:lnTo>
                  <a:pt x="7" y="252"/>
                </a:lnTo>
                <a:lnTo>
                  <a:pt x="13" y="232"/>
                </a:lnTo>
                <a:lnTo>
                  <a:pt x="53" y="236"/>
                </a:lnTo>
                <a:lnTo>
                  <a:pt x="73" y="232"/>
                </a:lnTo>
                <a:lnTo>
                  <a:pt x="115" y="213"/>
                </a:lnTo>
                <a:lnTo>
                  <a:pt x="176" y="219"/>
                </a:lnTo>
                <a:lnTo>
                  <a:pt x="208" y="195"/>
                </a:lnTo>
                <a:lnTo>
                  <a:pt x="246" y="187"/>
                </a:lnTo>
                <a:lnTo>
                  <a:pt x="267" y="170"/>
                </a:lnTo>
                <a:lnTo>
                  <a:pt x="188" y="24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45120" y="3841920"/>
            <a:ext cx="58680" cy="34920"/>
          </a:xfrm>
          <a:custGeom>
            <a:avLst/>
            <a:gdLst/>
            <a:ahLst/>
            <a:rect l="l" t="t" r="r" b="b"/>
            <a:pathLst>
              <a:path w="156" h="142">
                <a:moveTo>
                  <a:pt x="6" y="113"/>
                </a:moveTo>
                <a:lnTo>
                  <a:pt x="0" y="90"/>
                </a:lnTo>
                <a:lnTo>
                  <a:pt x="14" y="61"/>
                </a:lnTo>
                <a:lnTo>
                  <a:pt x="42" y="24"/>
                </a:lnTo>
                <a:lnTo>
                  <a:pt x="82" y="6"/>
                </a:lnTo>
                <a:lnTo>
                  <a:pt x="124" y="0"/>
                </a:lnTo>
                <a:lnTo>
                  <a:pt x="128" y="37"/>
                </a:lnTo>
                <a:lnTo>
                  <a:pt x="138" y="55"/>
                </a:lnTo>
                <a:lnTo>
                  <a:pt x="123" y="67"/>
                </a:lnTo>
                <a:lnTo>
                  <a:pt x="112" y="78"/>
                </a:lnTo>
                <a:lnTo>
                  <a:pt x="123" y="85"/>
                </a:lnTo>
                <a:lnTo>
                  <a:pt x="136" y="85"/>
                </a:lnTo>
                <a:lnTo>
                  <a:pt x="145" y="123"/>
                </a:lnTo>
                <a:lnTo>
                  <a:pt x="156" y="141"/>
                </a:lnTo>
                <a:lnTo>
                  <a:pt x="108" y="142"/>
                </a:lnTo>
                <a:lnTo>
                  <a:pt x="92" y="122"/>
                </a:lnTo>
                <a:lnTo>
                  <a:pt x="21" y="110"/>
                </a:lnTo>
                <a:lnTo>
                  <a:pt x="6" y="113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02440" y="3933720"/>
            <a:ext cx="176040" cy="65160"/>
          </a:xfrm>
          <a:custGeom>
            <a:avLst/>
            <a:gdLst/>
            <a:ahLst/>
            <a:rect l="l" t="t" r="r" b="b"/>
            <a:pathLst>
              <a:path w="459" h="258">
                <a:moveTo>
                  <a:pt x="6" y="143"/>
                </a:moveTo>
                <a:lnTo>
                  <a:pt x="51" y="143"/>
                </a:lnTo>
                <a:lnTo>
                  <a:pt x="100" y="170"/>
                </a:lnTo>
                <a:lnTo>
                  <a:pt x="117" y="156"/>
                </a:lnTo>
                <a:lnTo>
                  <a:pt x="131" y="138"/>
                </a:lnTo>
                <a:lnTo>
                  <a:pt x="155" y="135"/>
                </a:lnTo>
                <a:lnTo>
                  <a:pt x="204" y="151"/>
                </a:lnTo>
                <a:lnTo>
                  <a:pt x="240" y="135"/>
                </a:lnTo>
                <a:lnTo>
                  <a:pt x="278" y="138"/>
                </a:lnTo>
                <a:lnTo>
                  <a:pt x="270" y="115"/>
                </a:lnTo>
                <a:lnTo>
                  <a:pt x="283" y="102"/>
                </a:lnTo>
                <a:lnTo>
                  <a:pt x="324" y="53"/>
                </a:lnTo>
                <a:lnTo>
                  <a:pt x="360" y="28"/>
                </a:lnTo>
                <a:lnTo>
                  <a:pt x="393" y="0"/>
                </a:lnTo>
                <a:lnTo>
                  <a:pt x="405" y="18"/>
                </a:lnTo>
                <a:lnTo>
                  <a:pt x="442" y="6"/>
                </a:lnTo>
                <a:lnTo>
                  <a:pt x="459" y="73"/>
                </a:lnTo>
                <a:lnTo>
                  <a:pt x="429" y="85"/>
                </a:lnTo>
                <a:lnTo>
                  <a:pt x="417" y="60"/>
                </a:lnTo>
                <a:lnTo>
                  <a:pt x="402" y="69"/>
                </a:lnTo>
                <a:lnTo>
                  <a:pt x="404" y="89"/>
                </a:lnTo>
                <a:lnTo>
                  <a:pt x="392" y="99"/>
                </a:lnTo>
                <a:lnTo>
                  <a:pt x="381" y="135"/>
                </a:lnTo>
                <a:lnTo>
                  <a:pt x="355" y="166"/>
                </a:lnTo>
                <a:lnTo>
                  <a:pt x="244" y="205"/>
                </a:lnTo>
                <a:lnTo>
                  <a:pt x="174" y="233"/>
                </a:lnTo>
                <a:lnTo>
                  <a:pt x="115" y="254"/>
                </a:lnTo>
                <a:lnTo>
                  <a:pt x="49" y="258"/>
                </a:lnTo>
                <a:lnTo>
                  <a:pt x="4" y="255"/>
                </a:lnTo>
                <a:lnTo>
                  <a:pt x="0" y="208"/>
                </a:lnTo>
                <a:lnTo>
                  <a:pt x="6" y="143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48240" y="3917880"/>
            <a:ext cx="22320" cy="19080"/>
          </a:xfrm>
          <a:custGeom>
            <a:avLst/>
            <a:gdLst/>
            <a:ahLst/>
            <a:rect l="l" t="t" r="r" b="b"/>
            <a:pathLst>
              <a:path w="60" h="80">
                <a:moveTo>
                  <a:pt x="12" y="62"/>
                </a:moveTo>
                <a:lnTo>
                  <a:pt x="22" y="80"/>
                </a:lnTo>
                <a:lnTo>
                  <a:pt x="60" y="69"/>
                </a:lnTo>
                <a:lnTo>
                  <a:pt x="55" y="17"/>
                </a:lnTo>
                <a:lnTo>
                  <a:pt x="39" y="0"/>
                </a:lnTo>
                <a:lnTo>
                  <a:pt x="16" y="0"/>
                </a:lnTo>
                <a:lnTo>
                  <a:pt x="10" y="8"/>
                </a:lnTo>
                <a:lnTo>
                  <a:pt x="0" y="36"/>
                </a:lnTo>
                <a:lnTo>
                  <a:pt x="12" y="62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62560" y="3948120"/>
            <a:ext cx="223920" cy="184320"/>
          </a:xfrm>
          <a:custGeom>
            <a:avLst/>
            <a:gdLst/>
            <a:ahLst/>
            <a:rect l="l" t="t" r="r" b="b"/>
            <a:pathLst>
              <a:path w="585" h="733">
                <a:moveTo>
                  <a:pt x="301" y="16"/>
                </a:moveTo>
                <a:lnTo>
                  <a:pt x="343" y="42"/>
                </a:lnTo>
                <a:lnTo>
                  <a:pt x="379" y="94"/>
                </a:lnTo>
                <a:lnTo>
                  <a:pt x="446" y="87"/>
                </a:lnTo>
                <a:lnTo>
                  <a:pt x="489" y="106"/>
                </a:lnTo>
                <a:lnTo>
                  <a:pt x="551" y="173"/>
                </a:lnTo>
                <a:lnTo>
                  <a:pt x="567" y="155"/>
                </a:lnTo>
                <a:lnTo>
                  <a:pt x="585" y="155"/>
                </a:lnTo>
                <a:lnTo>
                  <a:pt x="580" y="246"/>
                </a:lnTo>
                <a:lnTo>
                  <a:pt x="551" y="295"/>
                </a:lnTo>
                <a:lnTo>
                  <a:pt x="531" y="368"/>
                </a:lnTo>
                <a:lnTo>
                  <a:pt x="495" y="368"/>
                </a:lnTo>
                <a:lnTo>
                  <a:pt x="477" y="410"/>
                </a:lnTo>
                <a:lnTo>
                  <a:pt x="489" y="471"/>
                </a:lnTo>
                <a:lnTo>
                  <a:pt x="416" y="520"/>
                </a:lnTo>
                <a:lnTo>
                  <a:pt x="411" y="567"/>
                </a:lnTo>
                <a:lnTo>
                  <a:pt x="337" y="598"/>
                </a:lnTo>
                <a:lnTo>
                  <a:pt x="331" y="660"/>
                </a:lnTo>
                <a:lnTo>
                  <a:pt x="277" y="684"/>
                </a:lnTo>
                <a:lnTo>
                  <a:pt x="242" y="684"/>
                </a:lnTo>
                <a:lnTo>
                  <a:pt x="168" y="709"/>
                </a:lnTo>
                <a:lnTo>
                  <a:pt x="125" y="733"/>
                </a:lnTo>
                <a:lnTo>
                  <a:pt x="0" y="540"/>
                </a:lnTo>
                <a:lnTo>
                  <a:pt x="57" y="514"/>
                </a:lnTo>
                <a:lnTo>
                  <a:pt x="98" y="484"/>
                </a:lnTo>
                <a:lnTo>
                  <a:pt x="133" y="459"/>
                </a:lnTo>
                <a:lnTo>
                  <a:pt x="175" y="415"/>
                </a:lnTo>
                <a:lnTo>
                  <a:pt x="207" y="364"/>
                </a:lnTo>
                <a:lnTo>
                  <a:pt x="235" y="308"/>
                </a:lnTo>
                <a:lnTo>
                  <a:pt x="259" y="245"/>
                </a:lnTo>
                <a:lnTo>
                  <a:pt x="253" y="197"/>
                </a:lnTo>
                <a:lnTo>
                  <a:pt x="228" y="146"/>
                </a:lnTo>
                <a:lnTo>
                  <a:pt x="197" y="106"/>
                </a:lnTo>
                <a:lnTo>
                  <a:pt x="220" y="76"/>
                </a:lnTo>
                <a:lnTo>
                  <a:pt x="231" y="41"/>
                </a:lnTo>
                <a:lnTo>
                  <a:pt x="244" y="32"/>
                </a:lnTo>
                <a:lnTo>
                  <a:pt x="242" y="9"/>
                </a:lnTo>
                <a:lnTo>
                  <a:pt x="260" y="0"/>
                </a:lnTo>
                <a:lnTo>
                  <a:pt x="271" y="25"/>
                </a:lnTo>
                <a:lnTo>
                  <a:pt x="301" y="16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4084560"/>
            <a:ext cx="296640" cy="141480"/>
          </a:xfrm>
          <a:custGeom>
            <a:avLst/>
            <a:gdLst/>
            <a:ahLst/>
            <a:rect l="l" t="t" r="r" b="b"/>
            <a:pathLst>
              <a:path w="776" h="557">
                <a:moveTo>
                  <a:pt x="651" y="0"/>
                </a:moveTo>
                <a:lnTo>
                  <a:pt x="565" y="29"/>
                </a:lnTo>
                <a:lnTo>
                  <a:pt x="386" y="99"/>
                </a:lnTo>
                <a:lnTo>
                  <a:pt x="160" y="335"/>
                </a:lnTo>
                <a:lnTo>
                  <a:pt x="133" y="355"/>
                </a:lnTo>
                <a:lnTo>
                  <a:pt x="149" y="387"/>
                </a:lnTo>
                <a:lnTo>
                  <a:pt x="182" y="368"/>
                </a:lnTo>
                <a:lnTo>
                  <a:pt x="182" y="417"/>
                </a:lnTo>
                <a:lnTo>
                  <a:pt x="109" y="436"/>
                </a:lnTo>
                <a:lnTo>
                  <a:pt x="78" y="490"/>
                </a:lnTo>
                <a:lnTo>
                  <a:pt x="0" y="513"/>
                </a:lnTo>
                <a:lnTo>
                  <a:pt x="11" y="538"/>
                </a:lnTo>
                <a:lnTo>
                  <a:pt x="36" y="546"/>
                </a:lnTo>
                <a:lnTo>
                  <a:pt x="78" y="557"/>
                </a:lnTo>
                <a:lnTo>
                  <a:pt x="156" y="526"/>
                </a:lnTo>
                <a:lnTo>
                  <a:pt x="197" y="493"/>
                </a:lnTo>
                <a:lnTo>
                  <a:pt x="229" y="453"/>
                </a:lnTo>
                <a:lnTo>
                  <a:pt x="265" y="453"/>
                </a:lnTo>
                <a:lnTo>
                  <a:pt x="303" y="461"/>
                </a:lnTo>
                <a:lnTo>
                  <a:pt x="352" y="445"/>
                </a:lnTo>
                <a:lnTo>
                  <a:pt x="393" y="417"/>
                </a:lnTo>
                <a:lnTo>
                  <a:pt x="442" y="424"/>
                </a:lnTo>
                <a:lnTo>
                  <a:pt x="496" y="363"/>
                </a:lnTo>
                <a:lnTo>
                  <a:pt x="567" y="341"/>
                </a:lnTo>
                <a:lnTo>
                  <a:pt x="618" y="326"/>
                </a:lnTo>
                <a:lnTo>
                  <a:pt x="673" y="301"/>
                </a:lnTo>
                <a:lnTo>
                  <a:pt x="710" y="301"/>
                </a:lnTo>
                <a:lnTo>
                  <a:pt x="739" y="290"/>
                </a:lnTo>
                <a:lnTo>
                  <a:pt x="738" y="253"/>
                </a:lnTo>
                <a:lnTo>
                  <a:pt x="745" y="219"/>
                </a:lnTo>
                <a:lnTo>
                  <a:pt x="776" y="193"/>
                </a:lnTo>
                <a:lnTo>
                  <a:pt x="651" y="0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72040" y="4129200"/>
            <a:ext cx="109800" cy="85680"/>
          </a:xfrm>
          <a:custGeom>
            <a:avLst/>
            <a:gdLst/>
            <a:ahLst/>
            <a:rect l="l" t="t" r="r" b="b"/>
            <a:pathLst>
              <a:path w="287" h="336">
                <a:moveTo>
                  <a:pt x="7" y="99"/>
                </a:moveTo>
                <a:lnTo>
                  <a:pt x="42" y="94"/>
                </a:lnTo>
                <a:lnTo>
                  <a:pt x="64" y="74"/>
                </a:lnTo>
                <a:lnTo>
                  <a:pt x="70" y="38"/>
                </a:lnTo>
                <a:lnTo>
                  <a:pt x="64" y="8"/>
                </a:lnTo>
                <a:lnTo>
                  <a:pt x="90" y="0"/>
                </a:lnTo>
                <a:lnTo>
                  <a:pt x="118" y="24"/>
                </a:lnTo>
                <a:lnTo>
                  <a:pt x="167" y="13"/>
                </a:lnTo>
                <a:lnTo>
                  <a:pt x="262" y="160"/>
                </a:lnTo>
                <a:lnTo>
                  <a:pt x="237" y="179"/>
                </a:lnTo>
                <a:lnTo>
                  <a:pt x="253" y="206"/>
                </a:lnTo>
                <a:lnTo>
                  <a:pt x="287" y="190"/>
                </a:lnTo>
                <a:lnTo>
                  <a:pt x="287" y="239"/>
                </a:lnTo>
                <a:lnTo>
                  <a:pt x="214" y="259"/>
                </a:lnTo>
                <a:lnTo>
                  <a:pt x="182" y="313"/>
                </a:lnTo>
                <a:lnTo>
                  <a:pt x="104" y="336"/>
                </a:lnTo>
                <a:lnTo>
                  <a:pt x="75" y="321"/>
                </a:lnTo>
                <a:lnTo>
                  <a:pt x="56" y="291"/>
                </a:lnTo>
                <a:lnTo>
                  <a:pt x="64" y="257"/>
                </a:lnTo>
                <a:lnTo>
                  <a:pt x="33" y="231"/>
                </a:lnTo>
                <a:lnTo>
                  <a:pt x="17" y="204"/>
                </a:lnTo>
                <a:lnTo>
                  <a:pt x="20" y="172"/>
                </a:lnTo>
                <a:lnTo>
                  <a:pt x="5" y="151"/>
                </a:lnTo>
                <a:lnTo>
                  <a:pt x="0" y="123"/>
                </a:lnTo>
                <a:lnTo>
                  <a:pt x="7" y="99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88040" y="3922560"/>
            <a:ext cx="34920" cy="47880"/>
          </a:xfrm>
          <a:custGeom>
            <a:avLst/>
            <a:gdLst/>
            <a:ahLst/>
            <a:rect l="l" t="t" r="r" b="b"/>
            <a:pathLst>
              <a:path w="90" h="189">
                <a:moveTo>
                  <a:pt x="81" y="189"/>
                </a:moveTo>
                <a:lnTo>
                  <a:pt x="80" y="158"/>
                </a:lnTo>
                <a:lnTo>
                  <a:pt x="90" y="128"/>
                </a:lnTo>
                <a:lnTo>
                  <a:pt x="69" y="79"/>
                </a:lnTo>
                <a:lnTo>
                  <a:pt x="60" y="43"/>
                </a:lnTo>
                <a:lnTo>
                  <a:pt x="41" y="0"/>
                </a:lnTo>
                <a:lnTo>
                  <a:pt x="26" y="0"/>
                </a:lnTo>
                <a:lnTo>
                  <a:pt x="6" y="34"/>
                </a:lnTo>
                <a:lnTo>
                  <a:pt x="0" y="86"/>
                </a:lnTo>
                <a:lnTo>
                  <a:pt x="16" y="133"/>
                </a:lnTo>
                <a:lnTo>
                  <a:pt x="2" y="170"/>
                </a:lnTo>
                <a:lnTo>
                  <a:pt x="44" y="187"/>
                </a:lnTo>
                <a:lnTo>
                  <a:pt x="81" y="189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5440" y="3914640"/>
            <a:ext cx="11160" cy="7920"/>
          </a:xfrm>
          <a:custGeom>
            <a:avLst/>
            <a:gdLst/>
            <a:ahLst/>
            <a:rect l="l" t="t" r="r" b="b"/>
            <a:pathLst>
              <a:path w="31" h="37">
                <a:moveTo>
                  <a:pt x="15" y="0"/>
                </a:moveTo>
                <a:lnTo>
                  <a:pt x="2" y="2"/>
                </a:lnTo>
                <a:lnTo>
                  <a:pt x="0" y="16"/>
                </a:lnTo>
                <a:lnTo>
                  <a:pt x="3" y="27"/>
                </a:lnTo>
                <a:lnTo>
                  <a:pt x="12" y="37"/>
                </a:lnTo>
                <a:lnTo>
                  <a:pt x="27" y="35"/>
                </a:lnTo>
                <a:lnTo>
                  <a:pt x="31" y="25"/>
                </a:lnTo>
                <a:lnTo>
                  <a:pt x="15" y="0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96160" y="3863880"/>
            <a:ext cx="48960" cy="12960"/>
          </a:xfrm>
          <a:custGeom>
            <a:avLst/>
            <a:gdLst/>
            <a:ahLst/>
            <a:rect l="l" t="t" r="r" b="b"/>
            <a:pathLst>
              <a:path w="132" h="47">
                <a:moveTo>
                  <a:pt x="132" y="19"/>
                </a:moveTo>
                <a:lnTo>
                  <a:pt x="58" y="47"/>
                </a:lnTo>
                <a:lnTo>
                  <a:pt x="0" y="24"/>
                </a:lnTo>
                <a:lnTo>
                  <a:pt x="64" y="0"/>
                </a:lnTo>
                <a:lnTo>
                  <a:pt x="132" y="19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05640" y="3763800"/>
            <a:ext cx="150480" cy="86040"/>
          </a:xfrm>
          <a:custGeom>
            <a:avLst/>
            <a:gdLst/>
            <a:ahLst/>
            <a:rect l="l" t="t" r="r" b="b"/>
            <a:pathLst>
              <a:path w="389" h="344">
                <a:moveTo>
                  <a:pt x="0" y="339"/>
                </a:moveTo>
                <a:lnTo>
                  <a:pt x="21" y="339"/>
                </a:lnTo>
                <a:lnTo>
                  <a:pt x="52" y="344"/>
                </a:lnTo>
                <a:lnTo>
                  <a:pt x="78" y="341"/>
                </a:lnTo>
                <a:lnTo>
                  <a:pt x="120" y="323"/>
                </a:lnTo>
                <a:lnTo>
                  <a:pt x="182" y="330"/>
                </a:lnTo>
                <a:lnTo>
                  <a:pt x="216" y="303"/>
                </a:lnTo>
                <a:lnTo>
                  <a:pt x="253" y="294"/>
                </a:lnTo>
                <a:lnTo>
                  <a:pt x="276" y="278"/>
                </a:lnTo>
                <a:lnTo>
                  <a:pt x="195" y="131"/>
                </a:lnTo>
                <a:lnTo>
                  <a:pt x="389" y="107"/>
                </a:lnTo>
                <a:lnTo>
                  <a:pt x="343" y="0"/>
                </a:lnTo>
                <a:lnTo>
                  <a:pt x="236" y="74"/>
                </a:lnTo>
                <a:lnTo>
                  <a:pt x="128" y="14"/>
                </a:lnTo>
                <a:lnTo>
                  <a:pt x="129" y="33"/>
                </a:lnTo>
                <a:lnTo>
                  <a:pt x="83" y="33"/>
                </a:lnTo>
                <a:lnTo>
                  <a:pt x="62" y="51"/>
                </a:lnTo>
                <a:lnTo>
                  <a:pt x="51" y="77"/>
                </a:lnTo>
                <a:lnTo>
                  <a:pt x="63" y="96"/>
                </a:lnTo>
                <a:lnTo>
                  <a:pt x="35" y="105"/>
                </a:lnTo>
                <a:lnTo>
                  <a:pt x="30" y="123"/>
                </a:lnTo>
                <a:lnTo>
                  <a:pt x="25" y="150"/>
                </a:lnTo>
                <a:lnTo>
                  <a:pt x="50" y="156"/>
                </a:lnTo>
                <a:lnTo>
                  <a:pt x="64" y="156"/>
                </a:lnTo>
                <a:lnTo>
                  <a:pt x="68" y="175"/>
                </a:lnTo>
                <a:lnTo>
                  <a:pt x="54" y="193"/>
                </a:lnTo>
                <a:lnTo>
                  <a:pt x="43" y="241"/>
                </a:lnTo>
                <a:lnTo>
                  <a:pt x="51" y="281"/>
                </a:lnTo>
                <a:lnTo>
                  <a:pt x="35" y="312"/>
                </a:lnTo>
                <a:lnTo>
                  <a:pt x="0" y="339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89440" y="3753000"/>
            <a:ext cx="54000" cy="95040"/>
          </a:xfrm>
          <a:custGeom>
            <a:avLst/>
            <a:gdLst/>
            <a:ahLst/>
            <a:rect l="l" t="t" r="r" b="b"/>
            <a:pathLst>
              <a:path w="140" h="377">
                <a:moveTo>
                  <a:pt x="102" y="0"/>
                </a:moveTo>
                <a:lnTo>
                  <a:pt x="82" y="28"/>
                </a:lnTo>
                <a:lnTo>
                  <a:pt x="67" y="52"/>
                </a:lnTo>
                <a:lnTo>
                  <a:pt x="58" y="106"/>
                </a:lnTo>
                <a:lnTo>
                  <a:pt x="37" y="138"/>
                </a:lnTo>
                <a:lnTo>
                  <a:pt x="17" y="155"/>
                </a:lnTo>
                <a:lnTo>
                  <a:pt x="0" y="181"/>
                </a:lnTo>
                <a:lnTo>
                  <a:pt x="5" y="214"/>
                </a:lnTo>
                <a:lnTo>
                  <a:pt x="10" y="250"/>
                </a:lnTo>
                <a:lnTo>
                  <a:pt x="22" y="304"/>
                </a:lnTo>
                <a:lnTo>
                  <a:pt x="34" y="332"/>
                </a:lnTo>
                <a:lnTo>
                  <a:pt x="36" y="377"/>
                </a:lnTo>
                <a:lnTo>
                  <a:pt x="45" y="376"/>
                </a:lnTo>
                <a:lnTo>
                  <a:pt x="77" y="352"/>
                </a:lnTo>
                <a:lnTo>
                  <a:pt x="92" y="319"/>
                </a:lnTo>
                <a:lnTo>
                  <a:pt x="86" y="279"/>
                </a:lnTo>
                <a:lnTo>
                  <a:pt x="95" y="234"/>
                </a:lnTo>
                <a:lnTo>
                  <a:pt x="110" y="212"/>
                </a:lnTo>
                <a:lnTo>
                  <a:pt x="107" y="194"/>
                </a:lnTo>
                <a:lnTo>
                  <a:pt x="85" y="192"/>
                </a:lnTo>
                <a:lnTo>
                  <a:pt x="67" y="186"/>
                </a:lnTo>
                <a:lnTo>
                  <a:pt x="70" y="160"/>
                </a:lnTo>
                <a:lnTo>
                  <a:pt x="78" y="143"/>
                </a:lnTo>
                <a:lnTo>
                  <a:pt x="106" y="136"/>
                </a:lnTo>
                <a:lnTo>
                  <a:pt x="94" y="114"/>
                </a:lnTo>
                <a:lnTo>
                  <a:pt x="103" y="89"/>
                </a:lnTo>
                <a:lnTo>
                  <a:pt x="128" y="69"/>
                </a:lnTo>
                <a:lnTo>
                  <a:pt x="124" y="40"/>
                </a:lnTo>
                <a:lnTo>
                  <a:pt x="140" y="9"/>
                </a:lnTo>
                <a:lnTo>
                  <a:pt x="102" y="0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27600" y="3727440"/>
            <a:ext cx="42840" cy="2844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45" y="0"/>
                </a:moveTo>
                <a:lnTo>
                  <a:pt x="103" y="8"/>
                </a:lnTo>
                <a:lnTo>
                  <a:pt x="114" y="17"/>
                </a:lnTo>
                <a:lnTo>
                  <a:pt x="100" y="39"/>
                </a:lnTo>
                <a:lnTo>
                  <a:pt x="69" y="63"/>
                </a:lnTo>
                <a:lnTo>
                  <a:pt x="50" y="91"/>
                </a:lnTo>
                <a:lnTo>
                  <a:pt x="38" y="113"/>
                </a:lnTo>
                <a:lnTo>
                  <a:pt x="0" y="107"/>
                </a:lnTo>
                <a:lnTo>
                  <a:pt x="7" y="67"/>
                </a:lnTo>
                <a:lnTo>
                  <a:pt x="34" y="31"/>
                </a:lnTo>
                <a:lnTo>
                  <a:pt x="45" y="0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18160" y="3784680"/>
            <a:ext cx="152280" cy="230040"/>
          </a:xfrm>
          <a:custGeom>
            <a:avLst/>
            <a:gdLst/>
            <a:ahLst/>
            <a:rect l="l" t="t" r="r" b="b"/>
            <a:pathLst>
              <a:path w="401" h="909">
                <a:moveTo>
                  <a:pt x="191" y="59"/>
                </a:moveTo>
                <a:lnTo>
                  <a:pt x="199" y="90"/>
                </a:lnTo>
                <a:lnTo>
                  <a:pt x="203" y="127"/>
                </a:lnTo>
                <a:lnTo>
                  <a:pt x="212" y="172"/>
                </a:lnTo>
                <a:lnTo>
                  <a:pt x="227" y="210"/>
                </a:lnTo>
                <a:lnTo>
                  <a:pt x="228" y="252"/>
                </a:lnTo>
                <a:lnTo>
                  <a:pt x="220" y="268"/>
                </a:lnTo>
                <a:lnTo>
                  <a:pt x="219" y="301"/>
                </a:lnTo>
                <a:lnTo>
                  <a:pt x="194" y="365"/>
                </a:lnTo>
                <a:lnTo>
                  <a:pt x="163" y="305"/>
                </a:lnTo>
                <a:lnTo>
                  <a:pt x="140" y="284"/>
                </a:lnTo>
                <a:lnTo>
                  <a:pt x="129" y="239"/>
                </a:lnTo>
                <a:lnTo>
                  <a:pt x="111" y="213"/>
                </a:lnTo>
                <a:lnTo>
                  <a:pt x="109" y="162"/>
                </a:lnTo>
                <a:lnTo>
                  <a:pt x="99" y="158"/>
                </a:lnTo>
                <a:lnTo>
                  <a:pt x="93" y="182"/>
                </a:lnTo>
                <a:lnTo>
                  <a:pt x="76" y="189"/>
                </a:lnTo>
                <a:lnTo>
                  <a:pt x="64" y="197"/>
                </a:lnTo>
                <a:lnTo>
                  <a:pt x="64" y="211"/>
                </a:lnTo>
                <a:lnTo>
                  <a:pt x="87" y="236"/>
                </a:lnTo>
                <a:lnTo>
                  <a:pt x="97" y="272"/>
                </a:lnTo>
                <a:lnTo>
                  <a:pt x="165" y="365"/>
                </a:lnTo>
                <a:lnTo>
                  <a:pt x="182" y="454"/>
                </a:lnTo>
                <a:lnTo>
                  <a:pt x="236" y="607"/>
                </a:lnTo>
                <a:lnTo>
                  <a:pt x="280" y="679"/>
                </a:lnTo>
                <a:lnTo>
                  <a:pt x="292" y="764"/>
                </a:lnTo>
                <a:lnTo>
                  <a:pt x="308" y="800"/>
                </a:lnTo>
                <a:lnTo>
                  <a:pt x="334" y="831"/>
                </a:lnTo>
                <a:lnTo>
                  <a:pt x="368" y="851"/>
                </a:lnTo>
                <a:lnTo>
                  <a:pt x="401" y="879"/>
                </a:lnTo>
                <a:lnTo>
                  <a:pt x="401" y="909"/>
                </a:lnTo>
                <a:lnTo>
                  <a:pt x="165" y="880"/>
                </a:lnTo>
                <a:lnTo>
                  <a:pt x="0" y="831"/>
                </a:lnTo>
                <a:lnTo>
                  <a:pt x="0" y="5"/>
                </a:lnTo>
                <a:lnTo>
                  <a:pt x="33" y="0"/>
                </a:lnTo>
                <a:lnTo>
                  <a:pt x="60" y="5"/>
                </a:lnTo>
                <a:lnTo>
                  <a:pt x="76" y="12"/>
                </a:lnTo>
                <a:lnTo>
                  <a:pt x="89" y="31"/>
                </a:lnTo>
                <a:lnTo>
                  <a:pt x="50" y="23"/>
                </a:lnTo>
                <a:lnTo>
                  <a:pt x="50" y="42"/>
                </a:lnTo>
                <a:lnTo>
                  <a:pt x="71" y="47"/>
                </a:lnTo>
                <a:lnTo>
                  <a:pt x="86" y="63"/>
                </a:lnTo>
                <a:lnTo>
                  <a:pt x="103" y="54"/>
                </a:lnTo>
                <a:lnTo>
                  <a:pt x="115" y="54"/>
                </a:lnTo>
                <a:lnTo>
                  <a:pt x="136" y="54"/>
                </a:lnTo>
                <a:lnTo>
                  <a:pt x="160" y="46"/>
                </a:lnTo>
                <a:lnTo>
                  <a:pt x="191" y="59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18160" y="3995640"/>
            <a:ext cx="216000" cy="298440"/>
          </a:xfrm>
          <a:custGeom>
            <a:avLst/>
            <a:gdLst/>
            <a:ahLst/>
            <a:rect l="l" t="t" r="r" b="b"/>
            <a:pathLst>
              <a:path w="563" h="1180">
                <a:moveTo>
                  <a:pt x="398" y="69"/>
                </a:moveTo>
                <a:lnTo>
                  <a:pt x="448" y="151"/>
                </a:lnTo>
                <a:lnTo>
                  <a:pt x="436" y="188"/>
                </a:lnTo>
                <a:lnTo>
                  <a:pt x="443" y="303"/>
                </a:lnTo>
                <a:lnTo>
                  <a:pt x="460" y="345"/>
                </a:lnTo>
                <a:lnTo>
                  <a:pt x="527" y="370"/>
                </a:lnTo>
                <a:lnTo>
                  <a:pt x="558" y="406"/>
                </a:lnTo>
                <a:lnTo>
                  <a:pt x="563" y="448"/>
                </a:lnTo>
                <a:lnTo>
                  <a:pt x="530" y="456"/>
                </a:lnTo>
                <a:lnTo>
                  <a:pt x="492" y="441"/>
                </a:lnTo>
                <a:lnTo>
                  <a:pt x="490" y="489"/>
                </a:lnTo>
                <a:lnTo>
                  <a:pt x="486" y="518"/>
                </a:lnTo>
                <a:lnTo>
                  <a:pt x="457" y="572"/>
                </a:lnTo>
                <a:lnTo>
                  <a:pt x="427" y="607"/>
                </a:lnTo>
                <a:lnTo>
                  <a:pt x="439" y="640"/>
                </a:lnTo>
                <a:lnTo>
                  <a:pt x="443" y="674"/>
                </a:lnTo>
                <a:lnTo>
                  <a:pt x="423" y="723"/>
                </a:lnTo>
                <a:lnTo>
                  <a:pt x="418" y="809"/>
                </a:lnTo>
                <a:lnTo>
                  <a:pt x="369" y="851"/>
                </a:lnTo>
                <a:lnTo>
                  <a:pt x="358" y="948"/>
                </a:lnTo>
                <a:lnTo>
                  <a:pt x="333" y="1002"/>
                </a:lnTo>
                <a:lnTo>
                  <a:pt x="296" y="978"/>
                </a:lnTo>
                <a:lnTo>
                  <a:pt x="284" y="1141"/>
                </a:lnTo>
                <a:lnTo>
                  <a:pt x="248" y="1112"/>
                </a:lnTo>
                <a:lnTo>
                  <a:pt x="235" y="1180"/>
                </a:lnTo>
                <a:lnTo>
                  <a:pt x="3" y="1179"/>
                </a:lnTo>
                <a:lnTo>
                  <a:pt x="0" y="0"/>
                </a:lnTo>
                <a:lnTo>
                  <a:pt x="161" y="40"/>
                </a:lnTo>
                <a:lnTo>
                  <a:pt x="398" y="69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07080" y="4106880"/>
            <a:ext cx="358920" cy="189000"/>
          </a:xfrm>
          <a:custGeom>
            <a:avLst/>
            <a:gdLst/>
            <a:ahLst/>
            <a:rect l="l" t="t" r="r" b="b"/>
            <a:pathLst>
              <a:path w="936" h="746">
                <a:moveTo>
                  <a:pt x="329" y="9"/>
                </a:moveTo>
                <a:lnTo>
                  <a:pt x="359" y="52"/>
                </a:lnTo>
                <a:lnTo>
                  <a:pt x="379" y="111"/>
                </a:lnTo>
                <a:lnTo>
                  <a:pt x="421" y="191"/>
                </a:lnTo>
                <a:lnTo>
                  <a:pt x="457" y="245"/>
                </a:lnTo>
                <a:lnTo>
                  <a:pt x="464" y="202"/>
                </a:lnTo>
                <a:lnTo>
                  <a:pt x="485" y="208"/>
                </a:lnTo>
                <a:lnTo>
                  <a:pt x="488" y="238"/>
                </a:lnTo>
                <a:lnTo>
                  <a:pt x="514" y="249"/>
                </a:lnTo>
                <a:lnTo>
                  <a:pt x="548" y="250"/>
                </a:lnTo>
                <a:lnTo>
                  <a:pt x="569" y="276"/>
                </a:lnTo>
                <a:lnTo>
                  <a:pt x="609" y="306"/>
                </a:lnTo>
                <a:lnTo>
                  <a:pt x="636" y="344"/>
                </a:lnTo>
                <a:lnTo>
                  <a:pt x="694" y="390"/>
                </a:lnTo>
                <a:lnTo>
                  <a:pt x="736" y="432"/>
                </a:lnTo>
                <a:lnTo>
                  <a:pt x="751" y="466"/>
                </a:lnTo>
                <a:lnTo>
                  <a:pt x="741" y="484"/>
                </a:lnTo>
                <a:lnTo>
                  <a:pt x="711" y="489"/>
                </a:lnTo>
                <a:lnTo>
                  <a:pt x="700" y="514"/>
                </a:lnTo>
                <a:lnTo>
                  <a:pt x="673" y="533"/>
                </a:lnTo>
                <a:lnTo>
                  <a:pt x="690" y="585"/>
                </a:lnTo>
                <a:lnTo>
                  <a:pt x="773" y="596"/>
                </a:lnTo>
                <a:lnTo>
                  <a:pt x="789" y="620"/>
                </a:lnTo>
                <a:lnTo>
                  <a:pt x="840" y="651"/>
                </a:lnTo>
                <a:lnTo>
                  <a:pt x="893" y="669"/>
                </a:lnTo>
                <a:lnTo>
                  <a:pt x="875" y="693"/>
                </a:lnTo>
                <a:lnTo>
                  <a:pt x="936" y="746"/>
                </a:lnTo>
                <a:lnTo>
                  <a:pt x="0" y="746"/>
                </a:lnTo>
                <a:lnTo>
                  <a:pt x="12" y="670"/>
                </a:lnTo>
                <a:lnTo>
                  <a:pt x="50" y="705"/>
                </a:lnTo>
                <a:lnTo>
                  <a:pt x="61" y="538"/>
                </a:lnTo>
                <a:lnTo>
                  <a:pt x="99" y="565"/>
                </a:lnTo>
                <a:lnTo>
                  <a:pt x="120" y="513"/>
                </a:lnTo>
                <a:lnTo>
                  <a:pt x="135" y="414"/>
                </a:lnTo>
                <a:lnTo>
                  <a:pt x="184" y="373"/>
                </a:lnTo>
                <a:lnTo>
                  <a:pt x="184" y="321"/>
                </a:lnTo>
                <a:lnTo>
                  <a:pt x="186" y="287"/>
                </a:lnTo>
                <a:lnTo>
                  <a:pt x="206" y="238"/>
                </a:lnTo>
                <a:lnTo>
                  <a:pt x="203" y="206"/>
                </a:lnTo>
                <a:lnTo>
                  <a:pt x="191" y="169"/>
                </a:lnTo>
                <a:lnTo>
                  <a:pt x="222" y="134"/>
                </a:lnTo>
                <a:lnTo>
                  <a:pt x="251" y="79"/>
                </a:lnTo>
                <a:lnTo>
                  <a:pt x="254" y="50"/>
                </a:lnTo>
                <a:lnTo>
                  <a:pt x="256" y="0"/>
                </a:lnTo>
                <a:lnTo>
                  <a:pt x="299" y="19"/>
                </a:lnTo>
                <a:lnTo>
                  <a:pt x="329" y="9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65920" y="4224240"/>
            <a:ext cx="58680" cy="33480"/>
          </a:xfrm>
          <a:custGeom>
            <a:avLst/>
            <a:gdLst/>
            <a:ahLst/>
            <a:rect l="l" t="t" r="r" b="b"/>
            <a:pathLst>
              <a:path w="156" h="133">
                <a:moveTo>
                  <a:pt x="81" y="0"/>
                </a:moveTo>
                <a:lnTo>
                  <a:pt x="71" y="17"/>
                </a:lnTo>
                <a:lnTo>
                  <a:pt x="38" y="22"/>
                </a:lnTo>
                <a:lnTo>
                  <a:pt x="30" y="46"/>
                </a:lnTo>
                <a:lnTo>
                  <a:pt x="0" y="67"/>
                </a:lnTo>
                <a:lnTo>
                  <a:pt x="18" y="119"/>
                </a:lnTo>
                <a:lnTo>
                  <a:pt x="102" y="133"/>
                </a:lnTo>
                <a:lnTo>
                  <a:pt x="125" y="109"/>
                </a:lnTo>
                <a:lnTo>
                  <a:pt x="156" y="96"/>
                </a:lnTo>
                <a:lnTo>
                  <a:pt x="135" y="78"/>
                </a:lnTo>
                <a:lnTo>
                  <a:pt x="115" y="83"/>
                </a:lnTo>
                <a:lnTo>
                  <a:pt x="111" y="78"/>
                </a:lnTo>
                <a:lnTo>
                  <a:pt x="124" y="46"/>
                </a:lnTo>
                <a:lnTo>
                  <a:pt x="111" y="14"/>
                </a:lnTo>
                <a:lnTo>
                  <a:pt x="81" y="0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59400" y="4214880"/>
            <a:ext cx="34920" cy="7920"/>
          </a:xfrm>
          <a:custGeom>
            <a:avLst/>
            <a:gdLst/>
            <a:ahLst/>
            <a:rect l="l" t="t" r="r" b="b"/>
            <a:pathLst>
              <a:path w="97" h="33">
                <a:moveTo>
                  <a:pt x="13" y="0"/>
                </a:moveTo>
                <a:lnTo>
                  <a:pt x="19" y="2"/>
                </a:lnTo>
                <a:lnTo>
                  <a:pt x="27" y="2"/>
                </a:lnTo>
                <a:lnTo>
                  <a:pt x="37" y="3"/>
                </a:lnTo>
                <a:lnTo>
                  <a:pt x="41" y="7"/>
                </a:lnTo>
                <a:lnTo>
                  <a:pt x="54" y="8"/>
                </a:lnTo>
                <a:lnTo>
                  <a:pt x="66" y="4"/>
                </a:lnTo>
                <a:lnTo>
                  <a:pt x="73" y="0"/>
                </a:lnTo>
                <a:lnTo>
                  <a:pt x="83" y="2"/>
                </a:lnTo>
                <a:lnTo>
                  <a:pt x="89" y="3"/>
                </a:lnTo>
                <a:lnTo>
                  <a:pt x="97" y="15"/>
                </a:lnTo>
                <a:lnTo>
                  <a:pt x="97" y="23"/>
                </a:lnTo>
                <a:lnTo>
                  <a:pt x="89" y="28"/>
                </a:lnTo>
                <a:lnTo>
                  <a:pt x="66" y="33"/>
                </a:lnTo>
                <a:lnTo>
                  <a:pt x="33" y="31"/>
                </a:lnTo>
                <a:lnTo>
                  <a:pt x="7" y="25"/>
                </a:lnTo>
                <a:lnTo>
                  <a:pt x="0" y="12"/>
                </a:lnTo>
                <a:lnTo>
                  <a:pt x="9" y="3"/>
                </a:lnTo>
                <a:lnTo>
                  <a:pt x="13" y="0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75320" y="3833640"/>
            <a:ext cx="57240" cy="25560"/>
          </a:xfrm>
          <a:custGeom>
            <a:avLst/>
            <a:gdLst/>
            <a:ahLst/>
            <a:rect l="l" t="t" r="r" b="b"/>
            <a:pathLst>
              <a:path w="149" h="97">
                <a:moveTo>
                  <a:pt x="1" y="11"/>
                </a:moveTo>
                <a:lnTo>
                  <a:pt x="47" y="19"/>
                </a:lnTo>
                <a:lnTo>
                  <a:pt x="103" y="21"/>
                </a:lnTo>
                <a:lnTo>
                  <a:pt x="148" y="0"/>
                </a:lnTo>
                <a:lnTo>
                  <a:pt x="149" y="97"/>
                </a:lnTo>
                <a:lnTo>
                  <a:pt x="58" y="97"/>
                </a:lnTo>
                <a:lnTo>
                  <a:pt x="26" y="70"/>
                </a:lnTo>
                <a:lnTo>
                  <a:pt x="0" y="48"/>
                </a:lnTo>
                <a:lnTo>
                  <a:pt x="1" y="11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86360" y="4145040"/>
            <a:ext cx="23760" cy="6120"/>
          </a:xfrm>
          <a:custGeom>
            <a:avLst/>
            <a:gdLst/>
            <a:ahLst/>
            <a:rect l="l" t="t" r="r" b="b"/>
            <a:pathLst>
              <a:path w="57" h="29">
                <a:moveTo>
                  <a:pt x="22" y="7"/>
                </a:moveTo>
                <a:lnTo>
                  <a:pt x="10" y="0"/>
                </a:lnTo>
                <a:lnTo>
                  <a:pt x="0" y="4"/>
                </a:lnTo>
                <a:lnTo>
                  <a:pt x="2" y="11"/>
                </a:lnTo>
                <a:lnTo>
                  <a:pt x="14" y="18"/>
                </a:lnTo>
                <a:lnTo>
                  <a:pt x="27" y="25"/>
                </a:lnTo>
                <a:lnTo>
                  <a:pt x="46" y="29"/>
                </a:lnTo>
                <a:lnTo>
                  <a:pt x="57" y="25"/>
                </a:lnTo>
                <a:lnTo>
                  <a:pt x="51" y="15"/>
                </a:lnTo>
                <a:lnTo>
                  <a:pt x="34" y="11"/>
                </a:lnTo>
                <a:lnTo>
                  <a:pt x="22" y="7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37160" y="3718080"/>
            <a:ext cx="95400" cy="122040"/>
          </a:xfrm>
          <a:custGeom>
            <a:avLst/>
            <a:gdLst/>
            <a:ahLst/>
            <a:rect l="l" t="t" r="r" b="b"/>
            <a:pathLst>
              <a:path w="243" h="484">
                <a:moveTo>
                  <a:pt x="21" y="0"/>
                </a:moveTo>
                <a:lnTo>
                  <a:pt x="120" y="47"/>
                </a:lnTo>
                <a:lnTo>
                  <a:pt x="182" y="73"/>
                </a:lnTo>
                <a:lnTo>
                  <a:pt x="243" y="13"/>
                </a:lnTo>
                <a:lnTo>
                  <a:pt x="243" y="464"/>
                </a:lnTo>
                <a:lnTo>
                  <a:pt x="204" y="484"/>
                </a:lnTo>
                <a:lnTo>
                  <a:pt x="148" y="484"/>
                </a:lnTo>
                <a:lnTo>
                  <a:pt x="97" y="474"/>
                </a:lnTo>
                <a:lnTo>
                  <a:pt x="99" y="438"/>
                </a:lnTo>
                <a:lnTo>
                  <a:pt x="128" y="376"/>
                </a:lnTo>
                <a:lnTo>
                  <a:pt x="116" y="332"/>
                </a:lnTo>
                <a:lnTo>
                  <a:pt x="17" y="291"/>
                </a:lnTo>
                <a:lnTo>
                  <a:pt x="0" y="241"/>
                </a:lnTo>
                <a:lnTo>
                  <a:pt x="6" y="176"/>
                </a:lnTo>
                <a:lnTo>
                  <a:pt x="19" y="123"/>
                </a:lnTo>
                <a:lnTo>
                  <a:pt x="5" y="101"/>
                </a:lnTo>
                <a:lnTo>
                  <a:pt x="5" y="64"/>
                </a:lnTo>
                <a:lnTo>
                  <a:pt x="17" y="32"/>
                </a:lnTo>
                <a:lnTo>
                  <a:pt x="21" y="0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2040" y="3549600"/>
            <a:ext cx="290520" cy="187200"/>
          </a:xfrm>
          <a:custGeom>
            <a:avLst/>
            <a:gdLst/>
            <a:ahLst/>
            <a:rect l="l" t="t" r="r" b="b"/>
            <a:pathLst>
              <a:path w="756" h="741">
                <a:moveTo>
                  <a:pt x="74" y="452"/>
                </a:moveTo>
                <a:lnTo>
                  <a:pt x="62" y="382"/>
                </a:lnTo>
                <a:lnTo>
                  <a:pt x="87" y="349"/>
                </a:lnTo>
                <a:lnTo>
                  <a:pt x="95" y="257"/>
                </a:lnTo>
                <a:lnTo>
                  <a:pt x="13" y="230"/>
                </a:lnTo>
                <a:lnTo>
                  <a:pt x="0" y="197"/>
                </a:lnTo>
                <a:lnTo>
                  <a:pt x="21" y="171"/>
                </a:lnTo>
                <a:lnTo>
                  <a:pt x="66" y="183"/>
                </a:lnTo>
                <a:lnTo>
                  <a:pt x="95" y="193"/>
                </a:lnTo>
                <a:lnTo>
                  <a:pt x="115" y="216"/>
                </a:lnTo>
                <a:lnTo>
                  <a:pt x="156" y="220"/>
                </a:lnTo>
                <a:lnTo>
                  <a:pt x="198" y="171"/>
                </a:lnTo>
                <a:lnTo>
                  <a:pt x="174" y="82"/>
                </a:lnTo>
                <a:lnTo>
                  <a:pt x="132" y="68"/>
                </a:lnTo>
                <a:lnTo>
                  <a:pt x="66" y="72"/>
                </a:lnTo>
                <a:lnTo>
                  <a:pt x="29" y="93"/>
                </a:lnTo>
                <a:lnTo>
                  <a:pt x="29" y="52"/>
                </a:lnTo>
                <a:lnTo>
                  <a:pt x="62" y="23"/>
                </a:lnTo>
                <a:lnTo>
                  <a:pt x="92" y="0"/>
                </a:lnTo>
                <a:lnTo>
                  <a:pt x="756" y="0"/>
                </a:lnTo>
                <a:lnTo>
                  <a:pt x="756" y="676"/>
                </a:lnTo>
                <a:lnTo>
                  <a:pt x="698" y="741"/>
                </a:lnTo>
                <a:lnTo>
                  <a:pt x="622" y="710"/>
                </a:lnTo>
                <a:lnTo>
                  <a:pt x="534" y="667"/>
                </a:lnTo>
                <a:lnTo>
                  <a:pt x="527" y="614"/>
                </a:lnTo>
                <a:lnTo>
                  <a:pt x="482" y="530"/>
                </a:lnTo>
                <a:lnTo>
                  <a:pt x="410" y="466"/>
                </a:lnTo>
                <a:lnTo>
                  <a:pt x="355" y="429"/>
                </a:lnTo>
                <a:lnTo>
                  <a:pt x="309" y="436"/>
                </a:lnTo>
                <a:lnTo>
                  <a:pt x="232" y="436"/>
                </a:lnTo>
                <a:lnTo>
                  <a:pt x="219" y="479"/>
                </a:lnTo>
                <a:lnTo>
                  <a:pt x="74" y="452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62680" y="3549600"/>
            <a:ext cx="223920" cy="74520"/>
          </a:xfrm>
          <a:custGeom>
            <a:avLst/>
            <a:gdLst/>
            <a:ahLst/>
            <a:rect l="l" t="t" r="r" b="b"/>
            <a:pathLst>
              <a:path w="580" h="296">
                <a:moveTo>
                  <a:pt x="443" y="296"/>
                </a:moveTo>
                <a:lnTo>
                  <a:pt x="455" y="269"/>
                </a:lnTo>
                <a:lnTo>
                  <a:pt x="483" y="240"/>
                </a:lnTo>
                <a:lnTo>
                  <a:pt x="499" y="240"/>
                </a:lnTo>
                <a:lnTo>
                  <a:pt x="510" y="208"/>
                </a:lnTo>
                <a:lnTo>
                  <a:pt x="518" y="175"/>
                </a:lnTo>
                <a:lnTo>
                  <a:pt x="545" y="149"/>
                </a:lnTo>
                <a:lnTo>
                  <a:pt x="573" y="138"/>
                </a:lnTo>
                <a:lnTo>
                  <a:pt x="580" y="121"/>
                </a:lnTo>
                <a:lnTo>
                  <a:pt x="508" y="82"/>
                </a:lnTo>
                <a:lnTo>
                  <a:pt x="499" y="48"/>
                </a:lnTo>
                <a:lnTo>
                  <a:pt x="476" y="0"/>
                </a:lnTo>
                <a:lnTo>
                  <a:pt x="0" y="0"/>
                </a:lnTo>
                <a:lnTo>
                  <a:pt x="2" y="42"/>
                </a:lnTo>
                <a:lnTo>
                  <a:pt x="2" y="70"/>
                </a:lnTo>
                <a:lnTo>
                  <a:pt x="31" y="89"/>
                </a:lnTo>
                <a:lnTo>
                  <a:pt x="69" y="109"/>
                </a:lnTo>
                <a:lnTo>
                  <a:pt x="87" y="125"/>
                </a:lnTo>
                <a:lnTo>
                  <a:pt x="155" y="170"/>
                </a:lnTo>
                <a:lnTo>
                  <a:pt x="177" y="211"/>
                </a:lnTo>
                <a:lnTo>
                  <a:pt x="307" y="236"/>
                </a:lnTo>
                <a:lnTo>
                  <a:pt x="327" y="170"/>
                </a:lnTo>
                <a:lnTo>
                  <a:pt x="390" y="194"/>
                </a:lnTo>
                <a:lnTo>
                  <a:pt x="394" y="275"/>
                </a:lnTo>
                <a:lnTo>
                  <a:pt x="443" y="296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38760" y="3672000"/>
            <a:ext cx="219240" cy="110880"/>
          </a:xfrm>
          <a:custGeom>
            <a:avLst/>
            <a:gdLst/>
            <a:ahLst/>
            <a:rect l="l" t="t" r="r" b="b"/>
            <a:pathLst>
              <a:path w="574" h="437">
                <a:moveTo>
                  <a:pt x="574" y="57"/>
                </a:moveTo>
                <a:lnTo>
                  <a:pt x="548" y="2"/>
                </a:lnTo>
                <a:lnTo>
                  <a:pt x="446" y="35"/>
                </a:lnTo>
                <a:lnTo>
                  <a:pt x="367" y="10"/>
                </a:lnTo>
                <a:lnTo>
                  <a:pt x="278" y="34"/>
                </a:lnTo>
                <a:lnTo>
                  <a:pt x="210" y="22"/>
                </a:lnTo>
                <a:lnTo>
                  <a:pt x="155" y="0"/>
                </a:lnTo>
                <a:lnTo>
                  <a:pt x="126" y="35"/>
                </a:lnTo>
                <a:lnTo>
                  <a:pt x="62" y="30"/>
                </a:lnTo>
                <a:lnTo>
                  <a:pt x="33" y="125"/>
                </a:lnTo>
                <a:lnTo>
                  <a:pt x="21" y="190"/>
                </a:lnTo>
                <a:lnTo>
                  <a:pt x="22" y="220"/>
                </a:lnTo>
                <a:lnTo>
                  <a:pt x="77" y="227"/>
                </a:lnTo>
                <a:lnTo>
                  <a:pt x="89" y="237"/>
                </a:lnTo>
                <a:lnTo>
                  <a:pt x="46" y="282"/>
                </a:lnTo>
                <a:lnTo>
                  <a:pt x="0" y="356"/>
                </a:lnTo>
                <a:lnTo>
                  <a:pt x="0" y="397"/>
                </a:lnTo>
                <a:lnTo>
                  <a:pt x="50" y="397"/>
                </a:lnTo>
                <a:lnTo>
                  <a:pt x="47" y="379"/>
                </a:lnTo>
                <a:lnTo>
                  <a:pt x="157" y="437"/>
                </a:lnTo>
                <a:lnTo>
                  <a:pt x="263" y="361"/>
                </a:lnTo>
                <a:lnTo>
                  <a:pt x="379" y="306"/>
                </a:lnTo>
                <a:lnTo>
                  <a:pt x="440" y="174"/>
                </a:lnTo>
                <a:lnTo>
                  <a:pt x="459" y="133"/>
                </a:lnTo>
                <a:lnTo>
                  <a:pt x="510" y="78"/>
                </a:lnTo>
                <a:lnTo>
                  <a:pt x="557" y="63"/>
                </a:lnTo>
                <a:lnTo>
                  <a:pt x="574" y="57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549600"/>
            <a:ext cx="384120" cy="139680"/>
          </a:xfrm>
          <a:custGeom>
            <a:avLst/>
            <a:gdLst/>
            <a:ahLst/>
            <a:rect l="l" t="t" r="r" b="b"/>
            <a:pathLst>
              <a:path w="1056" h="555">
                <a:moveTo>
                  <a:pt x="403" y="517"/>
                </a:moveTo>
                <a:lnTo>
                  <a:pt x="358" y="446"/>
                </a:lnTo>
                <a:lnTo>
                  <a:pt x="366" y="405"/>
                </a:lnTo>
                <a:lnTo>
                  <a:pt x="403" y="382"/>
                </a:lnTo>
                <a:lnTo>
                  <a:pt x="411" y="341"/>
                </a:lnTo>
                <a:lnTo>
                  <a:pt x="386" y="320"/>
                </a:lnTo>
                <a:lnTo>
                  <a:pt x="349" y="323"/>
                </a:lnTo>
                <a:lnTo>
                  <a:pt x="280" y="353"/>
                </a:lnTo>
                <a:lnTo>
                  <a:pt x="247" y="345"/>
                </a:lnTo>
                <a:lnTo>
                  <a:pt x="234" y="316"/>
                </a:lnTo>
                <a:lnTo>
                  <a:pt x="193" y="310"/>
                </a:lnTo>
                <a:lnTo>
                  <a:pt x="136" y="361"/>
                </a:lnTo>
                <a:lnTo>
                  <a:pt x="91" y="413"/>
                </a:lnTo>
                <a:lnTo>
                  <a:pt x="0" y="440"/>
                </a:lnTo>
                <a:lnTo>
                  <a:pt x="4" y="0"/>
                </a:lnTo>
                <a:lnTo>
                  <a:pt x="905" y="0"/>
                </a:lnTo>
                <a:lnTo>
                  <a:pt x="904" y="70"/>
                </a:lnTo>
                <a:lnTo>
                  <a:pt x="984" y="119"/>
                </a:lnTo>
                <a:lnTo>
                  <a:pt x="941" y="166"/>
                </a:lnTo>
                <a:lnTo>
                  <a:pt x="975" y="263"/>
                </a:lnTo>
                <a:lnTo>
                  <a:pt x="1032" y="302"/>
                </a:lnTo>
                <a:lnTo>
                  <a:pt x="1056" y="364"/>
                </a:lnTo>
                <a:lnTo>
                  <a:pt x="1050" y="450"/>
                </a:lnTo>
                <a:lnTo>
                  <a:pt x="1012" y="479"/>
                </a:lnTo>
                <a:lnTo>
                  <a:pt x="996" y="555"/>
                </a:lnTo>
                <a:lnTo>
                  <a:pt x="949" y="530"/>
                </a:lnTo>
                <a:lnTo>
                  <a:pt x="885" y="542"/>
                </a:lnTo>
                <a:lnTo>
                  <a:pt x="860" y="487"/>
                </a:lnTo>
                <a:lnTo>
                  <a:pt x="758" y="520"/>
                </a:lnTo>
                <a:lnTo>
                  <a:pt x="680" y="494"/>
                </a:lnTo>
                <a:lnTo>
                  <a:pt x="590" y="518"/>
                </a:lnTo>
                <a:lnTo>
                  <a:pt x="520" y="506"/>
                </a:lnTo>
                <a:lnTo>
                  <a:pt x="467" y="486"/>
                </a:lnTo>
                <a:lnTo>
                  <a:pt x="440" y="519"/>
                </a:lnTo>
                <a:lnTo>
                  <a:pt x="403" y="517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60680" y="3990960"/>
            <a:ext cx="23760" cy="14400"/>
          </a:xfrm>
          <a:custGeom>
            <a:avLst/>
            <a:gdLst/>
            <a:ahLst/>
            <a:rect l="l" t="t" r="r" b="b"/>
            <a:pathLst>
              <a:path w="27" h="19">
                <a:moveTo>
                  <a:pt x="1" y="0"/>
                </a:moveTo>
                <a:lnTo>
                  <a:pt x="0" y="13"/>
                </a:lnTo>
                <a:lnTo>
                  <a:pt x="5" y="19"/>
                </a:lnTo>
                <a:lnTo>
                  <a:pt x="14" y="18"/>
                </a:lnTo>
                <a:lnTo>
                  <a:pt x="27" y="8"/>
                </a:lnTo>
                <a:lnTo>
                  <a:pt x="13" y="0"/>
                </a:lnTo>
                <a:lnTo>
                  <a:pt x="1" y="0"/>
                </a:lnTo>
                <a:close/>
              </a:path>
            </a:pathLst>
          </a:custGeom>
          <a:solidFill>
            <a:srgbClr val="996633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4480" y="3938760"/>
            <a:ext cx="376560" cy="79200"/>
          </a:xfrm>
          <a:custGeom>
            <a:avLst/>
            <a:gdLst/>
            <a:ahLst/>
            <a:rect l="l" t="t" r="r" b="b"/>
            <a:pathLst>
              <a:path w="436" h="100">
                <a:moveTo>
                  <a:pt x="436" y="30"/>
                </a:moveTo>
                <a:lnTo>
                  <a:pt x="388" y="34"/>
                </a:lnTo>
                <a:lnTo>
                  <a:pt x="349" y="24"/>
                </a:lnTo>
                <a:lnTo>
                  <a:pt x="317" y="19"/>
                </a:lnTo>
                <a:lnTo>
                  <a:pt x="298" y="8"/>
                </a:lnTo>
                <a:lnTo>
                  <a:pt x="248" y="0"/>
                </a:lnTo>
                <a:lnTo>
                  <a:pt x="207" y="3"/>
                </a:lnTo>
                <a:lnTo>
                  <a:pt x="147" y="7"/>
                </a:lnTo>
                <a:lnTo>
                  <a:pt x="93" y="22"/>
                </a:lnTo>
                <a:lnTo>
                  <a:pt x="58" y="36"/>
                </a:lnTo>
                <a:lnTo>
                  <a:pt x="4" y="54"/>
                </a:lnTo>
                <a:lnTo>
                  <a:pt x="0" y="69"/>
                </a:lnTo>
                <a:lnTo>
                  <a:pt x="42" y="57"/>
                </a:lnTo>
                <a:lnTo>
                  <a:pt x="82" y="65"/>
                </a:lnTo>
                <a:lnTo>
                  <a:pt x="119" y="49"/>
                </a:lnTo>
                <a:lnTo>
                  <a:pt x="152" y="59"/>
                </a:lnTo>
                <a:lnTo>
                  <a:pt x="191" y="46"/>
                </a:lnTo>
                <a:lnTo>
                  <a:pt x="227" y="67"/>
                </a:lnTo>
                <a:lnTo>
                  <a:pt x="252" y="60"/>
                </a:lnTo>
                <a:lnTo>
                  <a:pt x="271" y="73"/>
                </a:lnTo>
                <a:lnTo>
                  <a:pt x="283" y="100"/>
                </a:lnTo>
                <a:lnTo>
                  <a:pt x="327" y="97"/>
                </a:lnTo>
                <a:lnTo>
                  <a:pt x="392" y="76"/>
                </a:lnTo>
                <a:lnTo>
                  <a:pt x="432" y="46"/>
                </a:lnTo>
                <a:lnTo>
                  <a:pt x="436" y="30"/>
                </a:lnTo>
                <a:close/>
              </a:path>
            </a:pathLst>
          </a:custGeom>
          <a:solidFill>
            <a:srgbClr val="996633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83040" y="4059360"/>
            <a:ext cx="68040" cy="28440"/>
          </a:xfrm>
          <a:custGeom>
            <a:avLst/>
            <a:gdLst/>
            <a:ahLst/>
            <a:rect l="l" t="t" r="r" b="b"/>
            <a:pathLst>
              <a:path w="80" h="35">
                <a:moveTo>
                  <a:pt x="72" y="8"/>
                </a:moveTo>
                <a:lnTo>
                  <a:pt x="52" y="0"/>
                </a:lnTo>
                <a:lnTo>
                  <a:pt x="36" y="0"/>
                </a:lnTo>
                <a:lnTo>
                  <a:pt x="19" y="9"/>
                </a:lnTo>
                <a:lnTo>
                  <a:pt x="8" y="18"/>
                </a:lnTo>
                <a:lnTo>
                  <a:pt x="0" y="27"/>
                </a:lnTo>
                <a:lnTo>
                  <a:pt x="11" y="33"/>
                </a:lnTo>
                <a:lnTo>
                  <a:pt x="33" y="35"/>
                </a:lnTo>
                <a:lnTo>
                  <a:pt x="66" y="30"/>
                </a:lnTo>
                <a:lnTo>
                  <a:pt x="80" y="19"/>
                </a:lnTo>
                <a:lnTo>
                  <a:pt x="72" y="8"/>
                </a:lnTo>
                <a:close/>
              </a:path>
            </a:pathLst>
          </a:custGeom>
          <a:solidFill>
            <a:srgbClr val="996633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33880" y="3967200"/>
            <a:ext cx="187200" cy="85680"/>
          </a:xfrm>
          <a:custGeom>
            <a:avLst/>
            <a:gdLst/>
            <a:ahLst/>
            <a:rect l="l" t="t" r="r" b="b"/>
            <a:pathLst>
              <a:path w="218" h="108">
                <a:moveTo>
                  <a:pt x="218" y="31"/>
                </a:moveTo>
                <a:lnTo>
                  <a:pt x="204" y="23"/>
                </a:lnTo>
                <a:lnTo>
                  <a:pt x="169" y="19"/>
                </a:lnTo>
                <a:lnTo>
                  <a:pt x="151" y="2"/>
                </a:lnTo>
                <a:lnTo>
                  <a:pt x="136" y="0"/>
                </a:lnTo>
                <a:lnTo>
                  <a:pt x="104" y="8"/>
                </a:lnTo>
                <a:lnTo>
                  <a:pt x="59" y="0"/>
                </a:lnTo>
                <a:lnTo>
                  <a:pt x="23" y="9"/>
                </a:lnTo>
                <a:lnTo>
                  <a:pt x="2" y="27"/>
                </a:lnTo>
                <a:lnTo>
                  <a:pt x="0" y="42"/>
                </a:lnTo>
                <a:lnTo>
                  <a:pt x="9" y="59"/>
                </a:lnTo>
                <a:lnTo>
                  <a:pt x="28" y="76"/>
                </a:lnTo>
                <a:lnTo>
                  <a:pt x="34" y="88"/>
                </a:lnTo>
                <a:lnTo>
                  <a:pt x="18" y="108"/>
                </a:lnTo>
                <a:lnTo>
                  <a:pt x="38" y="98"/>
                </a:lnTo>
                <a:lnTo>
                  <a:pt x="65" y="94"/>
                </a:lnTo>
                <a:lnTo>
                  <a:pt x="89" y="108"/>
                </a:lnTo>
                <a:lnTo>
                  <a:pt x="99" y="103"/>
                </a:lnTo>
                <a:lnTo>
                  <a:pt x="108" y="78"/>
                </a:lnTo>
                <a:lnTo>
                  <a:pt x="127" y="69"/>
                </a:lnTo>
                <a:lnTo>
                  <a:pt x="166" y="55"/>
                </a:lnTo>
                <a:lnTo>
                  <a:pt x="179" y="46"/>
                </a:lnTo>
                <a:lnTo>
                  <a:pt x="218" y="31"/>
                </a:lnTo>
                <a:close/>
              </a:path>
            </a:pathLst>
          </a:custGeom>
          <a:solidFill>
            <a:srgbClr val="996633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33880" y="3976560"/>
            <a:ext cx="83880" cy="76320"/>
          </a:xfrm>
          <a:custGeom>
            <a:avLst/>
            <a:gdLst/>
            <a:ahLst/>
            <a:rect l="l" t="t" r="r" b="b"/>
            <a:pathLst>
              <a:path w="99" h="96">
                <a:moveTo>
                  <a:pt x="18" y="0"/>
                </a:moveTo>
                <a:lnTo>
                  <a:pt x="4" y="12"/>
                </a:lnTo>
                <a:lnTo>
                  <a:pt x="0" y="28"/>
                </a:lnTo>
                <a:lnTo>
                  <a:pt x="5" y="40"/>
                </a:lnTo>
                <a:lnTo>
                  <a:pt x="13" y="52"/>
                </a:lnTo>
                <a:lnTo>
                  <a:pt x="28" y="63"/>
                </a:lnTo>
                <a:lnTo>
                  <a:pt x="35" y="73"/>
                </a:lnTo>
                <a:lnTo>
                  <a:pt x="16" y="96"/>
                </a:lnTo>
                <a:lnTo>
                  <a:pt x="35" y="87"/>
                </a:lnTo>
                <a:lnTo>
                  <a:pt x="48" y="83"/>
                </a:lnTo>
                <a:lnTo>
                  <a:pt x="62" y="80"/>
                </a:lnTo>
                <a:lnTo>
                  <a:pt x="90" y="96"/>
                </a:lnTo>
                <a:lnTo>
                  <a:pt x="99" y="90"/>
                </a:lnTo>
                <a:lnTo>
                  <a:pt x="73" y="73"/>
                </a:lnTo>
                <a:lnTo>
                  <a:pt x="58" y="54"/>
                </a:lnTo>
                <a:lnTo>
                  <a:pt x="47" y="43"/>
                </a:lnTo>
                <a:lnTo>
                  <a:pt x="54" y="21"/>
                </a:lnTo>
                <a:lnTo>
                  <a:pt x="39" y="6"/>
                </a:lnTo>
                <a:lnTo>
                  <a:pt x="18" y="0"/>
                </a:lnTo>
                <a:close/>
              </a:path>
            </a:pathLst>
          </a:custGeom>
          <a:solidFill>
            <a:srgbClr val="996633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86080" y="1905120"/>
            <a:ext cx="753840" cy="601560"/>
          </a:xfrm>
          <a:custGeom>
            <a:avLst/>
            <a:gdLst/>
            <a:ahLst/>
            <a:rect l="l" t="t" r="r" b="b"/>
            <a:pathLst>
              <a:path w="878" h="757">
                <a:moveTo>
                  <a:pt x="471" y="129"/>
                </a:moveTo>
                <a:lnTo>
                  <a:pt x="478" y="160"/>
                </a:lnTo>
                <a:lnTo>
                  <a:pt x="520" y="168"/>
                </a:lnTo>
                <a:lnTo>
                  <a:pt x="497" y="187"/>
                </a:lnTo>
                <a:lnTo>
                  <a:pt x="505" y="228"/>
                </a:lnTo>
                <a:lnTo>
                  <a:pt x="557" y="190"/>
                </a:lnTo>
                <a:lnTo>
                  <a:pt x="601" y="175"/>
                </a:lnTo>
                <a:lnTo>
                  <a:pt x="655" y="187"/>
                </a:lnTo>
                <a:lnTo>
                  <a:pt x="643" y="217"/>
                </a:lnTo>
                <a:lnTo>
                  <a:pt x="598" y="206"/>
                </a:lnTo>
                <a:lnTo>
                  <a:pt x="560" y="232"/>
                </a:lnTo>
                <a:lnTo>
                  <a:pt x="575" y="263"/>
                </a:lnTo>
                <a:lnTo>
                  <a:pt x="617" y="297"/>
                </a:lnTo>
                <a:lnTo>
                  <a:pt x="658" y="285"/>
                </a:lnTo>
                <a:lnTo>
                  <a:pt x="689" y="251"/>
                </a:lnTo>
                <a:lnTo>
                  <a:pt x="712" y="285"/>
                </a:lnTo>
                <a:lnTo>
                  <a:pt x="727" y="317"/>
                </a:lnTo>
                <a:lnTo>
                  <a:pt x="719" y="362"/>
                </a:lnTo>
                <a:lnTo>
                  <a:pt x="716" y="419"/>
                </a:lnTo>
                <a:lnTo>
                  <a:pt x="746" y="458"/>
                </a:lnTo>
                <a:lnTo>
                  <a:pt x="761" y="524"/>
                </a:lnTo>
                <a:lnTo>
                  <a:pt x="765" y="566"/>
                </a:lnTo>
                <a:lnTo>
                  <a:pt x="825" y="611"/>
                </a:lnTo>
                <a:lnTo>
                  <a:pt x="866" y="661"/>
                </a:lnTo>
                <a:lnTo>
                  <a:pt x="878" y="696"/>
                </a:lnTo>
                <a:lnTo>
                  <a:pt x="855" y="722"/>
                </a:lnTo>
                <a:lnTo>
                  <a:pt x="813" y="718"/>
                </a:lnTo>
                <a:lnTo>
                  <a:pt x="794" y="757"/>
                </a:lnTo>
                <a:lnTo>
                  <a:pt x="761" y="750"/>
                </a:lnTo>
                <a:lnTo>
                  <a:pt x="723" y="722"/>
                </a:lnTo>
                <a:lnTo>
                  <a:pt x="647" y="714"/>
                </a:lnTo>
                <a:lnTo>
                  <a:pt x="601" y="684"/>
                </a:lnTo>
                <a:lnTo>
                  <a:pt x="560" y="653"/>
                </a:lnTo>
                <a:lnTo>
                  <a:pt x="516" y="642"/>
                </a:lnTo>
                <a:lnTo>
                  <a:pt x="497" y="630"/>
                </a:lnTo>
                <a:lnTo>
                  <a:pt x="497" y="577"/>
                </a:lnTo>
                <a:lnTo>
                  <a:pt x="437" y="516"/>
                </a:lnTo>
                <a:lnTo>
                  <a:pt x="383" y="547"/>
                </a:lnTo>
                <a:lnTo>
                  <a:pt x="368" y="531"/>
                </a:lnTo>
                <a:lnTo>
                  <a:pt x="399" y="512"/>
                </a:lnTo>
                <a:lnTo>
                  <a:pt x="380" y="501"/>
                </a:lnTo>
                <a:lnTo>
                  <a:pt x="353" y="472"/>
                </a:lnTo>
                <a:lnTo>
                  <a:pt x="334" y="516"/>
                </a:lnTo>
                <a:lnTo>
                  <a:pt x="303" y="468"/>
                </a:lnTo>
                <a:lnTo>
                  <a:pt x="240" y="419"/>
                </a:lnTo>
                <a:lnTo>
                  <a:pt x="156" y="403"/>
                </a:lnTo>
                <a:lnTo>
                  <a:pt x="118" y="441"/>
                </a:lnTo>
                <a:lnTo>
                  <a:pt x="80" y="449"/>
                </a:lnTo>
                <a:lnTo>
                  <a:pt x="65" y="392"/>
                </a:lnTo>
                <a:lnTo>
                  <a:pt x="42" y="403"/>
                </a:lnTo>
                <a:lnTo>
                  <a:pt x="12" y="365"/>
                </a:lnTo>
                <a:lnTo>
                  <a:pt x="27" y="320"/>
                </a:lnTo>
                <a:lnTo>
                  <a:pt x="0" y="282"/>
                </a:lnTo>
                <a:lnTo>
                  <a:pt x="8" y="260"/>
                </a:lnTo>
                <a:lnTo>
                  <a:pt x="35" y="259"/>
                </a:lnTo>
                <a:lnTo>
                  <a:pt x="12" y="213"/>
                </a:lnTo>
                <a:lnTo>
                  <a:pt x="31" y="192"/>
                </a:lnTo>
                <a:lnTo>
                  <a:pt x="73" y="206"/>
                </a:lnTo>
                <a:lnTo>
                  <a:pt x="42" y="137"/>
                </a:lnTo>
                <a:lnTo>
                  <a:pt x="59" y="95"/>
                </a:lnTo>
                <a:lnTo>
                  <a:pt x="70" y="50"/>
                </a:lnTo>
                <a:lnTo>
                  <a:pt x="108" y="88"/>
                </a:lnTo>
                <a:lnTo>
                  <a:pt x="108" y="50"/>
                </a:lnTo>
                <a:lnTo>
                  <a:pt x="161" y="72"/>
                </a:lnTo>
                <a:lnTo>
                  <a:pt x="180" y="12"/>
                </a:lnTo>
                <a:lnTo>
                  <a:pt x="192" y="38"/>
                </a:lnTo>
                <a:lnTo>
                  <a:pt x="218" y="19"/>
                </a:lnTo>
                <a:lnTo>
                  <a:pt x="260" y="8"/>
                </a:lnTo>
                <a:lnTo>
                  <a:pt x="241" y="42"/>
                </a:lnTo>
                <a:lnTo>
                  <a:pt x="249" y="72"/>
                </a:lnTo>
                <a:lnTo>
                  <a:pt x="268" y="38"/>
                </a:lnTo>
                <a:lnTo>
                  <a:pt x="276" y="69"/>
                </a:lnTo>
                <a:lnTo>
                  <a:pt x="297" y="38"/>
                </a:lnTo>
                <a:lnTo>
                  <a:pt x="312" y="69"/>
                </a:lnTo>
                <a:lnTo>
                  <a:pt x="316" y="0"/>
                </a:lnTo>
                <a:lnTo>
                  <a:pt x="339" y="50"/>
                </a:lnTo>
                <a:lnTo>
                  <a:pt x="347" y="4"/>
                </a:lnTo>
                <a:lnTo>
                  <a:pt x="385" y="12"/>
                </a:lnTo>
                <a:lnTo>
                  <a:pt x="404" y="34"/>
                </a:lnTo>
                <a:lnTo>
                  <a:pt x="434" y="42"/>
                </a:lnTo>
                <a:lnTo>
                  <a:pt x="449" y="88"/>
                </a:lnTo>
                <a:lnTo>
                  <a:pt x="471" y="129"/>
                </a:lnTo>
                <a:close/>
              </a:path>
            </a:pathLst>
          </a:custGeom>
          <a:solidFill>
            <a:srgbClr val="ff33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457280" y="2077920"/>
            <a:ext cx="1776600" cy="1252800"/>
            <a:chOff x="1457280" y="2077920"/>
            <a:chExt cx="1776600" cy="1252800"/>
          </a:xfrm>
        </p:grpSpPr>
        <p:grpSp>
          <p:nvGrpSpPr>
            <p:cNvPr id="129" name=""/>
            <p:cNvGrpSpPr/>
            <p:nvPr/>
          </p:nvGrpSpPr>
          <p:grpSpPr>
            <a:xfrm>
              <a:off x="1457280" y="2077920"/>
              <a:ext cx="1776600" cy="1252800"/>
              <a:chOff x="1457280" y="2077920"/>
              <a:chExt cx="1776600" cy="1252800"/>
            </a:xfrm>
          </p:grpSpPr>
          <p:sp>
            <p:nvSpPr>
              <p:cNvPr id="130" name=""/>
              <p:cNvSpPr/>
              <p:nvPr/>
            </p:nvSpPr>
            <p:spPr>
              <a:xfrm>
                <a:off x="2134080" y="2324160"/>
                <a:ext cx="44640" cy="22320"/>
              </a:xfrm>
              <a:custGeom>
                <a:avLst/>
                <a:gdLst/>
                <a:ahLst/>
                <a:rect l="l" t="t" r="r" b="b"/>
                <a:pathLst>
                  <a:path w="52" h="28">
                    <a:moveTo>
                      <a:pt x="25" y="0"/>
                    </a:moveTo>
                    <a:lnTo>
                      <a:pt x="52" y="16"/>
                    </a:lnTo>
                    <a:lnTo>
                      <a:pt x="43" y="28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33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457280" y="2077920"/>
                <a:ext cx="1776600" cy="1252800"/>
                <a:chOff x="1457280" y="2077920"/>
                <a:chExt cx="1776600" cy="12528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170440" y="2293920"/>
                  <a:ext cx="175320" cy="63720"/>
                </a:xfrm>
                <a:custGeom>
                  <a:avLst/>
                  <a:gdLst/>
                  <a:ahLst/>
                  <a:rect l="l" t="t" r="r" b="b"/>
                  <a:pathLst>
                    <a:path w="203" h="79">
                      <a:moveTo>
                        <a:pt x="203" y="11"/>
                      </a:moveTo>
                      <a:lnTo>
                        <a:pt x="170" y="2"/>
                      </a:lnTo>
                      <a:lnTo>
                        <a:pt x="119" y="26"/>
                      </a:lnTo>
                      <a:lnTo>
                        <a:pt x="68" y="29"/>
                      </a:lnTo>
                      <a:lnTo>
                        <a:pt x="38" y="22"/>
                      </a:lnTo>
                      <a:lnTo>
                        <a:pt x="23" y="0"/>
                      </a:lnTo>
                      <a:lnTo>
                        <a:pt x="11" y="2"/>
                      </a:lnTo>
                      <a:lnTo>
                        <a:pt x="0" y="11"/>
                      </a:lnTo>
                      <a:lnTo>
                        <a:pt x="4" y="25"/>
                      </a:lnTo>
                      <a:lnTo>
                        <a:pt x="30" y="47"/>
                      </a:lnTo>
                      <a:lnTo>
                        <a:pt x="61" y="71"/>
                      </a:lnTo>
                      <a:lnTo>
                        <a:pt x="104" y="79"/>
                      </a:lnTo>
                      <a:lnTo>
                        <a:pt x="141" y="64"/>
                      </a:lnTo>
                      <a:lnTo>
                        <a:pt x="190" y="36"/>
                      </a:lnTo>
                      <a:lnTo>
                        <a:pt x="203" y="1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" name=""/>
                <p:cNvGrpSpPr/>
                <p:nvPr/>
              </p:nvGrpSpPr>
              <p:grpSpPr>
                <a:xfrm>
                  <a:off x="1457280" y="2077920"/>
                  <a:ext cx="1776600" cy="1252800"/>
                  <a:chOff x="1457280" y="2077920"/>
                  <a:chExt cx="1776600" cy="125280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1457280" y="2395440"/>
                    <a:ext cx="1665000" cy="9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39" h="1177">
                        <a:moveTo>
                          <a:pt x="230" y="0"/>
                        </a:moveTo>
                        <a:lnTo>
                          <a:pt x="0" y="289"/>
                        </a:lnTo>
                        <a:lnTo>
                          <a:pt x="49" y="306"/>
                        </a:lnTo>
                        <a:lnTo>
                          <a:pt x="23" y="340"/>
                        </a:lnTo>
                        <a:lnTo>
                          <a:pt x="69" y="347"/>
                        </a:lnTo>
                        <a:lnTo>
                          <a:pt x="84" y="437"/>
                        </a:lnTo>
                        <a:lnTo>
                          <a:pt x="114" y="544"/>
                        </a:lnTo>
                        <a:lnTo>
                          <a:pt x="84" y="620"/>
                        </a:lnTo>
                        <a:lnTo>
                          <a:pt x="99" y="666"/>
                        </a:lnTo>
                        <a:lnTo>
                          <a:pt x="76" y="719"/>
                        </a:lnTo>
                        <a:lnTo>
                          <a:pt x="107" y="734"/>
                        </a:lnTo>
                        <a:lnTo>
                          <a:pt x="107" y="772"/>
                        </a:lnTo>
                        <a:lnTo>
                          <a:pt x="176" y="787"/>
                        </a:lnTo>
                        <a:lnTo>
                          <a:pt x="214" y="880"/>
                        </a:lnTo>
                        <a:lnTo>
                          <a:pt x="543" y="929"/>
                        </a:lnTo>
                        <a:lnTo>
                          <a:pt x="968" y="951"/>
                        </a:lnTo>
                        <a:lnTo>
                          <a:pt x="1052" y="981"/>
                        </a:lnTo>
                        <a:lnTo>
                          <a:pt x="1071" y="980"/>
                        </a:lnTo>
                        <a:lnTo>
                          <a:pt x="1107" y="964"/>
                        </a:lnTo>
                        <a:lnTo>
                          <a:pt x="1139" y="947"/>
                        </a:lnTo>
                        <a:lnTo>
                          <a:pt x="1186" y="934"/>
                        </a:lnTo>
                        <a:lnTo>
                          <a:pt x="1212" y="960"/>
                        </a:lnTo>
                        <a:lnTo>
                          <a:pt x="1240" y="957"/>
                        </a:lnTo>
                        <a:lnTo>
                          <a:pt x="1267" y="967"/>
                        </a:lnTo>
                        <a:lnTo>
                          <a:pt x="1265" y="1003"/>
                        </a:lnTo>
                        <a:lnTo>
                          <a:pt x="1274" y="1021"/>
                        </a:lnTo>
                        <a:lnTo>
                          <a:pt x="1301" y="1032"/>
                        </a:lnTo>
                        <a:lnTo>
                          <a:pt x="1324" y="1027"/>
                        </a:lnTo>
                        <a:lnTo>
                          <a:pt x="1353" y="1009"/>
                        </a:lnTo>
                        <a:lnTo>
                          <a:pt x="1383" y="1017"/>
                        </a:lnTo>
                        <a:lnTo>
                          <a:pt x="1413" y="1033"/>
                        </a:lnTo>
                        <a:lnTo>
                          <a:pt x="1430" y="1051"/>
                        </a:lnTo>
                        <a:lnTo>
                          <a:pt x="1429" y="1085"/>
                        </a:lnTo>
                        <a:lnTo>
                          <a:pt x="1405" y="1075"/>
                        </a:lnTo>
                        <a:lnTo>
                          <a:pt x="1378" y="1057"/>
                        </a:lnTo>
                        <a:lnTo>
                          <a:pt x="1369" y="1082"/>
                        </a:lnTo>
                        <a:lnTo>
                          <a:pt x="1373" y="1106"/>
                        </a:lnTo>
                        <a:lnTo>
                          <a:pt x="1366" y="1123"/>
                        </a:lnTo>
                        <a:lnTo>
                          <a:pt x="1354" y="1139"/>
                        </a:lnTo>
                        <a:lnTo>
                          <a:pt x="1354" y="1177"/>
                        </a:lnTo>
                        <a:lnTo>
                          <a:pt x="1467" y="1108"/>
                        </a:lnTo>
                        <a:lnTo>
                          <a:pt x="1505" y="1070"/>
                        </a:lnTo>
                        <a:lnTo>
                          <a:pt x="1543" y="1055"/>
                        </a:lnTo>
                        <a:lnTo>
                          <a:pt x="1548" y="1023"/>
                        </a:lnTo>
                        <a:lnTo>
                          <a:pt x="1576" y="1011"/>
                        </a:lnTo>
                        <a:lnTo>
                          <a:pt x="1608" y="1016"/>
                        </a:lnTo>
                        <a:lnTo>
                          <a:pt x="1667" y="980"/>
                        </a:lnTo>
                        <a:lnTo>
                          <a:pt x="1689" y="938"/>
                        </a:lnTo>
                        <a:lnTo>
                          <a:pt x="1689" y="879"/>
                        </a:lnTo>
                        <a:lnTo>
                          <a:pt x="1708" y="853"/>
                        </a:lnTo>
                        <a:lnTo>
                          <a:pt x="1742" y="865"/>
                        </a:lnTo>
                        <a:lnTo>
                          <a:pt x="1754" y="900"/>
                        </a:lnTo>
                        <a:lnTo>
                          <a:pt x="1796" y="941"/>
                        </a:lnTo>
                        <a:lnTo>
                          <a:pt x="1826" y="918"/>
                        </a:lnTo>
                        <a:lnTo>
                          <a:pt x="1841" y="888"/>
                        </a:lnTo>
                        <a:lnTo>
                          <a:pt x="1834" y="1002"/>
                        </a:lnTo>
                        <a:lnTo>
                          <a:pt x="1886" y="926"/>
                        </a:lnTo>
                        <a:lnTo>
                          <a:pt x="1939" y="848"/>
                        </a:lnTo>
                        <a:lnTo>
                          <a:pt x="1917" y="842"/>
                        </a:lnTo>
                        <a:lnTo>
                          <a:pt x="1878" y="861"/>
                        </a:lnTo>
                        <a:lnTo>
                          <a:pt x="1834" y="865"/>
                        </a:lnTo>
                        <a:lnTo>
                          <a:pt x="1830" y="841"/>
                        </a:lnTo>
                        <a:lnTo>
                          <a:pt x="1813" y="832"/>
                        </a:lnTo>
                        <a:lnTo>
                          <a:pt x="1818" y="803"/>
                        </a:lnTo>
                        <a:lnTo>
                          <a:pt x="1796" y="817"/>
                        </a:lnTo>
                        <a:lnTo>
                          <a:pt x="1773" y="818"/>
                        </a:lnTo>
                        <a:lnTo>
                          <a:pt x="1794" y="795"/>
                        </a:lnTo>
                        <a:lnTo>
                          <a:pt x="1808" y="773"/>
                        </a:lnTo>
                        <a:lnTo>
                          <a:pt x="1826" y="749"/>
                        </a:lnTo>
                        <a:lnTo>
                          <a:pt x="1790" y="740"/>
                        </a:lnTo>
                        <a:lnTo>
                          <a:pt x="1757" y="756"/>
                        </a:lnTo>
                        <a:lnTo>
                          <a:pt x="1719" y="780"/>
                        </a:lnTo>
                        <a:lnTo>
                          <a:pt x="1666" y="848"/>
                        </a:lnTo>
                        <a:lnTo>
                          <a:pt x="1735" y="711"/>
                        </a:lnTo>
                        <a:lnTo>
                          <a:pt x="1774" y="692"/>
                        </a:lnTo>
                        <a:lnTo>
                          <a:pt x="1818" y="688"/>
                        </a:lnTo>
                        <a:lnTo>
                          <a:pt x="1839" y="663"/>
                        </a:lnTo>
                        <a:lnTo>
                          <a:pt x="1864" y="650"/>
                        </a:lnTo>
                        <a:lnTo>
                          <a:pt x="1886" y="605"/>
                        </a:lnTo>
                        <a:lnTo>
                          <a:pt x="1906" y="574"/>
                        </a:lnTo>
                        <a:lnTo>
                          <a:pt x="1908" y="559"/>
                        </a:lnTo>
                        <a:lnTo>
                          <a:pt x="1893" y="521"/>
                        </a:lnTo>
                        <a:lnTo>
                          <a:pt x="1872" y="498"/>
                        </a:lnTo>
                        <a:lnTo>
                          <a:pt x="1856" y="536"/>
                        </a:lnTo>
                        <a:lnTo>
                          <a:pt x="1818" y="475"/>
                        </a:lnTo>
                        <a:lnTo>
                          <a:pt x="1778" y="484"/>
                        </a:lnTo>
                        <a:lnTo>
                          <a:pt x="1750" y="473"/>
                        </a:lnTo>
                        <a:lnTo>
                          <a:pt x="1712" y="483"/>
                        </a:lnTo>
                        <a:lnTo>
                          <a:pt x="1700" y="449"/>
                        </a:lnTo>
                        <a:lnTo>
                          <a:pt x="1686" y="434"/>
                        </a:lnTo>
                        <a:lnTo>
                          <a:pt x="1660" y="425"/>
                        </a:lnTo>
                        <a:lnTo>
                          <a:pt x="1619" y="407"/>
                        </a:lnTo>
                        <a:lnTo>
                          <a:pt x="1572" y="387"/>
                        </a:lnTo>
                        <a:lnTo>
                          <a:pt x="1544" y="354"/>
                        </a:lnTo>
                        <a:lnTo>
                          <a:pt x="1528" y="347"/>
                        </a:lnTo>
                        <a:lnTo>
                          <a:pt x="1539" y="383"/>
                        </a:lnTo>
                        <a:lnTo>
                          <a:pt x="1558" y="422"/>
                        </a:lnTo>
                        <a:lnTo>
                          <a:pt x="1524" y="435"/>
                        </a:lnTo>
                        <a:lnTo>
                          <a:pt x="1498" y="425"/>
                        </a:lnTo>
                        <a:lnTo>
                          <a:pt x="1473" y="423"/>
                        </a:lnTo>
                        <a:lnTo>
                          <a:pt x="1461" y="392"/>
                        </a:lnTo>
                        <a:lnTo>
                          <a:pt x="1446" y="377"/>
                        </a:lnTo>
                        <a:lnTo>
                          <a:pt x="1437" y="347"/>
                        </a:lnTo>
                        <a:lnTo>
                          <a:pt x="1415" y="331"/>
                        </a:lnTo>
                        <a:lnTo>
                          <a:pt x="1383" y="325"/>
                        </a:lnTo>
                        <a:lnTo>
                          <a:pt x="1348" y="332"/>
                        </a:lnTo>
                        <a:lnTo>
                          <a:pt x="1309" y="325"/>
                        </a:lnTo>
                        <a:lnTo>
                          <a:pt x="1263" y="347"/>
                        </a:lnTo>
                        <a:lnTo>
                          <a:pt x="1265" y="365"/>
                        </a:lnTo>
                        <a:lnTo>
                          <a:pt x="1290" y="375"/>
                        </a:lnTo>
                        <a:lnTo>
                          <a:pt x="1309" y="399"/>
                        </a:lnTo>
                        <a:lnTo>
                          <a:pt x="1312" y="427"/>
                        </a:lnTo>
                        <a:lnTo>
                          <a:pt x="1324" y="460"/>
                        </a:lnTo>
                        <a:lnTo>
                          <a:pt x="1306" y="483"/>
                        </a:lnTo>
                        <a:lnTo>
                          <a:pt x="1307" y="511"/>
                        </a:lnTo>
                        <a:lnTo>
                          <a:pt x="1352" y="532"/>
                        </a:lnTo>
                        <a:lnTo>
                          <a:pt x="1377" y="559"/>
                        </a:lnTo>
                        <a:lnTo>
                          <a:pt x="1377" y="584"/>
                        </a:lnTo>
                        <a:lnTo>
                          <a:pt x="1369" y="628"/>
                        </a:lnTo>
                        <a:lnTo>
                          <a:pt x="1354" y="666"/>
                        </a:lnTo>
                        <a:lnTo>
                          <a:pt x="1352" y="680"/>
                        </a:lnTo>
                        <a:lnTo>
                          <a:pt x="1383" y="710"/>
                        </a:lnTo>
                        <a:lnTo>
                          <a:pt x="1391" y="742"/>
                        </a:lnTo>
                        <a:lnTo>
                          <a:pt x="1391" y="787"/>
                        </a:lnTo>
                        <a:lnTo>
                          <a:pt x="1363" y="790"/>
                        </a:lnTo>
                        <a:lnTo>
                          <a:pt x="1335" y="800"/>
                        </a:lnTo>
                        <a:lnTo>
                          <a:pt x="1301" y="767"/>
                        </a:lnTo>
                        <a:lnTo>
                          <a:pt x="1271" y="757"/>
                        </a:lnTo>
                        <a:lnTo>
                          <a:pt x="1252" y="718"/>
                        </a:lnTo>
                        <a:lnTo>
                          <a:pt x="1248" y="681"/>
                        </a:lnTo>
                        <a:lnTo>
                          <a:pt x="1192" y="663"/>
                        </a:lnTo>
                        <a:lnTo>
                          <a:pt x="1150" y="661"/>
                        </a:lnTo>
                        <a:lnTo>
                          <a:pt x="1094" y="650"/>
                        </a:lnTo>
                        <a:lnTo>
                          <a:pt x="1064" y="624"/>
                        </a:lnTo>
                        <a:lnTo>
                          <a:pt x="992" y="609"/>
                        </a:lnTo>
                        <a:lnTo>
                          <a:pt x="951" y="620"/>
                        </a:lnTo>
                        <a:lnTo>
                          <a:pt x="959" y="582"/>
                        </a:lnTo>
                        <a:lnTo>
                          <a:pt x="945" y="564"/>
                        </a:lnTo>
                        <a:lnTo>
                          <a:pt x="921" y="559"/>
                        </a:lnTo>
                        <a:lnTo>
                          <a:pt x="936" y="506"/>
                        </a:lnTo>
                        <a:lnTo>
                          <a:pt x="928" y="460"/>
                        </a:lnTo>
                        <a:lnTo>
                          <a:pt x="959" y="392"/>
                        </a:lnTo>
                        <a:lnTo>
                          <a:pt x="1012" y="347"/>
                        </a:lnTo>
                        <a:lnTo>
                          <a:pt x="1027" y="317"/>
                        </a:lnTo>
                        <a:lnTo>
                          <a:pt x="974" y="309"/>
                        </a:lnTo>
                        <a:lnTo>
                          <a:pt x="936" y="271"/>
                        </a:lnTo>
                        <a:lnTo>
                          <a:pt x="1027" y="271"/>
                        </a:lnTo>
                        <a:lnTo>
                          <a:pt x="1046" y="245"/>
                        </a:lnTo>
                        <a:lnTo>
                          <a:pt x="1080" y="233"/>
                        </a:lnTo>
                        <a:lnTo>
                          <a:pt x="1097" y="218"/>
                        </a:lnTo>
                        <a:lnTo>
                          <a:pt x="1126" y="203"/>
                        </a:lnTo>
                        <a:lnTo>
                          <a:pt x="1089" y="165"/>
                        </a:lnTo>
                        <a:lnTo>
                          <a:pt x="1088" y="127"/>
                        </a:lnTo>
                        <a:lnTo>
                          <a:pt x="1059" y="115"/>
                        </a:lnTo>
                        <a:lnTo>
                          <a:pt x="1035" y="127"/>
                        </a:lnTo>
                        <a:lnTo>
                          <a:pt x="1036" y="142"/>
                        </a:lnTo>
                        <a:lnTo>
                          <a:pt x="1050" y="180"/>
                        </a:lnTo>
                        <a:lnTo>
                          <a:pt x="1027" y="233"/>
                        </a:lnTo>
                        <a:lnTo>
                          <a:pt x="1008" y="150"/>
                        </a:lnTo>
                        <a:lnTo>
                          <a:pt x="983" y="153"/>
                        </a:lnTo>
                        <a:lnTo>
                          <a:pt x="990" y="184"/>
                        </a:lnTo>
                        <a:lnTo>
                          <a:pt x="966" y="180"/>
                        </a:lnTo>
                        <a:lnTo>
                          <a:pt x="943" y="80"/>
                        </a:lnTo>
                        <a:lnTo>
                          <a:pt x="924" y="72"/>
                        </a:lnTo>
                        <a:lnTo>
                          <a:pt x="910" y="60"/>
                        </a:lnTo>
                        <a:lnTo>
                          <a:pt x="898" y="57"/>
                        </a:lnTo>
                        <a:lnTo>
                          <a:pt x="883" y="72"/>
                        </a:lnTo>
                        <a:lnTo>
                          <a:pt x="890" y="106"/>
                        </a:lnTo>
                        <a:lnTo>
                          <a:pt x="917" y="131"/>
                        </a:lnTo>
                        <a:lnTo>
                          <a:pt x="928" y="180"/>
                        </a:lnTo>
                        <a:lnTo>
                          <a:pt x="905" y="203"/>
                        </a:lnTo>
                        <a:lnTo>
                          <a:pt x="890" y="241"/>
                        </a:lnTo>
                        <a:lnTo>
                          <a:pt x="852" y="195"/>
                        </a:lnTo>
                        <a:lnTo>
                          <a:pt x="814" y="218"/>
                        </a:lnTo>
                        <a:lnTo>
                          <a:pt x="753" y="210"/>
                        </a:lnTo>
                        <a:lnTo>
                          <a:pt x="730" y="188"/>
                        </a:lnTo>
                        <a:lnTo>
                          <a:pt x="708" y="218"/>
                        </a:lnTo>
                        <a:lnTo>
                          <a:pt x="685" y="248"/>
                        </a:lnTo>
                        <a:lnTo>
                          <a:pt x="659" y="233"/>
                        </a:lnTo>
                        <a:lnTo>
                          <a:pt x="639" y="203"/>
                        </a:lnTo>
                        <a:lnTo>
                          <a:pt x="602" y="210"/>
                        </a:lnTo>
                        <a:lnTo>
                          <a:pt x="555" y="203"/>
                        </a:lnTo>
                        <a:lnTo>
                          <a:pt x="586" y="157"/>
                        </a:lnTo>
                        <a:lnTo>
                          <a:pt x="534" y="134"/>
                        </a:lnTo>
                        <a:lnTo>
                          <a:pt x="502" y="110"/>
                        </a:lnTo>
                        <a:lnTo>
                          <a:pt x="479" y="127"/>
                        </a:lnTo>
                        <a:lnTo>
                          <a:pt x="434" y="72"/>
                        </a:lnTo>
                        <a:lnTo>
                          <a:pt x="389" y="53"/>
                        </a:lnTo>
                        <a:lnTo>
                          <a:pt x="374" y="72"/>
                        </a:lnTo>
                        <a:lnTo>
                          <a:pt x="290" y="57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3089520" y="2843280"/>
                    <a:ext cx="14436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200">
                        <a:moveTo>
                          <a:pt x="29" y="0"/>
                        </a:moveTo>
                        <a:lnTo>
                          <a:pt x="16" y="15"/>
                        </a:lnTo>
                        <a:lnTo>
                          <a:pt x="6" y="54"/>
                        </a:lnTo>
                        <a:lnTo>
                          <a:pt x="0" y="87"/>
                        </a:lnTo>
                        <a:lnTo>
                          <a:pt x="19" y="129"/>
                        </a:lnTo>
                        <a:lnTo>
                          <a:pt x="30" y="166"/>
                        </a:lnTo>
                        <a:lnTo>
                          <a:pt x="26" y="200"/>
                        </a:lnTo>
                        <a:lnTo>
                          <a:pt x="45" y="200"/>
                        </a:lnTo>
                        <a:lnTo>
                          <a:pt x="57" y="175"/>
                        </a:lnTo>
                        <a:lnTo>
                          <a:pt x="80" y="179"/>
                        </a:lnTo>
                        <a:lnTo>
                          <a:pt x="99" y="153"/>
                        </a:lnTo>
                        <a:lnTo>
                          <a:pt x="161" y="139"/>
                        </a:lnTo>
                        <a:lnTo>
                          <a:pt x="167" y="118"/>
                        </a:lnTo>
                        <a:lnTo>
                          <a:pt x="142" y="96"/>
                        </a:lnTo>
                        <a:lnTo>
                          <a:pt x="137" y="72"/>
                        </a:lnTo>
                        <a:lnTo>
                          <a:pt x="120" y="68"/>
                        </a:lnTo>
                        <a:lnTo>
                          <a:pt x="101" y="96"/>
                        </a:lnTo>
                        <a:lnTo>
                          <a:pt x="76" y="99"/>
                        </a:lnTo>
                        <a:lnTo>
                          <a:pt x="61" y="95"/>
                        </a:lnTo>
                        <a:lnTo>
                          <a:pt x="42" y="86"/>
                        </a:lnTo>
                        <a:lnTo>
                          <a:pt x="35" y="73"/>
                        </a:lnTo>
                        <a:lnTo>
                          <a:pt x="30" y="39"/>
                        </a:lnTo>
                        <a:lnTo>
                          <a:pt x="37" y="8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3123720" y="3033720"/>
                    <a:ext cx="32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2">
                        <a:moveTo>
                          <a:pt x="35" y="13"/>
                        </a:moveTo>
                        <a:lnTo>
                          <a:pt x="27" y="7"/>
                        </a:lnTo>
                        <a:lnTo>
                          <a:pt x="17" y="4"/>
                        </a:lnTo>
                        <a:lnTo>
                          <a:pt x="5" y="0"/>
                        </a:lnTo>
                        <a:lnTo>
                          <a:pt x="0" y="1"/>
                        </a:lnTo>
                        <a:lnTo>
                          <a:pt x="0" y="14"/>
                        </a:lnTo>
                        <a:lnTo>
                          <a:pt x="5" y="30"/>
                        </a:lnTo>
                        <a:lnTo>
                          <a:pt x="17" y="42"/>
                        </a:lnTo>
                        <a:lnTo>
                          <a:pt x="28" y="42"/>
                        </a:lnTo>
                        <a:lnTo>
                          <a:pt x="37" y="30"/>
                        </a:lnTo>
                        <a:lnTo>
                          <a:pt x="38" y="20"/>
                        </a:lnTo>
                        <a:lnTo>
                          <a:pt x="35" y="13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2386800" y="2602080"/>
                    <a:ext cx="9252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85">
                        <a:moveTo>
                          <a:pt x="0" y="19"/>
                        </a:moveTo>
                        <a:lnTo>
                          <a:pt x="18" y="5"/>
                        </a:lnTo>
                        <a:lnTo>
                          <a:pt x="43" y="12"/>
                        </a:lnTo>
                        <a:lnTo>
                          <a:pt x="61" y="0"/>
                        </a:lnTo>
                        <a:lnTo>
                          <a:pt x="81" y="12"/>
                        </a:lnTo>
                        <a:lnTo>
                          <a:pt x="108" y="38"/>
                        </a:lnTo>
                        <a:lnTo>
                          <a:pt x="108" y="67"/>
                        </a:lnTo>
                        <a:lnTo>
                          <a:pt x="77" y="73"/>
                        </a:lnTo>
                        <a:lnTo>
                          <a:pt x="57" y="60"/>
                        </a:lnTo>
                        <a:lnTo>
                          <a:pt x="49" y="85"/>
                        </a:lnTo>
                        <a:lnTo>
                          <a:pt x="27" y="82"/>
                        </a:lnTo>
                        <a:lnTo>
                          <a:pt x="27" y="50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2290680" y="2357640"/>
                    <a:ext cx="477720" cy="29052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67">
                        <a:moveTo>
                          <a:pt x="481" y="177"/>
                        </a:moveTo>
                        <a:lnTo>
                          <a:pt x="434" y="181"/>
                        </a:lnTo>
                        <a:lnTo>
                          <a:pt x="406" y="153"/>
                        </a:lnTo>
                        <a:lnTo>
                          <a:pt x="362" y="148"/>
                        </a:lnTo>
                        <a:lnTo>
                          <a:pt x="329" y="117"/>
                        </a:lnTo>
                        <a:lnTo>
                          <a:pt x="292" y="107"/>
                        </a:lnTo>
                        <a:lnTo>
                          <a:pt x="256" y="77"/>
                        </a:lnTo>
                        <a:lnTo>
                          <a:pt x="207" y="71"/>
                        </a:lnTo>
                        <a:lnTo>
                          <a:pt x="203" y="47"/>
                        </a:lnTo>
                        <a:lnTo>
                          <a:pt x="166" y="35"/>
                        </a:lnTo>
                        <a:lnTo>
                          <a:pt x="147" y="31"/>
                        </a:lnTo>
                        <a:lnTo>
                          <a:pt x="135" y="64"/>
                        </a:lnTo>
                        <a:lnTo>
                          <a:pt x="126" y="75"/>
                        </a:lnTo>
                        <a:lnTo>
                          <a:pt x="111" y="80"/>
                        </a:lnTo>
                        <a:lnTo>
                          <a:pt x="102" y="99"/>
                        </a:lnTo>
                        <a:lnTo>
                          <a:pt x="85" y="64"/>
                        </a:lnTo>
                        <a:lnTo>
                          <a:pt x="100" y="19"/>
                        </a:lnTo>
                        <a:lnTo>
                          <a:pt x="87" y="16"/>
                        </a:lnTo>
                        <a:lnTo>
                          <a:pt x="69" y="61"/>
                        </a:lnTo>
                        <a:lnTo>
                          <a:pt x="73" y="104"/>
                        </a:lnTo>
                        <a:lnTo>
                          <a:pt x="68" y="130"/>
                        </a:lnTo>
                        <a:lnTo>
                          <a:pt x="42" y="69"/>
                        </a:lnTo>
                        <a:lnTo>
                          <a:pt x="43" y="31"/>
                        </a:lnTo>
                        <a:lnTo>
                          <a:pt x="41" y="0"/>
                        </a:lnTo>
                        <a:lnTo>
                          <a:pt x="19" y="0"/>
                        </a:lnTo>
                        <a:lnTo>
                          <a:pt x="7" y="16"/>
                        </a:lnTo>
                        <a:lnTo>
                          <a:pt x="0" y="50"/>
                        </a:lnTo>
                        <a:lnTo>
                          <a:pt x="5" y="50"/>
                        </a:lnTo>
                        <a:lnTo>
                          <a:pt x="0" y="88"/>
                        </a:lnTo>
                        <a:lnTo>
                          <a:pt x="17" y="122"/>
                        </a:lnTo>
                        <a:lnTo>
                          <a:pt x="33" y="145"/>
                        </a:lnTo>
                        <a:lnTo>
                          <a:pt x="54" y="151"/>
                        </a:lnTo>
                        <a:lnTo>
                          <a:pt x="120" y="137"/>
                        </a:lnTo>
                        <a:lnTo>
                          <a:pt x="163" y="145"/>
                        </a:lnTo>
                        <a:lnTo>
                          <a:pt x="202" y="137"/>
                        </a:lnTo>
                        <a:lnTo>
                          <a:pt x="248" y="134"/>
                        </a:lnTo>
                        <a:lnTo>
                          <a:pt x="284" y="160"/>
                        </a:lnTo>
                        <a:lnTo>
                          <a:pt x="297" y="177"/>
                        </a:lnTo>
                        <a:lnTo>
                          <a:pt x="298" y="222"/>
                        </a:lnTo>
                        <a:lnTo>
                          <a:pt x="315" y="279"/>
                        </a:lnTo>
                        <a:lnTo>
                          <a:pt x="307" y="297"/>
                        </a:lnTo>
                        <a:lnTo>
                          <a:pt x="282" y="312"/>
                        </a:lnTo>
                        <a:lnTo>
                          <a:pt x="262" y="326"/>
                        </a:lnTo>
                        <a:lnTo>
                          <a:pt x="256" y="347"/>
                        </a:lnTo>
                        <a:lnTo>
                          <a:pt x="269" y="359"/>
                        </a:lnTo>
                        <a:lnTo>
                          <a:pt x="306" y="328"/>
                        </a:lnTo>
                        <a:lnTo>
                          <a:pt x="331" y="310"/>
                        </a:lnTo>
                        <a:lnTo>
                          <a:pt x="353" y="314"/>
                        </a:lnTo>
                        <a:lnTo>
                          <a:pt x="366" y="335"/>
                        </a:lnTo>
                        <a:lnTo>
                          <a:pt x="393" y="344"/>
                        </a:lnTo>
                        <a:lnTo>
                          <a:pt x="428" y="359"/>
                        </a:lnTo>
                        <a:lnTo>
                          <a:pt x="467" y="367"/>
                        </a:lnTo>
                        <a:lnTo>
                          <a:pt x="513" y="352"/>
                        </a:lnTo>
                        <a:lnTo>
                          <a:pt x="557" y="359"/>
                        </a:lnTo>
                        <a:lnTo>
                          <a:pt x="543" y="343"/>
                        </a:lnTo>
                        <a:lnTo>
                          <a:pt x="491" y="333"/>
                        </a:lnTo>
                        <a:lnTo>
                          <a:pt x="438" y="321"/>
                        </a:lnTo>
                        <a:lnTo>
                          <a:pt x="443" y="306"/>
                        </a:lnTo>
                        <a:lnTo>
                          <a:pt x="472" y="309"/>
                        </a:lnTo>
                        <a:lnTo>
                          <a:pt x="511" y="321"/>
                        </a:lnTo>
                        <a:lnTo>
                          <a:pt x="495" y="279"/>
                        </a:lnTo>
                        <a:lnTo>
                          <a:pt x="473" y="276"/>
                        </a:lnTo>
                        <a:lnTo>
                          <a:pt x="444" y="260"/>
                        </a:lnTo>
                        <a:lnTo>
                          <a:pt x="415" y="257"/>
                        </a:lnTo>
                        <a:lnTo>
                          <a:pt x="426" y="211"/>
                        </a:lnTo>
                        <a:lnTo>
                          <a:pt x="443" y="200"/>
                        </a:lnTo>
                        <a:lnTo>
                          <a:pt x="471" y="191"/>
                        </a:lnTo>
                        <a:lnTo>
                          <a:pt x="481" y="177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1917720" y="2363760"/>
                    <a:ext cx="26424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9" h="214">
                        <a:moveTo>
                          <a:pt x="225" y="61"/>
                        </a:moveTo>
                        <a:lnTo>
                          <a:pt x="206" y="11"/>
                        </a:lnTo>
                        <a:lnTo>
                          <a:pt x="172" y="57"/>
                        </a:lnTo>
                        <a:lnTo>
                          <a:pt x="156" y="0"/>
                        </a:lnTo>
                        <a:lnTo>
                          <a:pt x="130" y="38"/>
                        </a:lnTo>
                        <a:lnTo>
                          <a:pt x="115" y="8"/>
                        </a:lnTo>
                        <a:lnTo>
                          <a:pt x="99" y="38"/>
                        </a:lnTo>
                        <a:lnTo>
                          <a:pt x="65" y="15"/>
                        </a:lnTo>
                        <a:lnTo>
                          <a:pt x="23" y="31"/>
                        </a:lnTo>
                        <a:lnTo>
                          <a:pt x="0" y="72"/>
                        </a:lnTo>
                        <a:lnTo>
                          <a:pt x="19" y="88"/>
                        </a:lnTo>
                        <a:lnTo>
                          <a:pt x="92" y="84"/>
                        </a:lnTo>
                        <a:lnTo>
                          <a:pt x="50" y="122"/>
                        </a:lnTo>
                        <a:lnTo>
                          <a:pt x="134" y="145"/>
                        </a:lnTo>
                        <a:lnTo>
                          <a:pt x="111" y="161"/>
                        </a:lnTo>
                        <a:lnTo>
                          <a:pt x="27" y="145"/>
                        </a:lnTo>
                        <a:lnTo>
                          <a:pt x="73" y="188"/>
                        </a:lnTo>
                        <a:lnTo>
                          <a:pt x="130" y="195"/>
                        </a:lnTo>
                        <a:lnTo>
                          <a:pt x="179" y="184"/>
                        </a:lnTo>
                        <a:lnTo>
                          <a:pt x="217" y="199"/>
                        </a:lnTo>
                        <a:lnTo>
                          <a:pt x="270" y="214"/>
                        </a:lnTo>
                        <a:lnTo>
                          <a:pt x="255" y="192"/>
                        </a:lnTo>
                        <a:lnTo>
                          <a:pt x="309" y="169"/>
                        </a:lnTo>
                        <a:lnTo>
                          <a:pt x="255" y="152"/>
                        </a:lnTo>
                        <a:lnTo>
                          <a:pt x="225" y="61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2212920" y="2077920"/>
                    <a:ext cx="150840" cy="22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7" h="278">
                        <a:moveTo>
                          <a:pt x="119" y="0"/>
                        </a:moveTo>
                        <a:lnTo>
                          <a:pt x="84" y="2"/>
                        </a:lnTo>
                        <a:lnTo>
                          <a:pt x="46" y="31"/>
                        </a:lnTo>
                        <a:lnTo>
                          <a:pt x="16" y="55"/>
                        </a:lnTo>
                        <a:lnTo>
                          <a:pt x="0" y="86"/>
                        </a:lnTo>
                        <a:lnTo>
                          <a:pt x="0" y="109"/>
                        </a:lnTo>
                        <a:lnTo>
                          <a:pt x="24" y="125"/>
                        </a:lnTo>
                        <a:lnTo>
                          <a:pt x="75" y="113"/>
                        </a:lnTo>
                        <a:lnTo>
                          <a:pt x="131" y="86"/>
                        </a:lnTo>
                        <a:lnTo>
                          <a:pt x="70" y="147"/>
                        </a:lnTo>
                        <a:lnTo>
                          <a:pt x="92" y="154"/>
                        </a:lnTo>
                        <a:lnTo>
                          <a:pt x="79" y="185"/>
                        </a:lnTo>
                        <a:lnTo>
                          <a:pt x="99" y="201"/>
                        </a:lnTo>
                        <a:lnTo>
                          <a:pt x="93" y="231"/>
                        </a:lnTo>
                        <a:lnTo>
                          <a:pt x="61" y="245"/>
                        </a:lnTo>
                        <a:lnTo>
                          <a:pt x="47" y="275"/>
                        </a:lnTo>
                        <a:lnTo>
                          <a:pt x="65" y="278"/>
                        </a:lnTo>
                        <a:lnTo>
                          <a:pt x="118" y="256"/>
                        </a:lnTo>
                        <a:lnTo>
                          <a:pt x="177" y="261"/>
                        </a:lnTo>
                        <a:lnTo>
                          <a:pt x="166" y="223"/>
                        </a:lnTo>
                        <a:lnTo>
                          <a:pt x="169" y="180"/>
                        </a:lnTo>
                        <a:lnTo>
                          <a:pt x="146" y="155"/>
                        </a:lnTo>
                        <a:lnTo>
                          <a:pt x="166" y="102"/>
                        </a:lnTo>
                        <a:lnTo>
                          <a:pt x="160" y="64"/>
                        </a:lnTo>
                        <a:lnTo>
                          <a:pt x="149" y="14"/>
                        </a:lnTo>
                        <a:lnTo>
                          <a:pt x="119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2185920" y="2176560"/>
                    <a:ext cx="615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17">
                        <a:moveTo>
                          <a:pt x="8" y="0"/>
                        </a:moveTo>
                        <a:lnTo>
                          <a:pt x="0" y="40"/>
                        </a:lnTo>
                        <a:lnTo>
                          <a:pt x="8" y="108"/>
                        </a:lnTo>
                        <a:lnTo>
                          <a:pt x="34" y="117"/>
                        </a:lnTo>
                        <a:lnTo>
                          <a:pt x="63" y="108"/>
                        </a:lnTo>
                        <a:lnTo>
                          <a:pt x="71" y="56"/>
                        </a:lnTo>
                        <a:lnTo>
                          <a:pt x="63" y="43"/>
                        </a:lnTo>
                        <a:lnTo>
                          <a:pt x="48" y="23"/>
                        </a:lnTo>
                        <a:lnTo>
                          <a:pt x="31" y="27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2212920" y="2363760"/>
                    <a:ext cx="6192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81">
                        <a:moveTo>
                          <a:pt x="13" y="0"/>
                        </a:moveTo>
                        <a:lnTo>
                          <a:pt x="46" y="15"/>
                        </a:lnTo>
                        <a:lnTo>
                          <a:pt x="71" y="4"/>
                        </a:lnTo>
                        <a:lnTo>
                          <a:pt x="65" y="31"/>
                        </a:lnTo>
                        <a:lnTo>
                          <a:pt x="66" y="51"/>
                        </a:lnTo>
                        <a:lnTo>
                          <a:pt x="59" y="70"/>
                        </a:lnTo>
                        <a:lnTo>
                          <a:pt x="45" y="81"/>
                        </a:lnTo>
                        <a:lnTo>
                          <a:pt x="26" y="79"/>
                        </a:lnTo>
                        <a:lnTo>
                          <a:pt x="9" y="75"/>
                        </a:lnTo>
                        <a:lnTo>
                          <a:pt x="0" y="41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2127240" y="2359080"/>
                    <a:ext cx="788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37">
                        <a:moveTo>
                          <a:pt x="93" y="91"/>
                        </a:moveTo>
                        <a:lnTo>
                          <a:pt x="85" y="112"/>
                        </a:lnTo>
                        <a:lnTo>
                          <a:pt x="61" y="137"/>
                        </a:lnTo>
                        <a:lnTo>
                          <a:pt x="43" y="119"/>
                        </a:lnTo>
                        <a:lnTo>
                          <a:pt x="43" y="93"/>
                        </a:lnTo>
                        <a:lnTo>
                          <a:pt x="8" y="77"/>
                        </a:lnTo>
                        <a:lnTo>
                          <a:pt x="0" y="57"/>
                        </a:lnTo>
                        <a:lnTo>
                          <a:pt x="4" y="39"/>
                        </a:lnTo>
                        <a:lnTo>
                          <a:pt x="27" y="36"/>
                        </a:lnTo>
                        <a:lnTo>
                          <a:pt x="19" y="0"/>
                        </a:lnTo>
                        <a:lnTo>
                          <a:pt x="53" y="4"/>
                        </a:lnTo>
                        <a:lnTo>
                          <a:pt x="84" y="0"/>
                        </a:lnTo>
                        <a:lnTo>
                          <a:pt x="69" y="47"/>
                        </a:lnTo>
                        <a:lnTo>
                          <a:pt x="74" y="65"/>
                        </a:lnTo>
                        <a:lnTo>
                          <a:pt x="93" y="91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2079000" y="2286000"/>
                    <a:ext cx="514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45">
                        <a:moveTo>
                          <a:pt x="0" y="19"/>
                        </a:moveTo>
                        <a:lnTo>
                          <a:pt x="22" y="18"/>
                        </a:lnTo>
                        <a:lnTo>
                          <a:pt x="21" y="0"/>
                        </a:lnTo>
                        <a:lnTo>
                          <a:pt x="45" y="13"/>
                        </a:lnTo>
                        <a:lnTo>
                          <a:pt x="60" y="38"/>
                        </a:lnTo>
                        <a:lnTo>
                          <a:pt x="40" y="45"/>
                        </a:lnTo>
                        <a:lnTo>
                          <a:pt x="14" y="45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1840320" y="2276640"/>
                    <a:ext cx="1594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174">
                        <a:moveTo>
                          <a:pt x="157" y="88"/>
                        </a:moveTo>
                        <a:lnTo>
                          <a:pt x="124" y="81"/>
                        </a:lnTo>
                        <a:lnTo>
                          <a:pt x="97" y="96"/>
                        </a:lnTo>
                        <a:lnTo>
                          <a:pt x="74" y="128"/>
                        </a:lnTo>
                        <a:lnTo>
                          <a:pt x="64" y="157"/>
                        </a:lnTo>
                        <a:lnTo>
                          <a:pt x="38" y="174"/>
                        </a:lnTo>
                        <a:lnTo>
                          <a:pt x="10" y="172"/>
                        </a:lnTo>
                        <a:lnTo>
                          <a:pt x="0" y="140"/>
                        </a:lnTo>
                        <a:lnTo>
                          <a:pt x="15" y="105"/>
                        </a:lnTo>
                        <a:lnTo>
                          <a:pt x="30" y="67"/>
                        </a:lnTo>
                        <a:lnTo>
                          <a:pt x="52" y="24"/>
                        </a:lnTo>
                        <a:lnTo>
                          <a:pt x="71" y="17"/>
                        </a:lnTo>
                        <a:lnTo>
                          <a:pt x="102" y="0"/>
                        </a:lnTo>
                        <a:lnTo>
                          <a:pt x="135" y="4"/>
                        </a:lnTo>
                        <a:lnTo>
                          <a:pt x="158" y="22"/>
                        </a:lnTo>
                        <a:lnTo>
                          <a:pt x="181" y="47"/>
                        </a:lnTo>
                        <a:lnTo>
                          <a:pt x="185" y="70"/>
                        </a:lnTo>
                        <a:lnTo>
                          <a:pt x="157" y="88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1972800" y="2189160"/>
                    <a:ext cx="15624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19">
                        <a:moveTo>
                          <a:pt x="76" y="119"/>
                        </a:moveTo>
                        <a:lnTo>
                          <a:pt x="100" y="103"/>
                        </a:lnTo>
                        <a:lnTo>
                          <a:pt x="122" y="91"/>
                        </a:lnTo>
                        <a:lnTo>
                          <a:pt x="152" y="91"/>
                        </a:lnTo>
                        <a:lnTo>
                          <a:pt x="162" y="94"/>
                        </a:lnTo>
                        <a:lnTo>
                          <a:pt x="173" y="91"/>
                        </a:lnTo>
                        <a:lnTo>
                          <a:pt x="181" y="75"/>
                        </a:lnTo>
                        <a:lnTo>
                          <a:pt x="164" y="65"/>
                        </a:lnTo>
                        <a:lnTo>
                          <a:pt x="148" y="57"/>
                        </a:lnTo>
                        <a:lnTo>
                          <a:pt x="143" y="39"/>
                        </a:lnTo>
                        <a:lnTo>
                          <a:pt x="146" y="13"/>
                        </a:lnTo>
                        <a:lnTo>
                          <a:pt x="109" y="0"/>
                        </a:lnTo>
                        <a:lnTo>
                          <a:pt x="82" y="10"/>
                        </a:lnTo>
                        <a:lnTo>
                          <a:pt x="90" y="28"/>
                        </a:lnTo>
                        <a:lnTo>
                          <a:pt x="109" y="51"/>
                        </a:lnTo>
                        <a:lnTo>
                          <a:pt x="112" y="66"/>
                        </a:lnTo>
                        <a:lnTo>
                          <a:pt x="79" y="68"/>
                        </a:lnTo>
                        <a:lnTo>
                          <a:pt x="70" y="57"/>
                        </a:lnTo>
                        <a:lnTo>
                          <a:pt x="58" y="28"/>
                        </a:lnTo>
                        <a:lnTo>
                          <a:pt x="19" y="43"/>
                        </a:lnTo>
                        <a:lnTo>
                          <a:pt x="6" y="62"/>
                        </a:lnTo>
                        <a:lnTo>
                          <a:pt x="0" y="80"/>
                        </a:lnTo>
                        <a:lnTo>
                          <a:pt x="36" y="80"/>
                        </a:lnTo>
                        <a:lnTo>
                          <a:pt x="38" y="94"/>
                        </a:lnTo>
                        <a:lnTo>
                          <a:pt x="60" y="94"/>
                        </a:lnTo>
                        <a:lnTo>
                          <a:pt x="55" y="118"/>
                        </a:lnTo>
                        <a:lnTo>
                          <a:pt x="76" y="119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1926360" y="2168640"/>
                    <a:ext cx="59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79">
                        <a:moveTo>
                          <a:pt x="67" y="0"/>
                        </a:moveTo>
                        <a:lnTo>
                          <a:pt x="19" y="22"/>
                        </a:lnTo>
                        <a:lnTo>
                          <a:pt x="3" y="39"/>
                        </a:lnTo>
                        <a:lnTo>
                          <a:pt x="0" y="65"/>
                        </a:lnTo>
                        <a:lnTo>
                          <a:pt x="21" y="79"/>
                        </a:lnTo>
                        <a:lnTo>
                          <a:pt x="34" y="74"/>
                        </a:lnTo>
                        <a:lnTo>
                          <a:pt x="29" y="55"/>
                        </a:lnTo>
                        <a:lnTo>
                          <a:pt x="29" y="39"/>
                        </a:lnTo>
                        <a:lnTo>
                          <a:pt x="44" y="25"/>
                        </a:lnTo>
                        <a:lnTo>
                          <a:pt x="69" y="14"/>
                        </a:lnTo>
                        <a:lnTo>
                          <a:pt x="67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2584440" y="2870280"/>
                    <a:ext cx="20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8">
                        <a:moveTo>
                          <a:pt x="21" y="12"/>
                        </a:moveTo>
                        <a:lnTo>
                          <a:pt x="16" y="6"/>
                        </a:lnTo>
                        <a:lnTo>
                          <a:pt x="10" y="3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13"/>
                        </a:lnTo>
                        <a:lnTo>
                          <a:pt x="2" y="28"/>
                        </a:lnTo>
                        <a:lnTo>
                          <a:pt x="10" y="38"/>
                        </a:lnTo>
                        <a:lnTo>
                          <a:pt x="16" y="38"/>
                        </a:lnTo>
                        <a:lnTo>
                          <a:pt x="23" y="28"/>
                        </a:lnTo>
                        <a:lnTo>
                          <a:pt x="23" y="19"/>
                        </a:lnTo>
                        <a:lnTo>
                          <a:pt x="21" y="12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49" name=""/>
            <p:cNvSpPr/>
            <p:nvPr/>
          </p:nvSpPr>
          <p:spPr>
            <a:xfrm>
              <a:off x="1522440" y="3009960"/>
              <a:ext cx="69840" cy="84240"/>
            </a:xfrm>
            <a:custGeom>
              <a:avLst/>
              <a:gdLst/>
              <a:ahLst/>
              <a:rect l="l" t="t" r="r" b="b"/>
              <a:pathLst>
                <a:path w="84" h="108">
                  <a:moveTo>
                    <a:pt x="84" y="108"/>
                  </a:moveTo>
                  <a:lnTo>
                    <a:pt x="50" y="42"/>
                  </a:lnTo>
                  <a:lnTo>
                    <a:pt x="28" y="19"/>
                  </a:lnTo>
                  <a:lnTo>
                    <a:pt x="0" y="0"/>
                  </a:lnTo>
                  <a:lnTo>
                    <a:pt x="5" y="22"/>
                  </a:lnTo>
                  <a:lnTo>
                    <a:pt x="34" y="69"/>
                  </a:lnTo>
                  <a:lnTo>
                    <a:pt x="62" y="103"/>
                  </a:lnTo>
                  <a:lnTo>
                    <a:pt x="84" y="108"/>
                  </a:lnTo>
                  <a:close/>
                </a:path>
              </a:pathLst>
            </a:custGeom>
            <a:solidFill>
              <a:srgbClr val="ff33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641600" y="3643200"/>
            <a:ext cx="985680" cy="598680"/>
          </a:xfrm>
          <a:custGeom>
            <a:avLst/>
            <a:gdLst/>
            <a:ahLst/>
            <a:rect l="l" t="t" r="r" b="b"/>
            <a:pathLst>
              <a:path w="1148" h="753">
                <a:moveTo>
                  <a:pt x="723" y="317"/>
                </a:moveTo>
                <a:lnTo>
                  <a:pt x="732" y="330"/>
                </a:lnTo>
                <a:lnTo>
                  <a:pt x="736" y="350"/>
                </a:lnTo>
                <a:lnTo>
                  <a:pt x="713" y="379"/>
                </a:lnTo>
                <a:lnTo>
                  <a:pt x="699" y="434"/>
                </a:lnTo>
                <a:lnTo>
                  <a:pt x="712" y="463"/>
                </a:lnTo>
                <a:lnTo>
                  <a:pt x="707" y="502"/>
                </a:lnTo>
                <a:lnTo>
                  <a:pt x="727" y="533"/>
                </a:lnTo>
                <a:lnTo>
                  <a:pt x="745" y="571"/>
                </a:lnTo>
                <a:lnTo>
                  <a:pt x="784" y="581"/>
                </a:lnTo>
                <a:lnTo>
                  <a:pt x="817" y="617"/>
                </a:lnTo>
                <a:lnTo>
                  <a:pt x="856" y="624"/>
                </a:lnTo>
                <a:lnTo>
                  <a:pt x="879" y="598"/>
                </a:lnTo>
                <a:lnTo>
                  <a:pt x="917" y="592"/>
                </a:lnTo>
                <a:lnTo>
                  <a:pt x="950" y="601"/>
                </a:lnTo>
                <a:lnTo>
                  <a:pt x="986" y="588"/>
                </a:lnTo>
                <a:lnTo>
                  <a:pt x="1003" y="563"/>
                </a:lnTo>
                <a:lnTo>
                  <a:pt x="1020" y="529"/>
                </a:lnTo>
                <a:lnTo>
                  <a:pt x="1011" y="487"/>
                </a:lnTo>
                <a:lnTo>
                  <a:pt x="1079" y="479"/>
                </a:lnTo>
                <a:lnTo>
                  <a:pt x="1116" y="463"/>
                </a:lnTo>
                <a:lnTo>
                  <a:pt x="1140" y="464"/>
                </a:lnTo>
                <a:lnTo>
                  <a:pt x="1148" y="495"/>
                </a:lnTo>
                <a:lnTo>
                  <a:pt x="1095" y="548"/>
                </a:lnTo>
                <a:lnTo>
                  <a:pt x="1100" y="590"/>
                </a:lnTo>
                <a:lnTo>
                  <a:pt x="1083" y="616"/>
                </a:lnTo>
                <a:lnTo>
                  <a:pt x="1034" y="609"/>
                </a:lnTo>
                <a:lnTo>
                  <a:pt x="989" y="609"/>
                </a:lnTo>
                <a:lnTo>
                  <a:pt x="973" y="631"/>
                </a:lnTo>
                <a:lnTo>
                  <a:pt x="973" y="662"/>
                </a:lnTo>
                <a:lnTo>
                  <a:pt x="1002" y="677"/>
                </a:lnTo>
                <a:lnTo>
                  <a:pt x="997" y="697"/>
                </a:lnTo>
                <a:lnTo>
                  <a:pt x="964" y="691"/>
                </a:lnTo>
                <a:lnTo>
                  <a:pt x="945" y="695"/>
                </a:lnTo>
                <a:lnTo>
                  <a:pt x="935" y="708"/>
                </a:lnTo>
                <a:lnTo>
                  <a:pt x="936" y="733"/>
                </a:lnTo>
                <a:lnTo>
                  <a:pt x="942" y="753"/>
                </a:lnTo>
                <a:lnTo>
                  <a:pt x="898" y="742"/>
                </a:lnTo>
                <a:lnTo>
                  <a:pt x="888" y="725"/>
                </a:lnTo>
                <a:lnTo>
                  <a:pt x="873" y="704"/>
                </a:lnTo>
                <a:lnTo>
                  <a:pt x="851" y="692"/>
                </a:lnTo>
                <a:lnTo>
                  <a:pt x="826" y="692"/>
                </a:lnTo>
                <a:lnTo>
                  <a:pt x="806" y="715"/>
                </a:lnTo>
                <a:lnTo>
                  <a:pt x="775" y="730"/>
                </a:lnTo>
                <a:lnTo>
                  <a:pt x="731" y="719"/>
                </a:lnTo>
                <a:lnTo>
                  <a:pt x="684" y="715"/>
                </a:lnTo>
                <a:lnTo>
                  <a:pt x="633" y="672"/>
                </a:lnTo>
                <a:lnTo>
                  <a:pt x="577" y="647"/>
                </a:lnTo>
                <a:lnTo>
                  <a:pt x="530" y="634"/>
                </a:lnTo>
                <a:lnTo>
                  <a:pt x="501" y="631"/>
                </a:lnTo>
                <a:lnTo>
                  <a:pt x="425" y="609"/>
                </a:lnTo>
                <a:lnTo>
                  <a:pt x="387" y="555"/>
                </a:lnTo>
                <a:lnTo>
                  <a:pt x="372" y="464"/>
                </a:lnTo>
                <a:lnTo>
                  <a:pt x="341" y="411"/>
                </a:lnTo>
                <a:lnTo>
                  <a:pt x="312" y="378"/>
                </a:lnTo>
                <a:lnTo>
                  <a:pt x="273" y="350"/>
                </a:lnTo>
                <a:lnTo>
                  <a:pt x="250" y="278"/>
                </a:lnTo>
                <a:lnTo>
                  <a:pt x="213" y="229"/>
                </a:lnTo>
                <a:lnTo>
                  <a:pt x="174" y="184"/>
                </a:lnTo>
                <a:lnTo>
                  <a:pt x="147" y="112"/>
                </a:lnTo>
                <a:lnTo>
                  <a:pt x="125" y="87"/>
                </a:lnTo>
                <a:lnTo>
                  <a:pt x="84" y="70"/>
                </a:lnTo>
                <a:lnTo>
                  <a:pt x="99" y="146"/>
                </a:lnTo>
                <a:lnTo>
                  <a:pt x="117" y="205"/>
                </a:lnTo>
                <a:lnTo>
                  <a:pt x="145" y="252"/>
                </a:lnTo>
                <a:lnTo>
                  <a:pt x="170" y="308"/>
                </a:lnTo>
                <a:lnTo>
                  <a:pt x="204" y="373"/>
                </a:lnTo>
                <a:lnTo>
                  <a:pt x="237" y="437"/>
                </a:lnTo>
                <a:lnTo>
                  <a:pt x="218" y="445"/>
                </a:lnTo>
                <a:lnTo>
                  <a:pt x="175" y="380"/>
                </a:lnTo>
                <a:lnTo>
                  <a:pt x="145" y="365"/>
                </a:lnTo>
                <a:lnTo>
                  <a:pt x="135" y="314"/>
                </a:lnTo>
                <a:lnTo>
                  <a:pt x="114" y="289"/>
                </a:lnTo>
                <a:lnTo>
                  <a:pt x="111" y="249"/>
                </a:lnTo>
                <a:lnTo>
                  <a:pt x="90" y="222"/>
                </a:lnTo>
                <a:lnTo>
                  <a:pt x="69" y="214"/>
                </a:lnTo>
                <a:lnTo>
                  <a:pt x="56" y="189"/>
                </a:lnTo>
                <a:lnTo>
                  <a:pt x="69" y="161"/>
                </a:lnTo>
                <a:lnTo>
                  <a:pt x="42" y="113"/>
                </a:lnTo>
                <a:lnTo>
                  <a:pt x="19" y="84"/>
                </a:lnTo>
                <a:lnTo>
                  <a:pt x="8" y="51"/>
                </a:lnTo>
                <a:lnTo>
                  <a:pt x="0" y="0"/>
                </a:lnTo>
                <a:lnTo>
                  <a:pt x="107" y="23"/>
                </a:lnTo>
                <a:lnTo>
                  <a:pt x="182" y="70"/>
                </a:lnTo>
                <a:lnTo>
                  <a:pt x="216" y="95"/>
                </a:lnTo>
                <a:lnTo>
                  <a:pt x="307" y="87"/>
                </a:lnTo>
                <a:lnTo>
                  <a:pt x="329" y="104"/>
                </a:lnTo>
                <a:lnTo>
                  <a:pt x="430" y="100"/>
                </a:lnTo>
                <a:lnTo>
                  <a:pt x="448" y="128"/>
                </a:lnTo>
                <a:lnTo>
                  <a:pt x="468" y="193"/>
                </a:lnTo>
                <a:lnTo>
                  <a:pt x="514" y="191"/>
                </a:lnTo>
                <a:lnTo>
                  <a:pt x="528" y="155"/>
                </a:lnTo>
                <a:lnTo>
                  <a:pt x="581" y="155"/>
                </a:lnTo>
                <a:lnTo>
                  <a:pt x="623" y="217"/>
                </a:lnTo>
                <a:lnTo>
                  <a:pt x="655" y="300"/>
                </a:lnTo>
                <a:lnTo>
                  <a:pt x="689" y="320"/>
                </a:lnTo>
                <a:lnTo>
                  <a:pt x="723" y="317"/>
                </a:lnTo>
                <a:close/>
              </a:path>
            </a:pathLst>
          </a:custGeom>
          <a:solidFill>
            <a:srgbClr val="ff33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92200" y="3075120"/>
            <a:ext cx="1508040" cy="822240"/>
          </a:xfrm>
          <a:custGeom>
            <a:avLst/>
            <a:gdLst/>
            <a:ahLst/>
            <a:rect l="l" t="t" r="r" b="b"/>
            <a:pathLst>
              <a:path w="1754" h="1035">
                <a:moveTo>
                  <a:pt x="171" y="24"/>
                </a:moveTo>
                <a:lnTo>
                  <a:pt x="150" y="100"/>
                </a:lnTo>
                <a:lnTo>
                  <a:pt x="125" y="81"/>
                </a:lnTo>
                <a:lnTo>
                  <a:pt x="105" y="58"/>
                </a:lnTo>
                <a:lnTo>
                  <a:pt x="72" y="39"/>
                </a:lnTo>
                <a:lnTo>
                  <a:pt x="70" y="100"/>
                </a:lnTo>
                <a:lnTo>
                  <a:pt x="49" y="161"/>
                </a:lnTo>
                <a:lnTo>
                  <a:pt x="48" y="214"/>
                </a:lnTo>
                <a:lnTo>
                  <a:pt x="27" y="271"/>
                </a:lnTo>
                <a:lnTo>
                  <a:pt x="19" y="355"/>
                </a:lnTo>
                <a:lnTo>
                  <a:pt x="0" y="408"/>
                </a:lnTo>
                <a:lnTo>
                  <a:pt x="2" y="444"/>
                </a:lnTo>
                <a:lnTo>
                  <a:pt x="32" y="484"/>
                </a:lnTo>
                <a:lnTo>
                  <a:pt x="23" y="517"/>
                </a:lnTo>
                <a:lnTo>
                  <a:pt x="56" y="560"/>
                </a:lnTo>
                <a:lnTo>
                  <a:pt x="72" y="624"/>
                </a:lnTo>
                <a:lnTo>
                  <a:pt x="125" y="655"/>
                </a:lnTo>
                <a:lnTo>
                  <a:pt x="180" y="715"/>
                </a:lnTo>
                <a:lnTo>
                  <a:pt x="279" y="738"/>
                </a:lnTo>
                <a:lnTo>
                  <a:pt x="392" y="808"/>
                </a:lnTo>
                <a:lnTo>
                  <a:pt x="478" y="801"/>
                </a:lnTo>
                <a:lnTo>
                  <a:pt x="502" y="819"/>
                </a:lnTo>
                <a:lnTo>
                  <a:pt x="597" y="815"/>
                </a:lnTo>
                <a:lnTo>
                  <a:pt x="619" y="835"/>
                </a:lnTo>
                <a:lnTo>
                  <a:pt x="635" y="891"/>
                </a:lnTo>
                <a:lnTo>
                  <a:pt x="645" y="908"/>
                </a:lnTo>
                <a:lnTo>
                  <a:pt x="681" y="906"/>
                </a:lnTo>
                <a:lnTo>
                  <a:pt x="702" y="868"/>
                </a:lnTo>
                <a:lnTo>
                  <a:pt x="748" y="871"/>
                </a:lnTo>
                <a:lnTo>
                  <a:pt x="768" y="898"/>
                </a:lnTo>
                <a:lnTo>
                  <a:pt x="790" y="923"/>
                </a:lnTo>
                <a:lnTo>
                  <a:pt x="810" y="975"/>
                </a:lnTo>
                <a:lnTo>
                  <a:pt x="824" y="1015"/>
                </a:lnTo>
                <a:lnTo>
                  <a:pt x="860" y="1033"/>
                </a:lnTo>
                <a:lnTo>
                  <a:pt x="894" y="1035"/>
                </a:lnTo>
                <a:lnTo>
                  <a:pt x="881" y="986"/>
                </a:lnTo>
                <a:lnTo>
                  <a:pt x="879" y="952"/>
                </a:lnTo>
                <a:lnTo>
                  <a:pt x="896" y="904"/>
                </a:lnTo>
                <a:lnTo>
                  <a:pt x="924" y="891"/>
                </a:lnTo>
                <a:lnTo>
                  <a:pt x="976" y="854"/>
                </a:lnTo>
                <a:lnTo>
                  <a:pt x="1031" y="853"/>
                </a:lnTo>
                <a:lnTo>
                  <a:pt x="1083" y="858"/>
                </a:lnTo>
                <a:lnTo>
                  <a:pt x="1141" y="884"/>
                </a:lnTo>
                <a:lnTo>
                  <a:pt x="1170" y="877"/>
                </a:lnTo>
                <a:lnTo>
                  <a:pt x="1183" y="861"/>
                </a:lnTo>
                <a:lnTo>
                  <a:pt x="1122" y="838"/>
                </a:lnTo>
                <a:lnTo>
                  <a:pt x="1189" y="813"/>
                </a:lnTo>
                <a:lnTo>
                  <a:pt x="1236" y="823"/>
                </a:lnTo>
                <a:lnTo>
                  <a:pt x="1305" y="815"/>
                </a:lnTo>
                <a:lnTo>
                  <a:pt x="1352" y="816"/>
                </a:lnTo>
                <a:lnTo>
                  <a:pt x="1395" y="815"/>
                </a:lnTo>
                <a:lnTo>
                  <a:pt x="1416" y="828"/>
                </a:lnTo>
                <a:lnTo>
                  <a:pt x="1433" y="853"/>
                </a:lnTo>
                <a:lnTo>
                  <a:pt x="1440" y="906"/>
                </a:lnTo>
                <a:lnTo>
                  <a:pt x="1458" y="931"/>
                </a:lnTo>
                <a:lnTo>
                  <a:pt x="1471" y="967"/>
                </a:lnTo>
                <a:lnTo>
                  <a:pt x="1492" y="984"/>
                </a:lnTo>
                <a:lnTo>
                  <a:pt x="1516" y="996"/>
                </a:lnTo>
                <a:lnTo>
                  <a:pt x="1538" y="976"/>
                </a:lnTo>
                <a:lnTo>
                  <a:pt x="1547" y="941"/>
                </a:lnTo>
                <a:lnTo>
                  <a:pt x="1532" y="914"/>
                </a:lnTo>
                <a:lnTo>
                  <a:pt x="1478" y="846"/>
                </a:lnTo>
                <a:lnTo>
                  <a:pt x="1456" y="785"/>
                </a:lnTo>
                <a:lnTo>
                  <a:pt x="1463" y="723"/>
                </a:lnTo>
                <a:lnTo>
                  <a:pt x="1494" y="700"/>
                </a:lnTo>
                <a:lnTo>
                  <a:pt x="1524" y="662"/>
                </a:lnTo>
                <a:lnTo>
                  <a:pt x="1519" y="633"/>
                </a:lnTo>
                <a:lnTo>
                  <a:pt x="1539" y="608"/>
                </a:lnTo>
                <a:lnTo>
                  <a:pt x="1577" y="593"/>
                </a:lnTo>
                <a:lnTo>
                  <a:pt x="1586" y="555"/>
                </a:lnTo>
                <a:lnTo>
                  <a:pt x="1572" y="522"/>
                </a:lnTo>
                <a:lnTo>
                  <a:pt x="1557" y="507"/>
                </a:lnTo>
                <a:lnTo>
                  <a:pt x="1561" y="489"/>
                </a:lnTo>
                <a:lnTo>
                  <a:pt x="1539" y="480"/>
                </a:lnTo>
                <a:lnTo>
                  <a:pt x="1543" y="461"/>
                </a:lnTo>
                <a:lnTo>
                  <a:pt x="1524" y="450"/>
                </a:lnTo>
                <a:lnTo>
                  <a:pt x="1519" y="413"/>
                </a:lnTo>
                <a:lnTo>
                  <a:pt x="1546" y="436"/>
                </a:lnTo>
                <a:lnTo>
                  <a:pt x="1549" y="425"/>
                </a:lnTo>
                <a:lnTo>
                  <a:pt x="1534" y="406"/>
                </a:lnTo>
                <a:lnTo>
                  <a:pt x="1547" y="389"/>
                </a:lnTo>
                <a:lnTo>
                  <a:pt x="1561" y="407"/>
                </a:lnTo>
                <a:lnTo>
                  <a:pt x="1573" y="439"/>
                </a:lnTo>
                <a:lnTo>
                  <a:pt x="1581" y="430"/>
                </a:lnTo>
                <a:lnTo>
                  <a:pt x="1573" y="408"/>
                </a:lnTo>
                <a:lnTo>
                  <a:pt x="1586" y="389"/>
                </a:lnTo>
                <a:lnTo>
                  <a:pt x="1594" y="374"/>
                </a:lnTo>
                <a:lnTo>
                  <a:pt x="1594" y="355"/>
                </a:lnTo>
                <a:lnTo>
                  <a:pt x="1586" y="328"/>
                </a:lnTo>
                <a:lnTo>
                  <a:pt x="1594" y="297"/>
                </a:lnTo>
                <a:lnTo>
                  <a:pt x="1601" y="283"/>
                </a:lnTo>
                <a:lnTo>
                  <a:pt x="1631" y="257"/>
                </a:lnTo>
                <a:lnTo>
                  <a:pt x="1662" y="252"/>
                </a:lnTo>
                <a:lnTo>
                  <a:pt x="1688" y="242"/>
                </a:lnTo>
                <a:lnTo>
                  <a:pt x="1703" y="245"/>
                </a:lnTo>
                <a:lnTo>
                  <a:pt x="1719" y="243"/>
                </a:lnTo>
                <a:lnTo>
                  <a:pt x="1728" y="236"/>
                </a:lnTo>
                <a:lnTo>
                  <a:pt x="1713" y="236"/>
                </a:lnTo>
                <a:lnTo>
                  <a:pt x="1702" y="233"/>
                </a:lnTo>
                <a:lnTo>
                  <a:pt x="1690" y="226"/>
                </a:lnTo>
                <a:lnTo>
                  <a:pt x="1681" y="214"/>
                </a:lnTo>
                <a:lnTo>
                  <a:pt x="1684" y="181"/>
                </a:lnTo>
                <a:lnTo>
                  <a:pt x="1700" y="146"/>
                </a:lnTo>
                <a:lnTo>
                  <a:pt x="1722" y="128"/>
                </a:lnTo>
                <a:lnTo>
                  <a:pt x="1746" y="115"/>
                </a:lnTo>
                <a:lnTo>
                  <a:pt x="1754" y="85"/>
                </a:lnTo>
                <a:lnTo>
                  <a:pt x="1715" y="47"/>
                </a:lnTo>
                <a:lnTo>
                  <a:pt x="1700" y="9"/>
                </a:lnTo>
                <a:lnTo>
                  <a:pt x="1666" y="0"/>
                </a:lnTo>
                <a:lnTo>
                  <a:pt x="1647" y="24"/>
                </a:lnTo>
                <a:lnTo>
                  <a:pt x="1646" y="86"/>
                </a:lnTo>
                <a:lnTo>
                  <a:pt x="1628" y="123"/>
                </a:lnTo>
                <a:lnTo>
                  <a:pt x="1566" y="160"/>
                </a:lnTo>
                <a:lnTo>
                  <a:pt x="1530" y="155"/>
                </a:lnTo>
                <a:lnTo>
                  <a:pt x="1505" y="168"/>
                </a:lnTo>
                <a:lnTo>
                  <a:pt x="1501" y="195"/>
                </a:lnTo>
                <a:lnTo>
                  <a:pt x="1494" y="229"/>
                </a:lnTo>
                <a:lnTo>
                  <a:pt x="1466" y="253"/>
                </a:lnTo>
                <a:lnTo>
                  <a:pt x="1412" y="281"/>
                </a:lnTo>
                <a:lnTo>
                  <a:pt x="1392" y="298"/>
                </a:lnTo>
                <a:lnTo>
                  <a:pt x="1372" y="336"/>
                </a:lnTo>
                <a:lnTo>
                  <a:pt x="1348" y="345"/>
                </a:lnTo>
                <a:lnTo>
                  <a:pt x="1320" y="366"/>
                </a:lnTo>
                <a:lnTo>
                  <a:pt x="1289" y="343"/>
                </a:lnTo>
                <a:lnTo>
                  <a:pt x="1311" y="309"/>
                </a:lnTo>
                <a:lnTo>
                  <a:pt x="1312" y="283"/>
                </a:lnTo>
                <a:lnTo>
                  <a:pt x="1291" y="298"/>
                </a:lnTo>
                <a:lnTo>
                  <a:pt x="1267" y="298"/>
                </a:lnTo>
                <a:lnTo>
                  <a:pt x="1283" y="269"/>
                </a:lnTo>
                <a:lnTo>
                  <a:pt x="1289" y="245"/>
                </a:lnTo>
                <a:lnTo>
                  <a:pt x="1264" y="218"/>
                </a:lnTo>
                <a:lnTo>
                  <a:pt x="1236" y="217"/>
                </a:lnTo>
                <a:lnTo>
                  <a:pt x="1227" y="233"/>
                </a:lnTo>
                <a:lnTo>
                  <a:pt x="1212" y="229"/>
                </a:lnTo>
                <a:lnTo>
                  <a:pt x="1197" y="250"/>
                </a:lnTo>
                <a:lnTo>
                  <a:pt x="1198" y="290"/>
                </a:lnTo>
                <a:lnTo>
                  <a:pt x="1206" y="309"/>
                </a:lnTo>
                <a:lnTo>
                  <a:pt x="1213" y="336"/>
                </a:lnTo>
                <a:lnTo>
                  <a:pt x="1213" y="349"/>
                </a:lnTo>
                <a:lnTo>
                  <a:pt x="1210" y="370"/>
                </a:lnTo>
                <a:lnTo>
                  <a:pt x="1199" y="378"/>
                </a:lnTo>
                <a:lnTo>
                  <a:pt x="1183" y="381"/>
                </a:lnTo>
                <a:lnTo>
                  <a:pt x="1170" y="349"/>
                </a:lnTo>
                <a:lnTo>
                  <a:pt x="1152" y="321"/>
                </a:lnTo>
                <a:lnTo>
                  <a:pt x="1151" y="291"/>
                </a:lnTo>
                <a:lnTo>
                  <a:pt x="1160" y="260"/>
                </a:lnTo>
                <a:lnTo>
                  <a:pt x="1152" y="229"/>
                </a:lnTo>
                <a:lnTo>
                  <a:pt x="1206" y="199"/>
                </a:lnTo>
                <a:lnTo>
                  <a:pt x="1229" y="184"/>
                </a:lnTo>
                <a:lnTo>
                  <a:pt x="1160" y="191"/>
                </a:lnTo>
                <a:lnTo>
                  <a:pt x="1117" y="196"/>
                </a:lnTo>
                <a:lnTo>
                  <a:pt x="1103" y="165"/>
                </a:lnTo>
                <a:lnTo>
                  <a:pt x="1071" y="189"/>
                </a:lnTo>
                <a:lnTo>
                  <a:pt x="1083" y="162"/>
                </a:lnTo>
                <a:lnTo>
                  <a:pt x="1023" y="187"/>
                </a:lnTo>
                <a:lnTo>
                  <a:pt x="989" y="172"/>
                </a:lnTo>
                <a:lnTo>
                  <a:pt x="991" y="147"/>
                </a:lnTo>
                <a:lnTo>
                  <a:pt x="1008" y="123"/>
                </a:lnTo>
                <a:lnTo>
                  <a:pt x="924" y="92"/>
                </a:lnTo>
                <a:lnTo>
                  <a:pt x="644" y="77"/>
                </a:lnTo>
                <a:lnTo>
                  <a:pt x="498" y="72"/>
                </a:lnTo>
                <a:lnTo>
                  <a:pt x="351" y="51"/>
                </a:lnTo>
                <a:lnTo>
                  <a:pt x="171" y="24"/>
                </a:lnTo>
                <a:close/>
              </a:path>
            </a:pathLst>
          </a:custGeom>
          <a:solidFill>
            <a:srgbClr val="9ddfa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947880" y="2222640"/>
            <a:ext cx="707400" cy="660240"/>
            <a:chOff x="947880" y="2222640"/>
            <a:chExt cx="707400" cy="660240"/>
          </a:xfrm>
        </p:grpSpPr>
        <p:sp>
          <p:nvSpPr>
            <p:cNvPr id="153" name=""/>
            <p:cNvSpPr/>
            <p:nvPr/>
          </p:nvSpPr>
          <p:spPr>
            <a:xfrm>
              <a:off x="1023480" y="2222640"/>
              <a:ext cx="631800" cy="660240"/>
            </a:xfrm>
            <a:custGeom>
              <a:avLst/>
              <a:gdLst/>
              <a:ahLst/>
              <a:rect l="l" t="t" r="r" b="b"/>
              <a:pathLst>
                <a:path w="734" h="831">
                  <a:moveTo>
                    <a:pt x="734" y="215"/>
                  </a:moveTo>
                  <a:lnTo>
                    <a:pt x="504" y="505"/>
                  </a:lnTo>
                  <a:lnTo>
                    <a:pt x="554" y="525"/>
                  </a:lnTo>
                  <a:lnTo>
                    <a:pt x="527" y="559"/>
                  </a:lnTo>
                  <a:lnTo>
                    <a:pt x="569" y="566"/>
                  </a:lnTo>
                  <a:lnTo>
                    <a:pt x="596" y="672"/>
                  </a:lnTo>
                  <a:lnTo>
                    <a:pt x="622" y="778"/>
                  </a:lnTo>
                  <a:lnTo>
                    <a:pt x="596" y="831"/>
                  </a:lnTo>
                  <a:lnTo>
                    <a:pt x="588" y="736"/>
                  </a:lnTo>
                  <a:lnTo>
                    <a:pt x="565" y="702"/>
                  </a:lnTo>
                  <a:lnTo>
                    <a:pt x="554" y="615"/>
                  </a:lnTo>
                  <a:lnTo>
                    <a:pt x="527" y="672"/>
                  </a:lnTo>
                  <a:lnTo>
                    <a:pt x="504" y="599"/>
                  </a:lnTo>
                  <a:lnTo>
                    <a:pt x="493" y="536"/>
                  </a:lnTo>
                  <a:lnTo>
                    <a:pt x="478" y="486"/>
                  </a:lnTo>
                  <a:lnTo>
                    <a:pt x="466" y="479"/>
                  </a:lnTo>
                  <a:lnTo>
                    <a:pt x="417" y="494"/>
                  </a:lnTo>
                  <a:lnTo>
                    <a:pt x="376" y="437"/>
                  </a:lnTo>
                  <a:lnTo>
                    <a:pt x="369" y="471"/>
                  </a:lnTo>
                  <a:lnTo>
                    <a:pt x="338" y="452"/>
                  </a:lnTo>
                  <a:lnTo>
                    <a:pt x="293" y="464"/>
                  </a:lnTo>
                  <a:lnTo>
                    <a:pt x="319" y="422"/>
                  </a:lnTo>
                  <a:lnTo>
                    <a:pt x="369" y="414"/>
                  </a:lnTo>
                  <a:lnTo>
                    <a:pt x="380" y="384"/>
                  </a:lnTo>
                  <a:lnTo>
                    <a:pt x="331" y="376"/>
                  </a:lnTo>
                  <a:lnTo>
                    <a:pt x="300" y="403"/>
                  </a:lnTo>
                  <a:lnTo>
                    <a:pt x="281" y="365"/>
                  </a:lnTo>
                  <a:lnTo>
                    <a:pt x="255" y="388"/>
                  </a:lnTo>
                  <a:lnTo>
                    <a:pt x="247" y="433"/>
                  </a:lnTo>
                  <a:lnTo>
                    <a:pt x="228" y="456"/>
                  </a:lnTo>
                  <a:lnTo>
                    <a:pt x="175" y="448"/>
                  </a:lnTo>
                  <a:lnTo>
                    <a:pt x="118" y="467"/>
                  </a:lnTo>
                  <a:lnTo>
                    <a:pt x="68" y="464"/>
                  </a:lnTo>
                  <a:lnTo>
                    <a:pt x="0" y="429"/>
                  </a:lnTo>
                  <a:lnTo>
                    <a:pt x="11" y="395"/>
                  </a:lnTo>
                  <a:lnTo>
                    <a:pt x="57" y="429"/>
                  </a:lnTo>
                  <a:lnTo>
                    <a:pt x="83" y="426"/>
                  </a:lnTo>
                  <a:lnTo>
                    <a:pt x="118" y="441"/>
                  </a:lnTo>
                  <a:lnTo>
                    <a:pt x="144" y="418"/>
                  </a:lnTo>
                  <a:lnTo>
                    <a:pt x="148" y="399"/>
                  </a:lnTo>
                  <a:lnTo>
                    <a:pt x="182" y="388"/>
                  </a:lnTo>
                  <a:lnTo>
                    <a:pt x="159" y="346"/>
                  </a:lnTo>
                  <a:lnTo>
                    <a:pt x="152" y="325"/>
                  </a:lnTo>
                  <a:lnTo>
                    <a:pt x="121" y="310"/>
                  </a:lnTo>
                  <a:lnTo>
                    <a:pt x="156" y="276"/>
                  </a:lnTo>
                  <a:lnTo>
                    <a:pt x="133" y="246"/>
                  </a:lnTo>
                  <a:lnTo>
                    <a:pt x="152" y="230"/>
                  </a:lnTo>
                  <a:lnTo>
                    <a:pt x="163" y="234"/>
                  </a:lnTo>
                  <a:lnTo>
                    <a:pt x="167" y="196"/>
                  </a:lnTo>
                  <a:lnTo>
                    <a:pt x="171" y="166"/>
                  </a:lnTo>
                  <a:lnTo>
                    <a:pt x="201" y="158"/>
                  </a:lnTo>
                  <a:lnTo>
                    <a:pt x="232" y="158"/>
                  </a:lnTo>
                  <a:lnTo>
                    <a:pt x="251" y="162"/>
                  </a:lnTo>
                  <a:lnTo>
                    <a:pt x="323" y="196"/>
                  </a:lnTo>
                  <a:lnTo>
                    <a:pt x="357" y="158"/>
                  </a:lnTo>
                  <a:lnTo>
                    <a:pt x="289" y="90"/>
                  </a:lnTo>
                  <a:lnTo>
                    <a:pt x="315" y="86"/>
                  </a:lnTo>
                  <a:lnTo>
                    <a:pt x="304" y="49"/>
                  </a:lnTo>
                  <a:lnTo>
                    <a:pt x="327" y="41"/>
                  </a:lnTo>
                  <a:lnTo>
                    <a:pt x="346" y="57"/>
                  </a:lnTo>
                  <a:lnTo>
                    <a:pt x="365" y="57"/>
                  </a:lnTo>
                  <a:lnTo>
                    <a:pt x="369" y="76"/>
                  </a:lnTo>
                  <a:lnTo>
                    <a:pt x="357" y="90"/>
                  </a:lnTo>
                  <a:lnTo>
                    <a:pt x="398" y="131"/>
                  </a:lnTo>
                  <a:lnTo>
                    <a:pt x="424" y="101"/>
                  </a:lnTo>
                  <a:lnTo>
                    <a:pt x="409" y="86"/>
                  </a:lnTo>
                  <a:lnTo>
                    <a:pt x="424" y="45"/>
                  </a:lnTo>
                  <a:lnTo>
                    <a:pt x="424" y="15"/>
                  </a:lnTo>
                  <a:lnTo>
                    <a:pt x="462" y="0"/>
                  </a:lnTo>
                  <a:lnTo>
                    <a:pt x="493" y="7"/>
                  </a:lnTo>
                  <a:lnTo>
                    <a:pt x="497" y="26"/>
                  </a:lnTo>
                  <a:lnTo>
                    <a:pt x="520" y="38"/>
                  </a:lnTo>
                  <a:lnTo>
                    <a:pt x="539" y="26"/>
                  </a:lnTo>
                  <a:lnTo>
                    <a:pt x="561" y="19"/>
                  </a:lnTo>
                  <a:lnTo>
                    <a:pt x="611" y="30"/>
                  </a:lnTo>
                  <a:lnTo>
                    <a:pt x="641" y="45"/>
                  </a:lnTo>
                  <a:lnTo>
                    <a:pt x="637" y="76"/>
                  </a:lnTo>
                  <a:lnTo>
                    <a:pt x="646" y="93"/>
                  </a:lnTo>
                  <a:lnTo>
                    <a:pt x="681" y="93"/>
                  </a:lnTo>
                  <a:lnTo>
                    <a:pt x="684" y="120"/>
                  </a:lnTo>
                  <a:lnTo>
                    <a:pt x="703" y="139"/>
                  </a:lnTo>
                  <a:lnTo>
                    <a:pt x="734" y="215"/>
                  </a:lnTo>
                  <a:close/>
                </a:path>
              </a:pathLst>
            </a:custGeom>
            <a:solidFill>
              <a:srgbClr val="ff33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43720" y="2613240"/>
              <a:ext cx="43200" cy="2844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1" y="0"/>
                  </a:moveTo>
                  <a:lnTo>
                    <a:pt x="0" y="24"/>
                  </a:lnTo>
                  <a:lnTo>
                    <a:pt x="9" y="35"/>
                  </a:lnTo>
                  <a:lnTo>
                    <a:pt x="27" y="34"/>
                  </a:lnTo>
                  <a:lnTo>
                    <a:pt x="51" y="14"/>
                  </a:lnTo>
                  <a:lnTo>
                    <a:pt x="2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33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47880" y="2533680"/>
              <a:ext cx="37800" cy="1440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4"/>
                  </a:moveTo>
                  <a:lnTo>
                    <a:pt x="15" y="0"/>
                  </a:lnTo>
                  <a:lnTo>
                    <a:pt x="24" y="0"/>
                  </a:lnTo>
                  <a:lnTo>
                    <a:pt x="34" y="4"/>
                  </a:lnTo>
                  <a:lnTo>
                    <a:pt x="39" y="9"/>
                  </a:lnTo>
                  <a:lnTo>
                    <a:pt x="45" y="14"/>
                  </a:lnTo>
                  <a:lnTo>
                    <a:pt x="38" y="18"/>
                  </a:lnTo>
                  <a:lnTo>
                    <a:pt x="27" y="19"/>
                  </a:lnTo>
                  <a:lnTo>
                    <a:pt x="8" y="17"/>
                  </a:lnTo>
                  <a:lnTo>
                    <a:pt x="0" y="11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33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87200" y="2392560"/>
              <a:ext cx="20520" cy="2196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1" y="7"/>
                  </a:moveTo>
                  <a:lnTo>
                    <a:pt x="16" y="5"/>
                  </a:lnTo>
                  <a:lnTo>
                    <a:pt x="11" y="2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10"/>
                  </a:lnTo>
                  <a:lnTo>
                    <a:pt x="3" y="20"/>
                  </a:lnTo>
                  <a:lnTo>
                    <a:pt x="11" y="28"/>
                  </a:lnTo>
                  <a:lnTo>
                    <a:pt x="17" y="28"/>
                  </a:lnTo>
                  <a:lnTo>
                    <a:pt x="22" y="20"/>
                  </a:lnTo>
                  <a:lnTo>
                    <a:pt x="23" y="14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ff33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25000" y="2274840"/>
              <a:ext cx="41400" cy="3672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0"/>
                  </a:moveTo>
                  <a:lnTo>
                    <a:pt x="12" y="29"/>
                  </a:lnTo>
                  <a:lnTo>
                    <a:pt x="24" y="39"/>
                  </a:lnTo>
                  <a:lnTo>
                    <a:pt x="44" y="44"/>
                  </a:lnTo>
                  <a:lnTo>
                    <a:pt x="48" y="38"/>
                  </a:lnTo>
                  <a:lnTo>
                    <a:pt x="48" y="26"/>
                  </a:lnTo>
                  <a:lnTo>
                    <a:pt x="34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5421240" y="2509920"/>
            <a:ext cx="754200" cy="969840"/>
          </a:xfrm>
          <a:custGeom>
            <a:avLst/>
            <a:gdLst/>
            <a:ahLst/>
            <a:rect l="l" t="t" r="r" b="b"/>
            <a:pathLst>
              <a:path w="2187" h="3053">
                <a:moveTo>
                  <a:pt x="1454" y="73"/>
                </a:moveTo>
                <a:lnTo>
                  <a:pt x="1323" y="0"/>
                </a:lnTo>
                <a:lnTo>
                  <a:pt x="1282" y="123"/>
                </a:lnTo>
                <a:lnTo>
                  <a:pt x="1207" y="102"/>
                </a:lnTo>
                <a:lnTo>
                  <a:pt x="1238" y="133"/>
                </a:lnTo>
                <a:lnTo>
                  <a:pt x="1286" y="154"/>
                </a:lnTo>
                <a:lnTo>
                  <a:pt x="1234" y="188"/>
                </a:lnTo>
                <a:lnTo>
                  <a:pt x="1252" y="318"/>
                </a:lnTo>
                <a:lnTo>
                  <a:pt x="1214" y="356"/>
                </a:lnTo>
                <a:lnTo>
                  <a:pt x="1163" y="374"/>
                </a:lnTo>
                <a:lnTo>
                  <a:pt x="1115" y="367"/>
                </a:lnTo>
                <a:lnTo>
                  <a:pt x="1088" y="336"/>
                </a:lnTo>
                <a:lnTo>
                  <a:pt x="1064" y="320"/>
                </a:lnTo>
                <a:lnTo>
                  <a:pt x="1043" y="290"/>
                </a:lnTo>
                <a:lnTo>
                  <a:pt x="1050" y="249"/>
                </a:lnTo>
                <a:lnTo>
                  <a:pt x="1026" y="219"/>
                </a:lnTo>
                <a:lnTo>
                  <a:pt x="1088" y="198"/>
                </a:lnTo>
                <a:lnTo>
                  <a:pt x="1098" y="157"/>
                </a:lnTo>
                <a:lnTo>
                  <a:pt x="1077" y="102"/>
                </a:lnTo>
                <a:lnTo>
                  <a:pt x="1023" y="85"/>
                </a:lnTo>
                <a:lnTo>
                  <a:pt x="988" y="106"/>
                </a:lnTo>
                <a:lnTo>
                  <a:pt x="913" y="116"/>
                </a:lnTo>
                <a:lnTo>
                  <a:pt x="872" y="113"/>
                </a:lnTo>
                <a:lnTo>
                  <a:pt x="913" y="150"/>
                </a:lnTo>
                <a:lnTo>
                  <a:pt x="944" y="195"/>
                </a:lnTo>
                <a:lnTo>
                  <a:pt x="965" y="229"/>
                </a:lnTo>
                <a:lnTo>
                  <a:pt x="978" y="277"/>
                </a:lnTo>
                <a:lnTo>
                  <a:pt x="975" y="329"/>
                </a:lnTo>
                <a:lnTo>
                  <a:pt x="1002" y="353"/>
                </a:lnTo>
                <a:lnTo>
                  <a:pt x="1043" y="449"/>
                </a:lnTo>
                <a:lnTo>
                  <a:pt x="1006" y="428"/>
                </a:lnTo>
                <a:lnTo>
                  <a:pt x="958" y="408"/>
                </a:lnTo>
                <a:lnTo>
                  <a:pt x="920" y="387"/>
                </a:lnTo>
                <a:lnTo>
                  <a:pt x="906" y="466"/>
                </a:lnTo>
                <a:lnTo>
                  <a:pt x="862" y="527"/>
                </a:lnTo>
                <a:lnTo>
                  <a:pt x="828" y="555"/>
                </a:lnTo>
                <a:lnTo>
                  <a:pt x="910" y="671"/>
                </a:lnTo>
                <a:lnTo>
                  <a:pt x="896" y="705"/>
                </a:lnTo>
                <a:lnTo>
                  <a:pt x="852" y="719"/>
                </a:lnTo>
                <a:lnTo>
                  <a:pt x="787" y="702"/>
                </a:lnTo>
                <a:lnTo>
                  <a:pt x="760" y="695"/>
                </a:lnTo>
                <a:lnTo>
                  <a:pt x="722" y="684"/>
                </a:lnTo>
                <a:lnTo>
                  <a:pt x="698" y="708"/>
                </a:lnTo>
                <a:lnTo>
                  <a:pt x="712" y="739"/>
                </a:lnTo>
                <a:lnTo>
                  <a:pt x="739" y="756"/>
                </a:lnTo>
                <a:lnTo>
                  <a:pt x="801" y="749"/>
                </a:lnTo>
                <a:lnTo>
                  <a:pt x="821" y="835"/>
                </a:lnTo>
                <a:lnTo>
                  <a:pt x="770" y="848"/>
                </a:lnTo>
                <a:lnTo>
                  <a:pt x="702" y="825"/>
                </a:lnTo>
                <a:lnTo>
                  <a:pt x="626" y="787"/>
                </a:lnTo>
                <a:lnTo>
                  <a:pt x="598" y="753"/>
                </a:lnTo>
                <a:lnTo>
                  <a:pt x="557" y="606"/>
                </a:lnTo>
                <a:lnTo>
                  <a:pt x="526" y="561"/>
                </a:lnTo>
                <a:lnTo>
                  <a:pt x="465" y="520"/>
                </a:lnTo>
                <a:lnTo>
                  <a:pt x="434" y="479"/>
                </a:lnTo>
                <a:lnTo>
                  <a:pt x="413" y="438"/>
                </a:lnTo>
                <a:lnTo>
                  <a:pt x="557" y="500"/>
                </a:lnTo>
                <a:lnTo>
                  <a:pt x="667" y="510"/>
                </a:lnTo>
                <a:lnTo>
                  <a:pt x="739" y="497"/>
                </a:lnTo>
                <a:lnTo>
                  <a:pt x="770" y="479"/>
                </a:lnTo>
                <a:lnTo>
                  <a:pt x="797" y="435"/>
                </a:lnTo>
                <a:lnTo>
                  <a:pt x="811" y="397"/>
                </a:lnTo>
                <a:lnTo>
                  <a:pt x="811" y="343"/>
                </a:lnTo>
                <a:lnTo>
                  <a:pt x="749" y="307"/>
                </a:lnTo>
                <a:lnTo>
                  <a:pt x="722" y="320"/>
                </a:lnTo>
                <a:lnTo>
                  <a:pt x="617" y="256"/>
                </a:lnTo>
                <a:lnTo>
                  <a:pt x="526" y="256"/>
                </a:lnTo>
                <a:lnTo>
                  <a:pt x="393" y="266"/>
                </a:lnTo>
                <a:lnTo>
                  <a:pt x="352" y="277"/>
                </a:lnTo>
                <a:lnTo>
                  <a:pt x="331" y="277"/>
                </a:lnTo>
                <a:lnTo>
                  <a:pt x="308" y="254"/>
                </a:lnTo>
                <a:lnTo>
                  <a:pt x="325" y="205"/>
                </a:lnTo>
                <a:lnTo>
                  <a:pt x="296" y="204"/>
                </a:lnTo>
                <a:lnTo>
                  <a:pt x="279" y="232"/>
                </a:lnTo>
                <a:lnTo>
                  <a:pt x="250" y="229"/>
                </a:lnTo>
                <a:lnTo>
                  <a:pt x="228" y="236"/>
                </a:lnTo>
                <a:lnTo>
                  <a:pt x="215" y="256"/>
                </a:lnTo>
                <a:lnTo>
                  <a:pt x="183" y="284"/>
                </a:lnTo>
                <a:lnTo>
                  <a:pt x="179" y="329"/>
                </a:lnTo>
                <a:lnTo>
                  <a:pt x="172" y="346"/>
                </a:lnTo>
                <a:lnTo>
                  <a:pt x="172" y="374"/>
                </a:lnTo>
                <a:lnTo>
                  <a:pt x="204" y="395"/>
                </a:lnTo>
                <a:lnTo>
                  <a:pt x="207" y="416"/>
                </a:lnTo>
                <a:lnTo>
                  <a:pt x="227" y="442"/>
                </a:lnTo>
                <a:lnTo>
                  <a:pt x="234" y="462"/>
                </a:lnTo>
                <a:lnTo>
                  <a:pt x="235" y="490"/>
                </a:lnTo>
                <a:lnTo>
                  <a:pt x="230" y="519"/>
                </a:lnTo>
                <a:lnTo>
                  <a:pt x="243" y="569"/>
                </a:lnTo>
                <a:lnTo>
                  <a:pt x="265" y="614"/>
                </a:lnTo>
                <a:lnTo>
                  <a:pt x="260" y="684"/>
                </a:lnTo>
                <a:lnTo>
                  <a:pt x="286" y="746"/>
                </a:lnTo>
                <a:lnTo>
                  <a:pt x="292" y="804"/>
                </a:lnTo>
                <a:lnTo>
                  <a:pt x="302" y="829"/>
                </a:lnTo>
                <a:lnTo>
                  <a:pt x="346" y="864"/>
                </a:lnTo>
                <a:lnTo>
                  <a:pt x="362" y="900"/>
                </a:lnTo>
                <a:lnTo>
                  <a:pt x="362" y="930"/>
                </a:lnTo>
                <a:lnTo>
                  <a:pt x="349" y="983"/>
                </a:lnTo>
                <a:lnTo>
                  <a:pt x="343" y="994"/>
                </a:lnTo>
                <a:lnTo>
                  <a:pt x="349" y="1008"/>
                </a:lnTo>
                <a:lnTo>
                  <a:pt x="331" y="1036"/>
                </a:lnTo>
                <a:lnTo>
                  <a:pt x="306" y="1049"/>
                </a:lnTo>
                <a:lnTo>
                  <a:pt x="301" y="1066"/>
                </a:lnTo>
                <a:lnTo>
                  <a:pt x="269" y="1112"/>
                </a:lnTo>
                <a:lnTo>
                  <a:pt x="240" y="1126"/>
                </a:lnTo>
                <a:lnTo>
                  <a:pt x="236" y="1156"/>
                </a:lnTo>
                <a:lnTo>
                  <a:pt x="254" y="1154"/>
                </a:lnTo>
                <a:lnTo>
                  <a:pt x="269" y="1137"/>
                </a:lnTo>
                <a:lnTo>
                  <a:pt x="280" y="1140"/>
                </a:lnTo>
                <a:lnTo>
                  <a:pt x="287" y="1157"/>
                </a:lnTo>
                <a:lnTo>
                  <a:pt x="268" y="1171"/>
                </a:lnTo>
                <a:lnTo>
                  <a:pt x="297" y="1200"/>
                </a:lnTo>
                <a:lnTo>
                  <a:pt x="314" y="1199"/>
                </a:lnTo>
                <a:lnTo>
                  <a:pt x="335" y="1212"/>
                </a:lnTo>
                <a:lnTo>
                  <a:pt x="362" y="1237"/>
                </a:lnTo>
                <a:lnTo>
                  <a:pt x="372" y="1266"/>
                </a:lnTo>
                <a:lnTo>
                  <a:pt x="372" y="1266"/>
                </a:lnTo>
                <a:lnTo>
                  <a:pt x="336" y="1239"/>
                </a:lnTo>
                <a:lnTo>
                  <a:pt x="318" y="1225"/>
                </a:lnTo>
                <a:lnTo>
                  <a:pt x="296" y="1223"/>
                </a:lnTo>
                <a:lnTo>
                  <a:pt x="298" y="1237"/>
                </a:lnTo>
                <a:lnTo>
                  <a:pt x="280" y="1230"/>
                </a:lnTo>
                <a:lnTo>
                  <a:pt x="260" y="1230"/>
                </a:lnTo>
                <a:lnTo>
                  <a:pt x="263" y="1257"/>
                </a:lnTo>
                <a:lnTo>
                  <a:pt x="268" y="1273"/>
                </a:lnTo>
                <a:lnTo>
                  <a:pt x="260" y="1307"/>
                </a:lnTo>
                <a:lnTo>
                  <a:pt x="251" y="1318"/>
                </a:lnTo>
                <a:lnTo>
                  <a:pt x="219" y="1318"/>
                </a:lnTo>
                <a:lnTo>
                  <a:pt x="215" y="1338"/>
                </a:lnTo>
                <a:lnTo>
                  <a:pt x="232" y="1359"/>
                </a:lnTo>
                <a:lnTo>
                  <a:pt x="243" y="1394"/>
                </a:lnTo>
                <a:lnTo>
                  <a:pt x="265" y="1410"/>
                </a:lnTo>
                <a:lnTo>
                  <a:pt x="265" y="1428"/>
                </a:lnTo>
                <a:lnTo>
                  <a:pt x="256" y="1438"/>
                </a:lnTo>
                <a:lnTo>
                  <a:pt x="259" y="1451"/>
                </a:lnTo>
                <a:lnTo>
                  <a:pt x="268" y="1462"/>
                </a:lnTo>
                <a:lnTo>
                  <a:pt x="286" y="1506"/>
                </a:lnTo>
                <a:lnTo>
                  <a:pt x="303" y="1523"/>
                </a:lnTo>
                <a:lnTo>
                  <a:pt x="318" y="1530"/>
                </a:lnTo>
                <a:lnTo>
                  <a:pt x="324" y="1569"/>
                </a:lnTo>
                <a:lnTo>
                  <a:pt x="306" y="1591"/>
                </a:lnTo>
                <a:lnTo>
                  <a:pt x="283" y="1615"/>
                </a:lnTo>
                <a:lnTo>
                  <a:pt x="272" y="1633"/>
                </a:lnTo>
                <a:lnTo>
                  <a:pt x="260" y="1638"/>
                </a:lnTo>
                <a:lnTo>
                  <a:pt x="239" y="1637"/>
                </a:lnTo>
                <a:lnTo>
                  <a:pt x="231" y="1647"/>
                </a:lnTo>
                <a:lnTo>
                  <a:pt x="237" y="1655"/>
                </a:lnTo>
                <a:lnTo>
                  <a:pt x="240" y="1692"/>
                </a:lnTo>
                <a:lnTo>
                  <a:pt x="222" y="1695"/>
                </a:lnTo>
                <a:lnTo>
                  <a:pt x="205" y="1709"/>
                </a:lnTo>
                <a:lnTo>
                  <a:pt x="202" y="1733"/>
                </a:lnTo>
                <a:lnTo>
                  <a:pt x="195" y="1753"/>
                </a:lnTo>
                <a:lnTo>
                  <a:pt x="189" y="1811"/>
                </a:lnTo>
                <a:lnTo>
                  <a:pt x="168" y="1810"/>
                </a:lnTo>
                <a:lnTo>
                  <a:pt x="150" y="1815"/>
                </a:lnTo>
                <a:lnTo>
                  <a:pt x="136" y="1835"/>
                </a:lnTo>
                <a:lnTo>
                  <a:pt x="116" y="1847"/>
                </a:lnTo>
                <a:lnTo>
                  <a:pt x="96" y="1835"/>
                </a:lnTo>
                <a:lnTo>
                  <a:pt x="72" y="1839"/>
                </a:lnTo>
                <a:lnTo>
                  <a:pt x="70" y="1865"/>
                </a:lnTo>
                <a:lnTo>
                  <a:pt x="81" y="1896"/>
                </a:lnTo>
                <a:lnTo>
                  <a:pt x="88" y="1944"/>
                </a:lnTo>
                <a:lnTo>
                  <a:pt x="55" y="1988"/>
                </a:lnTo>
                <a:lnTo>
                  <a:pt x="70" y="2009"/>
                </a:lnTo>
                <a:lnTo>
                  <a:pt x="63" y="2040"/>
                </a:lnTo>
                <a:lnTo>
                  <a:pt x="65" y="2068"/>
                </a:lnTo>
                <a:lnTo>
                  <a:pt x="80" y="2081"/>
                </a:lnTo>
                <a:lnTo>
                  <a:pt x="101" y="2115"/>
                </a:lnTo>
                <a:lnTo>
                  <a:pt x="116" y="2163"/>
                </a:lnTo>
                <a:lnTo>
                  <a:pt x="114" y="2191"/>
                </a:lnTo>
                <a:lnTo>
                  <a:pt x="37" y="2263"/>
                </a:lnTo>
                <a:lnTo>
                  <a:pt x="53" y="2316"/>
                </a:lnTo>
                <a:lnTo>
                  <a:pt x="18" y="2352"/>
                </a:lnTo>
                <a:lnTo>
                  <a:pt x="0" y="2368"/>
                </a:lnTo>
                <a:lnTo>
                  <a:pt x="0" y="2390"/>
                </a:lnTo>
                <a:lnTo>
                  <a:pt x="25" y="2431"/>
                </a:lnTo>
                <a:lnTo>
                  <a:pt x="56" y="2433"/>
                </a:lnTo>
                <a:lnTo>
                  <a:pt x="68" y="2437"/>
                </a:lnTo>
                <a:lnTo>
                  <a:pt x="91" y="2424"/>
                </a:lnTo>
                <a:lnTo>
                  <a:pt x="114" y="2420"/>
                </a:lnTo>
                <a:lnTo>
                  <a:pt x="130" y="2429"/>
                </a:lnTo>
                <a:lnTo>
                  <a:pt x="153" y="2428"/>
                </a:lnTo>
                <a:lnTo>
                  <a:pt x="181" y="2417"/>
                </a:lnTo>
                <a:lnTo>
                  <a:pt x="198" y="2422"/>
                </a:lnTo>
                <a:lnTo>
                  <a:pt x="213" y="2435"/>
                </a:lnTo>
                <a:lnTo>
                  <a:pt x="235" y="2436"/>
                </a:lnTo>
                <a:lnTo>
                  <a:pt x="259" y="2418"/>
                </a:lnTo>
                <a:lnTo>
                  <a:pt x="295" y="2417"/>
                </a:lnTo>
                <a:lnTo>
                  <a:pt x="311" y="2400"/>
                </a:lnTo>
                <a:lnTo>
                  <a:pt x="334" y="2406"/>
                </a:lnTo>
                <a:lnTo>
                  <a:pt x="352" y="2445"/>
                </a:lnTo>
                <a:lnTo>
                  <a:pt x="376" y="2463"/>
                </a:lnTo>
                <a:lnTo>
                  <a:pt x="388" y="2495"/>
                </a:lnTo>
                <a:lnTo>
                  <a:pt x="410" y="2519"/>
                </a:lnTo>
                <a:lnTo>
                  <a:pt x="417" y="2540"/>
                </a:lnTo>
                <a:lnTo>
                  <a:pt x="415" y="2568"/>
                </a:lnTo>
                <a:lnTo>
                  <a:pt x="415" y="2590"/>
                </a:lnTo>
                <a:lnTo>
                  <a:pt x="432" y="2615"/>
                </a:lnTo>
                <a:lnTo>
                  <a:pt x="436" y="2656"/>
                </a:lnTo>
                <a:lnTo>
                  <a:pt x="451" y="2663"/>
                </a:lnTo>
                <a:lnTo>
                  <a:pt x="477" y="2666"/>
                </a:lnTo>
                <a:lnTo>
                  <a:pt x="513" y="2659"/>
                </a:lnTo>
                <a:lnTo>
                  <a:pt x="546" y="2666"/>
                </a:lnTo>
                <a:lnTo>
                  <a:pt x="568" y="2651"/>
                </a:lnTo>
                <a:lnTo>
                  <a:pt x="543" y="2632"/>
                </a:lnTo>
                <a:lnTo>
                  <a:pt x="534" y="2595"/>
                </a:lnTo>
                <a:lnTo>
                  <a:pt x="560" y="2629"/>
                </a:lnTo>
                <a:lnTo>
                  <a:pt x="569" y="2622"/>
                </a:lnTo>
                <a:lnTo>
                  <a:pt x="554" y="2601"/>
                </a:lnTo>
                <a:lnTo>
                  <a:pt x="574" y="2611"/>
                </a:lnTo>
                <a:lnTo>
                  <a:pt x="591" y="2600"/>
                </a:lnTo>
                <a:lnTo>
                  <a:pt x="600" y="2581"/>
                </a:lnTo>
                <a:lnTo>
                  <a:pt x="591" y="2567"/>
                </a:lnTo>
                <a:lnTo>
                  <a:pt x="569" y="2553"/>
                </a:lnTo>
                <a:lnTo>
                  <a:pt x="599" y="2556"/>
                </a:lnTo>
                <a:lnTo>
                  <a:pt x="598" y="2536"/>
                </a:lnTo>
                <a:lnTo>
                  <a:pt x="612" y="2528"/>
                </a:lnTo>
                <a:lnTo>
                  <a:pt x="629" y="2511"/>
                </a:lnTo>
                <a:lnTo>
                  <a:pt x="638" y="2509"/>
                </a:lnTo>
                <a:lnTo>
                  <a:pt x="654" y="2508"/>
                </a:lnTo>
                <a:lnTo>
                  <a:pt x="667" y="2526"/>
                </a:lnTo>
                <a:lnTo>
                  <a:pt x="638" y="2536"/>
                </a:lnTo>
                <a:lnTo>
                  <a:pt x="639" y="2548"/>
                </a:lnTo>
                <a:lnTo>
                  <a:pt x="669" y="2559"/>
                </a:lnTo>
                <a:lnTo>
                  <a:pt x="673" y="2550"/>
                </a:lnTo>
                <a:lnTo>
                  <a:pt x="689" y="2554"/>
                </a:lnTo>
                <a:lnTo>
                  <a:pt x="708" y="2549"/>
                </a:lnTo>
                <a:lnTo>
                  <a:pt x="731" y="2544"/>
                </a:lnTo>
                <a:lnTo>
                  <a:pt x="746" y="2540"/>
                </a:lnTo>
                <a:lnTo>
                  <a:pt x="752" y="2558"/>
                </a:lnTo>
                <a:lnTo>
                  <a:pt x="723" y="2577"/>
                </a:lnTo>
                <a:lnTo>
                  <a:pt x="715" y="2602"/>
                </a:lnTo>
                <a:lnTo>
                  <a:pt x="702" y="2621"/>
                </a:lnTo>
                <a:lnTo>
                  <a:pt x="698" y="2646"/>
                </a:lnTo>
                <a:lnTo>
                  <a:pt x="722" y="2654"/>
                </a:lnTo>
                <a:lnTo>
                  <a:pt x="736" y="2656"/>
                </a:lnTo>
                <a:lnTo>
                  <a:pt x="752" y="2656"/>
                </a:lnTo>
                <a:lnTo>
                  <a:pt x="762" y="2659"/>
                </a:lnTo>
                <a:lnTo>
                  <a:pt x="769" y="2679"/>
                </a:lnTo>
                <a:lnTo>
                  <a:pt x="776" y="2696"/>
                </a:lnTo>
                <a:lnTo>
                  <a:pt x="769" y="2733"/>
                </a:lnTo>
                <a:lnTo>
                  <a:pt x="798" y="2747"/>
                </a:lnTo>
                <a:lnTo>
                  <a:pt x="810" y="2737"/>
                </a:lnTo>
                <a:lnTo>
                  <a:pt x="822" y="2717"/>
                </a:lnTo>
                <a:lnTo>
                  <a:pt x="832" y="2693"/>
                </a:lnTo>
                <a:lnTo>
                  <a:pt x="852" y="2683"/>
                </a:lnTo>
                <a:lnTo>
                  <a:pt x="872" y="2668"/>
                </a:lnTo>
                <a:lnTo>
                  <a:pt x="884" y="2644"/>
                </a:lnTo>
                <a:lnTo>
                  <a:pt x="895" y="2649"/>
                </a:lnTo>
                <a:lnTo>
                  <a:pt x="906" y="2655"/>
                </a:lnTo>
                <a:lnTo>
                  <a:pt x="927" y="2659"/>
                </a:lnTo>
                <a:lnTo>
                  <a:pt x="953" y="2644"/>
                </a:lnTo>
                <a:lnTo>
                  <a:pt x="968" y="2611"/>
                </a:lnTo>
                <a:lnTo>
                  <a:pt x="943" y="2611"/>
                </a:lnTo>
                <a:lnTo>
                  <a:pt x="926" y="2621"/>
                </a:lnTo>
                <a:lnTo>
                  <a:pt x="917" y="2609"/>
                </a:lnTo>
                <a:lnTo>
                  <a:pt x="903" y="2622"/>
                </a:lnTo>
                <a:lnTo>
                  <a:pt x="881" y="2622"/>
                </a:lnTo>
                <a:lnTo>
                  <a:pt x="864" y="2614"/>
                </a:lnTo>
                <a:lnTo>
                  <a:pt x="859" y="2588"/>
                </a:lnTo>
                <a:lnTo>
                  <a:pt x="844" y="2569"/>
                </a:lnTo>
                <a:lnTo>
                  <a:pt x="832" y="2559"/>
                </a:lnTo>
                <a:lnTo>
                  <a:pt x="826" y="2554"/>
                </a:lnTo>
                <a:lnTo>
                  <a:pt x="813" y="2547"/>
                </a:lnTo>
                <a:lnTo>
                  <a:pt x="784" y="2543"/>
                </a:lnTo>
                <a:lnTo>
                  <a:pt x="761" y="2520"/>
                </a:lnTo>
                <a:lnTo>
                  <a:pt x="796" y="2517"/>
                </a:lnTo>
                <a:lnTo>
                  <a:pt x="827" y="2509"/>
                </a:lnTo>
                <a:lnTo>
                  <a:pt x="848" y="2485"/>
                </a:lnTo>
                <a:lnTo>
                  <a:pt x="929" y="2451"/>
                </a:lnTo>
                <a:lnTo>
                  <a:pt x="978" y="2417"/>
                </a:lnTo>
                <a:lnTo>
                  <a:pt x="1053" y="2396"/>
                </a:lnTo>
                <a:lnTo>
                  <a:pt x="1111" y="2377"/>
                </a:lnTo>
                <a:lnTo>
                  <a:pt x="1149" y="2379"/>
                </a:lnTo>
                <a:lnTo>
                  <a:pt x="1101" y="2417"/>
                </a:lnTo>
                <a:lnTo>
                  <a:pt x="1132" y="2434"/>
                </a:lnTo>
                <a:lnTo>
                  <a:pt x="1070" y="2441"/>
                </a:lnTo>
                <a:lnTo>
                  <a:pt x="1073" y="2466"/>
                </a:lnTo>
                <a:lnTo>
                  <a:pt x="1117" y="2494"/>
                </a:lnTo>
                <a:lnTo>
                  <a:pt x="1084" y="2496"/>
                </a:lnTo>
                <a:lnTo>
                  <a:pt x="1060" y="2526"/>
                </a:lnTo>
                <a:lnTo>
                  <a:pt x="1047" y="2554"/>
                </a:lnTo>
                <a:lnTo>
                  <a:pt x="1043" y="2598"/>
                </a:lnTo>
                <a:lnTo>
                  <a:pt x="1020" y="2625"/>
                </a:lnTo>
                <a:lnTo>
                  <a:pt x="1007" y="2622"/>
                </a:lnTo>
                <a:lnTo>
                  <a:pt x="988" y="2616"/>
                </a:lnTo>
                <a:lnTo>
                  <a:pt x="999" y="2639"/>
                </a:lnTo>
                <a:lnTo>
                  <a:pt x="984" y="2651"/>
                </a:lnTo>
                <a:lnTo>
                  <a:pt x="1028" y="2666"/>
                </a:lnTo>
                <a:lnTo>
                  <a:pt x="1064" y="2697"/>
                </a:lnTo>
                <a:lnTo>
                  <a:pt x="1129" y="2706"/>
                </a:lnTo>
                <a:lnTo>
                  <a:pt x="1214" y="2714"/>
                </a:lnTo>
                <a:lnTo>
                  <a:pt x="1269" y="2724"/>
                </a:lnTo>
                <a:lnTo>
                  <a:pt x="1333" y="2734"/>
                </a:lnTo>
                <a:lnTo>
                  <a:pt x="1404" y="2756"/>
                </a:lnTo>
                <a:lnTo>
                  <a:pt x="1439" y="2764"/>
                </a:lnTo>
                <a:lnTo>
                  <a:pt x="1467" y="2789"/>
                </a:lnTo>
                <a:lnTo>
                  <a:pt x="1477" y="2820"/>
                </a:lnTo>
                <a:lnTo>
                  <a:pt x="1480" y="2856"/>
                </a:lnTo>
                <a:lnTo>
                  <a:pt x="1544" y="2860"/>
                </a:lnTo>
                <a:lnTo>
                  <a:pt x="1569" y="2830"/>
                </a:lnTo>
                <a:lnTo>
                  <a:pt x="1589" y="2835"/>
                </a:lnTo>
                <a:lnTo>
                  <a:pt x="1593" y="2851"/>
                </a:lnTo>
                <a:lnTo>
                  <a:pt x="1644" y="2862"/>
                </a:lnTo>
                <a:lnTo>
                  <a:pt x="1671" y="2928"/>
                </a:lnTo>
                <a:lnTo>
                  <a:pt x="1765" y="2931"/>
                </a:lnTo>
                <a:lnTo>
                  <a:pt x="1796" y="2970"/>
                </a:lnTo>
                <a:lnTo>
                  <a:pt x="1822" y="2988"/>
                </a:lnTo>
                <a:lnTo>
                  <a:pt x="1853" y="2992"/>
                </a:lnTo>
                <a:lnTo>
                  <a:pt x="1890" y="3016"/>
                </a:lnTo>
                <a:lnTo>
                  <a:pt x="1931" y="3002"/>
                </a:lnTo>
                <a:lnTo>
                  <a:pt x="1948" y="2978"/>
                </a:lnTo>
                <a:lnTo>
                  <a:pt x="1969" y="2945"/>
                </a:lnTo>
                <a:lnTo>
                  <a:pt x="2006" y="2949"/>
                </a:lnTo>
                <a:lnTo>
                  <a:pt x="2023" y="2968"/>
                </a:lnTo>
                <a:lnTo>
                  <a:pt x="2010" y="3012"/>
                </a:lnTo>
                <a:lnTo>
                  <a:pt x="2082" y="3053"/>
                </a:lnTo>
                <a:lnTo>
                  <a:pt x="2082" y="2995"/>
                </a:lnTo>
                <a:lnTo>
                  <a:pt x="2082" y="2975"/>
                </a:lnTo>
                <a:lnTo>
                  <a:pt x="2095" y="2964"/>
                </a:lnTo>
                <a:lnTo>
                  <a:pt x="2116" y="2999"/>
                </a:lnTo>
                <a:lnTo>
                  <a:pt x="2102" y="2902"/>
                </a:lnTo>
                <a:lnTo>
                  <a:pt x="2123" y="2861"/>
                </a:lnTo>
                <a:lnTo>
                  <a:pt x="2143" y="2840"/>
                </a:lnTo>
                <a:lnTo>
                  <a:pt x="2170" y="2820"/>
                </a:lnTo>
                <a:lnTo>
                  <a:pt x="2112" y="2810"/>
                </a:lnTo>
                <a:lnTo>
                  <a:pt x="2082" y="2810"/>
                </a:lnTo>
                <a:lnTo>
                  <a:pt x="1979" y="2717"/>
                </a:lnTo>
                <a:lnTo>
                  <a:pt x="1931" y="2666"/>
                </a:lnTo>
                <a:lnTo>
                  <a:pt x="1911" y="2564"/>
                </a:lnTo>
                <a:lnTo>
                  <a:pt x="1901" y="2625"/>
                </a:lnTo>
                <a:lnTo>
                  <a:pt x="1887" y="2560"/>
                </a:lnTo>
                <a:lnTo>
                  <a:pt x="1825" y="2502"/>
                </a:lnTo>
                <a:lnTo>
                  <a:pt x="1795" y="2451"/>
                </a:lnTo>
                <a:lnTo>
                  <a:pt x="1805" y="2389"/>
                </a:lnTo>
                <a:lnTo>
                  <a:pt x="1825" y="2348"/>
                </a:lnTo>
                <a:lnTo>
                  <a:pt x="1846" y="2288"/>
                </a:lnTo>
                <a:lnTo>
                  <a:pt x="1877" y="2238"/>
                </a:lnTo>
                <a:lnTo>
                  <a:pt x="1877" y="2238"/>
                </a:lnTo>
                <a:lnTo>
                  <a:pt x="1877" y="2197"/>
                </a:lnTo>
                <a:lnTo>
                  <a:pt x="1948" y="2197"/>
                </a:lnTo>
                <a:lnTo>
                  <a:pt x="1875" y="2196"/>
                </a:lnTo>
                <a:lnTo>
                  <a:pt x="1871" y="2250"/>
                </a:lnTo>
                <a:lnTo>
                  <a:pt x="1834" y="2301"/>
                </a:lnTo>
                <a:lnTo>
                  <a:pt x="1825" y="2342"/>
                </a:lnTo>
                <a:lnTo>
                  <a:pt x="1805" y="2380"/>
                </a:lnTo>
                <a:lnTo>
                  <a:pt x="1798" y="2414"/>
                </a:lnTo>
                <a:lnTo>
                  <a:pt x="1796" y="2451"/>
                </a:lnTo>
                <a:lnTo>
                  <a:pt x="1828" y="2506"/>
                </a:lnTo>
                <a:lnTo>
                  <a:pt x="1862" y="2535"/>
                </a:lnTo>
                <a:lnTo>
                  <a:pt x="1880" y="2556"/>
                </a:lnTo>
                <a:lnTo>
                  <a:pt x="1896" y="2626"/>
                </a:lnTo>
                <a:lnTo>
                  <a:pt x="1912" y="2565"/>
                </a:lnTo>
                <a:lnTo>
                  <a:pt x="1896" y="2622"/>
                </a:lnTo>
                <a:lnTo>
                  <a:pt x="1887" y="2585"/>
                </a:lnTo>
                <a:lnTo>
                  <a:pt x="1882" y="2560"/>
                </a:lnTo>
                <a:lnTo>
                  <a:pt x="1864" y="2537"/>
                </a:lnTo>
                <a:lnTo>
                  <a:pt x="1846" y="2524"/>
                </a:lnTo>
                <a:lnTo>
                  <a:pt x="1825" y="2508"/>
                </a:lnTo>
                <a:lnTo>
                  <a:pt x="1816" y="2490"/>
                </a:lnTo>
                <a:lnTo>
                  <a:pt x="1805" y="2474"/>
                </a:lnTo>
                <a:lnTo>
                  <a:pt x="1798" y="2453"/>
                </a:lnTo>
                <a:lnTo>
                  <a:pt x="1798" y="2439"/>
                </a:lnTo>
                <a:lnTo>
                  <a:pt x="1800" y="2412"/>
                </a:lnTo>
                <a:lnTo>
                  <a:pt x="1816" y="2367"/>
                </a:lnTo>
                <a:lnTo>
                  <a:pt x="1830" y="2339"/>
                </a:lnTo>
                <a:lnTo>
                  <a:pt x="1832" y="2316"/>
                </a:lnTo>
                <a:lnTo>
                  <a:pt x="1841" y="2296"/>
                </a:lnTo>
                <a:lnTo>
                  <a:pt x="1855" y="2275"/>
                </a:lnTo>
                <a:lnTo>
                  <a:pt x="1866" y="2257"/>
                </a:lnTo>
                <a:lnTo>
                  <a:pt x="1875" y="2237"/>
                </a:lnTo>
                <a:lnTo>
                  <a:pt x="1875" y="2212"/>
                </a:lnTo>
                <a:lnTo>
                  <a:pt x="1880" y="2196"/>
                </a:lnTo>
                <a:lnTo>
                  <a:pt x="1916" y="2198"/>
                </a:lnTo>
                <a:lnTo>
                  <a:pt x="1948" y="2196"/>
                </a:lnTo>
                <a:lnTo>
                  <a:pt x="1976" y="2166"/>
                </a:lnTo>
                <a:lnTo>
                  <a:pt x="1994" y="2143"/>
                </a:lnTo>
                <a:lnTo>
                  <a:pt x="2017" y="2127"/>
                </a:lnTo>
                <a:lnTo>
                  <a:pt x="1980" y="2080"/>
                </a:lnTo>
                <a:lnTo>
                  <a:pt x="1942" y="2032"/>
                </a:lnTo>
                <a:lnTo>
                  <a:pt x="1942" y="1957"/>
                </a:lnTo>
                <a:lnTo>
                  <a:pt x="2017" y="1916"/>
                </a:lnTo>
                <a:lnTo>
                  <a:pt x="2105" y="1888"/>
                </a:lnTo>
                <a:lnTo>
                  <a:pt x="2181" y="1847"/>
                </a:lnTo>
                <a:lnTo>
                  <a:pt x="2187" y="1799"/>
                </a:lnTo>
                <a:lnTo>
                  <a:pt x="2105" y="1738"/>
                </a:lnTo>
                <a:lnTo>
                  <a:pt x="2023" y="1656"/>
                </a:lnTo>
                <a:lnTo>
                  <a:pt x="1962" y="1608"/>
                </a:lnTo>
                <a:lnTo>
                  <a:pt x="1969" y="1492"/>
                </a:lnTo>
                <a:lnTo>
                  <a:pt x="1853" y="1383"/>
                </a:lnTo>
                <a:lnTo>
                  <a:pt x="1737" y="1225"/>
                </a:lnTo>
                <a:lnTo>
                  <a:pt x="1648" y="1061"/>
                </a:lnTo>
                <a:lnTo>
                  <a:pt x="1593" y="918"/>
                </a:lnTo>
                <a:lnTo>
                  <a:pt x="1525" y="754"/>
                </a:lnTo>
                <a:lnTo>
                  <a:pt x="1484" y="604"/>
                </a:lnTo>
                <a:lnTo>
                  <a:pt x="1497" y="467"/>
                </a:lnTo>
                <a:lnTo>
                  <a:pt x="1532" y="344"/>
                </a:lnTo>
                <a:lnTo>
                  <a:pt x="1545" y="200"/>
                </a:lnTo>
                <a:lnTo>
                  <a:pt x="1532" y="105"/>
                </a:lnTo>
                <a:lnTo>
                  <a:pt x="1454" y="73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6680" y="3344760"/>
            <a:ext cx="120600" cy="157320"/>
          </a:xfrm>
          <a:custGeom>
            <a:avLst/>
            <a:gdLst/>
            <a:ahLst/>
            <a:rect l="l" t="t" r="r" b="b"/>
            <a:pathLst>
              <a:path w="348" h="495">
                <a:moveTo>
                  <a:pt x="176" y="4"/>
                </a:moveTo>
                <a:lnTo>
                  <a:pt x="202" y="0"/>
                </a:lnTo>
                <a:lnTo>
                  <a:pt x="219" y="19"/>
                </a:lnTo>
                <a:lnTo>
                  <a:pt x="221" y="42"/>
                </a:lnTo>
                <a:lnTo>
                  <a:pt x="228" y="47"/>
                </a:lnTo>
                <a:lnTo>
                  <a:pt x="240" y="43"/>
                </a:lnTo>
                <a:lnTo>
                  <a:pt x="280" y="59"/>
                </a:lnTo>
                <a:lnTo>
                  <a:pt x="291" y="51"/>
                </a:lnTo>
                <a:lnTo>
                  <a:pt x="307" y="50"/>
                </a:lnTo>
                <a:lnTo>
                  <a:pt x="318" y="64"/>
                </a:lnTo>
                <a:lnTo>
                  <a:pt x="327" y="86"/>
                </a:lnTo>
                <a:lnTo>
                  <a:pt x="339" y="101"/>
                </a:lnTo>
                <a:lnTo>
                  <a:pt x="348" y="109"/>
                </a:lnTo>
                <a:lnTo>
                  <a:pt x="345" y="117"/>
                </a:lnTo>
                <a:lnTo>
                  <a:pt x="315" y="125"/>
                </a:lnTo>
                <a:lnTo>
                  <a:pt x="282" y="143"/>
                </a:lnTo>
                <a:lnTo>
                  <a:pt x="284" y="174"/>
                </a:lnTo>
                <a:lnTo>
                  <a:pt x="264" y="190"/>
                </a:lnTo>
                <a:lnTo>
                  <a:pt x="248" y="204"/>
                </a:lnTo>
                <a:lnTo>
                  <a:pt x="246" y="233"/>
                </a:lnTo>
                <a:lnTo>
                  <a:pt x="246" y="253"/>
                </a:lnTo>
                <a:lnTo>
                  <a:pt x="233" y="266"/>
                </a:lnTo>
                <a:lnTo>
                  <a:pt x="223" y="253"/>
                </a:lnTo>
                <a:lnTo>
                  <a:pt x="205" y="258"/>
                </a:lnTo>
                <a:lnTo>
                  <a:pt x="203" y="268"/>
                </a:lnTo>
                <a:lnTo>
                  <a:pt x="199" y="293"/>
                </a:lnTo>
                <a:lnTo>
                  <a:pt x="206" y="302"/>
                </a:lnTo>
                <a:lnTo>
                  <a:pt x="203" y="326"/>
                </a:lnTo>
                <a:lnTo>
                  <a:pt x="191" y="337"/>
                </a:lnTo>
                <a:lnTo>
                  <a:pt x="176" y="356"/>
                </a:lnTo>
                <a:lnTo>
                  <a:pt x="170" y="372"/>
                </a:lnTo>
                <a:lnTo>
                  <a:pt x="173" y="402"/>
                </a:lnTo>
                <a:lnTo>
                  <a:pt x="186" y="419"/>
                </a:lnTo>
                <a:lnTo>
                  <a:pt x="178" y="429"/>
                </a:lnTo>
                <a:lnTo>
                  <a:pt x="145" y="440"/>
                </a:lnTo>
                <a:lnTo>
                  <a:pt x="132" y="452"/>
                </a:lnTo>
                <a:lnTo>
                  <a:pt x="131" y="466"/>
                </a:lnTo>
                <a:lnTo>
                  <a:pt x="131" y="491"/>
                </a:lnTo>
                <a:lnTo>
                  <a:pt x="93" y="491"/>
                </a:lnTo>
                <a:lnTo>
                  <a:pt x="67" y="495"/>
                </a:lnTo>
                <a:lnTo>
                  <a:pt x="38" y="461"/>
                </a:lnTo>
                <a:lnTo>
                  <a:pt x="22" y="461"/>
                </a:lnTo>
                <a:lnTo>
                  <a:pt x="8" y="461"/>
                </a:lnTo>
                <a:lnTo>
                  <a:pt x="0" y="449"/>
                </a:lnTo>
                <a:lnTo>
                  <a:pt x="8" y="436"/>
                </a:lnTo>
                <a:lnTo>
                  <a:pt x="25" y="411"/>
                </a:lnTo>
                <a:lnTo>
                  <a:pt x="34" y="386"/>
                </a:lnTo>
                <a:lnTo>
                  <a:pt x="55" y="356"/>
                </a:lnTo>
                <a:lnTo>
                  <a:pt x="59" y="339"/>
                </a:lnTo>
                <a:lnTo>
                  <a:pt x="50" y="327"/>
                </a:lnTo>
                <a:lnTo>
                  <a:pt x="38" y="315"/>
                </a:lnTo>
                <a:lnTo>
                  <a:pt x="34" y="309"/>
                </a:lnTo>
                <a:lnTo>
                  <a:pt x="50" y="304"/>
                </a:lnTo>
                <a:lnTo>
                  <a:pt x="59" y="287"/>
                </a:lnTo>
                <a:lnTo>
                  <a:pt x="42" y="282"/>
                </a:lnTo>
                <a:lnTo>
                  <a:pt x="25" y="291"/>
                </a:lnTo>
                <a:lnTo>
                  <a:pt x="25" y="270"/>
                </a:lnTo>
                <a:lnTo>
                  <a:pt x="34" y="257"/>
                </a:lnTo>
                <a:lnTo>
                  <a:pt x="42" y="245"/>
                </a:lnTo>
                <a:lnTo>
                  <a:pt x="47" y="228"/>
                </a:lnTo>
                <a:lnTo>
                  <a:pt x="50" y="215"/>
                </a:lnTo>
                <a:lnTo>
                  <a:pt x="59" y="212"/>
                </a:lnTo>
                <a:lnTo>
                  <a:pt x="72" y="220"/>
                </a:lnTo>
                <a:lnTo>
                  <a:pt x="93" y="190"/>
                </a:lnTo>
                <a:lnTo>
                  <a:pt x="106" y="170"/>
                </a:lnTo>
                <a:lnTo>
                  <a:pt x="139" y="131"/>
                </a:lnTo>
                <a:lnTo>
                  <a:pt x="139" y="115"/>
                </a:lnTo>
                <a:lnTo>
                  <a:pt x="156" y="89"/>
                </a:lnTo>
                <a:lnTo>
                  <a:pt x="161" y="59"/>
                </a:lnTo>
                <a:lnTo>
                  <a:pt x="169" y="43"/>
                </a:lnTo>
                <a:lnTo>
                  <a:pt x="176" y="4"/>
                </a:lnTo>
                <a:close/>
              </a:path>
            </a:pathLst>
          </a:custGeom>
          <a:solidFill>
            <a:srgbClr val="ff33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621320" y="3295800"/>
            <a:ext cx="328320" cy="258480"/>
            <a:chOff x="4621320" y="3295800"/>
            <a:chExt cx="328320" cy="258480"/>
          </a:xfrm>
        </p:grpSpPr>
        <p:sp>
          <p:nvSpPr>
            <p:cNvPr id="161" name=""/>
            <p:cNvSpPr/>
            <p:nvPr/>
          </p:nvSpPr>
          <p:spPr>
            <a:xfrm>
              <a:off x="4621320" y="3295800"/>
              <a:ext cx="316440" cy="258480"/>
            </a:xfrm>
            <a:custGeom>
              <a:avLst/>
              <a:gdLst/>
              <a:ahLst/>
              <a:rect l="l" t="t" r="r" b="b"/>
              <a:pathLst>
                <a:path w="921" h="816">
                  <a:moveTo>
                    <a:pt x="47" y="160"/>
                  </a:moveTo>
                  <a:lnTo>
                    <a:pt x="42" y="148"/>
                  </a:lnTo>
                  <a:lnTo>
                    <a:pt x="47" y="131"/>
                  </a:lnTo>
                  <a:lnTo>
                    <a:pt x="72" y="89"/>
                  </a:lnTo>
                  <a:lnTo>
                    <a:pt x="59" y="80"/>
                  </a:lnTo>
                  <a:lnTo>
                    <a:pt x="64" y="67"/>
                  </a:lnTo>
                  <a:lnTo>
                    <a:pt x="50" y="64"/>
                  </a:lnTo>
                  <a:lnTo>
                    <a:pt x="50" y="47"/>
                  </a:lnTo>
                  <a:lnTo>
                    <a:pt x="59" y="34"/>
                  </a:lnTo>
                  <a:lnTo>
                    <a:pt x="101" y="22"/>
                  </a:lnTo>
                  <a:lnTo>
                    <a:pt x="135" y="25"/>
                  </a:lnTo>
                  <a:lnTo>
                    <a:pt x="139" y="12"/>
                  </a:lnTo>
                  <a:lnTo>
                    <a:pt x="164" y="0"/>
                  </a:lnTo>
                  <a:lnTo>
                    <a:pt x="178" y="4"/>
                  </a:lnTo>
                  <a:lnTo>
                    <a:pt x="206" y="42"/>
                  </a:lnTo>
                  <a:lnTo>
                    <a:pt x="253" y="64"/>
                  </a:lnTo>
                  <a:lnTo>
                    <a:pt x="295" y="64"/>
                  </a:lnTo>
                  <a:lnTo>
                    <a:pt x="306" y="67"/>
                  </a:lnTo>
                  <a:lnTo>
                    <a:pt x="419" y="131"/>
                  </a:lnTo>
                  <a:lnTo>
                    <a:pt x="453" y="135"/>
                  </a:lnTo>
                  <a:lnTo>
                    <a:pt x="478" y="160"/>
                  </a:lnTo>
                  <a:lnTo>
                    <a:pt x="516" y="151"/>
                  </a:lnTo>
                  <a:lnTo>
                    <a:pt x="537" y="165"/>
                  </a:lnTo>
                  <a:lnTo>
                    <a:pt x="559" y="186"/>
                  </a:lnTo>
                  <a:lnTo>
                    <a:pt x="584" y="186"/>
                  </a:lnTo>
                  <a:lnTo>
                    <a:pt x="601" y="190"/>
                  </a:lnTo>
                  <a:lnTo>
                    <a:pt x="609" y="198"/>
                  </a:lnTo>
                  <a:lnTo>
                    <a:pt x="601" y="211"/>
                  </a:lnTo>
                  <a:lnTo>
                    <a:pt x="601" y="228"/>
                  </a:lnTo>
                  <a:lnTo>
                    <a:pt x="668" y="274"/>
                  </a:lnTo>
                  <a:lnTo>
                    <a:pt x="706" y="304"/>
                  </a:lnTo>
                  <a:lnTo>
                    <a:pt x="723" y="299"/>
                  </a:lnTo>
                  <a:lnTo>
                    <a:pt x="743" y="295"/>
                  </a:lnTo>
                  <a:lnTo>
                    <a:pt x="807" y="324"/>
                  </a:lnTo>
                  <a:lnTo>
                    <a:pt x="815" y="346"/>
                  </a:lnTo>
                  <a:lnTo>
                    <a:pt x="824" y="354"/>
                  </a:lnTo>
                  <a:lnTo>
                    <a:pt x="845" y="359"/>
                  </a:lnTo>
                  <a:lnTo>
                    <a:pt x="857" y="367"/>
                  </a:lnTo>
                  <a:lnTo>
                    <a:pt x="874" y="367"/>
                  </a:lnTo>
                  <a:lnTo>
                    <a:pt x="891" y="367"/>
                  </a:lnTo>
                  <a:lnTo>
                    <a:pt x="909" y="371"/>
                  </a:lnTo>
                  <a:lnTo>
                    <a:pt x="913" y="367"/>
                  </a:lnTo>
                  <a:lnTo>
                    <a:pt x="921" y="384"/>
                  </a:lnTo>
                  <a:lnTo>
                    <a:pt x="921" y="405"/>
                  </a:lnTo>
                  <a:lnTo>
                    <a:pt x="909" y="418"/>
                  </a:lnTo>
                  <a:lnTo>
                    <a:pt x="841" y="467"/>
                  </a:lnTo>
                  <a:lnTo>
                    <a:pt x="812" y="467"/>
                  </a:lnTo>
                  <a:lnTo>
                    <a:pt x="728" y="487"/>
                  </a:lnTo>
                  <a:lnTo>
                    <a:pt x="698" y="492"/>
                  </a:lnTo>
                  <a:lnTo>
                    <a:pt x="698" y="517"/>
                  </a:lnTo>
                  <a:lnTo>
                    <a:pt x="681" y="517"/>
                  </a:lnTo>
                  <a:lnTo>
                    <a:pt x="664" y="529"/>
                  </a:lnTo>
                  <a:lnTo>
                    <a:pt x="647" y="551"/>
                  </a:lnTo>
                  <a:lnTo>
                    <a:pt x="630" y="567"/>
                  </a:lnTo>
                  <a:lnTo>
                    <a:pt x="609" y="572"/>
                  </a:lnTo>
                  <a:lnTo>
                    <a:pt x="592" y="593"/>
                  </a:lnTo>
                  <a:lnTo>
                    <a:pt x="592" y="623"/>
                  </a:lnTo>
                  <a:lnTo>
                    <a:pt x="605" y="639"/>
                  </a:lnTo>
                  <a:lnTo>
                    <a:pt x="609" y="651"/>
                  </a:lnTo>
                  <a:lnTo>
                    <a:pt x="609" y="673"/>
                  </a:lnTo>
                  <a:lnTo>
                    <a:pt x="605" y="681"/>
                  </a:lnTo>
                  <a:lnTo>
                    <a:pt x="587" y="686"/>
                  </a:lnTo>
                  <a:lnTo>
                    <a:pt x="562" y="707"/>
                  </a:lnTo>
                  <a:lnTo>
                    <a:pt x="529" y="737"/>
                  </a:lnTo>
                  <a:lnTo>
                    <a:pt x="516" y="749"/>
                  </a:lnTo>
                  <a:lnTo>
                    <a:pt x="508" y="757"/>
                  </a:lnTo>
                  <a:lnTo>
                    <a:pt x="508" y="770"/>
                  </a:lnTo>
                  <a:lnTo>
                    <a:pt x="470" y="770"/>
                  </a:lnTo>
                  <a:lnTo>
                    <a:pt x="449" y="774"/>
                  </a:lnTo>
                  <a:lnTo>
                    <a:pt x="431" y="779"/>
                  </a:lnTo>
                  <a:lnTo>
                    <a:pt x="424" y="787"/>
                  </a:lnTo>
                  <a:lnTo>
                    <a:pt x="411" y="804"/>
                  </a:lnTo>
                  <a:lnTo>
                    <a:pt x="389" y="812"/>
                  </a:lnTo>
                  <a:lnTo>
                    <a:pt x="377" y="812"/>
                  </a:lnTo>
                  <a:lnTo>
                    <a:pt x="352" y="809"/>
                  </a:lnTo>
                  <a:lnTo>
                    <a:pt x="310" y="804"/>
                  </a:lnTo>
                  <a:lnTo>
                    <a:pt x="236" y="774"/>
                  </a:lnTo>
                  <a:lnTo>
                    <a:pt x="206" y="770"/>
                  </a:lnTo>
                  <a:lnTo>
                    <a:pt x="178" y="779"/>
                  </a:lnTo>
                  <a:lnTo>
                    <a:pt x="156" y="791"/>
                  </a:lnTo>
                  <a:lnTo>
                    <a:pt x="131" y="795"/>
                  </a:lnTo>
                  <a:lnTo>
                    <a:pt x="109" y="809"/>
                  </a:lnTo>
                  <a:lnTo>
                    <a:pt x="97" y="816"/>
                  </a:lnTo>
                  <a:lnTo>
                    <a:pt x="50" y="766"/>
                  </a:lnTo>
                  <a:lnTo>
                    <a:pt x="50" y="695"/>
                  </a:lnTo>
                  <a:lnTo>
                    <a:pt x="30" y="668"/>
                  </a:lnTo>
                  <a:lnTo>
                    <a:pt x="4" y="648"/>
                  </a:lnTo>
                  <a:lnTo>
                    <a:pt x="0" y="635"/>
                  </a:lnTo>
                  <a:lnTo>
                    <a:pt x="0" y="609"/>
                  </a:lnTo>
                  <a:lnTo>
                    <a:pt x="12" y="597"/>
                  </a:lnTo>
                  <a:lnTo>
                    <a:pt x="47" y="584"/>
                  </a:lnTo>
                  <a:lnTo>
                    <a:pt x="55" y="576"/>
                  </a:lnTo>
                  <a:lnTo>
                    <a:pt x="42" y="559"/>
                  </a:lnTo>
                  <a:lnTo>
                    <a:pt x="38" y="529"/>
                  </a:lnTo>
                  <a:lnTo>
                    <a:pt x="50" y="504"/>
                  </a:lnTo>
                  <a:lnTo>
                    <a:pt x="76" y="479"/>
                  </a:lnTo>
                  <a:lnTo>
                    <a:pt x="76" y="460"/>
                  </a:lnTo>
                  <a:lnTo>
                    <a:pt x="67" y="443"/>
                  </a:lnTo>
                  <a:lnTo>
                    <a:pt x="76" y="413"/>
                  </a:lnTo>
                  <a:lnTo>
                    <a:pt x="80" y="410"/>
                  </a:lnTo>
                  <a:lnTo>
                    <a:pt x="92" y="410"/>
                  </a:lnTo>
                  <a:lnTo>
                    <a:pt x="101" y="422"/>
                  </a:lnTo>
                  <a:lnTo>
                    <a:pt x="114" y="405"/>
                  </a:lnTo>
                  <a:lnTo>
                    <a:pt x="118" y="359"/>
                  </a:lnTo>
                  <a:lnTo>
                    <a:pt x="151" y="329"/>
                  </a:lnTo>
                  <a:lnTo>
                    <a:pt x="151" y="312"/>
                  </a:lnTo>
                  <a:lnTo>
                    <a:pt x="151" y="299"/>
                  </a:lnTo>
                  <a:lnTo>
                    <a:pt x="186" y="279"/>
                  </a:lnTo>
                  <a:lnTo>
                    <a:pt x="211" y="274"/>
                  </a:lnTo>
                  <a:lnTo>
                    <a:pt x="220" y="265"/>
                  </a:lnTo>
                  <a:lnTo>
                    <a:pt x="198" y="245"/>
                  </a:lnTo>
                  <a:lnTo>
                    <a:pt x="181" y="211"/>
                  </a:lnTo>
                  <a:lnTo>
                    <a:pt x="173" y="203"/>
                  </a:lnTo>
                  <a:lnTo>
                    <a:pt x="148" y="215"/>
                  </a:lnTo>
                  <a:lnTo>
                    <a:pt x="131" y="207"/>
                  </a:lnTo>
                  <a:lnTo>
                    <a:pt x="106" y="198"/>
                  </a:lnTo>
                  <a:lnTo>
                    <a:pt x="97" y="203"/>
                  </a:lnTo>
                  <a:lnTo>
                    <a:pt x="89" y="194"/>
                  </a:lnTo>
                  <a:lnTo>
                    <a:pt x="89" y="178"/>
                  </a:lnTo>
                  <a:lnTo>
                    <a:pt x="76" y="160"/>
                  </a:lnTo>
                  <a:lnTo>
                    <a:pt x="67" y="156"/>
                  </a:lnTo>
                  <a:lnTo>
                    <a:pt x="47" y="160"/>
                  </a:lnTo>
                  <a:close/>
                </a:path>
              </a:pathLst>
            </a:custGeom>
            <a:solidFill>
              <a:srgbClr val="ff33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61800" y="3511080"/>
              <a:ext cx="14040" cy="792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36" y="0"/>
                  </a:moveTo>
                  <a:lnTo>
                    <a:pt x="19" y="0"/>
                  </a:lnTo>
                  <a:lnTo>
                    <a:pt x="0" y="17"/>
                  </a:lnTo>
                  <a:lnTo>
                    <a:pt x="9" y="25"/>
                  </a:lnTo>
                  <a:lnTo>
                    <a:pt x="27" y="2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33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98160" y="3490560"/>
              <a:ext cx="27000" cy="20160"/>
            </a:xfrm>
            <a:custGeom>
              <a:avLst/>
              <a:gdLst/>
              <a:ahLst/>
              <a:rect l="l" t="t" r="r" b="b"/>
              <a:pathLst>
                <a:path w="81" h="64">
                  <a:moveTo>
                    <a:pt x="59" y="0"/>
                  </a:moveTo>
                  <a:lnTo>
                    <a:pt x="51" y="8"/>
                  </a:lnTo>
                  <a:lnTo>
                    <a:pt x="17" y="12"/>
                  </a:lnTo>
                  <a:lnTo>
                    <a:pt x="0" y="34"/>
                  </a:lnTo>
                  <a:lnTo>
                    <a:pt x="25" y="51"/>
                  </a:lnTo>
                  <a:lnTo>
                    <a:pt x="39" y="64"/>
                  </a:lnTo>
                  <a:lnTo>
                    <a:pt x="64" y="59"/>
                  </a:lnTo>
                  <a:lnTo>
                    <a:pt x="81" y="51"/>
                  </a:lnTo>
                  <a:lnTo>
                    <a:pt x="76" y="34"/>
                  </a:lnTo>
                  <a:lnTo>
                    <a:pt x="64" y="2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33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41360" y="3492360"/>
              <a:ext cx="8280" cy="900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17" y="0"/>
                  </a:moveTo>
                  <a:lnTo>
                    <a:pt x="0" y="8"/>
                  </a:lnTo>
                  <a:lnTo>
                    <a:pt x="14" y="21"/>
                  </a:lnTo>
                  <a:lnTo>
                    <a:pt x="26" y="3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33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046840" y="3303720"/>
            <a:ext cx="286920" cy="335880"/>
            <a:chOff x="5046840" y="3303720"/>
            <a:chExt cx="286920" cy="335880"/>
          </a:xfrm>
        </p:grpSpPr>
        <p:sp>
          <p:nvSpPr>
            <p:cNvPr id="166" name=""/>
            <p:cNvSpPr/>
            <p:nvPr/>
          </p:nvSpPr>
          <p:spPr>
            <a:xfrm>
              <a:off x="5057280" y="3481200"/>
              <a:ext cx="46080" cy="69480"/>
            </a:xfrm>
            <a:custGeom>
              <a:avLst/>
              <a:gdLst/>
              <a:ahLst/>
              <a:rect l="l" t="t" r="r" b="b"/>
              <a:pathLst>
                <a:path w="134" h="220">
                  <a:moveTo>
                    <a:pt x="80" y="0"/>
                  </a:moveTo>
                  <a:lnTo>
                    <a:pt x="59" y="13"/>
                  </a:lnTo>
                  <a:lnTo>
                    <a:pt x="42" y="25"/>
                  </a:lnTo>
                  <a:lnTo>
                    <a:pt x="25" y="30"/>
                  </a:lnTo>
                  <a:lnTo>
                    <a:pt x="0" y="25"/>
                  </a:lnTo>
                  <a:lnTo>
                    <a:pt x="4" y="51"/>
                  </a:lnTo>
                  <a:lnTo>
                    <a:pt x="17" y="67"/>
                  </a:lnTo>
                  <a:lnTo>
                    <a:pt x="12" y="111"/>
                  </a:lnTo>
                  <a:lnTo>
                    <a:pt x="12" y="131"/>
                  </a:lnTo>
                  <a:lnTo>
                    <a:pt x="17" y="148"/>
                  </a:lnTo>
                  <a:lnTo>
                    <a:pt x="4" y="182"/>
                  </a:lnTo>
                  <a:lnTo>
                    <a:pt x="8" y="207"/>
                  </a:lnTo>
                  <a:lnTo>
                    <a:pt x="25" y="220"/>
                  </a:lnTo>
                  <a:lnTo>
                    <a:pt x="50" y="203"/>
                  </a:lnTo>
                  <a:lnTo>
                    <a:pt x="59" y="198"/>
                  </a:lnTo>
                  <a:lnTo>
                    <a:pt x="84" y="203"/>
                  </a:lnTo>
                  <a:lnTo>
                    <a:pt x="101" y="186"/>
                  </a:lnTo>
                  <a:lnTo>
                    <a:pt x="101" y="169"/>
                  </a:lnTo>
                  <a:lnTo>
                    <a:pt x="122" y="136"/>
                  </a:lnTo>
                  <a:lnTo>
                    <a:pt x="130" y="114"/>
                  </a:lnTo>
                  <a:lnTo>
                    <a:pt x="122" y="94"/>
                  </a:lnTo>
                  <a:lnTo>
                    <a:pt x="134" y="67"/>
                  </a:lnTo>
                  <a:lnTo>
                    <a:pt x="126" y="30"/>
                  </a:lnTo>
                  <a:lnTo>
                    <a:pt x="122" y="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33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63480" y="3590640"/>
              <a:ext cx="85680" cy="48960"/>
            </a:xfrm>
            <a:custGeom>
              <a:avLst/>
              <a:gdLst/>
              <a:ahLst/>
              <a:rect l="l" t="t" r="r" b="b"/>
              <a:pathLst>
                <a:path w="246" h="155">
                  <a:moveTo>
                    <a:pt x="233" y="0"/>
                  </a:moveTo>
                  <a:lnTo>
                    <a:pt x="246" y="12"/>
                  </a:lnTo>
                  <a:lnTo>
                    <a:pt x="238" y="25"/>
                  </a:lnTo>
                  <a:lnTo>
                    <a:pt x="229" y="46"/>
                  </a:lnTo>
                  <a:lnTo>
                    <a:pt x="216" y="58"/>
                  </a:lnTo>
                  <a:lnTo>
                    <a:pt x="221" y="97"/>
                  </a:lnTo>
                  <a:lnTo>
                    <a:pt x="229" y="125"/>
                  </a:lnTo>
                  <a:lnTo>
                    <a:pt x="207" y="138"/>
                  </a:lnTo>
                  <a:lnTo>
                    <a:pt x="204" y="150"/>
                  </a:lnTo>
                  <a:lnTo>
                    <a:pt x="187" y="155"/>
                  </a:lnTo>
                  <a:lnTo>
                    <a:pt x="161" y="130"/>
                  </a:lnTo>
                  <a:lnTo>
                    <a:pt x="144" y="130"/>
                  </a:lnTo>
                  <a:lnTo>
                    <a:pt x="131" y="109"/>
                  </a:lnTo>
                  <a:lnTo>
                    <a:pt x="106" y="97"/>
                  </a:lnTo>
                  <a:lnTo>
                    <a:pt x="89" y="92"/>
                  </a:lnTo>
                  <a:lnTo>
                    <a:pt x="72" y="84"/>
                  </a:lnTo>
                  <a:lnTo>
                    <a:pt x="54" y="71"/>
                  </a:lnTo>
                  <a:lnTo>
                    <a:pt x="25" y="50"/>
                  </a:lnTo>
                  <a:lnTo>
                    <a:pt x="12" y="46"/>
                  </a:lnTo>
                  <a:lnTo>
                    <a:pt x="0" y="33"/>
                  </a:lnTo>
                  <a:lnTo>
                    <a:pt x="0" y="17"/>
                  </a:lnTo>
                  <a:lnTo>
                    <a:pt x="4" y="5"/>
                  </a:lnTo>
                  <a:lnTo>
                    <a:pt x="29" y="8"/>
                  </a:lnTo>
                  <a:lnTo>
                    <a:pt x="68" y="8"/>
                  </a:lnTo>
                  <a:lnTo>
                    <a:pt x="76" y="20"/>
                  </a:lnTo>
                  <a:lnTo>
                    <a:pt x="118" y="20"/>
                  </a:lnTo>
                  <a:lnTo>
                    <a:pt x="148" y="20"/>
                  </a:lnTo>
                  <a:lnTo>
                    <a:pt x="187" y="12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ff33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46840" y="3303720"/>
              <a:ext cx="286920" cy="299520"/>
            </a:xfrm>
            <a:custGeom>
              <a:avLst/>
              <a:gdLst/>
              <a:ahLst/>
              <a:rect l="l" t="t" r="r" b="b"/>
              <a:pathLst>
                <a:path w="837" h="944">
                  <a:moveTo>
                    <a:pt x="607" y="932"/>
                  </a:moveTo>
                  <a:lnTo>
                    <a:pt x="620" y="944"/>
                  </a:lnTo>
                  <a:lnTo>
                    <a:pt x="641" y="932"/>
                  </a:lnTo>
                  <a:lnTo>
                    <a:pt x="666" y="897"/>
                  </a:lnTo>
                  <a:lnTo>
                    <a:pt x="679" y="847"/>
                  </a:lnTo>
                  <a:lnTo>
                    <a:pt x="691" y="843"/>
                  </a:lnTo>
                  <a:lnTo>
                    <a:pt x="700" y="851"/>
                  </a:lnTo>
                  <a:lnTo>
                    <a:pt x="718" y="835"/>
                  </a:lnTo>
                  <a:lnTo>
                    <a:pt x="713" y="813"/>
                  </a:lnTo>
                  <a:lnTo>
                    <a:pt x="721" y="796"/>
                  </a:lnTo>
                  <a:lnTo>
                    <a:pt x="718" y="788"/>
                  </a:lnTo>
                  <a:lnTo>
                    <a:pt x="696" y="771"/>
                  </a:lnTo>
                  <a:lnTo>
                    <a:pt x="688" y="771"/>
                  </a:lnTo>
                  <a:lnTo>
                    <a:pt x="691" y="762"/>
                  </a:lnTo>
                  <a:lnTo>
                    <a:pt x="675" y="766"/>
                  </a:lnTo>
                  <a:lnTo>
                    <a:pt x="666" y="758"/>
                  </a:lnTo>
                  <a:lnTo>
                    <a:pt x="666" y="749"/>
                  </a:lnTo>
                  <a:lnTo>
                    <a:pt x="691" y="733"/>
                  </a:lnTo>
                  <a:lnTo>
                    <a:pt x="704" y="716"/>
                  </a:lnTo>
                  <a:lnTo>
                    <a:pt x="704" y="690"/>
                  </a:lnTo>
                  <a:lnTo>
                    <a:pt x="718" y="687"/>
                  </a:lnTo>
                  <a:lnTo>
                    <a:pt x="760" y="707"/>
                  </a:lnTo>
                  <a:lnTo>
                    <a:pt x="776" y="712"/>
                  </a:lnTo>
                  <a:lnTo>
                    <a:pt x="797" y="741"/>
                  </a:lnTo>
                  <a:lnTo>
                    <a:pt x="805" y="758"/>
                  </a:lnTo>
                  <a:lnTo>
                    <a:pt x="818" y="758"/>
                  </a:lnTo>
                  <a:lnTo>
                    <a:pt x="830" y="741"/>
                  </a:lnTo>
                  <a:lnTo>
                    <a:pt x="837" y="724"/>
                  </a:lnTo>
                  <a:lnTo>
                    <a:pt x="822" y="695"/>
                  </a:lnTo>
                  <a:lnTo>
                    <a:pt x="805" y="678"/>
                  </a:lnTo>
                  <a:lnTo>
                    <a:pt x="789" y="678"/>
                  </a:lnTo>
                  <a:lnTo>
                    <a:pt x="789" y="674"/>
                  </a:lnTo>
                  <a:lnTo>
                    <a:pt x="780" y="674"/>
                  </a:lnTo>
                  <a:lnTo>
                    <a:pt x="738" y="631"/>
                  </a:lnTo>
                  <a:lnTo>
                    <a:pt x="718" y="635"/>
                  </a:lnTo>
                  <a:lnTo>
                    <a:pt x="691" y="602"/>
                  </a:lnTo>
                  <a:lnTo>
                    <a:pt x="675" y="598"/>
                  </a:lnTo>
                  <a:lnTo>
                    <a:pt x="649" y="573"/>
                  </a:lnTo>
                  <a:lnTo>
                    <a:pt x="637" y="564"/>
                  </a:lnTo>
                  <a:lnTo>
                    <a:pt x="646" y="556"/>
                  </a:lnTo>
                  <a:lnTo>
                    <a:pt x="658" y="551"/>
                  </a:lnTo>
                  <a:lnTo>
                    <a:pt x="641" y="539"/>
                  </a:lnTo>
                  <a:lnTo>
                    <a:pt x="620" y="547"/>
                  </a:lnTo>
                  <a:lnTo>
                    <a:pt x="604" y="539"/>
                  </a:lnTo>
                  <a:lnTo>
                    <a:pt x="557" y="500"/>
                  </a:lnTo>
                  <a:lnTo>
                    <a:pt x="552" y="484"/>
                  </a:lnTo>
                  <a:lnTo>
                    <a:pt x="535" y="479"/>
                  </a:lnTo>
                  <a:lnTo>
                    <a:pt x="519" y="467"/>
                  </a:lnTo>
                  <a:lnTo>
                    <a:pt x="476" y="376"/>
                  </a:lnTo>
                  <a:lnTo>
                    <a:pt x="464" y="363"/>
                  </a:lnTo>
                  <a:lnTo>
                    <a:pt x="431" y="334"/>
                  </a:lnTo>
                  <a:lnTo>
                    <a:pt x="392" y="274"/>
                  </a:lnTo>
                  <a:lnTo>
                    <a:pt x="392" y="240"/>
                  </a:lnTo>
                  <a:lnTo>
                    <a:pt x="414" y="228"/>
                  </a:lnTo>
                  <a:lnTo>
                    <a:pt x="414" y="211"/>
                  </a:lnTo>
                  <a:lnTo>
                    <a:pt x="396" y="195"/>
                  </a:lnTo>
                  <a:lnTo>
                    <a:pt x="388" y="186"/>
                  </a:lnTo>
                  <a:lnTo>
                    <a:pt x="392" y="173"/>
                  </a:lnTo>
                  <a:lnTo>
                    <a:pt x="409" y="165"/>
                  </a:lnTo>
                  <a:lnTo>
                    <a:pt x="460" y="153"/>
                  </a:lnTo>
                  <a:lnTo>
                    <a:pt x="481" y="139"/>
                  </a:lnTo>
                  <a:lnTo>
                    <a:pt x="498" y="123"/>
                  </a:lnTo>
                  <a:lnTo>
                    <a:pt x="493" y="80"/>
                  </a:lnTo>
                  <a:lnTo>
                    <a:pt x="498" y="64"/>
                  </a:lnTo>
                  <a:lnTo>
                    <a:pt x="473" y="59"/>
                  </a:lnTo>
                  <a:lnTo>
                    <a:pt x="418" y="47"/>
                  </a:lnTo>
                  <a:lnTo>
                    <a:pt x="409" y="34"/>
                  </a:lnTo>
                  <a:lnTo>
                    <a:pt x="406" y="30"/>
                  </a:lnTo>
                  <a:lnTo>
                    <a:pt x="406" y="17"/>
                  </a:lnTo>
                  <a:lnTo>
                    <a:pt x="401" y="5"/>
                  </a:lnTo>
                  <a:lnTo>
                    <a:pt x="371" y="0"/>
                  </a:lnTo>
                  <a:lnTo>
                    <a:pt x="300" y="5"/>
                  </a:lnTo>
                  <a:lnTo>
                    <a:pt x="292" y="22"/>
                  </a:lnTo>
                  <a:lnTo>
                    <a:pt x="266" y="25"/>
                  </a:lnTo>
                  <a:lnTo>
                    <a:pt x="250" y="59"/>
                  </a:lnTo>
                  <a:lnTo>
                    <a:pt x="250" y="72"/>
                  </a:lnTo>
                  <a:lnTo>
                    <a:pt x="232" y="59"/>
                  </a:lnTo>
                  <a:lnTo>
                    <a:pt x="206" y="55"/>
                  </a:lnTo>
                  <a:lnTo>
                    <a:pt x="190" y="64"/>
                  </a:lnTo>
                  <a:lnTo>
                    <a:pt x="178" y="89"/>
                  </a:lnTo>
                  <a:lnTo>
                    <a:pt x="152" y="72"/>
                  </a:lnTo>
                  <a:lnTo>
                    <a:pt x="156" y="47"/>
                  </a:lnTo>
                  <a:lnTo>
                    <a:pt x="148" y="30"/>
                  </a:lnTo>
                  <a:lnTo>
                    <a:pt x="131" y="34"/>
                  </a:lnTo>
                  <a:lnTo>
                    <a:pt x="127" y="55"/>
                  </a:lnTo>
                  <a:lnTo>
                    <a:pt x="114" y="67"/>
                  </a:lnTo>
                  <a:lnTo>
                    <a:pt x="102" y="67"/>
                  </a:lnTo>
                  <a:lnTo>
                    <a:pt x="42" y="59"/>
                  </a:lnTo>
                  <a:lnTo>
                    <a:pt x="22" y="76"/>
                  </a:lnTo>
                  <a:lnTo>
                    <a:pt x="25" y="97"/>
                  </a:lnTo>
                  <a:lnTo>
                    <a:pt x="30" y="114"/>
                  </a:lnTo>
                  <a:lnTo>
                    <a:pt x="0" y="139"/>
                  </a:lnTo>
                  <a:lnTo>
                    <a:pt x="8" y="156"/>
                  </a:lnTo>
                  <a:lnTo>
                    <a:pt x="17" y="165"/>
                  </a:lnTo>
                  <a:lnTo>
                    <a:pt x="0" y="186"/>
                  </a:lnTo>
                  <a:lnTo>
                    <a:pt x="0" y="215"/>
                  </a:lnTo>
                  <a:lnTo>
                    <a:pt x="8" y="228"/>
                  </a:lnTo>
                  <a:lnTo>
                    <a:pt x="25" y="228"/>
                  </a:lnTo>
                  <a:lnTo>
                    <a:pt x="34" y="237"/>
                  </a:lnTo>
                  <a:lnTo>
                    <a:pt x="42" y="257"/>
                  </a:lnTo>
                  <a:lnTo>
                    <a:pt x="42" y="279"/>
                  </a:lnTo>
                  <a:lnTo>
                    <a:pt x="59" y="284"/>
                  </a:lnTo>
                  <a:lnTo>
                    <a:pt x="72" y="279"/>
                  </a:lnTo>
                  <a:lnTo>
                    <a:pt x="119" y="232"/>
                  </a:lnTo>
                  <a:lnTo>
                    <a:pt x="139" y="240"/>
                  </a:lnTo>
                  <a:lnTo>
                    <a:pt x="181" y="262"/>
                  </a:lnTo>
                  <a:lnTo>
                    <a:pt x="211" y="284"/>
                  </a:lnTo>
                  <a:lnTo>
                    <a:pt x="215" y="309"/>
                  </a:lnTo>
                  <a:lnTo>
                    <a:pt x="232" y="326"/>
                  </a:lnTo>
                  <a:lnTo>
                    <a:pt x="240" y="355"/>
                  </a:lnTo>
                  <a:lnTo>
                    <a:pt x="250" y="401"/>
                  </a:lnTo>
                  <a:lnTo>
                    <a:pt x="262" y="422"/>
                  </a:lnTo>
                  <a:lnTo>
                    <a:pt x="278" y="440"/>
                  </a:lnTo>
                  <a:lnTo>
                    <a:pt x="308" y="451"/>
                  </a:lnTo>
                  <a:lnTo>
                    <a:pt x="334" y="492"/>
                  </a:lnTo>
                  <a:lnTo>
                    <a:pt x="359" y="526"/>
                  </a:lnTo>
                  <a:lnTo>
                    <a:pt x="384" y="543"/>
                  </a:lnTo>
                  <a:lnTo>
                    <a:pt x="431" y="598"/>
                  </a:lnTo>
                  <a:lnTo>
                    <a:pt x="464" y="598"/>
                  </a:lnTo>
                  <a:lnTo>
                    <a:pt x="502" y="631"/>
                  </a:lnTo>
                  <a:lnTo>
                    <a:pt x="502" y="665"/>
                  </a:lnTo>
                  <a:lnTo>
                    <a:pt x="515" y="674"/>
                  </a:lnTo>
                  <a:lnTo>
                    <a:pt x="540" y="657"/>
                  </a:lnTo>
                  <a:lnTo>
                    <a:pt x="544" y="674"/>
                  </a:lnTo>
                  <a:lnTo>
                    <a:pt x="544" y="695"/>
                  </a:lnTo>
                  <a:lnTo>
                    <a:pt x="570" y="716"/>
                  </a:lnTo>
                  <a:lnTo>
                    <a:pt x="577" y="729"/>
                  </a:lnTo>
                  <a:lnTo>
                    <a:pt x="612" y="720"/>
                  </a:lnTo>
                  <a:lnTo>
                    <a:pt x="616" y="733"/>
                  </a:lnTo>
                  <a:lnTo>
                    <a:pt x="612" y="762"/>
                  </a:lnTo>
                  <a:lnTo>
                    <a:pt x="629" y="788"/>
                  </a:lnTo>
                  <a:lnTo>
                    <a:pt x="633" y="809"/>
                  </a:lnTo>
                  <a:lnTo>
                    <a:pt x="641" y="830"/>
                  </a:lnTo>
                  <a:lnTo>
                    <a:pt x="637" y="847"/>
                  </a:lnTo>
                  <a:lnTo>
                    <a:pt x="620" y="864"/>
                  </a:lnTo>
                  <a:lnTo>
                    <a:pt x="616" y="885"/>
                  </a:lnTo>
                  <a:lnTo>
                    <a:pt x="604" y="910"/>
                  </a:lnTo>
                  <a:lnTo>
                    <a:pt x="607" y="932"/>
                  </a:lnTo>
                  <a:close/>
                </a:path>
              </a:pathLst>
            </a:custGeom>
            <a:solidFill>
              <a:srgbClr val="ff33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032440" y="3262320"/>
            <a:ext cx="115920" cy="69840"/>
          </a:xfrm>
          <a:custGeom>
            <a:avLst/>
            <a:gdLst/>
            <a:ahLst/>
            <a:rect l="l" t="t" r="r" b="b"/>
            <a:pathLst>
              <a:path w="338" h="221">
                <a:moveTo>
                  <a:pt x="178" y="42"/>
                </a:moveTo>
                <a:lnTo>
                  <a:pt x="161" y="27"/>
                </a:lnTo>
                <a:lnTo>
                  <a:pt x="163" y="21"/>
                </a:lnTo>
                <a:lnTo>
                  <a:pt x="153" y="12"/>
                </a:lnTo>
                <a:lnTo>
                  <a:pt x="144" y="0"/>
                </a:lnTo>
                <a:lnTo>
                  <a:pt x="133" y="12"/>
                </a:lnTo>
                <a:lnTo>
                  <a:pt x="127" y="8"/>
                </a:lnTo>
                <a:lnTo>
                  <a:pt x="114" y="19"/>
                </a:lnTo>
                <a:lnTo>
                  <a:pt x="114" y="25"/>
                </a:lnTo>
                <a:lnTo>
                  <a:pt x="99" y="32"/>
                </a:lnTo>
                <a:lnTo>
                  <a:pt x="62" y="61"/>
                </a:lnTo>
                <a:lnTo>
                  <a:pt x="51" y="74"/>
                </a:lnTo>
                <a:lnTo>
                  <a:pt x="51" y="89"/>
                </a:lnTo>
                <a:lnTo>
                  <a:pt x="38" y="93"/>
                </a:lnTo>
                <a:lnTo>
                  <a:pt x="10" y="123"/>
                </a:lnTo>
                <a:lnTo>
                  <a:pt x="10" y="133"/>
                </a:lnTo>
                <a:lnTo>
                  <a:pt x="0" y="145"/>
                </a:lnTo>
                <a:lnTo>
                  <a:pt x="5" y="160"/>
                </a:lnTo>
                <a:lnTo>
                  <a:pt x="17" y="152"/>
                </a:lnTo>
                <a:lnTo>
                  <a:pt x="30" y="139"/>
                </a:lnTo>
                <a:lnTo>
                  <a:pt x="49" y="135"/>
                </a:lnTo>
                <a:lnTo>
                  <a:pt x="62" y="139"/>
                </a:lnTo>
                <a:lnTo>
                  <a:pt x="66" y="160"/>
                </a:lnTo>
                <a:lnTo>
                  <a:pt x="64" y="175"/>
                </a:lnTo>
                <a:lnTo>
                  <a:pt x="72" y="185"/>
                </a:lnTo>
                <a:lnTo>
                  <a:pt x="82" y="192"/>
                </a:lnTo>
                <a:lnTo>
                  <a:pt x="104" y="194"/>
                </a:lnTo>
                <a:lnTo>
                  <a:pt x="151" y="200"/>
                </a:lnTo>
                <a:lnTo>
                  <a:pt x="161" y="194"/>
                </a:lnTo>
                <a:lnTo>
                  <a:pt x="168" y="185"/>
                </a:lnTo>
                <a:lnTo>
                  <a:pt x="172" y="166"/>
                </a:lnTo>
                <a:lnTo>
                  <a:pt x="189" y="165"/>
                </a:lnTo>
                <a:lnTo>
                  <a:pt x="195" y="177"/>
                </a:lnTo>
                <a:lnTo>
                  <a:pt x="195" y="206"/>
                </a:lnTo>
                <a:lnTo>
                  <a:pt x="217" y="221"/>
                </a:lnTo>
                <a:lnTo>
                  <a:pt x="232" y="196"/>
                </a:lnTo>
                <a:lnTo>
                  <a:pt x="250" y="188"/>
                </a:lnTo>
                <a:lnTo>
                  <a:pt x="269" y="190"/>
                </a:lnTo>
                <a:lnTo>
                  <a:pt x="284" y="198"/>
                </a:lnTo>
                <a:lnTo>
                  <a:pt x="289" y="205"/>
                </a:lnTo>
                <a:lnTo>
                  <a:pt x="294" y="183"/>
                </a:lnTo>
                <a:lnTo>
                  <a:pt x="305" y="158"/>
                </a:lnTo>
                <a:lnTo>
                  <a:pt x="330" y="153"/>
                </a:lnTo>
                <a:lnTo>
                  <a:pt x="338" y="138"/>
                </a:lnTo>
                <a:lnTo>
                  <a:pt x="330" y="124"/>
                </a:lnTo>
                <a:lnTo>
                  <a:pt x="319" y="118"/>
                </a:lnTo>
                <a:lnTo>
                  <a:pt x="287" y="112"/>
                </a:lnTo>
                <a:lnTo>
                  <a:pt x="286" y="97"/>
                </a:lnTo>
                <a:lnTo>
                  <a:pt x="286" y="79"/>
                </a:lnTo>
                <a:lnTo>
                  <a:pt x="286" y="67"/>
                </a:lnTo>
                <a:lnTo>
                  <a:pt x="267" y="57"/>
                </a:lnTo>
                <a:lnTo>
                  <a:pt x="256" y="61"/>
                </a:lnTo>
                <a:lnTo>
                  <a:pt x="239" y="49"/>
                </a:lnTo>
                <a:lnTo>
                  <a:pt x="237" y="40"/>
                </a:lnTo>
                <a:lnTo>
                  <a:pt x="230" y="29"/>
                </a:lnTo>
                <a:lnTo>
                  <a:pt x="230" y="25"/>
                </a:lnTo>
                <a:lnTo>
                  <a:pt x="212" y="19"/>
                </a:lnTo>
                <a:lnTo>
                  <a:pt x="205" y="27"/>
                </a:lnTo>
                <a:lnTo>
                  <a:pt x="193" y="36"/>
                </a:lnTo>
                <a:lnTo>
                  <a:pt x="178" y="42"/>
                </a:lnTo>
                <a:close/>
              </a:path>
            </a:pathLst>
          </a:custGeom>
          <a:solidFill>
            <a:srgbClr val="ff33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26040" y="3254400"/>
            <a:ext cx="176040" cy="73080"/>
          </a:xfrm>
          <a:custGeom>
            <a:avLst/>
            <a:gdLst/>
            <a:ahLst/>
            <a:rect l="l" t="t" r="r" b="b"/>
            <a:pathLst>
              <a:path w="515" h="234">
                <a:moveTo>
                  <a:pt x="0" y="84"/>
                </a:moveTo>
                <a:lnTo>
                  <a:pt x="22" y="82"/>
                </a:lnTo>
                <a:lnTo>
                  <a:pt x="30" y="79"/>
                </a:lnTo>
                <a:lnTo>
                  <a:pt x="41" y="93"/>
                </a:lnTo>
                <a:lnTo>
                  <a:pt x="55" y="88"/>
                </a:lnTo>
                <a:lnTo>
                  <a:pt x="72" y="91"/>
                </a:lnTo>
                <a:lnTo>
                  <a:pt x="82" y="99"/>
                </a:lnTo>
                <a:lnTo>
                  <a:pt x="100" y="88"/>
                </a:lnTo>
                <a:lnTo>
                  <a:pt x="124" y="90"/>
                </a:lnTo>
                <a:lnTo>
                  <a:pt x="135" y="100"/>
                </a:lnTo>
                <a:lnTo>
                  <a:pt x="149" y="103"/>
                </a:lnTo>
                <a:lnTo>
                  <a:pt x="157" y="96"/>
                </a:lnTo>
                <a:lnTo>
                  <a:pt x="184" y="92"/>
                </a:lnTo>
                <a:lnTo>
                  <a:pt x="196" y="92"/>
                </a:lnTo>
                <a:lnTo>
                  <a:pt x="215" y="99"/>
                </a:lnTo>
                <a:lnTo>
                  <a:pt x="238" y="114"/>
                </a:lnTo>
                <a:lnTo>
                  <a:pt x="255" y="107"/>
                </a:lnTo>
                <a:lnTo>
                  <a:pt x="259" y="92"/>
                </a:lnTo>
                <a:lnTo>
                  <a:pt x="247" y="73"/>
                </a:lnTo>
                <a:lnTo>
                  <a:pt x="242" y="45"/>
                </a:lnTo>
                <a:lnTo>
                  <a:pt x="300" y="5"/>
                </a:lnTo>
                <a:lnTo>
                  <a:pt x="312" y="5"/>
                </a:lnTo>
                <a:lnTo>
                  <a:pt x="314" y="19"/>
                </a:lnTo>
                <a:lnTo>
                  <a:pt x="332" y="22"/>
                </a:lnTo>
                <a:lnTo>
                  <a:pt x="368" y="18"/>
                </a:lnTo>
                <a:lnTo>
                  <a:pt x="383" y="2"/>
                </a:lnTo>
                <a:lnTo>
                  <a:pt x="428" y="0"/>
                </a:lnTo>
                <a:lnTo>
                  <a:pt x="439" y="19"/>
                </a:lnTo>
                <a:lnTo>
                  <a:pt x="457" y="19"/>
                </a:lnTo>
                <a:lnTo>
                  <a:pt x="474" y="9"/>
                </a:lnTo>
                <a:lnTo>
                  <a:pt x="502" y="27"/>
                </a:lnTo>
                <a:lnTo>
                  <a:pt x="502" y="59"/>
                </a:lnTo>
                <a:lnTo>
                  <a:pt x="515" y="73"/>
                </a:lnTo>
                <a:lnTo>
                  <a:pt x="511" y="93"/>
                </a:lnTo>
                <a:lnTo>
                  <a:pt x="502" y="114"/>
                </a:lnTo>
                <a:lnTo>
                  <a:pt x="488" y="114"/>
                </a:lnTo>
                <a:lnTo>
                  <a:pt x="482" y="119"/>
                </a:lnTo>
                <a:lnTo>
                  <a:pt x="491" y="136"/>
                </a:lnTo>
                <a:lnTo>
                  <a:pt x="491" y="153"/>
                </a:lnTo>
                <a:lnTo>
                  <a:pt x="482" y="168"/>
                </a:lnTo>
                <a:lnTo>
                  <a:pt x="457" y="181"/>
                </a:lnTo>
                <a:lnTo>
                  <a:pt x="456" y="196"/>
                </a:lnTo>
                <a:lnTo>
                  <a:pt x="456" y="210"/>
                </a:lnTo>
                <a:lnTo>
                  <a:pt x="433" y="215"/>
                </a:lnTo>
                <a:lnTo>
                  <a:pt x="394" y="213"/>
                </a:lnTo>
                <a:lnTo>
                  <a:pt x="376" y="218"/>
                </a:lnTo>
                <a:lnTo>
                  <a:pt x="343" y="218"/>
                </a:lnTo>
                <a:lnTo>
                  <a:pt x="329" y="234"/>
                </a:lnTo>
                <a:lnTo>
                  <a:pt x="277" y="217"/>
                </a:lnTo>
                <a:lnTo>
                  <a:pt x="251" y="218"/>
                </a:lnTo>
                <a:lnTo>
                  <a:pt x="185" y="204"/>
                </a:lnTo>
                <a:lnTo>
                  <a:pt x="176" y="188"/>
                </a:lnTo>
                <a:lnTo>
                  <a:pt x="176" y="170"/>
                </a:lnTo>
                <a:lnTo>
                  <a:pt x="171" y="160"/>
                </a:lnTo>
                <a:lnTo>
                  <a:pt x="163" y="156"/>
                </a:lnTo>
                <a:lnTo>
                  <a:pt x="122" y="158"/>
                </a:lnTo>
                <a:lnTo>
                  <a:pt x="65" y="164"/>
                </a:lnTo>
                <a:lnTo>
                  <a:pt x="59" y="150"/>
                </a:lnTo>
                <a:lnTo>
                  <a:pt x="49" y="145"/>
                </a:lnTo>
                <a:lnTo>
                  <a:pt x="32" y="140"/>
                </a:lnTo>
                <a:lnTo>
                  <a:pt x="15" y="135"/>
                </a:lnTo>
                <a:lnTo>
                  <a:pt x="15" y="119"/>
                </a:lnTo>
                <a:lnTo>
                  <a:pt x="15" y="96"/>
                </a:lnTo>
                <a:lnTo>
                  <a:pt x="0" y="84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81560" y="3262320"/>
            <a:ext cx="163440" cy="92160"/>
          </a:xfrm>
          <a:custGeom>
            <a:avLst/>
            <a:gdLst/>
            <a:ahLst/>
            <a:rect l="l" t="t" r="r" b="b"/>
            <a:pathLst>
              <a:path w="479" h="290">
                <a:moveTo>
                  <a:pt x="3" y="184"/>
                </a:moveTo>
                <a:lnTo>
                  <a:pt x="17" y="196"/>
                </a:lnTo>
                <a:lnTo>
                  <a:pt x="15" y="203"/>
                </a:lnTo>
                <a:lnTo>
                  <a:pt x="20" y="216"/>
                </a:lnTo>
                <a:lnTo>
                  <a:pt x="32" y="216"/>
                </a:lnTo>
                <a:lnTo>
                  <a:pt x="80" y="262"/>
                </a:lnTo>
                <a:lnTo>
                  <a:pt x="95" y="264"/>
                </a:lnTo>
                <a:lnTo>
                  <a:pt x="134" y="290"/>
                </a:lnTo>
                <a:lnTo>
                  <a:pt x="152" y="275"/>
                </a:lnTo>
                <a:lnTo>
                  <a:pt x="179" y="277"/>
                </a:lnTo>
                <a:lnTo>
                  <a:pt x="188" y="283"/>
                </a:lnTo>
                <a:lnTo>
                  <a:pt x="209" y="275"/>
                </a:lnTo>
                <a:lnTo>
                  <a:pt x="251" y="258"/>
                </a:lnTo>
                <a:lnTo>
                  <a:pt x="300" y="250"/>
                </a:lnTo>
                <a:lnTo>
                  <a:pt x="320" y="253"/>
                </a:lnTo>
                <a:lnTo>
                  <a:pt x="327" y="264"/>
                </a:lnTo>
                <a:lnTo>
                  <a:pt x="344" y="245"/>
                </a:lnTo>
                <a:lnTo>
                  <a:pt x="367" y="237"/>
                </a:lnTo>
                <a:lnTo>
                  <a:pt x="389" y="234"/>
                </a:lnTo>
                <a:lnTo>
                  <a:pt x="426" y="196"/>
                </a:lnTo>
                <a:lnTo>
                  <a:pt x="436" y="173"/>
                </a:lnTo>
                <a:lnTo>
                  <a:pt x="441" y="129"/>
                </a:lnTo>
                <a:lnTo>
                  <a:pt x="446" y="93"/>
                </a:lnTo>
                <a:lnTo>
                  <a:pt x="460" y="91"/>
                </a:lnTo>
                <a:lnTo>
                  <a:pt x="472" y="78"/>
                </a:lnTo>
                <a:lnTo>
                  <a:pt x="479" y="67"/>
                </a:lnTo>
                <a:lnTo>
                  <a:pt x="464" y="57"/>
                </a:lnTo>
                <a:lnTo>
                  <a:pt x="456" y="62"/>
                </a:lnTo>
                <a:lnTo>
                  <a:pt x="434" y="57"/>
                </a:lnTo>
                <a:lnTo>
                  <a:pt x="422" y="40"/>
                </a:lnTo>
                <a:lnTo>
                  <a:pt x="409" y="17"/>
                </a:lnTo>
                <a:lnTo>
                  <a:pt x="394" y="17"/>
                </a:lnTo>
                <a:lnTo>
                  <a:pt x="372" y="0"/>
                </a:lnTo>
                <a:lnTo>
                  <a:pt x="359" y="3"/>
                </a:lnTo>
                <a:lnTo>
                  <a:pt x="312" y="8"/>
                </a:lnTo>
                <a:lnTo>
                  <a:pt x="303" y="22"/>
                </a:lnTo>
                <a:lnTo>
                  <a:pt x="291" y="38"/>
                </a:lnTo>
                <a:lnTo>
                  <a:pt x="274" y="47"/>
                </a:lnTo>
                <a:lnTo>
                  <a:pt x="258" y="50"/>
                </a:lnTo>
                <a:lnTo>
                  <a:pt x="246" y="47"/>
                </a:lnTo>
                <a:lnTo>
                  <a:pt x="236" y="40"/>
                </a:lnTo>
                <a:lnTo>
                  <a:pt x="228" y="38"/>
                </a:lnTo>
                <a:lnTo>
                  <a:pt x="213" y="45"/>
                </a:lnTo>
                <a:lnTo>
                  <a:pt x="194" y="55"/>
                </a:lnTo>
                <a:lnTo>
                  <a:pt x="154" y="72"/>
                </a:lnTo>
                <a:lnTo>
                  <a:pt x="137" y="74"/>
                </a:lnTo>
                <a:lnTo>
                  <a:pt x="95" y="72"/>
                </a:lnTo>
                <a:lnTo>
                  <a:pt x="89" y="70"/>
                </a:lnTo>
                <a:lnTo>
                  <a:pt x="78" y="53"/>
                </a:lnTo>
                <a:lnTo>
                  <a:pt x="64" y="45"/>
                </a:lnTo>
                <a:lnTo>
                  <a:pt x="60" y="50"/>
                </a:lnTo>
                <a:lnTo>
                  <a:pt x="57" y="67"/>
                </a:lnTo>
                <a:lnTo>
                  <a:pt x="49" y="85"/>
                </a:lnTo>
                <a:lnTo>
                  <a:pt x="35" y="85"/>
                </a:lnTo>
                <a:lnTo>
                  <a:pt x="30" y="89"/>
                </a:lnTo>
                <a:lnTo>
                  <a:pt x="38" y="106"/>
                </a:lnTo>
                <a:lnTo>
                  <a:pt x="36" y="123"/>
                </a:lnTo>
                <a:lnTo>
                  <a:pt x="25" y="139"/>
                </a:lnTo>
                <a:lnTo>
                  <a:pt x="17" y="146"/>
                </a:lnTo>
                <a:lnTo>
                  <a:pt x="5" y="152"/>
                </a:lnTo>
                <a:lnTo>
                  <a:pt x="0" y="165"/>
                </a:lnTo>
                <a:lnTo>
                  <a:pt x="3" y="184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10280" y="3321000"/>
            <a:ext cx="79200" cy="41400"/>
          </a:xfrm>
          <a:custGeom>
            <a:avLst/>
            <a:gdLst/>
            <a:ahLst/>
            <a:rect l="l" t="t" r="r" b="b"/>
            <a:pathLst>
              <a:path w="226" h="131">
                <a:moveTo>
                  <a:pt x="20" y="72"/>
                </a:moveTo>
                <a:lnTo>
                  <a:pt x="42" y="95"/>
                </a:lnTo>
                <a:lnTo>
                  <a:pt x="36" y="106"/>
                </a:lnTo>
                <a:lnTo>
                  <a:pt x="25" y="114"/>
                </a:lnTo>
                <a:lnTo>
                  <a:pt x="13" y="117"/>
                </a:lnTo>
                <a:lnTo>
                  <a:pt x="0" y="119"/>
                </a:lnTo>
                <a:lnTo>
                  <a:pt x="23" y="129"/>
                </a:lnTo>
                <a:lnTo>
                  <a:pt x="32" y="131"/>
                </a:lnTo>
                <a:lnTo>
                  <a:pt x="61" y="114"/>
                </a:lnTo>
                <a:lnTo>
                  <a:pt x="123" y="130"/>
                </a:lnTo>
                <a:lnTo>
                  <a:pt x="164" y="85"/>
                </a:lnTo>
                <a:lnTo>
                  <a:pt x="172" y="65"/>
                </a:lnTo>
                <a:lnTo>
                  <a:pt x="180" y="60"/>
                </a:lnTo>
                <a:lnTo>
                  <a:pt x="203" y="62"/>
                </a:lnTo>
                <a:lnTo>
                  <a:pt x="226" y="35"/>
                </a:lnTo>
                <a:lnTo>
                  <a:pt x="223" y="18"/>
                </a:lnTo>
                <a:lnTo>
                  <a:pt x="208" y="0"/>
                </a:lnTo>
                <a:lnTo>
                  <a:pt x="197" y="3"/>
                </a:lnTo>
                <a:lnTo>
                  <a:pt x="186" y="6"/>
                </a:lnTo>
                <a:lnTo>
                  <a:pt x="165" y="2"/>
                </a:lnTo>
                <a:lnTo>
                  <a:pt x="145" y="3"/>
                </a:lnTo>
                <a:lnTo>
                  <a:pt x="124" y="8"/>
                </a:lnTo>
                <a:lnTo>
                  <a:pt x="96" y="6"/>
                </a:lnTo>
                <a:lnTo>
                  <a:pt x="83" y="23"/>
                </a:lnTo>
                <a:lnTo>
                  <a:pt x="36" y="8"/>
                </a:lnTo>
                <a:lnTo>
                  <a:pt x="17" y="8"/>
                </a:lnTo>
                <a:lnTo>
                  <a:pt x="17" y="37"/>
                </a:lnTo>
                <a:lnTo>
                  <a:pt x="20" y="72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38880" y="3397320"/>
            <a:ext cx="149040" cy="101520"/>
          </a:xfrm>
          <a:custGeom>
            <a:avLst/>
            <a:gdLst/>
            <a:ahLst/>
            <a:rect l="l" t="t" r="r" b="b"/>
            <a:pathLst>
              <a:path w="436" h="319">
                <a:moveTo>
                  <a:pt x="10" y="37"/>
                </a:moveTo>
                <a:lnTo>
                  <a:pt x="8" y="44"/>
                </a:lnTo>
                <a:lnTo>
                  <a:pt x="0" y="52"/>
                </a:lnTo>
                <a:lnTo>
                  <a:pt x="2" y="67"/>
                </a:lnTo>
                <a:lnTo>
                  <a:pt x="15" y="91"/>
                </a:lnTo>
                <a:lnTo>
                  <a:pt x="32" y="93"/>
                </a:lnTo>
                <a:lnTo>
                  <a:pt x="35" y="103"/>
                </a:lnTo>
                <a:lnTo>
                  <a:pt x="34" y="131"/>
                </a:lnTo>
                <a:lnTo>
                  <a:pt x="27" y="139"/>
                </a:lnTo>
                <a:lnTo>
                  <a:pt x="7" y="152"/>
                </a:lnTo>
                <a:lnTo>
                  <a:pt x="5" y="159"/>
                </a:lnTo>
                <a:lnTo>
                  <a:pt x="10" y="180"/>
                </a:lnTo>
                <a:lnTo>
                  <a:pt x="12" y="196"/>
                </a:lnTo>
                <a:lnTo>
                  <a:pt x="7" y="210"/>
                </a:lnTo>
                <a:lnTo>
                  <a:pt x="0" y="222"/>
                </a:lnTo>
                <a:lnTo>
                  <a:pt x="10" y="237"/>
                </a:lnTo>
                <a:lnTo>
                  <a:pt x="19" y="234"/>
                </a:lnTo>
                <a:lnTo>
                  <a:pt x="34" y="251"/>
                </a:lnTo>
                <a:lnTo>
                  <a:pt x="35" y="267"/>
                </a:lnTo>
                <a:lnTo>
                  <a:pt x="35" y="289"/>
                </a:lnTo>
                <a:lnTo>
                  <a:pt x="34" y="299"/>
                </a:lnTo>
                <a:lnTo>
                  <a:pt x="50" y="319"/>
                </a:lnTo>
                <a:lnTo>
                  <a:pt x="84" y="312"/>
                </a:lnTo>
                <a:lnTo>
                  <a:pt x="124" y="299"/>
                </a:lnTo>
                <a:lnTo>
                  <a:pt x="154" y="281"/>
                </a:lnTo>
                <a:lnTo>
                  <a:pt x="168" y="267"/>
                </a:lnTo>
                <a:lnTo>
                  <a:pt x="188" y="293"/>
                </a:lnTo>
                <a:lnTo>
                  <a:pt x="203" y="287"/>
                </a:lnTo>
                <a:lnTo>
                  <a:pt x="223" y="293"/>
                </a:lnTo>
                <a:lnTo>
                  <a:pt x="236" y="297"/>
                </a:lnTo>
                <a:lnTo>
                  <a:pt x="261" y="287"/>
                </a:lnTo>
                <a:lnTo>
                  <a:pt x="276" y="282"/>
                </a:lnTo>
                <a:lnTo>
                  <a:pt x="276" y="270"/>
                </a:lnTo>
                <a:lnTo>
                  <a:pt x="278" y="249"/>
                </a:lnTo>
                <a:lnTo>
                  <a:pt x="290" y="242"/>
                </a:lnTo>
                <a:lnTo>
                  <a:pt x="307" y="249"/>
                </a:lnTo>
                <a:lnTo>
                  <a:pt x="310" y="257"/>
                </a:lnTo>
                <a:lnTo>
                  <a:pt x="322" y="240"/>
                </a:lnTo>
                <a:lnTo>
                  <a:pt x="354" y="225"/>
                </a:lnTo>
                <a:lnTo>
                  <a:pt x="381" y="222"/>
                </a:lnTo>
                <a:lnTo>
                  <a:pt x="406" y="222"/>
                </a:lnTo>
                <a:lnTo>
                  <a:pt x="402" y="198"/>
                </a:lnTo>
                <a:lnTo>
                  <a:pt x="398" y="185"/>
                </a:lnTo>
                <a:lnTo>
                  <a:pt x="372" y="166"/>
                </a:lnTo>
                <a:lnTo>
                  <a:pt x="371" y="160"/>
                </a:lnTo>
                <a:lnTo>
                  <a:pt x="386" y="141"/>
                </a:lnTo>
                <a:lnTo>
                  <a:pt x="401" y="137"/>
                </a:lnTo>
                <a:lnTo>
                  <a:pt x="396" y="126"/>
                </a:lnTo>
                <a:lnTo>
                  <a:pt x="404" y="106"/>
                </a:lnTo>
                <a:lnTo>
                  <a:pt x="404" y="93"/>
                </a:lnTo>
                <a:lnTo>
                  <a:pt x="409" y="69"/>
                </a:lnTo>
                <a:lnTo>
                  <a:pt x="413" y="59"/>
                </a:lnTo>
                <a:lnTo>
                  <a:pt x="428" y="61"/>
                </a:lnTo>
                <a:lnTo>
                  <a:pt x="436" y="44"/>
                </a:lnTo>
                <a:lnTo>
                  <a:pt x="428" y="29"/>
                </a:lnTo>
                <a:lnTo>
                  <a:pt x="424" y="10"/>
                </a:lnTo>
                <a:lnTo>
                  <a:pt x="413" y="12"/>
                </a:lnTo>
                <a:lnTo>
                  <a:pt x="364" y="2"/>
                </a:lnTo>
                <a:lnTo>
                  <a:pt x="332" y="0"/>
                </a:lnTo>
                <a:lnTo>
                  <a:pt x="302" y="6"/>
                </a:lnTo>
                <a:lnTo>
                  <a:pt x="274" y="19"/>
                </a:lnTo>
                <a:lnTo>
                  <a:pt x="243" y="36"/>
                </a:lnTo>
                <a:lnTo>
                  <a:pt x="219" y="54"/>
                </a:lnTo>
                <a:lnTo>
                  <a:pt x="196" y="57"/>
                </a:lnTo>
                <a:lnTo>
                  <a:pt x="164" y="51"/>
                </a:lnTo>
                <a:lnTo>
                  <a:pt x="134" y="61"/>
                </a:lnTo>
                <a:lnTo>
                  <a:pt x="116" y="66"/>
                </a:lnTo>
                <a:lnTo>
                  <a:pt x="94" y="59"/>
                </a:lnTo>
                <a:lnTo>
                  <a:pt x="64" y="46"/>
                </a:lnTo>
                <a:lnTo>
                  <a:pt x="47" y="42"/>
                </a:lnTo>
                <a:lnTo>
                  <a:pt x="23" y="37"/>
                </a:lnTo>
                <a:lnTo>
                  <a:pt x="10" y="37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53200" y="3459240"/>
            <a:ext cx="56880" cy="90360"/>
          </a:xfrm>
          <a:custGeom>
            <a:avLst/>
            <a:gdLst/>
            <a:ahLst/>
            <a:rect l="l" t="t" r="r" b="b"/>
            <a:pathLst>
              <a:path w="169" h="282">
                <a:moveTo>
                  <a:pt x="13" y="63"/>
                </a:moveTo>
                <a:lnTo>
                  <a:pt x="23" y="71"/>
                </a:lnTo>
                <a:lnTo>
                  <a:pt x="23" y="84"/>
                </a:lnTo>
                <a:lnTo>
                  <a:pt x="22" y="92"/>
                </a:lnTo>
                <a:lnTo>
                  <a:pt x="15" y="103"/>
                </a:lnTo>
                <a:lnTo>
                  <a:pt x="15" y="131"/>
                </a:lnTo>
                <a:lnTo>
                  <a:pt x="20" y="141"/>
                </a:lnTo>
                <a:lnTo>
                  <a:pt x="5" y="164"/>
                </a:lnTo>
                <a:lnTo>
                  <a:pt x="8" y="168"/>
                </a:lnTo>
                <a:lnTo>
                  <a:pt x="0" y="181"/>
                </a:lnTo>
                <a:lnTo>
                  <a:pt x="7" y="193"/>
                </a:lnTo>
                <a:lnTo>
                  <a:pt x="8" y="202"/>
                </a:lnTo>
                <a:lnTo>
                  <a:pt x="13" y="191"/>
                </a:lnTo>
                <a:lnTo>
                  <a:pt x="25" y="206"/>
                </a:lnTo>
                <a:lnTo>
                  <a:pt x="23" y="221"/>
                </a:lnTo>
                <a:lnTo>
                  <a:pt x="17" y="227"/>
                </a:lnTo>
                <a:lnTo>
                  <a:pt x="25" y="240"/>
                </a:lnTo>
                <a:lnTo>
                  <a:pt x="36" y="245"/>
                </a:lnTo>
                <a:lnTo>
                  <a:pt x="53" y="255"/>
                </a:lnTo>
                <a:lnTo>
                  <a:pt x="68" y="267"/>
                </a:lnTo>
                <a:lnTo>
                  <a:pt x="70" y="275"/>
                </a:lnTo>
                <a:lnTo>
                  <a:pt x="87" y="282"/>
                </a:lnTo>
                <a:lnTo>
                  <a:pt x="102" y="275"/>
                </a:lnTo>
                <a:lnTo>
                  <a:pt x="120" y="265"/>
                </a:lnTo>
                <a:lnTo>
                  <a:pt x="129" y="247"/>
                </a:lnTo>
                <a:lnTo>
                  <a:pt x="137" y="235"/>
                </a:lnTo>
                <a:lnTo>
                  <a:pt x="152" y="208"/>
                </a:lnTo>
                <a:lnTo>
                  <a:pt x="156" y="188"/>
                </a:lnTo>
                <a:lnTo>
                  <a:pt x="159" y="168"/>
                </a:lnTo>
                <a:lnTo>
                  <a:pt x="169" y="156"/>
                </a:lnTo>
                <a:lnTo>
                  <a:pt x="152" y="151"/>
                </a:lnTo>
                <a:lnTo>
                  <a:pt x="146" y="143"/>
                </a:lnTo>
                <a:lnTo>
                  <a:pt x="137" y="145"/>
                </a:lnTo>
                <a:lnTo>
                  <a:pt x="122" y="139"/>
                </a:lnTo>
                <a:lnTo>
                  <a:pt x="119" y="119"/>
                </a:lnTo>
                <a:lnTo>
                  <a:pt x="114" y="106"/>
                </a:lnTo>
                <a:lnTo>
                  <a:pt x="122" y="91"/>
                </a:lnTo>
                <a:lnTo>
                  <a:pt x="122" y="46"/>
                </a:lnTo>
                <a:lnTo>
                  <a:pt x="122" y="32"/>
                </a:lnTo>
                <a:lnTo>
                  <a:pt x="114" y="22"/>
                </a:lnTo>
                <a:lnTo>
                  <a:pt x="99" y="21"/>
                </a:lnTo>
                <a:lnTo>
                  <a:pt x="89" y="17"/>
                </a:lnTo>
                <a:lnTo>
                  <a:pt x="80" y="2"/>
                </a:lnTo>
                <a:lnTo>
                  <a:pt x="70" y="0"/>
                </a:lnTo>
                <a:lnTo>
                  <a:pt x="65" y="7"/>
                </a:lnTo>
                <a:lnTo>
                  <a:pt x="64" y="2"/>
                </a:lnTo>
                <a:lnTo>
                  <a:pt x="47" y="4"/>
                </a:lnTo>
                <a:lnTo>
                  <a:pt x="38" y="0"/>
                </a:lnTo>
                <a:lnTo>
                  <a:pt x="25" y="8"/>
                </a:lnTo>
                <a:lnTo>
                  <a:pt x="23" y="34"/>
                </a:lnTo>
                <a:lnTo>
                  <a:pt x="20" y="50"/>
                </a:lnTo>
                <a:lnTo>
                  <a:pt x="13" y="63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4240" y="3271680"/>
            <a:ext cx="216000" cy="144720"/>
          </a:xfrm>
          <a:custGeom>
            <a:avLst/>
            <a:gdLst/>
            <a:ahLst/>
            <a:rect l="l" t="t" r="r" b="b"/>
            <a:pathLst>
              <a:path w="626" h="457">
                <a:moveTo>
                  <a:pt x="151" y="39"/>
                </a:moveTo>
                <a:lnTo>
                  <a:pt x="139" y="52"/>
                </a:lnTo>
                <a:lnTo>
                  <a:pt x="131" y="61"/>
                </a:lnTo>
                <a:lnTo>
                  <a:pt x="117" y="65"/>
                </a:lnTo>
                <a:lnTo>
                  <a:pt x="110" y="135"/>
                </a:lnTo>
                <a:lnTo>
                  <a:pt x="109" y="148"/>
                </a:lnTo>
                <a:lnTo>
                  <a:pt x="92" y="175"/>
                </a:lnTo>
                <a:lnTo>
                  <a:pt x="71" y="192"/>
                </a:lnTo>
                <a:lnTo>
                  <a:pt x="57" y="207"/>
                </a:lnTo>
                <a:lnTo>
                  <a:pt x="22" y="215"/>
                </a:lnTo>
                <a:lnTo>
                  <a:pt x="4" y="231"/>
                </a:lnTo>
                <a:lnTo>
                  <a:pt x="0" y="244"/>
                </a:lnTo>
                <a:lnTo>
                  <a:pt x="13" y="255"/>
                </a:lnTo>
                <a:lnTo>
                  <a:pt x="20" y="270"/>
                </a:lnTo>
                <a:lnTo>
                  <a:pt x="18" y="280"/>
                </a:lnTo>
                <a:lnTo>
                  <a:pt x="20" y="293"/>
                </a:lnTo>
                <a:lnTo>
                  <a:pt x="30" y="299"/>
                </a:lnTo>
                <a:lnTo>
                  <a:pt x="47" y="299"/>
                </a:lnTo>
                <a:lnTo>
                  <a:pt x="53" y="312"/>
                </a:lnTo>
                <a:lnTo>
                  <a:pt x="60" y="336"/>
                </a:lnTo>
                <a:lnTo>
                  <a:pt x="62" y="354"/>
                </a:lnTo>
                <a:lnTo>
                  <a:pt x="68" y="369"/>
                </a:lnTo>
                <a:lnTo>
                  <a:pt x="79" y="373"/>
                </a:lnTo>
                <a:lnTo>
                  <a:pt x="87" y="369"/>
                </a:lnTo>
                <a:lnTo>
                  <a:pt x="102" y="358"/>
                </a:lnTo>
                <a:lnTo>
                  <a:pt x="119" y="371"/>
                </a:lnTo>
                <a:lnTo>
                  <a:pt x="117" y="383"/>
                </a:lnTo>
                <a:lnTo>
                  <a:pt x="119" y="390"/>
                </a:lnTo>
                <a:lnTo>
                  <a:pt x="127" y="394"/>
                </a:lnTo>
                <a:lnTo>
                  <a:pt x="139" y="407"/>
                </a:lnTo>
                <a:lnTo>
                  <a:pt x="136" y="422"/>
                </a:lnTo>
                <a:lnTo>
                  <a:pt x="139" y="430"/>
                </a:lnTo>
                <a:lnTo>
                  <a:pt x="159" y="430"/>
                </a:lnTo>
                <a:lnTo>
                  <a:pt x="183" y="440"/>
                </a:lnTo>
                <a:lnTo>
                  <a:pt x="226" y="457"/>
                </a:lnTo>
                <a:lnTo>
                  <a:pt x="243" y="457"/>
                </a:lnTo>
                <a:lnTo>
                  <a:pt x="267" y="453"/>
                </a:lnTo>
                <a:lnTo>
                  <a:pt x="287" y="445"/>
                </a:lnTo>
                <a:lnTo>
                  <a:pt x="322" y="451"/>
                </a:lnTo>
                <a:lnTo>
                  <a:pt x="339" y="449"/>
                </a:lnTo>
                <a:lnTo>
                  <a:pt x="347" y="447"/>
                </a:lnTo>
                <a:lnTo>
                  <a:pt x="368" y="432"/>
                </a:lnTo>
                <a:lnTo>
                  <a:pt x="416" y="405"/>
                </a:lnTo>
                <a:lnTo>
                  <a:pt x="452" y="394"/>
                </a:lnTo>
                <a:lnTo>
                  <a:pt x="472" y="393"/>
                </a:lnTo>
                <a:lnTo>
                  <a:pt x="501" y="398"/>
                </a:lnTo>
                <a:lnTo>
                  <a:pt x="526" y="400"/>
                </a:lnTo>
                <a:lnTo>
                  <a:pt x="539" y="405"/>
                </a:lnTo>
                <a:lnTo>
                  <a:pt x="558" y="403"/>
                </a:lnTo>
                <a:lnTo>
                  <a:pt x="562" y="386"/>
                </a:lnTo>
                <a:lnTo>
                  <a:pt x="562" y="354"/>
                </a:lnTo>
                <a:lnTo>
                  <a:pt x="564" y="321"/>
                </a:lnTo>
                <a:lnTo>
                  <a:pt x="574" y="304"/>
                </a:lnTo>
                <a:lnTo>
                  <a:pt x="586" y="299"/>
                </a:lnTo>
                <a:lnTo>
                  <a:pt x="596" y="306"/>
                </a:lnTo>
                <a:lnTo>
                  <a:pt x="606" y="299"/>
                </a:lnTo>
                <a:lnTo>
                  <a:pt x="613" y="291"/>
                </a:lnTo>
                <a:lnTo>
                  <a:pt x="611" y="282"/>
                </a:lnTo>
                <a:lnTo>
                  <a:pt x="623" y="279"/>
                </a:lnTo>
                <a:lnTo>
                  <a:pt x="626" y="267"/>
                </a:lnTo>
                <a:lnTo>
                  <a:pt x="613" y="262"/>
                </a:lnTo>
                <a:lnTo>
                  <a:pt x="594" y="257"/>
                </a:lnTo>
                <a:lnTo>
                  <a:pt x="579" y="262"/>
                </a:lnTo>
                <a:lnTo>
                  <a:pt x="556" y="265"/>
                </a:lnTo>
                <a:lnTo>
                  <a:pt x="534" y="265"/>
                </a:lnTo>
                <a:lnTo>
                  <a:pt x="520" y="257"/>
                </a:lnTo>
                <a:lnTo>
                  <a:pt x="514" y="244"/>
                </a:lnTo>
                <a:lnTo>
                  <a:pt x="514" y="227"/>
                </a:lnTo>
                <a:lnTo>
                  <a:pt x="512" y="210"/>
                </a:lnTo>
                <a:lnTo>
                  <a:pt x="501" y="198"/>
                </a:lnTo>
                <a:lnTo>
                  <a:pt x="495" y="185"/>
                </a:lnTo>
                <a:lnTo>
                  <a:pt x="495" y="168"/>
                </a:lnTo>
                <a:lnTo>
                  <a:pt x="497" y="151"/>
                </a:lnTo>
                <a:lnTo>
                  <a:pt x="497" y="141"/>
                </a:lnTo>
                <a:lnTo>
                  <a:pt x="487" y="116"/>
                </a:lnTo>
                <a:lnTo>
                  <a:pt x="470" y="99"/>
                </a:lnTo>
                <a:lnTo>
                  <a:pt x="463" y="82"/>
                </a:lnTo>
                <a:lnTo>
                  <a:pt x="460" y="69"/>
                </a:lnTo>
                <a:lnTo>
                  <a:pt x="457" y="63"/>
                </a:lnTo>
                <a:lnTo>
                  <a:pt x="433" y="46"/>
                </a:lnTo>
                <a:lnTo>
                  <a:pt x="425" y="31"/>
                </a:lnTo>
                <a:lnTo>
                  <a:pt x="415" y="10"/>
                </a:lnTo>
                <a:lnTo>
                  <a:pt x="406" y="2"/>
                </a:lnTo>
                <a:lnTo>
                  <a:pt x="396" y="0"/>
                </a:lnTo>
                <a:lnTo>
                  <a:pt x="385" y="4"/>
                </a:lnTo>
                <a:lnTo>
                  <a:pt x="374" y="14"/>
                </a:lnTo>
                <a:lnTo>
                  <a:pt x="368" y="17"/>
                </a:lnTo>
                <a:lnTo>
                  <a:pt x="349" y="17"/>
                </a:lnTo>
                <a:lnTo>
                  <a:pt x="336" y="19"/>
                </a:lnTo>
                <a:lnTo>
                  <a:pt x="327" y="29"/>
                </a:lnTo>
                <a:lnTo>
                  <a:pt x="311" y="35"/>
                </a:lnTo>
                <a:lnTo>
                  <a:pt x="294" y="34"/>
                </a:lnTo>
                <a:lnTo>
                  <a:pt x="285" y="25"/>
                </a:lnTo>
                <a:lnTo>
                  <a:pt x="267" y="14"/>
                </a:lnTo>
                <a:lnTo>
                  <a:pt x="252" y="19"/>
                </a:lnTo>
                <a:lnTo>
                  <a:pt x="233" y="27"/>
                </a:lnTo>
                <a:lnTo>
                  <a:pt x="218" y="29"/>
                </a:lnTo>
                <a:lnTo>
                  <a:pt x="205" y="25"/>
                </a:lnTo>
                <a:lnTo>
                  <a:pt x="191" y="17"/>
                </a:lnTo>
                <a:lnTo>
                  <a:pt x="171" y="22"/>
                </a:lnTo>
                <a:lnTo>
                  <a:pt x="159" y="29"/>
                </a:lnTo>
                <a:lnTo>
                  <a:pt x="154" y="31"/>
                </a:lnTo>
                <a:lnTo>
                  <a:pt x="151" y="34"/>
                </a:lnTo>
                <a:lnTo>
                  <a:pt x="146" y="35"/>
                </a:lnTo>
                <a:lnTo>
                  <a:pt x="151" y="39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92840" y="3133800"/>
            <a:ext cx="82440" cy="66600"/>
          </a:xfrm>
          <a:custGeom>
            <a:avLst/>
            <a:gdLst/>
            <a:ahLst/>
            <a:rect l="l" t="t" r="r" b="b"/>
            <a:pathLst>
              <a:path w="239" h="211">
                <a:moveTo>
                  <a:pt x="0" y="38"/>
                </a:moveTo>
                <a:lnTo>
                  <a:pt x="6" y="30"/>
                </a:lnTo>
                <a:lnTo>
                  <a:pt x="4" y="20"/>
                </a:lnTo>
                <a:lnTo>
                  <a:pt x="40" y="0"/>
                </a:lnTo>
                <a:lnTo>
                  <a:pt x="44" y="7"/>
                </a:lnTo>
                <a:lnTo>
                  <a:pt x="70" y="3"/>
                </a:lnTo>
                <a:lnTo>
                  <a:pt x="90" y="4"/>
                </a:lnTo>
                <a:lnTo>
                  <a:pt x="82" y="14"/>
                </a:lnTo>
                <a:lnTo>
                  <a:pt x="87" y="28"/>
                </a:lnTo>
                <a:lnTo>
                  <a:pt x="104" y="33"/>
                </a:lnTo>
                <a:lnTo>
                  <a:pt x="121" y="32"/>
                </a:lnTo>
                <a:lnTo>
                  <a:pt x="135" y="22"/>
                </a:lnTo>
                <a:lnTo>
                  <a:pt x="157" y="20"/>
                </a:lnTo>
                <a:lnTo>
                  <a:pt x="164" y="29"/>
                </a:lnTo>
                <a:lnTo>
                  <a:pt x="178" y="37"/>
                </a:lnTo>
                <a:lnTo>
                  <a:pt x="197" y="38"/>
                </a:lnTo>
                <a:lnTo>
                  <a:pt x="194" y="54"/>
                </a:lnTo>
                <a:lnTo>
                  <a:pt x="195" y="86"/>
                </a:lnTo>
                <a:lnTo>
                  <a:pt x="198" y="105"/>
                </a:lnTo>
                <a:lnTo>
                  <a:pt x="220" y="103"/>
                </a:lnTo>
                <a:lnTo>
                  <a:pt x="227" y="117"/>
                </a:lnTo>
                <a:lnTo>
                  <a:pt x="228" y="128"/>
                </a:lnTo>
                <a:lnTo>
                  <a:pt x="239" y="144"/>
                </a:lnTo>
                <a:lnTo>
                  <a:pt x="226" y="155"/>
                </a:lnTo>
                <a:lnTo>
                  <a:pt x="213" y="164"/>
                </a:lnTo>
                <a:lnTo>
                  <a:pt x="200" y="164"/>
                </a:lnTo>
                <a:lnTo>
                  <a:pt x="184" y="169"/>
                </a:lnTo>
                <a:lnTo>
                  <a:pt x="184" y="186"/>
                </a:lnTo>
                <a:lnTo>
                  <a:pt x="177" y="197"/>
                </a:lnTo>
                <a:lnTo>
                  <a:pt x="160" y="211"/>
                </a:lnTo>
                <a:lnTo>
                  <a:pt x="131" y="189"/>
                </a:lnTo>
                <a:lnTo>
                  <a:pt x="123" y="170"/>
                </a:lnTo>
                <a:lnTo>
                  <a:pt x="97" y="164"/>
                </a:lnTo>
                <a:lnTo>
                  <a:pt x="88" y="139"/>
                </a:lnTo>
                <a:lnTo>
                  <a:pt x="70" y="125"/>
                </a:lnTo>
                <a:lnTo>
                  <a:pt x="63" y="106"/>
                </a:lnTo>
                <a:lnTo>
                  <a:pt x="48" y="88"/>
                </a:lnTo>
                <a:lnTo>
                  <a:pt x="38" y="70"/>
                </a:lnTo>
                <a:lnTo>
                  <a:pt x="19" y="56"/>
                </a:lnTo>
                <a:lnTo>
                  <a:pt x="0" y="38"/>
                </a:lnTo>
                <a:close/>
              </a:path>
            </a:pathLst>
          </a:custGeom>
          <a:solidFill>
            <a:srgbClr val="ff33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49720" y="3184560"/>
            <a:ext cx="22320" cy="27000"/>
          </a:xfrm>
          <a:custGeom>
            <a:avLst/>
            <a:gdLst/>
            <a:ahLst/>
            <a:rect l="l" t="t" r="r" b="b"/>
            <a:pathLst>
              <a:path w="65" h="81">
                <a:moveTo>
                  <a:pt x="47" y="81"/>
                </a:moveTo>
                <a:lnTo>
                  <a:pt x="50" y="55"/>
                </a:lnTo>
                <a:lnTo>
                  <a:pt x="65" y="45"/>
                </a:lnTo>
                <a:lnTo>
                  <a:pt x="65" y="32"/>
                </a:lnTo>
                <a:lnTo>
                  <a:pt x="57" y="23"/>
                </a:lnTo>
                <a:lnTo>
                  <a:pt x="49" y="11"/>
                </a:lnTo>
                <a:lnTo>
                  <a:pt x="45" y="0"/>
                </a:lnTo>
                <a:lnTo>
                  <a:pt x="30" y="0"/>
                </a:lnTo>
                <a:lnTo>
                  <a:pt x="20" y="5"/>
                </a:lnTo>
                <a:lnTo>
                  <a:pt x="20" y="22"/>
                </a:lnTo>
                <a:lnTo>
                  <a:pt x="10" y="37"/>
                </a:lnTo>
                <a:lnTo>
                  <a:pt x="0" y="41"/>
                </a:lnTo>
                <a:lnTo>
                  <a:pt x="5" y="54"/>
                </a:lnTo>
                <a:lnTo>
                  <a:pt x="18" y="57"/>
                </a:lnTo>
                <a:lnTo>
                  <a:pt x="32" y="61"/>
                </a:lnTo>
                <a:lnTo>
                  <a:pt x="40" y="69"/>
                </a:lnTo>
                <a:lnTo>
                  <a:pt x="47" y="81"/>
                </a:lnTo>
                <a:close/>
              </a:path>
            </a:pathLst>
          </a:custGeom>
          <a:solidFill>
            <a:srgbClr val="ce996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22720" y="3084480"/>
            <a:ext cx="82800" cy="82440"/>
          </a:xfrm>
          <a:custGeom>
            <a:avLst/>
            <a:gdLst/>
            <a:ahLst/>
            <a:rect l="l" t="t" r="r" b="b"/>
            <a:pathLst>
              <a:path w="244" h="258">
                <a:moveTo>
                  <a:pt x="102" y="7"/>
                </a:moveTo>
                <a:lnTo>
                  <a:pt x="77" y="37"/>
                </a:lnTo>
                <a:lnTo>
                  <a:pt x="77" y="46"/>
                </a:lnTo>
                <a:lnTo>
                  <a:pt x="62" y="61"/>
                </a:lnTo>
                <a:lnTo>
                  <a:pt x="64" y="65"/>
                </a:lnTo>
                <a:lnTo>
                  <a:pt x="60" y="75"/>
                </a:lnTo>
                <a:lnTo>
                  <a:pt x="45" y="90"/>
                </a:lnTo>
                <a:lnTo>
                  <a:pt x="30" y="107"/>
                </a:lnTo>
                <a:lnTo>
                  <a:pt x="24" y="116"/>
                </a:lnTo>
                <a:lnTo>
                  <a:pt x="30" y="124"/>
                </a:lnTo>
                <a:lnTo>
                  <a:pt x="26" y="136"/>
                </a:lnTo>
                <a:lnTo>
                  <a:pt x="18" y="147"/>
                </a:lnTo>
                <a:lnTo>
                  <a:pt x="11" y="151"/>
                </a:lnTo>
                <a:lnTo>
                  <a:pt x="0" y="164"/>
                </a:lnTo>
                <a:lnTo>
                  <a:pt x="2" y="176"/>
                </a:lnTo>
                <a:lnTo>
                  <a:pt x="13" y="183"/>
                </a:lnTo>
                <a:lnTo>
                  <a:pt x="40" y="183"/>
                </a:lnTo>
                <a:lnTo>
                  <a:pt x="56" y="174"/>
                </a:lnTo>
                <a:lnTo>
                  <a:pt x="72" y="172"/>
                </a:lnTo>
                <a:lnTo>
                  <a:pt x="85" y="183"/>
                </a:lnTo>
                <a:lnTo>
                  <a:pt x="97" y="189"/>
                </a:lnTo>
                <a:lnTo>
                  <a:pt x="114" y="191"/>
                </a:lnTo>
                <a:lnTo>
                  <a:pt x="110" y="210"/>
                </a:lnTo>
                <a:lnTo>
                  <a:pt x="115" y="258"/>
                </a:lnTo>
                <a:lnTo>
                  <a:pt x="130" y="257"/>
                </a:lnTo>
                <a:lnTo>
                  <a:pt x="139" y="256"/>
                </a:lnTo>
                <a:lnTo>
                  <a:pt x="143" y="242"/>
                </a:lnTo>
                <a:lnTo>
                  <a:pt x="145" y="214"/>
                </a:lnTo>
                <a:lnTo>
                  <a:pt x="156" y="199"/>
                </a:lnTo>
                <a:lnTo>
                  <a:pt x="156" y="174"/>
                </a:lnTo>
                <a:lnTo>
                  <a:pt x="166" y="159"/>
                </a:lnTo>
                <a:lnTo>
                  <a:pt x="184" y="151"/>
                </a:lnTo>
                <a:lnTo>
                  <a:pt x="219" y="111"/>
                </a:lnTo>
                <a:lnTo>
                  <a:pt x="224" y="94"/>
                </a:lnTo>
                <a:lnTo>
                  <a:pt x="218" y="67"/>
                </a:lnTo>
                <a:lnTo>
                  <a:pt x="241" y="49"/>
                </a:lnTo>
                <a:lnTo>
                  <a:pt x="244" y="18"/>
                </a:lnTo>
                <a:lnTo>
                  <a:pt x="228" y="4"/>
                </a:lnTo>
                <a:lnTo>
                  <a:pt x="218" y="2"/>
                </a:lnTo>
                <a:lnTo>
                  <a:pt x="199" y="0"/>
                </a:lnTo>
                <a:lnTo>
                  <a:pt x="156" y="0"/>
                </a:lnTo>
                <a:lnTo>
                  <a:pt x="144" y="10"/>
                </a:lnTo>
                <a:lnTo>
                  <a:pt x="134" y="22"/>
                </a:lnTo>
                <a:lnTo>
                  <a:pt x="136" y="34"/>
                </a:lnTo>
                <a:lnTo>
                  <a:pt x="151" y="44"/>
                </a:lnTo>
                <a:lnTo>
                  <a:pt x="161" y="57"/>
                </a:lnTo>
                <a:lnTo>
                  <a:pt x="161" y="74"/>
                </a:lnTo>
                <a:lnTo>
                  <a:pt x="144" y="86"/>
                </a:lnTo>
                <a:lnTo>
                  <a:pt x="127" y="90"/>
                </a:lnTo>
                <a:lnTo>
                  <a:pt x="114" y="92"/>
                </a:lnTo>
                <a:lnTo>
                  <a:pt x="109" y="82"/>
                </a:lnTo>
                <a:lnTo>
                  <a:pt x="104" y="67"/>
                </a:lnTo>
                <a:lnTo>
                  <a:pt x="112" y="54"/>
                </a:lnTo>
                <a:lnTo>
                  <a:pt x="110" y="40"/>
                </a:lnTo>
                <a:lnTo>
                  <a:pt x="109" y="25"/>
                </a:lnTo>
                <a:lnTo>
                  <a:pt x="102" y="7"/>
                </a:lnTo>
                <a:close/>
              </a:path>
            </a:pathLst>
          </a:custGeom>
          <a:solidFill>
            <a:srgbClr val="ff33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37240" y="2955960"/>
            <a:ext cx="118800" cy="100080"/>
          </a:xfrm>
          <a:custGeom>
            <a:avLst/>
            <a:gdLst/>
            <a:ahLst/>
            <a:rect l="l" t="t" r="r" b="b"/>
            <a:pathLst>
              <a:path w="345" h="315">
                <a:moveTo>
                  <a:pt x="128" y="119"/>
                </a:moveTo>
                <a:lnTo>
                  <a:pt x="123" y="131"/>
                </a:lnTo>
                <a:lnTo>
                  <a:pt x="128" y="148"/>
                </a:lnTo>
                <a:lnTo>
                  <a:pt x="121" y="159"/>
                </a:lnTo>
                <a:lnTo>
                  <a:pt x="111" y="152"/>
                </a:lnTo>
                <a:lnTo>
                  <a:pt x="98" y="154"/>
                </a:lnTo>
                <a:lnTo>
                  <a:pt x="98" y="167"/>
                </a:lnTo>
                <a:lnTo>
                  <a:pt x="72" y="190"/>
                </a:lnTo>
                <a:lnTo>
                  <a:pt x="57" y="196"/>
                </a:lnTo>
                <a:lnTo>
                  <a:pt x="38" y="218"/>
                </a:lnTo>
                <a:lnTo>
                  <a:pt x="25" y="223"/>
                </a:lnTo>
                <a:lnTo>
                  <a:pt x="15" y="222"/>
                </a:lnTo>
                <a:lnTo>
                  <a:pt x="11" y="226"/>
                </a:lnTo>
                <a:lnTo>
                  <a:pt x="7" y="229"/>
                </a:lnTo>
                <a:lnTo>
                  <a:pt x="13" y="236"/>
                </a:lnTo>
                <a:lnTo>
                  <a:pt x="13" y="251"/>
                </a:lnTo>
                <a:lnTo>
                  <a:pt x="0" y="264"/>
                </a:lnTo>
                <a:lnTo>
                  <a:pt x="5" y="278"/>
                </a:lnTo>
                <a:lnTo>
                  <a:pt x="5" y="278"/>
                </a:lnTo>
                <a:lnTo>
                  <a:pt x="20" y="278"/>
                </a:lnTo>
                <a:lnTo>
                  <a:pt x="25" y="268"/>
                </a:lnTo>
                <a:lnTo>
                  <a:pt x="35" y="277"/>
                </a:lnTo>
                <a:lnTo>
                  <a:pt x="23" y="285"/>
                </a:lnTo>
                <a:lnTo>
                  <a:pt x="28" y="297"/>
                </a:lnTo>
                <a:lnTo>
                  <a:pt x="35" y="300"/>
                </a:lnTo>
                <a:lnTo>
                  <a:pt x="62" y="304"/>
                </a:lnTo>
                <a:lnTo>
                  <a:pt x="66" y="307"/>
                </a:lnTo>
                <a:lnTo>
                  <a:pt x="92" y="315"/>
                </a:lnTo>
                <a:lnTo>
                  <a:pt x="102" y="310"/>
                </a:lnTo>
                <a:lnTo>
                  <a:pt x="123" y="297"/>
                </a:lnTo>
                <a:lnTo>
                  <a:pt x="155" y="304"/>
                </a:lnTo>
                <a:lnTo>
                  <a:pt x="212" y="304"/>
                </a:lnTo>
                <a:lnTo>
                  <a:pt x="244" y="297"/>
                </a:lnTo>
                <a:lnTo>
                  <a:pt x="259" y="275"/>
                </a:lnTo>
                <a:lnTo>
                  <a:pt x="278" y="264"/>
                </a:lnTo>
                <a:lnTo>
                  <a:pt x="284" y="251"/>
                </a:lnTo>
                <a:lnTo>
                  <a:pt x="291" y="233"/>
                </a:lnTo>
                <a:lnTo>
                  <a:pt x="306" y="222"/>
                </a:lnTo>
                <a:lnTo>
                  <a:pt x="318" y="190"/>
                </a:lnTo>
                <a:lnTo>
                  <a:pt x="316" y="154"/>
                </a:lnTo>
                <a:lnTo>
                  <a:pt x="345" y="137"/>
                </a:lnTo>
                <a:lnTo>
                  <a:pt x="328" y="122"/>
                </a:lnTo>
                <a:lnTo>
                  <a:pt x="323" y="97"/>
                </a:lnTo>
                <a:lnTo>
                  <a:pt x="311" y="87"/>
                </a:lnTo>
                <a:lnTo>
                  <a:pt x="299" y="87"/>
                </a:lnTo>
                <a:lnTo>
                  <a:pt x="286" y="80"/>
                </a:lnTo>
                <a:lnTo>
                  <a:pt x="263" y="53"/>
                </a:lnTo>
                <a:lnTo>
                  <a:pt x="274" y="47"/>
                </a:lnTo>
                <a:lnTo>
                  <a:pt x="314" y="10"/>
                </a:lnTo>
                <a:lnTo>
                  <a:pt x="309" y="0"/>
                </a:lnTo>
                <a:lnTo>
                  <a:pt x="296" y="3"/>
                </a:lnTo>
                <a:lnTo>
                  <a:pt x="254" y="5"/>
                </a:lnTo>
                <a:lnTo>
                  <a:pt x="240" y="15"/>
                </a:lnTo>
                <a:lnTo>
                  <a:pt x="229" y="22"/>
                </a:lnTo>
                <a:lnTo>
                  <a:pt x="214" y="20"/>
                </a:lnTo>
                <a:lnTo>
                  <a:pt x="205" y="25"/>
                </a:lnTo>
                <a:lnTo>
                  <a:pt x="212" y="37"/>
                </a:lnTo>
                <a:lnTo>
                  <a:pt x="233" y="50"/>
                </a:lnTo>
                <a:lnTo>
                  <a:pt x="218" y="53"/>
                </a:lnTo>
                <a:lnTo>
                  <a:pt x="180" y="57"/>
                </a:lnTo>
                <a:lnTo>
                  <a:pt x="155" y="47"/>
                </a:lnTo>
                <a:lnTo>
                  <a:pt x="129" y="37"/>
                </a:lnTo>
                <a:lnTo>
                  <a:pt x="121" y="42"/>
                </a:lnTo>
                <a:lnTo>
                  <a:pt x="114" y="62"/>
                </a:lnTo>
                <a:lnTo>
                  <a:pt x="117" y="72"/>
                </a:lnTo>
                <a:lnTo>
                  <a:pt x="113" y="77"/>
                </a:lnTo>
                <a:lnTo>
                  <a:pt x="98" y="82"/>
                </a:lnTo>
                <a:lnTo>
                  <a:pt x="99" y="102"/>
                </a:lnTo>
                <a:lnTo>
                  <a:pt x="98" y="106"/>
                </a:lnTo>
                <a:lnTo>
                  <a:pt x="82" y="127"/>
                </a:lnTo>
                <a:lnTo>
                  <a:pt x="96" y="146"/>
                </a:lnTo>
                <a:lnTo>
                  <a:pt x="102" y="144"/>
                </a:lnTo>
                <a:lnTo>
                  <a:pt x="128" y="119"/>
                </a:lnTo>
                <a:close/>
              </a:path>
            </a:pathLst>
          </a:custGeom>
          <a:solidFill>
            <a:srgbClr val="ff33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140440" y="2962440"/>
            <a:ext cx="132480" cy="98280"/>
            <a:chOff x="5140440" y="2962440"/>
            <a:chExt cx="132480" cy="98280"/>
          </a:xfrm>
        </p:grpSpPr>
        <p:sp>
          <p:nvSpPr>
            <p:cNvPr id="181" name=""/>
            <p:cNvSpPr/>
            <p:nvPr/>
          </p:nvSpPr>
          <p:spPr>
            <a:xfrm>
              <a:off x="5140440" y="2982960"/>
              <a:ext cx="56520" cy="63360"/>
            </a:xfrm>
            <a:custGeom>
              <a:avLst/>
              <a:gdLst/>
              <a:ahLst/>
              <a:rect l="l" t="t" r="r" b="b"/>
              <a:pathLst>
                <a:path w="165" h="202">
                  <a:moveTo>
                    <a:pt x="13" y="173"/>
                  </a:moveTo>
                  <a:lnTo>
                    <a:pt x="22" y="188"/>
                  </a:lnTo>
                  <a:lnTo>
                    <a:pt x="40" y="188"/>
                  </a:lnTo>
                  <a:lnTo>
                    <a:pt x="57" y="192"/>
                  </a:lnTo>
                  <a:lnTo>
                    <a:pt x="70" y="202"/>
                  </a:lnTo>
                  <a:lnTo>
                    <a:pt x="83" y="202"/>
                  </a:lnTo>
                  <a:lnTo>
                    <a:pt x="74" y="190"/>
                  </a:lnTo>
                  <a:lnTo>
                    <a:pt x="81" y="173"/>
                  </a:lnTo>
                  <a:lnTo>
                    <a:pt x="89" y="153"/>
                  </a:lnTo>
                  <a:lnTo>
                    <a:pt x="93" y="133"/>
                  </a:lnTo>
                  <a:lnTo>
                    <a:pt x="113" y="120"/>
                  </a:lnTo>
                  <a:lnTo>
                    <a:pt x="129" y="111"/>
                  </a:lnTo>
                  <a:lnTo>
                    <a:pt x="128" y="99"/>
                  </a:lnTo>
                  <a:lnTo>
                    <a:pt x="128" y="78"/>
                  </a:lnTo>
                  <a:lnTo>
                    <a:pt x="131" y="69"/>
                  </a:lnTo>
                  <a:lnTo>
                    <a:pt x="146" y="67"/>
                  </a:lnTo>
                  <a:lnTo>
                    <a:pt x="153" y="71"/>
                  </a:lnTo>
                  <a:lnTo>
                    <a:pt x="165" y="57"/>
                  </a:lnTo>
                  <a:lnTo>
                    <a:pt x="161" y="44"/>
                  </a:lnTo>
                  <a:lnTo>
                    <a:pt x="153" y="42"/>
                  </a:lnTo>
                  <a:lnTo>
                    <a:pt x="138" y="42"/>
                  </a:lnTo>
                  <a:lnTo>
                    <a:pt x="131" y="42"/>
                  </a:lnTo>
                  <a:lnTo>
                    <a:pt x="128" y="22"/>
                  </a:lnTo>
                  <a:lnTo>
                    <a:pt x="129" y="4"/>
                  </a:lnTo>
                  <a:lnTo>
                    <a:pt x="118" y="0"/>
                  </a:lnTo>
                  <a:lnTo>
                    <a:pt x="114" y="6"/>
                  </a:lnTo>
                  <a:lnTo>
                    <a:pt x="89" y="2"/>
                  </a:lnTo>
                  <a:lnTo>
                    <a:pt x="83" y="8"/>
                  </a:lnTo>
                  <a:lnTo>
                    <a:pt x="89" y="25"/>
                  </a:lnTo>
                  <a:lnTo>
                    <a:pt x="87" y="42"/>
                  </a:lnTo>
                  <a:lnTo>
                    <a:pt x="76" y="29"/>
                  </a:lnTo>
                  <a:lnTo>
                    <a:pt x="72" y="19"/>
                  </a:lnTo>
                  <a:lnTo>
                    <a:pt x="57" y="21"/>
                  </a:lnTo>
                  <a:lnTo>
                    <a:pt x="51" y="32"/>
                  </a:lnTo>
                  <a:lnTo>
                    <a:pt x="47" y="36"/>
                  </a:lnTo>
                  <a:lnTo>
                    <a:pt x="47" y="51"/>
                  </a:lnTo>
                  <a:lnTo>
                    <a:pt x="44" y="49"/>
                  </a:lnTo>
                  <a:lnTo>
                    <a:pt x="32" y="29"/>
                  </a:lnTo>
                  <a:lnTo>
                    <a:pt x="25" y="22"/>
                  </a:lnTo>
                  <a:lnTo>
                    <a:pt x="17" y="27"/>
                  </a:lnTo>
                  <a:lnTo>
                    <a:pt x="19" y="37"/>
                  </a:lnTo>
                  <a:lnTo>
                    <a:pt x="19" y="44"/>
                  </a:lnTo>
                  <a:lnTo>
                    <a:pt x="8" y="49"/>
                  </a:lnTo>
                  <a:lnTo>
                    <a:pt x="8" y="63"/>
                  </a:lnTo>
                  <a:lnTo>
                    <a:pt x="17" y="78"/>
                  </a:lnTo>
                  <a:lnTo>
                    <a:pt x="17" y="88"/>
                  </a:lnTo>
                  <a:lnTo>
                    <a:pt x="13" y="99"/>
                  </a:lnTo>
                  <a:lnTo>
                    <a:pt x="0" y="109"/>
                  </a:lnTo>
                  <a:lnTo>
                    <a:pt x="2" y="120"/>
                  </a:lnTo>
                  <a:lnTo>
                    <a:pt x="15" y="131"/>
                  </a:lnTo>
                  <a:lnTo>
                    <a:pt x="19" y="141"/>
                  </a:lnTo>
                  <a:lnTo>
                    <a:pt x="17" y="160"/>
                  </a:lnTo>
                  <a:lnTo>
                    <a:pt x="13" y="173"/>
                  </a:lnTo>
                  <a:close/>
                </a:path>
              </a:pathLst>
            </a:custGeom>
            <a:solidFill>
              <a:srgbClr val="ff33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2320" y="2962440"/>
              <a:ext cx="42480" cy="2520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0" y="75"/>
                  </a:moveTo>
                  <a:lnTo>
                    <a:pt x="10" y="77"/>
                  </a:lnTo>
                  <a:lnTo>
                    <a:pt x="23" y="68"/>
                  </a:lnTo>
                  <a:lnTo>
                    <a:pt x="36" y="54"/>
                  </a:lnTo>
                  <a:lnTo>
                    <a:pt x="70" y="54"/>
                  </a:lnTo>
                  <a:lnTo>
                    <a:pt x="99" y="48"/>
                  </a:lnTo>
                  <a:lnTo>
                    <a:pt x="116" y="34"/>
                  </a:lnTo>
                  <a:lnTo>
                    <a:pt x="122" y="17"/>
                  </a:lnTo>
                  <a:lnTo>
                    <a:pt x="124" y="0"/>
                  </a:lnTo>
                  <a:lnTo>
                    <a:pt x="102" y="10"/>
                  </a:lnTo>
                  <a:lnTo>
                    <a:pt x="59" y="30"/>
                  </a:lnTo>
                  <a:lnTo>
                    <a:pt x="48" y="32"/>
                  </a:lnTo>
                  <a:lnTo>
                    <a:pt x="36" y="41"/>
                  </a:lnTo>
                  <a:lnTo>
                    <a:pt x="10" y="46"/>
                  </a:lnTo>
                  <a:lnTo>
                    <a:pt x="0" y="51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33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74280" y="3022560"/>
              <a:ext cx="17280" cy="20880"/>
            </a:xfrm>
            <a:custGeom>
              <a:avLst/>
              <a:gdLst/>
              <a:ahLst/>
              <a:rect l="l" t="t" r="r" b="b"/>
              <a:pathLst>
                <a:path w="54" h="64">
                  <a:moveTo>
                    <a:pt x="17" y="0"/>
                  </a:moveTo>
                  <a:lnTo>
                    <a:pt x="51" y="22"/>
                  </a:lnTo>
                  <a:lnTo>
                    <a:pt x="54" y="32"/>
                  </a:lnTo>
                  <a:lnTo>
                    <a:pt x="41" y="45"/>
                  </a:lnTo>
                  <a:lnTo>
                    <a:pt x="30" y="54"/>
                  </a:lnTo>
                  <a:lnTo>
                    <a:pt x="32" y="64"/>
                  </a:lnTo>
                  <a:lnTo>
                    <a:pt x="17" y="62"/>
                  </a:lnTo>
                  <a:lnTo>
                    <a:pt x="2" y="45"/>
                  </a:lnTo>
                  <a:lnTo>
                    <a:pt x="0" y="32"/>
                  </a:lnTo>
                  <a:lnTo>
                    <a:pt x="7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33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96960" y="3017880"/>
              <a:ext cx="27000" cy="28440"/>
            </a:xfrm>
            <a:custGeom>
              <a:avLst/>
              <a:gdLst/>
              <a:ahLst/>
              <a:rect l="l" t="t" r="r" b="b"/>
              <a:pathLst>
                <a:path w="79" h="93">
                  <a:moveTo>
                    <a:pt x="74" y="0"/>
                  </a:moveTo>
                  <a:lnTo>
                    <a:pt x="79" y="5"/>
                  </a:lnTo>
                  <a:lnTo>
                    <a:pt x="74" y="10"/>
                  </a:lnTo>
                  <a:lnTo>
                    <a:pt x="79" y="20"/>
                  </a:lnTo>
                  <a:lnTo>
                    <a:pt x="73" y="33"/>
                  </a:lnTo>
                  <a:lnTo>
                    <a:pt x="62" y="41"/>
                  </a:lnTo>
                  <a:lnTo>
                    <a:pt x="66" y="51"/>
                  </a:lnTo>
                  <a:lnTo>
                    <a:pt x="62" y="60"/>
                  </a:lnTo>
                  <a:lnTo>
                    <a:pt x="66" y="71"/>
                  </a:lnTo>
                  <a:lnTo>
                    <a:pt x="51" y="93"/>
                  </a:lnTo>
                  <a:lnTo>
                    <a:pt x="18" y="71"/>
                  </a:lnTo>
                  <a:lnTo>
                    <a:pt x="0" y="58"/>
                  </a:lnTo>
                  <a:lnTo>
                    <a:pt x="10" y="51"/>
                  </a:lnTo>
                  <a:lnTo>
                    <a:pt x="10" y="36"/>
                  </a:lnTo>
                  <a:lnTo>
                    <a:pt x="31" y="25"/>
                  </a:lnTo>
                  <a:lnTo>
                    <a:pt x="41" y="30"/>
                  </a:lnTo>
                  <a:lnTo>
                    <a:pt x="51" y="25"/>
                  </a:lnTo>
                  <a:lnTo>
                    <a:pt x="68" y="13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33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93360" y="3048120"/>
              <a:ext cx="9720" cy="1260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0"/>
                  </a:moveTo>
                  <a:lnTo>
                    <a:pt x="22" y="7"/>
                  </a:lnTo>
                  <a:lnTo>
                    <a:pt x="30" y="17"/>
                  </a:lnTo>
                  <a:lnTo>
                    <a:pt x="32" y="32"/>
                  </a:lnTo>
                  <a:lnTo>
                    <a:pt x="22" y="40"/>
                  </a:lnTo>
                  <a:lnTo>
                    <a:pt x="6" y="33"/>
                  </a:lnTo>
                  <a:lnTo>
                    <a:pt x="2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68240" y="3044880"/>
              <a:ext cx="4680" cy="1116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5" y="0"/>
                  </a:moveTo>
                  <a:lnTo>
                    <a:pt x="0" y="5"/>
                  </a:lnTo>
                  <a:lnTo>
                    <a:pt x="0" y="22"/>
                  </a:lnTo>
                  <a:lnTo>
                    <a:pt x="12" y="33"/>
                  </a:lnTo>
                  <a:lnTo>
                    <a:pt x="18" y="1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33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065560" y="3041640"/>
            <a:ext cx="199800" cy="247680"/>
            <a:chOff x="5065560" y="3041640"/>
            <a:chExt cx="199800" cy="247680"/>
          </a:xfrm>
        </p:grpSpPr>
        <p:sp>
          <p:nvSpPr>
            <p:cNvPr id="188" name=""/>
            <p:cNvSpPr/>
            <p:nvPr/>
          </p:nvSpPr>
          <p:spPr>
            <a:xfrm>
              <a:off x="5234400" y="3065400"/>
              <a:ext cx="10080" cy="792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" y="0"/>
                  </a:moveTo>
                  <a:lnTo>
                    <a:pt x="0" y="5"/>
                  </a:lnTo>
                  <a:lnTo>
                    <a:pt x="2" y="18"/>
                  </a:lnTo>
                  <a:lnTo>
                    <a:pt x="17" y="26"/>
                  </a:lnTo>
                  <a:lnTo>
                    <a:pt x="27" y="1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65560" y="3041640"/>
              <a:ext cx="199800" cy="247680"/>
            </a:xfrm>
            <a:custGeom>
              <a:avLst/>
              <a:gdLst/>
              <a:ahLst/>
              <a:rect l="l" t="t" r="r" b="b"/>
              <a:pathLst>
                <a:path w="581" h="778">
                  <a:moveTo>
                    <a:pt x="240" y="0"/>
                  </a:moveTo>
                  <a:lnTo>
                    <a:pt x="227" y="8"/>
                  </a:lnTo>
                  <a:lnTo>
                    <a:pt x="227" y="18"/>
                  </a:lnTo>
                  <a:lnTo>
                    <a:pt x="230" y="25"/>
                  </a:lnTo>
                  <a:lnTo>
                    <a:pt x="232" y="38"/>
                  </a:lnTo>
                  <a:lnTo>
                    <a:pt x="234" y="55"/>
                  </a:lnTo>
                  <a:lnTo>
                    <a:pt x="227" y="62"/>
                  </a:lnTo>
                  <a:lnTo>
                    <a:pt x="227" y="72"/>
                  </a:lnTo>
                  <a:lnTo>
                    <a:pt x="230" y="82"/>
                  </a:lnTo>
                  <a:lnTo>
                    <a:pt x="247" y="97"/>
                  </a:lnTo>
                  <a:lnTo>
                    <a:pt x="257" y="100"/>
                  </a:lnTo>
                  <a:lnTo>
                    <a:pt x="261" y="122"/>
                  </a:lnTo>
                  <a:lnTo>
                    <a:pt x="238" y="117"/>
                  </a:lnTo>
                  <a:lnTo>
                    <a:pt x="225" y="104"/>
                  </a:lnTo>
                  <a:lnTo>
                    <a:pt x="215" y="110"/>
                  </a:lnTo>
                  <a:lnTo>
                    <a:pt x="195" y="134"/>
                  </a:lnTo>
                  <a:lnTo>
                    <a:pt x="187" y="142"/>
                  </a:lnTo>
                  <a:lnTo>
                    <a:pt x="178" y="139"/>
                  </a:lnTo>
                  <a:lnTo>
                    <a:pt x="177" y="129"/>
                  </a:lnTo>
                  <a:lnTo>
                    <a:pt x="170" y="121"/>
                  </a:lnTo>
                  <a:lnTo>
                    <a:pt x="153" y="114"/>
                  </a:lnTo>
                  <a:lnTo>
                    <a:pt x="128" y="114"/>
                  </a:lnTo>
                  <a:lnTo>
                    <a:pt x="120" y="125"/>
                  </a:lnTo>
                  <a:lnTo>
                    <a:pt x="107" y="139"/>
                  </a:lnTo>
                  <a:lnTo>
                    <a:pt x="118" y="150"/>
                  </a:lnTo>
                  <a:lnTo>
                    <a:pt x="118" y="169"/>
                  </a:lnTo>
                  <a:lnTo>
                    <a:pt x="116" y="179"/>
                  </a:lnTo>
                  <a:lnTo>
                    <a:pt x="111" y="188"/>
                  </a:lnTo>
                  <a:lnTo>
                    <a:pt x="96" y="199"/>
                  </a:lnTo>
                  <a:lnTo>
                    <a:pt x="92" y="201"/>
                  </a:lnTo>
                  <a:lnTo>
                    <a:pt x="94" y="216"/>
                  </a:lnTo>
                  <a:lnTo>
                    <a:pt x="101" y="226"/>
                  </a:lnTo>
                  <a:lnTo>
                    <a:pt x="96" y="238"/>
                  </a:lnTo>
                  <a:lnTo>
                    <a:pt x="86" y="253"/>
                  </a:lnTo>
                  <a:lnTo>
                    <a:pt x="74" y="268"/>
                  </a:lnTo>
                  <a:lnTo>
                    <a:pt x="64" y="278"/>
                  </a:lnTo>
                  <a:lnTo>
                    <a:pt x="50" y="290"/>
                  </a:lnTo>
                  <a:lnTo>
                    <a:pt x="39" y="293"/>
                  </a:lnTo>
                  <a:lnTo>
                    <a:pt x="31" y="310"/>
                  </a:lnTo>
                  <a:lnTo>
                    <a:pt x="29" y="335"/>
                  </a:lnTo>
                  <a:lnTo>
                    <a:pt x="21" y="350"/>
                  </a:lnTo>
                  <a:lnTo>
                    <a:pt x="21" y="372"/>
                  </a:lnTo>
                  <a:lnTo>
                    <a:pt x="12" y="382"/>
                  </a:lnTo>
                  <a:lnTo>
                    <a:pt x="10" y="389"/>
                  </a:lnTo>
                  <a:lnTo>
                    <a:pt x="17" y="399"/>
                  </a:lnTo>
                  <a:lnTo>
                    <a:pt x="21" y="416"/>
                  </a:lnTo>
                  <a:lnTo>
                    <a:pt x="31" y="431"/>
                  </a:lnTo>
                  <a:lnTo>
                    <a:pt x="2" y="456"/>
                  </a:lnTo>
                  <a:lnTo>
                    <a:pt x="8" y="471"/>
                  </a:lnTo>
                  <a:lnTo>
                    <a:pt x="19" y="481"/>
                  </a:lnTo>
                  <a:lnTo>
                    <a:pt x="21" y="483"/>
                  </a:lnTo>
                  <a:lnTo>
                    <a:pt x="21" y="494"/>
                  </a:lnTo>
                  <a:lnTo>
                    <a:pt x="6" y="504"/>
                  </a:lnTo>
                  <a:lnTo>
                    <a:pt x="0" y="519"/>
                  </a:lnTo>
                  <a:lnTo>
                    <a:pt x="6" y="538"/>
                  </a:lnTo>
                  <a:lnTo>
                    <a:pt x="14" y="550"/>
                  </a:lnTo>
                  <a:lnTo>
                    <a:pt x="31" y="557"/>
                  </a:lnTo>
                  <a:lnTo>
                    <a:pt x="52" y="561"/>
                  </a:lnTo>
                  <a:lnTo>
                    <a:pt x="74" y="563"/>
                  </a:lnTo>
                  <a:lnTo>
                    <a:pt x="91" y="565"/>
                  </a:lnTo>
                  <a:lnTo>
                    <a:pt x="103" y="574"/>
                  </a:lnTo>
                  <a:lnTo>
                    <a:pt x="116" y="585"/>
                  </a:lnTo>
                  <a:lnTo>
                    <a:pt x="101" y="593"/>
                  </a:lnTo>
                  <a:lnTo>
                    <a:pt x="88" y="605"/>
                  </a:lnTo>
                  <a:lnTo>
                    <a:pt x="76" y="615"/>
                  </a:lnTo>
                  <a:lnTo>
                    <a:pt x="74" y="629"/>
                  </a:lnTo>
                  <a:lnTo>
                    <a:pt x="67" y="660"/>
                  </a:lnTo>
                  <a:lnTo>
                    <a:pt x="57" y="679"/>
                  </a:lnTo>
                  <a:lnTo>
                    <a:pt x="50" y="692"/>
                  </a:lnTo>
                  <a:lnTo>
                    <a:pt x="67" y="714"/>
                  </a:lnTo>
                  <a:lnTo>
                    <a:pt x="71" y="721"/>
                  </a:lnTo>
                  <a:lnTo>
                    <a:pt x="82" y="729"/>
                  </a:lnTo>
                  <a:lnTo>
                    <a:pt x="92" y="728"/>
                  </a:lnTo>
                  <a:lnTo>
                    <a:pt x="105" y="721"/>
                  </a:lnTo>
                  <a:lnTo>
                    <a:pt x="111" y="714"/>
                  </a:lnTo>
                  <a:lnTo>
                    <a:pt x="113" y="711"/>
                  </a:lnTo>
                  <a:lnTo>
                    <a:pt x="133" y="714"/>
                  </a:lnTo>
                  <a:lnTo>
                    <a:pt x="141" y="726"/>
                  </a:lnTo>
                  <a:lnTo>
                    <a:pt x="148" y="738"/>
                  </a:lnTo>
                  <a:lnTo>
                    <a:pt x="156" y="749"/>
                  </a:lnTo>
                  <a:lnTo>
                    <a:pt x="168" y="751"/>
                  </a:lnTo>
                  <a:lnTo>
                    <a:pt x="193" y="749"/>
                  </a:lnTo>
                  <a:lnTo>
                    <a:pt x="206" y="746"/>
                  </a:lnTo>
                  <a:lnTo>
                    <a:pt x="223" y="759"/>
                  </a:lnTo>
                  <a:lnTo>
                    <a:pt x="235" y="753"/>
                  </a:lnTo>
                  <a:lnTo>
                    <a:pt x="248" y="757"/>
                  </a:lnTo>
                  <a:lnTo>
                    <a:pt x="259" y="766"/>
                  </a:lnTo>
                  <a:lnTo>
                    <a:pt x="280" y="757"/>
                  </a:lnTo>
                  <a:lnTo>
                    <a:pt x="299" y="757"/>
                  </a:lnTo>
                  <a:lnTo>
                    <a:pt x="314" y="766"/>
                  </a:lnTo>
                  <a:lnTo>
                    <a:pt x="324" y="770"/>
                  </a:lnTo>
                  <a:lnTo>
                    <a:pt x="337" y="761"/>
                  </a:lnTo>
                  <a:lnTo>
                    <a:pt x="349" y="761"/>
                  </a:lnTo>
                  <a:lnTo>
                    <a:pt x="371" y="757"/>
                  </a:lnTo>
                  <a:lnTo>
                    <a:pt x="386" y="766"/>
                  </a:lnTo>
                  <a:lnTo>
                    <a:pt x="388" y="761"/>
                  </a:lnTo>
                  <a:lnTo>
                    <a:pt x="404" y="771"/>
                  </a:lnTo>
                  <a:lnTo>
                    <a:pt x="417" y="778"/>
                  </a:lnTo>
                  <a:lnTo>
                    <a:pt x="433" y="771"/>
                  </a:lnTo>
                  <a:lnTo>
                    <a:pt x="436" y="761"/>
                  </a:lnTo>
                  <a:lnTo>
                    <a:pt x="425" y="746"/>
                  </a:lnTo>
                  <a:lnTo>
                    <a:pt x="423" y="738"/>
                  </a:lnTo>
                  <a:lnTo>
                    <a:pt x="417" y="713"/>
                  </a:lnTo>
                  <a:lnTo>
                    <a:pt x="476" y="675"/>
                  </a:lnTo>
                  <a:lnTo>
                    <a:pt x="490" y="675"/>
                  </a:lnTo>
                  <a:lnTo>
                    <a:pt x="493" y="669"/>
                  </a:lnTo>
                  <a:lnTo>
                    <a:pt x="472" y="661"/>
                  </a:lnTo>
                  <a:lnTo>
                    <a:pt x="457" y="645"/>
                  </a:lnTo>
                  <a:lnTo>
                    <a:pt x="420" y="612"/>
                  </a:lnTo>
                  <a:lnTo>
                    <a:pt x="415" y="587"/>
                  </a:lnTo>
                  <a:lnTo>
                    <a:pt x="394" y="582"/>
                  </a:lnTo>
                  <a:lnTo>
                    <a:pt x="391" y="557"/>
                  </a:lnTo>
                  <a:lnTo>
                    <a:pt x="387" y="536"/>
                  </a:lnTo>
                  <a:lnTo>
                    <a:pt x="378" y="525"/>
                  </a:lnTo>
                  <a:lnTo>
                    <a:pt x="383" y="515"/>
                  </a:lnTo>
                  <a:lnTo>
                    <a:pt x="388" y="511"/>
                  </a:lnTo>
                  <a:lnTo>
                    <a:pt x="399" y="512"/>
                  </a:lnTo>
                  <a:lnTo>
                    <a:pt x="435" y="502"/>
                  </a:lnTo>
                  <a:lnTo>
                    <a:pt x="510" y="463"/>
                  </a:lnTo>
                  <a:lnTo>
                    <a:pt x="526" y="456"/>
                  </a:lnTo>
                  <a:lnTo>
                    <a:pt x="542" y="446"/>
                  </a:lnTo>
                  <a:lnTo>
                    <a:pt x="554" y="459"/>
                  </a:lnTo>
                  <a:lnTo>
                    <a:pt x="571" y="453"/>
                  </a:lnTo>
                  <a:lnTo>
                    <a:pt x="576" y="435"/>
                  </a:lnTo>
                  <a:lnTo>
                    <a:pt x="575" y="425"/>
                  </a:lnTo>
                  <a:lnTo>
                    <a:pt x="581" y="414"/>
                  </a:lnTo>
                  <a:lnTo>
                    <a:pt x="572" y="400"/>
                  </a:lnTo>
                  <a:lnTo>
                    <a:pt x="562" y="376"/>
                  </a:lnTo>
                  <a:lnTo>
                    <a:pt x="569" y="342"/>
                  </a:lnTo>
                  <a:lnTo>
                    <a:pt x="558" y="325"/>
                  </a:lnTo>
                  <a:lnTo>
                    <a:pt x="553" y="308"/>
                  </a:lnTo>
                  <a:lnTo>
                    <a:pt x="559" y="292"/>
                  </a:lnTo>
                  <a:lnTo>
                    <a:pt x="555" y="278"/>
                  </a:lnTo>
                  <a:lnTo>
                    <a:pt x="531" y="252"/>
                  </a:lnTo>
                  <a:lnTo>
                    <a:pt x="544" y="236"/>
                  </a:lnTo>
                  <a:lnTo>
                    <a:pt x="544" y="209"/>
                  </a:lnTo>
                  <a:lnTo>
                    <a:pt x="546" y="177"/>
                  </a:lnTo>
                  <a:lnTo>
                    <a:pt x="520" y="148"/>
                  </a:lnTo>
                  <a:lnTo>
                    <a:pt x="507" y="131"/>
                  </a:lnTo>
                  <a:lnTo>
                    <a:pt x="493" y="117"/>
                  </a:lnTo>
                  <a:lnTo>
                    <a:pt x="470" y="97"/>
                  </a:lnTo>
                  <a:lnTo>
                    <a:pt x="455" y="87"/>
                  </a:lnTo>
                  <a:lnTo>
                    <a:pt x="445" y="85"/>
                  </a:lnTo>
                  <a:lnTo>
                    <a:pt x="430" y="95"/>
                  </a:lnTo>
                  <a:lnTo>
                    <a:pt x="419" y="102"/>
                  </a:lnTo>
                  <a:lnTo>
                    <a:pt x="386" y="127"/>
                  </a:lnTo>
                  <a:lnTo>
                    <a:pt x="362" y="121"/>
                  </a:lnTo>
                  <a:lnTo>
                    <a:pt x="351" y="121"/>
                  </a:lnTo>
                  <a:lnTo>
                    <a:pt x="351" y="112"/>
                  </a:lnTo>
                  <a:lnTo>
                    <a:pt x="356" y="100"/>
                  </a:lnTo>
                  <a:lnTo>
                    <a:pt x="362" y="89"/>
                  </a:lnTo>
                  <a:lnTo>
                    <a:pt x="331" y="70"/>
                  </a:lnTo>
                  <a:lnTo>
                    <a:pt x="322" y="68"/>
                  </a:lnTo>
                  <a:lnTo>
                    <a:pt x="307" y="55"/>
                  </a:lnTo>
                  <a:lnTo>
                    <a:pt x="301" y="32"/>
                  </a:lnTo>
                  <a:lnTo>
                    <a:pt x="294" y="18"/>
                  </a:lnTo>
                  <a:lnTo>
                    <a:pt x="284" y="20"/>
                  </a:lnTo>
                  <a:lnTo>
                    <a:pt x="272" y="5"/>
                  </a:lnTo>
                  <a:lnTo>
                    <a:pt x="255" y="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248440" y="3062160"/>
            <a:ext cx="214200" cy="187560"/>
          </a:xfrm>
          <a:custGeom>
            <a:avLst/>
            <a:gdLst/>
            <a:ahLst/>
            <a:rect l="l" t="t" r="r" b="b"/>
            <a:pathLst>
              <a:path w="627" h="589">
                <a:moveTo>
                  <a:pt x="15" y="112"/>
                </a:moveTo>
                <a:lnTo>
                  <a:pt x="13" y="148"/>
                </a:lnTo>
                <a:lnTo>
                  <a:pt x="13" y="171"/>
                </a:lnTo>
                <a:lnTo>
                  <a:pt x="0" y="188"/>
                </a:lnTo>
                <a:lnTo>
                  <a:pt x="25" y="218"/>
                </a:lnTo>
                <a:lnTo>
                  <a:pt x="28" y="226"/>
                </a:lnTo>
                <a:lnTo>
                  <a:pt x="22" y="245"/>
                </a:lnTo>
                <a:lnTo>
                  <a:pt x="23" y="257"/>
                </a:lnTo>
                <a:lnTo>
                  <a:pt x="36" y="275"/>
                </a:lnTo>
                <a:lnTo>
                  <a:pt x="34" y="285"/>
                </a:lnTo>
                <a:lnTo>
                  <a:pt x="32" y="317"/>
                </a:lnTo>
                <a:lnTo>
                  <a:pt x="42" y="338"/>
                </a:lnTo>
                <a:lnTo>
                  <a:pt x="50" y="351"/>
                </a:lnTo>
                <a:lnTo>
                  <a:pt x="45" y="359"/>
                </a:lnTo>
                <a:lnTo>
                  <a:pt x="45" y="371"/>
                </a:lnTo>
                <a:lnTo>
                  <a:pt x="38" y="378"/>
                </a:lnTo>
                <a:lnTo>
                  <a:pt x="38" y="386"/>
                </a:lnTo>
                <a:lnTo>
                  <a:pt x="55" y="388"/>
                </a:lnTo>
                <a:lnTo>
                  <a:pt x="68" y="393"/>
                </a:lnTo>
                <a:lnTo>
                  <a:pt x="72" y="401"/>
                </a:lnTo>
                <a:lnTo>
                  <a:pt x="72" y="416"/>
                </a:lnTo>
                <a:lnTo>
                  <a:pt x="89" y="433"/>
                </a:lnTo>
                <a:lnTo>
                  <a:pt x="104" y="440"/>
                </a:lnTo>
                <a:lnTo>
                  <a:pt x="107" y="454"/>
                </a:lnTo>
                <a:lnTo>
                  <a:pt x="127" y="480"/>
                </a:lnTo>
                <a:lnTo>
                  <a:pt x="144" y="465"/>
                </a:lnTo>
                <a:lnTo>
                  <a:pt x="159" y="460"/>
                </a:lnTo>
                <a:lnTo>
                  <a:pt x="169" y="462"/>
                </a:lnTo>
                <a:lnTo>
                  <a:pt x="198" y="494"/>
                </a:lnTo>
                <a:lnTo>
                  <a:pt x="205" y="497"/>
                </a:lnTo>
                <a:lnTo>
                  <a:pt x="241" y="513"/>
                </a:lnTo>
                <a:lnTo>
                  <a:pt x="249" y="515"/>
                </a:lnTo>
                <a:lnTo>
                  <a:pt x="263" y="511"/>
                </a:lnTo>
                <a:lnTo>
                  <a:pt x="280" y="509"/>
                </a:lnTo>
                <a:lnTo>
                  <a:pt x="295" y="515"/>
                </a:lnTo>
                <a:lnTo>
                  <a:pt x="315" y="532"/>
                </a:lnTo>
                <a:lnTo>
                  <a:pt x="323" y="541"/>
                </a:lnTo>
                <a:lnTo>
                  <a:pt x="332" y="534"/>
                </a:lnTo>
                <a:lnTo>
                  <a:pt x="342" y="532"/>
                </a:lnTo>
                <a:lnTo>
                  <a:pt x="357" y="544"/>
                </a:lnTo>
                <a:lnTo>
                  <a:pt x="374" y="557"/>
                </a:lnTo>
                <a:lnTo>
                  <a:pt x="386" y="566"/>
                </a:lnTo>
                <a:lnTo>
                  <a:pt x="403" y="572"/>
                </a:lnTo>
                <a:lnTo>
                  <a:pt x="411" y="569"/>
                </a:lnTo>
                <a:lnTo>
                  <a:pt x="419" y="562"/>
                </a:lnTo>
                <a:lnTo>
                  <a:pt x="431" y="557"/>
                </a:lnTo>
                <a:lnTo>
                  <a:pt x="451" y="564"/>
                </a:lnTo>
                <a:lnTo>
                  <a:pt x="548" y="589"/>
                </a:lnTo>
                <a:lnTo>
                  <a:pt x="563" y="576"/>
                </a:lnTo>
                <a:lnTo>
                  <a:pt x="553" y="557"/>
                </a:lnTo>
                <a:lnTo>
                  <a:pt x="542" y="526"/>
                </a:lnTo>
                <a:lnTo>
                  <a:pt x="609" y="465"/>
                </a:lnTo>
                <a:lnTo>
                  <a:pt x="622" y="450"/>
                </a:lnTo>
                <a:lnTo>
                  <a:pt x="627" y="426"/>
                </a:lnTo>
                <a:lnTo>
                  <a:pt x="616" y="395"/>
                </a:lnTo>
                <a:lnTo>
                  <a:pt x="605" y="369"/>
                </a:lnTo>
                <a:lnTo>
                  <a:pt x="587" y="339"/>
                </a:lnTo>
                <a:lnTo>
                  <a:pt x="574" y="327"/>
                </a:lnTo>
                <a:lnTo>
                  <a:pt x="572" y="309"/>
                </a:lnTo>
                <a:lnTo>
                  <a:pt x="574" y="289"/>
                </a:lnTo>
                <a:lnTo>
                  <a:pt x="580" y="270"/>
                </a:lnTo>
                <a:lnTo>
                  <a:pt x="572" y="257"/>
                </a:lnTo>
                <a:lnTo>
                  <a:pt x="562" y="249"/>
                </a:lnTo>
                <a:lnTo>
                  <a:pt x="572" y="237"/>
                </a:lnTo>
                <a:lnTo>
                  <a:pt x="589" y="213"/>
                </a:lnTo>
                <a:lnTo>
                  <a:pt x="595" y="207"/>
                </a:lnTo>
                <a:lnTo>
                  <a:pt x="591" y="166"/>
                </a:lnTo>
                <a:lnTo>
                  <a:pt x="584" y="146"/>
                </a:lnTo>
                <a:lnTo>
                  <a:pt x="578" y="124"/>
                </a:lnTo>
                <a:lnTo>
                  <a:pt x="578" y="104"/>
                </a:lnTo>
                <a:lnTo>
                  <a:pt x="565" y="84"/>
                </a:lnTo>
                <a:lnTo>
                  <a:pt x="548" y="67"/>
                </a:lnTo>
                <a:lnTo>
                  <a:pt x="530" y="65"/>
                </a:lnTo>
                <a:lnTo>
                  <a:pt x="475" y="64"/>
                </a:lnTo>
                <a:lnTo>
                  <a:pt x="446" y="62"/>
                </a:lnTo>
                <a:lnTo>
                  <a:pt x="391" y="57"/>
                </a:lnTo>
                <a:lnTo>
                  <a:pt x="369" y="47"/>
                </a:lnTo>
                <a:lnTo>
                  <a:pt x="346" y="44"/>
                </a:lnTo>
                <a:lnTo>
                  <a:pt x="334" y="49"/>
                </a:lnTo>
                <a:lnTo>
                  <a:pt x="319" y="59"/>
                </a:lnTo>
                <a:lnTo>
                  <a:pt x="305" y="55"/>
                </a:lnTo>
                <a:lnTo>
                  <a:pt x="293" y="42"/>
                </a:lnTo>
                <a:lnTo>
                  <a:pt x="278" y="42"/>
                </a:lnTo>
                <a:lnTo>
                  <a:pt x="272" y="37"/>
                </a:lnTo>
                <a:lnTo>
                  <a:pt x="268" y="17"/>
                </a:lnTo>
                <a:lnTo>
                  <a:pt x="249" y="2"/>
                </a:lnTo>
                <a:lnTo>
                  <a:pt x="235" y="0"/>
                </a:lnTo>
                <a:lnTo>
                  <a:pt x="209" y="7"/>
                </a:lnTo>
                <a:lnTo>
                  <a:pt x="188" y="13"/>
                </a:lnTo>
                <a:lnTo>
                  <a:pt x="171" y="23"/>
                </a:lnTo>
                <a:lnTo>
                  <a:pt x="142" y="40"/>
                </a:lnTo>
                <a:lnTo>
                  <a:pt x="112" y="49"/>
                </a:lnTo>
                <a:lnTo>
                  <a:pt x="87" y="59"/>
                </a:lnTo>
                <a:lnTo>
                  <a:pt x="60" y="72"/>
                </a:lnTo>
                <a:lnTo>
                  <a:pt x="45" y="89"/>
                </a:lnTo>
                <a:lnTo>
                  <a:pt x="28" y="104"/>
                </a:lnTo>
                <a:lnTo>
                  <a:pt x="15" y="112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92800" y="3014640"/>
            <a:ext cx="111240" cy="81000"/>
          </a:xfrm>
          <a:custGeom>
            <a:avLst/>
            <a:gdLst/>
            <a:ahLst/>
            <a:rect l="l" t="t" r="r" b="b"/>
            <a:pathLst>
              <a:path w="327" h="255">
                <a:moveTo>
                  <a:pt x="3" y="27"/>
                </a:moveTo>
                <a:lnTo>
                  <a:pt x="0" y="35"/>
                </a:lnTo>
                <a:lnTo>
                  <a:pt x="5" y="65"/>
                </a:lnTo>
                <a:lnTo>
                  <a:pt x="20" y="109"/>
                </a:lnTo>
                <a:lnTo>
                  <a:pt x="32" y="122"/>
                </a:lnTo>
                <a:lnTo>
                  <a:pt x="62" y="133"/>
                </a:lnTo>
                <a:lnTo>
                  <a:pt x="74" y="137"/>
                </a:lnTo>
                <a:lnTo>
                  <a:pt x="77" y="152"/>
                </a:lnTo>
                <a:lnTo>
                  <a:pt x="77" y="177"/>
                </a:lnTo>
                <a:lnTo>
                  <a:pt x="106" y="206"/>
                </a:lnTo>
                <a:lnTo>
                  <a:pt x="125" y="215"/>
                </a:lnTo>
                <a:lnTo>
                  <a:pt x="134" y="220"/>
                </a:lnTo>
                <a:lnTo>
                  <a:pt x="159" y="251"/>
                </a:lnTo>
                <a:lnTo>
                  <a:pt x="167" y="245"/>
                </a:lnTo>
                <a:lnTo>
                  <a:pt x="184" y="243"/>
                </a:lnTo>
                <a:lnTo>
                  <a:pt x="203" y="255"/>
                </a:lnTo>
                <a:lnTo>
                  <a:pt x="218" y="247"/>
                </a:lnTo>
                <a:lnTo>
                  <a:pt x="238" y="223"/>
                </a:lnTo>
                <a:lnTo>
                  <a:pt x="253" y="215"/>
                </a:lnTo>
                <a:lnTo>
                  <a:pt x="268" y="221"/>
                </a:lnTo>
                <a:lnTo>
                  <a:pt x="277" y="218"/>
                </a:lnTo>
                <a:lnTo>
                  <a:pt x="278" y="209"/>
                </a:lnTo>
                <a:lnTo>
                  <a:pt x="281" y="161"/>
                </a:lnTo>
                <a:lnTo>
                  <a:pt x="290" y="146"/>
                </a:lnTo>
                <a:lnTo>
                  <a:pt x="290" y="124"/>
                </a:lnTo>
                <a:lnTo>
                  <a:pt x="293" y="116"/>
                </a:lnTo>
                <a:lnTo>
                  <a:pt x="310" y="104"/>
                </a:lnTo>
                <a:lnTo>
                  <a:pt x="327" y="102"/>
                </a:lnTo>
                <a:lnTo>
                  <a:pt x="327" y="78"/>
                </a:lnTo>
                <a:lnTo>
                  <a:pt x="323" y="59"/>
                </a:lnTo>
                <a:lnTo>
                  <a:pt x="310" y="53"/>
                </a:lnTo>
                <a:lnTo>
                  <a:pt x="304" y="55"/>
                </a:lnTo>
                <a:lnTo>
                  <a:pt x="283" y="35"/>
                </a:lnTo>
                <a:lnTo>
                  <a:pt x="270" y="22"/>
                </a:lnTo>
                <a:lnTo>
                  <a:pt x="256" y="22"/>
                </a:lnTo>
                <a:lnTo>
                  <a:pt x="226" y="22"/>
                </a:lnTo>
                <a:lnTo>
                  <a:pt x="220" y="17"/>
                </a:lnTo>
                <a:lnTo>
                  <a:pt x="213" y="2"/>
                </a:lnTo>
                <a:lnTo>
                  <a:pt x="205" y="0"/>
                </a:lnTo>
                <a:lnTo>
                  <a:pt x="179" y="0"/>
                </a:lnTo>
                <a:lnTo>
                  <a:pt x="169" y="13"/>
                </a:lnTo>
                <a:lnTo>
                  <a:pt x="159" y="10"/>
                </a:lnTo>
                <a:lnTo>
                  <a:pt x="142" y="7"/>
                </a:lnTo>
                <a:lnTo>
                  <a:pt x="134" y="5"/>
                </a:lnTo>
                <a:lnTo>
                  <a:pt x="121" y="8"/>
                </a:lnTo>
                <a:lnTo>
                  <a:pt x="112" y="15"/>
                </a:lnTo>
                <a:lnTo>
                  <a:pt x="95" y="8"/>
                </a:lnTo>
                <a:lnTo>
                  <a:pt x="60" y="2"/>
                </a:lnTo>
                <a:lnTo>
                  <a:pt x="51" y="0"/>
                </a:lnTo>
                <a:lnTo>
                  <a:pt x="40" y="8"/>
                </a:lnTo>
                <a:lnTo>
                  <a:pt x="23" y="20"/>
                </a:lnTo>
                <a:lnTo>
                  <a:pt x="3" y="27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400720" y="2905200"/>
            <a:ext cx="113760" cy="69840"/>
            <a:chOff x="5400720" y="2905200"/>
            <a:chExt cx="113760" cy="69840"/>
          </a:xfrm>
        </p:grpSpPr>
        <p:sp>
          <p:nvSpPr>
            <p:cNvPr id="193" name=""/>
            <p:cNvSpPr/>
            <p:nvPr/>
          </p:nvSpPr>
          <p:spPr>
            <a:xfrm>
              <a:off x="5406120" y="2928960"/>
              <a:ext cx="16920" cy="12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30" y="0"/>
                  </a:moveTo>
                  <a:lnTo>
                    <a:pt x="7" y="14"/>
                  </a:lnTo>
                  <a:lnTo>
                    <a:pt x="0" y="22"/>
                  </a:lnTo>
                  <a:lnTo>
                    <a:pt x="15" y="27"/>
                  </a:lnTo>
                  <a:lnTo>
                    <a:pt x="28" y="42"/>
                  </a:lnTo>
                  <a:lnTo>
                    <a:pt x="38" y="32"/>
                  </a:lnTo>
                  <a:lnTo>
                    <a:pt x="50" y="22"/>
                  </a:lnTo>
                  <a:lnTo>
                    <a:pt x="40" y="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00720" y="2943360"/>
              <a:ext cx="25920" cy="25200"/>
            </a:xfrm>
            <a:custGeom>
              <a:avLst/>
              <a:gdLst/>
              <a:ahLst/>
              <a:rect l="l" t="t" r="r" b="b"/>
              <a:pathLst>
                <a:path w="74" h="76">
                  <a:moveTo>
                    <a:pt x="61" y="0"/>
                  </a:moveTo>
                  <a:lnTo>
                    <a:pt x="36" y="4"/>
                  </a:lnTo>
                  <a:lnTo>
                    <a:pt x="27" y="0"/>
                  </a:lnTo>
                  <a:lnTo>
                    <a:pt x="12" y="19"/>
                  </a:lnTo>
                  <a:lnTo>
                    <a:pt x="6" y="14"/>
                  </a:lnTo>
                  <a:lnTo>
                    <a:pt x="0" y="27"/>
                  </a:lnTo>
                  <a:lnTo>
                    <a:pt x="7" y="34"/>
                  </a:lnTo>
                  <a:lnTo>
                    <a:pt x="7" y="66"/>
                  </a:lnTo>
                  <a:lnTo>
                    <a:pt x="14" y="76"/>
                  </a:lnTo>
                  <a:lnTo>
                    <a:pt x="52" y="34"/>
                  </a:lnTo>
                  <a:lnTo>
                    <a:pt x="67" y="34"/>
                  </a:lnTo>
                  <a:lnTo>
                    <a:pt x="74" y="22"/>
                  </a:lnTo>
                  <a:lnTo>
                    <a:pt x="71" y="1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29880" y="2905200"/>
              <a:ext cx="84600" cy="69840"/>
            </a:xfrm>
            <a:custGeom>
              <a:avLst/>
              <a:gdLst/>
              <a:ahLst/>
              <a:rect l="l" t="t" r="r" b="b"/>
              <a:pathLst>
                <a:path w="244" h="217">
                  <a:moveTo>
                    <a:pt x="236" y="205"/>
                  </a:moveTo>
                  <a:lnTo>
                    <a:pt x="233" y="192"/>
                  </a:lnTo>
                  <a:lnTo>
                    <a:pt x="241" y="181"/>
                  </a:lnTo>
                  <a:lnTo>
                    <a:pt x="241" y="165"/>
                  </a:lnTo>
                  <a:lnTo>
                    <a:pt x="224" y="153"/>
                  </a:lnTo>
                  <a:lnTo>
                    <a:pt x="219" y="146"/>
                  </a:lnTo>
                  <a:lnTo>
                    <a:pt x="214" y="124"/>
                  </a:lnTo>
                  <a:lnTo>
                    <a:pt x="204" y="106"/>
                  </a:lnTo>
                  <a:lnTo>
                    <a:pt x="192" y="91"/>
                  </a:lnTo>
                  <a:lnTo>
                    <a:pt x="192" y="79"/>
                  </a:lnTo>
                  <a:lnTo>
                    <a:pt x="199" y="69"/>
                  </a:lnTo>
                  <a:lnTo>
                    <a:pt x="227" y="72"/>
                  </a:lnTo>
                  <a:lnTo>
                    <a:pt x="237" y="59"/>
                  </a:lnTo>
                  <a:lnTo>
                    <a:pt x="244" y="27"/>
                  </a:lnTo>
                  <a:lnTo>
                    <a:pt x="241" y="17"/>
                  </a:lnTo>
                  <a:lnTo>
                    <a:pt x="229" y="15"/>
                  </a:lnTo>
                  <a:lnTo>
                    <a:pt x="206" y="17"/>
                  </a:lnTo>
                  <a:lnTo>
                    <a:pt x="174" y="17"/>
                  </a:lnTo>
                  <a:lnTo>
                    <a:pt x="150" y="7"/>
                  </a:lnTo>
                  <a:lnTo>
                    <a:pt x="133" y="2"/>
                  </a:lnTo>
                  <a:lnTo>
                    <a:pt x="118" y="0"/>
                  </a:lnTo>
                  <a:lnTo>
                    <a:pt x="104" y="19"/>
                  </a:lnTo>
                  <a:lnTo>
                    <a:pt x="86" y="32"/>
                  </a:lnTo>
                  <a:lnTo>
                    <a:pt x="61" y="30"/>
                  </a:lnTo>
                  <a:lnTo>
                    <a:pt x="47" y="40"/>
                  </a:lnTo>
                  <a:lnTo>
                    <a:pt x="23" y="64"/>
                  </a:lnTo>
                  <a:lnTo>
                    <a:pt x="4" y="79"/>
                  </a:lnTo>
                  <a:lnTo>
                    <a:pt x="0" y="89"/>
                  </a:lnTo>
                  <a:lnTo>
                    <a:pt x="10" y="108"/>
                  </a:lnTo>
                  <a:lnTo>
                    <a:pt x="22" y="133"/>
                  </a:lnTo>
                  <a:lnTo>
                    <a:pt x="34" y="148"/>
                  </a:lnTo>
                  <a:lnTo>
                    <a:pt x="47" y="143"/>
                  </a:lnTo>
                  <a:lnTo>
                    <a:pt x="68" y="135"/>
                  </a:lnTo>
                  <a:lnTo>
                    <a:pt x="66" y="156"/>
                  </a:lnTo>
                  <a:lnTo>
                    <a:pt x="59" y="181"/>
                  </a:lnTo>
                  <a:lnTo>
                    <a:pt x="61" y="186"/>
                  </a:lnTo>
                  <a:lnTo>
                    <a:pt x="72" y="186"/>
                  </a:lnTo>
                  <a:lnTo>
                    <a:pt x="86" y="181"/>
                  </a:lnTo>
                  <a:lnTo>
                    <a:pt x="118" y="184"/>
                  </a:lnTo>
                  <a:lnTo>
                    <a:pt x="127" y="196"/>
                  </a:lnTo>
                  <a:lnTo>
                    <a:pt x="146" y="203"/>
                  </a:lnTo>
                  <a:lnTo>
                    <a:pt x="160" y="217"/>
                  </a:lnTo>
                  <a:lnTo>
                    <a:pt x="171" y="215"/>
                  </a:lnTo>
                  <a:lnTo>
                    <a:pt x="190" y="205"/>
                  </a:lnTo>
                  <a:lnTo>
                    <a:pt x="209" y="203"/>
                  </a:lnTo>
                  <a:lnTo>
                    <a:pt x="236" y="205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367240" y="2579760"/>
            <a:ext cx="180000" cy="325440"/>
            <a:chOff x="5367240" y="2579760"/>
            <a:chExt cx="180000" cy="325440"/>
          </a:xfrm>
        </p:grpSpPr>
        <p:grpSp>
          <p:nvGrpSpPr>
            <p:cNvPr id="197" name=""/>
            <p:cNvGrpSpPr/>
            <p:nvPr/>
          </p:nvGrpSpPr>
          <p:grpSpPr>
            <a:xfrm>
              <a:off x="5367240" y="2579760"/>
              <a:ext cx="180000" cy="325440"/>
              <a:chOff x="5367240" y="2579760"/>
              <a:chExt cx="180000" cy="325440"/>
            </a:xfrm>
          </p:grpSpPr>
          <p:sp>
            <p:nvSpPr>
              <p:cNvPr id="198" name=""/>
              <p:cNvSpPr/>
              <p:nvPr/>
            </p:nvSpPr>
            <p:spPr>
              <a:xfrm>
                <a:off x="5367240" y="2884680"/>
                <a:ext cx="10080" cy="93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28" y="0"/>
                    </a:moveTo>
                    <a:lnTo>
                      <a:pt x="15" y="7"/>
                    </a:lnTo>
                    <a:lnTo>
                      <a:pt x="0" y="19"/>
                    </a:lnTo>
                    <a:lnTo>
                      <a:pt x="2" y="30"/>
                    </a:lnTo>
                    <a:lnTo>
                      <a:pt x="10" y="30"/>
                    </a:lnTo>
                    <a:lnTo>
                      <a:pt x="32" y="15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377320" y="2579760"/>
                <a:ext cx="169920" cy="325440"/>
              </a:xfrm>
              <a:custGeom>
                <a:avLst/>
                <a:gdLst/>
                <a:ahLst/>
                <a:rect l="l" t="t" r="r" b="b"/>
                <a:pathLst>
                  <a:path w="498" h="1026">
                    <a:moveTo>
                      <a:pt x="139" y="1026"/>
                    </a:moveTo>
                    <a:lnTo>
                      <a:pt x="136" y="991"/>
                    </a:lnTo>
                    <a:lnTo>
                      <a:pt x="118" y="974"/>
                    </a:lnTo>
                    <a:lnTo>
                      <a:pt x="106" y="966"/>
                    </a:lnTo>
                    <a:lnTo>
                      <a:pt x="84" y="958"/>
                    </a:lnTo>
                    <a:lnTo>
                      <a:pt x="67" y="958"/>
                    </a:lnTo>
                    <a:lnTo>
                      <a:pt x="59" y="941"/>
                    </a:lnTo>
                    <a:lnTo>
                      <a:pt x="67" y="878"/>
                    </a:lnTo>
                    <a:lnTo>
                      <a:pt x="64" y="840"/>
                    </a:lnTo>
                    <a:lnTo>
                      <a:pt x="50" y="823"/>
                    </a:lnTo>
                    <a:lnTo>
                      <a:pt x="42" y="815"/>
                    </a:lnTo>
                    <a:lnTo>
                      <a:pt x="47" y="781"/>
                    </a:lnTo>
                    <a:lnTo>
                      <a:pt x="42" y="760"/>
                    </a:lnTo>
                    <a:lnTo>
                      <a:pt x="34" y="744"/>
                    </a:lnTo>
                    <a:lnTo>
                      <a:pt x="47" y="707"/>
                    </a:lnTo>
                    <a:lnTo>
                      <a:pt x="59" y="707"/>
                    </a:lnTo>
                    <a:lnTo>
                      <a:pt x="67" y="699"/>
                    </a:lnTo>
                    <a:lnTo>
                      <a:pt x="72" y="673"/>
                    </a:lnTo>
                    <a:lnTo>
                      <a:pt x="97" y="652"/>
                    </a:lnTo>
                    <a:lnTo>
                      <a:pt x="122" y="630"/>
                    </a:lnTo>
                    <a:lnTo>
                      <a:pt x="126" y="605"/>
                    </a:lnTo>
                    <a:lnTo>
                      <a:pt x="156" y="580"/>
                    </a:lnTo>
                    <a:lnTo>
                      <a:pt x="186" y="551"/>
                    </a:lnTo>
                    <a:lnTo>
                      <a:pt x="181" y="538"/>
                    </a:lnTo>
                    <a:lnTo>
                      <a:pt x="181" y="521"/>
                    </a:lnTo>
                    <a:lnTo>
                      <a:pt x="203" y="509"/>
                    </a:lnTo>
                    <a:lnTo>
                      <a:pt x="211" y="504"/>
                    </a:lnTo>
                    <a:lnTo>
                      <a:pt x="206" y="479"/>
                    </a:lnTo>
                    <a:lnTo>
                      <a:pt x="206" y="454"/>
                    </a:lnTo>
                    <a:lnTo>
                      <a:pt x="198" y="449"/>
                    </a:lnTo>
                    <a:lnTo>
                      <a:pt x="186" y="454"/>
                    </a:lnTo>
                    <a:lnTo>
                      <a:pt x="173" y="437"/>
                    </a:lnTo>
                    <a:lnTo>
                      <a:pt x="161" y="390"/>
                    </a:lnTo>
                    <a:lnTo>
                      <a:pt x="136" y="356"/>
                    </a:lnTo>
                    <a:lnTo>
                      <a:pt x="144" y="309"/>
                    </a:lnTo>
                    <a:lnTo>
                      <a:pt x="139" y="289"/>
                    </a:lnTo>
                    <a:lnTo>
                      <a:pt x="109" y="259"/>
                    </a:lnTo>
                    <a:lnTo>
                      <a:pt x="122" y="222"/>
                    </a:lnTo>
                    <a:lnTo>
                      <a:pt x="114" y="200"/>
                    </a:lnTo>
                    <a:lnTo>
                      <a:pt x="92" y="178"/>
                    </a:lnTo>
                    <a:lnTo>
                      <a:pt x="80" y="192"/>
                    </a:lnTo>
                    <a:lnTo>
                      <a:pt x="34" y="145"/>
                    </a:lnTo>
                    <a:lnTo>
                      <a:pt x="22" y="128"/>
                    </a:lnTo>
                    <a:lnTo>
                      <a:pt x="13" y="111"/>
                    </a:lnTo>
                    <a:lnTo>
                      <a:pt x="0" y="104"/>
                    </a:lnTo>
                    <a:lnTo>
                      <a:pt x="17" y="88"/>
                    </a:lnTo>
                    <a:lnTo>
                      <a:pt x="42" y="88"/>
                    </a:lnTo>
                    <a:lnTo>
                      <a:pt x="55" y="108"/>
                    </a:lnTo>
                    <a:lnTo>
                      <a:pt x="89" y="145"/>
                    </a:lnTo>
                    <a:lnTo>
                      <a:pt x="122" y="124"/>
                    </a:lnTo>
                    <a:lnTo>
                      <a:pt x="144" y="128"/>
                    </a:lnTo>
                    <a:lnTo>
                      <a:pt x="148" y="141"/>
                    </a:lnTo>
                    <a:lnTo>
                      <a:pt x="173" y="145"/>
                    </a:lnTo>
                    <a:lnTo>
                      <a:pt x="181" y="111"/>
                    </a:lnTo>
                    <a:lnTo>
                      <a:pt x="194" y="101"/>
                    </a:lnTo>
                    <a:lnTo>
                      <a:pt x="203" y="88"/>
                    </a:lnTo>
                    <a:lnTo>
                      <a:pt x="203" y="76"/>
                    </a:lnTo>
                    <a:lnTo>
                      <a:pt x="198" y="42"/>
                    </a:lnTo>
                    <a:lnTo>
                      <a:pt x="220" y="21"/>
                    </a:lnTo>
                    <a:lnTo>
                      <a:pt x="232" y="21"/>
                    </a:lnTo>
                    <a:lnTo>
                      <a:pt x="253" y="0"/>
                    </a:lnTo>
                    <a:lnTo>
                      <a:pt x="278" y="29"/>
                    </a:lnTo>
                    <a:lnTo>
                      <a:pt x="287" y="42"/>
                    </a:lnTo>
                    <a:lnTo>
                      <a:pt x="278" y="67"/>
                    </a:lnTo>
                    <a:lnTo>
                      <a:pt x="257" y="84"/>
                    </a:lnTo>
                    <a:lnTo>
                      <a:pt x="240" y="104"/>
                    </a:lnTo>
                    <a:lnTo>
                      <a:pt x="245" y="124"/>
                    </a:lnTo>
                    <a:lnTo>
                      <a:pt x="282" y="96"/>
                    </a:lnTo>
                    <a:lnTo>
                      <a:pt x="282" y="71"/>
                    </a:lnTo>
                    <a:lnTo>
                      <a:pt x="287" y="34"/>
                    </a:lnTo>
                    <a:lnTo>
                      <a:pt x="300" y="25"/>
                    </a:lnTo>
                    <a:lnTo>
                      <a:pt x="312" y="71"/>
                    </a:lnTo>
                    <a:lnTo>
                      <a:pt x="312" y="111"/>
                    </a:lnTo>
                    <a:lnTo>
                      <a:pt x="304" y="128"/>
                    </a:lnTo>
                    <a:lnTo>
                      <a:pt x="304" y="153"/>
                    </a:lnTo>
                    <a:lnTo>
                      <a:pt x="337" y="178"/>
                    </a:lnTo>
                    <a:lnTo>
                      <a:pt x="337" y="195"/>
                    </a:lnTo>
                    <a:lnTo>
                      <a:pt x="359" y="225"/>
                    </a:lnTo>
                    <a:lnTo>
                      <a:pt x="367" y="247"/>
                    </a:lnTo>
                    <a:lnTo>
                      <a:pt x="362" y="297"/>
                    </a:lnTo>
                    <a:lnTo>
                      <a:pt x="376" y="353"/>
                    </a:lnTo>
                    <a:lnTo>
                      <a:pt x="396" y="398"/>
                    </a:lnTo>
                    <a:lnTo>
                      <a:pt x="392" y="466"/>
                    </a:lnTo>
                    <a:lnTo>
                      <a:pt x="409" y="509"/>
                    </a:lnTo>
                    <a:lnTo>
                      <a:pt x="418" y="526"/>
                    </a:lnTo>
                    <a:lnTo>
                      <a:pt x="426" y="588"/>
                    </a:lnTo>
                    <a:lnTo>
                      <a:pt x="434" y="615"/>
                    </a:lnTo>
                    <a:lnTo>
                      <a:pt x="476" y="643"/>
                    </a:lnTo>
                    <a:lnTo>
                      <a:pt x="498" y="669"/>
                    </a:lnTo>
                    <a:lnTo>
                      <a:pt x="498" y="686"/>
                    </a:lnTo>
                    <a:lnTo>
                      <a:pt x="481" y="764"/>
                    </a:lnTo>
                    <a:lnTo>
                      <a:pt x="473" y="772"/>
                    </a:lnTo>
                    <a:lnTo>
                      <a:pt x="481" y="789"/>
                    </a:lnTo>
                    <a:lnTo>
                      <a:pt x="460" y="818"/>
                    </a:lnTo>
                    <a:lnTo>
                      <a:pt x="434" y="831"/>
                    </a:lnTo>
                    <a:lnTo>
                      <a:pt x="434" y="845"/>
                    </a:lnTo>
                    <a:lnTo>
                      <a:pt x="396" y="895"/>
                    </a:lnTo>
                    <a:lnTo>
                      <a:pt x="371" y="907"/>
                    </a:lnTo>
                    <a:lnTo>
                      <a:pt x="367" y="937"/>
                    </a:lnTo>
                    <a:lnTo>
                      <a:pt x="342" y="937"/>
                    </a:lnTo>
                    <a:lnTo>
                      <a:pt x="329" y="946"/>
                    </a:lnTo>
                    <a:lnTo>
                      <a:pt x="304" y="954"/>
                    </a:lnTo>
                    <a:lnTo>
                      <a:pt x="270" y="949"/>
                    </a:lnTo>
                    <a:lnTo>
                      <a:pt x="245" y="971"/>
                    </a:lnTo>
                    <a:lnTo>
                      <a:pt x="215" y="988"/>
                    </a:lnTo>
                    <a:lnTo>
                      <a:pt x="186" y="996"/>
                    </a:lnTo>
                    <a:lnTo>
                      <a:pt x="164" y="1013"/>
                    </a:lnTo>
                    <a:lnTo>
                      <a:pt x="139" y="1026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427000" y="2693880"/>
              <a:ext cx="108720" cy="166680"/>
              <a:chOff x="5427000" y="2693880"/>
              <a:chExt cx="108720" cy="166680"/>
            </a:xfrm>
          </p:grpSpPr>
          <p:sp>
            <p:nvSpPr>
              <p:cNvPr id="201" name=""/>
              <p:cNvSpPr/>
              <p:nvPr/>
            </p:nvSpPr>
            <p:spPr>
              <a:xfrm>
                <a:off x="5487840" y="269388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18" h="25">
                    <a:moveTo>
                      <a:pt x="11" y="2"/>
                    </a:moveTo>
                    <a:lnTo>
                      <a:pt x="0" y="0"/>
                    </a:lnTo>
                    <a:lnTo>
                      <a:pt x="9" y="25"/>
                    </a:lnTo>
                    <a:lnTo>
                      <a:pt x="18" y="19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500080" y="2724120"/>
                <a:ext cx="6840" cy="17640"/>
              </a:xfrm>
              <a:custGeom>
                <a:avLst/>
                <a:gdLst/>
                <a:ahLst/>
                <a:rect l="l" t="t" r="r" b="b"/>
                <a:pathLst>
                  <a:path w="18" h="52">
                    <a:moveTo>
                      <a:pt x="18" y="0"/>
                    </a:moveTo>
                    <a:lnTo>
                      <a:pt x="0" y="11"/>
                    </a:lnTo>
                    <a:lnTo>
                      <a:pt x="0" y="52"/>
                    </a:lnTo>
                    <a:lnTo>
                      <a:pt x="9" y="32"/>
                    </a:lnTo>
                    <a:lnTo>
                      <a:pt x="13" y="11"/>
                    </a:lnTo>
                    <a:lnTo>
                      <a:pt x="6" y="1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510520" y="274788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5" y="0"/>
                    </a:moveTo>
                    <a:lnTo>
                      <a:pt x="0" y="7"/>
                    </a:lnTo>
                    <a:lnTo>
                      <a:pt x="7" y="29"/>
                    </a:lnTo>
                    <a:lnTo>
                      <a:pt x="20" y="22"/>
                    </a:lnTo>
                    <a:lnTo>
                      <a:pt x="22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469480" y="2746440"/>
                <a:ext cx="16920" cy="14400"/>
              </a:xfrm>
              <a:custGeom>
                <a:avLst/>
                <a:gdLst/>
                <a:ahLst/>
                <a:rect l="l" t="t" r="r" b="b"/>
                <a:pathLst>
                  <a:path w="47" h="44">
                    <a:moveTo>
                      <a:pt x="47" y="19"/>
                    </a:moveTo>
                    <a:lnTo>
                      <a:pt x="37" y="19"/>
                    </a:lnTo>
                    <a:lnTo>
                      <a:pt x="24" y="0"/>
                    </a:lnTo>
                    <a:lnTo>
                      <a:pt x="15" y="12"/>
                    </a:lnTo>
                    <a:lnTo>
                      <a:pt x="2" y="8"/>
                    </a:lnTo>
                    <a:lnTo>
                      <a:pt x="0" y="19"/>
                    </a:lnTo>
                    <a:lnTo>
                      <a:pt x="7" y="27"/>
                    </a:lnTo>
                    <a:lnTo>
                      <a:pt x="7" y="36"/>
                    </a:lnTo>
                    <a:lnTo>
                      <a:pt x="15" y="44"/>
                    </a:lnTo>
                    <a:lnTo>
                      <a:pt x="24" y="38"/>
                    </a:lnTo>
                    <a:lnTo>
                      <a:pt x="40" y="42"/>
                    </a:ln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506920" y="278136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66" h="46">
                    <a:moveTo>
                      <a:pt x="8" y="0"/>
                    </a:moveTo>
                    <a:lnTo>
                      <a:pt x="0" y="5"/>
                    </a:lnTo>
                    <a:lnTo>
                      <a:pt x="24" y="28"/>
                    </a:lnTo>
                    <a:lnTo>
                      <a:pt x="32" y="28"/>
                    </a:lnTo>
                    <a:lnTo>
                      <a:pt x="58" y="46"/>
                    </a:lnTo>
                    <a:lnTo>
                      <a:pt x="66" y="38"/>
                    </a:lnTo>
                    <a:lnTo>
                      <a:pt x="59" y="19"/>
                    </a:lnTo>
                    <a:lnTo>
                      <a:pt x="58" y="8"/>
                    </a:lnTo>
                    <a:lnTo>
                      <a:pt x="39" y="8"/>
                    </a:lnTo>
                    <a:lnTo>
                      <a:pt x="24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459040" y="2790720"/>
                <a:ext cx="13680" cy="20880"/>
              </a:xfrm>
              <a:custGeom>
                <a:avLst/>
                <a:gdLst/>
                <a:ahLst/>
                <a:rect l="l" t="t" r="r" b="b"/>
                <a:pathLst>
                  <a:path w="42" h="67">
                    <a:moveTo>
                      <a:pt x="38" y="0"/>
                    </a:moveTo>
                    <a:lnTo>
                      <a:pt x="42" y="12"/>
                    </a:lnTo>
                    <a:lnTo>
                      <a:pt x="22" y="44"/>
                    </a:lnTo>
                    <a:lnTo>
                      <a:pt x="23" y="54"/>
                    </a:lnTo>
                    <a:lnTo>
                      <a:pt x="11" y="67"/>
                    </a:lnTo>
                    <a:lnTo>
                      <a:pt x="0" y="57"/>
                    </a:lnTo>
                    <a:lnTo>
                      <a:pt x="5" y="48"/>
                    </a:lnTo>
                    <a:lnTo>
                      <a:pt x="7" y="27"/>
                    </a:lnTo>
                    <a:lnTo>
                      <a:pt x="17" y="15"/>
                    </a:lnTo>
                    <a:lnTo>
                      <a:pt x="5" y="4"/>
                    </a:lnTo>
                    <a:lnTo>
                      <a:pt x="13" y="0"/>
                    </a:lnTo>
                    <a:lnTo>
                      <a:pt x="25" y="7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65880" y="2803680"/>
                <a:ext cx="11880" cy="19080"/>
              </a:xfrm>
              <a:custGeom>
                <a:avLst/>
                <a:gdLst/>
                <a:ahLst/>
                <a:rect l="l" t="t" r="r" b="b"/>
                <a:pathLst>
                  <a:path w="36" h="61">
                    <a:moveTo>
                      <a:pt x="32" y="0"/>
                    </a:moveTo>
                    <a:lnTo>
                      <a:pt x="24" y="0"/>
                    </a:lnTo>
                    <a:lnTo>
                      <a:pt x="24" y="4"/>
                    </a:lnTo>
                    <a:lnTo>
                      <a:pt x="24" y="8"/>
                    </a:lnTo>
                    <a:lnTo>
                      <a:pt x="24" y="12"/>
                    </a:lnTo>
                    <a:lnTo>
                      <a:pt x="17" y="24"/>
                    </a:lnTo>
                    <a:lnTo>
                      <a:pt x="7" y="34"/>
                    </a:lnTo>
                    <a:lnTo>
                      <a:pt x="9" y="42"/>
                    </a:lnTo>
                    <a:lnTo>
                      <a:pt x="0" y="55"/>
                    </a:lnTo>
                    <a:lnTo>
                      <a:pt x="9" y="61"/>
                    </a:lnTo>
                    <a:lnTo>
                      <a:pt x="32" y="30"/>
                    </a:lnTo>
                    <a:lnTo>
                      <a:pt x="32" y="22"/>
                    </a:lnTo>
                    <a:lnTo>
                      <a:pt x="36" y="1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427000" y="2827440"/>
                <a:ext cx="16920" cy="28440"/>
              </a:xfrm>
              <a:custGeom>
                <a:avLst/>
                <a:gdLst/>
                <a:ahLst/>
                <a:rect l="l" t="t" r="r" b="b"/>
                <a:pathLst>
                  <a:path w="50" h="90">
                    <a:moveTo>
                      <a:pt x="33" y="2"/>
                    </a:moveTo>
                    <a:lnTo>
                      <a:pt x="28" y="5"/>
                    </a:lnTo>
                    <a:lnTo>
                      <a:pt x="19" y="0"/>
                    </a:lnTo>
                    <a:lnTo>
                      <a:pt x="4" y="2"/>
                    </a:lnTo>
                    <a:lnTo>
                      <a:pt x="4" y="23"/>
                    </a:lnTo>
                    <a:lnTo>
                      <a:pt x="12" y="25"/>
                    </a:lnTo>
                    <a:lnTo>
                      <a:pt x="12" y="17"/>
                    </a:lnTo>
                    <a:lnTo>
                      <a:pt x="26" y="32"/>
                    </a:lnTo>
                    <a:lnTo>
                      <a:pt x="21" y="45"/>
                    </a:lnTo>
                    <a:lnTo>
                      <a:pt x="11" y="53"/>
                    </a:lnTo>
                    <a:lnTo>
                      <a:pt x="7" y="71"/>
                    </a:lnTo>
                    <a:lnTo>
                      <a:pt x="0" y="80"/>
                    </a:lnTo>
                    <a:lnTo>
                      <a:pt x="9" y="90"/>
                    </a:lnTo>
                    <a:lnTo>
                      <a:pt x="35" y="73"/>
                    </a:lnTo>
                    <a:lnTo>
                      <a:pt x="26" y="61"/>
                    </a:lnTo>
                    <a:lnTo>
                      <a:pt x="33" y="40"/>
                    </a:lnTo>
                    <a:lnTo>
                      <a:pt x="47" y="30"/>
                    </a:lnTo>
                    <a:lnTo>
                      <a:pt x="50" y="15"/>
                    </a:lnTo>
                    <a:lnTo>
                      <a:pt x="33" y="2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436720" y="2843280"/>
                <a:ext cx="10440" cy="17280"/>
              </a:xfrm>
              <a:custGeom>
                <a:avLst/>
                <a:gdLst/>
                <a:ahLst/>
                <a:rect l="l" t="t" r="r" b="b"/>
                <a:pathLst>
                  <a:path w="31" h="54">
                    <a:moveTo>
                      <a:pt x="20" y="0"/>
                    </a:moveTo>
                    <a:lnTo>
                      <a:pt x="31" y="13"/>
                    </a:lnTo>
                    <a:lnTo>
                      <a:pt x="24" y="26"/>
                    </a:lnTo>
                    <a:lnTo>
                      <a:pt x="22" y="39"/>
                    </a:lnTo>
                    <a:lnTo>
                      <a:pt x="7" y="54"/>
                    </a:lnTo>
                    <a:lnTo>
                      <a:pt x="0" y="43"/>
                    </a:lnTo>
                    <a:lnTo>
                      <a:pt x="7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455800" y="2827440"/>
                <a:ext cx="9720" cy="25200"/>
              </a:xfrm>
              <a:custGeom>
                <a:avLst/>
                <a:gdLst/>
                <a:ahLst/>
                <a:rect l="l" t="t" r="r" b="b"/>
                <a:pathLst>
                  <a:path w="32" h="80">
                    <a:moveTo>
                      <a:pt x="15" y="0"/>
                    </a:moveTo>
                    <a:lnTo>
                      <a:pt x="30" y="15"/>
                    </a:lnTo>
                    <a:lnTo>
                      <a:pt x="27" y="25"/>
                    </a:lnTo>
                    <a:lnTo>
                      <a:pt x="22" y="33"/>
                    </a:lnTo>
                    <a:lnTo>
                      <a:pt x="30" y="55"/>
                    </a:lnTo>
                    <a:lnTo>
                      <a:pt x="32" y="65"/>
                    </a:lnTo>
                    <a:lnTo>
                      <a:pt x="24" y="78"/>
                    </a:lnTo>
                    <a:lnTo>
                      <a:pt x="10" y="80"/>
                    </a:lnTo>
                    <a:lnTo>
                      <a:pt x="0" y="63"/>
                    </a:lnTo>
                    <a:lnTo>
                      <a:pt x="7" y="48"/>
                    </a:lnTo>
                    <a:lnTo>
                      <a:pt x="15" y="33"/>
                    </a:lnTo>
                    <a:lnTo>
                      <a:pt x="15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477760" y="2789280"/>
                <a:ext cx="57960" cy="71280"/>
              </a:xfrm>
              <a:custGeom>
                <a:avLst/>
                <a:gdLst/>
                <a:ahLst/>
                <a:rect l="l" t="t" r="r" b="b"/>
                <a:pathLst>
                  <a:path w="173" h="226">
                    <a:moveTo>
                      <a:pt x="50" y="2"/>
                    </a:moveTo>
                    <a:lnTo>
                      <a:pt x="32" y="22"/>
                    </a:lnTo>
                    <a:lnTo>
                      <a:pt x="22" y="8"/>
                    </a:lnTo>
                    <a:lnTo>
                      <a:pt x="21" y="0"/>
                    </a:lnTo>
                    <a:lnTo>
                      <a:pt x="7" y="2"/>
                    </a:lnTo>
                    <a:lnTo>
                      <a:pt x="0" y="17"/>
                    </a:lnTo>
                    <a:lnTo>
                      <a:pt x="12" y="36"/>
                    </a:lnTo>
                    <a:lnTo>
                      <a:pt x="15" y="57"/>
                    </a:lnTo>
                    <a:lnTo>
                      <a:pt x="32" y="84"/>
                    </a:lnTo>
                    <a:lnTo>
                      <a:pt x="46" y="97"/>
                    </a:lnTo>
                    <a:lnTo>
                      <a:pt x="44" y="105"/>
                    </a:lnTo>
                    <a:lnTo>
                      <a:pt x="46" y="112"/>
                    </a:lnTo>
                    <a:lnTo>
                      <a:pt x="46" y="122"/>
                    </a:lnTo>
                    <a:lnTo>
                      <a:pt x="67" y="122"/>
                    </a:lnTo>
                    <a:lnTo>
                      <a:pt x="84" y="144"/>
                    </a:lnTo>
                    <a:lnTo>
                      <a:pt x="82" y="147"/>
                    </a:lnTo>
                    <a:lnTo>
                      <a:pt x="76" y="162"/>
                    </a:lnTo>
                    <a:lnTo>
                      <a:pt x="65" y="161"/>
                    </a:lnTo>
                    <a:lnTo>
                      <a:pt x="50" y="159"/>
                    </a:lnTo>
                    <a:lnTo>
                      <a:pt x="40" y="166"/>
                    </a:lnTo>
                    <a:lnTo>
                      <a:pt x="44" y="184"/>
                    </a:lnTo>
                    <a:lnTo>
                      <a:pt x="54" y="206"/>
                    </a:lnTo>
                    <a:lnTo>
                      <a:pt x="82" y="226"/>
                    </a:lnTo>
                    <a:lnTo>
                      <a:pt x="106" y="209"/>
                    </a:lnTo>
                    <a:lnTo>
                      <a:pt x="103" y="192"/>
                    </a:lnTo>
                    <a:lnTo>
                      <a:pt x="101" y="179"/>
                    </a:lnTo>
                    <a:lnTo>
                      <a:pt x="103" y="164"/>
                    </a:lnTo>
                    <a:lnTo>
                      <a:pt x="114" y="166"/>
                    </a:lnTo>
                    <a:lnTo>
                      <a:pt x="123" y="154"/>
                    </a:lnTo>
                    <a:lnTo>
                      <a:pt x="135" y="152"/>
                    </a:lnTo>
                    <a:lnTo>
                      <a:pt x="148" y="135"/>
                    </a:lnTo>
                    <a:lnTo>
                      <a:pt x="131" y="119"/>
                    </a:lnTo>
                    <a:lnTo>
                      <a:pt x="118" y="131"/>
                    </a:lnTo>
                    <a:lnTo>
                      <a:pt x="114" y="135"/>
                    </a:lnTo>
                    <a:lnTo>
                      <a:pt x="101" y="120"/>
                    </a:lnTo>
                    <a:lnTo>
                      <a:pt x="109" y="110"/>
                    </a:lnTo>
                    <a:lnTo>
                      <a:pt x="118" y="119"/>
                    </a:lnTo>
                    <a:lnTo>
                      <a:pt x="128" y="105"/>
                    </a:lnTo>
                    <a:lnTo>
                      <a:pt x="143" y="104"/>
                    </a:lnTo>
                    <a:lnTo>
                      <a:pt x="150" y="122"/>
                    </a:lnTo>
                    <a:lnTo>
                      <a:pt x="163" y="127"/>
                    </a:lnTo>
                    <a:lnTo>
                      <a:pt x="173" y="114"/>
                    </a:lnTo>
                    <a:lnTo>
                      <a:pt x="148" y="89"/>
                    </a:lnTo>
                    <a:lnTo>
                      <a:pt x="151" y="79"/>
                    </a:lnTo>
                    <a:lnTo>
                      <a:pt x="143" y="77"/>
                    </a:lnTo>
                    <a:lnTo>
                      <a:pt x="151" y="57"/>
                    </a:lnTo>
                    <a:lnTo>
                      <a:pt x="139" y="59"/>
                    </a:lnTo>
                    <a:lnTo>
                      <a:pt x="111" y="70"/>
                    </a:lnTo>
                    <a:lnTo>
                      <a:pt x="111" y="92"/>
                    </a:lnTo>
                    <a:lnTo>
                      <a:pt x="101" y="87"/>
                    </a:lnTo>
                    <a:lnTo>
                      <a:pt x="91" y="95"/>
                    </a:lnTo>
                    <a:lnTo>
                      <a:pt x="69" y="91"/>
                    </a:lnTo>
                    <a:lnTo>
                      <a:pt x="65" y="77"/>
                    </a:lnTo>
                    <a:lnTo>
                      <a:pt x="59" y="59"/>
                    </a:lnTo>
                    <a:lnTo>
                      <a:pt x="74" y="72"/>
                    </a:lnTo>
                    <a:lnTo>
                      <a:pt x="91" y="64"/>
                    </a:lnTo>
                    <a:lnTo>
                      <a:pt x="93" y="59"/>
                    </a:lnTo>
                    <a:lnTo>
                      <a:pt x="91" y="47"/>
                    </a:lnTo>
                    <a:lnTo>
                      <a:pt x="71" y="36"/>
                    </a:lnTo>
                    <a:lnTo>
                      <a:pt x="61" y="32"/>
                    </a:lnTo>
                    <a:lnTo>
                      <a:pt x="65" y="20"/>
                    </a:lnTo>
                    <a:lnTo>
                      <a:pt x="65" y="7"/>
                    </a:lnTo>
                    <a:lnTo>
                      <a:pt x="50" y="2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469480" y="2827440"/>
                <a:ext cx="18360" cy="17280"/>
              </a:xfrm>
              <a:custGeom>
                <a:avLst/>
                <a:gdLst/>
                <a:ahLst/>
                <a:rect l="l" t="t" r="r" b="b"/>
                <a:pathLst>
                  <a:path w="56" h="57">
                    <a:moveTo>
                      <a:pt x="50" y="0"/>
                    </a:moveTo>
                    <a:lnTo>
                      <a:pt x="56" y="6"/>
                    </a:lnTo>
                    <a:lnTo>
                      <a:pt x="56" y="19"/>
                    </a:lnTo>
                    <a:lnTo>
                      <a:pt x="53" y="29"/>
                    </a:lnTo>
                    <a:lnTo>
                      <a:pt x="27" y="49"/>
                    </a:lnTo>
                    <a:lnTo>
                      <a:pt x="12" y="57"/>
                    </a:lnTo>
                    <a:lnTo>
                      <a:pt x="0" y="44"/>
                    </a:lnTo>
                    <a:lnTo>
                      <a:pt x="10" y="27"/>
                    </a:lnTo>
                    <a:lnTo>
                      <a:pt x="23" y="19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5194440" y="3182760"/>
            <a:ext cx="158760" cy="79560"/>
          </a:xfrm>
          <a:custGeom>
            <a:avLst/>
            <a:gdLst/>
            <a:ahLst/>
            <a:rect l="l" t="t" r="r" b="b"/>
            <a:pathLst>
              <a:path w="457" h="249">
                <a:moveTo>
                  <a:pt x="112" y="239"/>
                </a:moveTo>
                <a:lnTo>
                  <a:pt x="109" y="225"/>
                </a:lnTo>
                <a:lnTo>
                  <a:pt x="94" y="217"/>
                </a:lnTo>
                <a:lnTo>
                  <a:pt x="41" y="168"/>
                </a:lnTo>
                <a:lnTo>
                  <a:pt x="37" y="143"/>
                </a:lnTo>
                <a:lnTo>
                  <a:pt x="13" y="140"/>
                </a:lnTo>
                <a:lnTo>
                  <a:pt x="15" y="116"/>
                </a:lnTo>
                <a:lnTo>
                  <a:pt x="7" y="93"/>
                </a:lnTo>
                <a:lnTo>
                  <a:pt x="0" y="80"/>
                </a:lnTo>
                <a:lnTo>
                  <a:pt x="4" y="67"/>
                </a:lnTo>
                <a:lnTo>
                  <a:pt x="21" y="67"/>
                </a:lnTo>
                <a:lnTo>
                  <a:pt x="51" y="60"/>
                </a:lnTo>
                <a:lnTo>
                  <a:pt x="143" y="12"/>
                </a:lnTo>
                <a:lnTo>
                  <a:pt x="163" y="0"/>
                </a:lnTo>
                <a:lnTo>
                  <a:pt x="175" y="14"/>
                </a:lnTo>
                <a:lnTo>
                  <a:pt x="194" y="6"/>
                </a:lnTo>
                <a:lnTo>
                  <a:pt x="213" y="8"/>
                </a:lnTo>
                <a:lnTo>
                  <a:pt x="224" y="16"/>
                </a:lnTo>
                <a:lnTo>
                  <a:pt x="224" y="37"/>
                </a:lnTo>
                <a:lnTo>
                  <a:pt x="257" y="59"/>
                </a:lnTo>
                <a:lnTo>
                  <a:pt x="259" y="74"/>
                </a:lnTo>
                <a:lnTo>
                  <a:pt x="272" y="91"/>
                </a:lnTo>
                <a:lnTo>
                  <a:pt x="281" y="98"/>
                </a:lnTo>
                <a:lnTo>
                  <a:pt x="287" y="91"/>
                </a:lnTo>
                <a:lnTo>
                  <a:pt x="311" y="78"/>
                </a:lnTo>
                <a:lnTo>
                  <a:pt x="321" y="80"/>
                </a:lnTo>
                <a:lnTo>
                  <a:pt x="350" y="113"/>
                </a:lnTo>
                <a:lnTo>
                  <a:pt x="357" y="112"/>
                </a:lnTo>
                <a:lnTo>
                  <a:pt x="388" y="131"/>
                </a:lnTo>
                <a:lnTo>
                  <a:pt x="434" y="128"/>
                </a:lnTo>
                <a:lnTo>
                  <a:pt x="457" y="143"/>
                </a:lnTo>
                <a:lnTo>
                  <a:pt x="407" y="170"/>
                </a:lnTo>
                <a:lnTo>
                  <a:pt x="405" y="205"/>
                </a:lnTo>
                <a:lnTo>
                  <a:pt x="374" y="233"/>
                </a:lnTo>
                <a:lnTo>
                  <a:pt x="341" y="232"/>
                </a:lnTo>
                <a:lnTo>
                  <a:pt x="323" y="240"/>
                </a:lnTo>
                <a:lnTo>
                  <a:pt x="300" y="249"/>
                </a:lnTo>
                <a:lnTo>
                  <a:pt x="272" y="231"/>
                </a:lnTo>
                <a:lnTo>
                  <a:pt x="254" y="240"/>
                </a:lnTo>
                <a:lnTo>
                  <a:pt x="238" y="243"/>
                </a:lnTo>
                <a:lnTo>
                  <a:pt x="224" y="222"/>
                </a:lnTo>
                <a:lnTo>
                  <a:pt x="184" y="223"/>
                </a:lnTo>
                <a:lnTo>
                  <a:pt x="172" y="232"/>
                </a:lnTo>
                <a:lnTo>
                  <a:pt x="163" y="241"/>
                </a:lnTo>
                <a:lnTo>
                  <a:pt x="145" y="241"/>
                </a:lnTo>
                <a:lnTo>
                  <a:pt x="127" y="244"/>
                </a:lnTo>
                <a:lnTo>
                  <a:pt x="112" y="239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10280" y="3330720"/>
            <a:ext cx="142920" cy="128520"/>
          </a:xfrm>
          <a:custGeom>
            <a:avLst/>
            <a:gdLst/>
            <a:ahLst/>
            <a:rect l="l" t="t" r="r" b="b"/>
            <a:pathLst>
              <a:path w="414" h="406">
                <a:moveTo>
                  <a:pt x="0" y="91"/>
                </a:moveTo>
                <a:lnTo>
                  <a:pt x="8" y="116"/>
                </a:lnTo>
                <a:lnTo>
                  <a:pt x="17" y="136"/>
                </a:lnTo>
                <a:lnTo>
                  <a:pt x="25" y="148"/>
                </a:lnTo>
                <a:lnTo>
                  <a:pt x="36" y="151"/>
                </a:lnTo>
                <a:lnTo>
                  <a:pt x="47" y="144"/>
                </a:lnTo>
                <a:lnTo>
                  <a:pt x="53" y="131"/>
                </a:lnTo>
                <a:lnTo>
                  <a:pt x="64" y="112"/>
                </a:lnTo>
                <a:lnTo>
                  <a:pt x="79" y="123"/>
                </a:lnTo>
                <a:lnTo>
                  <a:pt x="94" y="127"/>
                </a:lnTo>
                <a:lnTo>
                  <a:pt x="104" y="133"/>
                </a:lnTo>
                <a:lnTo>
                  <a:pt x="102" y="154"/>
                </a:lnTo>
                <a:lnTo>
                  <a:pt x="102" y="168"/>
                </a:lnTo>
                <a:lnTo>
                  <a:pt x="116" y="190"/>
                </a:lnTo>
                <a:lnTo>
                  <a:pt x="134" y="210"/>
                </a:lnTo>
                <a:lnTo>
                  <a:pt x="131" y="215"/>
                </a:lnTo>
                <a:lnTo>
                  <a:pt x="112" y="215"/>
                </a:lnTo>
                <a:lnTo>
                  <a:pt x="121" y="227"/>
                </a:lnTo>
                <a:lnTo>
                  <a:pt x="178" y="292"/>
                </a:lnTo>
                <a:lnTo>
                  <a:pt x="184" y="296"/>
                </a:lnTo>
                <a:lnTo>
                  <a:pt x="201" y="296"/>
                </a:lnTo>
                <a:lnTo>
                  <a:pt x="213" y="300"/>
                </a:lnTo>
                <a:lnTo>
                  <a:pt x="238" y="311"/>
                </a:lnTo>
                <a:lnTo>
                  <a:pt x="260" y="332"/>
                </a:lnTo>
                <a:lnTo>
                  <a:pt x="264" y="341"/>
                </a:lnTo>
                <a:lnTo>
                  <a:pt x="272" y="357"/>
                </a:lnTo>
                <a:lnTo>
                  <a:pt x="279" y="356"/>
                </a:lnTo>
                <a:lnTo>
                  <a:pt x="285" y="356"/>
                </a:lnTo>
                <a:lnTo>
                  <a:pt x="302" y="362"/>
                </a:lnTo>
                <a:lnTo>
                  <a:pt x="312" y="370"/>
                </a:lnTo>
                <a:lnTo>
                  <a:pt x="344" y="406"/>
                </a:lnTo>
                <a:lnTo>
                  <a:pt x="330" y="369"/>
                </a:lnTo>
                <a:lnTo>
                  <a:pt x="323" y="356"/>
                </a:lnTo>
                <a:lnTo>
                  <a:pt x="329" y="343"/>
                </a:lnTo>
                <a:lnTo>
                  <a:pt x="325" y="332"/>
                </a:lnTo>
                <a:lnTo>
                  <a:pt x="309" y="313"/>
                </a:lnTo>
                <a:lnTo>
                  <a:pt x="279" y="279"/>
                </a:lnTo>
                <a:lnTo>
                  <a:pt x="260" y="264"/>
                </a:lnTo>
                <a:lnTo>
                  <a:pt x="253" y="258"/>
                </a:lnTo>
                <a:lnTo>
                  <a:pt x="243" y="260"/>
                </a:lnTo>
                <a:lnTo>
                  <a:pt x="228" y="247"/>
                </a:lnTo>
                <a:lnTo>
                  <a:pt x="226" y="247"/>
                </a:lnTo>
                <a:lnTo>
                  <a:pt x="218" y="239"/>
                </a:lnTo>
                <a:lnTo>
                  <a:pt x="213" y="225"/>
                </a:lnTo>
                <a:lnTo>
                  <a:pt x="209" y="210"/>
                </a:lnTo>
                <a:lnTo>
                  <a:pt x="193" y="188"/>
                </a:lnTo>
                <a:lnTo>
                  <a:pt x="159" y="153"/>
                </a:lnTo>
                <a:lnTo>
                  <a:pt x="156" y="144"/>
                </a:lnTo>
                <a:lnTo>
                  <a:pt x="159" y="139"/>
                </a:lnTo>
                <a:lnTo>
                  <a:pt x="176" y="136"/>
                </a:lnTo>
                <a:lnTo>
                  <a:pt x="222" y="151"/>
                </a:lnTo>
                <a:lnTo>
                  <a:pt x="253" y="116"/>
                </a:lnTo>
                <a:lnTo>
                  <a:pt x="279" y="138"/>
                </a:lnTo>
                <a:lnTo>
                  <a:pt x="290" y="139"/>
                </a:lnTo>
                <a:lnTo>
                  <a:pt x="295" y="148"/>
                </a:lnTo>
                <a:lnTo>
                  <a:pt x="304" y="139"/>
                </a:lnTo>
                <a:lnTo>
                  <a:pt x="321" y="139"/>
                </a:lnTo>
                <a:lnTo>
                  <a:pt x="336" y="141"/>
                </a:lnTo>
                <a:lnTo>
                  <a:pt x="357" y="131"/>
                </a:lnTo>
                <a:lnTo>
                  <a:pt x="378" y="139"/>
                </a:lnTo>
                <a:lnTo>
                  <a:pt x="391" y="151"/>
                </a:lnTo>
                <a:lnTo>
                  <a:pt x="406" y="154"/>
                </a:lnTo>
                <a:lnTo>
                  <a:pt x="407" y="144"/>
                </a:lnTo>
                <a:lnTo>
                  <a:pt x="414" y="127"/>
                </a:lnTo>
                <a:lnTo>
                  <a:pt x="406" y="119"/>
                </a:lnTo>
                <a:lnTo>
                  <a:pt x="392" y="104"/>
                </a:lnTo>
                <a:lnTo>
                  <a:pt x="391" y="89"/>
                </a:lnTo>
                <a:lnTo>
                  <a:pt x="391" y="79"/>
                </a:lnTo>
                <a:lnTo>
                  <a:pt x="392" y="66"/>
                </a:lnTo>
                <a:lnTo>
                  <a:pt x="374" y="62"/>
                </a:lnTo>
                <a:lnTo>
                  <a:pt x="365" y="59"/>
                </a:lnTo>
                <a:lnTo>
                  <a:pt x="356" y="66"/>
                </a:lnTo>
                <a:lnTo>
                  <a:pt x="344" y="74"/>
                </a:lnTo>
                <a:lnTo>
                  <a:pt x="334" y="74"/>
                </a:lnTo>
                <a:lnTo>
                  <a:pt x="317" y="57"/>
                </a:lnTo>
                <a:lnTo>
                  <a:pt x="302" y="49"/>
                </a:lnTo>
                <a:lnTo>
                  <a:pt x="287" y="51"/>
                </a:lnTo>
                <a:lnTo>
                  <a:pt x="275" y="38"/>
                </a:lnTo>
                <a:lnTo>
                  <a:pt x="241" y="3"/>
                </a:lnTo>
                <a:lnTo>
                  <a:pt x="226" y="0"/>
                </a:lnTo>
                <a:lnTo>
                  <a:pt x="203" y="30"/>
                </a:lnTo>
                <a:lnTo>
                  <a:pt x="179" y="28"/>
                </a:lnTo>
                <a:lnTo>
                  <a:pt x="169" y="38"/>
                </a:lnTo>
                <a:lnTo>
                  <a:pt x="165" y="51"/>
                </a:lnTo>
                <a:lnTo>
                  <a:pt x="121" y="99"/>
                </a:lnTo>
                <a:lnTo>
                  <a:pt x="91" y="91"/>
                </a:lnTo>
                <a:lnTo>
                  <a:pt x="62" y="85"/>
                </a:lnTo>
                <a:lnTo>
                  <a:pt x="47" y="91"/>
                </a:lnTo>
                <a:lnTo>
                  <a:pt x="28" y="99"/>
                </a:lnTo>
                <a:lnTo>
                  <a:pt x="0" y="91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81640" y="3591000"/>
            <a:ext cx="9360" cy="7920"/>
          </a:xfrm>
          <a:custGeom>
            <a:avLst/>
            <a:gdLst/>
            <a:ahLst/>
            <a:rect l="l" t="t" r="r" b="b"/>
            <a:pathLst>
              <a:path w="27" h="28">
                <a:moveTo>
                  <a:pt x="20" y="0"/>
                </a:moveTo>
                <a:lnTo>
                  <a:pt x="27" y="8"/>
                </a:lnTo>
                <a:lnTo>
                  <a:pt x="25" y="18"/>
                </a:lnTo>
                <a:lnTo>
                  <a:pt x="27" y="26"/>
                </a:lnTo>
                <a:lnTo>
                  <a:pt x="20" y="28"/>
                </a:lnTo>
                <a:lnTo>
                  <a:pt x="8" y="26"/>
                </a:lnTo>
                <a:lnTo>
                  <a:pt x="0" y="16"/>
                </a:lnTo>
                <a:lnTo>
                  <a:pt x="20" y="0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00720" y="3594240"/>
            <a:ext cx="73080" cy="58680"/>
          </a:xfrm>
          <a:custGeom>
            <a:avLst/>
            <a:gdLst/>
            <a:ahLst/>
            <a:rect l="l" t="t" r="r" b="b"/>
            <a:pathLst>
              <a:path w="209" h="185">
                <a:moveTo>
                  <a:pt x="29" y="8"/>
                </a:moveTo>
                <a:lnTo>
                  <a:pt x="19" y="13"/>
                </a:lnTo>
                <a:lnTo>
                  <a:pt x="22" y="23"/>
                </a:lnTo>
                <a:lnTo>
                  <a:pt x="12" y="36"/>
                </a:lnTo>
                <a:lnTo>
                  <a:pt x="4" y="35"/>
                </a:lnTo>
                <a:lnTo>
                  <a:pt x="0" y="40"/>
                </a:lnTo>
                <a:lnTo>
                  <a:pt x="2" y="53"/>
                </a:lnTo>
                <a:lnTo>
                  <a:pt x="36" y="65"/>
                </a:lnTo>
                <a:lnTo>
                  <a:pt x="44" y="94"/>
                </a:lnTo>
                <a:lnTo>
                  <a:pt x="54" y="129"/>
                </a:lnTo>
                <a:lnTo>
                  <a:pt x="67" y="148"/>
                </a:lnTo>
                <a:lnTo>
                  <a:pt x="82" y="136"/>
                </a:lnTo>
                <a:lnTo>
                  <a:pt x="101" y="161"/>
                </a:lnTo>
                <a:lnTo>
                  <a:pt x="120" y="185"/>
                </a:lnTo>
                <a:lnTo>
                  <a:pt x="128" y="167"/>
                </a:lnTo>
                <a:lnTo>
                  <a:pt x="123" y="154"/>
                </a:lnTo>
                <a:lnTo>
                  <a:pt x="131" y="148"/>
                </a:lnTo>
                <a:lnTo>
                  <a:pt x="160" y="171"/>
                </a:lnTo>
                <a:lnTo>
                  <a:pt x="169" y="164"/>
                </a:lnTo>
                <a:lnTo>
                  <a:pt x="172" y="156"/>
                </a:lnTo>
                <a:lnTo>
                  <a:pt x="157" y="127"/>
                </a:lnTo>
                <a:lnTo>
                  <a:pt x="157" y="121"/>
                </a:lnTo>
                <a:lnTo>
                  <a:pt x="143" y="97"/>
                </a:lnTo>
                <a:lnTo>
                  <a:pt x="137" y="80"/>
                </a:lnTo>
                <a:lnTo>
                  <a:pt x="143" y="79"/>
                </a:lnTo>
                <a:lnTo>
                  <a:pt x="160" y="82"/>
                </a:lnTo>
                <a:lnTo>
                  <a:pt x="180" y="99"/>
                </a:lnTo>
                <a:lnTo>
                  <a:pt x="190" y="87"/>
                </a:lnTo>
                <a:lnTo>
                  <a:pt x="207" y="89"/>
                </a:lnTo>
                <a:lnTo>
                  <a:pt x="209" y="85"/>
                </a:lnTo>
                <a:lnTo>
                  <a:pt x="188" y="57"/>
                </a:lnTo>
                <a:lnTo>
                  <a:pt x="172" y="60"/>
                </a:lnTo>
                <a:lnTo>
                  <a:pt x="167" y="50"/>
                </a:lnTo>
                <a:lnTo>
                  <a:pt x="157" y="30"/>
                </a:lnTo>
                <a:lnTo>
                  <a:pt x="148" y="38"/>
                </a:lnTo>
                <a:lnTo>
                  <a:pt x="127" y="30"/>
                </a:lnTo>
                <a:lnTo>
                  <a:pt x="114" y="8"/>
                </a:lnTo>
                <a:lnTo>
                  <a:pt x="88" y="11"/>
                </a:lnTo>
                <a:lnTo>
                  <a:pt x="69" y="13"/>
                </a:lnTo>
                <a:lnTo>
                  <a:pt x="57" y="0"/>
                </a:lnTo>
                <a:lnTo>
                  <a:pt x="46" y="7"/>
                </a:lnTo>
                <a:lnTo>
                  <a:pt x="29" y="8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76960" y="3475080"/>
            <a:ext cx="168120" cy="139680"/>
          </a:xfrm>
          <a:custGeom>
            <a:avLst/>
            <a:gdLst/>
            <a:ahLst/>
            <a:rect l="l" t="t" r="r" b="b"/>
            <a:pathLst>
              <a:path w="489" h="439">
                <a:moveTo>
                  <a:pt x="99" y="108"/>
                </a:moveTo>
                <a:lnTo>
                  <a:pt x="89" y="116"/>
                </a:lnTo>
                <a:lnTo>
                  <a:pt x="77" y="153"/>
                </a:lnTo>
                <a:lnTo>
                  <a:pt x="63" y="190"/>
                </a:lnTo>
                <a:lnTo>
                  <a:pt x="57" y="194"/>
                </a:lnTo>
                <a:lnTo>
                  <a:pt x="50" y="207"/>
                </a:lnTo>
                <a:lnTo>
                  <a:pt x="42" y="219"/>
                </a:lnTo>
                <a:lnTo>
                  <a:pt x="27" y="227"/>
                </a:lnTo>
                <a:lnTo>
                  <a:pt x="15" y="232"/>
                </a:lnTo>
                <a:lnTo>
                  <a:pt x="0" y="232"/>
                </a:lnTo>
                <a:lnTo>
                  <a:pt x="19" y="274"/>
                </a:lnTo>
                <a:lnTo>
                  <a:pt x="35" y="296"/>
                </a:lnTo>
                <a:lnTo>
                  <a:pt x="50" y="296"/>
                </a:lnTo>
                <a:lnTo>
                  <a:pt x="65" y="296"/>
                </a:lnTo>
                <a:lnTo>
                  <a:pt x="70" y="306"/>
                </a:lnTo>
                <a:lnTo>
                  <a:pt x="55" y="316"/>
                </a:lnTo>
                <a:lnTo>
                  <a:pt x="55" y="330"/>
                </a:lnTo>
                <a:lnTo>
                  <a:pt x="65" y="350"/>
                </a:lnTo>
                <a:lnTo>
                  <a:pt x="77" y="367"/>
                </a:lnTo>
                <a:lnTo>
                  <a:pt x="87" y="375"/>
                </a:lnTo>
                <a:lnTo>
                  <a:pt x="91" y="363"/>
                </a:lnTo>
                <a:lnTo>
                  <a:pt x="104" y="361"/>
                </a:lnTo>
                <a:lnTo>
                  <a:pt x="118" y="373"/>
                </a:lnTo>
                <a:lnTo>
                  <a:pt x="122" y="363"/>
                </a:lnTo>
                <a:lnTo>
                  <a:pt x="146" y="365"/>
                </a:lnTo>
                <a:lnTo>
                  <a:pt x="181" y="370"/>
                </a:lnTo>
                <a:lnTo>
                  <a:pt x="206" y="378"/>
                </a:lnTo>
                <a:lnTo>
                  <a:pt x="216" y="388"/>
                </a:lnTo>
                <a:lnTo>
                  <a:pt x="228" y="403"/>
                </a:lnTo>
                <a:lnTo>
                  <a:pt x="236" y="412"/>
                </a:lnTo>
                <a:lnTo>
                  <a:pt x="246" y="403"/>
                </a:lnTo>
                <a:lnTo>
                  <a:pt x="261" y="402"/>
                </a:lnTo>
                <a:lnTo>
                  <a:pt x="282" y="416"/>
                </a:lnTo>
                <a:lnTo>
                  <a:pt x="308" y="439"/>
                </a:lnTo>
                <a:lnTo>
                  <a:pt x="314" y="435"/>
                </a:lnTo>
                <a:lnTo>
                  <a:pt x="315" y="417"/>
                </a:lnTo>
                <a:lnTo>
                  <a:pt x="315" y="399"/>
                </a:lnTo>
                <a:lnTo>
                  <a:pt x="314" y="382"/>
                </a:lnTo>
                <a:lnTo>
                  <a:pt x="303" y="363"/>
                </a:lnTo>
                <a:lnTo>
                  <a:pt x="295" y="367"/>
                </a:lnTo>
                <a:lnTo>
                  <a:pt x="276" y="358"/>
                </a:lnTo>
                <a:lnTo>
                  <a:pt x="245" y="335"/>
                </a:lnTo>
                <a:lnTo>
                  <a:pt x="236" y="328"/>
                </a:lnTo>
                <a:lnTo>
                  <a:pt x="215" y="325"/>
                </a:lnTo>
                <a:lnTo>
                  <a:pt x="204" y="318"/>
                </a:lnTo>
                <a:lnTo>
                  <a:pt x="204" y="310"/>
                </a:lnTo>
                <a:lnTo>
                  <a:pt x="216" y="298"/>
                </a:lnTo>
                <a:lnTo>
                  <a:pt x="221" y="293"/>
                </a:lnTo>
                <a:lnTo>
                  <a:pt x="213" y="283"/>
                </a:lnTo>
                <a:lnTo>
                  <a:pt x="208" y="268"/>
                </a:lnTo>
                <a:lnTo>
                  <a:pt x="213" y="261"/>
                </a:lnTo>
                <a:lnTo>
                  <a:pt x="230" y="279"/>
                </a:lnTo>
                <a:lnTo>
                  <a:pt x="245" y="285"/>
                </a:lnTo>
                <a:lnTo>
                  <a:pt x="245" y="271"/>
                </a:lnTo>
                <a:lnTo>
                  <a:pt x="236" y="253"/>
                </a:lnTo>
                <a:lnTo>
                  <a:pt x="216" y="230"/>
                </a:lnTo>
                <a:lnTo>
                  <a:pt x="196" y="198"/>
                </a:lnTo>
                <a:lnTo>
                  <a:pt x="194" y="182"/>
                </a:lnTo>
                <a:lnTo>
                  <a:pt x="191" y="167"/>
                </a:lnTo>
                <a:lnTo>
                  <a:pt x="188" y="152"/>
                </a:lnTo>
                <a:lnTo>
                  <a:pt x="186" y="137"/>
                </a:lnTo>
                <a:lnTo>
                  <a:pt x="200" y="133"/>
                </a:lnTo>
                <a:lnTo>
                  <a:pt x="198" y="143"/>
                </a:lnTo>
                <a:lnTo>
                  <a:pt x="211" y="158"/>
                </a:lnTo>
                <a:lnTo>
                  <a:pt x="219" y="158"/>
                </a:lnTo>
                <a:lnTo>
                  <a:pt x="216" y="167"/>
                </a:lnTo>
                <a:lnTo>
                  <a:pt x="257" y="207"/>
                </a:lnTo>
                <a:lnTo>
                  <a:pt x="259" y="200"/>
                </a:lnTo>
                <a:lnTo>
                  <a:pt x="251" y="182"/>
                </a:lnTo>
                <a:lnTo>
                  <a:pt x="263" y="177"/>
                </a:lnTo>
                <a:lnTo>
                  <a:pt x="282" y="185"/>
                </a:lnTo>
                <a:lnTo>
                  <a:pt x="293" y="200"/>
                </a:lnTo>
                <a:lnTo>
                  <a:pt x="295" y="190"/>
                </a:lnTo>
                <a:lnTo>
                  <a:pt x="280" y="173"/>
                </a:lnTo>
                <a:lnTo>
                  <a:pt x="282" y="165"/>
                </a:lnTo>
                <a:lnTo>
                  <a:pt x="293" y="160"/>
                </a:lnTo>
                <a:lnTo>
                  <a:pt x="320" y="173"/>
                </a:lnTo>
                <a:lnTo>
                  <a:pt x="327" y="168"/>
                </a:lnTo>
                <a:lnTo>
                  <a:pt x="325" y="156"/>
                </a:lnTo>
                <a:lnTo>
                  <a:pt x="312" y="148"/>
                </a:lnTo>
                <a:lnTo>
                  <a:pt x="293" y="138"/>
                </a:lnTo>
                <a:lnTo>
                  <a:pt x="280" y="128"/>
                </a:lnTo>
                <a:lnTo>
                  <a:pt x="278" y="120"/>
                </a:lnTo>
                <a:lnTo>
                  <a:pt x="282" y="111"/>
                </a:lnTo>
                <a:lnTo>
                  <a:pt x="310" y="108"/>
                </a:lnTo>
                <a:lnTo>
                  <a:pt x="339" y="99"/>
                </a:lnTo>
                <a:lnTo>
                  <a:pt x="360" y="101"/>
                </a:lnTo>
                <a:lnTo>
                  <a:pt x="397" y="93"/>
                </a:lnTo>
                <a:lnTo>
                  <a:pt x="404" y="88"/>
                </a:lnTo>
                <a:lnTo>
                  <a:pt x="429" y="99"/>
                </a:lnTo>
                <a:lnTo>
                  <a:pt x="451" y="110"/>
                </a:lnTo>
                <a:lnTo>
                  <a:pt x="461" y="86"/>
                </a:lnTo>
                <a:lnTo>
                  <a:pt x="481" y="61"/>
                </a:lnTo>
                <a:lnTo>
                  <a:pt x="486" y="54"/>
                </a:lnTo>
                <a:lnTo>
                  <a:pt x="489" y="10"/>
                </a:lnTo>
                <a:lnTo>
                  <a:pt x="486" y="6"/>
                </a:lnTo>
                <a:lnTo>
                  <a:pt x="476" y="0"/>
                </a:lnTo>
                <a:lnTo>
                  <a:pt x="463" y="0"/>
                </a:lnTo>
                <a:lnTo>
                  <a:pt x="457" y="6"/>
                </a:lnTo>
                <a:lnTo>
                  <a:pt x="457" y="22"/>
                </a:lnTo>
                <a:lnTo>
                  <a:pt x="459" y="36"/>
                </a:lnTo>
                <a:lnTo>
                  <a:pt x="442" y="39"/>
                </a:lnTo>
                <a:lnTo>
                  <a:pt x="429" y="48"/>
                </a:lnTo>
                <a:lnTo>
                  <a:pt x="421" y="51"/>
                </a:lnTo>
                <a:lnTo>
                  <a:pt x="394" y="44"/>
                </a:lnTo>
                <a:lnTo>
                  <a:pt x="384" y="37"/>
                </a:lnTo>
                <a:lnTo>
                  <a:pt x="369" y="46"/>
                </a:lnTo>
                <a:lnTo>
                  <a:pt x="347" y="22"/>
                </a:lnTo>
                <a:lnTo>
                  <a:pt x="325" y="39"/>
                </a:lnTo>
                <a:lnTo>
                  <a:pt x="308" y="51"/>
                </a:lnTo>
                <a:lnTo>
                  <a:pt x="290" y="59"/>
                </a:lnTo>
                <a:lnTo>
                  <a:pt x="263" y="63"/>
                </a:lnTo>
                <a:lnTo>
                  <a:pt x="245" y="69"/>
                </a:lnTo>
                <a:lnTo>
                  <a:pt x="230" y="69"/>
                </a:lnTo>
                <a:lnTo>
                  <a:pt x="223" y="71"/>
                </a:lnTo>
                <a:lnTo>
                  <a:pt x="208" y="88"/>
                </a:lnTo>
                <a:lnTo>
                  <a:pt x="196" y="88"/>
                </a:lnTo>
                <a:lnTo>
                  <a:pt x="174" y="93"/>
                </a:lnTo>
                <a:lnTo>
                  <a:pt x="154" y="91"/>
                </a:lnTo>
                <a:lnTo>
                  <a:pt x="144" y="110"/>
                </a:lnTo>
                <a:lnTo>
                  <a:pt x="126" y="111"/>
                </a:lnTo>
                <a:lnTo>
                  <a:pt x="112" y="110"/>
                </a:lnTo>
                <a:lnTo>
                  <a:pt x="99" y="108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60840" y="3570120"/>
            <a:ext cx="41400" cy="32040"/>
          </a:xfrm>
          <a:custGeom>
            <a:avLst/>
            <a:gdLst/>
            <a:ahLst/>
            <a:rect l="l" t="t" r="r" b="b"/>
            <a:pathLst>
              <a:path w="120" h="99">
                <a:moveTo>
                  <a:pt x="10" y="0"/>
                </a:moveTo>
                <a:lnTo>
                  <a:pt x="0" y="8"/>
                </a:lnTo>
                <a:lnTo>
                  <a:pt x="12" y="30"/>
                </a:lnTo>
                <a:lnTo>
                  <a:pt x="27" y="34"/>
                </a:lnTo>
                <a:lnTo>
                  <a:pt x="44" y="53"/>
                </a:lnTo>
                <a:lnTo>
                  <a:pt x="59" y="62"/>
                </a:lnTo>
                <a:lnTo>
                  <a:pt x="83" y="80"/>
                </a:lnTo>
                <a:lnTo>
                  <a:pt x="98" y="87"/>
                </a:lnTo>
                <a:lnTo>
                  <a:pt x="116" y="99"/>
                </a:lnTo>
                <a:lnTo>
                  <a:pt x="120" y="93"/>
                </a:lnTo>
                <a:lnTo>
                  <a:pt x="83" y="64"/>
                </a:lnTo>
                <a:lnTo>
                  <a:pt x="81" y="50"/>
                </a:lnTo>
                <a:lnTo>
                  <a:pt x="76" y="38"/>
                </a:lnTo>
                <a:lnTo>
                  <a:pt x="61" y="23"/>
                </a:lnTo>
                <a:lnTo>
                  <a:pt x="57" y="25"/>
                </a:lnTo>
                <a:lnTo>
                  <a:pt x="36" y="11"/>
                </a:lnTo>
                <a:lnTo>
                  <a:pt x="25" y="5"/>
                </a:lnTo>
                <a:lnTo>
                  <a:pt x="10" y="0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73800" y="3675240"/>
            <a:ext cx="79200" cy="20520"/>
          </a:xfrm>
          <a:custGeom>
            <a:avLst/>
            <a:gdLst/>
            <a:ahLst/>
            <a:rect l="l" t="t" r="r" b="b"/>
            <a:pathLst>
              <a:path w="228" h="61">
                <a:moveTo>
                  <a:pt x="47" y="12"/>
                </a:moveTo>
                <a:lnTo>
                  <a:pt x="64" y="4"/>
                </a:lnTo>
                <a:lnTo>
                  <a:pt x="72" y="12"/>
                </a:lnTo>
                <a:lnTo>
                  <a:pt x="79" y="15"/>
                </a:lnTo>
                <a:lnTo>
                  <a:pt x="92" y="8"/>
                </a:lnTo>
                <a:lnTo>
                  <a:pt x="100" y="4"/>
                </a:lnTo>
                <a:lnTo>
                  <a:pt x="136" y="8"/>
                </a:lnTo>
                <a:lnTo>
                  <a:pt x="171" y="7"/>
                </a:lnTo>
                <a:lnTo>
                  <a:pt x="181" y="17"/>
                </a:lnTo>
                <a:lnTo>
                  <a:pt x="181" y="23"/>
                </a:lnTo>
                <a:lnTo>
                  <a:pt x="207" y="19"/>
                </a:lnTo>
                <a:lnTo>
                  <a:pt x="220" y="21"/>
                </a:lnTo>
                <a:lnTo>
                  <a:pt x="228" y="29"/>
                </a:lnTo>
                <a:lnTo>
                  <a:pt x="220" y="40"/>
                </a:lnTo>
                <a:lnTo>
                  <a:pt x="199" y="38"/>
                </a:lnTo>
                <a:lnTo>
                  <a:pt x="184" y="46"/>
                </a:lnTo>
                <a:lnTo>
                  <a:pt x="159" y="46"/>
                </a:lnTo>
                <a:lnTo>
                  <a:pt x="134" y="57"/>
                </a:lnTo>
                <a:lnTo>
                  <a:pt x="112" y="61"/>
                </a:lnTo>
                <a:lnTo>
                  <a:pt x="95" y="51"/>
                </a:lnTo>
                <a:lnTo>
                  <a:pt x="72" y="38"/>
                </a:lnTo>
                <a:lnTo>
                  <a:pt x="49" y="38"/>
                </a:lnTo>
                <a:lnTo>
                  <a:pt x="20" y="32"/>
                </a:lnTo>
                <a:lnTo>
                  <a:pt x="8" y="23"/>
                </a:lnTo>
                <a:lnTo>
                  <a:pt x="0" y="7"/>
                </a:lnTo>
                <a:lnTo>
                  <a:pt x="5" y="0"/>
                </a:lnTo>
                <a:lnTo>
                  <a:pt x="30" y="4"/>
                </a:lnTo>
                <a:lnTo>
                  <a:pt x="47" y="12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06920" y="3533760"/>
            <a:ext cx="12960" cy="9720"/>
          </a:xfrm>
          <a:custGeom>
            <a:avLst/>
            <a:gdLst/>
            <a:ahLst/>
            <a:rect l="l" t="t" r="r" b="b"/>
            <a:pathLst>
              <a:path w="34" h="32">
                <a:moveTo>
                  <a:pt x="34" y="0"/>
                </a:moveTo>
                <a:lnTo>
                  <a:pt x="13" y="0"/>
                </a:lnTo>
                <a:lnTo>
                  <a:pt x="3" y="7"/>
                </a:lnTo>
                <a:lnTo>
                  <a:pt x="0" y="17"/>
                </a:lnTo>
                <a:lnTo>
                  <a:pt x="0" y="30"/>
                </a:lnTo>
                <a:lnTo>
                  <a:pt x="10" y="32"/>
                </a:lnTo>
                <a:lnTo>
                  <a:pt x="30" y="19"/>
                </a:lnTo>
                <a:lnTo>
                  <a:pt x="34" y="0"/>
                </a:lnTo>
                <a:close/>
              </a:path>
            </a:pathLst>
          </a:custGeom>
          <a:solidFill>
            <a:srgbClr val="ff33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86480" y="3629160"/>
            <a:ext cx="17280" cy="7920"/>
          </a:xfrm>
          <a:custGeom>
            <a:avLst/>
            <a:gdLst/>
            <a:ahLst/>
            <a:rect l="l" t="t" r="r" b="b"/>
            <a:pathLst>
              <a:path w="46" h="25">
                <a:moveTo>
                  <a:pt x="46" y="6"/>
                </a:moveTo>
                <a:lnTo>
                  <a:pt x="25" y="25"/>
                </a:lnTo>
                <a:lnTo>
                  <a:pt x="10" y="25"/>
                </a:lnTo>
                <a:lnTo>
                  <a:pt x="0" y="17"/>
                </a:lnTo>
                <a:lnTo>
                  <a:pt x="6" y="2"/>
                </a:lnTo>
                <a:lnTo>
                  <a:pt x="29" y="0"/>
                </a:lnTo>
                <a:lnTo>
                  <a:pt x="46" y="6"/>
                </a:lnTo>
                <a:close/>
              </a:path>
            </a:pathLst>
          </a:custGeom>
          <a:solidFill>
            <a:srgbClr val="ff33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89720" y="3646440"/>
            <a:ext cx="15840" cy="1116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0"/>
                </a:moveTo>
                <a:lnTo>
                  <a:pt x="48" y="13"/>
                </a:lnTo>
                <a:lnTo>
                  <a:pt x="19" y="32"/>
                </a:lnTo>
                <a:lnTo>
                  <a:pt x="6" y="38"/>
                </a:lnTo>
                <a:lnTo>
                  <a:pt x="0" y="36"/>
                </a:lnTo>
                <a:lnTo>
                  <a:pt x="5" y="22"/>
                </a:lnTo>
                <a:lnTo>
                  <a:pt x="25" y="7"/>
                </a:lnTo>
                <a:lnTo>
                  <a:pt x="48" y="0"/>
                </a:lnTo>
                <a:close/>
              </a:path>
            </a:pathLst>
          </a:custGeom>
          <a:solidFill>
            <a:srgbClr val="ff33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29240" y="3551400"/>
            <a:ext cx="19080" cy="12600"/>
          </a:xfrm>
          <a:custGeom>
            <a:avLst/>
            <a:gdLst/>
            <a:ahLst/>
            <a:rect l="l" t="t" r="r" b="b"/>
            <a:pathLst>
              <a:path w="59" h="42">
                <a:moveTo>
                  <a:pt x="32" y="0"/>
                </a:moveTo>
                <a:lnTo>
                  <a:pt x="59" y="29"/>
                </a:lnTo>
                <a:lnTo>
                  <a:pt x="55" y="37"/>
                </a:lnTo>
                <a:lnTo>
                  <a:pt x="40" y="42"/>
                </a:lnTo>
                <a:lnTo>
                  <a:pt x="38" y="32"/>
                </a:lnTo>
                <a:lnTo>
                  <a:pt x="32" y="27"/>
                </a:lnTo>
                <a:lnTo>
                  <a:pt x="23" y="32"/>
                </a:lnTo>
                <a:lnTo>
                  <a:pt x="13" y="25"/>
                </a:lnTo>
                <a:lnTo>
                  <a:pt x="8" y="19"/>
                </a:lnTo>
                <a:lnTo>
                  <a:pt x="15" y="14"/>
                </a:lnTo>
                <a:lnTo>
                  <a:pt x="2" y="21"/>
                </a:lnTo>
                <a:lnTo>
                  <a:pt x="0" y="14"/>
                </a:lnTo>
                <a:lnTo>
                  <a:pt x="17" y="8"/>
                </a:lnTo>
                <a:lnTo>
                  <a:pt x="32" y="0"/>
                </a:lnTo>
                <a:close/>
              </a:path>
            </a:pathLst>
          </a:custGeom>
          <a:solidFill>
            <a:srgbClr val="ff33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805280" y="3144960"/>
            <a:ext cx="299880" cy="325440"/>
            <a:chOff x="4805280" y="3144960"/>
            <a:chExt cx="299880" cy="325440"/>
          </a:xfrm>
        </p:grpSpPr>
        <p:sp>
          <p:nvSpPr>
            <p:cNvPr id="225" name=""/>
            <p:cNvSpPr/>
            <p:nvPr/>
          </p:nvSpPr>
          <p:spPr>
            <a:xfrm>
              <a:off x="5077440" y="3427560"/>
              <a:ext cx="27720" cy="42840"/>
            </a:xfrm>
            <a:custGeom>
              <a:avLst/>
              <a:gdLst/>
              <a:ahLst/>
              <a:rect l="l" t="t" r="r" b="b"/>
              <a:pathLst>
                <a:path w="77" h="138">
                  <a:moveTo>
                    <a:pt x="77" y="0"/>
                  </a:moveTo>
                  <a:lnTo>
                    <a:pt x="52" y="30"/>
                  </a:lnTo>
                  <a:lnTo>
                    <a:pt x="22" y="30"/>
                  </a:lnTo>
                  <a:lnTo>
                    <a:pt x="0" y="47"/>
                  </a:lnTo>
                  <a:lnTo>
                    <a:pt x="5" y="70"/>
                  </a:lnTo>
                  <a:lnTo>
                    <a:pt x="5" y="109"/>
                  </a:lnTo>
                  <a:lnTo>
                    <a:pt x="22" y="138"/>
                  </a:lnTo>
                  <a:lnTo>
                    <a:pt x="43" y="130"/>
                  </a:lnTo>
                  <a:lnTo>
                    <a:pt x="47" y="113"/>
                  </a:lnTo>
                  <a:lnTo>
                    <a:pt x="69" y="74"/>
                  </a:lnTo>
                  <a:lnTo>
                    <a:pt x="69" y="54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663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05280" y="3144960"/>
              <a:ext cx="299880" cy="268200"/>
            </a:xfrm>
            <a:custGeom>
              <a:avLst/>
              <a:gdLst/>
              <a:ahLst/>
              <a:rect l="l" t="t" r="r" b="b"/>
              <a:pathLst>
                <a:path w="868" h="848">
                  <a:moveTo>
                    <a:pt x="15" y="120"/>
                  </a:moveTo>
                  <a:lnTo>
                    <a:pt x="23" y="141"/>
                  </a:lnTo>
                  <a:lnTo>
                    <a:pt x="15" y="158"/>
                  </a:lnTo>
                  <a:lnTo>
                    <a:pt x="13" y="165"/>
                  </a:lnTo>
                  <a:lnTo>
                    <a:pt x="0" y="160"/>
                  </a:lnTo>
                  <a:lnTo>
                    <a:pt x="5" y="170"/>
                  </a:lnTo>
                  <a:lnTo>
                    <a:pt x="5" y="181"/>
                  </a:lnTo>
                  <a:lnTo>
                    <a:pt x="15" y="198"/>
                  </a:lnTo>
                  <a:lnTo>
                    <a:pt x="34" y="192"/>
                  </a:lnTo>
                  <a:lnTo>
                    <a:pt x="59" y="219"/>
                  </a:lnTo>
                  <a:lnTo>
                    <a:pt x="70" y="238"/>
                  </a:lnTo>
                  <a:lnTo>
                    <a:pt x="84" y="251"/>
                  </a:lnTo>
                  <a:lnTo>
                    <a:pt x="104" y="251"/>
                  </a:lnTo>
                  <a:lnTo>
                    <a:pt x="112" y="267"/>
                  </a:lnTo>
                  <a:lnTo>
                    <a:pt x="129" y="282"/>
                  </a:lnTo>
                  <a:lnTo>
                    <a:pt x="139" y="284"/>
                  </a:lnTo>
                  <a:lnTo>
                    <a:pt x="141" y="290"/>
                  </a:lnTo>
                  <a:lnTo>
                    <a:pt x="136" y="304"/>
                  </a:lnTo>
                  <a:lnTo>
                    <a:pt x="136" y="316"/>
                  </a:lnTo>
                  <a:lnTo>
                    <a:pt x="133" y="329"/>
                  </a:lnTo>
                  <a:lnTo>
                    <a:pt x="129" y="350"/>
                  </a:lnTo>
                  <a:lnTo>
                    <a:pt x="146" y="371"/>
                  </a:lnTo>
                  <a:lnTo>
                    <a:pt x="165" y="386"/>
                  </a:lnTo>
                  <a:lnTo>
                    <a:pt x="165" y="396"/>
                  </a:lnTo>
                  <a:lnTo>
                    <a:pt x="163" y="432"/>
                  </a:lnTo>
                  <a:lnTo>
                    <a:pt x="158" y="462"/>
                  </a:lnTo>
                  <a:lnTo>
                    <a:pt x="163" y="474"/>
                  </a:lnTo>
                  <a:lnTo>
                    <a:pt x="180" y="487"/>
                  </a:lnTo>
                  <a:lnTo>
                    <a:pt x="180" y="512"/>
                  </a:lnTo>
                  <a:lnTo>
                    <a:pt x="180" y="529"/>
                  </a:lnTo>
                  <a:lnTo>
                    <a:pt x="161" y="504"/>
                  </a:lnTo>
                  <a:lnTo>
                    <a:pt x="150" y="487"/>
                  </a:lnTo>
                  <a:lnTo>
                    <a:pt x="144" y="492"/>
                  </a:lnTo>
                  <a:lnTo>
                    <a:pt x="148" y="504"/>
                  </a:lnTo>
                  <a:lnTo>
                    <a:pt x="141" y="519"/>
                  </a:lnTo>
                  <a:lnTo>
                    <a:pt x="131" y="534"/>
                  </a:lnTo>
                  <a:lnTo>
                    <a:pt x="124" y="544"/>
                  </a:lnTo>
                  <a:lnTo>
                    <a:pt x="133" y="554"/>
                  </a:lnTo>
                  <a:lnTo>
                    <a:pt x="126" y="566"/>
                  </a:lnTo>
                  <a:lnTo>
                    <a:pt x="112" y="580"/>
                  </a:lnTo>
                  <a:lnTo>
                    <a:pt x="109" y="593"/>
                  </a:lnTo>
                  <a:lnTo>
                    <a:pt x="101" y="608"/>
                  </a:lnTo>
                  <a:lnTo>
                    <a:pt x="79" y="635"/>
                  </a:lnTo>
                  <a:lnTo>
                    <a:pt x="65" y="662"/>
                  </a:lnTo>
                  <a:lnTo>
                    <a:pt x="65" y="667"/>
                  </a:lnTo>
                  <a:lnTo>
                    <a:pt x="72" y="675"/>
                  </a:lnTo>
                  <a:lnTo>
                    <a:pt x="64" y="687"/>
                  </a:lnTo>
                  <a:lnTo>
                    <a:pt x="67" y="702"/>
                  </a:lnTo>
                  <a:lnTo>
                    <a:pt x="80" y="722"/>
                  </a:lnTo>
                  <a:lnTo>
                    <a:pt x="133" y="751"/>
                  </a:lnTo>
                  <a:lnTo>
                    <a:pt x="171" y="783"/>
                  </a:lnTo>
                  <a:lnTo>
                    <a:pt x="183" y="779"/>
                  </a:lnTo>
                  <a:lnTo>
                    <a:pt x="203" y="772"/>
                  </a:lnTo>
                  <a:lnTo>
                    <a:pt x="268" y="799"/>
                  </a:lnTo>
                  <a:lnTo>
                    <a:pt x="277" y="808"/>
                  </a:lnTo>
                  <a:lnTo>
                    <a:pt x="282" y="825"/>
                  </a:lnTo>
                  <a:lnTo>
                    <a:pt x="294" y="831"/>
                  </a:lnTo>
                  <a:lnTo>
                    <a:pt x="309" y="833"/>
                  </a:lnTo>
                  <a:lnTo>
                    <a:pt x="331" y="846"/>
                  </a:lnTo>
                  <a:lnTo>
                    <a:pt x="369" y="848"/>
                  </a:lnTo>
                  <a:lnTo>
                    <a:pt x="380" y="833"/>
                  </a:lnTo>
                  <a:lnTo>
                    <a:pt x="384" y="816"/>
                  </a:lnTo>
                  <a:lnTo>
                    <a:pt x="384" y="798"/>
                  </a:lnTo>
                  <a:lnTo>
                    <a:pt x="401" y="783"/>
                  </a:lnTo>
                  <a:lnTo>
                    <a:pt x="433" y="766"/>
                  </a:lnTo>
                  <a:lnTo>
                    <a:pt x="448" y="764"/>
                  </a:lnTo>
                  <a:lnTo>
                    <a:pt x="465" y="755"/>
                  </a:lnTo>
                  <a:lnTo>
                    <a:pt x="479" y="755"/>
                  </a:lnTo>
                  <a:lnTo>
                    <a:pt x="497" y="766"/>
                  </a:lnTo>
                  <a:lnTo>
                    <a:pt x="509" y="781"/>
                  </a:lnTo>
                  <a:lnTo>
                    <a:pt x="524" y="781"/>
                  </a:lnTo>
                  <a:lnTo>
                    <a:pt x="536" y="784"/>
                  </a:lnTo>
                  <a:lnTo>
                    <a:pt x="561" y="787"/>
                  </a:lnTo>
                  <a:lnTo>
                    <a:pt x="579" y="808"/>
                  </a:lnTo>
                  <a:lnTo>
                    <a:pt x="593" y="818"/>
                  </a:lnTo>
                  <a:lnTo>
                    <a:pt x="615" y="825"/>
                  </a:lnTo>
                  <a:lnTo>
                    <a:pt x="633" y="836"/>
                  </a:lnTo>
                  <a:lnTo>
                    <a:pt x="643" y="838"/>
                  </a:lnTo>
                  <a:lnTo>
                    <a:pt x="670" y="812"/>
                  </a:lnTo>
                  <a:lnTo>
                    <a:pt x="687" y="808"/>
                  </a:lnTo>
                  <a:lnTo>
                    <a:pt x="699" y="798"/>
                  </a:lnTo>
                  <a:lnTo>
                    <a:pt x="717" y="784"/>
                  </a:lnTo>
                  <a:lnTo>
                    <a:pt x="741" y="783"/>
                  </a:lnTo>
                  <a:lnTo>
                    <a:pt x="739" y="754"/>
                  </a:lnTo>
                  <a:lnTo>
                    <a:pt x="735" y="744"/>
                  </a:lnTo>
                  <a:lnTo>
                    <a:pt x="724" y="730"/>
                  </a:lnTo>
                  <a:lnTo>
                    <a:pt x="716" y="732"/>
                  </a:lnTo>
                  <a:lnTo>
                    <a:pt x="707" y="730"/>
                  </a:lnTo>
                  <a:lnTo>
                    <a:pt x="699" y="717"/>
                  </a:lnTo>
                  <a:lnTo>
                    <a:pt x="697" y="687"/>
                  </a:lnTo>
                  <a:lnTo>
                    <a:pt x="714" y="668"/>
                  </a:lnTo>
                  <a:lnTo>
                    <a:pt x="701" y="652"/>
                  </a:lnTo>
                  <a:lnTo>
                    <a:pt x="701" y="645"/>
                  </a:lnTo>
                  <a:lnTo>
                    <a:pt x="727" y="620"/>
                  </a:lnTo>
                  <a:lnTo>
                    <a:pt x="727" y="611"/>
                  </a:lnTo>
                  <a:lnTo>
                    <a:pt x="722" y="580"/>
                  </a:lnTo>
                  <a:lnTo>
                    <a:pt x="737" y="566"/>
                  </a:lnTo>
                  <a:lnTo>
                    <a:pt x="724" y="549"/>
                  </a:lnTo>
                  <a:lnTo>
                    <a:pt x="724" y="536"/>
                  </a:lnTo>
                  <a:lnTo>
                    <a:pt x="722" y="514"/>
                  </a:lnTo>
                  <a:lnTo>
                    <a:pt x="716" y="509"/>
                  </a:lnTo>
                  <a:lnTo>
                    <a:pt x="701" y="509"/>
                  </a:lnTo>
                  <a:lnTo>
                    <a:pt x="688" y="512"/>
                  </a:lnTo>
                  <a:lnTo>
                    <a:pt x="684" y="517"/>
                  </a:lnTo>
                  <a:lnTo>
                    <a:pt x="675" y="525"/>
                  </a:lnTo>
                  <a:lnTo>
                    <a:pt x="663" y="529"/>
                  </a:lnTo>
                  <a:lnTo>
                    <a:pt x="658" y="517"/>
                  </a:lnTo>
                  <a:lnTo>
                    <a:pt x="667" y="506"/>
                  </a:lnTo>
                  <a:lnTo>
                    <a:pt x="672" y="497"/>
                  </a:lnTo>
                  <a:lnTo>
                    <a:pt x="672" y="487"/>
                  </a:lnTo>
                  <a:lnTo>
                    <a:pt x="695" y="464"/>
                  </a:lnTo>
                  <a:lnTo>
                    <a:pt x="707" y="460"/>
                  </a:lnTo>
                  <a:lnTo>
                    <a:pt x="709" y="443"/>
                  </a:lnTo>
                  <a:lnTo>
                    <a:pt x="722" y="428"/>
                  </a:lnTo>
                  <a:lnTo>
                    <a:pt x="758" y="400"/>
                  </a:lnTo>
                  <a:lnTo>
                    <a:pt x="769" y="400"/>
                  </a:lnTo>
                  <a:lnTo>
                    <a:pt x="773" y="390"/>
                  </a:lnTo>
                  <a:lnTo>
                    <a:pt x="786" y="378"/>
                  </a:lnTo>
                  <a:lnTo>
                    <a:pt x="796" y="378"/>
                  </a:lnTo>
                  <a:lnTo>
                    <a:pt x="801" y="371"/>
                  </a:lnTo>
                  <a:lnTo>
                    <a:pt x="806" y="366"/>
                  </a:lnTo>
                  <a:lnTo>
                    <a:pt x="815" y="351"/>
                  </a:lnTo>
                  <a:lnTo>
                    <a:pt x="823" y="329"/>
                  </a:lnTo>
                  <a:lnTo>
                    <a:pt x="826" y="314"/>
                  </a:lnTo>
                  <a:lnTo>
                    <a:pt x="826" y="301"/>
                  </a:lnTo>
                  <a:lnTo>
                    <a:pt x="838" y="287"/>
                  </a:lnTo>
                  <a:lnTo>
                    <a:pt x="857" y="276"/>
                  </a:lnTo>
                  <a:lnTo>
                    <a:pt x="868" y="266"/>
                  </a:lnTo>
                  <a:lnTo>
                    <a:pt x="868" y="262"/>
                  </a:lnTo>
                  <a:lnTo>
                    <a:pt x="851" y="249"/>
                  </a:lnTo>
                  <a:lnTo>
                    <a:pt x="843" y="244"/>
                  </a:lnTo>
                  <a:lnTo>
                    <a:pt x="818" y="242"/>
                  </a:lnTo>
                  <a:lnTo>
                    <a:pt x="789" y="238"/>
                  </a:lnTo>
                  <a:lnTo>
                    <a:pt x="779" y="236"/>
                  </a:lnTo>
                  <a:lnTo>
                    <a:pt x="769" y="232"/>
                  </a:lnTo>
                  <a:lnTo>
                    <a:pt x="758" y="222"/>
                  </a:lnTo>
                  <a:lnTo>
                    <a:pt x="749" y="205"/>
                  </a:lnTo>
                  <a:lnTo>
                    <a:pt x="741" y="194"/>
                  </a:lnTo>
                  <a:lnTo>
                    <a:pt x="730" y="190"/>
                  </a:lnTo>
                  <a:lnTo>
                    <a:pt x="717" y="185"/>
                  </a:lnTo>
                  <a:lnTo>
                    <a:pt x="712" y="183"/>
                  </a:lnTo>
                  <a:lnTo>
                    <a:pt x="695" y="168"/>
                  </a:lnTo>
                  <a:lnTo>
                    <a:pt x="673" y="151"/>
                  </a:lnTo>
                  <a:lnTo>
                    <a:pt x="660" y="135"/>
                  </a:lnTo>
                  <a:lnTo>
                    <a:pt x="646" y="131"/>
                  </a:lnTo>
                  <a:lnTo>
                    <a:pt x="638" y="124"/>
                  </a:lnTo>
                  <a:lnTo>
                    <a:pt x="631" y="108"/>
                  </a:lnTo>
                  <a:lnTo>
                    <a:pt x="613" y="86"/>
                  </a:lnTo>
                  <a:lnTo>
                    <a:pt x="608" y="71"/>
                  </a:lnTo>
                  <a:lnTo>
                    <a:pt x="593" y="57"/>
                  </a:lnTo>
                  <a:lnTo>
                    <a:pt x="586" y="44"/>
                  </a:lnTo>
                  <a:lnTo>
                    <a:pt x="579" y="34"/>
                  </a:lnTo>
                  <a:lnTo>
                    <a:pt x="564" y="22"/>
                  </a:lnTo>
                  <a:lnTo>
                    <a:pt x="549" y="6"/>
                  </a:lnTo>
                  <a:lnTo>
                    <a:pt x="536" y="0"/>
                  </a:lnTo>
                  <a:lnTo>
                    <a:pt x="505" y="2"/>
                  </a:lnTo>
                  <a:lnTo>
                    <a:pt x="492" y="2"/>
                  </a:lnTo>
                  <a:lnTo>
                    <a:pt x="475" y="14"/>
                  </a:lnTo>
                  <a:lnTo>
                    <a:pt x="485" y="25"/>
                  </a:lnTo>
                  <a:lnTo>
                    <a:pt x="473" y="39"/>
                  </a:lnTo>
                  <a:lnTo>
                    <a:pt x="441" y="79"/>
                  </a:lnTo>
                  <a:lnTo>
                    <a:pt x="425" y="88"/>
                  </a:lnTo>
                  <a:lnTo>
                    <a:pt x="380" y="93"/>
                  </a:lnTo>
                  <a:lnTo>
                    <a:pt x="361" y="99"/>
                  </a:lnTo>
                  <a:lnTo>
                    <a:pt x="351" y="109"/>
                  </a:lnTo>
                  <a:lnTo>
                    <a:pt x="346" y="118"/>
                  </a:lnTo>
                  <a:lnTo>
                    <a:pt x="329" y="113"/>
                  </a:lnTo>
                  <a:lnTo>
                    <a:pt x="302" y="118"/>
                  </a:lnTo>
                  <a:lnTo>
                    <a:pt x="285" y="116"/>
                  </a:lnTo>
                  <a:lnTo>
                    <a:pt x="270" y="105"/>
                  </a:lnTo>
                  <a:lnTo>
                    <a:pt x="260" y="93"/>
                  </a:lnTo>
                  <a:lnTo>
                    <a:pt x="249" y="88"/>
                  </a:lnTo>
                  <a:lnTo>
                    <a:pt x="257" y="78"/>
                  </a:lnTo>
                  <a:lnTo>
                    <a:pt x="245" y="67"/>
                  </a:lnTo>
                  <a:lnTo>
                    <a:pt x="235" y="64"/>
                  </a:lnTo>
                  <a:lnTo>
                    <a:pt x="226" y="63"/>
                  </a:lnTo>
                  <a:lnTo>
                    <a:pt x="224" y="67"/>
                  </a:lnTo>
                  <a:lnTo>
                    <a:pt x="232" y="76"/>
                  </a:lnTo>
                  <a:lnTo>
                    <a:pt x="228" y="82"/>
                  </a:lnTo>
                  <a:lnTo>
                    <a:pt x="232" y="94"/>
                  </a:lnTo>
                  <a:lnTo>
                    <a:pt x="235" y="109"/>
                  </a:lnTo>
                  <a:lnTo>
                    <a:pt x="235" y="120"/>
                  </a:lnTo>
                  <a:lnTo>
                    <a:pt x="232" y="123"/>
                  </a:lnTo>
                  <a:lnTo>
                    <a:pt x="224" y="128"/>
                  </a:lnTo>
                  <a:lnTo>
                    <a:pt x="222" y="139"/>
                  </a:lnTo>
                  <a:lnTo>
                    <a:pt x="222" y="150"/>
                  </a:lnTo>
                  <a:lnTo>
                    <a:pt x="220" y="158"/>
                  </a:lnTo>
                  <a:lnTo>
                    <a:pt x="207" y="156"/>
                  </a:lnTo>
                  <a:lnTo>
                    <a:pt x="193" y="148"/>
                  </a:lnTo>
                  <a:lnTo>
                    <a:pt x="183" y="156"/>
                  </a:lnTo>
                  <a:lnTo>
                    <a:pt x="169" y="145"/>
                  </a:lnTo>
                  <a:lnTo>
                    <a:pt x="161" y="143"/>
                  </a:lnTo>
                  <a:lnTo>
                    <a:pt x="150" y="151"/>
                  </a:lnTo>
                  <a:lnTo>
                    <a:pt x="141" y="150"/>
                  </a:lnTo>
                  <a:lnTo>
                    <a:pt x="141" y="143"/>
                  </a:lnTo>
                  <a:lnTo>
                    <a:pt x="106" y="109"/>
                  </a:lnTo>
                  <a:lnTo>
                    <a:pt x="97" y="108"/>
                  </a:lnTo>
                  <a:lnTo>
                    <a:pt x="91" y="113"/>
                  </a:lnTo>
                  <a:lnTo>
                    <a:pt x="76" y="120"/>
                  </a:lnTo>
                  <a:lnTo>
                    <a:pt x="67" y="123"/>
                  </a:lnTo>
                  <a:lnTo>
                    <a:pt x="57" y="111"/>
                  </a:lnTo>
                  <a:lnTo>
                    <a:pt x="32" y="111"/>
                  </a:lnTo>
                  <a:lnTo>
                    <a:pt x="15" y="120"/>
                  </a:lnTo>
                  <a:close/>
                </a:path>
              </a:pathLst>
            </a:custGeom>
            <a:solidFill>
              <a:srgbClr val="99663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388120" y="2962440"/>
            <a:ext cx="145800" cy="69840"/>
          </a:xfrm>
          <a:custGeom>
            <a:avLst/>
            <a:gdLst/>
            <a:ahLst/>
            <a:rect l="l" t="t" r="r" b="b"/>
            <a:pathLst>
              <a:path w="421" h="220">
                <a:moveTo>
                  <a:pt x="124" y="87"/>
                </a:moveTo>
                <a:lnTo>
                  <a:pt x="104" y="74"/>
                </a:lnTo>
                <a:lnTo>
                  <a:pt x="99" y="59"/>
                </a:lnTo>
                <a:lnTo>
                  <a:pt x="94" y="44"/>
                </a:lnTo>
                <a:lnTo>
                  <a:pt x="84" y="30"/>
                </a:lnTo>
                <a:lnTo>
                  <a:pt x="67" y="30"/>
                </a:lnTo>
                <a:lnTo>
                  <a:pt x="55" y="36"/>
                </a:lnTo>
                <a:lnTo>
                  <a:pt x="38" y="52"/>
                </a:lnTo>
                <a:lnTo>
                  <a:pt x="17" y="91"/>
                </a:lnTo>
                <a:lnTo>
                  <a:pt x="19" y="101"/>
                </a:lnTo>
                <a:lnTo>
                  <a:pt x="19" y="112"/>
                </a:lnTo>
                <a:lnTo>
                  <a:pt x="15" y="118"/>
                </a:lnTo>
                <a:lnTo>
                  <a:pt x="7" y="126"/>
                </a:lnTo>
                <a:lnTo>
                  <a:pt x="0" y="136"/>
                </a:lnTo>
                <a:lnTo>
                  <a:pt x="5" y="146"/>
                </a:lnTo>
                <a:lnTo>
                  <a:pt x="5" y="170"/>
                </a:lnTo>
                <a:lnTo>
                  <a:pt x="8" y="188"/>
                </a:lnTo>
                <a:lnTo>
                  <a:pt x="17" y="192"/>
                </a:lnTo>
                <a:lnTo>
                  <a:pt x="34" y="186"/>
                </a:lnTo>
                <a:lnTo>
                  <a:pt x="55" y="173"/>
                </a:lnTo>
                <a:lnTo>
                  <a:pt x="64" y="165"/>
                </a:lnTo>
                <a:lnTo>
                  <a:pt x="80" y="170"/>
                </a:lnTo>
                <a:lnTo>
                  <a:pt x="97" y="173"/>
                </a:lnTo>
                <a:lnTo>
                  <a:pt x="112" y="178"/>
                </a:lnTo>
                <a:lnTo>
                  <a:pt x="122" y="182"/>
                </a:lnTo>
                <a:lnTo>
                  <a:pt x="143" y="170"/>
                </a:lnTo>
                <a:lnTo>
                  <a:pt x="154" y="170"/>
                </a:lnTo>
                <a:lnTo>
                  <a:pt x="164" y="175"/>
                </a:lnTo>
                <a:lnTo>
                  <a:pt x="179" y="180"/>
                </a:lnTo>
                <a:lnTo>
                  <a:pt x="191" y="170"/>
                </a:lnTo>
                <a:lnTo>
                  <a:pt x="211" y="165"/>
                </a:lnTo>
                <a:lnTo>
                  <a:pt x="223" y="167"/>
                </a:lnTo>
                <a:lnTo>
                  <a:pt x="233" y="186"/>
                </a:lnTo>
                <a:lnTo>
                  <a:pt x="255" y="188"/>
                </a:lnTo>
                <a:lnTo>
                  <a:pt x="280" y="186"/>
                </a:lnTo>
                <a:lnTo>
                  <a:pt x="297" y="206"/>
                </a:lnTo>
                <a:lnTo>
                  <a:pt x="310" y="218"/>
                </a:lnTo>
                <a:lnTo>
                  <a:pt x="322" y="220"/>
                </a:lnTo>
                <a:lnTo>
                  <a:pt x="342" y="212"/>
                </a:lnTo>
                <a:lnTo>
                  <a:pt x="360" y="210"/>
                </a:lnTo>
                <a:lnTo>
                  <a:pt x="372" y="200"/>
                </a:lnTo>
                <a:lnTo>
                  <a:pt x="379" y="190"/>
                </a:lnTo>
                <a:lnTo>
                  <a:pt x="402" y="165"/>
                </a:lnTo>
                <a:lnTo>
                  <a:pt x="414" y="153"/>
                </a:lnTo>
                <a:lnTo>
                  <a:pt x="421" y="133"/>
                </a:lnTo>
                <a:lnTo>
                  <a:pt x="417" y="104"/>
                </a:lnTo>
                <a:lnTo>
                  <a:pt x="406" y="97"/>
                </a:lnTo>
                <a:lnTo>
                  <a:pt x="387" y="79"/>
                </a:lnTo>
                <a:lnTo>
                  <a:pt x="379" y="59"/>
                </a:lnTo>
                <a:lnTo>
                  <a:pt x="371" y="38"/>
                </a:lnTo>
                <a:lnTo>
                  <a:pt x="354" y="23"/>
                </a:lnTo>
                <a:lnTo>
                  <a:pt x="344" y="22"/>
                </a:lnTo>
                <a:lnTo>
                  <a:pt x="310" y="23"/>
                </a:lnTo>
                <a:lnTo>
                  <a:pt x="295" y="34"/>
                </a:lnTo>
                <a:lnTo>
                  <a:pt x="285" y="38"/>
                </a:lnTo>
                <a:lnTo>
                  <a:pt x="268" y="22"/>
                </a:lnTo>
                <a:lnTo>
                  <a:pt x="253" y="15"/>
                </a:lnTo>
                <a:lnTo>
                  <a:pt x="242" y="5"/>
                </a:lnTo>
                <a:lnTo>
                  <a:pt x="236" y="2"/>
                </a:lnTo>
                <a:lnTo>
                  <a:pt x="217" y="0"/>
                </a:lnTo>
                <a:lnTo>
                  <a:pt x="203" y="5"/>
                </a:lnTo>
                <a:lnTo>
                  <a:pt x="190" y="5"/>
                </a:lnTo>
                <a:lnTo>
                  <a:pt x="183" y="10"/>
                </a:lnTo>
                <a:lnTo>
                  <a:pt x="176" y="22"/>
                </a:lnTo>
                <a:lnTo>
                  <a:pt x="176" y="44"/>
                </a:lnTo>
                <a:lnTo>
                  <a:pt x="181" y="69"/>
                </a:lnTo>
                <a:lnTo>
                  <a:pt x="181" y="81"/>
                </a:lnTo>
                <a:lnTo>
                  <a:pt x="164" y="97"/>
                </a:lnTo>
                <a:lnTo>
                  <a:pt x="154" y="106"/>
                </a:lnTo>
                <a:lnTo>
                  <a:pt x="146" y="96"/>
                </a:lnTo>
                <a:lnTo>
                  <a:pt x="124" y="87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809960" y="2868480"/>
            <a:ext cx="176040" cy="272880"/>
            <a:chOff x="4809960" y="2868480"/>
            <a:chExt cx="176040" cy="272880"/>
          </a:xfrm>
        </p:grpSpPr>
        <p:sp>
          <p:nvSpPr>
            <p:cNvPr id="229" name=""/>
            <p:cNvSpPr/>
            <p:nvPr/>
          </p:nvSpPr>
          <p:spPr>
            <a:xfrm>
              <a:off x="4809960" y="2871360"/>
              <a:ext cx="176040" cy="270000"/>
            </a:xfrm>
            <a:custGeom>
              <a:avLst/>
              <a:gdLst/>
              <a:ahLst/>
              <a:rect l="l" t="t" r="r" b="b"/>
              <a:pathLst>
                <a:path w="514" h="848">
                  <a:moveTo>
                    <a:pt x="154" y="544"/>
                  </a:moveTo>
                  <a:lnTo>
                    <a:pt x="178" y="565"/>
                  </a:lnTo>
                  <a:lnTo>
                    <a:pt x="168" y="586"/>
                  </a:lnTo>
                  <a:lnTo>
                    <a:pt x="153" y="603"/>
                  </a:lnTo>
                  <a:lnTo>
                    <a:pt x="129" y="614"/>
                  </a:lnTo>
                  <a:lnTo>
                    <a:pt x="111" y="624"/>
                  </a:lnTo>
                  <a:lnTo>
                    <a:pt x="91" y="627"/>
                  </a:lnTo>
                  <a:lnTo>
                    <a:pt x="81" y="635"/>
                  </a:lnTo>
                  <a:lnTo>
                    <a:pt x="96" y="660"/>
                  </a:lnTo>
                  <a:lnTo>
                    <a:pt x="119" y="660"/>
                  </a:lnTo>
                  <a:lnTo>
                    <a:pt x="129" y="662"/>
                  </a:lnTo>
                  <a:lnTo>
                    <a:pt x="129" y="679"/>
                  </a:lnTo>
                  <a:lnTo>
                    <a:pt x="141" y="679"/>
                  </a:lnTo>
                  <a:lnTo>
                    <a:pt x="151" y="675"/>
                  </a:lnTo>
                  <a:lnTo>
                    <a:pt x="156" y="692"/>
                  </a:lnTo>
                  <a:lnTo>
                    <a:pt x="169" y="706"/>
                  </a:lnTo>
                  <a:lnTo>
                    <a:pt x="190" y="706"/>
                  </a:lnTo>
                  <a:lnTo>
                    <a:pt x="205" y="702"/>
                  </a:lnTo>
                  <a:lnTo>
                    <a:pt x="218" y="706"/>
                  </a:lnTo>
                  <a:lnTo>
                    <a:pt x="186" y="734"/>
                  </a:lnTo>
                  <a:lnTo>
                    <a:pt x="173" y="741"/>
                  </a:lnTo>
                  <a:lnTo>
                    <a:pt x="156" y="734"/>
                  </a:lnTo>
                  <a:lnTo>
                    <a:pt x="119" y="719"/>
                  </a:lnTo>
                  <a:lnTo>
                    <a:pt x="99" y="719"/>
                  </a:lnTo>
                  <a:lnTo>
                    <a:pt x="82" y="734"/>
                  </a:lnTo>
                  <a:lnTo>
                    <a:pt x="59" y="753"/>
                  </a:lnTo>
                  <a:lnTo>
                    <a:pt x="47" y="763"/>
                  </a:lnTo>
                  <a:lnTo>
                    <a:pt x="32" y="768"/>
                  </a:lnTo>
                  <a:lnTo>
                    <a:pt x="15" y="776"/>
                  </a:lnTo>
                  <a:lnTo>
                    <a:pt x="2" y="786"/>
                  </a:lnTo>
                  <a:lnTo>
                    <a:pt x="0" y="793"/>
                  </a:lnTo>
                  <a:lnTo>
                    <a:pt x="15" y="795"/>
                  </a:lnTo>
                  <a:lnTo>
                    <a:pt x="25" y="805"/>
                  </a:lnTo>
                  <a:lnTo>
                    <a:pt x="40" y="812"/>
                  </a:lnTo>
                  <a:lnTo>
                    <a:pt x="55" y="805"/>
                  </a:lnTo>
                  <a:lnTo>
                    <a:pt x="67" y="799"/>
                  </a:lnTo>
                  <a:lnTo>
                    <a:pt x="82" y="801"/>
                  </a:lnTo>
                  <a:lnTo>
                    <a:pt x="104" y="813"/>
                  </a:lnTo>
                  <a:lnTo>
                    <a:pt x="125" y="823"/>
                  </a:lnTo>
                  <a:lnTo>
                    <a:pt x="139" y="813"/>
                  </a:lnTo>
                  <a:lnTo>
                    <a:pt x="146" y="798"/>
                  </a:lnTo>
                  <a:lnTo>
                    <a:pt x="169" y="784"/>
                  </a:lnTo>
                  <a:lnTo>
                    <a:pt x="184" y="784"/>
                  </a:lnTo>
                  <a:lnTo>
                    <a:pt x="197" y="799"/>
                  </a:lnTo>
                  <a:lnTo>
                    <a:pt x="207" y="808"/>
                  </a:lnTo>
                  <a:lnTo>
                    <a:pt x="225" y="808"/>
                  </a:lnTo>
                  <a:lnTo>
                    <a:pt x="247" y="810"/>
                  </a:lnTo>
                  <a:lnTo>
                    <a:pt x="262" y="816"/>
                  </a:lnTo>
                  <a:lnTo>
                    <a:pt x="277" y="805"/>
                  </a:lnTo>
                  <a:lnTo>
                    <a:pt x="289" y="805"/>
                  </a:lnTo>
                  <a:lnTo>
                    <a:pt x="302" y="812"/>
                  </a:lnTo>
                  <a:lnTo>
                    <a:pt x="317" y="828"/>
                  </a:lnTo>
                  <a:lnTo>
                    <a:pt x="336" y="831"/>
                  </a:lnTo>
                  <a:lnTo>
                    <a:pt x="358" y="835"/>
                  </a:lnTo>
                  <a:lnTo>
                    <a:pt x="373" y="843"/>
                  </a:lnTo>
                  <a:lnTo>
                    <a:pt x="391" y="848"/>
                  </a:lnTo>
                  <a:lnTo>
                    <a:pt x="406" y="840"/>
                  </a:lnTo>
                  <a:lnTo>
                    <a:pt x="425" y="828"/>
                  </a:lnTo>
                  <a:lnTo>
                    <a:pt x="437" y="826"/>
                  </a:lnTo>
                  <a:lnTo>
                    <a:pt x="452" y="823"/>
                  </a:lnTo>
                  <a:lnTo>
                    <a:pt x="467" y="810"/>
                  </a:lnTo>
                  <a:lnTo>
                    <a:pt x="457" y="798"/>
                  </a:lnTo>
                  <a:lnTo>
                    <a:pt x="433" y="784"/>
                  </a:lnTo>
                  <a:lnTo>
                    <a:pt x="425" y="776"/>
                  </a:lnTo>
                  <a:lnTo>
                    <a:pt x="425" y="768"/>
                  </a:lnTo>
                  <a:lnTo>
                    <a:pt x="435" y="759"/>
                  </a:lnTo>
                  <a:lnTo>
                    <a:pt x="452" y="757"/>
                  </a:lnTo>
                  <a:lnTo>
                    <a:pt x="469" y="749"/>
                  </a:lnTo>
                  <a:lnTo>
                    <a:pt x="497" y="719"/>
                  </a:lnTo>
                  <a:lnTo>
                    <a:pt x="509" y="704"/>
                  </a:lnTo>
                  <a:lnTo>
                    <a:pt x="514" y="679"/>
                  </a:lnTo>
                  <a:lnTo>
                    <a:pt x="514" y="664"/>
                  </a:lnTo>
                  <a:lnTo>
                    <a:pt x="501" y="654"/>
                  </a:lnTo>
                  <a:lnTo>
                    <a:pt x="484" y="641"/>
                  </a:lnTo>
                  <a:lnTo>
                    <a:pt x="469" y="635"/>
                  </a:lnTo>
                  <a:lnTo>
                    <a:pt x="452" y="637"/>
                  </a:lnTo>
                  <a:lnTo>
                    <a:pt x="442" y="643"/>
                  </a:lnTo>
                  <a:lnTo>
                    <a:pt x="437" y="632"/>
                  </a:lnTo>
                  <a:lnTo>
                    <a:pt x="447" y="615"/>
                  </a:lnTo>
                  <a:lnTo>
                    <a:pt x="450" y="603"/>
                  </a:lnTo>
                  <a:lnTo>
                    <a:pt x="448" y="580"/>
                  </a:lnTo>
                  <a:lnTo>
                    <a:pt x="447" y="548"/>
                  </a:lnTo>
                  <a:lnTo>
                    <a:pt x="452" y="523"/>
                  </a:lnTo>
                  <a:lnTo>
                    <a:pt x="448" y="508"/>
                  </a:lnTo>
                  <a:lnTo>
                    <a:pt x="437" y="491"/>
                  </a:lnTo>
                  <a:lnTo>
                    <a:pt x="412" y="447"/>
                  </a:lnTo>
                  <a:lnTo>
                    <a:pt x="402" y="426"/>
                  </a:lnTo>
                  <a:lnTo>
                    <a:pt x="398" y="401"/>
                  </a:lnTo>
                  <a:lnTo>
                    <a:pt x="395" y="386"/>
                  </a:lnTo>
                  <a:lnTo>
                    <a:pt x="402" y="361"/>
                  </a:lnTo>
                  <a:lnTo>
                    <a:pt x="402" y="342"/>
                  </a:lnTo>
                  <a:lnTo>
                    <a:pt x="398" y="320"/>
                  </a:lnTo>
                  <a:lnTo>
                    <a:pt x="387" y="310"/>
                  </a:lnTo>
                  <a:lnTo>
                    <a:pt x="368" y="291"/>
                  </a:lnTo>
                  <a:lnTo>
                    <a:pt x="353" y="285"/>
                  </a:lnTo>
                  <a:lnTo>
                    <a:pt x="338" y="283"/>
                  </a:lnTo>
                  <a:lnTo>
                    <a:pt x="328" y="280"/>
                  </a:lnTo>
                  <a:lnTo>
                    <a:pt x="328" y="270"/>
                  </a:lnTo>
                  <a:lnTo>
                    <a:pt x="334" y="262"/>
                  </a:lnTo>
                  <a:lnTo>
                    <a:pt x="351" y="260"/>
                  </a:lnTo>
                  <a:lnTo>
                    <a:pt x="366" y="266"/>
                  </a:lnTo>
                  <a:lnTo>
                    <a:pt x="376" y="268"/>
                  </a:lnTo>
                  <a:lnTo>
                    <a:pt x="383" y="258"/>
                  </a:lnTo>
                  <a:lnTo>
                    <a:pt x="381" y="245"/>
                  </a:lnTo>
                  <a:lnTo>
                    <a:pt x="442" y="188"/>
                  </a:lnTo>
                  <a:lnTo>
                    <a:pt x="452" y="176"/>
                  </a:lnTo>
                  <a:lnTo>
                    <a:pt x="452" y="149"/>
                  </a:lnTo>
                  <a:lnTo>
                    <a:pt x="437" y="137"/>
                  </a:lnTo>
                  <a:lnTo>
                    <a:pt x="420" y="135"/>
                  </a:lnTo>
                  <a:lnTo>
                    <a:pt x="406" y="112"/>
                  </a:lnTo>
                  <a:lnTo>
                    <a:pt x="376" y="112"/>
                  </a:lnTo>
                  <a:lnTo>
                    <a:pt x="376" y="112"/>
                  </a:lnTo>
                  <a:lnTo>
                    <a:pt x="349" y="116"/>
                  </a:lnTo>
                  <a:lnTo>
                    <a:pt x="343" y="114"/>
                  </a:lnTo>
                  <a:lnTo>
                    <a:pt x="336" y="104"/>
                  </a:lnTo>
                  <a:lnTo>
                    <a:pt x="349" y="95"/>
                  </a:lnTo>
                  <a:lnTo>
                    <a:pt x="361" y="82"/>
                  </a:lnTo>
                  <a:lnTo>
                    <a:pt x="387" y="60"/>
                  </a:lnTo>
                  <a:lnTo>
                    <a:pt x="408" y="57"/>
                  </a:lnTo>
                  <a:lnTo>
                    <a:pt x="427" y="42"/>
                  </a:lnTo>
                  <a:lnTo>
                    <a:pt x="447" y="28"/>
                  </a:lnTo>
                  <a:lnTo>
                    <a:pt x="403" y="17"/>
                  </a:lnTo>
                  <a:lnTo>
                    <a:pt x="385" y="15"/>
                  </a:lnTo>
                  <a:lnTo>
                    <a:pt x="363" y="13"/>
                  </a:lnTo>
                  <a:lnTo>
                    <a:pt x="338" y="0"/>
                  </a:lnTo>
                  <a:lnTo>
                    <a:pt x="316" y="25"/>
                  </a:lnTo>
                  <a:lnTo>
                    <a:pt x="317" y="38"/>
                  </a:lnTo>
                  <a:lnTo>
                    <a:pt x="304" y="42"/>
                  </a:lnTo>
                  <a:lnTo>
                    <a:pt x="284" y="55"/>
                  </a:lnTo>
                  <a:lnTo>
                    <a:pt x="264" y="62"/>
                  </a:lnTo>
                  <a:lnTo>
                    <a:pt x="264" y="80"/>
                  </a:lnTo>
                  <a:lnTo>
                    <a:pt x="262" y="95"/>
                  </a:lnTo>
                  <a:lnTo>
                    <a:pt x="245" y="119"/>
                  </a:lnTo>
                  <a:lnTo>
                    <a:pt x="218" y="148"/>
                  </a:lnTo>
                  <a:lnTo>
                    <a:pt x="207" y="163"/>
                  </a:lnTo>
                  <a:lnTo>
                    <a:pt x="213" y="173"/>
                  </a:lnTo>
                  <a:lnTo>
                    <a:pt x="242" y="171"/>
                  </a:lnTo>
                  <a:lnTo>
                    <a:pt x="243" y="177"/>
                  </a:lnTo>
                  <a:lnTo>
                    <a:pt x="243" y="188"/>
                  </a:lnTo>
                  <a:lnTo>
                    <a:pt x="205" y="236"/>
                  </a:lnTo>
                  <a:lnTo>
                    <a:pt x="193" y="262"/>
                  </a:lnTo>
                  <a:lnTo>
                    <a:pt x="184" y="285"/>
                  </a:lnTo>
                  <a:lnTo>
                    <a:pt x="193" y="295"/>
                  </a:lnTo>
                  <a:lnTo>
                    <a:pt x="210" y="275"/>
                  </a:lnTo>
                  <a:lnTo>
                    <a:pt x="227" y="251"/>
                  </a:lnTo>
                  <a:lnTo>
                    <a:pt x="239" y="258"/>
                  </a:lnTo>
                  <a:lnTo>
                    <a:pt x="242" y="293"/>
                  </a:lnTo>
                  <a:lnTo>
                    <a:pt x="243" y="317"/>
                  </a:lnTo>
                  <a:lnTo>
                    <a:pt x="220" y="329"/>
                  </a:lnTo>
                  <a:lnTo>
                    <a:pt x="205" y="344"/>
                  </a:lnTo>
                  <a:lnTo>
                    <a:pt x="201" y="357"/>
                  </a:lnTo>
                  <a:lnTo>
                    <a:pt x="230" y="382"/>
                  </a:lnTo>
                  <a:lnTo>
                    <a:pt x="256" y="377"/>
                  </a:lnTo>
                  <a:lnTo>
                    <a:pt x="262" y="392"/>
                  </a:lnTo>
                  <a:lnTo>
                    <a:pt x="289" y="375"/>
                  </a:lnTo>
                  <a:lnTo>
                    <a:pt x="287" y="389"/>
                  </a:lnTo>
                  <a:lnTo>
                    <a:pt x="264" y="416"/>
                  </a:lnTo>
                  <a:lnTo>
                    <a:pt x="275" y="446"/>
                  </a:lnTo>
                  <a:lnTo>
                    <a:pt x="277" y="462"/>
                  </a:lnTo>
                  <a:lnTo>
                    <a:pt x="301" y="464"/>
                  </a:lnTo>
                  <a:lnTo>
                    <a:pt x="302" y="479"/>
                  </a:lnTo>
                  <a:lnTo>
                    <a:pt x="275" y="511"/>
                  </a:lnTo>
                  <a:lnTo>
                    <a:pt x="264" y="506"/>
                  </a:lnTo>
                  <a:lnTo>
                    <a:pt x="254" y="516"/>
                  </a:lnTo>
                  <a:lnTo>
                    <a:pt x="252" y="533"/>
                  </a:lnTo>
                  <a:lnTo>
                    <a:pt x="225" y="518"/>
                  </a:lnTo>
                  <a:lnTo>
                    <a:pt x="154" y="544"/>
                  </a:lnTo>
                  <a:close/>
                </a:path>
              </a:pathLst>
            </a:custGeom>
            <a:solidFill>
              <a:srgbClr val="9ddfa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72960" y="3003120"/>
              <a:ext cx="15120" cy="972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21" y="0"/>
                  </a:moveTo>
                  <a:lnTo>
                    <a:pt x="40" y="3"/>
                  </a:lnTo>
                  <a:lnTo>
                    <a:pt x="42" y="14"/>
                  </a:lnTo>
                  <a:lnTo>
                    <a:pt x="23" y="27"/>
                  </a:lnTo>
                  <a:lnTo>
                    <a:pt x="2" y="31"/>
                  </a:lnTo>
                  <a:lnTo>
                    <a:pt x="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ddfa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62520" y="2939760"/>
              <a:ext cx="15480" cy="936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35" y="0"/>
                  </a:moveTo>
                  <a:lnTo>
                    <a:pt x="42" y="15"/>
                  </a:lnTo>
                  <a:lnTo>
                    <a:pt x="22" y="26"/>
                  </a:lnTo>
                  <a:lnTo>
                    <a:pt x="5" y="31"/>
                  </a:lnTo>
                  <a:lnTo>
                    <a:pt x="0" y="16"/>
                  </a:lnTo>
                  <a:lnTo>
                    <a:pt x="8" y="6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ddfa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85200" y="2890440"/>
              <a:ext cx="6480" cy="19080"/>
            </a:xfrm>
            <a:custGeom>
              <a:avLst/>
              <a:gdLst/>
              <a:ahLst/>
              <a:rect l="l" t="t" r="r" b="b"/>
              <a:pathLst>
                <a:path w="22" h="59">
                  <a:moveTo>
                    <a:pt x="10" y="59"/>
                  </a:moveTo>
                  <a:lnTo>
                    <a:pt x="22" y="45"/>
                  </a:lnTo>
                  <a:lnTo>
                    <a:pt x="18" y="25"/>
                  </a:lnTo>
                  <a:lnTo>
                    <a:pt x="14" y="15"/>
                  </a:lnTo>
                  <a:lnTo>
                    <a:pt x="10" y="0"/>
                  </a:lnTo>
                  <a:lnTo>
                    <a:pt x="0" y="7"/>
                  </a:lnTo>
                  <a:lnTo>
                    <a:pt x="5" y="28"/>
                  </a:lnTo>
                  <a:lnTo>
                    <a:pt x="10" y="59"/>
                  </a:lnTo>
                  <a:close/>
                </a:path>
              </a:pathLst>
            </a:custGeom>
            <a:solidFill>
              <a:srgbClr val="9ddfa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26880" y="2963520"/>
              <a:ext cx="37440" cy="36720"/>
            </a:xfrm>
            <a:custGeom>
              <a:avLst/>
              <a:gdLst/>
              <a:ahLst/>
              <a:rect l="l" t="t" r="r" b="b"/>
              <a:pathLst>
                <a:path w="111" h="113">
                  <a:moveTo>
                    <a:pt x="39" y="0"/>
                  </a:moveTo>
                  <a:lnTo>
                    <a:pt x="64" y="0"/>
                  </a:lnTo>
                  <a:lnTo>
                    <a:pt x="83" y="5"/>
                  </a:lnTo>
                  <a:lnTo>
                    <a:pt x="96" y="23"/>
                  </a:lnTo>
                  <a:lnTo>
                    <a:pt x="108" y="53"/>
                  </a:lnTo>
                  <a:lnTo>
                    <a:pt x="111" y="78"/>
                  </a:lnTo>
                  <a:lnTo>
                    <a:pt x="98" y="90"/>
                  </a:lnTo>
                  <a:lnTo>
                    <a:pt x="94" y="107"/>
                  </a:lnTo>
                  <a:lnTo>
                    <a:pt x="81" y="113"/>
                  </a:lnTo>
                  <a:lnTo>
                    <a:pt x="69" y="98"/>
                  </a:lnTo>
                  <a:lnTo>
                    <a:pt x="57" y="71"/>
                  </a:lnTo>
                  <a:lnTo>
                    <a:pt x="49" y="61"/>
                  </a:lnTo>
                  <a:lnTo>
                    <a:pt x="28" y="59"/>
                  </a:lnTo>
                  <a:lnTo>
                    <a:pt x="0" y="3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ddfa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83040" y="2868480"/>
              <a:ext cx="18720" cy="14040"/>
            </a:xfrm>
            <a:custGeom>
              <a:avLst/>
              <a:gdLst/>
              <a:ahLst/>
              <a:rect l="l" t="t" r="r" b="b"/>
              <a:pathLst>
                <a:path w="57" h="42">
                  <a:moveTo>
                    <a:pt x="50" y="0"/>
                  </a:moveTo>
                  <a:lnTo>
                    <a:pt x="57" y="10"/>
                  </a:lnTo>
                  <a:lnTo>
                    <a:pt x="35" y="23"/>
                  </a:lnTo>
                  <a:lnTo>
                    <a:pt x="15" y="42"/>
                  </a:lnTo>
                  <a:lnTo>
                    <a:pt x="2" y="38"/>
                  </a:lnTo>
                  <a:lnTo>
                    <a:pt x="0" y="15"/>
                  </a:lnTo>
                  <a:lnTo>
                    <a:pt x="0" y="7"/>
                  </a:lnTo>
                  <a:lnTo>
                    <a:pt x="34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ddfa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4761000" y="2525760"/>
            <a:ext cx="145800" cy="115920"/>
          </a:xfrm>
          <a:custGeom>
            <a:avLst/>
            <a:gdLst/>
            <a:ahLst/>
            <a:rect l="l" t="t" r="r" b="b"/>
            <a:pathLst>
              <a:path w="423" h="367">
                <a:moveTo>
                  <a:pt x="32" y="86"/>
                </a:moveTo>
                <a:lnTo>
                  <a:pt x="20" y="101"/>
                </a:lnTo>
                <a:lnTo>
                  <a:pt x="34" y="126"/>
                </a:lnTo>
                <a:lnTo>
                  <a:pt x="51" y="131"/>
                </a:lnTo>
                <a:lnTo>
                  <a:pt x="66" y="141"/>
                </a:lnTo>
                <a:lnTo>
                  <a:pt x="67" y="181"/>
                </a:lnTo>
                <a:lnTo>
                  <a:pt x="53" y="208"/>
                </a:lnTo>
                <a:lnTo>
                  <a:pt x="40" y="215"/>
                </a:lnTo>
                <a:lnTo>
                  <a:pt x="5" y="208"/>
                </a:lnTo>
                <a:lnTo>
                  <a:pt x="0" y="213"/>
                </a:lnTo>
                <a:lnTo>
                  <a:pt x="42" y="255"/>
                </a:lnTo>
                <a:lnTo>
                  <a:pt x="55" y="262"/>
                </a:lnTo>
                <a:lnTo>
                  <a:pt x="62" y="290"/>
                </a:lnTo>
                <a:lnTo>
                  <a:pt x="76" y="320"/>
                </a:lnTo>
                <a:lnTo>
                  <a:pt x="101" y="341"/>
                </a:lnTo>
                <a:lnTo>
                  <a:pt x="129" y="345"/>
                </a:lnTo>
                <a:lnTo>
                  <a:pt x="146" y="359"/>
                </a:lnTo>
                <a:lnTo>
                  <a:pt x="161" y="359"/>
                </a:lnTo>
                <a:lnTo>
                  <a:pt x="180" y="349"/>
                </a:lnTo>
                <a:lnTo>
                  <a:pt x="218" y="360"/>
                </a:lnTo>
                <a:lnTo>
                  <a:pt x="237" y="367"/>
                </a:lnTo>
                <a:lnTo>
                  <a:pt x="262" y="362"/>
                </a:lnTo>
                <a:lnTo>
                  <a:pt x="279" y="359"/>
                </a:lnTo>
                <a:lnTo>
                  <a:pt x="294" y="345"/>
                </a:lnTo>
                <a:lnTo>
                  <a:pt x="304" y="349"/>
                </a:lnTo>
                <a:lnTo>
                  <a:pt x="319" y="362"/>
                </a:lnTo>
                <a:lnTo>
                  <a:pt x="334" y="354"/>
                </a:lnTo>
                <a:lnTo>
                  <a:pt x="346" y="344"/>
                </a:lnTo>
                <a:lnTo>
                  <a:pt x="355" y="335"/>
                </a:lnTo>
                <a:lnTo>
                  <a:pt x="388" y="327"/>
                </a:lnTo>
                <a:lnTo>
                  <a:pt x="395" y="316"/>
                </a:lnTo>
                <a:lnTo>
                  <a:pt x="400" y="302"/>
                </a:lnTo>
                <a:lnTo>
                  <a:pt x="420" y="285"/>
                </a:lnTo>
                <a:lnTo>
                  <a:pt x="423" y="273"/>
                </a:lnTo>
                <a:lnTo>
                  <a:pt x="415" y="265"/>
                </a:lnTo>
                <a:lnTo>
                  <a:pt x="403" y="250"/>
                </a:lnTo>
                <a:lnTo>
                  <a:pt x="401" y="198"/>
                </a:lnTo>
                <a:lnTo>
                  <a:pt x="418" y="191"/>
                </a:lnTo>
                <a:lnTo>
                  <a:pt x="408" y="173"/>
                </a:lnTo>
                <a:lnTo>
                  <a:pt x="395" y="175"/>
                </a:lnTo>
                <a:lnTo>
                  <a:pt x="386" y="173"/>
                </a:lnTo>
                <a:lnTo>
                  <a:pt x="391" y="164"/>
                </a:lnTo>
                <a:lnTo>
                  <a:pt x="386" y="148"/>
                </a:lnTo>
                <a:lnTo>
                  <a:pt x="376" y="143"/>
                </a:lnTo>
                <a:lnTo>
                  <a:pt x="359" y="154"/>
                </a:lnTo>
                <a:lnTo>
                  <a:pt x="344" y="166"/>
                </a:lnTo>
                <a:lnTo>
                  <a:pt x="334" y="164"/>
                </a:lnTo>
                <a:lnTo>
                  <a:pt x="324" y="158"/>
                </a:lnTo>
                <a:lnTo>
                  <a:pt x="306" y="148"/>
                </a:lnTo>
                <a:lnTo>
                  <a:pt x="289" y="143"/>
                </a:lnTo>
                <a:lnTo>
                  <a:pt x="279" y="148"/>
                </a:lnTo>
                <a:lnTo>
                  <a:pt x="270" y="141"/>
                </a:lnTo>
                <a:lnTo>
                  <a:pt x="269" y="129"/>
                </a:lnTo>
                <a:lnTo>
                  <a:pt x="260" y="126"/>
                </a:lnTo>
                <a:lnTo>
                  <a:pt x="243" y="131"/>
                </a:lnTo>
                <a:lnTo>
                  <a:pt x="224" y="129"/>
                </a:lnTo>
                <a:lnTo>
                  <a:pt x="224" y="118"/>
                </a:lnTo>
                <a:lnTo>
                  <a:pt x="218" y="109"/>
                </a:lnTo>
                <a:lnTo>
                  <a:pt x="205" y="107"/>
                </a:lnTo>
                <a:lnTo>
                  <a:pt x="198" y="118"/>
                </a:lnTo>
                <a:lnTo>
                  <a:pt x="195" y="124"/>
                </a:lnTo>
                <a:lnTo>
                  <a:pt x="186" y="118"/>
                </a:lnTo>
                <a:lnTo>
                  <a:pt x="173" y="122"/>
                </a:lnTo>
                <a:lnTo>
                  <a:pt x="161" y="133"/>
                </a:lnTo>
                <a:lnTo>
                  <a:pt x="153" y="124"/>
                </a:lnTo>
                <a:lnTo>
                  <a:pt x="154" y="92"/>
                </a:lnTo>
                <a:lnTo>
                  <a:pt x="163" y="76"/>
                </a:lnTo>
                <a:lnTo>
                  <a:pt x="173" y="67"/>
                </a:lnTo>
                <a:lnTo>
                  <a:pt x="171" y="47"/>
                </a:lnTo>
                <a:lnTo>
                  <a:pt x="173" y="25"/>
                </a:lnTo>
                <a:lnTo>
                  <a:pt x="169" y="0"/>
                </a:lnTo>
                <a:lnTo>
                  <a:pt x="161" y="0"/>
                </a:lnTo>
                <a:lnTo>
                  <a:pt x="153" y="10"/>
                </a:lnTo>
                <a:lnTo>
                  <a:pt x="148" y="32"/>
                </a:lnTo>
                <a:lnTo>
                  <a:pt x="141" y="47"/>
                </a:lnTo>
                <a:lnTo>
                  <a:pt x="131" y="34"/>
                </a:lnTo>
                <a:lnTo>
                  <a:pt x="138" y="17"/>
                </a:lnTo>
                <a:lnTo>
                  <a:pt x="127" y="7"/>
                </a:lnTo>
                <a:lnTo>
                  <a:pt x="109" y="10"/>
                </a:lnTo>
                <a:lnTo>
                  <a:pt x="101" y="21"/>
                </a:lnTo>
                <a:lnTo>
                  <a:pt x="106" y="32"/>
                </a:lnTo>
                <a:lnTo>
                  <a:pt x="99" y="42"/>
                </a:lnTo>
                <a:lnTo>
                  <a:pt x="91" y="37"/>
                </a:lnTo>
                <a:lnTo>
                  <a:pt x="80" y="29"/>
                </a:lnTo>
                <a:lnTo>
                  <a:pt x="72" y="32"/>
                </a:lnTo>
                <a:lnTo>
                  <a:pt x="64" y="42"/>
                </a:lnTo>
                <a:lnTo>
                  <a:pt x="74" y="59"/>
                </a:lnTo>
                <a:lnTo>
                  <a:pt x="89" y="61"/>
                </a:lnTo>
                <a:lnTo>
                  <a:pt x="108" y="78"/>
                </a:lnTo>
                <a:lnTo>
                  <a:pt x="116" y="84"/>
                </a:lnTo>
                <a:lnTo>
                  <a:pt x="116" y="94"/>
                </a:lnTo>
                <a:lnTo>
                  <a:pt x="99" y="99"/>
                </a:lnTo>
                <a:lnTo>
                  <a:pt x="101" y="114"/>
                </a:lnTo>
                <a:lnTo>
                  <a:pt x="108" y="124"/>
                </a:lnTo>
                <a:lnTo>
                  <a:pt x="101" y="133"/>
                </a:lnTo>
                <a:lnTo>
                  <a:pt x="87" y="131"/>
                </a:lnTo>
                <a:lnTo>
                  <a:pt x="66" y="109"/>
                </a:lnTo>
                <a:lnTo>
                  <a:pt x="51" y="94"/>
                </a:lnTo>
                <a:lnTo>
                  <a:pt x="32" y="86"/>
                </a:lnTo>
                <a:close/>
              </a:path>
            </a:pathLst>
          </a:custGeom>
          <a:solidFill>
            <a:srgbClr val="ff33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529240" y="3397320"/>
            <a:ext cx="552240" cy="274320"/>
            <a:chOff x="5529240" y="3397320"/>
            <a:chExt cx="552240" cy="274320"/>
          </a:xfrm>
        </p:grpSpPr>
        <p:sp>
          <p:nvSpPr>
            <p:cNvPr id="237" name=""/>
            <p:cNvSpPr/>
            <p:nvPr/>
          </p:nvSpPr>
          <p:spPr>
            <a:xfrm>
              <a:off x="5529240" y="3463920"/>
              <a:ext cx="81360" cy="70200"/>
            </a:xfrm>
            <a:custGeom>
              <a:avLst/>
              <a:gdLst/>
              <a:ahLst/>
              <a:rect l="l" t="t" r="r" b="b"/>
              <a:pathLst>
                <a:path w="227" h="195">
                  <a:moveTo>
                    <a:pt x="40" y="32"/>
                  </a:moveTo>
                  <a:lnTo>
                    <a:pt x="36" y="81"/>
                  </a:lnTo>
                  <a:lnTo>
                    <a:pt x="0" y="134"/>
                  </a:lnTo>
                  <a:lnTo>
                    <a:pt x="8" y="144"/>
                  </a:lnTo>
                  <a:lnTo>
                    <a:pt x="49" y="141"/>
                  </a:lnTo>
                  <a:lnTo>
                    <a:pt x="30" y="163"/>
                  </a:lnTo>
                  <a:lnTo>
                    <a:pt x="22" y="172"/>
                  </a:lnTo>
                  <a:lnTo>
                    <a:pt x="25" y="195"/>
                  </a:lnTo>
                  <a:lnTo>
                    <a:pt x="57" y="159"/>
                  </a:lnTo>
                  <a:lnTo>
                    <a:pt x="76" y="149"/>
                  </a:lnTo>
                  <a:lnTo>
                    <a:pt x="110" y="104"/>
                  </a:lnTo>
                  <a:lnTo>
                    <a:pt x="150" y="81"/>
                  </a:lnTo>
                  <a:lnTo>
                    <a:pt x="212" y="79"/>
                  </a:lnTo>
                  <a:lnTo>
                    <a:pt x="227" y="72"/>
                  </a:lnTo>
                  <a:lnTo>
                    <a:pt x="224" y="60"/>
                  </a:lnTo>
                  <a:lnTo>
                    <a:pt x="195" y="35"/>
                  </a:lnTo>
                  <a:lnTo>
                    <a:pt x="180" y="37"/>
                  </a:lnTo>
                  <a:lnTo>
                    <a:pt x="175" y="30"/>
                  </a:lnTo>
                  <a:lnTo>
                    <a:pt x="158" y="30"/>
                  </a:lnTo>
                  <a:lnTo>
                    <a:pt x="133" y="3"/>
                  </a:lnTo>
                  <a:lnTo>
                    <a:pt x="106" y="0"/>
                  </a:lnTo>
                  <a:lnTo>
                    <a:pt x="81" y="7"/>
                  </a:lnTo>
                  <a:lnTo>
                    <a:pt x="59" y="18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41120" y="3397320"/>
              <a:ext cx="540360" cy="274320"/>
            </a:xfrm>
            <a:custGeom>
              <a:avLst/>
              <a:gdLst/>
              <a:ahLst/>
              <a:rect l="l" t="t" r="r" b="b"/>
              <a:pathLst>
                <a:path w="1517" h="762">
                  <a:moveTo>
                    <a:pt x="203" y="322"/>
                  </a:moveTo>
                  <a:lnTo>
                    <a:pt x="207" y="294"/>
                  </a:lnTo>
                  <a:lnTo>
                    <a:pt x="249" y="289"/>
                  </a:lnTo>
                  <a:lnTo>
                    <a:pt x="261" y="289"/>
                  </a:lnTo>
                  <a:lnTo>
                    <a:pt x="240" y="272"/>
                  </a:lnTo>
                  <a:lnTo>
                    <a:pt x="211" y="264"/>
                  </a:lnTo>
                  <a:lnTo>
                    <a:pt x="211" y="247"/>
                  </a:lnTo>
                  <a:lnTo>
                    <a:pt x="272" y="230"/>
                  </a:lnTo>
                  <a:lnTo>
                    <a:pt x="322" y="226"/>
                  </a:lnTo>
                  <a:lnTo>
                    <a:pt x="357" y="209"/>
                  </a:lnTo>
                  <a:lnTo>
                    <a:pt x="378" y="218"/>
                  </a:lnTo>
                  <a:lnTo>
                    <a:pt x="394" y="193"/>
                  </a:lnTo>
                  <a:lnTo>
                    <a:pt x="433" y="158"/>
                  </a:lnTo>
                  <a:lnTo>
                    <a:pt x="458" y="137"/>
                  </a:lnTo>
                  <a:lnTo>
                    <a:pt x="478" y="124"/>
                  </a:lnTo>
                  <a:lnTo>
                    <a:pt x="517" y="124"/>
                  </a:lnTo>
                  <a:lnTo>
                    <a:pt x="555" y="113"/>
                  </a:lnTo>
                  <a:lnTo>
                    <a:pt x="614" y="93"/>
                  </a:lnTo>
                  <a:lnTo>
                    <a:pt x="626" y="93"/>
                  </a:lnTo>
                  <a:lnTo>
                    <a:pt x="643" y="109"/>
                  </a:lnTo>
                  <a:lnTo>
                    <a:pt x="661" y="122"/>
                  </a:lnTo>
                  <a:lnTo>
                    <a:pt x="686" y="109"/>
                  </a:lnTo>
                  <a:lnTo>
                    <a:pt x="711" y="122"/>
                  </a:lnTo>
                  <a:lnTo>
                    <a:pt x="728" y="133"/>
                  </a:lnTo>
                  <a:lnTo>
                    <a:pt x="749" y="137"/>
                  </a:lnTo>
                  <a:lnTo>
                    <a:pt x="762" y="146"/>
                  </a:lnTo>
                  <a:lnTo>
                    <a:pt x="774" y="129"/>
                  </a:lnTo>
                  <a:lnTo>
                    <a:pt x="812" y="141"/>
                  </a:lnTo>
                  <a:lnTo>
                    <a:pt x="876" y="146"/>
                  </a:lnTo>
                  <a:lnTo>
                    <a:pt x="930" y="137"/>
                  </a:lnTo>
                  <a:lnTo>
                    <a:pt x="955" y="124"/>
                  </a:lnTo>
                  <a:lnTo>
                    <a:pt x="968" y="117"/>
                  </a:lnTo>
                  <a:lnTo>
                    <a:pt x="985" y="106"/>
                  </a:lnTo>
                  <a:lnTo>
                    <a:pt x="1015" y="113"/>
                  </a:lnTo>
                  <a:lnTo>
                    <a:pt x="1040" y="109"/>
                  </a:lnTo>
                  <a:lnTo>
                    <a:pt x="1066" y="89"/>
                  </a:lnTo>
                  <a:lnTo>
                    <a:pt x="1103" y="64"/>
                  </a:lnTo>
                  <a:lnTo>
                    <a:pt x="1108" y="47"/>
                  </a:lnTo>
                  <a:lnTo>
                    <a:pt x="1111" y="30"/>
                  </a:lnTo>
                  <a:lnTo>
                    <a:pt x="1133" y="25"/>
                  </a:lnTo>
                  <a:lnTo>
                    <a:pt x="1154" y="30"/>
                  </a:lnTo>
                  <a:lnTo>
                    <a:pt x="1188" y="30"/>
                  </a:lnTo>
                  <a:lnTo>
                    <a:pt x="1200" y="17"/>
                  </a:lnTo>
                  <a:lnTo>
                    <a:pt x="1217" y="0"/>
                  </a:lnTo>
                  <a:lnTo>
                    <a:pt x="1234" y="5"/>
                  </a:lnTo>
                  <a:lnTo>
                    <a:pt x="1242" y="22"/>
                  </a:lnTo>
                  <a:lnTo>
                    <a:pt x="1289" y="30"/>
                  </a:lnTo>
                  <a:lnTo>
                    <a:pt x="1319" y="97"/>
                  </a:lnTo>
                  <a:lnTo>
                    <a:pt x="1411" y="101"/>
                  </a:lnTo>
                  <a:lnTo>
                    <a:pt x="1440" y="137"/>
                  </a:lnTo>
                  <a:lnTo>
                    <a:pt x="1398" y="193"/>
                  </a:lnTo>
                  <a:lnTo>
                    <a:pt x="1420" y="209"/>
                  </a:lnTo>
                  <a:lnTo>
                    <a:pt x="1415" y="247"/>
                  </a:lnTo>
                  <a:lnTo>
                    <a:pt x="1450" y="260"/>
                  </a:lnTo>
                  <a:lnTo>
                    <a:pt x="1433" y="314"/>
                  </a:lnTo>
                  <a:lnTo>
                    <a:pt x="1458" y="314"/>
                  </a:lnTo>
                  <a:lnTo>
                    <a:pt x="1487" y="322"/>
                  </a:lnTo>
                  <a:lnTo>
                    <a:pt x="1483" y="339"/>
                  </a:lnTo>
                  <a:lnTo>
                    <a:pt x="1492" y="366"/>
                  </a:lnTo>
                  <a:lnTo>
                    <a:pt x="1517" y="391"/>
                  </a:lnTo>
                  <a:lnTo>
                    <a:pt x="1500" y="399"/>
                  </a:lnTo>
                  <a:lnTo>
                    <a:pt x="1479" y="403"/>
                  </a:lnTo>
                  <a:lnTo>
                    <a:pt x="1437" y="411"/>
                  </a:lnTo>
                  <a:lnTo>
                    <a:pt x="1420" y="420"/>
                  </a:lnTo>
                  <a:lnTo>
                    <a:pt x="1398" y="403"/>
                  </a:lnTo>
                  <a:lnTo>
                    <a:pt x="1398" y="416"/>
                  </a:lnTo>
                  <a:lnTo>
                    <a:pt x="1386" y="424"/>
                  </a:lnTo>
                  <a:lnTo>
                    <a:pt x="1365" y="428"/>
                  </a:lnTo>
                  <a:lnTo>
                    <a:pt x="1348" y="408"/>
                  </a:lnTo>
                  <a:lnTo>
                    <a:pt x="1323" y="420"/>
                  </a:lnTo>
                  <a:lnTo>
                    <a:pt x="1331" y="437"/>
                  </a:lnTo>
                  <a:lnTo>
                    <a:pt x="1310" y="437"/>
                  </a:lnTo>
                  <a:lnTo>
                    <a:pt x="1277" y="437"/>
                  </a:lnTo>
                  <a:lnTo>
                    <a:pt x="1264" y="453"/>
                  </a:lnTo>
                  <a:lnTo>
                    <a:pt x="1247" y="450"/>
                  </a:lnTo>
                  <a:lnTo>
                    <a:pt x="1230" y="453"/>
                  </a:lnTo>
                  <a:lnTo>
                    <a:pt x="1230" y="466"/>
                  </a:lnTo>
                  <a:lnTo>
                    <a:pt x="1205" y="492"/>
                  </a:lnTo>
                  <a:lnTo>
                    <a:pt x="1171" y="522"/>
                  </a:lnTo>
                  <a:lnTo>
                    <a:pt x="1116" y="525"/>
                  </a:lnTo>
                  <a:lnTo>
                    <a:pt x="1111" y="542"/>
                  </a:lnTo>
                  <a:lnTo>
                    <a:pt x="1108" y="551"/>
                  </a:lnTo>
                  <a:lnTo>
                    <a:pt x="1078" y="551"/>
                  </a:lnTo>
                  <a:lnTo>
                    <a:pt x="1049" y="559"/>
                  </a:lnTo>
                  <a:lnTo>
                    <a:pt x="1023" y="551"/>
                  </a:lnTo>
                  <a:lnTo>
                    <a:pt x="1010" y="542"/>
                  </a:lnTo>
                  <a:lnTo>
                    <a:pt x="994" y="559"/>
                  </a:lnTo>
                  <a:lnTo>
                    <a:pt x="955" y="576"/>
                  </a:lnTo>
                  <a:lnTo>
                    <a:pt x="909" y="576"/>
                  </a:lnTo>
                  <a:lnTo>
                    <a:pt x="884" y="567"/>
                  </a:lnTo>
                  <a:lnTo>
                    <a:pt x="863" y="589"/>
                  </a:lnTo>
                  <a:lnTo>
                    <a:pt x="867" y="623"/>
                  </a:lnTo>
                  <a:lnTo>
                    <a:pt x="867" y="623"/>
                  </a:lnTo>
                  <a:lnTo>
                    <a:pt x="842" y="669"/>
                  </a:lnTo>
                  <a:lnTo>
                    <a:pt x="821" y="678"/>
                  </a:lnTo>
                  <a:lnTo>
                    <a:pt x="804" y="648"/>
                  </a:lnTo>
                  <a:lnTo>
                    <a:pt x="795" y="636"/>
                  </a:lnTo>
                  <a:lnTo>
                    <a:pt x="804" y="614"/>
                  </a:lnTo>
                  <a:lnTo>
                    <a:pt x="812" y="601"/>
                  </a:lnTo>
                  <a:lnTo>
                    <a:pt x="804" y="593"/>
                  </a:lnTo>
                  <a:lnTo>
                    <a:pt x="791" y="593"/>
                  </a:lnTo>
                  <a:lnTo>
                    <a:pt x="779" y="614"/>
                  </a:lnTo>
                  <a:lnTo>
                    <a:pt x="753" y="636"/>
                  </a:lnTo>
                  <a:lnTo>
                    <a:pt x="728" y="626"/>
                  </a:lnTo>
                  <a:lnTo>
                    <a:pt x="694" y="623"/>
                  </a:lnTo>
                  <a:lnTo>
                    <a:pt x="656" y="673"/>
                  </a:lnTo>
                  <a:lnTo>
                    <a:pt x="643" y="682"/>
                  </a:lnTo>
                  <a:lnTo>
                    <a:pt x="639" y="695"/>
                  </a:lnTo>
                  <a:lnTo>
                    <a:pt x="584" y="712"/>
                  </a:lnTo>
                  <a:lnTo>
                    <a:pt x="572" y="712"/>
                  </a:lnTo>
                  <a:lnTo>
                    <a:pt x="475" y="682"/>
                  </a:lnTo>
                  <a:lnTo>
                    <a:pt x="445" y="678"/>
                  </a:lnTo>
                  <a:lnTo>
                    <a:pt x="411" y="669"/>
                  </a:lnTo>
                  <a:lnTo>
                    <a:pt x="378" y="665"/>
                  </a:lnTo>
                  <a:lnTo>
                    <a:pt x="369" y="686"/>
                  </a:lnTo>
                  <a:lnTo>
                    <a:pt x="364" y="715"/>
                  </a:lnTo>
                  <a:lnTo>
                    <a:pt x="361" y="724"/>
                  </a:lnTo>
                  <a:lnTo>
                    <a:pt x="335" y="732"/>
                  </a:lnTo>
                  <a:lnTo>
                    <a:pt x="331" y="732"/>
                  </a:lnTo>
                  <a:lnTo>
                    <a:pt x="302" y="762"/>
                  </a:lnTo>
                  <a:lnTo>
                    <a:pt x="285" y="762"/>
                  </a:lnTo>
                  <a:lnTo>
                    <a:pt x="277" y="740"/>
                  </a:lnTo>
                  <a:lnTo>
                    <a:pt x="264" y="737"/>
                  </a:lnTo>
                  <a:lnTo>
                    <a:pt x="249" y="724"/>
                  </a:lnTo>
                  <a:lnTo>
                    <a:pt x="245" y="707"/>
                  </a:lnTo>
                  <a:lnTo>
                    <a:pt x="211" y="703"/>
                  </a:lnTo>
                  <a:lnTo>
                    <a:pt x="194" y="695"/>
                  </a:lnTo>
                  <a:lnTo>
                    <a:pt x="190" y="686"/>
                  </a:lnTo>
                  <a:lnTo>
                    <a:pt x="169" y="686"/>
                  </a:lnTo>
                  <a:lnTo>
                    <a:pt x="152" y="669"/>
                  </a:lnTo>
                  <a:lnTo>
                    <a:pt x="148" y="661"/>
                  </a:lnTo>
                  <a:lnTo>
                    <a:pt x="131" y="669"/>
                  </a:lnTo>
                  <a:lnTo>
                    <a:pt x="114" y="665"/>
                  </a:lnTo>
                  <a:lnTo>
                    <a:pt x="106" y="661"/>
                  </a:lnTo>
                  <a:lnTo>
                    <a:pt x="109" y="644"/>
                  </a:lnTo>
                  <a:lnTo>
                    <a:pt x="84" y="626"/>
                  </a:lnTo>
                  <a:lnTo>
                    <a:pt x="89" y="614"/>
                  </a:lnTo>
                  <a:lnTo>
                    <a:pt x="97" y="606"/>
                  </a:lnTo>
                  <a:lnTo>
                    <a:pt x="72" y="589"/>
                  </a:lnTo>
                  <a:lnTo>
                    <a:pt x="8" y="564"/>
                  </a:lnTo>
                  <a:lnTo>
                    <a:pt x="17" y="539"/>
                  </a:lnTo>
                  <a:lnTo>
                    <a:pt x="38" y="539"/>
                  </a:lnTo>
                  <a:lnTo>
                    <a:pt x="47" y="555"/>
                  </a:lnTo>
                  <a:lnTo>
                    <a:pt x="42" y="530"/>
                  </a:lnTo>
                  <a:lnTo>
                    <a:pt x="55" y="509"/>
                  </a:lnTo>
                  <a:lnTo>
                    <a:pt x="64" y="488"/>
                  </a:lnTo>
                  <a:lnTo>
                    <a:pt x="42" y="470"/>
                  </a:lnTo>
                  <a:lnTo>
                    <a:pt x="25" y="453"/>
                  </a:lnTo>
                  <a:lnTo>
                    <a:pt x="25" y="437"/>
                  </a:lnTo>
                  <a:lnTo>
                    <a:pt x="8" y="437"/>
                  </a:lnTo>
                  <a:lnTo>
                    <a:pt x="0" y="433"/>
                  </a:lnTo>
                  <a:lnTo>
                    <a:pt x="5" y="394"/>
                  </a:lnTo>
                  <a:lnTo>
                    <a:pt x="34" y="339"/>
                  </a:lnTo>
                  <a:lnTo>
                    <a:pt x="38" y="339"/>
                  </a:lnTo>
                  <a:lnTo>
                    <a:pt x="64" y="339"/>
                  </a:lnTo>
                  <a:lnTo>
                    <a:pt x="84" y="349"/>
                  </a:lnTo>
                  <a:lnTo>
                    <a:pt x="97" y="349"/>
                  </a:lnTo>
                  <a:lnTo>
                    <a:pt x="97" y="332"/>
                  </a:lnTo>
                  <a:lnTo>
                    <a:pt x="122" y="327"/>
                  </a:lnTo>
                  <a:lnTo>
                    <a:pt x="169" y="327"/>
                  </a:lnTo>
                  <a:lnTo>
                    <a:pt x="203" y="322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5734080" y="3481920"/>
              <a:ext cx="288000" cy="81000"/>
              <a:chOff x="5734080" y="3481920"/>
              <a:chExt cx="288000" cy="81000"/>
            </a:xfrm>
          </p:grpSpPr>
          <p:sp>
            <p:nvSpPr>
              <p:cNvPr id="240" name=""/>
              <p:cNvSpPr/>
              <p:nvPr/>
            </p:nvSpPr>
            <p:spPr>
              <a:xfrm>
                <a:off x="5734080" y="3543120"/>
                <a:ext cx="15480" cy="19800"/>
              </a:xfrm>
              <a:custGeom>
                <a:avLst/>
                <a:gdLst/>
                <a:ahLst/>
                <a:rect l="l" t="t" r="r" b="b"/>
                <a:pathLst>
                  <a:path w="42" h="52">
                    <a:moveTo>
                      <a:pt x="8" y="0"/>
                    </a:moveTo>
                    <a:lnTo>
                      <a:pt x="8" y="14"/>
                    </a:lnTo>
                    <a:lnTo>
                      <a:pt x="0" y="35"/>
                    </a:lnTo>
                    <a:lnTo>
                      <a:pt x="0" y="47"/>
                    </a:lnTo>
                    <a:lnTo>
                      <a:pt x="17" y="47"/>
                    </a:lnTo>
                    <a:lnTo>
                      <a:pt x="30" y="52"/>
                    </a:lnTo>
                    <a:lnTo>
                      <a:pt x="42" y="39"/>
                    </a:lnTo>
                    <a:lnTo>
                      <a:pt x="19" y="1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994000" y="3481920"/>
                <a:ext cx="28080" cy="28800"/>
              </a:xfrm>
              <a:custGeom>
                <a:avLst/>
                <a:gdLst/>
                <a:ahLst/>
                <a:rect l="l" t="t" r="r" b="b"/>
                <a:pathLst>
                  <a:path w="83" h="79">
                    <a:moveTo>
                      <a:pt x="83" y="4"/>
                    </a:moveTo>
                    <a:lnTo>
                      <a:pt x="58" y="37"/>
                    </a:lnTo>
                    <a:lnTo>
                      <a:pt x="62" y="59"/>
                    </a:lnTo>
                    <a:lnTo>
                      <a:pt x="62" y="67"/>
                    </a:lnTo>
                    <a:lnTo>
                      <a:pt x="17" y="79"/>
                    </a:lnTo>
                    <a:lnTo>
                      <a:pt x="4" y="75"/>
                    </a:lnTo>
                    <a:lnTo>
                      <a:pt x="4" y="59"/>
                    </a:lnTo>
                    <a:lnTo>
                      <a:pt x="0" y="42"/>
                    </a:lnTo>
                    <a:lnTo>
                      <a:pt x="20" y="20"/>
                    </a:lnTo>
                    <a:lnTo>
                      <a:pt x="33" y="17"/>
                    </a:lnTo>
                    <a:lnTo>
                      <a:pt x="45" y="0"/>
                    </a:lnTo>
                    <a:lnTo>
                      <a:pt x="83" y="4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2" name=""/>
          <p:cNvGrpSpPr/>
          <p:nvPr/>
        </p:nvGrpSpPr>
        <p:grpSpPr>
          <a:xfrm>
            <a:off x="5214960" y="2612880"/>
            <a:ext cx="216360" cy="428400"/>
            <a:chOff x="5214960" y="2612880"/>
            <a:chExt cx="216360" cy="428400"/>
          </a:xfrm>
        </p:grpSpPr>
        <p:grpSp>
          <p:nvGrpSpPr>
            <p:cNvPr id="243" name=""/>
            <p:cNvGrpSpPr/>
            <p:nvPr/>
          </p:nvGrpSpPr>
          <p:grpSpPr>
            <a:xfrm>
              <a:off x="5214960" y="2612880"/>
              <a:ext cx="216360" cy="428400"/>
              <a:chOff x="5214960" y="2612880"/>
              <a:chExt cx="216360" cy="428400"/>
            </a:xfrm>
          </p:grpSpPr>
          <p:sp>
            <p:nvSpPr>
              <p:cNvPr id="244" name=""/>
              <p:cNvSpPr/>
              <p:nvPr/>
            </p:nvSpPr>
            <p:spPr>
              <a:xfrm>
                <a:off x="5301000" y="2984040"/>
                <a:ext cx="13320" cy="33480"/>
              </a:xfrm>
              <a:custGeom>
                <a:avLst/>
                <a:gdLst/>
                <a:ahLst/>
                <a:rect l="l" t="t" r="r" b="b"/>
                <a:pathLst>
                  <a:path w="42" h="105">
                    <a:moveTo>
                      <a:pt x="42" y="0"/>
                    </a:moveTo>
                    <a:lnTo>
                      <a:pt x="40" y="36"/>
                    </a:lnTo>
                    <a:lnTo>
                      <a:pt x="28" y="63"/>
                    </a:lnTo>
                    <a:lnTo>
                      <a:pt x="8" y="80"/>
                    </a:lnTo>
                    <a:lnTo>
                      <a:pt x="13" y="98"/>
                    </a:lnTo>
                    <a:lnTo>
                      <a:pt x="5" y="105"/>
                    </a:lnTo>
                    <a:lnTo>
                      <a:pt x="0" y="82"/>
                    </a:lnTo>
                    <a:lnTo>
                      <a:pt x="7" y="65"/>
                    </a:lnTo>
                    <a:lnTo>
                      <a:pt x="13" y="4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333760" y="2968200"/>
                <a:ext cx="18720" cy="27000"/>
              </a:xfrm>
              <a:custGeom>
                <a:avLst/>
                <a:gdLst/>
                <a:ahLst/>
                <a:rect l="l" t="t" r="r" b="b"/>
                <a:pathLst>
                  <a:path w="57" h="84">
                    <a:moveTo>
                      <a:pt x="44" y="0"/>
                    </a:moveTo>
                    <a:lnTo>
                      <a:pt x="57" y="0"/>
                    </a:lnTo>
                    <a:lnTo>
                      <a:pt x="42" y="17"/>
                    </a:lnTo>
                    <a:lnTo>
                      <a:pt x="40" y="30"/>
                    </a:lnTo>
                    <a:lnTo>
                      <a:pt x="44" y="47"/>
                    </a:lnTo>
                    <a:lnTo>
                      <a:pt x="29" y="64"/>
                    </a:lnTo>
                    <a:lnTo>
                      <a:pt x="10" y="84"/>
                    </a:lnTo>
                    <a:lnTo>
                      <a:pt x="7" y="64"/>
                    </a:lnTo>
                    <a:lnTo>
                      <a:pt x="0" y="56"/>
                    </a:lnTo>
                    <a:lnTo>
                      <a:pt x="0" y="41"/>
                    </a:lnTo>
                    <a:lnTo>
                      <a:pt x="17" y="2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14960" y="2612880"/>
                <a:ext cx="216360" cy="428400"/>
                <a:chOff x="5214960" y="2612880"/>
                <a:chExt cx="216360" cy="4284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5214960" y="2612880"/>
                  <a:ext cx="216360" cy="428400"/>
                </a:xfrm>
                <a:custGeom>
                  <a:avLst/>
                  <a:gdLst/>
                  <a:ahLst/>
                  <a:rect l="l" t="t" r="r" b="b"/>
                  <a:pathLst>
                    <a:path w="630" h="1349">
                      <a:moveTo>
                        <a:pt x="474" y="0"/>
                      </a:moveTo>
                      <a:lnTo>
                        <a:pt x="482" y="3"/>
                      </a:lnTo>
                      <a:lnTo>
                        <a:pt x="495" y="24"/>
                      </a:lnTo>
                      <a:lnTo>
                        <a:pt x="551" y="78"/>
                      </a:lnTo>
                      <a:lnTo>
                        <a:pt x="559" y="66"/>
                      </a:lnTo>
                      <a:lnTo>
                        <a:pt x="580" y="83"/>
                      </a:lnTo>
                      <a:lnTo>
                        <a:pt x="588" y="100"/>
                      </a:lnTo>
                      <a:lnTo>
                        <a:pt x="588" y="113"/>
                      </a:lnTo>
                      <a:lnTo>
                        <a:pt x="588" y="134"/>
                      </a:lnTo>
                      <a:lnTo>
                        <a:pt x="580" y="147"/>
                      </a:lnTo>
                      <a:lnTo>
                        <a:pt x="596" y="164"/>
                      </a:lnTo>
                      <a:lnTo>
                        <a:pt x="609" y="180"/>
                      </a:lnTo>
                      <a:lnTo>
                        <a:pt x="609" y="193"/>
                      </a:lnTo>
                      <a:lnTo>
                        <a:pt x="609" y="214"/>
                      </a:lnTo>
                      <a:lnTo>
                        <a:pt x="605" y="239"/>
                      </a:lnTo>
                      <a:lnTo>
                        <a:pt x="596" y="248"/>
                      </a:lnTo>
                      <a:lnTo>
                        <a:pt x="609" y="261"/>
                      </a:lnTo>
                      <a:lnTo>
                        <a:pt x="623" y="281"/>
                      </a:lnTo>
                      <a:lnTo>
                        <a:pt x="630" y="303"/>
                      </a:lnTo>
                      <a:lnTo>
                        <a:pt x="630" y="311"/>
                      </a:lnTo>
                      <a:lnTo>
                        <a:pt x="618" y="315"/>
                      </a:lnTo>
                      <a:lnTo>
                        <a:pt x="563" y="315"/>
                      </a:lnTo>
                      <a:lnTo>
                        <a:pt x="551" y="315"/>
                      </a:lnTo>
                      <a:lnTo>
                        <a:pt x="542" y="323"/>
                      </a:lnTo>
                      <a:lnTo>
                        <a:pt x="542" y="340"/>
                      </a:lnTo>
                      <a:lnTo>
                        <a:pt x="534" y="353"/>
                      </a:lnTo>
                      <a:lnTo>
                        <a:pt x="509" y="375"/>
                      </a:lnTo>
                      <a:lnTo>
                        <a:pt x="512" y="392"/>
                      </a:lnTo>
                      <a:lnTo>
                        <a:pt x="509" y="404"/>
                      </a:lnTo>
                      <a:lnTo>
                        <a:pt x="500" y="412"/>
                      </a:lnTo>
                      <a:lnTo>
                        <a:pt x="509" y="438"/>
                      </a:lnTo>
                      <a:lnTo>
                        <a:pt x="512" y="454"/>
                      </a:lnTo>
                      <a:lnTo>
                        <a:pt x="504" y="467"/>
                      </a:lnTo>
                      <a:lnTo>
                        <a:pt x="487" y="480"/>
                      </a:lnTo>
                      <a:lnTo>
                        <a:pt x="482" y="496"/>
                      </a:lnTo>
                      <a:lnTo>
                        <a:pt x="479" y="518"/>
                      </a:lnTo>
                      <a:lnTo>
                        <a:pt x="449" y="531"/>
                      </a:lnTo>
                      <a:lnTo>
                        <a:pt x="432" y="543"/>
                      </a:lnTo>
                      <a:lnTo>
                        <a:pt x="407" y="560"/>
                      </a:lnTo>
                      <a:lnTo>
                        <a:pt x="411" y="573"/>
                      </a:lnTo>
                      <a:lnTo>
                        <a:pt x="390" y="577"/>
                      </a:lnTo>
                      <a:lnTo>
                        <a:pt x="381" y="585"/>
                      </a:lnTo>
                      <a:lnTo>
                        <a:pt x="361" y="615"/>
                      </a:lnTo>
                      <a:lnTo>
                        <a:pt x="344" y="627"/>
                      </a:lnTo>
                      <a:lnTo>
                        <a:pt x="348" y="649"/>
                      </a:lnTo>
                      <a:lnTo>
                        <a:pt x="338" y="655"/>
                      </a:lnTo>
                      <a:lnTo>
                        <a:pt x="329" y="664"/>
                      </a:lnTo>
                      <a:lnTo>
                        <a:pt x="338" y="697"/>
                      </a:lnTo>
                      <a:lnTo>
                        <a:pt x="333" y="718"/>
                      </a:lnTo>
                      <a:lnTo>
                        <a:pt x="312" y="731"/>
                      </a:lnTo>
                      <a:lnTo>
                        <a:pt x="308" y="765"/>
                      </a:lnTo>
                      <a:lnTo>
                        <a:pt x="312" y="807"/>
                      </a:lnTo>
                      <a:lnTo>
                        <a:pt x="321" y="828"/>
                      </a:lnTo>
                      <a:lnTo>
                        <a:pt x="352" y="854"/>
                      </a:lnTo>
                      <a:lnTo>
                        <a:pt x="364" y="879"/>
                      </a:lnTo>
                      <a:lnTo>
                        <a:pt x="378" y="904"/>
                      </a:lnTo>
                      <a:lnTo>
                        <a:pt x="386" y="921"/>
                      </a:lnTo>
                      <a:lnTo>
                        <a:pt x="378" y="938"/>
                      </a:lnTo>
                      <a:lnTo>
                        <a:pt x="361" y="951"/>
                      </a:lnTo>
                      <a:lnTo>
                        <a:pt x="348" y="946"/>
                      </a:lnTo>
                      <a:lnTo>
                        <a:pt x="338" y="934"/>
                      </a:lnTo>
                      <a:lnTo>
                        <a:pt x="321" y="938"/>
                      </a:lnTo>
                      <a:lnTo>
                        <a:pt x="316" y="951"/>
                      </a:lnTo>
                      <a:lnTo>
                        <a:pt x="291" y="951"/>
                      </a:lnTo>
                      <a:lnTo>
                        <a:pt x="252" y="946"/>
                      </a:lnTo>
                      <a:lnTo>
                        <a:pt x="244" y="955"/>
                      </a:lnTo>
                      <a:lnTo>
                        <a:pt x="270" y="968"/>
                      </a:lnTo>
                      <a:lnTo>
                        <a:pt x="304" y="955"/>
                      </a:lnTo>
                      <a:lnTo>
                        <a:pt x="312" y="971"/>
                      </a:lnTo>
                      <a:lnTo>
                        <a:pt x="338" y="976"/>
                      </a:lnTo>
                      <a:lnTo>
                        <a:pt x="356" y="984"/>
                      </a:lnTo>
                      <a:lnTo>
                        <a:pt x="348" y="993"/>
                      </a:lnTo>
                      <a:lnTo>
                        <a:pt x="324" y="988"/>
                      </a:lnTo>
                      <a:lnTo>
                        <a:pt x="321" y="998"/>
                      </a:lnTo>
                      <a:lnTo>
                        <a:pt x="324" y="1010"/>
                      </a:lnTo>
                      <a:lnTo>
                        <a:pt x="312" y="1027"/>
                      </a:lnTo>
                      <a:lnTo>
                        <a:pt x="291" y="1043"/>
                      </a:lnTo>
                      <a:lnTo>
                        <a:pt x="282" y="1048"/>
                      </a:lnTo>
                      <a:lnTo>
                        <a:pt x="274" y="1052"/>
                      </a:lnTo>
                      <a:lnTo>
                        <a:pt x="279" y="1073"/>
                      </a:lnTo>
                      <a:lnTo>
                        <a:pt x="270" y="1085"/>
                      </a:lnTo>
                      <a:lnTo>
                        <a:pt x="257" y="1111"/>
                      </a:lnTo>
                      <a:lnTo>
                        <a:pt x="262" y="1136"/>
                      </a:lnTo>
                      <a:lnTo>
                        <a:pt x="252" y="1174"/>
                      </a:lnTo>
                      <a:lnTo>
                        <a:pt x="244" y="1191"/>
                      </a:lnTo>
                      <a:lnTo>
                        <a:pt x="244" y="1216"/>
                      </a:lnTo>
                      <a:lnTo>
                        <a:pt x="232" y="1233"/>
                      </a:lnTo>
                      <a:lnTo>
                        <a:pt x="215" y="1263"/>
                      </a:lnTo>
                      <a:lnTo>
                        <a:pt x="210" y="1285"/>
                      </a:lnTo>
                      <a:lnTo>
                        <a:pt x="181" y="1280"/>
                      </a:lnTo>
                      <a:lnTo>
                        <a:pt x="151" y="1280"/>
                      </a:lnTo>
                      <a:lnTo>
                        <a:pt x="148" y="1292"/>
                      </a:lnTo>
                      <a:lnTo>
                        <a:pt x="131" y="1297"/>
                      </a:lnTo>
                      <a:lnTo>
                        <a:pt x="122" y="1302"/>
                      </a:lnTo>
                      <a:lnTo>
                        <a:pt x="126" y="1315"/>
                      </a:lnTo>
                      <a:lnTo>
                        <a:pt x="122" y="1337"/>
                      </a:lnTo>
                      <a:lnTo>
                        <a:pt x="101" y="1349"/>
                      </a:lnTo>
                      <a:lnTo>
                        <a:pt x="88" y="1337"/>
                      </a:lnTo>
                      <a:lnTo>
                        <a:pt x="71" y="1349"/>
                      </a:lnTo>
                      <a:lnTo>
                        <a:pt x="50" y="1349"/>
                      </a:lnTo>
                      <a:lnTo>
                        <a:pt x="42" y="1337"/>
                      </a:lnTo>
                      <a:lnTo>
                        <a:pt x="50" y="1328"/>
                      </a:lnTo>
                      <a:lnTo>
                        <a:pt x="54" y="1305"/>
                      </a:lnTo>
                      <a:lnTo>
                        <a:pt x="37" y="1272"/>
                      </a:lnTo>
                      <a:lnTo>
                        <a:pt x="29" y="1255"/>
                      </a:lnTo>
                      <a:lnTo>
                        <a:pt x="34" y="1246"/>
                      </a:lnTo>
                      <a:lnTo>
                        <a:pt x="42" y="1246"/>
                      </a:lnTo>
                      <a:lnTo>
                        <a:pt x="46" y="1238"/>
                      </a:lnTo>
                      <a:lnTo>
                        <a:pt x="50" y="1229"/>
                      </a:lnTo>
                      <a:lnTo>
                        <a:pt x="54" y="1221"/>
                      </a:lnTo>
                      <a:lnTo>
                        <a:pt x="50" y="1213"/>
                      </a:lnTo>
                      <a:lnTo>
                        <a:pt x="42" y="1196"/>
                      </a:lnTo>
                      <a:lnTo>
                        <a:pt x="25" y="1171"/>
                      </a:lnTo>
                      <a:lnTo>
                        <a:pt x="29" y="1144"/>
                      </a:lnTo>
                      <a:lnTo>
                        <a:pt x="17" y="1124"/>
                      </a:lnTo>
                      <a:lnTo>
                        <a:pt x="4" y="1111"/>
                      </a:lnTo>
                      <a:lnTo>
                        <a:pt x="12" y="1090"/>
                      </a:lnTo>
                      <a:lnTo>
                        <a:pt x="21" y="1048"/>
                      </a:lnTo>
                      <a:lnTo>
                        <a:pt x="4" y="1027"/>
                      </a:lnTo>
                      <a:lnTo>
                        <a:pt x="0" y="1005"/>
                      </a:lnTo>
                      <a:lnTo>
                        <a:pt x="0" y="993"/>
                      </a:lnTo>
                      <a:lnTo>
                        <a:pt x="8" y="968"/>
                      </a:lnTo>
                      <a:lnTo>
                        <a:pt x="21" y="971"/>
                      </a:lnTo>
                      <a:lnTo>
                        <a:pt x="34" y="938"/>
                      </a:lnTo>
                      <a:lnTo>
                        <a:pt x="34" y="900"/>
                      </a:lnTo>
                      <a:lnTo>
                        <a:pt x="37" y="887"/>
                      </a:lnTo>
                      <a:lnTo>
                        <a:pt x="54" y="875"/>
                      </a:lnTo>
                      <a:lnTo>
                        <a:pt x="79" y="857"/>
                      </a:lnTo>
                      <a:lnTo>
                        <a:pt x="79" y="837"/>
                      </a:lnTo>
                      <a:lnTo>
                        <a:pt x="76" y="773"/>
                      </a:lnTo>
                      <a:lnTo>
                        <a:pt x="67" y="765"/>
                      </a:lnTo>
                      <a:lnTo>
                        <a:pt x="67" y="748"/>
                      </a:lnTo>
                      <a:lnTo>
                        <a:pt x="88" y="739"/>
                      </a:lnTo>
                      <a:lnTo>
                        <a:pt x="96" y="731"/>
                      </a:lnTo>
                      <a:lnTo>
                        <a:pt x="84" y="706"/>
                      </a:lnTo>
                      <a:lnTo>
                        <a:pt x="67" y="681"/>
                      </a:lnTo>
                      <a:lnTo>
                        <a:pt x="71" y="652"/>
                      </a:lnTo>
                      <a:lnTo>
                        <a:pt x="76" y="632"/>
                      </a:lnTo>
                      <a:lnTo>
                        <a:pt x="93" y="594"/>
                      </a:lnTo>
                      <a:lnTo>
                        <a:pt x="93" y="577"/>
                      </a:lnTo>
                      <a:lnTo>
                        <a:pt x="93" y="543"/>
                      </a:lnTo>
                      <a:lnTo>
                        <a:pt x="106" y="513"/>
                      </a:lnTo>
                      <a:lnTo>
                        <a:pt x="126" y="496"/>
                      </a:lnTo>
                      <a:lnTo>
                        <a:pt x="148" y="484"/>
                      </a:lnTo>
                      <a:lnTo>
                        <a:pt x="168" y="488"/>
                      </a:lnTo>
                      <a:lnTo>
                        <a:pt x="190" y="496"/>
                      </a:lnTo>
                      <a:lnTo>
                        <a:pt x="198" y="467"/>
                      </a:lnTo>
                      <a:lnTo>
                        <a:pt x="190" y="442"/>
                      </a:lnTo>
                      <a:lnTo>
                        <a:pt x="181" y="425"/>
                      </a:lnTo>
                      <a:lnTo>
                        <a:pt x="177" y="412"/>
                      </a:lnTo>
                      <a:lnTo>
                        <a:pt x="181" y="400"/>
                      </a:lnTo>
                      <a:lnTo>
                        <a:pt x="194" y="395"/>
                      </a:lnTo>
                      <a:lnTo>
                        <a:pt x="198" y="367"/>
                      </a:lnTo>
                      <a:lnTo>
                        <a:pt x="207" y="340"/>
                      </a:lnTo>
                      <a:lnTo>
                        <a:pt x="210" y="320"/>
                      </a:lnTo>
                      <a:lnTo>
                        <a:pt x="210" y="298"/>
                      </a:lnTo>
                      <a:lnTo>
                        <a:pt x="223" y="278"/>
                      </a:lnTo>
                      <a:lnTo>
                        <a:pt x="249" y="261"/>
                      </a:lnTo>
                      <a:lnTo>
                        <a:pt x="266" y="256"/>
                      </a:lnTo>
                      <a:lnTo>
                        <a:pt x="266" y="236"/>
                      </a:lnTo>
                      <a:lnTo>
                        <a:pt x="274" y="222"/>
                      </a:lnTo>
                      <a:lnTo>
                        <a:pt x="291" y="201"/>
                      </a:lnTo>
                      <a:lnTo>
                        <a:pt x="308" y="189"/>
                      </a:lnTo>
                      <a:lnTo>
                        <a:pt x="299" y="152"/>
                      </a:lnTo>
                      <a:lnTo>
                        <a:pt x="331" y="117"/>
                      </a:lnTo>
                      <a:lnTo>
                        <a:pt x="338" y="102"/>
                      </a:lnTo>
                      <a:lnTo>
                        <a:pt x="361" y="98"/>
                      </a:lnTo>
                      <a:lnTo>
                        <a:pt x="375" y="78"/>
                      </a:lnTo>
                      <a:lnTo>
                        <a:pt x="375" y="66"/>
                      </a:lnTo>
                      <a:lnTo>
                        <a:pt x="390" y="51"/>
                      </a:lnTo>
                      <a:lnTo>
                        <a:pt x="418" y="48"/>
                      </a:lnTo>
                      <a:lnTo>
                        <a:pt x="449" y="48"/>
                      </a:lnTo>
                      <a:lnTo>
                        <a:pt x="474" y="24"/>
                      </a:lnTo>
                      <a:lnTo>
                        <a:pt x="470" y="0"/>
                      </a:lnTo>
                      <a:lnTo>
                        <a:pt x="474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214960" y="2612880"/>
                  <a:ext cx="216360" cy="428400"/>
                </a:xfrm>
                <a:custGeom>
                  <a:avLst/>
                  <a:gdLst/>
                  <a:ahLst/>
                  <a:rect l="l" t="t" r="r" b="b"/>
                  <a:pathLst>
                    <a:path w="630" h="1349">
                      <a:moveTo>
                        <a:pt x="474" y="0"/>
                      </a:moveTo>
                      <a:lnTo>
                        <a:pt x="482" y="3"/>
                      </a:lnTo>
                      <a:lnTo>
                        <a:pt x="495" y="24"/>
                      </a:lnTo>
                      <a:lnTo>
                        <a:pt x="551" y="78"/>
                      </a:lnTo>
                      <a:lnTo>
                        <a:pt x="559" y="66"/>
                      </a:lnTo>
                      <a:lnTo>
                        <a:pt x="580" y="83"/>
                      </a:lnTo>
                      <a:lnTo>
                        <a:pt x="588" y="100"/>
                      </a:lnTo>
                      <a:lnTo>
                        <a:pt x="588" y="113"/>
                      </a:lnTo>
                      <a:lnTo>
                        <a:pt x="588" y="134"/>
                      </a:lnTo>
                      <a:lnTo>
                        <a:pt x="580" y="147"/>
                      </a:lnTo>
                      <a:lnTo>
                        <a:pt x="596" y="164"/>
                      </a:lnTo>
                      <a:lnTo>
                        <a:pt x="609" y="180"/>
                      </a:lnTo>
                      <a:lnTo>
                        <a:pt x="609" y="193"/>
                      </a:lnTo>
                      <a:lnTo>
                        <a:pt x="609" y="214"/>
                      </a:lnTo>
                      <a:lnTo>
                        <a:pt x="605" y="239"/>
                      </a:lnTo>
                      <a:lnTo>
                        <a:pt x="596" y="248"/>
                      </a:lnTo>
                      <a:lnTo>
                        <a:pt x="609" y="261"/>
                      </a:lnTo>
                      <a:lnTo>
                        <a:pt x="623" y="281"/>
                      </a:lnTo>
                      <a:lnTo>
                        <a:pt x="630" y="303"/>
                      </a:lnTo>
                      <a:lnTo>
                        <a:pt x="630" y="311"/>
                      </a:lnTo>
                      <a:lnTo>
                        <a:pt x="618" y="315"/>
                      </a:lnTo>
                      <a:lnTo>
                        <a:pt x="563" y="315"/>
                      </a:lnTo>
                      <a:lnTo>
                        <a:pt x="551" y="315"/>
                      </a:lnTo>
                      <a:lnTo>
                        <a:pt x="542" y="323"/>
                      </a:lnTo>
                      <a:lnTo>
                        <a:pt x="542" y="340"/>
                      </a:lnTo>
                      <a:lnTo>
                        <a:pt x="534" y="353"/>
                      </a:lnTo>
                      <a:lnTo>
                        <a:pt x="509" y="375"/>
                      </a:lnTo>
                      <a:lnTo>
                        <a:pt x="512" y="392"/>
                      </a:lnTo>
                      <a:lnTo>
                        <a:pt x="509" y="404"/>
                      </a:lnTo>
                      <a:lnTo>
                        <a:pt x="500" y="412"/>
                      </a:lnTo>
                      <a:lnTo>
                        <a:pt x="509" y="438"/>
                      </a:lnTo>
                      <a:lnTo>
                        <a:pt x="512" y="454"/>
                      </a:lnTo>
                      <a:lnTo>
                        <a:pt x="504" y="467"/>
                      </a:lnTo>
                      <a:lnTo>
                        <a:pt x="487" y="480"/>
                      </a:lnTo>
                      <a:lnTo>
                        <a:pt x="482" y="496"/>
                      </a:lnTo>
                      <a:lnTo>
                        <a:pt x="479" y="518"/>
                      </a:lnTo>
                      <a:lnTo>
                        <a:pt x="449" y="531"/>
                      </a:lnTo>
                      <a:lnTo>
                        <a:pt x="432" y="543"/>
                      </a:lnTo>
                      <a:lnTo>
                        <a:pt x="407" y="560"/>
                      </a:lnTo>
                      <a:lnTo>
                        <a:pt x="411" y="573"/>
                      </a:lnTo>
                      <a:lnTo>
                        <a:pt x="390" y="577"/>
                      </a:lnTo>
                      <a:lnTo>
                        <a:pt x="381" y="585"/>
                      </a:lnTo>
                      <a:lnTo>
                        <a:pt x="361" y="615"/>
                      </a:lnTo>
                      <a:lnTo>
                        <a:pt x="344" y="627"/>
                      </a:lnTo>
                      <a:lnTo>
                        <a:pt x="348" y="649"/>
                      </a:lnTo>
                      <a:lnTo>
                        <a:pt x="338" y="655"/>
                      </a:lnTo>
                      <a:lnTo>
                        <a:pt x="329" y="664"/>
                      </a:lnTo>
                      <a:lnTo>
                        <a:pt x="338" y="697"/>
                      </a:lnTo>
                      <a:lnTo>
                        <a:pt x="333" y="718"/>
                      </a:lnTo>
                      <a:lnTo>
                        <a:pt x="312" y="731"/>
                      </a:lnTo>
                      <a:lnTo>
                        <a:pt x="308" y="765"/>
                      </a:lnTo>
                      <a:lnTo>
                        <a:pt x="312" y="807"/>
                      </a:lnTo>
                      <a:lnTo>
                        <a:pt x="321" y="828"/>
                      </a:lnTo>
                      <a:lnTo>
                        <a:pt x="352" y="854"/>
                      </a:lnTo>
                      <a:lnTo>
                        <a:pt x="364" y="879"/>
                      </a:lnTo>
                      <a:lnTo>
                        <a:pt x="378" y="904"/>
                      </a:lnTo>
                      <a:lnTo>
                        <a:pt x="386" y="921"/>
                      </a:lnTo>
                      <a:lnTo>
                        <a:pt x="378" y="938"/>
                      </a:lnTo>
                      <a:lnTo>
                        <a:pt x="361" y="951"/>
                      </a:lnTo>
                      <a:lnTo>
                        <a:pt x="348" y="946"/>
                      </a:lnTo>
                      <a:lnTo>
                        <a:pt x="338" y="934"/>
                      </a:lnTo>
                      <a:lnTo>
                        <a:pt x="321" y="938"/>
                      </a:lnTo>
                      <a:lnTo>
                        <a:pt x="316" y="951"/>
                      </a:lnTo>
                      <a:lnTo>
                        <a:pt x="291" y="951"/>
                      </a:lnTo>
                      <a:lnTo>
                        <a:pt x="252" y="946"/>
                      </a:lnTo>
                      <a:lnTo>
                        <a:pt x="244" y="955"/>
                      </a:lnTo>
                      <a:lnTo>
                        <a:pt x="270" y="968"/>
                      </a:lnTo>
                      <a:lnTo>
                        <a:pt x="304" y="955"/>
                      </a:lnTo>
                      <a:lnTo>
                        <a:pt x="312" y="971"/>
                      </a:lnTo>
                      <a:lnTo>
                        <a:pt x="338" y="976"/>
                      </a:lnTo>
                      <a:lnTo>
                        <a:pt x="356" y="984"/>
                      </a:lnTo>
                      <a:lnTo>
                        <a:pt x="348" y="993"/>
                      </a:lnTo>
                      <a:lnTo>
                        <a:pt x="324" y="988"/>
                      </a:lnTo>
                      <a:lnTo>
                        <a:pt x="321" y="998"/>
                      </a:lnTo>
                      <a:lnTo>
                        <a:pt x="324" y="1010"/>
                      </a:lnTo>
                      <a:lnTo>
                        <a:pt x="312" y="1027"/>
                      </a:lnTo>
                      <a:lnTo>
                        <a:pt x="291" y="1043"/>
                      </a:lnTo>
                      <a:lnTo>
                        <a:pt x="282" y="1048"/>
                      </a:lnTo>
                      <a:lnTo>
                        <a:pt x="274" y="1052"/>
                      </a:lnTo>
                      <a:lnTo>
                        <a:pt x="279" y="1073"/>
                      </a:lnTo>
                      <a:lnTo>
                        <a:pt x="270" y="1085"/>
                      </a:lnTo>
                      <a:lnTo>
                        <a:pt x="257" y="1111"/>
                      </a:lnTo>
                      <a:lnTo>
                        <a:pt x="262" y="1136"/>
                      </a:lnTo>
                      <a:lnTo>
                        <a:pt x="252" y="1174"/>
                      </a:lnTo>
                      <a:lnTo>
                        <a:pt x="244" y="1191"/>
                      </a:lnTo>
                      <a:lnTo>
                        <a:pt x="244" y="1216"/>
                      </a:lnTo>
                      <a:lnTo>
                        <a:pt x="232" y="1233"/>
                      </a:lnTo>
                      <a:lnTo>
                        <a:pt x="215" y="1263"/>
                      </a:lnTo>
                      <a:lnTo>
                        <a:pt x="210" y="1285"/>
                      </a:lnTo>
                      <a:lnTo>
                        <a:pt x="181" y="1280"/>
                      </a:lnTo>
                      <a:lnTo>
                        <a:pt x="151" y="1280"/>
                      </a:lnTo>
                      <a:lnTo>
                        <a:pt x="148" y="1292"/>
                      </a:lnTo>
                      <a:lnTo>
                        <a:pt x="131" y="1297"/>
                      </a:lnTo>
                      <a:lnTo>
                        <a:pt x="122" y="1302"/>
                      </a:lnTo>
                      <a:lnTo>
                        <a:pt x="126" y="1315"/>
                      </a:lnTo>
                      <a:lnTo>
                        <a:pt x="122" y="1337"/>
                      </a:lnTo>
                      <a:lnTo>
                        <a:pt x="101" y="1349"/>
                      </a:lnTo>
                      <a:lnTo>
                        <a:pt x="88" y="1337"/>
                      </a:lnTo>
                      <a:lnTo>
                        <a:pt x="71" y="1349"/>
                      </a:lnTo>
                      <a:lnTo>
                        <a:pt x="50" y="1349"/>
                      </a:lnTo>
                      <a:lnTo>
                        <a:pt x="42" y="1337"/>
                      </a:lnTo>
                      <a:lnTo>
                        <a:pt x="50" y="1328"/>
                      </a:lnTo>
                      <a:lnTo>
                        <a:pt x="54" y="1305"/>
                      </a:lnTo>
                      <a:lnTo>
                        <a:pt x="37" y="1272"/>
                      </a:lnTo>
                      <a:lnTo>
                        <a:pt x="29" y="1255"/>
                      </a:lnTo>
                      <a:lnTo>
                        <a:pt x="34" y="1246"/>
                      </a:lnTo>
                      <a:lnTo>
                        <a:pt x="42" y="1246"/>
                      </a:lnTo>
                      <a:lnTo>
                        <a:pt x="46" y="1238"/>
                      </a:lnTo>
                      <a:lnTo>
                        <a:pt x="50" y="1229"/>
                      </a:lnTo>
                      <a:lnTo>
                        <a:pt x="54" y="1221"/>
                      </a:lnTo>
                      <a:lnTo>
                        <a:pt x="50" y="1213"/>
                      </a:lnTo>
                      <a:lnTo>
                        <a:pt x="42" y="1196"/>
                      </a:lnTo>
                      <a:lnTo>
                        <a:pt x="25" y="1171"/>
                      </a:lnTo>
                      <a:lnTo>
                        <a:pt x="29" y="1144"/>
                      </a:lnTo>
                      <a:lnTo>
                        <a:pt x="17" y="1124"/>
                      </a:lnTo>
                      <a:lnTo>
                        <a:pt x="4" y="1111"/>
                      </a:lnTo>
                      <a:lnTo>
                        <a:pt x="12" y="1090"/>
                      </a:lnTo>
                      <a:lnTo>
                        <a:pt x="21" y="1048"/>
                      </a:lnTo>
                      <a:lnTo>
                        <a:pt x="4" y="1027"/>
                      </a:lnTo>
                      <a:lnTo>
                        <a:pt x="0" y="1005"/>
                      </a:lnTo>
                      <a:lnTo>
                        <a:pt x="0" y="993"/>
                      </a:lnTo>
                      <a:lnTo>
                        <a:pt x="8" y="968"/>
                      </a:lnTo>
                      <a:lnTo>
                        <a:pt x="21" y="971"/>
                      </a:lnTo>
                      <a:lnTo>
                        <a:pt x="34" y="938"/>
                      </a:lnTo>
                      <a:lnTo>
                        <a:pt x="34" y="900"/>
                      </a:lnTo>
                      <a:lnTo>
                        <a:pt x="37" y="887"/>
                      </a:lnTo>
                      <a:lnTo>
                        <a:pt x="54" y="875"/>
                      </a:lnTo>
                      <a:lnTo>
                        <a:pt x="79" y="857"/>
                      </a:lnTo>
                      <a:lnTo>
                        <a:pt x="79" y="837"/>
                      </a:lnTo>
                      <a:lnTo>
                        <a:pt x="76" y="773"/>
                      </a:lnTo>
                      <a:lnTo>
                        <a:pt x="67" y="765"/>
                      </a:lnTo>
                      <a:lnTo>
                        <a:pt x="67" y="748"/>
                      </a:lnTo>
                      <a:lnTo>
                        <a:pt x="88" y="739"/>
                      </a:lnTo>
                      <a:lnTo>
                        <a:pt x="96" y="731"/>
                      </a:lnTo>
                      <a:lnTo>
                        <a:pt x="84" y="706"/>
                      </a:lnTo>
                      <a:lnTo>
                        <a:pt x="67" y="681"/>
                      </a:lnTo>
                      <a:lnTo>
                        <a:pt x="71" y="652"/>
                      </a:lnTo>
                      <a:lnTo>
                        <a:pt x="76" y="632"/>
                      </a:lnTo>
                      <a:lnTo>
                        <a:pt x="93" y="594"/>
                      </a:lnTo>
                      <a:lnTo>
                        <a:pt x="93" y="577"/>
                      </a:lnTo>
                      <a:lnTo>
                        <a:pt x="93" y="543"/>
                      </a:lnTo>
                      <a:lnTo>
                        <a:pt x="106" y="513"/>
                      </a:lnTo>
                      <a:lnTo>
                        <a:pt x="126" y="496"/>
                      </a:lnTo>
                      <a:lnTo>
                        <a:pt x="148" y="484"/>
                      </a:lnTo>
                      <a:lnTo>
                        <a:pt x="168" y="488"/>
                      </a:lnTo>
                      <a:lnTo>
                        <a:pt x="190" y="496"/>
                      </a:lnTo>
                      <a:lnTo>
                        <a:pt x="198" y="467"/>
                      </a:lnTo>
                      <a:lnTo>
                        <a:pt x="190" y="442"/>
                      </a:lnTo>
                      <a:lnTo>
                        <a:pt x="181" y="425"/>
                      </a:lnTo>
                      <a:lnTo>
                        <a:pt x="177" y="412"/>
                      </a:lnTo>
                      <a:lnTo>
                        <a:pt x="181" y="400"/>
                      </a:lnTo>
                      <a:lnTo>
                        <a:pt x="194" y="395"/>
                      </a:lnTo>
                      <a:lnTo>
                        <a:pt x="198" y="367"/>
                      </a:lnTo>
                      <a:lnTo>
                        <a:pt x="207" y="340"/>
                      </a:lnTo>
                      <a:lnTo>
                        <a:pt x="210" y="320"/>
                      </a:lnTo>
                      <a:lnTo>
                        <a:pt x="210" y="298"/>
                      </a:lnTo>
                      <a:lnTo>
                        <a:pt x="223" y="278"/>
                      </a:lnTo>
                      <a:lnTo>
                        <a:pt x="249" y="261"/>
                      </a:lnTo>
                      <a:lnTo>
                        <a:pt x="266" y="256"/>
                      </a:lnTo>
                      <a:lnTo>
                        <a:pt x="266" y="236"/>
                      </a:lnTo>
                      <a:lnTo>
                        <a:pt x="274" y="222"/>
                      </a:lnTo>
                      <a:lnTo>
                        <a:pt x="291" y="201"/>
                      </a:lnTo>
                      <a:lnTo>
                        <a:pt x="308" y="189"/>
                      </a:lnTo>
                      <a:lnTo>
                        <a:pt x="299" y="152"/>
                      </a:lnTo>
                      <a:lnTo>
                        <a:pt x="331" y="117"/>
                      </a:lnTo>
                      <a:lnTo>
                        <a:pt x="338" y="102"/>
                      </a:lnTo>
                      <a:lnTo>
                        <a:pt x="361" y="98"/>
                      </a:lnTo>
                      <a:lnTo>
                        <a:pt x="375" y="78"/>
                      </a:lnTo>
                      <a:lnTo>
                        <a:pt x="375" y="66"/>
                      </a:lnTo>
                      <a:lnTo>
                        <a:pt x="390" y="51"/>
                      </a:lnTo>
                      <a:lnTo>
                        <a:pt x="418" y="48"/>
                      </a:lnTo>
                      <a:lnTo>
                        <a:pt x="449" y="48"/>
                      </a:lnTo>
                      <a:lnTo>
                        <a:pt x="474" y="24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ff33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9" name=""/>
            <p:cNvGrpSpPr/>
            <p:nvPr/>
          </p:nvGrpSpPr>
          <p:grpSpPr>
            <a:xfrm>
              <a:off x="5234040" y="2914200"/>
              <a:ext cx="49320" cy="49320"/>
              <a:chOff x="5234040" y="2914200"/>
              <a:chExt cx="49320" cy="4932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5259600" y="2928600"/>
                <a:ext cx="23760" cy="34920"/>
                <a:chOff x="5259600" y="2928600"/>
                <a:chExt cx="23760" cy="349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5259600" y="2928600"/>
                  <a:ext cx="23760" cy="34920"/>
                </a:xfrm>
                <a:custGeom>
                  <a:avLst/>
                  <a:gdLst/>
                  <a:ahLst/>
                  <a:rect l="l" t="t" r="r" b="b"/>
                  <a:pathLst>
                    <a:path w="68" h="110">
                      <a:moveTo>
                        <a:pt x="60" y="0"/>
                      </a:moveTo>
                      <a:lnTo>
                        <a:pt x="60" y="19"/>
                      </a:lnTo>
                      <a:lnTo>
                        <a:pt x="68" y="36"/>
                      </a:lnTo>
                      <a:lnTo>
                        <a:pt x="60" y="56"/>
                      </a:lnTo>
                      <a:lnTo>
                        <a:pt x="49" y="72"/>
                      </a:lnTo>
                      <a:lnTo>
                        <a:pt x="27" y="91"/>
                      </a:lnTo>
                      <a:lnTo>
                        <a:pt x="10" y="110"/>
                      </a:lnTo>
                      <a:lnTo>
                        <a:pt x="0" y="91"/>
                      </a:lnTo>
                      <a:lnTo>
                        <a:pt x="7" y="83"/>
                      </a:lnTo>
                      <a:lnTo>
                        <a:pt x="27" y="61"/>
                      </a:lnTo>
                      <a:lnTo>
                        <a:pt x="26" y="49"/>
                      </a:lnTo>
                      <a:lnTo>
                        <a:pt x="36" y="32"/>
                      </a:lnTo>
                      <a:lnTo>
                        <a:pt x="61" y="10"/>
                      </a:lnTo>
                      <a:lnTo>
                        <a:pt x="61" y="17"/>
                      </a:lnTo>
                      <a:lnTo>
                        <a:pt x="66" y="27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259600" y="2928600"/>
                  <a:ext cx="23760" cy="34920"/>
                </a:xfrm>
                <a:custGeom>
                  <a:avLst/>
                  <a:gdLst/>
                  <a:ahLst/>
                  <a:rect l="l" t="t" r="r" b="b"/>
                  <a:pathLst>
                    <a:path w="68" h="110">
                      <a:moveTo>
                        <a:pt x="60" y="0"/>
                      </a:moveTo>
                      <a:lnTo>
                        <a:pt x="60" y="19"/>
                      </a:lnTo>
                      <a:lnTo>
                        <a:pt x="68" y="36"/>
                      </a:lnTo>
                      <a:lnTo>
                        <a:pt x="60" y="56"/>
                      </a:lnTo>
                      <a:lnTo>
                        <a:pt x="49" y="72"/>
                      </a:lnTo>
                      <a:lnTo>
                        <a:pt x="27" y="91"/>
                      </a:lnTo>
                      <a:lnTo>
                        <a:pt x="10" y="110"/>
                      </a:lnTo>
                      <a:lnTo>
                        <a:pt x="0" y="91"/>
                      </a:lnTo>
                      <a:lnTo>
                        <a:pt x="7" y="83"/>
                      </a:lnTo>
                      <a:lnTo>
                        <a:pt x="27" y="61"/>
                      </a:lnTo>
                      <a:lnTo>
                        <a:pt x="26" y="49"/>
                      </a:lnTo>
                      <a:lnTo>
                        <a:pt x="36" y="32"/>
                      </a:lnTo>
                      <a:lnTo>
                        <a:pt x="61" y="10"/>
                      </a:lnTo>
                      <a:lnTo>
                        <a:pt x="61" y="17"/>
                      </a:lnTo>
                      <a:lnTo>
                        <a:pt x="66" y="27"/>
                      </a:lnTo>
                    </a:path>
                  </a:pathLst>
                </a:custGeom>
                <a:solidFill>
                  <a:srgbClr val="ff33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3" name=""/>
              <p:cNvSpPr/>
              <p:nvPr/>
            </p:nvSpPr>
            <p:spPr>
              <a:xfrm>
                <a:off x="5234040" y="2914200"/>
                <a:ext cx="29160" cy="27000"/>
              </a:xfrm>
              <a:custGeom>
                <a:avLst/>
                <a:gdLst/>
                <a:ahLst/>
                <a:rect l="l" t="t" r="r" b="b"/>
                <a:pathLst>
                  <a:path w="86" h="89">
                    <a:moveTo>
                      <a:pt x="67" y="0"/>
                    </a:moveTo>
                    <a:lnTo>
                      <a:pt x="57" y="13"/>
                    </a:lnTo>
                    <a:lnTo>
                      <a:pt x="39" y="11"/>
                    </a:lnTo>
                    <a:lnTo>
                      <a:pt x="29" y="8"/>
                    </a:lnTo>
                    <a:lnTo>
                      <a:pt x="34" y="23"/>
                    </a:lnTo>
                    <a:lnTo>
                      <a:pt x="36" y="34"/>
                    </a:lnTo>
                    <a:lnTo>
                      <a:pt x="37" y="42"/>
                    </a:lnTo>
                    <a:lnTo>
                      <a:pt x="31" y="45"/>
                    </a:lnTo>
                    <a:lnTo>
                      <a:pt x="21" y="40"/>
                    </a:lnTo>
                    <a:lnTo>
                      <a:pt x="21" y="34"/>
                    </a:lnTo>
                    <a:lnTo>
                      <a:pt x="12" y="34"/>
                    </a:lnTo>
                    <a:lnTo>
                      <a:pt x="14" y="45"/>
                    </a:lnTo>
                    <a:lnTo>
                      <a:pt x="10" y="55"/>
                    </a:lnTo>
                    <a:lnTo>
                      <a:pt x="0" y="70"/>
                    </a:lnTo>
                    <a:lnTo>
                      <a:pt x="4" y="82"/>
                    </a:lnTo>
                    <a:lnTo>
                      <a:pt x="14" y="89"/>
                    </a:lnTo>
                    <a:lnTo>
                      <a:pt x="25" y="82"/>
                    </a:lnTo>
                    <a:lnTo>
                      <a:pt x="37" y="74"/>
                    </a:lnTo>
                    <a:lnTo>
                      <a:pt x="61" y="67"/>
                    </a:lnTo>
                    <a:lnTo>
                      <a:pt x="71" y="70"/>
                    </a:lnTo>
                    <a:lnTo>
                      <a:pt x="67" y="55"/>
                    </a:lnTo>
                    <a:lnTo>
                      <a:pt x="76" y="47"/>
                    </a:lnTo>
                    <a:lnTo>
                      <a:pt x="86" y="32"/>
                    </a:lnTo>
                    <a:lnTo>
                      <a:pt x="82" y="23"/>
                    </a:lnTo>
                    <a:lnTo>
                      <a:pt x="74" y="13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5108400" y="2544840"/>
            <a:ext cx="394920" cy="399960"/>
            <a:chOff x="5108400" y="2544840"/>
            <a:chExt cx="394920" cy="399960"/>
          </a:xfrm>
        </p:grpSpPr>
        <p:grpSp>
          <p:nvGrpSpPr>
            <p:cNvPr id="255" name=""/>
            <p:cNvGrpSpPr/>
            <p:nvPr/>
          </p:nvGrpSpPr>
          <p:grpSpPr>
            <a:xfrm>
              <a:off x="5108400" y="2544840"/>
              <a:ext cx="394920" cy="399960"/>
              <a:chOff x="5108400" y="2544840"/>
              <a:chExt cx="394920" cy="399960"/>
            </a:xfrm>
          </p:grpSpPr>
          <p:sp>
            <p:nvSpPr>
              <p:cNvPr id="256" name=""/>
              <p:cNvSpPr/>
              <p:nvPr/>
            </p:nvSpPr>
            <p:spPr>
              <a:xfrm>
                <a:off x="5108400" y="2544840"/>
                <a:ext cx="394920" cy="399960"/>
              </a:xfrm>
              <a:custGeom>
                <a:avLst/>
                <a:gdLst/>
                <a:ahLst/>
                <a:rect l="l" t="t" r="r" b="b"/>
                <a:pathLst>
                  <a:path w="1150" h="1262">
                    <a:moveTo>
                      <a:pt x="309" y="1188"/>
                    </a:moveTo>
                    <a:lnTo>
                      <a:pt x="312" y="1186"/>
                    </a:lnTo>
                    <a:lnTo>
                      <a:pt x="325" y="1182"/>
                    </a:lnTo>
                    <a:lnTo>
                      <a:pt x="334" y="1169"/>
                    </a:lnTo>
                    <a:lnTo>
                      <a:pt x="338" y="1153"/>
                    </a:lnTo>
                    <a:lnTo>
                      <a:pt x="342" y="1144"/>
                    </a:lnTo>
                    <a:lnTo>
                      <a:pt x="338" y="1119"/>
                    </a:lnTo>
                    <a:lnTo>
                      <a:pt x="342" y="1102"/>
                    </a:lnTo>
                    <a:lnTo>
                      <a:pt x="354" y="1094"/>
                    </a:lnTo>
                    <a:lnTo>
                      <a:pt x="384" y="1081"/>
                    </a:lnTo>
                    <a:lnTo>
                      <a:pt x="389" y="1067"/>
                    </a:lnTo>
                    <a:lnTo>
                      <a:pt x="384" y="1025"/>
                    </a:lnTo>
                    <a:lnTo>
                      <a:pt x="381" y="1017"/>
                    </a:lnTo>
                    <a:lnTo>
                      <a:pt x="381" y="992"/>
                    </a:lnTo>
                    <a:lnTo>
                      <a:pt x="371" y="983"/>
                    </a:lnTo>
                    <a:lnTo>
                      <a:pt x="376" y="963"/>
                    </a:lnTo>
                    <a:lnTo>
                      <a:pt x="384" y="963"/>
                    </a:lnTo>
                    <a:lnTo>
                      <a:pt x="406" y="950"/>
                    </a:lnTo>
                    <a:lnTo>
                      <a:pt x="389" y="911"/>
                    </a:lnTo>
                    <a:lnTo>
                      <a:pt x="381" y="899"/>
                    </a:lnTo>
                    <a:lnTo>
                      <a:pt x="381" y="895"/>
                    </a:lnTo>
                    <a:lnTo>
                      <a:pt x="381" y="864"/>
                    </a:lnTo>
                    <a:lnTo>
                      <a:pt x="393" y="839"/>
                    </a:lnTo>
                    <a:lnTo>
                      <a:pt x="396" y="812"/>
                    </a:lnTo>
                    <a:lnTo>
                      <a:pt x="401" y="783"/>
                    </a:lnTo>
                    <a:lnTo>
                      <a:pt x="396" y="758"/>
                    </a:lnTo>
                    <a:lnTo>
                      <a:pt x="406" y="741"/>
                    </a:lnTo>
                    <a:lnTo>
                      <a:pt x="410" y="728"/>
                    </a:lnTo>
                    <a:lnTo>
                      <a:pt x="435" y="711"/>
                    </a:lnTo>
                    <a:lnTo>
                      <a:pt x="460" y="703"/>
                    </a:lnTo>
                    <a:lnTo>
                      <a:pt x="482" y="711"/>
                    </a:lnTo>
                    <a:lnTo>
                      <a:pt x="490" y="716"/>
                    </a:lnTo>
                    <a:lnTo>
                      <a:pt x="502" y="698"/>
                    </a:lnTo>
                    <a:lnTo>
                      <a:pt x="502" y="678"/>
                    </a:lnTo>
                    <a:lnTo>
                      <a:pt x="490" y="639"/>
                    </a:lnTo>
                    <a:lnTo>
                      <a:pt x="485" y="623"/>
                    </a:lnTo>
                    <a:lnTo>
                      <a:pt x="490" y="614"/>
                    </a:lnTo>
                    <a:lnTo>
                      <a:pt x="498" y="614"/>
                    </a:lnTo>
                    <a:lnTo>
                      <a:pt x="507" y="602"/>
                    </a:lnTo>
                    <a:lnTo>
                      <a:pt x="511" y="577"/>
                    </a:lnTo>
                    <a:lnTo>
                      <a:pt x="515" y="542"/>
                    </a:lnTo>
                    <a:lnTo>
                      <a:pt x="519" y="509"/>
                    </a:lnTo>
                    <a:lnTo>
                      <a:pt x="532" y="496"/>
                    </a:lnTo>
                    <a:lnTo>
                      <a:pt x="557" y="480"/>
                    </a:lnTo>
                    <a:lnTo>
                      <a:pt x="574" y="471"/>
                    </a:lnTo>
                    <a:lnTo>
                      <a:pt x="579" y="446"/>
                    </a:lnTo>
                    <a:lnTo>
                      <a:pt x="587" y="429"/>
                    </a:lnTo>
                    <a:lnTo>
                      <a:pt x="608" y="411"/>
                    </a:lnTo>
                    <a:lnTo>
                      <a:pt x="613" y="399"/>
                    </a:lnTo>
                    <a:lnTo>
                      <a:pt x="608" y="386"/>
                    </a:lnTo>
                    <a:lnTo>
                      <a:pt x="608" y="369"/>
                    </a:lnTo>
                    <a:lnTo>
                      <a:pt x="625" y="357"/>
                    </a:lnTo>
                    <a:lnTo>
                      <a:pt x="646" y="319"/>
                    </a:lnTo>
                    <a:lnTo>
                      <a:pt x="661" y="323"/>
                    </a:lnTo>
                    <a:lnTo>
                      <a:pt x="686" y="302"/>
                    </a:lnTo>
                    <a:lnTo>
                      <a:pt x="682" y="285"/>
                    </a:lnTo>
                    <a:lnTo>
                      <a:pt x="698" y="268"/>
                    </a:lnTo>
                    <a:lnTo>
                      <a:pt x="707" y="273"/>
                    </a:lnTo>
                    <a:lnTo>
                      <a:pt x="724" y="268"/>
                    </a:lnTo>
                    <a:lnTo>
                      <a:pt x="749" y="273"/>
                    </a:lnTo>
                    <a:lnTo>
                      <a:pt x="782" y="243"/>
                    </a:lnTo>
                    <a:lnTo>
                      <a:pt x="779" y="226"/>
                    </a:lnTo>
                    <a:lnTo>
                      <a:pt x="782" y="218"/>
                    </a:lnTo>
                    <a:lnTo>
                      <a:pt x="775" y="214"/>
                    </a:lnTo>
                    <a:lnTo>
                      <a:pt x="792" y="198"/>
                    </a:lnTo>
                    <a:lnTo>
                      <a:pt x="817" y="195"/>
                    </a:lnTo>
                    <a:lnTo>
                      <a:pt x="834" y="218"/>
                    </a:lnTo>
                    <a:lnTo>
                      <a:pt x="863" y="251"/>
                    </a:lnTo>
                    <a:lnTo>
                      <a:pt x="876" y="251"/>
                    </a:lnTo>
                    <a:lnTo>
                      <a:pt x="893" y="238"/>
                    </a:lnTo>
                    <a:lnTo>
                      <a:pt x="905" y="235"/>
                    </a:lnTo>
                    <a:lnTo>
                      <a:pt x="913" y="238"/>
                    </a:lnTo>
                    <a:lnTo>
                      <a:pt x="927" y="251"/>
                    </a:lnTo>
                    <a:lnTo>
                      <a:pt x="943" y="255"/>
                    </a:lnTo>
                    <a:lnTo>
                      <a:pt x="948" y="251"/>
                    </a:lnTo>
                    <a:lnTo>
                      <a:pt x="956" y="235"/>
                    </a:lnTo>
                    <a:lnTo>
                      <a:pt x="960" y="226"/>
                    </a:lnTo>
                    <a:lnTo>
                      <a:pt x="977" y="198"/>
                    </a:lnTo>
                    <a:lnTo>
                      <a:pt x="982" y="195"/>
                    </a:lnTo>
                    <a:lnTo>
                      <a:pt x="977" y="152"/>
                    </a:lnTo>
                    <a:lnTo>
                      <a:pt x="999" y="131"/>
                    </a:lnTo>
                    <a:lnTo>
                      <a:pt x="1007" y="136"/>
                    </a:lnTo>
                    <a:lnTo>
                      <a:pt x="1032" y="110"/>
                    </a:lnTo>
                    <a:lnTo>
                      <a:pt x="1053" y="136"/>
                    </a:lnTo>
                    <a:lnTo>
                      <a:pt x="1061" y="144"/>
                    </a:lnTo>
                    <a:lnTo>
                      <a:pt x="1074" y="139"/>
                    </a:lnTo>
                    <a:lnTo>
                      <a:pt x="1083" y="152"/>
                    </a:lnTo>
                    <a:lnTo>
                      <a:pt x="1083" y="161"/>
                    </a:lnTo>
                    <a:lnTo>
                      <a:pt x="1091" y="169"/>
                    </a:lnTo>
                    <a:lnTo>
                      <a:pt x="1091" y="181"/>
                    </a:lnTo>
                    <a:lnTo>
                      <a:pt x="1104" y="165"/>
                    </a:lnTo>
                    <a:lnTo>
                      <a:pt x="1125" y="148"/>
                    </a:lnTo>
                    <a:lnTo>
                      <a:pt x="1138" y="122"/>
                    </a:lnTo>
                    <a:lnTo>
                      <a:pt x="1129" y="119"/>
                    </a:lnTo>
                    <a:lnTo>
                      <a:pt x="1116" y="131"/>
                    </a:lnTo>
                    <a:lnTo>
                      <a:pt x="1113" y="110"/>
                    </a:lnTo>
                    <a:lnTo>
                      <a:pt x="1104" y="106"/>
                    </a:lnTo>
                    <a:lnTo>
                      <a:pt x="1100" y="94"/>
                    </a:lnTo>
                    <a:lnTo>
                      <a:pt x="1133" y="68"/>
                    </a:lnTo>
                    <a:lnTo>
                      <a:pt x="1146" y="72"/>
                    </a:lnTo>
                    <a:lnTo>
                      <a:pt x="1150" y="55"/>
                    </a:lnTo>
                    <a:lnTo>
                      <a:pt x="1142" y="50"/>
                    </a:lnTo>
                    <a:lnTo>
                      <a:pt x="1121" y="42"/>
                    </a:lnTo>
                    <a:lnTo>
                      <a:pt x="1108" y="38"/>
                    </a:lnTo>
                    <a:lnTo>
                      <a:pt x="1091" y="22"/>
                    </a:lnTo>
                    <a:lnTo>
                      <a:pt x="1074" y="17"/>
                    </a:lnTo>
                    <a:lnTo>
                      <a:pt x="1057" y="34"/>
                    </a:lnTo>
                    <a:lnTo>
                      <a:pt x="1049" y="47"/>
                    </a:lnTo>
                    <a:lnTo>
                      <a:pt x="1032" y="34"/>
                    </a:lnTo>
                    <a:lnTo>
                      <a:pt x="1041" y="25"/>
                    </a:lnTo>
                    <a:lnTo>
                      <a:pt x="1044" y="5"/>
                    </a:lnTo>
                    <a:lnTo>
                      <a:pt x="1041" y="0"/>
                    </a:lnTo>
                    <a:lnTo>
                      <a:pt x="1019" y="0"/>
                    </a:lnTo>
                    <a:lnTo>
                      <a:pt x="1015" y="8"/>
                    </a:lnTo>
                    <a:lnTo>
                      <a:pt x="1011" y="22"/>
                    </a:lnTo>
                    <a:lnTo>
                      <a:pt x="1015" y="34"/>
                    </a:lnTo>
                    <a:lnTo>
                      <a:pt x="999" y="50"/>
                    </a:lnTo>
                    <a:lnTo>
                      <a:pt x="985" y="25"/>
                    </a:lnTo>
                    <a:lnTo>
                      <a:pt x="973" y="30"/>
                    </a:lnTo>
                    <a:lnTo>
                      <a:pt x="969" y="50"/>
                    </a:lnTo>
                    <a:lnTo>
                      <a:pt x="960" y="80"/>
                    </a:lnTo>
                    <a:lnTo>
                      <a:pt x="940" y="102"/>
                    </a:lnTo>
                    <a:lnTo>
                      <a:pt x="927" y="77"/>
                    </a:lnTo>
                    <a:lnTo>
                      <a:pt x="948" y="60"/>
                    </a:lnTo>
                    <a:lnTo>
                      <a:pt x="952" y="34"/>
                    </a:lnTo>
                    <a:lnTo>
                      <a:pt x="940" y="34"/>
                    </a:lnTo>
                    <a:lnTo>
                      <a:pt x="918" y="34"/>
                    </a:lnTo>
                    <a:lnTo>
                      <a:pt x="901" y="60"/>
                    </a:lnTo>
                    <a:lnTo>
                      <a:pt x="880" y="94"/>
                    </a:lnTo>
                    <a:lnTo>
                      <a:pt x="888" y="110"/>
                    </a:lnTo>
                    <a:lnTo>
                      <a:pt x="876" y="119"/>
                    </a:lnTo>
                    <a:lnTo>
                      <a:pt x="859" y="106"/>
                    </a:lnTo>
                    <a:lnTo>
                      <a:pt x="842" y="114"/>
                    </a:lnTo>
                    <a:lnTo>
                      <a:pt x="846" y="131"/>
                    </a:lnTo>
                    <a:lnTo>
                      <a:pt x="826" y="131"/>
                    </a:lnTo>
                    <a:lnTo>
                      <a:pt x="812" y="136"/>
                    </a:lnTo>
                    <a:lnTo>
                      <a:pt x="796" y="156"/>
                    </a:lnTo>
                    <a:lnTo>
                      <a:pt x="775" y="152"/>
                    </a:lnTo>
                    <a:lnTo>
                      <a:pt x="775" y="165"/>
                    </a:lnTo>
                    <a:lnTo>
                      <a:pt x="757" y="152"/>
                    </a:lnTo>
                    <a:lnTo>
                      <a:pt x="737" y="161"/>
                    </a:lnTo>
                    <a:lnTo>
                      <a:pt x="732" y="178"/>
                    </a:lnTo>
                    <a:lnTo>
                      <a:pt x="715" y="181"/>
                    </a:lnTo>
                    <a:lnTo>
                      <a:pt x="703" y="165"/>
                    </a:lnTo>
                    <a:lnTo>
                      <a:pt x="678" y="169"/>
                    </a:lnTo>
                    <a:lnTo>
                      <a:pt x="653" y="178"/>
                    </a:lnTo>
                    <a:lnTo>
                      <a:pt x="653" y="203"/>
                    </a:lnTo>
                    <a:lnTo>
                      <a:pt x="669" y="208"/>
                    </a:lnTo>
                    <a:lnTo>
                      <a:pt x="669" y="214"/>
                    </a:lnTo>
                    <a:lnTo>
                      <a:pt x="669" y="230"/>
                    </a:lnTo>
                    <a:lnTo>
                      <a:pt x="656" y="226"/>
                    </a:lnTo>
                    <a:lnTo>
                      <a:pt x="641" y="235"/>
                    </a:lnTo>
                    <a:lnTo>
                      <a:pt x="646" y="251"/>
                    </a:lnTo>
                    <a:lnTo>
                      <a:pt x="661" y="265"/>
                    </a:lnTo>
                    <a:lnTo>
                      <a:pt x="661" y="285"/>
                    </a:lnTo>
                    <a:lnTo>
                      <a:pt x="646" y="277"/>
                    </a:lnTo>
                    <a:lnTo>
                      <a:pt x="633" y="280"/>
                    </a:lnTo>
                    <a:lnTo>
                      <a:pt x="633" y="298"/>
                    </a:lnTo>
                    <a:lnTo>
                      <a:pt x="613" y="298"/>
                    </a:lnTo>
                    <a:lnTo>
                      <a:pt x="596" y="298"/>
                    </a:lnTo>
                    <a:lnTo>
                      <a:pt x="591" y="310"/>
                    </a:lnTo>
                    <a:lnTo>
                      <a:pt x="587" y="319"/>
                    </a:lnTo>
                    <a:lnTo>
                      <a:pt x="574" y="323"/>
                    </a:lnTo>
                    <a:lnTo>
                      <a:pt x="570" y="332"/>
                    </a:lnTo>
                    <a:lnTo>
                      <a:pt x="574" y="344"/>
                    </a:lnTo>
                    <a:lnTo>
                      <a:pt x="549" y="352"/>
                    </a:lnTo>
                    <a:lnTo>
                      <a:pt x="566" y="369"/>
                    </a:lnTo>
                    <a:lnTo>
                      <a:pt x="570" y="378"/>
                    </a:lnTo>
                    <a:lnTo>
                      <a:pt x="554" y="391"/>
                    </a:lnTo>
                    <a:lnTo>
                      <a:pt x="524" y="411"/>
                    </a:lnTo>
                    <a:lnTo>
                      <a:pt x="502" y="429"/>
                    </a:lnTo>
                    <a:lnTo>
                      <a:pt x="490" y="454"/>
                    </a:lnTo>
                    <a:lnTo>
                      <a:pt x="468" y="471"/>
                    </a:lnTo>
                    <a:lnTo>
                      <a:pt x="468" y="483"/>
                    </a:lnTo>
                    <a:lnTo>
                      <a:pt x="473" y="496"/>
                    </a:lnTo>
                    <a:lnTo>
                      <a:pt x="456" y="509"/>
                    </a:lnTo>
                    <a:lnTo>
                      <a:pt x="460" y="525"/>
                    </a:lnTo>
                    <a:lnTo>
                      <a:pt x="443" y="555"/>
                    </a:lnTo>
                    <a:lnTo>
                      <a:pt x="431" y="560"/>
                    </a:lnTo>
                    <a:lnTo>
                      <a:pt x="431" y="581"/>
                    </a:lnTo>
                    <a:lnTo>
                      <a:pt x="440" y="594"/>
                    </a:lnTo>
                    <a:lnTo>
                      <a:pt x="426" y="606"/>
                    </a:lnTo>
                    <a:lnTo>
                      <a:pt x="418" y="597"/>
                    </a:lnTo>
                    <a:lnTo>
                      <a:pt x="401" y="606"/>
                    </a:lnTo>
                    <a:lnTo>
                      <a:pt x="406" y="631"/>
                    </a:lnTo>
                    <a:lnTo>
                      <a:pt x="389" y="639"/>
                    </a:lnTo>
                    <a:lnTo>
                      <a:pt x="363" y="644"/>
                    </a:lnTo>
                    <a:lnTo>
                      <a:pt x="346" y="665"/>
                    </a:lnTo>
                    <a:lnTo>
                      <a:pt x="342" y="686"/>
                    </a:lnTo>
                    <a:lnTo>
                      <a:pt x="325" y="703"/>
                    </a:lnTo>
                    <a:lnTo>
                      <a:pt x="325" y="716"/>
                    </a:lnTo>
                    <a:lnTo>
                      <a:pt x="346" y="698"/>
                    </a:lnTo>
                    <a:lnTo>
                      <a:pt x="371" y="681"/>
                    </a:lnTo>
                    <a:lnTo>
                      <a:pt x="381" y="686"/>
                    </a:lnTo>
                    <a:lnTo>
                      <a:pt x="371" y="711"/>
                    </a:lnTo>
                    <a:lnTo>
                      <a:pt x="351" y="725"/>
                    </a:lnTo>
                    <a:lnTo>
                      <a:pt x="329" y="720"/>
                    </a:lnTo>
                    <a:lnTo>
                      <a:pt x="334" y="737"/>
                    </a:lnTo>
                    <a:lnTo>
                      <a:pt x="304" y="750"/>
                    </a:lnTo>
                    <a:lnTo>
                      <a:pt x="300" y="725"/>
                    </a:lnTo>
                    <a:lnTo>
                      <a:pt x="287" y="716"/>
                    </a:lnTo>
                    <a:lnTo>
                      <a:pt x="270" y="741"/>
                    </a:lnTo>
                    <a:lnTo>
                      <a:pt x="253" y="741"/>
                    </a:lnTo>
                    <a:lnTo>
                      <a:pt x="235" y="745"/>
                    </a:lnTo>
                    <a:lnTo>
                      <a:pt x="233" y="767"/>
                    </a:lnTo>
                    <a:lnTo>
                      <a:pt x="223" y="770"/>
                    </a:lnTo>
                    <a:lnTo>
                      <a:pt x="223" y="782"/>
                    </a:lnTo>
                    <a:lnTo>
                      <a:pt x="213" y="777"/>
                    </a:lnTo>
                    <a:lnTo>
                      <a:pt x="198" y="768"/>
                    </a:lnTo>
                    <a:lnTo>
                      <a:pt x="176" y="770"/>
                    </a:lnTo>
                    <a:lnTo>
                      <a:pt x="176" y="783"/>
                    </a:lnTo>
                    <a:lnTo>
                      <a:pt x="178" y="794"/>
                    </a:lnTo>
                    <a:lnTo>
                      <a:pt x="169" y="798"/>
                    </a:lnTo>
                    <a:lnTo>
                      <a:pt x="148" y="787"/>
                    </a:lnTo>
                    <a:lnTo>
                      <a:pt x="129" y="802"/>
                    </a:lnTo>
                    <a:lnTo>
                      <a:pt x="133" y="815"/>
                    </a:lnTo>
                    <a:lnTo>
                      <a:pt x="131" y="824"/>
                    </a:lnTo>
                    <a:lnTo>
                      <a:pt x="112" y="815"/>
                    </a:lnTo>
                    <a:lnTo>
                      <a:pt x="106" y="826"/>
                    </a:lnTo>
                    <a:lnTo>
                      <a:pt x="99" y="834"/>
                    </a:lnTo>
                    <a:lnTo>
                      <a:pt x="77" y="829"/>
                    </a:lnTo>
                    <a:lnTo>
                      <a:pt x="64" y="832"/>
                    </a:lnTo>
                    <a:lnTo>
                      <a:pt x="62" y="849"/>
                    </a:lnTo>
                    <a:lnTo>
                      <a:pt x="53" y="853"/>
                    </a:lnTo>
                    <a:lnTo>
                      <a:pt x="40" y="872"/>
                    </a:lnTo>
                    <a:lnTo>
                      <a:pt x="42" y="895"/>
                    </a:lnTo>
                    <a:lnTo>
                      <a:pt x="38" y="929"/>
                    </a:lnTo>
                    <a:lnTo>
                      <a:pt x="32" y="963"/>
                    </a:lnTo>
                    <a:lnTo>
                      <a:pt x="28" y="995"/>
                    </a:lnTo>
                    <a:lnTo>
                      <a:pt x="23" y="1011"/>
                    </a:lnTo>
                    <a:lnTo>
                      <a:pt x="34" y="1025"/>
                    </a:lnTo>
                    <a:lnTo>
                      <a:pt x="53" y="1013"/>
                    </a:lnTo>
                    <a:lnTo>
                      <a:pt x="65" y="1020"/>
                    </a:lnTo>
                    <a:lnTo>
                      <a:pt x="65" y="1032"/>
                    </a:lnTo>
                    <a:lnTo>
                      <a:pt x="47" y="1042"/>
                    </a:lnTo>
                    <a:lnTo>
                      <a:pt x="45" y="1064"/>
                    </a:lnTo>
                    <a:lnTo>
                      <a:pt x="40" y="1074"/>
                    </a:lnTo>
                    <a:lnTo>
                      <a:pt x="22" y="1072"/>
                    </a:lnTo>
                    <a:lnTo>
                      <a:pt x="15" y="1097"/>
                    </a:lnTo>
                    <a:lnTo>
                      <a:pt x="23" y="1104"/>
                    </a:lnTo>
                    <a:lnTo>
                      <a:pt x="40" y="1099"/>
                    </a:lnTo>
                    <a:lnTo>
                      <a:pt x="49" y="1111"/>
                    </a:lnTo>
                    <a:lnTo>
                      <a:pt x="50" y="1116"/>
                    </a:lnTo>
                    <a:lnTo>
                      <a:pt x="37" y="1126"/>
                    </a:lnTo>
                    <a:lnTo>
                      <a:pt x="38" y="1140"/>
                    </a:lnTo>
                    <a:lnTo>
                      <a:pt x="22" y="1144"/>
                    </a:lnTo>
                    <a:lnTo>
                      <a:pt x="10" y="1136"/>
                    </a:lnTo>
                    <a:lnTo>
                      <a:pt x="13" y="1156"/>
                    </a:lnTo>
                    <a:lnTo>
                      <a:pt x="10" y="1171"/>
                    </a:lnTo>
                    <a:lnTo>
                      <a:pt x="0" y="1171"/>
                    </a:lnTo>
                    <a:lnTo>
                      <a:pt x="25" y="1197"/>
                    </a:lnTo>
                    <a:lnTo>
                      <a:pt x="38" y="1212"/>
                    </a:lnTo>
                    <a:lnTo>
                      <a:pt x="45" y="1233"/>
                    </a:lnTo>
                    <a:lnTo>
                      <a:pt x="70" y="1247"/>
                    </a:lnTo>
                    <a:lnTo>
                      <a:pt x="97" y="1262"/>
                    </a:lnTo>
                    <a:lnTo>
                      <a:pt x="123" y="1262"/>
                    </a:lnTo>
                    <a:lnTo>
                      <a:pt x="161" y="1237"/>
                    </a:lnTo>
                    <a:lnTo>
                      <a:pt x="198" y="1210"/>
                    </a:lnTo>
                    <a:lnTo>
                      <a:pt x="233" y="1163"/>
                    </a:lnTo>
                    <a:lnTo>
                      <a:pt x="238" y="1159"/>
                    </a:lnTo>
                    <a:lnTo>
                      <a:pt x="247" y="1173"/>
                    </a:lnTo>
                    <a:lnTo>
                      <a:pt x="264" y="1163"/>
                    </a:lnTo>
                    <a:lnTo>
                      <a:pt x="270" y="1146"/>
                    </a:lnTo>
                    <a:lnTo>
                      <a:pt x="272" y="1126"/>
                    </a:lnTo>
                    <a:lnTo>
                      <a:pt x="289" y="1099"/>
                    </a:lnTo>
                    <a:lnTo>
                      <a:pt x="283" y="1129"/>
                    </a:lnTo>
                    <a:lnTo>
                      <a:pt x="292" y="1134"/>
                    </a:lnTo>
                    <a:lnTo>
                      <a:pt x="287" y="1146"/>
                    </a:lnTo>
                    <a:lnTo>
                      <a:pt x="292" y="1169"/>
                    </a:lnTo>
                    <a:lnTo>
                      <a:pt x="300" y="1188"/>
                    </a:lnTo>
                    <a:lnTo>
                      <a:pt x="310" y="1182"/>
                    </a:lnTo>
                    <a:lnTo>
                      <a:pt x="309" y="1188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08400" y="2544840"/>
                <a:ext cx="394920" cy="399960"/>
              </a:xfrm>
              <a:custGeom>
                <a:avLst/>
                <a:gdLst/>
                <a:ahLst/>
                <a:rect l="l" t="t" r="r" b="b"/>
                <a:pathLst>
                  <a:path w="1150" h="1262">
                    <a:moveTo>
                      <a:pt x="309" y="1188"/>
                    </a:moveTo>
                    <a:lnTo>
                      <a:pt x="312" y="1186"/>
                    </a:lnTo>
                    <a:lnTo>
                      <a:pt x="325" y="1182"/>
                    </a:lnTo>
                    <a:lnTo>
                      <a:pt x="334" y="1169"/>
                    </a:lnTo>
                    <a:lnTo>
                      <a:pt x="338" y="1153"/>
                    </a:lnTo>
                    <a:lnTo>
                      <a:pt x="342" y="1144"/>
                    </a:lnTo>
                    <a:lnTo>
                      <a:pt x="338" y="1119"/>
                    </a:lnTo>
                    <a:lnTo>
                      <a:pt x="342" y="1102"/>
                    </a:lnTo>
                    <a:lnTo>
                      <a:pt x="354" y="1094"/>
                    </a:lnTo>
                    <a:lnTo>
                      <a:pt x="384" y="1081"/>
                    </a:lnTo>
                    <a:lnTo>
                      <a:pt x="389" y="1067"/>
                    </a:lnTo>
                    <a:lnTo>
                      <a:pt x="384" y="1025"/>
                    </a:lnTo>
                    <a:lnTo>
                      <a:pt x="381" y="1017"/>
                    </a:lnTo>
                    <a:lnTo>
                      <a:pt x="381" y="992"/>
                    </a:lnTo>
                    <a:lnTo>
                      <a:pt x="371" y="983"/>
                    </a:lnTo>
                    <a:lnTo>
                      <a:pt x="376" y="963"/>
                    </a:lnTo>
                    <a:lnTo>
                      <a:pt x="384" y="963"/>
                    </a:lnTo>
                    <a:lnTo>
                      <a:pt x="406" y="950"/>
                    </a:lnTo>
                    <a:lnTo>
                      <a:pt x="389" y="911"/>
                    </a:lnTo>
                    <a:lnTo>
                      <a:pt x="381" y="899"/>
                    </a:lnTo>
                    <a:lnTo>
                      <a:pt x="381" y="895"/>
                    </a:lnTo>
                    <a:lnTo>
                      <a:pt x="381" y="864"/>
                    </a:lnTo>
                    <a:lnTo>
                      <a:pt x="393" y="839"/>
                    </a:lnTo>
                    <a:lnTo>
                      <a:pt x="396" y="812"/>
                    </a:lnTo>
                    <a:lnTo>
                      <a:pt x="401" y="783"/>
                    </a:lnTo>
                    <a:lnTo>
                      <a:pt x="396" y="758"/>
                    </a:lnTo>
                    <a:lnTo>
                      <a:pt x="406" y="741"/>
                    </a:lnTo>
                    <a:lnTo>
                      <a:pt x="410" y="728"/>
                    </a:lnTo>
                    <a:lnTo>
                      <a:pt x="435" y="711"/>
                    </a:lnTo>
                    <a:lnTo>
                      <a:pt x="460" y="703"/>
                    </a:lnTo>
                    <a:lnTo>
                      <a:pt x="482" y="711"/>
                    </a:lnTo>
                    <a:lnTo>
                      <a:pt x="490" y="716"/>
                    </a:lnTo>
                    <a:lnTo>
                      <a:pt x="502" y="698"/>
                    </a:lnTo>
                    <a:lnTo>
                      <a:pt x="502" y="678"/>
                    </a:lnTo>
                    <a:lnTo>
                      <a:pt x="490" y="639"/>
                    </a:lnTo>
                    <a:lnTo>
                      <a:pt x="485" y="623"/>
                    </a:lnTo>
                    <a:lnTo>
                      <a:pt x="490" y="614"/>
                    </a:lnTo>
                    <a:lnTo>
                      <a:pt x="498" y="614"/>
                    </a:lnTo>
                    <a:lnTo>
                      <a:pt x="507" y="602"/>
                    </a:lnTo>
                    <a:lnTo>
                      <a:pt x="511" y="577"/>
                    </a:lnTo>
                    <a:lnTo>
                      <a:pt x="515" y="542"/>
                    </a:lnTo>
                    <a:lnTo>
                      <a:pt x="519" y="509"/>
                    </a:lnTo>
                    <a:lnTo>
                      <a:pt x="532" y="496"/>
                    </a:lnTo>
                    <a:lnTo>
                      <a:pt x="557" y="480"/>
                    </a:lnTo>
                    <a:lnTo>
                      <a:pt x="574" y="471"/>
                    </a:lnTo>
                    <a:lnTo>
                      <a:pt x="579" y="446"/>
                    </a:lnTo>
                    <a:lnTo>
                      <a:pt x="587" y="429"/>
                    </a:lnTo>
                    <a:lnTo>
                      <a:pt x="608" y="411"/>
                    </a:lnTo>
                    <a:lnTo>
                      <a:pt x="613" y="399"/>
                    </a:lnTo>
                    <a:lnTo>
                      <a:pt x="608" y="386"/>
                    </a:lnTo>
                    <a:lnTo>
                      <a:pt x="608" y="369"/>
                    </a:lnTo>
                    <a:lnTo>
                      <a:pt x="625" y="357"/>
                    </a:lnTo>
                    <a:lnTo>
                      <a:pt x="646" y="319"/>
                    </a:lnTo>
                    <a:lnTo>
                      <a:pt x="661" y="323"/>
                    </a:lnTo>
                    <a:lnTo>
                      <a:pt x="686" y="302"/>
                    </a:lnTo>
                    <a:lnTo>
                      <a:pt x="682" y="285"/>
                    </a:lnTo>
                    <a:lnTo>
                      <a:pt x="698" y="268"/>
                    </a:lnTo>
                    <a:lnTo>
                      <a:pt x="707" y="273"/>
                    </a:lnTo>
                    <a:lnTo>
                      <a:pt x="724" y="268"/>
                    </a:lnTo>
                    <a:lnTo>
                      <a:pt x="749" y="273"/>
                    </a:lnTo>
                    <a:lnTo>
                      <a:pt x="782" y="243"/>
                    </a:lnTo>
                    <a:lnTo>
                      <a:pt x="779" y="226"/>
                    </a:lnTo>
                    <a:lnTo>
                      <a:pt x="782" y="218"/>
                    </a:lnTo>
                    <a:lnTo>
                      <a:pt x="775" y="214"/>
                    </a:lnTo>
                    <a:lnTo>
                      <a:pt x="792" y="198"/>
                    </a:lnTo>
                    <a:lnTo>
                      <a:pt x="817" y="195"/>
                    </a:lnTo>
                    <a:lnTo>
                      <a:pt x="834" y="218"/>
                    </a:lnTo>
                    <a:lnTo>
                      <a:pt x="863" y="251"/>
                    </a:lnTo>
                    <a:lnTo>
                      <a:pt x="876" y="251"/>
                    </a:lnTo>
                    <a:lnTo>
                      <a:pt x="893" y="238"/>
                    </a:lnTo>
                    <a:lnTo>
                      <a:pt x="905" y="235"/>
                    </a:lnTo>
                    <a:lnTo>
                      <a:pt x="913" y="238"/>
                    </a:lnTo>
                    <a:lnTo>
                      <a:pt x="927" y="251"/>
                    </a:lnTo>
                    <a:lnTo>
                      <a:pt x="943" y="255"/>
                    </a:lnTo>
                    <a:lnTo>
                      <a:pt x="948" y="251"/>
                    </a:lnTo>
                    <a:lnTo>
                      <a:pt x="956" y="235"/>
                    </a:lnTo>
                    <a:lnTo>
                      <a:pt x="960" y="226"/>
                    </a:lnTo>
                    <a:lnTo>
                      <a:pt x="977" y="198"/>
                    </a:lnTo>
                    <a:lnTo>
                      <a:pt x="982" y="195"/>
                    </a:lnTo>
                    <a:lnTo>
                      <a:pt x="977" y="152"/>
                    </a:lnTo>
                    <a:lnTo>
                      <a:pt x="999" y="131"/>
                    </a:lnTo>
                    <a:lnTo>
                      <a:pt x="1007" y="136"/>
                    </a:lnTo>
                    <a:lnTo>
                      <a:pt x="1032" y="110"/>
                    </a:lnTo>
                    <a:lnTo>
                      <a:pt x="1053" y="136"/>
                    </a:lnTo>
                    <a:lnTo>
                      <a:pt x="1061" y="144"/>
                    </a:lnTo>
                    <a:lnTo>
                      <a:pt x="1074" y="139"/>
                    </a:lnTo>
                    <a:lnTo>
                      <a:pt x="1083" y="152"/>
                    </a:lnTo>
                    <a:lnTo>
                      <a:pt x="1083" y="161"/>
                    </a:lnTo>
                    <a:lnTo>
                      <a:pt x="1091" y="169"/>
                    </a:lnTo>
                    <a:lnTo>
                      <a:pt x="1091" y="181"/>
                    </a:lnTo>
                    <a:lnTo>
                      <a:pt x="1104" y="165"/>
                    </a:lnTo>
                    <a:lnTo>
                      <a:pt x="1125" y="148"/>
                    </a:lnTo>
                    <a:lnTo>
                      <a:pt x="1138" y="122"/>
                    </a:lnTo>
                    <a:lnTo>
                      <a:pt x="1129" y="119"/>
                    </a:lnTo>
                    <a:lnTo>
                      <a:pt x="1116" y="131"/>
                    </a:lnTo>
                    <a:lnTo>
                      <a:pt x="1113" y="110"/>
                    </a:lnTo>
                    <a:lnTo>
                      <a:pt x="1104" y="106"/>
                    </a:lnTo>
                    <a:lnTo>
                      <a:pt x="1100" y="94"/>
                    </a:lnTo>
                    <a:lnTo>
                      <a:pt x="1133" y="68"/>
                    </a:lnTo>
                    <a:lnTo>
                      <a:pt x="1146" y="72"/>
                    </a:lnTo>
                    <a:lnTo>
                      <a:pt x="1150" y="55"/>
                    </a:lnTo>
                    <a:lnTo>
                      <a:pt x="1142" y="50"/>
                    </a:lnTo>
                    <a:lnTo>
                      <a:pt x="1121" y="42"/>
                    </a:lnTo>
                    <a:lnTo>
                      <a:pt x="1108" y="38"/>
                    </a:lnTo>
                    <a:lnTo>
                      <a:pt x="1091" y="22"/>
                    </a:lnTo>
                    <a:lnTo>
                      <a:pt x="1074" y="17"/>
                    </a:lnTo>
                    <a:lnTo>
                      <a:pt x="1057" y="34"/>
                    </a:lnTo>
                    <a:lnTo>
                      <a:pt x="1049" y="47"/>
                    </a:lnTo>
                    <a:lnTo>
                      <a:pt x="1032" y="34"/>
                    </a:lnTo>
                    <a:lnTo>
                      <a:pt x="1041" y="25"/>
                    </a:lnTo>
                    <a:lnTo>
                      <a:pt x="1044" y="5"/>
                    </a:lnTo>
                    <a:lnTo>
                      <a:pt x="1041" y="0"/>
                    </a:lnTo>
                    <a:lnTo>
                      <a:pt x="1019" y="0"/>
                    </a:lnTo>
                    <a:lnTo>
                      <a:pt x="1015" y="8"/>
                    </a:lnTo>
                    <a:lnTo>
                      <a:pt x="1011" y="22"/>
                    </a:lnTo>
                    <a:lnTo>
                      <a:pt x="1015" y="34"/>
                    </a:lnTo>
                    <a:lnTo>
                      <a:pt x="999" y="50"/>
                    </a:lnTo>
                    <a:lnTo>
                      <a:pt x="985" y="25"/>
                    </a:lnTo>
                    <a:lnTo>
                      <a:pt x="973" y="30"/>
                    </a:lnTo>
                    <a:lnTo>
                      <a:pt x="969" y="50"/>
                    </a:lnTo>
                    <a:lnTo>
                      <a:pt x="960" y="80"/>
                    </a:lnTo>
                    <a:lnTo>
                      <a:pt x="940" y="102"/>
                    </a:lnTo>
                    <a:lnTo>
                      <a:pt x="927" y="77"/>
                    </a:lnTo>
                    <a:lnTo>
                      <a:pt x="948" y="60"/>
                    </a:lnTo>
                    <a:lnTo>
                      <a:pt x="952" y="34"/>
                    </a:lnTo>
                    <a:lnTo>
                      <a:pt x="940" y="34"/>
                    </a:lnTo>
                    <a:lnTo>
                      <a:pt x="918" y="34"/>
                    </a:lnTo>
                    <a:lnTo>
                      <a:pt x="901" y="60"/>
                    </a:lnTo>
                    <a:lnTo>
                      <a:pt x="880" y="94"/>
                    </a:lnTo>
                    <a:lnTo>
                      <a:pt x="888" y="110"/>
                    </a:lnTo>
                    <a:lnTo>
                      <a:pt x="876" y="119"/>
                    </a:lnTo>
                    <a:lnTo>
                      <a:pt x="859" y="106"/>
                    </a:lnTo>
                    <a:lnTo>
                      <a:pt x="842" y="114"/>
                    </a:lnTo>
                    <a:lnTo>
                      <a:pt x="846" y="131"/>
                    </a:lnTo>
                    <a:lnTo>
                      <a:pt x="826" y="131"/>
                    </a:lnTo>
                    <a:lnTo>
                      <a:pt x="812" y="136"/>
                    </a:lnTo>
                    <a:lnTo>
                      <a:pt x="796" y="156"/>
                    </a:lnTo>
                    <a:lnTo>
                      <a:pt x="775" y="152"/>
                    </a:lnTo>
                    <a:lnTo>
                      <a:pt x="775" y="165"/>
                    </a:lnTo>
                    <a:lnTo>
                      <a:pt x="757" y="152"/>
                    </a:lnTo>
                    <a:lnTo>
                      <a:pt x="737" y="161"/>
                    </a:lnTo>
                    <a:lnTo>
                      <a:pt x="732" y="178"/>
                    </a:lnTo>
                    <a:lnTo>
                      <a:pt x="715" y="181"/>
                    </a:lnTo>
                    <a:lnTo>
                      <a:pt x="703" y="165"/>
                    </a:lnTo>
                    <a:lnTo>
                      <a:pt x="678" y="169"/>
                    </a:lnTo>
                    <a:lnTo>
                      <a:pt x="653" y="178"/>
                    </a:lnTo>
                    <a:lnTo>
                      <a:pt x="653" y="203"/>
                    </a:lnTo>
                    <a:lnTo>
                      <a:pt x="669" y="208"/>
                    </a:lnTo>
                    <a:lnTo>
                      <a:pt x="669" y="214"/>
                    </a:lnTo>
                    <a:lnTo>
                      <a:pt x="669" y="230"/>
                    </a:lnTo>
                    <a:lnTo>
                      <a:pt x="656" y="226"/>
                    </a:lnTo>
                    <a:lnTo>
                      <a:pt x="641" y="235"/>
                    </a:lnTo>
                    <a:lnTo>
                      <a:pt x="646" y="251"/>
                    </a:lnTo>
                    <a:lnTo>
                      <a:pt x="661" y="265"/>
                    </a:lnTo>
                    <a:lnTo>
                      <a:pt x="661" y="285"/>
                    </a:lnTo>
                    <a:lnTo>
                      <a:pt x="646" y="277"/>
                    </a:lnTo>
                    <a:lnTo>
                      <a:pt x="633" y="280"/>
                    </a:lnTo>
                    <a:lnTo>
                      <a:pt x="633" y="298"/>
                    </a:lnTo>
                    <a:lnTo>
                      <a:pt x="613" y="298"/>
                    </a:lnTo>
                    <a:lnTo>
                      <a:pt x="596" y="298"/>
                    </a:lnTo>
                    <a:lnTo>
                      <a:pt x="591" y="310"/>
                    </a:lnTo>
                    <a:lnTo>
                      <a:pt x="587" y="319"/>
                    </a:lnTo>
                    <a:lnTo>
                      <a:pt x="574" y="323"/>
                    </a:lnTo>
                    <a:lnTo>
                      <a:pt x="570" y="332"/>
                    </a:lnTo>
                    <a:lnTo>
                      <a:pt x="574" y="344"/>
                    </a:lnTo>
                    <a:lnTo>
                      <a:pt x="549" y="352"/>
                    </a:lnTo>
                    <a:lnTo>
                      <a:pt x="566" y="369"/>
                    </a:lnTo>
                    <a:lnTo>
                      <a:pt x="570" y="378"/>
                    </a:lnTo>
                    <a:lnTo>
                      <a:pt x="554" y="391"/>
                    </a:lnTo>
                    <a:lnTo>
                      <a:pt x="524" y="411"/>
                    </a:lnTo>
                    <a:lnTo>
                      <a:pt x="502" y="429"/>
                    </a:lnTo>
                    <a:lnTo>
                      <a:pt x="490" y="454"/>
                    </a:lnTo>
                    <a:lnTo>
                      <a:pt x="468" y="471"/>
                    </a:lnTo>
                    <a:lnTo>
                      <a:pt x="468" y="483"/>
                    </a:lnTo>
                    <a:lnTo>
                      <a:pt x="473" y="496"/>
                    </a:lnTo>
                    <a:lnTo>
                      <a:pt x="456" y="509"/>
                    </a:lnTo>
                    <a:lnTo>
                      <a:pt x="460" y="525"/>
                    </a:lnTo>
                    <a:lnTo>
                      <a:pt x="443" y="555"/>
                    </a:lnTo>
                    <a:lnTo>
                      <a:pt x="431" y="560"/>
                    </a:lnTo>
                    <a:lnTo>
                      <a:pt x="431" y="581"/>
                    </a:lnTo>
                    <a:lnTo>
                      <a:pt x="440" y="594"/>
                    </a:lnTo>
                    <a:lnTo>
                      <a:pt x="426" y="606"/>
                    </a:lnTo>
                    <a:lnTo>
                      <a:pt x="418" y="597"/>
                    </a:lnTo>
                    <a:lnTo>
                      <a:pt x="401" y="606"/>
                    </a:lnTo>
                    <a:lnTo>
                      <a:pt x="406" y="631"/>
                    </a:lnTo>
                    <a:lnTo>
                      <a:pt x="389" y="639"/>
                    </a:lnTo>
                    <a:lnTo>
                      <a:pt x="363" y="644"/>
                    </a:lnTo>
                    <a:lnTo>
                      <a:pt x="346" y="665"/>
                    </a:lnTo>
                    <a:lnTo>
                      <a:pt x="342" y="686"/>
                    </a:lnTo>
                    <a:lnTo>
                      <a:pt x="325" y="703"/>
                    </a:lnTo>
                    <a:lnTo>
                      <a:pt x="325" y="716"/>
                    </a:lnTo>
                    <a:lnTo>
                      <a:pt x="346" y="698"/>
                    </a:lnTo>
                    <a:lnTo>
                      <a:pt x="371" y="681"/>
                    </a:lnTo>
                    <a:lnTo>
                      <a:pt x="381" y="686"/>
                    </a:lnTo>
                    <a:lnTo>
                      <a:pt x="371" y="711"/>
                    </a:lnTo>
                    <a:lnTo>
                      <a:pt x="351" y="725"/>
                    </a:lnTo>
                    <a:lnTo>
                      <a:pt x="329" y="720"/>
                    </a:lnTo>
                    <a:lnTo>
                      <a:pt x="334" y="737"/>
                    </a:lnTo>
                    <a:lnTo>
                      <a:pt x="304" y="750"/>
                    </a:lnTo>
                    <a:lnTo>
                      <a:pt x="300" y="725"/>
                    </a:lnTo>
                    <a:lnTo>
                      <a:pt x="287" y="716"/>
                    </a:lnTo>
                    <a:lnTo>
                      <a:pt x="270" y="741"/>
                    </a:lnTo>
                    <a:lnTo>
                      <a:pt x="253" y="741"/>
                    </a:lnTo>
                    <a:lnTo>
                      <a:pt x="235" y="745"/>
                    </a:lnTo>
                    <a:lnTo>
                      <a:pt x="233" y="767"/>
                    </a:lnTo>
                    <a:lnTo>
                      <a:pt x="223" y="770"/>
                    </a:lnTo>
                    <a:lnTo>
                      <a:pt x="223" y="782"/>
                    </a:lnTo>
                    <a:lnTo>
                      <a:pt x="213" y="777"/>
                    </a:lnTo>
                    <a:lnTo>
                      <a:pt x="198" y="768"/>
                    </a:lnTo>
                    <a:lnTo>
                      <a:pt x="176" y="770"/>
                    </a:lnTo>
                    <a:lnTo>
                      <a:pt x="176" y="783"/>
                    </a:lnTo>
                    <a:lnTo>
                      <a:pt x="178" y="794"/>
                    </a:lnTo>
                    <a:lnTo>
                      <a:pt x="169" y="798"/>
                    </a:lnTo>
                    <a:lnTo>
                      <a:pt x="148" y="787"/>
                    </a:lnTo>
                    <a:lnTo>
                      <a:pt x="129" y="802"/>
                    </a:lnTo>
                    <a:lnTo>
                      <a:pt x="133" y="815"/>
                    </a:lnTo>
                    <a:lnTo>
                      <a:pt x="131" y="824"/>
                    </a:lnTo>
                    <a:lnTo>
                      <a:pt x="112" y="815"/>
                    </a:lnTo>
                    <a:lnTo>
                      <a:pt x="106" y="826"/>
                    </a:lnTo>
                    <a:lnTo>
                      <a:pt x="99" y="834"/>
                    </a:lnTo>
                    <a:lnTo>
                      <a:pt x="77" y="829"/>
                    </a:lnTo>
                    <a:lnTo>
                      <a:pt x="64" y="832"/>
                    </a:lnTo>
                    <a:lnTo>
                      <a:pt x="62" y="849"/>
                    </a:lnTo>
                    <a:lnTo>
                      <a:pt x="53" y="853"/>
                    </a:lnTo>
                    <a:lnTo>
                      <a:pt x="40" y="872"/>
                    </a:lnTo>
                    <a:lnTo>
                      <a:pt x="42" y="895"/>
                    </a:lnTo>
                    <a:lnTo>
                      <a:pt x="38" y="929"/>
                    </a:lnTo>
                    <a:lnTo>
                      <a:pt x="32" y="963"/>
                    </a:lnTo>
                    <a:lnTo>
                      <a:pt x="28" y="995"/>
                    </a:lnTo>
                    <a:lnTo>
                      <a:pt x="23" y="1011"/>
                    </a:lnTo>
                    <a:lnTo>
                      <a:pt x="34" y="1025"/>
                    </a:lnTo>
                    <a:lnTo>
                      <a:pt x="53" y="1013"/>
                    </a:lnTo>
                    <a:lnTo>
                      <a:pt x="65" y="1020"/>
                    </a:lnTo>
                    <a:lnTo>
                      <a:pt x="65" y="1032"/>
                    </a:lnTo>
                    <a:lnTo>
                      <a:pt x="47" y="1042"/>
                    </a:lnTo>
                    <a:lnTo>
                      <a:pt x="45" y="1064"/>
                    </a:lnTo>
                    <a:lnTo>
                      <a:pt x="40" y="1074"/>
                    </a:lnTo>
                    <a:lnTo>
                      <a:pt x="22" y="1072"/>
                    </a:lnTo>
                    <a:lnTo>
                      <a:pt x="15" y="1097"/>
                    </a:lnTo>
                    <a:lnTo>
                      <a:pt x="23" y="1104"/>
                    </a:lnTo>
                    <a:lnTo>
                      <a:pt x="40" y="1099"/>
                    </a:lnTo>
                    <a:lnTo>
                      <a:pt x="49" y="1111"/>
                    </a:lnTo>
                    <a:lnTo>
                      <a:pt x="50" y="1116"/>
                    </a:lnTo>
                    <a:lnTo>
                      <a:pt x="37" y="1126"/>
                    </a:lnTo>
                    <a:lnTo>
                      <a:pt x="38" y="1140"/>
                    </a:lnTo>
                    <a:lnTo>
                      <a:pt x="22" y="1144"/>
                    </a:lnTo>
                    <a:lnTo>
                      <a:pt x="10" y="1136"/>
                    </a:lnTo>
                    <a:lnTo>
                      <a:pt x="13" y="1156"/>
                    </a:lnTo>
                    <a:lnTo>
                      <a:pt x="10" y="1171"/>
                    </a:lnTo>
                    <a:lnTo>
                      <a:pt x="0" y="1171"/>
                    </a:lnTo>
                    <a:lnTo>
                      <a:pt x="25" y="1197"/>
                    </a:lnTo>
                    <a:lnTo>
                      <a:pt x="38" y="1212"/>
                    </a:lnTo>
                    <a:lnTo>
                      <a:pt x="45" y="1233"/>
                    </a:lnTo>
                    <a:lnTo>
                      <a:pt x="70" y="1247"/>
                    </a:lnTo>
                    <a:lnTo>
                      <a:pt x="97" y="1262"/>
                    </a:lnTo>
                    <a:lnTo>
                      <a:pt x="123" y="1262"/>
                    </a:lnTo>
                    <a:lnTo>
                      <a:pt x="161" y="1237"/>
                    </a:lnTo>
                    <a:lnTo>
                      <a:pt x="198" y="1210"/>
                    </a:lnTo>
                    <a:lnTo>
                      <a:pt x="233" y="1163"/>
                    </a:lnTo>
                    <a:lnTo>
                      <a:pt x="238" y="1159"/>
                    </a:lnTo>
                    <a:lnTo>
                      <a:pt x="247" y="1173"/>
                    </a:lnTo>
                    <a:lnTo>
                      <a:pt x="264" y="1163"/>
                    </a:lnTo>
                    <a:lnTo>
                      <a:pt x="270" y="1146"/>
                    </a:lnTo>
                    <a:lnTo>
                      <a:pt x="272" y="1126"/>
                    </a:lnTo>
                    <a:lnTo>
                      <a:pt x="289" y="1099"/>
                    </a:lnTo>
                    <a:lnTo>
                      <a:pt x="283" y="1129"/>
                    </a:lnTo>
                    <a:lnTo>
                      <a:pt x="292" y="1134"/>
                    </a:lnTo>
                    <a:lnTo>
                      <a:pt x="287" y="1146"/>
                    </a:lnTo>
                    <a:lnTo>
                      <a:pt x="292" y="1169"/>
                    </a:lnTo>
                    <a:lnTo>
                      <a:pt x="300" y="1188"/>
                    </a:lnTo>
                    <a:lnTo>
                      <a:pt x="310" y="1182"/>
                    </a:lnTo>
                    <a:lnTo>
                      <a:pt x="309" y="1188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08400" y="2544840"/>
                <a:ext cx="394920" cy="399960"/>
              </a:xfrm>
              <a:custGeom>
                <a:avLst/>
                <a:gdLst/>
                <a:ahLst/>
                <a:rect l="l" t="t" r="r" b="b"/>
                <a:pathLst>
                  <a:path w="1150" h="1262">
                    <a:moveTo>
                      <a:pt x="309" y="1188"/>
                    </a:moveTo>
                    <a:lnTo>
                      <a:pt x="312" y="1186"/>
                    </a:lnTo>
                    <a:lnTo>
                      <a:pt x="325" y="1182"/>
                    </a:lnTo>
                    <a:lnTo>
                      <a:pt x="334" y="1169"/>
                    </a:lnTo>
                    <a:lnTo>
                      <a:pt x="338" y="1153"/>
                    </a:lnTo>
                    <a:lnTo>
                      <a:pt x="342" y="1144"/>
                    </a:lnTo>
                    <a:lnTo>
                      <a:pt x="338" y="1119"/>
                    </a:lnTo>
                    <a:lnTo>
                      <a:pt x="342" y="1102"/>
                    </a:lnTo>
                    <a:lnTo>
                      <a:pt x="354" y="1094"/>
                    </a:lnTo>
                    <a:lnTo>
                      <a:pt x="384" y="1081"/>
                    </a:lnTo>
                    <a:lnTo>
                      <a:pt x="389" y="1067"/>
                    </a:lnTo>
                    <a:lnTo>
                      <a:pt x="384" y="1025"/>
                    </a:lnTo>
                    <a:lnTo>
                      <a:pt x="381" y="1017"/>
                    </a:lnTo>
                    <a:lnTo>
                      <a:pt x="381" y="992"/>
                    </a:lnTo>
                    <a:lnTo>
                      <a:pt x="371" y="983"/>
                    </a:lnTo>
                    <a:lnTo>
                      <a:pt x="376" y="963"/>
                    </a:lnTo>
                    <a:lnTo>
                      <a:pt x="384" y="963"/>
                    </a:lnTo>
                    <a:lnTo>
                      <a:pt x="406" y="950"/>
                    </a:lnTo>
                    <a:lnTo>
                      <a:pt x="389" y="911"/>
                    </a:lnTo>
                    <a:lnTo>
                      <a:pt x="381" y="899"/>
                    </a:lnTo>
                    <a:lnTo>
                      <a:pt x="381" y="895"/>
                    </a:lnTo>
                    <a:lnTo>
                      <a:pt x="381" y="864"/>
                    </a:lnTo>
                    <a:lnTo>
                      <a:pt x="393" y="839"/>
                    </a:lnTo>
                    <a:lnTo>
                      <a:pt x="396" y="812"/>
                    </a:lnTo>
                    <a:lnTo>
                      <a:pt x="401" y="783"/>
                    </a:lnTo>
                    <a:lnTo>
                      <a:pt x="396" y="758"/>
                    </a:lnTo>
                    <a:lnTo>
                      <a:pt x="406" y="741"/>
                    </a:lnTo>
                    <a:lnTo>
                      <a:pt x="410" y="728"/>
                    </a:lnTo>
                    <a:lnTo>
                      <a:pt x="435" y="711"/>
                    </a:lnTo>
                    <a:lnTo>
                      <a:pt x="460" y="703"/>
                    </a:lnTo>
                    <a:lnTo>
                      <a:pt x="482" y="711"/>
                    </a:lnTo>
                    <a:lnTo>
                      <a:pt x="490" y="716"/>
                    </a:lnTo>
                    <a:lnTo>
                      <a:pt x="502" y="698"/>
                    </a:lnTo>
                    <a:lnTo>
                      <a:pt x="502" y="678"/>
                    </a:lnTo>
                    <a:lnTo>
                      <a:pt x="490" y="639"/>
                    </a:lnTo>
                    <a:lnTo>
                      <a:pt x="485" y="623"/>
                    </a:lnTo>
                    <a:lnTo>
                      <a:pt x="490" y="614"/>
                    </a:lnTo>
                    <a:lnTo>
                      <a:pt x="498" y="614"/>
                    </a:lnTo>
                    <a:lnTo>
                      <a:pt x="507" y="602"/>
                    </a:lnTo>
                    <a:lnTo>
                      <a:pt x="511" y="577"/>
                    </a:lnTo>
                    <a:lnTo>
                      <a:pt x="515" y="542"/>
                    </a:lnTo>
                    <a:lnTo>
                      <a:pt x="519" y="509"/>
                    </a:lnTo>
                    <a:lnTo>
                      <a:pt x="532" y="496"/>
                    </a:lnTo>
                    <a:lnTo>
                      <a:pt x="557" y="480"/>
                    </a:lnTo>
                    <a:lnTo>
                      <a:pt x="574" y="471"/>
                    </a:lnTo>
                    <a:lnTo>
                      <a:pt x="579" y="446"/>
                    </a:lnTo>
                    <a:lnTo>
                      <a:pt x="587" y="429"/>
                    </a:lnTo>
                    <a:lnTo>
                      <a:pt x="608" y="411"/>
                    </a:lnTo>
                    <a:lnTo>
                      <a:pt x="613" y="399"/>
                    </a:lnTo>
                    <a:lnTo>
                      <a:pt x="608" y="386"/>
                    </a:lnTo>
                    <a:lnTo>
                      <a:pt x="608" y="369"/>
                    </a:lnTo>
                    <a:lnTo>
                      <a:pt x="625" y="357"/>
                    </a:lnTo>
                    <a:lnTo>
                      <a:pt x="646" y="319"/>
                    </a:lnTo>
                    <a:lnTo>
                      <a:pt x="661" y="323"/>
                    </a:lnTo>
                    <a:lnTo>
                      <a:pt x="686" y="302"/>
                    </a:lnTo>
                    <a:lnTo>
                      <a:pt x="682" y="285"/>
                    </a:lnTo>
                    <a:lnTo>
                      <a:pt x="698" y="268"/>
                    </a:lnTo>
                    <a:lnTo>
                      <a:pt x="707" y="273"/>
                    </a:lnTo>
                    <a:lnTo>
                      <a:pt x="724" y="268"/>
                    </a:lnTo>
                    <a:lnTo>
                      <a:pt x="749" y="273"/>
                    </a:lnTo>
                    <a:lnTo>
                      <a:pt x="782" y="243"/>
                    </a:lnTo>
                    <a:lnTo>
                      <a:pt x="779" y="226"/>
                    </a:lnTo>
                    <a:lnTo>
                      <a:pt x="782" y="218"/>
                    </a:lnTo>
                    <a:lnTo>
                      <a:pt x="775" y="214"/>
                    </a:lnTo>
                    <a:lnTo>
                      <a:pt x="792" y="198"/>
                    </a:lnTo>
                    <a:lnTo>
                      <a:pt x="817" y="195"/>
                    </a:lnTo>
                    <a:lnTo>
                      <a:pt x="834" y="218"/>
                    </a:lnTo>
                    <a:lnTo>
                      <a:pt x="863" y="251"/>
                    </a:lnTo>
                    <a:lnTo>
                      <a:pt x="876" y="251"/>
                    </a:lnTo>
                    <a:lnTo>
                      <a:pt x="893" y="238"/>
                    </a:lnTo>
                    <a:lnTo>
                      <a:pt x="905" y="235"/>
                    </a:lnTo>
                    <a:lnTo>
                      <a:pt x="913" y="238"/>
                    </a:lnTo>
                    <a:lnTo>
                      <a:pt x="927" y="251"/>
                    </a:lnTo>
                    <a:lnTo>
                      <a:pt x="943" y="255"/>
                    </a:lnTo>
                    <a:lnTo>
                      <a:pt x="948" y="251"/>
                    </a:lnTo>
                    <a:lnTo>
                      <a:pt x="956" y="235"/>
                    </a:lnTo>
                    <a:lnTo>
                      <a:pt x="960" y="226"/>
                    </a:lnTo>
                    <a:lnTo>
                      <a:pt x="977" y="198"/>
                    </a:lnTo>
                    <a:lnTo>
                      <a:pt x="982" y="195"/>
                    </a:lnTo>
                    <a:lnTo>
                      <a:pt x="977" y="152"/>
                    </a:lnTo>
                    <a:lnTo>
                      <a:pt x="999" y="131"/>
                    </a:lnTo>
                    <a:lnTo>
                      <a:pt x="1007" y="136"/>
                    </a:lnTo>
                    <a:lnTo>
                      <a:pt x="1032" y="110"/>
                    </a:lnTo>
                    <a:lnTo>
                      <a:pt x="1053" y="136"/>
                    </a:lnTo>
                    <a:lnTo>
                      <a:pt x="1061" y="144"/>
                    </a:lnTo>
                    <a:lnTo>
                      <a:pt x="1074" y="139"/>
                    </a:lnTo>
                    <a:lnTo>
                      <a:pt x="1083" y="152"/>
                    </a:lnTo>
                    <a:lnTo>
                      <a:pt x="1083" y="161"/>
                    </a:lnTo>
                    <a:lnTo>
                      <a:pt x="1091" y="169"/>
                    </a:lnTo>
                    <a:lnTo>
                      <a:pt x="1091" y="181"/>
                    </a:lnTo>
                    <a:lnTo>
                      <a:pt x="1104" y="165"/>
                    </a:lnTo>
                    <a:lnTo>
                      <a:pt x="1125" y="148"/>
                    </a:lnTo>
                    <a:lnTo>
                      <a:pt x="1138" y="122"/>
                    </a:lnTo>
                    <a:lnTo>
                      <a:pt x="1129" y="119"/>
                    </a:lnTo>
                    <a:lnTo>
                      <a:pt x="1116" y="131"/>
                    </a:lnTo>
                    <a:lnTo>
                      <a:pt x="1113" y="110"/>
                    </a:lnTo>
                    <a:lnTo>
                      <a:pt x="1104" y="106"/>
                    </a:lnTo>
                    <a:lnTo>
                      <a:pt x="1100" y="94"/>
                    </a:lnTo>
                    <a:lnTo>
                      <a:pt x="1133" y="68"/>
                    </a:lnTo>
                    <a:lnTo>
                      <a:pt x="1146" y="72"/>
                    </a:lnTo>
                    <a:lnTo>
                      <a:pt x="1150" y="55"/>
                    </a:lnTo>
                    <a:lnTo>
                      <a:pt x="1142" y="50"/>
                    </a:lnTo>
                    <a:lnTo>
                      <a:pt x="1121" y="42"/>
                    </a:lnTo>
                    <a:lnTo>
                      <a:pt x="1108" y="38"/>
                    </a:lnTo>
                    <a:lnTo>
                      <a:pt x="1091" y="22"/>
                    </a:lnTo>
                    <a:lnTo>
                      <a:pt x="1074" y="17"/>
                    </a:lnTo>
                    <a:lnTo>
                      <a:pt x="1057" y="34"/>
                    </a:lnTo>
                    <a:lnTo>
                      <a:pt x="1049" y="47"/>
                    </a:lnTo>
                    <a:lnTo>
                      <a:pt x="1032" y="34"/>
                    </a:lnTo>
                    <a:lnTo>
                      <a:pt x="1041" y="25"/>
                    </a:lnTo>
                    <a:lnTo>
                      <a:pt x="1044" y="5"/>
                    </a:lnTo>
                    <a:lnTo>
                      <a:pt x="1041" y="0"/>
                    </a:lnTo>
                    <a:lnTo>
                      <a:pt x="1019" y="0"/>
                    </a:lnTo>
                    <a:lnTo>
                      <a:pt x="1015" y="8"/>
                    </a:lnTo>
                    <a:lnTo>
                      <a:pt x="1011" y="22"/>
                    </a:lnTo>
                    <a:lnTo>
                      <a:pt x="1015" y="34"/>
                    </a:lnTo>
                    <a:lnTo>
                      <a:pt x="999" y="50"/>
                    </a:lnTo>
                    <a:lnTo>
                      <a:pt x="985" y="25"/>
                    </a:lnTo>
                    <a:lnTo>
                      <a:pt x="973" y="30"/>
                    </a:lnTo>
                    <a:lnTo>
                      <a:pt x="969" y="50"/>
                    </a:lnTo>
                    <a:lnTo>
                      <a:pt x="960" y="80"/>
                    </a:lnTo>
                    <a:lnTo>
                      <a:pt x="940" y="102"/>
                    </a:lnTo>
                    <a:lnTo>
                      <a:pt x="927" y="77"/>
                    </a:lnTo>
                    <a:lnTo>
                      <a:pt x="948" y="60"/>
                    </a:lnTo>
                    <a:lnTo>
                      <a:pt x="952" y="34"/>
                    </a:lnTo>
                    <a:lnTo>
                      <a:pt x="940" y="34"/>
                    </a:lnTo>
                    <a:lnTo>
                      <a:pt x="918" y="34"/>
                    </a:lnTo>
                    <a:lnTo>
                      <a:pt x="901" y="60"/>
                    </a:lnTo>
                    <a:lnTo>
                      <a:pt x="880" y="94"/>
                    </a:lnTo>
                    <a:lnTo>
                      <a:pt x="888" y="110"/>
                    </a:lnTo>
                    <a:lnTo>
                      <a:pt x="876" y="119"/>
                    </a:lnTo>
                    <a:lnTo>
                      <a:pt x="859" y="106"/>
                    </a:lnTo>
                    <a:lnTo>
                      <a:pt x="842" y="114"/>
                    </a:lnTo>
                    <a:lnTo>
                      <a:pt x="846" y="131"/>
                    </a:lnTo>
                    <a:lnTo>
                      <a:pt x="826" y="131"/>
                    </a:lnTo>
                    <a:lnTo>
                      <a:pt x="812" y="136"/>
                    </a:lnTo>
                    <a:lnTo>
                      <a:pt x="796" y="156"/>
                    </a:lnTo>
                    <a:lnTo>
                      <a:pt x="775" y="152"/>
                    </a:lnTo>
                    <a:lnTo>
                      <a:pt x="775" y="165"/>
                    </a:lnTo>
                    <a:lnTo>
                      <a:pt x="757" y="152"/>
                    </a:lnTo>
                    <a:lnTo>
                      <a:pt x="737" y="161"/>
                    </a:lnTo>
                    <a:lnTo>
                      <a:pt x="732" y="178"/>
                    </a:lnTo>
                    <a:lnTo>
                      <a:pt x="715" y="181"/>
                    </a:lnTo>
                    <a:lnTo>
                      <a:pt x="703" y="165"/>
                    </a:lnTo>
                    <a:lnTo>
                      <a:pt x="678" y="169"/>
                    </a:lnTo>
                    <a:lnTo>
                      <a:pt x="653" y="178"/>
                    </a:lnTo>
                    <a:lnTo>
                      <a:pt x="653" y="203"/>
                    </a:lnTo>
                    <a:lnTo>
                      <a:pt x="669" y="208"/>
                    </a:lnTo>
                    <a:lnTo>
                      <a:pt x="669" y="214"/>
                    </a:lnTo>
                    <a:lnTo>
                      <a:pt x="669" y="230"/>
                    </a:lnTo>
                    <a:lnTo>
                      <a:pt x="656" y="226"/>
                    </a:lnTo>
                    <a:lnTo>
                      <a:pt x="641" y="235"/>
                    </a:lnTo>
                    <a:lnTo>
                      <a:pt x="646" y="251"/>
                    </a:lnTo>
                    <a:lnTo>
                      <a:pt x="661" y="265"/>
                    </a:lnTo>
                    <a:lnTo>
                      <a:pt x="661" y="285"/>
                    </a:lnTo>
                    <a:lnTo>
                      <a:pt x="646" y="277"/>
                    </a:lnTo>
                    <a:lnTo>
                      <a:pt x="633" y="280"/>
                    </a:lnTo>
                    <a:lnTo>
                      <a:pt x="633" y="298"/>
                    </a:lnTo>
                    <a:lnTo>
                      <a:pt x="613" y="298"/>
                    </a:lnTo>
                    <a:lnTo>
                      <a:pt x="596" y="298"/>
                    </a:lnTo>
                    <a:lnTo>
                      <a:pt x="591" y="310"/>
                    </a:lnTo>
                    <a:lnTo>
                      <a:pt x="587" y="319"/>
                    </a:lnTo>
                    <a:lnTo>
                      <a:pt x="574" y="323"/>
                    </a:lnTo>
                    <a:lnTo>
                      <a:pt x="570" y="332"/>
                    </a:lnTo>
                    <a:lnTo>
                      <a:pt x="574" y="344"/>
                    </a:lnTo>
                    <a:lnTo>
                      <a:pt x="549" y="352"/>
                    </a:lnTo>
                    <a:lnTo>
                      <a:pt x="566" y="369"/>
                    </a:lnTo>
                    <a:lnTo>
                      <a:pt x="570" y="378"/>
                    </a:lnTo>
                    <a:lnTo>
                      <a:pt x="554" y="391"/>
                    </a:lnTo>
                    <a:lnTo>
                      <a:pt x="524" y="411"/>
                    </a:lnTo>
                    <a:lnTo>
                      <a:pt x="502" y="429"/>
                    </a:lnTo>
                    <a:lnTo>
                      <a:pt x="490" y="454"/>
                    </a:lnTo>
                    <a:lnTo>
                      <a:pt x="468" y="471"/>
                    </a:lnTo>
                    <a:lnTo>
                      <a:pt x="468" y="483"/>
                    </a:lnTo>
                    <a:lnTo>
                      <a:pt x="473" y="496"/>
                    </a:lnTo>
                    <a:lnTo>
                      <a:pt x="456" y="509"/>
                    </a:lnTo>
                    <a:lnTo>
                      <a:pt x="460" y="525"/>
                    </a:lnTo>
                    <a:lnTo>
                      <a:pt x="443" y="555"/>
                    </a:lnTo>
                    <a:lnTo>
                      <a:pt x="431" y="560"/>
                    </a:lnTo>
                    <a:lnTo>
                      <a:pt x="431" y="581"/>
                    </a:lnTo>
                    <a:lnTo>
                      <a:pt x="440" y="594"/>
                    </a:lnTo>
                    <a:lnTo>
                      <a:pt x="426" y="606"/>
                    </a:lnTo>
                    <a:lnTo>
                      <a:pt x="418" y="597"/>
                    </a:lnTo>
                    <a:lnTo>
                      <a:pt x="401" y="606"/>
                    </a:lnTo>
                    <a:lnTo>
                      <a:pt x="406" y="631"/>
                    </a:lnTo>
                    <a:lnTo>
                      <a:pt x="389" y="639"/>
                    </a:lnTo>
                    <a:lnTo>
                      <a:pt x="363" y="644"/>
                    </a:lnTo>
                    <a:lnTo>
                      <a:pt x="346" y="665"/>
                    </a:lnTo>
                    <a:lnTo>
                      <a:pt x="342" y="686"/>
                    </a:lnTo>
                    <a:lnTo>
                      <a:pt x="325" y="703"/>
                    </a:lnTo>
                    <a:lnTo>
                      <a:pt x="325" y="716"/>
                    </a:lnTo>
                    <a:lnTo>
                      <a:pt x="346" y="698"/>
                    </a:lnTo>
                    <a:lnTo>
                      <a:pt x="371" y="681"/>
                    </a:lnTo>
                    <a:lnTo>
                      <a:pt x="381" y="686"/>
                    </a:lnTo>
                    <a:lnTo>
                      <a:pt x="371" y="711"/>
                    </a:lnTo>
                    <a:lnTo>
                      <a:pt x="351" y="725"/>
                    </a:lnTo>
                    <a:lnTo>
                      <a:pt x="329" y="720"/>
                    </a:lnTo>
                    <a:lnTo>
                      <a:pt x="334" y="737"/>
                    </a:lnTo>
                    <a:lnTo>
                      <a:pt x="304" y="750"/>
                    </a:lnTo>
                    <a:lnTo>
                      <a:pt x="300" y="725"/>
                    </a:lnTo>
                    <a:lnTo>
                      <a:pt x="287" y="716"/>
                    </a:lnTo>
                    <a:lnTo>
                      <a:pt x="270" y="741"/>
                    </a:lnTo>
                    <a:lnTo>
                      <a:pt x="253" y="741"/>
                    </a:lnTo>
                    <a:lnTo>
                      <a:pt x="235" y="745"/>
                    </a:lnTo>
                    <a:lnTo>
                      <a:pt x="233" y="767"/>
                    </a:lnTo>
                    <a:lnTo>
                      <a:pt x="223" y="770"/>
                    </a:lnTo>
                    <a:lnTo>
                      <a:pt x="223" y="782"/>
                    </a:lnTo>
                    <a:lnTo>
                      <a:pt x="213" y="777"/>
                    </a:lnTo>
                    <a:lnTo>
                      <a:pt x="198" y="768"/>
                    </a:lnTo>
                    <a:lnTo>
                      <a:pt x="176" y="770"/>
                    </a:lnTo>
                    <a:lnTo>
                      <a:pt x="176" y="783"/>
                    </a:lnTo>
                    <a:lnTo>
                      <a:pt x="178" y="794"/>
                    </a:lnTo>
                    <a:lnTo>
                      <a:pt x="169" y="798"/>
                    </a:lnTo>
                    <a:lnTo>
                      <a:pt x="148" y="787"/>
                    </a:lnTo>
                    <a:lnTo>
                      <a:pt x="129" y="802"/>
                    </a:lnTo>
                    <a:lnTo>
                      <a:pt x="133" y="815"/>
                    </a:lnTo>
                    <a:lnTo>
                      <a:pt x="131" y="824"/>
                    </a:lnTo>
                    <a:lnTo>
                      <a:pt x="112" y="815"/>
                    </a:lnTo>
                    <a:lnTo>
                      <a:pt x="106" y="826"/>
                    </a:lnTo>
                    <a:lnTo>
                      <a:pt x="99" y="834"/>
                    </a:lnTo>
                    <a:lnTo>
                      <a:pt x="77" y="829"/>
                    </a:lnTo>
                    <a:lnTo>
                      <a:pt x="64" y="832"/>
                    </a:lnTo>
                    <a:lnTo>
                      <a:pt x="62" y="849"/>
                    </a:lnTo>
                    <a:lnTo>
                      <a:pt x="53" y="853"/>
                    </a:lnTo>
                    <a:lnTo>
                      <a:pt x="40" y="872"/>
                    </a:lnTo>
                    <a:lnTo>
                      <a:pt x="42" y="895"/>
                    </a:lnTo>
                    <a:lnTo>
                      <a:pt x="38" y="929"/>
                    </a:lnTo>
                    <a:lnTo>
                      <a:pt x="32" y="963"/>
                    </a:lnTo>
                    <a:lnTo>
                      <a:pt x="28" y="995"/>
                    </a:lnTo>
                    <a:lnTo>
                      <a:pt x="23" y="1011"/>
                    </a:lnTo>
                    <a:lnTo>
                      <a:pt x="34" y="1025"/>
                    </a:lnTo>
                    <a:lnTo>
                      <a:pt x="53" y="1013"/>
                    </a:lnTo>
                    <a:lnTo>
                      <a:pt x="65" y="1020"/>
                    </a:lnTo>
                    <a:lnTo>
                      <a:pt x="65" y="1032"/>
                    </a:lnTo>
                    <a:lnTo>
                      <a:pt x="47" y="1042"/>
                    </a:lnTo>
                    <a:lnTo>
                      <a:pt x="45" y="1064"/>
                    </a:lnTo>
                    <a:lnTo>
                      <a:pt x="40" y="1074"/>
                    </a:lnTo>
                    <a:lnTo>
                      <a:pt x="22" y="1072"/>
                    </a:lnTo>
                    <a:lnTo>
                      <a:pt x="15" y="1097"/>
                    </a:lnTo>
                    <a:lnTo>
                      <a:pt x="23" y="1104"/>
                    </a:lnTo>
                    <a:lnTo>
                      <a:pt x="40" y="1099"/>
                    </a:lnTo>
                    <a:lnTo>
                      <a:pt x="49" y="1111"/>
                    </a:lnTo>
                    <a:lnTo>
                      <a:pt x="50" y="1116"/>
                    </a:lnTo>
                    <a:lnTo>
                      <a:pt x="37" y="1126"/>
                    </a:lnTo>
                    <a:lnTo>
                      <a:pt x="38" y="1140"/>
                    </a:lnTo>
                    <a:lnTo>
                      <a:pt x="22" y="1144"/>
                    </a:lnTo>
                    <a:lnTo>
                      <a:pt x="10" y="1136"/>
                    </a:lnTo>
                    <a:lnTo>
                      <a:pt x="13" y="1156"/>
                    </a:lnTo>
                    <a:lnTo>
                      <a:pt x="10" y="1171"/>
                    </a:lnTo>
                    <a:lnTo>
                      <a:pt x="0" y="1171"/>
                    </a:lnTo>
                    <a:lnTo>
                      <a:pt x="25" y="1197"/>
                    </a:lnTo>
                    <a:lnTo>
                      <a:pt x="38" y="1212"/>
                    </a:lnTo>
                    <a:lnTo>
                      <a:pt x="45" y="1233"/>
                    </a:lnTo>
                    <a:lnTo>
                      <a:pt x="70" y="1247"/>
                    </a:lnTo>
                    <a:lnTo>
                      <a:pt x="97" y="1262"/>
                    </a:lnTo>
                    <a:lnTo>
                      <a:pt x="123" y="1262"/>
                    </a:lnTo>
                    <a:lnTo>
                      <a:pt x="161" y="1237"/>
                    </a:lnTo>
                    <a:lnTo>
                      <a:pt x="198" y="1210"/>
                    </a:lnTo>
                    <a:lnTo>
                      <a:pt x="233" y="1163"/>
                    </a:lnTo>
                    <a:lnTo>
                      <a:pt x="238" y="1159"/>
                    </a:lnTo>
                    <a:lnTo>
                      <a:pt x="247" y="1173"/>
                    </a:lnTo>
                    <a:lnTo>
                      <a:pt x="264" y="1163"/>
                    </a:lnTo>
                    <a:lnTo>
                      <a:pt x="270" y="1146"/>
                    </a:lnTo>
                    <a:lnTo>
                      <a:pt x="272" y="1126"/>
                    </a:lnTo>
                    <a:lnTo>
                      <a:pt x="289" y="1099"/>
                    </a:lnTo>
                    <a:lnTo>
                      <a:pt x="283" y="1129"/>
                    </a:lnTo>
                    <a:lnTo>
                      <a:pt x="292" y="1134"/>
                    </a:lnTo>
                    <a:lnTo>
                      <a:pt x="287" y="1146"/>
                    </a:lnTo>
                    <a:lnTo>
                      <a:pt x="292" y="1169"/>
                    </a:lnTo>
                    <a:lnTo>
                      <a:pt x="300" y="1188"/>
                    </a:lnTo>
                    <a:lnTo>
                      <a:pt x="310" y="1182"/>
                    </a:lnTo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5189040" y="2544840"/>
              <a:ext cx="249120" cy="228600"/>
              <a:chOff x="5189040" y="2544840"/>
              <a:chExt cx="249120" cy="228600"/>
            </a:xfrm>
          </p:grpSpPr>
          <p:sp>
            <p:nvSpPr>
              <p:cNvPr id="260" name=""/>
              <p:cNvSpPr/>
              <p:nvPr/>
            </p:nvSpPr>
            <p:spPr>
              <a:xfrm>
                <a:off x="5307480" y="2614680"/>
                <a:ext cx="11880" cy="14400"/>
              </a:xfrm>
              <a:custGeom>
                <a:avLst/>
                <a:gdLst/>
                <a:ahLst/>
                <a:rect l="l" t="t" r="r" b="b"/>
                <a:pathLst>
                  <a:path w="34" h="45">
                    <a:moveTo>
                      <a:pt x="34" y="7"/>
                    </a:moveTo>
                    <a:lnTo>
                      <a:pt x="30" y="17"/>
                    </a:lnTo>
                    <a:lnTo>
                      <a:pt x="34" y="38"/>
                    </a:lnTo>
                    <a:lnTo>
                      <a:pt x="10" y="45"/>
                    </a:lnTo>
                    <a:lnTo>
                      <a:pt x="0" y="34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288760" y="2624040"/>
                <a:ext cx="10080" cy="7920"/>
              </a:xfrm>
              <a:custGeom>
                <a:avLst/>
                <a:gdLst/>
                <a:ahLst/>
                <a:rect l="l" t="t" r="r" b="b"/>
                <a:pathLst>
                  <a:path w="31" h="24">
                    <a:moveTo>
                      <a:pt x="27" y="0"/>
                    </a:moveTo>
                    <a:lnTo>
                      <a:pt x="31" y="17"/>
                    </a:lnTo>
                    <a:lnTo>
                      <a:pt x="7" y="24"/>
                    </a:lnTo>
                    <a:lnTo>
                      <a:pt x="0" y="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292000" y="2608200"/>
                <a:ext cx="11880" cy="9720"/>
              </a:xfrm>
              <a:custGeom>
                <a:avLst/>
                <a:gdLst/>
                <a:ahLst/>
                <a:rect l="l" t="t" r="r" b="b"/>
                <a:pathLst>
                  <a:path w="38" h="28">
                    <a:moveTo>
                      <a:pt x="0" y="18"/>
                    </a:moveTo>
                    <a:lnTo>
                      <a:pt x="27" y="28"/>
                    </a:lnTo>
                    <a:lnTo>
                      <a:pt x="38" y="7"/>
                    </a:lnTo>
                    <a:lnTo>
                      <a:pt x="21" y="0"/>
                    </a:lnTo>
                    <a:lnTo>
                      <a:pt x="10" y="7"/>
                    </a:lnTo>
                    <a:lnTo>
                      <a:pt x="0" y="12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307480" y="260028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0" y="18"/>
                    </a:moveTo>
                    <a:lnTo>
                      <a:pt x="20" y="0"/>
                    </a:lnTo>
                    <a:lnTo>
                      <a:pt x="27" y="7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272920" y="2627280"/>
                <a:ext cx="6840" cy="64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8" y="0"/>
                    </a:moveTo>
                    <a:lnTo>
                      <a:pt x="21" y="17"/>
                    </a:lnTo>
                    <a:lnTo>
                      <a:pt x="0" y="2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347080" y="258300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37" h="31">
                    <a:moveTo>
                      <a:pt x="17" y="0"/>
                    </a:moveTo>
                    <a:lnTo>
                      <a:pt x="0" y="14"/>
                    </a:lnTo>
                    <a:lnTo>
                      <a:pt x="24" y="31"/>
                    </a:lnTo>
                    <a:lnTo>
                      <a:pt x="37" y="1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359320" y="2573280"/>
                <a:ext cx="13320" cy="972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0" y="10"/>
                    </a:moveTo>
                    <a:lnTo>
                      <a:pt x="17" y="30"/>
                    </a:lnTo>
                    <a:lnTo>
                      <a:pt x="38" y="17"/>
                    </a:lnTo>
                    <a:lnTo>
                      <a:pt x="2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393520" y="2556000"/>
                <a:ext cx="18360" cy="11160"/>
              </a:xfrm>
              <a:custGeom>
                <a:avLst/>
                <a:gdLst/>
                <a:ahLst/>
                <a:rect l="l" t="t" r="r" b="b"/>
                <a:pathLst>
                  <a:path w="55" h="38">
                    <a:moveTo>
                      <a:pt x="24" y="11"/>
                    </a:moveTo>
                    <a:lnTo>
                      <a:pt x="34" y="18"/>
                    </a:lnTo>
                    <a:lnTo>
                      <a:pt x="55" y="0"/>
                    </a:lnTo>
                    <a:lnTo>
                      <a:pt x="44" y="35"/>
                    </a:lnTo>
                    <a:lnTo>
                      <a:pt x="24" y="38"/>
                    </a:lnTo>
                    <a:lnTo>
                      <a:pt x="0" y="14"/>
                    </a:lnTo>
                    <a:lnTo>
                      <a:pt x="24" y="11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429520" y="254484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14" y="0"/>
                    </a:moveTo>
                    <a:lnTo>
                      <a:pt x="24" y="7"/>
                    </a:lnTo>
                    <a:lnTo>
                      <a:pt x="27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189040" y="2765520"/>
                <a:ext cx="13320" cy="792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41" y="14"/>
                    </a:moveTo>
                    <a:lnTo>
                      <a:pt x="10" y="0"/>
                    </a:lnTo>
                    <a:lnTo>
                      <a:pt x="0" y="11"/>
                    </a:lnTo>
                    <a:lnTo>
                      <a:pt x="3" y="24"/>
                    </a:lnTo>
                    <a:lnTo>
                      <a:pt x="41" y="14"/>
                    </a:lnTo>
                    <a:close/>
                  </a:path>
                </a:pathLst>
              </a:custGeom>
              <a:solidFill>
                <a:srgbClr val="ff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0" name=""/>
          <p:cNvSpPr/>
          <p:nvPr/>
        </p:nvSpPr>
        <p:spPr>
          <a:xfrm>
            <a:off x="5297400" y="3228840"/>
            <a:ext cx="138240" cy="57240"/>
          </a:xfrm>
          <a:custGeom>
            <a:avLst/>
            <a:gdLst/>
            <a:ahLst/>
            <a:rect l="l" t="t" r="r" b="b"/>
            <a:pathLst>
              <a:path w="401" h="178">
                <a:moveTo>
                  <a:pt x="137" y="10"/>
                </a:moveTo>
                <a:lnTo>
                  <a:pt x="151" y="0"/>
                </a:lnTo>
                <a:lnTo>
                  <a:pt x="166" y="0"/>
                </a:lnTo>
                <a:lnTo>
                  <a:pt x="173" y="13"/>
                </a:lnTo>
                <a:lnTo>
                  <a:pt x="188" y="3"/>
                </a:lnTo>
                <a:lnTo>
                  <a:pt x="203" y="7"/>
                </a:lnTo>
                <a:lnTo>
                  <a:pt x="226" y="30"/>
                </a:lnTo>
                <a:lnTo>
                  <a:pt x="251" y="40"/>
                </a:lnTo>
                <a:lnTo>
                  <a:pt x="260" y="43"/>
                </a:lnTo>
                <a:lnTo>
                  <a:pt x="272" y="32"/>
                </a:lnTo>
                <a:lnTo>
                  <a:pt x="285" y="28"/>
                </a:lnTo>
                <a:lnTo>
                  <a:pt x="319" y="37"/>
                </a:lnTo>
                <a:lnTo>
                  <a:pt x="365" y="47"/>
                </a:lnTo>
                <a:lnTo>
                  <a:pt x="401" y="57"/>
                </a:lnTo>
                <a:lnTo>
                  <a:pt x="388" y="72"/>
                </a:lnTo>
                <a:lnTo>
                  <a:pt x="365" y="96"/>
                </a:lnTo>
                <a:lnTo>
                  <a:pt x="359" y="104"/>
                </a:lnTo>
                <a:lnTo>
                  <a:pt x="361" y="121"/>
                </a:lnTo>
                <a:lnTo>
                  <a:pt x="344" y="121"/>
                </a:lnTo>
                <a:lnTo>
                  <a:pt x="327" y="109"/>
                </a:lnTo>
                <a:lnTo>
                  <a:pt x="310" y="104"/>
                </a:lnTo>
                <a:lnTo>
                  <a:pt x="266" y="114"/>
                </a:lnTo>
                <a:lnTo>
                  <a:pt x="254" y="125"/>
                </a:lnTo>
                <a:lnTo>
                  <a:pt x="242" y="141"/>
                </a:lnTo>
                <a:lnTo>
                  <a:pt x="218" y="155"/>
                </a:lnTo>
                <a:lnTo>
                  <a:pt x="204" y="155"/>
                </a:lnTo>
                <a:lnTo>
                  <a:pt x="189" y="143"/>
                </a:lnTo>
                <a:lnTo>
                  <a:pt x="177" y="143"/>
                </a:lnTo>
                <a:lnTo>
                  <a:pt x="131" y="164"/>
                </a:lnTo>
                <a:lnTo>
                  <a:pt x="110" y="176"/>
                </a:lnTo>
                <a:lnTo>
                  <a:pt x="94" y="178"/>
                </a:lnTo>
                <a:lnTo>
                  <a:pt x="57" y="176"/>
                </a:lnTo>
                <a:lnTo>
                  <a:pt x="42" y="176"/>
                </a:lnTo>
                <a:lnTo>
                  <a:pt x="31" y="159"/>
                </a:lnTo>
                <a:lnTo>
                  <a:pt x="25" y="153"/>
                </a:lnTo>
                <a:lnTo>
                  <a:pt x="13" y="146"/>
                </a:lnTo>
                <a:lnTo>
                  <a:pt x="6" y="138"/>
                </a:lnTo>
                <a:lnTo>
                  <a:pt x="0" y="121"/>
                </a:lnTo>
                <a:lnTo>
                  <a:pt x="0" y="102"/>
                </a:lnTo>
                <a:lnTo>
                  <a:pt x="39" y="86"/>
                </a:lnTo>
                <a:lnTo>
                  <a:pt x="82" y="86"/>
                </a:lnTo>
                <a:lnTo>
                  <a:pt x="108" y="62"/>
                </a:lnTo>
                <a:lnTo>
                  <a:pt x="112" y="21"/>
                </a:lnTo>
                <a:lnTo>
                  <a:pt x="137" y="10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65720" y="3367080"/>
            <a:ext cx="92160" cy="79560"/>
          </a:xfrm>
          <a:custGeom>
            <a:avLst/>
            <a:gdLst/>
            <a:ahLst/>
            <a:rect l="l" t="t" r="r" b="b"/>
            <a:pathLst>
              <a:path w="270" h="251">
                <a:moveTo>
                  <a:pt x="250" y="36"/>
                </a:moveTo>
                <a:lnTo>
                  <a:pt x="236" y="36"/>
                </a:lnTo>
                <a:lnTo>
                  <a:pt x="221" y="25"/>
                </a:lnTo>
                <a:lnTo>
                  <a:pt x="202" y="15"/>
                </a:lnTo>
                <a:lnTo>
                  <a:pt x="178" y="28"/>
                </a:lnTo>
                <a:lnTo>
                  <a:pt x="156" y="22"/>
                </a:lnTo>
                <a:lnTo>
                  <a:pt x="137" y="31"/>
                </a:lnTo>
                <a:lnTo>
                  <a:pt x="136" y="22"/>
                </a:lnTo>
                <a:lnTo>
                  <a:pt x="119" y="21"/>
                </a:lnTo>
                <a:lnTo>
                  <a:pt x="98" y="0"/>
                </a:lnTo>
                <a:lnTo>
                  <a:pt x="67" y="35"/>
                </a:lnTo>
                <a:lnTo>
                  <a:pt x="20" y="19"/>
                </a:lnTo>
                <a:lnTo>
                  <a:pt x="0" y="24"/>
                </a:lnTo>
                <a:lnTo>
                  <a:pt x="0" y="36"/>
                </a:lnTo>
                <a:lnTo>
                  <a:pt x="52" y="89"/>
                </a:lnTo>
                <a:lnTo>
                  <a:pt x="64" y="125"/>
                </a:lnTo>
                <a:lnTo>
                  <a:pt x="91" y="145"/>
                </a:lnTo>
                <a:lnTo>
                  <a:pt x="103" y="142"/>
                </a:lnTo>
                <a:lnTo>
                  <a:pt x="170" y="213"/>
                </a:lnTo>
                <a:lnTo>
                  <a:pt x="174" y="229"/>
                </a:lnTo>
                <a:lnTo>
                  <a:pt x="170" y="240"/>
                </a:lnTo>
                <a:lnTo>
                  <a:pt x="174" y="251"/>
                </a:lnTo>
                <a:lnTo>
                  <a:pt x="194" y="241"/>
                </a:lnTo>
                <a:lnTo>
                  <a:pt x="209" y="236"/>
                </a:lnTo>
                <a:lnTo>
                  <a:pt x="209" y="212"/>
                </a:lnTo>
                <a:lnTo>
                  <a:pt x="228" y="196"/>
                </a:lnTo>
                <a:lnTo>
                  <a:pt x="236" y="179"/>
                </a:lnTo>
                <a:lnTo>
                  <a:pt x="256" y="171"/>
                </a:lnTo>
                <a:lnTo>
                  <a:pt x="260" y="151"/>
                </a:lnTo>
                <a:lnTo>
                  <a:pt x="256" y="131"/>
                </a:lnTo>
                <a:lnTo>
                  <a:pt x="267" y="123"/>
                </a:lnTo>
                <a:lnTo>
                  <a:pt x="249" y="97"/>
                </a:lnTo>
                <a:lnTo>
                  <a:pt x="270" y="60"/>
                </a:lnTo>
                <a:lnTo>
                  <a:pt x="250" y="36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91000" y="3470400"/>
            <a:ext cx="63720" cy="39600"/>
          </a:xfrm>
          <a:custGeom>
            <a:avLst/>
            <a:gdLst/>
            <a:ahLst/>
            <a:rect l="l" t="t" r="r" b="b"/>
            <a:pathLst>
              <a:path w="185" h="125">
                <a:moveTo>
                  <a:pt x="7" y="38"/>
                </a:moveTo>
                <a:lnTo>
                  <a:pt x="39" y="16"/>
                </a:lnTo>
                <a:lnTo>
                  <a:pt x="59" y="13"/>
                </a:lnTo>
                <a:lnTo>
                  <a:pt x="80" y="7"/>
                </a:lnTo>
                <a:lnTo>
                  <a:pt x="97" y="7"/>
                </a:lnTo>
                <a:lnTo>
                  <a:pt x="114" y="0"/>
                </a:lnTo>
                <a:lnTo>
                  <a:pt x="144" y="7"/>
                </a:lnTo>
                <a:lnTo>
                  <a:pt x="161" y="6"/>
                </a:lnTo>
                <a:lnTo>
                  <a:pt x="178" y="23"/>
                </a:lnTo>
                <a:lnTo>
                  <a:pt x="176" y="72"/>
                </a:lnTo>
                <a:lnTo>
                  <a:pt x="185" y="78"/>
                </a:lnTo>
                <a:lnTo>
                  <a:pt x="172" y="98"/>
                </a:lnTo>
                <a:lnTo>
                  <a:pt x="131" y="106"/>
                </a:lnTo>
                <a:lnTo>
                  <a:pt x="114" y="101"/>
                </a:lnTo>
                <a:lnTo>
                  <a:pt x="103" y="125"/>
                </a:lnTo>
                <a:lnTo>
                  <a:pt x="72" y="123"/>
                </a:lnTo>
                <a:lnTo>
                  <a:pt x="59" y="120"/>
                </a:lnTo>
                <a:lnTo>
                  <a:pt x="41" y="119"/>
                </a:lnTo>
                <a:lnTo>
                  <a:pt x="31" y="108"/>
                </a:lnTo>
                <a:lnTo>
                  <a:pt x="24" y="112"/>
                </a:lnTo>
                <a:lnTo>
                  <a:pt x="10" y="101"/>
                </a:lnTo>
                <a:lnTo>
                  <a:pt x="0" y="72"/>
                </a:lnTo>
                <a:lnTo>
                  <a:pt x="8" y="57"/>
                </a:lnTo>
                <a:lnTo>
                  <a:pt x="7" y="38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22960" y="3343320"/>
            <a:ext cx="129960" cy="139680"/>
          </a:xfrm>
          <a:custGeom>
            <a:avLst/>
            <a:gdLst/>
            <a:ahLst/>
            <a:rect l="l" t="t" r="r" b="b"/>
            <a:pathLst>
              <a:path w="373" h="441">
                <a:moveTo>
                  <a:pt x="63" y="31"/>
                </a:moveTo>
                <a:lnTo>
                  <a:pt x="137" y="3"/>
                </a:lnTo>
                <a:lnTo>
                  <a:pt x="171" y="0"/>
                </a:lnTo>
                <a:lnTo>
                  <a:pt x="192" y="1"/>
                </a:lnTo>
                <a:lnTo>
                  <a:pt x="199" y="7"/>
                </a:lnTo>
                <a:lnTo>
                  <a:pt x="205" y="13"/>
                </a:lnTo>
                <a:lnTo>
                  <a:pt x="206" y="21"/>
                </a:lnTo>
                <a:lnTo>
                  <a:pt x="213" y="24"/>
                </a:lnTo>
                <a:lnTo>
                  <a:pt x="222" y="41"/>
                </a:lnTo>
                <a:lnTo>
                  <a:pt x="223" y="66"/>
                </a:lnTo>
                <a:lnTo>
                  <a:pt x="232" y="75"/>
                </a:lnTo>
                <a:lnTo>
                  <a:pt x="254" y="75"/>
                </a:lnTo>
                <a:lnTo>
                  <a:pt x="268" y="110"/>
                </a:lnTo>
                <a:lnTo>
                  <a:pt x="268" y="134"/>
                </a:lnTo>
                <a:lnTo>
                  <a:pt x="277" y="150"/>
                </a:lnTo>
                <a:lnTo>
                  <a:pt x="287" y="150"/>
                </a:lnTo>
                <a:lnTo>
                  <a:pt x="309" y="134"/>
                </a:lnTo>
                <a:lnTo>
                  <a:pt x="321" y="144"/>
                </a:lnTo>
                <a:lnTo>
                  <a:pt x="322" y="165"/>
                </a:lnTo>
                <a:lnTo>
                  <a:pt x="345" y="177"/>
                </a:lnTo>
                <a:lnTo>
                  <a:pt x="342" y="199"/>
                </a:lnTo>
                <a:lnTo>
                  <a:pt x="343" y="205"/>
                </a:lnTo>
                <a:lnTo>
                  <a:pt x="346" y="208"/>
                </a:lnTo>
                <a:lnTo>
                  <a:pt x="338" y="220"/>
                </a:lnTo>
                <a:lnTo>
                  <a:pt x="336" y="233"/>
                </a:lnTo>
                <a:lnTo>
                  <a:pt x="349" y="261"/>
                </a:lnTo>
                <a:lnTo>
                  <a:pt x="367" y="264"/>
                </a:lnTo>
                <a:lnTo>
                  <a:pt x="373" y="278"/>
                </a:lnTo>
                <a:lnTo>
                  <a:pt x="367" y="305"/>
                </a:lnTo>
                <a:lnTo>
                  <a:pt x="340" y="329"/>
                </a:lnTo>
                <a:lnTo>
                  <a:pt x="346" y="372"/>
                </a:lnTo>
                <a:lnTo>
                  <a:pt x="336" y="390"/>
                </a:lnTo>
                <a:lnTo>
                  <a:pt x="343" y="411"/>
                </a:lnTo>
                <a:lnTo>
                  <a:pt x="309" y="404"/>
                </a:lnTo>
                <a:lnTo>
                  <a:pt x="292" y="411"/>
                </a:lnTo>
                <a:lnTo>
                  <a:pt x="275" y="411"/>
                </a:lnTo>
                <a:lnTo>
                  <a:pt x="254" y="417"/>
                </a:lnTo>
                <a:lnTo>
                  <a:pt x="234" y="420"/>
                </a:lnTo>
                <a:lnTo>
                  <a:pt x="202" y="441"/>
                </a:lnTo>
                <a:lnTo>
                  <a:pt x="203" y="401"/>
                </a:lnTo>
                <a:lnTo>
                  <a:pt x="196" y="390"/>
                </a:lnTo>
                <a:lnTo>
                  <a:pt x="174" y="387"/>
                </a:lnTo>
                <a:lnTo>
                  <a:pt x="168" y="370"/>
                </a:lnTo>
                <a:lnTo>
                  <a:pt x="154" y="369"/>
                </a:lnTo>
                <a:lnTo>
                  <a:pt x="148" y="373"/>
                </a:lnTo>
                <a:lnTo>
                  <a:pt x="120" y="369"/>
                </a:lnTo>
                <a:lnTo>
                  <a:pt x="110" y="377"/>
                </a:lnTo>
                <a:lnTo>
                  <a:pt x="104" y="408"/>
                </a:lnTo>
                <a:lnTo>
                  <a:pt x="92" y="431"/>
                </a:lnTo>
                <a:lnTo>
                  <a:pt x="15" y="363"/>
                </a:lnTo>
                <a:lnTo>
                  <a:pt x="0" y="331"/>
                </a:lnTo>
                <a:lnTo>
                  <a:pt x="21" y="322"/>
                </a:lnTo>
                <a:lnTo>
                  <a:pt x="38" y="314"/>
                </a:lnTo>
                <a:lnTo>
                  <a:pt x="38" y="288"/>
                </a:lnTo>
                <a:lnTo>
                  <a:pt x="55" y="278"/>
                </a:lnTo>
                <a:lnTo>
                  <a:pt x="63" y="259"/>
                </a:lnTo>
                <a:lnTo>
                  <a:pt x="82" y="247"/>
                </a:lnTo>
                <a:lnTo>
                  <a:pt x="86" y="230"/>
                </a:lnTo>
                <a:lnTo>
                  <a:pt x="83" y="212"/>
                </a:lnTo>
                <a:lnTo>
                  <a:pt x="96" y="201"/>
                </a:lnTo>
                <a:lnTo>
                  <a:pt x="79" y="175"/>
                </a:lnTo>
                <a:lnTo>
                  <a:pt x="97" y="140"/>
                </a:lnTo>
                <a:lnTo>
                  <a:pt x="77" y="116"/>
                </a:lnTo>
                <a:lnTo>
                  <a:pt x="82" y="90"/>
                </a:lnTo>
                <a:lnTo>
                  <a:pt x="63" y="66"/>
                </a:lnTo>
                <a:lnTo>
                  <a:pt x="63" y="31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84760" y="3270240"/>
            <a:ext cx="104760" cy="85680"/>
          </a:xfrm>
          <a:custGeom>
            <a:avLst/>
            <a:gdLst/>
            <a:ahLst/>
            <a:rect l="l" t="t" r="r" b="b"/>
            <a:pathLst>
              <a:path w="305" h="274">
                <a:moveTo>
                  <a:pt x="305" y="0"/>
                </a:moveTo>
                <a:lnTo>
                  <a:pt x="223" y="21"/>
                </a:lnTo>
                <a:lnTo>
                  <a:pt x="167" y="59"/>
                </a:lnTo>
                <a:lnTo>
                  <a:pt x="89" y="90"/>
                </a:lnTo>
                <a:lnTo>
                  <a:pt x="66" y="116"/>
                </a:lnTo>
                <a:lnTo>
                  <a:pt x="32" y="124"/>
                </a:lnTo>
                <a:lnTo>
                  <a:pt x="0" y="127"/>
                </a:lnTo>
                <a:lnTo>
                  <a:pt x="22" y="150"/>
                </a:lnTo>
                <a:lnTo>
                  <a:pt x="49" y="154"/>
                </a:lnTo>
                <a:lnTo>
                  <a:pt x="66" y="164"/>
                </a:lnTo>
                <a:lnTo>
                  <a:pt x="97" y="195"/>
                </a:lnTo>
                <a:lnTo>
                  <a:pt x="102" y="222"/>
                </a:lnTo>
                <a:lnTo>
                  <a:pt x="117" y="229"/>
                </a:lnTo>
                <a:lnTo>
                  <a:pt x="138" y="230"/>
                </a:lnTo>
                <a:lnTo>
                  <a:pt x="154" y="216"/>
                </a:lnTo>
                <a:lnTo>
                  <a:pt x="162" y="229"/>
                </a:lnTo>
                <a:lnTo>
                  <a:pt x="179" y="220"/>
                </a:lnTo>
                <a:lnTo>
                  <a:pt x="206" y="218"/>
                </a:lnTo>
                <a:lnTo>
                  <a:pt x="189" y="254"/>
                </a:lnTo>
                <a:lnTo>
                  <a:pt x="164" y="266"/>
                </a:lnTo>
                <a:lnTo>
                  <a:pt x="147" y="264"/>
                </a:lnTo>
                <a:lnTo>
                  <a:pt x="121" y="253"/>
                </a:lnTo>
                <a:lnTo>
                  <a:pt x="113" y="274"/>
                </a:lnTo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29240" y="3265560"/>
            <a:ext cx="88920" cy="90360"/>
          </a:xfrm>
          <a:custGeom>
            <a:avLst/>
            <a:gdLst/>
            <a:ahLst/>
            <a:rect l="l" t="t" r="r" b="b"/>
            <a:pathLst>
              <a:path w="256" h="284">
                <a:moveTo>
                  <a:pt x="138" y="284"/>
                </a:moveTo>
                <a:lnTo>
                  <a:pt x="123" y="268"/>
                </a:lnTo>
                <a:lnTo>
                  <a:pt x="120" y="230"/>
                </a:lnTo>
                <a:lnTo>
                  <a:pt x="104" y="203"/>
                </a:lnTo>
                <a:lnTo>
                  <a:pt x="102" y="179"/>
                </a:lnTo>
                <a:lnTo>
                  <a:pt x="107" y="162"/>
                </a:lnTo>
                <a:lnTo>
                  <a:pt x="93" y="137"/>
                </a:lnTo>
                <a:lnTo>
                  <a:pt x="76" y="117"/>
                </a:lnTo>
                <a:lnTo>
                  <a:pt x="69" y="97"/>
                </a:lnTo>
                <a:lnTo>
                  <a:pt x="66" y="83"/>
                </a:lnTo>
                <a:lnTo>
                  <a:pt x="46" y="70"/>
                </a:lnTo>
                <a:lnTo>
                  <a:pt x="34" y="51"/>
                </a:lnTo>
                <a:lnTo>
                  <a:pt x="22" y="31"/>
                </a:lnTo>
                <a:lnTo>
                  <a:pt x="0" y="17"/>
                </a:lnTo>
                <a:lnTo>
                  <a:pt x="34" y="0"/>
                </a:lnTo>
                <a:lnTo>
                  <a:pt x="61" y="4"/>
                </a:lnTo>
                <a:lnTo>
                  <a:pt x="79" y="7"/>
                </a:lnTo>
                <a:lnTo>
                  <a:pt x="123" y="39"/>
                </a:lnTo>
                <a:lnTo>
                  <a:pt x="133" y="45"/>
                </a:lnTo>
                <a:lnTo>
                  <a:pt x="165" y="51"/>
                </a:lnTo>
                <a:lnTo>
                  <a:pt x="184" y="79"/>
                </a:lnTo>
                <a:lnTo>
                  <a:pt x="175" y="99"/>
                </a:lnTo>
                <a:lnTo>
                  <a:pt x="188" y="127"/>
                </a:lnTo>
                <a:lnTo>
                  <a:pt x="219" y="147"/>
                </a:lnTo>
                <a:lnTo>
                  <a:pt x="230" y="164"/>
                </a:lnTo>
                <a:lnTo>
                  <a:pt x="249" y="171"/>
                </a:lnTo>
                <a:lnTo>
                  <a:pt x="256" y="172"/>
                </a:lnTo>
                <a:lnTo>
                  <a:pt x="244" y="181"/>
                </a:lnTo>
                <a:lnTo>
                  <a:pt x="212" y="181"/>
                </a:lnTo>
                <a:lnTo>
                  <a:pt x="184" y="179"/>
                </a:lnTo>
                <a:lnTo>
                  <a:pt x="172" y="185"/>
                </a:lnTo>
                <a:lnTo>
                  <a:pt x="175" y="215"/>
                </a:lnTo>
                <a:lnTo>
                  <a:pt x="171" y="239"/>
                </a:lnTo>
                <a:lnTo>
                  <a:pt x="143" y="268"/>
                </a:lnTo>
                <a:lnTo>
                  <a:pt x="138" y="284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40320" y="3013200"/>
            <a:ext cx="208080" cy="156960"/>
          </a:xfrm>
          <a:custGeom>
            <a:avLst/>
            <a:gdLst/>
            <a:ahLst/>
            <a:rect l="l" t="t" r="r" b="b"/>
            <a:pathLst>
              <a:path w="608" h="497">
                <a:moveTo>
                  <a:pt x="246" y="12"/>
                </a:moveTo>
                <a:lnTo>
                  <a:pt x="230" y="32"/>
                </a:lnTo>
                <a:lnTo>
                  <a:pt x="219" y="50"/>
                </a:lnTo>
                <a:lnTo>
                  <a:pt x="199" y="53"/>
                </a:lnTo>
                <a:lnTo>
                  <a:pt x="178" y="60"/>
                </a:lnTo>
                <a:lnTo>
                  <a:pt x="187" y="73"/>
                </a:lnTo>
                <a:lnTo>
                  <a:pt x="187" y="80"/>
                </a:lnTo>
                <a:lnTo>
                  <a:pt x="187" y="107"/>
                </a:lnTo>
                <a:lnTo>
                  <a:pt x="169" y="110"/>
                </a:lnTo>
                <a:lnTo>
                  <a:pt x="151" y="128"/>
                </a:lnTo>
                <a:lnTo>
                  <a:pt x="151" y="148"/>
                </a:lnTo>
                <a:lnTo>
                  <a:pt x="148" y="157"/>
                </a:lnTo>
                <a:lnTo>
                  <a:pt x="142" y="169"/>
                </a:lnTo>
                <a:lnTo>
                  <a:pt x="142" y="224"/>
                </a:lnTo>
                <a:lnTo>
                  <a:pt x="130" y="230"/>
                </a:lnTo>
                <a:lnTo>
                  <a:pt x="114" y="221"/>
                </a:lnTo>
                <a:lnTo>
                  <a:pt x="85" y="244"/>
                </a:lnTo>
                <a:lnTo>
                  <a:pt x="64" y="265"/>
                </a:lnTo>
                <a:lnTo>
                  <a:pt x="44" y="251"/>
                </a:lnTo>
                <a:lnTo>
                  <a:pt x="35" y="251"/>
                </a:lnTo>
                <a:lnTo>
                  <a:pt x="16" y="255"/>
                </a:lnTo>
                <a:lnTo>
                  <a:pt x="21" y="285"/>
                </a:lnTo>
                <a:lnTo>
                  <a:pt x="30" y="315"/>
                </a:lnTo>
                <a:lnTo>
                  <a:pt x="35" y="335"/>
                </a:lnTo>
                <a:lnTo>
                  <a:pt x="32" y="362"/>
                </a:lnTo>
                <a:lnTo>
                  <a:pt x="21" y="385"/>
                </a:lnTo>
                <a:lnTo>
                  <a:pt x="0" y="403"/>
                </a:lnTo>
                <a:lnTo>
                  <a:pt x="7" y="413"/>
                </a:lnTo>
                <a:lnTo>
                  <a:pt x="23" y="424"/>
                </a:lnTo>
                <a:lnTo>
                  <a:pt x="12" y="444"/>
                </a:lnTo>
                <a:lnTo>
                  <a:pt x="14" y="483"/>
                </a:lnTo>
                <a:lnTo>
                  <a:pt x="44" y="483"/>
                </a:lnTo>
                <a:lnTo>
                  <a:pt x="57" y="470"/>
                </a:lnTo>
                <a:lnTo>
                  <a:pt x="126" y="465"/>
                </a:lnTo>
                <a:lnTo>
                  <a:pt x="185" y="467"/>
                </a:lnTo>
                <a:lnTo>
                  <a:pt x="242" y="476"/>
                </a:lnTo>
                <a:lnTo>
                  <a:pt x="292" y="485"/>
                </a:lnTo>
                <a:lnTo>
                  <a:pt x="342" y="483"/>
                </a:lnTo>
                <a:lnTo>
                  <a:pt x="365" y="476"/>
                </a:lnTo>
                <a:lnTo>
                  <a:pt x="388" y="474"/>
                </a:lnTo>
                <a:lnTo>
                  <a:pt x="415" y="488"/>
                </a:lnTo>
                <a:lnTo>
                  <a:pt x="463" y="476"/>
                </a:lnTo>
                <a:lnTo>
                  <a:pt x="474" y="497"/>
                </a:lnTo>
                <a:lnTo>
                  <a:pt x="488" y="474"/>
                </a:lnTo>
                <a:lnTo>
                  <a:pt x="490" y="435"/>
                </a:lnTo>
                <a:lnTo>
                  <a:pt x="524" y="417"/>
                </a:lnTo>
                <a:lnTo>
                  <a:pt x="554" y="413"/>
                </a:lnTo>
                <a:lnTo>
                  <a:pt x="554" y="406"/>
                </a:lnTo>
                <a:lnTo>
                  <a:pt x="533" y="360"/>
                </a:lnTo>
                <a:lnTo>
                  <a:pt x="524" y="333"/>
                </a:lnTo>
                <a:lnTo>
                  <a:pt x="542" y="324"/>
                </a:lnTo>
                <a:lnTo>
                  <a:pt x="570" y="328"/>
                </a:lnTo>
                <a:lnTo>
                  <a:pt x="608" y="312"/>
                </a:lnTo>
                <a:lnTo>
                  <a:pt x="608" y="269"/>
                </a:lnTo>
                <a:lnTo>
                  <a:pt x="567" y="255"/>
                </a:lnTo>
                <a:lnTo>
                  <a:pt x="531" y="249"/>
                </a:lnTo>
                <a:lnTo>
                  <a:pt x="510" y="212"/>
                </a:lnTo>
                <a:lnTo>
                  <a:pt x="513" y="176"/>
                </a:lnTo>
                <a:lnTo>
                  <a:pt x="476" y="139"/>
                </a:lnTo>
                <a:lnTo>
                  <a:pt x="456" y="112"/>
                </a:lnTo>
                <a:lnTo>
                  <a:pt x="454" y="87"/>
                </a:lnTo>
                <a:lnTo>
                  <a:pt x="458" y="71"/>
                </a:lnTo>
                <a:lnTo>
                  <a:pt x="458" y="39"/>
                </a:lnTo>
                <a:lnTo>
                  <a:pt x="422" y="14"/>
                </a:lnTo>
                <a:lnTo>
                  <a:pt x="381" y="14"/>
                </a:lnTo>
                <a:lnTo>
                  <a:pt x="344" y="21"/>
                </a:lnTo>
                <a:lnTo>
                  <a:pt x="328" y="7"/>
                </a:lnTo>
                <a:lnTo>
                  <a:pt x="285" y="0"/>
                </a:lnTo>
                <a:lnTo>
                  <a:pt x="246" y="12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19800" y="3137040"/>
            <a:ext cx="404640" cy="244440"/>
          </a:xfrm>
          <a:custGeom>
            <a:avLst/>
            <a:gdLst/>
            <a:ahLst/>
            <a:rect l="l" t="t" r="r" b="b"/>
            <a:pathLst>
              <a:path w="1173" h="770">
                <a:moveTo>
                  <a:pt x="611" y="23"/>
                </a:moveTo>
                <a:lnTo>
                  <a:pt x="640" y="18"/>
                </a:lnTo>
                <a:lnTo>
                  <a:pt x="679" y="7"/>
                </a:lnTo>
                <a:lnTo>
                  <a:pt x="718" y="0"/>
                </a:lnTo>
                <a:lnTo>
                  <a:pt x="757" y="7"/>
                </a:lnTo>
                <a:lnTo>
                  <a:pt x="775" y="41"/>
                </a:lnTo>
                <a:lnTo>
                  <a:pt x="802" y="70"/>
                </a:lnTo>
                <a:lnTo>
                  <a:pt x="854" y="98"/>
                </a:lnTo>
                <a:lnTo>
                  <a:pt x="889" y="127"/>
                </a:lnTo>
                <a:lnTo>
                  <a:pt x="918" y="159"/>
                </a:lnTo>
                <a:lnTo>
                  <a:pt x="991" y="159"/>
                </a:lnTo>
                <a:lnTo>
                  <a:pt x="1014" y="175"/>
                </a:lnTo>
                <a:lnTo>
                  <a:pt x="1055" y="191"/>
                </a:lnTo>
                <a:lnTo>
                  <a:pt x="1100" y="193"/>
                </a:lnTo>
                <a:lnTo>
                  <a:pt x="1150" y="207"/>
                </a:lnTo>
                <a:lnTo>
                  <a:pt x="1173" y="266"/>
                </a:lnTo>
                <a:lnTo>
                  <a:pt x="1162" y="332"/>
                </a:lnTo>
                <a:lnTo>
                  <a:pt x="1137" y="364"/>
                </a:lnTo>
                <a:lnTo>
                  <a:pt x="1096" y="378"/>
                </a:lnTo>
                <a:lnTo>
                  <a:pt x="1082" y="396"/>
                </a:lnTo>
                <a:lnTo>
                  <a:pt x="1078" y="417"/>
                </a:lnTo>
                <a:lnTo>
                  <a:pt x="984" y="444"/>
                </a:lnTo>
                <a:lnTo>
                  <a:pt x="932" y="480"/>
                </a:lnTo>
                <a:lnTo>
                  <a:pt x="852" y="512"/>
                </a:lnTo>
                <a:lnTo>
                  <a:pt x="829" y="537"/>
                </a:lnTo>
                <a:lnTo>
                  <a:pt x="768" y="546"/>
                </a:lnTo>
                <a:lnTo>
                  <a:pt x="791" y="572"/>
                </a:lnTo>
                <a:lnTo>
                  <a:pt x="820" y="572"/>
                </a:lnTo>
                <a:lnTo>
                  <a:pt x="866" y="615"/>
                </a:lnTo>
                <a:lnTo>
                  <a:pt x="870" y="644"/>
                </a:lnTo>
                <a:lnTo>
                  <a:pt x="895" y="649"/>
                </a:lnTo>
                <a:lnTo>
                  <a:pt x="909" y="649"/>
                </a:lnTo>
                <a:lnTo>
                  <a:pt x="920" y="635"/>
                </a:lnTo>
                <a:lnTo>
                  <a:pt x="936" y="649"/>
                </a:lnTo>
                <a:lnTo>
                  <a:pt x="952" y="635"/>
                </a:lnTo>
                <a:lnTo>
                  <a:pt x="973" y="638"/>
                </a:lnTo>
                <a:lnTo>
                  <a:pt x="955" y="674"/>
                </a:lnTo>
                <a:lnTo>
                  <a:pt x="932" y="688"/>
                </a:lnTo>
                <a:lnTo>
                  <a:pt x="905" y="676"/>
                </a:lnTo>
                <a:lnTo>
                  <a:pt x="891" y="669"/>
                </a:lnTo>
                <a:lnTo>
                  <a:pt x="884" y="692"/>
                </a:lnTo>
                <a:lnTo>
                  <a:pt x="838" y="724"/>
                </a:lnTo>
                <a:lnTo>
                  <a:pt x="825" y="745"/>
                </a:lnTo>
                <a:lnTo>
                  <a:pt x="811" y="770"/>
                </a:lnTo>
                <a:lnTo>
                  <a:pt x="777" y="761"/>
                </a:lnTo>
                <a:lnTo>
                  <a:pt x="777" y="747"/>
                </a:lnTo>
                <a:lnTo>
                  <a:pt x="784" y="724"/>
                </a:lnTo>
                <a:lnTo>
                  <a:pt x="770" y="683"/>
                </a:lnTo>
                <a:lnTo>
                  <a:pt x="752" y="681"/>
                </a:lnTo>
                <a:lnTo>
                  <a:pt x="734" y="681"/>
                </a:lnTo>
                <a:lnTo>
                  <a:pt x="702" y="672"/>
                </a:lnTo>
                <a:lnTo>
                  <a:pt x="709" y="649"/>
                </a:lnTo>
                <a:lnTo>
                  <a:pt x="725" y="626"/>
                </a:lnTo>
                <a:lnTo>
                  <a:pt x="729" y="603"/>
                </a:lnTo>
                <a:lnTo>
                  <a:pt x="759" y="583"/>
                </a:lnTo>
                <a:lnTo>
                  <a:pt x="752" y="562"/>
                </a:lnTo>
                <a:lnTo>
                  <a:pt x="718" y="572"/>
                </a:lnTo>
                <a:lnTo>
                  <a:pt x="697" y="581"/>
                </a:lnTo>
                <a:lnTo>
                  <a:pt x="675" y="576"/>
                </a:lnTo>
                <a:lnTo>
                  <a:pt x="675" y="585"/>
                </a:lnTo>
                <a:lnTo>
                  <a:pt x="645" y="569"/>
                </a:lnTo>
                <a:lnTo>
                  <a:pt x="647" y="560"/>
                </a:lnTo>
                <a:lnTo>
                  <a:pt x="672" y="551"/>
                </a:lnTo>
                <a:lnTo>
                  <a:pt x="659" y="533"/>
                </a:lnTo>
                <a:lnTo>
                  <a:pt x="636" y="537"/>
                </a:lnTo>
                <a:lnTo>
                  <a:pt x="620" y="553"/>
                </a:lnTo>
                <a:lnTo>
                  <a:pt x="606" y="560"/>
                </a:lnTo>
                <a:lnTo>
                  <a:pt x="604" y="581"/>
                </a:lnTo>
                <a:lnTo>
                  <a:pt x="588" y="583"/>
                </a:lnTo>
                <a:lnTo>
                  <a:pt x="604" y="599"/>
                </a:lnTo>
                <a:lnTo>
                  <a:pt x="604" y="615"/>
                </a:lnTo>
                <a:lnTo>
                  <a:pt x="586" y="635"/>
                </a:lnTo>
                <a:lnTo>
                  <a:pt x="563" y="626"/>
                </a:lnTo>
                <a:lnTo>
                  <a:pt x="579" y="649"/>
                </a:lnTo>
                <a:lnTo>
                  <a:pt x="570" y="654"/>
                </a:lnTo>
                <a:lnTo>
                  <a:pt x="540" y="626"/>
                </a:lnTo>
                <a:lnTo>
                  <a:pt x="549" y="663"/>
                </a:lnTo>
                <a:lnTo>
                  <a:pt x="570" y="676"/>
                </a:lnTo>
                <a:lnTo>
                  <a:pt x="549" y="697"/>
                </a:lnTo>
                <a:lnTo>
                  <a:pt x="540" y="685"/>
                </a:lnTo>
                <a:lnTo>
                  <a:pt x="517" y="683"/>
                </a:lnTo>
                <a:lnTo>
                  <a:pt x="504" y="690"/>
                </a:lnTo>
                <a:lnTo>
                  <a:pt x="456" y="692"/>
                </a:lnTo>
                <a:lnTo>
                  <a:pt x="458" y="672"/>
                </a:lnTo>
                <a:lnTo>
                  <a:pt x="490" y="640"/>
                </a:lnTo>
                <a:lnTo>
                  <a:pt x="492" y="610"/>
                </a:lnTo>
                <a:lnTo>
                  <a:pt x="495" y="587"/>
                </a:lnTo>
                <a:lnTo>
                  <a:pt x="522" y="583"/>
                </a:lnTo>
                <a:lnTo>
                  <a:pt x="563" y="585"/>
                </a:lnTo>
                <a:lnTo>
                  <a:pt x="572" y="576"/>
                </a:lnTo>
                <a:lnTo>
                  <a:pt x="545" y="567"/>
                </a:lnTo>
                <a:lnTo>
                  <a:pt x="536" y="551"/>
                </a:lnTo>
                <a:lnTo>
                  <a:pt x="504" y="533"/>
                </a:lnTo>
                <a:lnTo>
                  <a:pt x="492" y="501"/>
                </a:lnTo>
                <a:lnTo>
                  <a:pt x="499" y="485"/>
                </a:lnTo>
                <a:lnTo>
                  <a:pt x="481" y="453"/>
                </a:lnTo>
                <a:lnTo>
                  <a:pt x="438" y="446"/>
                </a:lnTo>
                <a:lnTo>
                  <a:pt x="392" y="410"/>
                </a:lnTo>
                <a:lnTo>
                  <a:pt x="351" y="408"/>
                </a:lnTo>
                <a:lnTo>
                  <a:pt x="322" y="417"/>
                </a:lnTo>
                <a:lnTo>
                  <a:pt x="310" y="433"/>
                </a:lnTo>
                <a:lnTo>
                  <a:pt x="297" y="442"/>
                </a:lnTo>
                <a:lnTo>
                  <a:pt x="262" y="444"/>
                </a:lnTo>
                <a:lnTo>
                  <a:pt x="244" y="460"/>
                </a:lnTo>
                <a:lnTo>
                  <a:pt x="212" y="460"/>
                </a:lnTo>
                <a:lnTo>
                  <a:pt x="201" y="446"/>
                </a:lnTo>
                <a:lnTo>
                  <a:pt x="187" y="442"/>
                </a:lnTo>
                <a:lnTo>
                  <a:pt x="155" y="453"/>
                </a:lnTo>
                <a:lnTo>
                  <a:pt x="133" y="455"/>
                </a:lnTo>
                <a:lnTo>
                  <a:pt x="117" y="442"/>
                </a:lnTo>
                <a:lnTo>
                  <a:pt x="92" y="446"/>
                </a:lnTo>
                <a:lnTo>
                  <a:pt x="69" y="460"/>
                </a:lnTo>
                <a:lnTo>
                  <a:pt x="57" y="455"/>
                </a:lnTo>
                <a:lnTo>
                  <a:pt x="28" y="455"/>
                </a:lnTo>
                <a:lnTo>
                  <a:pt x="0" y="410"/>
                </a:lnTo>
                <a:lnTo>
                  <a:pt x="5" y="389"/>
                </a:lnTo>
                <a:lnTo>
                  <a:pt x="57" y="341"/>
                </a:lnTo>
                <a:lnTo>
                  <a:pt x="41" y="287"/>
                </a:lnTo>
                <a:lnTo>
                  <a:pt x="103" y="237"/>
                </a:lnTo>
                <a:lnTo>
                  <a:pt x="121" y="207"/>
                </a:lnTo>
                <a:lnTo>
                  <a:pt x="119" y="177"/>
                </a:lnTo>
                <a:lnTo>
                  <a:pt x="105" y="141"/>
                </a:lnTo>
                <a:lnTo>
                  <a:pt x="89" y="109"/>
                </a:lnTo>
                <a:lnTo>
                  <a:pt x="69" y="93"/>
                </a:lnTo>
                <a:lnTo>
                  <a:pt x="103" y="95"/>
                </a:lnTo>
                <a:lnTo>
                  <a:pt x="117" y="80"/>
                </a:lnTo>
                <a:lnTo>
                  <a:pt x="180" y="77"/>
                </a:lnTo>
                <a:lnTo>
                  <a:pt x="242" y="77"/>
                </a:lnTo>
                <a:lnTo>
                  <a:pt x="258" y="77"/>
                </a:lnTo>
                <a:lnTo>
                  <a:pt x="340" y="95"/>
                </a:lnTo>
                <a:lnTo>
                  <a:pt x="399" y="95"/>
                </a:lnTo>
                <a:lnTo>
                  <a:pt x="424" y="86"/>
                </a:lnTo>
                <a:lnTo>
                  <a:pt x="447" y="86"/>
                </a:lnTo>
                <a:lnTo>
                  <a:pt x="472" y="95"/>
                </a:lnTo>
                <a:lnTo>
                  <a:pt x="522" y="89"/>
                </a:lnTo>
                <a:lnTo>
                  <a:pt x="531" y="105"/>
                </a:lnTo>
                <a:lnTo>
                  <a:pt x="549" y="84"/>
                </a:lnTo>
                <a:lnTo>
                  <a:pt x="547" y="48"/>
                </a:lnTo>
                <a:lnTo>
                  <a:pt x="588" y="25"/>
                </a:lnTo>
                <a:lnTo>
                  <a:pt x="611" y="23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59360" y="3363840"/>
            <a:ext cx="236520" cy="57240"/>
          </a:xfrm>
          <a:custGeom>
            <a:avLst/>
            <a:gdLst/>
            <a:ahLst/>
            <a:rect l="l" t="t" r="r" b="b"/>
            <a:pathLst>
              <a:path w="682" h="180">
                <a:moveTo>
                  <a:pt x="0" y="34"/>
                </a:moveTo>
                <a:lnTo>
                  <a:pt x="66" y="48"/>
                </a:lnTo>
                <a:lnTo>
                  <a:pt x="119" y="62"/>
                </a:lnTo>
                <a:lnTo>
                  <a:pt x="169" y="73"/>
                </a:lnTo>
                <a:lnTo>
                  <a:pt x="198" y="107"/>
                </a:lnTo>
                <a:lnTo>
                  <a:pt x="205" y="139"/>
                </a:lnTo>
                <a:lnTo>
                  <a:pt x="210" y="169"/>
                </a:lnTo>
                <a:lnTo>
                  <a:pt x="270" y="171"/>
                </a:lnTo>
                <a:lnTo>
                  <a:pt x="295" y="141"/>
                </a:lnTo>
                <a:lnTo>
                  <a:pt x="313" y="146"/>
                </a:lnTo>
                <a:lnTo>
                  <a:pt x="327" y="164"/>
                </a:lnTo>
                <a:lnTo>
                  <a:pt x="370" y="171"/>
                </a:lnTo>
                <a:lnTo>
                  <a:pt x="398" y="180"/>
                </a:lnTo>
                <a:lnTo>
                  <a:pt x="445" y="157"/>
                </a:lnTo>
                <a:lnTo>
                  <a:pt x="491" y="155"/>
                </a:lnTo>
                <a:lnTo>
                  <a:pt x="530" y="128"/>
                </a:lnTo>
                <a:lnTo>
                  <a:pt x="559" y="116"/>
                </a:lnTo>
                <a:lnTo>
                  <a:pt x="596" y="134"/>
                </a:lnTo>
                <a:lnTo>
                  <a:pt x="655" y="139"/>
                </a:lnTo>
                <a:lnTo>
                  <a:pt x="682" y="130"/>
                </a:lnTo>
                <a:lnTo>
                  <a:pt x="664" y="109"/>
                </a:lnTo>
                <a:lnTo>
                  <a:pt x="616" y="96"/>
                </a:lnTo>
                <a:lnTo>
                  <a:pt x="598" y="59"/>
                </a:lnTo>
                <a:lnTo>
                  <a:pt x="571" y="48"/>
                </a:lnTo>
                <a:lnTo>
                  <a:pt x="502" y="39"/>
                </a:lnTo>
                <a:lnTo>
                  <a:pt x="464" y="9"/>
                </a:lnTo>
                <a:lnTo>
                  <a:pt x="432" y="0"/>
                </a:lnTo>
                <a:lnTo>
                  <a:pt x="375" y="2"/>
                </a:lnTo>
                <a:lnTo>
                  <a:pt x="334" y="27"/>
                </a:lnTo>
                <a:lnTo>
                  <a:pt x="291" y="32"/>
                </a:lnTo>
                <a:lnTo>
                  <a:pt x="236" y="11"/>
                </a:lnTo>
                <a:lnTo>
                  <a:pt x="176" y="2"/>
                </a:lnTo>
                <a:lnTo>
                  <a:pt x="103" y="11"/>
                </a:lnTo>
                <a:lnTo>
                  <a:pt x="50" y="14"/>
                </a:lnTo>
                <a:lnTo>
                  <a:pt x="14" y="21"/>
                </a:lnTo>
                <a:lnTo>
                  <a:pt x="0" y="34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87880" y="3409920"/>
            <a:ext cx="98640" cy="55440"/>
          </a:xfrm>
          <a:custGeom>
            <a:avLst/>
            <a:gdLst/>
            <a:ahLst/>
            <a:rect l="l" t="t" r="r" b="b"/>
            <a:pathLst>
              <a:path w="289" h="175">
                <a:moveTo>
                  <a:pt x="0" y="29"/>
                </a:moveTo>
                <a:lnTo>
                  <a:pt x="27" y="95"/>
                </a:lnTo>
                <a:lnTo>
                  <a:pt x="123" y="95"/>
                </a:lnTo>
                <a:lnTo>
                  <a:pt x="157" y="141"/>
                </a:lnTo>
                <a:lnTo>
                  <a:pt x="169" y="145"/>
                </a:lnTo>
                <a:lnTo>
                  <a:pt x="198" y="132"/>
                </a:lnTo>
                <a:lnTo>
                  <a:pt x="223" y="136"/>
                </a:lnTo>
                <a:lnTo>
                  <a:pt x="251" y="145"/>
                </a:lnTo>
                <a:lnTo>
                  <a:pt x="266" y="175"/>
                </a:lnTo>
                <a:lnTo>
                  <a:pt x="289" y="168"/>
                </a:lnTo>
                <a:lnTo>
                  <a:pt x="285" y="138"/>
                </a:lnTo>
                <a:lnTo>
                  <a:pt x="276" y="100"/>
                </a:lnTo>
                <a:lnTo>
                  <a:pt x="223" y="84"/>
                </a:lnTo>
                <a:lnTo>
                  <a:pt x="205" y="75"/>
                </a:lnTo>
                <a:lnTo>
                  <a:pt x="219" y="59"/>
                </a:lnTo>
                <a:lnTo>
                  <a:pt x="207" y="38"/>
                </a:lnTo>
                <a:lnTo>
                  <a:pt x="182" y="38"/>
                </a:lnTo>
                <a:lnTo>
                  <a:pt x="182" y="18"/>
                </a:lnTo>
                <a:lnTo>
                  <a:pt x="169" y="6"/>
                </a:lnTo>
                <a:lnTo>
                  <a:pt x="141" y="0"/>
                </a:lnTo>
                <a:lnTo>
                  <a:pt x="118" y="13"/>
                </a:lnTo>
                <a:lnTo>
                  <a:pt x="80" y="13"/>
                </a:lnTo>
                <a:lnTo>
                  <a:pt x="25" y="38"/>
                </a:lnTo>
                <a:lnTo>
                  <a:pt x="0" y="29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6035760" y="3382920"/>
            <a:ext cx="131400" cy="98640"/>
            <a:chOff x="6035760" y="3382920"/>
            <a:chExt cx="131400" cy="98640"/>
          </a:xfrm>
        </p:grpSpPr>
        <p:sp>
          <p:nvSpPr>
            <p:cNvPr id="281" name=""/>
            <p:cNvSpPr/>
            <p:nvPr/>
          </p:nvSpPr>
          <p:spPr>
            <a:xfrm>
              <a:off x="6045840" y="3451320"/>
              <a:ext cx="33840" cy="1728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0" y="13"/>
                  </a:moveTo>
                  <a:lnTo>
                    <a:pt x="29" y="0"/>
                  </a:lnTo>
                  <a:lnTo>
                    <a:pt x="59" y="4"/>
                  </a:lnTo>
                  <a:lnTo>
                    <a:pt x="86" y="13"/>
                  </a:lnTo>
                  <a:lnTo>
                    <a:pt x="100" y="43"/>
                  </a:lnTo>
                  <a:lnTo>
                    <a:pt x="77" y="52"/>
                  </a:lnTo>
                  <a:lnTo>
                    <a:pt x="38" y="25"/>
                  </a:lnTo>
                  <a:lnTo>
                    <a:pt x="11" y="2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35760" y="3382920"/>
              <a:ext cx="131400" cy="98640"/>
            </a:xfrm>
            <a:custGeom>
              <a:avLst/>
              <a:gdLst/>
              <a:ahLst/>
              <a:rect l="l" t="t" r="r" b="b"/>
              <a:pathLst>
                <a:path w="387" h="307">
                  <a:moveTo>
                    <a:pt x="91" y="0"/>
                  </a:moveTo>
                  <a:lnTo>
                    <a:pt x="139" y="9"/>
                  </a:lnTo>
                  <a:lnTo>
                    <a:pt x="182" y="20"/>
                  </a:lnTo>
                  <a:lnTo>
                    <a:pt x="210" y="41"/>
                  </a:lnTo>
                  <a:lnTo>
                    <a:pt x="233" y="34"/>
                  </a:lnTo>
                  <a:lnTo>
                    <a:pt x="235" y="4"/>
                  </a:lnTo>
                  <a:lnTo>
                    <a:pt x="294" y="59"/>
                  </a:lnTo>
                  <a:lnTo>
                    <a:pt x="333" y="54"/>
                  </a:lnTo>
                  <a:lnTo>
                    <a:pt x="387" y="68"/>
                  </a:lnTo>
                  <a:lnTo>
                    <a:pt x="351" y="95"/>
                  </a:lnTo>
                  <a:lnTo>
                    <a:pt x="337" y="111"/>
                  </a:lnTo>
                  <a:lnTo>
                    <a:pt x="319" y="154"/>
                  </a:lnTo>
                  <a:lnTo>
                    <a:pt x="333" y="246"/>
                  </a:lnTo>
                  <a:lnTo>
                    <a:pt x="310" y="214"/>
                  </a:lnTo>
                  <a:lnTo>
                    <a:pt x="294" y="227"/>
                  </a:lnTo>
                  <a:lnTo>
                    <a:pt x="296" y="307"/>
                  </a:lnTo>
                  <a:lnTo>
                    <a:pt x="228" y="261"/>
                  </a:lnTo>
                  <a:lnTo>
                    <a:pt x="242" y="218"/>
                  </a:lnTo>
                  <a:lnTo>
                    <a:pt x="223" y="198"/>
                  </a:lnTo>
                  <a:lnTo>
                    <a:pt x="185" y="195"/>
                  </a:lnTo>
                  <a:lnTo>
                    <a:pt x="153" y="248"/>
                  </a:lnTo>
                  <a:lnTo>
                    <a:pt x="153" y="241"/>
                  </a:lnTo>
                  <a:lnTo>
                    <a:pt x="135" y="182"/>
                  </a:lnTo>
                  <a:lnTo>
                    <a:pt x="80" y="166"/>
                  </a:lnTo>
                  <a:lnTo>
                    <a:pt x="62" y="157"/>
                  </a:lnTo>
                  <a:lnTo>
                    <a:pt x="78" y="145"/>
                  </a:lnTo>
                  <a:lnTo>
                    <a:pt x="66" y="120"/>
                  </a:lnTo>
                  <a:lnTo>
                    <a:pt x="39" y="120"/>
                  </a:lnTo>
                  <a:lnTo>
                    <a:pt x="39" y="100"/>
                  </a:lnTo>
                  <a:lnTo>
                    <a:pt x="23" y="86"/>
                  </a:lnTo>
                  <a:lnTo>
                    <a:pt x="0" y="84"/>
                  </a:lnTo>
                  <a:lnTo>
                    <a:pt x="21" y="68"/>
                  </a:lnTo>
                  <a:lnTo>
                    <a:pt x="50" y="56"/>
                  </a:lnTo>
                  <a:lnTo>
                    <a:pt x="84" y="72"/>
                  </a:lnTo>
                  <a:lnTo>
                    <a:pt x="119" y="77"/>
                  </a:lnTo>
                  <a:lnTo>
                    <a:pt x="146" y="79"/>
                  </a:lnTo>
                  <a:lnTo>
                    <a:pt x="171" y="66"/>
                  </a:lnTo>
                  <a:lnTo>
                    <a:pt x="148" y="45"/>
                  </a:lnTo>
                  <a:lnTo>
                    <a:pt x="107" y="3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039000" y="3171960"/>
            <a:ext cx="304560" cy="374400"/>
          </a:xfrm>
          <a:custGeom>
            <a:avLst/>
            <a:gdLst/>
            <a:ahLst/>
            <a:rect l="l" t="t" r="r" b="b"/>
            <a:pathLst>
              <a:path w="886" h="1182">
                <a:moveTo>
                  <a:pt x="314" y="0"/>
                </a:moveTo>
                <a:lnTo>
                  <a:pt x="371" y="32"/>
                </a:lnTo>
                <a:lnTo>
                  <a:pt x="376" y="91"/>
                </a:lnTo>
                <a:lnTo>
                  <a:pt x="367" y="105"/>
                </a:lnTo>
                <a:lnTo>
                  <a:pt x="385" y="132"/>
                </a:lnTo>
                <a:lnTo>
                  <a:pt x="385" y="223"/>
                </a:lnTo>
                <a:lnTo>
                  <a:pt x="435" y="221"/>
                </a:lnTo>
                <a:lnTo>
                  <a:pt x="449" y="264"/>
                </a:lnTo>
                <a:lnTo>
                  <a:pt x="406" y="255"/>
                </a:lnTo>
                <a:lnTo>
                  <a:pt x="349" y="267"/>
                </a:lnTo>
                <a:lnTo>
                  <a:pt x="308" y="278"/>
                </a:lnTo>
                <a:lnTo>
                  <a:pt x="294" y="319"/>
                </a:lnTo>
                <a:lnTo>
                  <a:pt x="344" y="337"/>
                </a:lnTo>
                <a:lnTo>
                  <a:pt x="308" y="358"/>
                </a:lnTo>
                <a:lnTo>
                  <a:pt x="280" y="365"/>
                </a:lnTo>
                <a:lnTo>
                  <a:pt x="267" y="387"/>
                </a:lnTo>
                <a:lnTo>
                  <a:pt x="285" y="394"/>
                </a:lnTo>
                <a:lnTo>
                  <a:pt x="319" y="392"/>
                </a:lnTo>
                <a:lnTo>
                  <a:pt x="365" y="437"/>
                </a:lnTo>
                <a:lnTo>
                  <a:pt x="390" y="481"/>
                </a:lnTo>
                <a:lnTo>
                  <a:pt x="415" y="478"/>
                </a:lnTo>
                <a:lnTo>
                  <a:pt x="428" y="529"/>
                </a:lnTo>
                <a:lnTo>
                  <a:pt x="456" y="494"/>
                </a:lnTo>
                <a:lnTo>
                  <a:pt x="478" y="504"/>
                </a:lnTo>
                <a:lnTo>
                  <a:pt x="465" y="565"/>
                </a:lnTo>
                <a:lnTo>
                  <a:pt x="490" y="611"/>
                </a:lnTo>
                <a:lnTo>
                  <a:pt x="529" y="638"/>
                </a:lnTo>
                <a:lnTo>
                  <a:pt x="517" y="583"/>
                </a:lnTo>
                <a:lnTo>
                  <a:pt x="563" y="560"/>
                </a:lnTo>
                <a:lnTo>
                  <a:pt x="604" y="542"/>
                </a:lnTo>
                <a:lnTo>
                  <a:pt x="649" y="576"/>
                </a:lnTo>
                <a:lnTo>
                  <a:pt x="663" y="599"/>
                </a:lnTo>
                <a:lnTo>
                  <a:pt x="708" y="601"/>
                </a:lnTo>
                <a:lnTo>
                  <a:pt x="697" y="617"/>
                </a:lnTo>
                <a:lnTo>
                  <a:pt x="702" y="652"/>
                </a:lnTo>
                <a:lnTo>
                  <a:pt x="683" y="661"/>
                </a:lnTo>
                <a:lnTo>
                  <a:pt x="663" y="658"/>
                </a:lnTo>
                <a:lnTo>
                  <a:pt x="620" y="672"/>
                </a:lnTo>
                <a:lnTo>
                  <a:pt x="601" y="688"/>
                </a:lnTo>
                <a:lnTo>
                  <a:pt x="560" y="668"/>
                </a:lnTo>
                <a:lnTo>
                  <a:pt x="574" y="706"/>
                </a:lnTo>
                <a:lnTo>
                  <a:pt x="585" y="750"/>
                </a:lnTo>
                <a:lnTo>
                  <a:pt x="604" y="772"/>
                </a:lnTo>
                <a:lnTo>
                  <a:pt x="629" y="754"/>
                </a:lnTo>
                <a:lnTo>
                  <a:pt x="654" y="750"/>
                </a:lnTo>
                <a:lnTo>
                  <a:pt x="667" y="777"/>
                </a:lnTo>
                <a:lnTo>
                  <a:pt x="640" y="804"/>
                </a:lnTo>
                <a:lnTo>
                  <a:pt x="647" y="811"/>
                </a:lnTo>
                <a:lnTo>
                  <a:pt x="690" y="797"/>
                </a:lnTo>
                <a:lnTo>
                  <a:pt x="752" y="813"/>
                </a:lnTo>
                <a:lnTo>
                  <a:pt x="822" y="989"/>
                </a:lnTo>
                <a:lnTo>
                  <a:pt x="886" y="1041"/>
                </a:lnTo>
                <a:lnTo>
                  <a:pt x="868" y="1078"/>
                </a:lnTo>
                <a:lnTo>
                  <a:pt x="793" y="1119"/>
                </a:lnTo>
                <a:lnTo>
                  <a:pt x="702" y="1157"/>
                </a:lnTo>
                <a:lnTo>
                  <a:pt x="606" y="1171"/>
                </a:lnTo>
                <a:lnTo>
                  <a:pt x="570" y="1182"/>
                </a:lnTo>
                <a:lnTo>
                  <a:pt x="551" y="1180"/>
                </a:lnTo>
                <a:lnTo>
                  <a:pt x="458" y="1141"/>
                </a:lnTo>
                <a:lnTo>
                  <a:pt x="433" y="1100"/>
                </a:lnTo>
                <a:lnTo>
                  <a:pt x="378" y="1100"/>
                </a:lnTo>
                <a:lnTo>
                  <a:pt x="351" y="1084"/>
                </a:lnTo>
                <a:lnTo>
                  <a:pt x="312" y="1046"/>
                </a:lnTo>
                <a:lnTo>
                  <a:pt x="283" y="975"/>
                </a:lnTo>
                <a:lnTo>
                  <a:pt x="283" y="895"/>
                </a:lnTo>
                <a:lnTo>
                  <a:pt x="294" y="882"/>
                </a:lnTo>
                <a:lnTo>
                  <a:pt x="314" y="909"/>
                </a:lnTo>
                <a:lnTo>
                  <a:pt x="317" y="884"/>
                </a:lnTo>
                <a:lnTo>
                  <a:pt x="308" y="825"/>
                </a:lnTo>
                <a:lnTo>
                  <a:pt x="328" y="775"/>
                </a:lnTo>
                <a:lnTo>
                  <a:pt x="369" y="736"/>
                </a:lnTo>
                <a:lnTo>
                  <a:pt x="319" y="722"/>
                </a:lnTo>
                <a:lnTo>
                  <a:pt x="303" y="724"/>
                </a:lnTo>
                <a:lnTo>
                  <a:pt x="262" y="724"/>
                </a:lnTo>
                <a:lnTo>
                  <a:pt x="278" y="724"/>
                </a:lnTo>
                <a:lnTo>
                  <a:pt x="139" y="588"/>
                </a:lnTo>
                <a:lnTo>
                  <a:pt x="114" y="485"/>
                </a:lnTo>
                <a:lnTo>
                  <a:pt x="100" y="542"/>
                </a:lnTo>
                <a:lnTo>
                  <a:pt x="87" y="474"/>
                </a:lnTo>
                <a:lnTo>
                  <a:pt x="25" y="417"/>
                </a:lnTo>
                <a:lnTo>
                  <a:pt x="0" y="367"/>
                </a:lnTo>
                <a:lnTo>
                  <a:pt x="7" y="301"/>
                </a:lnTo>
                <a:lnTo>
                  <a:pt x="30" y="260"/>
                </a:lnTo>
                <a:lnTo>
                  <a:pt x="46" y="210"/>
                </a:lnTo>
                <a:lnTo>
                  <a:pt x="78" y="157"/>
                </a:lnTo>
                <a:lnTo>
                  <a:pt x="80" y="114"/>
                </a:lnTo>
                <a:lnTo>
                  <a:pt x="148" y="114"/>
                </a:lnTo>
                <a:lnTo>
                  <a:pt x="212" y="41"/>
                </a:lnTo>
                <a:lnTo>
                  <a:pt x="260" y="32"/>
                </a:lnTo>
                <a:lnTo>
                  <a:pt x="314" y="0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76280" y="151920"/>
            <a:ext cx="96012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Reporte</a:t>
            </a:r>
            <a:r>
              <a:rPr b="1" lang="en-US" sz="30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del año 1998 de la </a:t>
            </a:r>
            <a:br>
              <a:rPr sz="3000"/>
            </a:b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Agencia Internacional de Desarrollo de Suecia</a:t>
            </a:r>
            <a:r>
              <a:rPr b="1" lang="en-US" sz="30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sobre</a:t>
            </a:r>
            <a:r>
              <a:rPr b="1" lang="en-US" sz="30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programas de calidad en el mundo</a:t>
            </a:r>
            <a:endParaRPr b="0" lang="en-US" sz="3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92400" y="1793880"/>
            <a:ext cx="1395360" cy="1063800"/>
          </a:xfrm>
          <a:custGeom>
            <a:avLst/>
            <a:gdLst/>
            <a:ahLst/>
            <a:rect l="l" t="t" r="r" b="b"/>
            <a:pathLst>
              <a:path w="811" h="670">
                <a:moveTo>
                  <a:pt x="187" y="93"/>
                </a:moveTo>
                <a:lnTo>
                  <a:pt x="176" y="95"/>
                </a:lnTo>
                <a:lnTo>
                  <a:pt x="168" y="98"/>
                </a:lnTo>
                <a:lnTo>
                  <a:pt x="160" y="95"/>
                </a:lnTo>
                <a:lnTo>
                  <a:pt x="151" y="95"/>
                </a:lnTo>
                <a:lnTo>
                  <a:pt x="143" y="95"/>
                </a:lnTo>
                <a:lnTo>
                  <a:pt x="135" y="98"/>
                </a:lnTo>
                <a:lnTo>
                  <a:pt x="124" y="104"/>
                </a:lnTo>
                <a:lnTo>
                  <a:pt x="114" y="112"/>
                </a:lnTo>
                <a:lnTo>
                  <a:pt x="97" y="135"/>
                </a:lnTo>
                <a:lnTo>
                  <a:pt x="87" y="153"/>
                </a:lnTo>
                <a:lnTo>
                  <a:pt x="77" y="170"/>
                </a:lnTo>
                <a:lnTo>
                  <a:pt x="62" y="183"/>
                </a:lnTo>
                <a:lnTo>
                  <a:pt x="52" y="189"/>
                </a:lnTo>
                <a:lnTo>
                  <a:pt x="41" y="193"/>
                </a:lnTo>
                <a:lnTo>
                  <a:pt x="29" y="199"/>
                </a:lnTo>
                <a:lnTo>
                  <a:pt x="19" y="205"/>
                </a:lnTo>
                <a:lnTo>
                  <a:pt x="8" y="212"/>
                </a:lnTo>
                <a:lnTo>
                  <a:pt x="2" y="218"/>
                </a:lnTo>
                <a:lnTo>
                  <a:pt x="0" y="224"/>
                </a:lnTo>
                <a:lnTo>
                  <a:pt x="2" y="230"/>
                </a:lnTo>
                <a:lnTo>
                  <a:pt x="12" y="238"/>
                </a:lnTo>
                <a:lnTo>
                  <a:pt x="21" y="243"/>
                </a:lnTo>
                <a:lnTo>
                  <a:pt x="27" y="249"/>
                </a:lnTo>
                <a:lnTo>
                  <a:pt x="33" y="257"/>
                </a:lnTo>
                <a:lnTo>
                  <a:pt x="37" y="270"/>
                </a:lnTo>
                <a:lnTo>
                  <a:pt x="48" y="282"/>
                </a:lnTo>
                <a:lnTo>
                  <a:pt x="60" y="288"/>
                </a:lnTo>
                <a:lnTo>
                  <a:pt x="77" y="280"/>
                </a:lnTo>
                <a:lnTo>
                  <a:pt x="93" y="267"/>
                </a:lnTo>
                <a:lnTo>
                  <a:pt x="106" y="261"/>
                </a:lnTo>
                <a:lnTo>
                  <a:pt x="120" y="259"/>
                </a:lnTo>
                <a:lnTo>
                  <a:pt x="135" y="257"/>
                </a:lnTo>
                <a:lnTo>
                  <a:pt x="145" y="253"/>
                </a:lnTo>
                <a:lnTo>
                  <a:pt x="153" y="251"/>
                </a:lnTo>
                <a:lnTo>
                  <a:pt x="160" y="251"/>
                </a:lnTo>
                <a:lnTo>
                  <a:pt x="166" y="259"/>
                </a:lnTo>
                <a:lnTo>
                  <a:pt x="176" y="274"/>
                </a:lnTo>
                <a:lnTo>
                  <a:pt x="189" y="288"/>
                </a:lnTo>
                <a:lnTo>
                  <a:pt x="199" y="297"/>
                </a:lnTo>
                <a:lnTo>
                  <a:pt x="203" y="301"/>
                </a:lnTo>
                <a:lnTo>
                  <a:pt x="203" y="305"/>
                </a:lnTo>
                <a:lnTo>
                  <a:pt x="203" y="313"/>
                </a:lnTo>
                <a:lnTo>
                  <a:pt x="203" y="326"/>
                </a:lnTo>
                <a:lnTo>
                  <a:pt x="205" y="336"/>
                </a:lnTo>
                <a:lnTo>
                  <a:pt x="209" y="348"/>
                </a:lnTo>
                <a:lnTo>
                  <a:pt x="220" y="361"/>
                </a:lnTo>
                <a:lnTo>
                  <a:pt x="234" y="373"/>
                </a:lnTo>
                <a:lnTo>
                  <a:pt x="247" y="386"/>
                </a:lnTo>
                <a:lnTo>
                  <a:pt x="255" y="398"/>
                </a:lnTo>
                <a:lnTo>
                  <a:pt x="259" y="408"/>
                </a:lnTo>
                <a:lnTo>
                  <a:pt x="261" y="423"/>
                </a:lnTo>
                <a:lnTo>
                  <a:pt x="263" y="440"/>
                </a:lnTo>
                <a:lnTo>
                  <a:pt x="265" y="460"/>
                </a:lnTo>
                <a:lnTo>
                  <a:pt x="267" y="483"/>
                </a:lnTo>
                <a:lnTo>
                  <a:pt x="267" y="504"/>
                </a:lnTo>
                <a:lnTo>
                  <a:pt x="265" y="516"/>
                </a:lnTo>
                <a:lnTo>
                  <a:pt x="259" y="529"/>
                </a:lnTo>
                <a:lnTo>
                  <a:pt x="253" y="541"/>
                </a:lnTo>
                <a:lnTo>
                  <a:pt x="249" y="554"/>
                </a:lnTo>
                <a:lnTo>
                  <a:pt x="247" y="566"/>
                </a:lnTo>
                <a:lnTo>
                  <a:pt x="249" y="576"/>
                </a:lnTo>
                <a:lnTo>
                  <a:pt x="255" y="583"/>
                </a:lnTo>
                <a:lnTo>
                  <a:pt x="261" y="587"/>
                </a:lnTo>
                <a:lnTo>
                  <a:pt x="265" y="595"/>
                </a:lnTo>
                <a:lnTo>
                  <a:pt x="267" y="607"/>
                </a:lnTo>
                <a:lnTo>
                  <a:pt x="270" y="620"/>
                </a:lnTo>
                <a:lnTo>
                  <a:pt x="276" y="632"/>
                </a:lnTo>
                <a:lnTo>
                  <a:pt x="284" y="643"/>
                </a:lnTo>
                <a:lnTo>
                  <a:pt x="292" y="647"/>
                </a:lnTo>
                <a:lnTo>
                  <a:pt x="303" y="653"/>
                </a:lnTo>
                <a:lnTo>
                  <a:pt x="315" y="659"/>
                </a:lnTo>
                <a:lnTo>
                  <a:pt x="330" y="666"/>
                </a:lnTo>
                <a:lnTo>
                  <a:pt x="344" y="670"/>
                </a:lnTo>
                <a:lnTo>
                  <a:pt x="357" y="670"/>
                </a:lnTo>
                <a:lnTo>
                  <a:pt x="367" y="670"/>
                </a:lnTo>
                <a:lnTo>
                  <a:pt x="375" y="663"/>
                </a:lnTo>
                <a:lnTo>
                  <a:pt x="382" y="655"/>
                </a:lnTo>
                <a:lnTo>
                  <a:pt x="390" y="645"/>
                </a:lnTo>
                <a:lnTo>
                  <a:pt x="402" y="634"/>
                </a:lnTo>
                <a:lnTo>
                  <a:pt x="415" y="624"/>
                </a:lnTo>
                <a:lnTo>
                  <a:pt x="427" y="612"/>
                </a:lnTo>
                <a:lnTo>
                  <a:pt x="440" y="599"/>
                </a:lnTo>
                <a:lnTo>
                  <a:pt x="452" y="589"/>
                </a:lnTo>
                <a:lnTo>
                  <a:pt x="462" y="578"/>
                </a:lnTo>
                <a:lnTo>
                  <a:pt x="471" y="568"/>
                </a:lnTo>
                <a:lnTo>
                  <a:pt x="479" y="558"/>
                </a:lnTo>
                <a:lnTo>
                  <a:pt x="487" y="545"/>
                </a:lnTo>
                <a:lnTo>
                  <a:pt x="496" y="533"/>
                </a:lnTo>
                <a:lnTo>
                  <a:pt x="504" y="520"/>
                </a:lnTo>
                <a:lnTo>
                  <a:pt x="512" y="510"/>
                </a:lnTo>
                <a:lnTo>
                  <a:pt x="523" y="502"/>
                </a:lnTo>
                <a:lnTo>
                  <a:pt x="533" y="498"/>
                </a:lnTo>
                <a:lnTo>
                  <a:pt x="543" y="496"/>
                </a:lnTo>
                <a:lnTo>
                  <a:pt x="556" y="493"/>
                </a:lnTo>
                <a:lnTo>
                  <a:pt x="566" y="491"/>
                </a:lnTo>
                <a:lnTo>
                  <a:pt x="576" y="489"/>
                </a:lnTo>
                <a:lnTo>
                  <a:pt x="585" y="487"/>
                </a:lnTo>
                <a:lnTo>
                  <a:pt x="595" y="483"/>
                </a:lnTo>
                <a:lnTo>
                  <a:pt x="603" y="479"/>
                </a:lnTo>
                <a:lnTo>
                  <a:pt x="610" y="475"/>
                </a:lnTo>
                <a:lnTo>
                  <a:pt x="622" y="467"/>
                </a:lnTo>
                <a:lnTo>
                  <a:pt x="632" y="460"/>
                </a:lnTo>
                <a:lnTo>
                  <a:pt x="641" y="454"/>
                </a:lnTo>
                <a:lnTo>
                  <a:pt x="653" y="448"/>
                </a:lnTo>
                <a:lnTo>
                  <a:pt x="664" y="440"/>
                </a:lnTo>
                <a:lnTo>
                  <a:pt x="672" y="429"/>
                </a:lnTo>
                <a:lnTo>
                  <a:pt x="678" y="421"/>
                </a:lnTo>
                <a:lnTo>
                  <a:pt x="678" y="413"/>
                </a:lnTo>
                <a:lnTo>
                  <a:pt x="674" y="406"/>
                </a:lnTo>
                <a:lnTo>
                  <a:pt x="666" y="400"/>
                </a:lnTo>
                <a:lnTo>
                  <a:pt x="657" y="394"/>
                </a:lnTo>
                <a:lnTo>
                  <a:pt x="651" y="392"/>
                </a:lnTo>
                <a:lnTo>
                  <a:pt x="643" y="390"/>
                </a:lnTo>
                <a:lnTo>
                  <a:pt x="630" y="386"/>
                </a:lnTo>
                <a:lnTo>
                  <a:pt x="622" y="382"/>
                </a:lnTo>
                <a:lnTo>
                  <a:pt x="622" y="371"/>
                </a:lnTo>
                <a:lnTo>
                  <a:pt x="628" y="359"/>
                </a:lnTo>
                <a:lnTo>
                  <a:pt x="635" y="346"/>
                </a:lnTo>
                <a:lnTo>
                  <a:pt x="641" y="340"/>
                </a:lnTo>
                <a:lnTo>
                  <a:pt x="651" y="342"/>
                </a:lnTo>
                <a:lnTo>
                  <a:pt x="664" y="346"/>
                </a:lnTo>
                <a:lnTo>
                  <a:pt x="680" y="348"/>
                </a:lnTo>
                <a:lnTo>
                  <a:pt x="693" y="350"/>
                </a:lnTo>
                <a:lnTo>
                  <a:pt x="699" y="350"/>
                </a:lnTo>
                <a:lnTo>
                  <a:pt x="699" y="350"/>
                </a:lnTo>
                <a:lnTo>
                  <a:pt x="701" y="348"/>
                </a:lnTo>
                <a:lnTo>
                  <a:pt x="705" y="342"/>
                </a:lnTo>
                <a:lnTo>
                  <a:pt x="707" y="332"/>
                </a:lnTo>
                <a:lnTo>
                  <a:pt x="711" y="315"/>
                </a:lnTo>
                <a:lnTo>
                  <a:pt x="715" y="299"/>
                </a:lnTo>
                <a:lnTo>
                  <a:pt x="718" y="284"/>
                </a:lnTo>
                <a:lnTo>
                  <a:pt x="715" y="272"/>
                </a:lnTo>
                <a:lnTo>
                  <a:pt x="713" y="257"/>
                </a:lnTo>
                <a:lnTo>
                  <a:pt x="709" y="241"/>
                </a:lnTo>
                <a:lnTo>
                  <a:pt x="709" y="220"/>
                </a:lnTo>
                <a:lnTo>
                  <a:pt x="713" y="197"/>
                </a:lnTo>
                <a:lnTo>
                  <a:pt x="722" y="178"/>
                </a:lnTo>
                <a:lnTo>
                  <a:pt x="728" y="164"/>
                </a:lnTo>
                <a:lnTo>
                  <a:pt x="736" y="153"/>
                </a:lnTo>
                <a:lnTo>
                  <a:pt x="747" y="143"/>
                </a:lnTo>
                <a:lnTo>
                  <a:pt x="753" y="137"/>
                </a:lnTo>
                <a:lnTo>
                  <a:pt x="761" y="131"/>
                </a:lnTo>
                <a:lnTo>
                  <a:pt x="769" y="124"/>
                </a:lnTo>
                <a:lnTo>
                  <a:pt x="780" y="118"/>
                </a:lnTo>
                <a:lnTo>
                  <a:pt x="788" y="112"/>
                </a:lnTo>
                <a:lnTo>
                  <a:pt x="796" y="106"/>
                </a:lnTo>
                <a:lnTo>
                  <a:pt x="805" y="98"/>
                </a:lnTo>
                <a:lnTo>
                  <a:pt x="809" y="91"/>
                </a:lnTo>
                <a:lnTo>
                  <a:pt x="811" y="79"/>
                </a:lnTo>
                <a:lnTo>
                  <a:pt x="805" y="73"/>
                </a:lnTo>
                <a:lnTo>
                  <a:pt x="794" y="73"/>
                </a:lnTo>
                <a:lnTo>
                  <a:pt x="782" y="75"/>
                </a:lnTo>
                <a:lnTo>
                  <a:pt x="769" y="75"/>
                </a:lnTo>
                <a:lnTo>
                  <a:pt x="755" y="73"/>
                </a:lnTo>
                <a:lnTo>
                  <a:pt x="740" y="71"/>
                </a:lnTo>
                <a:lnTo>
                  <a:pt x="730" y="68"/>
                </a:lnTo>
                <a:lnTo>
                  <a:pt x="720" y="68"/>
                </a:lnTo>
                <a:lnTo>
                  <a:pt x="711" y="68"/>
                </a:lnTo>
                <a:lnTo>
                  <a:pt x="705" y="75"/>
                </a:lnTo>
                <a:lnTo>
                  <a:pt x="699" y="83"/>
                </a:lnTo>
                <a:lnTo>
                  <a:pt x="695" y="87"/>
                </a:lnTo>
                <a:lnTo>
                  <a:pt x="688" y="89"/>
                </a:lnTo>
                <a:lnTo>
                  <a:pt x="680" y="91"/>
                </a:lnTo>
                <a:lnTo>
                  <a:pt x="672" y="93"/>
                </a:lnTo>
                <a:lnTo>
                  <a:pt x="662" y="93"/>
                </a:lnTo>
                <a:lnTo>
                  <a:pt x="653" y="93"/>
                </a:lnTo>
                <a:lnTo>
                  <a:pt x="643" y="93"/>
                </a:lnTo>
                <a:lnTo>
                  <a:pt x="635" y="93"/>
                </a:lnTo>
                <a:lnTo>
                  <a:pt x="618" y="91"/>
                </a:lnTo>
                <a:lnTo>
                  <a:pt x="601" y="89"/>
                </a:lnTo>
                <a:lnTo>
                  <a:pt x="587" y="87"/>
                </a:lnTo>
                <a:lnTo>
                  <a:pt x="574" y="87"/>
                </a:lnTo>
                <a:lnTo>
                  <a:pt x="568" y="87"/>
                </a:lnTo>
                <a:lnTo>
                  <a:pt x="572" y="85"/>
                </a:lnTo>
                <a:lnTo>
                  <a:pt x="583" y="81"/>
                </a:lnTo>
                <a:lnTo>
                  <a:pt x="595" y="71"/>
                </a:lnTo>
                <a:lnTo>
                  <a:pt x="608" y="60"/>
                </a:lnTo>
                <a:lnTo>
                  <a:pt x="620" y="54"/>
                </a:lnTo>
                <a:lnTo>
                  <a:pt x="632" y="52"/>
                </a:lnTo>
                <a:lnTo>
                  <a:pt x="645" y="50"/>
                </a:lnTo>
                <a:lnTo>
                  <a:pt x="659" y="50"/>
                </a:lnTo>
                <a:lnTo>
                  <a:pt x="678" y="52"/>
                </a:lnTo>
                <a:lnTo>
                  <a:pt x="693" y="56"/>
                </a:lnTo>
                <a:lnTo>
                  <a:pt x="699" y="56"/>
                </a:lnTo>
                <a:lnTo>
                  <a:pt x="688" y="39"/>
                </a:lnTo>
                <a:lnTo>
                  <a:pt x="674" y="23"/>
                </a:lnTo>
                <a:lnTo>
                  <a:pt x="659" y="13"/>
                </a:lnTo>
                <a:lnTo>
                  <a:pt x="647" y="6"/>
                </a:lnTo>
                <a:lnTo>
                  <a:pt x="641" y="4"/>
                </a:lnTo>
                <a:lnTo>
                  <a:pt x="630" y="4"/>
                </a:lnTo>
                <a:lnTo>
                  <a:pt x="620" y="2"/>
                </a:lnTo>
                <a:lnTo>
                  <a:pt x="608" y="0"/>
                </a:lnTo>
                <a:lnTo>
                  <a:pt x="595" y="0"/>
                </a:lnTo>
                <a:lnTo>
                  <a:pt x="581" y="0"/>
                </a:lnTo>
                <a:lnTo>
                  <a:pt x="566" y="0"/>
                </a:lnTo>
                <a:lnTo>
                  <a:pt x="552" y="2"/>
                </a:lnTo>
                <a:lnTo>
                  <a:pt x="537" y="4"/>
                </a:lnTo>
                <a:lnTo>
                  <a:pt x="523" y="6"/>
                </a:lnTo>
                <a:lnTo>
                  <a:pt x="506" y="6"/>
                </a:lnTo>
                <a:lnTo>
                  <a:pt x="491" y="6"/>
                </a:lnTo>
                <a:lnTo>
                  <a:pt x="477" y="8"/>
                </a:lnTo>
                <a:lnTo>
                  <a:pt x="464" y="8"/>
                </a:lnTo>
                <a:lnTo>
                  <a:pt x="454" y="8"/>
                </a:lnTo>
                <a:lnTo>
                  <a:pt x="446" y="10"/>
                </a:lnTo>
                <a:lnTo>
                  <a:pt x="431" y="17"/>
                </a:lnTo>
                <a:lnTo>
                  <a:pt x="419" y="23"/>
                </a:lnTo>
                <a:lnTo>
                  <a:pt x="406" y="29"/>
                </a:lnTo>
                <a:lnTo>
                  <a:pt x="394" y="31"/>
                </a:lnTo>
                <a:lnTo>
                  <a:pt x="384" y="31"/>
                </a:lnTo>
                <a:lnTo>
                  <a:pt x="377" y="33"/>
                </a:lnTo>
                <a:lnTo>
                  <a:pt x="371" y="37"/>
                </a:lnTo>
                <a:lnTo>
                  <a:pt x="361" y="42"/>
                </a:lnTo>
                <a:lnTo>
                  <a:pt x="355" y="48"/>
                </a:lnTo>
                <a:lnTo>
                  <a:pt x="357" y="54"/>
                </a:lnTo>
                <a:lnTo>
                  <a:pt x="363" y="64"/>
                </a:lnTo>
                <a:lnTo>
                  <a:pt x="367" y="75"/>
                </a:lnTo>
                <a:lnTo>
                  <a:pt x="365" y="81"/>
                </a:lnTo>
                <a:lnTo>
                  <a:pt x="357" y="81"/>
                </a:lnTo>
                <a:lnTo>
                  <a:pt x="344" y="81"/>
                </a:lnTo>
                <a:lnTo>
                  <a:pt x="330" y="83"/>
                </a:lnTo>
                <a:lnTo>
                  <a:pt x="315" y="87"/>
                </a:lnTo>
                <a:lnTo>
                  <a:pt x="305" y="87"/>
                </a:lnTo>
                <a:lnTo>
                  <a:pt x="294" y="87"/>
                </a:lnTo>
                <a:lnTo>
                  <a:pt x="286" y="85"/>
                </a:lnTo>
                <a:lnTo>
                  <a:pt x="276" y="85"/>
                </a:lnTo>
                <a:lnTo>
                  <a:pt x="261" y="87"/>
                </a:lnTo>
                <a:lnTo>
                  <a:pt x="249" y="89"/>
                </a:lnTo>
                <a:lnTo>
                  <a:pt x="243" y="91"/>
                </a:lnTo>
                <a:lnTo>
                  <a:pt x="236" y="91"/>
                </a:lnTo>
                <a:lnTo>
                  <a:pt x="222" y="89"/>
                </a:lnTo>
                <a:lnTo>
                  <a:pt x="203" y="89"/>
                </a:lnTo>
                <a:lnTo>
                  <a:pt x="187" y="93"/>
                </a:lnTo>
                <a:close/>
              </a:path>
            </a:pathLst>
          </a:custGeom>
          <a:solidFill>
            <a:srgbClr val="996633"/>
          </a:solidFill>
          <a:ln w="1908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54320" y="2622600"/>
            <a:ext cx="292320" cy="142920"/>
          </a:xfrm>
          <a:custGeom>
            <a:avLst/>
            <a:gdLst/>
            <a:ahLst/>
            <a:rect l="l" t="t" r="r" b="b"/>
            <a:pathLst>
              <a:path w="170" h="90">
                <a:moveTo>
                  <a:pt x="66" y="27"/>
                </a:moveTo>
                <a:lnTo>
                  <a:pt x="68" y="38"/>
                </a:lnTo>
                <a:lnTo>
                  <a:pt x="77" y="40"/>
                </a:lnTo>
                <a:lnTo>
                  <a:pt x="89" y="36"/>
                </a:lnTo>
                <a:lnTo>
                  <a:pt x="102" y="27"/>
                </a:lnTo>
                <a:lnTo>
                  <a:pt x="116" y="19"/>
                </a:lnTo>
                <a:lnTo>
                  <a:pt x="131" y="9"/>
                </a:lnTo>
                <a:lnTo>
                  <a:pt x="143" y="5"/>
                </a:lnTo>
                <a:lnTo>
                  <a:pt x="153" y="5"/>
                </a:lnTo>
                <a:lnTo>
                  <a:pt x="166" y="19"/>
                </a:lnTo>
                <a:lnTo>
                  <a:pt x="170" y="40"/>
                </a:lnTo>
                <a:lnTo>
                  <a:pt x="170" y="56"/>
                </a:lnTo>
                <a:lnTo>
                  <a:pt x="170" y="65"/>
                </a:lnTo>
                <a:lnTo>
                  <a:pt x="166" y="69"/>
                </a:lnTo>
                <a:lnTo>
                  <a:pt x="156" y="75"/>
                </a:lnTo>
                <a:lnTo>
                  <a:pt x="137" y="83"/>
                </a:lnTo>
                <a:lnTo>
                  <a:pt x="116" y="88"/>
                </a:lnTo>
                <a:lnTo>
                  <a:pt x="104" y="88"/>
                </a:lnTo>
                <a:lnTo>
                  <a:pt x="91" y="88"/>
                </a:lnTo>
                <a:lnTo>
                  <a:pt x="79" y="90"/>
                </a:lnTo>
                <a:lnTo>
                  <a:pt x="66" y="88"/>
                </a:lnTo>
                <a:lnTo>
                  <a:pt x="56" y="88"/>
                </a:lnTo>
                <a:lnTo>
                  <a:pt x="48" y="85"/>
                </a:lnTo>
                <a:lnTo>
                  <a:pt x="44" y="83"/>
                </a:lnTo>
                <a:lnTo>
                  <a:pt x="39" y="77"/>
                </a:lnTo>
                <a:lnTo>
                  <a:pt x="31" y="67"/>
                </a:lnTo>
                <a:lnTo>
                  <a:pt x="17" y="56"/>
                </a:lnTo>
                <a:lnTo>
                  <a:pt x="6" y="52"/>
                </a:lnTo>
                <a:lnTo>
                  <a:pt x="0" y="50"/>
                </a:lnTo>
                <a:lnTo>
                  <a:pt x="0" y="44"/>
                </a:lnTo>
                <a:lnTo>
                  <a:pt x="2" y="27"/>
                </a:lnTo>
                <a:lnTo>
                  <a:pt x="10" y="11"/>
                </a:lnTo>
                <a:lnTo>
                  <a:pt x="23" y="0"/>
                </a:lnTo>
                <a:lnTo>
                  <a:pt x="39" y="0"/>
                </a:lnTo>
                <a:lnTo>
                  <a:pt x="52" y="5"/>
                </a:lnTo>
                <a:lnTo>
                  <a:pt x="62" y="15"/>
                </a:lnTo>
                <a:lnTo>
                  <a:pt x="66" y="27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458120" y="4646520"/>
            <a:ext cx="1001520" cy="723960"/>
          </a:xfrm>
          <a:custGeom>
            <a:avLst/>
            <a:gdLst/>
            <a:ahLst/>
            <a:rect l="l" t="t" r="r" b="b"/>
            <a:pathLst>
              <a:path w="583" h="456">
                <a:moveTo>
                  <a:pt x="411" y="92"/>
                </a:moveTo>
                <a:lnTo>
                  <a:pt x="400" y="89"/>
                </a:lnTo>
                <a:lnTo>
                  <a:pt x="390" y="87"/>
                </a:lnTo>
                <a:lnTo>
                  <a:pt x="379" y="87"/>
                </a:lnTo>
                <a:lnTo>
                  <a:pt x="369" y="85"/>
                </a:lnTo>
                <a:lnTo>
                  <a:pt x="357" y="83"/>
                </a:lnTo>
                <a:lnTo>
                  <a:pt x="348" y="81"/>
                </a:lnTo>
                <a:lnTo>
                  <a:pt x="340" y="81"/>
                </a:lnTo>
                <a:lnTo>
                  <a:pt x="334" y="79"/>
                </a:lnTo>
                <a:lnTo>
                  <a:pt x="328" y="75"/>
                </a:lnTo>
                <a:lnTo>
                  <a:pt x="328" y="67"/>
                </a:lnTo>
                <a:lnTo>
                  <a:pt x="334" y="58"/>
                </a:lnTo>
                <a:lnTo>
                  <a:pt x="344" y="50"/>
                </a:lnTo>
                <a:lnTo>
                  <a:pt x="346" y="42"/>
                </a:lnTo>
                <a:lnTo>
                  <a:pt x="336" y="31"/>
                </a:lnTo>
                <a:lnTo>
                  <a:pt x="321" y="23"/>
                </a:lnTo>
                <a:lnTo>
                  <a:pt x="311" y="15"/>
                </a:lnTo>
                <a:lnTo>
                  <a:pt x="305" y="9"/>
                </a:lnTo>
                <a:lnTo>
                  <a:pt x="299" y="2"/>
                </a:lnTo>
                <a:lnTo>
                  <a:pt x="292" y="0"/>
                </a:lnTo>
                <a:lnTo>
                  <a:pt x="290" y="7"/>
                </a:lnTo>
                <a:lnTo>
                  <a:pt x="282" y="15"/>
                </a:lnTo>
                <a:lnTo>
                  <a:pt x="265" y="25"/>
                </a:lnTo>
                <a:lnTo>
                  <a:pt x="247" y="33"/>
                </a:lnTo>
                <a:lnTo>
                  <a:pt x="230" y="42"/>
                </a:lnTo>
                <a:lnTo>
                  <a:pt x="220" y="48"/>
                </a:lnTo>
                <a:lnTo>
                  <a:pt x="214" y="54"/>
                </a:lnTo>
                <a:lnTo>
                  <a:pt x="203" y="56"/>
                </a:lnTo>
                <a:lnTo>
                  <a:pt x="191" y="58"/>
                </a:lnTo>
                <a:lnTo>
                  <a:pt x="182" y="60"/>
                </a:lnTo>
                <a:lnTo>
                  <a:pt x="172" y="63"/>
                </a:lnTo>
                <a:lnTo>
                  <a:pt x="160" y="69"/>
                </a:lnTo>
                <a:lnTo>
                  <a:pt x="149" y="75"/>
                </a:lnTo>
                <a:lnTo>
                  <a:pt x="137" y="83"/>
                </a:lnTo>
                <a:lnTo>
                  <a:pt x="126" y="92"/>
                </a:lnTo>
                <a:lnTo>
                  <a:pt x="118" y="102"/>
                </a:lnTo>
                <a:lnTo>
                  <a:pt x="110" y="112"/>
                </a:lnTo>
                <a:lnTo>
                  <a:pt x="104" y="123"/>
                </a:lnTo>
                <a:lnTo>
                  <a:pt x="97" y="129"/>
                </a:lnTo>
                <a:lnTo>
                  <a:pt x="89" y="137"/>
                </a:lnTo>
                <a:lnTo>
                  <a:pt x="81" y="143"/>
                </a:lnTo>
                <a:lnTo>
                  <a:pt x="72" y="150"/>
                </a:lnTo>
                <a:lnTo>
                  <a:pt x="62" y="158"/>
                </a:lnTo>
                <a:lnTo>
                  <a:pt x="50" y="164"/>
                </a:lnTo>
                <a:lnTo>
                  <a:pt x="37" y="172"/>
                </a:lnTo>
                <a:lnTo>
                  <a:pt x="23" y="177"/>
                </a:lnTo>
                <a:lnTo>
                  <a:pt x="10" y="177"/>
                </a:lnTo>
                <a:lnTo>
                  <a:pt x="2" y="189"/>
                </a:lnTo>
                <a:lnTo>
                  <a:pt x="0" y="235"/>
                </a:lnTo>
                <a:lnTo>
                  <a:pt x="0" y="253"/>
                </a:lnTo>
                <a:lnTo>
                  <a:pt x="2" y="264"/>
                </a:lnTo>
                <a:lnTo>
                  <a:pt x="4" y="272"/>
                </a:lnTo>
                <a:lnTo>
                  <a:pt x="10" y="282"/>
                </a:lnTo>
                <a:lnTo>
                  <a:pt x="21" y="291"/>
                </a:lnTo>
                <a:lnTo>
                  <a:pt x="31" y="297"/>
                </a:lnTo>
                <a:lnTo>
                  <a:pt x="35" y="305"/>
                </a:lnTo>
                <a:lnTo>
                  <a:pt x="33" y="317"/>
                </a:lnTo>
                <a:lnTo>
                  <a:pt x="27" y="330"/>
                </a:lnTo>
                <a:lnTo>
                  <a:pt x="21" y="340"/>
                </a:lnTo>
                <a:lnTo>
                  <a:pt x="16" y="353"/>
                </a:lnTo>
                <a:lnTo>
                  <a:pt x="16" y="369"/>
                </a:lnTo>
                <a:lnTo>
                  <a:pt x="21" y="378"/>
                </a:lnTo>
                <a:lnTo>
                  <a:pt x="27" y="384"/>
                </a:lnTo>
                <a:lnTo>
                  <a:pt x="39" y="390"/>
                </a:lnTo>
                <a:lnTo>
                  <a:pt x="52" y="392"/>
                </a:lnTo>
                <a:lnTo>
                  <a:pt x="64" y="392"/>
                </a:lnTo>
                <a:lnTo>
                  <a:pt x="79" y="392"/>
                </a:lnTo>
                <a:lnTo>
                  <a:pt x="91" y="390"/>
                </a:lnTo>
                <a:lnTo>
                  <a:pt x="101" y="386"/>
                </a:lnTo>
                <a:lnTo>
                  <a:pt x="110" y="382"/>
                </a:lnTo>
                <a:lnTo>
                  <a:pt x="120" y="378"/>
                </a:lnTo>
                <a:lnTo>
                  <a:pt x="131" y="373"/>
                </a:lnTo>
                <a:lnTo>
                  <a:pt x="141" y="369"/>
                </a:lnTo>
                <a:lnTo>
                  <a:pt x="153" y="365"/>
                </a:lnTo>
                <a:lnTo>
                  <a:pt x="166" y="361"/>
                </a:lnTo>
                <a:lnTo>
                  <a:pt x="178" y="357"/>
                </a:lnTo>
                <a:lnTo>
                  <a:pt x="191" y="353"/>
                </a:lnTo>
                <a:lnTo>
                  <a:pt x="205" y="349"/>
                </a:lnTo>
                <a:lnTo>
                  <a:pt x="222" y="347"/>
                </a:lnTo>
                <a:lnTo>
                  <a:pt x="240" y="344"/>
                </a:lnTo>
                <a:lnTo>
                  <a:pt x="259" y="342"/>
                </a:lnTo>
                <a:lnTo>
                  <a:pt x="278" y="344"/>
                </a:lnTo>
                <a:lnTo>
                  <a:pt x="296" y="347"/>
                </a:lnTo>
                <a:lnTo>
                  <a:pt x="313" y="353"/>
                </a:lnTo>
                <a:lnTo>
                  <a:pt x="328" y="359"/>
                </a:lnTo>
                <a:lnTo>
                  <a:pt x="340" y="367"/>
                </a:lnTo>
                <a:lnTo>
                  <a:pt x="352" y="378"/>
                </a:lnTo>
                <a:lnTo>
                  <a:pt x="363" y="388"/>
                </a:lnTo>
                <a:lnTo>
                  <a:pt x="373" y="400"/>
                </a:lnTo>
                <a:lnTo>
                  <a:pt x="382" y="413"/>
                </a:lnTo>
                <a:lnTo>
                  <a:pt x="392" y="423"/>
                </a:lnTo>
                <a:lnTo>
                  <a:pt x="398" y="434"/>
                </a:lnTo>
                <a:lnTo>
                  <a:pt x="404" y="444"/>
                </a:lnTo>
                <a:lnTo>
                  <a:pt x="413" y="450"/>
                </a:lnTo>
                <a:lnTo>
                  <a:pt x="425" y="454"/>
                </a:lnTo>
                <a:lnTo>
                  <a:pt x="440" y="456"/>
                </a:lnTo>
                <a:lnTo>
                  <a:pt x="456" y="454"/>
                </a:lnTo>
                <a:lnTo>
                  <a:pt x="473" y="452"/>
                </a:lnTo>
                <a:lnTo>
                  <a:pt x="485" y="450"/>
                </a:lnTo>
                <a:lnTo>
                  <a:pt x="496" y="446"/>
                </a:lnTo>
                <a:lnTo>
                  <a:pt x="500" y="440"/>
                </a:lnTo>
                <a:lnTo>
                  <a:pt x="504" y="425"/>
                </a:lnTo>
                <a:lnTo>
                  <a:pt x="512" y="407"/>
                </a:lnTo>
                <a:lnTo>
                  <a:pt x="520" y="390"/>
                </a:lnTo>
                <a:lnTo>
                  <a:pt x="525" y="376"/>
                </a:lnTo>
                <a:lnTo>
                  <a:pt x="531" y="363"/>
                </a:lnTo>
                <a:lnTo>
                  <a:pt x="543" y="349"/>
                </a:lnTo>
                <a:lnTo>
                  <a:pt x="556" y="334"/>
                </a:lnTo>
                <a:lnTo>
                  <a:pt x="562" y="320"/>
                </a:lnTo>
                <a:lnTo>
                  <a:pt x="564" y="305"/>
                </a:lnTo>
                <a:lnTo>
                  <a:pt x="570" y="288"/>
                </a:lnTo>
                <a:lnTo>
                  <a:pt x="579" y="272"/>
                </a:lnTo>
                <a:lnTo>
                  <a:pt x="583" y="255"/>
                </a:lnTo>
                <a:lnTo>
                  <a:pt x="581" y="247"/>
                </a:lnTo>
                <a:lnTo>
                  <a:pt x="576" y="237"/>
                </a:lnTo>
                <a:lnTo>
                  <a:pt x="568" y="228"/>
                </a:lnTo>
                <a:lnTo>
                  <a:pt x="560" y="220"/>
                </a:lnTo>
                <a:lnTo>
                  <a:pt x="550" y="210"/>
                </a:lnTo>
                <a:lnTo>
                  <a:pt x="539" y="201"/>
                </a:lnTo>
                <a:lnTo>
                  <a:pt x="529" y="195"/>
                </a:lnTo>
                <a:lnTo>
                  <a:pt x="523" y="187"/>
                </a:lnTo>
                <a:lnTo>
                  <a:pt x="504" y="166"/>
                </a:lnTo>
                <a:lnTo>
                  <a:pt x="489" y="150"/>
                </a:lnTo>
                <a:lnTo>
                  <a:pt x="477" y="135"/>
                </a:lnTo>
                <a:lnTo>
                  <a:pt x="471" y="118"/>
                </a:lnTo>
                <a:lnTo>
                  <a:pt x="467" y="98"/>
                </a:lnTo>
                <a:lnTo>
                  <a:pt x="464" y="77"/>
                </a:lnTo>
                <a:lnTo>
                  <a:pt x="462" y="58"/>
                </a:lnTo>
                <a:lnTo>
                  <a:pt x="456" y="42"/>
                </a:lnTo>
                <a:lnTo>
                  <a:pt x="448" y="27"/>
                </a:lnTo>
                <a:lnTo>
                  <a:pt x="438" y="17"/>
                </a:lnTo>
                <a:lnTo>
                  <a:pt x="427" y="7"/>
                </a:lnTo>
                <a:lnTo>
                  <a:pt x="419" y="0"/>
                </a:lnTo>
                <a:lnTo>
                  <a:pt x="423" y="21"/>
                </a:lnTo>
                <a:lnTo>
                  <a:pt x="427" y="42"/>
                </a:lnTo>
                <a:lnTo>
                  <a:pt x="427" y="60"/>
                </a:lnTo>
                <a:lnTo>
                  <a:pt x="427" y="75"/>
                </a:lnTo>
                <a:lnTo>
                  <a:pt x="427" y="83"/>
                </a:lnTo>
                <a:lnTo>
                  <a:pt x="423" y="89"/>
                </a:lnTo>
                <a:lnTo>
                  <a:pt x="419" y="92"/>
                </a:lnTo>
                <a:lnTo>
                  <a:pt x="411" y="92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026640" y="5513400"/>
            <a:ext cx="191880" cy="216000"/>
          </a:xfrm>
          <a:custGeom>
            <a:avLst/>
            <a:gdLst/>
            <a:ahLst/>
            <a:rect l="l" t="t" r="r" b="b"/>
            <a:pathLst>
              <a:path w="112" h="136">
                <a:moveTo>
                  <a:pt x="31" y="72"/>
                </a:moveTo>
                <a:lnTo>
                  <a:pt x="40" y="68"/>
                </a:lnTo>
                <a:lnTo>
                  <a:pt x="50" y="62"/>
                </a:lnTo>
                <a:lnTo>
                  <a:pt x="63" y="51"/>
                </a:lnTo>
                <a:lnTo>
                  <a:pt x="73" y="39"/>
                </a:lnTo>
                <a:lnTo>
                  <a:pt x="85" y="29"/>
                </a:lnTo>
                <a:lnTo>
                  <a:pt x="96" y="16"/>
                </a:lnTo>
                <a:lnTo>
                  <a:pt x="104" y="8"/>
                </a:lnTo>
                <a:lnTo>
                  <a:pt x="108" y="2"/>
                </a:lnTo>
                <a:lnTo>
                  <a:pt x="112" y="0"/>
                </a:lnTo>
                <a:lnTo>
                  <a:pt x="112" y="4"/>
                </a:lnTo>
                <a:lnTo>
                  <a:pt x="112" y="16"/>
                </a:lnTo>
                <a:lnTo>
                  <a:pt x="110" y="35"/>
                </a:lnTo>
                <a:lnTo>
                  <a:pt x="106" y="54"/>
                </a:lnTo>
                <a:lnTo>
                  <a:pt x="96" y="68"/>
                </a:lnTo>
                <a:lnTo>
                  <a:pt x="83" y="78"/>
                </a:lnTo>
                <a:lnTo>
                  <a:pt x="71" y="85"/>
                </a:lnTo>
                <a:lnTo>
                  <a:pt x="65" y="91"/>
                </a:lnTo>
                <a:lnTo>
                  <a:pt x="60" y="103"/>
                </a:lnTo>
                <a:lnTo>
                  <a:pt x="60" y="118"/>
                </a:lnTo>
                <a:lnTo>
                  <a:pt x="60" y="128"/>
                </a:lnTo>
                <a:lnTo>
                  <a:pt x="52" y="134"/>
                </a:lnTo>
                <a:lnTo>
                  <a:pt x="36" y="136"/>
                </a:lnTo>
                <a:lnTo>
                  <a:pt x="15" y="132"/>
                </a:lnTo>
                <a:lnTo>
                  <a:pt x="2" y="122"/>
                </a:lnTo>
                <a:lnTo>
                  <a:pt x="0" y="107"/>
                </a:lnTo>
                <a:lnTo>
                  <a:pt x="4" y="91"/>
                </a:lnTo>
                <a:lnTo>
                  <a:pt x="15" y="78"/>
                </a:lnTo>
                <a:lnTo>
                  <a:pt x="31" y="72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231480" y="5354640"/>
            <a:ext cx="152280" cy="177840"/>
          </a:xfrm>
          <a:custGeom>
            <a:avLst/>
            <a:gdLst/>
            <a:ahLst/>
            <a:rect l="l" t="t" r="r" b="b"/>
            <a:pathLst>
              <a:path w="89" h="112">
                <a:moveTo>
                  <a:pt x="4" y="0"/>
                </a:moveTo>
                <a:lnTo>
                  <a:pt x="16" y="8"/>
                </a:lnTo>
                <a:lnTo>
                  <a:pt x="29" y="25"/>
                </a:lnTo>
                <a:lnTo>
                  <a:pt x="39" y="42"/>
                </a:lnTo>
                <a:lnTo>
                  <a:pt x="47" y="50"/>
                </a:lnTo>
                <a:lnTo>
                  <a:pt x="58" y="50"/>
                </a:lnTo>
                <a:lnTo>
                  <a:pt x="70" y="50"/>
                </a:lnTo>
                <a:lnTo>
                  <a:pt x="83" y="52"/>
                </a:lnTo>
                <a:lnTo>
                  <a:pt x="89" y="58"/>
                </a:lnTo>
                <a:lnTo>
                  <a:pt x="89" y="69"/>
                </a:lnTo>
                <a:lnTo>
                  <a:pt x="85" y="79"/>
                </a:lnTo>
                <a:lnTo>
                  <a:pt x="76" y="91"/>
                </a:lnTo>
                <a:lnTo>
                  <a:pt x="68" y="102"/>
                </a:lnTo>
                <a:lnTo>
                  <a:pt x="60" y="108"/>
                </a:lnTo>
                <a:lnTo>
                  <a:pt x="51" y="112"/>
                </a:lnTo>
                <a:lnTo>
                  <a:pt x="41" y="110"/>
                </a:lnTo>
                <a:lnTo>
                  <a:pt x="33" y="102"/>
                </a:lnTo>
                <a:lnTo>
                  <a:pt x="27" y="89"/>
                </a:lnTo>
                <a:lnTo>
                  <a:pt x="22" y="77"/>
                </a:lnTo>
                <a:lnTo>
                  <a:pt x="20" y="64"/>
                </a:lnTo>
                <a:lnTo>
                  <a:pt x="20" y="56"/>
                </a:lnTo>
                <a:lnTo>
                  <a:pt x="18" y="46"/>
                </a:lnTo>
                <a:lnTo>
                  <a:pt x="12" y="33"/>
                </a:lnTo>
                <a:lnTo>
                  <a:pt x="4" y="25"/>
                </a:lnTo>
                <a:lnTo>
                  <a:pt x="0" y="21"/>
                </a:lnTo>
                <a:lnTo>
                  <a:pt x="4" y="0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95920" y="3965400"/>
            <a:ext cx="390600" cy="389160"/>
          </a:xfrm>
          <a:custGeom>
            <a:avLst/>
            <a:gdLst/>
            <a:ahLst/>
            <a:rect l="l" t="t" r="r" b="b"/>
            <a:pathLst>
              <a:path w="683" h="735">
                <a:moveTo>
                  <a:pt x="593" y="33"/>
                </a:moveTo>
                <a:lnTo>
                  <a:pt x="171" y="168"/>
                </a:lnTo>
                <a:lnTo>
                  <a:pt x="93" y="297"/>
                </a:lnTo>
                <a:lnTo>
                  <a:pt x="20" y="342"/>
                </a:lnTo>
                <a:lnTo>
                  <a:pt x="35" y="450"/>
                </a:lnTo>
                <a:lnTo>
                  <a:pt x="0" y="515"/>
                </a:lnTo>
                <a:lnTo>
                  <a:pt x="23" y="568"/>
                </a:lnTo>
                <a:lnTo>
                  <a:pt x="56" y="735"/>
                </a:lnTo>
                <a:lnTo>
                  <a:pt x="122" y="735"/>
                </a:lnTo>
                <a:lnTo>
                  <a:pt x="113" y="441"/>
                </a:lnTo>
                <a:lnTo>
                  <a:pt x="166" y="405"/>
                </a:lnTo>
                <a:lnTo>
                  <a:pt x="531" y="408"/>
                </a:lnTo>
                <a:lnTo>
                  <a:pt x="623" y="231"/>
                </a:lnTo>
                <a:lnTo>
                  <a:pt x="683" y="0"/>
                </a:lnTo>
                <a:lnTo>
                  <a:pt x="593" y="33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48160" y="3921120"/>
            <a:ext cx="446040" cy="338040"/>
          </a:xfrm>
          <a:custGeom>
            <a:avLst/>
            <a:gdLst/>
            <a:ahLst/>
            <a:rect l="l" t="t" r="r" b="b"/>
            <a:pathLst>
              <a:path w="778" h="640">
                <a:moveTo>
                  <a:pt x="324" y="0"/>
                </a:moveTo>
                <a:lnTo>
                  <a:pt x="232" y="73"/>
                </a:lnTo>
                <a:lnTo>
                  <a:pt x="271" y="396"/>
                </a:lnTo>
                <a:lnTo>
                  <a:pt x="0" y="399"/>
                </a:lnTo>
                <a:lnTo>
                  <a:pt x="8" y="517"/>
                </a:lnTo>
                <a:lnTo>
                  <a:pt x="200" y="527"/>
                </a:lnTo>
                <a:lnTo>
                  <a:pt x="216" y="640"/>
                </a:lnTo>
                <a:lnTo>
                  <a:pt x="307" y="640"/>
                </a:lnTo>
                <a:lnTo>
                  <a:pt x="352" y="524"/>
                </a:lnTo>
                <a:lnTo>
                  <a:pt x="425" y="531"/>
                </a:lnTo>
                <a:lnTo>
                  <a:pt x="701" y="388"/>
                </a:lnTo>
                <a:lnTo>
                  <a:pt x="778" y="256"/>
                </a:lnTo>
                <a:lnTo>
                  <a:pt x="324" y="0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45000" y="3624120"/>
            <a:ext cx="200160" cy="220680"/>
          </a:xfrm>
          <a:custGeom>
            <a:avLst/>
            <a:gdLst/>
            <a:ahLst/>
            <a:rect l="l" t="t" r="r" b="b"/>
            <a:pathLst>
              <a:path w="353" h="417">
                <a:moveTo>
                  <a:pt x="353" y="0"/>
                </a:moveTo>
                <a:lnTo>
                  <a:pt x="298" y="90"/>
                </a:lnTo>
                <a:lnTo>
                  <a:pt x="57" y="240"/>
                </a:lnTo>
                <a:lnTo>
                  <a:pt x="0" y="393"/>
                </a:lnTo>
                <a:lnTo>
                  <a:pt x="90" y="417"/>
                </a:lnTo>
                <a:lnTo>
                  <a:pt x="98" y="373"/>
                </a:lnTo>
                <a:lnTo>
                  <a:pt x="323" y="219"/>
                </a:lnTo>
                <a:lnTo>
                  <a:pt x="353" y="0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70400" y="3832200"/>
            <a:ext cx="225360" cy="179280"/>
          </a:xfrm>
          <a:custGeom>
            <a:avLst/>
            <a:gdLst/>
            <a:ahLst/>
            <a:rect l="l" t="t" r="r" b="b"/>
            <a:pathLst>
              <a:path w="394" h="339">
                <a:moveTo>
                  <a:pt x="302" y="0"/>
                </a:moveTo>
                <a:lnTo>
                  <a:pt x="394" y="23"/>
                </a:lnTo>
                <a:lnTo>
                  <a:pt x="335" y="86"/>
                </a:lnTo>
                <a:lnTo>
                  <a:pt x="292" y="142"/>
                </a:lnTo>
                <a:lnTo>
                  <a:pt x="209" y="142"/>
                </a:lnTo>
                <a:lnTo>
                  <a:pt x="120" y="339"/>
                </a:lnTo>
                <a:lnTo>
                  <a:pt x="0" y="311"/>
                </a:lnTo>
                <a:lnTo>
                  <a:pt x="116" y="99"/>
                </a:lnTo>
                <a:lnTo>
                  <a:pt x="302" y="0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62600" y="3662280"/>
            <a:ext cx="106200" cy="150840"/>
          </a:xfrm>
          <a:custGeom>
            <a:avLst/>
            <a:gdLst/>
            <a:ahLst/>
            <a:rect l="l" t="t" r="r" b="b"/>
            <a:pathLst>
              <a:path w="185" h="283">
                <a:moveTo>
                  <a:pt x="4" y="24"/>
                </a:moveTo>
                <a:lnTo>
                  <a:pt x="165" y="0"/>
                </a:lnTo>
                <a:lnTo>
                  <a:pt x="185" y="174"/>
                </a:lnTo>
                <a:lnTo>
                  <a:pt x="123" y="283"/>
                </a:lnTo>
                <a:lnTo>
                  <a:pt x="30" y="178"/>
                </a:lnTo>
                <a:lnTo>
                  <a:pt x="0" y="150"/>
                </a:lnTo>
                <a:lnTo>
                  <a:pt x="27" y="103"/>
                </a:lnTo>
                <a:lnTo>
                  <a:pt x="4" y="24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38720" y="3878280"/>
            <a:ext cx="296640" cy="257040"/>
          </a:xfrm>
          <a:custGeom>
            <a:avLst/>
            <a:gdLst/>
            <a:ahLst/>
            <a:rect l="l" t="t" r="r" b="b"/>
            <a:pathLst>
              <a:path w="518" h="485">
                <a:moveTo>
                  <a:pt x="390" y="0"/>
                </a:moveTo>
                <a:lnTo>
                  <a:pt x="518" y="79"/>
                </a:lnTo>
                <a:lnTo>
                  <a:pt x="428" y="149"/>
                </a:lnTo>
                <a:lnTo>
                  <a:pt x="467" y="480"/>
                </a:lnTo>
                <a:lnTo>
                  <a:pt x="194" y="480"/>
                </a:lnTo>
                <a:lnTo>
                  <a:pt x="122" y="449"/>
                </a:lnTo>
                <a:lnTo>
                  <a:pt x="0" y="485"/>
                </a:lnTo>
                <a:lnTo>
                  <a:pt x="53" y="351"/>
                </a:lnTo>
                <a:lnTo>
                  <a:pt x="56" y="224"/>
                </a:lnTo>
                <a:lnTo>
                  <a:pt x="176" y="250"/>
                </a:lnTo>
                <a:lnTo>
                  <a:pt x="265" y="54"/>
                </a:lnTo>
                <a:lnTo>
                  <a:pt x="348" y="54"/>
                </a:lnTo>
                <a:lnTo>
                  <a:pt x="390" y="0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62640" y="3624120"/>
            <a:ext cx="569880" cy="432000"/>
          </a:xfrm>
          <a:custGeom>
            <a:avLst/>
            <a:gdLst/>
            <a:ahLst/>
            <a:rect l="l" t="t" r="r" b="b"/>
            <a:pathLst>
              <a:path w="997" h="816">
                <a:moveTo>
                  <a:pt x="322" y="0"/>
                </a:moveTo>
                <a:lnTo>
                  <a:pt x="655" y="105"/>
                </a:lnTo>
                <a:lnTo>
                  <a:pt x="708" y="95"/>
                </a:lnTo>
                <a:lnTo>
                  <a:pt x="728" y="178"/>
                </a:lnTo>
                <a:lnTo>
                  <a:pt x="702" y="223"/>
                </a:lnTo>
                <a:lnTo>
                  <a:pt x="741" y="257"/>
                </a:lnTo>
                <a:lnTo>
                  <a:pt x="833" y="361"/>
                </a:lnTo>
                <a:lnTo>
                  <a:pt x="836" y="459"/>
                </a:lnTo>
                <a:lnTo>
                  <a:pt x="787" y="518"/>
                </a:lnTo>
                <a:lnTo>
                  <a:pt x="997" y="681"/>
                </a:lnTo>
                <a:lnTo>
                  <a:pt x="578" y="816"/>
                </a:lnTo>
                <a:lnTo>
                  <a:pt x="133" y="564"/>
                </a:lnTo>
                <a:lnTo>
                  <a:pt x="0" y="483"/>
                </a:lnTo>
                <a:lnTo>
                  <a:pt x="60" y="417"/>
                </a:lnTo>
                <a:lnTo>
                  <a:pt x="67" y="373"/>
                </a:lnTo>
                <a:lnTo>
                  <a:pt x="292" y="220"/>
                </a:lnTo>
                <a:lnTo>
                  <a:pt x="322" y="0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08680" y="3754440"/>
            <a:ext cx="426960" cy="307800"/>
          </a:xfrm>
          <a:custGeom>
            <a:avLst/>
            <a:gdLst/>
            <a:ahLst/>
            <a:rect l="l" t="t" r="r" b="b"/>
            <a:pathLst>
              <a:path w="744" h="583">
                <a:moveTo>
                  <a:pt x="105" y="0"/>
                </a:moveTo>
                <a:lnTo>
                  <a:pt x="44" y="106"/>
                </a:lnTo>
                <a:lnTo>
                  <a:pt x="51" y="214"/>
                </a:lnTo>
                <a:lnTo>
                  <a:pt x="0" y="275"/>
                </a:lnTo>
                <a:lnTo>
                  <a:pt x="216" y="436"/>
                </a:lnTo>
                <a:lnTo>
                  <a:pt x="307" y="404"/>
                </a:lnTo>
                <a:lnTo>
                  <a:pt x="665" y="583"/>
                </a:lnTo>
                <a:lnTo>
                  <a:pt x="738" y="547"/>
                </a:lnTo>
                <a:lnTo>
                  <a:pt x="744" y="441"/>
                </a:lnTo>
                <a:lnTo>
                  <a:pt x="727" y="86"/>
                </a:lnTo>
                <a:lnTo>
                  <a:pt x="549" y="36"/>
                </a:lnTo>
                <a:lnTo>
                  <a:pt x="465" y="95"/>
                </a:lnTo>
                <a:lnTo>
                  <a:pt x="406" y="169"/>
                </a:lnTo>
                <a:lnTo>
                  <a:pt x="244" y="28"/>
                </a:lnTo>
                <a:lnTo>
                  <a:pt x="105" y="0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23040" y="3797280"/>
            <a:ext cx="268200" cy="193680"/>
          </a:xfrm>
          <a:custGeom>
            <a:avLst/>
            <a:gdLst/>
            <a:ahLst/>
            <a:rect l="l" t="t" r="r" b="b"/>
            <a:pathLst>
              <a:path w="470" h="365">
                <a:moveTo>
                  <a:pt x="0" y="0"/>
                </a:moveTo>
                <a:lnTo>
                  <a:pt x="20" y="365"/>
                </a:lnTo>
                <a:lnTo>
                  <a:pt x="470" y="365"/>
                </a:lnTo>
                <a:lnTo>
                  <a:pt x="278" y="157"/>
                </a:lnTo>
                <a:lnTo>
                  <a:pt x="278" y="18"/>
                </a:lnTo>
                <a:lnTo>
                  <a:pt x="181" y="10"/>
                </a:lnTo>
                <a:lnTo>
                  <a:pt x="115" y="29"/>
                </a:lnTo>
                <a:lnTo>
                  <a:pt x="0" y="0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19720" y="3986280"/>
            <a:ext cx="428760" cy="401400"/>
          </a:xfrm>
          <a:custGeom>
            <a:avLst/>
            <a:gdLst/>
            <a:ahLst/>
            <a:rect l="l" t="t" r="r" b="b"/>
            <a:pathLst>
              <a:path w="748" h="761">
                <a:moveTo>
                  <a:pt x="199" y="0"/>
                </a:moveTo>
                <a:lnTo>
                  <a:pt x="645" y="0"/>
                </a:lnTo>
                <a:lnTo>
                  <a:pt x="748" y="261"/>
                </a:lnTo>
                <a:lnTo>
                  <a:pt x="640" y="529"/>
                </a:lnTo>
                <a:lnTo>
                  <a:pt x="655" y="688"/>
                </a:lnTo>
                <a:lnTo>
                  <a:pt x="597" y="760"/>
                </a:lnTo>
                <a:lnTo>
                  <a:pt x="427" y="761"/>
                </a:lnTo>
                <a:lnTo>
                  <a:pt x="264" y="712"/>
                </a:lnTo>
                <a:lnTo>
                  <a:pt x="190" y="615"/>
                </a:lnTo>
                <a:lnTo>
                  <a:pt x="121" y="608"/>
                </a:lnTo>
                <a:lnTo>
                  <a:pt x="0" y="397"/>
                </a:lnTo>
                <a:lnTo>
                  <a:pt x="37" y="303"/>
                </a:lnTo>
                <a:lnTo>
                  <a:pt x="95" y="285"/>
                </a:lnTo>
                <a:lnTo>
                  <a:pt x="121" y="144"/>
                </a:lnTo>
                <a:lnTo>
                  <a:pt x="190" y="108"/>
                </a:lnTo>
                <a:lnTo>
                  <a:pt x="199" y="0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99040" y="3967200"/>
            <a:ext cx="290520" cy="338040"/>
          </a:xfrm>
          <a:custGeom>
            <a:avLst/>
            <a:gdLst/>
            <a:ahLst/>
            <a:rect l="l" t="t" r="r" b="b"/>
            <a:pathLst>
              <a:path w="509" h="639">
                <a:moveTo>
                  <a:pt x="153" y="0"/>
                </a:moveTo>
                <a:lnTo>
                  <a:pt x="509" y="180"/>
                </a:lnTo>
                <a:lnTo>
                  <a:pt x="484" y="322"/>
                </a:lnTo>
                <a:lnTo>
                  <a:pt x="426" y="340"/>
                </a:lnTo>
                <a:lnTo>
                  <a:pt x="391" y="431"/>
                </a:lnTo>
                <a:lnTo>
                  <a:pt x="457" y="545"/>
                </a:lnTo>
                <a:lnTo>
                  <a:pt x="302" y="615"/>
                </a:lnTo>
                <a:lnTo>
                  <a:pt x="134" y="639"/>
                </a:lnTo>
                <a:lnTo>
                  <a:pt x="81" y="606"/>
                </a:lnTo>
                <a:lnTo>
                  <a:pt x="139" y="553"/>
                </a:lnTo>
                <a:lnTo>
                  <a:pt x="98" y="436"/>
                </a:lnTo>
                <a:lnTo>
                  <a:pt x="0" y="407"/>
                </a:lnTo>
                <a:lnTo>
                  <a:pt x="93" y="223"/>
                </a:lnTo>
                <a:lnTo>
                  <a:pt x="153" y="0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29000" y="4116240"/>
            <a:ext cx="123840" cy="77760"/>
          </a:xfrm>
          <a:custGeom>
            <a:avLst/>
            <a:gdLst/>
            <a:ahLst/>
            <a:rect l="l" t="t" r="r" b="b"/>
            <a:pathLst>
              <a:path w="216" h="148">
                <a:moveTo>
                  <a:pt x="18" y="35"/>
                </a:moveTo>
                <a:lnTo>
                  <a:pt x="138" y="0"/>
                </a:lnTo>
                <a:lnTo>
                  <a:pt x="209" y="30"/>
                </a:lnTo>
                <a:lnTo>
                  <a:pt x="216" y="148"/>
                </a:lnTo>
                <a:lnTo>
                  <a:pt x="0" y="135"/>
                </a:lnTo>
                <a:lnTo>
                  <a:pt x="18" y="35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29000" y="4187880"/>
            <a:ext cx="123840" cy="41400"/>
          </a:xfrm>
          <a:custGeom>
            <a:avLst/>
            <a:gdLst/>
            <a:ahLst/>
            <a:rect l="l" t="t" r="r" b="b"/>
            <a:pathLst>
              <a:path w="216" h="78">
                <a:moveTo>
                  <a:pt x="0" y="0"/>
                </a:moveTo>
                <a:lnTo>
                  <a:pt x="216" y="12"/>
                </a:lnTo>
                <a:lnTo>
                  <a:pt x="100" y="78"/>
                </a:lnTo>
                <a:lnTo>
                  <a:pt x="0" y="0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86240" y="4192560"/>
            <a:ext cx="187200" cy="125280"/>
          </a:xfrm>
          <a:custGeom>
            <a:avLst/>
            <a:gdLst/>
            <a:ahLst/>
            <a:rect l="l" t="t" r="r" b="b"/>
            <a:pathLst>
              <a:path w="328" h="236">
                <a:moveTo>
                  <a:pt x="0" y="65"/>
                </a:moveTo>
                <a:lnTo>
                  <a:pt x="113" y="0"/>
                </a:lnTo>
                <a:lnTo>
                  <a:pt x="310" y="11"/>
                </a:lnTo>
                <a:lnTo>
                  <a:pt x="328" y="130"/>
                </a:lnTo>
                <a:lnTo>
                  <a:pt x="300" y="236"/>
                </a:lnTo>
                <a:lnTo>
                  <a:pt x="209" y="171"/>
                </a:lnTo>
                <a:lnTo>
                  <a:pt x="146" y="108"/>
                </a:lnTo>
                <a:lnTo>
                  <a:pt x="92" y="159"/>
                </a:lnTo>
                <a:lnTo>
                  <a:pt x="0" y="65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38800" y="4249800"/>
            <a:ext cx="66600" cy="75960"/>
          </a:xfrm>
          <a:custGeom>
            <a:avLst/>
            <a:gdLst/>
            <a:ahLst/>
            <a:rect l="l" t="t" r="r" b="b"/>
            <a:pathLst>
              <a:path w="118" h="145">
                <a:moveTo>
                  <a:pt x="56" y="0"/>
                </a:moveTo>
                <a:lnTo>
                  <a:pt x="0" y="52"/>
                </a:lnTo>
                <a:lnTo>
                  <a:pt x="90" y="145"/>
                </a:lnTo>
                <a:lnTo>
                  <a:pt x="118" y="62"/>
                </a:lnTo>
                <a:lnTo>
                  <a:pt x="56" y="0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87760" y="4281480"/>
            <a:ext cx="69840" cy="95400"/>
          </a:xfrm>
          <a:custGeom>
            <a:avLst/>
            <a:gdLst/>
            <a:ahLst/>
            <a:rect l="l" t="t" r="r" b="b"/>
            <a:pathLst>
              <a:path w="122" h="181">
                <a:moveTo>
                  <a:pt x="28" y="0"/>
                </a:moveTo>
                <a:lnTo>
                  <a:pt x="0" y="85"/>
                </a:lnTo>
                <a:lnTo>
                  <a:pt x="96" y="181"/>
                </a:lnTo>
                <a:lnTo>
                  <a:pt x="122" y="68"/>
                </a:lnTo>
                <a:lnTo>
                  <a:pt x="28" y="0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43560" y="4259160"/>
            <a:ext cx="147600" cy="117720"/>
          </a:xfrm>
          <a:custGeom>
            <a:avLst/>
            <a:gdLst/>
            <a:ahLst/>
            <a:rect l="l" t="t" r="r" b="b"/>
            <a:pathLst>
              <a:path w="258" h="224">
                <a:moveTo>
                  <a:pt x="55" y="0"/>
                </a:moveTo>
                <a:lnTo>
                  <a:pt x="140" y="0"/>
                </a:lnTo>
                <a:lnTo>
                  <a:pt x="258" y="82"/>
                </a:lnTo>
                <a:lnTo>
                  <a:pt x="247" y="184"/>
                </a:lnTo>
                <a:lnTo>
                  <a:pt x="88" y="185"/>
                </a:lnTo>
                <a:lnTo>
                  <a:pt x="0" y="224"/>
                </a:lnTo>
                <a:lnTo>
                  <a:pt x="27" y="110"/>
                </a:lnTo>
                <a:lnTo>
                  <a:pt x="55" y="0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83240" y="4243320"/>
            <a:ext cx="102960" cy="112680"/>
          </a:xfrm>
          <a:custGeom>
            <a:avLst/>
            <a:gdLst/>
            <a:ahLst/>
            <a:rect l="l" t="t" r="r" b="b"/>
            <a:pathLst>
              <a:path w="180" h="213">
                <a:moveTo>
                  <a:pt x="22" y="3"/>
                </a:moveTo>
                <a:lnTo>
                  <a:pt x="149" y="0"/>
                </a:lnTo>
                <a:lnTo>
                  <a:pt x="180" y="213"/>
                </a:lnTo>
                <a:lnTo>
                  <a:pt x="0" y="213"/>
                </a:lnTo>
                <a:lnTo>
                  <a:pt x="22" y="3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21320" y="4145040"/>
            <a:ext cx="206280" cy="209520"/>
          </a:xfrm>
          <a:custGeom>
            <a:avLst/>
            <a:gdLst/>
            <a:ahLst/>
            <a:rect l="l" t="t" r="r" b="b"/>
            <a:pathLst>
              <a:path w="360" h="395">
                <a:moveTo>
                  <a:pt x="47" y="98"/>
                </a:moveTo>
                <a:lnTo>
                  <a:pt x="0" y="214"/>
                </a:lnTo>
                <a:lnTo>
                  <a:pt x="118" y="297"/>
                </a:lnTo>
                <a:lnTo>
                  <a:pt x="132" y="190"/>
                </a:lnTo>
                <a:lnTo>
                  <a:pt x="256" y="185"/>
                </a:lnTo>
                <a:lnTo>
                  <a:pt x="285" y="395"/>
                </a:lnTo>
                <a:lnTo>
                  <a:pt x="360" y="395"/>
                </a:lnTo>
                <a:lnTo>
                  <a:pt x="325" y="227"/>
                </a:lnTo>
                <a:lnTo>
                  <a:pt x="302" y="174"/>
                </a:lnTo>
                <a:lnTo>
                  <a:pt x="340" y="152"/>
                </a:lnTo>
                <a:lnTo>
                  <a:pt x="324" y="0"/>
                </a:lnTo>
                <a:lnTo>
                  <a:pt x="125" y="102"/>
                </a:lnTo>
                <a:lnTo>
                  <a:pt x="47" y="98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57840" y="4178160"/>
            <a:ext cx="295200" cy="217800"/>
          </a:xfrm>
          <a:custGeom>
            <a:avLst/>
            <a:gdLst/>
            <a:ahLst/>
            <a:rect l="l" t="t" r="r" b="b"/>
            <a:pathLst>
              <a:path w="516" h="411">
                <a:moveTo>
                  <a:pt x="57" y="0"/>
                </a:moveTo>
                <a:lnTo>
                  <a:pt x="0" y="38"/>
                </a:lnTo>
                <a:lnTo>
                  <a:pt x="10" y="332"/>
                </a:lnTo>
                <a:lnTo>
                  <a:pt x="249" y="411"/>
                </a:lnTo>
                <a:lnTo>
                  <a:pt x="272" y="275"/>
                </a:lnTo>
                <a:lnTo>
                  <a:pt x="437" y="201"/>
                </a:lnTo>
                <a:lnTo>
                  <a:pt x="516" y="30"/>
                </a:lnTo>
                <a:lnTo>
                  <a:pt x="424" y="3"/>
                </a:lnTo>
                <a:lnTo>
                  <a:pt x="57" y="0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98960" y="4194000"/>
            <a:ext cx="185760" cy="217800"/>
          </a:xfrm>
          <a:custGeom>
            <a:avLst/>
            <a:gdLst/>
            <a:ahLst/>
            <a:rect l="l" t="t" r="r" b="b"/>
            <a:pathLst>
              <a:path w="324" h="411">
                <a:moveTo>
                  <a:pt x="271" y="0"/>
                </a:moveTo>
                <a:lnTo>
                  <a:pt x="191" y="172"/>
                </a:lnTo>
                <a:lnTo>
                  <a:pt x="18" y="247"/>
                </a:lnTo>
                <a:lnTo>
                  <a:pt x="0" y="377"/>
                </a:lnTo>
                <a:lnTo>
                  <a:pt x="4" y="411"/>
                </a:lnTo>
                <a:lnTo>
                  <a:pt x="315" y="379"/>
                </a:lnTo>
                <a:lnTo>
                  <a:pt x="324" y="347"/>
                </a:lnTo>
                <a:lnTo>
                  <a:pt x="296" y="332"/>
                </a:lnTo>
                <a:lnTo>
                  <a:pt x="285" y="268"/>
                </a:lnTo>
                <a:lnTo>
                  <a:pt x="313" y="210"/>
                </a:lnTo>
                <a:lnTo>
                  <a:pt x="261" y="178"/>
                </a:lnTo>
                <a:lnTo>
                  <a:pt x="316" y="124"/>
                </a:lnTo>
                <a:lnTo>
                  <a:pt x="271" y="0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57720" y="4254480"/>
            <a:ext cx="316080" cy="136440"/>
          </a:xfrm>
          <a:custGeom>
            <a:avLst/>
            <a:gdLst/>
            <a:ahLst/>
            <a:rect l="l" t="t" r="r" b="b"/>
            <a:pathLst>
              <a:path w="548" h="257">
                <a:moveTo>
                  <a:pt x="28" y="91"/>
                </a:moveTo>
                <a:lnTo>
                  <a:pt x="0" y="156"/>
                </a:lnTo>
                <a:lnTo>
                  <a:pt x="14" y="221"/>
                </a:lnTo>
                <a:lnTo>
                  <a:pt x="42" y="236"/>
                </a:lnTo>
                <a:lnTo>
                  <a:pt x="81" y="221"/>
                </a:lnTo>
                <a:lnTo>
                  <a:pt x="120" y="257"/>
                </a:lnTo>
                <a:lnTo>
                  <a:pt x="169" y="204"/>
                </a:lnTo>
                <a:lnTo>
                  <a:pt x="258" y="228"/>
                </a:lnTo>
                <a:lnTo>
                  <a:pt x="376" y="228"/>
                </a:lnTo>
                <a:lnTo>
                  <a:pt x="548" y="201"/>
                </a:lnTo>
                <a:lnTo>
                  <a:pt x="475" y="106"/>
                </a:lnTo>
                <a:lnTo>
                  <a:pt x="401" y="98"/>
                </a:lnTo>
                <a:lnTo>
                  <a:pt x="348" y="0"/>
                </a:lnTo>
                <a:lnTo>
                  <a:pt x="193" y="69"/>
                </a:lnTo>
                <a:lnTo>
                  <a:pt x="28" y="91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984920" y="4400640"/>
            <a:ext cx="110880" cy="137880"/>
          </a:xfrm>
          <a:custGeom>
            <a:avLst/>
            <a:gdLst/>
            <a:ahLst/>
            <a:rect l="l" t="t" r="r" b="b"/>
            <a:pathLst>
              <a:path w="197" h="260">
                <a:moveTo>
                  <a:pt x="28" y="16"/>
                </a:moveTo>
                <a:lnTo>
                  <a:pt x="197" y="0"/>
                </a:lnTo>
                <a:lnTo>
                  <a:pt x="193" y="159"/>
                </a:lnTo>
                <a:lnTo>
                  <a:pt x="58" y="204"/>
                </a:lnTo>
                <a:lnTo>
                  <a:pt x="40" y="260"/>
                </a:lnTo>
                <a:lnTo>
                  <a:pt x="0" y="199"/>
                </a:lnTo>
                <a:lnTo>
                  <a:pt x="28" y="16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05440" y="4370400"/>
            <a:ext cx="222120" cy="193680"/>
          </a:xfrm>
          <a:custGeom>
            <a:avLst/>
            <a:gdLst/>
            <a:ahLst/>
            <a:rect l="l" t="t" r="r" b="b"/>
            <a:pathLst>
              <a:path w="387" h="364">
                <a:moveTo>
                  <a:pt x="159" y="54"/>
                </a:moveTo>
                <a:lnTo>
                  <a:pt x="299" y="42"/>
                </a:lnTo>
                <a:lnTo>
                  <a:pt x="305" y="16"/>
                </a:lnTo>
                <a:lnTo>
                  <a:pt x="349" y="0"/>
                </a:lnTo>
                <a:lnTo>
                  <a:pt x="387" y="37"/>
                </a:lnTo>
                <a:lnTo>
                  <a:pt x="229" y="304"/>
                </a:lnTo>
                <a:lnTo>
                  <a:pt x="30" y="364"/>
                </a:lnTo>
                <a:lnTo>
                  <a:pt x="0" y="313"/>
                </a:lnTo>
                <a:lnTo>
                  <a:pt x="18" y="261"/>
                </a:lnTo>
                <a:lnTo>
                  <a:pt x="153" y="216"/>
                </a:lnTo>
                <a:lnTo>
                  <a:pt x="159" y="54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21280" y="4359240"/>
            <a:ext cx="576360" cy="384120"/>
          </a:xfrm>
          <a:custGeom>
            <a:avLst/>
            <a:gdLst/>
            <a:ahLst/>
            <a:rect l="l" t="t" r="r" b="b"/>
            <a:pathLst>
              <a:path w="1006" h="726">
                <a:moveTo>
                  <a:pt x="789" y="0"/>
                </a:moveTo>
                <a:lnTo>
                  <a:pt x="952" y="52"/>
                </a:lnTo>
                <a:lnTo>
                  <a:pt x="983" y="135"/>
                </a:lnTo>
                <a:lnTo>
                  <a:pt x="890" y="219"/>
                </a:lnTo>
                <a:lnTo>
                  <a:pt x="951" y="299"/>
                </a:lnTo>
                <a:lnTo>
                  <a:pt x="944" y="389"/>
                </a:lnTo>
                <a:lnTo>
                  <a:pt x="1006" y="535"/>
                </a:lnTo>
                <a:lnTo>
                  <a:pt x="777" y="535"/>
                </a:lnTo>
                <a:lnTo>
                  <a:pt x="777" y="625"/>
                </a:lnTo>
                <a:lnTo>
                  <a:pt x="863" y="698"/>
                </a:lnTo>
                <a:lnTo>
                  <a:pt x="828" y="726"/>
                </a:lnTo>
                <a:lnTo>
                  <a:pt x="488" y="649"/>
                </a:lnTo>
                <a:lnTo>
                  <a:pt x="472" y="451"/>
                </a:lnTo>
                <a:lnTo>
                  <a:pt x="406" y="448"/>
                </a:lnTo>
                <a:lnTo>
                  <a:pt x="340" y="503"/>
                </a:lnTo>
                <a:lnTo>
                  <a:pt x="237" y="496"/>
                </a:lnTo>
                <a:lnTo>
                  <a:pt x="233" y="427"/>
                </a:lnTo>
                <a:lnTo>
                  <a:pt x="47" y="466"/>
                </a:lnTo>
                <a:lnTo>
                  <a:pt x="0" y="382"/>
                </a:lnTo>
                <a:lnTo>
                  <a:pt x="198" y="323"/>
                </a:lnTo>
                <a:lnTo>
                  <a:pt x="361" y="54"/>
                </a:lnTo>
                <a:lnTo>
                  <a:pt x="410" y="3"/>
                </a:lnTo>
                <a:lnTo>
                  <a:pt x="499" y="28"/>
                </a:lnTo>
                <a:lnTo>
                  <a:pt x="619" y="28"/>
                </a:lnTo>
                <a:lnTo>
                  <a:pt x="789" y="0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83320" y="4121280"/>
            <a:ext cx="284040" cy="288720"/>
          </a:xfrm>
          <a:custGeom>
            <a:avLst/>
            <a:gdLst/>
            <a:ahLst/>
            <a:rect l="l" t="t" r="r" b="b"/>
            <a:pathLst>
              <a:path w="494" h="544">
                <a:moveTo>
                  <a:pt x="111" y="0"/>
                </a:moveTo>
                <a:lnTo>
                  <a:pt x="0" y="277"/>
                </a:lnTo>
                <a:lnTo>
                  <a:pt x="19" y="433"/>
                </a:lnTo>
                <a:lnTo>
                  <a:pt x="260" y="544"/>
                </a:lnTo>
                <a:lnTo>
                  <a:pt x="336" y="499"/>
                </a:lnTo>
                <a:lnTo>
                  <a:pt x="455" y="468"/>
                </a:lnTo>
                <a:lnTo>
                  <a:pt x="494" y="384"/>
                </a:lnTo>
                <a:lnTo>
                  <a:pt x="343" y="294"/>
                </a:lnTo>
                <a:lnTo>
                  <a:pt x="351" y="212"/>
                </a:lnTo>
                <a:lnTo>
                  <a:pt x="323" y="194"/>
                </a:lnTo>
                <a:lnTo>
                  <a:pt x="347" y="124"/>
                </a:lnTo>
                <a:lnTo>
                  <a:pt x="111" y="0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661000" y="4349880"/>
            <a:ext cx="196920" cy="220680"/>
          </a:xfrm>
          <a:custGeom>
            <a:avLst/>
            <a:gdLst/>
            <a:ahLst/>
            <a:rect l="l" t="t" r="r" b="b"/>
            <a:pathLst>
              <a:path w="345" h="417">
                <a:moveTo>
                  <a:pt x="59" y="0"/>
                </a:moveTo>
                <a:lnTo>
                  <a:pt x="4" y="69"/>
                </a:lnTo>
                <a:lnTo>
                  <a:pt x="36" y="129"/>
                </a:lnTo>
                <a:lnTo>
                  <a:pt x="0" y="234"/>
                </a:lnTo>
                <a:lnTo>
                  <a:pt x="39" y="292"/>
                </a:lnTo>
                <a:lnTo>
                  <a:pt x="151" y="337"/>
                </a:lnTo>
                <a:lnTo>
                  <a:pt x="263" y="417"/>
                </a:lnTo>
                <a:lnTo>
                  <a:pt x="344" y="344"/>
                </a:lnTo>
                <a:lnTo>
                  <a:pt x="345" y="251"/>
                </a:lnTo>
                <a:lnTo>
                  <a:pt x="283" y="169"/>
                </a:lnTo>
                <a:lnTo>
                  <a:pt x="300" y="113"/>
                </a:lnTo>
                <a:lnTo>
                  <a:pt x="59" y="0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29240" y="4387680"/>
            <a:ext cx="282600" cy="304920"/>
          </a:xfrm>
          <a:custGeom>
            <a:avLst/>
            <a:gdLst/>
            <a:ahLst/>
            <a:rect l="l" t="t" r="r" b="b"/>
            <a:pathLst>
              <a:path w="491" h="578">
                <a:moveTo>
                  <a:pt x="61" y="0"/>
                </a:moveTo>
                <a:lnTo>
                  <a:pt x="233" y="0"/>
                </a:lnTo>
                <a:lnTo>
                  <a:pt x="266" y="55"/>
                </a:lnTo>
                <a:lnTo>
                  <a:pt x="228" y="162"/>
                </a:lnTo>
                <a:lnTo>
                  <a:pt x="267" y="218"/>
                </a:lnTo>
                <a:lnTo>
                  <a:pt x="382" y="265"/>
                </a:lnTo>
                <a:lnTo>
                  <a:pt x="491" y="346"/>
                </a:lnTo>
                <a:lnTo>
                  <a:pt x="394" y="441"/>
                </a:lnTo>
                <a:lnTo>
                  <a:pt x="445" y="505"/>
                </a:lnTo>
                <a:lnTo>
                  <a:pt x="422" y="578"/>
                </a:lnTo>
                <a:lnTo>
                  <a:pt x="271" y="577"/>
                </a:lnTo>
                <a:lnTo>
                  <a:pt x="228" y="521"/>
                </a:lnTo>
                <a:lnTo>
                  <a:pt x="113" y="480"/>
                </a:lnTo>
                <a:lnTo>
                  <a:pt x="51" y="339"/>
                </a:lnTo>
                <a:lnTo>
                  <a:pt x="63" y="247"/>
                </a:lnTo>
                <a:lnTo>
                  <a:pt x="0" y="167"/>
                </a:lnTo>
                <a:lnTo>
                  <a:pt x="93" y="83"/>
                </a:lnTo>
                <a:lnTo>
                  <a:pt x="61" y="0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80000" y="4692600"/>
            <a:ext cx="225360" cy="355680"/>
          </a:xfrm>
          <a:custGeom>
            <a:avLst/>
            <a:gdLst/>
            <a:ahLst/>
            <a:rect l="l" t="t" r="r" b="b"/>
            <a:pathLst>
              <a:path w="393" h="674">
                <a:moveTo>
                  <a:pt x="185" y="2"/>
                </a:moveTo>
                <a:lnTo>
                  <a:pt x="331" y="0"/>
                </a:lnTo>
                <a:lnTo>
                  <a:pt x="393" y="64"/>
                </a:lnTo>
                <a:lnTo>
                  <a:pt x="359" y="243"/>
                </a:lnTo>
                <a:lnTo>
                  <a:pt x="204" y="454"/>
                </a:lnTo>
                <a:lnTo>
                  <a:pt x="151" y="597"/>
                </a:lnTo>
                <a:lnTo>
                  <a:pt x="33" y="674"/>
                </a:lnTo>
                <a:lnTo>
                  <a:pt x="0" y="512"/>
                </a:lnTo>
                <a:lnTo>
                  <a:pt x="88" y="273"/>
                </a:lnTo>
                <a:lnTo>
                  <a:pt x="11" y="232"/>
                </a:lnTo>
                <a:lnTo>
                  <a:pt x="103" y="154"/>
                </a:lnTo>
                <a:lnTo>
                  <a:pt x="118" y="193"/>
                </a:lnTo>
                <a:lnTo>
                  <a:pt x="168" y="231"/>
                </a:lnTo>
                <a:lnTo>
                  <a:pt x="230" y="189"/>
                </a:lnTo>
                <a:lnTo>
                  <a:pt x="173" y="98"/>
                </a:lnTo>
                <a:lnTo>
                  <a:pt x="185" y="2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37400" y="4708440"/>
            <a:ext cx="118800" cy="298440"/>
          </a:xfrm>
          <a:custGeom>
            <a:avLst/>
            <a:gdLst/>
            <a:ahLst/>
            <a:rect l="l" t="t" r="r" b="b"/>
            <a:pathLst>
              <a:path w="207" h="566">
                <a:moveTo>
                  <a:pt x="172" y="0"/>
                </a:moveTo>
                <a:lnTo>
                  <a:pt x="115" y="145"/>
                </a:lnTo>
                <a:lnTo>
                  <a:pt x="27" y="198"/>
                </a:lnTo>
                <a:lnTo>
                  <a:pt x="46" y="348"/>
                </a:lnTo>
                <a:lnTo>
                  <a:pt x="0" y="430"/>
                </a:lnTo>
                <a:lnTo>
                  <a:pt x="4" y="566"/>
                </a:lnTo>
                <a:lnTo>
                  <a:pt x="140" y="507"/>
                </a:lnTo>
                <a:lnTo>
                  <a:pt x="207" y="223"/>
                </a:lnTo>
                <a:lnTo>
                  <a:pt x="172" y="0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25920" y="4795920"/>
            <a:ext cx="204840" cy="190440"/>
          </a:xfrm>
          <a:custGeom>
            <a:avLst/>
            <a:gdLst/>
            <a:ahLst/>
            <a:rect l="l" t="t" r="r" b="b"/>
            <a:pathLst>
              <a:path w="356" h="361">
                <a:moveTo>
                  <a:pt x="0" y="167"/>
                </a:moveTo>
                <a:lnTo>
                  <a:pt x="207" y="0"/>
                </a:lnTo>
                <a:lnTo>
                  <a:pt x="356" y="77"/>
                </a:lnTo>
                <a:lnTo>
                  <a:pt x="269" y="317"/>
                </a:lnTo>
                <a:lnTo>
                  <a:pt x="139" y="361"/>
                </a:lnTo>
                <a:lnTo>
                  <a:pt x="0" y="167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2960" y="4641840"/>
            <a:ext cx="315720" cy="243000"/>
          </a:xfrm>
          <a:custGeom>
            <a:avLst/>
            <a:gdLst/>
            <a:ahLst/>
            <a:rect l="l" t="t" r="r" b="b"/>
            <a:pathLst>
              <a:path w="551" h="461">
                <a:moveTo>
                  <a:pt x="247" y="1"/>
                </a:moveTo>
                <a:lnTo>
                  <a:pt x="474" y="0"/>
                </a:lnTo>
                <a:lnTo>
                  <a:pt x="517" y="90"/>
                </a:lnTo>
                <a:lnTo>
                  <a:pt x="517" y="179"/>
                </a:lnTo>
                <a:lnTo>
                  <a:pt x="551" y="250"/>
                </a:lnTo>
                <a:lnTo>
                  <a:pt x="460" y="329"/>
                </a:lnTo>
                <a:lnTo>
                  <a:pt x="388" y="294"/>
                </a:lnTo>
                <a:lnTo>
                  <a:pt x="181" y="461"/>
                </a:lnTo>
                <a:lnTo>
                  <a:pt x="66" y="405"/>
                </a:lnTo>
                <a:lnTo>
                  <a:pt x="0" y="272"/>
                </a:lnTo>
                <a:lnTo>
                  <a:pt x="107" y="217"/>
                </a:lnTo>
                <a:lnTo>
                  <a:pt x="61" y="138"/>
                </a:lnTo>
                <a:lnTo>
                  <a:pt x="300" y="190"/>
                </a:lnTo>
                <a:lnTo>
                  <a:pt x="334" y="166"/>
                </a:lnTo>
                <a:lnTo>
                  <a:pt x="247" y="96"/>
                </a:lnTo>
                <a:lnTo>
                  <a:pt x="247" y="1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91160" y="4638600"/>
            <a:ext cx="120600" cy="176400"/>
          </a:xfrm>
          <a:custGeom>
            <a:avLst/>
            <a:gdLst/>
            <a:ahLst/>
            <a:rect l="l" t="t" r="r" b="b"/>
            <a:pathLst>
              <a:path w="208" h="332">
                <a:moveTo>
                  <a:pt x="0" y="0"/>
                </a:moveTo>
                <a:lnTo>
                  <a:pt x="120" y="43"/>
                </a:lnTo>
                <a:lnTo>
                  <a:pt x="165" y="102"/>
                </a:lnTo>
                <a:lnTo>
                  <a:pt x="151" y="198"/>
                </a:lnTo>
                <a:lnTo>
                  <a:pt x="208" y="288"/>
                </a:lnTo>
                <a:lnTo>
                  <a:pt x="145" y="332"/>
                </a:lnTo>
                <a:lnTo>
                  <a:pt x="93" y="295"/>
                </a:lnTo>
                <a:lnTo>
                  <a:pt x="76" y="248"/>
                </a:lnTo>
                <a:lnTo>
                  <a:pt x="44" y="183"/>
                </a:lnTo>
                <a:lnTo>
                  <a:pt x="43" y="93"/>
                </a:lnTo>
                <a:lnTo>
                  <a:pt x="0" y="0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048280" y="4583160"/>
            <a:ext cx="339840" cy="272880"/>
          </a:xfrm>
          <a:custGeom>
            <a:avLst/>
            <a:gdLst/>
            <a:ahLst/>
            <a:rect l="l" t="t" r="r" b="b"/>
            <a:pathLst>
              <a:path w="592" h="514">
                <a:moveTo>
                  <a:pt x="0" y="39"/>
                </a:moveTo>
                <a:lnTo>
                  <a:pt x="190" y="0"/>
                </a:lnTo>
                <a:lnTo>
                  <a:pt x="194" y="72"/>
                </a:lnTo>
                <a:lnTo>
                  <a:pt x="294" y="76"/>
                </a:lnTo>
                <a:lnTo>
                  <a:pt x="355" y="25"/>
                </a:lnTo>
                <a:lnTo>
                  <a:pt x="426" y="27"/>
                </a:lnTo>
                <a:lnTo>
                  <a:pt x="442" y="226"/>
                </a:lnTo>
                <a:lnTo>
                  <a:pt x="545" y="248"/>
                </a:lnTo>
                <a:lnTo>
                  <a:pt x="592" y="328"/>
                </a:lnTo>
                <a:lnTo>
                  <a:pt x="484" y="380"/>
                </a:lnTo>
                <a:lnTo>
                  <a:pt x="549" y="514"/>
                </a:lnTo>
                <a:lnTo>
                  <a:pt x="11" y="514"/>
                </a:lnTo>
                <a:lnTo>
                  <a:pt x="113" y="318"/>
                </a:lnTo>
                <a:lnTo>
                  <a:pt x="51" y="226"/>
                </a:lnTo>
                <a:lnTo>
                  <a:pt x="61" y="146"/>
                </a:lnTo>
                <a:lnTo>
                  <a:pt x="0" y="39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52960" y="4854600"/>
            <a:ext cx="379440" cy="252360"/>
          </a:xfrm>
          <a:custGeom>
            <a:avLst/>
            <a:gdLst/>
            <a:ahLst/>
            <a:rect l="l" t="t" r="r" b="b"/>
            <a:pathLst>
              <a:path w="658" h="477">
                <a:moveTo>
                  <a:pt x="0" y="0"/>
                </a:moveTo>
                <a:lnTo>
                  <a:pt x="531" y="0"/>
                </a:lnTo>
                <a:lnTo>
                  <a:pt x="658" y="59"/>
                </a:lnTo>
                <a:lnTo>
                  <a:pt x="485" y="72"/>
                </a:lnTo>
                <a:lnTo>
                  <a:pt x="462" y="196"/>
                </a:lnTo>
                <a:lnTo>
                  <a:pt x="400" y="196"/>
                </a:lnTo>
                <a:lnTo>
                  <a:pt x="399" y="477"/>
                </a:lnTo>
                <a:lnTo>
                  <a:pt x="197" y="462"/>
                </a:lnTo>
                <a:lnTo>
                  <a:pt x="126" y="264"/>
                </a:lnTo>
                <a:lnTo>
                  <a:pt x="0" y="0"/>
                </a:lnTo>
                <a:close/>
              </a:path>
            </a:pathLst>
          </a:custGeom>
          <a:solidFill>
            <a:srgbClr val="9966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80120" y="4884840"/>
            <a:ext cx="225360" cy="195120"/>
          </a:xfrm>
          <a:custGeom>
            <a:avLst/>
            <a:gdLst/>
            <a:ahLst/>
            <a:rect l="l" t="t" r="r" b="b"/>
            <a:pathLst>
              <a:path w="394" h="371">
                <a:moveTo>
                  <a:pt x="90" y="10"/>
                </a:moveTo>
                <a:lnTo>
                  <a:pt x="256" y="0"/>
                </a:lnTo>
                <a:lnTo>
                  <a:pt x="394" y="193"/>
                </a:lnTo>
                <a:lnTo>
                  <a:pt x="202" y="320"/>
                </a:lnTo>
                <a:lnTo>
                  <a:pt x="143" y="298"/>
                </a:lnTo>
                <a:lnTo>
                  <a:pt x="67" y="371"/>
                </a:lnTo>
                <a:lnTo>
                  <a:pt x="0" y="278"/>
                </a:lnTo>
                <a:lnTo>
                  <a:pt x="0" y="139"/>
                </a:lnTo>
                <a:lnTo>
                  <a:pt x="63" y="137"/>
                </a:lnTo>
                <a:lnTo>
                  <a:pt x="90" y="10"/>
                </a:lnTo>
                <a:close/>
              </a:path>
            </a:pathLst>
          </a:custGeom>
          <a:solidFill>
            <a:srgbClr val="9966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75360" y="4954680"/>
            <a:ext cx="422280" cy="284040"/>
          </a:xfrm>
          <a:custGeom>
            <a:avLst/>
            <a:gdLst/>
            <a:ahLst/>
            <a:rect l="l" t="t" r="r" b="b"/>
            <a:pathLst>
              <a:path w="752" h="535">
                <a:moveTo>
                  <a:pt x="0" y="255"/>
                </a:moveTo>
                <a:lnTo>
                  <a:pt x="199" y="267"/>
                </a:lnTo>
                <a:lnTo>
                  <a:pt x="201" y="131"/>
                </a:lnTo>
                <a:lnTo>
                  <a:pt x="268" y="219"/>
                </a:lnTo>
                <a:lnTo>
                  <a:pt x="341" y="146"/>
                </a:lnTo>
                <a:lnTo>
                  <a:pt x="396" y="167"/>
                </a:lnTo>
                <a:lnTo>
                  <a:pt x="590" y="42"/>
                </a:lnTo>
                <a:lnTo>
                  <a:pt x="720" y="0"/>
                </a:lnTo>
                <a:lnTo>
                  <a:pt x="752" y="157"/>
                </a:lnTo>
                <a:lnTo>
                  <a:pt x="722" y="263"/>
                </a:lnTo>
                <a:lnTo>
                  <a:pt x="604" y="392"/>
                </a:lnTo>
                <a:lnTo>
                  <a:pt x="322" y="516"/>
                </a:lnTo>
                <a:lnTo>
                  <a:pt x="161" y="535"/>
                </a:lnTo>
                <a:lnTo>
                  <a:pt x="0" y="255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4162320"/>
            <a:ext cx="60120" cy="11160"/>
          </a:xfrm>
          <a:custGeom>
            <a:avLst/>
            <a:gdLst/>
            <a:ahLst/>
            <a:rect l="l" t="t" r="r" b="b"/>
            <a:pathLst>
              <a:path w="105" h="21">
                <a:moveTo>
                  <a:pt x="0" y="21"/>
                </a:moveTo>
                <a:lnTo>
                  <a:pt x="91" y="21"/>
                </a:lnTo>
                <a:lnTo>
                  <a:pt x="105" y="7"/>
                </a:lnTo>
                <a:lnTo>
                  <a:pt x="7" y="0"/>
                </a:lnTo>
                <a:lnTo>
                  <a:pt x="0" y="21"/>
                </a:lnTo>
                <a:close/>
              </a:path>
            </a:pathLst>
          </a:custGeom>
          <a:solidFill>
            <a:srgbClr val="9966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68920" y="4237200"/>
            <a:ext cx="58680" cy="118800"/>
          </a:xfrm>
          <a:custGeom>
            <a:avLst/>
            <a:gdLst/>
            <a:ahLst/>
            <a:rect l="l" t="t" r="r" b="b"/>
            <a:pathLst>
              <a:path w="103" h="224">
                <a:moveTo>
                  <a:pt x="46" y="0"/>
                </a:moveTo>
                <a:lnTo>
                  <a:pt x="0" y="11"/>
                </a:lnTo>
                <a:lnTo>
                  <a:pt x="29" y="224"/>
                </a:lnTo>
                <a:lnTo>
                  <a:pt x="103" y="224"/>
                </a:lnTo>
                <a:lnTo>
                  <a:pt x="69" y="53"/>
                </a:lnTo>
                <a:lnTo>
                  <a:pt x="46" y="0"/>
                </a:lnTo>
                <a:close/>
              </a:path>
            </a:pathLst>
          </a:custGeom>
          <a:solidFill>
            <a:srgbClr val="9966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95920" y="4199040"/>
            <a:ext cx="66600" cy="156960"/>
          </a:xfrm>
          <a:custGeom>
            <a:avLst/>
            <a:gdLst/>
            <a:ahLst/>
            <a:rect l="l" t="t" r="r" b="b"/>
            <a:pathLst>
              <a:path w="119" h="296">
                <a:moveTo>
                  <a:pt x="110" y="0"/>
                </a:moveTo>
                <a:lnTo>
                  <a:pt x="40" y="50"/>
                </a:lnTo>
                <a:lnTo>
                  <a:pt x="0" y="72"/>
                </a:lnTo>
                <a:lnTo>
                  <a:pt x="23" y="126"/>
                </a:lnTo>
                <a:lnTo>
                  <a:pt x="57" y="296"/>
                </a:lnTo>
                <a:lnTo>
                  <a:pt x="119" y="296"/>
                </a:lnTo>
                <a:lnTo>
                  <a:pt x="110" y="0"/>
                </a:lnTo>
                <a:close/>
              </a:path>
            </a:pathLst>
          </a:custGeom>
          <a:solidFill>
            <a:srgbClr val="9966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97520" y="4406760"/>
            <a:ext cx="39600" cy="27000"/>
          </a:xfrm>
          <a:custGeom>
            <a:avLst/>
            <a:gdLst/>
            <a:ahLst/>
            <a:rect l="l" t="t" r="r" b="b"/>
            <a:pathLst>
              <a:path w="70" h="51">
                <a:moveTo>
                  <a:pt x="7" y="7"/>
                </a:moveTo>
                <a:lnTo>
                  <a:pt x="70" y="0"/>
                </a:lnTo>
                <a:lnTo>
                  <a:pt x="70" y="47"/>
                </a:lnTo>
                <a:lnTo>
                  <a:pt x="0" y="51"/>
                </a:lnTo>
                <a:lnTo>
                  <a:pt x="7" y="7"/>
                </a:lnTo>
                <a:close/>
              </a:path>
            </a:pathLst>
          </a:custGeom>
          <a:solidFill>
            <a:srgbClr val="9966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29240" y="4387680"/>
            <a:ext cx="152280" cy="108000"/>
          </a:xfrm>
          <a:custGeom>
            <a:avLst/>
            <a:gdLst/>
            <a:ahLst/>
            <a:rect l="l" t="t" r="r" b="b"/>
            <a:pathLst>
              <a:path w="265" h="204">
                <a:moveTo>
                  <a:pt x="64" y="1"/>
                </a:moveTo>
                <a:lnTo>
                  <a:pt x="230" y="0"/>
                </a:lnTo>
                <a:lnTo>
                  <a:pt x="265" y="54"/>
                </a:lnTo>
                <a:lnTo>
                  <a:pt x="228" y="160"/>
                </a:lnTo>
                <a:lnTo>
                  <a:pt x="31" y="204"/>
                </a:lnTo>
                <a:lnTo>
                  <a:pt x="0" y="166"/>
                </a:lnTo>
                <a:lnTo>
                  <a:pt x="92" y="82"/>
                </a:lnTo>
                <a:lnTo>
                  <a:pt x="64" y="1"/>
                </a:lnTo>
                <a:close/>
              </a:path>
            </a:pathLst>
          </a:custGeom>
          <a:solidFill>
            <a:srgbClr val="9966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48320" y="4487760"/>
            <a:ext cx="55440" cy="30240"/>
          </a:xfrm>
          <a:custGeom>
            <a:avLst/>
            <a:gdLst/>
            <a:ahLst/>
            <a:rect l="l" t="t" r="r" b="b"/>
            <a:pathLst>
              <a:path w="98" h="57">
                <a:moveTo>
                  <a:pt x="0" y="15"/>
                </a:moveTo>
                <a:lnTo>
                  <a:pt x="66" y="0"/>
                </a:lnTo>
                <a:lnTo>
                  <a:pt x="98" y="53"/>
                </a:lnTo>
                <a:lnTo>
                  <a:pt x="60" y="46"/>
                </a:lnTo>
                <a:lnTo>
                  <a:pt x="27" y="57"/>
                </a:lnTo>
                <a:lnTo>
                  <a:pt x="0" y="15"/>
                </a:lnTo>
                <a:close/>
              </a:path>
            </a:pathLst>
          </a:custGeom>
          <a:solidFill>
            <a:srgbClr val="9966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59480" y="4511520"/>
            <a:ext cx="44280" cy="54000"/>
          </a:xfrm>
          <a:custGeom>
            <a:avLst/>
            <a:gdLst/>
            <a:ahLst/>
            <a:rect l="l" t="t" r="r" b="b"/>
            <a:pathLst>
              <a:path w="79" h="100">
                <a:moveTo>
                  <a:pt x="79" y="7"/>
                </a:moveTo>
                <a:lnTo>
                  <a:pt x="41" y="0"/>
                </a:lnTo>
                <a:lnTo>
                  <a:pt x="9" y="11"/>
                </a:lnTo>
                <a:lnTo>
                  <a:pt x="6" y="59"/>
                </a:lnTo>
                <a:lnTo>
                  <a:pt x="0" y="100"/>
                </a:lnTo>
                <a:lnTo>
                  <a:pt x="47" y="74"/>
                </a:lnTo>
                <a:lnTo>
                  <a:pt x="69" y="57"/>
                </a:lnTo>
                <a:lnTo>
                  <a:pt x="79" y="7"/>
                </a:lnTo>
                <a:close/>
              </a:path>
            </a:pathLst>
          </a:custGeom>
          <a:solidFill>
            <a:srgbClr val="9966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843520" y="4187880"/>
            <a:ext cx="39600" cy="50760"/>
          </a:xfrm>
          <a:custGeom>
            <a:avLst/>
            <a:gdLst/>
            <a:ahLst/>
            <a:rect l="l" t="t" r="r" b="b"/>
            <a:pathLst>
              <a:path w="69" h="98">
                <a:moveTo>
                  <a:pt x="68" y="0"/>
                </a:moveTo>
                <a:lnTo>
                  <a:pt x="0" y="34"/>
                </a:lnTo>
                <a:lnTo>
                  <a:pt x="9" y="98"/>
                </a:lnTo>
                <a:lnTo>
                  <a:pt x="66" y="98"/>
                </a:lnTo>
                <a:lnTo>
                  <a:pt x="69" y="88"/>
                </a:lnTo>
                <a:lnTo>
                  <a:pt x="45" y="70"/>
                </a:lnTo>
                <a:lnTo>
                  <a:pt x="68" y="0"/>
                </a:lnTo>
                <a:close/>
              </a:path>
            </a:pathLst>
          </a:custGeom>
          <a:solidFill>
            <a:srgbClr val="9966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39960" y="4495680"/>
            <a:ext cx="1146240" cy="1020960"/>
          </a:xfrm>
          <a:custGeom>
            <a:avLst/>
            <a:gdLst/>
            <a:ahLst/>
            <a:rect l="l" t="t" r="r" b="b"/>
            <a:pathLst>
              <a:path w="1334" h="1285">
                <a:moveTo>
                  <a:pt x="126" y="193"/>
                </a:moveTo>
                <a:lnTo>
                  <a:pt x="122" y="290"/>
                </a:lnTo>
                <a:lnTo>
                  <a:pt x="119" y="300"/>
                </a:lnTo>
                <a:lnTo>
                  <a:pt x="114" y="308"/>
                </a:lnTo>
                <a:lnTo>
                  <a:pt x="66" y="323"/>
                </a:lnTo>
                <a:lnTo>
                  <a:pt x="32" y="340"/>
                </a:lnTo>
                <a:lnTo>
                  <a:pt x="16" y="373"/>
                </a:lnTo>
                <a:lnTo>
                  <a:pt x="18" y="393"/>
                </a:lnTo>
                <a:lnTo>
                  <a:pt x="0" y="415"/>
                </a:lnTo>
                <a:lnTo>
                  <a:pt x="0" y="440"/>
                </a:lnTo>
                <a:lnTo>
                  <a:pt x="16" y="453"/>
                </a:lnTo>
                <a:lnTo>
                  <a:pt x="23" y="474"/>
                </a:lnTo>
                <a:lnTo>
                  <a:pt x="23" y="494"/>
                </a:lnTo>
                <a:lnTo>
                  <a:pt x="47" y="484"/>
                </a:lnTo>
                <a:lnTo>
                  <a:pt x="60" y="502"/>
                </a:lnTo>
                <a:lnTo>
                  <a:pt x="83" y="502"/>
                </a:lnTo>
                <a:lnTo>
                  <a:pt x="104" y="486"/>
                </a:lnTo>
                <a:lnTo>
                  <a:pt x="121" y="545"/>
                </a:lnTo>
                <a:lnTo>
                  <a:pt x="147" y="550"/>
                </a:lnTo>
                <a:lnTo>
                  <a:pt x="198" y="536"/>
                </a:lnTo>
                <a:lnTo>
                  <a:pt x="241" y="514"/>
                </a:lnTo>
                <a:lnTo>
                  <a:pt x="274" y="486"/>
                </a:lnTo>
                <a:lnTo>
                  <a:pt x="301" y="517"/>
                </a:lnTo>
                <a:lnTo>
                  <a:pt x="307" y="545"/>
                </a:lnTo>
                <a:lnTo>
                  <a:pt x="307" y="566"/>
                </a:lnTo>
                <a:lnTo>
                  <a:pt x="346" y="586"/>
                </a:lnTo>
                <a:lnTo>
                  <a:pt x="374" y="585"/>
                </a:lnTo>
                <a:lnTo>
                  <a:pt x="411" y="609"/>
                </a:lnTo>
                <a:lnTo>
                  <a:pt x="451" y="622"/>
                </a:lnTo>
                <a:lnTo>
                  <a:pt x="477" y="648"/>
                </a:lnTo>
                <a:lnTo>
                  <a:pt x="472" y="712"/>
                </a:lnTo>
                <a:lnTo>
                  <a:pt x="538" y="712"/>
                </a:lnTo>
                <a:lnTo>
                  <a:pt x="543" y="746"/>
                </a:lnTo>
                <a:lnTo>
                  <a:pt x="555" y="765"/>
                </a:lnTo>
                <a:lnTo>
                  <a:pt x="555" y="801"/>
                </a:lnTo>
                <a:lnTo>
                  <a:pt x="541" y="832"/>
                </a:lnTo>
                <a:lnTo>
                  <a:pt x="556" y="861"/>
                </a:lnTo>
                <a:lnTo>
                  <a:pt x="556" y="890"/>
                </a:lnTo>
                <a:lnTo>
                  <a:pt x="553" y="922"/>
                </a:lnTo>
                <a:lnTo>
                  <a:pt x="579" y="922"/>
                </a:lnTo>
                <a:lnTo>
                  <a:pt x="613" y="923"/>
                </a:lnTo>
                <a:lnTo>
                  <a:pt x="624" y="929"/>
                </a:lnTo>
                <a:lnTo>
                  <a:pt x="639" y="942"/>
                </a:lnTo>
                <a:lnTo>
                  <a:pt x="649" y="978"/>
                </a:lnTo>
                <a:lnTo>
                  <a:pt x="661" y="972"/>
                </a:lnTo>
                <a:lnTo>
                  <a:pt x="670" y="1036"/>
                </a:lnTo>
                <a:lnTo>
                  <a:pt x="676" y="1043"/>
                </a:lnTo>
                <a:lnTo>
                  <a:pt x="679" y="1044"/>
                </a:lnTo>
                <a:lnTo>
                  <a:pt x="690" y="1067"/>
                </a:lnTo>
                <a:lnTo>
                  <a:pt x="681" y="1092"/>
                </a:lnTo>
                <a:lnTo>
                  <a:pt x="643" y="1111"/>
                </a:lnTo>
                <a:lnTo>
                  <a:pt x="605" y="1145"/>
                </a:lnTo>
                <a:lnTo>
                  <a:pt x="586" y="1162"/>
                </a:lnTo>
                <a:lnTo>
                  <a:pt x="586" y="1197"/>
                </a:lnTo>
                <a:lnTo>
                  <a:pt x="603" y="1210"/>
                </a:lnTo>
                <a:lnTo>
                  <a:pt x="606" y="1233"/>
                </a:lnTo>
                <a:lnTo>
                  <a:pt x="634" y="1230"/>
                </a:lnTo>
                <a:lnTo>
                  <a:pt x="670" y="1252"/>
                </a:lnTo>
                <a:lnTo>
                  <a:pt x="703" y="1285"/>
                </a:lnTo>
                <a:lnTo>
                  <a:pt x="722" y="1275"/>
                </a:lnTo>
                <a:lnTo>
                  <a:pt x="744" y="1254"/>
                </a:lnTo>
                <a:lnTo>
                  <a:pt x="751" y="1220"/>
                </a:lnTo>
                <a:lnTo>
                  <a:pt x="764" y="1209"/>
                </a:lnTo>
                <a:lnTo>
                  <a:pt x="773" y="1205"/>
                </a:lnTo>
                <a:lnTo>
                  <a:pt x="783" y="1189"/>
                </a:lnTo>
                <a:lnTo>
                  <a:pt x="799" y="1177"/>
                </a:lnTo>
                <a:lnTo>
                  <a:pt x="832" y="1137"/>
                </a:lnTo>
                <a:lnTo>
                  <a:pt x="832" y="1069"/>
                </a:lnTo>
                <a:lnTo>
                  <a:pt x="840" y="1053"/>
                </a:lnTo>
                <a:lnTo>
                  <a:pt x="856" y="1037"/>
                </a:lnTo>
                <a:lnTo>
                  <a:pt x="880" y="1037"/>
                </a:lnTo>
                <a:lnTo>
                  <a:pt x="890" y="1021"/>
                </a:lnTo>
                <a:lnTo>
                  <a:pt x="912" y="1021"/>
                </a:lnTo>
                <a:lnTo>
                  <a:pt x="943" y="1001"/>
                </a:lnTo>
                <a:lnTo>
                  <a:pt x="946" y="997"/>
                </a:lnTo>
                <a:lnTo>
                  <a:pt x="982" y="986"/>
                </a:lnTo>
                <a:lnTo>
                  <a:pt x="1003" y="981"/>
                </a:lnTo>
                <a:lnTo>
                  <a:pt x="1028" y="997"/>
                </a:lnTo>
                <a:lnTo>
                  <a:pt x="1055" y="978"/>
                </a:lnTo>
                <a:lnTo>
                  <a:pt x="1059" y="962"/>
                </a:lnTo>
                <a:lnTo>
                  <a:pt x="1100" y="923"/>
                </a:lnTo>
                <a:lnTo>
                  <a:pt x="1109" y="904"/>
                </a:lnTo>
                <a:lnTo>
                  <a:pt x="1125" y="891"/>
                </a:lnTo>
                <a:lnTo>
                  <a:pt x="1144" y="881"/>
                </a:lnTo>
                <a:lnTo>
                  <a:pt x="1143" y="859"/>
                </a:lnTo>
                <a:lnTo>
                  <a:pt x="1148" y="825"/>
                </a:lnTo>
                <a:lnTo>
                  <a:pt x="1158" y="817"/>
                </a:lnTo>
                <a:lnTo>
                  <a:pt x="1158" y="799"/>
                </a:lnTo>
                <a:lnTo>
                  <a:pt x="1167" y="773"/>
                </a:lnTo>
                <a:lnTo>
                  <a:pt x="1175" y="736"/>
                </a:lnTo>
                <a:lnTo>
                  <a:pt x="1177" y="711"/>
                </a:lnTo>
                <a:lnTo>
                  <a:pt x="1180" y="683"/>
                </a:lnTo>
                <a:lnTo>
                  <a:pt x="1183" y="659"/>
                </a:lnTo>
                <a:lnTo>
                  <a:pt x="1192" y="648"/>
                </a:lnTo>
                <a:lnTo>
                  <a:pt x="1199" y="648"/>
                </a:lnTo>
                <a:lnTo>
                  <a:pt x="1205" y="656"/>
                </a:lnTo>
                <a:lnTo>
                  <a:pt x="1230" y="609"/>
                </a:lnTo>
                <a:lnTo>
                  <a:pt x="1257" y="586"/>
                </a:lnTo>
                <a:lnTo>
                  <a:pt x="1283" y="565"/>
                </a:lnTo>
                <a:lnTo>
                  <a:pt x="1292" y="548"/>
                </a:lnTo>
                <a:lnTo>
                  <a:pt x="1309" y="528"/>
                </a:lnTo>
                <a:lnTo>
                  <a:pt x="1334" y="503"/>
                </a:lnTo>
                <a:lnTo>
                  <a:pt x="1334" y="450"/>
                </a:lnTo>
                <a:lnTo>
                  <a:pt x="1328" y="434"/>
                </a:lnTo>
                <a:lnTo>
                  <a:pt x="1326" y="413"/>
                </a:lnTo>
                <a:lnTo>
                  <a:pt x="1326" y="405"/>
                </a:lnTo>
                <a:lnTo>
                  <a:pt x="1311" y="393"/>
                </a:lnTo>
                <a:lnTo>
                  <a:pt x="1263" y="372"/>
                </a:lnTo>
                <a:lnTo>
                  <a:pt x="1246" y="365"/>
                </a:lnTo>
                <a:lnTo>
                  <a:pt x="1228" y="349"/>
                </a:lnTo>
                <a:lnTo>
                  <a:pt x="1186" y="291"/>
                </a:lnTo>
                <a:lnTo>
                  <a:pt x="1148" y="291"/>
                </a:lnTo>
                <a:lnTo>
                  <a:pt x="1046" y="260"/>
                </a:lnTo>
                <a:lnTo>
                  <a:pt x="1035" y="269"/>
                </a:lnTo>
                <a:lnTo>
                  <a:pt x="1019" y="276"/>
                </a:lnTo>
                <a:lnTo>
                  <a:pt x="1003" y="270"/>
                </a:lnTo>
                <a:lnTo>
                  <a:pt x="1004" y="248"/>
                </a:lnTo>
                <a:lnTo>
                  <a:pt x="1014" y="233"/>
                </a:lnTo>
                <a:lnTo>
                  <a:pt x="994" y="232"/>
                </a:lnTo>
                <a:lnTo>
                  <a:pt x="987" y="218"/>
                </a:lnTo>
                <a:lnTo>
                  <a:pt x="960" y="207"/>
                </a:lnTo>
                <a:lnTo>
                  <a:pt x="934" y="199"/>
                </a:lnTo>
                <a:lnTo>
                  <a:pt x="913" y="195"/>
                </a:lnTo>
                <a:lnTo>
                  <a:pt x="892" y="211"/>
                </a:lnTo>
                <a:lnTo>
                  <a:pt x="881" y="203"/>
                </a:lnTo>
                <a:lnTo>
                  <a:pt x="890" y="178"/>
                </a:lnTo>
                <a:lnTo>
                  <a:pt x="826" y="170"/>
                </a:lnTo>
                <a:lnTo>
                  <a:pt x="816" y="178"/>
                </a:lnTo>
                <a:lnTo>
                  <a:pt x="800" y="171"/>
                </a:lnTo>
                <a:lnTo>
                  <a:pt x="759" y="187"/>
                </a:lnTo>
                <a:lnTo>
                  <a:pt x="833" y="115"/>
                </a:lnTo>
                <a:lnTo>
                  <a:pt x="800" y="83"/>
                </a:lnTo>
                <a:lnTo>
                  <a:pt x="800" y="78"/>
                </a:lnTo>
                <a:lnTo>
                  <a:pt x="794" y="49"/>
                </a:lnTo>
                <a:lnTo>
                  <a:pt x="770" y="30"/>
                </a:lnTo>
                <a:lnTo>
                  <a:pt x="744" y="49"/>
                </a:lnTo>
                <a:lnTo>
                  <a:pt x="712" y="97"/>
                </a:lnTo>
                <a:lnTo>
                  <a:pt x="690" y="103"/>
                </a:lnTo>
                <a:lnTo>
                  <a:pt x="667" y="90"/>
                </a:lnTo>
                <a:lnTo>
                  <a:pt x="637" y="90"/>
                </a:lnTo>
                <a:lnTo>
                  <a:pt x="619" y="106"/>
                </a:lnTo>
                <a:lnTo>
                  <a:pt x="591" y="106"/>
                </a:lnTo>
                <a:lnTo>
                  <a:pt x="579" y="114"/>
                </a:lnTo>
                <a:lnTo>
                  <a:pt x="545" y="115"/>
                </a:lnTo>
                <a:lnTo>
                  <a:pt x="512" y="121"/>
                </a:lnTo>
                <a:lnTo>
                  <a:pt x="502" y="133"/>
                </a:lnTo>
                <a:lnTo>
                  <a:pt x="488" y="106"/>
                </a:lnTo>
                <a:lnTo>
                  <a:pt x="488" y="38"/>
                </a:lnTo>
                <a:lnTo>
                  <a:pt x="478" y="29"/>
                </a:lnTo>
                <a:lnTo>
                  <a:pt x="462" y="13"/>
                </a:lnTo>
                <a:lnTo>
                  <a:pt x="445" y="0"/>
                </a:lnTo>
                <a:lnTo>
                  <a:pt x="434" y="15"/>
                </a:lnTo>
                <a:lnTo>
                  <a:pt x="414" y="15"/>
                </a:lnTo>
                <a:lnTo>
                  <a:pt x="389" y="25"/>
                </a:lnTo>
                <a:lnTo>
                  <a:pt x="327" y="24"/>
                </a:lnTo>
                <a:lnTo>
                  <a:pt x="314" y="20"/>
                </a:lnTo>
                <a:lnTo>
                  <a:pt x="290" y="9"/>
                </a:lnTo>
                <a:lnTo>
                  <a:pt x="295" y="26"/>
                </a:lnTo>
                <a:lnTo>
                  <a:pt x="302" y="45"/>
                </a:lnTo>
                <a:lnTo>
                  <a:pt x="318" y="71"/>
                </a:lnTo>
                <a:lnTo>
                  <a:pt x="332" y="88"/>
                </a:lnTo>
                <a:lnTo>
                  <a:pt x="312" y="107"/>
                </a:lnTo>
                <a:lnTo>
                  <a:pt x="297" y="116"/>
                </a:lnTo>
                <a:lnTo>
                  <a:pt x="294" y="126"/>
                </a:lnTo>
                <a:lnTo>
                  <a:pt x="283" y="135"/>
                </a:lnTo>
                <a:lnTo>
                  <a:pt x="270" y="136"/>
                </a:lnTo>
                <a:lnTo>
                  <a:pt x="230" y="124"/>
                </a:lnTo>
                <a:lnTo>
                  <a:pt x="200" y="101"/>
                </a:lnTo>
                <a:lnTo>
                  <a:pt x="193" y="87"/>
                </a:lnTo>
                <a:lnTo>
                  <a:pt x="184" y="100"/>
                </a:lnTo>
                <a:lnTo>
                  <a:pt x="176" y="90"/>
                </a:lnTo>
                <a:lnTo>
                  <a:pt x="124" y="116"/>
                </a:lnTo>
                <a:lnTo>
                  <a:pt x="128" y="129"/>
                </a:lnTo>
                <a:lnTo>
                  <a:pt x="159" y="148"/>
                </a:lnTo>
                <a:lnTo>
                  <a:pt x="118" y="149"/>
                </a:lnTo>
                <a:lnTo>
                  <a:pt x="109" y="184"/>
                </a:lnTo>
                <a:lnTo>
                  <a:pt x="126" y="193"/>
                </a:lnTo>
                <a:close/>
              </a:path>
            </a:pathLst>
          </a:custGeom>
          <a:solidFill>
            <a:srgbClr val="ff33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65360" y="4309920"/>
            <a:ext cx="372960" cy="432000"/>
          </a:xfrm>
          <a:custGeom>
            <a:avLst/>
            <a:gdLst/>
            <a:ahLst/>
            <a:rect l="l" t="t" r="r" b="b"/>
            <a:pathLst>
              <a:path w="433" h="543">
                <a:moveTo>
                  <a:pt x="262" y="11"/>
                </a:moveTo>
                <a:lnTo>
                  <a:pt x="234" y="38"/>
                </a:lnTo>
                <a:lnTo>
                  <a:pt x="222" y="56"/>
                </a:lnTo>
                <a:lnTo>
                  <a:pt x="210" y="90"/>
                </a:lnTo>
                <a:lnTo>
                  <a:pt x="218" y="117"/>
                </a:lnTo>
                <a:lnTo>
                  <a:pt x="246" y="161"/>
                </a:lnTo>
                <a:lnTo>
                  <a:pt x="326" y="177"/>
                </a:lnTo>
                <a:lnTo>
                  <a:pt x="354" y="195"/>
                </a:lnTo>
                <a:lnTo>
                  <a:pt x="376" y="189"/>
                </a:lnTo>
                <a:lnTo>
                  <a:pt x="394" y="196"/>
                </a:lnTo>
                <a:lnTo>
                  <a:pt x="393" y="215"/>
                </a:lnTo>
                <a:lnTo>
                  <a:pt x="379" y="223"/>
                </a:lnTo>
                <a:lnTo>
                  <a:pt x="378" y="242"/>
                </a:lnTo>
                <a:lnTo>
                  <a:pt x="395" y="272"/>
                </a:lnTo>
                <a:lnTo>
                  <a:pt x="426" y="308"/>
                </a:lnTo>
                <a:lnTo>
                  <a:pt x="433" y="359"/>
                </a:lnTo>
                <a:lnTo>
                  <a:pt x="403" y="335"/>
                </a:lnTo>
                <a:lnTo>
                  <a:pt x="395" y="320"/>
                </a:lnTo>
                <a:lnTo>
                  <a:pt x="386" y="332"/>
                </a:lnTo>
                <a:lnTo>
                  <a:pt x="379" y="324"/>
                </a:lnTo>
                <a:lnTo>
                  <a:pt x="326" y="350"/>
                </a:lnTo>
                <a:lnTo>
                  <a:pt x="330" y="364"/>
                </a:lnTo>
                <a:lnTo>
                  <a:pt x="345" y="372"/>
                </a:lnTo>
                <a:lnTo>
                  <a:pt x="362" y="382"/>
                </a:lnTo>
                <a:lnTo>
                  <a:pt x="321" y="383"/>
                </a:lnTo>
                <a:lnTo>
                  <a:pt x="314" y="418"/>
                </a:lnTo>
                <a:lnTo>
                  <a:pt x="329" y="427"/>
                </a:lnTo>
                <a:lnTo>
                  <a:pt x="323" y="535"/>
                </a:lnTo>
                <a:lnTo>
                  <a:pt x="317" y="543"/>
                </a:lnTo>
                <a:lnTo>
                  <a:pt x="297" y="534"/>
                </a:lnTo>
                <a:lnTo>
                  <a:pt x="295" y="485"/>
                </a:lnTo>
                <a:lnTo>
                  <a:pt x="302" y="479"/>
                </a:lnTo>
                <a:lnTo>
                  <a:pt x="297" y="467"/>
                </a:lnTo>
                <a:lnTo>
                  <a:pt x="286" y="462"/>
                </a:lnTo>
                <a:lnTo>
                  <a:pt x="248" y="462"/>
                </a:lnTo>
                <a:lnTo>
                  <a:pt x="231" y="470"/>
                </a:lnTo>
                <a:lnTo>
                  <a:pt x="213" y="457"/>
                </a:lnTo>
                <a:lnTo>
                  <a:pt x="190" y="447"/>
                </a:lnTo>
                <a:lnTo>
                  <a:pt x="163" y="437"/>
                </a:lnTo>
                <a:lnTo>
                  <a:pt x="163" y="412"/>
                </a:lnTo>
                <a:lnTo>
                  <a:pt x="137" y="412"/>
                </a:lnTo>
                <a:lnTo>
                  <a:pt x="60" y="379"/>
                </a:lnTo>
                <a:lnTo>
                  <a:pt x="0" y="383"/>
                </a:lnTo>
                <a:lnTo>
                  <a:pt x="55" y="291"/>
                </a:lnTo>
                <a:lnTo>
                  <a:pt x="55" y="186"/>
                </a:lnTo>
                <a:lnTo>
                  <a:pt x="84" y="136"/>
                </a:lnTo>
                <a:lnTo>
                  <a:pt x="103" y="104"/>
                </a:lnTo>
                <a:lnTo>
                  <a:pt x="122" y="97"/>
                </a:lnTo>
                <a:lnTo>
                  <a:pt x="146" y="42"/>
                </a:lnTo>
                <a:lnTo>
                  <a:pt x="161" y="49"/>
                </a:lnTo>
                <a:lnTo>
                  <a:pt x="174" y="29"/>
                </a:lnTo>
                <a:lnTo>
                  <a:pt x="249" y="0"/>
                </a:lnTo>
                <a:lnTo>
                  <a:pt x="262" y="11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7880" y="4329000"/>
            <a:ext cx="411120" cy="274680"/>
          </a:xfrm>
          <a:custGeom>
            <a:avLst/>
            <a:gdLst/>
            <a:ahLst/>
            <a:rect l="l" t="t" r="r" b="b"/>
            <a:pathLst>
              <a:path w="479" h="347">
                <a:moveTo>
                  <a:pt x="24" y="15"/>
                </a:moveTo>
                <a:lnTo>
                  <a:pt x="39" y="36"/>
                </a:lnTo>
                <a:lnTo>
                  <a:pt x="39" y="66"/>
                </a:lnTo>
                <a:lnTo>
                  <a:pt x="51" y="76"/>
                </a:lnTo>
                <a:lnTo>
                  <a:pt x="74" y="74"/>
                </a:lnTo>
                <a:lnTo>
                  <a:pt x="74" y="18"/>
                </a:lnTo>
                <a:lnTo>
                  <a:pt x="115" y="0"/>
                </a:lnTo>
                <a:lnTo>
                  <a:pt x="161" y="2"/>
                </a:lnTo>
                <a:lnTo>
                  <a:pt x="184" y="17"/>
                </a:lnTo>
                <a:lnTo>
                  <a:pt x="231" y="18"/>
                </a:lnTo>
                <a:lnTo>
                  <a:pt x="258" y="24"/>
                </a:lnTo>
                <a:lnTo>
                  <a:pt x="390" y="10"/>
                </a:lnTo>
                <a:lnTo>
                  <a:pt x="372" y="27"/>
                </a:lnTo>
                <a:lnTo>
                  <a:pt x="390" y="36"/>
                </a:lnTo>
                <a:lnTo>
                  <a:pt x="408" y="50"/>
                </a:lnTo>
                <a:lnTo>
                  <a:pt x="430" y="56"/>
                </a:lnTo>
                <a:lnTo>
                  <a:pt x="430" y="81"/>
                </a:lnTo>
                <a:lnTo>
                  <a:pt x="479" y="92"/>
                </a:lnTo>
                <a:lnTo>
                  <a:pt x="445" y="116"/>
                </a:lnTo>
                <a:lnTo>
                  <a:pt x="445" y="120"/>
                </a:lnTo>
                <a:lnTo>
                  <a:pt x="455" y="135"/>
                </a:lnTo>
                <a:lnTo>
                  <a:pt x="446" y="142"/>
                </a:lnTo>
                <a:lnTo>
                  <a:pt x="430" y="140"/>
                </a:lnTo>
                <a:lnTo>
                  <a:pt x="421" y="158"/>
                </a:lnTo>
                <a:lnTo>
                  <a:pt x="422" y="175"/>
                </a:lnTo>
                <a:lnTo>
                  <a:pt x="435" y="196"/>
                </a:lnTo>
                <a:lnTo>
                  <a:pt x="447" y="196"/>
                </a:lnTo>
                <a:lnTo>
                  <a:pt x="440" y="211"/>
                </a:lnTo>
                <a:lnTo>
                  <a:pt x="435" y="214"/>
                </a:lnTo>
                <a:lnTo>
                  <a:pt x="426" y="226"/>
                </a:lnTo>
                <a:lnTo>
                  <a:pt x="403" y="226"/>
                </a:lnTo>
                <a:lnTo>
                  <a:pt x="379" y="236"/>
                </a:lnTo>
                <a:lnTo>
                  <a:pt x="320" y="235"/>
                </a:lnTo>
                <a:lnTo>
                  <a:pt x="306" y="231"/>
                </a:lnTo>
                <a:lnTo>
                  <a:pt x="284" y="220"/>
                </a:lnTo>
                <a:lnTo>
                  <a:pt x="284" y="228"/>
                </a:lnTo>
                <a:lnTo>
                  <a:pt x="296" y="258"/>
                </a:lnTo>
                <a:lnTo>
                  <a:pt x="313" y="284"/>
                </a:lnTo>
                <a:lnTo>
                  <a:pt x="324" y="299"/>
                </a:lnTo>
                <a:lnTo>
                  <a:pt x="302" y="320"/>
                </a:lnTo>
                <a:lnTo>
                  <a:pt x="289" y="327"/>
                </a:lnTo>
                <a:lnTo>
                  <a:pt x="287" y="335"/>
                </a:lnTo>
                <a:lnTo>
                  <a:pt x="276" y="346"/>
                </a:lnTo>
                <a:lnTo>
                  <a:pt x="262" y="347"/>
                </a:lnTo>
                <a:lnTo>
                  <a:pt x="223" y="335"/>
                </a:lnTo>
                <a:lnTo>
                  <a:pt x="216" y="287"/>
                </a:lnTo>
                <a:lnTo>
                  <a:pt x="185" y="249"/>
                </a:lnTo>
                <a:lnTo>
                  <a:pt x="166" y="216"/>
                </a:lnTo>
                <a:lnTo>
                  <a:pt x="169" y="201"/>
                </a:lnTo>
                <a:lnTo>
                  <a:pt x="182" y="192"/>
                </a:lnTo>
                <a:lnTo>
                  <a:pt x="183" y="173"/>
                </a:lnTo>
                <a:lnTo>
                  <a:pt x="166" y="166"/>
                </a:lnTo>
                <a:lnTo>
                  <a:pt x="144" y="172"/>
                </a:lnTo>
                <a:lnTo>
                  <a:pt x="116" y="154"/>
                </a:lnTo>
                <a:lnTo>
                  <a:pt x="36" y="138"/>
                </a:lnTo>
                <a:lnTo>
                  <a:pt x="7" y="91"/>
                </a:lnTo>
                <a:lnTo>
                  <a:pt x="0" y="67"/>
                </a:lnTo>
                <a:lnTo>
                  <a:pt x="13" y="31"/>
                </a:lnTo>
                <a:lnTo>
                  <a:pt x="24" y="15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08240" y="4403880"/>
            <a:ext cx="155520" cy="198360"/>
          </a:xfrm>
          <a:custGeom>
            <a:avLst/>
            <a:gdLst/>
            <a:ahLst/>
            <a:rect l="l" t="t" r="r" b="b"/>
            <a:pathLst>
              <a:path w="180" h="250">
                <a:moveTo>
                  <a:pt x="57" y="0"/>
                </a:moveTo>
                <a:lnTo>
                  <a:pt x="22" y="22"/>
                </a:lnTo>
                <a:lnTo>
                  <a:pt x="24" y="26"/>
                </a:lnTo>
                <a:lnTo>
                  <a:pt x="34" y="40"/>
                </a:lnTo>
                <a:lnTo>
                  <a:pt x="24" y="48"/>
                </a:lnTo>
                <a:lnTo>
                  <a:pt x="9" y="46"/>
                </a:lnTo>
                <a:lnTo>
                  <a:pt x="0" y="64"/>
                </a:lnTo>
                <a:lnTo>
                  <a:pt x="1" y="81"/>
                </a:lnTo>
                <a:lnTo>
                  <a:pt x="14" y="102"/>
                </a:lnTo>
                <a:lnTo>
                  <a:pt x="26" y="102"/>
                </a:lnTo>
                <a:lnTo>
                  <a:pt x="18" y="118"/>
                </a:lnTo>
                <a:lnTo>
                  <a:pt x="46" y="143"/>
                </a:lnTo>
                <a:lnTo>
                  <a:pt x="59" y="155"/>
                </a:lnTo>
                <a:lnTo>
                  <a:pt x="58" y="223"/>
                </a:lnTo>
                <a:lnTo>
                  <a:pt x="73" y="250"/>
                </a:lnTo>
                <a:lnTo>
                  <a:pt x="82" y="238"/>
                </a:lnTo>
                <a:lnTo>
                  <a:pt x="117" y="232"/>
                </a:lnTo>
                <a:lnTo>
                  <a:pt x="147" y="232"/>
                </a:lnTo>
                <a:lnTo>
                  <a:pt x="162" y="223"/>
                </a:lnTo>
                <a:lnTo>
                  <a:pt x="180" y="223"/>
                </a:lnTo>
                <a:lnTo>
                  <a:pt x="164" y="161"/>
                </a:lnTo>
                <a:lnTo>
                  <a:pt x="131" y="136"/>
                </a:lnTo>
                <a:lnTo>
                  <a:pt x="123" y="118"/>
                </a:lnTo>
                <a:lnTo>
                  <a:pt x="155" y="78"/>
                </a:lnTo>
                <a:lnTo>
                  <a:pt x="103" y="48"/>
                </a:lnTo>
                <a:lnTo>
                  <a:pt x="98" y="54"/>
                </a:lnTo>
                <a:lnTo>
                  <a:pt x="86" y="28"/>
                </a:lnTo>
                <a:lnTo>
                  <a:pt x="57" y="0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16040" y="4610160"/>
            <a:ext cx="168480" cy="169920"/>
          </a:xfrm>
          <a:custGeom>
            <a:avLst/>
            <a:gdLst/>
            <a:ahLst/>
            <a:rect l="l" t="t" r="r" b="b"/>
            <a:pathLst>
              <a:path w="194" h="212">
                <a:moveTo>
                  <a:pt x="58" y="3"/>
                </a:moveTo>
                <a:lnTo>
                  <a:pt x="24" y="8"/>
                </a:lnTo>
                <a:lnTo>
                  <a:pt x="26" y="42"/>
                </a:lnTo>
                <a:lnTo>
                  <a:pt x="0" y="91"/>
                </a:lnTo>
                <a:lnTo>
                  <a:pt x="10" y="130"/>
                </a:lnTo>
                <a:lnTo>
                  <a:pt x="34" y="130"/>
                </a:lnTo>
                <a:lnTo>
                  <a:pt x="38" y="170"/>
                </a:lnTo>
                <a:lnTo>
                  <a:pt x="39" y="182"/>
                </a:lnTo>
                <a:lnTo>
                  <a:pt x="54" y="212"/>
                </a:lnTo>
                <a:lnTo>
                  <a:pt x="73" y="203"/>
                </a:lnTo>
                <a:lnTo>
                  <a:pt x="101" y="177"/>
                </a:lnTo>
                <a:lnTo>
                  <a:pt x="115" y="134"/>
                </a:lnTo>
                <a:lnTo>
                  <a:pt x="151" y="124"/>
                </a:lnTo>
                <a:lnTo>
                  <a:pt x="160" y="88"/>
                </a:lnTo>
                <a:lnTo>
                  <a:pt x="194" y="56"/>
                </a:lnTo>
                <a:lnTo>
                  <a:pt x="193" y="33"/>
                </a:lnTo>
                <a:lnTo>
                  <a:pt x="119" y="0"/>
                </a:lnTo>
                <a:lnTo>
                  <a:pt x="58" y="3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25760" y="4637160"/>
            <a:ext cx="379440" cy="487440"/>
          </a:xfrm>
          <a:custGeom>
            <a:avLst/>
            <a:gdLst/>
            <a:ahLst/>
            <a:rect l="l" t="t" r="r" b="b"/>
            <a:pathLst>
              <a:path w="442" h="614">
                <a:moveTo>
                  <a:pt x="143" y="91"/>
                </a:moveTo>
                <a:lnTo>
                  <a:pt x="105" y="102"/>
                </a:lnTo>
                <a:lnTo>
                  <a:pt x="91" y="144"/>
                </a:lnTo>
                <a:lnTo>
                  <a:pt x="62" y="172"/>
                </a:lnTo>
                <a:lnTo>
                  <a:pt x="44" y="177"/>
                </a:lnTo>
                <a:lnTo>
                  <a:pt x="31" y="150"/>
                </a:lnTo>
                <a:lnTo>
                  <a:pt x="28" y="137"/>
                </a:lnTo>
                <a:lnTo>
                  <a:pt x="14" y="131"/>
                </a:lnTo>
                <a:lnTo>
                  <a:pt x="0" y="155"/>
                </a:lnTo>
                <a:lnTo>
                  <a:pt x="0" y="213"/>
                </a:lnTo>
                <a:lnTo>
                  <a:pt x="8" y="228"/>
                </a:lnTo>
                <a:lnTo>
                  <a:pt x="25" y="239"/>
                </a:lnTo>
                <a:lnTo>
                  <a:pt x="82" y="306"/>
                </a:lnTo>
                <a:lnTo>
                  <a:pt x="89" y="317"/>
                </a:lnTo>
                <a:lnTo>
                  <a:pt x="111" y="367"/>
                </a:lnTo>
                <a:lnTo>
                  <a:pt x="138" y="392"/>
                </a:lnTo>
                <a:lnTo>
                  <a:pt x="155" y="416"/>
                </a:lnTo>
                <a:lnTo>
                  <a:pt x="160" y="422"/>
                </a:lnTo>
                <a:lnTo>
                  <a:pt x="170" y="457"/>
                </a:lnTo>
                <a:lnTo>
                  <a:pt x="193" y="493"/>
                </a:lnTo>
                <a:lnTo>
                  <a:pt x="226" y="514"/>
                </a:lnTo>
                <a:lnTo>
                  <a:pt x="279" y="550"/>
                </a:lnTo>
                <a:lnTo>
                  <a:pt x="346" y="582"/>
                </a:lnTo>
                <a:lnTo>
                  <a:pt x="386" y="614"/>
                </a:lnTo>
                <a:lnTo>
                  <a:pt x="415" y="575"/>
                </a:lnTo>
                <a:lnTo>
                  <a:pt x="421" y="587"/>
                </a:lnTo>
                <a:lnTo>
                  <a:pt x="427" y="585"/>
                </a:lnTo>
                <a:lnTo>
                  <a:pt x="442" y="551"/>
                </a:lnTo>
                <a:lnTo>
                  <a:pt x="439" y="536"/>
                </a:lnTo>
                <a:lnTo>
                  <a:pt x="430" y="527"/>
                </a:lnTo>
                <a:lnTo>
                  <a:pt x="430" y="509"/>
                </a:lnTo>
                <a:lnTo>
                  <a:pt x="437" y="484"/>
                </a:lnTo>
                <a:lnTo>
                  <a:pt x="437" y="440"/>
                </a:lnTo>
                <a:lnTo>
                  <a:pt x="430" y="416"/>
                </a:lnTo>
                <a:lnTo>
                  <a:pt x="427" y="394"/>
                </a:lnTo>
                <a:lnTo>
                  <a:pt x="396" y="372"/>
                </a:lnTo>
                <a:lnTo>
                  <a:pt x="368" y="367"/>
                </a:lnTo>
                <a:lnTo>
                  <a:pt x="353" y="308"/>
                </a:lnTo>
                <a:lnTo>
                  <a:pt x="331" y="324"/>
                </a:lnTo>
                <a:lnTo>
                  <a:pt x="311" y="324"/>
                </a:lnTo>
                <a:lnTo>
                  <a:pt x="296" y="308"/>
                </a:lnTo>
                <a:lnTo>
                  <a:pt x="272" y="316"/>
                </a:lnTo>
                <a:lnTo>
                  <a:pt x="272" y="296"/>
                </a:lnTo>
                <a:lnTo>
                  <a:pt x="266" y="277"/>
                </a:lnTo>
                <a:lnTo>
                  <a:pt x="249" y="262"/>
                </a:lnTo>
                <a:lnTo>
                  <a:pt x="249" y="237"/>
                </a:lnTo>
                <a:lnTo>
                  <a:pt x="267" y="214"/>
                </a:lnTo>
                <a:lnTo>
                  <a:pt x="264" y="195"/>
                </a:lnTo>
                <a:lnTo>
                  <a:pt x="275" y="175"/>
                </a:lnTo>
                <a:lnTo>
                  <a:pt x="281" y="164"/>
                </a:lnTo>
                <a:lnTo>
                  <a:pt x="311" y="146"/>
                </a:lnTo>
                <a:lnTo>
                  <a:pt x="362" y="130"/>
                </a:lnTo>
                <a:lnTo>
                  <a:pt x="344" y="122"/>
                </a:lnTo>
                <a:lnTo>
                  <a:pt x="343" y="72"/>
                </a:lnTo>
                <a:lnTo>
                  <a:pt x="348" y="68"/>
                </a:lnTo>
                <a:lnTo>
                  <a:pt x="347" y="55"/>
                </a:lnTo>
                <a:lnTo>
                  <a:pt x="335" y="50"/>
                </a:lnTo>
                <a:lnTo>
                  <a:pt x="294" y="50"/>
                </a:lnTo>
                <a:lnTo>
                  <a:pt x="278" y="58"/>
                </a:lnTo>
                <a:lnTo>
                  <a:pt x="262" y="45"/>
                </a:lnTo>
                <a:lnTo>
                  <a:pt x="235" y="35"/>
                </a:lnTo>
                <a:lnTo>
                  <a:pt x="208" y="24"/>
                </a:lnTo>
                <a:lnTo>
                  <a:pt x="208" y="0"/>
                </a:lnTo>
                <a:lnTo>
                  <a:pt x="183" y="0"/>
                </a:lnTo>
                <a:lnTo>
                  <a:pt x="186" y="23"/>
                </a:lnTo>
                <a:lnTo>
                  <a:pt x="149" y="58"/>
                </a:lnTo>
                <a:lnTo>
                  <a:pt x="143" y="91"/>
                </a:lnTo>
                <a:close/>
              </a:path>
            </a:pathLst>
          </a:custGeom>
          <a:solidFill>
            <a:srgbClr val="ffff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62360" y="4881600"/>
            <a:ext cx="353880" cy="357120"/>
          </a:xfrm>
          <a:custGeom>
            <a:avLst/>
            <a:gdLst/>
            <a:ahLst/>
            <a:rect l="l" t="t" r="r" b="b"/>
            <a:pathLst>
              <a:path w="413" h="451">
                <a:moveTo>
                  <a:pt x="0" y="62"/>
                </a:moveTo>
                <a:lnTo>
                  <a:pt x="61" y="42"/>
                </a:lnTo>
                <a:lnTo>
                  <a:pt x="96" y="26"/>
                </a:lnTo>
                <a:lnTo>
                  <a:pt x="132" y="0"/>
                </a:lnTo>
                <a:lnTo>
                  <a:pt x="158" y="31"/>
                </a:lnTo>
                <a:lnTo>
                  <a:pt x="164" y="61"/>
                </a:lnTo>
                <a:lnTo>
                  <a:pt x="164" y="80"/>
                </a:lnTo>
                <a:lnTo>
                  <a:pt x="204" y="100"/>
                </a:lnTo>
                <a:lnTo>
                  <a:pt x="231" y="99"/>
                </a:lnTo>
                <a:lnTo>
                  <a:pt x="270" y="124"/>
                </a:lnTo>
                <a:lnTo>
                  <a:pt x="296" y="132"/>
                </a:lnTo>
                <a:lnTo>
                  <a:pt x="311" y="132"/>
                </a:lnTo>
                <a:lnTo>
                  <a:pt x="334" y="162"/>
                </a:lnTo>
                <a:lnTo>
                  <a:pt x="328" y="226"/>
                </a:lnTo>
                <a:lnTo>
                  <a:pt x="392" y="226"/>
                </a:lnTo>
                <a:lnTo>
                  <a:pt x="400" y="249"/>
                </a:lnTo>
                <a:lnTo>
                  <a:pt x="408" y="259"/>
                </a:lnTo>
                <a:lnTo>
                  <a:pt x="413" y="278"/>
                </a:lnTo>
                <a:lnTo>
                  <a:pt x="413" y="315"/>
                </a:lnTo>
                <a:lnTo>
                  <a:pt x="397" y="347"/>
                </a:lnTo>
                <a:lnTo>
                  <a:pt x="378" y="341"/>
                </a:lnTo>
                <a:lnTo>
                  <a:pt x="353" y="332"/>
                </a:lnTo>
                <a:lnTo>
                  <a:pt x="312" y="334"/>
                </a:lnTo>
                <a:lnTo>
                  <a:pt x="279" y="365"/>
                </a:lnTo>
                <a:lnTo>
                  <a:pt x="276" y="383"/>
                </a:lnTo>
                <a:lnTo>
                  <a:pt x="266" y="398"/>
                </a:lnTo>
                <a:lnTo>
                  <a:pt x="262" y="429"/>
                </a:lnTo>
                <a:lnTo>
                  <a:pt x="241" y="429"/>
                </a:lnTo>
                <a:lnTo>
                  <a:pt x="220" y="419"/>
                </a:lnTo>
                <a:lnTo>
                  <a:pt x="213" y="451"/>
                </a:lnTo>
                <a:lnTo>
                  <a:pt x="173" y="428"/>
                </a:lnTo>
                <a:lnTo>
                  <a:pt x="160" y="428"/>
                </a:lnTo>
                <a:lnTo>
                  <a:pt x="142" y="420"/>
                </a:lnTo>
                <a:lnTo>
                  <a:pt x="117" y="433"/>
                </a:lnTo>
                <a:lnTo>
                  <a:pt x="47" y="394"/>
                </a:lnTo>
                <a:lnTo>
                  <a:pt x="63" y="347"/>
                </a:lnTo>
                <a:lnTo>
                  <a:pt x="44" y="298"/>
                </a:lnTo>
                <a:lnTo>
                  <a:pt x="33" y="283"/>
                </a:lnTo>
                <a:lnTo>
                  <a:pt x="29" y="279"/>
                </a:lnTo>
                <a:lnTo>
                  <a:pt x="35" y="275"/>
                </a:lnTo>
                <a:lnTo>
                  <a:pt x="50" y="242"/>
                </a:lnTo>
                <a:lnTo>
                  <a:pt x="47" y="229"/>
                </a:lnTo>
                <a:lnTo>
                  <a:pt x="38" y="220"/>
                </a:lnTo>
                <a:lnTo>
                  <a:pt x="38" y="200"/>
                </a:lnTo>
                <a:lnTo>
                  <a:pt x="45" y="177"/>
                </a:lnTo>
                <a:lnTo>
                  <a:pt x="45" y="128"/>
                </a:lnTo>
                <a:lnTo>
                  <a:pt x="38" y="109"/>
                </a:lnTo>
                <a:lnTo>
                  <a:pt x="35" y="86"/>
                </a:lnTo>
                <a:lnTo>
                  <a:pt x="24" y="77"/>
                </a:lnTo>
                <a:lnTo>
                  <a:pt x="0" y="62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84480" y="5145120"/>
            <a:ext cx="236520" cy="225360"/>
          </a:xfrm>
          <a:custGeom>
            <a:avLst/>
            <a:gdLst/>
            <a:ahLst/>
            <a:rect l="l" t="t" r="r" b="b"/>
            <a:pathLst>
              <a:path w="277" h="285">
                <a:moveTo>
                  <a:pt x="56" y="0"/>
                </a:moveTo>
                <a:lnTo>
                  <a:pt x="21" y="33"/>
                </a:lnTo>
                <a:lnTo>
                  <a:pt x="18" y="51"/>
                </a:lnTo>
                <a:lnTo>
                  <a:pt x="8" y="66"/>
                </a:lnTo>
                <a:lnTo>
                  <a:pt x="0" y="96"/>
                </a:lnTo>
                <a:lnTo>
                  <a:pt x="7" y="115"/>
                </a:lnTo>
                <a:lnTo>
                  <a:pt x="38" y="133"/>
                </a:lnTo>
                <a:lnTo>
                  <a:pt x="61" y="139"/>
                </a:lnTo>
                <a:lnTo>
                  <a:pt x="104" y="164"/>
                </a:lnTo>
                <a:lnTo>
                  <a:pt x="123" y="168"/>
                </a:lnTo>
                <a:lnTo>
                  <a:pt x="142" y="179"/>
                </a:lnTo>
                <a:lnTo>
                  <a:pt x="156" y="203"/>
                </a:lnTo>
                <a:lnTo>
                  <a:pt x="158" y="238"/>
                </a:lnTo>
                <a:lnTo>
                  <a:pt x="149" y="250"/>
                </a:lnTo>
                <a:lnTo>
                  <a:pt x="151" y="266"/>
                </a:lnTo>
                <a:lnTo>
                  <a:pt x="175" y="284"/>
                </a:lnTo>
                <a:lnTo>
                  <a:pt x="208" y="285"/>
                </a:lnTo>
                <a:lnTo>
                  <a:pt x="238" y="241"/>
                </a:lnTo>
                <a:lnTo>
                  <a:pt x="258" y="226"/>
                </a:lnTo>
                <a:lnTo>
                  <a:pt x="277" y="227"/>
                </a:lnTo>
                <a:lnTo>
                  <a:pt x="269" y="217"/>
                </a:lnTo>
                <a:lnTo>
                  <a:pt x="262" y="150"/>
                </a:lnTo>
                <a:lnTo>
                  <a:pt x="247" y="157"/>
                </a:lnTo>
                <a:lnTo>
                  <a:pt x="241" y="124"/>
                </a:lnTo>
                <a:lnTo>
                  <a:pt x="223" y="111"/>
                </a:lnTo>
                <a:lnTo>
                  <a:pt x="207" y="104"/>
                </a:lnTo>
                <a:lnTo>
                  <a:pt x="154" y="103"/>
                </a:lnTo>
                <a:lnTo>
                  <a:pt x="156" y="84"/>
                </a:lnTo>
                <a:lnTo>
                  <a:pt x="155" y="44"/>
                </a:lnTo>
                <a:lnTo>
                  <a:pt x="141" y="17"/>
                </a:lnTo>
                <a:lnTo>
                  <a:pt x="115" y="8"/>
                </a:lnTo>
                <a:lnTo>
                  <a:pt x="94" y="0"/>
                </a:lnTo>
                <a:lnTo>
                  <a:pt x="56" y="0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94040" y="5213520"/>
            <a:ext cx="439560" cy="900000"/>
          </a:xfrm>
          <a:custGeom>
            <a:avLst/>
            <a:gdLst/>
            <a:ahLst/>
            <a:rect l="l" t="t" r="r" b="b"/>
            <a:pathLst>
              <a:path w="512" h="1134">
                <a:moveTo>
                  <a:pt x="177" y="28"/>
                </a:moveTo>
                <a:lnTo>
                  <a:pt x="138" y="9"/>
                </a:lnTo>
                <a:lnTo>
                  <a:pt x="129" y="9"/>
                </a:lnTo>
                <a:lnTo>
                  <a:pt x="105" y="1"/>
                </a:lnTo>
                <a:lnTo>
                  <a:pt x="81" y="13"/>
                </a:lnTo>
                <a:lnTo>
                  <a:pt x="91" y="50"/>
                </a:lnTo>
                <a:lnTo>
                  <a:pt x="82" y="74"/>
                </a:lnTo>
                <a:lnTo>
                  <a:pt x="53" y="88"/>
                </a:lnTo>
                <a:lnTo>
                  <a:pt x="39" y="127"/>
                </a:lnTo>
                <a:lnTo>
                  <a:pt x="48" y="138"/>
                </a:lnTo>
                <a:lnTo>
                  <a:pt x="43" y="175"/>
                </a:lnTo>
                <a:lnTo>
                  <a:pt x="39" y="191"/>
                </a:lnTo>
                <a:lnTo>
                  <a:pt x="27" y="221"/>
                </a:lnTo>
                <a:lnTo>
                  <a:pt x="0" y="260"/>
                </a:lnTo>
                <a:lnTo>
                  <a:pt x="13" y="315"/>
                </a:lnTo>
                <a:lnTo>
                  <a:pt x="20" y="455"/>
                </a:lnTo>
                <a:lnTo>
                  <a:pt x="28" y="492"/>
                </a:lnTo>
                <a:lnTo>
                  <a:pt x="17" y="520"/>
                </a:lnTo>
                <a:lnTo>
                  <a:pt x="17" y="748"/>
                </a:lnTo>
                <a:lnTo>
                  <a:pt x="43" y="781"/>
                </a:lnTo>
                <a:lnTo>
                  <a:pt x="38" y="801"/>
                </a:lnTo>
                <a:lnTo>
                  <a:pt x="49" y="811"/>
                </a:lnTo>
                <a:lnTo>
                  <a:pt x="41" y="836"/>
                </a:lnTo>
                <a:lnTo>
                  <a:pt x="58" y="851"/>
                </a:lnTo>
                <a:lnTo>
                  <a:pt x="59" y="888"/>
                </a:lnTo>
                <a:lnTo>
                  <a:pt x="49" y="876"/>
                </a:lnTo>
                <a:lnTo>
                  <a:pt x="49" y="889"/>
                </a:lnTo>
                <a:lnTo>
                  <a:pt x="57" y="915"/>
                </a:lnTo>
                <a:lnTo>
                  <a:pt x="57" y="952"/>
                </a:lnTo>
                <a:lnTo>
                  <a:pt x="48" y="975"/>
                </a:lnTo>
                <a:lnTo>
                  <a:pt x="47" y="1000"/>
                </a:lnTo>
                <a:lnTo>
                  <a:pt x="42" y="1013"/>
                </a:lnTo>
                <a:lnTo>
                  <a:pt x="42" y="1047"/>
                </a:lnTo>
                <a:lnTo>
                  <a:pt x="57" y="1062"/>
                </a:lnTo>
                <a:lnTo>
                  <a:pt x="64" y="1060"/>
                </a:lnTo>
                <a:lnTo>
                  <a:pt x="68" y="1088"/>
                </a:lnTo>
                <a:lnTo>
                  <a:pt x="72" y="1111"/>
                </a:lnTo>
                <a:lnTo>
                  <a:pt x="96" y="1124"/>
                </a:lnTo>
                <a:lnTo>
                  <a:pt x="116" y="1126"/>
                </a:lnTo>
                <a:lnTo>
                  <a:pt x="129" y="1134"/>
                </a:lnTo>
                <a:lnTo>
                  <a:pt x="145" y="1129"/>
                </a:lnTo>
                <a:lnTo>
                  <a:pt x="172" y="1125"/>
                </a:lnTo>
                <a:lnTo>
                  <a:pt x="153" y="1093"/>
                </a:lnTo>
                <a:lnTo>
                  <a:pt x="145" y="1081"/>
                </a:lnTo>
                <a:lnTo>
                  <a:pt x="155" y="1044"/>
                </a:lnTo>
                <a:lnTo>
                  <a:pt x="170" y="1038"/>
                </a:lnTo>
                <a:lnTo>
                  <a:pt x="179" y="1021"/>
                </a:lnTo>
                <a:lnTo>
                  <a:pt x="174" y="1014"/>
                </a:lnTo>
                <a:lnTo>
                  <a:pt x="170" y="1006"/>
                </a:lnTo>
                <a:lnTo>
                  <a:pt x="178" y="989"/>
                </a:lnTo>
                <a:lnTo>
                  <a:pt x="203" y="971"/>
                </a:lnTo>
                <a:lnTo>
                  <a:pt x="226" y="950"/>
                </a:lnTo>
                <a:lnTo>
                  <a:pt x="226" y="915"/>
                </a:lnTo>
                <a:lnTo>
                  <a:pt x="211" y="907"/>
                </a:lnTo>
                <a:lnTo>
                  <a:pt x="180" y="886"/>
                </a:lnTo>
                <a:lnTo>
                  <a:pt x="170" y="866"/>
                </a:lnTo>
                <a:lnTo>
                  <a:pt x="180" y="850"/>
                </a:lnTo>
                <a:lnTo>
                  <a:pt x="209" y="820"/>
                </a:lnTo>
                <a:lnTo>
                  <a:pt x="226" y="803"/>
                </a:lnTo>
                <a:lnTo>
                  <a:pt x="226" y="764"/>
                </a:lnTo>
                <a:lnTo>
                  <a:pt x="236" y="722"/>
                </a:lnTo>
                <a:lnTo>
                  <a:pt x="267" y="740"/>
                </a:lnTo>
                <a:lnTo>
                  <a:pt x="282" y="730"/>
                </a:lnTo>
                <a:lnTo>
                  <a:pt x="271" y="714"/>
                </a:lnTo>
                <a:lnTo>
                  <a:pt x="235" y="714"/>
                </a:lnTo>
                <a:lnTo>
                  <a:pt x="228" y="681"/>
                </a:lnTo>
                <a:lnTo>
                  <a:pt x="218" y="657"/>
                </a:lnTo>
                <a:lnTo>
                  <a:pt x="238" y="658"/>
                </a:lnTo>
                <a:lnTo>
                  <a:pt x="261" y="663"/>
                </a:lnTo>
                <a:lnTo>
                  <a:pt x="288" y="666"/>
                </a:lnTo>
                <a:lnTo>
                  <a:pt x="299" y="660"/>
                </a:lnTo>
                <a:lnTo>
                  <a:pt x="309" y="627"/>
                </a:lnTo>
                <a:lnTo>
                  <a:pt x="309" y="609"/>
                </a:lnTo>
                <a:lnTo>
                  <a:pt x="314" y="591"/>
                </a:lnTo>
                <a:lnTo>
                  <a:pt x="324" y="574"/>
                </a:lnTo>
                <a:lnTo>
                  <a:pt x="379" y="574"/>
                </a:lnTo>
                <a:lnTo>
                  <a:pt x="379" y="559"/>
                </a:lnTo>
                <a:lnTo>
                  <a:pt x="398" y="544"/>
                </a:lnTo>
                <a:lnTo>
                  <a:pt x="406" y="521"/>
                </a:lnTo>
                <a:lnTo>
                  <a:pt x="389" y="497"/>
                </a:lnTo>
                <a:lnTo>
                  <a:pt x="389" y="481"/>
                </a:lnTo>
                <a:lnTo>
                  <a:pt x="381" y="445"/>
                </a:lnTo>
                <a:lnTo>
                  <a:pt x="367" y="437"/>
                </a:lnTo>
                <a:lnTo>
                  <a:pt x="353" y="435"/>
                </a:lnTo>
                <a:lnTo>
                  <a:pt x="353" y="415"/>
                </a:lnTo>
                <a:lnTo>
                  <a:pt x="374" y="396"/>
                </a:lnTo>
                <a:lnTo>
                  <a:pt x="375" y="376"/>
                </a:lnTo>
                <a:lnTo>
                  <a:pt x="381" y="351"/>
                </a:lnTo>
                <a:lnTo>
                  <a:pt x="381" y="315"/>
                </a:lnTo>
                <a:lnTo>
                  <a:pt x="408" y="292"/>
                </a:lnTo>
                <a:lnTo>
                  <a:pt x="408" y="259"/>
                </a:lnTo>
                <a:lnTo>
                  <a:pt x="427" y="240"/>
                </a:lnTo>
                <a:lnTo>
                  <a:pt x="468" y="206"/>
                </a:lnTo>
                <a:lnTo>
                  <a:pt x="504" y="187"/>
                </a:lnTo>
                <a:lnTo>
                  <a:pt x="512" y="164"/>
                </a:lnTo>
                <a:lnTo>
                  <a:pt x="503" y="139"/>
                </a:lnTo>
                <a:lnTo>
                  <a:pt x="478" y="139"/>
                </a:lnTo>
                <a:lnTo>
                  <a:pt x="456" y="160"/>
                </a:lnTo>
                <a:lnTo>
                  <a:pt x="432" y="197"/>
                </a:lnTo>
                <a:lnTo>
                  <a:pt x="402" y="194"/>
                </a:lnTo>
                <a:lnTo>
                  <a:pt x="374" y="179"/>
                </a:lnTo>
                <a:lnTo>
                  <a:pt x="373" y="163"/>
                </a:lnTo>
                <a:lnTo>
                  <a:pt x="381" y="149"/>
                </a:lnTo>
                <a:lnTo>
                  <a:pt x="379" y="116"/>
                </a:lnTo>
                <a:lnTo>
                  <a:pt x="365" y="92"/>
                </a:lnTo>
                <a:lnTo>
                  <a:pt x="344" y="81"/>
                </a:lnTo>
                <a:lnTo>
                  <a:pt x="325" y="77"/>
                </a:lnTo>
                <a:lnTo>
                  <a:pt x="284" y="52"/>
                </a:lnTo>
                <a:lnTo>
                  <a:pt x="259" y="44"/>
                </a:lnTo>
                <a:lnTo>
                  <a:pt x="231" y="24"/>
                </a:lnTo>
                <a:lnTo>
                  <a:pt x="228" y="8"/>
                </a:lnTo>
                <a:lnTo>
                  <a:pt x="204" y="10"/>
                </a:lnTo>
                <a:lnTo>
                  <a:pt x="185" y="0"/>
                </a:lnTo>
                <a:lnTo>
                  <a:pt x="177" y="28"/>
                </a:lnTo>
                <a:close/>
              </a:path>
            </a:pathLst>
          </a:custGeom>
          <a:solidFill>
            <a:srgbClr val="9ddfa6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95720" y="5445000"/>
            <a:ext cx="149040" cy="136800"/>
          </a:xfrm>
          <a:custGeom>
            <a:avLst/>
            <a:gdLst/>
            <a:ahLst/>
            <a:rect l="l" t="t" r="r" b="b"/>
            <a:pathLst>
              <a:path w="172" h="172">
                <a:moveTo>
                  <a:pt x="55" y="0"/>
                </a:moveTo>
                <a:lnTo>
                  <a:pt x="28" y="25"/>
                </a:lnTo>
                <a:lnTo>
                  <a:pt x="28" y="58"/>
                </a:lnTo>
                <a:lnTo>
                  <a:pt x="22" y="82"/>
                </a:lnTo>
                <a:lnTo>
                  <a:pt x="21" y="105"/>
                </a:lnTo>
                <a:lnTo>
                  <a:pt x="0" y="125"/>
                </a:lnTo>
                <a:lnTo>
                  <a:pt x="0" y="145"/>
                </a:lnTo>
                <a:lnTo>
                  <a:pt x="14" y="147"/>
                </a:lnTo>
                <a:lnTo>
                  <a:pt x="26" y="155"/>
                </a:lnTo>
                <a:lnTo>
                  <a:pt x="28" y="158"/>
                </a:lnTo>
                <a:lnTo>
                  <a:pt x="60" y="172"/>
                </a:lnTo>
                <a:lnTo>
                  <a:pt x="74" y="164"/>
                </a:lnTo>
                <a:lnTo>
                  <a:pt x="119" y="164"/>
                </a:lnTo>
                <a:lnTo>
                  <a:pt x="131" y="148"/>
                </a:lnTo>
                <a:lnTo>
                  <a:pt x="148" y="134"/>
                </a:lnTo>
                <a:lnTo>
                  <a:pt x="157" y="101"/>
                </a:lnTo>
                <a:lnTo>
                  <a:pt x="172" y="90"/>
                </a:lnTo>
                <a:lnTo>
                  <a:pt x="139" y="56"/>
                </a:lnTo>
                <a:lnTo>
                  <a:pt x="101" y="34"/>
                </a:lnTo>
                <a:lnTo>
                  <a:pt x="75" y="37"/>
                </a:lnTo>
                <a:lnTo>
                  <a:pt x="72" y="15"/>
                </a:lnTo>
                <a:lnTo>
                  <a:pt x="55" y="0"/>
                </a:lnTo>
                <a:close/>
              </a:path>
            </a:pathLst>
          </a:custGeom>
          <a:solidFill>
            <a:srgbClr val="ff33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33560" y="5092560"/>
            <a:ext cx="208080" cy="1059120"/>
          </a:xfrm>
          <a:custGeom>
            <a:avLst/>
            <a:gdLst/>
            <a:ahLst/>
            <a:rect l="l" t="t" r="r" b="b"/>
            <a:pathLst>
              <a:path w="241" h="1334">
                <a:moveTo>
                  <a:pt x="28" y="40"/>
                </a:moveTo>
                <a:lnTo>
                  <a:pt x="55" y="0"/>
                </a:lnTo>
                <a:lnTo>
                  <a:pt x="78" y="32"/>
                </a:lnTo>
                <a:lnTo>
                  <a:pt x="97" y="80"/>
                </a:lnTo>
                <a:lnTo>
                  <a:pt x="82" y="128"/>
                </a:lnTo>
                <a:lnTo>
                  <a:pt x="152" y="167"/>
                </a:lnTo>
                <a:lnTo>
                  <a:pt x="161" y="205"/>
                </a:lnTo>
                <a:lnTo>
                  <a:pt x="152" y="227"/>
                </a:lnTo>
                <a:lnTo>
                  <a:pt x="126" y="243"/>
                </a:lnTo>
                <a:lnTo>
                  <a:pt x="110" y="279"/>
                </a:lnTo>
                <a:lnTo>
                  <a:pt x="117" y="292"/>
                </a:lnTo>
                <a:lnTo>
                  <a:pt x="110" y="345"/>
                </a:lnTo>
                <a:lnTo>
                  <a:pt x="102" y="371"/>
                </a:lnTo>
                <a:lnTo>
                  <a:pt x="69" y="412"/>
                </a:lnTo>
                <a:lnTo>
                  <a:pt x="81" y="458"/>
                </a:lnTo>
                <a:lnTo>
                  <a:pt x="84" y="513"/>
                </a:lnTo>
                <a:lnTo>
                  <a:pt x="91" y="616"/>
                </a:lnTo>
                <a:lnTo>
                  <a:pt x="97" y="644"/>
                </a:lnTo>
                <a:lnTo>
                  <a:pt x="86" y="673"/>
                </a:lnTo>
                <a:lnTo>
                  <a:pt x="86" y="835"/>
                </a:lnTo>
                <a:lnTo>
                  <a:pt x="86" y="901"/>
                </a:lnTo>
                <a:lnTo>
                  <a:pt x="112" y="934"/>
                </a:lnTo>
                <a:lnTo>
                  <a:pt x="110" y="954"/>
                </a:lnTo>
                <a:lnTo>
                  <a:pt x="118" y="964"/>
                </a:lnTo>
                <a:lnTo>
                  <a:pt x="110" y="990"/>
                </a:lnTo>
                <a:lnTo>
                  <a:pt x="127" y="1003"/>
                </a:lnTo>
                <a:lnTo>
                  <a:pt x="127" y="1039"/>
                </a:lnTo>
                <a:lnTo>
                  <a:pt x="118" y="1031"/>
                </a:lnTo>
                <a:lnTo>
                  <a:pt x="118" y="1042"/>
                </a:lnTo>
                <a:lnTo>
                  <a:pt x="126" y="1070"/>
                </a:lnTo>
                <a:lnTo>
                  <a:pt x="126" y="1105"/>
                </a:lnTo>
                <a:lnTo>
                  <a:pt x="117" y="1130"/>
                </a:lnTo>
                <a:lnTo>
                  <a:pt x="117" y="1152"/>
                </a:lnTo>
                <a:lnTo>
                  <a:pt x="111" y="1166"/>
                </a:lnTo>
                <a:lnTo>
                  <a:pt x="111" y="1200"/>
                </a:lnTo>
                <a:lnTo>
                  <a:pt x="126" y="1215"/>
                </a:lnTo>
                <a:lnTo>
                  <a:pt x="133" y="1215"/>
                </a:lnTo>
                <a:lnTo>
                  <a:pt x="141" y="1264"/>
                </a:lnTo>
                <a:lnTo>
                  <a:pt x="165" y="1277"/>
                </a:lnTo>
                <a:lnTo>
                  <a:pt x="183" y="1279"/>
                </a:lnTo>
                <a:lnTo>
                  <a:pt x="199" y="1287"/>
                </a:lnTo>
                <a:lnTo>
                  <a:pt x="217" y="1280"/>
                </a:lnTo>
                <a:lnTo>
                  <a:pt x="241" y="1278"/>
                </a:lnTo>
                <a:lnTo>
                  <a:pt x="209" y="1299"/>
                </a:lnTo>
                <a:lnTo>
                  <a:pt x="193" y="1301"/>
                </a:lnTo>
                <a:lnTo>
                  <a:pt x="183" y="1316"/>
                </a:lnTo>
                <a:lnTo>
                  <a:pt x="181" y="1334"/>
                </a:lnTo>
                <a:lnTo>
                  <a:pt x="144" y="1302"/>
                </a:lnTo>
                <a:lnTo>
                  <a:pt x="154" y="1294"/>
                </a:lnTo>
                <a:lnTo>
                  <a:pt x="150" y="1285"/>
                </a:lnTo>
                <a:lnTo>
                  <a:pt x="141" y="1287"/>
                </a:lnTo>
                <a:lnTo>
                  <a:pt x="135" y="1269"/>
                </a:lnTo>
                <a:lnTo>
                  <a:pt x="112" y="1269"/>
                </a:lnTo>
                <a:lnTo>
                  <a:pt x="99" y="1263"/>
                </a:lnTo>
                <a:lnTo>
                  <a:pt x="99" y="1245"/>
                </a:lnTo>
                <a:lnTo>
                  <a:pt x="82" y="1219"/>
                </a:lnTo>
                <a:lnTo>
                  <a:pt x="71" y="1169"/>
                </a:lnTo>
                <a:lnTo>
                  <a:pt x="69" y="1147"/>
                </a:lnTo>
                <a:lnTo>
                  <a:pt x="54" y="1116"/>
                </a:lnTo>
                <a:lnTo>
                  <a:pt x="63" y="1109"/>
                </a:lnTo>
                <a:lnTo>
                  <a:pt x="77" y="1105"/>
                </a:lnTo>
                <a:lnTo>
                  <a:pt x="50" y="1079"/>
                </a:lnTo>
                <a:lnTo>
                  <a:pt x="47" y="1067"/>
                </a:lnTo>
                <a:lnTo>
                  <a:pt x="38" y="1071"/>
                </a:lnTo>
                <a:lnTo>
                  <a:pt x="22" y="1062"/>
                </a:lnTo>
                <a:lnTo>
                  <a:pt x="0" y="1046"/>
                </a:lnTo>
                <a:lnTo>
                  <a:pt x="15" y="1032"/>
                </a:lnTo>
                <a:lnTo>
                  <a:pt x="30" y="1015"/>
                </a:lnTo>
                <a:lnTo>
                  <a:pt x="34" y="1026"/>
                </a:lnTo>
                <a:lnTo>
                  <a:pt x="55" y="1046"/>
                </a:lnTo>
                <a:lnTo>
                  <a:pt x="72" y="1042"/>
                </a:lnTo>
                <a:lnTo>
                  <a:pt x="62" y="1028"/>
                </a:lnTo>
                <a:lnTo>
                  <a:pt x="69" y="1009"/>
                </a:lnTo>
                <a:lnTo>
                  <a:pt x="72" y="988"/>
                </a:lnTo>
                <a:lnTo>
                  <a:pt x="63" y="980"/>
                </a:lnTo>
                <a:lnTo>
                  <a:pt x="79" y="973"/>
                </a:lnTo>
                <a:lnTo>
                  <a:pt x="53" y="937"/>
                </a:lnTo>
                <a:lnTo>
                  <a:pt x="54" y="839"/>
                </a:lnTo>
                <a:lnTo>
                  <a:pt x="31" y="841"/>
                </a:lnTo>
                <a:lnTo>
                  <a:pt x="12" y="822"/>
                </a:lnTo>
                <a:lnTo>
                  <a:pt x="10" y="781"/>
                </a:lnTo>
                <a:lnTo>
                  <a:pt x="20" y="762"/>
                </a:lnTo>
                <a:lnTo>
                  <a:pt x="20" y="735"/>
                </a:lnTo>
                <a:lnTo>
                  <a:pt x="13" y="728"/>
                </a:lnTo>
                <a:lnTo>
                  <a:pt x="19" y="690"/>
                </a:lnTo>
                <a:lnTo>
                  <a:pt x="31" y="650"/>
                </a:lnTo>
                <a:lnTo>
                  <a:pt x="30" y="615"/>
                </a:lnTo>
                <a:lnTo>
                  <a:pt x="45" y="599"/>
                </a:lnTo>
                <a:lnTo>
                  <a:pt x="45" y="555"/>
                </a:lnTo>
                <a:lnTo>
                  <a:pt x="45" y="468"/>
                </a:lnTo>
                <a:lnTo>
                  <a:pt x="62" y="447"/>
                </a:lnTo>
                <a:lnTo>
                  <a:pt x="59" y="436"/>
                </a:lnTo>
                <a:lnTo>
                  <a:pt x="47" y="418"/>
                </a:lnTo>
                <a:lnTo>
                  <a:pt x="45" y="376"/>
                </a:lnTo>
                <a:lnTo>
                  <a:pt x="51" y="366"/>
                </a:lnTo>
                <a:lnTo>
                  <a:pt x="55" y="338"/>
                </a:lnTo>
                <a:lnTo>
                  <a:pt x="57" y="235"/>
                </a:lnTo>
                <a:lnTo>
                  <a:pt x="39" y="224"/>
                </a:lnTo>
                <a:lnTo>
                  <a:pt x="54" y="203"/>
                </a:lnTo>
                <a:lnTo>
                  <a:pt x="54" y="172"/>
                </a:lnTo>
                <a:lnTo>
                  <a:pt x="54" y="129"/>
                </a:lnTo>
                <a:lnTo>
                  <a:pt x="54" y="88"/>
                </a:lnTo>
                <a:lnTo>
                  <a:pt x="44" y="54"/>
                </a:lnTo>
                <a:lnTo>
                  <a:pt x="28" y="40"/>
                </a:lnTo>
                <a:close/>
              </a:path>
            </a:pathLst>
          </a:custGeom>
          <a:solidFill>
            <a:srgbClr val="ffff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13000" y="4465800"/>
            <a:ext cx="120600" cy="115560"/>
          </a:xfrm>
          <a:custGeom>
            <a:avLst/>
            <a:gdLst/>
            <a:ahLst/>
            <a:rect l="l" t="t" r="r" b="b"/>
            <a:pathLst>
              <a:path w="139" h="146">
                <a:moveTo>
                  <a:pt x="32" y="0"/>
                </a:moveTo>
                <a:lnTo>
                  <a:pt x="53" y="9"/>
                </a:lnTo>
                <a:lnTo>
                  <a:pt x="130" y="9"/>
                </a:lnTo>
                <a:lnTo>
                  <a:pt x="135" y="30"/>
                </a:lnTo>
                <a:lnTo>
                  <a:pt x="120" y="56"/>
                </a:lnTo>
                <a:lnTo>
                  <a:pt x="127" y="65"/>
                </a:lnTo>
                <a:lnTo>
                  <a:pt x="127" y="84"/>
                </a:lnTo>
                <a:lnTo>
                  <a:pt x="139" y="100"/>
                </a:lnTo>
                <a:lnTo>
                  <a:pt x="139" y="121"/>
                </a:lnTo>
                <a:lnTo>
                  <a:pt x="114" y="129"/>
                </a:lnTo>
                <a:lnTo>
                  <a:pt x="85" y="127"/>
                </a:lnTo>
                <a:lnTo>
                  <a:pt x="67" y="146"/>
                </a:lnTo>
                <a:lnTo>
                  <a:pt x="57" y="144"/>
                </a:lnTo>
                <a:lnTo>
                  <a:pt x="41" y="83"/>
                </a:lnTo>
                <a:lnTo>
                  <a:pt x="9" y="60"/>
                </a:lnTo>
                <a:lnTo>
                  <a:pt x="0" y="40"/>
                </a:lnTo>
                <a:lnTo>
                  <a:pt x="32" y="0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13080" y="4465800"/>
            <a:ext cx="87480" cy="110880"/>
          </a:xfrm>
          <a:custGeom>
            <a:avLst/>
            <a:gdLst/>
            <a:ahLst/>
            <a:rect l="l" t="t" r="r" b="b"/>
            <a:pathLst>
              <a:path w="103" h="141">
                <a:moveTo>
                  <a:pt x="15" y="9"/>
                </a:moveTo>
                <a:lnTo>
                  <a:pt x="27" y="0"/>
                </a:lnTo>
                <a:lnTo>
                  <a:pt x="54" y="34"/>
                </a:lnTo>
                <a:lnTo>
                  <a:pt x="87" y="49"/>
                </a:lnTo>
                <a:lnTo>
                  <a:pt x="103" y="67"/>
                </a:lnTo>
                <a:lnTo>
                  <a:pt x="88" y="79"/>
                </a:lnTo>
                <a:lnTo>
                  <a:pt x="77" y="87"/>
                </a:lnTo>
                <a:lnTo>
                  <a:pt x="45" y="135"/>
                </a:lnTo>
                <a:lnTo>
                  <a:pt x="23" y="141"/>
                </a:lnTo>
                <a:lnTo>
                  <a:pt x="10" y="134"/>
                </a:lnTo>
                <a:lnTo>
                  <a:pt x="0" y="126"/>
                </a:lnTo>
                <a:lnTo>
                  <a:pt x="24" y="120"/>
                </a:lnTo>
                <a:lnTo>
                  <a:pt x="24" y="99"/>
                </a:lnTo>
                <a:lnTo>
                  <a:pt x="12" y="83"/>
                </a:lnTo>
                <a:lnTo>
                  <a:pt x="12" y="66"/>
                </a:lnTo>
                <a:lnTo>
                  <a:pt x="5" y="55"/>
                </a:lnTo>
                <a:lnTo>
                  <a:pt x="20" y="29"/>
                </a:lnTo>
                <a:lnTo>
                  <a:pt x="15" y="9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97000" y="4002120"/>
            <a:ext cx="249480" cy="203040"/>
          </a:xfrm>
          <a:custGeom>
            <a:avLst/>
            <a:gdLst/>
            <a:ahLst/>
            <a:rect l="l" t="t" r="r" b="b"/>
            <a:pathLst>
              <a:path w="874" h="767">
                <a:moveTo>
                  <a:pt x="702" y="9"/>
                </a:moveTo>
                <a:lnTo>
                  <a:pt x="574" y="0"/>
                </a:lnTo>
                <a:lnTo>
                  <a:pt x="493" y="51"/>
                </a:lnTo>
                <a:lnTo>
                  <a:pt x="359" y="30"/>
                </a:lnTo>
                <a:lnTo>
                  <a:pt x="339" y="108"/>
                </a:lnTo>
                <a:lnTo>
                  <a:pt x="251" y="159"/>
                </a:lnTo>
                <a:lnTo>
                  <a:pt x="291" y="267"/>
                </a:lnTo>
                <a:lnTo>
                  <a:pt x="292" y="352"/>
                </a:lnTo>
                <a:lnTo>
                  <a:pt x="170" y="382"/>
                </a:lnTo>
                <a:lnTo>
                  <a:pt x="69" y="415"/>
                </a:lnTo>
                <a:lnTo>
                  <a:pt x="14" y="528"/>
                </a:lnTo>
                <a:lnTo>
                  <a:pt x="0" y="595"/>
                </a:lnTo>
                <a:lnTo>
                  <a:pt x="83" y="636"/>
                </a:lnTo>
                <a:lnTo>
                  <a:pt x="257" y="727"/>
                </a:lnTo>
                <a:lnTo>
                  <a:pt x="379" y="727"/>
                </a:lnTo>
                <a:lnTo>
                  <a:pt x="462" y="686"/>
                </a:lnTo>
                <a:lnTo>
                  <a:pt x="518" y="767"/>
                </a:lnTo>
                <a:lnTo>
                  <a:pt x="602" y="673"/>
                </a:lnTo>
                <a:lnTo>
                  <a:pt x="612" y="650"/>
                </a:lnTo>
                <a:lnTo>
                  <a:pt x="874" y="369"/>
                </a:lnTo>
                <a:lnTo>
                  <a:pt x="728" y="400"/>
                </a:lnTo>
                <a:lnTo>
                  <a:pt x="719" y="359"/>
                </a:lnTo>
                <a:lnTo>
                  <a:pt x="647" y="412"/>
                </a:lnTo>
                <a:lnTo>
                  <a:pt x="631" y="390"/>
                </a:lnTo>
                <a:lnTo>
                  <a:pt x="599" y="372"/>
                </a:lnTo>
                <a:lnTo>
                  <a:pt x="620" y="90"/>
                </a:lnTo>
                <a:lnTo>
                  <a:pt x="677" y="65"/>
                </a:lnTo>
                <a:lnTo>
                  <a:pt x="702" y="9"/>
                </a:lnTo>
                <a:close/>
              </a:path>
            </a:pathLst>
          </a:custGeom>
          <a:solidFill>
            <a:srgbClr val="ff33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68360" y="4005360"/>
            <a:ext cx="44640" cy="101520"/>
          </a:xfrm>
          <a:custGeom>
            <a:avLst/>
            <a:gdLst/>
            <a:ahLst/>
            <a:rect l="l" t="t" r="r" b="b"/>
            <a:pathLst>
              <a:path w="151" h="388">
                <a:moveTo>
                  <a:pt x="16" y="83"/>
                </a:moveTo>
                <a:lnTo>
                  <a:pt x="0" y="366"/>
                </a:lnTo>
                <a:lnTo>
                  <a:pt x="32" y="388"/>
                </a:lnTo>
                <a:lnTo>
                  <a:pt x="69" y="310"/>
                </a:lnTo>
                <a:lnTo>
                  <a:pt x="139" y="258"/>
                </a:lnTo>
                <a:lnTo>
                  <a:pt x="151" y="49"/>
                </a:lnTo>
                <a:lnTo>
                  <a:pt x="124" y="42"/>
                </a:lnTo>
                <a:lnTo>
                  <a:pt x="103" y="0"/>
                </a:lnTo>
                <a:lnTo>
                  <a:pt x="73" y="51"/>
                </a:lnTo>
                <a:lnTo>
                  <a:pt x="16" y="83"/>
                </a:lnTo>
                <a:close/>
              </a:path>
            </a:pathLst>
          </a:custGeom>
          <a:solidFill>
            <a:srgbClr val="5fd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65480" y="4071960"/>
            <a:ext cx="301680" cy="147600"/>
          </a:xfrm>
          <a:custGeom>
            <a:avLst/>
            <a:gdLst/>
            <a:ahLst/>
            <a:rect l="l" t="t" r="r" b="b"/>
            <a:pathLst>
              <a:path w="1049" h="556">
                <a:moveTo>
                  <a:pt x="284" y="98"/>
                </a:moveTo>
                <a:lnTo>
                  <a:pt x="400" y="45"/>
                </a:lnTo>
                <a:lnTo>
                  <a:pt x="534" y="45"/>
                </a:lnTo>
                <a:lnTo>
                  <a:pt x="682" y="22"/>
                </a:lnTo>
                <a:lnTo>
                  <a:pt x="723" y="43"/>
                </a:lnTo>
                <a:lnTo>
                  <a:pt x="751" y="0"/>
                </a:lnTo>
                <a:lnTo>
                  <a:pt x="847" y="8"/>
                </a:lnTo>
                <a:lnTo>
                  <a:pt x="857" y="63"/>
                </a:lnTo>
                <a:lnTo>
                  <a:pt x="898" y="53"/>
                </a:lnTo>
                <a:lnTo>
                  <a:pt x="928" y="8"/>
                </a:lnTo>
                <a:lnTo>
                  <a:pt x="996" y="35"/>
                </a:lnTo>
                <a:lnTo>
                  <a:pt x="1049" y="103"/>
                </a:lnTo>
                <a:lnTo>
                  <a:pt x="1021" y="198"/>
                </a:lnTo>
                <a:lnTo>
                  <a:pt x="1010" y="297"/>
                </a:lnTo>
                <a:lnTo>
                  <a:pt x="959" y="319"/>
                </a:lnTo>
                <a:lnTo>
                  <a:pt x="867" y="348"/>
                </a:lnTo>
                <a:lnTo>
                  <a:pt x="765" y="319"/>
                </a:lnTo>
                <a:lnTo>
                  <a:pt x="708" y="359"/>
                </a:lnTo>
                <a:lnTo>
                  <a:pt x="682" y="429"/>
                </a:lnTo>
                <a:lnTo>
                  <a:pt x="588" y="421"/>
                </a:lnTo>
                <a:lnTo>
                  <a:pt x="467" y="461"/>
                </a:lnTo>
                <a:lnTo>
                  <a:pt x="436" y="544"/>
                </a:lnTo>
                <a:lnTo>
                  <a:pt x="330" y="556"/>
                </a:lnTo>
                <a:lnTo>
                  <a:pt x="309" y="462"/>
                </a:lnTo>
                <a:lnTo>
                  <a:pt x="217" y="385"/>
                </a:lnTo>
                <a:lnTo>
                  <a:pt x="97" y="381"/>
                </a:lnTo>
                <a:lnTo>
                  <a:pt x="31" y="392"/>
                </a:lnTo>
                <a:lnTo>
                  <a:pt x="0" y="403"/>
                </a:lnTo>
                <a:lnTo>
                  <a:pt x="284" y="98"/>
                </a:lnTo>
                <a:close/>
              </a:path>
            </a:pathLst>
          </a:custGeom>
          <a:solidFill>
            <a:srgbClr val="ff33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359080" y="4149720"/>
            <a:ext cx="195120" cy="138240"/>
          </a:xfrm>
          <a:custGeom>
            <a:avLst/>
            <a:gdLst/>
            <a:ahLst/>
            <a:rect l="l" t="t" r="r" b="b"/>
            <a:pathLst>
              <a:path w="687" h="518">
                <a:moveTo>
                  <a:pt x="6" y="258"/>
                </a:moveTo>
                <a:lnTo>
                  <a:pt x="110" y="248"/>
                </a:lnTo>
                <a:lnTo>
                  <a:pt x="144" y="169"/>
                </a:lnTo>
                <a:lnTo>
                  <a:pt x="267" y="128"/>
                </a:lnTo>
                <a:lnTo>
                  <a:pt x="359" y="140"/>
                </a:lnTo>
                <a:lnTo>
                  <a:pt x="380" y="67"/>
                </a:lnTo>
                <a:lnTo>
                  <a:pt x="442" y="26"/>
                </a:lnTo>
                <a:lnTo>
                  <a:pt x="544" y="57"/>
                </a:lnTo>
                <a:lnTo>
                  <a:pt x="687" y="0"/>
                </a:lnTo>
                <a:lnTo>
                  <a:pt x="687" y="78"/>
                </a:lnTo>
                <a:lnTo>
                  <a:pt x="615" y="78"/>
                </a:lnTo>
                <a:lnTo>
                  <a:pt x="647" y="169"/>
                </a:lnTo>
                <a:lnTo>
                  <a:pt x="625" y="294"/>
                </a:lnTo>
                <a:lnTo>
                  <a:pt x="636" y="355"/>
                </a:lnTo>
                <a:lnTo>
                  <a:pt x="585" y="386"/>
                </a:lnTo>
                <a:lnTo>
                  <a:pt x="636" y="479"/>
                </a:lnTo>
                <a:lnTo>
                  <a:pt x="578" y="507"/>
                </a:lnTo>
                <a:lnTo>
                  <a:pt x="537" y="504"/>
                </a:lnTo>
                <a:lnTo>
                  <a:pt x="482" y="504"/>
                </a:lnTo>
                <a:lnTo>
                  <a:pt x="413" y="518"/>
                </a:lnTo>
                <a:lnTo>
                  <a:pt x="334" y="497"/>
                </a:lnTo>
                <a:lnTo>
                  <a:pt x="282" y="467"/>
                </a:lnTo>
                <a:lnTo>
                  <a:pt x="225" y="488"/>
                </a:lnTo>
                <a:lnTo>
                  <a:pt x="144" y="431"/>
                </a:lnTo>
                <a:lnTo>
                  <a:pt x="73" y="380"/>
                </a:lnTo>
                <a:lnTo>
                  <a:pt x="31" y="314"/>
                </a:lnTo>
                <a:lnTo>
                  <a:pt x="0" y="294"/>
                </a:lnTo>
                <a:lnTo>
                  <a:pt x="6" y="258"/>
                </a:lnTo>
                <a:close/>
              </a:path>
            </a:pathLst>
          </a:custGeom>
          <a:solidFill>
            <a:srgbClr val="996633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22440" y="4272120"/>
            <a:ext cx="173160" cy="118800"/>
          </a:xfrm>
          <a:custGeom>
            <a:avLst/>
            <a:gdLst/>
            <a:ahLst/>
            <a:rect l="l" t="t" r="r" b="b"/>
            <a:pathLst>
              <a:path w="607" h="448">
                <a:moveTo>
                  <a:pt x="111" y="30"/>
                </a:moveTo>
                <a:lnTo>
                  <a:pt x="193" y="56"/>
                </a:lnTo>
                <a:lnTo>
                  <a:pt x="265" y="37"/>
                </a:lnTo>
                <a:lnTo>
                  <a:pt x="352" y="41"/>
                </a:lnTo>
                <a:lnTo>
                  <a:pt x="413" y="18"/>
                </a:lnTo>
                <a:lnTo>
                  <a:pt x="494" y="130"/>
                </a:lnTo>
                <a:lnTo>
                  <a:pt x="597" y="202"/>
                </a:lnTo>
                <a:lnTo>
                  <a:pt x="607" y="367"/>
                </a:lnTo>
                <a:lnTo>
                  <a:pt x="545" y="448"/>
                </a:lnTo>
                <a:lnTo>
                  <a:pt x="494" y="336"/>
                </a:lnTo>
                <a:lnTo>
                  <a:pt x="475" y="397"/>
                </a:lnTo>
                <a:lnTo>
                  <a:pt x="433" y="408"/>
                </a:lnTo>
                <a:lnTo>
                  <a:pt x="382" y="295"/>
                </a:lnTo>
                <a:lnTo>
                  <a:pt x="270" y="233"/>
                </a:lnTo>
                <a:lnTo>
                  <a:pt x="168" y="151"/>
                </a:lnTo>
                <a:lnTo>
                  <a:pt x="146" y="202"/>
                </a:lnTo>
                <a:lnTo>
                  <a:pt x="208" y="254"/>
                </a:lnTo>
                <a:lnTo>
                  <a:pt x="177" y="295"/>
                </a:lnTo>
                <a:lnTo>
                  <a:pt x="24" y="192"/>
                </a:lnTo>
                <a:lnTo>
                  <a:pt x="0" y="21"/>
                </a:lnTo>
                <a:lnTo>
                  <a:pt x="59" y="0"/>
                </a:lnTo>
                <a:lnTo>
                  <a:pt x="111" y="30"/>
                </a:lnTo>
                <a:close/>
              </a:path>
            </a:pathLst>
          </a:custGeom>
          <a:solidFill>
            <a:srgbClr val="996633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92360" y="4308480"/>
            <a:ext cx="243000" cy="101520"/>
          </a:xfrm>
          <a:custGeom>
            <a:avLst/>
            <a:gdLst/>
            <a:ahLst/>
            <a:rect l="l" t="t" r="r" b="b"/>
            <a:pathLst>
              <a:path w="849" h="385">
                <a:moveTo>
                  <a:pt x="0" y="65"/>
                </a:moveTo>
                <a:lnTo>
                  <a:pt x="117" y="190"/>
                </a:lnTo>
                <a:lnTo>
                  <a:pt x="137" y="87"/>
                </a:lnTo>
                <a:lnTo>
                  <a:pt x="220" y="171"/>
                </a:lnTo>
                <a:lnTo>
                  <a:pt x="312" y="160"/>
                </a:lnTo>
                <a:lnTo>
                  <a:pt x="475" y="16"/>
                </a:lnTo>
                <a:lnTo>
                  <a:pt x="593" y="0"/>
                </a:lnTo>
                <a:lnTo>
                  <a:pt x="708" y="13"/>
                </a:lnTo>
                <a:lnTo>
                  <a:pt x="793" y="59"/>
                </a:lnTo>
                <a:lnTo>
                  <a:pt x="849" y="141"/>
                </a:lnTo>
                <a:lnTo>
                  <a:pt x="824" y="161"/>
                </a:lnTo>
                <a:lnTo>
                  <a:pt x="814" y="233"/>
                </a:lnTo>
                <a:lnTo>
                  <a:pt x="708" y="278"/>
                </a:lnTo>
                <a:lnTo>
                  <a:pt x="681" y="233"/>
                </a:lnTo>
                <a:lnTo>
                  <a:pt x="687" y="178"/>
                </a:lnTo>
                <a:lnTo>
                  <a:pt x="672" y="104"/>
                </a:lnTo>
                <a:lnTo>
                  <a:pt x="587" y="75"/>
                </a:lnTo>
                <a:lnTo>
                  <a:pt x="517" y="108"/>
                </a:lnTo>
                <a:lnTo>
                  <a:pt x="481" y="172"/>
                </a:lnTo>
                <a:lnTo>
                  <a:pt x="394" y="210"/>
                </a:lnTo>
                <a:lnTo>
                  <a:pt x="373" y="232"/>
                </a:lnTo>
                <a:lnTo>
                  <a:pt x="455" y="344"/>
                </a:lnTo>
                <a:lnTo>
                  <a:pt x="384" y="385"/>
                </a:lnTo>
                <a:lnTo>
                  <a:pt x="353" y="329"/>
                </a:lnTo>
                <a:lnTo>
                  <a:pt x="317" y="344"/>
                </a:lnTo>
                <a:lnTo>
                  <a:pt x="292" y="283"/>
                </a:lnTo>
                <a:lnTo>
                  <a:pt x="225" y="298"/>
                </a:lnTo>
                <a:lnTo>
                  <a:pt x="173" y="259"/>
                </a:lnTo>
                <a:lnTo>
                  <a:pt x="74" y="241"/>
                </a:lnTo>
                <a:lnTo>
                  <a:pt x="3" y="262"/>
                </a:lnTo>
                <a:lnTo>
                  <a:pt x="7" y="223"/>
                </a:lnTo>
                <a:lnTo>
                  <a:pt x="0" y="65"/>
                </a:lnTo>
                <a:close/>
              </a:path>
            </a:pathLst>
          </a:custGeom>
          <a:solidFill>
            <a:srgbClr val="996633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44600" y="4172040"/>
            <a:ext cx="117720" cy="58680"/>
          </a:xfrm>
          <a:custGeom>
            <a:avLst/>
            <a:gdLst/>
            <a:ahLst/>
            <a:rect l="l" t="t" r="r" b="b"/>
            <a:pathLst>
              <a:path w="407" h="221">
                <a:moveTo>
                  <a:pt x="0" y="121"/>
                </a:moveTo>
                <a:lnTo>
                  <a:pt x="97" y="14"/>
                </a:lnTo>
                <a:lnTo>
                  <a:pt x="165" y="0"/>
                </a:lnTo>
                <a:lnTo>
                  <a:pt x="289" y="4"/>
                </a:lnTo>
                <a:lnTo>
                  <a:pt x="385" y="85"/>
                </a:lnTo>
                <a:lnTo>
                  <a:pt x="407" y="179"/>
                </a:lnTo>
                <a:lnTo>
                  <a:pt x="263" y="221"/>
                </a:lnTo>
                <a:lnTo>
                  <a:pt x="0" y="121"/>
                </a:lnTo>
                <a:close/>
              </a:path>
            </a:pathLst>
          </a:custGeom>
          <a:solidFill>
            <a:srgbClr val="996633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97520" y="3098880"/>
            <a:ext cx="106560" cy="139680"/>
          </a:xfrm>
          <a:custGeom>
            <a:avLst/>
            <a:gdLst/>
            <a:ahLst/>
            <a:rect l="l" t="t" r="r" b="b"/>
            <a:pathLst>
              <a:path w="185" h="262">
                <a:moveTo>
                  <a:pt x="99" y="17"/>
                </a:moveTo>
                <a:lnTo>
                  <a:pt x="92" y="25"/>
                </a:lnTo>
                <a:lnTo>
                  <a:pt x="89" y="37"/>
                </a:lnTo>
                <a:lnTo>
                  <a:pt x="89" y="67"/>
                </a:lnTo>
                <a:lnTo>
                  <a:pt x="82" y="70"/>
                </a:lnTo>
                <a:lnTo>
                  <a:pt x="77" y="67"/>
                </a:lnTo>
                <a:lnTo>
                  <a:pt x="60" y="35"/>
                </a:lnTo>
                <a:lnTo>
                  <a:pt x="45" y="10"/>
                </a:lnTo>
                <a:lnTo>
                  <a:pt x="34" y="0"/>
                </a:lnTo>
                <a:lnTo>
                  <a:pt x="31" y="3"/>
                </a:lnTo>
                <a:lnTo>
                  <a:pt x="28" y="20"/>
                </a:lnTo>
                <a:lnTo>
                  <a:pt x="30" y="31"/>
                </a:lnTo>
                <a:lnTo>
                  <a:pt x="30" y="46"/>
                </a:lnTo>
                <a:lnTo>
                  <a:pt x="25" y="57"/>
                </a:lnTo>
                <a:lnTo>
                  <a:pt x="17" y="64"/>
                </a:lnTo>
                <a:lnTo>
                  <a:pt x="11" y="74"/>
                </a:lnTo>
                <a:lnTo>
                  <a:pt x="17" y="99"/>
                </a:lnTo>
                <a:lnTo>
                  <a:pt x="10" y="105"/>
                </a:lnTo>
                <a:lnTo>
                  <a:pt x="3" y="117"/>
                </a:lnTo>
                <a:lnTo>
                  <a:pt x="0" y="130"/>
                </a:lnTo>
                <a:lnTo>
                  <a:pt x="4" y="137"/>
                </a:lnTo>
                <a:lnTo>
                  <a:pt x="10" y="147"/>
                </a:lnTo>
                <a:lnTo>
                  <a:pt x="10" y="167"/>
                </a:lnTo>
                <a:lnTo>
                  <a:pt x="42" y="176"/>
                </a:lnTo>
                <a:lnTo>
                  <a:pt x="78" y="181"/>
                </a:lnTo>
                <a:lnTo>
                  <a:pt x="82" y="190"/>
                </a:lnTo>
                <a:lnTo>
                  <a:pt x="81" y="197"/>
                </a:lnTo>
                <a:lnTo>
                  <a:pt x="66" y="212"/>
                </a:lnTo>
                <a:lnTo>
                  <a:pt x="50" y="216"/>
                </a:lnTo>
                <a:lnTo>
                  <a:pt x="41" y="211"/>
                </a:lnTo>
                <a:lnTo>
                  <a:pt x="35" y="224"/>
                </a:lnTo>
                <a:lnTo>
                  <a:pt x="35" y="234"/>
                </a:lnTo>
                <a:lnTo>
                  <a:pt x="41" y="250"/>
                </a:lnTo>
                <a:lnTo>
                  <a:pt x="48" y="257"/>
                </a:lnTo>
                <a:lnTo>
                  <a:pt x="56" y="262"/>
                </a:lnTo>
                <a:lnTo>
                  <a:pt x="60" y="261"/>
                </a:lnTo>
                <a:lnTo>
                  <a:pt x="73" y="245"/>
                </a:lnTo>
                <a:lnTo>
                  <a:pt x="80" y="241"/>
                </a:lnTo>
                <a:lnTo>
                  <a:pt x="92" y="241"/>
                </a:lnTo>
                <a:lnTo>
                  <a:pt x="101" y="241"/>
                </a:lnTo>
                <a:lnTo>
                  <a:pt x="112" y="237"/>
                </a:lnTo>
                <a:lnTo>
                  <a:pt x="114" y="226"/>
                </a:lnTo>
                <a:lnTo>
                  <a:pt x="121" y="212"/>
                </a:lnTo>
                <a:lnTo>
                  <a:pt x="138" y="206"/>
                </a:lnTo>
                <a:lnTo>
                  <a:pt x="159" y="206"/>
                </a:lnTo>
                <a:lnTo>
                  <a:pt x="172" y="213"/>
                </a:lnTo>
                <a:lnTo>
                  <a:pt x="178" y="213"/>
                </a:lnTo>
                <a:lnTo>
                  <a:pt x="185" y="206"/>
                </a:lnTo>
                <a:lnTo>
                  <a:pt x="181" y="190"/>
                </a:lnTo>
                <a:lnTo>
                  <a:pt x="173" y="176"/>
                </a:lnTo>
                <a:lnTo>
                  <a:pt x="172" y="155"/>
                </a:lnTo>
                <a:lnTo>
                  <a:pt x="178" y="137"/>
                </a:lnTo>
                <a:lnTo>
                  <a:pt x="181" y="119"/>
                </a:lnTo>
                <a:lnTo>
                  <a:pt x="183" y="95"/>
                </a:lnTo>
                <a:lnTo>
                  <a:pt x="163" y="94"/>
                </a:lnTo>
                <a:lnTo>
                  <a:pt x="140" y="98"/>
                </a:lnTo>
                <a:lnTo>
                  <a:pt x="127" y="91"/>
                </a:lnTo>
                <a:lnTo>
                  <a:pt x="121" y="78"/>
                </a:lnTo>
                <a:lnTo>
                  <a:pt x="123" y="59"/>
                </a:lnTo>
                <a:lnTo>
                  <a:pt x="121" y="37"/>
                </a:lnTo>
                <a:lnTo>
                  <a:pt x="114" y="23"/>
                </a:lnTo>
                <a:lnTo>
                  <a:pt x="99" y="17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65840" y="3076560"/>
            <a:ext cx="49320" cy="111240"/>
          </a:xfrm>
          <a:custGeom>
            <a:avLst/>
            <a:gdLst/>
            <a:ahLst/>
            <a:rect l="l" t="t" r="r" b="b"/>
            <a:pathLst>
              <a:path w="89" h="211">
                <a:moveTo>
                  <a:pt x="89" y="47"/>
                </a:moveTo>
                <a:lnTo>
                  <a:pt x="86" y="64"/>
                </a:lnTo>
                <a:lnTo>
                  <a:pt x="88" y="75"/>
                </a:lnTo>
                <a:lnTo>
                  <a:pt x="88" y="90"/>
                </a:lnTo>
                <a:lnTo>
                  <a:pt x="83" y="101"/>
                </a:lnTo>
                <a:lnTo>
                  <a:pt x="75" y="108"/>
                </a:lnTo>
                <a:lnTo>
                  <a:pt x="69" y="118"/>
                </a:lnTo>
                <a:lnTo>
                  <a:pt x="75" y="143"/>
                </a:lnTo>
                <a:lnTo>
                  <a:pt x="68" y="149"/>
                </a:lnTo>
                <a:lnTo>
                  <a:pt x="61" y="161"/>
                </a:lnTo>
                <a:lnTo>
                  <a:pt x="58" y="174"/>
                </a:lnTo>
                <a:lnTo>
                  <a:pt x="62" y="181"/>
                </a:lnTo>
                <a:lnTo>
                  <a:pt x="68" y="191"/>
                </a:lnTo>
                <a:lnTo>
                  <a:pt x="68" y="211"/>
                </a:lnTo>
                <a:lnTo>
                  <a:pt x="44" y="195"/>
                </a:lnTo>
                <a:lnTo>
                  <a:pt x="26" y="172"/>
                </a:lnTo>
                <a:lnTo>
                  <a:pt x="22" y="147"/>
                </a:lnTo>
                <a:lnTo>
                  <a:pt x="26" y="114"/>
                </a:lnTo>
                <a:lnTo>
                  <a:pt x="22" y="90"/>
                </a:lnTo>
                <a:lnTo>
                  <a:pt x="1" y="68"/>
                </a:lnTo>
                <a:lnTo>
                  <a:pt x="0" y="53"/>
                </a:lnTo>
                <a:lnTo>
                  <a:pt x="5" y="44"/>
                </a:lnTo>
                <a:lnTo>
                  <a:pt x="11" y="30"/>
                </a:lnTo>
                <a:lnTo>
                  <a:pt x="19" y="22"/>
                </a:lnTo>
                <a:lnTo>
                  <a:pt x="30" y="0"/>
                </a:lnTo>
                <a:lnTo>
                  <a:pt x="60" y="22"/>
                </a:lnTo>
                <a:lnTo>
                  <a:pt x="89" y="47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53240" y="2973240"/>
            <a:ext cx="102960" cy="163800"/>
          </a:xfrm>
          <a:custGeom>
            <a:avLst/>
            <a:gdLst/>
            <a:ahLst/>
            <a:rect l="l" t="t" r="r" b="b"/>
            <a:pathLst>
              <a:path w="179" h="308">
                <a:moveTo>
                  <a:pt x="177" y="255"/>
                </a:moveTo>
                <a:lnTo>
                  <a:pt x="170" y="263"/>
                </a:lnTo>
                <a:lnTo>
                  <a:pt x="167" y="275"/>
                </a:lnTo>
                <a:lnTo>
                  <a:pt x="167" y="305"/>
                </a:lnTo>
                <a:lnTo>
                  <a:pt x="160" y="308"/>
                </a:lnTo>
                <a:lnTo>
                  <a:pt x="155" y="305"/>
                </a:lnTo>
                <a:lnTo>
                  <a:pt x="138" y="273"/>
                </a:lnTo>
                <a:lnTo>
                  <a:pt x="123" y="248"/>
                </a:lnTo>
                <a:lnTo>
                  <a:pt x="112" y="238"/>
                </a:lnTo>
                <a:lnTo>
                  <a:pt x="109" y="241"/>
                </a:lnTo>
                <a:lnTo>
                  <a:pt x="84" y="220"/>
                </a:lnTo>
                <a:lnTo>
                  <a:pt x="69" y="208"/>
                </a:lnTo>
                <a:lnTo>
                  <a:pt x="49" y="194"/>
                </a:lnTo>
                <a:lnTo>
                  <a:pt x="46" y="173"/>
                </a:lnTo>
                <a:lnTo>
                  <a:pt x="32" y="153"/>
                </a:lnTo>
                <a:lnTo>
                  <a:pt x="9" y="137"/>
                </a:lnTo>
                <a:lnTo>
                  <a:pt x="0" y="117"/>
                </a:lnTo>
                <a:lnTo>
                  <a:pt x="9" y="114"/>
                </a:lnTo>
                <a:lnTo>
                  <a:pt x="23" y="112"/>
                </a:lnTo>
                <a:lnTo>
                  <a:pt x="34" y="103"/>
                </a:lnTo>
                <a:lnTo>
                  <a:pt x="42" y="88"/>
                </a:lnTo>
                <a:lnTo>
                  <a:pt x="50" y="73"/>
                </a:lnTo>
                <a:lnTo>
                  <a:pt x="52" y="57"/>
                </a:lnTo>
                <a:lnTo>
                  <a:pt x="50" y="35"/>
                </a:lnTo>
                <a:lnTo>
                  <a:pt x="46" y="13"/>
                </a:lnTo>
                <a:lnTo>
                  <a:pt x="42" y="0"/>
                </a:lnTo>
                <a:lnTo>
                  <a:pt x="52" y="0"/>
                </a:lnTo>
                <a:lnTo>
                  <a:pt x="62" y="9"/>
                </a:lnTo>
                <a:lnTo>
                  <a:pt x="69" y="18"/>
                </a:lnTo>
                <a:lnTo>
                  <a:pt x="74" y="31"/>
                </a:lnTo>
                <a:lnTo>
                  <a:pt x="81" y="64"/>
                </a:lnTo>
                <a:lnTo>
                  <a:pt x="87" y="74"/>
                </a:lnTo>
                <a:lnTo>
                  <a:pt x="92" y="82"/>
                </a:lnTo>
                <a:lnTo>
                  <a:pt x="98" y="88"/>
                </a:lnTo>
                <a:lnTo>
                  <a:pt x="108" y="96"/>
                </a:lnTo>
                <a:lnTo>
                  <a:pt x="117" y="108"/>
                </a:lnTo>
                <a:lnTo>
                  <a:pt x="123" y="119"/>
                </a:lnTo>
                <a:lnTo>
                  <a:pt x="127" y="138"/>
                </a:lnTo>
                <a:lnTo>
                  <a:pt x="128" y="149"/>
                </a:lnTo>
                <a:lnTo>
                  <a:pt x="137" y="158"/>
                </a:lnTo>
                <a:lnTo>
                  <a:pt x="144" y="163"/>
                </a:lnTo>
                <a:lnTo>
                  <a:pt x="159" y="170"/>
                </a:lnTo>
                <a:lnTo>
                  <a:pt x="166" y="177"/>
                </a:lnTo>
                <a:lnTo>
                  <a:pt x="174" y="190"/>
                </a:lnTo>
                <a:lnTo>
                  <a:pt x="179" y="201"/>
                </a:lnTo>
                <a:lnTo>
                  <a:pt x="177" y="212"/>
                </a:lnTo>
                <a:lnTo>
                  <a:pt x="170" y="230"/>
                </a:lnTo>
                <a:lnTo>
                  <a:pt x="177" y="255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48480" y="2529000"/>
            <a:ext cx="272880" cy="339480"/>
          </a:xfrm>
          <a:custGeom>
            <a:avLst/>
            <a:gdLst/>
            <a:ahLst/>
            <a:rect l="l" t="t" r="r" b="b"/>
            <a:pathLst>
              <a:path w="476" h="640">
                <a:moveTo>
                  <a:pt x="235" y="0"/>
                </a:moveTo>
                <a:lnTo>
                  <a:pt x="213" y="3"/>
                </a:lnTo>
                <a:lnTo>
                  <a:pt x="201" y="10"/>
                </a:lnTo>
                <a:lnTo>
                  <a:pt x="182" y="36"/>
                </a:lnTo>
                <a:lnTo>
                  <a:pt x="153" y="53"/>
                </a:lnTo>
                <a:lnTo>
                  <a:pt x="143" y="37"/>
                </a:lnTo>
                <a:lnTo>
                  <a:pt x="119" y="29"/>
                </a:lnTo>
                <a:lnTo>
                  <a:pt x="84" y="31"/>
                </a:lnTo>
                <a:lnTo>
                  <a:pt x="44" y="36"/>
                </a:lnTo>
                <a:lnTo>
                  <a:pt x="12" y="39"/>
                </a:lnTo>
                <a:lnTo>
                  <a:pt x="1" y="49"/>
                </a:lnTo>
                <a:lnTo>
                  <a:pt x="0" y="56"/>
                </a:lnTo>
                <a:lnTo>
                  <a:pt x="1" y="72"/>
                </a:lnTo>
                <a:lnTo>
                  <a:pt x="18" y="90"/>
                </a:lnTo>
                <a:lnTo>
                  <a:pt x="32" y="100"/>
                </a:lnTo>
                <a:lnTo>
                  <a:pt x="34" y="128"/>
                </a:lnTo>
                <a:lnTo>
                  <a:pt x="32" y="138"/>
                </a:lnTo>
                <a:lnTo>
                  <a:pt x="41" y="142"/>
                </a:lnTo>
                <a:lnTo>
                  <a:pt x="48" y="157"/>
                </a:lnTo>
                <a:lnTo>
                  <a:pt x="51" y="175"/>
                </a:lnTo>
                <a:lnTo>
                  <a:pt x="68" y="191"/>
                </a:lnTo>
                <a:lnTo>
                  <a:pt x="84" y="202"/>
                </a:lnTo>
                <a:lnTo>
                  <a:pt x="107" y="211"/>
                </a:lnTo>
                <a:lnTo>
                  <a:pt x="126" y="230"/>
                </a:lnTo>
                <a:lnTo>
                  <a:pt x="133" y="250"/>
                </a:lnTo>
                <a:lnTo>
                  <a:pt x="136" y="274"/>
                </a:lnTo>
                <a:lnTo>
                  <a:pt x="133" y="296"/>
                </a:lnTo>
                <a:lnTo>
                  <a:pt x="123" y="312"/>
                </a:lnTo>
                <a:lnTo>
                  <a:pt x="117" y="323"/>
                </a:lnTo>
                <a:lnTo>
                  <a:pt x="107" y="326"/>
                </a:lnTo>
                <a:lnTo>
                  <a:pt x="100" y="342"/>
                </a:lnTo>
                <a:lnTo>
                  <a:pt x="97" y="365"/>
                </a:lnTo>
                <a:lnTo>
                  <a:pt x="93" y="372"/>
                </a:lnTo>
                <a:lnTo>
                  <a:pt x="84" y="383"/>
                </a:lnTo>
                <a:lnTo>
                  <a:pt x="72" y="381"/>
                </a:lnTo>
                <a:lnTo>
                  <a:pt x="65" y="374"/>
                </a:lnTo>
                <a:lnTo>
                  <a:pt x="61" y="366"/>
                </a:lnTo>
                <a:lnTo>
                  <a:pt x="39" y="365"/>
                </a:lnTo>
                <a:lnTo>
                  <a:pt x="25" y="367"/>
                </a:lnTo>
                <a:lnTo>
                  <a:pt x="8" y="362"/>
                </a:lnTo>
                <a:lnTo>
                  <a:pt x="1" y="355"/>
                </a:lnTo>
                <a:lnTo>
                  <a:pt x="0" y="365"/>
                </a:lnTo>
                <a:lnTo>
                  <a:pt x="0" y="379"/>
                </a:lnTo>
                <a:lnTo>
                  <a:pt x="8" y="408"/>
                </a:lnTo>
                <a:lnTo>
                  <a:pt x="19" y="423"/>
                </a:lnTo>
                <a:lnTo>
                  <a:pt x="27" y="424"/>
                </a:lnTo>
                <a:lnTo>
                  <a:pt x="36" y="418"/>
                </a:lnTo>
                <a:lnTo>
                  <a:pt x="41" y="412"/>
                </a:lnTo>
                <a:lnTo>
                  <a:pt x="46" y="408"/>
                </a:lnTo>
                <a:lnTo>
                  <a:pt x="51" y="413"/>
                </a:lnTo>
                <a:lnTo>
                  <a:pt x="61" y="418"/>
                </a:lnTo>
                <a:lnTo>
                  <a:pt x="97" y="418"/>
                </a:lnTo>
                <a:lnTo>
                  <a:pt x="114" y="420"/>
                </a:lnTo>
                <a:lnTo>
                  <a:pt x="123" y="429"/>
                </a:lnTo>
                <a:lnTo>
                  <a:pt x="128" y="454"/>
                </a:lnTo>
                <a:lnTo>
                  <a:pt x="110" y="458"/>
                </a:lnTo>
                <a:lnTo>
                  <a:pt x="130" y="500"/>
                </a:lnTo>
                <a:lnTo>
                  <a:pt x="139" y="516"/>
                </a:lnTo>
                <a:lnTo>
                  <a:pt x="136" y="526"/>
                </a:lnTo>
                <a:lnTo>
                  <a:pt x="122" y="526"/>
                </a:lnTo>
                <a:lnTo>
                  <a:pt x="107" y="515"/>
                </a:lnTo>
                <a:lnTo>
                  <a:pt x="93" y="515"/>
                </a:lnTo>
                <a:lnTo>
                  <a:pt x="90" y="526"/>
                </a:lnTo>
                <a:lnTo>
                  <a:pt x="103" y="541"/>
                </a:lnTo>
                <a:lnTo>
                  <a:pt x="104" y="562"/>
                </a:lnTo>
                <a:lnTo>
                  <a:pt x="97" y="569"/>
                </a:lnTo>
                <a:lnTo>
                  <a:pt x="80" y="568"/>
                </a:lnTo>
                <a:lnTo>
                  <a:pt x="75" y="582"/>
                </a:lnTo>
                <a:lnTo>
                  <a:pt x="87" y="594"/>
                </a:lnTo>
                <a:lnTo>
                  <a:pt x="107" y="610"/>
                </a:lnTo>
                <a:lnTo>
                  <a:pt x="143" y="624"/>
                </a:lnTo>
                <a:lnTo>
                  <a:pt x="176" y="632"/>
                </a:lnTo>
                <a:lnTo>
                  <a:pt x="193" y="640"/>
                </a:lnTo>
                <a:lnTo>
                  <a:pt x="201" y="629"/>
                </a:lnTo>
                <a:lnTo>
                  <a:pt x="192" y="621"/>
                </a:lnTo>
                <a:lnTo>
                  <a:pt x="162" y="611"/>
                </a:lnTo>
                <a:lnTo>
                  <a:pt x="157" y="603"/>
                </a:lnTo>
                <a:lnTo>
                  <a:pt x="155" y="583"/>
                </a:lnTo>
                <a:lnTo>
                  <a:pt x="162" y="562"/>
                </a:lnTo>
                <a:lnTo>
                  <a:pt x="162" y="553"/>
                </a:lnTo>
                <a:lnTo>
                  <a:pt x="160" y="536"/>
                </a:lnTo>
                <a:lnTo>
                  <a:pt x="162" y="523"/>
                </a:lnTo>
                <a:lnTo>
                  <a:pt x="179" y="544"/>
                </a:lnTo>
                <a:lnTo>
                  <a:pt x="183" y="553"/>
                </a:lnTo>
                <a:lnTo>
                  <a:pt x="196" y="560"/>
                </a:lnTo>
                <a:lnTo>
                  <a:pt x="220" y="565"/>
                </a:lnTo>
                <a:lnTo>
                  <a:pt x="231" y="569"/>
                </a:lnTo>
                <a:lnTo>
                  <a:pt x="249" y="585"/>
                </a:lnTo>
                <a:lnTo>
                  <a:pt x="264" y="592"/>
                </a:lnTo>
                <a:lnTo>
                  <a:pt x="281" y="593"/>
                </a:lnTo>
                <a:lnTo>
                  <a:pt x="304" y="598"/>
                </a:lnTo>
                <a:lnTo>
                  <a:pt x="332" y="611"/>
                </a:lnTo>
                <a:lnTo>
                  <a:pt x="341" y="604"/>
                </a:lnTo>
                <a:lnTo>
                  <a:pt x="360" y="600"/>
                </a:lnTo>
                <a:lnTo>
                  <a:pt x="373" y="605"/>
                </a:lnTo>
                <a:lnTo>
                  <a:pt x="388" y="628"/>
                </a:lnTo>
                <a:lnTo>
                  <a:pt x="402" y="632"/>
                </a:lnTo>
                <a:lnTo>
                  <a:pt x="416" y="629"/>
                </a:lnTo>
                <a:lnTo>
                  <a:pt x="431" y="618"/>
                </a:lnTo>
                <a:lnTo>
                  <a:pt x="442" y="598"/>
                </a:lnTo>
                <a:lnTo>
                  <a:pt x="452" y="585"/>
                </a:lnTo>
                <a:lnTo>
                  <a:pt x="469" y="579"/>
                </a:lnTo>
                <a:lnTo>
                  <a:pt x="476" y="566"/>
                </a:lnTo>
                <a:lnTo>
                  <a:pt x="472" y="548"/>
                </a:lnTo>
                <a:lnTo>
                  <a:pt x="467" y="536"/>
                </a:lnTo>
                <a:lnTo>
                  <a:pt x="465" y="495"/>
                </a:lnTo>
                <a:lnTo>
                  <a:pt x="460" y="475"/>
                </a:lnTo>
                <a:lnTo>
                  <a:pt x="451" y="456"/>
                </a:lnTo>
                <a:lnTo>
                  <a:pt x="439" y="441"/>
                </a:lnTo>
                <a:lnTo>
                  <a:pt x="423" y="431"/>
                </a:lnTo>
                <a:lnTo>
                  <a:pt x="416" y="422"/>
                </a:lnTo>
                <a:lnTo>
                  <a:pt x="416" y="404"/>
                </a:lnTo>
                <a:lnTo>
                  <a:pt x="426" y="391"/>
                </a:lnTo>
                <a:lnTo>
                  <a:pt x="439" y="384"/>
                </a:lnTo>
                <a:lnTo>
                  <a:pt x="431" y="365"/>
                </a:lnTo>
                <a:lnTo>
                  <a:pt x="434" y="320"/>
                </a:lnTo>
                <a:lnTo>
                  <a:pt x="449" y="309"/>
                </a:lnTo>
                <a:lnTo>
                  <a:pt x="455" y="289"/>
                </a:lnTo>
                <a:lnTo>
                  <a:pt x="451" y="266"/>
                </a:lnTo>
                <a:lnTo>
                  <a:pt x="445" y="256"/>
                </a:lnTo>
                <a:lnTo>
                  <a:pt x="434" y="246"/>
                </a:lnTo>
                <a:lnTo>
                  <a:pt x="416" y="234"/>
                </a:lnTo>
                <a:lnTo>
                  <a:pt x="402" y="230"/>
                </a:lnTo>
                <a:lnTo>
                  <a:pt x="392" y="228"/>
                </a:lnTo>
                <a:lnTo>
                  <a:pt x="382" y="221"/>
                </a:lnTo>
                <a:lnTo>
                  <a:pt x="377" y="210"/>
                </a:lnTo>
                <a:lnTo>
                  <a:pt x="367" y="199"/>
                </a:lnTo>
                <a:lnTo>
                  <a:pt x="363" y="196"/>
                </a:lnTo>
                <a:lnTo>
                  <a:pt x="355" y="198"/>
                </a:lnTo>
                <a:lnTo>
                  <a:pt x="352" y="209"/>
                </a:lnTo>
                <a:lnTo>
                  <a:pt x="348" y="214"/>
                </a:lnTo>
                <a:lnTo>
                  <a:pt x="346" y="217"/>
                </a:lnTo>
                <a:lnTo>
                  <a:pt x="341" y="214"/>
                </a:lnTo>
                <a:lnTo>
                  <a:pt x="334" y="205"/>
                </a:lnTo>
                <a:lnTo>
                  <a:pt x="321" y="181"/>
                </a:lnTo>
                <a:lnTo>
                  <a:pt x="300" y="145"/>
                </a:lnTo>
                <a:lnTo>
                  <a:pt x="285" y="111"/>
                </a:lnTo>
                <a:lnTo>
                  <a:pt x="277" y="81"/>
                </a:lnTo>
                <a:lnTo>
                  <a:pt x="271" y="57"/>
                </a:lnTo>
                <a:lnTo>
                  <a:pt x="261" y="40"/>
                </a:lnTo>
                <a:lnTo>
                  <a:pt x="252" y="26"/>
                </a:lnTo>
                <a:lnTo>
                  <a:pt x="235" y="0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748480" y="2639880"/>
            <a:ext cx="77760" cy="92160"/>
          </a:xfrm>
          <a:custGeom>
            <a:avLst/>
            <a:gdLst/>
            <a:ahLst/>
            <a:rect l="l" t="t" r="r" b="b"/>
            <a:pathLst>
              <a:path w="135" h="174">
                <a:moveTo>
                  <a:pt x="102" y="0"/>
                </a:moveTo>
                <a:lnTo>
                  <a:pt x="114" y="9"/>
                </a:lnTo>
                <a:lnTo>
                  <a:pt x="125" y="21"/>
                </a:lnTo>
                <a:lnTo>
                  <a:pt x="131" y="36"/>
                </a:lnTo>
                <a:lnTo>
                  <a:pt x="134" y="54"/>
                </a:lnTo>
                <a:lnTo>
                  <a:pt x="135" y="69"/>
                </a:lnTo>
                <a:lnTo>
                  <a:pt x="131" y="90"/>
                </a:lnTo>
                <a:lnTo>
                  <a:pt x="124" y="101"/>
                </a:lnTo>
                <a:lnTo>
                  <a:pt x="116" y="114"/>
                </a:lnTo>
                <a:lnTo>
                  <a:pt x="104" y="118"/>
                </a:lnTo>
                <a:lnTo>
                  <a:pt x="99" y="133"/>
                </a:lnTo>
                <a:lnTo>
                  <a:pt x="96" y="154"/>
                </a:lnTo>
                <a:lnTo>
                  <a:pt x="90" y="168"/>
                </a:lnTo>
                <a:lnTo>
                  <a:pt x="82" y="174"/>
                </a:lnTo>
                <a:lnTo>
                  <a:pt x="75" y="174"/>
                </a:lnTo>
                <a:lnTo>
                  <a:pt x="64" y="168"/>
                </a:lnTo>
                <a:lnTo>
                  <a:pt x="60" y="158"/>
                </a:lnTo>
                <a:lnTo>
                  <a:pt x="58" y="157"/>
                </a:lnTo>
                <a:lnTo>
                  <a:pt x="56" y="157"/>
                </a:lnTo>
                <a:lnTo>
                  <a:pt x="32" y="157"/>
                </a:lnTo>
                <a:lnTo>
                  <a:pt x="22" y="160"/>
                </a:lnTo>
                <a:lnTo>
                  <a:pt x="12" y="157"/>
                </a:lnTo>
                <a:lnTo>
                  <a:pt x="0" y="147"/>
                </a:lnTo>
                <a:lnTo>
                  <a:pt x="0" y="142"/>
                </a:lnTo>
                <a:lnTo>
                  <a:pt x="4" y="133"/>
                </a:lnTo>
                <a:lnTo>
                  <a:pt x="33" y="115"/>
                </a:lnTo>
                <a:lnTo>
                  <a:pt x="63" y="94"/>
                </a:lnTo>
                <a:lnTo>
                  <a:pt x="75" y="80"/>
                </a:lnTo>
                <a:lnTo>
                  <a:pt x="83" y="46"/>
                </a:lnTo>
                <a:lnTo>
                  <a:pt x="92" y="22"/>
                </a:lnTo>
                <a:lnTo>
                  <a:pt x="102" y="0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80240" y="2496960"/>
            <a:ext cx="185760" cy="155880"/>
          </a:xfrm>
          <a:custGeom>
            <a:avLst/>
            <a:gdLst/>
            <a:ahLst/>
            <a:rect l="l" t="t" r="r" b="b"/>
            <a:pathLst>
              <a:path w="324" h="294">
                <a:moveTo>
                  <a:pt x="0" y="60"/>
                </a:moveTo>
                <a:lnTo>
                  <a:pt x="18" y="86"/>
                </a:lnTo>
                <a:lnTo>
                  <a:pt x="25" y="93"/>
                </a:lnTo>
                <a:lnTo>
                  <a:pt x="33" y="107"/>
                </a:lnTo>
                <a:lnTo>
                  <a:pt x="39" y="120"/>
                </a:lnTo>
                <a:lnTo>
                  <a:pt x="46" y="148"/>
                </a:lnTo>
                <a:lnTo>
                  <a:pt x="52" y="168"/>
                </a:lnTo>
                <a:lnTo>
                  <a:pt x="67" y="205"/>
                </a:lnTo>
                <a:lnTo>
                  <a:pt x="79" y="224"/>
                </a:lnTo>
                <a:lnTo>
                  <a:pt x="92" y="248"/>
                </a:lnTo>
                <a:lnTo>
                  <a:pt x="102" y="265"/>
                </a:lnTo>
                <a:lnTo>
                  <a:pt x="104" y="273"/>
                </a:lnTo>
                <a:lnTo>
                  <a:pt x="110" y="277"/>
                </a:lnTo>
                <a:lnTo>
                  <a:pt x="116" y="278"/>
                </a:lnTo>
                <a:lnTo>
                  <a:pt x="118" y="273"/>
                </a:lnTo>
                <a:lnTo>
                  <a:pt x="121" y="267"/>
                </a:lnTo>
                <a:lnTo>
                  <a:pt x="124" y="259"/>
                </a:lnTo>
                <a:lnTo>
                  <a:pt x="127" y="258"/>
                </a:lnTo>
                <a:lnTo>
                  <a:pt x="131" y="258"/>
                </a:lnTo>
                <a:lnTo>
                  <a:pt x="138" y="263"/>
                </a:lnTo>
                <a:lnTo>
                  <a:pt x="143" y="273"/>
                </a:lnTo>
                <a:lnTo>
                  <a:pt x="149" y="281"/>
                </a:lnTo>
                <a:lnTo>
                  <a:pt x="159" y="288"/>
                </a:lnTo>
                <a:lnTo>
                  <a:pt x="171" y="292"/>
                </a:lnTo>
                <a:lnTo>
                  <a:pt x="180" y="294"/>
                </a:lnTo>
                <a:lnTo>
                  <a:pt x="187" y="287"/>
                </a:lnTo>
                <a:lnTo>
                  <a:pt x="191" y="278"/>
                </a:lnTo>
                <a:lnTo>
                  <a:pt x="199" y="274"/>
                </a:lnTo>
                <a:lnTo>
                  <a:pt x="205" y="273"/>
                </a:lnTo>
                <a:lnTo>
                  <a:pt x="210" y="260"/>
                </a:lnTo>
                <a:lnTo>
                  <a:pt x="220" y="253"/>
                </a:lnTo>
                <a:lnTo>
                  <a:pt x="231" y="259"/>
                </a:lnTo>
                <a:lnTo>
                  <a:pt x="237" y="278"/>
                </a:lnTo>
                <a:lnTo>
                  <a:pt x="249" y="288"/>
                </a:lnTo>
                <a:lnTo>
                  <a:pt x="258" y="288"/>
                </a:lnTo>
                <a:lnTo>
                  <a:pt x="270" y="278"/>
                </a:lnTo>
                <a:lnTo>
                  <a:pt x="266" y="255"/>
                </a:lnTo>
                <a:lnTo>
                  <a:pt x="269" y="230"/>
                </a:lnTo>
                <a:lnTo>
                  <a:pt x="291" y="202"/>
                </a:lnTo>
                <a:lnTo>
                  <a:pt x="298" y="171"/>
                </a:lnTo>
                <a:lnTo>
                  <a:pt x="308" y="153"/>
                </a:lnTo>
                <a:lnTo>
                  <a:pt x="323" y="141"/>
                </a:lnTo>
                <a:lnTo>
                  <a:pt x="324" y="120"/>
                </a:lnTo>
                <a:lnTo>
                  <a:pt x="320" y="102"/>
                </a:lnTo>
                <a:lnTo>
                  <a:pt x="320" y="82"/>
                </a:lnTo>
                <a:lnTo>
                  <a:pt x="309" y="53"/>
                </a:lnTo>
                <a:lnTo>
                  <a:pt x="299" y="40"/>
                </a:lnTo>
                <a:lnTo>
                  <a:pt x="291" y="31"/>
                </a:lnTo>
                <a:lnTo>
                  <a:pt x="270" y="22"/>
                </a:lnTo>
                <a:lnTo>
                  <a:pt x="251" y="22"/>
                </a:lnTo>
                <a:lnTo>
                  <a:pt x="237" y="33"/>
                </a:lnTo>
                <a:lnTo>
                  <a:pt x="221" y="36"/>
                </a:lnTo>
                <a:lnTo>
                  <a:pt x="213" y="35"/>
                </a:lnTo>
                <a:lnTo>
                  <a:pt x="203" y="25"/>
                </a:lnTo>
                <a:lnTo>
                  <a:pt x="192" y="24"/>
                </a:lnTo>
                <a:lnTo>
                  <a:pt x="177" y="31"/>
                </a:lnTo>
                <a:lnTo>
                  <a:pt x="167" y="35"/>
                </a:lnTo>
                <a:lnTo>
                  <a:pt x="155" y="36"/>
                </a:lnTo>
                <a:lnTo>
                  <a:pt x="131" y="32"/>
                </a:lnTo>
                <a:lnTo>
                  <a:pt x="120" y="20"/>
                </a:lnTo>
                <a:lnTo>
                  <a:pt x="118" y="10"/>
                </a:lnTo>
                <a:lnTo>
                  <a:pt x="111" y="4"/>
                </a:lnTo>
                <a:lnTo>
                  <a:pt x="100" y="0"/>
                </a:lnTo>
                <a:lnTo>
                  <a:pt x="89" y="6"/>
                </a:lnTo>
                <a:lnTo>
                  <a:pt x="79" y="15"/>
                </a:lnTo>
                <a:lnTo>
                  <a:pt x="75" y="24"/>
                </a:lnTo>
                <a:lnTo>
                  <a:pt x="70" y="31"/>
                </a:lnTo>
                <a:lnTo>
                  <a:pt x="33" y="31"/>
                </a:lnTo>
                <a:lnTo>
                  <a:pt x="21" y="35"/>
                </a:lnTo>
                <a:lnTo>
                  <a:pt x="10" y="45"/>
                </a:lnTo>
                <a:lnTo>
                  <a:pt x="8" y="56"/>
                </a:lnTo>
                <a:lnTo>
                  <a:pt x="0" y="60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924520" y="2413080"/>
            <a:ext cx="49320" cy="61920"/>
          </a:xfrm>
          <a:custGeom>
            <a:avLst/>
            <a:gdLst/>
            <a:ahLst/>
            <a:rect l="l" t="t" r="r" b="b"/>
            <a:pathLst>
              <a:path w="88" h="119">
                <a:moveTo>
                  <a:pt x="1" y="0"/>
                </a:moveTo>
                <a:lnTo>
                  <a:pt x="0" y="27"/>
                </a:lnTo>
                <a:lnTo>
                  <a:pt x="5" y="48"/>
                </a:lnTo>
                <a:lnTo>
                  <a:pt x="21" y="72"/>
                </a:lnTo>
                <a:lnTo>
                  <a:pt x="36" y="91"/>
                </a:lnTo>
                <a:lnTo>
                  <a:pt x="50" y="119"/>
                </a:lnTo>
                <a:lnTo>
                  <a:pt x="60" y="119"/>
                </a:lnTo>
                <a:lnTo>
                  <a:pt x="79" y="116"/>
                </a:lnTo>
                <a:lnTo>
                  <a:pt x="88" y="101"/>
                </a:lnTo>
                <a:lnTo>
                  <a:pt x="85" y="90"/>
                </a:lnTo>
                <a:lnTo>
                  <a:pt x="72" y="80"/>
                </a:lnTo>
                <a:lnTo>
                  <a:pt x="61" y="71"/>
                </a:lnTo>
                <a:lnTo>
                  <a:pt x="60" y="54"/>
                </a:lnTo>
                <a:lnTo>
                  <a:pt x="62" y="36"/>
                </a:lnTo>
                <a:lnTo>
                  <a:pt x="44" y="36"/>
                </a:lnTo>
                <a:lnTo>
                  <a:pt x="32" y="5"/>
                </a:lnTo>
                <a:lnTo>
                  <a:pt x="11" y="1"/>
                </a:lnTo>
                <a:lnTo>
                  <a:pt x="1" y="0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37120" y="2421000"/>
            <a:ext cx="93960" cy="96840"/>
          </a:xfrm>
          <a:custGeom>
            <a:avLst/>
            <a:gdLst/>
            <a:ahLst/>
            <a:rect l="l" t="t" r="r" b="b"/>
            <a:pathLst>
              <a:path w="160" h="184">
                <a:moveTo>
                  <a:pt x="36" y="21"/>
                </a:moveTo>
                <a:lnTo>
                  <a:pt x="33" y="40"/>
                </a:lnTo>
                <a:lnTo>
                  <a:pt x="35" y="56"/>
                </a:lnTo>
                <a:lnTo>
                  <a:pt x="60" y="78"/>
                </a:lnTo>
                <a:lnTo>
                  <a:pt x="61" y="85"/>
                </a:lnTo>
                <a:lnTo>
                  <a:pt x="54" y="100"/>
                </a:lnTo>
                <a:lnTo>
                  <a:pt x="36" y="103"/>
                </a:lnTo>
                <a:lnTo>
                  <a:pt x="25" y="103"/>
                </a:lnTo>
                <a:lnTo>
                  <a:pt x="26" y="118"/>
                </a:lnTo>
                <a:lnTo>
                  <a:pt x="21" y="132"/>
                </a:lnTo>
                <a:lnTo>
                  <a:pt x="0" y="147"/>
                </a:lnTo>
                <a:lnTo>
                  <a:pt x="10" y="149"/>
                </a:lnTo>
                <a:lnTo>
                  <a:pt x="19" y="159"/>
                </a:lnTo>
                <a:lnTo>
                  <a:pt x="21" y="166"/>
                </a:lnTo>
                <a:lnTo>
                  <a:pt x="29" y="179"/>
                </a:lnTo>
                <a:lnTo>
                  <a:pt x="56" y="184"/>
                </a:lnTo>
                <a:lnTo>
                  <a:pt x="70" y="182"/>
                </a:lnTo>
                <a:lnTo>
                  <a:pt x="85" y="175"/>
                </a:lnTo>
                <a:lnTo>
                  <a:pt x="89" y="171"/>
                </a:lnTo>
                <a:lnTo>
                  <a:pt x="96" y="171"/>
                </a:lnTo>
                <a:lnTo>
                  <a:pt x="103" y="171"/>
                </a:lnTo>
                <a:lnTo>
                  <a:pt x="114" y="182"/>
                </a:lnTo>
                <a:lnTo>
                  <a:pt x="121" y="184"/>
                </a:lnTo>
                <a:lnTo>
                  <a:pt x="134" y="182"/>
                </a:lnTo>
                <a:lnTo>
                  <a:pt x="150" y="171"/>
                </a:lnTo>
                <a:lnTo>
                  <a:pt x="160" y="159"/>
                </a:lnTo>
                <a:lnTo>
                  <a:pt x="159" y="139"/>
                </a:lnTo>
                <a:lnTo>
                  <a:pt x="153" y="125"/>
                </a:lnTo>
                <a:lnTo>
                  <a:pt x="152" y="108"/>
                </a:lnTo>
                <a:lnTo>
                  <a:pt x="145" y="103"/>
                </a:lnTo>
                <a:lnTo>
                  <a:pt x="141" y="92"/>
                </a:lnTo>
                <a:lnTo>
                  <a:pt x="132" y="85"/>
                </a:lnTo>
                <a:lnTo>
                  <a:pt x="125" y="81"/>
                </a:lnTo>
                <a:lnTo>
                  <a:pt x="121" y="62"/>
                </a:lnTo>
                <a:lnTo>
                  <a:pt x="113" y="36"/>
                </a:lnTo>
                <a:lnTo>
                  <a:pt x="97" y="15"/>
                </a:lnTo>
                <a:lnTo>
                  <a:pt x="78" y="0"/>
                </a:lnTo>
                <a:lnTo>
                  <a:pt x="63" y="12"/>
                </a:lnTo>
                <a:lnTo>
                  <a:pt x="46" y="18"/>
                </a:lnTo>
                <a:lnTo>
                  <a:pt x="36" y="21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81760" y="2409840"/>
            <a:ext cx="109440" cy="115920"/>
          </a:xfrm>
          <a:custGeom>
            <a:avLst/>
            <a:gdLst/>
            <a:ahLst/>
            <a:rect l="l" t="t" r="r" b="b"/>
            <a:pathLst>
              <a:path w="188" h="219">
                <a:moveTo>
                  <a:pt x="0" y="20"/>
                </a:moveTo>
                <a:lnTo>
                  <a:pt x="24" y="6"/>
                </a:lnTo>
                <a:lnTo>
                  <a:pt x="53" y="0"/>
                </a:lnTo>
                <a:lnTo>
                  <a:pt x="79" y="0"/>
                </a:lnTo>
                <a:lnTo>
                  <a:pt x="92" y="10"/>
                </a:lnTo>
                <a:lnTo>
                  <a:pt x="101" y="21"/>
                </a:lnTo>
                <a:lnTo>
                  <a:pt x="97" y="37"/>
                </a:lnTo>
                <a:lnTo>
                  <a:pt x="83" y="48"/>
                </a:lnTo>
                <a:lnTo>
                  <a:pt x="78" y="64"/>
                </a:lnTo>
                <a:lnTo>
                  <a:pt x="83" y="78"/>
                </a:lnTo>
                <a:lnTo>
                  <a:pt x="99" y="82"/>
                </a:lnTo>
                <a:lnTo>
                  <a:pt x="117" y="78"/>
                </a:lnTo>
                <a:lnTo>
                  <a:pt x="125" y="70"/>
                </a:lnTo>
                <a:lnTo>
                  <a:pt x="132" y="64"/>
                </a:lnTo>
                <a:lnTo>
                  <a:pt x="143" y="59"/>
                </a:lnTo>
                <a:lnTo>
                  <a:pt x="161" y="60"/>
                </a:lnTo>
                <a:lnTo>
                  <a:pt x="168" y="74"/>
                </a:lnTo>
                <a:lnTo>
                  <a:pt x="172" y="95"/>
                </a:lnTo>
                <a:lnTo>
                  <a:pt x="167" y="120"/>
                </a:lnTo>
                <a:lnTo>
                  <a:pt x="172" y="141"/>
                </a:lnTo>
                <a:lnTo>
                  <a:pt x="188" y="156"/>
                </a:lnTo>
                <a:lnTo>
                  <a:pt x="181" y="165"/>
                </a:lnTo>
                <a:lnTo>
                  <a:pt x="171" y="166"/>
                </a:lnTo>
                <a:lnTo>
                  <a:pt x="161" y="180"/>
                </a:lnTo>
                <a:lnTo>
                  <a:pt x="138" y="198"/>
                </a:lnTo>
                <a:lnTo>
                  <a:pt x="132" y="219"/>
                </a:lnTo>
                <a:lnTo>
                  <a:pt x="122" y="208"/>
                </a:lnTo>
                <a:lnTo>
                  <a:pt x="115" y="198"/>
                </a:lnTo>
                <a:lnTo>
                  <a:pt x="96" y="190"/>
                </a:lnTo>
                <a:lnTo>
                  <a:pt x="72" y="190"/>
                </a:lnTo>
                <a:lnTo>
                  <a:pt x="82" y="179"/>
                </a:lnTo>
                <a:lnTo>
                  <a:pt x="81" y="159"/>
                </a:lnTo>
                <a:lnTo>
                  <a:pt x="74" y="145"/>
                </a:lnTo>
                <a:lnTo>
                  <a:pt x="72" y="127"/>
                </a:lnTo>
                <a:lnTo>
                  <a:pt x="65" y="123"/>
                </a:lnTo>
                <a:lnTo>
                  <a:pt x="60" y="110"/>
                </a:lnTo>
                <a:lnTo>
                  <a:pt x="53" y="105"/>
                </a:lnTo>
                <a:lnTo>
                  <a:pt x="46" y="101"/>
                </a:lnTo>
                <a:lnTo>
                  <a:pt x="43" y="84"/>
                </a:lnTo>
                <a:lnTo>
                  <a:pt x="35" y="57"/>
                </a:lnTo>
                <a:lnTo>
                  <a:pt x="21" y="37"/>
                </a:lnTo>
                <a:lnTo>
                  <a:pt x="0" y="20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75360" y="2409840"/>
            <a:ext cx="73080" cy="73080"/>
          </a:xfrm>
          <a:custGeom>
            <a:avLst/>
            <a:gdLst/>
            <a:ahLst/>
            <a:rect l="l" t="t" r="r" b="b"/>
            <a:pathLst>
              <a:path w="128" h="138">
                <a:moveTo>
                  <a:pt x="10" y="138"/>
                </a:moveTo>
                <a:lnTo>
                  <a:pt x="25" y="131"/>
                </a:lnTo>
                <a:lnTo>
                  <a:pt x="32" y="128"/>
                </a:lnTo>
                <a:lnTo>
                  <a:pt x="48" y="133"/>
                </a:lnTo>
                <a:lnTo>
                  <a:pt x="63" y="130"/>
                </a:lnTo>
                <a:lnTo>
                  <a:pt x="78" y="126"/>
                </a:lnTo>
                <a:lnTo>
                  <a:pt x="88" y="115"/>
                </a:lnTo>
                <a:lnTo>
                  <a:pt x="101" y="112"/>
                </a:lnTo>
                <a:lnTo>
                  <a:pt x="112" y="115"/>
                </a:lnTo>
                <a:lnTo>
                  <a:pt x="123" y="112"/>
                </a:lnTo>
                <a:lnTo>
                  <a:pt x="128" y="99"/>
                </a:lnTo>
                <a:lnTo>
                  <a:pt x="123" y="89"/>
                </a:lnTo>
                <a:lnTo>
                  <a:pt x="113" y="82"/>
                </a:lnTo>
                <a:lnTo>
                  <a:pt x="106" y="80"/>
                </a:lnTo>
                <a:lnTo>
                  <a:pt x="103" y="69"/>
                </a:lnTo>
                <a:lnTo>
                  <a:pt x="102" y="56"/>
                </a:lnTo>
                <a:lnTo>
                  <a:pt x="92" y="39"/>
                </a:lnTo>
                <a:lnTo>
                  <a:pt x="80" y="32"/>
                </a:lnTo>
                <a:lnTo>
                  <a:pt x="64" y="21"/>
                </a:lnTo>
                <a:lnTo>
                  <a:pt x="59" y="20"/>
                </a:lnTo>
                <a:lnTo>
                  <a:pt x="55" y="6"/>
                </a:lnTo>
                <a:lnTo>
                  <a:pt x="48" y="2"/>
                </a:lnTo>
                <a:lnTo>
                  <a:pt x="38" y="0"/>
                </a:lnTo>
                <a:lnTo>
                  <a:pt x="32" y="6"/>
                </a:lnTo>
                <a:lnTo>
                  <a:pt x="31" y="21"/>
                </a:lnTo>
                <a:lnTo>
                  <a:pt x="30" y="30"/>
                </a:lnTo>
                <a:lnTo>
                  <a:pt x="21" y="14"/>
                </a:lnTo>
                <a:lnTo>
                  <a:pt x="9" y="12"/>
                </a:lnTo>
                <a:lnTo>
                  <a:pt x="0" y="17"/>
                </a:lnTo>
                <a:lnTo>
                  <a:pt x="2" y="44"/>
                </a:lnTo>
                <a:lnTo>
                  <a:pt x="2" y="56"/>
                </a:lnTo>
                <a:lnTo>
                  <a:pt x="2" y="62"/>
                </a:lnTo>
                <a:lnTo>
                  <a:pt x="6" y="74"/>
                </a:lnTo>
                <a:lnTo>
                  <a:pt x="11" y="96"/>
                </a:lnTo>
                <a:lnTo>
                  <a:pt x="6" y="120"/>
                </a:lnTo>
                <a:lnTo>
                  <a:pt x="10" y="138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6022800" y="2924280"/>
            <a:ext cx="938160" cy="666720"/>
            <a:chOff x="6022800" y="2924280"/>
            <a:chExt cx="938160" cy="666720"/>
          </a:xfrm>
        </p:grpSpPr>
        <p:sp>
          <p:nvSpPr>
            <p:cNvPr id="366" name=""/>
            <p:cNvSpPr/>
            <p:nvPr/>
          </p:nvSpPr>
          <p:spPr>
            <a:xfrm>
              <a:off x="6365520" y="3436920"/>
              <a:ext cx="206280" cy="154080"/>
            </a:xfrm>
            <a:custGeom>
              <a:avLst/>
              <a:gdLst/>
              <a:ahLst/>
              <a:rect l="l" t="t" r="r" b="b"/>
              <a:pathLst>
                <a:path w="362" h="291">
                  <a:moveTo>
                    <a:pt x="55" y="107"/>
                  </a:moveTo>
                  <a:lnTo>
                    <a:pt x="43" y="138"/>
                  </a:lnTo>
                  <a:lnTo>
                    <a:pt x="21" y="159"/>
                  </a:lnTo>
                  <a:lnTo>
                    <a:pt x="0" y="174"/>
                  </a:lnTo>
                  <a:lnTo>
                    <a:pt x="44" y="186"/>
                  </a:lnTo>
                  <a:lnTo>
                    <a:pt x="55" y="193"/>
                  </a:lnTo>
                  <a:lnTo>
                    <a:pt x="72" y="200"/>
                  </a:lnTo>
                  <a:lnTo>
                    <a:pt x="103" y="200"/>
                  </a:lnTo>
                  <a:lnTo>
                    <a:pt x="128" y="188"/>
                  </a:lnTo>
                  <a:lnTo>
                    <a:pt x="146" y="170"/>
                  </a:lnTo>
                  <a:lnTo>
                    <a:pt x="154" y="153"/>
                  </a:lnTo>
                  <a:lnTo>
                    <a:pt x="172" y="149"/>
                  </a:lnTo>
                  <a:lnTo>
                    <a:pt x="195" y="153"/>
                  </a:lnTo>
                  <a:lnTo>
                    <a:pt x="204" y="170"/>
                  </a:lnTo>
                  <a:lnTo>
                    <a:pt x="200" y="195"/>
                  </a:lnTo>
                  <a:lnTo>
                    <a:pt x="186" y="216"/>
                  </a:lnTo>
                  <a:lnTo>
                    <a:pt x="174" y="239"/>
                  </a:lnTo>
                  <a:lnTo>
                    <a:pt x="174" y="260"/>
                  </a:lnTo>
                  <a:lnTo>
                    <a:pt x="181" y="271"/>
                  </a:lnTo>
                  <a:lnTo>
                    <a:pt x="195" y="276"/>
                  </a:lnTo>
                  <a:lnTo>
                    <a:pt x="239" y="260"/>
                  </a:lnTo>
                  <a:lnTo>
                    <a:pt x="275" y="263"/>
                  </a:lnTo>
                  <a:lnTo>
                    <a:pt x="306" y="280"/>
                  </a:lnTo>
                  <a:lnTo>
                    <a:pt x="320" y="287"/>
                  </a:lnTo>
                  <a:lnTo>
                    <a:pt x="342" y="291"/>
                  </a:lnTo>
                  <a:lnTo>
                    <a:pt x="352" y="291"/>
                  </a:lnTo>
                  <a:lnTo>
                    <a:pt x="359" y="278"/>
                  </a:lnTo>
                  <a:lnTo>
                    <a:pt x="355" y="262"/>
                  </a:lnTo>
                  <a:lnTo>
                    <a:pt x="358" y="246"/>
                  </a:lnTo>
                  <a:lnTo>
                    <a:pt x="362" y="238"/>
                  </a:lnTo>
                  <a:lnTo>
                    <a:pt x="355" y="220"/>
                  </a:lnTo>
                  <a:lnTo>
                    <a:pt x="345" y="209"/>
                  </a:lnTo>
                  <a:lnTo>
                    <a:pt x="327" y="189"/>
                  </a:lnTo>
                  <a:lnTo>
                    <a:pt x="323" y="173"/>
                  </a:lnTo>
                  <a:lnTo>
                    <a:pt x="321" y="159"/>
                  </a:lnTo>
                  <a:lnTo>
                    <a:pt x="328" y="146"/>
                  </a:lnTo>
                  <a:lnTo>
                    <a:pt x="305" y="138"/>
                  </a:lnTo>
                  <a:lnTo>
                    <a:pt x="277" y="134"/>
                  </a:lnTo>
                  <a:lnTo>
                    <a:pt x="249" y="132"/>
                  </a:lnTo>
                  <a:lnTo>
                    <a:pt x="231" y="127"/>
                  </a:lnTo>
                  <a:lnTo>
                    <a:pt x="227" y="113"/>
                  </a:lnTo>
                  <a:lnTo>
                    <a:pt x="224" y="102"/>
                  </a:lnTo>
                  <a:lnTo>
                    <a:pt x="214" y="100"/>
                  </a:lnTo>
                  <a:lnTo>
                    <a:pt x="195" y="102"/>
                  </a:lnTo>
                  <a:lnTo>
                    <a:pt x="183" y="97"/>
                  </a:lnTo>
                  <a:lnTo>
                    <a:pt x="165" y="86"/>
                  </a:lnTo>
                  <a:lnTo>
                    <a:pt x="154" y="79"/>
                  </a:lnTo>
                  <a:lnTo>
                    <a:pt x="143" y="70"/>
                  </a:lnTo>
                  <a:lnTo>
                    <a:pt x="143" y="58"/>
                  </a:lnTo>
                  <a:lnTo>
                    <a:pt x="154" y="51"/>
                  </a:lnTo>
                  <a:lnTo>
                    <a:pt x="168" y="56"/>
                  </a:lnTo>
                  <a:lnTo>
                    <a:pt x="179" y="61"/>
                  </a:lnTo>
                  <a:lnTo>
                    <a:pt x="195" y="67"/>
                  </a:lnTo>
                  <a:lnTo>
                    <a:pt x="211" y="63"/>
                  </a:lnTo>
                  <a:lnTo>
                    <a:pt x="222" y="61"/>
                  </a:lnTo>
                  <a:lnTo>
                    <a:pt x="222" y="43"/>
                  </a:lnTo>
                  <a:lnTo>
                    <a:pt x="225" y="31"/>
                  </a:lnTo>
                  <a:lnTo>
                    <a:pt x="231" y="22"/>
                  </a:lnTo>
                  <a:lnTo>
                    <a:pt x="234" y="4"/>
                  </a:lnTo>
                  <a:lnTo>
                    <a:pt x="228" y="0"/>
                  </a:lnTo>
                  <a:lnTo>
                    <a:pt x="217" y="1"/>
                  </a:lnTo>
                  <a:lnTo>
                    <a:pt x="199" y="3"/>
                  </a:lnTo>
                  <a:lnTo>
                    <a:pt x="175" y="0"/>
                  </a:lnTo>
                  <a:lnTo>
                    <a:pt x="160" y="1"/>
                  </a:lnTo>
                  <a:lnTo>
                    <a:pt x="154" y="11"/>
                  </a:lnTo>
                  <a:lnTo>
                    <a:pt x="150" y="18"/>
                  </a:lnTo>
                  <a:lnTo>
                    <a:pt x="145" y="26"/>
                  </a:lnTo>
                  <a:lnTo>
                    <a:pt x="139" y="31"/>
                  </a:lnTo>
                  <a:lnTo>
                    <a:pt x="129" y="31"/>
                  </a:lnTo>
                  <a:lnTo>
                    <a:pt x="117" y="35"/>
                  </a:lnTo>
                  <a:lnTo>
                    <a:pt x="117" y="46"/>
                  </a:lnTo>
                  <a:lnTo>
                    <a:pt x="112" y="53"/>
                  </a:lnTo>
                  <a:lnTo>
                    <a:pt x="107" y="57"/>
                  </a:lnTo>
                  <a:lnTo>
                    <a:pt x="93" y="63"/>
                  </a:lnTo>
                  <a:lnTo>
                    <a:pt x="78" y="51"/>
                  </a:lnTo>
                  <a:lnTo>
                    <a:pt x="67" y="40"/>
                  </a:lnTo>
                  <a:lnTo>
                    <a:pt x="55" y="36"/>
                  </a:lnTo>
                  <a:lnTo>
                    <a:pt x="48" y="38"/>
                  </a:lnTo>
                  <a:lnTo>
                    <a:pt x="43" y="49"/>
                  </a:lnTo>
                  <a:lnTo>
                    <a:pt x="43" y="64"/>
                  </a:lnTo>
                  <a:lnTo>
                    <a:pt x="50" y="78"/>
                  </a:lnTo>
                  <a:lnTo>
                    <a:pt x="51" y="93"/>
                  </a:lnTo>
                  <a:lnTo>
                    <a:pt x="55" y="107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46520" y="3390840"/>
              <a:ext cx="292320" cy="123840"/>
            </a:xfrm>
            <a:custGeom>
              <a:avLst/>
              <a:gdLst/>
              <a:ahLst/>
              <a:rect l="l" t="t" r="r" b="b"/>
              <a:pathLst>
                <a:path w="510" h="232">
                  <a:moveTo>
                    <a:pt x="79" y="147"/>
                  </a:moveTo>
                  <a:lnTo>
                    <a:pt x="91" y="153"/>
                  </a:lnTo>
                  <a:lnTo>
                    <a:pt x="106" y="156"/>
                  </a:lnTo>
                  <a:lnTo>
                    <a:pt x="123" y="153"/>
                  </a:lnTo>
                  <a:lnTo>
                    <a:pt x="157" y="158"/>
                  </a:lnTo>
                  <a:lnTo>
                    <a:pt x="177" y="153"/>
                  </a:lnTo>
                  <a:lnTo>
                    <a:pt x="187" y="146"/>
                  </a:lnTo>
                  <a:lnTo>
                    <a:pt x="187" y="137"/>
                  </a:lnTo>
                  <a:lnTo>
                    <a:pt x="180" y="128"/>
                  </a:lnTo>
                  <a:lnTo>
                    <a:pt x="164" y="117"/>
                  </a:lnTo>
                  <a:lnTo>
                    <a:pt x="153" y="111"/>
                  </a:lnTo>
                  <a:lnTo>
                    <a:pt x="148" y="98"/>
                  </a:lnTo>
                  <a:lnTo>
                    <a:pt x="152" y="87"/>
                  </a:lnTo>
                  <a:lnTo>
                    <a:pt x="148" y="78"/>
                  </a:lnTo>
                  <a:lnTo>
                    <a:pt x="144" y="68"/>
                  </a:lnTo>
                  <a:lnTo>
                    <a:pt x="117" y="62"/>
                  </a:lnTo>
                  <a:lnTo>
                    <a:pt x="99" y="68"/>
                  </a:lnTo>
                  <a:lnTo>
                    <a:pt x="88" y="64"/>
                  </a:lnTo>
                  <a:lnTo>
                    <a:pt x="79" y="60"/>
                  </a:lnTo>
                  <a:lnTo>
                    <a:pt x="73" y="50"/>
                  </a:lnTo>
                  <a:lnTo>
                    <a:pt x="70" y="44"/>
                  </a:lnTo>
                  <a:lnTo>
                    <a:pt x="81" y="39"/>
                  </a:lnTo>
                  <a:lnTo>
                    <a:pt x="99" y="36"/>
                  </a:lnTo>
                  <a:lnTo>
                    <a:pt x="120" y="34"/>
                  </a:lnTo>
                  <a:lnTo>
                    <a:pt x="124" y="29"/>
                  </a:lnTo>
                  <a:lnTo>
                    <a:pt x="124" y="11"/>
                  </a:lnTo>
                  <a:lnTo>
                    <a:pt x="131" y="0"/>
                  </a:lnTo>
                  <a:lnTo>
                    <a:pt x="153" y="0"/>
                  </a:lnTo>
                  <a:lnTo>
                    <a:pt x="180" y="7"/>
                  </a:lnTo>
                  <a:lnTo>
                    <a:pt x="203" y="21"/>
                  </a:lnTo>
                  <a:lnTo>
                    <a:pt x="216" y="34"/>
                  </a:lnTo>
                  <a:lnTo>
                    <a:pt x="230" y="40"/>
                  </a:lnTo>
                  <a:lnTo>
                    <a:pt x="235" y="29"/>
                  </a:lnTo>
                  <a:lnTo>
                    <a:pt x="242" y="19"/>
                  </a:lnTo>
                  <a:lnTo>
                    <a:pt x="252" y="9"/>
                  </a:lnTo>
                  <a:lnTo>
                    <a:pt x="266" y="8"/>
                  </a:lnTo>
                  <a:lnTo>
                    <a:pt x="279" y="11"/>
                  </a:lnTo>
                  <a:lnTo>
                    <a:pt x="291" y="25"/>
                  </a:lnTo>
                  <a:lnTo>
                    <a:pt x="305" y="41"/>
                  </a:lnTo>
                  <a:lnTo>
                    <a:pt x="316" y="50"/>
                  </a:lnTo>
                  <a:lnTo>
                    <a:pt x="333" y="44"/>
                  </a:lnTo>
                  <a:lnTo>
                    <a:pt x="357" y="47"/>
                  </a:lnTo>
                  <a:lnTo>
                    <a:pt x="365" y="58"/>
                  </a:lnTo>
                  <a:lnTo>
                    <a:pt x="416" y="61"/>
                  </a:lnTo>
                  <a:lnTo>
                    <a:pt x="428" y="66"/>
                  </a:lnTo>
                  <a:lnTo>
                    <a:pt x="432" y="78"/>
                  </a:lnTo>
                  <a:lnTo>
                    <a:pt x="448" y="89"/>
                  </a:lnTo>
                  <a:lnTo>
                    <a:pt x="476" y="96"/>
                  </a:lnTo>
                  <a:lnTo>
                    <a:pt x="487" y="93"/>
                  </a:lnTo>
                  <a:lnTo>
                    <a:pt x="499" y="94"/>
                  </a:lnTo>
                  <a:lnTo>
                    <a:pt x="510" y="103"/>
                  </a:lnTo>
                  <a:lnTo>
                    <a:pt x="504" y="126"/>
                  </a:lnTo>
                  <a:lnTo>
                    <a:pt x="504" y="137"/>
                  </a:lnTo>
                  <a:lnTo>
                    <a:pt x="508" y="150"/>
                  </a:lnTo>
                  <a:lnTo>
                    <a:pt x="490" y="157"/>
                  </a:lnTo>
                  <a:lnTo>
                    <a:pt x="464" y="163"/>
                  </a:lnTo>
                  <a:lnTo>
                    <a:pt x="437" y="167"/>
                  </a:lnTo>
                  <a:lnTo>
                    <a:pt x="401" y="178"/>
                  </a:lnTo>
                  <a:lnTo>
                    <a:pt x="375" y="190"/>
                  </a:lnTo>
                  <a:lnTo>
                    <a:pt x="359" y="197"/>
                  </a:lnTo>
                  <a:lnTo>
                    <a:pt x="340" y="210"/>
                  </a:lnTo>
                  <a:lnTo>
                    <a:pt x="320" y="220"/>
                  </a:lnTo>
                  <a:lnTo>
                    <a:pt x="309" y="220"/>
                  </a:lnTo>
                  <a:lnTo>
                    <a:pt x="298" y="210"/>
                  </a:lnTo>
                  <a:lnTo>
                    <a:pt x="291" y="193"/>
                  </a:lnTo>
                  <a:lnTo>
                    <a:pt x="276" y="183"/>
                  </a:lnTo>
                  <a:lnTo>
                    <a:pt x="255" y="188"/>
                  </a:lnTo>
                  <a:lnTo>
                    <a:pt x="233" y="195"/>
                  </a:lnTo>
                  <a:lnTo>
                    <a:pt x="206" y="208"/>
                  </a:lnTo>
                  <a:lnTo>
                    <a:pt x="185" y="232"/>
                  </a:lnTo>
                  <a:lnTo>
                    <a:pt x="167" y="225"/>
                  </a:lnTo>
                  <a:lnTo>
                    <a:pt x="159" y="224"/>
                  </a:lnTo>
                  <a:lnTo>
                    <a:pt x="135" y="220"/>
                  </a:lnTo>
                  <a:lnTo>
                    <a:pt x="106" y="218"/>
                  </a:lnTo>
                  <a:lnTo>
                    <a:pt x="88" y="213"/>
                  </a:lnTo>
                  <a:lnTo>
                    <a:pt x="85" y="200"/>
                  </a:lnTo>
                  <a:lnTo>
                    <a:pt x="79" y="188"/>
                  </a:lnTo>
                  <a:lnTo>
                    <a:pt x="67" y="186"/>
                  </a:lnTo>
                  <a:lnTo>
                    <a:pt x="47" y="188"/>
                  </a:lnTo>
                  <a:lnTo>
                    <a:pt x="28" y="178"/>
                  </a:lnTo>
                  <a:lnTo>
                    <a:pt x="11" y="165"/>
                  </a:lnTo>
                  <a:lnTo>
                    <a:pt x="0" y="154"/>
                  </a:lnTo>
                  <a:lnTo>
                    <a:pt x="0" y="143"/>
                  </a:lnTo>
                  <a:lnTo>
                    <a:pt x="11" y="137"/>
                  </a:lnTo>
                  <a:lnTo>
                    <a:pt x="24" y="140"/>
                  </a:lnTo>
                  <a:lnTo>
                    <a:pt x="38" y="147"/>
                  </a:lnTo>
                  <a:lnTo>
                    <a:pt x="50" y="151"/>
                  </a:lnTo>
                  <a:lnTo>
                    <a:pt x="57" y="151"/>
                  </a:lnTo>
                  <a:lnTo>
                    <a:pt x="67" y="149"/>
                  </a:lnTo>
                  <a:lnTo>
                    <a:pt x="79" y="147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148440" y="3171960"/>
              <a:ext cx="406440" cy="357120"/>
            </a:xfrm>
            <a:custGeom>
              <a:avLst/>
              <a:gdLst/>
              <a:ahLst/>
              <a:rect l="l" t="t" r="r" b="b"/>
              <a:pathLst>
                <a:path w="710" h="674">
                  <a:moveTo>
                    <a:pt x="0" y="182"/>
                  </a:moveTo>
                  <a:lnTo>
                    <a:pt x="44" y="121"/>
                  </a:lnTo>
                  <a:lnTo>
                    <a:pt x="127" y="0"/>
                  </a:lnTo>
                  <a:lnTo>
                    <a:pt x="255" y="30"/>
                  </a:lnTo>
                  <a:lnTo>
                    <a:pt x="294" y="188"/>
                  </a:lnTo>
                  <a:lnTo>
                    <a:pt x="385" y="228"/>
                  </a:lnTo>
                  <a:lnTo>
                    <a:pt x="413" y="238"/>
                  </a:lnTo>
                  <a:lnTo>
                    <a:pt x="418" y="243"/>
                  </a:lnTo>
                  <a:lnTo>
                    <a:pt x="425" y="260"/>
                  </a:lnTo>
                  <a:lnTo>
                    <a:pt x="424" y="284"/>
                  </a:lnTo>
                  <a:lnTo>
                    <a:pt x="422" y="303"/>
                  </a:lnTo>
                  <a:lnTo>
                    <a:pt x="436" y="307"/>
                  </a:lnTo>
                  <a:lnTo>
                    <a:pt x="436" y="321"/>
                  </a:lnTo>
                  <a:lnTo>
                    <a:pt x="443" y="333"/>
                  </a:lnTo>
                  <a:lnTo>
                    <a:pt x="435" y="335"/>
                  </a:lnTo>
                  <a:lnTo>
                    <a:pt x="421" y="333"/>
                  </a:lnTo>
                  <a:lnTo>
                    <a:pt x="413" y="339"/>
                  </a:lnTo>
                  <a:lnTo>
                    <a:pt x="413" y="351"/>
                  </a:lnTo>
                  <a:lnTo>
                    <a:pt x="429" y="367"/>
                  </a:lnTo>
                  <a:lnTo>
                    <a:pt x="432" y="378"/>
                  </a:lnTo>
                  <a:lnTo>
                    <a:pt x="432" y="405"/>
                  </a:lnTo>
                  <a:lnTo>
                    <a:pt x="439" y="424"/>
                  </a:lnTo>
                  <a:lnTo>
                    <a:pt x="457" y="436"/>
                  </a:lnTo>
                  <a:lnTo>
                    <a:pt x="471" y="436"/>
                  </a:lnTo>
                  <a:lnTo>
                    <a:pt x="490" y="451"/>
                  </a:lnTo>
                  <a:lnTo>
                    <a:pt x="513" y="455"/>
                  </a:lnTo>
                  <a:lnTo>
                    <a:pt x="532" y="455"/>
                  </a:lnTo>
                  <a:lnTo>
                    <a:pt x="559" y="441"/>
                  </a:lnTo>
                  <a:lnTo>
                    <a:pt x="581" y="433"/>
                  </a:lnTo>
                  <a:lnTo>
                    <a:pt x="610" y="426"/>
                  </a:lnTo>
                  <a:lnTo>
                    <a:pt x="645" y="426"/>
                  </a:lnTo>
                  <a:lnTo>
                    <a:pt x="645" y="445"/>
                  </a:lnTo>
                  <a:lnTo>
                    <a:pt x="638" y="452"/>
                  </a:lnTo>
                  <a:lnTo>
                    <a:pt x="612" y="452"/>
                  </a:lnTo>
                  <a:lnTo>
                    <a:pt x="594" y="458"/>
                  </a:lnTo>
                  <a:lnTo>
                    <a:pt x="592" y="462"/>
                  </a:lnTo>
                  <a:lnTo>
                    <a:pt x="600" y="475"/>
                  </a:lnTo>
                  <a:lnTo>
                    <a:pt x="619" y="481"/>
                  </a:lnTo>
                  <a:lnTo>
                    <a:pt x="637" y="477"/>
                  </a:lnTo>
                  <a:lnTo>
                    <a:pt x="666" y="481"/>
                  </a:lnTo>
                  <a:lnTo>
                    <a:pt x="674" y="501"/>
                  </a:lnTo>
                  <a:lnTo>
                    <a:pt x="669" y="511"/>
                  </a:lnTo>
                  <a:lnTo>
                    <a:pt x="678" y="526"/>
                  </a:lnTo>
                  <a:lnTo>
                    <a:pt x="691" y="534"/>
                  </a:lnTo>
                  <a:lnTo>
                    <a:pt x="706" y="547"/>
                  </a:lnTo>
                  <a:lnTo>
                    <a:pt x="710" y="558"/>
                  </a:lnTo>
                  <a:lnTo>
                    <a:pt x="698" y="569"/>
                  </a:lnTo>
                  <a:lnTo>
                    <a:pt x="678" y="573"/>
                  </a:lnTo>
                  <a:lnTo>
                    <a:pt x="659" y="572"/>
                  </a:lnTo>
                  <a:lnTo>
                    <a:pt x="638" y="571"/>
                  </a:lnTo>
                  <a:lnTo>
                    <a:pt x="617" y="571"/>
                  </a:lnTo>
                  <a:lnTo>
                    <a:pt x="600" y="562"/>
                  </a:lnTo>
                  <a:lnTo>
                    <a:pt x="600" y="544"/>
                  </a:lnTo>
                  <a:lnTo>
                    <a:pt x="603" y="532"/>
                  </a:lnTo>
                  <a:lnTo>
                    <a:pt x="609" y="522"/>
                  </a:lnTo>
                  <a:lnTo>
                    <a:pt x="610" y="508"/>
                  </a:lnTo>
                  <a:lnTo>
                    <a:pt x="609" y="501"/>
                  </a:lnTo>
                  <a:lnTo>
                    <a:pt x="599" y="502"/>
                  </a:lnTo>
                  <a:lnTo>
                    <a:pt x="584" y="505"/>
                  </a:lnTo>
                  <a:lnTo>
                    <a:pt x="546" y="502"/>
                  </a:lnTo>
                  <a:lnTo>
                    <a:pt x="536" y="507"/>
                  </a:lnTo>
                  <a:lnTo>
                    <a:pt x="528" y="520"/>
                  </a:lnTo>
                  <a:lnTo>
                    <a:pt x="521" y="532"/>
                  </a:lnTo>
                  <a:lnTo>
                    <a:pt x="506" y="533"/>
                  </a:lnTo>
                  <a:lnTo>
                    <a:pt x="496" y="537"/>
                  </a:lnTo>
                  <a:lnTo>
                    <a:pt x="492" y="551"/>
                  </a:lnTo>
                  <a:lnTo>
                    <a:pt x="489" y="559"/>
                  </a:lnTo>
                  <a:lnTo>
                    <a:pt x="474" y="564"/>
                  </a:lnTo>
                  <a:lnTo>
                    <a:pt x="460" y="557"/>
                  </a:lnTo>
                  <a:lnTo>
                    <a:pt x="450" y="550"/>
                  </a:lnTo>
                  <a:lnTo>
                    <a:pt x="443" y="543"/>
                  </a:lnTo>
                  <a:lnTo>
                    <a:pt x="429" y="537"/>
                  </a:lnTo>
                  <a:lnTo>
                    <a:pt x="424" y="543"/>
                  </a:lnTo>
                  <a:lnTo>
                    <a:pt x="421" y="555"/>
                  </a:lnTo>
                  <a:lnTo>
                    <a:pt x="424" y="566"/>
                  </a:lnTo>
                  <a:lnTo>
                    <a:pt x="429" y="580"/>
                  </a:lnTo>
                  <a:lnTo>
                    <a:pt x="431" y="597"/>
                  </a:lnTo>
                  <a:lnTo>
                    <a:pt x="433" y="611"/>
                  </a:lnTo>
                  <a:lnTo>
                    <a:pt x="422" y="637"/>
                  </a:lnTo>
                  <a:lnTo>
                    <a:pt x="413" y="649"/>
                  </a:lnTo>
                  <a:lnTo>
                    <a:pt x="397" y="662"/>
                  </a:lnTo>
                  <a:lnTo>
                    <a:pt x="379" y="674"/>
                  </a:lnTo>
                  <a:lnTo>
                    <a:pt x="361" y="661"/>
                  </a:lnTo>
                  <a:lnTo>
                    <a:pt x="346" y="646"/>
                  </a:lnTo>
                  <a:lnTo>
                    <a:pt x="340" y="628"/>
                  </a:lnTo>
                  <a:lnTo>
                    <a:pt x="344" y="611"/>
                  </a:lnTo>
                  <a:lnTo>
                    <a:pt x="340" y="591"/>
                  </a:lnTo>
                  <a:lnTo>
                    <a:pt x="332" y="580"/>
                  </a:lnTo>
                  <a:lnTo>
                    <a:pt x="305" y="569"/>
                  </a:lnTo>
                  <a:lnTo>
                    <a:pt x="280" y="547"/>
                  </a:lnTo>
                  <a:lnTo>
                    <a:pt x="261" y="526"/>
                  </a:lnTo>
                  <a:lnTo>
                    <a:pt x="236" y="491"/>
                  </a:lnTo>
                  <a:lnTo>
                    <a:pt x="222" y="459"/>
                  </a:lnTo>
                  <a:lnTo>
                    <a:pt x="216" y="431"/>
                  </a:lnTo>
                  <a:lnTo>
                    <a:pt x="216" y="394"/>
                  </a:lnTo>
                  <a:lnTo>
                    <a:pt x="223" y="365"/>
                  </a:lnTo>
                  <a:lnTo>
                    <a:pt x="225" y="339"/>
                  </a:lnTo>
                  <a:lnTo>
                    <a:pt x="215" y="317"/>
                  </a:lnTo>
                  <a:lnTo>
                    <a:pt x="195" y="313"/>
                  </a:lnTo>
                  <a:lnTo>
                    <a:pt x="176" y="307"/>
                  </a:lnTo>
                  <a:lnTo>
                    <a:pt x="173" y="289"/>
                  </a:lnTo>
                  <a:lnTo>
                    <a:pt x="183" y="234"/>
                  </a:lnTo>
                  <a:lnTo>
                    <a:pt x="179" y="218"/>
                  </a:lnTo>
                  <a:lnTo>
                    <a:pt x="163" y="192"/>
                  </a:lnTo>
                  <a:lnTo>
                    <a:pt x="147" y="172"/>
                  </a:lnTo>
                  <a:lnTo>
                    <a:pt x="130" y="161"/>
                  </a:lnTo>
                  <a:lnTo>
                    <a:pt x="124" y="167"/>
                  </a:lnTo>
                  <a:lnTo>
                    <a:pt x="124" y="172"/>
                  </a:lnTo>
                  <a:lnTo>
                    <a:pt x="120" y="178"/>
                  </a:lnTo>
                  <a:lnTo>
                    <a:pt x="110" y="179"/>
                  </a:lnTo>
                  <a:lnTo>
                    <a:pt x="88" y="175"/>
                  </a:lnTo>
                  <a:lnTo>
                    <a:pt x="70" y="172"/>
                  </a:lnTo>
                  <a:lnTo>
                    <a:pt x="60" y="178"/>
                  </a:lnTo>
                  <a:lnTo>
                    <a:pt x="53" y="185"/>
                  </a:lnTo>
                  <a:lnTo>
                    <a:pt x="51" y="192"/>
                  </a:lnTo>
                  <a:lnTo>
                    <a:pt x="44" y="202"/>
                  </a:lnTo>
                  <a:lnTo>
                    <a:pt x="37" y="207"/>
                  </a:lnTo>
                  <a:lnTo>
                    <a:pt x="30" y="207"/>
                  </a:lnTo>
                  <a:lnTo>
                    <a:pt x="17" y="20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86160" y="2924280"/>
              <a:ext cx="874800" cy="546120"/>
            </a:xfrm>
            <a:custGeom>
              <a:avLst/>
              <a:gdLst/>
              <a:ahLst/>
              <a:rect l="l" t="t" r="r" b="b"/>
              <a:pathLst>
                <a:path w="1523" h="1031">
                  <a:moveTo>
                    <a:pt x="107" y="649"/>
                  </a:moveTo>
                  <a:lnTo>
                    <a:pt x="151" y="588"/>
                  </a:lnTo>
                  <a:lnTo>
                    <a:pt x="234" y="467"/>
                  </a:lnTo>
                  <a:lnTo>
                    <a:pt x="362" y="497"/>
                  </a:lnTo>
                  <a:lnTo>
                    <a:pt x="401" y="655"/>
                  </a:lnTo>
                  <a:lnTo>
                    <a:pt x="492" y="695"/>
                  </a:lnTo>
                  <a:lnTo>
                    <a:pt x="520" y="705"/>
                  </a:lnTo>
                  <a:lnTo>
                    <a:pt x="525" y="710"/>
                  </a:lnTo>
                  <a:lnTo>
                    <a:pt x="532" y="727"/>
                  </a:lnTo>
                  <a:lnTo>
                    <a:pt x="531" y="751"/>
                  </a:lnTo>
                  <a:lnTo>
                    <a:pt x="529" y="770"/>
                  </a:lnTo>
                  <a:lnTo>
                    <a:pt x="543" y="774"/>
                  </a:lnTo>
                  <a:lnTo>
                    <a:pt x="543" y="788"/>
                  </a:lnTo>
                  <a:lnTo>
                    <a:pt x="550" y="800"/>
                  </a:lnTo>
                  <a:lnTo>
                    <a:pt x="542" y="802"/>
                  </a:lnTo>
                  <a:lnTo>
                    <a:pt x="528" y="800"/>
                  </a:lnTo>
                  <a:lnTo>
                    <a:pt x="520" y="806"/>
                  </a:lnTo>
                  <a:lnTo>
                    <a:pt x="520" y="818"/>
                  </a:lnTo>
                  <a:lnTo>
                    <a:pt x="536" y="834"/>
                  </a:lnTo>
                  <a:lnTo>
                    <a:pt x="539" y="845"/>
                  </a:lnTo>
                  <a:lnTo>
                    <a:pt x="539" y="872"/>
                  </a:lnTo>
                  <a:lnTo>
                    <a:pt x="546" y="891"/>
                  </a:lnTo>
                  <a:lnTo>
                    <a:pt x="564" y="903"/>
                  </a:lnTo>
                  <a:lnTo>
                    <a:pt x="578" y="903"/>
                  </a:lnTo>
                  <a:lnTo>
                    <a:pt x="597" y="918"/>
                  </a:lnTo>
                  <a:lnTo>
                    <a:pt x="620" y="922"/>
                  </a:lnTo>
                  <a:lnTo>
                    <a:pt x="639" y="922"/>
                  </a:lnTo>
                  <a:lnTo>
                    <a:pt x="666" y="908"/>
                  </a:lnTo>
                  <a:lnTo>
                    <a:pt x="688" y="900"/>
                  </a:lnTo>
                  <a:lnTo>
                    <a:pt x="717" y="893"/>
                  </a:lnTo>
                  <a:lnTo>
                    <a:pt x="752" y="893"/>
                  </a:lnTo>
                  <a:lnTo>
                    <a:pt x="760" y="882"/>
                  </a:lnTo>
                  <a:lnTo>
                    <a:pt x="778" y="882"/>
                  </a:lnTo>
                  <a:lnTo>
                    <a:pt x="788" y="883"/>
                  </a:lnTo>
                  <a:lnTo>
                    <a:pt x="805" y="887"/>
                  </a:lnTo>
                  <a:lnTo>
                    <a:pt x="831" y="903"/>
                  </a:lnTo>
                  <a:lnTo>
                    <a:pt x="847" y="919"/>
                  </a:lnTo>
                  <a:lnTo>
                    <a:pt x="858" y="922"/>
                  </a:lnTo>
                  <a:lnTo>
                    <a:pt x="868" y="907"/>
                  </a:lnTo>
                  <a:lnTo>
                    <a:pt x="880" y="891"/>
                  </a:lnTo>
                  <a:lnTo>
                    <a:pt x="895" y="891"/>
                  </a:lnTo>
                  <a:lnTo>
                    <a:pt x="907" y="894"/>
                  </a:lnTo>
                  <a:lnTo>
                    <a:pt x="916" y="905"/>
                  </a:lnTo>
                  <a:lnTo>
                    <a:pt x="933" y="925"/>
                  </a:lnTo>
                  <a:lnTo>
                    <a:pt x="944" y="933"/>
                  </a:lnTo>
                  <a:lnTo>
                    <a:pt x="961" y="928"/>
                  </a:lnTo>
                  <a:lnTo>
                    <a:pt x="983" y="929"/>
                  </a:lnTo>
                  <a:lnTo>
                    <a:pt x="991" y="942"/>
                  </a:lnTo>
                  <a:lnTo>
                    <a:pt x="1033" y="943"/>
                  </a:lnTo>
                  <a:lnTo>
                    <a:pt x="1046" y="946"/>
                  </a:lnTo>
                  <a:lnTo>
                    <a:pt x="1053" y="948"/>
                  </a:lnTo>
                  <a:lnTo>
                    <a:pt x="1060" y="961"/>
                  </a:lnTo>
                  <a:lnTo>
                    <a:pt x="1076" y="972"/>
                  </a:lnTo>
                  <a:lnTo>
                    <a:pt x="1099" y="978"/>
                  </a:lnTo>
                  <a:lnTo>
                    <a:pt x="1115" y="975"/>
                  </a:lnTo>
                  <a:lnTo>
                    <a:pt x="1127" y="978"/>
                  </a:lnTo>
                  <a:lnTo>
                    <a:pt x="1136" y="983"/>
                  </a:lnTo>
                  <a:lnTo>
                    <a:pt x="1133" y="999"/>
                  </a:lnTo>
                  <a:lnTo>
                    <a:pt x="1129" y="1011"/>
                  </a:lnTo>
                  <a:lnTo>
                    <a:pt x="1129" y="1019"/>
                  </a:lnTo>
                  <a:lnTo>
                    <a:pt x="1135" y="1031"/>
                  </a:lnTo>
                  <a:lnTo>
                    <a:pt x="1149" y="1019"/>
                  </a:lnTo>
                  <a:lnTo>
                    <a:pt x="1172" y="989"/>
                  </a:lnTo>
                  <a:lnTo>
                    <a:pt x="1192" y="969"/>
                  </a:lnTo>
                  <a:lnTo>
                    <a:pt x="1200" y="942"/>
                  </a:lnTo>
                  <a:lnTo>
                    <a:pt x="1199" y="901"/>
                  </a:lnTo>
                  <a:lnTo>
                    <a:pt x="1185" y="876"/>
                  </a:lnTo>
                  <a:lnTo>
                    <a:pt x="1189" y="861"/>
                  </a:lnTo>
                  <a:lnTo>
                    <a:pt x="1216" y="861"/>
                  </a:lnTo>
                  <a:lnTo>
                    <a:pt x="1239" y="865"/>
                  </a:lnTo>
                  <a:lnTo>
                    <a:pt x="1260" y="877"/>
                  </a:lnTo>
                  <a:lnTo>
                    <a:pt x="1280" y="882"/>
                  </a:lnTo>
                  <a:lnTo>
                    <a:pt x="1294" y="875"/>
                  </a:lnTo>
                  <a:lnTo>
                    <a:pt x="1299" y="862"/>
                  </a:lnTo>
                  <a:lnTo>
                    <a:pt x="1298" y="845"/>
                  </a:lnTo>
                  <a:lnTo>
                    <a:pt x="1306" y="815"/>
                  </a:lnTo>
                  <a:lnTo>
                    <a:pt x="1320" y="787"/>
                  </a:lnTo>
                  <a:lnTo>
                    <a:pt x="1327" y="774"/>
                  </a:lnTo>
                  <a:lnTo>
                    <a:pt x="1344" y="763"/>
                  </a:lnTo>
                  <a:lnTo>
                    <a:pt x="1358" y="766"/>
                  </a:lnTo>
                  <a:lnTo>
                    <a:pt x="1370" y="779"/>
                  </a:lnTo>
                  <a:lnTo>
                    <a:pt x="1384" y="783"/>
                  </a:lnTo>
                  <a:lnTo>
                    <a:pt x="1406" y="788"/>
                  </a:lnTo>
                  <a:lnTo>
                    <a:pt x="1430" y="790"/>
                  </a:lnTo>
                  <a:lnTo>
                    <a:pt x="1443" y="777"/>
                  </a:lnTo>
                  <a:lnTo>
                    <a:pt x="1447" y="763"/>
                  </a:lnTo>
                  <a:lnTo>
                    <a:pt x="1449" y="751"/>
                  </a:lnTo>
                  <a:lnTo>
                    <a:pt x="1454" y="730"/>
                  </a:lnTo>
                  <a:lnTo>
                    <a:pt x="1458" y="715"/>
                  </a:lnTo>
                  <a:lnTo>
                    <a:pt x="1477" y="703"/>
                  </a:lnTo>
                  <a:lnTo>
                    <a:pt x="1483" y="685"/>
                  </a:lnTo>
                  <a:lnTo>
                    <a:pt x="1504" y="676"/>
                  </a:lnTo>
                  <a:lnTo>
                    <a:pt x="1523" y="674"/>
                  </a:lnTo>
                  <a:lnTo>
                    <a:pt x="1523" y="653"/>
                  </a:lnTo>
                  <a:lnTo>
                    <a:pt x="1519" y="637"/>
                  </a:lnTo>
                  <a:lnTo>
                    <a:pt x="1512" y="628"/>
                  </a:lnTo>
                  <a:lnTo>
                    <a:pt x="1491" y="628"/>
                  </a:lnTo>
                  <a:lnTo>
                    <a:pt x="1470" y="635"/>
                  </a:lnTo>
                  <a:lnTo>
                    <a:pt x="1456" y="628"/>
                  </a:lnTo>
                  <a:lnTo>
                    <a:pt x="1443" y="619"/>
                  </a:lnTo>
                  <a:lnTo>
                    <a:pt x="1433" y="607"/>
                  </a:lnTo>
                  <a:lnTo>
                    <a:pt x="1426" y="589"/>
                  </a:lnTo>
                  <a:lnTo>
                    <a:pt x="1419" y="575"/>
                  </a:lnTo>
                  <a:lnTo>
                    <a:pt x="1416" y="561"/>
                  </a:lnTo>
                  <a:lnTo>
                    <a:pt x="1411" y="552"/>
                  </a:lnTo>
                  <a:lnTo>
                    <a:pt x="1401" y="541"/>
                  </a:lnTo>
                  <a:lnTo>
                    <a:pt x="1388" y="532"/>
                  </a:lnTo>
                  <a:lnTo>
                    <a:pt x="1374" y="528"/>
                  </a:lnTo>
                  <a:lnTo>
                    <a:pt x="1362" y="527"/>
                  </a:lnTo>
                  <a:lnTo>
                    <a:pt x="1348" y="529"/>
                  </a:lnTo>
                  <a:lnTo>
                    <a:pt x="1338" y="524"/>
                  </a:lnTo>
                  <a:lnTo>
                    <a:pt x="1331" y="513"/>
                  </a:lnTo>
                  <a:lnTo>
                    <a:pt x="1323" y="503"/>
                  </a:lnTo>
                  <a:lnTo>
                    <a:pt x="1319" y="496"/>
                  </a:lnTo>
                  <a:lnTo>
                    <a:pt x="1310" y="492"/>
                  </a:lnTo>
                  <a:lnTo>
                    <a:pt x="1301" y="493"/>
                  </a:lnTo>
                  <a:lnTo>
                    <a:pt x="1292" y="499"/>
                  </a:lnTo>
                  <a:lnTo>
                    <a:pt x="1280" y="504"/>
                  </a:lnTo>
                  <a:lnTo>
                    <a:pt x="1274" y="499"/>
                  </a:lnTo>
                  <a:lnTo>
                    <a:pt x="1267" y="485"/>
                  </a:lnTo>
                  <a:lnTo>
                    <a:pt x="1260" y="463"/>
                  </a:lnTo>
                  <a:lnTo>
                    <a:pt x="1255" y="438"/>
                  </a:lnTo>
                  <a:lnTo>
                    <a:pt x="1248" y="407"/>
                  </a:lnTo>
                  <a:lnTo>
                    <a:pt x="1242" y="382"/>
                  </a:lnTo>
                  <a:lnTo>
                    <a:pt x="1239" y="367"/>
                  </a:lnTo>
                  <a:lnTo>
                    <a:pt x="1230" y="348"/>
                  </a:lnTo>
                  <a:lnTo>
                    <a:pt x="1218" y="328"/>
                  </a:lnTo>
                  <a:lnTo>
                    <a:pt x="1206" y="312"/>
                  </a:lnTo>
                  <a:lnTo>
                    <a:pt x="1199" y="305"/>
                  </a:lnTo>
                  <a:lnTo>
                    <a:pt x="1196" y="296"/>
                  </a:lnTo>
                  <a:lnTo>
                    <a:pt x="1199" y="286"/>
                  </a:lnTo>
                  <a:lnTo>
                    <a:pt x="1207" y="282"/>
                  </a:lnTo>
                  <a:lnTo>
                    <a:pt x="1211" y="276"/>
                  </a:lnTo>
                  <a:lnTo>
                    <a:pt x="1209" y="266"/>
                  </a:lnTo>
                  <a:lnTo>
                    <a:pt x="1189" y="271"/>
                  </a:lnTo>
                  <a:lnTo>
                    <a:pt x="1160" y="276"/>
                  </a:lnTo>
                  <a:lnTo>
                    <a:pt x="1121" y="287"/>
                  </a:lnTo>
                  <a:lnTo>
                    <a:pt x="1082" y="287"/>
                  </a:lnTo>
                  <a:lnTo>
                    <a:pt x="1079" y="282"/>
                  </a:lnTo>
                  <a:lnTo>
                    <a:pt x="1090" y="269"/>
                  </a:lnTo>
                  <a:lnTo>
                    <a:pt x="1090" y="259"/>
                  </a:lnTo>
                  <a:lnTo>
                    <a:pt x="1072" y="247"/>
                  </a:lnTo>
                  <a:lnTo>
                    <a:pt x="1054" y="236"/>
                  </a:lnTo>
                  <a:lnTo>
                    <a:pt x="1040" y="232"/>
                  </a:lnTo>
                  <a:lnTo>
                    <a:pt x="1023" y="227"/>
                  </a:lnTo>
                  <a:lnTo>
                    <a:pt x="1021" y="220"/>
                  </a:lnTo>
                  <a:lnTo>
                    <a:pt x="1032" y="200"/>
                  </a:lnTo>
                  <a:lnTo>
                    <a:pt x="1032" y="184"/>
                  </a:lnTo>
                  <a:lnTo>
                    <a:pt x="1022" y="162"/>
                  </a:lnTo>
                  <a:lnTo>
                    <a:pt x="1010" y="149"/>
                  </a:lnTo>
                  <a:lnTo>
                    <a:pt x="998" y="138"/>
                  </a:lnTo>
                  <a:lnTo>
                    <a:pt x="989" y="131"/>
                  </a:lnTo>
                  <a:lnTo>
                    <a:pt x="968" y="129"/>
                  </a:lnTo>
                  <a:lnTo>
                    <a:pt x="943" y="142"/>
                  </a:lnTo>
                  <a:lnTo>
                    <a:pt x="920" y="144"/>
                  </a:lnTo>
                  <a:lnTo>
                    <a:pt x="902" y="142"/>
                  </a:lnTo>
                  <a:lnTo>
                    <a:pt x="888" y="138"/>
                  </a:lnTo>
                  <a:lnTo>
                    <a:pt x="866" y="133"/>
                  </a:lnTo>
                  <a:lnTo>
                    <a:pt x="840" y="133"/>
                  </a:lnTo>
                  <a:lnTo>
                    <a:pt x="822" y="134"/>
                  </a:lnTo>
                  <a:lnTo>
                    <a:pt x="802" y="134"/>
                  </a:lnTo>
                  <a:lnTo>
                    <a:pt x="785" y="133"/>
                  </a:lnTo>
                  <a:lnTo>
                    <a:pt x="766" y="127"/>
                  </a:lnTo>
                  <a:lnTo>
                    <a:pt x="751" y="123"/>
                  </a:lnTo>
                  <a:lnTo>
                    <a:pt x="724" y="110"/>
                  </a:lnTo>
                  <a:lnTo>
                    <a:pt x="713" y="92"/>
                  </a:lnTo>
                  <a:lnTo>
                    <a:pt x="699" y="92"/>
                  </a:lnTo>
                  <a:lnTo>
                    <a:pt x="689" y="103"/>
                  </a:lnTo>
                  <a:lnTo>
                    <a:pt x="689" y="119"/>
                  </a:lnTo>
                  <a:lnTo>
                    <a:pt x="696" y="130"/>
                  </a:lnTo>
                  <a:lnTo>
                    <a:pt x="709" y="140"/>
                  </a:lnTo>
                  <a:lnTo>
                    <a:pt x="709" y="149"/>
                  </a:lnTo>
                  <a:lnTo>
                    <a:pt x="699" y="162"/>
                  </a:lnTo>
                  <a:lnTo>
                    <a:pt x="680" y="162"/>
                  </a:lnTo>
                  <a:lnTo>
                    <a:pt x="662" y="154"/>
                  </a:lnTo>
                  <a:lnTo>
                    <a:pt x="649" y="152"/>
                  </a:lnTo>
                  <a:lnTo>
                    <a:pt x="642" y="158"/>
                  </a:lnTo>
                  <a:lnTo>
                    <a:pt x="642" y="169"/>
                  </a:lnTo>
                  <a:lnTo>
                    <a:pt x="628" y="176"/>
                  </a:lnTo>
                  <a:lnTo>
                    <a:pt x="616" y="169"/>
                  </a:lnTo>
                  <a:lnTo>
                    <a:pt x="609" y="172"/>
                  </a:lnTo>
                  <a:lnTo>
                    <a:pt x="606" y="184"/>
                  </a:lnTo>
                  <a:lnTo>
                    <a:pt x="611" y="200"/>
                  </a:lnTo>
                  <a:lnTo>
                    <a:pt x="618" y="206"/>
                  </a:lnTo>
                  <a:lnTo>
                    <a:pt x="631" y="230"/>
                  </a:lnTo>
                  <a:lnTo>
                    <a:pt x="628" y="245"/>
                  </a:lnTo>
                  <a:lnTo>
                    <a:pt x="628" y="255"/>
                  </a:lnTo>
                  <a:lnTo>
                    <a:pt x="621" y="265"/>
                  </a:lnTo>
                  <a:lnTo>
                    <a:pt x="609" y="269"/>
                  </a:lnTo>
                  <a:lnTo>
                    <a:pt x="596" y="269"/>
                  </a:lnTo>
                  <a:lnTo>
                    <a:pt x="578" y="257"/>
                  </a:lnTo>
                  <a:lnTo>
                    <a:pt x="550" y="241"/>
                  </a:lnTo>
                  <a:lnTo>
                    <a:pt x="518" y="206"/>
                  </a:lnTo>
                  <a:lnTo>
                    <a:pt x="503" y="180"/>
                  </a:lnTo>
                  <a:lnTo>
                    <a:pt x="490" y="162"/>
                  </a:lnTo>
                  <a:lnTo>
                    <a:pt x="475" y="159"/>
                  </a:lnTo>
                  <a:lnTo>
                    <a:pt x="443" y="163"/>
                  </a:lnTo>
                  <a:lnTo>
                    <a:pt x="419" y="151"/>
                  </a:lnTo>
                  <a:lnTo>
                    <a:pt x="404" y="152"/>
                  </a:lnTo>
                  <a:lnTo>
                    <a:pt x="394" y="149"/>
                  </a:lnTo>
                  <a:lnTo>
                    <a:pt x="389" y="142"/>
                  </a:lnTo>
                  <a:lnTo>
                    <a:pt x="391" y="123"/>
                  </a:lnTo>
                  <a:lnTo>
                    <a:pt x="393" y="103"/>
                  </a:lnTo>
                  <a:lnTo>
                    <a:pt x="387" y="87"/>
                  </a:lnTo>
                  <a:lnTo>
                    <a:pt x="382" y="73"/>
                  </a:lnTo>
                  <a:lnTo>
                    <a:pt x="373" y="66"/>
                  </a:lnTo>
                  <a:lnTo>
                    <a:pt x="362" y="60"/>
                  </a:lnTo>
                  <a:lnTo>
                    <a:pt x="352" y="55"/>
                  </a:lnTo>
                  <a:lnTo>
                    <a:pt x="343" y="46"/>
                  </a:lnTo>
                  <a:lnTo>
                    <a:pt x="336" y="31"/>
                  </a:lnTo>
                  <a:lnTo>
                    <a:pt x="332" y="23"/>
                  </a:lnTo>
                  <a:lnTo>
                    <a:pt x="322" y="13"/>
                  </a:lnTo>
                  <a:lnTo>
                    <a:pt x="304" y="10"/>
                  </a:lnTo>
                  <a:lnTo>
                    <a:pt x="290" y="12"/>
                  </a:lnTo>
                  <a:lnTo>
                    <a:pt x="263" y="12"/>
                  </a:lnTo>
                  <a:lnTo>
                    <a:pt x="244" y="6"/>
                  </a:lnTo>
                  <a:lnTo>
                    <a:pt x="223" y="0"/>
                  </a:lnTo>
                  <a:lnTo>
                    <a:pt x="205" y="3"/>
                  </a:lnTo>
                  <a:lnTo>
                    <a:pt x="197" y="10"/>
                  </a:lnTo>
                  <a:lnTo>
                    <a:pt x="192" y="24"/>
                  </a:lnTo>
                  <a:lnTo>
                    <a:pt x="187" y="41"/>
                  </a:lnTo>
                  <a:lnTo>
                    <a:pt x="177" y="44"/>
                  </a:lnTo>
                  <a:lnTo>
                    <a:pt x="166" y="44"/>
                  </a:lnTo>
                  <a:lnTo>
                    <a:pt x="158" y="35"/>
                  </a:lnTo>
                  <a:lnTo>
                    <a:pt x="152" y="23"/>
                  </a:lnTo>
                  <a:lnTo>
                    <a:pt x="148" y="9"/>
                  </a:lnTo>
                  <a:lnTo>
                    <a:pt x="134" y="5"/>
                  </a:lnTo>
                  <a:lnTo>
                    <a:pt x="127" y="2"/>
                  </a:lnTo>
                  <a:lnTo>
                    <a:pt x="113" y="6"/>
                  </a:lnTo>
                  <a:lnTo>
                    <a:pt x="102" y="20"/>
                  </a:lnTo>
                  <a:lnTo>
                    <a:pt x="96" y="27"/>
                  </a:lnTo>
                  <a:lnTo>
                    <a:pt x="84" y="35"/>
                  </a:lnTo>
                  <a:lnTo>
                    <a:pt x="68" y="35"/>
                  </a:lnTo>
                  <a:lnTo>
                    <a:pt x="56" y="37"/>
                  </a:lnTo>
                  <a:lnTo>
                    <a:pt x="43" y="44"/>
                  </a:lnTo>
                  <a:lnTo>
                    <a:pt x="42" y="51"/>
                  </a:lnTo>
                  <a:lnTo>
                    <a:pt x="43" y="69"/>
                  </a:lnTo>
                  <a:lnTo>
                    <a:pt x="48" y="81"/>
                  </a:lnTo>
                  <a:lnTo>
                    <a:pt x="57" y="96"/>
                  </a:lnTo>
                  <a:lnTo>
                    <a:pt x="60" y="109"/>
                  </a:lnTo>
                  <a:lnTo>
                    <a:pt x="67" y="131"/>
                  </a:lnTo>
                  <a:lnTo>
                    <a:pt x="68" y="154"/>
                  </a:lnTo>
                  <a:lnTo>
                    <a:pt x="67" y="169"/>
                  </a:lnTo>
                  <a:lnTo>
                    <a:pt x="57" y="184"/>
                  </a:lnTo>
                  <a:lnTo>
                    <a:pt x="53" y="194"/>
                  </a:lnTo>
                  <a:lnTo>
                    <a:pt x="48" y="205"/>
                  </a:lnTo>
                  <a:lnTo>
                    <a:pt x="59" y="213"/>
                  </a:lnTo>
                  <a:lnTo>
                    <a:pt x="67" y="220"/>
                  </a:lnTo>
                  <a:lnTo>
                    <a:pt x="81" y="226"/>
                  </a:lnTo>
                  <a:lnTo>
                    <a:pt x="106" y="230"/>
                  </a:lnTo>
                  <a:lnTo>
                    <a:pt x="130" y="233"/>
                  </a:lnTo>
                  <a:lnTo>
                    <a:pt x="153" y="240"/>
                  </a:lnTo>
                  <a:lnTo>
                    <a:pt x="162" y="245"/>
                  </a:lnTo>
                  <a:lnTo>
                    <a:pt x="171" y="266"/>
                  </a:lnTo>
                  <a:lnTo>
                    <a:pt x="187" y="282"/>
                  </a:lnTo>
                  <a:lnTo>
                    <a:pt x="192" y="303"/>
                  </a:lnTo>
                  <a:lnTo>
                    <a:pt x="192" y="318"/>
                  </a:lnTo>
                  <a:lnTo>
                    <a:pt x="183" y="330"/>
                  </a:lnTo>
                  <a:lnTo>
                    <a:pt x="167" y="336"/>
                  </a:lnTo>
                  <a:lnTo>
                    <a:pt x="159" y="339"/>
                  </a:lnTo>
                  <a:lnTo>
                    <a:pt x="155" y="348"/>
                  </a:lnTo>
                  <a:lnTo>
                    <a:pt x="155" y="358"/>
                  </a:lnTo>
                  <a:lnTo>
                    <a:pt x="145" y="365"/>
                  </a:lnTo>
                  <a:lnTo>
                    <a:pt x="134" y="365"/>
                  </a:lnTo>
                  <a:lnTo>
                    <a:pt x="121" y="361"/>
                  </a:lnTo>
                  <a:lnTo>
                    <a:pt x="109" y="348"/>
                  </a:lnTo>
                  <a:lnTo>
                    <a:pt x="98" y="336"/>
                  </a:lnTo>
                  <a:lnTo>
                    <a:pt x="82" y="332"/>
                  </a:lnTo>
                  <a:lnTo>
                    <a:pt x="67" y="346"/>
                  </a:lnTo>
                  <a:lnTo>
                    <a:pt x="63" y="361"/>
                  </a:lnTo>
                  <a:lnTo>
                    <a:pt x="57" y="367"/>
                  </a:lnTo>
                  <a:lnTo>
                    <a:pt x="48" y="365"/>
                  </a:lnTo>
                  <a:lnTo>
                    <a:pt x="38" y="357"/>
                  </a:lnTo>
                  <a:lnTo>
                    <a:pt x="32" y="336"/>
                  </a:lnTo>
                  <a:lnTo>
                    <a:pt x="23" y="333"/>
                  </a:lnTo>
                  <a:lnTo>
                    <a:pt x="16" y="339"/>
                  </a:lnTo>
                  <a:lnTo>
                    <a:pt x="17" y="361"/>
                  </a:lnTo>
                  <a:lnTo>
                    <a:pt x="18" y="371"/>
                  </a:lnTo>
                  <a:lnTo>
                    <a:pt x="16" y="394"/>
                  </a:lnTo>
                  <a:lnTo>
                    <a:pt x="11" y="417"/>
                  </a:lnTo>
                  <a:lnTo>
                    <a:pt x="7" y="432"/>
                  </a:lnTo>
                  <a:lnTo>
                    <a:pt x="9" y="445"/>
                  </a:lnTo>
                  <a:lnTo>
                    <a:pt x="28" y="460"/>
                  </a:lnTo>
                  <a:lnTo>
                    <a:pt x="38" y="474"/>
                  </a:lnTo>
                  <a:lnTo>
                    <a:pt x="38" y="485"/>
                  </a:lnTo>
                  <a:lnTo>
                    <a:pt x="28" y="495"/>
                  </a:lnTo>
                  <a:lnTo>
                    <a:pt x="10" y="504"/>
                  </a:lnTo>
                  <a:lnTo>
                    <a:pt x="0" y="528"/>
                  </a:lnTo>
                  <a:lnTo>
                    <a:pt x="18" y="521"/>
                  </a:lnTo>
                  <a:lnTo>
                    <a:pt x="38" y="529"/>
                  </a:lnTo>
                  <a:lnTo>
                    <a:pt x="60" y="543"/>
                  </a:lnTo>
                  <a:lnTo>
                    <a:pt x="71" y="564"/>
                  </a:lnTo>
                  <a:lnTo>
                    <a:pt x="77" y="584"/>
                  </a:lnTo>
                  <a:lnTo>
                    <a:pt x="77" y="620"/>
                  </a:lnTo>
                  <a:lnTo>
                    <a:pt x="84" y="645"/>
                  </a:lnTo>
                  <a:lnTo>
                    <a:pt x="107" y="649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022800" y="3200400"/>
              <a:ext cx="323640" cy="325440"/>
            </a:xfrm>
            <a:custGeom>
              <a:avLst/>
              <a:gdLst/>
              <a:ahLst/>
              <a:rect l="l" t="t" r="r" b="b"/>
              <a:pathLst>
                <a:path w="564" h="615">
                  <a:moveTo>
                    <a:pt x="218" y="128"/>
                  </a:moveTo>
                  <a:lnTo>
                    <a:pt x="198" y="123"/>
                  </a:lnTo>
                  <a:lnTo>
                    <a:pt x="188" y="96"/>
                  </a:lnTo>
                  <a:lnTo>
                    <a:pt x="189" y="61"/>
                  </a:lnTo>
                  <a:lnTo>
                    <a:pt x="184" y="43"/>
                  </a:lnTo>
                  <a:lnTo>
                    <a:pt x="172" y="24"/>
                  </a:lnTo>
                  <a:lnTo>
                    <a:pt x="159" y="14"/>
                  </a:lnTo>
                  <a:lnTo>
                    <a:pt x="129" y="0"/>
                  </a:lnTo>
                  <a:lnTo>
                    <a:pt x="110" y="7"/>
                  </a:lnTo>
                  <a:lnTo>
                    <a:pt x="99" y="20"/>
                  </a:lnTo>
                  <a:lnTo>
                    <a:pt x="92" y="36"/>
                  </a:lnTo>
                  <a:lnTo>
                    <a:pt x="88" y="60"/>
                  </a:lnTo>
                  <a:lnTo>
                    <a:pt x="64" y="74"/>
                  </a:lnTo>
                  <a:lnTo>
                    <a:pt x="51" y="100"/>
                  </a:lnTo>
                  <a:lnTo>
                    <a:pt x="51" y="113"/>
                  </a:lnTo>
                  <a:lnTo>
                    <a:pt x="60" y="123"/>
                  </a:lnTo>
                  <a:lnTo>
                    <a:pt x="81" y="132"/>
                  </a:lnTo>
                  <a:lnTo>
                    <a:pt x="79" y="146"/>
                  </a:lnTo>
                  <a:lnTo>
                    <a:pt x="57" y="159"/>
                  </a:lnTo>
                  <a:lnTo>
                    <a:pt x="50" y="178"/>
                  </a:lnTo>
                  <a:lnTo>
                    <a:pt x="57" y="205"/>
                  </a:lnTo>
                  <a:lnTo>
                    <a:pt x="46" y="220"/>
                  </a:lnTo>
                  <a:lnTo>
                    <a:pt x="21" y="248"/>
                  </a:lnTo>
                  <a:lnTo>
                    <a:pt x="0" y="267"/>
                  </a:lnTo>
                  <a:lnTo>
                    <a:pt x="1" y="281"/>
                  </a:lnTo>
                  <a:lnTo>
                    <a:pt x="11" y="290"/>
                  </a:lnTo>
                  <a:lnTo>
                    <a:pt x="26" y="294"/>
                  </a:lnTo>
                  <a:lnTo>
                    <a:pt x="50" y="290"/>
                  </a:lnTo>
                  <a:lnTo>
                    <a:pt x="83" y="290"/>
                  </a:lnTo>
                  <a:lnTo>
                    <a:pt x="110" y="294"/>
                  </a:lnTo>
                  <a:lnTo>
                    <a:pt x="128" y="304"/>
                  </a:lnTo>
                  <a:lnTo>
                    <a:pt x="153" y="319"/>
                  </a:lnTo>
                  <a:lnTo>
                    <a:pt x="172" y="340"/>
                  </a:lnTo>
                  <a:lnTo>
                    <a:pt x="193" y="370"/>
                  </a:lnTo>
                  <a:lnTo>
                    <a:pt x="206" y="401"/>
                  </a:lnTo>
                  <a:lnTo>
                    <a:pt x="218" y="451"/>
                  </a:lnTo>
                  <a:lnTo>
                    <a:pt x="242" y="478"/>
                  </a:lnTo>
                  <a:lnTo>
                    <a:pt x="252" y="501"/>
                  </a:lnTo>
                  <a:lnTo>
                    <a:pt x="259" y="537"/>
                  </a:lnTo>
                  <a:lnTo>
                    <a:pt x="259" y="560"/>
                  </a:lnTo>
                  <a:lnTo>
                    <a:pt x="262" y="574"/>
                  </a:lnTo>
                  <a:lnTo>
                    <a:pt x="278" y="596"/>
                  </a:lnTo>
                  <a:lnTo>
                    <a:pt x="298" y="615"/>
                  </a:lnTo>
                  <a:lnTo>
                    <a:pt x="313" y="615"/>
                  </a:lnTo>
                  <a:lnTo>
                    <a:pt x="344" y="610"/>
                  </a:lnTo>
                  <a:lnTo>
                    <a:pt x="372" y="606"/>
                  </a:lnTo>
                  <a:lnTo>
                    <a:pt x="391" y="610"/>
                  </a:lnTo>
                  <a:lnTo>
                    <a:pt x="405" y="613"/>
                  </a:lnTo>
                  <a:lnTo>
                    <a:pt x="418" y="611"/>
                  </a:lnTo>
                  <a:lnTo>
                    <a:pt x="434" y="596"/>
                  </a:lnTo>
                  <a:lnTo>
                    <a:pt x="448" y="583"/>
                  </a:lnTo>
                  <a:lnTo>
                    <a:pt x="475" y="569"/>
                  </a:lnTo>
                  <a:lnTo>
                    <a:pt x="504" y="569"/>
                  </a:lnTo>
                  <a:lnTo>
                    <a:pt x="537" y="574"/>
                  </a:lnTo>
                  <a:lnTo>
                    <a:pt x="564" y="592"/>
                  </a:lnTo>
                  <a:lnTo>
                    <a:pt x="558" y="574"/>
                  </a:lnTo>
                  <a:lnTo>
                    <a:pt x="562" y="557"/>
                  </a:lnTo>
                  <a:lnTo>
                    <a:pt x="558" y="537"/>
                  </a:lnTo>
                  <a:lnTo>
                    <a:pt x="550" y="526"/>
                  </a:lnTo>
                  <a:lnTo>
                    <a:pt x="523" y="515"/>
                  </a:lnTo>
                  <a:lnTo>
                    <a:pt x="498" y="493"/>
                  </a:lnTo>
                  <a:lnTo>
                    <a:pt x="479" y="472"/>
                  </a:lnTo>
                  <a:lnTo>
                    <a:pt x="454" y="437"/>
                  </a:lnTo>
                  <a:lnTo>
                    <a:pt x="440" y="405"/>
                  </a:lnTo>
                  <a:lnTo>
                    <a:pt x="434" y="377"/>
                  </a:lnTo>
                  <a:lnTo>
                    <a:pt x="434" y="340"/>
                  </a:lnTo>
                  <a:lnTo>
                    <a:pt x="441" y="311"/>
                  </a:lnTo>
                  <a:lnTo>
                    <a:pt x="443" y="285"/>
                  </a:lnTo>
                  <a:lnTo>
                    <a:pt x="433" y="263"/>
                  </a:lnTo>
                  <a:lnTo>
                    <a:pt x="413" y="259"/>
                  </a:lnTo>
                  <a:lnTo>
                    <a:pt x="394" y="253"/>
                  </a:lnTo>
                  <a:lnTo>
                    <a:pt x="391" y="235"/>
                  </a:lnTo>
                  <a:lnTo>
                    <a:pt x="401" y="180"/>
                  </a:lnTo>
                  <a:lnTo>
                    <a:pt x="397" y="164"/>
                  </a:lnTo>
                  <a:lnTo>
                    <a:pt x="381" y="138"/>
                  </a:lnTo>
                  <a:lnTo>
                    <a:pt x="365" y="118"/>
                  </a:lnTo>
                  <a:lnTo>
                    <a:pt x="348" y="107"/>
                  </a:lnTo>
                  <a:lnTo>
                    <a:pt x="342" y="113"/>
                  </a:lnTo>
                  <a:lnTo>
                    <a:pt x="342" y="118"/>
                  </a:lnTo>
                  <a:lnTo>
                    <a:pt x="338" y="124"/>
                  </a:lnTo>
                  <a:lnTo>
                    <a:pt x="328" y="125"/>
                  </a:lnTo>
                  <a:lnTo>
                    <a:pt x="306" y="121"/>
                  </a:lnTo>
                  <a:lnTo>
                    <a:pt x="288" y="118"/>
                  </a:lnTo>
                  <a:lnTo>
                    <a:pt x="278" y="124"/>
                  </a:lnTo>
                  <a:lnTo>
                    <a:pt x="271" y="131"/>
                  </a:lnTo>
                  <a:lnTo>
                    <a:pt x="269" y="138"/>
                  </a:lnTo>
                  <a:lnTo>
                    <a:pt x="262" y="148"/>
                  </a:lnTo>
                  <a:lnTo>
                    <a:pt x="255" y="153"/>
                  </a:lnTo>
                  <a:lnTo>
                    <a:pt x="248" y="153"/>
                  </a:lnTo>
                  <a:lnTo>
                    <a:pt x="235" y="148"/>
                  </a:lnTo>
                  <a:lnTo>
                    <a:pt x="218" y="128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857920" y="2039760"/>
            <a:ext cx="2504520" cy="1276200"/>
            <a:chOff x="5857920" y="2039760"/>
            <a:chExt cx="2504520" cy="1276200"/>
          </a:xfrm>
        </p:grpSpPr>
        <p:sp>
          <p:nvSpPr>
            <p:cNvPr id="372" name=""/>
            <p:cNvSpPr/>
            <p:nvPr/>
          </p:nvSpPr>
          <p:spPr>
            <a:xfrm>
              <a:off x="5857920" y="2039760"/>
              <a:ext cx="2504520" cy="1276200"/>
            </a:xfrm>
            <a:custGeom>
              <a:avLst/>
              <a:gdLst/>
              <a:ahLst/>
              <a:rect l="l" t="t" r="r" b="b"/>
              <a:pathLst>
                <a:path w="4368" h="2413">
                  <a:moveTo>
                    <a:pt x="168" y="2020"/>
                  </a:moveTo>
                  <a:lnTo>
                    <a:pt x="165" y="2009"/>
                  </a:lnTo>
                  <a:lnTo>
                    <a:pt x="160" y="1994"/>
                  </a:lnTo>
                  <a:lnTo>
                    <a:pt x="167" y="1977"/>
                  </a:lnTo>
                  <a:lnTo>
                    <a:pt x="167" y="1963"/>
                  </a:lnTo>
                  <a:lnTo>
                    <a:pt x="161" y="1953"/>
                  </a:lnTo>
                  <a:lnTo>
                    <a:pt x="153" y="1939"/>
                  </a:lnTo>
                  <a:lnTo>
                    <a:pt x="138" y="1930"/>
                  </a:lnTo>
                  <a:lnTo>
                    <a:pt x="125" y="1924"/>
                  </a:lnTo>
                  <a:lnTo>
                    <a:pt x="119" y="1914"/>
                  </a:lnTo>
                  <a:lnTo>
                    <a:pt x="118" y="1907"/>
                  </a:lnTo>
                  <a:lnTo>
                    <a:pt x="114" y="1884"/>
                  </a:lnTo>
                  <a:lnTo>
                    <a:pt x="107" y="1873"/>
                  </a:lnTo>
                  <a:lnTo>
                    <a:pt x="96" y="1861"/>
                  </a:lnTo>
                  <a:lnTo>
                    <a:pt x="83" y="1850"/>
                  </a:lnTo>
                  <a:lnTo>
                    <a:pt x="73" y="1838"/>
                  </a:lnTo>
                  <a:lnTo>
                    <a:pt x="68" y="1821"/>
                  </a:lnTo>
                  <a:lnTo>
                    <a:pt x="65" y="1803"/>
                  </a:lnTo>
                  <a:lnTo>
                    <a:pt x="61" y="1789"/>
                  </a:lnTo>
                  <a:lnTo>
                    <a:pt x="53" y="1775"/>
                  </a:lnTo>
                  <a:lnTo>
                    <a:pt x="43" y="1765"/>
                  </a:lnTo>
                  <a:lnTo>
                    <a:pt x="34" y="1767"/>
                  </a:lnTo>
                  <a:lnTo>
                    <a:pt x="30" y="1760"/>
                  </a:lnTo>
                  <a:lnTo>
                    <a:pt x="33" y="1732"/>
                  </a:lnTo>
                  <a:lnTo>
                    <a:pt x="36" y="1719"/>
                  </a:lnTo>
                  <a:lnTo>
                    <a:pt x="30" y="1699"/>
                  </a:lnTo>
                  <a:lnTo>
                    <a:pt x="26" y="1687"/>
                  </a:lnTo>
                  <a:lnTo>
                    <a:pt x="14" y="1666"/>
                  </a:lnTo>
                  <a:lnTo>
                    <a:pt x="9" y="1637"/>
                  </a:lnTo>
                  <a:lnTo>
                    <a:pt x="0" y="1607"/>
                  </a:lnTo>
                  <a:lnTo>
                    <a:pt x="7" y="1591"/>
                  </a:lnTo>
                  <a:lnTo>
                    <a:pt x="18" y="1582"/>
                  </a:lnTo>
                  <a:lnTo>
                    <a:pt x="29" y="1584"/>
                  </a:lnTo>
                  <a:lnTo>
                    <a:pt x="36" y="1597"/>
                  </a:lnTo>
                  <a:lnTo>
                    <a:pt x="55" y="1589"/>
                  </a:lnTo>
                  <a:lnTo>
                    <a:pt x="89" y="1597"/>
                  </a:lnTo>
                  <a:lnTo>
                    <a:pt x="99" y="1591"/>
                  </a:lnTo>
                  <a:lnTo>
                    <a:pt x="99" y="1584"/>
                  </a:lnTo>
                  <a:lnTo>
                    <a:pt x="93" y="1575"/>
                  </a:lnTo>
                  <a:lnTo>
                    <a:pt x="96" y="1561"/>
                  </a:lnTo>
                  <a:lnTo>
                    <a:pt x="104" y="1557"/>
                  </a:lnTo>
                  <a:lnTo>
                    <a:pt x="119" y="1559"/>
                  </a:lnTo>
                  <a:lnTo>
                    <a:pt x="135" y="1575"/>
                  </a:lnTo>
                  <a:lnTo>
                    <a:pt x="157" y="1580"/>
                  </a:lnTo>
                  <a:lnTo>
                    <a:pt x="167" y="1576"/>
                  </a:lnTo>
                  <a:lnTo>
                    <a:pt x="176" y="1568"/>
                  </a:lnTo>
                  <a:lnTo>
                    <a:pt x="171" y="1558"/>
                  </a:lnTo>
                  <a:lnTo>
                    <a:pt x="156" y="1552"/>
                  </a:lnTo>
                  <a:lnTo>
                    <a:pt x="139" y="1538"/>
                  </a:lnTo>
                  <a:lnTo>
                    <a:pt x="151" y="1529"/>
                  </a:lnTo>
                  <a:lnTo>
                    <a:pt x="165" y="1526"/>
                  </a:lnTo>
                  <a:lnTo>
                    <a:pt x="178" y="1529"/>
                  </a:lnTo>
                  <a:lnTo>
                    <a:pt x="196" y="1552"/>
                  </a:lnTo>
                  <a:lnTo>
                    <a:pt x="210" y="1557"/>
                  </a:lnTo>
                  <a:lnTo>
                    <a:pt x="222" y="1555"/>
                  </a:lnTo>
                  <a:lnTo>
                    <a:pt x="236" y="1543"/>
                  </a:lnTo>
                  <a:lnTo>
                    <a:pt x="247" y="1529"/>
                  </a:lnTo>
                  <a:lnTo>
                    <a:pt x="257" y="1513"/>
                  </a:lnTo>
                  <a:lnTo>
                    <a:pt x="275" y="1504"/>
                  </a:lnTo>
                  <a:lnTo>
                    <a:pt x="281" y="1487"/>
                  </a:lnTo>
                  <a:lnTo>
                    <a:pt x="274" y="1467"/>
                  </a:lnTo>
                  <a:lnTo>
                    <a:pt x="273" y="1437"/>
                  </a:lnTo>
                  <a:lnTo>
                    <a:pt x="270" y="1413"/>
                  </a:lnTo>
                  <a:lnTo>
                    <a:pt x="263" y="1389"/>
                  </a:lnTo>
                  <a:lnTo>
                    <a:pt x="245" y="1367"/>
                  </a:lnTo>
                  <a:lnTo>
                    <a:pt x="227" y="1355"/>
                  </a:lnTo>
                  <a:lnTo>
                    <a:pt x="221" y="1338"/>
                  </a:lnTo>
                  <a:lnTo>
                    <a:pt x="224" y="1324"/>
                  </a:lnTo>
                  <a:lnTo>
                    <a:pt x="236" y="1314"/>
                  </a:lnTo>
                  <a:lnTo>
                    <a:pt x="247" y="1311"/>
                  </a:lnTo>
                  <a:lnTo>
                    <a:pt x="238" y="1293"/>
                  </a:lnTo>
                  <a:lnTo>
                    <a:pt x="241" y="1270"/>
                  </a:lnTo>
                  <a:lnTo>
                    <a:pt x="242" y="1247"/>
                  </a:lnTo>
                  <a:lnTo>
                    <a:pt x="253" y="1238"/>
                  </a:lnTo>
                  <a:lnTo>
                    <a:pt x="260" y="1214"/>
                  </a:lnTo>
                  <a:lnTo>
                    <a:pt x="257" y="1197"/>
                  </a:lnTo>
                  <a:lnTo>
                    <a:pt x="250" y="1182"/>
                  </a:lnTo>
                  <a:lnTo>
                    <a:pt x="235" y="1170"/>
                  </a:lnTo>
                  <a:lnTo>
                    <a:pt x="218" y="1158"/>
                  </a:lnTo>
                  <a:lnTo>
                    <a:pt x="224" y="1154"/>
                  </a:lnTo>
                  <a:lnTo>
                    <a:pt x="229" y="1143"/>
                  </a:lnTo>
                  <a:lnTo>
                    <a:pt x="242" y="1137"/>
                  </a:lnTo>
                  <a:lnTo>
                    <a:pt x="252" y="1125"/>
                  </a:lnTo>
                  <a:lnTo>
                    <a:pt x="261" y="1119"/>
                  </a:lnTo>
                  <a:lnTo>
                    <a:pt x="270" y="1122"/>
                  </a:lnTo>
                  <a:lnTo>
                    <a:pt x="277" y="1142"/>
                  </a:lnTo>
                  <a:lnTo>
                    <a:pt x="288" y="1151"/>
                  </a:lnTo>
                  <a:lnTo>
                    <a:pt x="298" y="1153"/>
                  </a:lnTo>
                  <a:lnTo>
                    <a:pt x="309" y="1144"/>
                  </a:lnTo>
                  <a:lnTo>
                    <a:pt x="306" y="1124"/>
                  </a:lnTo>
                  <a:lnTo>
                    <a:pt x="307" y="1096"/>
                  </a:lnTo>
                  <a:lnTo>
                    <a:pt x="330" y="1066"/>
                  </a:lnTo>
                  <a:lnTo>
                    <a:pt x="334" y="1054"/>
                  </a:lnTo>
                  <a:lnTo>
                    <a:pt x="337" y="1034"/>
                  </a:lnTo>
                  <a:lnTo>
                    <a:pt x="349" y="1016"/>
                  </a:lnTo>
                  <a:lnTo>
                    <a:pt x="362" y="1005"/>
                  </a:lnTo>
                  <a:lnTo>
                    <a:pt x="363" y="986"/>
                  </a:lnTo>
                  <a:lnTo>
                    <a:pt x="357" y="968"/>
                  </a:lnTo>
                  <a:lnTo>
                    <a:pt x="359" y="948"/>
                  </a:lnTo>
                  <a:lnTo>
                    <a:pt x="353" y="933"/>
                  </a:lnTo>
                  <a:lnTo>
                    <a:pt x="346" y="918"/>
                  </a:lnTo>
                  <a:lnTo>
                    <a:pt x="352" y="899"/>
                  </a:lnTo>
                  <a:lnTo>
                    <a:pt x="366" y="887"/>
                  </a:lnTo>
                  <a:lnTo>
                    <a:pt x="376" y="880"/>
                  </a:lnTo>
                  <a:lnTo>
                    <a:pt x="388" y="866"/>
                  </a:lnTo>
                  <a:lnTo>
                    <a:pt x="398" y="860"/>
                  </a:lnTo>
                  <a:lnTo>
                    <a:pt x="401" y="855"/>
                  </a:lnTo>
                  <a:lnTo>
                    <a:pt x="384" y="837"/>
                  </a:lnTo>
                  <a:lnTo>
                    <a:pt x="412" y="827"/>
                  </a:lnTo>
                  <a:lnTo>
                    <a:pt x="428" y="831"/>
                  </a:lnTo>
                  <a:lnTo>
                    <a:pt x="455" y="826"/>
                  </a:lnTo>
                  <a:lnTo>
                    <a:pt x="466" y="812"/>
                  </a:lnTo>
                  <a:lnTo>
                    <a:pt x="498" y="812"/>
                  </a:lnTo>
                  <a:lnTo>
                    <a:pt x="506" y="799"/>
                  </a:lnTo>
                  <a:lnTo>
                    <a:pt x="527" y="799"/>
                  </a:lnTo>
                  <a:lnTo>
                    <a:pt x="544" y="815"/>
                  </a:lnTo>
                  <a:lnTo>
                    <a:pt x="561" y="820"/>
                  </a:lnTo>
                  <a:lnTo>
                    <a:pt x="579" y="810"/>
                  </a:lnTo>
                  <a:lnTo>
                    <a:pt x="582" y="799"/>
                  </a:lnTo>
                  <a:lnTo>
                    <a:pt x="576" y="778"/>
                  </a:lnTo>
                  <a:lnTo>
                    <a:pt x="570" y="762"/>
                  </a:lnTo>
                  <a:lnTo>
                    <a:pt x="580" y="756"/>
                  </a:lnTo>
                  <a:lnTo>
                    <a:pt x="600" y="769"/>
                  </a:lnTo>
                  <a:lnTo>
                    <a:pt x="622" y="774"/>
                  </a:lnTo>
                  <a:lnTo>
                    <a:pt x="641" y="769"/>
                  </a:lnTo>
                  <a:lnTo>
                    <a:pt x="682" y="769"/>
                  </a:lnTo>
                  <a:lnTo>
                    <a:pt x="715" y="769"/>
                  </a:lnTo>
                  <a:lnTo>
                    <a:pt x="735" y="764"/>
                  </a:lnTo>
                  <a:lnTo>
                    <a:pt x="740" y="753"/>
                  </a:lnTo>
                  <a:lnTo>
                    <a:pt x="750" y="725"/>
                  </a:lnTo>
                  <a:lnTo>
                    <a:pt x="757" y="705"/>
                  </a:lnTo>
                  <a:lnTo>
                    <a:pt x="774" y="698"/>
                  </a:lnTo>
                  <a:lnTo>
                    <a:pt x="789" y="692"/>
                  </a:lnTo>
                  <a:lnTo>
                    <a:pt x="799" y="675"/>
                  </a:lnTo>
                  <a:lnTo>
                    <a:pt x="807" y="660"/>
                  </a:lnTo>
                  <a:lnTo>
                    <a:pt x="827" y="642"/>
                  </a:lnTo>
                  <a:lnTo>
                    <a:pt x="857" y="629"/>
                  </a:lnTo>
                  <a:lnTo>
                    <a:pt x="868" y="599"/>
                  </a:lnTo>
                  <a:lnTo>
                    <a:pt x="888" y="571"/>
                  </a:lnTo>
                  <a:lnTo>
                    <a:pt x="920" y="560"/>
                  </a:lnTo>
                  <a:lnTo>
                    <a:pt x="938" y="542"/>
                  </a:lnTo>
                  <a:lnTo>
                    <a:pt x="984" y="496"/>
                  </a:lnTo>
                  <a:lnTo>
                    <a:pt x="1023" y="489"/>
                  </a:lnTo>
                  <a:lnTo>
                    <a:pt x="1056" y="499"/>
                  </a:lnTo>
                  <a:lnTo>
                    <a:pt x="1059" y="514"/>
                  </a:lnTo>
                  <a:lnTo>
                    <a:pt x="1073" y="515"/>
                  </a:lnTo>
                  <a:lnTo>
                    <a:pt x="1084" y="512"/>
                  </a:lnTo>
                  <a:lnTo>
                    <a:pt x="1102" y="517"/>
                  </a:lnTo>
                  <a:lnTo>
                    <a:pt x="1101" y="526"/>
                  </a:lnTo>
                  <a:lnTo>
                    <a:pt x="1095" y="537"/>
                  </a:lnTo>
                  <a:lnTo>
                    <a:pt x="1076" y="544"/>
                  </a:lnTo>
                  <a:lnTo>
                    <a:pt x="1093" y="563"/>
                  </a:lnTo>
                  <a:lnTo>
                    <a:pt x="1109" y="590"/>
                  </a:lnTo>
                  <a:lnTo>
                    <a:pt x="1113" y="610"/>
                  </a:lnTo>
                  <a:lnTo>
                    <a:pt x="1109" y="660"/>
                  </a:lnTo>
                  <a:lnTo>
                    <a:pt x="1115" y="712"/>
                  </a:lnTo>
                  <a:lnTo>
                    <a:pt x="1116" y="741"/>
                  </a:lnTo>
                  <a:lnTo>
                    <a:pt x="1119" y="749"/>
                  </a:lnTo>
                  <a:lnTo>
                    <a:pt x="1119" y="764"/>
                  </a:lnTo>
                  <a:lnTo>
                    <a:pt x="1109" y="780"/>
                  </a:lnTo>
                  <a:lnTo>
                    <a:pt x="1086" y="784"/>
                  </a:lnTo>
                  <a:lnTo>
                    <a:pt x="1069" y="809"/>
                  </a:lnTo>
                  <a:lnTo>
                    <a:pt x="1045" y="809"/>
                  </a:lnTo>
                  <a:lnTo>
                    <a:pt x="1030" y="802"/>
                  </a:lnTo>
                  <a:lnTo>
                    <a:pt x="1019" y="780"/>
                  </a:lnTo>
                  <a:lnTo>
                    <a:pt x="1001" y="771"/>
                  </a:lnTo>
                  <a:lnTo>
                    <a:pt x="990" y="755"/>
                  </a:lnTo>
                  <a:lnTo>
                    <a:pt x="969" y="659"/>
                  </a:lnTo>
                  <a:lnTo>
                    <a:pt x="956" y="649"/>
                  </a:lnTo>
                  <a:lnTo>
                    <a:pt x="946" y="653"/>
                  </a:lnTo>
                  <a:lnTo>
                    <a:pt x="938" y="671"/>
                  </a:lnTo>
                  <a:lnTo>
                    <a:pt x="938" y="706"/>
                  </a:lnTo>
                  <a:lnTo>
                    <a:pt x="898" y="762"/>
                  </a:lnTo>
                  <a:lnTo>
                    <a:pt x="874" y="838"/>
                  </a:lnTo>
                  <a:lnTo>
                    <a:pt x="881" y="851"/>
                  </a:lnTo>
                  <a:lnTo>
                    <a:pt x="893" y="853"/>
                  </a:lnTo>
                  <a:lnTo>
                    <a:pt x="905" y="847"/>
                  </a:lnTo>
                  <a:lnTo>
                    <a:pt x="907" y="830"/>
                  </a:lnTo>
                  <a:lnTo>
                    <a:pt x="907" y="802"/>
                  </a:lnTo>
                  <a:lnTo>
                    <a:pt x="917" y="788"/>
                  </a:lnTo>
                  <a:lnTo>
                    <a:pt x="931" y="789"/>
                  </a:lnTo>
                  <a:lnTo>
                    <a:pt x="939" y="805"/>
                  </a:lnTo>
                  <a:lnTo>
                    <a:pt x="946" y="828"/>
                  </a:lnTo>
                  <a:lnTo>
                    <a:pt x="951" y="858"/>
                  </a:lnTo>
                  <a:lnTo>
                    <a:pt x="956" y="866"/>
                  </a:lnTo>
                  <a:lnTo>
                    <a:pt x="974" y="877"/>
                  </a:lnTo>
                  <a:lnTo>
                    <a:pt x="985" y="876"/>
                  </a:lnTo>
                  <a:lnTo>
                    <a:pt x="991" y="855"/>
                  </a:lnTo>
                  <a:lnTo>
                    <a:pt x="992" y="841"/>
                  </a:lnTo>
                  <a:lnTo>
                    <a:pt x="1001" y="828"/>
                  </a:lnTo>
                  <a:lnTo>
                    <a:pt x="1019" y="827"/>
                  </a:lnTo>
                  <a:lnTo>
                    <a:pt x="1030" y="828"/>
                  </a:lnTo>
                  <a:lnTo>
                    <a:pt x="1035" y="837"/>
                  </a:lnTo>
                  <a:lnTo>
                    <a:pt x="1049" y="837"/>
                  </a:lnTo>
                  <a:lnTo>
                    <a:pt x="1074" y="830"/>
                  </a:lnTo>
                  <a:lnTo>
                    <a:pt x="1086" y="835"/>
                  </a:lnTo>
                  <a:lnTo>
                    <a:pt x="1095" y="845"/>
                  </a:lnTo>
                  <a:lnTo>
                    <a:pt x="1100" y="860"/>
                  </a:lnTo>
                  <a:lnTo>
                    <a:pt x="1105" y="867"/>
                  </a:lnTo>
                  <a:lnTo>
                    <a:pt x="1125" y="862"/>
                  </a:lnTo>
                  <a:lnTo>
                    <a:pt x="1144" y="847"/>
                  </a:lnTo>
                  <a:lnTo>
                    <a:pt x="1144" y="827"/>
                  </a:lnTo>
                  <a:lnTo>
                    <a:pt x="1152" y="815"/>
                  </a:lnTo>
                  <a:lnTo>
                    <a:pt x="1169" y="808"/>
                  </a:lnTo>
                  <a:lnTo>
                    <a:pt x="1183" y="801"/>
                  </a:lnTo>
                  <a:lnTo>
                    <a:pt x="1201" y="785"/>
                  </a:lnTo>
                  <a:lnTo>
                    <a:pt x="1218" y="780"/>
                  </a:lnTo>
                  <a:lnTo>
                    <a:pt x="1235" y="781"/>
                  </a:lnTo>
                  <a:lnTo>
                    <a:pt x="1248" y="798"/>
                  </a:lnTo>
                  <a:lnTo>
                    <a:pt x="1246" y="820"/>
                  </a:lnTo>
                  <a:lnTo>
                    <a:pt x="1242" y="837"/>
                  </a:lnTo>
                  <a:lnTo>
                    <a:pt x="1230" y="844"/>
                  </a:lnTo>
                  <a:lnTo>
                    <a:pt x="1219" y="834"/>
                  </a:lnTo>
                  <a:lnTo>
                    <a:pt x="1205" y="827"/>
                  </a:lnTo>
                  <a:lnTo>
                    <a:pt x="1184" y="833"/>
                  </a:lnTo>
                  <a:lnTo>
                    <a:pt x="1175" y="851"/>
                  </a:lnTo>
                  <a:lnTo>
                    <a:pt x="1184" y="880"/>
                  </a:lnTo>
                  <a:lnTo>
                    <a:pt x="1196" y="887"/>
                  </a:lnTo>
                  <a:lnTo>
                    <a:pt x="1219" y="887"/>
                  </a:lnTo>
                  <a:lnTo>
                    <a:pt x="1235" y="870"/>
                  </a:lnTo>
                  <a:lnTo>
                    <a:pt x="1255" y="866"/>
                  </a:lnTo>
                  <a:lnTo>
                    <a:pt x="1279" y="876"/>
                  </a:lnTo>
                  <a:lnTo>
                    <a:pt x="1314" y="872"/>
                  </a:lnTo>
                  <a:lnTo>
                    <a:pt x="1342" y="870"/>
                  </a:lnTo>
                  <a:lnTo>
                    <a:pt x="1356" y="877"/>
                  </a:lnTo>
                  <a:lnTo>
                    <a:pt x="1384" y="877"/>
                  </a:lnTo>
                  <a:lnTo>
                    <a:pt x="1395" y="887"/>
                  </a:lnTo>
                  <a:lnTo>
                    <a:pt x="1378" y="899"/>
                  </a:lnTo>
                  <a:lnTo>
                    <a:pt x="1378" y="916"/>
                  </a:lnTo>
                  <a:lnTo>
                    <a:pt x="1388" y="929"/>
                  </a:lnTo>
                  <a:lnTo>
                    <a:pt x="1417" y="927"/>
                  </a:lnTo>
                  <a:lnTo>
                    <a:pt x="1436" y="929"/>
                  </a:lnTo>
                  <a:lnTo>
                    <a:pt x="1441" y="940"/>
                  </a:lnTo>
                  <a:lnTo>
                    <a:pt x="1453" y="948"/>
                  </a:lnTo>
                  <a:lnTo>
                    <a:pt x="1473" y="936"/>
                  </a:lnTo>
                  <a:lnTo>
                    <a:pt x="1482" y="936"/>
                  </a:lnTo>
                  <a:lnTo>
                    <a:pt x="1489" y="955"/>
                  </a:lnTo>
                  <a:lnTo>
                    <a:pt x="1484" y="963"/>
                  </a:lnTo>
                  <a:lnTo>
                    <a:pt x="1484" y="979"/>
                  </a:lnTo>
                  <a:lnTo>
                    <a:pt x="1493" y="982"/>
                  </a:lnTo>
                  <a:lnTo>
                    <a:pt x="1510" y="982"/>
                  </a:lnTo>
                  <a:lnTo>
                    <a:pt x="1516" y="965"/>
                  </a:lnTo>
                  <a:lnTo>
                    <a:pt x="1523" y="952"/>
                  </a:lnTo>
                  <a:lnTo>
                    <a:pt x="1535" y="943"/>
                  </a:lnTo>
                  <a:lnTo>
                    <a:pt x="1535" y="927"/>
                  </a:lnTo>
                  <a:lnTo>
                    <a:pt x="1535" y="906"/>
                  </a:lnTo>
                  <a:lnTo>
                    <a:pt x="1520" y="897"/>
                  </a:lnTo>
                  <a:lnTo>
                    <a:pt x="1520" y="876"/>
                  </a:lnTo>
                  <a:lnTo>
                    <a:pt x="1531" y="866"/>
                  </a:lnTo>
                  <a:lnTo>
                    <a:pt x="1545" y="881"/>
                  </a:lnTo>
                  <a:lnTo>
                    <a:pt x="1552" y="901"/>
                  </a:lnTo>
                  <a:lnTo>
                    <a:pt x="1585" y="938"/>
                  </a:lnTo>
                  <a:lnTo>
                    <a:pt x="1620" y="976"/>
                  </a:lnTo>
                  <a:lnTo>
                    <a:pt x="1630" y="986"/>
                  </a:lnTo>
                  <a:lnTo>
                    <a:pt x="1649" y="1026"/>
                  </a:lnTo>
                  <a:lnTo>
                    <a:pt x="1661" y="1061"/>
                  </a:lnTo>
                  <a:lnTo>
                    <a:pt x="1668" y="1075"/>
                  </a:lnTo>
                  <a:lnTo>
                    <a:pt x="1679" y="1075"/>
                  </a:lnTo>
                  <a:lnTo>
                    <a:pt x="1688" y="1065"/>
                  </a:lnTo>
                  <a:lnTo>
                    <a:pt x="1690" y="1043"/>
                  </a:lnTo>
                  <a:lnTo>
                    <a:pt x="1687" y="1012"/>
                  </a:lnTo>
                  <a:lnTo>
                    <a:pt x="1683" y="989"/>
                  </a:lnTo>
                  <a:lnTo>
                    <a:pt x="1688" y="961"/>
                  </a:lnTo>
                  <a:lnTo>
                    <a:pt x="1706" y="929"/>
                  </a:lnTo>
                  <a:lnTo>
                    <a:pt x="1705" y="899"/>
                  </a:lnTo>
                  <a:lnTo>
                    <a:pt x="1718" y="873"/>
                  </a:lnTo>
                  <a:lnTo>
                    <a:pt x="1739" y="866"/>
                  </a:lnTo>
                  <a:lnTo>
                    <a:pt x="1765" y="859"/>
                  </a:lnTo>
                  <a:lnTo>
                    <a:pt x="1783" y="851"/>
                  </a:lnTo>
                  <a:lnTo>
                    <a:pt x="1793" y="819"/>
                  </a:lnTo>
                  <a:lnTo>
                    <a:pt x="1811" y="806"/>
                  </a:lnTo>
                  <a:lnTo>
                    <a:pt x="1826" y="799"/>
                  </a:lnTo>
                  <a:lnTo>
                    <a:pt x="1851" y="820"/>
                  </a:lnTo>
                  <a:lnTo>
                    <a:pt x="1858" y="858"/>
                  </a:lnTo>
                  <a:lnTo>
                    <a:pt x="1851" y="879"/>
                  </a:lnTo>
                  <a:lnTo>
                    <a:pt x="1836" y="895"/>
                  </a:lnTo>
                  <a:lnTo>
                    <a:pt x="1819" y="911"/>
                  </a:lnTo>
                  <a:lnTo>
                    <a:pt x="1803" y="933"/>
                  </a:lnTo>
                  <a:lnTo>
                    <a:pt x="1796" y="959"/>
                  </a:lnTo>
                  <a:lnTo>
                    <a:pt x="1800" y="982"/>
                  </a:lnTo>
                  <a:lnTo>
                    <a:pt x="1793" y="1001"/>
                  </a:lnTo>
                  <a:lnTo>
                    <a:pt x="1769" y="1037"/>
                  </a:lnTo>
                  <a:lnTo>
                    <a:pt x="1769" y="1078"/>
                  </a:lnTo>
                  <a:lnTo>
                    <a:pt x="1765" y="1089"/>
                  </a:lnTo>
                  <a:lnTo>
                    <a:pt x="1775" y="1108"/>
                  </a:lnTo>
                  <a:lnTo>
                    <a:pt x="1758" y="1144"/>
                  </a:lnTo>
                  <a:lnTo>
                    <a:pt x="1725" y="1181"/>
                  </a:lnTo>
                  <a:lnTo>
                    <a:pt x="1694" y="1185"/>
                  </a:lnTo>
                  <a:lnTo>
                    <a:pt x="1679" y="1195"/>
                  </a:lnTo>
                  <a:lnTo>
                    <a:pt x="1676" y="1211"/>
                  </a:lnTo>
                  <a:lnTo>
                    <a:pt x="1683" y="1239"/>
                  </a:lnTo>
                  <a:lnTo>
                    <a:pt x="1702" y="1243"/>
                  </a:lnTo>
                  <a:lnTo>
                    <a:pt x="1732" y="1207"/>
                  </a:lnTo>
                  <a:lnTo>
                    <a:pt x="1762" y="1204"/>
                  </a:lnTo>
                  <a:lnTo>
                    <a:pt x="1775" y="1186"/>
                  </a:lnTo>
                  <a:lnTo>
                    <a:pt x="1776" y="1157"/>
                  </a:lnTo>
                  <a:lnTo>
                    <a:pt x="1796" y="1118"/>
                  </a:lnTo>
                  <a:lnTo>
                    <a:pt x="1808" y="1104"/>
                  </a:lnTo>
                  <a:lnTo>
                    <a:pt x="1825" y="1103"/>
                  </a:lnTo>
                  <a:lnTo>
                    <a:pt x="1844" y="1114"/>
                  </a:lnTo>
                  <a:lnTo>
                    <a:pt x="1864" y="1114"/>
                  </a:lnTo>
                  <a:lnTo>
                    <a:pt x="1867" y="1099"/>
                  </a:lnTo>
                  <a:lnTo>
                    <a:pt x="1857" y="1086"/>
                  </a:lnTo>
                  <a:lnTo>
                    <a:pt x="1830" y="1079"/>
                  </a:lnTo>
                  <a:lnTo>
                    <a:pt x="1815" y="1076"/>
                  </a:lnTo>
                  <a:lnTo>
                    <a:pt x="1805" y="1062"/>
                  </a:lnTo>
                  <a:lnTo>
                    <a:pt x="1810" y="1040"/>
                  </a:lnTo>
                  <a:lnTo>
                    <a:pt x="1825" y="1022"/>
                  </a:lnTo>
                  <a:lnTo>
                    <a:pt x="1833" y="1005"/>
                  </a:lnTo>
                  <a:lnTo>
                    <a:pt x="1839" y="982"/>
                  </a:lnTo>
                  <a:lnTo>
                    <a:pt x="1839" y="948"/>
                  </a:lnTo>
                  <a:lnTo>
                    <a:pt x="1844" y="927"/>
                  </a:lnTo>
                  <a:lnTo>
                    <a:pt x="1854" y="902"/>
                  </a:lnTo>
                  <a:lnTo>
                    <a:pt x="1868" y="891"/>
                  </a:lnTo>
                  <a:lnTo>
                    <a:pt x="1885" y="887"/>
                  </a:lnTo>
                  <a:lnTo>
                    <a:pt x="1890" y="872"/>
                  </a:lnTo>
                  <a:lnTo>
                    <a:pt x="1901" y="860"/>
                  </a:lnTo>
                  <a:lnTo>
                    <a:pt x="1911" y="869"/>
                  </a:lnTo>
                  <a:lnTo>
                    <a:pt x="1897" y="888"/>
                  </a:lnTo>
                  <a:lnTo>
                    <a:pt x="1897" y="902"/>
                  </a:lnTo>
                  <a:lnTo>
                    <a:pt x="1900" y="918"/>
                  </a:lnTo>
                  <a:lnTo>
                    <a:pt x="1919" y="915"/>
                  </a:lnTo>
                  <a:lnTo>
                    <a:pt x="1936" y="908"/>
                  </a:lnTo>
                  <a:lnTo>
                    <a:pt x="1943" y="894"/>
                  </a:lnTo>
                  <a:lnTo>
                    <a:pt x="1956" y="886"/>
                  </a:lnTo>
                  <a:lnTo>
                    <a:pt x="1965" y="894"/>
                  </a:lnTo>
                  <a:lnTo>
                    <a:pt x="1985" y="918"/>
                  </a:lnTo>
                  <a:lnTo>
                    <a:pt x="1995" y="924"/>
                  </a:lnTo>
                  <a:lnTo>
                    <a:pt x="2011" y="927"/>
                  </a:lnTo>
                  <a:lnTo>
                    <a:pt x="2014" y="905"/>
                  </a:lnTo>
                  <a:lnTo>
                    <a:pt x="2004" y="886"/>
                  </a:lnTo>
                  <a:lnTo>
                    <a:pt x="1999" y="859"/>
                  </a:lnTo>
                  <a:lnTo>
                    <a:pt x="2011" y="842"/>
                  </a:lnTo>
                  <a:lnTo>
                    <a:pt x="2029" y="835"/>
                  </a:lnTo>
                  <a:lnTo>
                    <a:pt x="2057" y="835"/>
                  </a:lnTo>
                  <a:lnTo>
                    <a:pt x="2081" y="849"/>
                  </a:lnTo>
                  <a:lnTo>
                    <a:pt x="2130" y="841"/>
                  </a:lnTo>
                  <a:lnTo>
                    <a:pt x="2156" y="830"/>
                  </a:lnTo>
                  <a:lnTo>
                    <a:pt x="2160" y="805"/>
                  </a:lnTo>
                  <a:lnTo>
                    <a:pt x="2160" y="789"/>
                  </a:lnTo>
                  <a:lnTo>
                    <a:pt x="2171" y="773"/>
                  </a:lnTo>
                  <a:lnTo>
                    <a:pt x="2217" y="746"/>
                  </a:lnTo>
                  <a:lnTo>
                    <a:pt x="2270" y="712"/>
                  </a:lnTo>
                  <a:lnTo>
                    <a:pt x="2309" y="703"/>
                  </a:lnTo>
                  <a:lnTo>
                    <a:pt x="2320" y="721"/>
                  </a:lnTo>
                  <a:lnTo>
                    <a:pt x="2361" y="706"/>
                  </a:lnTo>
                  <a:lnTo>
                    <a:pt x="2391" y="692"/>
                  </a:lnTo>
                  <a:lnTo>
                    <a:pt x="2403" y="639"/>
                  </a:lnTo>
                  <a:lnTo>
                    <a:pt x="2439" y="603"/>
                  </a:lnTo>
                  <a:lnTo>
                    <a:pt x="2454" y="604"/>
                  </a:lnTo>
                  <a:lnTo>
                    <a:pt x="2461" y="610"/>
                  </a:lnTo>
                  <a:lnTo>
                    <a:pt x="2464" y="625"/>
                  </a:lnTo>
                  <a:lnTo>
                    <a:pt x="2464" y="649"/>
                  </a:lnTo>
                  <a:lnTo>
                    <a:pt x="2465" y="660"/>
                  </a:lnTo>
                  <a:lnTo>
                    <a:pt x="2497" y="668"/>
                  </a:lnTo>
                  <a:lnTo>
                    <a:pt x="2539" y="639"/>
                  </a:lnTo>
                  <a:lnTo>
                    <a:pt x="2559" y="639"/>
                  </a:lnTo>
                  <a:lnTo>
                    <a:pt x="2579" y="649"/>
                  </a:lnTo>
                  <a:lnTo>
                    <a:pt x="2592" y="666"/>
                  </a:lnTo>
                  <a:lnTo>
                    <a:pt x="2606" y="724"/>
                  </a:lnTo>
                  <a:lnTo>
                    <a:pt x="2604" y="745"/>
                  </a:lnTo>
                  <a:lnTo>
                    <a:pt x="2579" y="763"/>
                  </a:lnTo>
                  <a:lnTo>
                    <a:pt x="2559" y="791"/>
                  </a:lnTo>
                  <a:lnTo>
                    <a:pt x="2540" y="824"/>
                  </a:lnTo>
                  <a:lnTo>
                    <a:pt x="2531" y="855"/>
                  </a:lnTo>
                  <a:lnTo>
                    <a:pt x="2520" y="873"/>
                  </a:lnTo>
                  <a:lnTo>
                    <a:pt x="2521" y="884"/>
                  </a:lnTo>
                  <a:lnTo>
                    <a:pt x="2540" y="891"/>
                  </a:lnTo>
                  <a:lnTo>
                    <a:pt x="2553" y="867"/>
                  </a:lnTo>
                  <a:lnTo>
                    <a:pt x="2584" y="841"/>
                  </a:lnTo>
                  <a:lnTo>
                    <a:pt x="2625" y="819"/>
                  </a:lnTo>
                  <a:lnTo>
                    <a:pt x="2662" y="810"/>
                  </a:lnTo>
                  <a:lnTo>
                    <a:pt x="2695" y="810"/>
                  </a:lnTo>
                  <a:lnTo>
                    <a:pt x="2717" y="815"/>
                  </a:lnTo>
                  <a:lnTo>
                    <a:pt x="2738" y="815"/>
                  </a:lnTo>
                  <a:lnTo>
                    <a:pt x="2741" y="821"/>
                  </a:lnTo>
                  <a:lnTo>
                    <a:pt x="2742" y="838"/>
                  </a:lnTo>
                  <a:lnTo>
                    <a:pt x="2763" y="845"/>
                  </a:lnTo>
                  <a:lnTo>
                    <a:pt x="2787" y="845"/>
                  </a:lnTo>
                  <a:lnTo>
                    <a:pt x="2815" y="849"/>
                  </a:lnTo>
                  <a:lnTo>
                    <a:pt x="2826" y="837"/>
                  </a:lnTo>
                  <a:lnTo>
                    <a:pt x="2822" y="817"/>
                  </a:lnTo>
                  <a:lnTo>
                    <a:pt x="2805" y="795"/>
                  </a:lnTo>
                  <a:lnTo>
                    <a:pt x="2795" y="780"/>
                  </a:lnTo>
                  <a:lnTo>
                    <a:pt x="2809" y="763"/>
                  </a:lnTo>
                  <a:lnTo>
                    <a:pt x="2833" y="759"/>
                  </a:lnTo>
                  <a:lnTo>
                    <a:pt x="2863" y="759"/>
                  </a:lnTo>
                  <a:lnTo>
                    <a:pt x="2897" y="774"/>
                  </a:lnTo>
                  <a:lnTo>
                    <a:pt x="2916" y="784"/>
                  </a:lnTo>
                  <a:lnTo>
                    <a:pt x="2930" y="802"/>
                  </a:lnTo>
                  <a:lnTo>
                    <a:pt x="2929" y="819"/>
                  </a:lnTo>
                  <a:lnTo>
                    <a:pt x="2936" y="831"/>
                  </a:lnTo>
                  <a:lnTo>
                    <a:pt x="2946" y="844"/>
                  </a:lnTo>
                  <a:lnTo>
                    <a:pt x="2982" y="858"/>
                  </a:lnTo>
                  <a:lnTo>
                    <a:pt x="2994" y="870"/>
                  </a:lnTo>
                  <a:lnTo>
                    <a:pt x="3003" y="877"/>
                  </a:lnTo>
                  <a:lnTo>
                    <a:pt x="3018" y="873"/>
                  </a:lnTo>
                  <a:lnTo>
                    <a:pt x="3018" y="851"/>
                  </a:lnTo>
                  <a:lnTo>
                    <a:pt x="3010" y="826"/>
                  </a:lnTo>
                  <a:lnTo>
                    <a:pt x="3010" y="802"/>
                  </a:lnTo>
                  <a:lnTo>
                    <a:pt x="3022" y="805"/>
                  </a:lnTo>
                  <a:lnTo>
                    <a:pt x="3037" y="817"/>
                  </a:lnTo>
                  <a:lnTo>
                    <a:pt x="3050" y="821"/>
                  </a:lnTo>
                  <a:lnTo>
                    <a:pt x="3138" y="769"/>
                  </a:lnTo>
                  <a:lnTo>
                    <a:pt x="3147" y="748"/>
                  </a:lnTo>
                  <a:lnTo>
                    <a:pt x="3140" y="732"/>
                  </a:lnTo>
                  <a:lnTo>
                    <a:pt x="3114" y="735"/>
                  </a:lnTo>
                  <a:lnTo>
                    <a:pt x="3100" y="712"/>
                  </a:lnTo>
                  <a:lnTo>
                    <a:pt x="3100" y="692"/>
                  </a:lnTo>
                  <a:lnTo>
                    <a:pt x="3117" y="666"/>
                  </a:lnTo>
                  <a:lnTo>
                    <a:pt x="3136" y="654"/>
                  </a:lnTo>
                  <a:lnTo>
                    <a:pt x="3165" y="639"/>
                  </a:lnTo>
                  <a:lnTo>
                    <a:pt x="3199" y="627"/>
                  </a:lnTo>
                  <a:lnTo>
                    <a:pt x="3213" y="639"/>
                  </a:lnTo>
                  <a:lnTo>
                    <a:pt x="3220" y="659"/>
                  </a:lnTo>
                  <a:lnTo>
                    <a:pt x="3230" y="661"/>
                  </a:lnTo>
                  <a:lnTo>
                    <a:pt x="3232" y="643"/>
                  </a:lnTo>
                  <a:lnTo>
                    <a:pt x="3235" y="613"/>
                  </a:lnTo>
                  <a:lnTo>
                    <a:pt x="3246" y="596"/>
                  </a:lnTo>
                  <a:lnTo>
                    <a:pt x="3257" y="590"/>
                  </a:lnTo>
                  <a:lnTo>
                    <a:pt x="3273" y="589"/>
                  </a:lnTo>
                  <a:lnTo>
                    <a:pt x="3287" y="597"/>
                  </a:lnTo>
                  <a:lnTo>
                    <a:pt x="3314" y="620"/>
                  </a:lnTo>
                  <a:lnTo>
                    <a:pt x="3334" y="625"/>
                  </a:lnTo>
                  <a:lnTo>
                    <a:pt x="3355" y="615"/>
                  </a:lnTo>
                  <a:lnTo>
                    <a:pt x="3374" y="599"/>
                  </a:lnTo>
                  <a:lnTo>
                    <a:pt x="3391" y="576"/>
                  </a:lnTo>
                  <a:lnTo>
                    <a:pt x="3401" y="543"/>
                  </a:lnTo>
                  <a:lnTo>
                    <a:pt x="3424" y="521"/>
                  </a:lnTo>
                  <a:lnTo>
                    <a:pt x="3447" y="508"/>
                  </a:lnTo>
                  <a:lnTo>
                    <a:pt x="3463" y="504"/>
                  </a:lnTo>
                  <a:lnTo>
                    <a:pt x="3480" y="508"/>
                  </a:lnTo>
                  <a:lnTo>
                    <a:pt x="3494" y="518"/>
                  </a:lnTo>
                  <a:lnTo>
                    <a:pt x="3515" y="524"/>
                  </a:lnTo>
                  <a:lnTo>
                    <a:pt x="3534" y="522"/>
                  </a:lnTo>
                  <a:lnTo>
                    <a:pt x="3554" y="499"/>
                  </a:lnTo>
                  <a:lnTo>
                    <a:pt x="3565" y="479"/>
                  </a:lnTo>
                  <a:lnTo>
                    <a:pt x="3582" y="454"/>
                  </a:lnTo>
                  <a:lnTo>
                    <a:pt x="3608" y="436"/>
                  </a:lnTo>
                  <a:lnTo>
                    <a:pt x="3619" y="421"/>
                  </a:lnTo>
                  <a:lnTo>
                    <a:pt x="3622" y="387"/>
                  </a:lnTo>
                  <a:lnTo>
                    <a:pt x="3653" y="387"/>
                  </a:lnTo>
                  <a:lnTo>
                    <a:pt x="3696" y="387"/>
                  </a:lnTo>
                  <a:lnTo>
                    <a:pt x="3707" y="376"/>
                  </a:lnTo>
                  <a:lnTo>
                    <a:pt x="3708" y="358"/>
                  </a:lnTo>
                  <a:lnTo>
                    <a:pt x="3701" y="345"/>
                  </a:lnTo>
                  <a:lnTo>
                    <a:pt x="3678" y="341"/>
                  </a:lnTo>
                  <a:lnTo>
                    <a:pt x="3650" y="341"/>
                  </a:lnTo>
                  <a:lnTo>
                    <a:pt x="3643" y="333"/>
                  </a:lnTo>
                  <a:lnTo>
                    <a:pt x="3649" y="316"/>
                  </a:lnTo>
                  <a:lnTo>
                    <a:pt x="3665" y="280"/>
                  </a:lnTo>
                  <a:lnTo>
                    <a:pt x="3700" y="234"/>
                  </a:lnTo>
                  <a:lnTo>
                    <a:pt x="3775" y="171"/>
                  </a:lnTo>
                  <a:lnTo>
                    <a:pt x="3805" y="152"/>
                  </a:lnTo>
                  <a:lnTo>
                    <a:pt x="3841" y="130"/>
                  </a:lnTo>
                  <a:lnTo>
                    <a:pt x="3891" y="112"/>
                  </a:lnTo>
                  <a:lnTo>
                    <a:pt x="3927" y="91"/>
                  </a:lnTo>
                  <a:lnTo>
                    <a:pt x="3935" y="77"/>
                  </a:lnTo>
                  <a:lnTo>
                    <a:pt x="3940" y="53"/>
                  </a:lnTo>
                  <a:lnTo>
                    <a:pt x="3945" y="34"/>
                  </a:lnTo>
                  <a:lnTo>
                    <a:pt x="3956" y="14"/>
                  </a:lnTo>
                  <a:lnTo>
                    <a:pt x="3973" y="3"/>
                  </a:lnTo>
                  <a:lnTo>
                    <a:pt x="3998" y="0"/>
                  </a:lnTo>
                  <a:lnTo>
                    <a:pt x="4019" y="4"/>
                  </a:lnTo>
                  <a:lnTo>
                    <a:pt x="4041" y="17"/>
                  </a:lnTo>
                  <a:lnTo>
                    <a:pt x="4052" y="38"/>
                  </a:lnTo>
                  <a:lnTo>
                    <a:pt x="4065" y="56"/>
                  </a:lnTo>
                  <a:lnTo>
                    <a:pt x="4082" y="64"/>
                  </a:lnTo>
                  <a:lnTo>
                    <a:pt x="4083" y="64"/>
                  </a:lnTo>
                  <a:lnTo>
                    <a:pt x="4100" y="79"/>
                  </a:lnTo>
                  <a:lnTo>
                    <a:pt x="4104" y="93"/>
                  </a:lnTo>
                  <a:lnTo>
                    <a:pt x="4087" y="116"/>
                  </a:lnTo>
                  <a:lnTo>
                    <a:pt x="4075" y="138"/>
                  </a:lnTo>
                  <a:lnTo>
                    <a:pt x="4077" y="155"/>
                  </a:lnTo>
                  <a:lnTo>
                    <a:pt x="4072" y="166"/>
                  </a:lnTo>
                  <a:lnTo>
                    <a:pt x="4052" y="166"/>
                  </a:lnTo>
                  <a:lnTo>
                    <a:pt x="4044" y="152"/>
                  </a:lnTo>
                  <a:lnTo>
                    <a:pt x="4026" y="146"/>
                  </a:lnTo>
                  <a:lnTo>
                    <a:pt x="4011" y="149"/>
                  </a:lnTo>
                  <a:lnTo>
                    <a:pt x="4008" y="194"/>
                  </a:lnTo>
                  <a:lnTo>
                    <a:pt x="3991" y="205"/>
                  </a:lnTo>
                  <a:lnTo>
                    <a:pt x="3953" y="194"/>
                  </a:lnTo>
                  <a:lnTo>
                    <a:pt x="3945" y="202"/>
                  </a:lnTo>
                  <a:lnTo>
                    <a:pt x="3944" y="221"/>
                  </a:lnTo>
                  <a:lnTo>
                    <a:pt x="3963" y="233"/>
                  </a:lnTo>
                  <a:lnTo>
                    <a:pt x="3998" y="234"/>
                  </a:lnTo>
                  <a:lnTo>
                    <a:pt x="4016" y="287"/>
                  </a:lnTo>
                  <a:lnTo>
                    <a:pt x="4015" y="299"/>
                  </a:lnTo>
                  <a:lnTo>
                    <a:pt x="3995" y="320"/>
                  </a:lnTo>
                  <a:lnTo>
                    <a:pt x="3985" y="336"/>
                  </a:lnTo>
                  <a:lnTo>
                    <a:pt x="3991" y="348"/>
                  </a:lnTo>
                  <a:lnTo>
                    <a:pt x="3992" y="357"/>
                  </a:lnTo>
                  <a:lnTo>
                    <a:pt x="4022" y="338"/>
                  </a:lnTo>
                  <a:lnTo>
                    <a:pt x="4031" y="316"/>
                  </a:lnTo>
                  <a:lnTo>
                    <a:pt x="4055" y="305"/>
                  </a:lnTo>
                  <a:lnTo>
                    <a:pt x="4076" y="309"/>
                  </a:lnTo>
                  <a:lnTo>
                    <a:pt x="4105" y="311"/>
                  </a:lnTo>
                  <a:lnTo>
                    <a:pt x="4132" y="313"/>
                  </a:lnTo>
                  <a:lnTo>
                    <a:pt x="4150" y="326"/>
                  </a:lnTo>
                  <a:lnTo>
                    <a:pt x="4154" y="336"/>
                  </a:lnTo>
                  <a:lnTo>
                    <a:pt x="4151" y="345"/>
                  </a:lnTo>
                  <a:lnTo>
                    <a:pt x="4140" y="358"/>
                  </a:lnTo>
                  <a:lnTo>
                    <a:pt x="4132" y="368"/>
                  </a:lnTo>
                  <a:lnTo>
                    <a:pt x="4127" y="389"/>
                  </a:lnTo>
                  <a:lnTo>
                    <a:pt x="4122" y="414"/>
                  </a:lnTo>
                  <a:lnTo>
                    <a:pt x="4119" y="447"/>
                  </a:lnTo>
                  <a:lnTo>
                    <a:pt x="4123" y="496"/>
                  </a:lnTo>
                  <a:lnTo>
                    <a:pt x="4130" y="543"/>
                  </a:lnTo>
                  <a:lnTo>
                    <a:pt x="4133" y="586"/>
                  </a:lnTo>
                  <a:lnTo>
                    <a:pt x="4147" y="606"/>
                  </a:lnTo>
                  <a:lnTo>
                    <a:pt x="4161" y="622"/>
                  </a:lnTo>
                  <a:lnTo>
                    <a:pt x="4165" y="631"/>
                  </a:lnTo>
                  <a:lnTo>
                    <a:pt x="4153" y="641"/>
                  </a:lnTo>
                  <a:lnTo>
                    <a:pt x="4143" y="642"/>
                  </a:lnTo>
                  <a:lnTo>
                    <a:pt x="4133" y="631"/>
                  </a:lnTo>
                  <a:lnTo>
                    <a:pt x="4121" y="631"/>
                  </a:lnTo>
                  <a:lnTo>
                    <a:pt x="4104" y="668"/>
                  </a:lnTo>
                  <a:lnTo>
                    <a:pt x="4090" y="714"/>
                  </a:lnTo>
                  <a:lnTo>
                    <a:pt x="4082" y="767"/>
                  </a:lnTo>
                  <a:lnTo>
                    <a:pt x="4072" y="788"/>
                  </a:lnTo>
                  <a:lnTo>
                    <a:pt x="4075" y="808"/>
                  </a:lnTo>
                  <a:lnTo>
                    <a:pt x="4097" y="833"/>
                  </a:lnTo>
                  <a:lnTo>
                    <a:pt x="4107" y="856"/>
                  </a:lnTo>
                  <a:lnTo>
                    <a:pt x="4111" y="881"/>
                  </a:lnTo>
                  <a:lnTo>
                    <a:pt x="4123" y="908"/>
                  </a:lnTo>
                  <a:lnTo>
                    <a:pt x="4140" y="912"/>
                  </a:lnTo>
                  <a:lnTo>
                    <a:pt x="4143" y="881"/>
                  </a:lnTo>
                  <a:lnTo>
                    <a:pt x="4172" y="879"/>
                  </a:lnTo>
                  <a:lnTo>
                    <a:pt x="4198" y="915"/>
                  </a:lnTo>
                  <a:lnTo>
                    <a:pt x="4244" y="937"/>
                  </a:lnTo>
                  <a:lnTo>
                    <a:pt x="4254" y="961"/>
                  </a:lnTo>
                  <a:lnTo>
                    <a:pt x="4221" y="948"/>
                  </a:lnTo>
                  <a:lnTo>
                    <a:pt x="4225" y="970"/>
                  </a:lnTo>
                  <a:lnTo>
                    <a:pt x="4267" y="1011"/>
                  </a:lnTo>
                  <a:lnTo>
                    <a:pt x="4288" y="1021"/>
                  </a:lnTo>
                  <a:lnTo>
                    <a:pt x="4300" y="1047"/>
                  </a:lnTo>
                  <a:lnTo>
                    <a:pt x="4283" y="1062"/>
                  </a:lnTo>
                  <a:lnTo>
                    <a:pt x="4283" y="1096"/>
                  </a:lnTo>
                  <a:lnTo>
                    <a:pt x="4303" y="1125"/>
                  </a:lnTo>
                  <a:lnTo>
                    <a:pt x="4307" y="1154"/>
                  </a:lnTo>
                  <a:lnTo>
                    <a:pt x="4300" y="1188"/>
                  </a:lnTo>
                  <a:lnTo>
                    <a:pt x="4334" y="1214"/>
                  </a:lnTo>
                  <a:lnTo>
                    <a:pt x="4353" y="1270"/>
                  </a:lnTo>
                  <a:lnTo>
                    <a:pt x="4366" y="1323"/>
                  </a:lnTo>
                  <a:lnTo>
                    <a:pt x="4368" y="1401"/>
                  </a:lnTo>
                  <a:lnTo>
                    <a:pt x="4343" y="1410"/>
                  </a:lnTo>
                  <a:lnTo>
                    <a:pt x="4339" y="1374"/>
                  </a:lnTo>
                  <a:lnTo>
                    <a:pt x="4322" y="1313"/>
                  </a:lnTo>
                  <a:lnTo>
                    <a:pt x="4221" y="1250"/>
                  </a:lnTo>
                  <a:lnTo>
                    <a:pt x="4107" y="1188"/>
                  </a:lnTo>
                  <a:lnTo>
                    <a:pt x="4070" y="1139"/>
                  </a:lnTo>
                  <a:lnTo>
                    <a:pt x="4047" y="1079"/>
                  </a:lnTo>
                  <a:lnTo>
                    <a:pt x="4031" y="1053"/>
                  </a:lnTo>
                  <a:lnTo>
                    <a:pt x="4045" y="1012"/>
                  </a:lnTo>
                  <a:lnTo>
                    <a:pt x="4029" y="919"/>
                  </a:lnTo>
                  <a:lnTo>
                    <a:pt x="4012" y="844"/>
                  </a:lnTo>
                  <a:lnTo>
                    <a:pt x="4008" y="784"/>
                  </a:lnTo>
                  <a:lnTo>
                    <a:pt x="3998" y="757"/>
                  </a:lnTo>
                  <a:lnTo>
                    <a:pt x="3983" y="738"/>
                  </a:lnTo>
                  <a:lnTo>
                    <a:pt x="3963" y="731"/>
                  </a:lnTo>
                  <a:lnTo>
                    <a:pt x="3949" y="717"/>
                  </a:lnTo>
                  <a:lnTo>
                    <a:pt x="3945" y="696"/>
                  </a:lnTo>
                  <a:lnTo>
                    <a:pt x="3952" y="671"/>
                  </a:lnTo>
                  <a:lnTo>
                    <a:pt x="3931" y="686"/>
                  </a:lnTo>
                  <a:lnTo>
                    <a:pt x="3926" y="703"/>
                  </a:lnTo>
                  <a:lnTo>
                    <a:pt x="3926" y="728"/>
                  </a:lnTo>
                  <a:lnTo>
                    <a:pt x="3945" y="757"/>
                  </a:lnTo>
                  <a:lnTo>
                    <a:pt x="3962" y="784"/>
                  </a:lnTo>
                  <a:lnTo>
                    <a:pt x="3979" y="820"/>
                  </a:lnTo>
                  <a:lnTo>
                    <a:pt x="3983" y="852"/>
                  </a:lnTo>
                  <a:lnTo>
                    <a:pt x="3969" y="866"/>
                  </a:lnTo>
                  <a:lnTo>
                    <a:pt x="3935" y="862"/>
                  </a:lnTo>
                  <a:lnTo>
                    <a:pt x="3913" y="842"/>
                  </a:lnTo>
                  <a:lnTo>
                    <a:pt x="3889" y="840"/>
                  </a:lnTo>
                  <a:lnTo>
                    <a:pt x="3870" y="862"/>
                  </a:lnTo>
                  <a:lnTo>
                    <a:pt x="3870" y="918"/>
                  </a:lnTo>
                  <a:lnTo>
                    <a:pt x="3880" y="973"/>
                  </a:lnTo>
                  <a:lnTo>
                    <a:pt x="3887" y="1011"/>
                  </a:lnTo>
                  <a:lnTo>
                    <a:pt x="3903" y="1033"/>
                  </a:lnTo>
                  <a:lnTo>
                    <a:pt x="3919" y="1016"/>
                  </a:lnTo>
                  <a:lnTo>
                    <a:pt x="3940" y="1021"/>
                  </a:lnTo>
                  <a:lnTo>
                    <a:pt x="3940" y="1037"/>
                  </a:lnTo>
                  <a:lnTo>
                    <a:pt x="3913" y="1069"/>
                  </a:lnTo>
                  <a:lnTo>
                    <a:pt x="3894" y="1099"/>
                  </a:lnTo>
                  <a:lnTo>
                    <a:pt x="3870" y="1139"/>
                  </a:lnTo>
                  <a:lnTo>
                    <a:pt x="3853" y="1132"/>
                  </a:lnTo>
                  <a:lnTo>
                    <a:pt x="3863" y="1093"/>
                  </a:lnTo>
                  <a:lnTo>
                    <a:pt x="3841" y="1093"/>
                  </a:lnTo>
                  <a:lnTo>
                    <a:pt x="3824" y="1122"/>
                  </a:lnTo>
                  <a:lnTo>
                    <a:pt x="3791" y="1135"/>
                  </a:lnTo>
                  <a:lnTo>
                    <a:pt x="3791" y="1178"/>
                  </a:lnTo>
                  <a:lnTo>
                    <a:pt x="3756" y="1204"/>
                  </a:lnTo>
                  <a:lnTo>
                    <a:pt x="3729" y="1217"/>
                  </a:lnTo>
                  <a:lnTo>
                    <a:pt x="3688" y="1243"/>
                  </a:lnTo>
                  <a:lnTo>
                    <a:pt x="3656" y="1310"/>
                  </a:lnTo>
                  <a:lnTo>
                    <a:pt x="3629" y="1498"/>
                  </a:lnTo>
                  <a:lnTo>
                    <a:pt x="3633" y="1566"/>
                  </a:lnTo>
                  <a:lnTo>
                    <a:pt x="3618" y="1607"/>
                  </a:lnTo>
                  <a:lnTo>
                    <a:pt x="3601" y="1636"/>
                  </a:lnTo>
                  <a:lnTo>
                    <a:pt x="3605" y="1655"/>
                  </a:lnTo>
                  <a:lnTo>
                    <a:pt x="3633" y="1643"/>
                  </a:lnTo>
                  <a:lnTo>
                    <a:pt x="3660" y="1639"/>
                  </a:lnTo>
                  <a:lnTo>
                    <a:pt x="3669" y="1662"/>
                  </a:lnTo>
                  <a:lnTo>
                    <a:pt x="3672" y="1685"/>
                  </a:lnTo>
                  <a:lnTo>
                    <a:pt x="3696" y="1685"/>
                  </a:lnTo>
                  <a:lnTo>
                    <a:pt x="3701" y="1668"/>
                  </a:lnTo>
                  <a:lnTo>
                    <a:pt x="3720" y="1653"/>
                  </a:lnTo>
                  <a:lnTo>
                    <a:pt x="3727" y="1626"/>
                  </a:lnTo>
                  <a:lnTo>
                    <a:pt x="3746" y="1600"/>
                  </a:lnTo>
                  <a:lnTo>
                    <a:pt x="3775" y="1600"/>
                  </a:lnTo>
                  <a:lnTo>
                    <a:pt x="3825" y="1609"/>
                  </a:lnTo>
                  <a:lnTo>
                    <a:pt x="3864" y="1646"/>
                  </a:lnTo>
                  <a:lnTo>
                    <a:pt x="3884" y="1682"/>
                  </a:lnTo>
                  <a:lnTo>
                    <a:pt x="3888" y="1737"/>
                  </a:lnTo>
                  <a:lnTo>
                    <a:pt x="3917" y="1776"/>
                  </a:lnTo>
                  <a:lnTo>
                    <a:pt x="3956" y="1817"/>
                  </a:lnTo>
                  <a:lnTo>
                    <a:pt x="3966" y="1849"/>
                  </a:lnTo>
                  <a:lnTo>
                    <a:pt x="3966" y="1928"/>
                  </a:lnTo>
                  <a:lnTo>
                    <a:pt x="3966" y="1962"/>
                  </a:lnTo>
                  <a:lnTo>
                    <a:pt x="3976" y="2020"/>
                  </a:lnTo>
                  <a:lnTo>
                    <a:pt x="3973" y="2109"/>
                  </a:lnTo>
                  <a:lnTo>
                    <a:pt x="3960" y="2168"/>
                  </a:lnTo>
                  <a:lnTo>
                    <a:pt x="3953" y="2234"/>
                  </a:lnTo>
                  <a:lnTo>
                    <a:pt x="3927" y="2285"/>
                  </a:lnTo>
                  <a:lnTo>
                    <a:pt x="3910" y="2317"/>
                  </a:lnTo>
                  <a:lnTo>
                    <a:pt x="3898" y="2337"/>
                  </a:lnTo>
                  <a:lnTo>
                    <a:pt x="3878" y="2343"/>
                  </a:lnTo>
                  <a:lnTo>
                    <a:pt x="3852" y="2317"/>
                  </a:lnTo>
                  <a:lnTo>
                    <a:pt x="3832" y="2326"/>
                  </a:lnTo>
                  <a:lnTo>
                    <a:pt x="3832" y="2360"/>
                  </a:lnTo>
                  <a:lnTo>
                    <a:pt x="3832" y="2399"/>
                  </a:lnTo>
                  <a:lnTo>
                    <a:pt x="3811" y="2413"/>
                  </a:lnTo>
                  <a:lnTo>
                    <a:pt x="3792" y="2399"/>
                  </a:lnTo>
                  <a:lnTo>
                    <a:pt x="3799" y="2360"/>
                  </a:lnTo>
                  <a:lnTo>
                    <a:pt x="3802" y="2311"/>
                  </a:lnTo>
                  <a:lnTo>
                    <a:pt x="3782" y="2285"/>
                  </a:lnTo>
                  <a:lnTo>
                    <a:pt x="3760" y="2268"/>
                  </a:lnTo>
                  <a:lnTo>
                    <a:pt x="3766" y="2239"/>
                  </a:lnTo>
                  <a:lnTo>
                    <a:pt x="3770" y="2212"/>
                  </a:lnTo>
                  <a:lnTo>
                    <a:pt x="3816" y="2212"/>
                  </a:lnTo>
                  <a:lnTo>
                    <a:pt x="3821" y="2177"/>
                  </a:lnTo>
                  <a:lnTo>
                    <a:pt x="3816" y="2145"/>
                  </a:lnTo>
                  <a:lnTo>
                    <a:pt x="3792" y="2073"/>
                  </a:lnTo>
                  <a:lnTo>
                    <a:pt x="3806" y="2049"/>
                  </a:lnTo>
                  <a:lnTo>
                    <a:pt x="3779" y="2013"/>
                  </a:lnTo>
                  <a:lnTo>
                    <a:pt x="3766" y="2047"/>
                  </a:lnTo>
                  <a:lnTo>
                    <a:pt x="3740" y="2063"/>
                  </a:lnTo>
                  <a:lnTo>
                    <a:pt x="3736" y="2090"/>
                  </a:lnTo>
                  <a:lnTo>
                    <a:pt x="3711" y="2105"/>
                  </a:lnTo>
                  <a:lnTo>
                    <a:pt x="3682" y="2112"/>
                  </a:lnTo>
                  <a:lnTo>
                    <a:pt x="3663" y="2099"/>
                  </a:lnTo>
                  <a:lnTo>
                    <a:pt x="3636" y="2070"/>
                  </a:lnTo>
                  <a:lnTo>
                    <a:pt x="3619" y="2063"/>
                  </a:lnTo>
                  <a:lnTo>
                    <a:pt x="3594" y="2053"/>
                  </a:lnTo>
                  <a:lnTo>
                    <a:pt x="3553" y="2053"/>
                  </a:lnTo>
                  <a:lnTo>
                    <a:pt x="3523" y="2063"/>
                  </a:lnTo>
                  <a:lnTo>
                    <a:pt x="3497" y="2049"/>
                  </a:lnTo>
                  <a:lnTo>
                    <a:pt x="3444" y="1994"/>
                  </a:lnTo>
                  <a:lnTo>
                    <a:pt x="3388" y="1934"/>
                  </a:lnTo>
                  <a:lnTo>
                    <a:pt x="3342" y="1924"/>
                  </a:lnTo>
                  <a:lnTo>
                    <a:pt x="3299" y="1928"/>
                  </a:lnTo>
                  <a:lnTo>
                    <a:pt x="3267" y="1924"/>
                  </a:lnTo>
                  <a:lnTo>
                    <a:pt x="3232" y="1941"/>
                  </a:lnTo>
                  <a:lnTo>
                    <a:pt x="3193" y="1962"/>
                  </a:lnTo>
                  <a:lnTo>
                    <a:pt x="3174" y="2010"/>
                  </a:lnTo>
                  <a:lnTo>
                    <a:pt x="3200" y="2024"/>
                  </a:lnTo>
                  <a:lnTo>
                    <a:pt x="3210" y="2049"/>
                  </a:lnTo>
                  <a:lnTo>
                    <a:pt x="3186" y="2131"/>
                  </a:lnTo>
                  <a:lnTo>
                    <a:pt x="3203" y="2168"/>
                  </a:lnTo>
                  <a:lnTo>
                    <a:pt x="3196" y="2182"/>
                  </a:lnTo>
                  <a:lnTo>
                    <a:pt x="3154" y="2229"/>
                  </a:lnTo>
                  <a:lnTo>
                    <a:pt x="3131" y="2219"/>
                  </a:lnTo>
                  <a:lnTo>
                    <a:pt x="3099" y="2216"/>
                  </a:lnTo>
                  <a:lnTo>
                    <a:pt x="3071" y="2239"/>
                  </a:lnTo>
                  <a:lnTo>
                    <a:pt x="3058" y="2234"/>
                  </a:lnTo>
                  <a:lnTo>
                    <a:pt x="3033" y="2219"/>
                  </a:lnTo>
                  <a:lnTo>
                    <a:pt x="2994" y="2219"/>
                  </a:lnTo>
                  <a:lnTo>
                    <a:pt x="2986" y="2241"/>
                  </a:lnTo>
                  <a:lnTo>
                    <a:pt x="2973" y="2264"/>
                  </a:lnTo>
                  <a:lnTo>
                    <a:pt x="2957" y="2282"/>
                  </a:lnTo>
                  <a:lnTo>
                    <a:pt x="2933" y="2297"/>
                  </a:lnTo>
                  <a:lnTo>
                    <a:pt x="2907" y="2304"/>
                  </a:lnTo>
                  <a:lnTo>
                    <a:pt x="2858" y="2317"/>
                  </a:lnTo>
                  <a:lnTo>
                    <a:pt x="2813" y="2317"/>
                  </a:lnTo>
                  <a:lnTo>
                    <a:pt x="2794" y="2304"/>
                  </a:lnTo>
                  <a:lnTo>
                    <a:pt x="2755" y="2289"/>
                  </a:lnTo>
                  <a:lnTo>
                    <a:pt x="2731" y="2287"/>
                  </a:lnTo>
                  <a:lnTo>
                    <a:pt x="2696" y="2278"/>
                  </a:lnTo>
                  <a:lnTo>
                    <a:pt x="2675" y="2276"/>
                  </a:lnTo>
                  <a:lnTo>
                    <a:pt x="2646" y="2289"/>
                  </a:lnTo>
                  <a:lnTo>
                    <a:pt x="2613" y="2301"/>
                  </a:lnTo>
                  <a:lnTo>
                    <a:pt x="2581" y="2297"/>
                  </a:lnTo>
                  <a:lnTo>
                    <a:pt x="2559" y="2290"/>
                  </a:lnTo>
                  <a:lnTo>
                    <a:pt x="2549" y="2268"/>
                  </a:lnTo>
                  <a:lnTo>
                    <a:pt x="2547" y="2244"/>
                  </a:lnTo>
                  <a:lnTo>
                    <a:pt x="2535" y="2236"/>
                  </a:lnTo>
                  <a:lnTo>
                    <a:pt x="2501" y="2226"/>
                  </a:lnTo>
                  <a:lnTo>
                    <a:pt x="2429" y="2204"/>
                  </a:lnTo>
                  <a:lnTo>
                    <a:pt x="2411" y="2214"/>
                  </a:lnTo>
                  <a:lnTo>
                    <a:pt x="2387" y="2243"/>
                  </a:lnTo>
                  <a:lnTo>
                    <a:pt x="2382" y="2258"/>
                  </a:lnTo>
                  <a:lnTo>
                    <a:pt x="2391" y="2271"/>
                  </a:lnTo>
                  <a:lnTo>
                    <a:pt x="2397" y="2289"/>
                  </a:lnTo>
                  <a:lnTo>
                    <a:pt x="2394" y="2311"/>
                  </a:lnTo>
                  <a:lnTo>
                    <a:pt x="2398" y="2324"/>
                  </a:lnTo>
                  <a:lnTo>
                    <a:pt x="2391" y="2340"/>
                  </a:lnTo>
                  <a:lnTo>
                    <a:pt x="2378" y="2347"/>
                  </a:lnTo>
                  <a:lnTo>
                    <a:pt x="2355" y="2344"/>
                  </a:lnTo>
                  <a:lnTo>
                    <a:pt x="2329" y="2337"/>
                  </a:lnTo>
                  <a:lnTo>
                    <a:pt x="2295" y="2337"/>
                  </a:lnTo>
                  <a:lnTo>
                    <a:pt x="2263" y="2324"/>
                  </a:lnTo>
                  <a:lnTo>
                    <a:pt x="2256" y="2314"/>
                  </a:lnTo>
                  <a:lnTo>
                    <a:pt x="2244" y="2298"/>
                  </a:lnTo>
                  <a:lnTo>
                    <a:pt x="2230" y="2297"/>
                  </a:lnTo>
                  <a:lnTo>
                    <a:pt x="2198" y="2294"/>
                  </a:lnTo>
                  <a:lnTo>
                    <a:pt x="2184" y="2286"/>
                  </a:lnTo>
                  <a:lnTo>
                    <a:pt x="2174" y="2282"/>
                  </a:lnTo>
                  <a:lnTo>
                    <a:pt x="2165" y="2292"/>
                  </a:lnTo>
                  <a:lnTo>
                    <a:pt x="2151" y="2305"/>
                  </a:lnTo>
                  <a:lnTo>
                    <a:pt x="2137" y="2317"/>
                  </a:lnTo>
                  <a:lnTo>
                    <a:pt x="2117" y="2317"/>
                  </a:lnTo>
                  <a:lnTo>
                    <a:pt x="2107" y="2314"/>
                  </a:lnTo>
                  <a:lnTo>
                    <a:pt x="2099" y="2301"/>
                  </a:lnTo>
                  <a:lnTo>
                    <a:pt x="2091" y="2292"/>
                  </a:lnTo>
                  <a:lnTo>
                    <a:pt x="2077" y="2285"/>
                  </a:lnTo>
                  <a:lnTo>
                    <a:pt x="2064" y="2285"/>
                  </a:lnTo>
                  <a:lnTo>
                    <a:pt x="2045" y="2294"/>
                  </a:lnTo>
                  <a:lnTo>
                    <a:pt x="2028" y="2311"/>
                  </a:lnTo>
                  <a:lnTo>
                    <a:pt x="2009" y="2325"/>
                  </a:lnTo>
                  <a:lnTo>
                    <a:pt x="1968" y="2332"/>
                  </a:lnTo>
                  <a:lnTo>
                    <a:pt x="1946" y="2342"/>
                  </a:lnTo>
                  <a:lnTo>
                    <a:pt x="1922" y="2351"/>
                  </a:lnTo>
                  <a:lnTo>
                    <a:pt x="1919" y="2342"/>
                  </a:lnTo>
                  <a:lnTo>
                    <a:pt x="1922" y="2322"/>
                  </a:lnTo>
                  <a:lnTo>
                    <a:pt x="1910" y="2301"/>
                  </a:lnTo>
                  <a:lnTo>
                    <a:pt x="1887" y="2301"/>
                  </a:lnTo>
                  <a:lnTo>
                    <a:pt x="1862" y="2311"/>
                  </a:lnTo>
                  <a:lnTo>
                    <a:pt x="1844" y="2297"/>
                  </a:lnTo>
                  <a:lnTo>
                    <a:pt x="1830" y="2282"/>
                  </a:lnTo>
                  <a:lnTo>
                    <a:pt x="1823" y="2265"/>
                  </a:lnTo>
                  <a:lnTo>
                    <a:pt x="1815" y="2248"/>
                  </a:lnTo>
                  <a:lnTo>
                    <a:pt x="1808" y="2229"/>
                  </a:lnTo>
                  <a:lnTo>
                    <a:pt x="1800" y="2219"/>
                  </a:lnTo>
                  <a:lnTo>
                    <a:pt x="1780" y="2205"/>
                  </a:lnTo>
                  <a:lnTo>
                    <a:pt x="1769" y="2202"/>
                  </a:lnTo>
                  <a:lnTo>
                    <a:pt x="1754" y="2202"/>
                  </a:lnTo>
                  <a:lnTo>
                    <a:pt x="1743" y="2204"/>
                  </a:lnTo>
                  <a:lnTo>
                    <a:pt x="1726" y="2189"/>
                  </a:lnTo>
                  <a:lnTo>
                    <a:pt x="1716" y="2176"/>
                  </a:lnTo>
                  <a:lnTo>
                    <a:pt x="1708" y="2168"/>
                  </a:lnTo>
                  <a:lnTo>
                    <a:pt x="1700" y="2169"/>
                  </a:lnTo>
                  <a:lnTo>
                    <a:pt x="1688" y="2177"/>
                  </a:lnTo>
                  <a:lnTo>
                    <a:pt x="1679" y="2180"/>
                  </a:lnTo>
                  <a:lnTo>
                    <a:pt x="1672" y="2176"/>
                  </a:lnTo>
                  <a:lnTo>
                    <a:pt x="1668" y="2172"/>
                  </a:lnTo>
                  <a:lnTo>
                    <a:pt x="1663" y="2154"/>
                  </a:lnTo>
                  <a:lnTo>
                    <a:pt x="1649" y="2111"/>
                  </a:lnTo>
                  <a:lnTo>
                    <a:pt x="1633" y="2040"/>
                  </a:lnTo>
                  <a:lnTo>
                    <a:pt x="1617" y="2006"/>
                  </a:lnTo>
                  <a:lnTo>
                    <a:pt x="1598" y="1980"/>
                  </a:lnTo>
                  <a:lnTo>
                    <a:pt x="1592" y="1967"/>
                  </a:lnTo>
                  <a:lnTo>
                    <a:pt x="1595" y="1959"/>
                  </a:lnTo>
                  <a:lnTo>
                    <a:pt x="1605" y="1955"/>
                  </a:lnTo>
                  <a:lnTo>
                    <a:pt x="1608" y="1949"/>
                  </a:lnTo>
                  <a:lnTo>
                    <a:pt x="1606" y="1942"/>
                  </a:lnTo>
                  <a:lnTo>
                    <a:pt x="1567" y="1949"/>
                  </a:lnTo>
                  <a:lnTo>
                    <a:pt x="1521" y="1962"/>
                  </a:lnTo>
                  <a:lnTo>
                    <a:pt x="1480" y="1962"/>
                  </a:lnTo>
                  <a:lnTo>
                    <a:pt x="1475" y="1953"/>
                  </a:lnTo>
                  <a:lnTo>
                    <a:pt x="1488" y="1941"/>
                  </a:lnTo>
                  <a:lnTo>
                    <a:pt x="1487" y="1932"/>
                  </a:lnTo>
                  <a:lnTo>
                    <a:pt x="1474" y="1924"/>
                  </a:lnTo>
                  <a:lnTo>
                    <a:pt x="1452" y="1909"/>
                  </a:lnTo>
                  <a:lnTo>
                    <a:pt x="1439" y="1906"/>
                  </a:lnTo>
                  <a:lnTo>
                    <a:pt x="1421" y="1902"/>
                  </a:lnTo>
                  <a:lnTo>
                    <a:pt x="1418" y="1893"/>
                  </a:lnTo>
                  <a:lnTo>
                    <a:pt x="1429" y="1871"/>
                  </a:lnTo>
                  <a:lnTo>
                    <a:pt x="1428" y="1853"/>
                  </a:lnTo>
                  <a:lnTo>
                    <a:pt x="1420" y="1838"/>
                  </a:lnTo>
                  <a:lnTo>
                    <a:pt x="1409" y="1824"/>
                  </a:lnTo>
                  <a:lnTo>
                    <a:pt x="1388" y="1806"/>
                  </a:lnTo>
                  <a:lnTo>
                    <a:pt x="1367" y="1803"/>
                  </a:lnTo>
                  <a:lnTo>
                    <a:pt x="1342" y="1817"/>
                  </a:lnTo>
                  <a:lnTo>
                    <a:pt x="1307" y="1818"/>
                  </a:lnTo>
                  <a:lnTo>
                    <a:pt x="1262" y="1807"/>
                  </a:lnTo>
                  <a:lnTo>
                    <a:pt x="1235" y="1807"/>
                  </a:lnTo>
                  <a:lnTo>
                    <a:pt x="1189" y="1807"/>
                  </a:lnTo>
                  <a:lnTo>
                    <a:pt x="1151" y="1799"/>
                  </a:lnTo>
                  <a:lnTo>
                    <a:pt x="1125" y="1786"/>
                  </a:lnTo>
                  <a:lnTo>
                    <a:pt x="1109" y="1767"/>
                  </a:lnTo>
                  <a:lnTo>
                    <a:pt x="1098" y="1767"/>
                  </a:lnTo>
                  <a:lnTo>
                    <a:pt x="1088" y="1776"/>
                  </a:lnTo>
                  <a:lnTo>
                    <a:pt x="1088" y="1792"/>
                  </a:lnTo>
                  <a:lnTo>
                    <a:pt x="1097" y="1802"/>
                  </a:lnTo>
                  <a:lnTo>
                    <a:pt x="1109" y="1813"/>
                  </a:lnTo>
                  <a:lnTo>
                    <a:pt x="1109" y="1825"/>
                  </a:lnTo>
                  <a:lnTo>
                    <a:pt x="1098" y="1836"/>
                  </a:lnTo>
                  <a:lnTo>
                    <a:pt x="1079" y="1836"/>
                  </a:lnTo>
                  <a:lnTo>
                    <a:pt x="1059" y="1828"/>
                  </a:lnTo>
                  <a:lnTo>
                    <a:pt x="1048" y="1827"/>
                  </a:lnTo>
                  <a:lnTo>
                    <a:pt x="1042" y="1832"/>
                  </a:lnTo>
                  <a:lnTo>
                    <a:pt x="1041" y="1845"/>
                  </a:lnTo>
                  <a:lnTo>
                    <a:pt x="1027" y="1850"/>
                  </a:lnTo>
                  <a:lnTo>
                    <a:pt x="1015" y="1843"/>
                  </a:lnTo>
                  <a:lnTo>
                    <a:pt x="1009" y="1845"/>
                  </a:lnTo>
                  <a:lnTo>
                    <a:pt x="1006" y="1857"/>
                  </a:lnTo>
                  <a:lnTo>
                    <a:pt x="1012" y="1870"/>
                  </a:lnTo>
                  <a:lnTo>
                    <a:pt x="1020" y="1881"/>
                  </a:lnTo>
                  <a:lnTo>
                    <a:pt x="1031" y="1903"/>
                  </a:lnTo>
                  <a:lnTo>
                    <a:pt x="1029" y="1918"/>
                  </a:lnTo>
                  <a:lnTo>
                    <a:pt x="1027" y="1930"/>
                  </a:lnTo>
                  <a:lnTo>
                    <a:pt x="1022" y="1938"/>
                  </a:lnTo>
                  <a:lnTo>
                    <a:pt x="1009" y="1945"/>
                  </a:lnTo>
                  <a:lnTo>
                    <a:pt x="992" y="1944"/>
                  </a:lnTo>
                  <a:lnTo>
                    <a:pt x="974" y="1930"/>
                  </a:lnTo>
                  <a:lnTo>
                    <a:pt x="945" y="1914"/>
                  </a:lnTo>
                  <a:lnTo>
                    <a:pt x="914" y="1878"/>
                  </a:lnTo>
                  <a:lnTo>
                    <a:pt x="900" y="1856"/>
                  </a:lnTo>
                  <a:lnTo>
                    <a:pt x="888" y="1838"/>
                  </a:lnTo>
                  <a:lnTo>
                    <a:pt x="878" y="1832"/>
                  </a:lnTo>
                  <a:lnTo>
                    <a:pt x="842" y="1838"/>
                  </a:lnTo>
                  <a:lnTo>
                    <a:pt x="820" y="1827"/>
                  </a:lnTo>
                  <a:lnTo>
                    <a:pt x="792" y="1825"/>
                  </a:lnTo>
                  <a:lnTo>
                    <a:pt x="786" y="1815"/>
                  </a:lnTo>
                  <a:lnTo>
                    <a:pt x="789" y="1788"/>
                  </a:lnTo>
                  <a:lnTo>
                    <a:pt x="789" y="1775"/>
                  </a:lnTo>
                  <a:lnTo>
                    <a:pt x="785" y="1764"/>
                  </a:lnTo>
                  <a:lnTo>
                    <a:pt x="781" y="1747"/>
                  </a:lnTo>
                  <a:lnTo>
                    <a:pt x="768" y="1737"/>
                  </a:lnTo>
                  <a:lnTo>
                    <a:pt x="758" y="1733"/>
                  </a:lnTo>
                  <a:lnTo>
                    <a:pt x="740" y="1719"/>
                  </a:lnTo>
                  <a:lnTo>
                    <a:pt x="732" y="1701"/>
                  </a:lnTo>
                  <a:lnTo>
                    <a:pt x="719" y="1687"/>
                  </a:lnTo>
                  <a:lnTo>
                    <a:pt x="706" y="1685"/>
                  </a:lnTo>
                  <a:lnTo>
                    <a:pt x="685" y="1686"/>
                  </a:lnTo>
                  <a:lnTo>
                    <a:pt x="660" y="1686"/>
                  </a:lnTo>
                  <a:lnTo>
                    <a:pt x="643" y="1682"/>
                  </a:lnTo>
                  <a:lnTo>
                    <a:pt x="623" y="1675"/>
                  </a:lnTo>
                  <a:lnTo>
                    <a:pt x="607" y="1678"/>
                  </a:lnTo>
                  <a:lnTo>
                    <a:pt x="596" y="1686"/>
                  </a:lnTo>
                  <a:lnTo>
                    <a:pt x="591" y="1699"/>
                  </a:lnTo>
                  <a:lnTo>
                    <a:pt x="586" y="1717"/>
                  </a:lnTo>
                  <a:lnTo>
                    <a:pt x="573" y="1719"/>
                  </a:lnTo>
                  <a:lnTo>
                    <a:pt x="564" y="1718"/>
                  </a:lnTo>
                  <a:lnTo>
                    <a:pt x="554" y="1705"/>
                  </a:lnTo>
                  <a:lnTo>
                    <a:pt x="543" y="1683"/>
                  </a:lnTo>
                  <a:lnTo>
                    <a:pt x="527" y="1676"/>
                  </a:lnTo>
                  <a:lnTo>
                    <a:pt x="512" y="1679"/>
                  </a:lnTo>
                  <a:lnTo>
                    <a:pt x="506" y="1686"/>
                  </a:lnTo>
                  <a:lnTo>
                    <a:pt x="499" y="1699"/>
                  </a:lnTo>
                  <a:lnTo>
                    <a:pt x="483" y="1710"/>
                  </a:lnTo>
                  <a:lnTo>
                    <a:pt x="455" y="1710"/>
                  </a:lnTo>
                  <a:lnTo>
                    <a:pt x="442" y="1719"/>
                  </a:lnTo>
                  <a:lnTo>
                    <a:pt x="442" y="1739"/>
                  </a:lnTo>
                  <a:lnTo>
                    <a:pt x="447" y="1751"/>
                  </a:lnTo>
                  <a:lnTo>
                    <a:pt x="456" y="1768"/>
                  </a:lnTo>
                  <a:lnTo>
                    <a:pt x="460" y="1786"/>
                  </a:lnTo>
                  <a:lnTo>
                    <a:pt x="469" y="1811"/>
                  </a:lnTo>
                  <a:lnTo>
                    <a:pt x="467" y="1843"/>
                  </a:lnTo>
                  <a:lnTo>
                    <a:pt x="459" y="1857"/>
                  </a:lnTo>
                  <a:lnTo>
                    <a:pt x="449" y="1879"/>
                  </a:lnTo>
                  <a:lnTo>
                    <a:pt x="423" y="1893"/>
                  </a:lnTo>
                  <a:lnTo>
                    <a:pt x="394" y="1903"/>
                  </a:lnTo>
                  <a:lnTo>
                    <a:pt x="376" y="1896"/>
                  </a:lnTo>
                  <a:lnTo>
                    <a:pt x="335" y="1889"/>
                  </a:lnTo>
                  <a:lnTo>
                    <a:pt x="305" y="1906"/>
                  </a:lnTo>
                  <a:lnTo>
                    <a:pt x="296" y="1916"/>
                  </a:lnTo>
                  <a:lnTo>
                    <a:pt x="286" y="1932"/>
                  </a:lnTo>
                  <a:lnTo>
                    <a:pt x="284" y="1957"/>
                  </a:lnTo>
                  <a:lnTo>
                    <a:pt x="289" y="1973"/>
                  </a:lnTo>
                  <a:lnTo>
                    <a:pt x="291" y="1994"/>
                  </a:lnTo>
                  <a:lnTo>
                    <a:pt x="260" y="2035"/>
                  </a:lnTo>
                  <a:lnTo>
                    <a:pt x="253" y="2058"/>
                  </a:lnTo>
                  <a:lnTo>
                    <a:pt x="252" y="2067"/>
                  </a:lnTo>
                  <a:lnTo>
                    <a:pt x="252" y="2098"/>
                  </a:lnTo>
                  <a:lnTo>
                    <a:pt x="232" y="2097"/>
                  </a:lnTo>
                  <a:lnTo>
                    <a:pt x="209" y="2101"/>
                  </a:lnTo>
                  <a:lnTo>
                    <a:pt x="196" y="2094"/>
                  </a:lnTo>
                  <a:lnTo>
                    <a:pt x="190" y="2081"/>
                  </a:lnTo>
                  <a:lnTo>
                    <a:pt x="192" y="2062"/>
                  </a:lnTo>
                  <a:lnTo>
                    <a:pt x="190" y="2040"/>
                  </a:lnTo>
                  <a:lnTo>
                    <a:pt x="183" y="2026"/>
                  </a:lnTo>
                  <a:lnTo>
                    <a:pt x="168" y="2020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6687000" y="2072880"/>
              <a:ext cx="1565280" cy="995400"/>
              <a:chOff x="6687000" y="2072880"/>
              <a:chExt cx="1565280" cy="995400"/>
            </a:xfrm>
          </p:grpSpPr>
          <p:sp>
            <p:nvSpPr>
              <p:cNvPr id="374" name=""/>
              <p:cNvSpPr/>
              <p:nvPr/>
            </p:nvSpPr>
            <p:spPr>
              <a:xfrm>
                <a:off x="6687000" y="2334960"/>
                <a:ext cx="250920" cy="147600"/>
              </a:xfrm>
              <a:custGeom>
                <a:avLst/>
                <a:gdLst/>
                <a:ahLst/>
                <a:rect l="l" t="t" r="r" b="b"/>
                <a:pathLst>
                  <a:path w="439" h="278">
                    <a:moveTo>
                      <a:pt x="114" y="89"/>
                    </a:moveTo>
                    <a:lnTo>
                      <a:pt x="113" y="101"/>
                    </a:lnTo>
                    <a:lnTo>
                      <a:pt x="105" y="110"/>
                    </a:lnTo>
                    <a:lnTo>
                      <a:pt x="89" y="117"/>
                    </a:lnTo>
                    <a:lnTo>
                      <a:pt x="70" y="121"/>
                    </a:lnTo>
                    <a:lnTo>
                      <a:pt x="49" y="121"/>
                    </a:lnTo>
                    <a:lnTo>
                      <a:pt x="49" y="136"/>
                    </a:lnTo>
                    <a:lnTo>
                      <a:pt x="39" y="152"/>
                    </a:lnTo>
                    <a:lnTo>
                      <a:pt x="34" y="156"/>
                    </a:lnTo>
                    <a:lnTo>
                      <a:pt x="22" y="147"/>
                    </a:lnTo>
                    <a:lnTo>
                      <a:pt x="10" y="152"/>
                    </a:lnTo>
                    <a:lnTo>
                      <a:pt x="3" y="156"/>
                    </a:lnTo>
                    <a:lnTo>
                      <a:pt x="0" y="171"/>
                    </a:lnTo>
                    <a:lnTo>
                      <a:pt x="4" y="190"/>
                    </a:lnTo>
                    <a:lnTo>
                      <a:pt x="18" y="209"/>
                    </a:lnTo>
                    <a:lnTo>
                      <a:pt x="14" y="224"/>
                    </a:lnTo>
                    <a:lnTo>
                      <a:pt x="14" y="234"/>
                    </a:lnTo>
                    <a:lnTo>
                      <a:pt x="17" y="245"/>
                    </a:lnTo>
                    <a:lnTo>
                      <a:pt x="32" y="253"/>
                    </a:lnTo>
                    <a:lnTo>
                      <a:pt x="47" y="270"/>
                    </a:lnTo>
                    <a:lnTo>
                      <a:pt x="54" y="277"/>
                    </a:lnTo>
                    <a:lnTo>
                      <a:pt x="66" y="278"/>
                    </a:lnTo>
                    <a:lnTo>
                      <a:pt x="74" y="274"/>
                    </a:lnTo>
                    <a:lnTo>
                      <a:pt x="77" y="260"/>
                    </a:lnTo>
                    <a:lnTo>
                      <a:pt x="73" y="229"/>
                    </a:lnTo>
                    <a:lnTo>
                      <a:pt x="82" y="204"/>
                    </a:lnTo>
                    <a:lnTo>
                      <a:pt x="102" y="171"/>
                    </a:lnTo>
                    <a:lnTo>
                      <a:pt x="138" y="146"/>
                    </a:lnTo>
                    <a:lnTo>
                      <a:pt x="184" y="124"/>
                    </a:lnTo>
                    <a:lnTo>
                      <a:pt x="215" y="107"/>
                    </a:lnTo>
                    <a:lnTo>
                      <a:pt x="238" y="86"/>
                    </a:lnTo>
                    <a:lnTo>
                      <a:pt x="273" y="79"/>
                    </a:lnTo>
                    <a:lnTo>
                      <a:pt x="304" y="72"/>
                    </a:lnTo>
                    <a:lnTo>
                      <a:pt x="347" y="64"/>
                    </a:lnTo>
                    <a:lnTo>
                      <a:pt x="380" y="58"/>
                    </a:lnTo>
                    <a:lnTo>
                      <a:pt x="405" y="50"/>
                    </a:lnTo>
                    <a:lnTo>
                      <a:pt x="425" y="40"/>
                    </a:lnTo>
                    <a:lnTo>
                      <a:pt x="430" y="35"/>
                    </a:lnTo>
                    <a:lnTo>
                      <a:pt x="439" y="22"/>
                    </a:lnTo>
                    <a:lnTo>
                      <a:pt x="439" y="14"/>
                    </a:lnTo>
                    <a:lnTo>
                      <a:pt x="430" y="3"/>
                    </a:lnTo>
                    <a:lnTo>
                      <a:pt x="419" y="0"/>
                    </a:lnTo>
                    <a:lnTo>
                      <a:pt x="405" y="0"/>
                    </a:lnTo>
                    <a:lnTo>
                      <a:pt x="383" y="7"/>
                    </a:lnTo>
                    <a:lnTo>
                      <a:pt x="368" y="10"/>
                    </a:lnTo>
                    <a:lnTo>
                      <a:pt x="327" y="10"/>
                    </a:lnTo>
                    <a:lnTo>
                      <a:pt x="294" y="14"/>
                    </a:lnTo>
                    <a:lnTo>
                      <a:pt x="269" y="11"/>
                    </a:lnTo>
                    <a:lnTo>
                      <a:pt x="247" y="12"/>
                    </a:lnTo>
                    <a:lnTo>
                      <a:pt x="210" y="19"/>
                    </a:lnTo>
                    <a:lnTo>
                      <a:pt x="195" y="18"/>
                    </a:lnTo>
                    <a:lnTo>
                      <a:pt x="184" y="18"/>
                    </a:lnTo>
                    <a:lnTo>
                      <a:pt x="171" y="22"/>
                    </a:lnTo>
                    <a:lnTo>
                      <a:pt x="162" y="30"/>
                    </a:lnTo>
                    <a:lnTo>
                      <a:pt x="156" y="47"/>
                    </a:lnTo>
                    <a:lnTo>
                      <a:pt x="152" y="58"/>
                    </a:lnTo>
                    <a:lnTo>
                      <a:pt x="148" y="68"/>
                    </a:lnTo>
                    <a:lnTo>
                      <a:pt x="135" y="78"/>
                    </a:lnTo>
                    <a:lnTo>
                      <a:pt x="114" y="89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149600" y="2247480"/>
                <a:ext cx="61920" cy="77760"/>
              </a:xfrm>
              <a:custGeom>
                <a:avLst/>
                <a:gdLst/>
                <a:ahLst/>
                <a:rect l="l" t="t" r="r" b="b"/>
                <a:pathLst>
                  <a:path w="107" h="147">
                    <a:moveTo>
                      <a:pt x="61" y="0"/>
                    </a:moveTo>
                    <a:lnTo>
                      <a:pt x="51" y="5"/>
                    </a:lnTo>
                    <a:lnTo>
                      <a:pt x="41" y="15"/>
                    </a:lnTo>
                    <a:lnTo>
                      <a:pt x="32" y="29"/>
                    </a:lnTo>
                    <a:lnTo>
                      <a:pt x="25" y="40"/>
                    </a:lnTo>
                    <a:lnTo>
                      <a:pt x="7" y="40"/>
                    </a:lnTo>
                    <a:lnTo>
                      <a:pt x="7" y="48"/>
                    </a:lnTo>
                    <a:lnTo>
                      <a:pt x="11" y="58"/>
                    </a:lnTo>
                    <a:lnTo>
                      <a:pt x="25" y="67"/>
                    </a:lnTo>
                    <a:lnTo>
                      <a:pt x="16" y="71"/>
                    </a:lnTo>
                    <a:lnTo>
                      <a:pt x="4" y="71"/>
                    </a:lnTo>
                    <a:lnTo>
                      <a:pt x="0" y="80"/>
                    </a:lnTo>
                    <a:lnTo>
                      <a:pt x="5" y="96"/>
                    </a:lnTo>
                    <a:lnTo>
                      <a:pt x="15" y="97"/>
                    </a:lnTo>
                    <a:lnTo>
                      <a:pt x="26" y="96"/>
                    </a:lnTo>
                    <a:lnTo>
                      <a:pt x="36" y="108"/>
                    </a:lnTo>
                    <a:lnTo>
                      <a:pt x="43" y="129"/>
                    </a:lnTo>
                    <a:lnTo>
                      <a:pt x="47" y="135"/>
                    </a:lnTo>
                    <a:lnTo>
                      <a:pt x="55" y="143"/>
                    </a:lnTo>
                    <a:lnTo>
                      <a:pt x="71" y="147"/>
                    </a:lnTo>
                    <a:lnTo>
                      <a:pt x="82" y="147"/>
                    </a:lnTo>
                    <a:lnTo>
                      <a:pt x="98" y="138"/>
                    </a:lnTo>
                    <a:lnTo>
                      <a:pt x="103" y="129"/>
                    </a:lnTo>
                    <a:lnTo>
                      <a:pt x="107" y="106"/>
                    </a:lnTo>
                    <a:lnTo>
                      <a:pt x="104" y="87"/>
                    </a:lnTo>
                    <a:lnTo>
                      <a:pt x="93" y="68"/>
                    </a:lnTo>
                    <a:lnTo>
                      <a:pt x="82" y="60"/>
                    </a:lnTo>
                    <a:lnTo>
                      <a:pt x="78" y="48"/>
                    </a:lnTo>
                    <a:lnTo>
                      <a:pt x="73" y="40"/>
                    </a:lnTo>
                    <a:lnTo>
                      <a:pt x="73" y="5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210080" y="2298600"/>
                <a:ext cx="49680" cy="58680"/>
              </a:xfrm>
              <a:custGeom>
                <a:avLst/>
                <a:gdLst/>
                <a:ahLst/>
                <a:rect l="l" t="t" r="r" b="b"/>
                <a:pathLst>
                  <a:path w="87" h="110">
                    <a:moveTo>
                      <a:pt x="38" y="0"/>
                    </a:moveTo>
                    <a:lnTo>
                      <a:pt x="48" y="3"/>
                    </a:lnTo>
                    <a:lnTo>
                      <a:pt x="52" y="14"/>
                    </a:lnTo>
                    <a:lnTo>
                      <a:pt x="56" y="21"/>
                    </a:lnTo>
                    <a:lnTo>
                      <a:pt x="70" y="27"/>
                    </a:lnTo>
                    <a:lnTo>
                      <a:pt x="78" y="35"/>
                    </a:lnTo>
                    <a:lnTo>
                      <a:pt x="87" y="47"/>
                    </a:lnTo>
                    <a:lnTo>
                      <a:pt x="87" y="61"/>
                    </a:lnTo>
                    <a:lnTo>
                      <a:pt x="77" y="71"/>
                    </a:lnTo>
                    <a:lnTo>
                      <a:pt x="64" y="78"/>
                    </a:lnTo>
                    <a:lnTo>
                      <a:pt x="46" y="80"/>
                    </a:lnTo>
                    <a:lnTo>
                      <a:pt x="34" y="81"/>
                    </a:lnTo>
                    <a:lnTo>
                      <a:pt x="19" y="88"/>
                    </a:lnTo>
                    <a:lnTo>
                      <a:pt x="6" y="110"/>
                    </a:lnTo>
                    <a:lnTo>
                      <a:pt x="0" y="80"/>
                    </a:lnTo>
                    <a:lnTo>
                      <a:pt x="12" y="59"/>
                    </a:lnTo>
                    <a:lnTo>
                      <a:pt x="20" y="43"/>
                    </a:lnTo>
                    <a:lnTo>
                      <a:pt x="20" y="24"/>
                    </a:lnTo>
                    <a:lnTo>
                      <a:pt x="27" y="9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548480" y="2284200"/>
                <a:ext cx="66960" cy="74520"/>
              </a:xfrm>
              <a:custGeom>
                <a:avLst/>
                <a:gdLst/>
                <a:ahLst/>
                <a:rect l="l" t="t" r="r" b="b"/>
                <a:pathLst>
                  <a:path w="119" h="141">
                    <a:moveTo>
                      <a:pt x="80" y="3"/>
                    </a:moveTo>
                    <a:lnTo>
                      <a:pt x="96" y="0"/>
                    </a:lnTo>
                    <a:lnTo>
                      <a:pt x="110" y="6"/>
                    </a:lnTo>
                    <a:lnTo>
                      <a:pt x="116" y="16"/>
                    </a:lnTo>
                    <a:lnTo>
                      <a:pt x="119" y="45"/>
                    </a:lnTo>
                    <a:lnTo>
                      <a:pt x="110" y="50"/>
                    </a:lnTo>
                    <a:lnTo>
                      <a:pt x="92" y="52"/>
                    </a:lnTo>
                    <a:lnTo>
                      <a:pt x="87" y="57"/>
                    </a:lnTo>
                    <a:lnTo>
                      <a:pt x="89" y="66"/>
                    </a:lnTo>
                    <a:lnTo>
                      <a:pt x="64" y="116"/>
                    </a:lnTo>
                    <a:lnTo>
                      <a:pt x="62" y="130"/>
                    </a:lnTo>
                    <a:lnTo>
                      <a:pt x="52" y="141"/>
                    </a:lnTo>
                    <a:lnTo>
                      <a:pt x="34" y="134"/>
                    </a:lnTo>
                    <a:lnTo>
                      <a:pt x="18" y="106"/>
                    </a:lnTo>
                    <a:lnTo>
                      <a:pt x="6" y="92"/>
                    </a:lnTo>
                    <a:lnTo>
                      <a:pt x="0" y="75"/>
                    </a:lnTo>
                    <a:lnTo>
                      <a:pt x="0" y="56"/>
                    </a:lnTo>
                    <a:lnTo>
                      <a:pt x="9" y="37"/>
                    </a:lnTo>
                    <a:lnTo>
                      <a:pt x="23" y="37"/>
                    </a:lnTo>
                    <a:lnTo>
                      <a:pt x="32" y="46"/>
                    </a:lnTo>
                    <a:lnTo>
                      <a:pt x="42" y="42"/>
                    </a:lnTo>
                    <a:lnTo>
                      <a:pt x="39" y="21"/>
                    </a:lnTo>
                    <a:lnTo>
                      <a:pt x="53" y="4"/>
                    </a:lnTo>
                    <a:lnTo>
                      <a:pt x="69" y="0"/>
                    </a:lnTo>
                    <a:lnTo>
                      <a:pt x="80" y="3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1280" y="2263680"/>
                <a:ext cx="42840" cy="34920"/>
              </a:xfrm>
              <a:custGeom>
                <a:avLst/>
                <a:gdLst/>
                <a:ahLst/>
                <a:rect l="l" t="t" r="r" b="b"/>
                <a:pathLst>
                  <a:path w="74" h="66">
                    <a:moveTo>
                      <a:pt x="20" y="5"/>
                    </a:moveTo>
                    <a:lnTo>
                      <a:pt x="6" y="18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8" y="66"/>
                    </a:lnTo>
                    <a:lnTo>
                      <a:pt x="15" y="66"/>
                    </a:lnTo>
                    <a:lnTo>
                      <a:pt x="28" y="57"/>
                    </a:lnTo>
                    <a:lnTo>
                      <a:pt x="52" y="56"/>
                    </a:lnTo>
                    <a:lnTo>
                      <a:pt x="59" y="49"/>
                    </a:lnTo>
                    <a:lnTo>
                      <a:pt x="66" y="45"/>
                    </a:lnTo>
                    <a:lnTo>
                      <a:pt x="74" y="30"/>
                    </a:lnTo>
                    <a:lnTo>
                      <a:pt x="68" y="14"/>
                    </a:lnTo>
                    <a:lnTo>
                      <a:pt x="59" y="5"/>
                    </a:lnTo>
                    <a:lnTo>
                      <a:pt x="42" y="0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932600" y="2072880"/>
                <a:ext cx="37800" cy="49320"/>
              </a:xfrm>
              <a:custGeom>
                <a:avLst/>
                <a:gdLst/>
                <a:ahLst/>
                <a:rect l="l" t="t" r="r" b="b"/>
                <a:pathLst>
                  <a:path w="66" h="92">
                    <a:moveTo>
                      <a:pt x="32" y="0"/>
                    </a:moveTo>
                    <a:lnTo>
                      <a:pt x="48" y="0"/>
                    </a:lnTo>
                    <a:lnTo>
                      <a:pt x="62" y="11"/>
                    </a:lnTo>
                    <a:lnTo>
                      <a:pt x="66" y="21"/>
                    </a:lnTo>
                    <a:lnTo>
                      <a:pt x="66" y="34"/>
                    </a:lnTo>
                    <a:lnTo>
                      <a:pt x="55" y="46"/>
                    </a:lnTo>
                    <a:lnTo>
                      <a:pt x="44" y="56"/>
                    </a:lnTo>
                    <a:lnTo>
                      <a:pt x="42" y="64"/>
                    </a:lnTo>
                    <a:lnTo>
                      <a:pt x="46" y="73"/>
                    </a:lnTo>
                    <a:lnTo>
                      <a:pt x="50" y="85"/>
                    </a:lnTo>
                    <a:lnTo>
                      <a:pt x="39" y="92"/>
                    </a:lnTo>
                    <a:lnTo>
                      <a:pt x="21" y="91"/>
                    </a:lnTo>
                    <a:lnTo>
                      <a:pt x="10" y="85"/>
                    </a:lnTo>
                    <a:lnTo>
                      <a:pt x="0" y="73"/>
                    </a:lnTo>
                    <a:lnTo>
                      <a:pt x="0" y="32"/>
                    </a:lnTo>
                    <a:lnTo>
                      <a:pt x="7" y="15"/>
                    </a:lnTo>
                    <a:lnTo>
                      <a:pt x="16" y="6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049600" y="2841480"/>
                <a:ext cx="202680" cy="226800"/>
              </a:xfrm>
              <a:custGeom>
                <a:avLst/>
                <a:gdLst/>
                <a:ahLst/>
                <a:rect l="l" t="t" r="r" b="b"/>
                <a:pathLst>
                  <a:path w="354" h="428">
                    <a:moveTo>
                      <a:pt x="28" y="6"/>
                    </a:moveTo>
                    <a:lnTo>
                      <a:pt x="42" y="29"/>
                    </a:lnTo>
                    <a:lnTo>
                      <a:pt x="66" y="63"/>
                    </a:lnTo>
                    <a:lnTo>
                      <a:pt x="100" y="102"/>
                    </a:lnTo>
                    <a:lnTo>
                      <a:pt x="130" y="127"/>
                    </a:lnTo>
                    <a:lnTo>
                      <a:pt x="184" y="167"/>
                    </a:lnTo>
                    <a:lnTo>
                      <a:pt x="202" y="183"/>
                    </a:lnTo>
                    <a:lnTo>
                      <a:pt x="240" y="203"/>
                    </a:lnTo>
                    <a:lnTo>
                      <a:pt x="281" y="223"/>
                    </a:lnTo>
                    <a:lnTo>
                      <a:pt x="286" y="230"/>
                    </a:lnTo>
                    <a:lnTo>
                      <a:pt x="284" y="237"/>
                    </a:lnTo>
                    <a:lnTo>
                      <a:pt x="274" y="242"/>
                    </a:lnTo>
                    <a:lnTo>
                      <a:pt x="256" y="240"/>
                    </a:lnTo>
                    <a:lnTo>
                      <a:pt x="235" y="240"/>
                    </a:lnTo>
                    <a:lnTo>
                      <a:pt x="223" y="245"/>
                    </a:lnTo>
                    <a:lnTo>
                      <a:pt x="222" y="256"/>
                    </a:lnTo>
                    <a:lnTo>
                      <a:pt x="233" y="286"/>
                    </a:lnTo>
                    <a:lnTo>
                      <a:pt x="249" y="311"/>
                    </a:lnTo>
                    <a:lnTo>
                      <a:pt x="269" y="334"/>
                    </a:lnTo>
                    <a:lnTo>
                      <a:pt x="288" y="345"/>
                    </a:lnTo>
                    <a:lnTo>
                      <a:pt x="311" y="351"/>
                    </a:lnTo>
                    <a:lnTo>
                      <a:pt x="337" y="354"/>
                    </a:lnTo>
                    <a:lnTo>
                      <a:pt x="351" y="365"/>
                    </a:lnTo>
                    <a:lnTo>
                      <a:pt x="354" y="384"/>
                    </a:lnTo>
                    <a:lnTo>
                      <a:pt x="351" y="391"/>
                    </a:lnTo>
                    <a:lnTo>
                      <a:pt x="347" y="398"/>
                    </a:lnTo>
                    <a:lnTo>
                      <a:pt x="339" y="398"/>
                    </a:lnTo>
                    <a:lnTo>
                      <a:pt x="320" y="380"/>
                    </a:lnTo>
                    <a:lnTo>
                      <a:pt x="308" y="380"/>
                    </a:lnTo>
                    <a:lnTo>
                      <a:pt x="304" y="380"/>
                    </a:lnTo>
                    <a:lnTo>
                      <a:pt x="294" y="384"/>
                    </a:lnTo>
                    <a:lnTo>
                      <a:pt x="304" y="398"/>
                    </a:lnTo>
                    <a:lnTo>
                      <a:pt x="313" y="411"/>
                    </a:lnTo>
                    <a:lnTo>
                      <a:pt x="312" y="423"/>
                    </a:lnTo>
                    <a:lnTo>
                      <a:pt x="308" y="426"/>
                    </a:lnTo>
                    <a:lnTo>
                      <a:pt x="295" y="428"/>
                    </a:lnTo>
                    <a:lnTo>
                      <a:pt x="276" y="418"/>
                    </a:lnTo>
                    <a:lnTo>
                      <a:pt x="266" y="409"/>
                    </a:lnTo>
                    <a:lnTo>
                      <a:pt x="248" y="384"/>
                    </a:lnTo>
                    <a:lnTo>
                      <a:pt x="226" y="341"/>
                    </a:lnTo>
                    <a:lnTo>
                      <a:pt x="176" y="260"/>
                    </a:lnTo>
                    <a:lnTo>
                      <a:pt x="141" y="219"/>
                    </a:lnTo>
                    <a:lnTo>
                      <a:pt x="124" y="191"/>
                    </a:lnTo>
                    <a:lnTo>
                      <a:pt x="103" y="180"/>
                    </a:lnTo>
                    <a:lnTo>
                      <a:pt x="81" y="162"/>
                    </a:lnTo>
                    <a:lnTo>
                      <a:pt x="52" y="125"/>
                    </a:lnTo>
                    <a:lnTo>
                      <a:pt x="32" y="102"/>
                    </a:lnTo>
                    <a:lnTo>
                      <a:pt x="25" y="91"/>
                    </a:lnTo>
                    <a:lnTo>
                      <a:pt x="25" y="79"/>
                    </a:lnTo>
                    <a:lnTo>
                      <a:pt x="32" y="73"/>
                    </a:lnTo>
                    <a:lnTo>
                      <a:pt x="35" y="60"/>
                    </a:lnTo>
                    <a:lnTo>
                      <a:pt x="22" y="49"/>
                    </a:lnTo>
                    <a:lnTo>
                      <a:pt x="10" y="43"/>
                    </a:lnTo>
                    <a:lnTo>
                      <a:pt x="2" y="41"/>
                    </a:lnTo>
                    <a:lnTo>
                      <a:pt x="2" y="27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28" y="6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1" name=""/>
          <p:cNvSpPr/>
          <p:nvPr/>
        </p:nvSpPr>
        <p:spPr>
          <a:xfrm>
            <a:off x="7451640" y="3195720"/>
            <a:ext cx="77760" cy="61920"/>
          </a:xfrm>
          <a:custGeom>
            <a:avLst/>
            <a:gdLst/>
            <a:ahLst/>
            <a:rect l="l" t="t" r="r" b="b"/>
            <a:pathLst>
              <a:path w="93" h="77">
                <a:moveTo>
                  <a:pt x="0" y="0"/>
                </a:moveTo>
                <a:lnTo>
                  <a:pt x="0" y="10"/>
                </a:lnTo>
                <a:lnTo>
                  <a:pt x="9" y="18"/>
                </a:lnTo>
                <a:lnTo>
                  <a:pt x="26" y="26"/>
                </a:lnTo>
                <a:lnTo>
                  <a:pt x="36" y="36"/>
                </a:lnTo>
                <a:lnTo>
                  <a:pt x="51" y="49"/>
                </a:lnTo>
                <a:lnTo>
                  <a:pt x="60" y="52"/>
                </a:lnTo>
                <a:lnTo>
                  <a:pt x="79" y="71"/>
                </a:lnTo>
                <a:lnTo>
                  <a:pt x="90" y="77"/>
                </a:lnTo>
                <a:lnTo>
                  <a:pt x="89" y="73"/>
                </a:lnTo>
                <a:lnTo>
                  <a:pt x="93" y="71"/>
                </a:lnTo>
                <a:lnTo>
                  <a:pt x="79" y="64"/>
                </a:lnTo>
                <a:lnTo>
                  <a:pt x="74" y="58"/>
                </a:lnTo>
                <a:lnTo>
                  <a:pt x="87" y="55"/>
                </a:lnTo>
                <a:lnTo>
                  <a:pt x="75" y="48"/>
                </a:lnTo>
                <a:lnTo>
                  <a:pt x="64" y="40"/>
                </a:lnTo>
                <a:lnTo>
                  <a:pt x="46" y="30"/>
                </a:lnTo>
                <a:lnTo>
                  <a:pt x="35" y="17"/>
                </a:lnTo>
                <a:lnTo>
                  <a:pt x="18" y="7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696080" y="4303800"/>
            <a:ext cx="222480" cy="311040"/>
          </a:xfrm>
          <a:custGeom>
            <a:avLst/>
            <a:gdLst/>
            <a:ahLst/>
            <a:rect l="l" t="t" r="r" b="b"/>
            <a:pathLst>
              <a:path w="114" h="161">
                <a:moveTo>
                  <a:pt x="33" y="58"/>
                </a:moveTo>
                <a:lnTo>
                  <a:pt x="48" y="52"/>
                </a:lnTo>
                <a:lnTo>
                  <a:pt x="58" y="41"/>
                </a:lnTo>
                <a:lnTo>
                  <a:pt x="66" y="31"/>
                </a:lnTo>
                <a:lnTo>
                  <a:pt x="77" y="18"/>
                </a:lnTo>
                <a:lnTo>
                  <a:pt x="87" y="8"/>
                </a:lnTo>
                <a:lnTo>
                  <a:pt x="100" y="0"/>
                </a:lnTo>
                <a:lnTo>
                  <a:pt x="110" y="4"/>
                </a:lnTo>
                <a:lnTo>
                  <a:pt x="114" y="20"/>
                </a:lnTo>
                <a:lnTo>
                  <a:pt x="114" y="41"/>
                </a:lnTo>
                <a:lnTo>
                  <a:pt x="112" y="58"/>
                </a:lnTo>
                <a:lnTo>
                  <a:pt x="108" y="72"/>
                </a:lnTo>
                <a:lnTo>
                  <a:pt x="110" y="87"/>
                </a:lnTo>
                <a:lnTo>
                  <a:pt x="110" y="101"/>
                </a:lnTo>
                <a:lnTo>
                  <a:pt x="106" y="116"/>
                </a:lnTo>
                <a:lnTo>
                  <a:pt x="97" y="128"/>
                </a:lnTo>
                <a:lnTo>
                  <a:pt x="85" y="134"/>
                </a:lnTo>
                <a:lnTo>
                  <a:pt x="73" y="139"/>
                </a:lnTo>
                <a:lnTo>
                  <a:pt x="60" y="145"/>
                </a:lnTo>
                <a:lnTo>
                  <a:pt x="50" y="151"/>
                </a:lnTo>
                <a:lnTo>
                  <a:pt x="44" y="157"/>
                </a:lnTo>
                <a:lnTo>
                  <a:pt x="37" y="161"/>
                </a:lnTo>
                <a:lnTo>
                  <a:pt x="27" y="159"/>
                </a:lnTo>
                <a:lnTo>
                  <a:pt x="17" y="153"/>
                </a:lnTo>
                <a:lnTo>
                  <a:pt x="8" y="143"/>
                </a:lnTo>
                <a:lnTo>
                  <a:pt x="0" y="124"/>
                </a:lnTo>
                <a:lnTo>
                  <a:pt x="0" y="99"/>
                </a:lnTo>
                <a:lnTo>
                  <a:pt x="10" y="74"/>
                </a:lnTo>
                <a:lnTo>
                  <a:pt x="33" y="58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56520" y="4464000"/>
            <a:ext cx="331560" cy="316080"/>
          </a:xfrm>
          <a:custGeom>
            <a:avLst/>
            <a:gdLst/>
            <a:ahLst/>
            <a:rect l="l" t="t" r="r" b="b"/>
            <a:pathLst>
              <a:path w="172" h="163">
                <a:moveTo>
                  <a:pt x="0" y="4"/>
                </a:moveTo>
                <a:lnTo>
                  <a:pt x="2" y="14"/>
                </a:lnTo>
                <a:lnTo>
                  <a:pt x="19" y="22"/>
                </a:lnTo>
                <a:lnTo>
                  <a:pt x="37" y="33"/>
                </a:lnTo>
                <a:lnTo>
                  <a:pt x="50" y="47"/>
                </a:lnTo>
                <a:lnTo>
                  <a:pt x="58" y="60"/>
                </a:lnTo>
                <a:lnTo>
                  <a:pt x="64" y="70"/>
                </a:lnTo>
                <a:lnTo>
                  <a:pt x="70" y="81"/>
                </a:lnTo>
                <a:lnTo>
                  <a:pt x="77" y="93"/>
                </a:lnTo>
                <a:lnTo>
                  <a:pt x="85" y="107"/>
                </a:lnTo>
                <a:lnTo>
                  <a:pt x="97" y="124"/>
                </a:lnTo>
                <a:lnTo>
                  <a:pt x="110" y="141"/>
                </a:lnTo>
                <a:lnTo>
                  <a:pt x="124" y="159"/>
                </a:lnTo>
                <a:lnTo>
                  <a:pt x="135" y="163"/>
                </a:lnTo>
                <a:lnTo>
                  <a:pt x="147" y="163"/>
                </a:lnTo>
                <a:lnTo>
                  <a:pt x="160" y="161"/>
                </a:lnTo>
                <a:lnTo>
                  <a:pt x="170" y="155"/>
                </a:lnTo>
                <a:lnTo>
                  <a:pt x="172" y="145"/>
                </a:lnTo>
                <a:lnTo>
                  <a:pt x="168" y="132"/>
                </a:lnTo>
                <a:lnTo>
                  <a:pt x="160" y="118"/>
                </a:lnTo>
                <a:lnTo>
                  <a:pt x="147" y="107"/>
                </a:lnTo>
                <a:lnTo>
                  <a:pt x="137" y="99"/>
                </a:lnTo>
                <a:lnTo>
                  <a:pt x="126" y="91"/>
                </a:lnTo>
                <a:lnTo>
                  <a:pt x="114" y="83"/>
                </a:lnTo>
                <a:lnTo>
                  <a:pt x="104" y="74"/>
                </a:lnTo>
                <a:lnTo>
                  <a:pt x="95" y="66"/>
                </a:lnTo>
                <a:lnTo>
                  <a:pt x="87" y="58"/>
                </a:lnTo>
                <a:lnTo>
                  <a:pt x="81" y="49"/>
                </a:lnTo>
                <a:lnTo>
                  <a:pt x="75" y="41"/>
                </a:lnTo>
                <a:lnTo>
                  <a:pt x="68" y="31"/>
                </a:lnTo>
                <a:lnTo>
                  <a:pt x="60" y="22"/>
                </a:lnTo>
                <a:lnTo>
                  <a:pt x="52" y="16"/>
                </a:lnTo>
                <a:lnTo>
                  <a:pt x="41" y="14"/>
                </a:lnTo>
                <a:lnTo>
                  <a:pt x="31" y="10"/>
                </a:lnTo>
                <a:lnTo>
                  <a:pt x="19" y="4"/>
                </a:lnTo>
                <a:lnTo>
                  <a:pt x="8" y="0"/>
                </a:lnTo>
                <a:lnTo>
                  <a:pt x="0" y="4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742160" y="4127400"/>
            <a:ext cx="7920" cy="11160"/>
          </a:xfrm>
          <a:custGeom>
            <a:avLst/>
            <a:gdLst/>
            <a:ahLst/>
            <a:rect l="l" t="t" r="r" b="b"/>
            <a:pathLst>
              <a:path w="8" h="14">
                <a:moveTo>
                  <a:pt x="2" y="0"/>
                </a:moveTo>
                <a:lnTo>
                  <a:pt x="8" y="14"/>
                </a:lnTo>
                <a:lnTo>
                  <a:pt x="0" y="10"/>
                </a:lnTo>
                <a:lnTo>
                  <a:pt x="2" y="0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796160" y="4164120"/>
            <a:ext cx="38160" cy="41040"/>
          </a:xfrm>
          <a:custGeom>
            <a:avLst/>
            <a:gdLst/>
            <a:ahLst/>
            <a:rect l="l" t="t" r="r" b="b"/>
            <a:pathLst>
              <a:path w="40" h="41">
                <a:moveTo>
                  <a:pt x="29" y="0"/>
                </a:moveTo>
                <a:lnTo>
                  <a:pt x="40" y="4"/>
                </a:lnTo>
                <a:lnTo>
                  <a:pt x="37" y="16"/>
                </a:lnTo>
                <a:lnTo>
                  <a:pt x="37" y="41"/>
                </a:lnTo>
                <a:lnTo>
                  <a:pt x="28" y="30"/>
                </a:lnTo>
                <a:lnTo>
                  <a:pt x="21" y="28"/>
                </a:lnTo>
                <a:lnTo>
                  <a:pt x="19" y="37"/>
                </a:lnTo>
                <a:lnTo>
                  <a:pt x="13" y="37"/>
                </a:lnTo>
                <a:lnTo>
                  <a:pt x="0" y="33"/>
                </a:lnTo>
                <a:lnTo>
                  <a:pt x="14" y="27"/>
                </a:lnTo>
                <a:lnTo>
                  <a:pt x="14" y="8"/>
                </a:lnTo>
                <a:lnTo>
                  <a:pt x="27" y="19"/>
                </a:lnTo>
                <a:lnTo>
                  <a:pt x="29" y="0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82040" y="4138560"/>
            <a:ext cx="61920" cy="88920"/>
          </a:xfrm>
          <a:custGeom>
            <a:avLst/>
            <a:gdLst/>
            <a:ahLst/>
            <a:rect l="l" t="t" r="r" b="b"/>
            <a:pathLst>
              <a:path w="64" h="91">
                <a:moveTo>
                  <a:pt x="49" y="0"/>
                </a:moveTo>
                <a:lnTo>
                  <a:pt x="64" y="4"/>
                </a:lnTo>
                <a:lnTo>
                  <a:pt x="49" y="47"/>
                </a:lnTo>
                <a:lnTo>
                  <a:pt x="35" y="52"/>
                </a:lnTo>
                <a:lnTo>
                  <a:pt x="28" y="63"/>
                </a:lnTo>
                <a:lnTo>
                  <a:pt x="15" y="75"/>
                </a:lnTo>
                <a:lnTo>
                  <a:pt x="11" y="91"/>
                </a:lnTo>
                <a:lnTo>
                  <a:pt x="0" y="81"/>
                </a:lnTo>
                <a:lnTo>
                  <a:pt x="33" y="42"/>
                </a:lnTo>
                <a:lnTo>
                  <a:pt x="34" y="29"/>
                </a:lnTo>
                <a:lnTo>
                  <a:pt x="38" y="29"/>
                </a:lnTo>
                <a:lnTo>
                  <a:pt x="40" y="10"/>
                </a:lnTo>
                <a:lnTo>
                  <a:pt x="49" y="0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748640" y="4108320"/>
            <a:ext cx="23760" cy="28800"/>
          </a:xfrm>
          <a:custGeom>
            <a:avLst/>
            <a:gdLst/>
            <a:ahLst/>
            <a:rect l="l" t="t" r="r" b="b"/>
            <a:pathLst>
              <a:path w="28" h="30">
                <a:moveTo>
                  <a:pt x="16" y="0"/>
                </a:moveTo>
                <a:lnTo>
                  <a:pt x="1" y="0"/>
                </a:lnTo>
                <a:lnTo>
                  <a:pt x="0" y="6"/>
                </a:lnTo>
                <a:lnTo>
                  <a:pt x="0" y="12"/>
                </a:lnTo>
                <a:lnTo>
                  <a:pt x="18" y="13"/>
                </a:lnTo>
                <a:lnTo>
                  <a:pt x="11" y="21"/>
                </a:lnTo>
                <a:lnTo>
                  <a:pt x="10" y="27"/>
                </a:lnTo>
                <a:lnTo>
                  <a:pt x="17" y="30"/>
                </a:lnTo>
                <a:lnTo>
                  <a:pt x="25" y="26"/>
                </a:lnTo>
                <a:lnTo>
                  <a:pt x="28" y="15"/>
                </a:lnTo>
                <a:lnTo>
                  <a:pt x="23" y="6"/>
                </a:lnTo>
                <a:lnTo>
                  <a:pt x="16" y="0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831080" y="4078440"/>
            <a:ext cx="14400" cy="17280"/>
          </a:xfrm>
          <a:custGeom>
            <a:avLst/>
            <a:gdLst/>
            <a:ahLst/>
            <a:rect l="l" t="t" r="r" b="b"/>
            <a:pathLst>
              <a:path w="15" h="19">
                <a:moveTo>
                  <a:pt x="2" y="0"/>
                </a:moveTo>
                <a:lnTo>
                  <a:pt x="15" y="5"/>
                </a:lnTo>
                <a:lnTo>
                  <a:pt x="9" y="19"/>
                </a:lnTo>
                <a:lnTo>
                  <a:pt x="0" y="15"/>
                </a:lnTo>
                <a:lnTo>
                  <a:pt x="2" y="0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835760" y="4113360"/>
            <a:ext cx="41400" cy="64800"/>
          </a:xfrm>
          <a:custGeom>
            <a:avLst/>
            <a:gdLst/>
            <a:ahLst/>
            <a:rect l="l" t="t" r="r" b="b"/>
            <a:pathLst>
              <a:path w="41" h="67">
                <a:moveTo>
                  <a:pt x="11" y="0"/>
                </a:moveTo>
                <a:lnTo>
                  <a:pt x="25" y="7"/>
                </a:lnTo>
                <a:lnTo>
                  <a:pt x="34" y="8"/>
                </a:lnTo>
                <a:lnTo>
                  <a:pt x="34" y="26"/>
                </a:lnTo>
                <a:lnTo>
                  <a:pt x="41" y="38"/>
                </a:lnTo>
                <a:lnTo>
                  <a:pt x="23" y="38"/>
                </a:lnTo>
                <a:lnTo>
                  <a:pt x="22" y="48"/>
                </a:lnTo>
                <a:lnTo>
                  <a:pt x="29" y="54"/>
                </a:lnTo>
                <a:lnTo>
                  <a:pt x="28" y="57"/>
                </a:lnTo>
                <a:lnTo>
                  <a:pt x="13" y="67"/>
                </a:lnTo>
                <a:lnTo>
                  <a:pt x="13" y="53"/>
                </a:lnTo>
                <a:lnTo>
                  <a:pt x="10" y="53"/>
                </a:lnTo>
                <a:lnTo>
                  <a:pt x="9" y="44"/>
                </a:lnTo>
                <a:lnTo>
                  <a:pt x="0" y="36"/>
                </a:lnTo>
                <a:lnTo>
                  <a:pt x="1" y="35"/>
                </a:lnTo>
                <a:lnTo>
                  <a:pt x="7" y="30"/>
                </a:lnTo>
                <a:lnTo>
                  <a:pt x="13" y="31"/>
                </a:lnTo>
                <a:lnTo>
                  <a:pt x="7" y="25"/>
                </a:lnTo>
                <a:lnTo>
                  <a:pt x="9" y="20"/>
                </a:lnTo>
                <a:lnTo>
                  <a:pt x="1" y="19"/>
                </a:lnTo>
                <a:lnTo>
                  <a:pt x="3" y="8"/>
                </a:lnTo>
                <a:lnTo>
                  <a:pt x="11" y="0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781760" y="4119480"/>
            <a:ext cx="51120" cy="63720"/>
          </a:xfrm>
          <a:custGeom>
            <a:avLst/>
            <a:gdLst/>
            <a:ahLst/>
            <a:rect l="l" t="t" r="r" b="b"/>
            <a:pathLst>
              <a:path w="55" h="64">
                <a:moveTo>
                  <a:pt x="35" y="0"/>
                </a:moveTo>
                <a:lnTo>
                  <a:pt x="43" y="5"/>
                </a:lnTo>
                <a:lnTo>
                  <a:pt x="55" y="11"/>
                </a:lnTo>
                <a:lnTo>
                  <a:pt x="53" y="21"/>
                </a:lnTo>
                <a:lnTo>
                  <a:pt x="35" y="21"/>
                </a:lnTo>
                <a:lnTo>
                  <a:pt x="41" y="30"/>
                </a:lnTo>
                <a:lnTo>
                  <a:pt x="31" y="37"/>
                </a:lnTo>
                <a:lnTo>
                  <a:pt x="23" y="49"/>
                </a:lnTo>
                <a:lnTo>
                  <a:pt x="0" y="64"/>
                </a:lnTo>
                <a:lnTo>
                  <a:pt x="9" y="18"/>
                </a:lnTo>
                <a:lnTo>
                  <a:pt x="28" y="18"/>
                </a:lnTo>
                <a:lnTo>
                  <a:pt x="28" y="6"/>
                </a:lnTo>
                <a:lnTo>
                  <a:pt x="35" y="0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724880" y="3979800"/>
            <a:ext cx="106200" cy="133560"/>
          </a:xfrm>
          <a:custGeom>
            <a:avLst/>
            <a:gdLst/>
            <a:ahLst/>
            <a:rect l="l" t="t" r="r" b="b"/>
            <a:pathLst>
              <a:path w="111" h="137">
                <a:moveTo>
                  <a:pt x="22" y="9"/>
                </a:moveTo>
                <a:lnTo>
                  <a:pt x="35" y="7"/>
                </a:lnTo>
                <a:lnTo>
                  <a:pt x="52" y="14"/>
                </a:lnTo>
                <a:lnTo>
                  <a:pt x="57" y="10"/>
                </a:lnTo>
                <a:lnTo>
                  <a:pt x="57" y="0"/>
                </a:lnTo>
                <a:lnTo>
                  <a:pt x="65" y="13"/>
                </a:lnTo>
                <a:lnTo>
                  <a:pt x="72" y="21"/>
                </a:lnTo>
                <a:lnTo>
                  <a:pt x="67" y="27"/>
                </a:lnTo>
                <a:lnTo>
                  <a:pt x="67" y="35"/>
                </a:lnTo>
                <a:lnTo>
                  <a:pt x="73" y="48"/>
                </a:lnTo>
                <a:lnTo>
                  <a:pt x="66" y="56"/>
                </a:lnTo>
                <a:lnTo>
                  <a:pt x="66" y="72"/>
                </a:lnTo>
                <a:lnTo>
                  <a:pt x="53" y="72"/>
                </a:lnTo>
                <a:lnTo>
                  <a:pt x="53" y="80"/>
                </a:lnTo>
                <a:lnTo>
                  <a:pt x="57" y="86"/>
                </a:lnTo>
                <a:lnTo>
                  <a:pt x="67" y="86"/>
                </a:lnTo>
                <a:lnTo>
                  <a:pt x="67" y="93"/>
                </a:lnTo>
                <a:lnTo>
                  <a:pt x="58" y="99"/>
                </a:lnTo>
                <a:lnTo>
                  <a:pt x="53" y="98"/>
                </a:lnTo>
                <a:lnTo>
                  <a:pt x="58" y="105"/>
                </a:lnTo>
                <a:lnTo>
                  <a:pt x="71" y="106"/>
                </a:lnTo>
                <a:lnTo>
                  <a:pt x="86" y="98"/>
                </a:lnTo>
                <a:lnTo>
                  <a:pt x="96" y="110"/>
                </a:lnTo>
                <a:lnTo>
                  <a:pt x="105" y="117"/>
                </a:lnTo>
                <a:lnTo>
                  <a:pt x="107" y="130"/>
                </a:lnTo>
                <a:lnTo>
                  <a:pt x="111" y="131"/>
                </a:lnTo>
                <a:lnTo>
                  <a:pt x="111" y="136"/>
                </a:lnTo>
                <a:lnTo>
                  <a:pt x="99" y="137"/>
                </a:lnTo>
                <a:lnTo>
                  <a:pt x="94" y="132"/>
                </a:lnTo>
                <a:lnTo>
                  <a:pt x="86" y="131"/>
                </a:lnTo>
                <a:lnTo>
                  <a:pt x="80" y="125"/>
                </a:lnTo>
                <a:lnTo>
                  <a:pt x="78" y="133"/>
                </a:lnTo>
                <a:lnTo>
                  <a:pt x="66" y="137"/>
                </a:lnTo>
                <a:lnTo>
                  <a:pt x="66" y="130"/>
                </a:lnTo>
                <a:lnTo>
                  <a:pt x="72" y="125"/>
                </a:lnTo>
                <a:lnTo>
                  <a:pt x="67" y="117"/>
                </a:lnTo>
                <a:lnTo>
                  <a:pt x="28" y="124"/>
                </a:lnTo>
                <a:lnTo>
                  <a:pt x="25" y="113"/>
                </a:lnTo>
                <a:lnTo>
                  <a:pt x="34" y="108"/>
                </a:lnTo>
                <a:lnTo>
                  <a:pt x="33" y="98"/>
                </a:lnTo>
                <a:lnTo>
                  <a:pt x="28" y="99"/>
                </a:lnTo>
                <a:lnTo>
                  <a:pt x="6" y="85"/>
                </a:lnTo>
                <a:lnTo>
                  <a:pt x="8" y="76"/>
                </a:lnTo>
                <a:lnTo>
                  <a:pt x="0" y="72"/>
                </a:lnTo>
                <a:lnTo>
                  <a:pt x="2" y="59"/>
                </a:lnTo>
                <a:lnTo>
                  <a:pt x="9" y="59"/>
                </a:lnTo>
                <a:lnTo>
                  <a:pt x="6" y="69"/>
                </a:lnTo>
                <a:lnTo>
                  <a:pt x="11" y="73"/>
                </a:lnTo>
                <a:lnTo>
                  <a:pt x="20" y="72"/>
                </a:lnTo>
                <a:lnTo>
                  <a:pt x="19" y="52"/>
                </a:lnTo>
                <a:lnTo>
                  <a:pt x="12" y="50"/>
                </a:lnTo>
                <a:lnTo>
                  <a:pt x="11" y="41"/>
                </a:lnTo>
                <a:lnTo>
                  <a:pt x="8" y="34"/>
                </a:lnTo>
                <a:lnTo>
                  <a:pt x="19" y="0"/>
                </a:lnTo>
                <a:lnTo>
                  <a:pt x="22" y="9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869240" y="4156200"/>
            <a:ext cx="11160" cy="19080"/>
          </a:xfrm>
          <a:custGeom>
            <a:avLst/>
            <a:gdLst/>
            <a:ahLst/>
            <a:rect l="l" t="t" r="r" b="b"/>
            <a:pathLst>
              <a:path w="13" h="20">
                <a:moveTo>
                  <a:pt x="0" y="0"/>
                </a:moveTo>
                <a:lnTo>
                  <a:pt x="13" y="10"/>
                </a:lnTo>
                <a:lnTo>
                  <a:pt x="4" y="20"/>
                </a:lnTo>
                <a:lnTo>
                  <a:pt x="0" y="0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881840" y="4168800"/>
            <a:ext cx="11160" cy="22320"/>
          </a:xfrm>
          <a:custGeom>
            <a:avLst/>
            <a:gdLst/>
            <a:ahLst/>
            <a:rect l="l" t="t" r="r" b="b"/>
            <a:pathLst>
              <a:path w="10" h="25">
                <a:moveTo>
                  <a:pt x="3" y="0"/>
                </a:moveTo>
                <a:lnTo>
                  <a:pt x="10" y="11"/>
                </a:lnTo>
                <a:lnTo>
                  <a:pt x="10" y="25"/>
                </a:lnTo>
                <a:lnTo>
                  <a:pt x="3" y="18"/>
                </a:lnTo>
                <a:lnTo>
                  <a:pt x="0" y="12"/>
                </a:lnTo>
                <a:lnTo>
                  <a:pt x="3" y="0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788240" y="4183200"/>
            <a:ext cx="106560" cy="95040"/>
          </a:xfrm>
          <a:custGeom>
            <a:avLst/>
            <a:gdLst/>
            <a:ahLst/>
            <a:rect l="l" t="t" r="r" b="b"/>
            <a:pathLst>
              <a:path w="111" h="98">
                <a:moveTo>
                  <a:pt x="78" y="0"/>
                </a:moveTo>
                <a:lnTo>
                  <a:pt x="90" y="0"/>
                </a:lnTo>
                <a:lnTo>
                  <a:pt x="90" y="7"/>
                </a:lnTo>
                <a:lnTo>
                  <a:pt x="97" y="7"/>
                </a:lnTo>
                <a:lnTo>
                  <a:pt x="104" y="14"/>
                </a:lnTo>
                <a:lnTo>
                  <a:pt x="105" y="22"/>
                </a:lnTo>
                <a:lnTo>
                  <a:pt x="111" y="32"/>
                </a:lnTo>
                <a:lnTo>
                  <a:pt x="111" y="58"/>
                </a:lnTo>
                <a:lnTo>
                  <a:pt x="103" y="68"/>
                </a:lnTo>
                <a:lnTo>
                  <a:pt x="103" y="77"/>
                </a:lnTo>
                <a:lnTo>
                  <a:pt x="96" y="77"/>
                </a:lnTo>
                <a:lnTo>
                  <a:pt x="97" y="64"/>
                </a:lnTo>
                <a:lnTo>
                  <a:pt x="83" y="65"/>
                </a:lnTo>
                <a:lnTo>
                  <a:pt x="83" y="69"/>
                </a:lnTo>
                <a:lnTo>
                  <a:pt x="90" y="71"/>
                </a:lnTo>
                <a:lnTo>
                  <a:pt x="90" y="84"/>
                </a:lnTo>
                <a:lnTo>
                  <a:pt x="83" y="89"/>
                </a:lnTo>
                <a:lnTo>
                  <a:pt x="79" y="98"/>
                </a:lnTo>
                <a:lnTo>
                  <a:pt x="72" y="89"/>
                </a:lnTo>
                <a:lnTo>
                  <a:pt x="62" y="89"/>
                </a:lnTo>
                <a:lnTo>
                  <a:pt x="53" y="80"/>
                </a:lnTo>
                <a:lnTo>
                  <a:pt x="44" y="70"/>
                </a:lnTo>
                <a:lnTo>
                  <a:pt x="44" y="68"/>
                </a:lnTo>
                <a:lnTo>
                  <a:pt x="53" y="58"/>
                </a:lnTo>
                <a:lnTo>
                  <a:pt x="44" y="59"/>
                </a:lnTo>
                <a:lnTo>
                  <a:pt x="41" y="52"/>
                </a:lnTo>
                <a:lnTo>
                  <a:pt x="38" y="58"/>
                </a:lnTo>
                <a:lnTo>
                  <a:pt x="21" y="60"/>
                </a:lnTo>
                <a:lnTo>
                  <a:pt x="19" y="48"/>
                </a:lnTo>
                <a:lnTo>
                  <a:pt x="12" y="59"/>
                </a:lnTo>
                <a:lnTo>
                  <a:pt x="13" y="69"/>
                </a:lnTo>
                <a:lnTo>
                  <a:pt x="5" y="77"/>
                </a:lnTo>
                <a:lnTo>
                  <a:pt x="0" y="71"/>
                </a:lnTo>
                <a:lnTo>
                  <a:pt x="0" y="50"/>
                </a:lnTo>
                <a:lnTo>
                  <a:pt x="7" y="45"/>
                </a:lnTo>
                <a:lnTo>
                  <a:pt x="16" y="44"/>
                </a:lnTo>
                <a:lnTo>
                  <a:pt x="19" y="39"/>
                </a:lnTo>
                <a:lnTo>
                  <a:pt x="25" y="37"/>
                </a:lnTo>
                <a:lnTo>
                  <a:pt x="31" y="32"/>
                </a:lnTo>
                <a:lnTo>
                  <a:pt x="44" y="32"/>
                </a:lnTo>
                <a:lnTo>
                  <a:pt x="50" y="37"/>
                </a:lnTo>
                <a:lnTo>
                  <a:pt x="51" y="32"/>
                </a:lnTo>
                <a:lnTo>
                  <a:pt x="63" y="33"/>
                </a:lnTo>
                <a:lnTo>
                  <a:pt x="63" y="19"/>
                </a:lnTo>
                <a:lnTo>
                  <a:pt x="78" y="13"/>
                </a:lnTo>
                <a:lnTo>
                  <a:pt x="78" y="0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630840" y="3079800"/>
            <a:ext cx="930600" cy="853920"/>
          </a:xfrm>
          <a:custGeom>
            <a:avLst/>
            <a:gdLst/>
            <a:ahLst/>
            <a:rect l="l" t="t" r="r" b="b"/>
            <a:pathLst>
              <a:path w="963" h="883">
                <a:moveTo>
                  <a:pt x="684" y="0"/>
                </a:moveTo>
                <a:lnTo>
                  <a:pt x="634" y="46"/>
                </a:lnTo>
                <a:lnTo>
                  <a:pt x="653" y="52"/>
                </a:lnTo>
                <a:lnTo>
                  <a:pt x="652" y="95"/>
                </a:lnTo>
                <a:lnTo>
                  <a:pt x="658" y="118"/>
                </a:lnTo>
                <a:lnTo>
                  <a:pt x="626" y="141"/>
                </a:lnTo>
                <a:lnTo>
                  <a:pt x="640" y="187"/>
                </a:lnTo>
                <a:lnTo>
                  <a:pt x="672" y="171"/>
                </a:lnTo>
                <a:lnTo>
                  <a:pt x="690" y="171"/>
                </a:lnTo>
                <a:lnTo>
                  <a:pt x="682" y="194"/>
                </a:lnTo>
                <a:lnTo>
                  <a:pt x="670" y="218"/>
                </a:lnTo>
                <a:lnTo>
                  <a:pt x="663" y="242"/>
                </a:lnTo>
                <a:lnTo>
                  <a:pt x="656" y="261"/>
                </a:lnTo>
                <a:lnTo>
                  <a:pt x="642" y="273"/>
                </a:lnTo>
                <a:lnTo>
                  <a:pt x="620" y="272"/>
                </a:lnTo>
                <a:lnTo>
                  <a:pt x="619" y="296"/>
                </a:lnTo>
                <a:lnTo>
                  <a:pt x="631" y="306"/>
                </a:lnTo>
                <a:lnTo>
                  <a:pt x="622" y="342"/>
                </a:lnTo>
                <a:lnTo>
                  <a:pt x="609" y="349"/>
                </a:lnTo>
                <a:lnTo>
                  <a:pt x="582" y="376"/>
                </a:lnTo>
                <a:lnTo>
                  <a:pt x="559" y="395"/>
                </a:lnTo>
                <a:lnTo>
                  <a:pt x="518" y="400"/>
                </a:lnTo>
                <a:lnTo>
                  <a:pt x="448" y="400"/>
                </a:lnTo>
                <a:lnTo>
                  <a:pt x="433" y="409"/>
                </a:lnTo>
                <a:lnTo>
                  <a:pt x="412" y="421"/>
                </a:lnTo>
                <a:lnTo>
                  <a:pt x="395" y="405"/>
                </a:lnTo>
                <a:lnTo>
                  <a:pt x="374" y="395"/>
                </a:lnTo>
                <a:lnTo>
                  <a:pt x="359" y="387"/>
                </a:lnTo>
                <a:lnTo>
                  <a:pt x="340" y="382"/>
                </a:lnTo>
                <a:lnTo>
                  <a:pt x="290" y="382"/>
                </a:lnTo>
                <a:lnTo>
                  <a:pt x="290" y="363"/>
                </a:lnTo>
                <a:lnTo>
                  <a:pt x="280" y="336"/>
                </a:lnTo>
                <a:lnTo>
                  <a:pt x="259" y="329"/>
                </a:lnTo>
                <a:lnTo>
                  <a:pt x="228" y="322"/>
                </a:lnTo>
                <a:lnTo>
                  <a:pt x="218" y="311"/>
                </a:lnTo>
                <a:lnTo>
                  <a:pt x="195" y="326"/>
                </a:lnTo>
                <a:lnTo>
                  <a:pt x="188" y="358"/>
                </a:lnTo>
                <a:lnTo>
                  <a:pt x="150" y="363"/>
                </a:lnTo>
                <a:lnTo>
                  <a:pt x="112" y="487"/>
                </a:lnTo>
                <a:lnTo>
                  <a:pt x="118" y="494"/>
                </a:lnTo>
                <a:lnTo>
                  <a:pt x="89" y="504"/>
                </a:lnTo>
                <a:lnTo>
                  <a:pt x="71" y="515"/>
                </a:lnTo>
                <a:lnTo>
                  <a:pt x="55" y="524"/>
                </a:lnTo>
                <a:lnTo>
                  <a:pt x="34" y="524"/>
                </a:lnTo>
                <a:lnTo>
                  <a:pt x="18" y="536"/>
                </a:lnTo>
                <a:lnTo>
                  <a:pt x="0" y="552"/>
                </a:lnTo>
                <a:lnTo>
                  <a:pt x="12" y="578"/>
                </a:lnTo>
                <a:lnTo>
                  <a:pt x="27" y="595"/>
                </a:lnTo>
                <a:lnTo>
                  <a:pt x="34" y="604"/>
                </a:lnTo>
                <a:lnTo>
                  <a:pt x="20" y="607"/>
                </a:lnTo>
                <a:lnTo>
                  <a:pt x="40" y="644"/>
                </a:lnTo>
                <a:lnTo>
                  <a:pt x="102" y="644"/>
                </a:lnTo>
                <a:lnTo>
                  <a:pt x="131" y="668"/>
                </a:lnTo>
                <a:lnTo>
                  <a:pt x="117" y="681"/>
                </a:lnTo>
                <a:lnTo>
                  <a:pt x="105" y="688"/>
                </a:lnTo>
                <a:lnTo>
                  <a:pt x="104" y="703"/>
                </a:lnTo>
                <a:lnTo>
                  <a:pt x="98" y="723"/>
                </a:lnTo>
                <a:lnTo>
                  <a:pt x="105" y="740"/>
                </a:lnTo>
                <a:lnTo>
                  <a:pt x="120" y="765"/>
                </a:lnTo>
                <a:lnTo>
                  <a:pt x="313" y="804"/>
                </a:lnTo>
                <a:lnTo>
                  <a:pt x="330" y="802"/>
                </a:lnTo>
                <a:lnTo>
                  <a:pt x="337" y="804"/>
                </a:lnTo>
                <a:lnTo>
                  <a:pt x="344" y="795"/>
                </a:lnTo>
                <a:lnTo>
                  <a:pt x="347" y="785"/>
                </a:lnTo>
                <a:lnTo>
                  <a:pt x="358" y="779"/>
                </a:lnTo>
                <a:lnTo>
                  <a:pt x="386" y="792"/>
                </a:lnTo>
                <a:lnTo>
                  <a:pt x="422" y="762"/>
                </a:lnTo>
                <a:lnTo>
                  <a:pt x="445" y="732"/>
                </a:lnTo>
                <a:lnTo>
                  <a:pt x="468" y="752"/>
                </a:lnTo>
                <a:lnTo>
                  <a:pt x="479" y="751"/>
                </a:lnTo>
                <a:lnTo>
                  <a:pt x="491" y="758"/>
                </a:lnTo>
                <a:lnTo>
                  <a:pt x="517" y="746"/>
                </a:lnTo>
                <a:lnTo>
                  <a:pt x="530" y="759"/>
                </a:lnTo>
                <a:lnTo>
                  <a:pt x="538" y="777"/>
                </a:lnTo>
                <a:lnTo>
                  <a:pt x="538" y="807"/>
                </a:lnTo>
                <a:lnTo>
                  <a:pt x="534" y="831"/>
                </a:lnTo>
                <a:lnTo>
                  <a:pt x="534" y="851"/>
                </a:lnTo>
                <a:lnTo>
                  <a:pt x="552" y="842"/>
                </a:lnTo>
                <a:lnTo>
                  <a:pt x="554" y="836"/>
                </a:lnTo>
                <a:lnTo>
                  <a:pt x="601" y="883"/>
                </a:lnTo>
                <a:lnTo>
                  <a:pt x="628" y="848"/>
                </a:lnTo>
                <a:lnTo>
                  <a:pt x="642" y="842"/>
                </a:lnTo>
                <a:lnTo>
                  <a:pt x="667" y="832"/>
                </a:lnTo>
                <a:lnTo>
                  <a:pt x="684" y="822"/>
                </a:lnTo>
                <a:lnTo>
                  <a:pt x="699" y="821"/>
                </a:lnTo>
                <a:lnTo>
                  <a:pt x="715" y="809"/>
                </a:lnTo>
                <a:lnTo>
                  <a:pt x="720" y="809"/>
                </a:lnTo>
                <a:lnTo>
                  <a:pt x="721" y="815"/>
                </a:lnTo>
                <a:lnTo>
                  <a:pt x="738" y="822"/>
                </a:lnTo>
                <a:lnTo>
                  <a:pt x="751" y="822"/>
                </a:lnTo>
                <a:lnTo>
                  <a:pt x="762" y="819"/>
                </a:lnTo>
                <a:lnTo>
                  <a:pt x="777" y="814"/>
                </a:lnTo>
                <a:lnTo>
                  <a:pt x="801" y="814"/>
                </a:lnTo>
                <a:lnTo>
                  <a:pt x="801" y="829"/>
                </a:lnTo>
                <a:lnTo>
                  <a:pt x="805" y="833"/>
                </a:lnTo>
                <a:lnTo>
                  <a:pt x="814" y="833"/>
                </a:lnTo>
                <a:lnTo>
                  <a:pt x="823" y="825"/>
                </a:lnTo>
                <a:lnTo>
                  <a:pt x="832" y="809"/>
                </a:lnTo>
                <a:lnTo>
                  <a:pt x="852" y="803"/>
                </a:lnTo>
                <a:lnTo>
                  <a:pt x="860" y="802"/>
                </a:lnTo>
                <a:lnTo>
                  <a:pt x="866" y="795"/>
                </a:lnTo>
                <a:lnTo>
                  <a:pt x="864" y="784"/>
                </a:lnTo>
                <a:lnTo>
                  <a:pt x="873" y="770"/>
                </a:lnTo>
                <a:lnTo>
                  <a:pt x="865" y="758"/>
                </a:lnTo>
                <a:lnTo>
                  <a:pt x="873" y="739"/>
                </a:lnTo>
                <a:lnTo>
                  <a:pt x="886" y="738"/>
                </a:lnTo>
                <a:lnTo>
                  <a:pt x="903" y="731"/>
                </a:lnTo>
                <a:lnTo>
                  <a:pt x="924" y="715"/>
                </a:lnTo>
                <a:lnTo>
                  <a:pt x="929" y="703"/>
                </a:lnTo>
                <a:lnTo>
                  <a:pt x="937" y="681"/>
                </a:lnTo>
                <a:lnTo>
                  <a:pt x="948" y="646"/>
                </a:lnTo>
                <a:lnTo>
                  <a:pt x="950" y="627"/>
                </a:lnTo>
                <a:lnTo>
                  <a:pt x="954" y="607"/>
                </a:lnTo>
                <a:lnTo>
                  <a:pt x="963" y="574"/>
                </a:lnTo>
                <a:lnTo>
                  <a:pt x="954" y="555"/>
                </a:lnTo>
                <a:lnTo>
                  <a:pt x="954" y="530"/>
                </a:lnTo>
                <a:lnTo>
                  <a:pt x="949" y="512"/>
                </a:lnTo>
                <a:lnTo>
                  <a:pt x="936" y="506"/>
                </a:lnTo>
                <a:lnTo>
                  <a:pt x="936" y="519"/>
                </a:lnTo>
                <a:lnTo>
                  <a:pt x="924" y="518"/>
                </a:lnTo>
                <a:lnTo>
                  <a:pt x="924" y="505"/>
                </a:lnTo>
                <a:lnTo>
                  <a:pt x="930" y="492"/>
                </a:lnTo>
                <a:lnTo>
                  <a:pt x="930" y="479"/>
                </a:lnTo>
                <a:lnTo>
                  <a:pt x="916" y="486"/>
                </a:lnTo>
                <a:lnTo>
                  <a:pt x="898" y="486"/>
                </a:lnTo>
                <a:lnTo>
                  <a:pt x="892" y="480"/>
                </a:lnTo>
                <a:lnTo>
                  <a:pt x="902" y="478"/>
                </a:lnTo>
                <a:lnTo>
                  <a:pt x="912" y="467"/>
                </a:lnTo>
                <a:lnTo>
                  <a:pt x="929" y="467"/>
                </a:lnTo>
                <a:lnTo>
                  <a:pt x="915" y="453"/>
                </a:lnTo>
                <a:lnTo>
                  <a:pt x="889" y="447"/>
                </a:lnTo>
                <a:lnTo>
                  <a:pt x="866" y="436"/>
                </a:lnTo>
                <a:lnTo>
                  <a:pt x="855" y="422"/>
                </a:lnTo>
                <a:lnTo>
                  <a:pt x="846" y="413"/>
                </a:lnTo>
                <a:lnTo>
                  <a:pt x="846" y="388"/>
                </a:lnTo>
                <a:lnTo>
                  <a:pt x="854" y="379"/>
                </a:lnTo>
                <a:lnTo>
                  <a:pt x="858" y="370"/>
                </a:lnTo>
                <a:lnTo>
                  <a:pt x="872" y="358"/>
                </a:lnTo>
                <a:lnTo>
                  <a:pt x="873" y="345"/>
                </a:lnTo>
                <a:lnTo>
                  <a:pt x="866" y="343"/>
                </a:lnTo>
                <a:lnTo>
                  <a:pt x="856" y="351"/>
                </a:lnTo>
                <a:lnTo>
                  <a:pt x="827" y="357"/>
                </a:lnTo>
                <a:lnTo>
                  <a:pt x="826" y="370"/>
                </a:lnTo>
                <a:lnTo>
                  <a:pt x="820" y="384"/>
                </a:lnTo>
                <a:lnTo>
                  <a:pt x="787" y="363"/>
                </a:lnTo>
                <a:lnTo>
                  <a:pt x="781" y="342"/>
                </a:lnTo>
                <a:lnTo>
                  <a:pt x="788" y="326"/>
                </a:lnTo>
                <a:lnTo>
                  <a:pt x="793" y="305"/>
                </a:lnTo>
                <a:lnTo>
                  <a:pt x="802" y="288"/>
                </a:lnTo>
                <a:lnTo>
                  <a:pt x="814" y="277"/>
                </a:lnTo>
                <a:lnTo>
                  <a:pt x="826" y="290"/>
                </a:lnTo>
                <a:lnTo>
                  <a:pt x="826" y="310"/>
                </a:lnTo>
                <a:lnTo>
                  <a:pt x="832" y="322"/>
                </a:lnTo>
                <a:lnTo>
                  <a:pt x="835" y="330"/>
                </a:lnTo>
                <a:lnTo>
                  <a:pt x="860" y="290"/>
                </a:lnTo>
                <a:lnTo>
                  <a:pt x="860" y="271"/>
                </a:lnTo>
                <a:lnTo>
                  <a:pt x="866" y="268"/>
                </a:lnTo>
                <a:lnTo>
                  <a:pt x="866" y="256"/>
                </a:lnTo>
                <a:lnTo>
                  <a:pt x="872" y="234"/>
                </a:lnTo>
                <a:lnTo>
                  <a:pt x="867" y="219"/>
                </a:lnTo>
                <a:lnTo>
                  <a:pt x="875" y="209"/>
                </a:lnTo>
                <a:lnTo>
                  <a:pt x="900" y="201"/>
                </a:lnTo>
                <a:lnTo>
                  <a:pt x="878" y="189"/>
                </a:lnTo>
                <a:lnTo>
                  <a:pt x="892" y="171"/>
                </a:lnTo>
                <a:lnTo>
                  <a:pt x="902" y="148"/>
                </a:lnTo>
                <a:lnTo>
                  <a:pt x="916" y="153"/>
                </a:lnTo>
                <a:lnTo>
                  <a:pt x="917" y="144"/>
                </a:lnTo>
                <a:lnTo>
                  <a:pt x="908" y="133"/>
                </a:lnTo>
                <a:lnTo>
                  <a:pt x="886" y="103"/>
                </a:lnTo>
                <a:lnTo>
                  <a:pt x="879" y="91"/>
                </a:lnTo>
                <a:lnTo>
                  <a:pt x="897" y="77"/>
                </a:lnTo>
                <a:lnTo>
                  <a:pt x="892" y="26"/>
                </a:lnTo>
                <a:lnTo>
                  <a:pt x="872" y="1"/>
                </a:lnTo>
                <a:lnTo>
                  <a:pt x="858" y="1"/>
                </a:lnTo>
                <a:lnTo>
                  <a:pt x="854" y="38"/>
                </a:lnTo>
                <a:lnTo>
                  <a:pt x="832" y="47"/>
                </a:lnTo>
                <a:lnTo>
                  <a:pt x="806" y="25"/>
                </a:lnTo>
                <a:lnTo>
                  <a:pt x="755" y="47"/>
                </a:lnTo>
                <a:lnTo>
                  <a:pt x="721" y="12"/>
                </a:lnTo>
                <a:lnTo>
                  <a:pt x="684" y="0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027200">
            <a:off x="7696080" y="3665520"/>
            <a:ext cx="14400" cy="23760"/>
          </a:xfrm>
          <a:custGeom>
            <a:avLst/>
            <a:gdLst/>
            <a:ahLst/>
            <a:rect l="l" t="t" r="r" b="b"/>
            <a:pathLst>
              <a:path w="14" h="24">
                <a:moveTo>
                  <a:pt x="2" y="15"/>
                </a:moveTo>
                <a:lnTo>
                  <a:pt x="4" y="11"/>
                </a:lnTo>
                <a:lnTo>
                  <a:pt x="5" y="4"/>
                </a:lnTo>
                <a:lnTo>
                  <a:pt x="6" y="1"/>
                </a:lnTo>
                <a:lnTo>
                  <a:pt x="12" y="0"/>
                </a:lnTo>
                <a:lnTo>
                  <a:pt x="14" y="5"/>
                </a:lnTo>
                <a:lnTo>
                  <a:pt x="12" y="15"/>
                </a:lnTo>
                <a:lnTo>
                  <a:pt x="9" y="20"/>
                </a:lnTo>
                <a:lnTo>
                  <a:pt x="8" y="23"/>
                </a:lnTo>
                <a:lnTo>
                  <a:pt x="5" y="24"/>
                </a:lnTo>
                <a:lnTo>
                  <a:pt x="2" y="24"/>
                </a:lnTo>
                <a:lnTo>
                  <a:pt x="2" y="22"/>
                </a:lnTo>
                <a:lnTo>
                  <a:pt x="0" y="20"/>
                </a:lnTo>
                <a:lnTo>
                  <a:pt x="2" y="15"/>
                </a:lnTo>
                <a:close/>
              </a:path>
            </a:pathLst>
          </a:custGeom>
          <a:solidFill>
            <a:srgbClr val="402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1027200">
            <a:off x="7714800" y="3132000"/>
            <a:ext cx="109800" cy="150840"/>
          </a:xfrm>
          <a:custGeom>
            <a:avLst/>
            <a:gdLst/>
            <a:ahLst/>
            <a:rect l="l" t="t" r="r" b="b"/>
            <a:pathLst>
              <a:path w="112" h="155">
                <a:moveTo>
                  <a:pt x="77" y="0"/>
                </a:moveTo>
                <a:lnTo>
                  <a:pt x="82" y="15"/>
                </a:lnTo>
                <a:lnTo>
                  <a:pt x="77" y="24"/>
                </a:lnTo>
                <a:lnTo>
                  <a:pt x="69" y="24"/>
                </a:lnTo>
                <a:lnTo>
                  <a:pt x="65" y="30"/>
                </a:lnTo>
                <a:lnTo>
                  <a:pt x="46" y="38"/>
                </a:lnTo>
                <a:lnTo>
                  <a:pt x="25" y="35"/>
                </a:lnTo>
                <a:lnTo>
                  <a:pt x="6" y="36"/>
                </a:lnTo>
                <a:lnTo>
                  <a:pt x="0" y="34"/>
                </a:lnTo>
                <a:lnTo>
                  <a:pt x="0" y="42"/>
                </a:lnTo>
                <a:lnTo>
                  <a:pt x="5" y="49"/>
                </a:lnTo>
                <a:lnTo>
                  <a:pt x="10" y="57"/>
                </a:lnTo>
                <a:lnTo>
                  <a:pt x="18" y="55"/>
                </a:lnTo>
                <a:lnTo>
                  <a:pt x="21" y="60"/>
                </a:lnTo>
                <a:lnTo>
                  <a:pt x="25" y="60"/>
                </a:lnTo>
                <a:lnTo>
                  <a:pt x="30" y="71"/>
                </a:lnTo>
                <a:lnTo>
                  <a:pt x="37" y="76"/>
                </a:lnTo>
                <a:lnTo>
                  <a:pt x="34" y="83"/>
                </a:lnTo>
                <a:lnTo>
                  <a:pt x="43" y="91"/>
                </a:lnTo>
                <a:lnTo>
                  <a:pt x="41" y="102"/>
                </a:lnTo>
                <a:lnTo>
                  <a:pt x="28" y="108"/>
                </a:lnTo>
                <a:lnTo>
                  <a:pt x="31" y="113"/>
                </a:lnTo>
                <a:lnTo>
                  <a:pt x="37" y="119"/>
                </a:lnTo>
                <a:lnTo>
                  <a:pt x="41" y="125"/>
                </a:lnTo>
                <a:lnTo>
                  <a:pt x="43" y="136"/>
                </a:lnTo>
                <a:lnTo>
                  <a:pt x="52" y="146"/>
                </a:lnTo>
                <a:lnTo>
                  <a:pt x="58" y="141"/>
                </a:lnTo>
                <a:lnTo>
                  <a:pt x="65" y="151"/>
                </a:lnTo>
                <a:lnTo>
                  <a:pt x="71" y="155"/>
                </a:lnTo>
                <a:lnTo>
                  <a:pt x="73" y="154"/>
                </a:lnTo>
                <a:lnTo>
                  <a:pt x="74" y="146"/>
                </a:lnTo>
                <a:lnTo>
                  <a:pt x="73" y="137"/>
                </a:lnTo>
                <a:lnTo>
                  <a:pt x="78" y="134"/>
                </a:lnTo>
                <a:lnTo>
                  <a:pt x="80" y="125"/>
                </a:lnTo>
                <a:lnTo>
                  <a:pt x="70" y="123"/>
                </a:lnTo>
                <a:lnTo>
                  <a:pt x="59" y="128"/>
                </a:lnTo>
                <a:lnTo>
                  <a:pt x="49" y="128"/>
                </a:lnTo>
                <a:lnTo>
                  <a:pt x="54" y="118"/>
                </a:lnTo>
                <a:lnTo>
                  <a:pt x="61" y="118"/>
                </a:lnTo>
                <a:lnTo>
                  <a:pt x="69" y="112"/>
                </a:lnTo>
                <a:lnTo>
                  <a:pt x="71" y="100"/>
                </a:lnTo>
                <a:lnTo>
                  <a:pt x="81" y="97"/>
                </a:lnTo>
                <a:lnTo>
                  <a:pt x="85" y="93"/>
                </a:lnTo>
                <a:lnTo>
                  <a:pt x="98" y="94"/>
                </a:lnTo>
                <a:lnTo>
                  <a:pt x="99" y="91"/>
                </a:lnTo>
                <a:lnTo>
                  <a:pt x="108" y="88"/>
                </a:lnTo>
                <a:lnTo>
                  <a:pt x="98" y="76"/>
                </a:lnTo>
                <a:lnTo>
                  <a:pt x="94" y="69"/>
                </a:lnTo>
                <a:lnTo>
                  <a:pt x="97" y="60"/>
                </a:lnTo>
                <a:lnTo>
                  <a:pt x="97" y="51"/>
                </a:lnTo>
                <a:lnTo>
                  <a:pt x="106" y="41"/>
                </a:lnTo>
                <a:lnTo>
                  <a:pt x="104" y="36"/>
                </a:lnTo>
                <a:lnTo>
                  <a:pt x="108" y="35"/>
                </a:lnTo>
                <a:lnTo>
                  <a:pt x="108" y="26"/>
                </a:lnTo>
                <a:lnTo>
                  <a:pt x="112" y="22"/>
                </a:lnTo>
                <a:lnTo>
                  <a:pt x="107" y="17"/>
                </a:lnTo>
                <a:lnTo>
                  <a:pt x="104" y="17"/>
                </a:lnTo>
                <a:lnTo>
                  <a:pt x="90" y="7"/>
                </a:lnTo>
                <a:lnTo>
                  <a:pt x="77" y="0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rot="1027200">
            <a:off x="7710480" y="3276720"/>
            <a:ext cx="149400" cy="339480"/>
          </a:xfrm>
          <a:custGeom>
            <a:avLst/>
            <a:gdLst/>
            <a:ahLst/>
            <a:rect l="l" t="t" r="r" b="b"/>
            <a:pathLst>
              <a:path w="156" h="352">
                <a:moveTo>
                  <a:pt x="38" y="14"/>
                </a:moveTo>
                <a:lnTo>
                  <a:pt x="49" y="11"/>
                </a:lnTo>
                <a:lnTo>
                  <a:pt x="58" y="16"/>
                </a:lnTo>
                <a:lnTo>
                  <a:pt x="66" y="16"/>
                </a:lnTo>
                <a:lnTo>
                  <a:pt x="75" y="21"/>
                </a:lnTo>
                <a:lnTo>
                  <a:pt x="81" y="31"/>
                </a:lnTo>
                <a:lnTo>
                  <a:pt x="87" y="35"/>
                </a:lnTo>
                <a:lnTo>
                  <a:pt x="88" y="46"/>
                </a:lnTo>
                <a:lnTo>
                  <a:pt x="92" y="55"/>
                </a:lnTo>
                <a:lnTo>
                  <a:pt x="103" y="64"/>
                </a:lnTo>
                <a:lnTo>
                  <a:pt x="91" y="68"/>
                </a:lnTo>
                <a:lnTo>
                  <a:pt x="96" y="72"/>
                </a:lnTo>
                <a:lnTo>
                  <a:pt x="99" y="79"/>
                </a:lnTo>
                <a:lnTo>
                  <a:pt x="122" y="96"/>
                </a:lnTo>
                <a:lnTo>
                  <a:pt x="123" y="105"/>
                </a:lnTo>
                <a:lnTo>
                  <a:pt x="129" y="117"/>
                </a:lnTo>
                <a:lnTo>
                  <a:pt x="136" y="124"/>
                </a:lnTo>
                <a:lnTo>
                  <a:pt x="150" y="130"/>
                </a:lnTo>
                <a:lnTo>
                  <a:pt x="147" y="142"/>
                </a:lnTo>
                <a:lnTo>
                  <a:pt x="156" y="158"/>
                </a:lnTo>
                <a:lnTo>
                  <a:pt x="155" y="164"/>
                </a:lnTo>
                <a:lnTo>
                  <a:pt x="133" y="164"/>
                </a:lnTo>
                <a:lnTo>
                  <a:pt x="133" y="172"/>
                </a:lnTo>
                <a:lnTo>
                  <a:pt x="129" y="179"/>
                </a:lnTo>
                <a:lnTo>
                  <a:pt x="129" y="184"/>
                </a:lnTo>
                <a:lnTo>
                  <a:pt x="131" y="195"/>
                </a:lnTo>
                <a:lnTo>
                  <a:pt x="129" y="205"/>
                </a:lnTo>
                <a:lnTo>
                  <a:pt x="125" y="213"/>
                </a:lnTo>
                <a:lnTo>
                  <a:pt x="120" y="219"/>
                </a:lnTo>
                <a:lnTo>
                  <a:pt x="112" y="229"/>
                </a:lnTo>
                <a:lnTo>
                  <a:pt x="117" y="239"/>
                </a:lnTo>
                <a:lnTo>
                  <a:pt x="108" y="245"/>
                </a:lnTo>
                <a:lnTo>
                  <a:pt x="113" y="254"/>
                </a:lnTo>
                <a:lnTo>
                  <a:pt x="114" y="262"/>
                </a:lnTo>
                <a:lnTo>
                  <a:pt x="117" y="275"/>
                </a:lnTo>
                <a:lnTo>
                  <a:pt x="113" y="281"/>
                </a:lnTo>
                <a:lnTo>
                  <a:pt x="105" y="278"/>
                </a:lnTo>
                <a:lnTo>
                  <a:pt x="98" y="280"/>
                </a:lnTo>
                <a:lnTo>
                  <a:pt x="92" y="275"/>
                </a:lnTo>
                <a:lnTo>
                  <a:pt x="87" y="268"/>
                </a:lnTo>
                <a:lnTo>
                  <a:pt x="86" y="260"/>
                </a:lnTo>
                <a:lnTo>
                  <a:pt x="81" y="256"/>
                </a:lnTo>
                <a:lnTo>
                  <a:pt x="74" y="263"/>
                </a:lnTo>
                <a:lnTo>
                  <a:pt x="67" y="268"/>
                </a:lnTo>
                <a:lnTo>
                  <a:pt x="59" y="275"/>
                </a:lnTo>
                <a:lnTo>
                  <a:pt x="59" y="284"/>
                </a:lnTo>
                <a:lnTo>
                  <a:pt x="54" y="295"/>
                </a:lnTo>
                <a:lnTo>
                  <a:pt x="49" y="302"/>
                </a:lnTo>
                <a:lnTo>
                  <a:pt x="49" y="308"/>
                </a:lnTo>
                <a:lnTo>
                  <a:pt x="41" y="314"/>
                </a:lnTo>
                <a:lnTo>
                  <a:pt x="31" y="320"/>
                </a:lnTo>
                <a:lnTo>
                  <a:pt x="39" y="333"/>
                </a:lnTo>
                <a:lnTo>
                  <a:pt x="34" y="340"/>
                </a:lnTo>
                <a:lnTo>
                  <a:pt x="25" y="339"/>
                </a:lnTo>
                <a:lnTo>
                  <a:pt x="14" y="352"/>
                </a:lnTo>
                <a:lnTo>
                  <a:pt x="10" y="352"/>
                </a:lnTo>
                <a:lnTo>
                  <a:pt x="0" y="349"/>
                </a:lnTo>
                <a:lnTo>
                  <a:pt x="13" y="317"/>
                </a:lnTo>
                <a:lnTo>
                  <a:pt x="10" y="299"/>
                </a:lnTo>
                <a:lnTo>
                  <a:pt x="16" y="287"/>
                </a:lnTo>
                <a:lnTo>
                  <a:pt x="16" y="278"/>
                </a:lnTo>
                <a:lnTo>
                  <a:pt x="22" y="272"/>
                </a:lnTo>
                <a:lnTo>
                  <a:pt x="25" y="276"/>
                </a:lnTo>
                <a:lnTo>
                  <a:pt x="36" y="265"/>
                </a:lnTo>
                <a:lnTo>
                  <a:pt x="41" y="250"/>
                </a:lnTo>
                <a:lnTo>
                  <a:pt x="49" y="243"/>
                </a:lnTo>
                <a:lnTo>
                  <a:pt x="52" y="233"/>
                </a:lnTo>
                <a:lnTo>
                  <a:pt x="58" y="238"/>
                </a:lnTo>
                <a:lnTo>
                  <a:pt x="67" y="228"/>
                </a:lnTo>
                <a:lnTo>
                  <a:pt x="64" y="219"/>
                </a:lnTo>
                <a:lnTo>
                  <a:pt x="59" y="216"/>
                </a:lnTo>
                <a:lnTo>
                  <a:pt x="55" y="185"/>
                </a:lnTo>
                <a:lnTo>
                  <a:pt x="47" y="179"/>
                </a:lnTo>
                <a:lnTo>
                  <a:pt x="44" y="171"/>
                </a:lnTo>
                <a:lnTo>
                  <a:pt x="45" y="164"/>
                </a:lnTo>
                <a:lnTo>
                  <a:pt x="49" y="157"/>
                </a:lnTo>
                <a:lnTo>
                  <a:pt x="52" y="159"/>
                </a:lnTo>
                <a:lnTo>
                  <a:pt x="52" y="172"/>
                </a:lnTo>
                <a:lnTo>
                  <a:pt x="59" y="176"/>
                </a:lnTo>
                <a:lnTo>
                  <a:pt x="62" y="178"/>
                </a:lnTo>
                <a:lnTo>
                  <a:pt x="67" y="175"/>
                </a:lnTo>
                <a:lnTo>
                  <a:pt x="68" y="167"/>
                </a:lnTo>
                <a:lnTo>
                  <a:pt x="68" y="159"/>
                </a:lnTo>
                <a:lnTo>
                  <a:pt x="73" y="154"/>
                </a:lnTo>
                <a:lnTo>
                  <a:pt x="72" y="139"/>
                </a:lnTo>
                <a:lnTo>
                  <a:pt x="67" y="119"/>
                </a:lnTo>
                <a:lnTo>
                  <a:pt x="70" y="108"/>
                </a:lnTo>
                <a:lnTo>
                  <a:pt x="66" y="99"/>
                </a:lnTo>
                <a:lnTo>
                  <a:pt x="59" y="93"/>
                </a:lnTo>
                <a:lnTo>
                  <a:pt x="59" y="86"/>
                </a:lnTo>
                <a:lnTo>
                  <a:pt x="51" y="77"/>
                </a:lnTo>
                <a:lnTo>
                  <a:pt x="47" y="70"/>
                </a:lnTo>
                <a:lnTo>
                  <a:pt x="46" y="62"/>
                </a:lnTo>
                <a:lnTo>
                  <a:pt x="39" y="59"/>
                </a:lnTo>
                <a:lnTo>
                  <a:pt x="32" y="65"/>
                </a:lnTo>
                <a:lnTo>
                  <a:pt x="29" y="60"/>
                </a:lnTo>
                <a:lnTo>
                  <a:pt x="24" y="52"/>
                </a:lnTo>
                <a:lnTo>
                  <a:pt x="22" y="46"/>
                </a:lnTo>
                <a:lnTo>
                  <a:pt x="16" y="49"/>
                </a:lnTo>
                <a:lnTo>
                  <a:pt x="14" y="42"/>
                </a:lnTo>
                <a:lnTo>
                  <a:pt x="14" y="34"/>
                </a:lnTo>
                <a:lnTo>
                  <a:pt x="8" y="25"/>
                </a:lnTo>
                <a:lnTo>
                  <a:pt x="10" y="20"/>
                </a:lnTo>
                <a:lnTo>
                  <a:pt x="19" y="20"/>
                </a:lnTo>
                <a:lnTo>
                  <a:pt x="24" y="23"/>
                </a:lnTo>
                <a:lnTo>
                  <a:pt x="25" y="18"/>
                </a:lnTo>
                <a:lnTo>
                  <a:pt x="30" y="12"/>
                </a:lnTo>
                <a:lnTo>
                  <a:pt x="22" y="7"/>
                </a:lnTo>
                <a:lnTo>
                  <a:pt x="17" y="12"/>
                </a:lnTo>
                <a:lnTo>
                  <a:pt x="12" y="11"/>
                </a:lnTo>
                <a:lnTo>
                  <a:pt x="14" y="3"/>
                </a:lnTo>
                <a:lnTo>
                  <a:pt x="21" y="0"/>
                </a:lnTo>
                <a:lnTo>
                  <a:pt x="29" y="6"/>
                </a:lnTo>
                <a:lnTo>
                  <a:pt x="38" y="14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1027200">
            <a:off x="7716960" y="3543480"/>
            <a:ext cx="37800" cy="64800"/>
          </a:xfrm>
          <a:custGeom>
            <a:avLst/>
            <a:gdLst/>
            <a:ahLst/>
            <a:rect l="l" t="t" r="r" b="b"/>
            <a:pathLst>
              <a:path w="40" h="69">
                <a:moveTo>
                  <a:pt x="37" y="6"/>
                </a:moveTo>
                <a:lnTo>
                  <a:pt x="27" y="0"/>
                </a:lnTo>
                <a:lnTo>
                  <a:pt x="22" y="4"/>
                </a:lnTo>
                <a:lnTo>
                  <a:pt x="17" y="5"/>
                </a:lnTo>
                <a:lnTo>
                  <a:pt x="14" y="15"/>
                </a:lnTo>
                <a:lnTo>
                  <a:pt x="10" y="18"/>
                </a:lnTo>
                <a:lnTo>
                  <a:pt x="9" y="28"/>
                </a:lnTo>
                <a:lnTo>
                  <a:pt x="7" y="34"/>
                </a:lnTo>
                <a:lnTo>
                  <a:pt x="0" y="37"/>
                </a:lnTo>
                <a:lnTo>
                  <a:pt x="3" y="45"/>
                </a:lnTo>
                <a:lnTo>
                  <a:pt x="4" y="52"/>
                </a:lnTo>
                <a:lnTo>
                  <a:pt x="0" y="60"/>
                </a:lnTo>
                <a:lnTo>
                  <a:pt x="4" y="66"/>
                </a:lnTo>
                <a:lnTo>
                  <a:pt x="8" y="60"/>
                </a:lnTo>
                <a:lnTo>
                  <a:pt x="11" y="66"/>
                </a:lnTo>
                <a:lnTo>
                  <a:pt x="16" y="69"/>
                </a:lnTo>
                <a:lnTo>
                  <a:pt x="20" y="68"/>
                </a:lnTo>
                <a:lnTo>
                  <a:pt x="27" y="68"/>
                </a:lnTo>
                <a:lnTo>
                  <a:pt x="30" y="59"/>
                </a:lnTo>
                <a:lnTo>
                  <a:pt x="26" y="56"/>
                </a:lnTo>
                <a:lnTo>
                  <a:pt x="26" y="44"/>
                </a:lnTo>
                <a:lnTo>
                  <a:pt x="22" y="37"/>
                </a:lnTo>
                <a:lnTo>
                  <a:pt x="28" y="32"/>
                </a:lnTo>
                <a:lnTo>
                  <a:pt x="31" y="30"/>
                </a:lnTo>
                <a:lnTo>
                  <a:pt x="36" y="29"/>
                </a:lnTo>
                <a:lnTo>
                  <a:pt x="40" y="27"/>
                </a:lnTo>
                <a:lnTo>
                  <a:pt x="40" y="21"/>
                </a:lnTo>
                <a:lnTo>
                  <a:pt x="34" y="18"/>
                </a:lnTo>
                <a:lnTo>
                  <a:pt x="37" y="6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1027200">
            <a:off x="7646760" y="3602160"/>
            <a:ext cx="68040" cy="61920"/>
          </a:xfrm>
          <a:custGeom>
            <a:avLst/>
            <a:gdLst/>
            <a:ahLst/>
            <a:rect l="l" t="t" r="r" b="b"/>
            <a:pathLst>
              <a:path w="72" h="63">
                <a:moveTo>
                  <a:pt x="31" y="0"/>
                </a:moveTo>
                <a:lnTo>
                  <a:pt x="19" y="6"/>
                </a:lnTo>
                <a:lnTo>
                  <a:pt x="13" y="6"/>
                </a:lnTo>
                <a:lnTo>
                  <a:pt x="10" y="13"/>
                </a:lnTo>
                <a:lnTo>
                  <a:pt x="8" y="22"/>
                </a:lnTo>
                <a:lnTo>
                  <a:pt x="6" y="25"/>
                </a:lnTo>
                <a:lnTo>
                  <a:pt x="8" y="31"/>
                </a:lnTo>
                <a:lnTo>
                  <a:pt x="0" y="37"/>
                </a:lnTo>
                <a:lnTo>
                  <a:pt x="7" y="44"/>
                </a:lnTo>
                <a:lnTo>
                  <a:pt x="16" y="47"/>
                </a:lnTo>
                <a:lnTo>
                  <a:pt x="22" y="41"/>
                </a:lnTo>
                <a:lnTo>
                  <a:pt x="16" y="25"/>
                </a:lnTo>
                <a:lnTo>
                  <a:pt x="27" y="26"/>
                </a:lnTo>
                <a:lnTo>
                  <a:pt x="37" y="29"/>
                </a:lnTo>
                <a:lnTo>
                  <a:pt x="41" y="35"/>
                </a:lnTo>
                <a:lnTo>
                  <a:pt x="42" y="56"/>
                </a:lnTo>
                <a:lnTo>
                  <a:pt x="48" y="61"/>
                </a:lnTo>
                <a:lnTo>
                  <a:pt x="54" y="63"/>
                </a:lnTo>
                <a:lnTo>
                  <a:pt x="60" y="59"/>
                </a:lnTo>
                <a:lnTo>
                  <a:pt x="62" y="55"/>
                </a:lnTo>
                <a:lnTo>
                  <a:pt x="72" y="48"/>
                </a:lnTo>
                <a:lnTo>
                  <a:pt x="71" y="41"/>
                </a:lnTo>
                <a:lnTo>
                  <a:pt x="66" y="37"/>
                </a:lnTo>
                <a:lnTo>
                  <a:pt x="61" y="25"/>
                </a:lnTo>
                <a:lnTo>
                  <a:pt x="58" y="19"/>
                </a:lnTo>
                <a:lnTo>
                  <a:pt x="56" y="8"/>
                </a:lnTo>
                <a:lnTo>
                  <a:pt x="54" y="0"/>
                </a:lnTo>
                <a:lnTo>
                  <a:pt x="45" y="4"/>
                </a:lnTo>
                <a:lnTo>
                  <a:pt x="31" y="0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027200">
            <a:off x="7671960" y="3678120"/>
            <a:ext cx="14400" cy="12960"/>
          </a:xfrm>
          <a:custGeom>
            <a:avLst/>
            <a:gdLst/>
            <a:ahLst/>
            <a:rect l="l" t="t" r="r" b="b"/>
            <a:pathLst>
              <a:path w="14" h="12">
                <a:moveTo>
                  <a:pt x="8" y="0"/>
                </a:moveTo>
                <a:lnTo>
                  <a:pt x="1" y="1"/>
                </a:lnTo>
                <a:lnTo>
                  <a:pt x="0" y="8"/>
                </a:lnTo>
                <a:lnTo>
                  <a:pt x="3" y="11"/>
                </a:lnTo>
                <a:lnTo>
                  <a:pt x="10" y="12"/>
                </a:lnTo>
                <a:lnTo>
                  <a:pt x="14" y="7"/>
                </a:lnTo>
                <a:lnTo>
                  <a:pt x="13" y="2"/>
                </a:lnTo>
                <a:lnTo>
                  <a:pt x="8" y="0"/>
                </a:lnTo>
                <a:close/>
              </a:path>
            </a:pathLst>
          </a:custGeom>
          <a:solidFill>
            <a:srgbClr val="402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27200">
            <a:off x="7651800" y="3716280"/>
            <a:ext cx="57240" cy="61920"/>
          </a:xfrm>
          <a:custGeom>
            <a:avLst/>
            <a:gdLst/>
            <a:ahLst/>
            <a:rect l="l" t="t" r="r" b="b"/>
            <a:pathLst>
              <a:path w="56" h="63">
                <a:moveTo>
                  <a:pt x="5" y="40"/>
                </a:moveTo>
                <a:lnTo>
                  <a:pt x="15" y="27"/>
                </a:lnTo>
                <a:lnTo>
                  <a:pt x="23" y="12"/>
                </a:lnTo>
                <a:lnTo>
                  <a:pt x="25" y="3"/>
                </a:lnTo>
                <a:lnTo>
                  <a:pt x="44" y="0"/>
                </a:lnTo>
                <a:lnTo>
                  <a:pt x="56" y="14"/>
                </a:lnTo>
                <a:lnTo>
                  <a:pt x="48" y="40"/>
                </a:lnTo>
                <a:lnTo>
                  <a:pt x="38" y="50"/>
                </a:lnTo>
                <a:lnTo>
                  <a:pt x="33" y="58"/>
                </a:lnTo>
                <a:lnTo>
                  <a:pt x="18" y="63"/>
                </a:lnTo>
                <a:lnTo>
                  <a:pt x="5" y="63"/>
                </a:lnTo>
                <a:lnTo>
                  <a:pt x="5" y="57"/>
                </a:lnTo>
                <a:lnTo>
                  <a:pt x="0" y="52"/>
                </a:lnTo>
                <a:lnTo>
                  <a:pt x="5" y="40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1027200">
            <a:off x="7626240" y="3795840"/>
            <a:ext cx="27000" cy="25200"/>
          </a:xfrm>
          <a:custGeom>
            <a:avLst/>
            <a:gdLst/>
            <a:ahLst/>
            <a:rect l="l" t="t" r="r" b="b"/>
            <a:pathLst>
              <a:path w="28" h="26">
                <a:moveTo>
                  <a:pt x="15" y="0"/>
                </a:moveTo>
                <a:lnTo>
                  <a:pt x="3" y="2"/>
                </a:lnTo>
                <a:lnTo>
                  <a:pt x="0" y="19"/>
                </a:lnTo>
                <a:lnTo>
                  <a:pt x="5" y="25"/>
                </a:lnTo>
                <a:lnTo>
                  <a:pt x="20" y="26"/>
                </a:lnTo>
                <a:lnTo>
                  <a:pt x="28" y="15"/>
                </a:lnTo>
                <a:lnTo>
                  <a:pt x="27" y="3"/>
                </a:lnTo>
                <a:lnTo>
                  <a:pt x="15" y="0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1027200">
            <a:off x="7509960" y="3801960"/>
            <a:ext cx="39960" cy="101880"/>
          </a:xfrm>
          <a:custGeom>
            <a:avLst/>
            <a:gdLst/>
            <a:ahLst/>
            <a:rect l="l" t="t" r="r" b="b"/>
            <a:pathLst>
              <a:path w="44" h="104">
                <a:moveTo>
                  <a:pt x="20" y="0"/>
                </a:moveTo>
                <a:lnTo>
                  <a:pt x="8" y="5"/>
                </a:lnTo>
                <a:lnTo>
                  <a:pt x="0" y="19"/>
                </a:lnTo>
                <a:lnTo>
                  <a:pt x="0" y="38"/>
                </a:lnTo>
                <a:lnTo>
                  <a:pt x="0" y="60"/>
                </a:lnTo>
                <a:lnTo>
                  <a:pt x="5" y="78"/>
                </a:lnTo>
                <a:lnTo>
                  <a:pt x="13" y="88"/>
                </a:lnTo>
                <a:lnTo>
                  <a:pt x="19" y="92"/>
                </a:lnTo>
                <a:lnTo>
                  <a:pt x="25" y="101"/>
                </a:lnTo>
                <a:lnTo>
                  <a:pt x="35" y="104"/>
                </a:lnTo>
                <a:lnTo>
                  <a:pt x="38" y="99"/>
                </a:lnTo>
                <a:lnTo>
                  <a:pt x="32" y="90"/>
                </a:lnTo>
                <a:lnTo>
                  <a:pt x="32" y="85"/>
                </a:lnTo>
                <a:lnTo>
                  <a:pt x="41" y="75"/>
                </a:lnTo>
                <a:lnTo>
                  <a:pt x="44" y="66"/>
                </a:lnTo>
                <a:lnTo>
                  <a:pt x="41" y="54"/>
                </a:lnTo>
                <a:lnTo>
                  <a:pt x="36" y="50"/>
                </a:lnTo>
                <a:lnTo>
                  <a:pt x="37" y="36"/>
                </a:lnTo>
                <a:lnTo>
                  <a:pt x="31" y="31"/>
                </a:lnTo>
                <a:lnTo>
                  <a:pt x="29" y="27"/>
                </a:lnTo>
                <a:lnTo>
                  <a:pt x="34" y="27"/>
                </a:lnTo>
                <a:lnTo>
                  <a:pt x="34" y="16"/>
                </a:lnTo>
                <a:lnTo>
                  <a:pt x="31" y="11"/>
                </a:lnTo>
                <a:lnTo>
                  <a:pt x="20" y="0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389720" y="3887640"/>
            <a:ext cx="55800" cy="69840"/>
          </a:xfrm>
          <a:custGeom>
            <a:avLst/>
            <a:gdLst/>
            <a:ahLst/>
            <a:rect l="l" t="t" r="r" b="b"/>
            <a:pathLst>
              <a:path w="60" h="70">
                <a:moveTo>
                  <a:pt x="48" y="1"/>
                </a:moveTo>
                <a:lnTo>
                  <a:pt x="42" y="8"/>
                </a:lnTo>
                <a:lnTo>
                  <a:pt x="28" y="13"/>
                </a:lnTo>
                <a:lnTo>
                  <a:pt x="16" y="16"/>
                </a:lnTo>
                <a:lnTo>
                  <a:pt x="9" y="21"/>
                </a:lnTo>
                <a:lnTo>
                  <a:pt x="5" y="27"/>
                </a:lnTo>
                <a:lnTo>
                  <a:pt x="0" y="39"/>
                </a:lnTo>
                <a:lnTo>
                  <a:pt x="3" y="45"/>
                </a:lnTo>
                <a:lnTo>
                  <a:pt x="11" y="55"/>
                </a:lnTo>
                <a:lnTo>
                  <a:pt x="21" y="63"/>
                </a:lnTo>
                <a:lnTo>
                  <a:pt x="30" y="70"/>
                </a:lnTo>
                <a:lnTo>
                  <a:pt x="37" y="67"/>
                </a:lnTo>
                <a:lnTo>
                  <a:pt x="45" y="60"/>
                </a:lnTo>
                <a:lnTo>
                  <a:pt x="49" y="55"/>
                </a:lnTo>
                <a:lnTo>
                  <a:pt x="54" y="44"/>
                </a:lnTo>
                <a:lnTo>
                  <a:pt x="57" y="32"/>
                </a:lnTo>
                <a:lnTo>
                  <a:pt x="56" y="28"/>
                </a:lnTo>
                <a:lnTo>
                  <a:pt x="60" y="21"/>
                </a:lnTo>
                <a:lnTo>
                  <a:pt x="60" y="13"/>
                </a:lnTo>
                <a:lnTo>
                  <a:pt x="58" y="4"/>
                </a:lnTo>
                <a:lnTo>
                  <a:pt x="56" y="0"/>
                </a:lnTo>
                <a:lnTo>
                  <a:pt x="48" y="1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4200" y="3862440"/>
            <a:ext cx="223920" cy="338040"/>
          </a:xfrm>
          <a:custGeom>
            <a:avLst/>
            <a:gdLst/>
            <a:ahLst/>
            <a:rect l="l" t="t" r="r" b="b"/>
            <a:pathLst>
              <a:path w="230" h="350">
                <a:moveTo>
                  <a:pt x="138" y="9"/>
                </a:moveTo>
                <a:lnTo>
                  <a:pt x="127" y="13"/>
                </a:lnTo>
                <a:lnTo>
                  <a:pt x="113" y="13"/>
                </a:lnTo>
                <a:lnTo>
                  <a:pt x="97" y="6"/>
                </a:lnTo>
                <a:lnTo>
                  <a:pt x="97" y="0"/>
                </a:lnTo>
                <a:lnTo>
                  <a:pt x="90" y="0"/>
                </a:lnTo>
                <a:lnTo>
                  <a:pt x="71" y="13"/>
                </a:lnTo>
                <a:lnTo>
                  <a:pt x="59" y="13"/>
                </a:lnTo>
                <a:lnTo>
                  <a:pt x="33" y="27"/>
                </a:lnTo>
                <a:lnTo>
                  <a:pt x="0" y="40"/>
                </a:lnTo>
                <a:lnTo>
                  <a:pt x="13" y="54"/>
                </a:lnTo>
                <a:lnTo>
                  <a:pt x="40" y="66"/>
                </a:lnTo>
                <a:lnTo>
                  <a:pt x="40" y="72"/>
                </a:lnTo>
                <a:lnTo>
                  <a:pt x="52" y="73"/>
                </a:lnTo>
                <a:lnTo>
                  <a:pt x="58" y="67"/>
                </a:lnTo>
                <a:lnTo>
                  <a:pt x="71" y="80"/>
                </a:lnTo>
                <a:lnTo>
                  <a:pt x="77" y="81"/>
                </a:lnTo>
                <a:lnTo>
                  <a:pt x="65" y="91"/>
                </a:lnTo>
                <a:lnTo>
                  <a:pt x="71" y="111"/>
                </a:lnTo>
                <a:lnTo>
                  <a:pt x="89" y="117"/>
                </a:lnTo>
                <a:lnTo>
                  <a:pt x="115" y="128"/>
                </a:lnTo>
                <a:lnTo>
                  <a:pt x="131" y="144"/>
                </a:lnTo>
                <a:lnTo>
                  <a:pt x="150" y="151"/>
                </a:lnTo>
                <a:lnTo>
                  <a:pt x="155" y="156"/>
                </a:lnTo>
                <a:lnTo>
                  <a:pt x="167" y="180"/>
                </a:lnTo>
                <a:lnTo>
                  <a:pt x="169" y="188"/>
                </a:lnTo>
                <a:lnTo>
                  <a:pt x="179" y="198"/>
                </a:lnTo>
                <a:lnTo>
                  <a:pt x="186" y="209"/>
                </a:lnTo>
                <a:lnTo>
                  <a:pt x="189" y="216"/>
                </a:lnTo>
                <a:lnTo>
                  <a:pt x="182" y="233"/>
                </a:lnTo>
                <a:lnTo>
                  <a:pt x="170" y="252"/>
                </a:lnTo>
                <a:lnTo>
                  <a:pt x="155" y="262"/>
                </a:lnTo>
                <a:lnTo>
                  <a:pt x="158" y="269"/>
                </a:lnTo>
                <a:lnTo>
                  <a:pt x="162" y="272"/>
                </a:lnTo>
                <a:lnTo>
                  <a:pt x="162" y="281"/>
                </a:lnTo>
                <a:lnTo>
                  <a:pt x="149" y="289"/>
                </a:lnTo>
                <a:lnTo>
                  <a:pt x="143" y="301"/>
                </a:lnTo>
                <a:lnTo>
                  <a:pt x="143" y="307"/>
                </a:lnTo>
                <a:lnTo>
                  <a:pt x="151" y="305"/>
                </a:lnTo>
                <a:lnTo>
                  <a:pt x="143" y="317"/>
                </a:lnTo>
                <a:lnTo>
                  <a:pt x="149" y="350"/>
                </a:lnTo>
                <a:lnTo>
                  <a:pt x="158" y="349"/>
                </a:lnTo>
                <a:lnTo>
                  <a:pt x="177" y="322"/>
                </a:lnTo>
                <a:lnTo>
                  <a:pt x="182" y="288"/>
                </a:lnTo>
                <a:lnTo>
                  <a:pt x="220" y="270"/>
                </a:lnTo>
                <a:lnTo>
                  <a:pt x="228" y="250"/>
                </a:lnTo>
                <a:lnTo>
                  <a:pt x="230" y="222"/>
                </a:lnTo>
                <a:lnTo>
                  <a:pt x="225" y="214"/>
                </a:lnTo>
                <a:lnTo>
                  <a:pt x="229" y="208"/>
                </a:lnTo>
                <a:lnTo>
                  <a:pt x="214" y="182"/>
                </a:lnTo>
                <a:lnTo>
                  <a:pt x="200" y="168"/>
                </a:lnTo>
                <a:lnTo>
                  <a:pt x="195" y="156"/>
                </a:lnTo>
                <a:lnTo>
                  <a:pt x="187" y="148"/>
                </a:lnTo>
                <a:lnTo>
                  <a:pt x="177" y="141"/>
                </a:lnTo>
                <a:lnTo>
                  <a:pt x="156" y="130"/>
                </a:lnTo>
                <a:lnTo>
                  <a:pt x="134" y="118"/>
                </a:lnTo>
                <a:lnTo>
                  <a:pt x="118" y="108"/>
                </a:lnTo>
                <a:lnTo>
                  <a:pt x="105" y="97"/>
                </a:lnTo>
                <a:lnTo>
                  <a:pt x="116" y="52"/>
                </a:lnTo>
                <a:lnTo>
                  <a:pt x="138" y="9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10440" y="3900600"/>
            <a:ext cx="187200" cy="163440"/>
          </a:xfrm>
          <a:custGeom>
            <a:avLst/>
            <a:gdLst/>
            <a:ahLst/>
            <a:rect l="l" t="t" r="r" b="b"/>
            <a:pathLst>
              <a:path w="193" h="167">
                <a:moveTo>
                  <a:pt x="26" y="0"/>
                </a:moveTo>
                <a:lnTo>
                  <a:pt x="37" y="14"/>
                </a:lnTo>
                <a:lnTo>
                  <a:pt x="64" y="25"/>
                </a:lnTo>
                <a:lnTo>
                  <a:pt x="64" y="32"/>
                </a:lnTo>
                <a:lnTo>
                  <a:pt x="76" y="32"/>
                </a:lnTo>
                <a:lnTo>
                  <a:pt x="82" y="27"/>
                </a:lnTo>
                <a:lnTo>
                  <a:pt x="95" y="39"/>
                </a:lnTo>
                <a:lnTo>
                  <a:pt x="103" y="40"/>
                </a:lnTo>
                <a:lnTo>
                  <a:pt x="90" y="51"/>
                </a:lnTo>
                <a:lnTo>
                  <a:pt x="95" y="69"/>
                </a:lnTo>
                <a:lnTo>
                  <a:pt x="113" y="76"/>
                </a:lnTo>
                <a:lnTo>
                  <a:pt x="140" y="88"/>
                </a:lnTo>
                <a:lnTo>
                  <a:pt x="155" y="103"/>
                </a:lnTo>
                <a:lnTo>
                  <a:pt x="174" y="109"/>
                </a:lnTo>
                <a:lnTo>
                  <a:pt x="179" y="116"/>
                </a:lnTo>
                <a:lnTo>
                  <a:pt x="186" y="127"/>
                </a:lnTo>
                <a:lnTo>
                  <a:pt x="191" y="138"/>
                </a:lnTo>
                <a:lnTo>
                  <a:pt x="193" y="149"/>
                </a:lnTo>
                <a:lnTo>
                  <a:pt x="181" y="149"/>
                </a:lnTo>
                <a:lnTo>
                  <a:pt x="167" y="155"/>
                </a:lnTo>
                <a:lnTo>
                  <a:pt x="167" y="167"/>
                </a:lnTo>
                <a:lnTo>
                  <a:pt x="154" y="167"/>
                </a:lnTo>
                <a:lnTo>
                  <a:pt x="149" y="156"/>
                </a:lnTo>
                <a:lnTo>
                  <a:pt x="148" y="148"/>
                </a:lnTo>
                <a:lnTo>
                  <a:pt x="135" y="136"/>
                </a:lnTo>
                <a:lnTo>
                  <a:pt x="135" y="128"/>
                </a:lnTo>
                <a:lnTo>
                  <a:pt x="121" y="128"/>
                </a:lnTo>
                <a:lnTo>
                  <a:pt x="113" y="121"/>
                </a:lnTo>
                <a:lnTo>
                  <a:pt x="114" y="103"/>
                </a:lnTo>
                <a:lnTo>
                  <a:pt x="107" y="96"/>
                </a:lnTo>
                <a:lnTo>
                  <a:pt x="37" y="90"/>
                </a:lnTo>
                <a:lnTo>
                  <a:pt x="36" y="84"/>
                </a:lnTo>
                <a:lnTo>
                  <a:pt x="24" y="82"/>
                </a:lnTo>
                <a:lnTo>
                  <a:pt x="5" y="64"/>
                </a:lnTo>
                <a:lnTo>
                  <a:pt x="12" y="39"/>
                </a:lnTo>
                <a:lnTo>
                  <a:pt x="0" y="33"/>
                </a:lnTo>
                <a:lnTo>
                  <a:pt x="26" y="0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91440" y="4043520"/>
            <a:ext cx="125280" cy="114120"/>
          </a:xfrm>
          <a:custGeom>
            <a:avLst/>
            <a:gdLst/>
            <a:ahLst/>
            <a:rect l="l" t="t" r="r" b="b"/>
            <a:pathLst>
              <a:path w="130" h="118">
                <a:moveTo>
                  <a:pt x="111" y="0"/>
                </a:moveTo>
                <a:lnTo>
                  <a:pt x="99" y="0"/>
                </a:lnTo>
                <a:lnTo>
                  <a:pt x="83" y="7"/>
                </a:lnTo>
                <a:lnTo>
                  <a:pt x="83" y="18"/>
                </a:lnTo>
                <a:lnTo>
                  <a:pt x="55" y="18"/>
                </a:lnTo>
                <a:lnTo>
                  <a:pt x="0" y="46"/>
                </a:lnTo>
                <a:lnTo>
                  <a:pt x="0" y="58"/>
                </a:lnTo>
                <a:lnTo>
                  <a:pt x="13" y="67"/>
                </a:lnTo>
                <a:lnTo>
                  <a:pt x="25" y="84"/>
                </a:lnTo>
                <a:lnTo>
                  <a:pt x="31" y="109"/>
                </a:lnTo>
                <a:lnTo>
                  <a:pt x="40" y="109"/>
                </a:lnTo>
                <a:lnTo>
                  <a:pt x="52" y="118"/>
                </a:lnTo>
                <a:lnTo>
                  <a:pt x="57" y="111"/>
                </a:lnTo>
                <a:lnTo>
                  <a:pt x="71" y="118"/>
                </a:lnTo>
                <a:lnTo>
                  <a:pt x="84" y="118"/>
                </a:lnTo>
                <a:lnTo>
                  <a:pt x="84" y="112"/>
                </a:lnTo>
                <a:lnTo>
                  <a:pt x="90" y="101"/>
                </a:lnTo>
                <a:lnTo>
                  <a:pt x="103" y="93"/>
                </a:lnTo>
                <a:lnTo>
                  <a:pt x="104" y="85"/>
                </a:lnTo>
                <a:lnTo>
                  <a:pt x="99" y="79"/>
                </a:lnTo>
                <a:lnTo>
                  <a:pt x="97" y="72"/>
                </a:lnTo>
                <a:lnTo>
                  <a:pt x="111" y="65"/>
                </a:lnTo>
                <a:lnTo>
                  <a:pt x="123" y="45"/>
                </a:lnTo>
                <a:lnTo>
                  <a:pt x="130" y="27"/>
                </a:lnTo>
                <a:lnTo>
                  <a:pt x="119" y="9"/>
                </a:lnTo>
                <a:lnTo>
                  <a:pt x="111" y="0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172280" y="3960720"/>
            <a:ext cx="189000" cy="333360"/>
          </a:xfrm>
          <a:custGeom>
            <a:avLst/>
            <a:gdLst/>
            <a:ahLst/>
            <a:rect l="l" t="t" r="r" b="b"/>
            <a:pathLst>
              <a:path w="197" h="342">
                <a:moveTo>
                  <a:pt x="47" y="0"/>
                </a:moveTo>
                <a:lnTo>
                  <a:pt x="66" y="19"/>
                </a:lnTo>
                <a:lnTo>
                  <a:pt x="78" y="20"/>
                </a:lnTo>
                <a:lnTo>
                  <a:pt x="80" y="27"/>
                </a:lnTo>
                <a:lnTo>
                  <a:pt x="148" y="32"/>
                </a:lnTo>
                <a:lnTo>
                  <a:pt x="157" y="39"/>
                </a:lnTo>
                <a:lnTo>
                  <a:pt x="156" y="58"/>
                </a:lnTo>
                <a:lnTo>
                  <a:pt x="163" y="65"/>
                </a:lnTo>
                <a:lnTo>
                  <a:pt x="177" y="65"/>
                </a:lnTo>
                <a:lnTo>
                  <a:pt x="178" y="71"/>
                </a:lnTo>
                <a:lnTo>
                  <a:pt x="191" y="86"/>
                </a:lnTo>
                <a:lnTo>
                  <a:pt x="191" y="93"/>
                </a:lnTo>
                <a:lnTo>
                  <a:pt x="197" y="104"/>
                </a:lnTo>
                <a:lnTo>
                  <a:pt x="181" y="104"/>
                </a:lnTo>
                <a:lnTo>
                  <a:pt x="126" y="131"/>
                </a:lnTo>
                <a:lnTo>
                  <a:pt x="126" y="143"/>
                </a:lnTo>
                <a:lnTo>
                  <a:pt x="138" y="151"/>
                </a:lnTo>
                <a:lnTo>
                  <a:pt x="150" y="168"/>
                </a:lnTo>
                <a:lnTo>
                  <a:pt x="157" y="194"/>
                </a:lnTo>
                <a:lnTo>
                  <a:pt x="126" y="175"/>
                </a:lnTo>
                <a:lnTo>
                  <a:pt x="87" y="201"/>
                </a:lnTo>
                <a:lnTo>
                  <a:pt x="84" y="265"/>
                </a:lnTo>
                <a:lnTo>
                  <a:pt x="93" y="260"/>
                </a:lnTo>
                <a:lnTo>
                  <a:pt x="171" y="330"/>
                </a:lnTo>
                <a:lnTo>
                  <a:pt x="161" y="342"/>
                </a:lnTo>
                <a:lnTo>
                  <a:pt x="138" y="325"/>
                </a:lnTo>
                <a:lnTo>
                  <a:pt x="133" y="331"/>
                </a:lnTo>
                <a:lnTo>
                  <a:pt x="125" y="331"/>
                </a:lnTo>
                <a:lnTo>
                  <a:pt x="78" y="291"/>
                </a:lnTo>
                <a:lnTo>
                  <a:pt x="66" y="301"/>
                </a:lnTo>
                <a:lnTo>
                  <a:pt x="66" y="242"/>
                </a:lnTo>
                <a:lnTo>
                  <a:pt x="73" y="228"/>
                </a:lnTo>
                <a:lnTo>
                  <a:pt x="72" y="194"/>
                </a:lnTo>
                <a:lnTo>
                  <a:pt x="66" y="180"/>
                </a:lnTo>
                <a:lnTo>
                  <a:pt x="68" y="168"/>
                </a:lnTo>
                <a:lnTo>
                  <a:pt x="42" y="151"/>
                </a:lnTo>
                <a:lnTo>
                  <a:pt x="33" y="138"/>
                </a:lnTo>
                <a:lnTo>
                  <a:pt x="33" y="117"/>
                </a:lnTo>
                <a:lnTo>
                  <a:pt x="42" y="111"/>
                </a:lnTo>
                <a:lnTo>
                  <a:pt x="35" y="100"/>
                </a:lnTo>
                <a:lnTo>
                  <a:pt x="0" y="66"/>
                </a:lnTo>
                <a:lnTo>
                  <a:pt x="8" y="60"/>
                </a:lnTo>
                <a:lnTo>
                  <a:pt x="8" y="34"/>
                </a:lnTo>
                <a:lnTo>
                  <a:pt x="25" y="34"/>
                </a:lnTo>
                <a:lnTo>
                  <a:pt x="32" y="23"/>
                </a:lnTo>
                <a:lnTo>
                  <a:pt x="33" y="0"/>
                </a:lnTo>
                <a:lnTo>
                  <a:pt x="47" y="0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053120" y="3801960"/>
            <a:ext cx="187560" cy="397080"/>
          </a:xfrm>
          <a:custGeom>
            <a:avLst/>
            <a:gdLst/>
            <a:ahLst/>
            <a:rect l="l" t="t" r="r" b="b"/>
            <a:pathLst>
              <a:path w="193" h="412">
                <a:moveTo>
                  <a:pt x="51" y="13"/>
                </a:moveTo>
                <a:lnTo>
                  <a:pt x="78" y="0"/>
                </a:lnTo>
                <a:lnTo>
                  <a:pt x="92" y="12"/>
                </a:lnTo>
                <a:lnTo>
                  <a:pt x="101" y="31"/>
                </a:lnTo>
                <a:lnTo>
                  <a:pt x="101" y="60"/>
                </a:lnTo>
                <a:lnTo>
                  <a:pt x="97" y="84"/>
                </a:lnTo>
                <a:lnTo>
                  <a:pt x="97" y="103"/>
                </a:lnTo>
                <a:lnTo>
                  <a:pt x="112" y="96"/>
                </a:lnTo>
                <a:lnTo>
                  <a:pt x="115" y="88"/>
                </a:lnTo>
                <a:lnTo>
                  <a:pt x="162" y="135"/>
                </a:lnTo>
                <a:lnTo>
                  <a:pt x="175" y="142"/>
                </a:lnTo>
                <a:lnTo>
                  <a:pt x="167" y="167"/>
                </a:lnTo>
                <a:lnTo>
                  <a:pt x="154" y="166"/>
                </a:lnTo>
                <a:lnTo>
                  <a:pt x="153" y="191"/>
                </a:lnTo>
                <a:lnTo>
                  <a:pt x="146" y="202"/>
                </a:lnTo>
                <a:lnTo>
                  <a:pt x="129" y="202"/>
                </a:lnTo>
                <a:lnTo>
                  <a:pt x="128" y="228"/>
                </a:lnTo>
                <a:lnTo>
                  <a:pt x="120" y="232"/>
                </a:lnTo>
                <a:lnTo>
                  <a:pt x="155" y="265"/>
                </a:lnTo>
                <a:lnTo>
                  <a:pt x="163" y="277"/>
                </a:lnTo>
                <a:lnTo>
                  <a:pt x="154" y="283"/>
                </a:lnTo>
                <a:lnTo>
                  <a:pt x="154" y="304"/>
                </a:lnTo>
                <a:lnTo>
                  <a:pt x="163" y="318"/>
                </a:lnTo>
                <a:lnTo>
                  <a:pt x="189" y="333"/>
                </a:lnTo>
                <a:lnTo>
                  <a:pt x="186" y="346"/>
                </a:lnTo>
                <a:lnTo>
                  <a:pt x="193" y="360"/>
                </a:lnTo>
                <a:lnTo>
                  <a:pt x="193" y="394"/>
                </a:lnTo>
                <a:lnTo>
                  <a:pt x="186" y="412"/>
                </a:lnTo>
                <a:lnTo>
                  <a:pt x="181" y="407"/>
                </a:lnTo>
                <a:lnTo>
                  <a:pt x="180" y="370"/>
                </a:lnTo>
                <a:lnTo>
                  <a:pt x="152" y="340"/>
                </a:lnTo>
                <a:lnTo>
                  <a:pt x="149" y="313"/>
                </a:lnTo>
                <a:lnTo>
                  <a:pt x="137" y="292"/>
                </a:lnTo>
                <a:lnTo>
                  <a:pt x="128" y="265"/>
                </a:lnTo>
                <a:lnTo>
                  <a:pt x="115" y="264"/>
                </a:lnTo>
                <a:lnTo>
                  <a:pt x="106" y="259"/>
                </a:lnTo>
                <a:lnTo>
                  <a:pt x="102" y="263"/>
                </a:lnTo>
                <a:lnTo>
                  <a:pt x="114" y="270"/>
                </a:lnTo>
                <a:lnTo>
                  <a:pt x="116" y="286"/>
                </a:lnTo>
                <a:lnTo>
                  <a:pt x="108" y="284"/>
                </a:lnTo>
                <a:lnTo>
                  <a:pt x="97" y="294"/>
                </a:lnTo>
                <a:lnTo>
                  <a:pt x="76" y="308"/>
                </a:lnTo>
                <a:lnTo>
                  <a:pt x="57" y="302"/>
                </a:lnTo>
                <a:lnTo>
                  <a:pt x="62" y="281"/>
                </a:lnTo>
                <a:lnTo>
                  <a:pt x="47" y="241"/>
                </a:lnTo>
                <a:lnTo>
                  <a:pt x="44" y="231"/>
                </a:lnTo>
                <a:lnTo>
                  <a:pt x="0" y="190"/>
                </a:lnTo>
                <a:lnTo>
                  <a:pt x="13" y="179"/>
                </a:lnTo>
                <a:lnTo>
                  <a:pt x="10" y="142"/>
                </a:lnTo>
                <a:lnTo>
                  <a:pt x="30" y="88"/>
                </a:lnTo>
                <a:lnTo>
                  <a:pt x="30" y="56"/>
                </a:lnTo>
                <a:lnTo>
                  <a:pt x="44" y="43"/>
                </a:lnTo>
                <a:lnTo>
                  <a:pt x="51" y="13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35880" y="3341520"/>
            <a:ext cx="61920" cy="90720"/>
          </a:xfrm>
          <a:custGeom>
            <a:avLst/>
            <a:gdLst/>
            <a:ahLst/>
            <a:rect l="l" t="t" r="r" b="b"/>
            <a:pathLst>
              <a:path w="64" h="92">
                <a:moveTo>
                  <a:pt x="27" y="0"/>
                </a:moveTo>
                <a:lnTo>
                  <a:pt x="0" y="20"/>
                </a:lnTo>
                <a:lnTo>
                  <a:pt x="8" y="33"/>
                </a:lnTo>
                <a:lnTo>
                  <a:pt x="8" y="39"/>
                </a:lnTo>
                <a:lnTo>
                  <a:pt x="0" y="38"/>
                </a:lnTo>
                <a:lnTo>
                  <a:pt x="0" y="53"/>
                </a:lnTo>
                <a:lnTo>
                  <a:pt x="12" y="53"/>
                </a:lnTo>
                <a:lnTo>
                  <a:pt x="20" y="67"/>
                </a:lnTo>
                <a:lnTo>
                  <a:pt x="18" y="79"/>
                </a:lnTo>
                <a:lnTo>
                  <a:pt x="33" y="92"/>
                </a:lnTo>
                <a:lnTo>
                  <a:pt x="64" y="57"/>
                </a:lnTo>
                <a:lnTo>
                  <a:pt x="58" y="20"/>
                </a:lnTo>
                <a:lnTo>
                  <a:pt x="37" y="5"/>
                </a:lnTo>
                <a:lnTo>
                  <a:pt x="27" y="0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466040" y="3220920"/>
            <a:ext cx="95400" cy="158760"/>
          </a:xfrm>
          <a:custGeom>
            <a:avLst/>
            <a:gdLst/>
            <a:ahLst/>
            <a:rect l="l" t="t" r="r" b="b"/>
            <a:pathLst>
              <a:path w="98" h="163">
                <a:moveTo>
                  <a:pt x="51" y="6"/>
                </a:moveTo>
                <a:lnTo>
                  <a:pt x="38" y="0"/>
                </a:lnTo>
                <a:lnTo>
                  <a:pt x="24" y="26"/>
                </a:lnTo>
                <a:lnTo>
                  <a:pt x="12" y="41"/>
                </a:lnTo>
                <a:lnTo>
                  <a:pt x="32" y="54"/>
                </a:lnTo>
                <a:lnTo>
                  <a:pt x="10" y="61"/>
                </a:lnTo>
                <a:lnTo>
                  <a:pt x="1" y="73"/>
                </a:lnTo>
                <a:lnTo>
                  <a:pt x="7" y="86"/>
                </a:lnTo>
                <a:lnTo>
                  <a:pt x="0" y="109"/>
                </a:lnTo>
                <a:lnTo>
                  <a:pt x="0" y="123"/>
                </a:lnTo>
                <a:lnTo>
                  <a:pt x="20" y="123"/>
                </a:lnTo>
                <a:lnTo>
                  <a:pt x="20" y="129"/>
                </a:lnTo>
                <a:lnTo>
                  <a:pt x="26" y="145"/>
                </a:lnTo>
                <a:lnTo>
                  <a:pt x="20" y="159"/>
                </a:lnTo>
                <a:lnTo>
                  <a:pt x="32" y="163"/>
                </a:lnTo>
                <a:lnTo>
                  <a:pt x="48" y="150"/>
                </a:lnTo>
                <a:lnTo>
                  <a:pt x="72" y="145"/>
                </a:lnTo>
                <a:lnTo>
                  <a:pt x="98" y="126"/>
                </a:lnTo>
                <a:lnTo>
                  <a:pt x="98" y="120"/>
                </a:lnTo>
                <a:lnTo>
                  <a:pt x="77" y="113"/>
                </a:lnTo>
                <a:lnTo>
                  <a:pt x="59" y="111"/>
                </a:lnTo>
                <a:lnTo>
                  <a:pt x="60" y="105"/>
                </a:lnTo>
                <a:lnTo>
                  <a:pt x="50" y="86"/>
                </a:lnTo>
                <a:lnTo>
                  <a:pt x="59" y="80"/>
                </a:lnTo>
                <a:lnTo>
                  <a:pt x="65" y="49"/>
                </a:lnTo>
                <a:lnTo>
                  <a:pt x="50" y="27"/>
                </a:lnTo>
                <a:lnTo>
                  <a:pt x="51" y="6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40360" y="3214800"/>
            <a:ext cx="459000" cy="272880"/>
          </a:xfrm>
          <a:custGeom>
            <a:avLst/>
            <a:gdLst/>
            <a:ahLst/>
            <a:rect l="l" t="t" r="r" b="b"/>
            <a:pathLst>
              <a:path w="474" h="282">
                <a:moveTo>
                  <a:pt x="410" y="0"/>
                </a:moveTo>
                <a:lnTo>
                  <a:pt x="313" y="59"/>
                </a:lnTo>
                <a:lnTo>
                  <a:pt x="281" y="54"/>
                </a:lnTo>
                <a:lnTo>
                  <a:pt x="260" y="54"/>
                </a:lnTo>
                <a:lnTo>
                  <a:pt x="236" y="74"/>
                </a:lnTo>
                <a:lnTo>
                  <a:pt x="192" y="51"/>
                </a:lnTo>
                <a:lnTo>
                  <a:pt x="156" y="53"/>
                </a:lnTo>
                <a:lnTo>
                  <a:pt x="147" y="87"/>
                </a:lnTo>
                <a:lnTo>
                  <a:pt x="161" y="100"/>
                </a:lnTo>
                <a:lnTo>
                  <a:pt x="109" y="112"/>
                </a:lnTo>
                <a:lnTo>
                  <a:pt x="74" y="108"/>
                </a:lnTo>
                <a:lnTo>
                  <a:pt x="22" y="148"/>
                </a:lnTo>
                <a:lnTo>
                  <a:pt x="0" y="172"/>
                </a:lnTo>
                <a:lnTo>
                  <a:pt x="10" y="184"/>
                </a:lnTo>
                <a:lnTo>
                  <a:pt x="39" y="190"/>
                </a:lnTo>
                <a:lnTo>
                  <a:pt x="61" y="198"/>
                </a:lnTo>
                <a:lnTo>
                  <a:pt x="70" y="221"/>
                </a:lnTo>
                <a:lnTo>
                  <a:pt x="70" y="243"/>
                </a:lnTo>
                <a:lnTo>
                  <a:pt x="120" y="244"/>
                </a:lnTo>
                <a:lnTo>
                  <a:pt x="142" y="248"/>
                </a:lnTo>
                <a:lnTo>
                  <a:pt x="178" y="267"/>
                </a:lnTo>
                <a:lnTo>
                  <a:pt x="196" y="282"/>
                </a:lnTo>
                <a:lnTo>
                  <a:pt x="230" y="263"/>
                </a:lnTo>
                <a:lnTo>
                  <a:pt x="305" y="260"/>
                </a:lnTo>
                <a:lnTo>
                  <a:pt x="341" y="256"/>
                </a:lnTo>
                <a:lnTo>
                  <a:pt x="361" y="241"/>
                </a:lnTo>
                <a:lnTo>
                  <a:pt x="373" y="229"/>
                </a:lnTo>
                <a:lnTo>
                  <a:pt x="391" y="210"/>
                </a:lnTo>
                <a:lnTo>
                  <a:pt x="407" y="202"/>
                </a:lnTo>
                <a:lnTo>
                  <a:pt x="414" y="166"/>
                </a:lnTo>
                <a:lnTo>
                  <a:pt x="402" y="155"/>
                </a:lnTo>
                <a:lnTo>
                  <a:pt x="402" y="133"/>
                </a:lnTo>
                <a:lnTo>
                  <a:pt x="425" y="134"/>
                </a:lnTo>
                <a:lnTo>
                  <a:pt x="440" y="121"/>
                </a:lnTo>
                <a:lnTo>
                  <a:pt x="446" y="102"/>
                </a:lnTo>
                <a:lnTo>
                  <a:pt x="452" y="81"/>
                </a:lnTo>
                <a:lnTo>
                  <a:pt x="466" y="54"/>
                </a:lnTo>
                <a:lnTo>
                  <a:pt x="474" y="30"/>
                </a:lnTo>
                <a:lnTo>
                  <a:pt x="452" y="30"/>
                </a:lnTo>
                <a:lnTo>
                  <a:pt x="423" y="45"/>
                </a:lnTo>
                <a:lnTo>
                  <a:pt x="410" y="0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956280" y="3830760"/>
            <a:ext cx="59040" cy="58680"/>
          </a:xfrm>
          <a:custGeom>
            <a:avLst/>
            <a:gdLst/>
            <a:ahLst/>
            <a:rect l="l" t="t" r="r" b="b"/>
            <a:pathLst>
              <a:path w="63" h="59">
                <a:moveTo>
                  <a:pt x="23" y="0"/>
                </a:moveTo>
                <a:lnTo>
                  <a:pt x="11" y="6"/>
                </a:lnTo>
                <a:lnTo>
                  <a:pt x="8" y="17"/>
                </a:lnTo>
                <a:lnTo>
                  <a:pt x="0" y="26"/>
                </a:lnTo>
                <a:lnTo>
                  <a:pt x="8" y="48"/>
                </a:lnTo>
                <a:lnTo>
                  <a:pt x="20" y="58"/>
                </a:lnTo>
                <a:lnTo>
                  <a:pt x="25" y="59"/>
                </a:lnTo>
                <a:lnTo>
                  <a:pt x="33" y="52"/>
                </a:lnTo>
                <a:lnTo>
                  <a:pt x="36" y="48"/>
                </a:lnTo>
                <a:lnTo>
                  <a:pt x="43" y="43"/>
                </a:lnTo>
                <a:lnTo>
                  <a:pt x="51" y="43"/>
                </a:lnTo>
                <a:lnTo>
                  <a:pt x="61" y="36"/>
                </a:lnTo>
                <a:lnTo>
                  <a:pt x="63" y="26"/>
                </a:lnTo>
                <a:lnTo>
                  <a:pt x="59" y="6"/>
                </a:lnTo>
                <a:lnTo>
                  <a:pt x="51" y="12"/>
                </a:lnTo>
                <a:lnTo>
                  <a:pt x="2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70520" y="3822840"/>
            <a:ext cx="162000" cy="77760"/>
          </a:xfrm>
          <a:custGeom>
            <a:avLst/>
            <a:gdLst/>
            <a:ahLst/>
            <a:rect l="l" t="t" r="r" b="b"/>
            <a:pathLst>
              <a:path w="168" h="80">
                <a:moveTo>
                  <a:pt x="2" y="0"/>
                </a:moveTo>
                <a:lnTo>
                  <a:pt x="168" y="33"/>
                </a:lnTo>
                <a:lnTo>
                  <a:pt x="168" y="69"/>
                </a:lnTo>
                <a:lnTo>
                  <a:pt x="159" y="80"/>
                </a:lnTo>
                <a:lnTo>
                  <a:pt x="138" y="80"/>
                </a:lnTo>
                <a:lnTo>
                  <a:pt x="124" y="64"/>
                </a:lnTo>
                <a:lnTo>
                  <a:pt x="117" y="73"/>
                </a:lnTo>
                <a:lnTo>
                  <a:pt x="97" y="73"/>
                </a:lnTo>
                <a:lnTo>
                  <a:pt x="86" y="67"/>
                </a:lnTo>
                <a:lnTo>
                  <a:pt x="66" y="59"/>
                </a:lnTo>
                <a:lnTo>
                  <a:pt x="38" y="59"/>
                </a:lnTo>
                <a:lnTo>
                  <a:pt x="21" y="42"/>
                </a:lnTo>
                <a:lnTo>
                  <a:pt x="0" y="47"/>
                </a:lnTo>
                <a:lnTo>
                  <a:pt x="0" y="14"/>
                </a:lnTo>
                <a:lnTo>
                  <a:pt x="5" y="9"/>
                </a:lnTo>
                <a:lnTo>
                  <a:pt x="2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532560" y="3701880"/>
            <a:ext cx="571680" cy="638280"/>
          </a:xfrm>
          <a:custGeom>
            <a:avLst/>
            <a:gdLst/>
            <a:ahLst/>
            <a:rect l="l" t="t" r="r" b="b"/>
            <a:pathLst>
              <a:path w="593" h="659">
                <a:moveTo>
                  <a:pt x="250" y="127"/>
                </a:moveTo>
                <a:lnTo>
                  <a:pt x="224" y="122"/>
                </a:lnTo>
                <a:lnTo>
                  <a:pt x="206" y="92"/>
                </a:lnTo>
                <a:lnTo>
                  <a:pt x="201" y="82"/>
                </a:lnTo>
                <a:lnTo>
                  <a:pt x="207" y="60"/>
                </a:lnTo>
                <a:lnTo>
                  <a:pt x="207" y="46"/>
                </a:lnTo>
                <a:lnTo>
                  <a:pt x="220" y="40"/>
                </a:lnTo>
                <a:lnTo>
                  <a:pt x="235" y="25"/>
                </a:lnTo>
                <a:lnTo>
                  <a:pt x="206" y="0"/>
                </a:lnTo>
                <a:lnTo>
                  <a:pt x="167" y="20"/>
                </a:lnTo>
                <a:lnTo>
                  <a:pt x="110" y="24"/>
                </a:lnTo>
                <a:lnTo>
                  <a:pt x="110" y="50"/>
                </a:lnTo>
                <a:lnTo>
                  <a:pt x="122" y="57"/>
                </a:lnTo>
                <a:lnTo>
                  <a:pt x="122" y="67"/>
                </a:lnTo>
                <a:lnTo>
                  <a:pt x="137" y="77"/>
                </a:lnTo>
                <a:lnTo>
                  <a:pt x="142" y="76"/>
                </a:lnTo>
                <a:lnTo>
                  <a:pt x="134" y="84"/>
                </a:lnTo>
                <a:lnTo>
                  <a:pt x="128" y="99"/>
                </a:lnTo>
                <a:lnTo>
                  <a:pt x="129" y="107"/>
                </a:lnTo>
                <a:lnTo>
                  <a:pt x="124" y="115"/>
                </a:lnTo>
                <a:lnTo>
                  <a:pt x="119" y="126"/>
                </a:lnTo>
                <a:lnTo>
                  <a:pt x="111" y="134"/>
                </a:lnTo>
                <a:lnTo>
                  <a:pt x="103" y="142"/>
                </a:lnTo>
                <a:lnTo>
                  <a:pt x="96" y="156"/>
                </a:lnTo>
                <a:lnTo>
                  <a:pt x="85" y="171"/>
                </a:lnTo>
                <a:lnTo>
                  <a:pt x="78" y="179"/>
                </a:lnTo>
                <a:lnTo>
                  <a:pt x="78" y="193"/>
                </a:lnTo>
                <a:lnTo>
                  <a:pt x="27" y="199"/>
                </a:lnTo>
                <a:lnTo>
                  <a:pt x="26" y="218"/>
                </a:lnTo>
                <a:lnTo>
                  <a:pt x="39" y="219"/>
                </a:lnTo>
                <a:lnTo>
                  <a:pt x="39" y="249"/>
                </a:lnTo>
                <a:lnTo>
                  <a:pt x="58" y="262"/>
                </a:lnTo>
                <a:lnTo>
                  <a:pt x="58" y="276"/>
                </a:lnTo>
                <a:lnTo>
                  <a:pt x="21" y="276"/>
                </a:lnTo>
                <a:lnTo>
                  <a:pt x="0" y="296"/>
                </a:lnTo>
                <a:lnTo>
                  <a:pt x="0" y="303"/>
                </a:lnTo>
                <a:lnTo>
                  <a:pt x="12" y="308"/>
                </a:lnTo>
                <a:lnTo>
                  <a:pt x="30" y="302"/>
                </a:lnTo>
                <a:lnTo>
                  <a:pt x="46" y="309"/>
                </a:lnTo>
                <a:lnTo>
                  <a:pt x="38" y="317"/>
                </a:lnTo>
                <a:lnTo>
                  <a:pt x="27" y="340"/>
                </a:lnTo>
                <a:lnTo>
                  <a:pt x="51" y="360"/>
                </a:lnTo>
                <a:lnTo>
                  <a:pt x="84" y="327"/>
                </a:lnTo>
                <a:lnTo>
                  <a:pt x="97" y="327"/>
                </a:lnTo>
                <a:lnTo>
                  <a:pt x="97" y="349"/>
                </a:lnTo>
                <a:lnTo>
                  <a:pt x="104" y="362"/>
                </a:lnTo>
                <a:lnTo>
                  <a:pt x="96" y="393"/>
                </a:lnTo>
                <a:lnTo>
                  <a:pt x="104" y="406"/>
                </a:lnTo>
                <a:lnTo>
                  <a:pt x="110" y="441"/>
                </a:lnTo>
                <a:lnTo>
                  <a:pt x="110" y="465"/>
                </a:lnTo>
                <a:lnTo>
                  <a:pt x="130" y="496"/>
                </a:lnTo>
                <a:lnTo>
                  <a:pt x="150" y="522"/>
                </a:lnTo>
                <a:lnTo>
                  <a:pt x="150" y="533"/>
                </a:lnTo>
                <a:lnTo>
                  <a:pt x="161" y="561"/>
                </a:lnTo>
                <a:lnTo>
                  <a:pt x="175" y="573"/>
                </a:lnTo>
                <a:lnTo>
                  <a:pt x="175" y="585"/>
                </a:lnTo>
                <a:lnTo>
                  <a:pt x="186" y="593"/>
                </a:lnTo>
                <a:lnTo>
                  <a:pt x="191" y="597"/>
                </a:lnTo>
                <a:lnTo>
                  <a:pt x="202" y="612"/>
                </a:lnTo>
                <a:lnTo>
                  <a:pt x="195" y="623"/>
                </a:lnTo>
                <a:lnTo>
                  <a:pt x="200" y="639"/>
                </a:lnTo>
                <a:lnTo>
                  <a:pt x="207" y="645"/>
                </a:lnTo>
                <a:lnTo>
                  <a:pt x="220" y="652"/>
                </a:lnTo>
                <a:lnTo>
                  <a:pt x="240" y="659"/>
                </a:lnTo>
                <a:lnTo>
                  <a:pt x="247" y="640"/>
                </a:lnTo>
                <a:lnTo>
                  <a:pt x="253" y="631"/>
                </a:lnTo>
                <a:lnTo>
                  <a:pt x="266" y="624"/>
                </a:lnTo>
                <a:lnTo>
                  <a:pt x="265" y="599"/>
                </a:lnTo>
                <a:lnTo>
                  <a:pt x="277" y="593"/>
                </a:lnTo>
                <a:lnTo>
                  <a:pt x="277" y="543"/>
                </a:lnTo>
                <a:lnTo>
                  <a:pt x="286" y="530"/>
                </a:lnTo>
                <a:lnTo>
                  <a:pt x="281" y="524"/>
                </a:lnTo>
                <a:lnTo>
                  <a:pt x="272" y="510"/>
                </a:lnTo>
                <a:lnTo>
                  <a:pt x="273" y="471"/>
                </a:lnTo>
                <a:lnTo>
                  <a:pt x="290" y="471"/>
                </a:lnTo>
                <a:lnTo>
                  <a:pt x="319" y="457"/>
                </a:lnTo>
                <a:lnTo>
                  <a:pt x="325" y="445"/>
                </a:lnTo>
                <a:lnTo>
                  <a:pt x="316" y="429"/>
                </a:lnTo>
                <a:lnTo>
                  <a:pt x="348" y="417"/>
                </a:lnTo>
                <a:lnTo>
                  <a:pt x="361" y="401"/>
                </a:lnTo>
                <a:lnTo>
                  <a:pt x="377" y="368"/>
                </a:lnTo>
                <a:lnTo>
                  <a:pt x="389" y="361"/>
                </a:lnTo>
                <a:lnTo>
                  <a:pt x="405" y="359"/>
                </a:lnTo>
                <a:lnTo>
                  <a:pt x="410" y="356"/>
                </a:lnTo>
                <a:lnTo>
                  <a:pt x="408" y="340"/>
                </a:lnTo>
                <a:lnTo>
                  <a:pt x="415" y="329"/>
                </a:lnTo>
                <a:lnTo>
                  <a:pt x="409" y="327"/>
                </a:lnTo>
                <a:lnTo>
                  <a:pt x="418" y="313"/>
                </a:lnTo>
                <a:lnTo>
                  <a:pt x="431" y="303"/>
                </a:lnTo>
                <a:lnTo>
                  <a:pt x="452" y="303"/>
                </a:lnTo>
                <a:lnTo>
                  <a:pt x="443" y="259"/>
                </a:lnTo>
                <a:lnTo>
                  <a:pt x="430" y="244"/>
                </a:lnTo>
                <a:lnTo>
                  <a:pt x="430" y="213"/>
                </a:lnTo>
                <a:lnTo>
                  <a:pt x="437" y="222"/>
                </a:lnTo>
                <a:lnTo>
                  <a:pt x="446" y="222"/>
                </a:lnTo>
                <a:lnTo>
                  <a:pt x="458" y="228"/>
                </a:lnTo>
                <a:lnTo>
                  <a:pt x="471" y="233"/>
                </a:lnTo>
                <a:lnTo>
                  <a:pt x="484" y="233"/>
                </a:lnTo>
                <a:lnTo>
                  <a:pt x="492" y="226"/>
                </a:lnTo>
                <a:lnTo>
                  <a:pt x="504" y="218"/>
                </a:lnTo>
                <a:lnTo>
                  <a:pt x="512" y="211"/>
                </a:lnTo>
                <a:lnTo>
                  <a:pt x="520" y="214"/>
                </a:lnTo>
                <a:lnTo>
                  <a:pt x="517" y="225"/>
                </a:lnTo>
                <a:lnTo>
                  <a:pt x="510" y="233"/>
                </a:lnTo>
                <a:lnTo>
                  <a:pt x="500" y="236"/>
                </a:lnTo>
                <a:lnTo>
                  <a:pt x="498" y="240"/>
                </a:lnTo>
                <a:lnTo>
                  <a:pt x="512" y="259"/>
                </a:lnTo>
                <a:lnTo>
                  <a:pt x="523" y="259"/>
                </a:lnTo>
                <a:lnTo>
                  <a:pt x="520" y="245"/>
                </a:lnTo>
                <a:lnTo>
                  <a:pt x="525" y="239"/>
                </a:lnTo>
                <a:lnTo>
                  <a:pt x="532" y="253"/>
                </a:lnTo>
                <a:lnTo>
                  <a:pt x="544" y="268"/>
                </a:lnTo>
                <a:lnTo>
                  <a:pt x="551" y="248"/>
                </a:lnTo>
                <a:lnTo>
                  <a:pt x="555" y="238"/>
                </a:lnTo>
                <a:lnTo>
                  <a:pt x="572" y="194"/>
                </a:lnTo>
                <a:lnTo>
                  <a:pt x="572" y="159"/>
                </a:lnTo>
                <a:lnTo>
                  <a:pt x="584" y="149"/>
                </a:lnTo>
                <a:lnTo>
                  <a:pt x="593" y="115"/>
                </a:lnTo>
                <a:lnTo>
                  <a:pt x="583" y="108"/>
                </a:lnTo>
                <a:lnTo>
                  <a:pt x="571" y="108"/>
                </a:lnTo>
                <a:lnTo>
                  <a:pt x="547" y="87"/>
                </a:lnTo>
                <a:lnTo>
                  <a:pt x="524" y="117"/>
                </a:lnTo>
                <a:lnTo>
                  <a:pt x="495" y="141"/>
                </a:lnTo>
                <a:lnTo>
                  <a:pt x="499" y="161"/>
                </a:lnTo>
                <a:lnTo>
                  <a:pt x="496" y="172"/>
                </a:lnTo>
                <a:lnTo>
                  <a:pt x="488" y="177"/>
                </a:lnTo>
                <a:lnTo>
                  <a:pt x="480" y="177"/>
                </a:lnTo>
                <a:lnTo>
                  <a:pt x="471" y="183"/>
                </a:lnTo>
                <a:lnTo>
                  <a:pt x="461" y="194"/>
                </a:lnTo>
                <a:lnTo>
                  <a:pt x="446" y="183"/>
                </a:lnTo>
                <a:lnTo>
                  <a:pt x="439" y="161"/>
                </a:lnTo>
                <a:lnTo>
                  <a:pt x="434" y="159"/>
                </a:lnTo>
                <a:lnTo>
                  <a:pt x="415" y="159"/>
                </a:lnTo>
                <a:lnTo>
                  <a:pt x="415" y="194"/>
                </a:lnTo>
                <a:lnTo>
                  <a:pt x="405" y="205"/>
                </a:lnTo>
                <a:lnTo>
                  <a:pt x="386" y="205"/>
                </a:lnTo>
                <a:lnTo>
                  <a:pt x="371" y="189"/>
                </a:lnTo>
                <a:lnTo>
                  <a:pt x="363" y="198"/>
                </a:lnTo>
                <a:lnTo>
                  <a:pt x="346" y="198"/>
                </a:lnTo>
                <a:lnTo>
                  <a:pt x="327" y="189"/>
                </a:lnTo>
                <a:lnTo>
                  <a:pt x="312" y="183"/>
                </a:lnTo>
                <a:lnTo>
                  <a:pt x="285" y="183"/>
                </a:lnTo>
                <a:lnTo>
                  <a:pt x="268" y="166"/>
                </a:lnTo>
                <a:lnTo>
                  <a:pt x="248" y="172"/>
                </a:lnTo>
                <a:lnTo>
                  <a:pt x="248" y="142"/>
                </a:lnTo>
                <a:lnTo>
                  <a:pt x="253" y="135"/>
                </a:lnTo>
                <a:lnTo>
                  <a:pt x="250" y="127"/>
                </a:lnTo>
                <a:close/>
              </a:path>
            </a:pathLst>
          </a:custGeom>
          <a:solidFill>
            <a:srgbClr val="ffff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373800" y="3635280"/>
            <a:ext cx="274680" cy="216000"/>
          </a:xfrm>
          <a:custGeom>
            <a:avLst/>
            <a:gdLst/>
            <a:ahLst/>
            <a:rect l="l" t="t" r="r" b="b"/>
            <a:pathLst>
              <a:path w="283" h="220">
                <a:moveTo>
                  <a:pt x="50" y="0"/>
                </a:moveTo>
                <a:lnTo>
                  <a:pt x="35" y="34"/>
                </a:lnTo>
                <a:lnTo>
                  <a:pt x="13" y="56"/>
                </a:lnTo>
                <a:lnTo>
                  <a:pt x="0" y="64"/>
                </a:lnTo>
                <a:lnTo>
                  <a:pt x="10" y="96"/>
                </a:lnTo>
                <a:lnTo>
                  <a:pt x="3" y="151"/>
                </a:lnTo>
                <a:lnTo>
                  <a:pt x="3" y="181"/>
                </a:lnTo>
                <a:lnTo>
                  <a:pt x="7" y="200"/>
                </a:lnTo>
                <a:lnTo>
                  <a:pt x="86" y="220"/>
                </a:lnTo>
                <a:lnTo>
                  <a:pt x="121" y="203"/>
                </a:lnTo>
                <a:lnTo>
                  <a:pt x="128" y="173"/>
                </a:lnTo>
                <a:lnTo>
                  <a:pt x="149" y="182"/>
                </a:lnTo>
                <a:lnTo>
                  <a:pt x="154" y="170"/>
                </a:lnTo>
                <a:lnTo>
                  <a:pt x="174" y="164"/>
                </a:lnTo>
                <a:lnTo>
                  <a:pt x="183" y="153"/>
                </a:lnTo>
                <a:lnTo>
                  <a:pt x="189" y="137"/>
                </a:lnTo>
                <a:lnTo>
                  <a:pt x="200" y="132"/>
                </a:lnTo>
                <a:lnTo>
                  <a:pt x="195" y="110"/>
                </a:lnTo>
                <a:lnTo>
                  <a:pt x="213" y="110"/>
                </a:lnTo>
                <a:lnTo>
                  <a:pt x="213" y="105"/>
                </a:lnTo>
                <a:lnTo>
                  <a:pt x="226" y="78"/>
                </a:lnTo>
                <a:lnTo>
                  <a:pt x="227" y="71"/>
                </a:lnTo>
                <a:lnTo>
                  <a:pt x="221" y="59"/>
                </a:lnTo>
                <a:lnTo>
                  <a:pt x="249" y="45"/>
                </a:lnTo>
                <a:lnTo>
                  <a:pt x="274" y="38"/>
                </a:lnTo>
                <a:lnTo>
                  <a:pt x="283" y="31"/>
                </a:lnTo>
                <a:lnTo>
                  <a:pt x="253" y="31"/>
                </a:lnTo>
                <a:lnTo>
                  <a:pt x="226" y="38"/>
                </a:lnTo>
                <a:lnTo>
                  <a:pt x="220" y="6"/>
                </a:lnTo>
                <a:lnTo>
                  <a:pt x="210" y="6"/>
                </a:lnTo>
                <a:lnTo>
                  <a:pt x="189" y="31"/>
                </a:lnTo>
                <a:lnTo>
                  <a:pt x="126" y="31"/>
                </a:lnTo>
                <a:lnTo>
                  <a:pt x="110" y="26"/>
                </a:lnTo>
                <a:lnTo>
                  <a:pt x="91" y="13"/>
                </a:lnTo>
                <a:lnTo>
                  <a:pt x="67" y="7"/>
                </a:lnTo>
                <a:lnTo>
                  <a:pt x="50" y="0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383160" y="3664080"/>
            <a:ext cx="346320" cy="323640"/>
          </a:xfrm>
          <a:custGeom>
            <a:avLst/>
            <a:gdLst/>
            <a:ahLst/>
            <a:rect l="l" t="t" r="r" b="b"/>
            <a:pathLst>
              <a:path w="357" h="334">
                <a:moveTo>
                  <a:pt x="4" y="172"/>
                </a:moveTo>
                <a:lnTo>
                  <a:pt x="76" y="190"/>
                </a:lnTo>
                <a:lnTo>
                  <a:pt x="111" y="174"/>
                </a:lnTo>
                <a:lnTo>
                  <a:pt x="118" y="141"/>
                </a:lnTo>
                <a:lnTo>
                  <a:pt x="140" y="152"/>
                </a:lnTo>
                <a:lnTo>
                  <a:pt x="145" y="139"/>
                </a:lnTo>
                <a:lnTo>
                  <a:pt x="165" y="133"/>
                </a:lnTo>
                <a:lnTo>
                  <a:pt x="171" y="123"/>
                </a:lnTo>
                <a:lnTo>
                  <a:pt x="178" y="107"/>
                </a:lnTo>
                <a:lnTo>
                  <a:pt x="190" y="102"/>
                </a:lnTo>
                <a:lnTo>
                  <a:pt x="184" y="80"/>
                </a:lnTo>
                <a:lnTo>
                  <a:pt x="203" y="80"/>
                </a:lnTo>
                <a:lnTo>
                  <a:pt x="202" y="76"/>
                </a:lnTo>
                <a:lnTo>
                  <a:pt x="215" y="51"/>
                </a:lnTo>
                <a:lnTo>
                  <a:pt x="217" y="42"/>
                </a:lnTo>
                <a:lnTo>
                  <a:pt x="211" y="28"/>
                </a:lnTo>
                <a:lnTo>
                  <a:pt x="237" y="16"/>
                </a:lnTo>
                <a:lnTo>
                  <a:pt x="263" y="9"/>
                </a:lnTo>
                <a:lnTo>
                  <a:pt x="275" y="0"/>
                </a:lnTo>
                <a:lnTo>
                  <a:pt x="287" y="21"/>
                </a:lnTo>
                <a:lnTo>
                  <a:pt x="295" y="38"/>
                </a:lnTo>
                <a:lnTo>
                  <a:pt x="357" y="38"/>
                </a:lnTo>
                <a:lnTo>
                  <a:pt x="320" y="58"/>
                </a:lnTo>
                <a:lnTo>
                  <a:pt x="263" y="62"/>
                </a:lnTo>
                <a:lnTo>
                  <a:pt x="263" y="87"/>
                </a:lnTo>
                <a:lnTo>
                  <a:pt x="277" y="95"/>
                </a:lnTo>
                <a:lnTo>
                  <a:pt x="277" y="104"/>
                </a:lnTo>
                <a:lnTo>
                  <a:pt x="288" y="113"/>
                </a:lnTo>
                <a:lnTo>
                  <a:pt x="295" y="114"/>
                </a:lnTo>
                <a:lnTo>
                  <a:pt x="287" y="122"/>
                </a:lnTo>
                <a:lnTo>
                  <a:pt x="282" y="135"/>
                </a:lnTo>
                <a:lnTo>
                  <a:pt x="283" y="146"/>
                </a:lnTo>
                <a:lnTo>
                  <a:pt x="279" y="151"/>
                </a:lnTo>
                <a:lnTo>
                  <a:pt x="273" y="164"/>
                </a:lnTo>
                <a:lnTo>
                  <a:pt x="260" y="177"/>
                </a:lnTo>
                <a:lnTo>
                  <a:pt x="249" y="196"/>
                </a:lnTo>
                <a:lnTo>
                  <a:pt x="232" y="219"/>
                </a:lnTo>
                <a:lnTo>
                  <a:pt x="232" y="231"/>
                </a:lnTo>
                <a:lnTo>
                  <a:pt x="180" y="238"/>
                </a:lnTo>
                <a:lnTo>
                  <a:pt x="180" y="254"/>
                </a:lnTo>
                <a:lnTo>
                  <a:pt x="193" y="254"/>
                </a:lnTo>
                <a:lnTo>
                  <a:pt x="193" y="286"/>
                </a:lnTo>
                <a:lnTo>
                  <a:pt x="212" y="298"/>
                </a:lnTo>
                <a:lnTo>
                  <a:pt x="212" y="314"/>
                </a:lnTo>
                <a:lnTo>
                  <a:pt x="174" y="314"/>
                </a:lnTo>
                <a:lnTo>
                  <a:pt x="155" y="334"/>
                </a:lnTo>
                <a:lnTo>
                  <a:pt x="130" y="323"/>
                </a:lnTo>
                <a:lnTo>
                  <a:pt x="113" y="295"/>
                </a:lnTo>
                <a:lnTo>
                  <a:pt x="96" y="275"/>
                </a:lnTo>
                <a:lnTo>
                  <a:pt x="70" y="287"/>
                </a:lnTo>
                <a:lnTo>
                  <a:pt x="43" y="281"/>
                </a:lnTo>
                <a:lnTo>
                  <a:pt x="30" y="289"/>
                </a:lnTo>
                <a:lnTo>
                  <a:pt x="0" y="279"/>
                </a:lnTo>
                <a:lnTo>
                  <a:pt x="12" y="264"/>
                </a:lnTo>
                <a:lnTo>
                  <a:pt x="28" y="249"/>
                </a:lnTo>
                <a:lnTo>
                  <a:pt x="37" y="239"/>
                </a:lnTo>
                <a:lnTo>
                  <a:pt x="33" y="224"/>
                </a:lnTo>
                <a:lnTo>
                  <a:pt x="31" y="208"/>
                </a:lnTo>
                <a:lnTo>
                  <a:pt x="12" y="206"/>
                </a:lnTo>
                <a:lnTo>
                  <a:pt x="4" y="194"/>
                </a:lnTo>
                <a:lnTo>
                  <a:pt x="4" y="172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337440" y="3675240"/>
            <a:ext cx="82440" cy="260280"/>
          </a:xfrm>
          <a:custGeom>
            <a:avLst/>
            <a:gdLst/>
            <a:ahLst/>
            <a:rect l="l" t="t" r="r" b="b"/>
            <a:pathLst>
              <a:path w="85" h="269">
                <a:moveTo>
                  <a:pt x="0" y="0"/>
                </a:moveTo>
                <a:lnTo>
                  <a:pt x="38" y="24"/>
                </a:lnTo>
                <a:lnTo>
                  <a:pt x="50" y="57"/>
                </a:lnTo>
                <a:lnTo>
                  <a:pt x="42" y="111"/>
                </a:lnTo>
                <a:lnTo>
                  <a:pt x="43" y="143"/>
                </a:lnTo>
                <a:lnTo>
                  <a:pt x="48" y="160"/>
                </a:lnTo>
                <a:lnTo>
                  <a:pt x="53" y="162"/>
                </a:lnTo>
                <a:lnTo>
                  <a:pt x="53" y="184"/>
                </a:lnTo>
                <a:lnTo>
                  <a:pt x="61" y="196"/>
                </a:lnTo>
                <a:lnTo>
                  <a:pt x="79" y="197"/>
                </a:lnTo>
                <a:lnTo>
                  <a:pt x="81" y="211"/>
                </a:lnTo>
                <a:lnTo>
                  <a:pt x="85" y="229"/>
                </a:lnTo>
                <a:lnTo>
                  <a:pt x="75" y="242"/>
                </a:lnTo>
                <a:lnTo>
                  <a:pt x="61" y="254"/>
                </a:lnTo>
                <a:lnTo>
                  <a:pt x="50" y="269"/>
                </a:lnTo>
                <a:lnTo>
                  <a:pt x="36" y="267"/>
                </a:lnTo>
                <a:lnTo>
                  <a:pt x="17" y="267"/>
                </a:lnTo>
                <a:lnTo>
                  <a:pt x="0" y="254"/>
                </a:lnTo>
                <a:lnTo>
                  <a:pt x="0" y="0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84920" y="4338720"/>
            <a:ext cx="63720" cy="100080"/>
          </a:xfrm>
          <a:custGeom>
            <a:avLst/>
            <a:gdLst/>
            <a:ahLst/>
            <a:rect l="l" t="t" r="r" b="b"/>
            <a:pathLst>
              <a:path w="66" h="105">
                <a:moveTo>
                  <a:pt x="65" y="89"/>
                </a:moveTo>
                <a:lnTo>
                  <a:pt x="36" y="105"/>
                </a:lnTo>
                <a:lnTo>
                  <a:pt x="15" y="89"/>
                </a:lnTo>
                <a:lnTo>
                  <a:pt x="6" y="75"/>
                </a:lnTo>
                <a:lnTo>
                  <a:pt x="0" y="36"/>
                </a:lnTo>
                <a:lnTo>
                  <a:pt x="4" y="0"/>
                </a:lnTo>
                <a:lnTo>
                  <a:pt x="45" y="16"/>
                </a:lnTo>
                <a:lnTo>
                  <a:pt x="66" y="43"/>
                </a:lnTo>
                <a:lnTo>
                  <a:pt x="65" y="89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68960" y="4280040"/>
            <a:ext cx="33480" cy="39600"/>
          </a:xfrm>
          <a:custGeom>
            <a:avLst/>
            <a:gdLst/>
            <a:ahLst/>
            <a:rect l="l" t="t" r="r" b="b"/>
            <a:pathLst>
              <a:path w="35" h="39">
                <a:moveTo>
                  <a:pt x="0" y="6"/>
                </a:moveTo>
                <a:lnTo>
                  <a:pt x="16" y="0"/>
                </a:lnTo>
                <a:lnTo>
                  <a:pt x="27" y="6"/>
                </a:lnTo>
                <a:lnTo>
                  <a:pt x="31" y="11"/>
                </a:lnTo>
                <a:lnTo>
                  <a:pt x="35" y="25"/>
                </a:lnTo>
                <a:lnTo>
                  <a:pt x="32" y="39"/>
                </a:lnTo>
                <a:lnTo>
                  <a:pt x="12" y="33"/>
                </a:lnTo>
                <a:lnTo>
                  <a:pt x="0" y="23"/>
                </a:lnTo>
                <a:lnTo>
                  <a:pt x="0" y="6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085160" y="4189320"/>
            <a:ext cx="19080" cy="41400"/>
          </a:xfrm>
          <a:custGeom>
            <a:avLst/>
            <a:gdLst/>
            <a:ahLst/>
            <a:rect l="l" t="t" r="r" b="b"/>
            <a:pathLst>
              <a:path w="22" h="42">
                <a:moveTo>
                  <a:pt x="22" y="6"/>
                </a:moveTo>
                <a:lnTo>
                  <a:pt x="12" y="0"/>
                </a:lnTo>
                <a:lnTo>
                  <a:pt x="4" y="6"/>
                </a:lnTo>
                <a:lnTo>
                  <a:pt x="2" y="12"/>
                </a:lnTo>
                <a:lnTo>
                  <a:pt x="0" y="27"/>
                </a:lnTo>
                <a:lnTo>
                  <a:pt x="1" y="42"/>
                </a:lnTo>
                <a:lnTo>
                  <a:pt x="15" y="36"/>
                </a:lnTo>
                <a:lnTo>
                  <a:pt x="22" y="25"/>
                </a:lnTo>
                <a:lnTo>
                  <a:pt x="22" y="6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77240" y="4248000"/>
            <a:ext cx="23760" cy="30240"/>
          </a:xfrm>
          <a:custGeom>
            <a:avLst/>
            <a:gdLst/>
            <a:ahLst/>
            <a:rect l="l" t="t" r="r" b="b"/>
            <a:pathLst>
              <a:path w="24" h="31">
                <a:moveTo>
                  <a:pt x="24" y="3"/>
                </a:moveTo>
                <a:lnTo>
                  <a:pt x="13" y="0"/>
                </a:lnTo>
                <a:lnTo>
                  <a:pt x="5" y="4"/>
                </a:lnTo>
                <a:lnTo>
                  <a:pt x="3" y="8"/>
                </a:lnTo>
                <a:lnTo>
                  <a:pt x="0" y="20"/>
                </a:lnTo>
                <a:lnTo>
                  <a:pt x="1" y="31"/>
                </a:lnTo>
                <a:lnTo>
                  <a:pt x="18" y="27"/>
                </a:lnTo>
                <a:lnTo>
                  <a:pt x="24" y="19"/>
                </a:lnTo>
                <a:lnTo>
                  <a:pt x="24" y="3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086600" y="4151160"/>
            <a:ext cx="23760" cy="34920"/>
          </a:xfrm>
          <a:custGeom>
            <a:avLst/>
            <a:gdLst/>
            <a:ahLst/>
            <a:rect l="l" t="t" r="r" b="b"/>
            <a:pathLst>
              <a:path w="24" h="37">
                <a:moveTo>
                  <a:pt x="24" y="4"/>
                </a:moveTo>
                <a:lnTo>
                  <a:pt x="13" y="0"/>
                </a:lnTo>
                <a:lnTo>
                  <a:pt x="5" y="6"/>
                </a:lnTo>
                <a:lnTo>
                  <a:pt x="2" y="10"/>
                </a:lnTo>
                <a:lnTo>
                  <a:pt x="0" y="25"/>
                </a:lnTo>
                <a:lnTo>
                  <a:pt x="1" y="37"/>
                </a:lnTo>
                <a:lnTo>
                  <a:pt x="17" y="32"/>
                </a:lnTo>
                <a:lnTo>
                  <a:pt x="24" y="22"/>
                </a:lnTo>
                <a:lnTo>
                  <a:pt x="24" y="4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291440" y="4275000"/>
            <a:ext cx="101520" cy="125640"/>
          </a:xfrm>
          <a:custGeom>
            <a:avLst/>
            <a:gdLst/>
            <a:ahLst/>
            <a:rect l="l" t="t" r="r" b="b"/>
            <a:pathLst>
              <a:path w="105" h="129">
                <a:moveTo>
                  <a:pt x="1" y="6"/>
                </a:moveTo>
                <a:lnTo>
                  <a:pt x="0" y="21"/>
                </a:lnTo>
                <a:lnTo>
                  <a:pt x="16" y="54"/>
                </a:lnTo>
                <a:lnTo>
                  <a:pt x="30" y="89"/>
                </a:lnTo>
                <a:lnTo>
                  <a:pt x="56" y="108"/>
                </a:lnTo>
                <a:lnTo>
                  <a:pt x="67" y="120"/>
                </a:lnTo>
                <a:lnTo>
                  <a:pt x="76" y="129"/>
                </a:lnTo>
                <a:lnTo>
                  <a:pt x="90" y="123"/>
                </a:lnTo>
                <a:lnTo>
                  <a:pt x="105" y="129"/>
                </a:lnTo>
                <a:lnTo>
                  <a:pt x="97" y="104"/>
                </a:lnTo>
                <a:lnTo>
                  <a:pt x="86" y="99"/>
                </a:lnTo>
                <a:lnTo>
                  <a:pt x="79" y="85"/>
                </a:lnTo>
                <a:lnTo>
                  <a:pt x="79" y="65"/>
                </a:lnTo>
                <a:lnTo>
                  <a:pt x="91" y="60"/>
                </a:lnTo>
                <a:lnTo>
                  <a:pt x="85" y="44"/>
                </a:lnTo>
                <a:lnTo>
                  <a:pt x="72" y="25"/>
                </a:lnTo>
                <a:lnTo>
                  <a:pt x="46" y="4"/>
                </a:lnTo>
                <a:lnTo>
                  <a:pt x="37" y="16"/>
                </a:lnTo>
                <a:lnTo>
                  <a:pt x="14" y="0"/>
                </a:lnTo>
                <a:lnTo>
                  <a:pt x="9" y="6"/>
                </a:lnTo>
                <a:lnTo>
                  <a:pt x="1" y="6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296120" y="4514760"/>
            <a:ext cx="22320" cy="30240"/>
          </a:xfrm>
          <a:custGeom>
            <a:avLst/>
            <a:gdLst/>
            <a:ahLst/>
            <a:rect l="l" t="t" r="r" b="b"/>
            <a:pathLst>
              <a:path w="24" h="31">
                <a:moveTo>
                  <a:pt x="24" y="3"/>
                </a:moveTo>
                <a:lnTo>
                  <a:pt x="13" y="0"/>
                </a:lnTo>
                <a:lnTo>
                  <a:pt x="4" y="4"/>
                </a:lnTo>
                <a:lnTo>
                  <a:pt x="2" y="9"/>
                </a:lnTo>
                <a:lnTo>
                  <a:pt x="0" y="21"/>
                </a:lnTo>
                <a:lnTo>
                  <a:pt x="1" y="31"/>
                </a:lnTo>
                <a:lnTo>
                  <a:pt x="16" y="27"/>
                </a:lnTo>
                <a:lnTo>
                  <a:pt x="24" y="18"/>
                </a:lnTo>
                <a:lnTo>
                  <a:pt x="24" y="3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250040" y="4465800"/>
            <a:ext cx="27000" cy="34920"/>
          </a:xfrm>
          <a:custGeom>
            <a:avLst/>
            <a:gdLst/>
            <a:ahLst/>
            <a:rect l="l" t="t" r="r" b="b"/>
            <a:pathLst>
              <a:path w="29" h="36">
                <a:moveTo>
                  <a:pt x="0" y="4"/>
                </a:moveTo>
                <a:lnTo>
                  <a:pt x="13" y="0"/>
                </a:lnTo>
                <a:lnTo>
                  <a:pt x="24" y="5"/>
                </a:lnTo>
                <a:lnTo>
                  <a:pt x="27" y="10"/>
                </a:lnTo>
                <a:lnTo>
                  <a:pt x="29" y="24"/>
                </a:lnTo>
                <a:lnTo>
                  <a:pt x="27" y="36"/>
                </a:lnTo>
                <a:lnTo>
                  <a:pt x="9" y="31"/>
                </a:lnTo>
                <a:lnTo>
                  <a:pt x="0" y="21"/>
                </a:lnTo>
                <a:lnTo>
                  <a:pt x="0" y="4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219800" y="4416480"/>
            <a:ext cx="27000" cy="42840"/>
          </a:xfrm>
          <a:custGeom>
            <a:avLst/>
            <a:gdLst/>
            <a:ahLst/>
            <a:rect l="l" t="t" r="r" b="b"/>
            <a:pathLst>
              <a:path w="29" h="43">
                <a:moveTo>
                  <a:pt x="29" y="5"/>
                </a:moveTo>
                <a:lnTo>
                  <a:pt x="16" y="0"/>
                </a:lnTo>
                <a:lnTo>
                  <a:pt x="6" y="6"/>
                </a:lnTo>
                <a:lnTo>
                  <a:pt x="3" y="13"/>
                </a:lnTo>
                <a:lnTo>
                  <a:pt x="0" y="28"/>
                </a:lnTo>
                <a:lnTo>
                  <a:pt x="3" y="43"/>
                </a:lnTo>
                <a:lnTo>
                  <a:pt x="21" y="37"/>
                </a:lnTo>
                <a:lnTo>
                  <a:pt x="29" y="26"/>
                </a:lnTo>
                <a:lnTo>
                  <a:pt x="29" y="5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97840" y="4367160"/>
            <a:ext cx="28440" cy="42840"/>
          </a:xfrm>
          <a:custGeom>
            <a:avLst/>
            <a:gdLst/>
            <a:ahLst/>
            <a:rect l="l" t="t" r="r" b="b"/>
            <a:pathLst>
              <a:path w="28" h="43">
                <a:moveTo>
                  <a:pt x="28" y="39"/>
                </a:moveTo>
                <a:lnTo>
                  <a:pt x="15" y="43"/>
                </a:lnTo>
                <a:lnTo>
                  <a:pt x="5" y="37"/>
                </a:lnTo>
                <a:lnTo>
                  <a:pt x="2" y="31"/>
                </a:lnTo>
                <a:lnTo>
                  <a:pt x="0" y="15"/>
                </a:lnTo>
                <a:lnTo>
                  <a:pt x="1" y="0"/>
                </a:lnTo>
                <a:lnTo>
                  <a:pt x="19" y="6"/>
                </a:lnTo>
                <a:lnTo>
                  <a:pt x="28" y="18"/>
                </a:lnTo>
                <a:lnTo>
                  <a:pt x="28" y="39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180200" y="4294080"/>
            <a:ext cx="255600" cy="277920"/>
          </a:xfrm>
          <a:custGeom>
            <a:avLst/>
            <a:gdLst/>
            <a:ahLst/>
            <a:rect l="l" t="t" r="r" b="b"/>
            <a:pathLst>
              <a:path w="262" h="289">
                <a:moveTo>
                  <a:pt x="5" y="0"/>
                </a:moveTo>
                <a:lnTo>
                  <a:pt x="25" y="12"/>
                </a:lnTo>
                <a:lnTo>
                  <a:pt x="40" y="10"/>
                </a:lnTo>
                <a:lnTo>
                  <a:pt x="55" y="12"/>
                </a:lnTo>
                <a:lnTo>
                  <a:pt x="71" y="38"/>
                </a:lnTo>
                <a:lnTo>
                  <a:pt x="72" y="53"/>
                </a:lnTo>
                <a:lnTo>
                  <a:pt x="88" y="62"/>
                </a:lnTo>
                <a:lnTo>
                  <a:pt x="104" y="61"/>
                </a:lnTo>
                <a:lnTo>
                  <a:pt x="110" y="73"/>
                </a:lnTo>
                <a:lnTo>
                  <a:pt x="119" y="74"/>
                </a:lnTo>
                <a:lnTo>
                  <a:pt x="126" y="85"/>
                </a:lnTo>
                <a:lnTo>
                  <a:pt x="137" y="86"/>
                </a:lnTo>
                <a:lnTo>
                  <a:pt x="146" y="99"/>
                </a:lnTo>
                <a:lnTo>
                  <a:pt x="161" y="106"/>
                </a:lnTo>
                <a:lnTo>
                  <a:pt x="166" y="118"/>
                </a:lnTo>
                <a:lnTo>
                  <a:pt x="185" y="118"/>
                </a:lnTo>
                <a:lnTo>
                  <a:pt x="199" y="127"/>
                </a:lnTo>
                <a:lnTo>
                  <a:pt x="208" y="143"/>
                </a:lnTo>
                <a:lnTo>
                  <a:pt x="197" y="145"/>
                </a:lnTo>
                <a:lnTo>
                  <a:pt x="192" y="152"/>
                </a:lnTo>
                <a:lnTo>
                  <a:pt x="216" y="160"/>
                </a:lnTo>
                <a:lnTo>
                  <a:pt x="221" y="172"/>
                </a:lnTo>
                <a:lnTo>
                  <a:pt x="231" y="183"/>
                </a:lnTo>
                <a:lnTo>
                  <a:pt x="232" y="192"/>
                </a:lnTo>
                <a:lnTo>
                  <a:pt x="241" y="193"/>
                </a:lnTo>
                <a:lnTo>
                  <a:pt x="262" y="209"/>
                </a:lnTo>
                <a:lnTo>
                  <a:pt x="256" y="218"/>
                </a:lnTo>
                <a:lnTo>
                  <a:pt x="257" y="228"/>
                </a:lnTo>
                <a:lnTo>
                  <a:pt x="261" y="235"/>
                </a:lnTo>
                <a:lnTo>
                  <a:pt x="262" y="276"/>
                </a:lnTo>
                <a:lnTo>
                  <a:pt x="249" y="273"/>
                </a:lnTo>
                <a:lnTo>
                  <a:pt x="237" y="273"/>
                </a:lnTo>
                <a:lnTo>
                  <a:pt x="237" y="289"/>
                </a:lnTo>
                <a:lnTo>
                  <a:pt x="217" y="272"/>
                </a:lnTo>
                <a:lnTo>
                  <a:pt x="183" y="254"/>
                </a:lnTo>
                <a:lnTo>
                  <a:pt x="163" y="228"/>
                </a:lnTo>
                <a:lnTo>
                  <a:pt x="134" y="204"/>
                </a:lnTo>
                <a:lnTo>
                  <a:pt x="126" y="171"/>
                </a:lnTo>
                <a:lnTo>
                  <a:pt x="110" y="158"/>
                </a:lnTo>
                <a:lnTo>
                  <a:pt x="95" y="137"/>
                </a:lnTo>
                <a:lnTo>
                  <a:pt x="97" y="117"/>
                </a:lnTo>
                <a:lnTo>
                  <a:pt x="62" y="90"/>
                </a:lnTo>
                <a:lnTo>
                  <a:pt x="61" y="77"/>
                </a:lnTo>
                <a:lnTo>
                  <a:pt x="55" y="67"/>
                </a:lnTo>
                <a:lnTo>
                  <a:pt x="36" y="68"/>
                </a:lnTo>
                <a:lnTo>
                  <a:pt x="32" y="58"/>
                </a:lnTo>
                <a:lnTo>
                  <a:pt x="1" y="25"/>
                </a:lnTo>
                <a:lnTo>
                  <a:pt x="0" y="15"/>
                </a:lnTo>
                <a:lnTo>
                  <a:pt x="5" y="0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018640" y="4533840"/>
            <a:ext cx="39600" cy="25560"/>
          </a:xfrm>
          <a:custGeom>
            <a:avLst/>
            <a:gdLst/>
            <a:ahLst/>
            <a:rect l="l" t="t" r="r" b="b"/>
            <a:pathLst>
              <a:path w="40" h="28">
                <a:moveTo>
                  <a:pt x="1" y="5"/>
                </a:moveTo>
                <a:lnTo>
                  <a:pt x="17" y="0"/>
                </a:lnTo>
                <a:lnTo>
                  <a:pt x="31" y="0"/>
                </a:lnTo>
                <a:lnTo>
                  <a:pt x="38" y="9"/>
                </a:lnTo>
                <a:lnTo>
                  <a:pt x="40" y="17"/>
                </a:lnTo>
                <a:lnTo>
                  <a:pt x="38" y="22"/>
                </a:lnTo>
                <a:lnTo>
                  <a:pt x="31" y="28"/>
                </a:lnTo>
                <a:lnTo>
                  <a:pt x="17" y="28"/>
                </a:lnTo>
                <a:lnTo>
                  <a:pt x="4" y="23"/>
                </a:lnTo>
                <a:lnTo>
                  <a:pt x="0" y="12"/>
                </a:lnTo>
                <a:lnTo>
                  <a:pt x="1" y="5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061480" y="4506840"/>
            <a:ext cx="34920" cy="19080"/>
          </a:xfrm>
          <a:custGeom>
            <a:avLst/>
            <a:gdLst/>
            <a:ahLst/>
            <a:rect l="l" t="t" r="r" b="b"/>
            <a:pathLst>
              <a:path w="35" h="22">
                <a:moveTo>
                  <a:pt x="0" y="18"/>
                </a:moveTo>
                <a:lnTo>
                  <a:pt x="16" y="22"/>
                </a:lnTo>
                <a:lnTo>
                  <a:pt x="27" y="21"/>
                </a:lnTo>
                <a:lnTo>
                  <a:pt x="34" y="14"/>
                </a:lnTo>
                <a:lnTo>
                  <a:pt x="35" y="9"/>
                </a:lnTo>
                <a:lnTo>
                  <a:pt x="33" y="3"/>
                </a:lnTo>
                <a:lnTo>
                  <a:pt x="27" y="0"/>
                </a:lnTo>
                <a:lnTo>
                  <a:pt x="16" y="0"/>
                </a:lnTo>
                <a:lnTo>
                  <a:pt x="3" y="3"/>
                </a:lnTo>
                <a:lnTo>
                  <a:pt x="0" y="12"/>
                </a:lnTo>
                <a:lnTo>
                  <a:pt x="0" y="18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002440" y="4495680"/>
            <a:ext cx="41400" cy="27000"/>
          </a:xfrm>
          <a:custGeom>
            <a:avLst/>
            <a:gdLst/>
            <a:ahLst/>
            <a:rect l="l" t="t" r="r" b="b"/>
            <a:pathLst>
              <a:path w="40" h="29">
                <a:moveTo>
                  <a:pt x="39" y="6"/>
                </a:moveTo>
                <a:lnTo>
                  <a:pt x="23" y="0"/>
                </a:lnTo>
                <a:lnTo>
                  <a:pt x="10" y="1"/>
                </a:lnTo>
                <a:lnTo>
                  <a:pt x="1" y="9"/>
                </a:lnTo>
                <a:lnTo>
                  <a:pt x="0" y="18"/>
                </a:lnTo>
                <a:lnTo>
                  <a:pt x="2" y="23"/>
                </a:lnTo>
                <a:lnTo>
                  <a:pt x="10" y="29"/>
                </a:lnTo>
                <a:lnTo>
                  <a:pt x="23" y="29"/>
                </a:lnTo>
                <a:lnTo>
                  <a:pt x="35" y="24"/>
                </a:lnTo>
                <a:lnTo>
                  <a:pt x="40" y="13"/>
                </a:lnTo>
                <a:lnTo>
                  <a:pt x="39" y="6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816680" y="4454640"/>
            <a:ext cx="65160" cy="36360"/>
          </a:xfrm>
          <a:custGeom>
            <a:avLst/>
            <a:gdLst/>
            <a:ahLst/>
            <a:rect l="l" t="t" r="r" b="b"/>
            <a:pathLst>
              <a:path w="69" h="37">
                <a:moveTo>
                  <a:pt x="55" y="1"/>
                </a:moveTo>
                <a:lnTo>
                  <a:pt x="48" y="5"/>
                </a:lnTo>
                <a:lnTo>
                  <a:pt x="32" y="6"/>
                </a:lnTo>
                <a:lnTo>
                  <a:pt x="18" y="9"/>
                </a:lnTo>
                <a:lnTo>
                  <a:pt x="10" y="11"/>
                </a:lnTo>
                <a:lnTo>
                  <a:pt x="5" y="14"/>
                </a:lnTo>
                <a:lnTo>
                  <a:pt x="0" y="21"/>
                </a:lnTo>
                <a:lnTo>
                  <a:pt x="2" y="24"/>
                </a:lnTo>
                <a:lnTo>
                  <a:pt x="13" y="29"/>
                </a:lnTo>
                <a:lnTo>
                  <a:pt x="24" y="33"/>
                </a:lnTo>
                <a:lnTo>
                  <a:pt x="34" y="37"/>
                </a:lnTo>
                <a:lnTo>
                  <a:pt x="43" y="36"/>
                </a:lnTo>
                <a:lnTo>
                  <a:pt x="50" y="31"/>
                </a:lnTo>
                <a:lnTo>
                  <a:pt x="57" y="29"/>
                </a:lnTo>
                <a:lnTo>
                  <a:pt x="61" y="24"/>
                </a:lnTo>
                <a:lnTo>
                  <a:pt x="66" y="17"/>
                </a:lnTo>
                <a:lnTo>
                  <a:pt x="64" y="14"/>
                </a:lnTo>
                <a:lnTo>
                  <a:pt x="69" y="11"/>
                </a:lnTo>
                <a:lnTo>
                  <a:pt x="69" y="6"/>
                </a:lnTo>
                <a:lnTo>
                  <a:pt x="67" y="2"/>
                </a:lnTo>
                <a:lnTo>
                  <a:pt x="64" y="0"/>
                </a:lnTo>
                <a:lnTo>
                  <a:pt x="55" y="1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772400" y="4579920"/>
            <a:ext cx="71280" cy="38160"/>
          </a:xfrm>
          <a:custGeom>
            <a:avLst/>
            <a:gdLst/>
            <a:ahLst/>
            <a:rect l="l" t="t" r="r" b="b"/>
            <a:pathLst>
              <a:path w="70" h="37">
                <a:moveTo>
                  <a:pt x="56" y="1"/>
                </a:moveTo>
                <a:lnTo>
                  <a:pt x="49" y="6"/>
                </a:lnTo>
                <a:lnTo>
                  <a:pt x="32" y="7"/>
                </a:lnTo>
                <a:lnTo>
                  <a:pt x="19" y="9"/>
                </a:lnTo>
                <a:lnTo>
                  <a:pt x="9" y="12"/>
                </a:lnTo>
                <a:lnTo>
                  <a:pt x="4" y="16"/>
                </a:lnTo>
                <a:lnTo>
                  <a:pt x="0" y="21"/>
                </a:lnTo>
                <a:lnTo>
                  <a:pt x="3" y="25"/>
                </a:lnTo>
                <a:lnTo>
                  <a:pt x="13" y="30"/>
                </a:lnTo>
                <a:lnTo>
                  <a:pt x="26" y="34"/>
                </a:lnTo>
                <a:lnTo>
                  <a:pt x="34" y="37"/>
                </a:lnTo>
                <a:lnTo>
                  <a:pt x="44" y="35"/>
                </a:lnTo>
                <a:lnTo>
                  <a:pt x="52" y="32"/>
                </a:lnTo>
                <a:lnTo>
                  <a:pt x="57" y="30"/>
                </a:lnTo>
                <a:lnTo>
                  <a:pt x="63" y="24"/>
                </a:lnTo>
                <a:lnTo>
                  <a:pt x="67" y="18"/>
                </a:lnTo>
                <a:lnTo>
                  <a:pt x="65" y="16"/>
                </a:lnTo>
                <a:lnTo>
                  <a:pt x="70" y="12"/>
                </a:lnTo>
                <a:lnTo>
                  <a:pt x="70" y="7"/>
                </a:lnTo>
                <a:lnTo>
                  <a:pt x="68" y="4"/>
                </a:lnTo>
                <a:lnTo>
                  <a:pt x="65" y="0"/>
                </a:lnTo>
                <a:lnTo>
                  <a:pt x="56" y="1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859880" y="4419720"/>
            <a:ext cx="58680" cy="27000"/>
          </a:xfrm>
          <a:custGeom>
            <a:avLst/>
            <a:gdLst/>
            <a:ahLst/>
            <a:rect l="l" t="t" r="r" b="b"/>
            <a:pathLst>
              <a:path w="60" h="28">
                <a:moveTo>
                  <a:pt x="1" y="5"/>
                </a:moveTo>
                <a:lnTo>
                  <a:pt x="26" y="0"/>
                </a:lnTo>
                <a:lnTo>
                  <a:pt x="44" y="1"/>
                </a:lnTo>
                <a:lnTo>
                  <a:pt x="58" y="9"/>
                </a:lnTo>
                <a:lnTo>
                  <a:pt x="60" y="17"/>
                </a:lnTo>
                <a:lnTo>
                  <a:pt x="55" y="23"/>
                </a:lnTo>
                <a:lnTo>
                  <a:pt x="44" y="28"/>
                </a:lnTo>
                <a:lnTo>
                  <a:pt x="26" y="28"/>
                </a:lnTo>
                <a:lnTo>
                  <a:pt x="6" y="24"/>
                </a:lnTo>
                <a:lnTo>
                  <a:pt x="0" y="13"/>
                </a:lnTo>
                <a:lnTo>
                  <a:pt x="1" y="5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751880" y="4618080"/>
            <a:ext cx="60120" cy="27000"/>
          </a:xfrm>
          <a:custGeom>
            <a:avLst/>
            <a:gdLst/>
            <a:ahLst/>
            <a:rect l="l" t="t" r="r" b="b"/>
            <a:pathLst>
              <a:path w="61" h="29">
                <a:moveTo>
                  <a:pt x="1" y="6"/>
                </a:moveTo>
                <a:lnTo>
                  <a:pt x="26" y="0"/>
                </a:lnTo>
                <a:lnTo>
                  <a:pt x="46" y="1"/>
                </a:lnTo>
                <a:lnTo>
                  <a:pt x="59" y="10"/>
                </a:lnTo>
                <a:lnTo>
                  <a:pt x="61" y="18"/>
                </a:lnTo>
                <a:lnTo>
                  <a:pt x="56" y="23"/>
                </a:lnTo>
                <a:lnTo>
                  <a:pt x="46" y="29"/>
                </a:lnTo>
                <a:lnTo>
                  <a:pt x="26" y="29"/>
                </a:lnTo>
                <a:lnTo>
                  <a:pt x="6" y="24"/>
                </a:lnTo>
                <a:lnTo>
                  <a:pt x="0" y="13"/>
                </a:lnTo>
                <a:lnTo>
                  <a:pt x="1" y="6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896240" y="4587840"/>
            <a:ext cx="68400" cy="34920"/>
          </a:xfrm>
          <a:custGeom>
            <a:avLst/>
            <a:gdLst/>
            <a:ahLst/>
            <a:rect l="l" t="t" r="r" b="b"/>
            <a:pathLst>
              <a:path w="69" h="36">
                <a:moveTo>
                  <a:pt x="54" y="36"/>
                </a:moveTo>
                <a:lnTo>
                  <a:pt x="48" y="32"/>
                </a:lnTo>
                <a:lnTo>
                  <a:pt x="31" y="29"/>
                </a:lnTo>
                <a:lnTo>
                  <a:pt x="17" y="28"/>
                </a:lnTo>
                <a:lnTo>
                  <a:pt x="10" y="25"/>
                </a:lnTo>
                <a:lnTo>
                  <a:pt x="4" y="22"/>
                </a:lnTo>
                <a:lnTo>
                  <a:pt x="0" y="16"/>
                </a:lnTo>
                <a:lnTo>
                  <a:pt x="2" y="12"/>
                </a:lnTo>
                <a:lnTo>
                  <a:pt x="13" y="8"/>
                </a:lnTo>
                <a:lnTo>
                  <a:pt x="24" y="3"/>
                </a:lnTo>
                <a:lnTo>
                  <a:pt x="34" y="0"/>
                </a:lnTo>
                <a:lnTo>
                  <a:pt x="42" y="2"/>
                </a:lnTo>
                <a:lnTo>
                  <a:pt x="51" y="4"/>
                </a:lnTo>
                <a:lnTo>
                  <a:pt x="56" y="8"/>
                </a:lnTo>
                <a:lnTo>
                  <a:pt x="61" y="13"/>
                </a:lnTo>
                <a:lnTo>
                  <a:pt x="66" y="20"/>
                </a:lnTo>
                <a:lnTo>
                  <a:pt x="64" y="22"/>
                </a:lnTo>
                <a:lnTo>
                  <a:pt x="69" y="25"/>
                </a:lnTo>
                <a:lnTo>
                  <a:pt x="69" y="29"/>
                </a:lnTo>
                <a:lnTo>
                  <a:pt x="66" y="34"/>
                </a:lnTo>
                <a:lnTo>
                  <a:pt x="64" y="36"/>
                </a:lnTo>
                <a:lnTo>
                  <a:pt x="54" y="36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648560" y="4575240"/>
            <a:ext cx="61920" cy="38160"/>
          </a:xfrm>
          <a:custGeom>
            <a:avLst/>
            <a:gdLst/>
            <a:ahLst/>
            <a:rect l="l" t="t" r="r" b="b"/>
            <a:pathLst>
              <a:path w="63" h="40">
                <a:moveTo>
                  <a:pt x="13" y="39"/>
                </a:moveTo>
                <a:lnTo>
                  <a:pt x="20" y="35"/>
                </a:lnTo>
                <a:lnTo>
                  <a:pt x="34" y="32"/>
                </a:lnTo>
                <a:lnTo>
                  <a:pt x="47" y="31"/>
                </a:lnTo>
                <a:lnTo>
                  <a:pt x="55" y="28"/>
                </a:lnTo>
                <a:lnTo>
                  <a:pt x="60" y="24"/>
                </a:lnTo>
                <a:lnTo>
                  <a:pt x="63" y="17"/>
                </a:lnTo>
                <a:lnTo>
                  <a:pt x="62" y="13"/>
                </a:lnTo>
                <a:lnTo>
                  <a:pt x="52" y="7"/>
                </a:lnTo>
                <a:lnTo>
                  <a:pt x="42" y="3"/>
                </a:lnTo>
                <a:lnTo>
                  <a:pt x="32" y="0"/>
                </a:lnTo>
                <a:lnTo>
                  <a:pt x="24" y="1"/>
                </a:lnTo>
                <a:lnTo>
                  <a:pt x="17" y="4"/>
                </a:lnTo>
                <a:lnTo>
                  <a:pt x="11" y="7"/>
                </a:lnTo>
                <a:lnTo>
                  <a:pt x="7" y="14"/>
                </a:lnTo>
                <a:lnTo>
                  <a:pt x="2" y="22"/>
                </a:lnTo>
                <a:lnTo>
                  <a:pt x="4" y="24"/>
                </a:lnTo>
                <a:lnTo>
                  <a:pt x="0" y="28"/>
                </a:lnTo>
                <a:lnTo>
                  <a:pt x="0" y="32"/>
                </a:lnTo>
                <a:lnTo>
                  <a:pt x="1" y="37"/>
                </a:lnTo>
                <a:lnTo>
                  <a:pt x="4" y="40"/>
                </a:lnTo>
                <a:lnTo>
                  <a:pt x="13" y="39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980480" y="4363920"/>
            <a:ext cx="48960" cy="27000"/>
          </a:xfrm>
          <a:custGeom>
            <a:avLst/>
            <a:gdLst/>
            <a:ahLst/>
            <a:rect l="l" t="t" r="r" b="b"/>
            <a:pathLst>
              <a:path w="50" h="27">
                <a:moveTo>
                  <a:pt x="49" y="5"/>
                </a:moveTo>
                <a:lnTo>
                  <a:pt x="28" y="0"/>
                </a:lnTo>
                <a:lnTo>
                  <a:pt x="12" y="0"/>
                </a:lnTo>
                <a:lnTo>
                  <a:pt x="1" y="8"/>
                </a:lnTo>
                <a:lnTo>
                  <a:pt x="0" y="17"/>
                </a:lnTo>
                <a:lnTo>
                  <a:pt x="3" y="22"/>
                </a:lnTo>
                <a:lnTo>
                  <a:pt x="12" y="27"/>
                </a:lnTo>
                <a:lnTo>
                  <a:pt x="28" y="27"/>
                </a:lnTo>
                <a:lnTo>
                  <a:pt x="43" y="23"/>
                </a:lnTo>
                <a:lnTo>
                  <a:pt x="50" y="12"/>
                </a:lnTo>
                <a:lnTo>
                  <a:pt x="49" y="5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89960" y="4630680"/>
            <a:ext cx="54000" cy="27000"/>
          </a:xfrm>
          <a:custGeom>
            <a:avLst/>
            <a:gdLst/>
            <a:ahLst/>
            <a:rect l="l" t="t" r="r" b="b"/>
            <a:pathLst>
              <a:path w="55" h="28">
                <a:moveTo>
                  <a:pt x="0" y="3"/>
                </a:moveTo>
                <a:lnTo>
                  <a:pt x="26" y="0"/>
                </a:lnTo>
                <a:lnTo>
                  <a:pt x="44" y="4"/>
                </a:lnTo>
                <a:lnTo>
                  <a:pt x="51" y="8"/>
                </a:lnTo>
                <a:lnTo>
                  <a:pt x="55" y="18"/>
                </a:lnTo>
                <a:lnTo>
                  <a:pt x="53" y="28"/>
                </a:lnTo>
                <a:lnTo>
                  <a:pt x="16" y="25"/>
                </a:lnTo>
                <a:lnTo>
                  <a:pt x="0" y="17"/>
                </a:lnTo>
                <a:lnTo>
                  <a:pt x="0" y="3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829640" y="4611600"/>
            <a:ext cx="55440" cy="27000"/>
          </a:xfrm>
          <a:custGeom>
            <a:avLst/>
            <a:gdLst/>
            <a:ahLst/>
            <a:rect l="l" t="t" r="r" b="b"/>
            <a:pathLst>
              <a:path w="58" h="28">
                <a:moveTo>
                  <a:pt x="1" y="5"/>
                </a:moveTo>
                <a:lnTo>
                  <a:pt x="26" y="0"/>
                </a:lnTo>
                <a:lnTo>
                  <a:pt x="44" y="1"/>
                </a:lnTo>
                <a:lnTo>
                  <a:pt x="57" y="9"/>
                </a:lnTo>
                <a:lnTo>
                  <a:pt x="58" y="17"/>
                </a:lnTo>
                <a:lnTo>
                  <a:pt x="55" y="23"/>
                </a:lnTo>
                <a:lnTo>
                  <a:pt x="44" y="28"/>
                </a:lnTo>
                <a:lnTo>
                  <a:pt x="26" y="28"/>
                </a:lnTo>
                <a:lnTo>
                  <a:pt x="7" y="24"/>
                </a:lnTo>
                <a:lnTo>
                  <a:pt x="0" y="13"/>
                </a:lnTo>
                <a:lnTo>
                  <a:pt x="1" y="5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891560" y="4619520"/>
            <a:ext cx="36360" cy="20880"/>
          </a:xfrm>
          <a:custGeom>
            <a:avLst/>
            <a:gdLst/>
            <a:ahLst/>
            <a:rect l="l" t="t" r="r" b="b"/>
            <a:pathLst>
              <a:path w="38" h="22">
                <a:moveTo>
                  <a:pt x="0" y="3"/>
                </a:moveTo>
                <a:lnTo>
                  <a:pt x="18" y="0"/>
                </a:lnTo>
                <a:lnTo>
                  <a:pt x="29" y="0"/>
                </a:lnTo>
                <a:lnTo>
                  <a:pt x="37" y="7"/>
                </a:lnTo>
                <a:lnTo>
                  <a:pt x="38" y="13"/>
                </a:lnTo>
                <a:lnTo>
                  <a:pt x="36" y="18"/>
                </a:lnTo>
                <a:lnTo>
                  <a:pt x="29" y="22"/>
                </a:lnTo>
                <a:lnTo>
                  <a:pt x="18" y="22"/>
                </a:lnTo>
                <a:lnTo>
                  <a:pt x="5" y="19"/>
                </a:lnTo>
                <a:lnTo>
                  <a:pt x="0" y="9"/>
                </a:lnTo>
                <a:lnTo>
                  <a:pt x="0" y="3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50160" y="4578480"/>
            <a:ext cx="52560" cy="23760"/>
          </a:xfrm>
          <a:custGeom>
            <a:avLst/>
            <a:gdLst/>
            <a:ahLst/>
            <a:rect l="l" t="t" r="r" b="b"/>
            <a:pathLst>
              <a:path w="53" h="23">
                <a:moveTo>
                  <a:pt x="0" y="3"/>
                </a:moveTo>
                <a:lnTo>
                  <a:pt x="24" y="0"/>
                </a:lnTo>
                <a:lnTo>
                  <a:pt x="40" y="0"/>
                </a:lnTo>
                <a:lnTo>
                  <a:pt x="53" y="8"/>
                </a:lnTo>
                <a:lnTo>
                  <a:pt x="53" y="14"/>
                </a:lnTo>
                <a:lnTo>
                  <a:pt x="52" y="19"/>
                </a:lnTo>
                <a:lnTo>
                  <a:pt x="40" y="23"/>
                </a:lnTo>
                <a:lnTo>
                  <a:pt x="24" y="23"/>
                </a:lnTo>
                <a:lnTo>
                  <a:pt x="5" y="20"/>
                </a:lnTo>
                <a:lnTo>
                  <a:pt x="0" y="11"/>
                </a:lnTo>
                <a:lnTo>
                  <a:pt x="0" y="3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96080" y="4595760"/>
            <a:ext cx="61920" cy="33480"/>
          </a:xfrm>
          <a:custGeom>
            <a:avLst/>
            <a:gdLst/>
            <a:ahLst/>
            <a:rect l="l" t="t" r="r" b="b"/>
            <a:pathLst>
              <a:path w="64" h="32">
                <a:moveTo>
                  <a:pt x="64" y="3"/>
                </a:moveTo>
                <a:lnTo>
                  <a:pt x="34" y="0"/>
                </a:lnTo>
                <a:lnTo>
                  <a:pt x="12" y="4"/>
                </a:lnTo>
                <a:lnTo>
                  <a:pt x="3" y="8"/>
                </a:lnTo>
                <a:lnTo>
                  <a:pt x="0" y="20"/>
                </a:lnTo>
                <a:lnTo>
                  <a:pt x="2" y="32"/>
                </a:lnTo>
                <a:lnTo>
                  <a:pt x="45" y="28"/>
                </a:lnTo>
                <a:lnTo>
                  <a:pt x="64" y="19"/>
                </a:lnTo>
                <a:lnTo>
                  <a:pt x="64" y="3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423200" y="4567320"/>
            <a:ext cx="263520" cy="90360"/>
          </a:xfrm>
          <a:custGeom>
            <a:avLst/>
            <a:gdLst/>
            <a:ahLst/>
            <a:rect l="l" t="t" r="r" b="b"/>
            <a:pathLst>
              <a:path w="271" h="96">
                <a:moveTo>
                  <a:pt x="21" y="0"/>
                </a:moveTo>
                <a:lnTo>
                  <a:pt x="57" y="0"/>
                </a:lnTo>
                <a:lnTo>
                  <a:pt x="72" y="12"/>
                </a:lnTo>
                <a:lnTo>
                  <a:pt x="79" y="19"/>
                </a:lnTo>
                <a:lnTo>
                  <a:pt x="112" y="19"/>
                </a:lnTo>
                <a:lnTo>
                  <a:pt x="116" y="11"/>
                </a:lnTo>
                <a:lnTo>
                  <a:pt x="132" y="7"/>
                </a:lnTo>
                <a:lnTo>
                  <a:pt x="156" y="6"/>
                </a:lnTo>
                <a:lnTo>
                  <a:pt x="164" y="13"/>
                </a:lnTo>
                <a:lnTo>
                  <a:pt x="170" y="14"/>
                </a:lnTo>
                <a:lnTo>
                  <a:pt x="174" y="18"/>
                </a:lnTo>
                <a:lnTo>
                  <a:pt x="181" y="19"/>
                </a:lnTo>
                <a:lnTo>
                  <a:pt x="180" y="24"/>
                </a:lnTo>
                <a:lnTo>
                  <a:pt x="187" y="31"/>
                </a:lnTo>
                <a:lnTo>
                  <a:pt x="233" y="34"/>
                </a:lnTo>
                <a:lnTo>
                  <a:pt x="227" y="41"/>
                </a:lnTo>
                <a:lnTo>
                  <a:pt x="228" y="49"/>
                </a:lnTo>
                <a:lnTo>
                  <a:pt x="241" y="67"/>
                </a:lnTo>
                <a:lnTo>
                  <a:pt x="271" y="72"/>
                </a:lnTo>
                <a:lnTo>
                  <a:pt x="266" y="95"/>
                </a:lnTo>
                <a:lnTo>
                  <a:pt x="240" y="96"/>
                </a:lnTo>
                <a:lnTo>
                  <a:pt x="222" y="89"/>
                </a:lnTo>
                <a:lnTo>
                  <a:pt x="202" y="69"/>
                </a:lnTo>
                <a:lnTo>
                  <a:pt x="190" y="64"/>
                </a:lnTo>
                <a:lnTo>
                  <a:pt x="164" y="64"/>
                </a:lnTo>
                <a:lnTo>
                  <a:pt x="130" y="70"/>
                </a:lnTo>
                <a:lnTo>
                  <a:pt x="122" y="64"/>
                </a:lnTo>
                <a:lnTo>
                  <a:pt x="110" y="57"/>
                </a:lnTo>
                <a:lnTo>
                  <a:pt x="95" y="58"/>
                </a:lnTo>
                <a:lnTo>
                  <a:pt x="65" y="51"/>
                </a:lnTo>
                <a:lnTo>
                  <a:pt x="55" y="44"/>
                </a:lnTo>
                <a:lnTo>
                  <a:pt x="41" y="44"/>
                </a:lnTo>
                <a:lnTo>
                  <a:pt x="33" y="38"/>
                </a:lnTo>
                <a:lnTo>
                  <a:pt x="20" y="38"/>
                </a:lnTo>
                <a:lnTo>
                  <a:pt x="0" y="25"/>
                </a:lnTo>
                <a:lnTo>
                  <a:pt x="1" y="13"/>
                </a:lnTo>
                <a:lnTo>
                  <a:pt x="6" y="12"/>
                </a:lnTo>
                <a:lnTo>
                  <a:pt x="7" y="6"/>
                </a:lnTo>
                <a:lnTo>
                  <a:pt x="16" y="6"/>
                </a:lnTo>
                <a:lnTo>
                  <a:pt x="21" y="0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10480" y="4357800"/>
            <a:ext cx="158760" cy="190440"/>
          </a:xfrm>
          <a:custGeom>
            <a:avLst/>
            <a:gdLst/>
            <a:ahLst/>
            <a:rect l="l" t="t" r="r" b="b"/>
            <a:pathLst>
              <a:path w="165" h="196">
                <a:moveTo>
                  <a:pt x="165" y="0"/>
                </a:moveTo>
                <a:lnTo>
                  <a:pt x="159" y="30"/>
                </a:lnTo>
                <a:lnTo>
                  <a:pt x="141" y="44"/>
                </a:lnTo>
                <a:lnTo>
                  <a:pt x="99" y="51"/>
                </a:lnTo>
                <a:lnTo>
                  <a:pt x="92" y="43"/>
                </a:lnTo>
                <a:lnTo>
                  <a:pt x="82" y="43"/>
                </a:lnTo>
                <a:lnTo>
                  <a:pt x="75" y="39"/>
                </a:lnTo>
                <a:lnTo>
                  <a:pt x="60" y="48"/>
                </a:lnTo>
                <a:lnTo>
                  <a:pt x="50" y="54"/>
                </a:lnTo>
                <a:lnTo>
                  <a:pt x="45" y="62"/>
                </a:lnTo>
                <a:lnTo>
                  <a:pt x="47" y="64"/>
                </a:lnTo>
                <a:lnTo>
                  <a:pt x="54" y="63"/>
                </a:lnTo>
                <a:lnTo>
                  <a:pt x="60" y="85"/>
                </a:lnTo>
                <a:lnTo>
                  <a:pt x="66" y="85"/>
                </a:lnTo>
                <a:lnTo>
                  <a:pt x="66" y="78"/>
                </a:lnTo>
                <a:lnTo>
                  <a:pt x="72" y="74"/>
                </a:lnTo>
                <a:lnTo>
                  <a:pt x="72" y="64"/>
                </a:lnTo>
                <a:lnTo>
                  <a:pt x="107" y="65"/>
                </a:lnTo>
                <a:lnTo>
                  <a:pt x="109" y="57"/>
                </a:lnTo>
                <a:lnTo>
                  <a:pt x="112" y="56"/>
                </a:lnTo>
                <a:lnTo>
                  <a:pt x="119" y="70"/>
                </a:lnTo>
                <a:lnTo>
                  <a:pt x="112" y="78"/>
                </a:lnTo>
                <a:lnTo>
                  <a:pt x="106" y="78"/>
                </a:lnTo>
                <a:lnTo>
                  <a:pt x="102" y="89"/>
                </a:lnTo>
                <a:lnTo>
                  <a:pt x="93" y="100"/>
                </a:lnTo>
                <a:lnTo>
                  <a:pt x="93" y="100"/>
                </a:lnTo>
                <a:lnTo>
                  <a:pt x="112" y="144"/>
                </a:lnTo>
                <a:lnTo>
                  <a:pt x="112" y="151"/>
                </a:lnTo>
                <a:lnTo>
                  <a:pt x="100" y="151"/>
                </a:lnTo>
                <a:lnTo>
                  <a:pt x="100" y="159"/>
                </a:lnTo>
                <a:lnTo>
                  <a:pt x="92" y="163"/>
                </a:lnTo>
                <a:lnTo>
                  <a:pt x="79" y="163"/>
                </a:lnTo>
                <a:lnTo>
                  <a:pt x="81" y="144"/>
                </a:lnTo>
                <a:lnTo>
                  <a:pt x="72" y="142"/>
                </a:lnTo>
                <a:lnTo>
                  <a:pt x="72" y="130"/>
                </a:lnTo>
                <a:lnTo>
                  <a:pt x="68" y="125"/>
                </a:lnTo>
                <a:lnTo>
                  <a:pt x="67" y="117"/>
                </a:lnTo>
                <a:lnTo>
                  <a:pt x="46" y="115"/>
                </a:lnTo>
                <a:lnTo>
                  <a:pt x="46" y="134"/>
                </a:lnTo>
                <a:lnTo>
                  <a:pt x="55" y="138"/>
                </a:lnTo>
                <a:lnTo>
                  <a:pt x="46" y="147"/>
                </a:lnTo>
                <a:lnTo>
                  <a:pt x="54" y="151"/>
                </a:lnTo>
                <a:lnTo>
                  <a:pt x="51" y="157"/>
                </a:lnTo>
                <a:lnTo>
                  <a:pt x="60" y="161"/>
                </a:lnTo>
                <a:lnTo>
                  <a:pt x="60" y="187"/>
                </a:lnTo>
                <a:lnTo>
                  <a:pt x="50" y="196"/>
                </a:lnTo>
                <a:lnTo>
                  <a:pt x="35" y="194"/>
                </a:lnTo>
                <a:lnTo>
                  <a:pt x="33" y="144"/>
                </a:lnTo>
                <a:lnTo>
                  <a:pt x="21" y="141"/>
                </a:lnTo>
                <a:lnTo>
                  <a:pt x="0" y="120"/>
                </a:lnTo>
                <a:lnTo>
                  <a:pt x="0" y="104"/>
                </a:lnTo>
                <a:lnTo>
                  <a:pt x="14" y="89"/>
                </a:lnTo>
                <a:lnTo>
                  <a:pt x="23" y="88"/>
                </a:lnTo>
                <a:lnTo>
                  <a:pt x="31" y="79"/>
                </a:lnTo>
                <a:lnTo>
                  <a:pt x="34" y="69"/>
                </a:lnTo>
                <a:lnTo>
                  <a:pt x="34" y="44"/>
                </a:lnTo>
                <a:lnTo>
                  <a:pt x="41" y="32"/>
                </a:lnTo>
                <a:lnTo>
                  <a:pt x="48" y="25"/>
                </a:lnTo>
                <a:lnTo>
                  <a:pt x="56" y="25"/>
                </a:lnTo>
                <a:lnTo>
                  <a:pt x="60" y="21"/>
                </a:lnTo>
                <a:lnTo>
                  <a:pt x="61" y="13"/>
                </a:lnTo>
                <a:lnTo>
                  <a:pt x="67" y="12"/>
                </a:lnTo>
                <a:lnTo>
                  <a:pt x="72" y="18"/>
                </a:lnTo>
                <a:lnTo>
                  <a:pt x="81" y="19"/>
                </a:lnTo>
                <a:lnTo>
                  <a:pt x="81" y="25"/>
                </a:lnTo>
                <a:lnTo>
                  <a:pt x="127" y="25"/>
                </a:lnTo>
                <a:lnTo>
                  <a:pt x="141" y="19"/>
                </a:lnTo>
                <a:lnTo>
                  <a:pt x="147" y="19"/>
                </a:lnTo>
                <a:lnTo>
                  <a:pt x="165" y="0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899480" y="4448160"/>
            <a:ext cx="73080" cy="41400"/>
          </a:xfrm>
          <a:custGeom>
            <a:avLst/>
            <a:gdLst/>
            <a:ahLst/>
            <a:rect l="l" t="t" r="r" b="b"/>
            <a:pathLst>
              <a:path w="74" h="42">
                <a:moveTo>
                  <a:pt x="64" y="0"/>
                </a:moveTo>
                <a:lnTo>
                  <a:pt x="45" y="1"/>
                </a:lnTo>
                <a:lnTo>
                  <a:pt x="23" y="8"/>
                </a:lnTo>
                <a:lnTo>
                  <a:pt x="10" y="16"/>
                </a:lnTo>
                <a:lnTo>
                  <a:pt x="1" y="20"/>
                </a:lnTo>
                <a:lnTo>
                  <a:pt x="0" y="29"/>
                </a:lnTo>
                <a:lnTo>
                  <a:pt x="9" y="34"/>
                </a:lnTo>
                <a:lnTo>
                  <a:pt x="20" y="34"/>
                </a:lnTo>
                <a:lnTo>
                  <a:pt x="27" y="35"/>
                </a:lnTo>
                <a:lnTo>
                  <a:pt x="40" y="42"/>
                </a:lnTo>
                <a:lnTo>
                  <a:pt x="62" y="42"/>
                </a:lnTo>
                <a:lnTo>
                  <a:pt x="70" y="33"/>
                </a:lnTo>
                <a:lnTo>
                  <a:pt x="72" y="21"/>
                </a:lnTo>
                <a:lnTo>
                  <a:pt x="74" y="7"/>
                </a:lnTo>
                <a:lnTo>
                  <a:pt x="64" y="0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626160" y="4532400"/>
            <a:ext cx="15840" cy="23760"/>
          </a:xfrm>
          <a:custGeom>
            <a:avLst/>
            <a:gdLst/>
            <a:ahLst/>
            <a:rect l="l" t="t" r="r" b="b"/>
            <a:pathLst>
              <a:path w="18" h="24">
                <a:moveTo>
                  <a:pt x="0" y="5"/>
                </a:moveTo>
                <a:lnTo>
                  <a:pt x="5" y="0"/>
                </a:lnTo>
                <a:lnTo>
                  <a:pt x="12" y="2"/>
                </a:lnTo>
                <a:lnTo>
                  <a:pt x="16" y="2"/>
                </a:lnTo>
                <a:lnTo>
                  <a:pt x="18" y="9"/>
                </a:lnTo>
                <a:lnTo>
                  <a:pt x="17" y="14"/>
                </a:lnTo>
                <a:lnTo>
                  <a:pt x="11" y="24"/>
                </a:lnTo>
                <a:lnTo>
                  <a:pt x="2" y="23"/>
                </a:lnTo>
                <a:lnTo>
                  <a:pt x="1" y="14"/>
                </a:lnTo>
                <a:lnTo>
                  <a:pt x="0" y="5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670800" y="4462560"/>
            <a:ext cx="19080" cy="2376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3"/>
                </a:moveTo>
                <a:lnTo>
                  <a:pt x="5" y="0"/>
                </a:lnTo>
                <a:lnTo>
                  <a:pt x="11" y="1"/>
                </a:lnTo>
                <a:lnTo>
                  <a:pt x="17" y="2"/>
                </a:lnTo>
                <a:lnTo>
                  <a:pt x="18" y="8"/>
                </a:lnTo>
                <a:lnTo>
                  <a:pt x="17" y="14"/>
                </a:lnTo>
                <a:lnTo>
                  <a:pt x="11" y="23"/>
                </a:lnTo>
                <a:lnTo>
                  <a:pt x="2" y="21"/>
                </a:lnTo>
                <a:lnTo>
                  <a:pt x="1" y="14"/>
                </a:lnTo>
                <a:lnTo>
                  <a:pt x="0" y="3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627960" y="4559400"/>
            <a:ext cx="19080" cy="25200"/>
          </a:xfrm>
          <a:custGeom>
            <a:avLst/>
            <a:gdLst/>
            <a:ahLst/>
            <a:rect l="l" t="t" r="r" b="b"/>
            <a:pathLst>
              <a:path w="18" h="25">
                <a:moveTo>
                  <a:pt x="0" y="4"/>
                </a:moveTo>
                <a:lnTo>
                  <a:pt x="5" y="0"/>
                </a:lnTo>
                <a:lnTo>
                  <a:pt x="12" y="2"/>
                </a:lnTo>
                <a:lnTo>
                  <a:pt x="16" y="3"/>
                </a:lnTo>
                <a:lnTo>
                  <a:pt x="18" y="9"/>
                </a:lnTo>
                <a:lnTo>
                  <a:pt x="17" y="15"/>
                </a:lnTo>
                <a:lnTo>
                  <a:pt x="11" y="25"/>
                </a:lnTo>
                <a:lnTo>
                  <a:pt x="2" y="22"/>
                </a:lnTo>
                <a:lnTo>
                  <a:pt x="1" y="15"/>
                </a:lnTo>
                <a:lnTo>
                  <a:pt x="0" y="4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32640" y="4676760"/>
            <a:ext cx="17280" cy="23760"/>
          </a:xfrm>
          <a:custGeom>
            <a:avLst/>
            <a:gdLst/>
            <a:ahLst/>
            <a:rect l="l" t="t" r="r" b="b"/>
            <a:pathLst>
              <a:path w="19" h="24">
                <a:moveTo>
                  <a:pt x="0" y="5"/>
                </a:moveTo>
                <a:lnTo>
                  <a:pt x="6" y="0"/>
                </a:lnTo>
                <a:lnTo>
                  <a:pt x="12" y="3"/>
                </a:lnTo>
                <a:lnTo>
                  <a:pt x="18" y="4"/>
                </a:lnTo>
                <a:lnTo>
                  <a:pt x="19" y="9"/>
                </a:lnTo>
                <a:lnTo>
                  <a:pt x="18" y="16"/>
                </a:lnTo>
                <a:lnTo>
                  <a:pt x="11" y="24"/>
                </a:lnTo>
                <a:lnTo>
                  <a:pt x="3" y="23"/>
                </a:lnTo>
                <a:lnTo>
                  <a:pt x="1" y="16"/>
                </a:lnTo>
                <a:lnTo>
                  <a:pt x="0" y="5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18240" y="4438800"/>
            <a:ext cx="23760" cy="25200"/>
          </a:xfrm>
          <a:custGeom>
            <a:avLst/>
            <a:gdLst/>
            <a:ahLst/>
            <a:rect l="l" t="t" r="r" b="b"/>
            <a:pathLst>
              <a:path w="25" h="25">
                <a:moveTo>
                  <a:pt x="0" y="3"/>
                </a:moveTo>
                <a:lnTo>
                  <a:pt x="11" y="0"/>
                </a:lnTo>
                <a:lnTo>
                  <a:pt x="21" y="3"/>
                </a:lnTo>
                <a:lnTo>
                  <a:pt x="23" y="6"/>
                </a:lnTo>
                <a:lnTo>
                  <a:pt x="25" y="16"/>
                </a:lnTo>
                <a:lnTo>
                  <a:pt x="23" y="25"/>
                </a:lnTo>
                <a:lnTo>
                  <a:pt x="8" y="21"/>
                </a:lnTo>
                <a:lnTo>
                  <a:pt x="0" y="15"/>
                </a:lnTo>
                <a:lnTo>
                  <a:pt x="0" y="3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616800" y="4603680"/>
            <a:ext cx="21960" cy="31680"/>
          </a:xfrm>
          <a:custGeom>
            <a:avLst/>
            <a:gdLst/>
            <a:ahLst/>
            <a:rect l="l" t="t" r="r" b="b"/>
            <a:pathLst>
              <a:path w="24" h="34">
                <a:moveTo>
                  <a:pt x="24" y="30"/>
                </a:moveTo>
                <a:lnTo>
                  <a:pt x="23" y="21"/>
                </a:lnTo>
                <a:lnTo>
                  <a:pt x="20" y="11"/>
                </a:lnTo>
                <a:lnTo>
                  <a:pt x="15" y="6"/>
                </a:lnTo>
                <a:lnTo>
                  <a:pt x="12" y="0"/>
                </a:lnTo>
                <a:lnTo>
                  <a:pt x="7" y="0"/>
                </a:lnTo>
                <a:lnTo>
                  <a:pt x="3" y="5"/>
                </a:lnTo>
                <a:lnTo>
                  <a:pt x="3" y="9"/>
                </a:lnTo>
                <a:lnTo>
                  <a:pt x="3" y="12"/>
                </a:lnTo>
                <a:lnTo>
                  <a:pt x="0" y="19"/>
                </a:lnTo>
                <a:lnTo>
                  <a:pt x="0" y="29"/>
                </a:lnTo>
                <a:lnTo>
                  <a:pt x="4" y="33"/>
                </a:lnTo>
                <a:lnTo>
                  <a:pt x="11" y="34"/>
                </a:lnTo>
                <a:lnTo>
                  <a:pt x="20" y="34"/>
                </a:lnTo>
                <a:lnTo>
                  <a:pt x="24" y="30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647040" y="4641840"/>
            <a:ext cx="20520" cy="33480"/>
          </a:xfrm>
          <a:custGeom>
            <a:avLst/>
            <a:gdLst/>
            <a:ahLst/>
            <a:rect l="l" t="t" r="r" b="b"/>
            <a:pathLst>
              <a:path w="20" h="33">
                <a:moveTo>
                  <a:pt x="20" y="3"/>
                </a:moveTo>
                <a:lnTo>
                  <a:pt x="20" y="13"/>
                </a:lnTo>
                <a:lnTo>
                  <a:pt x="16" y="22"/>
                </a:lnTo>
                <a:lnTo>
                  <a:pt x="11" y="28"/>
                </a:lnTo>
                <a:lnTo>
                  <a:pt x="10" y="33"/>
                </a:lnTo>
                <a:lnTo>
                  <a:pt x="6" y="33"/>
                </a:lnTo>
                <a:lnTo>
                  <a:pt x="3" y="29"/>
                </a:lnTo>
                <a:lnTo>
                  <a:pt x="3" y="25"/>
                </a:lnTo>
                <a:lnTo>
                  <a:pt x="2" y="21"/>
                </a:lnTo>
                <a:lnTo>
                  <a:pt x="0" y="15"/>
                </a:lnTo>
                <a:lnTo>
                  <a:pt x="0" y="5"/>
                </a:lnTo>
                <a:lnTo>
                  <a:pt x="3" y="1"/>
                </a:lnTo>
                <a:lnTo>
                  <a:pt x="8" y="0"/>
                </a:lnTo>
                <a:lnTo>
                  <a:pt x="17" y="0"/>
                </a:lnTo>
                <a:lnTo>
                  <a:pt x="20" y="3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661080" y="4541760"/>
            <a:ext cx="19080" cy="20880"/>
          </a:xfrm>
          <a:custGeom>
            <a:avLst/>
            <a:gdLst/>
            <a:ahLst/>
            <a:rect l="l" t="t" r="r" b="b"/>
            <a:pathLst>
              <a:path w="18" h="24">
                <a:moveTo>
                  <a:pt x="0" y="4"/>
                </a:moveTo>
                <a:lnTo>
                  <a:pt x="5" y="0"/>
                </a:lnTo>
                <a:lnTo>
                  <a:pt x="12" y="1"/>
                </a:lnTo>
                <a:lnTo>
                  <a:pt x="17" y="2"/>
                </a:lnTo>
                <a:lnTo>
                  <a:pt x="18" y="9"/>
                </a:lnTo>
                <a:lnTo>
                  <a:pt x="17" y="14"/>
                </a:lnTo>
                <a:lnTo>
                  <a:pt x="11" y="24"/>
                </a:lnTo>
                <a:lnTo>
                  <a:pt x="2" y="23"/>
                </a:lnTo>
                <a:lnTo>
                  <a:pt x="1" y="14"/>
                </a:lnTo>
                <a:lnTo>
                  <a:pt x="0" y="4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620040" y="4637160"/>
            <a:ext cx="17280" cy="22320"/>
          </a:xfrm>
          <a:custGeom>
            <a:avLst/>
            <a:gdLst/>
            <a:ahLst/>
            <a:rect l="l" t="t" r="r" b="b"/>
            <a:pathLst>
              <a:path w="19" h="24">
                <a:moveTo>
                  <a:pt x="0" y="4"/>
                </a:moveTo>
                <a:lnTo>
                  <a:pt x="6" y="0"/>
                </a:lnTo>
                <a:lnTo>
                  <a:pt x="12" y="1"/>
                </a:lnTo>
                <a:lnTo>
                  <a:pt x="18" y="2"/>
                </a:lnTo>
                <a:lnTo>
                  <a:pt x="19" y="9"/>
                </a:lnTo>
                <a:lnTo>
                  <a:pt x="19" y="14"/>
                </a:lnTo>
                <a:lnTo>
                  <a:pt x="12" y="24"/>
                </a:lnTo>
                <a:lnTo>
                  <a:pt x="4" y="23"/>
                </a:lnTo>
                <a:lnTo>
                  <a:pt x="1" y="14"/>
                </a:lnTo>
                <a:lnTo>
                  <a:pt x="0" y="4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657840" y="4602240"/>
            <a:ext cx="17640" cy="20520"/>
          </a:xfrm>
          <a:custGeom>
            <a:avLst/>
            <a:gdLst/>
            <a:ahLst/>
            <a:rect l="l" t="t" r="r" b="b"/>
            <a:pathLst>
              <a:path w="19" h="24">
                <a:moveTo>
                  <a:pt x="0" y="4"/>
                </a:moveTo>
                <a:lnTo>
                  <a:pt x="6" y="0"/>
                </a:lnTo>
                <a:lnTo>
                  <a:pt x="12" y="1"/>
                </a:lnTo>
                <a:lnTo>
                  <a:pt x="17" y="2"/>
                </a:lnTo>
                <a:lnTo>
                  <a:pt x="19" y="9"/>
                </a:lnTo>
                <a:lnTo>
                  <a:pt x="18" y="14"/>
                </a:lnTo>
                <a:lnTo>
                  <a:pt x="11" y="24"/>
                </a:lnTo>
                <a:lnTo>
                  <a:pt x="3" y="23"/>
                </a:lnTo>
                <a:lnTo>
                  <a:pt x="0" y="14"/>
                </a:lnTo>
                <a:lnTo>
                  <a:pt x="0" y="4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643800" y="4491000"/>
            <a:ext cx="17280" cy="33480"/>
          </a:xfrm>
          <a:custGeom>
            <a:avLst/>
            <a:gdLst/>
            <a:ahLst/>
            <a:rect l="l" t="t" r="r" b="b"/>
            <a:pathLst>
              <a:path w="19" h="34">
                <a:moveTo>
                  <a:pt x="0" y="28"/>
                </a:moveTo>
                <a:lnTo>
                  <a:pt x="6" y="34"/>
                </a:lnTo>
                <a:lnTo>
                  <a:pt x="12" y="33"/>
                </a:lnTo>
                <a:lnTo>
                  <a:pt x="17" y="30"/>
                </a:lnTo>
                <a:lnTo>
                  <a:pt x="19" y="22"/>
                </a:lnTo>
                <a:lnTo>
                  <a:pt x="18" y="13"/>
                </a:lnTo>
                <a:lnTo>
                  <a:pt x="11" y="0"/>
                </a:lnTo>
                <a:lnTo>
                  <a:pt x="2" y="1"/>
                </a:lnTo>
                <a:lnTo>
                  <a:pt x="0" y="13"/>
                </a:lnTo>
                <a:lnTo>
                  <a:pt x="0" y="28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637320" y="4606920"/>
            <a:ext cx="17640" cy="1584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5"/>
                </a:moveTo>
                <a:lnTo>
                  <a:pt x="4" y="17"/>
                </a:lnTo>
                <a:lnTo>
                  <a:pt x="11" y="16"/>
                </a:lnTo>
                <a:lnTo>
                  <a:pt x="15" y="16"/>
                </a:lnTo>
                <a:lnTo>
                  <a:pt x="17" y="10"/>
                </a:lnTo>
                <a:lnTo>
                  <a:pt x="16" y="6"/>
                </a:lnTo>
                <a:lnTo>
                  <a:pt x="10" y="0"/>
                </a:lnTo>
                <a:lnTo>
                  <a:pt x="1" y="1"/>
                </a:lnTo>
                <a:lnTo>
                  <a:pt x="0" y="6"/>
                </a:lnTo>
                <a:lnTo>
                  <a:pt x="0" y="15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649920" y="4557600"/>
            <a:ext cx="17640" cy="1908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19"/>
                </a:moveTo>
                <a:lnTo>
                  <a:pt x="4" y="21"/>
                </a:lnTo>
                <a:lnTo>
                  <a:pt x="11" y="20"/>
                </a:lnTo>
                <a:lnTo>
                  <a:pt x="15" y="19"/>
                </a:lnTo>
                <a:lnTo>
                  <a:pt x="17" y="13"/>
                </a:lnTo>
                <a:lnTo>
                  <a:pt x="16" y="9"/>
                </a:lnTo>
                <a:lnTo>
                  <a:pt x="10" y="0"/>
                </a:lnTo>
                <a:lnTo>
                  <a:pt x="1" y="0"/>
                </a:lnTo>
                <a:lnTo>
                  <a:pt x="0" y="9"/>
                </a:lnTo>
                <a:lnTo>
                  <a:pt x="0" y="19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648480" y="4443480"/>
            <a:ext cx="15840" cy="20520"/>
          </a:xfrm>
          <a:custGeom>
            <a:avLst/>
            <a:gdLst/>
            <a:ahLst/>
            <a:rect l="l" t="t" r="r" b="b"/>
            <a:pathLst>
              <a:path w="16" h="21">
                <a:moveTo>
                  <a:pt x="0" y="18"/>
                </a:moveTo>
                <a:lnTo>
                  <a:pt x="4" y="21"/>
                </a:lnTo>
                <a:lnTo>
                  <a:pt x="9" y="21"/>
                </a:lnTo>
                <a:lnTo>
                  <a:pt x="15" y="20"/>
                </a:lnTo>
                <a:lnTo>
                  <a:pt x="16" y="14"/>
                </a:lnTo>
                <a:lnTo>
                  <a:pt x="16" y="9"/>
                </a:lnTo>
                <a:lnTo>
                  <a:pt x="9" y="0"/>
                </a:lnTo>
                <a:lnTo>
                  <a:pt x="1" y="1"/>
                </a:lnTo>
                <a:lnTo>
                  <a:pt x="0" y="9"/>
                </a:lnTo>
                <a:lnTo>
                  <a:pt x="0" y="18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73680" y="4489560"/>
            <a:ext cx="19080" cy="20520"/>
          </a:xfrm>
          <a:custGeom>
            <a:avLst/>
            <a:gdLst/>
            <a:ahLst/>
            <a:rect l="l" t="t" r="r" b="b"/>
            <a:pathLst>
              <a:path w="19" h="22">
                <a:moveTo>
                  <a:pt x="0" y="19"/>
                </a:moveTo>
                <a:lnTo>
                  <a:pt x="9" y="22"/>
                </a:lnTo>
                <a:lnTo>
                  <a:pt x="16" y="19"/>
                </a:lnTo>
                <a:lnTo>
                  <a:pt x="18" y="16"/>
                </a:lnTo>
                <a:lnTo>
                  <a:pt x="19" y="7"/>
                </a:lnTo>
                <a:lnTo>
                  <a:pt x="18" y="0"/>
                </a:lnTo>
                <a:lnTo>
                  <a:pt x="6" y="3"/>
                </a:lnTo>
                <a:lnTo>
                  <a:pt x="0" y="9"/>
                </a:lnTo>
                <a:lnTo>
                  <a:pt x="0" y="19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661080" y="4622760"/>
            <a:ext cx="19080" cy="22320"/>
          </a:xfrm>
          <a:custGeom>
            <a:avLst/>
            <a:gdLst/>
            <a:ahLst/>
            <a:rect l="l" t="t" r="r" b="b"/>
            <a:pathLst>
              <a:path w="19" h="22">
                <a:moveTo>
                  <a:pt x="0" y="19"/>
                </a:moveTo>
                <a:lnTo>
                  <a:pt x="8" y="22"/>
                </a:lnTo>
                <a:lnTo>
                  <a:pt x="16" y="19"/>
                </a:lnTo>
                <a:lnTo>
                  <a:pt x="18" y="16"/>
                </a:lnTo>
                <a:lnTo>
                  <a:pt x="19" y="8"/>
                </a:lnTo>
                <a:lnTo>
                  <a:pt x="18" y="0"/>
                </a:lnTo>
                <a:lnTo>
                  <a:pt x="6" y="3"/>
                </a:lnTo>
                <a:lnTo>
                  <a:pt x="0" y="9"/>
                </a:lnTo>
                <a:lnTo>
                  <a:pt x="0" y="19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621480" y="4495680"/>
            <a:ext cx="17280" cy="20880"/>
          </a:xfrm>
          <a:custGeom>
            <a:avLst/>
            <a:gdLst/>
            <a:ahLst/>
            <a:rect l="l" t="t" r="r" b="b"/>
            <a:pathLst>
              <a:path w="19" h="22">
                <a:moveTo>
                  <a:pt x="0" y="20"/>
                </a:moveTo>
                <a:lnTo>
                  <a:pt x="9" y="22"/>
                </a:lnTo>
                <a:lnTo>
                  <a:pt x="17" y="20"/>
                </a:lnTo>
                <a:lnTo>
                  <a:pt x="18" y="17"/>
                </a:lnTo>
                <a:lnTo>
                  <a:pt x="19" y="8"/>
                </a:lnTo>
                <a:lnTo>
                  <a:pt x="19" y="0"/>
                </a:lnTo>
                <a:lnTo>
                  <a:pt x="7" y="4"/>
                </a:lnTo>
                <a:lnTo>
                  <a:pt x="0" y="9"/>
                </a:lnTo>
                <a:lnTo>
                  <a:pt x="0" y="20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502400" y="4249800"/>
            <a:ext cx="233640" cy="158760"/>
          </a:xfrm>
          <a:custGeom>
            <a:avLst/>
            <a:gdLst/>
            <a:ahLst/>
            <a:rect l="l" t="t" r="r" b="b"/>
            <a:pathLst>
              <a:path w="241" h="163">
                <a:moveTo>
                  <a:pt x="0" y="139"/>
                </a:moveTo>
                <a:lnTo>
                  <a:pt x="22" y="162"/>
                </a:lnTo>
                <a:lnTo>
                  <a:pt x="30" y="163"/>
                </a:lnTo>
                <a:lnTo>
                  <a:pt x="36" y="154"/>
                </a:lnTo>
                <a:lnTo>
                  <a:pt x="57" y="149"/>
                </a:lnTo>
                <a:lnTo>
                  <a:pt x="67" y="143"/>
                </a:lnTo>
                <a:lnTo>
                  <a:pt x="74" y="137"/>
                </a:lnTo>
                <a:lnTo>
                  <a:pt x="110" y="137"/>
                </a:lnTo>
                <a:lnTo>
                  <a:pt x="125" y="130"/>
                </a:lnTo>
                <a:lnTo>
                  <a:pt x="125" y="118"/>
                </a:lnTo>
                <a:lnTo>
                  <a:pt x="144" y="98"/>
                </a:lnTo>
                <a:lnTo>
                  <a:pt x="146" y="91"/>
                </a:lnTo>
                <a:lnTo>
                  <a:pt x="158" y="79"/>
                </a:lnTo>
                <a:lnTo>
                  <a:pt x="159" y="65"/>
                </a:lnTo>
                <a:lnTo>
                  <a:pt x="198" y="65"/>
                </a:lnTo>
                <a:lnTo>
                  <a:pt x="215" y="60"/>
                </a:lnTo>
                <a:lnTo>
                  <a:pt x="218" y="48"/>
                </a:lnTo>
                <a:lnTo>
                  <a:pt x="234" y="43"/>
                </a:lnTo>
                <a:lnTo>
                  <a:pt x="241" y="42"/>
                </a:lnTo>
                <a:lnTo>
                  <a:pt x="236" y="36"/>
                </a:lnTo>
                <a:lnTo>
                  <a:pt x="222" y="36"/>
                </a:lnTo>
                <a:lnTo>
                  <a:pt x="206" y="28"/>
                </a:lnTo>
                <a:lnTo>
                  <a:pt x="201" y="36"/>
                </a:lnTo>
                <a:lnTo>
                  <a:pt x="191" y="29"/>
                </a:lnTo>
                <a:lnTo>
                  <a:pt x="206" y="12"/>
                </a:lnTo>
                <a:lnTo>
                  <a:pt x="191" y="0"/>
                </a:lnTo>
                <a:lnTo>
                  <a:pt x="172" y="11"/>
                </a:lnTo>
                <a:lnTo>
                  <a:pt x="164" y="26"/>
                </a:lnTo>
                <a:lnTo>
                  <a:pt x="150" y="42"/>
                </a:lnTo>
                <a:lnTo>
                  <a:pt x="138" y="54"/>
                </a:lnTo>
                <a:lnTo>
                  <a:pt x="120" y="57"/>
                </a:lnTo>
                <a:lnTo>
                  <a:pt x="112" y="64"/>
                </a:lnTo>
                <a:lnTo>
                  <a:pt x="97" y="81"/>
                </a:lnTo>
                <a:lnTo>
                  <a:pt x="94" y="91"/>
                </a:lnTo>
                <a:lnTo>
                  <a:pt x="79" y="97"/>
                </a:lnTo>
                <a:lnTo>
                  <a:pt x="62" y="97"/>
                </a:lnTo>
                <a:lnTo>
                  <a:pt x="53" y="106"/>
                </a:lnTo>
                <a:lnTo>
                  <a:pt x="53" y="124"/>
                </a:lnTo>
                <a:lnTo>
                  <a:pt x="41" y="130"/>
                </a:lnTo>
                <a:lnTo>
                  <a:pt x="41" y="137"/>
                </a:lnTo>
                <a:lnTo>
                  <a:pt x="15" y="137"/>
                </a:lnTo>
                <a:lnTo>
                  <a:pt x="15" y="130"/>
                </a:lnTo>
                <a:lnTo>
                  <a:pt x="0" y="124"/>
                </a:lnTo>
                <a:lnTo>
                  <a:pt x="0" y="139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89800" y="4311720"/>
            <a:ext cx="241200" cy="198360"/>
          </a:xfrm>
          <a:custGeom>
            <a:avLst/>
            <a:gdLst/>
            <a:ahLst/>
            <a:rect l="l" t="t" r="r" b="b"/>
            <a:pathLst>
              <a:path w="248" h="207">
                <a:moveTo>
                  <a:pt x="13" y="76"/>
                </a:moveTo>
                <a:lnTo>
                  <a:pt x="35" y="99"/>
                </a:lnTo>
                <a:lnTo>
                  <a:pt x="41" y="99"/>
                </a:lnTo>
                <a:lnTo>
                  <a:pt x="48" y="89"/>
                </a:lnTo>
                <a:lnTo>
                  <a:pt x="67" y="85"/>
                </a:lnTo>
                <a:lnTo>
                  <a:pt x="79" y="80"/>
                </a:lnTo>
                <a:lnTo>
                  <a:pt x="86" y="72"/>
                </a:lnTo>
                <a:lnTo>
                  <a:pt x="122" y="73"/>
                </a:lnTo>
                <a:lnTo>
                  <a:pt x="135" y="67"/>
                </a:lnTo>
                <a:lnTo>
                  <a:pt x="135" y="53"/>
                </a:lnTo>
                <a:lnTo>
                  <a:pt x="154" y="34"/>
                </a:lnTo>
                <a:lnTo>
                  <a:pt x="158" y="25"/>
                </a:lnTo>
                <a:lnTo>
                  <a:pt x="169" y="15"/>
                </a:lnTo>
                <a:lnTo>
                  <a:pt x="169" y="0"/>
                </a:lnTo>
                <a:lnTo>
                  <a:pt x="209" y="0"/>
                </a:lnTo>
                <a:lnTo>
                  <a:pt x="210" y="9"/>
                </a:lnTo>
                <a:lnTo>
                  <a:pt x="214" y="15"/>
                </a:lnTo>
                <a:lnTo>
                  <a:pt x="215" y="22"/>
                </a:lnTo>
                <a:lnTo>
                  <a:pt x="209" y="28"/>
                </a:lnTo>
                <a:lnTo>
                  <a:pt x="215" y="37"/>
                </a:lnTo>
                <a:lnTo>
                  <a:pt x="215" y="54"/>
                </a:lnTo>
                <a:lnTo>
                  <a:pt x="232" y="69"/>
                </a:lnTo>
                <a:lnTo>
                  <a:pt x="239" y="73"/>
                </a:lnTo>
                <a:lnTo>
                  <a:pt x="248" y="80"/>
                </a:lnTo>
                <a:lnTo>
                  <a:pt x="243" y="80"/>
                </a:lnTo>
                <a:lnTo>
                  <a:pt x="226" y="88"/>
                </a:lnTo>
                <a:lnTo>
                  <a:pt x="211" y="105"/>
                </a:lnTo>
                <a:lnTo>
                  <a:pt x="215" y="126"/>
                </a:lnTo>
                <a:lnTo>
                  <a:pt x="202" y="125"/>
                </a:lnTo>
                <a:lnTo>
                  <a:pt x="189" y="139"/>
                </a:lnTo>
                <a:lnTo>
                  <a:pt x="188" y="163"/>
                </a:lnTo>
                <a:lnTo>
                  <a:pt x="168" y="199"/>
                </a:lnTo>
                <a:lnTo>
                  <a:pt x="146" y="207"/>
                </a:lnTo>
                <a:lnTo>
                  <a:pt x="145" y="200"/>
                </a:lnTo>
                <a:lnTo>
                  <a:pt x="137" y="190"/>
                </a:lnTo>
                <a:lnTo>
                  <a:pt x="123" y="189"/>
                </a:lnTo>
                <a:lnTo>
                  <a:pt x="113" y="186"/>
                </a:lnTo>
                <a:lnTo>
                  <a:pt x="104" y="189"/>
                </a:lnTo>
                <a:lnTo>
                  <a:pt x="96" y="199"/>
                </a:lnTo>
                <a:lnTo>
                  <a:pt x="71" y="198"/>
                </a:lnTo>
                <a:lnTo>
                  <a:pt x="58" y="186"/>
                </a:lnTo>
                <a:lnTo>
                  <a:pt x="40" y="185"/>
                </a:lnTo>
                <a:lnTo>
                  <a:pt x="35" y="176"/>
                </a:lnTo>
                <a:lnTo>
                  <a:pt x="35" y="166"/>
                </a:lnTo>
                <a:lnTo>
                  <a:pt x="27" y="164"/>
                </a:lnTo>
                <a:lnTo>
                  <a:pt x="34" y="151"/>
                </a:lnTo>
                <a:lnTo>
                  <a:pt x="27" y="138"/>
                </a:lnTo>
                <a:lnTo>
                  <a:pt x="20" y="148"/>
                </a:lnTo>
                <a:lnTo>
                  <a:pt x="10" y="133"/>
                </a:lnTo>
                <a:lnTo>
                  <a:pt x="3" y="125"/>
                </a:lnTo>
                <a:lnTo>
                  <a:pt x="0" y="115"/>
                </a:lnTo>
                <a:lnTo>
                  <a:pt x="1" y="79"/>
                </a:lnTo>
                <a:lnTo>
                  <a:pt x="8" y="71"/>
                </a:lnTo>
                <a:lnTo>
                  <a:pt x="13" y="76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580160" y="4297320"/>
            <a:ext cx="38160" cy="34920"/>
          </a:xfrm>
          <a:custGeom>
            <a:avLst/>
            <a:gdLst/>
            <a:ahLst/>
            <a:rect l="l" t="t" r="r" b="b"/>
            <a:pathLst>
              <a:path w="42" h="36">
                <a:moveTo>
                  <a:pt x="42" y="7"/>
                </a:moveTo>
                <a:lnTo>
                  <a:pt x="26" y="0"/>
                </a:lnTo>
                <a:lnTo>
                  <a:pt x="9" y="6"/>
                </a:lnTo>
                <a:lnTo>
                  <a:pt x="0" y="17"/>
                </a:lnTo>
                <a:lnTo>
                  <a:pt x="4" y="29"/>
                </a:lnTo>
                <a:lnTo>
                  <a:pt x="17" y="36"/>
                </a:lnTo>
                <a:lnTo>
                  <a:pt x="42" y="7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394400" y="4406760"/>
            <a:ext cx="16200" cy="190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2"/>
                </a:moveTo>
                <a:lnTo>
                  <a:pt x="8" y="0"/>
                </a:lnTo>
                <a:lnTo>
                  <a:pt x="12" y="2"/>
                </a:lnTo>
                <a:lnTo>
                  <a:pt x="15" y="5"/>
                </a:lnTo>
                <a:lnTo>
                  <a:pt x="15" y="13"/>
                </a:lnTo>
                <a:lnTo>
                  <a:pt x="15" y="20"/>
                </a:lnTo>
                <a:lnTo>
                  <a:pt x="5" y="17"/>
                </a:lnTo>
                <a:lnTo>
                  <a:pt x="0" y="12"/>
                </a:lnTo>
                <a:lnTo>
                  <a:pt x="0" y="2"/>
                </a:lnTo>
                <a:close/>
              </a:path>
            </a:pathLst>
          </a:custGeom>
          <a:solidFill>
            <a:srgbClr val="9966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7964640" y="4443480"/>
            <a:ext cx="664560" cy="236520"/>
            <a:chOff x="7964640" y="4443480"/>
            <a:chExt cx="664560" cy="236520"/>
          </a:xfrm>
        </p:grpSpPr>
        <p:sp>
          <p:nvSpPr>
            <p:cNvPr id="471" name=""/>
            <p:cNvSpPr/>
            <p:nvPr/>
          </p:nvSpPr>
          <p:spPr>
            <a:xfrm>
              <a:off x="7964640" y="4443480"/>
              <a:ext cx="545760" cy="236520"/>
            </a:xfrm>
            <a:custGeom>
              <a:avLst/>
              <a:gdLst/>
              <a:ahLst/>
              <a:rect l="l" t="t" r="r" b="b"/>
              <a:pathLst>
                <a:path w="632" h="298">
                  <a:moveTo>
                    <a:pt x="0" y="0"/>
                  </a:moveTo>
                  <a:lnTo>
                    <a:pt x="60" y="2"/>
                  </a:lnTo>
                  <a:lnTo>
                    <a:pt x="107" y="5"/>
                  </a:lnTo>
                  <a:lnTo>
                    <a:pt x="124" y="49"/>
                  </a:lnTo>
                  <a:lnTo>
                    <a:pt x="129" y="64"/>
                  </a:lnTo>
                  <a:lnTo>
                    <a:pt x="133" y="71"/>
                  </a:lnTo>
                  <a:lnTo>
                    <a:pt x="154" y="60"/>
                  </a:lnTo>
                  <a:lnTo>
                    <a:pt x="173" y="60"/>
                  </a:lnTo>
                  <a:lnTo>
                    <a:pt x="186" y="71"/>
                  </a:lnTo>
                  <a:lnTo>
                    <a:pt x="197" y="65"/>
                  </a:lnTo>
                  <a:lnTo>
                    <a:pt x="216" y="49"/>
                  </a:lnTo>
                  <a:lnTo>
                    <a:pt x="220" y="49"/>
                  </a:lnTo>
                  <a:lnTo>
                    <a:pt x="240" y="37"/>
                  </a:lnTo>
                  <a:lnTo>
                    <a:pt x="257" y="37"/>
                  </a:lnTo>
                  <a:lnTo>
                    <a:pt x="311" y="60"/>
                  </a:lnTo>
                  <a:lnTo>
                    <a:pt x="340" y="60"/>
                  </a:lnTo>
                  <a:lnTo>
                    <a:pt x="362" y="79"/>
                  </a:lnTo>
                  <a:lnTo>
                    <a:pt x="388" y="84"/>
                  </a:lnTo>
                  <a:lnTo>
                    <a:pt x="405" y="97"/>
                  </a:lnTo>
                  <a:lnTo>
                    <a:pt x="428" y="101"/>
                  </a:lnTo>
                  <a:lnTo>
                    <a:pt x="473" y="114"/>
                  </a:lnTo>
                  <a:lnTo>
                    <a:pt x="495" y="139"/>
                  </a:lnTo>
                  <a:lnTo>
                    <a:pt x="501" y="154"/>
                  </a:lnTo>
                  <a:lnTo>
                    <a:pt x="497" y="161"/>
                  </a:lnTo>
                  <a:lnTo>
                    <a:pt x="520" y="174"/>
                  </a:lnTo>
                  <a:lnTo>
                    <a:pt x="533" y="178"/>
                  </a:lnTo>
                  <a:lnTo>
                    <a:pt x="539" y="184"/>
                  </a:lnTo>
                  <a:lnTo>
                    <a:pt x="559" y="186"/>
                  </a:lnTo>
                  <a:lnTo>
                    <a:pt x="585" y="208"/>
                  </a:lnTo>
                  <a:lnTo>
                    <a:pt x="585" y="221"/>
                  </a:lnTo>
                  <a:lnTo>
                    <a:pt x="604" y="236"/>
                  </a:lnTo>
                  <a:lnTo>
                    <a:pt x="608" y="244"/>
                  </a:lnTo>
                  <a:lnTo>
                    <a:pt x="632" y="270"/>
                  </a:lnTo>
                  <a:lnTo>
                    <a:pt x="610" y="298"/>
                  </a:lnTo>
                  <a:lnTo>
                    <a:pt x="604" y="298"/>
                  </a:lnTo>
                  <a:lnTo>
                    <a:pt x="584" y="298"/>
                  </a:lnTo>
                  <a:lnTo>
                    <a:pt x="574" y="285"/>
                  </a:lnTo>
                  <a:lnTo>
                    <a:pt x="563" y="285"/>
                  </a:lnTo>
                  <a:lnTo>
                    <a:pt x="554" y="287"/>
                  </a:lnTo>
                  <a:lnTo>
                    <a:pt x="497" y="232"/>
                  </a:lnTo>
                  <a:lnTo>
                    <a:pt x="471" y="236"/>
                  </a:lnTo>
                  <a:lnTo>
                    <a:pt x="437" y="232"/>
                  </a:lnTo>
                  <a:lnTo>
                    <a:pt x="428" y="238"/>
                  </a:lnTo>
                  <a:lnTo>
                    <a:pt x="413" y="249"/>
                  </a:lnTo>
                  <a:lnTo>
                    <a:pt x="411" y="244"/>
                  </a:lnTo>
                  <a:lnTo>
                    <a:pt x="400" y="262"/>
                  </a:lnTo>
                  <a:lnTo>
                    <a:pt x="377" y="285"/>
                  </a:lnTo>
                  <a:lnTo>
                    <a:pt x="357" y="274"/>
                  </a:lnTo>
                  <a:lnTo>
                    <a:pt x="340" y="268"/>
                  </a:lnTo>
                  <a:lnTo>
                    <a:pt x="321" y="268"/>
                  </a:lnTo>
                  <a:lnTo>
                    <a:pt x="304" y="262"/>
                  </a:lnTo>
                  <a:lnTo>
                    <a:pt x="293" y="268"/>
                  </a:lnTo>
                  <a:lnTo>
                    <a:pt x="276" y="232"/>
                  </a:lnTo>
                  <a:lnTo>
                    <a:pt x="255" y="201"/>
                  </a:lnTo>
                  <a:lnTo>
                    <a:pt x="227" y="161"/>
                  </a:lnTo>
                  <a:lnTo>
                    <a:pt x="208" y="139"/>
                  </a:lnTo>
                  <a:lnTo>
                    <a:pt x="186" y="120"/>
                  </a:lnTo>
                  <a:lnTo>
                    <a:pt x="154" y="120"/>
                  </a:lnTo>
                  <a:lnTo>
                    <a:pt x="118" y="129"/>
                  </a:lnTo>
                  <a:lnTo>
                    <a:pt x="96" y="114"/>
                  </a:lnTo>
                  <a:lnTo>
                    <a:pt x="64" y="103"/>
                  </a:lnTo>
                  <a:lnTo>
                    <a:pt x="43" y="95"/>
                  </a:lnTo>
                  <a:lnTo>
                    <a:pt x="43" y="52"/>
                  </a:lnTo>
                  <a:lnTo>
                    <a:pt x="4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488080" y="4491000"/>
              <a:ext cx="141120" cy="98280"/>
            </a:xfrm>
            <a:custGeom>
              <a:avLst/>
              <a:gdLst/>
              <a:ahLst/>
              <a:rect l="l" t="t" r="r" b="b"/>
              <a:pathLst>
                <a:path w="163" h="124">
                  <a:moveTo>
                    <a:pt x="26" y="43"/>
                  </a:moveTo>
                  <a:lnTo>
                    <a:pt x="0" y="99"/>
                  </a:lnTo>
                  <a:lnTo>
                    <a:pt x="11" y="118"/>
                  </a:lnTo>
                  <a:lnTo>
                    <a:pt x="54" y="124"/>
                  </a:lnTo>
                  <a:lnTo>
                    <a:pt x="96" y="124"/>
                  </a:lnTo>
                  <a:lnTo>
                    <a:pt x="109" y="101"/>
                  </a:lnTo>
                  <a:lnTo>
                    <a:pt x="120" y="79"/>
                  </a:lnTo>
                  <a:lnTo>
                    <a:pt x="163" y="79"/>
                  </a:lnTo>
                  <a:lnTo>
                    <a:pt x="156" y="49"/>
                  </a:lnTo>
                  <a:lnTo>
                    <a:pt x="156" y="19"/>
                  </a:lnTo>
                  <a:lnTo>
                    <a:pt x="113" y="0"/>
                  </a:lnTo>
                  <a:lnTo>
                    <a:pt x="103" y="35"/>
                  </a:lnTo>
                  <a:lnTo>
                    <a:pt x="133" y="54"/>
                  </a:lnTo>
                  <a:lnTo>
                    <a:pt x="90" y="54"/>
                  </a:lnTo>
                  <a:lnTo>
                    <a:pt x="79" y="69"/>
                  </a:lnTo>
                  <a:lnTo>
                    <a:pt x="26" y="43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retaría Técnica del Premio Nacional a la Calidad para el Sector Públic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6" name="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5470560" cy="3504960"/>
          </a:xfrm>
          <a:prstGeom prst="rect">
            <a:avLst/>
          </a:prstGeom>
          <a:ln w="0">
            <a:noFill/>
          </a:ln>
        </p:spPr>
      </p:pic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2952360" y="3869640"/>
            <a:ext cx="46594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6633"/>
                </a:solidFill>
                <a:latin typeface="Times New Roman"/>
              </a:rPr>
              <a:t>http://www.sfp.gov.ar</a:t>
            </a:r>
            <a:br>
              <a:rPr sz="4000"/>
            </a:br>
            <a:r>
              <a:rPr b="0" lang="es-ES_tradnl" sz="4000" spc="-1" strike="noStrike">
                <a:solidFill>
                  <a:srgbClr val="996633"/>
                </a:solidFill>
                <a:latin typeface="Times New Roman"/>
              </a:rPr>
              <a:t>pcalidad@sfp.gov.ar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549160" y="5241240"/>
            <a:ext cx="705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6633"/>
                </a:solidFill>
                <a:latin typeface="Times New Roman"/>
              </a:rPr>
              <a:t>http://www.premiocalidad.com.ar</a:t>
            </a:r>
            <a:br>
              <a:rPr sz="4000"/>
            </a:br>
            <a:r>
              <a:rPr b="0" lang="es-ES_tradnl" sz="4000" spc="-1" strike="noStrike">
                <a:solidFill>
                  <a:srgbClr val="996633"/>
                </a:solidFill>
                <a:latin typeface="Times New Roman"/>
              </a:rPr>
              <a:t>fpnc@mail.mya.com.ar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89" name="PRIVADO" descr=""/>
          <p:cNvPicPr/>
          <p:nvPr/>
        </p:nvPicPr>
        <p:blipFill>
          <a:blip r:embed="rId2"/>
          <a:stretch/>
        </p:blipFill>
        <p:spPr>
          <a:xfrm>
            <a:off x="1447920" y="5432400"/>
            <a:ext cx="866520" cy="968400"/>
          </a:xfrm>
          <a:prstGeom prst="rect">
            <a:avLst/>
          </a:prstGeom>
          <a:ln w="0">
            <a:noFill/>
          </a:ln>
        </p:spPr>
      </p:pic>
      <p:pic>
        <p:nvPicPr>
          <p:cNvPr id="1290" name="PREMIO" descr=""/>
          <p:cNvPicPr/>
          <p:nvPr/>
        </p:nvPicPr>
        <p:blipFill>
          <a:blip r:embed="rId3"/>
          <a:stretch/>
        </p:blipFill>
        <p:spPr>
          <a:xfrm>
            <a:off x="1498680" y="3886200"/>
            <a:ext cx="787320" cy="1371600"/>
          </a:xfrm>
          <a:prstGeom prst="rect">
            <a:avLst/>
          </a:prstGeom>
          <a:ln w="0">
            <a:noFill/>
          </a:ln>
        </p:spPr>
      </p:pic>
      <p:sp>
        <p:nvSpPr>
          <p:cNvPr id="1291" name=""/>
          <p:cNvSpPr/>
          <p:nvPr/>
        </p:nvSpPr>
        <p:spPr>
          <a:xfrm>
            <a:off x="1498680" y="3870360"/>
            <a:ext cx="787320" cy="1387440"/>
          </a:xfrm>
          <a:prstGeom prst="rect">
            <a:avLst/>
          </a:pr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447920" y="5432400"/>
            <a:ext cx="866520" cy="968400"/>
          </a:xfrm>
          <a:prstGeom prst="rect">
            <a:avLst/>
          </a:pr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9080" y="15840"/>
            <a:ext cx="1981080" cy="951120"/>
          </a:xfrm>
          <a:prstGeom prst="rect">
            <a:avLst/>
          </a:prstGeom>
          <a:solidFill>
            <a:srgbClr val="fcfdc6"/>
          </a:solidFill>
          <a:ln w="1260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mio Nacional a la Calidad: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061040" y="577800"/>
            <a:ext cx="0" cy="5580000"/>
          </a:xfrm>
          <a:prstGeom prst="line">
            <a:avLst/>
          </a:prstGeom>
          <a:ln w="38160">
            <a:solidFill>
              <a:srgbClr val="ff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19840" y="2441520"/>
            <a:ext cx="0" cy="188928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13320" y="1355760"/>
            <a:ext cx="0" cy="4782960"/>
          </a:xfrm>
          <a:prstGeom prst="line">
            <a:avLst/>
          </a:prstGeom>
          <a:ln w="38160">
            <a:solidFill>
              <a:srgbClr val="ff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2422440"/>
            <a:ext cx="0" cy="190512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866960" y="2422440"/>
            <a:ext cx="4933800" cy="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924440" y="2544840"/>
            <a:ext cx="0" cy="117324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267080" y="2955960"/>
            <a:ext cx="0" cy="137160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0" y="3718080"/>
            <a:ext cx="1066680" cy="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94320" y="3718080"/>
            <a:ext cx="0" cy="6094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38680" y="3718080"/>
            <a:ext cx="0" cy="85392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927920" y="1227240"/>
            <a:ext cx="6480" cy="365112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26560" y="5389560"/>
            <a:ext cx="2444040" cy="641520"/>
          </a:xfrm>
          <a:prstGeom prst="rect">
            <a:avLst/>
          </a:prstGeom>
          <a:solidFill>
            <a:srgbClr val="ff9900"/>
          </a:solidFill>
          <a:ln w="9360">
            <a:solidFill>
              <a:srgbClr val="fb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bfae2"/>
                </a:solidFill>
                <a:latin typeface="Arial"/>
              </a:rPr>
              <a:t>SISTEMA NACIONAL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bfae2"/>
                </a:solidFill>
                <a:latin typeface="Arial"/>
              </a:rPr>
              <a:t>DE NORMAS Y ACREDITAC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bfae2"/>
                </a:solidFill>
                <a:latin typeface="Arial"/>
              </a:rPr>
              <a:t>(ARGENTINA - 1995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271040" y="2575080"/>
            <a:ext cx="127656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fb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BALDRIDGE 87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091120" y="4765680"/>
            <a:ext cx="1776240" cy="459000"/>
          </a:xfrm>
          <a:prstGeom prst="rect">
            <a:avLst/>
          </a:prstGeom>
          <a:solidFill>
            <a:srgbClr val="ffccff"/>
          </a:solidFill>
          <a:ln w="9360">
            <a:solidFill>
              <a:srgbClr val="fb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EUROPEAN QUALITY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AWARD 9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61720" y="2575080"/>
            <a:ext cx="136944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fb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PRESIDENTE 87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148760" y="2422440"/>
            <a:ext cx="1458000" cy="3578760"/>
            <a:chOff x="1148760" y="2422440"/>
            <a:chExt cx="1458000" cy="3578760"/>
          </a:xfrm>
        </p:grpSpPr>
        <p:sp>
          <p:nvSpPr>
            <p:cNvPr id="490" name=""/>
            <p:cNvSpPr/>
            <p:nvPr/>
          </p:nvSpPr>
          <p:spPr>
            <a:xfrm>
              <a:off x="1877760" y="2422440"/>
              <a:ext cx="0" cy="3375000"/>
            </a:xfrm>
            <a:prstGeom prst="line">
              <a:avLst/>
            </a:prstGeom>
            <a:ln w="28440">
              <a:solidFill>
                <a:srgbClr val="fb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159920" y="3632400"/>
              <a:ext cx="1434960" cy="4590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b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2000"/>
                  </a:solidFill>
                  <a:latin typeface="Arial"/>
                </a:rPr>
                <a:t>BRITANICO 91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2000"/>
                  </a:solidFill>
                  <a:latin typeface="Arial"/>
                </a:rPr>
                <a:t>(SERVICE FIRST)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48760" y="4915440"/>
              <a:ext cx="1458000" cy="4590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b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2000"/>
                  </a:solidFill>
                  <a:latin typeface="Arial"/>
                </a:rPr>
                <a:t>BRITANICO 95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2000"/>
                  </a:solidFill>
                  <a:latin typeface="Arial"/>
                </a:rPr>
                <a:t>(CHARTERMARK)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94200" y="5542200"/>
              <a:ext cx="1166760" cy="4590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b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2000"/>
                  </a:solidFill>
                  <a:latin typeface="Arial"/>
                </a:rPr>
                <a:t>(INVESTORS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2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402000"/>
                  </a:solidFill>
                  <a:latin typeface="Arial"/>
                </a:rPr>
                <a:t>IN  PEOPLE)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5192280" y="5659560"/>
            <a:ext cx="84384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fb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CHILE 9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13840" y="3032280"/>
            <a:ext cx="93816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fb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BRASIL 8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060880" y="3825720"/>
            <a:ext cx="115596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fb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URUGUAY 9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01080" y="3336840"/>
            <a:ext cx="97020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fb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MEJICO 9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12920" y="4327560"/>
            <a:ext cx="2684520" cy="459000"/>
          </a:xfrm>
          <a:prstGeom prst="rect">
            <a:avLst/>
          </a:prstGeom>
          <a:solidFill>
            <a:srgbClr val="ff9900"/>
          </a:solidFill>
          <a:ln w="9360">
            <a:solidFill>
              <a:srgbClr val="fb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bfae2"/>
                </a:solidFill>
                <a:latin typeface="Arial"/>
              </a:rPr>
              <a:t>PREMIO NACIONAL A LA CALIDAD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bfae2"/>
                </a:solidFill>
                <a:latin typeface="Arial"/>
              </a:rPr>
              <a:t>ARGENTINA (1992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613320" y="584280"/>
            <a:ext cx="4300920" cy="365040"/>
            <a:chOff x="3613320" y="584280"/>
            <a:chExt cx="4300920" cy="365040"/>
          </a:xfrm>
        </p:grpSpPr>
        <p:sp>
          <p:nvSpPr>
            <p:cNvPr id="500" name=""/>
            <p:cNvSpPr/>
            <p:nvPr/>
          </p:nvSpPr>
          <p:spPr>
            <a:xfrm>
              <a:off x="3613320" y="766800"/>
              <a:ext cx="4300920" cy="0"/>
            </a:xfrm>
            <a:prstGeom prst="line">
              <a:avLst/>
            </a:prstGeom>
            <a:ln w="28440">
              <a:solidFill>
                <a:srgbClr val="cd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763600" y="584280"/>
              <a:ext cx="0" cy="182520"/>
            </a:xfrm>
            <a:prstGeom prst="line">
              <a:avLst/>
            </a:prstGeom>
            <a:ln w="28440">
              <a:solidFill>
                <a:srgbClr val="cd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613320" y="766800"/>
              <a:ext cx="0" cy="182520"/>
            </a:xfrm>
            <a:prstGeom prst="line">
              <a:avLst/>
            </a:prstGeom>
            <a:ln w="28440">
              <a:solidFill>
                <a:srgbClr val="cd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914240" y="766800"/>
              <a:ext cx="0" cy="182520"/>
            </a:xfrm>
            <a:prstGeom prst="line">
              <a:avLst/>
            </a:prstGeom>
            <a:ln w="28440">
              <a:solidFill>
                <a:srgbClr val="cd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6572520" y="888840"/>
            <a:ext cx="2709000" cy="459000"/>
          </a:xfrm>
          <a:prstGeom prst="rect">
            <a:avLst/>
          </a:prstGeom>
          <a:solidFill>
            <a:srgbClr val="66ff66"/>
          </a:solidFill>
          <a:ln w="93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NORMAS DE STANDARIZACION Y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ASEGURAMIENTO DE LA CALIDAD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017880" y="949320"/>
            <a:ext cx="1189080" cy="549000"/>
            <a:chOff x="3017880" y="949320"/>
            <a:chExt cx="1189080" cy="549000"/>
          </a:xfrm>
        </p:grpSpPr>
        <p:sp>
          <p:nvSpPr>
            <p:cNvPr id="506" name=""/>
            <p:cNvSpPr/>
            <p:nvPr/>
          </p:nvSpPr>
          <p:spPr>
            <a:xfrm>
              <a:off x="3017880" y="1223640"/>
              <a:ext cx="1189080" cy="0"/>
            </a:xfrm>
            <a:prstGeom prst="line">
              <a:avLst/>
            </a:prstGeom>
            <a:ln w="28440">
              <a:solidFill>
                <a:srgbClr val="cd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12240" y="949320"/>
              <a:ext cx="0" cy="274320"/>
            </a:xfrm>
            <a:prstGeom prst="line">
              <a:avLst/>
            </a:prstGeom>
            <a:ln w="28440">
              <a:solidFill>
                <a:srgbClr val="cd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017880" y="1223640"/>
              <a:ext cx="0" cy="274680"/>
            </a:xfrm>
            <a:prstGeom prst="line">
              <a:avLst/>
            </a:prstGeom>
            <a:ln w="28440">
              <a:solidFill>
                <a:srgbClr val="cd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206960" y="1223640"/>
              <a:ext cx="0" cy="274680"/>
            </a:xfrm>
            <a:prstGeom prst="line">
              <a:avLst/>
            </a:prstGeom>
            <a:ln w="28440">
              <a:solidFill>
                <a:srgbClr val="cd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2295360" y="888840"/>
            <a:ext cx="3065760" cy="276480"/>
          </a:xfrm>
          <a:prstGeom prst="rect">
            <a:avLst/>
          </a:prstGeom>
          <a:solidFill>
            <a:srgbClr val="66ff66"/>
          </a:solidFill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PREMIOS A LA CALIDAD EN EL MUNDO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627640" y="1316160"/>
            <a:ext cx="851400" cy="276480"/>
          </a:xfrm>
          <a:prstGeom prst="rect">
            <a:avLst/>
          </a:prstGeom>
          <a:solidFill>
            <a:srgbClr val="66ff66"/>
          </a:solidFill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PUBLICO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17440" y="1316160"/>
            <a:ext cx="867960" cy="276480"/>
          </a:xfrm>
          <a:prstGeom prst="rect">
            <a:avLst/>
          </a:prstGeom>
          <a:solidFill>
            <a:srgbClr val="66ff66"/>
          </a:solidFill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PRIVADO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27880" y="309600"/>
            <a:ext cx="2174040" cy="276480"/>
          </a:xfrm>
          <a:prstGeom prst="rect">
            <a:avLst/>
          </a:prstGeom>
          <a:solidFill>
            <a:srgbClr val="66ff66"/>
          </a:solidFill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LA CALIDAD EN EL MUNDO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733920" y="2971800"/>
            <a:ext cx="2379600" cy="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113520" y="2971800"/>
            <a:ext cx="0" cy="48744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924440" y="2270160"/>
            <a:ext cx="0" cy="27468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39440" y="2008080"/>
            <a:ext cx="117432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fb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DEMING 195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733920" y="2955960"/>
            <a:ext cx="0" cy="137160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876920" y="4556160"/>
            <a:ext cx="761760" cy="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567400" y="3336840"/>
            <a:ext cx="120024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fb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COLOMBIA 9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7967160" y="4843440"/>
            <a:ext cx="762120" cy="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7932240" y="3957480"/>
            <a:ext cx="762120" cy="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7903800" y="2936880"/>
            <a:ext cx="601560" cy="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7940160" y="2468520"/>
            <a:ext cx="615960" cy="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7904160" y="1969920"/>
            <a:ext cx="587520" cy="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112240" y="1851120"/>
            <a:ext cx="64080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fb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A. P. I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112600" y="2313000"/>
            <a:ext cx="69876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fb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D. I. N.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111880" y="2776680"/>
            <a:ext cx="74304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fb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. A. E.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120880" y="3735360"/>
            <a:ext cx="1018800" cy="459000"/>
          </a:xfrm>
          <a:prstGeom prst="rect">
            <a:avLst/>
          </a:prstGeom>
          <a:solidFill>
            <a:srgbClr val="ffccff"/>
          </a:solidFill>
          <a:ln w="9360">
            <a:solidFill>
              <a:srgbClr val="fb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BRITISH 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TANDARD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120880" y="4381560"/>
            <a:ext cx="1401480" cy="824040"/>
          </a:xfrm>
          <a:prstGeom prst="rect">
            <a:avLst/>
          </a:prstGeom>
          <a:solidFill>
            <a:srgbClr val="ffccff"/>
          </a:solidFill>
          <a:ln w="9360">
            <a:solidFill>
              <a:srgbClr val="fb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INTERNATIONAL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TANDARD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ORGANIZ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(1980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7932600" y="3403440"/>
            <a:ext cx="601920" cy="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132760" y="3243240"/>
            <a:ext cx="75996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fb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A. S. Q.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533" name="ar-t" descr=""/>
          <p:cNvPicPr/>
          <p:nvPr/>
        </p:nvPicPr>
        <p:blipFill>
          <a:blip r:embed="rId1"/>
          <a:stretch/>
        </p:blipFill>
        <p:spPr>
          <a:xfrm>
            <a:off x="8926560" y="6156360"/>
            <a:ext cx="628560" cy="419040"/>
          </a:xfrm>
          <a:prstGeom prst="rect">
            <a:avLst/>
          </a:prstGeom>
          <a:ln w="0">
            <a:noFill/>
          </a:ln>
        </p:spPr>
      </p:pic>
      <p:pic>
        <p:nvPicPr>
          <p:cNvPr id="534" name="PREMIO" descr=""/>
          <p:cNvPicPr/>
          <p:nvPr/>
        </p:nvPicPr>
        <p:blipFill>
          <a:blip r:embed="rId2"/>
          <a:stretch/>
        </p:blipFill>
        <p:spPr>
          <a:xfrm>
            <a:off x="2973240" y="4941720"/>
            <a:ext cx="317520" cy="659160"/>
          </a:xfrm>
          <a:prstGeom prst="rect">
            <a:avLst/>
          </a:prstGeom>
          <a:ln w="0">
            <a:noFill/>
          </a:ln>
        </p:spPr>
      </p:pic>
      <p:pic>
        <p:nvPicPr>
          <p:cNvPr id="535" name="PRIVADO" descr=""/>
          <p:cNvPicPr/>
          <p:nvPr/>
        </p:nvPicPr>
        <p:blipFill>
          <a:blip r:embed="rId3"/>
          <a:stretch/>
        </p:blipFill>
        <p:spPr>
          <a:xfrm>
            <a:off x="3917880" y="4930920"/>
            <a:ext cx="457200" cy="5094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5991120" y="4346640"/>
            <a:ext cx="838440" cy="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04080" y="4356000"/>
            <a:ext cx="0" cy="40032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053800" y="6230880"/>
            <a:ext cx="625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</a:rPr>
              <a:t>Secretaría Técnica del Premio Nacional a la Calidad para el Sector Públic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25640" y="-68760"/>
            <a:ext cx="664056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Administración del Premi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971800" y="1236600"/>
            <a:ext cx="1333440" cy="211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402000"/>
                </a:solidFill>
                <a:latin typeface="Arial"/>
              </a:rPr>
              <a:t>SECTOR PUBLICO</a:t>
            </a:r>
            <a:endParaRPr b="0" lang="en-US" sz="9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581960" y="1236600"/>
            <a:ext cx="1409760" cy="2113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402000"/>
                </a:solidFill>
                <a:latin typeface="Arial"/>
              </a:rPr>
              <a:t>SECTOR PRIVADO</a:t>
            </a:r>
            <a:endParaRPr b="0" lang="en-US" sz="9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514680" y="2144880"/>
            <a:ext cx="1285920" cy="5396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402000"/>
                </a:solidFill>
                <a:latin typeface="Arial"/>
              </a:rPr>
              <a:t>SUBSECRETARIA DE LA GESTION PUBLICA</a:t>
            </a:r>
            <a:endParaRPr b="0" lang="en-US" sz="9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201080" y="2144880"/>
            <a:ext cx="1234800" cy="5396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402000"/>
                </a:solidFill>
                <a:latin typeface="Arial"/>
              </a:rPr>
              <a:t>MINISTERIO</a:t>
            </a:r>
            <a:endParaRPr b="0" lang="en-US" sz="9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402000"/>
                </a:solidFill>
                <a:latin typeface="Arial"/>
              </a:rPr>
              <a:t>DE ECONOMIA </a:t>
            </a:r>
            <a:endParaRPr b="0" lang="en-US" sz="9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38400" y="3467160"/>
            <a:ext cx="2238480" cy="804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402000"/>
                </a:solidFill>
                <a:latin typeface="Arial"/>
              </a:rPr>
              <a:t>PNC SECTOR PUBLICO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2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mité Permanente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mité Consultivo 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cretaria Técnica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402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635880" y="3467160"/>
            <a:ext cx="2365200" cy="804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402000"/>
                </a:solidFill>
                <a:latin typeface="Arial"/>
              </a:rPr>
              <a:t>FUNDACIÓN PNC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samblea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ejo de Administración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0" lang="es-ES" sz="1000" spc="-1" strike="noStrike">
                <a:solidFill>
                  <a:srgbClr val="402000"/>
                </a:solidFill>
                <a:latin typeface="Arial"/>
              </a:rPr>
              <a:t>Comisión revisora de Cuentas 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irección Ejecutiva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826160" y="1219320"/>
            <a:ext cx="207612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2000"/>
                </a:solidFill>
                <a:latin typeface="Arial"/>
              </a:rPr>
              <a:t>PODER EJ ECUTIVO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973680" y="4394160"/>
            <a:ext cx="369720" cy="387360"/>
          </a:xfrm>
          <a:prstGeom prst="downArrow">
            <a:avLst>
              <a:gd name="adj1" fmla="val 50000"/>
              <a:gd name="adj2" fmla="val 26193"/>
            </a:avLst>
          </a:prstGeom>
          <a:solidFill>
            <a:srgbClr val="ccccff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634160" y="2743200"/>
            <a:ext cx="370080" cy="477720"/>
          </a:xfrm>
          <a:prstGeom prst="downArrow">
            <a:avLst>
              <a:gd name="adj1" fmla="val 50000"/>
              <a:gd name="adj2" fmla="val 32271"/>
            </a:avLst>
          </a:prstGeom>
          <a:solidFill>
            <a:srgbClr val="ff99ff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34160" y="4413240"/>
            <a:ext cx="370080" cy="387360"/>
          </a:xfrm>
          <a:prstGeom prst="downArrow">
            <a:avLst>
              <a:gd name="adj1" fmla="val 50000"/>
              <a:gd name="adj2" fmla="val 26167"/>
            </a:avLst>
          </a:prstGeom>
          <a:solidFill>
            <a:srgbClr val="ff99ff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71880" y="2743200"/>
            <a:ext cx="370080" cy="477720"/>
          </a:xfrm>
          <a:prstGeom prst="downArrow">
            <a:avLst>
              <a:gd name="adj1" fmla="val 50000"/>
              <a:gd name="adj2" fmla="val 32271"/>
            </a:avLst>
          </a:prstGeom>
          <a:solidFill>
            <a:srgbClr val="ccccff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049560" y="4960800"/>
            <a:ext cx="2214720" cy="1059120"/>
            <a:chOff x="3049560" y="4960800"/>
            <a:chExt cx="2214720" cy="1059120"/>
          </a:xfrm>
        </p:grpSpPr>
        <p:sp>
          <p:nvSpPr>
            <p:cNvPr id="552" name=""/>
            <p:cNvSpPr/>
            <p:nvPr/>
          </p:nvSpPr>
          <p:spPr>
            <a:xfrm>
              <a:off x="3049560" y="4960800"/>
              <a:ext cx="2214720" cy="1059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230640" y="5056200"/>
              <a:ext cx="1830240" cy="2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402000"/>
                  </a:solidFill>
                  <a:latin typeface="Arial"/>
                </a:rPr>
                <a:t>JUNTA DE EVALUACION</a:t>
              </a:r>
              <a:r>
                <a:rPr b="0" lang="es-ES" sz="1000" spc="-1" strike="noStrike">
                  <a:solidFill>
                    <a:srgbClr val="402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564000" y="5400720"/>
              <a:ext cx="116352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402000"/>
                  </a:solidFill>
                  <a:latin typeface="Arial"/>
                </a:rPr>
                <a:t>JUECES </a:t>
              </a:r>
              <a:endParaRPr b="0" lang="en-US" sz="1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38440" y="5695920"/>
              <a:ext cx="1216080" cy="19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402000"/>
                  </a:solidFill>
                  <a:latin typeface="Arial"/>
                </a:rPr>
                <a:t>EVALUADORES </a:t>
              </a:r>
              <a:endParaRPr b="0" lang="en-US" sz="1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749600" y="1693800"/>
            <a:ext cx="992160" cy="1441440"/>
            <a:chOff x="1749600" y="1693800"/>
            <a:chExt cx="992160" cy="1441440"/>
          </a:xfrm>
        </p:grpSpPr>
        <p:sp>
          <p:nvSpPr>
            <p:cNvPr id="557" name=""/>
            <p:cNvSpPr/>
            <p:nvPr/>
          </p:nvSpPr>
          <p:spPr>
            <a:xfrm>
              <a:off x="1751040" y="1693800"/>
              <a:ext cx="990720" cy="1441440"/>
            </a:xfrm>
            <a:prstGeom prst="rightArrowCallout">
              <a:avLst>
                <a:gd name="adj1" fmla="val 22756"/>
                <a:gd name="adj2" fmla="val 27718"/>
                <a:gd name="adj3" fmla="val 28204"/>
                <a:gd name="adj4" fmla="val 50319"/>
              </a:avLst>
            </a:prstGeom>
            <a:solidFill>
              <a:srgbClr val="66ffff"/>
            </a:solidFill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16200000">
              <a:off x="1283760" y="2197440"/>
              <a:ext cx="1390680" cy="45900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2000"/>
                  </a:solidFill>
                  <a:latin typeface="Arial"/>
                </a:rPr>
                <a:t>AUTORIDAD DE 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2000"/>
                  </a:solidFill>
                  <a:latin typeface="Arial"/>
                </a:rPr>
                <a:t>APLICACION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1749600" y="3327480"/>
            <a:ext cx="992160" cy="1441440"/>
            <a:chOff x="1749600" y="3327480"/>
            <a:chExt cx="992160" cy="1441440"/>
          </a:xfrm>
        </p:grpSpPr>
        <p:sp>
          <p:nvSpPr>
            <p:cNvPr id="560" name=""/>
            <p:cNvSpPr/>
            <p:nvPr/>
          </p:nvSpPr>
          <p:spPr>
            <a:xfrm>
              <a:off x="1751040" y="3327480"/>
              <a:ext cx="990720" cy="1441440"/>
            </a:xfrm>
            <a:prstGeom prst="rightArrowCallout">
              <a:avLst>
                <a:gd name="adj1" fmla="val 22756"/>
                <a:gd name="adj2" fmla="val 27718"/>
                <a:gd name="adj3" fmla="val 28204"/>
                <a:gd name="adj4" fmla="val 50319"/>
              </a:avLst>
            </a:prstGeom>
            <a:solidFill>
              <a:srgbClr val="ffff00"/>
            </a:solidFill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16200000">
              <a:off x="1294920" y="3827880"/>
              <a:ext cx="1368000" cy="459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2000"/>
                  </a:solidFill>
                  <a:latin typeface="Arial"/>
                </a:rPr>
                <a:t>RESPONSABLE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2000"/>
                  </a:solidFill>
                  <a:latin typeface="Arial"/>
                </a:rPr>
                <a:t>DE LA GESTION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749600" y="4978440"/>
            <a:ext cx="992160" cy="1441440"/>
            <a:chOff x="1749600" y="4978440"/>
            <a:chExt cx="992160" cy="1441440"/>
          </a:xfrm>
        </p:grpSpPr>
        <p:sp>
          <p:nvSpPr>
            <p:cNvPr id="563" name=""/>
            <p:cNvSpPr/>
            <p:nvPr/>
          </p:nvSpPr>
          <p:spPr>
            <a:xfrm>
              <a:off x="1751040" y="4978440"/>
              <a:ext cx="990720" cy="1441440"/>
            </a:xfrm>
            <a:prstGeom prst="rightArrowCallout">
              <a:avLst>
                <a:gd name="adj1" fmla="val 22756"/>
                <a:gd name="adj2" fmla="val 27718"/>
                <a:gd name="adj3" fmla="val 28204"/>
                <a:gd name="adj4" fmla="val 50319"/>
              </a:avLst>
            </a:prstGeom>
            <a:solidFill>
              <a:srgbClr val="00ff00"/>
            </a:solidFill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16200000">
              <a:off x="1438920" y="5477040"/>
              <a:ext cx="1080000" cy="4590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2000"/>
                  </a:solidFill>
                  <a:latin typeface="Arial"/>
                </a:rPr>
                <a:t>EQUIPO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2000"/>
                  </a:solidFill>
                  <a:latin typeface="Arial"/>
                </a:rPr>
                <a:t>OPERATIVO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066680" y="3238560"/>
            <a:ext cx="83584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990720" y="4896000"/>
            <a:ext cx="83581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18900000">
            <a:off x="7086240" y="1396800"/>
            <a:ext cx="369720" cy="736560"/>
          </a:xfrm>
          <a:prstGeom prst="downArrow">
            <a:avLst>
              <a:gd name="adj1" fmla="val 50000"/>
              <a:gd name="adj2" fmla="val 49805"/>
            </a:avLst>
          </a:prstGeom>
          <a:solidFill>
            <a:srgbClr val="ff99ff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 rot="2700000">
            <a:off x="4305240" y="1407600"/>
            <a:ext cx="370080" cy="736920"/>
          </a:xfrm>
          <a:prstGeom prst="downArrow">
            <a:avLst>
              <a:gd name="adj1" fmla="val 50000"/>
              <a:gd name="adj2" fmla="val 49781"/>
            </a:avLst>
          </a:prstGeom>
          <a:solidFill>
            <a:srgbClr val="ccccff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18680400">
            <a:off x="5149800" y="2190600"/>
            <a:ext cx="1541520" cy="1630080"/>
          </a:xfrm>
          <a:custGeom>
            <a:avLst/>
            <a:gdLst>
              <a:gd name="textAreaLeft" fmla="*/ 602640 w 1541520"/>
              <a:gd name="textAreaRight" fmla="*/ 938880 w 1541520"/>
              <a:gd name="textAreaTop" fmla="*/ 637200 h 1630080"/>
              <a:gd name="textAreaBottom" fmla="*/ 992880 h 1630080"/>
            </a:gdLst>
            <a:ahLst/>
            <a:rect l="textAreaLeft" t="textAreaTop" r="textAreaRight" b="textAreaBottom"/>
            <a:pathLst>
              <a:path w="21600" h="21600">
                <a:moveTo>
                  <a:pt x="8445" y="8445"/>
                </a:moveTo>
                <a:lnTo>
                  <a:pt x="9804" y="8445"/>
                </a:lnTo>
                <a:lnTo>
                  <a:pt x="9804" y="2711"/>
                </a:lnTo>
                <a:lnTo>
                  <a:pt x="8445" y="2711"/>
                </a:lnTo>
                <a:lnTo>
                  <a:pt x="10800" y="0"/>
                </a:lnTo>
                <a:lnTo>
                  <a:pt x="13155" y="2711"/>
                </a:lnTo>
                <a:lnTo>
                  <a:pt x="11796" y="2711"/>
                </a:lnTo>
                <a:lnTo>
                  <a:pt x="11796" y="8445"/>
                </a:lnTo>
                <a:lnTo>
                  <a:pt x="13155" y="8445"/>
                </a:lnTo>
                <a:lnTo>
                  <a:pt x="13155" y="9804"/>
                </a:lnTo>
                <a:lnTo>
                  <a:pt x="18889" y="9804"/>
                </a:lnTo>
                <a:lnTo>
                  <a:pt x="18889" y="8445"/>
                </a:lnTo>
                <a:lnTo>
                  <a:pt x="21600" y="10800"/>
                </a:lnTo>
                <a:lnTo>
                  <a:pt x="18889" y="13155"/>
                </a:lnTo>
                <a:lnTo>
                  <a:pt x="18889" y="11796"/>
                </a:lnTo>
                <a:lnTo>
                  <a:pt x="13155" y="11796"/>
                </a:lnTo>
                <a:lnTo>
                  <a:pt x="13155" y="13155"/>
                </a:lnTo>
                <a:lnTo>
                  <a:pt x="11796" y="13155"/>
                </a:lnTo>
                <a:lnTo>
                  <a:pt x="11796" y="18889"/>
                </a:lnTo>
                <a:lnTo>
                  <a:pt x="13155" y="18889"/>
                </a:lnTo>
                <a:lnTo>
                  <a:pt x="10800" y="21600"/>
                </a:lnTo>
                <a:lnTo>
                  <a:pt x="8445" y="18889"/>
                </a:lnTo>
                <a:lnTo>
                  <a:pt x="9804" y="18889"/>
                </a:lnTo>
                <a:lnTo>
                  <a:pt x="9804" y="13155"/>
                </a:lnTo>
                <a:lnTo>
                  <a:pt x="8445" y="13155"/>
                </a:lnTo>
                <a:lnTo>
                  <a:pt x="8445" y="11796"/>
                </a:lnTo>
                <a:lnTo>
                  <a:pt x="2711" y="11796"/>
                </a:lnTo>
                <a:lnTo>
                  <a:pt x="2711" y="13155"/>
                </a:lnTo>
                <a:lnTo>
                  <a:pt x="0" y="10800"/>
                </a:lnTo>
                <a:lnTo>
                  <a:pt x="2711" y="8445"/>
                </a:lnTo>
                <a:lnTo>
                  <a:pt x="2711" y="9804"/>
                </a:lnTo>
                <a:lnTo>
                  <a:pt x="8445" y="9804"/>
                </a:lnTo>
                <a:close/>
              </a:path>
            </a:pathLst>
          </a:custGeom>
          <a:solidFill>
            <a:srgbClr val="fbad57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486400" y="2743200"/>
            <a:ext cx="888840" cy="463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402000"/>
                </a:solidFill>
                <a:latin typeface="Arial"/>
              </a:rPr>
              <a:t>CONSEJO REVISOR</a:t>
            </a:r>
            <a:endParaRPr b="0" lang="en-US" sz="9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821640" y="4960800"/>
            <a:ext cx="2214360" cy="1059120"/>
            <a:chOff x="6821640" y="4960800"/>
            <a:chExt cx="2214360" cy="1059120"/>
          </a:xfrm>
        </p:grpSpPr>
        <p:sp>
          <p:nvSpPr>
            <p:cNvPr id="572" name=""/>
            <p:cNvSpPr/>
            <p:nvPr/>
          </p:nvSpPr>
          <p:spPr>
            <a:xfrm>
              <a:off x="6821640" y="4960800"/>
              <a:ext cx="2214360" cy="1059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02360" y="5056200"/>
              <a:ext cx="1829880" cy="2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402000"/>
                  </a:solidFill>
                  <a:latin typeface="Arial"/>
                </a:rPr>
                <a:t>JUNTA DE EVALUACION</a:t>
              </a:r>
              <a:r>
                <a:rPr b="0" lang="es-ES" sz="1000" spc="-1" strike="noStrike">
                  <a:solidFill>
                    <a:srgbClr val="402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335720" y="5400720"/>
              <a:ext cx="11631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402000"/>
                  </a:solidFill>
                  <a:latin typeface="Arial"/>
                </a:rPr>
                <a:t>JUECES </a:t>
              </a:r>
              <a:endParaRPr b="0" lang="en-US" sz="1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10160" y="5695920"/>
              <a:ext cx="1215720" cy="19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402000"/>
                  </a:solidFill>
                  <a:latin typeface="Arial"/>
                </a:rPr>
                <a:t>EVALUADORES </a:t>
              </a:r>
              <a:endParaRPr b="0" lang="en-US" sz="1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retaría Técnica del Premio Nacional a la Calidad para el Sector Público</a:t>
            </a:r>
          </a:p>
        </p:txBody>
      </p:sp>
    </p:spTree>
  </p:cSld>
  <p:transition advTm="18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544480" y="495000"/>
            <a:ext cx="5629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6633"/>
                </a:solidFill>
                <a:latin typeface="Times New Roman"/>
              </a:rPr>
              <a:t>Categorías del Premio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792440" y="2101680"/>
            <a:ext cx="2276280" cy="411480"/>
          </a:xfrm>
          <a:custGeom>
            <a:avLst/>
            <a:gdLst/>
            <a:ahLst/>
            <a:rect l="l" t="t" r="r" b="b"/>
            <a:pathLst>
              <a:path w="3345" h="399">
                <a:moveTo>
                  <a:pt x="196" y="399"/>
                </a:moveTo>
                <a:lnTo>
                  <a:pt x="3149" y="399"/>
                </a:lnTo>
                <a:lnTo>
                  <a:pt x="3197" y="389"/>
                </a:lnTo>
                <a:lnTo>
                  <a:pt x="3245" y="370"/>
                </a:lnTo>
                <a:lnTo>
                  <a:pt x="3288" y="341"/>
                </a:lnTo>
                <a:lnTo>
                  <a:pt x="3317" y="298"/>
                </a:lnTo>
                <a:lnTo>
                  <a:pt x="3336" y="250"/>
                </a:lnTo>
                <a:lnTo>
                  <a:pt x="3345" y="197"/>
                </a:lnTo>
                <a:lnTo>
                  <a:pt x="3336" y="149"/>
                </a:lnTo>
                <a:lnTo>
                  <a:pt x="3317" y="101"/>
                </a:lnTo>
                <a:lnTo>
                  <a:pt x="3288" y="58"/>
                </a:lnTo>
                <a:lnTo>
                  <a:pt x="3245" y="29"/>
                </a:lnTo>
                <a:lnTo>
                  <a:pt x="3197" y="5"/>
                </a:lnTo>
                <a:lnTo>
                  <a:pt x="3149" y="0"/>
                </a:lnTo>
                <a:lnTo>
                  <a:pt x="196" y="0"/>
                </a:lnTo>
                <a:lnTo>
                  <a:pt x="148" y="5"/>
                </a:lnTo>
                <a:lnTo>
                  <a:pt x="100" y="29"/>
                </a:lnTo>
                <a:lnTo>
                  <a:pt x="57" y="58"/>
                </a:lnTo>
                <a:lnTo>
                  <a:pt x="28" y="101"/>
                </a:lnTo>
                <a:lnTo>
                  <a:pt x="4" y="149"/>
                </a:lnTo>
                <a:lnTo>
                  <a:pt x="0" y="197"/>
                </a:lnTo>
                <a:lnTo>
                  <a:pt x="4" y="250"/>
                </a:lnTo>
                <a:lnTo>
                  <a:pt x="28" y="298"/>
                </a:lnTo>
                <a:lnTo>
                  <a:pt x="57" y="341"/>
                </a:lnTo>
                <a:lnTo>
                  <a:pt x="100" y="370"/>
                </a:lnTo>
                <a:lnTo>
                  <a:pt x="148" y="389"/>
                </a:lnTo>
                <a:lnTo>
                  <a:pt x="196" y="399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676520" y="1930320"/>
            <a:ext cx="2276280" cy="411120"/>
          </a:xfrm>
          <a:custGeom>
            <a:avLst/>
            <a:gdLst/>
            <a:ahLst/>
            <a:rect l="l" t="t" r="r" b="b"/>
            <a:pathLst>
              <a:path w="3345" h="398">
                <a:moveTo>
                  <a:pt x="196" y="398"/>
                </a:moveTo>
                <a:lnTo>
                  <a:pt x="3149" y="398"/>
                </a:lnTo>
                <a:lnTo>
                  <a:pt x="3197" y="388"/>
                </a:lnTo>
                <a:lnTo>
                  <a:pt x="3245" y="369"/>
                </a:lnTo>
                <a:lnTo>
                  <a:pt x="3288" y="340"/>
                </a:lnTo>
                <a:lnTo>
                  <a:pt x="3317" y="297"/>
                </a:lnTo>
                <a:lnTo>
                  <a:pt x="3336" y="249"/>
                </a:lnTo>
                <a:lnTo>
                  <a:pt x="3345" y="196"/>
                </a:lnTo>
                <a:lnTo>
                  <a:pt x="3336" y="148"/>
                </a:lnTo>
                <a:lnTo>
                  <a:pt x="3317" y="100"/>
                </a:lnTo>
                <a:lnTo>
                  <a:pt x="3288" y="57"/>
                </a:lnTo>
                <a:lnTo>
                  <a:pt x="3245" y="28"/>
                </a:lnTo>
                <a:lnTo>
                  <a:pt x="3197" y="4"/>
                </a:lnTo>
                <a:lnTo>
                  <a:pt x="3149" y="0"/>
                </a:lnTo>
                <a:lnTo>
                  <a:pt x="196" y="0"/>
                </a:lnTo>
                <a:lnTo>
                  <a:pt x="148" y="4"/>
                </a:lnTo>
                <a:lnTo>
                  <a:pt x="100" y="28"/>
                </a:lnTo>
                <a:lnTo>
                  <a:pt x="57" y="57"/>
                </a:lnTo>
                <a:lnTo>
                  <a:pt x="28" y="100"/>
                </a:lnTo>
                <a:lnTo>
                  <a:pt x="4" y="148"/>
                </a:lnTo>
                <a:lnTo>
                  <a:pt x="0" y="196"/>
                </a:lnTo>
                <a:lnTo>
                  <a:pt x="4" y="249"/>
                </a:lnTo>
                <a:lnTo>
                  <a:pt x="28" y="297"/>
                </a:lnTo>
                <a:lnTo>
                  <a:pt x="57" y="340"/>
                </a:lnTo>
                <a:lnTo>
                  <a:pt x="100" y="369"/>
                </a:lnTo>
                <a:lnTo>
                  <a:pt x="148" y="388"/>
                </a:lnTo>
                <a:lnTo>
                  <a:pt x="196" y="398"/>
                </a:lnTo>
                <a:close/>
              </a:path>
            </a:pathLst>
          </a:custGeom>
          <a:solidFill>
            <a:srgbClr val="f7fdc8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196720" y="2041560"/>
            <a:ext cx="1364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2000"/>
                </a:solidFill>
                <a:latin typeface="Arial"/>
              </a:rPr>
              <a:t>SECTOR PUBLICO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792440" y="2757600"/>
            <a:ext cx="2276280" cy="1022400"/>
          </a:xfrm>
          <a:custGeom>
            <a:avLst/>
            <a:gdLst/>
            <a:ahLst/>
            <a:rect l="l" t="t" r="r" b="b"/>
            <a:pathLst>
              <a:path w="3345" h="993">
                <a:moveTo>
                  <a:pt x="225" y="993"/>
                </a:moveTo>
                <a:lnTo>
                  <a:pt x="3120" y="993"/>
                </a:lnTo>
                <a:lnTo>
                  <a:pt x="3177" y="984"/>
                </a:lnTo>
                <a:lnTo>
                  <a:pt x="3230" y="960"/>
                </a:lnTo>
                <a:lnTo>
                  <a:pt x="3278" y="926"/>
                </a:lnTo>
                <a:lnTo>
                  <a:pt x="3317" y="878"/>
                </a:lnTo>
                <a:lnTo>
                  <a:pt x="3336" y="826"/>
                </a:lnTo>
                <a:lnTo>
                  <a:pt x="3345" y="763"/>
                </a:lnTo>
                <a:lnTo>
                  <a:pt x="3345" y="226"/>
                </a:lnTo>
                <a:lnTo>
                  <a:pt x="3336" y="168"/>
                </a:lnTo>
                <a:lnTo>
                  <a:pt x="3317" y="111"/>
                </a:lnTo>
                <a:lnTo>
                  <a:pt x="3278" y="68"/>
                </a:lnTo>
                <a:lnTo>
                  <a:pt x="3230" y="29"/>
                </a:lnTo>
                <a:lnTo>
                  <a:pt x="3177" y="5"/>
                </a:lnTo>
                <a:lnTo>
                  <a:pt x="3120" y="0"/>
                </a:lnTo>
                <a:lnTo>
                  <a:pt x="225" y="0"/>
                </a:lnTo>
                <a:lnTo>
                  <a:pt x="168" y="5"/>
                </a:lnTo>
                <a:lnTo>
                  <a:pt x="115" y="29"/>
                </a:lnTo>
                <a:lnTo>
                  <a:pt x="67" y="68"/>
                </a:lnTo>
                <a:lnTo>
                  <a:pt x="28" y="111"/>
                </a:lnTo>
                <a:lnTo>
                  <a:pt x="9" y="168"/>
                </a:lnTo>
                <a:lnTo>
                  <a:pt x="0" y="226"/>
                </a:lnTo>
                <a:lnTo>
                  <a:pt x="0" y="763"/>
                </a:lnTo>
                <a:lnTo>
                  <a:pt x="9" y="826"/>
                </a:lnTo>
                <a:lnTo>
                  <a:pt x="28" y="878"/>
                </a:lnTo>
                <a:lnTo>
                  <a:pt x="67" y="926"/>
                </a:lnTo>
                <a:lnTo>
                  <a:pt x="115" y="960"/>
                </a:lnTo>
                <a:lnTo>
                  <a:pt x="168" y="984"/>
                </a:lnTo>
                <a:lnTo>
                  <a:pt x="225" y="993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676520" y="2587680"/>
            <a:ext cx="2276280" cy="1020600"/>
          </a:xfrm>
          <a:custGeom>
            <a:avLst/>
            <a:gdLst/>
            <a:ahLst/>
            <a:rect l="l" t="t" r="r" b="b"/>
            <a:pathLst>
              <a:path w="3345" h="993">
                <a:moveTo>
                  <a:pt x="225" y="993"/>
                </a:moveTo>
                <a:lnTo>
                  <a:pt x="3120" y="993"/>
                </a:lnTo>
                <a:lnTo>
                  <a:pt x="3177" y="983"/>
                </a:lnTo>
                <a:lnTo>
                  <a:pt x="3230" y="959"/>
                </a:lnTo>
                <a:lnTo>
                  <a:pt x="3278" y="925"/>
                </a:lnTo>
                <a:lnTo>
                  <a:pt x="3317" y="877"/>
                </a:lnTo>
                <a:lnTo>
                  <a:pt x="3336" y="825"/>
                </a:lnTo>
                <a:lnTo>
                  <a:pt x="3345" y="762"/>
                </a:lnTo>
                <a:lnTo>
                  <a:pt x="3345" y="225"/>
                </a:lnTo>
                <a:lnTo>
                  <a:pt x="3336" y="167"/>
                </a:lnTo>
                <a:lnTo>
                  <a:pt x="3317" y="110"/>
                </a:lnTo>
                <a:lnTo>
                  <a:pt x="3278" y="67"/>
                </a:lnTo>
                <a:lnTo>
                  <a:pt x="3230" y="28"/>
                </a:lnTo>
                <a:lnTo>
                  <a:pt x="3177" y="4"/>
                </a:lnTo>
                <a:lnTo>
                  <a:pt x="3120" y="0"/>
                </a:lnTo>
                <a:lnTo>
                  <a:pt x="225" y="0"/>
                </a:lnTo>
                <a:lnTo>
                  <a:pt x="168" y="4"/>
                </a:lnTo>
                <a:lnTo>
                  <a:pt x="115" y="28"/>
                </a:lnTo>
                <a:lnTo>
                  <a:pt x="67" y="67"/>
                </a:lnTo>
                <a:lnTo>
                  <a:pt x="28" y="110"/>
                </a:lnTo>
                <a:lnTo>
                  <a:pt x="9" y="167"/>
                </a:lnTo>
                <a:lnTo>
                  <a:pt x="0" y="225"/>
                </a:lnTo>
                <a:lnTo>
                  <a:pt x="0" y="762"/>
                </a:lnTo>
                <a:lnTo>
                  <a:pt x="9" y="825"/>
                </a:lnTo>
                <a:lnTo>
                  <a:pt x="28" y="877"/>
                </a:lnTo>
                <a:lnTo>
                  <a:pt x="67" y="925"/>
                </a:lnTo>
                <a:lnTo>
                  <a:pt x="115" y="959"/>
                </a:lnTo>
                <a:lnTo>
                  <a:pt x="168" y="983"/>
                </a:lnTo>
                <a:lnTo>
                  <a:pt x="225" y="993"/>
                </a:lnTo>
                <a:close/>
              </a:path>
            </a:pathLst>
          </a:custGeom>
          <a:solidFill>
            <a:srgbClr val="f7fdc8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165400" y="2660760"/>
            <a:ext cx="111240" cy="171360"/>
          </a:xfrm>
          <a:custGeom>
            <a:avLst/>
            <a:gdLst/>
            <a:ahLst/>
            <a:rect l="l" t="t" r="r" b="b"/>
            <a:pathLst>
              <a:path w="163" h="167">
                <a:moveTo>
                  <a:pt x="163" y="81"/>
                </a:moveTo>
                <a:lnTo>
                  <a:pt x="159" y="48"/>
                </a:lnTo>
                <a:lnTo>
                  <a:pt x="135" y="19"/>
                </a:lnTo>
                <a:lnTo>
                  <a:pt x="101" y="0"/>
                </a:lnTo>
                <a:lnTo>
                  <a:pt x="63" y="0"/>
                </a:lnTo>
                <a:lnTo>
                  <a:pt x="29" y="19"/>
                </a:lnTo>
                <a:lnTo>
                  <a:pt x="5" y="48"/>
                </a:lnTo>
                <a:lnTo>
                  <a:pt x="0" y="81"/>
                </a:lnTo>
                <a:lnTo>
                  <a:pt x="5" y="119"/>
                </a:lnTo>
                <a:lnTo>
                  <a:pt x="29" y="148"/>
                </a:lnTo>
                <a:lnTo>
                  <a:pt x="63" y="167"/>
                </a:lnTo>
                <a:lnTo>
                  <a:pt x="101" y="167"/>
                </a:lnTo>
                <a:lnTo>
                  <a:pt x="135" y="148"/>
                </a:lnTo>
                <a:lnTo>
                  <a:pt x="159" y="119"/>
                </a:lnTo>
                <a:lnTo>
                  <a:pt x="163" y="81"/>
                </a:lnTo>
                <a:close/>
              </a:path>
            </a:pathLst>
          </a:custGeom>
          <a:solidFill>
            <a:srgbClr val="0066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070000" y="2836800"/>
            <a:ext cx="292320" cy="696960"/>
          </a:xfrm>
          <a:custGeom>
            <a:avLst/>
            <a:gdLst/>
            <a:ahLst/>
            <a:rect l="l" t="t" r="r" b="b"/>
            <a:pathLst>
              <a:path w="427" h="677">
                <a:moveTo>
                  <a:pt x="312" y="638"/>
                </a:moveTo>
                <a:lnTo>
                  <a:pt x="322" y="657"/>
                </a:lnTo>
                <a:lnTo>
                  <a:pt x="341" y="672"/>
                </a:lnTo>
                <a:lnTo>
                  <a:pt x="365" y="677"/>
                </a:lnTo>
                <a:lnTo>
                  <a:pt x="384" y="672"/>
                </a:lnTo>
                <a:lnTo>
                  <a:pt x="399" y="653"/>
                </a:lnTo>
                <a:lnTo>
                  <a:pt x="399" y="633"/>
                </a:lnTo>
                <a:lnTo>
                  <a:pt x="331" y="317"/>
                </a:lnTo>
                <a:lnTo>
                  <a:pt x="327" y="269"/>
                </a:lnTo>
                <a:lnTo>
                  <a:pt x="327" y="163"/>
                </a:lnTo>
                <a:lnTo>
                  <a:pt x="331" y="154"/>
                </a:lnTo>
                <a:lnTo>
                  <a:pt x="346" y="149"/>
                </a:lnTo>
                <a:lnTo>
                  <a:pt x="355" y="159"/>
                </a:lnTo>
                <a:lnTo>
                  <a:pt x="375" y="221"/>
                </a:lnTo>
                <a:lnTo>
                  <a:pt x="384" y="235"/>
                </a:lnTo>
                <a:lnTo>
                  <a:pt x="399" y="240"/>
                </a:lnTo>
                <a:lnTo>
                  <a:pt x="413" y="235"/>
                </a:lnTo>
                <a:lnTo>
                  <a:pt x="427" y="216"/>
                </a:lnTo>
                <a:lnTo>
                  <a:pt x="427" y="192"/>
                </a:lnTo>
                <a:lnTo>
                  <a:pt x="389" y="67"/>
                </a:lnTo>
                <a:lnTo>
                  <a:pt x="370" y="29"/>
                </a:lnTo>
                <a:lnTo>
                  <a:pt x="336" y="5"/>
                </a:lnTo>
                <a:lnTo>
                  <a:pt x="293" y="0"/>
                </a:lnTo>
                <a:lnTo>
                  <a:pt x="235" y="5"/>
                </a:lnTo>
                <a:lnTo>
                  <a:pt x="202" y="5"/>
                </a:lnTo>
                <a:lnTo>
                  <a:pt x="197" y="5"/>
                </a:lnTo>
                <a:lnTo>
                  <a:pt x="144" y="10"/>
                </a:lnTo>
                <a:lnTo>
                  <a:pt x="96" y="29"/>
                </a:lnTo>
                <a:lnTo>
                  <a:pt x="58" y="67"/>
                </a:lnTo>
                <a:lnTo>
                  <a:pt x="34" y="111"/>
                </a:lnTo>
                <a:lnTo>
                  <a:pt x="5" y="197"/>
                </a:lnTo>
                <a:lnTo>
                  <a:pt x="0" y="216"/>
                </a:lnTo>
                <a:lnTo>
                  <a:pt x="10" y="230"/>
                </a:lnTo>
                <a:lnTo>
                  <a:pt x="24" y="240"/>
                </a:lnTo>
                <a:lnTo>
                  <a:pt x="38" y="240"/>
                </a:lnTo>
                <a:lnTo>
                  <a:pt x="58" y="235"/>
                </a:lnTo>
                <a:lnTo>
                  <a:pt x="67" y="221"/>
                </a:lnTo>
                <a:lnTo>
                  <a:pt x="82" y="178"/>
                </a:lnTo>
                <a:lnTo>
                  <a:pt x="91" y="163"/>
                </a:lnTo>
                <a:lnTo>
                  <a:pt x="110" y="168"/>
                </a:lnTo>
                <a:lnTo>
                  <a:pt x="115" y="183"/>
                </a:lnTo>
                <a:lnTo>
                  <a:pt x="115" y="269"/>
                </a:lnTo>
                <a:lnTo>
                  <a:pt x="110" y="317"/>
                </a:lnTo>
                <a:lnTo>
                  <a:pt x="43" y="633"/>
                </a:lnTo>
                <a:lnTo>
                  <a:pt x="43" y="653"/>
                </a:lnTo>
                <a:lnTo>
                  <a:pt x="58" y="672"/>
                </a:lnTo>
                <a:lnTo>
                  <a:pt x="77" y="677"/>
                </a:lnTo>
                <a:lnTo>
                  <a:pt x="96" y="672"/>
                </a:lnTo>
                <a:lnTo>
                  <a:pt x="115" y="657"/>
                </a:lnTo>
                <a:lnTo>
                  <a:pt x="130" y="638"/>
                </a:lnTo>
                <a:lnTo>
                  <a:pt x="149" y="600"/>
                </a:lnTo>
                <a:lnTo>
                  <a:pt x="182" y="576"/>
                </a:lnTo>
                <a:lnTo>
                  <a:pt x="221" y="571"/>
                </a:lnTo>
                <a:lnTo>
                  <a:pt x="259" y="576"/>
                </a:lnTo>
                <a:lnTo>
                  <a:pt x="293" y="600"/>
                </a:lnTo>
                <a:lnTo>
                  <a:pt x="312" y="638"/>
                </a:lnTo>
                <a:close/>
              </a:path>
            </a:pathLst>
          </a:custGeom>
          <a:solidFill>
            <a:srgbClr val="0066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305160" y="2660760"/>
            <a:ext cx="115920" cy="171360"/>
          </a:xfrm>
          <a:custGeom>
            <a:avLst/>
            <a:gdLst/>
            <a:ahLst/>
            <a:rect l="l" t="t" r="r" b="b"/>
            <a:pathLst>
              <a:path w="168" h="167">
                <a:moveTo>
                  <a:pt x="168" y="81"/>
                </a:moveTo>
                <a:lnTo>
                  <a:pt x="159" y="48"/>
                </a:lnTo>
                <a:lnTo>
                  <a:pt x="135" y="19"/>
                </a:lnTo>
                <a:lnTo>
                  <a:pt x="101" y="0"/>
                </a:lnTo>
                <a:lnTo>
                  <a:pt x="63" y="0"/>
                </a:lnTo>
                <a:lnTo>
                  <a:pt x="29" y="19"/>
                </a:lnTo>
                <a:lnTo>
                  <a:pt x="5" y="48"/>
                </a:lnTo>
                <a:lnTo>
                  <a:pt x="0" y="81"/>
                </a:lnTo>
                <a:lnTo>
                  <a:pt x="5" y="119"/>
                </a:lnTo>
                <a:lnTo>
                  <a:pt x="29" y="148"/>
                </a:lnTo>
                <a:lnTo>
                  <a:pt x="63" y="167"/>
                </a:lnTo>
                <a:lnTo>
                  <a:pt x="101" y="167"/>
                </a:lnTo>
                <a:lnTo>
                  <a:pt x="135" y="148"/>
                </a:lnTo>
                <a:lnTo>
                  <a:pt x="159" y="119"/>
                </a:lnTo>
                <a:lnTo>
                  <a:pt x="168" y="81"/>
                </a:lnTo>
                <a:close/>
              </a:path>
            </a:pathLst>
          </a:custGeom>
          <a:solidFill>
            <a:srgbClr val="fb010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11560" y="2836800"/>
            <a:ext cx="293760" cy="696960"/>
          </a:xfrm>
          <a:custGeom>
            <a:avLst/>
            <a:gdLst/>
            <a:ahLst/>
            <a:rect l="l" t="t" r="r" b="b"/>
            <a:pathLst>
              <a:path w="432" h="677">
                <a:moveTo>
                  <a:pt x="312" y="638"/>
                </a:moveTo>
                <a:lnTo>
                  <a:pt x="326" y="657"/>
                </a:lnTo>
                <a:lnTo>
                  <a:pt x="346" y="672"/>
                </a:lnTo>
                <a:lnTo>
                  <a:pt x="365" y="677"/>
                </a:lnTo>
                <a:lnTo>
                  <a:pt x="384" y="672"/>
                </a:lnTo>
                <a:lnTo>
                  <a:pt x="398" y="653"/>
                </a:lnTo>
                <a:lnTo>
                  <a:pt x="398" y="633"/>
                </a:lnTo>
                <a:lnTo>
                  <a:pt x="331" y="317"/>
                </a:lnTo>
                <a:lnTo>
                  <a:pt x="326" y="269"/>
                </a:lnTo>
                <a:lnTo>
                  <a:pt x="326" y="163"/>
                </a:lnTo>
                <a:lnTo>
                  <a:pt x="331" y="154"/>
                </a:lnTo>
                <a:lnTo>
                  <a:pt x="346" y="149"/>
                </a:lnTo>
                <a:lnTo>
                  <a:pt x="355" y="159"/>
                </a:lnTo>
                <a:lnTo>
                  <a:pt x="379" y="221"/>
                </a:lnTo>
                <a:lnTo>
                  <a:pt x="384" y="235"/>
                </a:lnTo>
                <a:lnTo>
                  <a:pt x="398" y="240"/>
                </a:lnTo>
                <a:lnTo>
                  <a:pt x="413" y="235"/>
                </a:lnTo>
                <a:lnTo>
                  <a:pt x="427" y="216"/>
                </a:lnTo>
                <a:lnTo>
                  <a:pt x="432" y="192"/>
                </a:lnTo>
                <a:lnTo>
                  <a:pt x="389" y="67"/>
                </a:lnTo>
                <a:lnTo>
                  <a:pt x="370" y="29"/>
                </a:lnTo>
                <a:lnTo>
                  <a:pt x="336" y="5"/>
                </a:lnTo>
                <a:lnTo>
                  <a:pt x="293" y="0"/>
                </a:lnTo>
                <a:lnTo>
                  <a:pt x="240" y="5"/>
                </a:lnTo>
                <a:lnTo>
                  <a:pt x="206" y="5"/>
                </a:lnTo>
                <a:lnTo>
                  <a:pt x="202" y="5"/>
                </a:lnTo>
                <a:lnTo>
                  <a:pt x="149" y="10"/>
                </a:lnTo>
                <a:lnTo>
                  <a:pt x="101" y="29"/>
                </a:lnTo>
                <a:lnTo>
                  <a:pt x="58" y="67"/>
                </a:lnTo>
                <a:lnTo>
                  <a:pt x="34" y="111"/>
                </a:lnTo>
                <a:lnTo>
                  <a:pt x="5" y="197"/>
                </a:lnTo>
                <a:lnTo>
                  <a:pt x="0" y="216"/>
                </a:lnTo>
                <a:lnTo>
                  <a:pt x="10" y="230"/>
                </a:lnTo>
                <a:lnTo>
                  <a:pt x="24" y="240"/>
                </a:lnTo>
                <a:lnTo>
                  <a:pt x="43" y="240"/>
                </a:lnTo>
                <a:lnTo>
                  <a:pt x="58" y="235"/>
                </a:lnTo>
                <a:lnTo>
                  <a:pt x="67" y="221"/>
                </a:lnTo>
                <a:lnTo>
                  <a:pt x="82" y="178"/>
                </a:lnTo>
                <a:lnTo>
                  <a:pt x="91" y="163"/>
                </a:lnTo>
                <a:lnTo>
                  <a:pt x="110" y="168"/>
                </a:lnTo>
                <a:lnTo>
                  <a:pt x="115" y="183"/>
                </a:lnTo>
                <a:lnTo>
                  <a:pt x="115" y="269"/>
                </a:lnTo>
                <a:lnTo>
                  <a:pt x="110" y="317"/>
                </a:lnTo>
                <a:lnTo>
                  <a:pt x="43" y="633"/>
                </a:lnTo>
                <a:lnTo>
                  <a:pt x="43" y="653"/>
                </a:lnTo>
                <a:lnTo>
                  <a:pt x="58" y="672"/>
                </a:lnTo>
                <a:lnTo>
                  <a:pt x="77" y="677"/>
                </a:lnTo>
                <a:lnTo>
                  <a:pt x="101" y="672"/>
                </a:lnTo>
                <a:lnTo>
                  <a:pt x="120" y="657"/>
                </a:lnTo>
                <a:lnTo>
                  <a:pt x="130" y="638"/>
                </a:lnTo>
                <a:lnTo>
                  <a:pt x="149" y="600"/>
                </a:lnTo>
                <a:lnTo>
                  <a:pt x="182" y="576"/>
                </a:lnTo>
                <a:lnTo>
                  <a:pt x="221" y="571"/>
                </a:lnTo>
                <a:lnTo>
                  <a:pt x="259" y="576"/>
                </a:lnTo>
                <a:lnTo>
                  <a:pt x="293" y="600"/>
                </a:lnTo>
                <a:lnTo>
                  <a:pt x="312" y="638"/>
                </a:lnTo>
                <a:close/>
              </a:path>
            </a:pathLst>
          </a:custGeom>
          <a:solidFill>
            <a:srgbClr val="fb010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765520" y="2660760"/>
            <a:ext cx="110880" cy="171360"/>
          </a:xfrm>
          <a:custGeom>
            <a:avLst/>
            <a:gdLst/>
            <a:ahLst/>
            <a:rect l="l" t="t" r="r" b="b"/>
            <a:pathLst>
              <a:path w="163" h="167">
                <a:moveTo>
                  <a:pt x="163" y="81"/>
                </a:moveTo>
                <a:lnTo>
                  <a:pt x="159" y="48"/>
                </a:lnTo>
                <a:lnTo>
                  <a:pt x="135" y="19"/>
                </a:lnTo>
                <a:lnTo>
                  <a:pt x="101" y="0"/>
                </a:lnTo>
                <a:lnTo>
                  <a:pt x="63" y="0"/>
                </a:lnTo>
                <a:lnTo>
                  <a:pt x="29" y="19"/>
                </a:lnTo>
                <a:lnTo>
                  <a:pt x="5" y="48"/>
                </a:lnTo>
                <a:lnTo>
                  <a:pt x="0" y="81"/>
                </a:lnTo>
                <a:lnTo>
                  <a:pt x="5" y="119"/>
                </a:lnTo>
                <a:lnTo>
                  <a:pt x="29" y="148"/>
                </a:lnTo>
                <a:lnTo>
                  <a:pt x="63" y="167"/>
                </a:lnTo>
                <a:lnTo>
                  <a:pt x="101" y="167"/>
                </a:lnTo>
                <a:lnTo>
                  <a:pt x="135" y="148"/>
                </a:lnTo>
                <a:lnTo>
                  <a:pt x="159" y="119"/>
                </a:lnTo>
                <a:lnTo>
                  <a:pt x="163" y="81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670120" y="2836800"/>
            <a:ext cx="295200" cy="696960"/>
          </a:xfrm>
          <a:custGeom>
            <a:avLst/>
            <a:gdLst/>
            <a:ahLst/>
            <a:rect l="l" t="t" r="r" b="b"/>
            <a:pathLst>
              <a:path w="432" h="677">
                <a:moveTo>
                  <a:pt x="312" y="638"/>
                </a:moveTo>
                <a:lnTo>
                  <a:pt x="326" y="657"/>
                </a:lnTo>
                <a:lnTo>
                  <a:pt x="346" y="672"/>
                </a:lnTo>
                <a:lnTo>
                  <a:pt x="365" y="677"/>
                </a:lnTo>
                <a:lnTo>
                  <a:pt x="384" y="672"/>
                </a:lnTo>
                <a:lnTo>
                  <a:pt x="398" y="653"/>
                </a:lnTo>
                <a:lnTo>
                  <a:pt x="398" y="633"/>
                </a:lnTo>
                <a:lnTo>
                  <a:pt x="331" y="317"/>
                </a:lnTo>
                <a:lnTo>
                  <a:pt x="326" y="269"/>
                </a:lnTo>
                <a:lnTo>
                  <a:pt x="326" y="163"/>
                </a:lnTo>
                <a:lnTo>
                  <a:pt x="331" y="154"/>
                </a:lnTo>
                <a:lnTo>
                  <a:pt x="346" y="149"/>
                </a:lnTo>
                <a:lnTo>
                  <a:pt x="355" y="159"/>
                </a:lnTo>
                <a:lnTo>
                  <a:pt x="379" y="221"/>
                </a:lnTo>
                <a:lnTo>
                  <a:pt x="384" y="235"/>
                </a:lnTo>
                <a:lnTo>
                  <a:pt x="398" y="240"/>
                </a:lnTo>
                <a:lnTo>
                  <a:pt x="413" y="235"/>
                </a:lnTo>
                <a:lnTo>
                  <a:pt x="427" y="216"/>
                </a:lnTo>
                <a:lnTo>
                  <a:pt x="432" y="192"/>
                </a:lnTo>
                <a:lnTo>
                  <a:pt x="389" y="67"/>
                </a:lnTo>
                <a:lnTo>
                  <a:pt x="370" y="29"/>
                </a:lnTo>
                <a:lnTo>
                  <a:pt x="336" y="5"/>
                </a:lnTo>
                <a:lnTo>
                  <a:pt x="293" y="0"/>
                </a:lnTo>
                <a:lnTo>
                  <a:pt x="235" y="5"/>
                </a:lnTo>
                <a:lnTo>
                  <a:pt x="206" y="5"/>
                </a:lnTo>
                <a:lnTo>
                  <a:pt x="202" y="5"/>
                </a:lnTo>
                <a:lnTo>
                  <a:pt x="149" y="10"/>
                </a:lnTo>
                <a:lnTo>
                  <a:pt x="101" y="29"/>
                </a:lnTo>
                <a:lnTo>
                  <a:pt x="57" y="67"/>
                </a:lnTo>
                <a:lnTo>
                  <a:pt x="33" y="111"/>
                </a:lnTo>
                <a:lnTo>
                  <a:pt x="5" y="197"/>
                </a:lnTo>
                <a:lnTo>
                  <a:pt x="0" y="216"/>
                </a:lnTo>
                <a:lnTo>
                  <a:pt x="9" y="230"/>
                </a:lnTo>
                <a:lnTo>
                  <a:pt x="24" y="240"/>
                </a:lnTo>
                <a:lnTo>
                  <a:pt x="38" y="240"/>
                </a:lnTo>
                <a:lnTo>
                  <a:pt x="57" y="235"/>
                </a:lnTo>
                <a:lnTo>
                  <a:pt x="67" y="221"/>
                </a:lnTo>
                <a:lnTo>
                  <a:pt x="81" y="178"/>
                </a:lnTo>
                <a:lnTo>
                  <a:pt x="91" y="163"/>
                </a:lnTo>
                <a:lnTo>
                  <a:pt x="110" y="168"/>
                </a:lnTo>
                <a:lnTo>
                  <a:pt x="115" y="183"/>
                </a:lnTo>
                <a:lnTo>
                  <a:pt x="115" y="269"/>
                </a:lnTo>
                <a:lnTo>
                  <a:pt x="110" y="317"/>
                </a:lnTo>
                <a:lnTo>
                  <a:pt x="43" y="633"/>
                </a:lnTo>
                <a:lnTo>
                  <a:pt x="43" y="653"/>
                </a:lnTo>
                <a:lnTo>
                  <a:pt x="57" y="672"/>
                </a:lnTo>
                <a:lnTo>
                  <a:pt x="77" y="677"/>
                </a:lnTo>
                <a:lnTo>
                  <a:pt x="101" y="672"/>
                </a:lnTo>
                <a:lnTo>
                  <a:pt x="120" y="657"/>
                </a:lnTo>
                <a:lnTo>
                  <a:pt x="130" y="638"/>
                </a:lnTo>
                <a:lnTo>
                  <a:pt x="149" y="600"/>
                </a:lnTo>
                <a:lnTo>
                  <a:pt x="182" y="576"/>
                </a:lnTo>
                <a:lnTo>
                  <a:pt x="221" y="571"/>
                </a:lnTo>
                <a:lnTo>
                  <a:pt x="259" y="576"/>
                </a:lnTo>
                <a:lnTo>
                  <a:pt x="293" y="600"/>
                </a:lnTo>
                <a:lnTo>
                  <a:pt x="312" y="638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2440" y="5016600"/>
            <a:ext cx="1081080" cy="696960"/>
          </a:xfrm>
          <a:custGeom>
            <a:avLst/>
            <a:gdLst/>
            <a:ahLst/>
            <a:rect l="l" t="t" r="r" b="b"/>
            <a:pathLst>
              <a:path w="1589" h="677">
                <a:moveTo>
                  <a:pt x="225" y="677"/>
                </a:moveTo>
                <a:lnTo>
                  <a:pt x="1358" y="677"/>
                </a:lnTo>
                <a:lnTo>
                  <a:pt x="1421" y="672"/>
                </a:lnTo>
                <a:lnTo>
                  <a:pt x="1473" y="648"/>
                </a:lnTo>
                <a:lnTo>
                  <a:pt x="1521" y="610"/>
                </a:lnTo>
                <a:lnTo>
                  <a:pt x="1555" y="566"/>
                </a:lnTo>
                <a:lnTo>
                  <a:pt x="1579" y="509"/>
                </a:lnTo>
                <a:lnTo>
                  <a:pt x="1589" y="451"/>
                </a:lnTo>
                <a:lnTo>
                  <a:pt x="1589" y="226"/>
                </a:lnTo>
                <a:lnTo>
                  <a:pt x="1579" y="168"/>
                </a:lnTo>
                <a:lnTo>
                  <a:pt x="1555" y="111"/>
                </a:lnTo>
                <a:lnTo>
                  <a:pt x="1521" y="63"/>
                </a:lnTo>
                <a:lnTo>
                  <a:pt x="1473" y="29"/>
                </a:lnTo>
                <a:lnTo>
                  <a:pt x="1421" y="5"/>
                </a:lnTo>
                <a:lnTo>
                  <a:pt x="1358" y="0"/>
                </a:lnTo>
                <a:lnTo>
                  <a:pt x="225" y="0"/>
                </a:lnTo>
                <a:lnTo>
                  <a:pt x="168" y="5"/>
                </a:lnTo>
                <a:lnTo>
                  <a:pt x="115" y="29"/>
                </a:lnTo>
                <a:lnTo>
                  <a:pt x="67" y="63"/>
                </a:lnTo>
                <a:lnTo>
                  <a:pt x="28" y="111"/>
                </a:lnTo>
                <a:lnTo>
                  <a:pt x="9" y="168"/>
                </a:lnTo>
                <a:lnTo>
                  <a:pt x="0" y="226"/>
                </a:lnTo>
                <a:lnTo>
                  <a:pt x="0" y="451"/>
                </a:lnTo>
                <a:lnTo>
                  <a:pt x="9" y="509"/>
                </a:lnTo>
                <a:lnTo>
                  <a:pt x="28" y="566"/>
                </a:lnTo>
                <a:lnTo>
                  <a:pt x="67" y="610"/>
                </a:lnTo>
                <a:lnTo>
                  <a:pt x="115" y="648"/>
                </a:lnTo>
                <a:lnTo>
                  <a:pt x="168" y="672"/>
                </a:lnTo>
                <a:lnTo>
                  <a:pt x="225" y="677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676520" y="4843440"/>
            <a:ext cx="1082520" cy="696960"/>
          </a:xfrm>
          <a:custGeom>
            <a:avLst/>
            <a:gdLst/>
            <a:ahLst/>
            <a:rect l="l" t="t" r="r" b="b"/>
            <a:pathLst>
              <a:path w="1589" h="676">
                <a:moveTo>
                  <a:pt x="225" y="676"/>
                </a:moveTo>
                <a:lnTo>
                  <a:pt x="1358" y="676"/>
                </a:lnTo>
                <a:lnTo>
                  <a:pt x="1420" y="671"/>
                </a:lnTo>
                <a:lnTo>
                  <a:pt x="1473" y="647"/>
                </a:lnTo>
                <a:lnTo>
                  <a:pt x="1521" y="609"/>
                </a:lnTo>
                <a:lnTo>
                  <a:pt x="1555" y="566"/>
                </a:lnTo>
                <a:lnTo>
                  <a:pt x="1579" y="508"/>
                </a:lnTo>
                <a:lnTo>
                  <a:pt x="1589" y="450"/>
                </a:lnTo>
                <a:lnTo>
                  <a:pt x="1589" y="225"/>
                </a:lnTo>
                <a:lnTo>
                  <a:pt x="1579" y="167"/>
                </a:lnTo>
                <a:lnTo>
                  <a:pt x="1555" y="110"/>
                </a:lnTo>
                <a:lnTo>
                  <a:pt x="1521" y="62"/>
                </a:lnTo>
                <a:lnTo>
                  <a:pt x="1473" y="28"/>
                </a:lnTo>
                <a:lnTo>
                  <a:pt x="1420" y="4"/>
                </a:lnTo>
                <a:lnTo>
                  <a:pt x="1358" y="0"/>
                </a:lnTo>
                <a:lnTo>
                  <a:pt x="225" y="0"/>
                </a:lnTo>
                <a:lnTo>
                  <a:pt x="168" y="4"/>
                </a:lnTo>
                <a:lnTo>
                  <a:pt x="115" y="28"/>
                </a:lnTo>
                <a:lnTo>
                  <a:pt x="67" y="62"/>
                </a:lnTo>
                <a:lnTo>
                  <a:pt x="28" y="110"/>
                </a:lnTo>
                <a:lnTo>
                  <a:pt x="9" y="167"/>
                </a:lnTo>
                <a:lnTo>
                  <a:pt x="0" y="225"/>
                </a:lnTo>
                <a:lnTo>
                  <a:pt x="0" y="450"/>
                </a:lnTo>
                <a:lnTo>
                  <a:pt x="9" y="508"/>
                </a:lnTo>
                <a:lnTo>
                  <a:pt x="28" y="566"/>
                </a:lnTo>
                <a:lnTo>
                  <a:pt x="67" y="609"/>
                </a:lnTo>
                <a:lnTo>
                  <a:pt x="115" y="647"/>
                </a:lnTo>
                <a:lnTo>
                  <a:pt x="168" y="671"/>
                </a:lnTo>
                <a:lnTo>
                  <a:pt x="225" y="676"/>
                </a:lnTo>
                <a:close/>
              </a:path>
            </a:pathLst>
          </a:custGeom>
          <a:solidFill>
            <a:srgbClr val="f7fdc8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867680" y="4371840"/>
            <a:ext cx="878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2000"/>
                </a:solidFill>
                <a:latin typeface="Arial"/>
              </a:rPr>
              <a:t>De 30 a 500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2000"/>
                </a:solidFill>
                <a:latin typeface="Arial"/>
              </a:rPr>
              <a:t>Persona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987640" y="5016600"/>
            <a:ext cx="1081080" cy="696960"/>
          </a:xfrm>
          <a:custGeom>
            <a:avLst/>
            <a:gdLst/>
            <a:ahLst/>
            <a:rect l="l" t="t" r="r" b="b"/>
            <a:pathLst>
              <a:path w="1588" h="677">
                <a:moveTo>
                  <a:pt x="225" y="677"/>
                </a:moveTo>
                <a:lnTo>
                  <a:pt x="1363" y="677"/>
                </a:lnTo>
                <a:lnTo>
                  <a:pt x="1420" y="672"/>
                </a:lnTo>
                <a:lnTo>
                  <a:pt x="1473" y="648"/>
                </a:lnTo>
                <a:lnTo>
                  <a:pt x="1521" y="610"/>
                </a:lnTo>
                <a:lnTo>
                  <a:pt x="1560" y="566"/>
                </a:lnTo>
                <a:lnTo>
                  <a:pt x="1579" y="509"/>
                </a:lnTo>
                <a:lnTo>
                  <a:pt x="1588" y="451"/>
                </a:lnTo>
                <a:lnTo>
                  <a:pt x="1588" y="226"/>
                </a:lnTo>
                <a:lnTo>
                  <a:pt x="1579" y="168"/>
                </a:lnTo>
                <a:lnTo>
                  <a:pt x="1560" y="111"/>
                </a:lnTo>
                <a:lnTo>
                  <a:pt x="1521" y="63"/>
                </a:lnTo>
                <a:lnTo>
                  <a:pt x="1473" y="29"/>
                </a:lnTo>
                <a:lnTo>
                  <a:pt x="1420" y="5"/>
                </a:lnTo>
                <a:lnTo>
                  <a:pt x="1363" y="0"/>
                </a:lnTo>
                <a:lnTo>
                  <a:pt x="225" y="0"/>
                </a:lnTo>
                <a:lnTo>
                  <a:pt x="168" y="5"/>
                </a:lnTo>
                <a:lnTo>
                  <a:pt x="115" y="29"/>
                </a:lnTo>
                <a:lnTo>
                  <a:pt x="67" y="63"/>
                </a:lnTo>
                <a:lnTo>
                  <a:pt x="28" y="111"/>
                </a:lnTo>
                <a:lnTo>
                  <a:pt x="9" y="168"/>
                </a:lnTo>
                <a:lnTo>
                  <a:pt x="0" y="226"/>
                </a:lnTo>
                <a:lnTo>
                  <a:pt x="0" y="451"/>
                </a:lnTo>
                <a:lnTo>
                  <a:pt x="9" y="509"/>
                </a:lnTo>
                <a:lnTo>
                  <a:pt x="28" y="566"/>
                </a:lnTo>
                <a:lnTo>
                  <a:pt x="67" y="610"/>
                </a:lnTo>
                <a:lnTo>
                  <a:pt x="115" y="648"/>
                </a:lnTo>
                <a:lnTo>
                  <a:pt x="168" y="672"/>
                </a:lnTo>
                <a:lnTo>
                  <a:pt x="225" y="677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873520" y="4843440"/>
            <a:ext cx="1079280" cy="696960"/>
          </a:xfrm>
          <a:custGeom>
            <a:avLst/>
            <a:gdLst/>
            <a:ahLst/>
            <a:rect l="l" t="t" r="r" b="b"/>
            <a:pathLst>
              <a:path w="1588" h="676">
                <a:moveTo>
                  <a:pt x="225" y="676"/>
                </a:moveTo>
                <a:lnTo>
                  <a:pt x="1363" y="676"/>
                </a:lnTo>
                <a:lnTo>
                  <a:pt x="1420" y="671"/>
                </a:lnTo>
                <a:lnTo>
                  <a:pt x="1473" y="647"/>
                </a:lnTo>
                <a:lnTo>
                  <a:pt x="1521" y="609"/>
                </a:lnTo>
                <a:lnTo>
                  <a:pt x="1560" y="566"/>
                </a:lnTo>
                <a:lnTo>
                  <a:pt x="1579" y="508"/>
                </a:lnTo>
                <a:lnTo>
                  <a:pt x="1588" y="450"/>
                </a:lnTo>
                <a:lnTo>
                  <a:pt x="1588" y="225"/>
                </a:lnTo>
                <a:lnTo>
                  <a:pt x="1579" y="167"/>
                </a:lnTo>
                <a:lnTo>
                  <a:pt x="1560" y="110"/>
                </a:lnTo>
                <a:lnTo>
                  <a:pt x="1521" y="62"/>
                </a:lnTo>
                <a:lnTo>
                  <a:pt x="1473" y="28"/>
                </a:lnTo>
                <a:lnTo>
                  <a:pt x="1420" y="4"/>
                </a:lnTo>
                <a:lnTo>
                  <a:pt x="1363" y="0"/>
                </a:lnTo>
                <a:lnTo>
                  <a:pt x="225" y="0"/>
                </a:lnTo>
                <a:lnTo>
                  <a:pt x="168" y="4"/>
                </a:lnTo>
                <a:lnTo>
                  <a:pt x="115" y="28"/>
                </a:lnTo>
                <a:lnTo>
                  <a:pt x="67" y="62"/>
                </a:lnTo>
                <a:lnTo>
                  <a:pt x="28" y="110"/>
                </a:lnTo>
                <a:lnTo>
                  <a:pt x="9" y="167"/>
                </a:lnTo>
                <a:lnTo>
                  <a:pt x="0" y="225"/>
                </a:lnTo>
                <a:lnTo>
                  <a:pt x="0" y="450"/>
                </a:lnTo>
                <a:lnTo>
                  <a:pt x="9" y="508"/>
                </a:lnTo>
                <a:lnTo>
                  <a:pt x="28" y="566"/>
                </a:lnTo>
                <a:lnTo>
                  <a:pt x="67" y="609"/>
                </a:lnTo>
                <a:lnTo>
                  <a:pt x="115" y="647"/>
                </a:lnTo>
                <a:lnTo>
                  <a:pt x="168" y="671"/>
                </a:lnTo>
                <a:lnTo>
                  <a:pt x="225" y="676"/>
                </a:lnTo>
                <a:close/>
              </a:path>
            </a:pathLst>
          </a:custGeom>
          <a:solidFill>
            <a:srgbClr val="f7fdc8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92440" y="4140360"/>
            <a:ext cx="1081080" cy="581040"/>
          </a:xfrm>
          <a:custGeom>
            <a:avLst/>
            <a:gdLst/>
            <a:ahLst/>
            <a:rect l="l" t="t" r="r" b="b"/>
            <a:pathLst>
              <a:path w="1589" h="566">
                <a:moveTo>
                  <a:pt x="225" y="566"/>
                </a:moveTo>
                <a:lnTo>
                  <a:pt x="1358" y="566"/>
                </a:lnTo>
                <a:lnTo>
                  <a:pt x="1421" y="561"/>
                </a:lnTo>
                <a:lnTo>
                  <a:pt x="1473" y="537"/>
                </a:lnTo>
                <a:lnTo>
                  <a:pt x="1521" y="503"/>
                </a:lnTo>
                <a:lnTo>
                  <a:pt x="1555" y="455"/>
                </a:lnTo>
                <a:lnTo>
                  <a:pt x="1579" y="398"/>
                </a:lnTo>
                <a:lnTo>
                  <a:pt x="1589" y="340"/>
                </a:lnTo>
                <a:lnTo>
                  <a:pt x="1589" y="230"/>
                </a:lnTo>
                <a:lnTo>
                  <a:pt x="1579" y="168"/>
                </a:lnTo>
                <a:lnTo>
                  <a:pt x="1555" y="115"/>
                </a:lnTo>
                <a:lnTo>
                  <a:pt x="1521" y="67"/>
                </a:lnTo>
                <a:lnTo>
                  <a:pt x="1473" y="33"/>
                </a:lnTo>
                <a:lnTo>
                  <a:pt x="1421" y="9"/>
                </a:lnTo>
                <a:lnTo>
                  <a:pt x="1358" y="0"/>
                </a:lnTo>
                <a:lnTo>
                  <a:pt x="225" y="0"/>
                </a:lnTo>
                <a:lnTo>
                  <a:pt x="168" y="9"/>
                </a:lnTo>
                <a:lnTo>
                  <a:pt x="115" y="33"/>
                </a:lnTo>
                <a:lnTo>
                  <a:pt x="67" y="67"/>
                </a:lnTo>
                <a:lnTo>
                  <a:pt x="28" y="115"/>
                </a:lnTo>
                <a:lnTo>
                  <a:pt x="9" y="168"/>
                </a:lnTo>
                <a:lnTo>
                  <a:pt x="0" y="230"/>
                </a:lnTo>
                <a:lnTo>
                  <a:pt x="0" y="340"/>
                </a:lnTo>
                <a:lnTo>
                  <a:pt x="9" y="398"/>
                </a:lnTo>
                <a:lnTo>
                  <a:pt x="28" y="455"/>
                </a:lnTo>
                <a:lnTo>
                  <a:pt x="67" y="503"/>
                </a:lnTo>
                <a:lnTo>
                  <a:pt x="115" y="537"/>
                </a:lnTo>
                <a:lnTo>
                  <a:pt x="168" y="561"/>
                </a:lnTo>
                <a:lnTo>
                  <a:pt x="225" y="56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676520" y="3968640"/>
            <a:ext cx="1082520" cy="579600"/>
          </a:xfrm>
          <a:custGeom>
            <a:avLst/>
            <a:gdLst/>
            <a:ahLst/>
            <a:rect l="l" t="t" r="r" b="b"/>
            <a:pathLst>
              <a:path w="1589" h="566">
                <a:moveTo>
                  <a:pt x="225" y="566"/>
                </a:moveTo>
                <a:lnTo>
                  <a:pt x="1358" y="566"/>
                </a:lnTo>
                <a:lnTo>
                  <a:pt x="1420" y="561"/>
                </a:lnTo>
                <a:lnTo>
                  <a:pt x="1473" y="537"/>
                </a:lnTo>
                <a:lnTo>
                  <a:pt x="1521" y="503"/>
                </a:lnTo>
                <a:lnTo>
                  <a:pt x="1555" y="455"/>
                </a:lnTo>
                <a:lnTo>
                  <a:pt x="1579" y="398"/>
                </a:lnTo>
                <a:lnTo>
                  <a:pt x="1589" y="340"/>
                </a:lnTo>
                <a:lnTo>
                  <a:pt x="1589" y="230"/>
                </a:lnTo>
                <a:lnTo>
                  <a:pt x="1579" y="168"/>
                </a:lnTo>
                <a:lnTo>
                  <a:pt x="1555" y="115"/>
                </a:lnTo>
                <a:lnTo>
                  <a:pt x="1521" y="67"/>
                </a:lnTo>
                <a:lnTo>
                  <a:pt x="1473" y="33"/>
                </a:lnTo>
                <a:lnTo>
                  <a:pt x="1420" y="9"/>
                </a:lnTo>
                <a:lnTo>
                  <a:pt x="1358" y="0"/>
                </a:lnTo>
                <a:lnTo>
                  <a:pt x="225" y="0"/>
                </a:lnTo>
                <a:lnTo>
                  <a:pt x="168" y="9"/>
                </a:lnTo>
                <a:lnTo>
                  <a:pt x="115" y="33"/>
                </a:lnTo>
                <a:lnTo>
                  <a:pt x="67" y="67"/>
                </a:lnTo>
                <a:lnTo>
                  <a:pt x="28" y="115"/>
                </a:lnTo>
                <a:lnTo>
                  <a:pt x="9" y="168"/>
                </a:lnTo>
                <a:lnTo>
                  <a:pt x="0" y="230"/>
                </a:lnTo>
                <a:lnTo>
                  <a:pt x="0" y="340"/>
                </a:lnTo>
                <a:lnTo>
                  <a:pt x="9" y="398"/>
                </a:lnTo>
                <a:lnTo>
                  <a:pt x="28" y="455"/>
                </a:lnTo>
                <a:lnTo>
                  <a:pt x="67" y="503"/>
                </a:lnTo>
                <a:lnTo>
                  <a:pt x="115" y="537"/>
                </a:lnTo>
                <a:lnTo>
                  <a:pt x="168" y="561"/>
                </a:lnTo>
                <a:lnTo>
                  <a:pt x="225" y="566"/>
                </a:lnTo>
                <a:close/>
              </a:path>
            </a:pathLst>
          </a:custGeom>
          <a:solidFill>
            <a:srgbClr val="f7fdc8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987640" y="4140360"/>
            <a:ext cx="1081080" cy="581040"/>
          </a:xfrm>
          <a:custGeom>
            <a:avLst/>
            <a:gdLst/>
            <a:ahLst/>
            <a:rect l="l" t="t" r="r" b="b"/>
            <a:pathLst>
              <a:path w="1588" h="566">
                <a:moveTo>
                  <a:pt x="225" y="566"/>
                </a:moveTo>
                <a:lnTo>
                  <a:pt x="1363" y="566"/>
                </a:lnTo>
                <a:lnTo>
                  <a:pt x="1420" y="561"/>
                </a:lnTo>
                <a:lnTo>
                  <a:pt x="1473" y="537"/>
                </a:lnTo>
                <a:lnTo>
                  <a:pt x="1521" y="503"/>
                </a:lnTo>
                <a:lnTo>
                  <a:pt x="1560" y="455"/>
                </a:lnTo>
                <a:lnTo>
                  <a:pt x="1579" y="398"/>
                </a:lnTo>
                <a:lnTo>
                  <a:pt x="1588" y="340"/>
                </a:lnTo>
                <a:lnTo>
                  <a:pt x="1588" y="230"/>
                </a:lnTo>
                <a:lnTo>
                  <a:pt x="1579" y="168"/>
                </a:lnTo>
                <a:lnTo>
                  <a:pt x="1560" y="115"/>
                </a:lnTo>
                <a:lnTo>
                  <a:pt x="1521" y="67"/>
                </a:lnTo>
                <a:lnTo>
                  <a:pt x="1473" y="33"/>
                </a:lnTo>
                <a:lnTo>
                  <a:pt x="1420" y="9"/>
                </a:lnTo>
                <a:lnTo>
                  <a:pt x="1363" y="0"/>
                </a:lnTo>
                <a:lnTo>
                  <a:pt x="225" y="0"/>
                </a:lnTo>
                <a:lnTo>
                  <a:pt x="168" y="9"/>
                </a:lnTo>
                <a:lnTo>
                  <a:pt x="115" y="33"/>
                </a:lnTo>
                <a:lnTo>
                  <a:pt x="67" y="67"/>
                </a:lnTo>
                <a:lnTo>
                  <a:pt x="28" y="115"/>
                </a:lnTo>
                <a:lnTo>
                  <a:pt x="9" y="168"/>
                </a:lnTo>
                <a:lnTo>
                  <a:pt x="0" y="230"/>
                </a:lnTo>
                <a:lnTo>
                  <a:pt x="0" y="340"/>
                </a:lnTo>
                <a:lnTo>
                  <a:pt x="9" y="398"/>
                </a:lnTo>
                <a:lnTo>
                  <a:pt x="28" y="455"/>
                </a:lnTo>
                <a:lnTo>
                  <a:pt x="67" y="503"/>
                </a:lnTo>
                <a:lnTo>
                  <a:pt x="115" y="537"/>
                </a:lnTo>
                <a:lnTo>
                  <a:pt x="168" y="561"/>
                </a:lnTo>
                <a:lnTo>
                  <a:pt x="225" y="56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873520" y="3968640"/>
            <a:ext cx="1079280" cy="579600"/>
          </a:xfrm>
          <a:custGeom>
            <a:avLst/>
            <a:gdLst/>
            <a:ahLst/>
            <a:rect l="l" t="t" r="r" b="b"/>
            <a:pathLst>
              <a:path w="1588" h="566">
                <a:moveTo>
                  <a:pt x="225" y="566"/>
                </a:moveTo>
                <a:lnTo>
                  <a:pt x="1363" y="566"/>
                </a:lnTo>
                <a:lnTo>
                  <a:pt x="1420" y="561"/>
                </a:lnTo>
                <a:lnTo>
                  <a:pt x="1473" y="537"/>
                </a:lnTo>
                <a:lnTo>
                  <a:pt x="1521" y="503"/>
                </a:lnTo>
                <a:lnTo>
                  <a:pt x="1560" y="455"/>
                </a:lnTo>
                <a:lnTo>
                  <a:pt x="1579" y="398"/>
                </a:lnTo>
                <a:lnTo>
                  <a:pt x="1588" y="340"/>
                </a:lnTo>
                <a:lnTo>
                  <a:pt x="1588" y="230"/>
                </a:lnTo>
                <a:lnTo>
                  <a:pt x="1579" y="168"/>
                </a:lnTo>
                <a:lnTo>
                  <a:pt x="1560" y="115"/>
                </a:lnTo>
                <a:lnTo>
                  <a:pt x="1521" y="67"/>
                </a:lnTo>
                <a:lnTo>
                  <a:pt x="1473" y="33"/>
                </a:lnTo>
                <a:lnTo>
                  <a:pt x="1420" y="9"/>
                </a:lnTo>
                <a:lnTo>
                  <a:pt x="1363" y="0"/>
                </a:lnTo>
                <a:lnTo>
                  <a:pt x="225" y="0"/>
                </a:lnTo>
                <a:lnTo>
                  <a:pt x="168" y="9"/>
                </a:lnTo>
                <a:lnTo>
                  <a:pt x="115" y="33"/>
                </a:lnTo>
                <a:lnTo>
                  <a:pt x="67" y="67"/>
                </a:lnTo>
                <a:lnTo>
                  <a:pt x="28" y="115"/>
                </a:lnTo>
                <a:lnTo>
                  <a:pt x="9" y="168"/>
                </a:lnTo>
                <a:lnTo>
                  <a:pt x="0" y="230"/>
                </a:lnTo>
                <a:lnTo>
                  <a:pt x="0" y="340"/>
                </a:lnTo>
                <a:lnTo>
                  <a:pt x="9" y="398"/>
                </a:lnTo>
                <a:lnTo>
                  <a:pt x="28" y="455"/>
                </a:lnTo>
                <a:lnTo>
                  <a:pt x="67" y="503"/>
                </a:lnTo>
                <a:lnTo>
                  <a:pt x="115" y="537"/>
                </a:lnTo>
                <a:lnTo>
                  <a:pt x="168" y="561"/>
                </a:lnTo>
                <a:lnTo>
                  <a:pt x="225" y="566"/>
                </a:lnTo>
                <a:close/>
              </a:path>
            </a:pathLst>
          </a:custGeom>
          <a:solidFill>
            <a:srgbClr val="f7fdc8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92840" y="2833560"/>
            <a:ext cx="2274840" cy="1022400"/>
          </a:xfrm>
          <a:custGeom>
            <a:avLst/>
            <a:gdLst/>
            <a:ahLst/>
            <a:rect l="l" t="t" r="r" b="b"/>
            <a:pathLst>
              <a:path w="3341" h="993">
                <a:moveTo>
                  <a:pt x="226" y="993"/>
                </a:moveTo>
                <a:lnTo>
                  <a:pt x="3115" y="993"/>
                </a:lnTo>
                <a:lnTo>
                  <a:pt x="3173" y="984"/>
                </a:lnTo>
                <a:lnTo>
                  <a:pt x="3231" y="960"/>
                </a:lnTo>
                <a:lnTo>
                  <a:pt x="3279" y="926"/>
                </a:lnTo>
                <a:lnTo>
                  <a:pt x="3312" y="878"/>
                </a:lnTo>
                <a:lnTo>
                  <a:pt x="3336" y="826"/>
                </a:lnTo>
                <a:lnTo>
                  <a:pt x="3341" y="763"/>
                </a:lnTo>
                <a:lnTo>
                  <a:pt x="3341" y="226"/>
                </a:lnTo>
                <a:lnTo>
                  <a:pt x="3336" y="168"/>
                </a:lnTo>
                <a:lnTo>
                  <a:pt x="3312" y="111"/>
                </a:lnTo>
                <a:lnTo>
                  <a:pt x="3279" y="68"/>
                </a:lnTo>
                <a:lnTo>
                  <a:pt x="3231" y="29"/>
                </a:lnTo>
                <a:lnTo>
                  <a:pt x="3173" y="5"/>
                </a:lnTo>
                <a:lnTo>
                  <a:pt x="3115" y="0"/>
                </a:lnTo>
                <a:lnTo>
                  <a:pt x="226" y="0"/>
                </a:lnTo>
                <a:lnTo>
                  <a:pt x="168" y="5"/>
                </a:lnTo>
                <a:lnTo>
                  <a:pt x="110" y="29"/>
                </a:lnTo>
                <a:lnTo>
                  <a:pt x="62" y="68"/>
                </a:lnTo>
                <a:lnTo>
                  <a:pt x="29" y="111"/>
                </a:lnTo>
                <a:lnTo>
                  <a:pt x="5" y="168"/>
                </a:lnTo>
                <a:lnTo>
                  <a:pt x="0" y="226"/>
                </a:lnTo>
                <a:lnTo>
                  <a:pt x="0" y="763"/>
                </a:lnTo>
                <a:lnTo>
                  <a:pt x="5" y="826"/>
                </a:lnTo>
                <a:lnTo>
                  <a:pt x="29" y="878"/>
                </a:lnTo>
                <a:lnTo>
                  <a:pt x="62" y="926"/>
                </a:lnTo>
                <a:lnTo>
                  <a:pt x="110" y="960"/>
                </a:lnTo>
                <a:lnTo>
                  <a:pt x="168" y="984"/>
                </a:lnTo>
                <a:lnTo>
                  <a:pt x="226" y="993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678720" y="2664000"/>
            <a:ext cx="2276280" cy="1020600"/>
          </a:xfrm>
          <a:custGeom>
            <a:avLst/>
            <a:gdLst/>
            <a:ahLst/>
            <a:rect l="l" t="t" r="r" b="b"/>
            <a:pathLst>
              <a:path w="3341" h="993">
                <a:moveTo>
                  <a:pt x="226" y="993"/>
                </a:moveTo>
                <a:lnTo>
                  <a:pt x="3115" y="993"/>
                </a:lnTo>
                <a:lnTo>
                  <a:pt x="3173" y="983"/>
                </a:lnTo>
                <a:lnTo>
                  <a:pt x="3231" y="959"/>
                </a:lnTo>
                <a:lnTo>
                  <a:pt x="3279" y="925"/>
                </a:lnTo>
                <a:lnTo>
                  <a:pt x="3312" y="877"/>
                </a:lnTo>
                <a:lnTo>
                  <a:pt x="3336" y="825"/>
                </a:lnTo>
                <a:lnTo>
                  <a:pt x="3341" y="762"/>
                </a:lnTo>
                <a:lnTo>
                  <a:pt x="3341" y="225"/>
                </a:lnTo>
                <a:lnTo>
                  <a:pt x="3336" y="167"/>
                </a:lnTo>
                <a:lnTo>
                  <a:pt x="3312" y="110"/>
                </a:lnTo>
                <a:lnTo>
                  <a:pt x="3279" y="67"/>
                </a:lnTo>
                <a:lnTo>
                  <a:pt x="3231" y="28"/>
                </a:lnTo>
                <a:lnTo>
                  <a:pt x="3173" y="4"/>
                </a:lnTo>
                <a:lnTo>
                  <a:pt x="3115" y="0"/>
                </a:lnTo>
                <a:lnTo>
                  <a:pt x="226" y="0"/>
                </a:lnTo>
                <a:lnTo>
                  <a:pt x="168" y="4"/>
                </a:lnTo>
                <a:lnTo>
                  <a:pt x="110" y="28"/>
                </a:lnTo>
                <a:lnTo>
                  <a:pt x="62" y="67"/>
                </a:lnTo>
                <a:lnTo>
                  <a:pt x="29" y="110"/>
                </a:lnTo>
                <a:lnTo>
                  <a:pt x="5" y="167"/>
                </a:lnTo>
                <a:lnTo>
                  <a:pt x="0" y="225"/>
                </a:lnTo>
                <a:lnTo>
                  <a:pt x="0" y="762"/>
                </a:lnTo>
                <a:lnTo>
                  <a:pt x="5" y="825"/>
                </a:lnTo>
                <a:lnTo>
                  <a:pt x="29" y="877"/>
                </a:lnTo>
                <a:lnTo>
                  <a:pt x="62" y="925"/>
                </a:lnTo>
                <a:lnTo>
                  <a:pt x="110" y="959"/>
                </a:lnTo>
                <a:lnTo>
                  <a:pt x="168" y="983"/>
                </a:lnTo>
                <a:lnTo>
                  <a:pt x="226" y="993"/>
                </a:lnTo>
                <a:close/>
              </a:path>
            </a:pathLst>
          </a:custGeom>
          <a:solidFill>
            <a:srgbClr val="f7fdc8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23120" y="2879640"/>
            <a:ext cx="911160" cy="730440"/>
          </a:xfrm>
          <a:custGeom>
            <a:avLst/>
            <a:gdLst/>
            <a:ahLst/>
            <a:rect l="l" t="t" r="r" b="b"/>
            <a:pathLst>
              <a:path w="1339" h="710">
                <a:moveTo>
                  <a:pt x="523" y="4"/>
                </a:moveTo>
                <a:lnTo>
                  <a:pt x="533" y="9"/>
                </a:lnTo>
                <a:lnTo>
                  <a:pt x="552" y="14"/>
                </a:lnTo>
                <a:lnTo>
                  <a:pt x="585" y="14"/>
                </a:lnTo>
                <a:lnTo>
                  <a:pt x="619" y="14"/>
                </a:lnTo>
                <a:lnTo>
                  <a:pt x="638" y="9"/>
                </a:lnTo>
                <a:lnTo>
                  <a:pt x="648" y="0"/>
                </a:lnTo>
                <a:lnTo>
                  <a:pt x="667" y="460"/>
                </a:lnTo>
                <a:lnTo>
                  <a:pt x="504" y="460"/>
                </a:lnTo>
                <a:lnTo>
                  <a:pt x="523" y="4"/>
                </a:lnTo>
                <a:close/>
                <a:moveTo>
                  <a:pt x="773" y="4"/>
                </a:moveTo>
                <a:lnTo>
                  <a:pt x="782" y="9"/>
                </a:lnTo>
                <a:lnTo>
                  <a:pt x="806" y="14"/>
                </a:lnTo>
                <a:lnTo>
                  <a:pt x="835" y="14"/>
                </a:lnTo>
                <a:lnTo>
                  <a:pt x="869" y="14"/>
                </a:lnTo>
                <a:lnTo>
                  <a:pt x="893" y="9"/>
                </a:lnTo>
                <a:lnTo>
                  <a:pt x="897" y="0"/>
                </a:lnTo>
                <a:lnTo>
                  <a:pt x="921" y="460"/>
                </a:lnTo>
                <a:lnTo>
                  <a:pt x="753" y="460"/>
                </a:lnTo>
                <a:lnTo>
                  <a:pt x="773" y="4"/>
                </a:lnTo>
                <a:close/>
                <a:moveTo>
                  <a:pt x="1046" y="4"/>
                </a:moveTo>
                <a:lnTo>
                  <a:pt x="1056" y="9"/>
                </a:lnTo>
                <a:lnTo>
                  <a:pt x="1075" y="14"/>
                </a:lnTo>
                <a:lnTo>
                  <a:pt x="1109" y="14"/>
                </a:lnTo>
                <a:lnTo>
                  <a:pt x="1137" y="14"/>
                </a:lnTo>
                <a:lnTo>
                  <a:pt x="1161" y="9"/>
                </a:lnTo>
                <a:lnTo>
                  <a:pt x="1171" y="0"/>
                </a:lnTo>
                <a:lnTo>
                  <a:pt x="1190" y="460"/>
                </a:lnTo>
                <a:lnTo>
                  <a:pt x="1022" y="460"/>
                </a:lnTo>
                <a:lnTo>
                  <a:pt x="1046" y="4"/>
                </a:lnTo>
                <a:close/>
                <a:moveTo>
                  <a:pt x="0" y="489"/>
                </a:moveTo>
                <a:lnTo>
                  <a:pt x="1339" y="489"/>
                </a:lnTo>
                <a:lnTo>
                  <a:pt x="1339" y="460"/>
                </a:lnTo>
                <a:lnTo>
                  <a:pt x="0" y="460"/>
                </a:lnTo>
                <a:lnTo>
                  <a:pt x="0" y="489"/>
                </a:lnTo>
                <a:close/>
                <a:moveTo>
                  <a:pt x="43" y="710"/>
                </a:moveTo>
                <a:lnTo>
                  <a:pt x="1296" y="710"/>
                </a:lnTo>
                <a:lnTo>
                  <a:pt x="1296" y="489"/>
                </a:lnTo>
                <a:lnTo>
                  <a:pt x="43" y="489"/>
                </a:lnTo>
                <a:lnTo>
                  <a:pt x="43" y="71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688160" y="2736720"/>
            <a:ext cx="432000" cy="158760"/>
          </a:xfrm>
          <a:custGeom>
            <a:avLst/>
            <a:gdLst/>
            <a:ahLst/>
            <a:rect l="l" t="t" r="r" b="b"/>
            <a:pathLst>
              <a:path w="634" h="153">
                <a:moveTo>
                  <a:pt x="351" y="4"/>
                </a:moveTo>
                <a:lnTo>
                  <a:pt x="351" y="24"/>
                </a:lnTo>
                <a:lnTo>
                  <a:pt x="308" y="28"/>
                </a:lnTo>
                <a:lnTo>
                  <a:pt x="260" y="28"/>
                </a:lnTo>
                <a:lnTo>
                  <a:pt x="207" y="33"/>
                </a:lnTo>
                <a:lnTo>
                  <a:pt x="154" y="38"/>
                </a:lnTo>
                <a:lnTo>
                  <a:pt x="96" y="33"/>
                </a:lnTo>
                <a:lnTo>
                  <a:pt x="53" y="33"/>
                </a:lnTo>
                <a:lnTo>
                  <a:pt x="20" y="43"/>
                </a:lnTo>
                <a:lnTo>
                  <a:pt x="0" y="62"/>
                </a:lnTo>
                <a:lnTo>
                  <a:pt x="0" y="81"/>
                </a:lnTo>
                <a:lnTo>
                  <a:pt x="15" y="105"/>
                </a:lnTo>
                <a:lnTo>
                  <a:pt x="20" y="124"/>
                </a:lnTo>
                <a:lnTo>
                  <a:pt x="15" y="143"/>
                </a:lnTo>
                <a:lnTo>
                  <a:pt x="44" y="148"/>
                </a:lnTo>
                <a:lnTo>
                  <a:pt x="77" y="153"/>
                </a:lnTo>
                <a:lnTo>
                  <a:pt x="106" y="148"/>
                </a:lnTo>
                <a:lnTo>
                  <a:pt x="106" y="129"/>
                </a:lnTo>
                <a:lnTo>
                  <a:pt x="120" y="115"/>
                </a:lnTo>
                <a:lnTo>
                  <a:pt x="144" y="100"/>
                </a:lnTo>
                <a:lnTo>
                  <a:pt x="183" y="91"/>
                </a:lnTo>
                <a:lnTo>
                  <a:pt x="221" y="91"/>
                </a:lnTo>
                <a:lnTo>
                  <a:pt x="264" y="91"/>
                </a:lnTo>
                <a:lnTo>
                  <a:pt x="303" y="86"/>
                </a:lnTo>
                <a:lnTo>
                  <a:pt x="341" y="76"/>
                </a:lnTo>
                <a:lnTo>
                  <a:pt x="370" y="62"/>
                </a:lnTo>
                <a:lnTo>
                  <a:pt x="428" y="43"/>
                </a:lnTo>
                <a:lnTo>
                  <a:pt x="490" y="28"/>
                </a:lnTo>
                <a:lnTo>
                  <a:pt x="557" y="19"/>
                </a:lnTo>
                <a:lnTo>
                  <a:pt x="634" y="19"/>
                </a:lnTo>
                <a:lnTo>
                  <a:pt x="567" y="4"/>
                </a:lnTo>
                <a:lnTo>
                  <a:pt x="495" y="0"/>
                </a:lnTo>
                <a:lnTo>
                  <a:pt x="423" y="0"/>
                </a:lnTo>
                <a:lnTo>
                  <a:pt x="351" y="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858080" y="2736720"/>
            <a:ext cx="432000" cy="158760"/>
          </a:xfrm>
          <a:custGeom>
            <a:avLst/>
            <a:gdLst/>
            <a:ahLst/>
            <a:rect l="l" t="t" r="r" b="b"/>
            <a:pathLst>
              <a:path w="634" h="153">
                <a:moveTo>
                  <a:pt x="350" y="4"/>
                </a:moveTo>
                <a:lnTo>
                  <a:pt x="355" y="24"/>
                </a:lnTo>
                <a:lnTo>
                  <a:pt x="307" y="28"/>
                </a:lnTo>
                <a:lnTo>
                  <a:pt x="264" y="28"/>
                </a:lnTo>
                <a:lnTo>
                  <a:pt x="211" y="33"/>
                </a:lnTo>
                <a:lnTo>
                  <a:pt x="154" y="38"/>
                </a:lnTo>
                <a:lnTo>
                  <a:pt x="96" y="33"/>
                </a:lnTo>
                <a:lnTo>
                  <a:pt x="53" y="33"/>
                </a:lnTo>
                <a:lnTo>
                  <a:pt x="19" y="43"/>
                </a:lnTo>
                <a:lnTo>
                  <a:pt x="5" y="62"/>
                </a:lnTo>
                <a:lnTo>
                  <a:pt x="0" y="81"/>
                </a:lnTo>
                <a:lnTo>
                  <a:pt x="14" y="105"/>
                </a:lnTo>
                <a:lnTo>
                  <a:pt x="19" y="124"/>
                </a:lnTo>
                <a:lnTo>
                  <a:pt x="14" y="143"/>
                </a:lnTo>
                <a:lnTo>
                  <a:pt x="43" y="148"/>
                </a:lnTo>
                <a:lnTo>
                  <a:pt x="77" y="153"/>
                </a:lnTo>
                <a:lnTo>
                  <a:pt x="110" y="148"/>
                </a:lnTo>
                <a:lnTo>
                  <a:pt x="106" y="129"/>
                </a:lnTo>
                <a:lnTo>
                  <a:pt x="120" y="115"/>
                </a:lnTo>
                <a:lnTo>
                  <a:pt x="149" y="100"/>
                </a:lnTo>
                <a:lnTo>
                  <a:pt x="182" y="91"/>
                </a:lnTo>
                <a:lnTo>
                  <a:pt x="221" y="91"/>
                </a:lnTo>
                <a:lnTo>
                  <a:pt x="264" y="91"/>
                </a:lnTo>
                <a:lnTo>
                  <a:pt x="307" y="86"/>
                </a:lnTo>
                <a:lnTo>
                  <a:pt x="341" y="76"/>
                </a:lnTo>
                <a:lnTo>
                  <a:pt x="370" y="62"/>
                </a:lnTo>
                <a:lnTo>
                  <a:pt x="427" y="43"/>
                </a:lnTo>
                <a:lnTo>
                  <a:pt x="490" y="28"/>
                </a:lnTo>
                <a:lnTo>
                  <a:pt x="562" y="19"/>
                </a:lnTo>
                <a:lnTo>
                  <a:pt x="634" y="19"/>
                </a:lnTo>
                <a:lnTo>
                  <a:pt x="571" y="4"/>
                </a:lnTo>
                <a:lnTo>
                  <a:pt x="499" y="0"/>
                </a:lnTo>
                <a:lnTo>
                  <a:pt x="422" y="0"/>
                </a:lnTo>
                <a:lnTo>
                  <a:pt x="350" y="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028000" y="2736720"/>
            <a:ext cx="433440" cy="158760"/>
          </a:xfrm>
          <a:custGeom>
            <a:avLst/>
            <a:gdLst/>
            <a:ahLst/>
            <a:rect l="l" t="t" r="r" b="b"/>
            <a:pathLst>
              <a:path w="633" h="153">
                <a:moveTo>
                  <a:pt x="350" y="4"/>
                </a:moveTo>
                <a:lnTo>
                  <a:pt x="355" y="24"/>
                </a:lnTo>
                <a:lnTo>
                  <a:pt x="312" y="28"/>
                </a:lnTo>
                <a:lnTo>
                  <a:pt x="264" y="28"/>
                </a:lnTo>
                <a:lnTo>
                  <a:pt x="211" y="33"/>
                </a:lnTo>
                <a:lnTo>
                  <a:pt x="153" y="38"/>
                </a:lnTo>
                <a:lnTo>
                  <a:pt x="100" y="33"/>
                </a:lnTo>
                <a:lnTo>
                  <a:pt x="52" y="33"/>
                </a:lnTo>
                <a:lnTo>
                  <a:pt x="19" y="43"/>
                </a:lnTo>
                <a:lnTo>
                  <a:pt x="4" y="62"/>
                </a:lnTo>
                <a:lnTo>
                  <a:pt x="0" y="81"/>
                </a:lnTo>
                <a:lnTo>
                  <a:pt x="14" y="105"/>
                </a:lnTo>
                <a:lnTo>
                  <a:pt x="19" y="124"/>
                </a:lnTo>
                <a:lnTo>
                  <a:pt x="14" y="143"/>
                </a:lnTo>
                <a:lnTo>
                  <a:pt x="48" y="148"/>
                </a:lnTo>
                <a:lnTo>
                  <a:pt x="76" y="153"/>
                </a:lnTo>
                <a:lnTo>
                  <a:pt x="110" y="148"/>
                </a:lnTo>
                <a:lnTo>
                  <a:pt x="110" y="129"/>
                </a:lnTo>
                <a:lnTo>
                  <a:pt x="120" y="115"/>
                </a:lnTo>
                <a:lnTo>
                  <a:pt x="148" y="100"/>
                </a:lnTo>
                <a:lnTo>
                  <a:pt x="182" y="91"/>
                </a:lnTo>
                <a:lnTo>
                  <a:pt x="225" y="91"/>
                </a:lnTo>
                <a:lnTo>
                  <a:pt x="264" y="91"/>
                </a:lnTo>
                <a:lnTo>
                  <a:pt x="307" y="86"/>
                </a:lnTo>
                <a:lnTo>
                  <a:pt x="340" y="76"/>
                </a:lnTo>
                <a:lnTo>
                  <a:pt x="374" y="62"/>
                </a:lnTo>
                <a:lnTo>
                  <a:pt x="427" y="43"/>
                </a:lnTo>
                <a:lnTo>
                  <a:pt x="489" y="28"/>
                </a:lnTo>
                <a:lnTo>
                  <a:pt x="561" y="19"/>
                </a:lnTo>
                <a:lnTo>
                  <a:pt x="633" y="19"/>
                </a:lnTo>
                <a:lnTo>
                  <a:pt x="571" y="4"/>
                </a:lnTo>
                <a:lnTo>
                  <a:pt x="499" y="0"/>
                </a:lnTo>
                <a:lnTo>
                  <a:pt x="422" y="0"/>
                </a:lnTo>
                <a:lnTo>
                  <a:pt x="350" y="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378560" y="3438360"/>
            <a:ext cx="784440" cy="27000"/>
          </a:xfrm>
          <a:custGeom>
            <a:avLst/>
            <a:gdLst/>
            <a:ahLst/>
            <a:rect l="l" t="t" r="r" b="b"/>
            <a:pathLst>
              <a:path w="1152" h="28">
                <a:moveTo>
                  <a:pt x="1028" y="28"/>
                </a:moveTo>
                <a:lnTo>
                  <a:pt x="1152" y="28"/>
                </a:lnTo>
                <a:lnTo>
                  <a:pt x="1152" y="0"/>
                </a:lnTo>
                <a:lnTo>
                  <a:pt x="1028" y="0"/>
                </a:lnTo>
                <a:lnTo>
                  <a:pt x="1028" y="28"/>
                </a:lnTo>
                <a:close/>
                <a:moveTo>
                  <a:pt x="860" y="28"/>
                </a:moveTo>
                <a:lnTo>
                  <a:pt x="984" y="28"/>
                </a:lnTo>
                <a:lnTo>
                  <a:pt x="984" y="0"/>
                </a:lnTo>
                <a:lnTo>
                  <a:pt x="860" y="0"/>
                </a:lnTo>
                <a:lnTo>
                  <a:pt x="860" y="28"/>
                </a:lnTo>
                <a:close/>
                <a:moveTo>
                  <a:pt x="692" y="28"/>
                </a:moveTo>
                <a:lnTo>
                  <a:pt x="816" y="28"/>
                </a:lnTo>
                <a:lnTo>
                  <a:pt x="816" y="0"/>
                </a:lnTo>
                <a:lnTo>
                  <a:pt x="692" y="0"/>
                </a:lnTo>
                <a:lnTo>
                  <a:pt x="692" y="28"/>
                </a:lnTo>
                <a:close/>
                <a:moveTo>
                  <a:pt x="524" y="28"/>
                </a:moveTo>
                <a:lnTo>
                  <a:pt x="648" y="28"/>
                </a:lnTo>
                <a:lnTo>
                  <a:pt x="648" y="0"/>
                </a:lnTo>
                <a:lnTo>
                  <a:pt x="524" y="0"/>
                </a:lnTo>
                <a:lnTo>
                  <a:pt x="524" y="28"/>
                </a:lnTo>
                <a:close/>
                <a:moveTo>
                  <a:pt x="356" y="28"/>
                </a:moveTo>
                <a:lnTo>
                  <a:pt x="485" y="28"/>
                </a:lnTo>
                <a:lnTo>
                  <a:pt x="485" y="0"/>
                </a:lnTo>
                <a:lnTo>
                  <a:pt x="356" y="0"/>
                </a:lnTo>
                <a:lnTo>
                  <a:pt x="356" y="28"/>
                </a:lnTo>
                <a:close/>
                <a:moveTo>
                  <a:pt x="192" y="28"/>
                </a:moveTo>
                <a:lnTo>
                  <a:pt x="317" y="28"/>
                </a:lnTo>
                <a:lnTo>
                  <a:pt x="317" y="0"/>
                </a:lnTo>
                <a:lnTo>
                  <a:pt x="192" y="0"/>
                </a:lnTo>
                <a:lnTo>
                  <a:pt x="192" y="28"/>
                </a:lnTo>
                <a:close/>
                <a:moveTo>
                  <a:pt x="0" y="28"/>
                </a:moveTo>
                <a:lnTo>
                  <a:pt x="130" y="28"/>
                </a:lnTo>
                <a:lnTo>
                  <a:pt x="130" y="0"/>
                </a:lnTo>
                <a:lnTo>
                  <a:pt x="0" y="0"/>
                </a:lnTo>
                <a:lnTo>
                  <a:pt x="0" y="28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792840" y="2178000"/>
            <a:ext cx="2274840" cy="411120"/>
          </a:xfrm>
          <a:custGeom>
            <a:avLst/>
            <a:gdLst/>
            <a:ahLst/>
            <a:rect l="l" t="t" r="r" b="b"/>
            <a:pathLst>
              <a:path w="3341" h="399">
                <a:moveTo>
                  <a:pt x="197" y="399"/>
                </a:moveTo>
                <a:lnTo>
                  <a:pt x="3144" y="399"/>
                </a:lnTo>
                <a:lnTo>
                  <a:pt x="3197" y="389"/>
                </a:lnTo>
                <a:lnTo>
                  <a:pt x="3245" y="370"/>
                </a:lnTo>
                <a:lnTo>
                  <a:pt x="3283" y="341"/>
                </a:lnTo>
                <a:lnTo>
                  <a:pt x="3317" y="298"/>
                </a:lnTo>
                <a:lnTo>
                  <a:pt x="3336" y="250"/>
                </a:lnTo>
                <a:lnTo>
                  <a:pt x="3341" y="197"/>
                </a:lnTo>
                <a:lnTo>
                  <a:pt x="3336" y="149"/>
                </a:lnTo>
                <a:lnTo>
                  <a:pt x="3317" y="101"/>
                </a:lnTo>
                <a:lnTo>
                  <a:pt x="3283" y="58"/>
                </a:lnTo>
                <a:lnTo>
                  <a:pt x="3245" y="29"/>
                </a:lnTo>
                <a:lnTo>
                  <a:pt x="3197" y="5"/>
                </a:lnTo>
                <a:lnTo>
                  <a:pt x="3144" y="0"/>
                </a:lnTo>
                <a:lnTo>
                  <a:pt x="197" y="0"/>
                </a:lnTo>
                <a:lnTo>
                  <a:pt x="144" y="5"/>
                </a:lnTo>
                <a:lnTo>
                  <a:pt x="96" y="29"/>
                </a:lnTo>
                <a:lnTo>
                  <a:pt x="58" y="58"/>
                </a:lnTo>
                <a:lnTo>
                  <a:pt x="24" y="101"/>
                </a:lnTo>
                <a:lnTo>
                  <a:pt x="5" y="149"/>
                </a:lnTo>
                <a:lnTo>
                  <a:pt x="0" y="197"/>
                </a:lnTo>
                <a:lnTo>
                  <a:pt x="5" y="250"/>
                </a:lnTo>
                <a:lnTo>
                  <a:pt x="24" y="298"/>
                </a:lnTo>
                <a:lnTo>
                  <a:pt x="58" y="341"/>
                </a:lnTo>
                <a:lnTo>
                  <a:pt x="96" y="370"/>
                </a:lnTo>
                <a:lnTo>
                  <a:pt x="144" y="389"/>
                </a:lnTo>
                <a:lnTo>
                  <a:pt x="197" y="399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678720" y="2006640"/>
            <a:ext cx="2276280" cy="411120"/>
          </a:xfrm>
          <a:custGeom>
            <a:avLst/>
            <a:gdLst/>
            <a:ahLst/>
            <a:rect l="l" t="t" r="r" b="b"/>
            <a:pathLst>
              <a:path w="3341" h="398">
                <a:moveTo>
                  <a:pt x="197" y="398"/>
                </a:moveTo>
                <a:lnTo>
                  <a:pt x="3144" y="398"/>
                </a:lnTo>
                <a:lnTo>
                  <a:pt x="3197" y="388"/>
                </a:lnTo>
                <a:lnTo>
                  <a:pt x="3245" y="369"/>
                </a:lnTo>
                <a:lnTo>
                  <a:pt x="3283" y="340"/>
                </a:lnTo>
                <a:lnTo>
                  <a:pt x="3317" y="297"/>
                </a:lnTo>
                <a:lnTo>
                  <a:pt x="3336" y="249"/>
                </a:lnTo>
                <a:lnTo>
                  <a:pt x="3341" y="196"/>
                </a:lnTo>
                <a:lnTo>
                  <a:pt x="3336" y="148"/>
                </a:lnTo>
                <a:lnTo>
                  <a:pt x="3317" y="100"/>
                </a:lnTo>
                <a:lnTo>
                  <a:pt x="3283" y="57"/>
                </a:lnTo>
                <a:lnTo>
                  <a:pt x="3245" y="28"/>
                </a:lnTo>
                <a:lnTo>
                  <a:pt x="3197" y="4"/>
                </a:lnTo>
                <a:lnTo>
                  <a:pt x="3144" y="0"/>
                </a:lnTo>
                <a:lnTo>
                  <a:pt x="197" y="0"/>
                </a:lnTo>
                <a:lnTo>
                  <a:pt x="144" y="4"/>
                </a:lnTo>
                <a:lnTo>
                  <a:pt x="96" y="28"/>
                </a:lnTo>
                <a:lnTo>
                  <a:pt x="58" y="57"/>
                </a:lnTo>
                <a:lnTo>
                  <a:pt x="24" y="100"/>
                </a:lnTo>
                <a:lnTo>
                  <a:pt x="5" y="148"/>
                </a:lnTo>
                <a:lnTo>
                  <a:pt x="0" y="196"/>
                </a:lnTo>
                <a:lnTo>
                  <a:pt x="5" y="249"/>
                </a:lnTo>
                <a:lnTo>
                  <a:pt x="24" y="297"/>
                </a:lnTo>
                <a:lnTo>
                  <a:pt x="58" y="340"/>
                </a:lnTo>
                <a:lnTo>
                  <a:pt x="96" y="369"/>
                </a:lnTo>
                <a:lnTo>
                  <a:pt x="144" y="388"/>
                </a:lnTo>
                <a:lnTo>
                  <a:pt x="197" y="398"/>
                </a:lnTo>
                <a:close/>
              </a:path>
            </a:pathLst>
          </a:custGeom>
          <a:solidFill>
            <a:srgbClr val="f7fdc8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148880" y="2104920"/>
            <a:ext cx="137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2000"/>
                </a:solidFill>
                <a:latin typeface="Arial"/>
              </a:rPr>
              <a:t>SECTOR PRIVADO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773760" y="4216320"/>
            <a:ext cx="1077840" cy="581040"/>
          </a:xfrm>
          <a:custGeom>
            <a:avLst/>
            <a:gdLst/>
            <a:ahLst/>
            <a:rect l="l" t="t" r="r" b="b"/>
            <a:pathLst>
              <a:path w="1584" h="566">
                <a:moveTo>
                  <a:pt x="226" y="566"/>
                </a:moveTo>
                <a:lnTo>
                  <a:pt x="1359" y="566"/>
                </a:lnTo>
                <a:lnTo>
                  <a:pt x="1416" y="561"/>
                </a:lnTo>
                <a:lnTo>
                  <a:pt x="1474" y="537"/>
                </a:lnTo>
                <a:lnTo>
                  <a:pt x="1522" y="503"/>
                </a:lnTo>
                <a:lnTo>
                  <a:pt x="1556" y="455"/>
                </a:lnTo>
                <a:lnTo>
                  <a:pt x="1580" y="398"/>
                </a:lnTo>
                <a:lnTo>
                  <a:pt x="1584" y="340"/>
                </a:lnTo>
                <a:lnTo>
                  <a:pt x="1584" y="230"/>
                </a:lnTo>
                <a:lnTo>
                  <a:pt x="1580" y="168"/>
                </a:lnTo>
                <a:lnTo>
                  <a:pt x="1556" y="115"/>
                </a:lnTo>
                <a:lnTo>
                  <a:pt x="1522" y="67"/>
                </a:lnTo>
                <a:lnTo>
                  <a:pt x="1474" y="33"/>
                </a:lnTo>
                <a:lnTo>
                  <a:pt x="1416" y="9"/>
                </a:lnTo>
                <a:lnTo>
                  <a:pt x="1359" y="0"/>
                </a:lnTo>
                <a:lnTo>
                  <a:pt x="226" y="0"/>
                </a:lnTo>
                <a:lnTo>
                  <a:pt x="168" y="9"/>
                </a:lnTo>
                <a:lnTo>
                  <a:pt x="111" y="33"/>
                </a:lnTo>
                <a:lnTo>
                  <a:pt x="67" y="67"/>
                </a:lnTo>
                <a:lnTo>
                  <a:pt x="29" y="115"/>
                </a:lnTo>
                <a:lnTo>
                  <a:pt x="5" y="168"/>
                </a:lnTo>
                <a:lnTo>
                  <a:pt x="0" y="230"/>
                </a:lnTo>
                <a:lnTo>
                  <a:pt x="0" y="340"/>
                </a:lnTo>
                <a:lnTo>
                  <a:pt x="5" y="398"/>
                </a:lnTo>
                <a:lnTo>
                  <a:pt x="29" y="455"/>
                </a:lnTo>
                <a:lnTo>
                  <a:pt x="67" y="503"/>
                </a:lnTo>
                <a:lnTo>
                  <a:pt x="111" y="537"/>
                </a:lnTo>
                <a:lnTo>
                  <a:pt x="168" y="561"/>
                </a:lnTo>
                <a:lnTo>
                  <a:pt x="226" y="56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659640" y="4044960"/>
            <a:ext cx="1077840" cy="579600"/>
          </a:xfrm>
          <a:custGeom>
            <a:avLst/>
            <a:gdLst/>
            <a:ahLst/>
            <a:rect l="l" t="t" r="r" b="b"/>
            <a:pathLst>
              <a:path w="1584" h="566">
                <a:moveTo>
                  <a:pt x="226" y="566"/>
                </a:moveTo>
                <a:lnTo>
                  <a:pt x="1359" y="566"/>
                </a:lnTo>
                <a:lnTo>
                  <a:pt x="1416" y="561"/>
                </a:lnTo>
                <a:lnTo>
                  <a:pt x="1474" y="537"/>
                </a:lnTo>
                <a:lnTo>
                  <a:pt x="1522" y="503"/>
                </a:lnTo>
                <a:lnTo>
                  <a:pt x="1556" y="455"/>
                </a:lnTo>
                <a:lnTo>
                  <a:pt x="1580" y="398"/>
                </a:lnTo>
                <a:lnTo>
                  <a:pt x="1584" y="340"/>
                </a:lnTo>
                <a:lnTo>
                  <a:pt x="1584" y="230"/>
                </a:lnTo>
                <a:lnTo>
                  <a:pt x="1580" y="168"/>
                </a:lnTo>
                <a:lnTo>
                  <a:pt x="1556" y="115"/>
                </a:lnTo>
                <a:lnTo>
                  <a:pt x="1522" y="67"/>
                </a:lnTo>
                <a:lnTo>
                  <a:pt x="1474" y="33"/>
                </a:lnTo>
                <a:lnTo>
                  <a:pt x="1416" y="9"/>
                </a:lnTo>
                <a:lnTo>
                  <a:pt x="1359" y="0"/>
                </a:lnTo>
                <a:lnTo>
                  <a:pt x="226" y="0"/>
                </a:lnTo>
                <a:lnTo>
                  <a:pt x="168" y="9"/>
                </a:lnTo>
                <a:lnTo>
                  <a:pt x="111" y="33"/>
                </a:lnTo>
                <a:lnTo>
                  <a:pt x="67" y="67"/>
                </a:lnTo>
                <a:lnTo>
                  <a:pt x="29" y="115"/>
                </a:lnTo>
                <a:lnTo>
                  <a:pt x="5" y="168"/>
                </a:lnTo>
                <a:lnTo>
                  <a:pt x="0" y="230"/>
                </a:lnTo>
                <a:lnTo>
                  <a:pt x="0" y="340"/>
                </a:lnTo>
                <a:lnTo>
                  <a:pt x="5" y="398"/>
                </a:lnTo>
                <a:lnTo>
                  <a:pt x="29" y="455"/>
                </a:lnTo>
                <a:lnTo>
                  <a:pt x="67" y="503"/>
                </a:lnTo>
                <a:lnTo>
                  <a:pt x="111" y="537"/>
                </a:lnTo>
                <a:lnTo>
                  <a:pt x="168" y="561"/>
                </a:lnTo>
                <a:lnTo>
                  <a:pt x="226" y="566"/>
                </a:lnTo>
                <a:close/>
              </a:path>
            </a:pathLst>
          </a:custGeom>
          <a:solidFill>
            <a:srgbClr val="f7fdc8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784560" y="4146480"/>
            <a:ext cx="8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2000"/>
                </a:solidFill>
                <a:latin typeface="Arial"/>
              </a:rPr>
              <a:t>Producció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40360" y="432900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2000"/>
                </a:solidFill>
                <a:latin typeface="Arial"/>
              </a:rPr>
              <a:t>de Bien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970760" y="4216320"/>
            <a:ext cx="1081080" cy="581040"/>
          </a:xfrm>
          <a:custGeom>
            <a:avLst/>
            <a:gdLst/>
            <a:ahLst/>
            <a:rect l="l" t="t" r="r" b="b"/>
            <a:pathLst>
              <a:path w="1589" h="566">
                <a:moveTo>
                  <a:pt x="226" y="566"/>
                </a:moveTo>
                <a:lnTo>
                  <a:pt x="1359" y="566"/>
                </a:lnTo>
                <a:lnTo>
                  <a:pt x="1421" y="561"/>
                </a:lnTo>
                <a:lnTo>
                  <a:pt x="1474" y="537"/>
                </a:lnTo>
                <a:lnTo>
                  <a:pt x="1522" y="503"/>
                </a:lnTo>
                <a:lnTo>
                  <a:pt x="1555" y="455"/>
                </a:lnTo>
                <a:lnTo>
                  <a:pt x="1579" y="398"/>
                </a:lnTo>
                <a:lnTo>
                  <a:pt x="1589" y="340"/>
                </a:lnTo>
                <a:lnTo>
                  <a:pt x="1589" y="230"/>
                </a:lnTo>
                <a:lnTo>
                  <a:pt x="1579" y="168"/>
                </a:lnTo>
                <a:lnTo>
                  <a:pt x="1555" y="115"/>
                </a:lnTo>
                <a:lnTo>
                  <a:pt x="1522" y="67"/>
                </a:lnTo>
                <a:lnTo>
                  <a:pt x="1474" y="33"/>
                </a:lnTo>
                <a:lnTo>
                  <a:pt x="1421" y="9"/>
                </a:lnTo>
                <a:lnTo>
                  <a:pt x="1359" y="0"/>
                </a:lnTo>
                <a:lnTo>
                  <a:pt x="226" y="0"/>
                </a:lnTo>
                <a:lnTo>
                  <a:pt x="168" y="9"/>
                </a:lnTo>
                <a:lnTo>
                  <a:pt x="111" y="33"/>
                </a:lnTo>
                <a:lnTo>
                  <a:pt x="67" y="67"/>
                </a:lnTo>
                <a:lnTo>
                  <a:pt x="29" y="115"/>
                </a:lnTo>
                <a:lnTo>
                  <a:pt x="5" y="168"/>
                </a:lnTo>
                <a:lnTo>
                  <a:pt x="0" y="230"/>
                </a:lnTo>
                <a:lnTo>
                  <a:pt x="0" y="340"/>
                </a:lnTo>
                <a:lnTo>
                  <a:pt x="5" y="398"/>
                </a:lnTo>
                <a:lnTo>
                  <a:pt x="29" y="455"/>
                </a:lnTo>
                <a:lnTo>
                  <a:pt x="67" y="503"/>
                </a:lnTo>
                <a:lnTo>
                  <a:pt x="111" y="537"/>
                </a:lnTo>
                <a:lnTo>
                  <a:pt x="168" y="561"/>
                </a:lnTo>
                <a:lnTo>
                  <a:pt x="226" y="56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854840" y="4044960"/>
            <a:ext cx="1082880" cy="579600"/>
          </a:xfrm>
          <a:custGeom>
            <a:avLst/>
            <a:gdLst/>
            <a:ahLst/>
            <a:rect l="l" t="t" r="r" b="b"/>
            <a:pathLst>
              <a:path w="1589" h="566">
                <a:moveTo>
                  <a:pt x="226" y="566"/>
                </a:moveTo>
                <a:lnTo>
                  <a:pt x="1359" y="566"/>
                </a:lnTo>
                <a:lnTo>
                  <a:pt x="1421" y="561"/>
                </a:lnTo>
                <a:lnTo>
                  <a:pt x="1474" y="537"/>
                </a:lnTo>
                <a:lnTo>
                  <a:pt x="1522" y="503"/>
                </a:lnTo>
                <a:lnTo>
                  <a:pt x="1555" y="455"/>
                </a:lnTo>
                <a:lnTo>
                  <a:pt x="1579" y="398"/>
                </a:lnTo>
                <a:lnTo>
                  <a:pt x="1589" y="340"/>
                </a:lnTo>
                <a:lnTo>
                  <a:pt x="1589" y="230"/>
                </a:lnTo>
                <a:lnTo>
                  <a:pt x="1579" y="168"/>
                </a:lnTo>
                <a:lnTo>
                  <a:pt x="1555" y="115"/>
                </a:lnTo>
                <a:lnTo>
                  <a:pt x="1522" y="67"/>
                </a:lnTo>
                <a:lnTo>
                  <a:pt x="1474" y="33"/>
                </a:lnTo>
                <a:lnTo>
                  <a:pt x="1421" y="9"/>
                </a:lnTo>
                <a:lnTo>
                  <a:pt x="1359" y="0"/>
                </a:lnTo>
                <a:lnTo>
                  <a:pt x="226" y="0"/>
                </a:lnTo>
                <a:lnTo>
                  <a:pt x="168" y="9"/>
                </a:lnTo>
                <a:lnTo>
                  <a:pt x="111" y="33"/>
                </a:lnTo>
                <a:lnTo>
                  <a:pt x="67" y="67"/>
                </a:lnTo>
                <a:lnTo>
                  <a:pt x="29" y="115"/>
                </a:lnTo>
                <a:lnTo>
                  <a:pt x="5" y="168"/>
                </a:lnTo>
                <a:lnTo>
                  <a:pt x="0" y="230"/>
                </a:lnTo>
                <a:lnTo>
                  <a:pt x="0" y="340"/>
                </a:lnTo>
                <a:lnTo>
                  <a:pt x="5" y="398"/>
                </a:lnTo>
                <a:lnTo>
                  <a:pt x="29" y="455"/>
                </a:lnTo>
                <a:lnTo>
                  <a:pt x="67" y="503"/>
                </a:lnTo>
                <a:lnTo>
                  <a:pt x="111" y="537"/>
                </a:lnTo>
                <a:lnTo>
                  <a:pt x="168" y="561"/>
                </a:lnTo>
                <a:lnTo>
                  <a:pt x="226" y="566"/>
                </a:lnTo>
                <a:close/>
              </a:path>
            </a:pathLst>
          </a:custGeom>
          <a:solidFill>
            <a:srgbClr val="f7fdc8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123400" y="413244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2000"/>
                </a:solidFill>
                <a:latin typeface="Arial"/>
              </a:rPr>
              <a:t>Secto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060400" y="4329000"/>
            <a:ext cx="68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2000"/>
                </a:solidFill>
                <a:latin typeface="Arial"/>
              </a:rPr>
              <a:t>Servicio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753240" y="5092560"/>
            <a:ext cx="2279520" cy="727200"/>
          </a:xfrm>
          <a:custGeom>
            <a:avLst/>
            <a:gdLst/>
            <a:ahLst/>
            <a:rect l="l" t="t" r="r" b="b"/>
            <a:pathLst>
              <a:path w="3346" h="706">
                <a:moveTo>
                  <a:pt x="226" y="706"/>
                </a:moveTo>
                <a:lnTo>
                  <a:pt x="3116" y="706"/>
                </a:lnTo>
                <a:lnTo>
                  <a:pt x="3178" y="701"/>
                </a:lnTo>
                <a:lnTo>
                  <a:pt x="3231" y="677"/>
                </a:lnTo>
                <a:lnTo>
                  <a:pt x="3279" y="638"/>
                </a:lnTo>
                <a:lnTo>
                  <a:pt x="3313" y="595"/>
                </a:lnTo>
                <a:lnTo>
                  <a:pt x="3337" y="538"/>
                </a:lnTo>
                <a:lnTo>
                  <a:pt x="3346" y="480"/>
                </a:lnTo>
                <a:lnTo>
                  <a:pt x="3346" y="226"/>
                </a:lnTo>
                <a:lnTo>
                  <a:pt x="3337" y="168"/>
                </a:lnTo>
                <a:lnTo>
                  <a:pt x="3313" y="111"/>
                </a:lnTo>
                <a:lnTo>
                  <a:pt x="3279" y="63"/>
                </a:lnTo>
                <a:lnTo>
                  <a:pt x="3231" y="29"/>
                </a:lnTo>
                <a:lnTo>
                  <a:pt x="3178" y="5"/>
                </a:lnTo>
                <a:lnTo>
                  <a:pt x="3116" y="0"/>
                </a:lnTo>
                <a:lnTo>
                  <a:pt x="226" y="0"/>
                </a:lnTo>
                <a:lnTo>
                  <a:pt x="168" y="5"/>
                </a:lnTo>
                <a:lnTo>
                  <a:pt x="111" y="29"/>
                </a:lnTo>
                <a:lnTo>
                  <a:pt x="68" y="63"/>
                </a:lnTo>
                <a:lnTo>
                  <a:pt x="29" y="111"/>
                </a:lnTo>
                <a:lnTo>
                  <a:pt x="5" y="168"/>
                </a:lnTo>
                <a:lnTo>
                  <a:pt x="0" y="226"/>
                </a:lnTo>
                <a:lnTo>
                  <a:pt x="0" y="480"/>
                </a:lnTo>
                <a:lnTo>
                  <a:pt x="5" y="538"/>
                </a:lnTo>
                <a:lnTo>
                  <a:pt x="29" y="595"/>
                </a:lnTo>
                <a:lnTo>
                  <a:pt x="68" y="638"/>
                </a:lnTo>
                <a:lnTo>
                  <a:pt x="111" y="677"/>
                </a:lnTo>
                <a:lnTo>
                  <a:pt x="168" y="701"/>
                </a:lnTo>
                <a:lnTo>
                  <a:pt x="226" y="7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640560" y="4919760"/>
            <a:ext cx="2276280" cy="725400"/>
          </a:xfrm>
          <a:custGeom>
            <a:avLst/>
            <a:gdLst/>
            <a:ahLst/>
            <a:rect l="l" t="t" r="r" b="b"/>
            <a:pathLst>
              <a:path w="3346" h="705">
                <a:moveTo>
                  <a:pt x="226" y="705"/>
                </a:moveTo>
                <a:lnTo>
                  <a:pt x="3116" y="705"/>
                </a:lnTo>
                <a:lnTo>
                  <a:pt x="3178" y="700"/>
                </a:lnTo>
                <a:lnTo>
                  <a:pt x="3231" y="676"/>
                </a:lnTo>
                <a:lnTo>
                  <a:pt x="3279" y="638"/>
                </a:lnTo>
                <a:lnTo>
                  <a:pt x="3313" y="594"/>
                </a:lnTo>
                <a:lnTo>
                  <a:pt x="3337" y="537"/>
                </a:lnTo>
                <a:lnTo>
                  <a:pt x="3346" y="479"/>
                </a:lnTo>
                <a:lnTo>
                  <a:pt x="3346" y="225"/>
                </a:lnTo>
                <a:lnTo>
                  <a:pt x="3337" y="167"/>
                </a:lnTo>
                <a:lnTo>
                  <a:pt x="3313" y="110"/>
                </a:lnTo>
                <a:lnTo>
                  <a:pt x="3279" y="62"/>
                </a:lnTo>
                <a:lnTo>
                  <a:pt x="3231" y="28"/>
                </a:lnTo>
                <a:lnTo>
                  <a:pt x="3178" y="4"/>
                </a:lnTo>
                <a:lnTo>
                  <a:pt x="3116" y="0"/>
                </a:lnTo>
                <a:lnTo>
                  <a:pt x="226" y="0"/>
                </a:lnTo>
                <a:lnTo>
                  <a:pt x="168" y="4"/>
                </a:lnTo>
                <a:lnTo>
                  <a:pt x="111" y="28"/>
                </a:lnTo>
                <a:lnTo>
                  <a:pt x="68" y="62"/>
                </a:lnTo>
                <a:lnTo>
                  <a:pt x="29" y="110"/>
                </a:lnTo>
                <a:lnTo>
                  <a:pt x="5" y="167"/>
                </a:lnTo>
                <a:lnTo>
                  <a:pt x="0" y="225"/>
                </a:lnTo>
                <a:lnTo>
                  <a:pt x="0" y="479"/>
                </a:lnTo>
                <a:lnTo>
                  <a:pt x="5" y="537"/>
                </a:lnTo>
                <a:lnTo>
                  <a:pt x="29" y="594"/>
                </a:lnTo>
                <a:lnTo>
                  <a:pt x="68" y="638"/>
                </a:lnTo>
                <a:lnTo>
                  <a:pt x="111" y="676"/>
                </a:lnTo>
                <a:lnTo>
                  <a:pt x="168" y="700"/>
                </a:lnTo>
                <a:lnTo>
                  <a:pt x="226" y="705"/>
                </a:lnTo>
                <a:close/>
              </a:path>
            </a:pathLst>
          </a:custGeom>
          <a:solidFill>
            <a:srgbClr val="f7fdc8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089840" y="4979880"/>
            <a:ext cx="13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2000"/>
                </a:solidFill>
                <a:latin typeface="Arial"/>
              </a:rPr>
              <a:t>Grandes Empresa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066080" y="5176800"/>
            <a:ext cx="147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2000"/>
                </a:solidFill>
                <a:latin typeface="Arial"/>
              </a:rPr>
              <a:t>Medianas Empresa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039080" y="5375160"/>
            <a:ext cx="1497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2000"/>
                </a:solidFill>
                <a:latin typeface="Arial"/>
              </a:rPr>
              <a:t>Pequeñas Empresa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4724280" y="2660760"/>
            <a:ext cx="1605240" cy="1395360"/>
            <a:chOff x="4724280" y="2660760"/>
            <a:chExt cx="1605240" cy="1395360"/>
          </a:xfrm>
        </p:grpSpPr>
        <p:sp>
          <p:nvSpPr>
            <p:cNvPr id="621" name=""/>
            <p:cNvSpPr/>
            <p:nvPr/>
          </p:nvSpPr>
          <p:spPr>
            <a:xfrm>
              <a:off x="4762440" y="2832120"/>
              <a:ext cx="1490760" cy="1224000"/>
            </a:xfrm>
            <a:custGeom>
              <a:avLst/>
              <a:gdLst/>
              <a:ahLst/>
              <a:rect l="l" t="t" r="r" b="b"/>
              <a:pathLst>
                <a:path w="1416" h="989">
                  <a:moveTo>
                    <a:pt x="226" y="989"/>
                  </a:moveTo>
                  <a:lnTo>
                    <a:pt x="1191" y="989"/>
                  </a:lnTo>
                  <a:lnTo>
                    <a:pt x="1248" y="984"/>
                  </a:lnTo>
                  <a:lnTo>
                    <a:pt x="1301" y="960"/>
                  </a:lnTo>
                  <a:lnTo>
                    <a:pt x="1349" y="921"/>
                  </a:lnTo>
                  <a:lnTo>
                    <a:pt x="1383" y="878"/>
                  </a:lnTo>
                  <a:lnTo>
                    <a:pt x="1407" y="821"/>
                  </a:lnTo>
                  <a:lnTo>
                    <a:pt x="1416" y="763"/>
                  </a:lnTo>
                  <a:lnTo>
                    <a:pt x="1416" y="226"/>
                  </a:lnTo>
                  <a:lnTo>
                    <a:pt x="1407" y="168"/>
                  </a:lnTo>
                  <a:lnTo>
                    <a:pt x="1383" y="111"/>
                  </a:lnTo>
                  <a:lnTo>
                    <a:pt x="1349" y="63"/>
                  </a:lnTo>
                  <a:lnTo>
                    <a:pt x="1301" y="29"/>
                  </a:lnTo>
                  <a:lnTo>
                    <a:pt x="1248" y="5"/>
                  </a:lnTo>
                  <a:lnTo>
                    <a:pt x="1191" y="0"/>
                  </a:lnTo>
                  <a:lnTo>
                    <a:pt x="226" y="0"/>
                  </a:lnTo>
                  <a:lnTo>
                    <a:pt x="168" y="5"/>
                  </a:lnTo>
                  <a:lnTo>
                    <a:pt x="111" y="29"/>
                  </a:lnTo>
                  <a:lnTo>
                    <a:pt x="63" y="63"/>
                  </a:lnTo>
                  <a:lnTo>
                    <a:pt x="29" y="111"/>
                  </a:lnTo>
                  <a:lnTo>
                    <a:pt x="5" y="168"/>
                  </a:lnTo>
                  <a:lnTo>
                    <a:pt x="0" y="226"/>
                  </a:lnTo>
                  <a:lnTo>
                    <a:pt x="0" y="763"/>
                  </a:lnTo>
                  <a:lnTo>
                    <a:pt x="5" y="821"/>
                  </a:lnTo>
                  <a:lnTo>
                    <a:pt x="29" y="878"/>
                  </a:lnTo>
                  <a:lnTo>
                    <a:pt x="63" y="921"/>
                  </a:lnTo>
                  <a:lnTo>
                    <a:pt x="111" y="960"/>
                  </a:lnTo>
                  <a:lnTo>
                    <a:pt x="168" y="984"/>
                  </a:lnTo>
                  <a:lnTo>
                    <a:pt x="226" y="98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724280" y="2660760"/>
              <a:ext cx="1605240" cy="1017720"/>
            </a:xfrm>
            <a:custGeom>
              <a:avLst/>
              <a:gdLst/>
              <a:ahLst/>
              <a:rect l="l" t="t" r="r" b="b"/>
              <a:pathLst>
                <a:path w="1416" h="988">
                  <a:moveTo>
                    <a:pt x="226" y="988"/>
                  </a:moveTo>
                  <a:lnTo>
                    <a:pt x="1191" y="988"/>
                  </a:lnTo>
                  <a:lnTo>
                    <a:pt x="1248" y="983"/>
                  </a:lnTo>
                  <a:lnTo>
                    <a:pt x="1301" y="959"/>
                  </a:lnTo>
                  <a:lnTo>
                    <a:pt x="1349" y="921"/>
                  </a:lnTo>
                  <a:lnTo>
                    <a:pt x="1383" y="877"/>
                  </a:lnTo>
                  <a:lnTo>
                    <a:pt x="1407" y="820"/>
                  </a:lnTo>
                  <a:lnTo>
                    <a:pt x="1416" y="762"/>
                  </a:lnTo>
                  <a:lnTo>
                    <a:pt x="1416" y="225"/>
                  </a:lnTo>
                  <a:lnTo>
                    <a:pt x="1407" y="167"/>
                  </a:lnTo>
                  <a:lnTo>
                    <a:pt x="1383" y="110"/>
                  </a:lnTo>
                  <a:lnTo>
                    <a:pt x="1349" y="62"/>
                  </a:lnTo>
                  <a:lnTo>
                    <a:pt x="1301" y="28"/>
                  </a:lnTo>
                  <a:lnTo>
                    <a:pt x="1248" y="4"/>
                  </a:lnTo>
                  <a:lnTo>
                    <a:pt x="1191" y="0"/>
                  </a:lnTo>
                  <a:lnTo>
                    <a:pt x="226" y="0"/>
                  </a:lnTo>
                  <a:lnTo>
                    <a:pt x="168" y="4"/>
                  </a:lnTo>
                  <a:lnTo>
                    <a:pt x="111" y="28"/>
                  </a:lnTo>
                  <a:lnTo>
                    <a:pt x="63" y="62"/>
                  </a:lnTo>
                  <a:lnTo>
                    <a:pt x="29" y="110"/>
                  </a:lnTo>
                  <a:lnTo>
                    <a:pt x="5" y="167"/>
                  </a:lnTo>
                  <a:lnTo>
                    <a:pt x="0" y="225"/>
                  </a:lnTo>
                  <a:lnTo>
                    <a:pt x="0" y="762"/>
                  </a:lnTo>
                  <a:lnTo>
                    <a:pt x="5" y="820"/>
                  </a:lnTo>
                  <a:lnTo>
                    <a:pt x="29" y="877"/>
                  </a:lnTo>
                  <a:lnTo>
                    <a:pt x="63" y="921"/>
                  </a:lnTo>
                  <a:lnTo>
                    <a:pt x="111" y="959"/>
                  </a:lnTo>
                  <a:lnTo>
                    <a:pt x="168" y="983"/>
                  </a:lnTo>
                  <a:lnTo>
                    <a:pt x="226" y="988"/>
                  </a:lnTo>
                  <a:close/>
                </a:path>
              </a:pathLst>
            </a:custGeom>
            <a:solidFill>
              <a:srgbClr val="f7fdc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5234040" y="2725560"/>
            <a:ext cx="691920" cy="911160"/>
            <a:chOff x="5234040" y="2725560"/>
            <a:chExt cx="691920" cy="911160"/>
          </a:xfrm>
        </p:grpSpPr>
        <p:sp>
          <p:nvSpPr>
            <p:cNvPr id="624" name=""/>
            <p:cNvSpPr/>
            <p:nvPr/>
          </p:nvSpPr>
          <p:spPr>
            <a:xfrm>
              <a:off x="5234040" y="2725560"/>
              <a:ext cx="691920" cy="911160"/>
            </a:xfrm>
            <a:custGeom>
              <a:avLst/>
              <a:gdLst/>
              <a:ahLst/>
              <a:rect l="l" t="t" r="r" b="b"/>
              <a:pathLst>
                <a:path w="710" h="710">
                  <a:moveTo>
                    <a:pt x="0" y="355"/>
                  </a:moveTo>
                  <a:lnTo>
                    <a:pt x="9" y="278"/>
                  </a:lnTo>
                  <a:lnTo>
                    <a:pt x="33" y="201"/>
                  </a:lnTo>
                  <a:lnTo>
                    <a:pt x="77" y="134"/>
                  </a:lnTo>
                  <a:lnTo>
                    <a:pt x="134" y="76"/>
                  </a:lnTo>
                  <a:lnTo>
                    <a:pt x="201" y="33"/>
                  </a:lnTo>
                  <a:lnTo>
                    <a:pt x="278" y="9"/>
                  </a:lnTo>
                  <a:lnTo>
                    <a:pt x="355" y="0"/>
                  </a:lnTo>
                  <a:lnTo>
                    <a:pt x="432" y="9"/>
                  </a:lnTo>
                  <a:lnTo>
                    <a:pt x="509" y="33"/>
                  </a:lnTo>
                  <a:lnTo>
                    <a:pt x="576" y="76"/>
                  </a:lnTo>
                  <a:lnTo>
                    <a:pt x="633" y="134"/>
                  </a:lnTo>
                  <a:lnTo>
                    <a:pt x="672" y="201"/>
                  </a:lnTo>
                  <a:lnTo>
                    <a:pt x="701" y="278"/>
                  </a:lnTo>
                  <a:lnTo>
                    <a:pt x="710" y="355"/>
                  </a:lnTo>
                  <a:lnTo>
                    <a:pt x="701" y="431"/>
                  </a:lnTo>
                  <a:lnTo>
                    <a:pt x="672" y="508"/>
                  </a:lnTo>
                  <a:lnTo>
                    <a:pt x="633" y="575"/>
                  </a:lnTo>
                  <a:lnTo>
                    <a:pt x="576" y="633"/>
                  </a:lnTo>
                  <a:lnTo>
                    <a:pt x="509" y="671"/>
                  </a:lnTo>
                  <a:lnTo>
                    <a:pt x="432" y="700"/>
                  </a:lnTo>
                  <a:lnTo>
                    <a:pt x="355" y="710"/>
                  </a:lnTo>
                  <a:lnTo>
                    <a:pt x="278" y="700"/>
                  </a:lnTo>
                  <a:lnTo>
                    <a:pt x="201" y="671"/>
                  </a:lnTo>
                  <a:lnTo>
                    <a:pt x="134" y="633"/>
                  </a:lnTo>
                  <a:lnTo>
                    <a:pt x="77" y="575"/>
                  </a:lnTo>
                  <a:lnTo>
                    <a:pt x="33" y="508"/>
                  </a:lnTo>
                  <a:lnTo>
                    <a:pt x="9" y="431"/>
                  </a:lnTo>
                  <a:lnTo>
                    <a:pt x="0" y="355"/>
                  </a:lnTo>
                  <a:close/>
                </a:path>
              </a:pathLst>
            </a:custGeom>
            <a:solidFill>
              <a:srgbClr val="cc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335560" y="2860560"/>
              <a:ext cx="538200" cy="706320"/>
            </a:xfrm>
            <a:custGeom>
              <a:avLst/>
              <a:gdLst/>
              <a:ahLst/>
              <a:rect l="l" t="t" r="r" b="b"/>
              <a:pathLst>
                <a:path w="639" h="556">
                  <a:moveTo>
                    <a:pt x="82" y="0"/>
                  </a:moveTo>
                  <a:lnTo>
                    <a:pt x="77" y="5"/>
                  </a:lnTo>
                  <a:lnTo>
                    <a:pt x="72" y="14"/>
                  </a:lnTo>
                  <a:lnTo>
                    <a:pt x="67" y="24"/>
                  </a:lnTo>
                  <a:lnTo>
                    <a:pt x="58" y="29"/>
                  </a:lnTo>
                  <a:lnTo>
                    <a:pt x="53" y="38"/>
                  </a:lnTo>
                  <a:lnTo>
                    <a:pt x="48" y="48"/>
                  </a:lnTo>
                  <a:lnTo>
                    <a:pt x="43" y="57"/>
                  </a:lnTo>
                  <a:lnTo>
                    <a:pt x="43" y="67"/>
                  </a:lnTo>
                  <a:lnTo>
                    <a:pt x="43" y="81"/>
                  </a:lnTo>
                  <a:lnTo>
                    <a:pt x="43" y="91"/>
                  </a:lnTo>
                  <a:lnTo>
                    <a:pt x="39" y="96"/>
                  </a:lnTo>
                  <a:lnTo>
                    <a:pt x="43" y="96"/>
                  </a:lnTo>
                  <a:lnTo>
                    <a:pt x="48" y="96"/>
                  </a:lnTo>
                  <a:lnTo>
                    <a:pt x="53" y="96"/>
                  </a:lnTo>
                  <a:lnTo>
                    <a:pt x="53" y="96"/>
                  </a:lnTo>
                  <a:lnTo>
                    <a:pt x="58" y="91"/>
                  </a:lnTo>
                  <a:lnTo>
                    <a:pt x="58" y="91"/>
                  </a:lnTo>
                  <a:lnTo>
                    <a:pt x="58" y="91"/>
                  </a:lnTo>
                  <a:lnTo>
                    <a:pt x="63" y="86"/>
                  </a:lnTo>
                  <a:lnTo>
                    <a:pt x="67" y="86"/>
                  </a:lnTo>
                  <a:lnTo>
                    <a:pt x="72" y="86"/>
                  </a:lnTo>
                  <a:lnTo>
                    <a:pt x="77" y="86"/>
                  </a:lnTo>
                  <a:lnTo>
                    <a:pt x="77" y="86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82" y="91"/>
                  </a:lnTo>
                  <a:lnTo>
                    <a:pt x="87" y="91"/>
                  </a:lnTo>
                  <a:lnTo>
                    <a:pt x="87" y="96"/>
                  </a:lnTo>
                  <a:lnTo>
                    <a:pt x="91" y="96"/>
                  </a:lnTo>
                  <a:lnTo>
                    <a:pt x="96" y="101"/>
                  </a:lnTo>
                  <a:lnTo>
                    <a:pt x="101" y="101"/>
                  </a:lnTo>
                  <a:lnTo>
                    <a:pt x="101" y="101"/>
                  </a:lnTo>
                  <a:lnTo>
                    <a:pt x="106" y="101"/>
                  </a:lnTo>
                  <a:lnTo>
                    <a:pt x="111" y="101"/>
                  </a:lnTo>
                  <a:lnTo>
                    <a:pt x="115" y="101"/>
                  </a:lnTo>
                  <a:lnTo>
                    <a:pt x="120" y="96"/>
                  </a:lnTo>
                  <a:lnTo>
                    <a:pt x="130" y="96"/>
                  </a:lnTo>
                  <a:lnTo>
                    <a:pt x="130" y="96"/>
                  </a:lnTo>
                  <a:lnTo>
                    <a:pt x="135" y="96"/>
                  </a:lnTo>
                  <a:lnTo>
                    <a:pt x="135" y="96"/>
                  </a:lnTo>
                  <a:lnTo>
                    <a:pt x="139" y="96"/>
                  </a:lnTo>
                  <a:lnTo>
                    <a:pt x="144" y="96"/>
                  </a:lnTo>
                  <a:lnTo>
                    <a:pt x="144" y="96"/>
                  </a:lnTo>
                  <a:lnTo>
                    <a:pt x="154" y="96"/>
                  </a:lnTo>
                  <a:lnTo>
                    <a:pt x="159" y="96"/>
                  </a:lnTo>
                  <a:lnTo>
                    <a:pt x="168" y="96"/>
                  </a:lnTo>
                  <a:lnTo>
                    <a:pt x="173" y="96"/>
                  </a:lnTo>
                  <a:lnTo>
                    <a:pt x="178" y="91"/>
                  </a:lnTo>
                  <a:lnTo>
                    <a:pt x="183" y="91"/>
                  </a:lnTo>
                  <a:lnTo>
                    <a:pt x="183" y="91"/>
                  </a:lnTo>
                  <a:lnTo>
                    <a:pt x="183" y="86"/>
                  </a:lnTo>
                  <a:lnTo>
                    <a:pt x="183" y="86"/>
                  </a:lnTo>
                  <a:lnTo>
                    <a:pt x="183" y="77"/>
                  </a:lnTo>
                  <a:lnTo>
                    <a:pt x="183" y="77"/>
                  </a:lnTo>
                  <a:lnTo>
                    <a:pt x="178" y="77"/>
                  </a:lnTo>
                  <a:lnTo>
                    <a:pt x="168" y="81"/>
                  </a:lnTo>
                  <a:lnTo>
                    <a:pt x="163" y="81"/>
                  </a:lnTo>
                  <a:lnTo>
                    <a:pt x="159" y="86"/>
                  </a:lnTo>
                  <a:lnTo>
                    <a:pt x="159" y="86"/>
                  </a:lnTo>
                  <a:lnTo>
                    <a:pt x="154" y="86"/>
                  </a:lnTo>
                  <a:lnTo>
                    <a:pt x="149" y="86"/>
                  </a:lnTo>
                  <a:lnTo>
                    <a:pt x="149" y="86"/>
                  </a:lnTo>
                  <a:lnTo>
                    <a:pt x="144" y="86"/>
                  </a:lnTo>
                  <a:lnTo>
                    <a:pt x="139" y="81"/>
                  </a:lnTo>
                  <a:lnTo>
                    <a:pt x="135" y="81"/>
                  </a:lnTo>
                  <a:lnTo>
                    <a:pt x="135" y="77"/>
                  </a:lnTo>
                  <a:lnTo>
                    <a:pt x="130" y="77"/>
                  </a:lnTo>
                  <a:lnTo>
                    <a:pt x="130" y="72"/>
                  </a:lnTo>
                  <a:lnTo>
                    <a:pt x="130" y="72"/>
                  </a:lnTo>
                  <a:lnTo>
                    <a:pt x="130" y="72"/>
                  </a:lnTo>
                  <a:lnTo>
                    <a:pt x="135" y="72"/>
                  </a:lnTo>
                  <a:lnTo>
                    <a:pt x="139" y="72"/>
                  </a:lnTo>
                  <a:lnTo>
                    <a:pt x="149" y="67"/>
                  </a:lnTo>
                  <a:lnTo>
                    <a:pt x="154" y="67"/>
                  </a:lnTo>
                  <a:lnTo>
                    <a:pt x="159" y="67"/>
                  </a:lnTo>
                  <a:lnTo>
                    <a:pt x="163" y="67"/>
                  </a:lnTo>
                  <a:lnTo>
                    <a:pt x="168" y="67"/>
                  </a:lnTo>
                  <a:lnTo>
                    <a:pt x="168" y="62"/>
                  </a:lnTo>
                  <a:lnTo>
                    <a:pt x="173" y="62"/>
                  </a:lnTo>
                  <a:lnTo>
                    <a:pt x="173" y="57"/>
                  </a:lnTo>
                  <a:lnTo>
                    <a:pt x="173" y="53"/>
                  </a:lnTo>
                  <a:lnTo>
                    <a:pt x="173" y="53"/>
                  </a:lnTo>
                  <a:lnTo>
                    <a:pt x="173" y="53"/>
                  </a:lnTo>
                  <a:lnTo>
                    <a:pt x="173" y="48"/>
                  </a:lnTo>
                  <a:lnTo>
                    <a:pt x="173" y="48"/>
                  </a:lnTo>
                  <a:lnTo>
                    <a:pt x="178" y="53"/>
                  </a:lnTo>
                  <a:lnTo>
                    <a:pt x="183" y="53"/>
                  </a:lnTo>
                  <a:lnTo>
                    <a:pt x="187" y="53"/>
                  </a:lnTo>
                  <a:lnTo>
                    <a:pt x="192" y="57"/>
                  </a:lnTo>
                  <a:lnTo>
                    <a:pt x="192" y="62"/>
                  </a:lnTo>
                  <a:lnTo>
                    <a:pt x="197" y="62"/>
                  </a:lnTo>
                  <a:lnTo>
                    <a:pt x="197" y="67"/>
                  </a:lnTo>
                  <a:lnTo>
                    <a:pt x="197" y="67"/>
                  </a:lnTo>
                  <a:lnTo>
                    <a:pt x="197" y="72"/>
                  </a:lnTo>
                  <a:lnTo>
                    <a:pt x="202" y="72"/>
                  </a:lnTo>
                  <a:lnTo>
                    <a:pt x="207" y="77"/>
                  </a:lnTo>
                  <a:lnTo>
                    <a:pt x="211" y="77"/>
                  </a:lnTo>
                  <a:lnTo>
                    <a:pt x="216" y="77"/>
                  </a:lnTo>
                  <a:lnTo>
                    <a:pt x="221" y="81"/>
                  </a:lnTo>
                  <a:lnTo>
                    <a:pt x="226" y="81"/>
                  </a:lnTo>
                  <a:lnTo>
                    <a:pt x="226" y="86"/>
                  </a:lnTo>
                  <a:lnTo>
                    <a:pt x="231" y="86"/>
                  </a:lnTo>
                  <a:lnTo>
                    <a:pt x="231" y="91"/>
                  </a:lnTo>
                  <a:lnTo>
                    <a:pt x="226" y="96"/>
                  </a:lnTo>
                  <a:lnTo>
                    <a:pt x="221" y="101"/>
                  </a:lnTo>
                  <a:lnTo>
                    <a:pt x="221" y="101"/>
                  </a:lnTo>
                  <a:lnTo>
                    <a:pt x="216" y="105"/>
                  </a:lnTo>
                  <a:lnTo>
                    <a:pt x="216" y="105"/>
                  </a:lnTo>
                  <a:lnTo>
                    <a:pt x="211" y="105"/>
                  </a:lnTo>
                  <a:lnTo>
                    <a:pt x="211" y="110"/>
                  </a:lnTo>
                  <a:lnTo>
                    <a:pt x="216" y="110"/>
                  </a:lnTo>
                  <a:lnTo>
                    <a:pt x="216" y="115"/>
                  </a:lnTo>
                  <a:lnTo>
                    <a:pt x="221" y="120"/>
                  </a:lnTo>
                  <a:lnTo>
                    <a:pt x="226" y="125"/>
                  </a:lnTo>
                  <a:lnTo>
                    <a:pt x="231" y="125"/>
                  </a:lnTo>
                  <a:lnTo>
                    <a:pt x="235" y="129"/>
                  </a:lnTo>
                  <a:lnTo>
                    <a:pt x="240" y="129"/>
                  </a:lnTo>
                  <a:lnTo>
                    <a:pt x="245" y="129"/>
                  </a:lnTo>
                  <a:lnTo>
                    <a:pt x="250" y="129"/>
                  </a:lnTo>
                  <a:lnTo>
                    <a:pt x="255" y="134"/>
                  </a:lnTo>
                  <a:lnTo>
                    <a:pt x="259" y="134"/>
                  </a:lnTo>
                  <a:lnTo>
                    <a:pt x="264" y="139"/>
                  </a:lnTo>
                  <a:lnTo>
                    <a:pt x="269" y="139"/>
                  </a:lnTo>
                  <a:lnTo>
                    <a:pt x="274" y="139"/>
                  </a:lnTo>
                  <a:lnTo>
                    <a:pt x="274" y="134"/>
                  </a:lnTo>
                  <a:lnTo>
                    <a:pt x="274" y="129"/>
                  </a:lnTo>
                  <a:lnTo>
                    <a:pt x="274" y="125"/>
                  </a:lnTo>
                  <a:lnTo>
                    <a:pt x="269" y="120"/>
                  </a:lnTo>
                  <a:lnTo>
                    <a:pt x="264" y="115"/>
                  </a:lnTo>
                  <a:lnTo>
                    <a:pt x="259" y="110"/>
                  </a:lnTo>
                  <a:lnTo>
                    <a:pt x="255" y="105"/>
                  </a:lnTo>
                  <a:lnTo>
                    <a:pt x="255" y="105"/>
                  </a:lnTo>
                  <a:lnTo>
                    <a:pt x="250" y="101"/>
                  </a:lnTo>
                  <a:lnTo>
                    <a:pt x="245" y="101"/>
                  </a:lnTo>
                  <a:lnTo>
                    <a:pt x="245" y="96"/>
                  </a:lnTo>
                  <a:lnTo>
                    <a:pt x="245" y="96"/>
                  </a:lnTo>
                  <a:lnTo>
                    <a:pt x="245" y="86"/>
                  </a:lnTo>
                  <a:lnTo>
                    <a:pt x="250" y="86"/>
                  </a:lnTo>
                  <a:lnTo>
                    <a:pt x="250" y="81"/>
                  </a:lnTo>
                  <a:lnTo>
                    <a:pt x="255" y="77"/>
                  </a:lnTo>
                  <a:lnTo>
                    <a:pt x="259" y="77"/>
                  </a:lnTo>
                  <a:lnTo>
                    <a:pt x="259" y="72"/>
                  </a:lnTo>
                  <a:lnTo>
                    <a:pt x="259" y="72"/>
                  </a:lnTo>
                  <a:lnTo>
                    <a:pt x="264" y="72"/>
                  </a:lnTo>
                  <a:lnTo>
                    <a:pt x="259" y="67"/>
                  </a:lnTo>
                  <a:lnTo>
                    <a:pt x="259" y="72"/>
                  </a:lnTo>
                  <a:lnTo>
                    <a:pt x="255" y="72"/>
                  </a:lnTo>
                  <a:lnTo>
                    <a:pt x="245" y="72"/>
                  </a:lnTo>
                  <a:lnTo>
                    <a:pt x="240" y="72"/>
                  </a:lnTo>
                  <a:lnTo>
                    <a:pt x="235" y="67"/>
                  </a:lnTo>
                  <a:lnTo>
                    <a:pt x="235" y="67"/>
                  </a:lnTo>
                  <a:lnTo>
                    <a:pt x="235" y="67"/>
                  </a:lnTo>
                  <a:lnTo>
                    <a:pt x="235" y="67"/>
                  </a:lnTo>
                  <a:lnTo>
                    <a:pt x="235" y="62"/>
                  </a:lnTo>
                  <a:lnTo>
                    <a:pt x="235" y="57"/>
                  </a:lnTo>
                  <a:lnTo>
                    <a:pt x="235" y="53"/>
                  </a:lnTo>
                  <a:lnTo>
                    <a:pt x="235" y="53"/>
                  </a:lnTo>
                  <a:lnTo>
                    <a:pt x="231" y="48"/>
                  </a:lnTo>
                  <a:lnTo>
                    <a:pt x="231" y="48"/>
                  </a:lnTo>
                  <a:lnTo>
                    <a:pt x="226" y="48"/>
                  </a:lnTo>
                  <a:lnTo>
                    <a:pt x="226" y="48"/>
                  </a:lnTo>
                  <a:lnTo>
                    <a:pt x="221" y="48"/>
                  </a:lnTo>
                  <a:lnTo>
                    <a:pt x="221" y="48"/>
                  </a:lnTo>
                  <a:lnTo>
                    <a:pt x="216" y="48"/>
                  </a:lnTo>
                  <a:lnTo>
                    <a:pt x="211" y="43"/>
                  </a:lnTo>
                  <a:lnTo>
                    <a:pt x="207" y="43"/>
                  </a:lnTo>
                  <a:lnTo>
                    <a:pt x="207" y="38"/>
                  </a:lnTo>
                  <a:lnTo>
                    <a:pt x="216" y="33"/>
                  </a:lnTo>
                  <a:lnTo>
                    <a:pt x="221" y="33"/>
                  </a:lnTo>
                  <a:lnTo>
                    <a:pt x="221" y="29"/>
                  </a:lnTo>
                  <a:lnTo>
                    <a:pt x="226" y="29"/>
                  </a:lnTo>
                  <a:lnTo>
                    <a:pt x="226" y="29"/>
                  </a:lnTo>
                  <a:lnTo>
                    <a:pt x="226" y="33"/>
                  </a:lnTo>
                  <a:lnTo>
                    <a:pt x="231" y="33"/>
                  </a:lnTo>
                  <a:lnTo>
                    <a:pt x="235" y="38"/>
                  </a:lnTo>
                  <a:lnTo>
                    <a:pt x="240" y="38"/>
                  </a:lnTo>
                  <a:lnTo>
                    <a:pt x="245" y="43"/>
                  </a:lnTo>
                  <a:lnTo>
                    <a:pt x="255" y="43"/>
                  </a:lnTo>
                  <a:lnTo>
                    <a:pt x="255" y="48"/>
                  </a:lnTo>
                  <a:lnTo>
                    <a:pt x="259" y="48"/>
                  </a:lnTo>
                  <a:lnTo>
                    <a:pt x="264" y="48"/>
                  </a:lnTo>
                  <a:lnTo>
                    <a:pt x="269" y="53"/>
                  </a:lnTo>
                  <a:lnTo>
                    <a:pt x="269" y="53"/>
                  </a:lnTo>
                  <a:lnTo>
                    <a:pt x="274" y="57"/>
                  </a:lnTo>
                  <a:lnTo>
                    <a:pt x="279" y="62"/>
                  </a:lnTo>
                  <a:lnTo>
                    <a:pt x="279" y="62"/>
                  </a:lnTo>
                  <a:lnTo>
                    <a:pt x="274" y="67"/>
                  </a:lnTo>
                  <a:lnTo>
                    <a:pt x="274" y="72"/>
                  </a:lnTo>
                  <a:lnTo>
                    <a:pt x="279" y="81"/>
                  </a:lnTo>
                  <a:lnTo>
                    <a:pt x="279" y="81"/>
                  </a:lnTo>
                  <a:lnTo>
                    <a:pt x="283" y="86"/>
                  </a:lnTo>
                  <a:lnTo>
                    <a:pt x="283" y="86"/>
                  </a:lnTo>
                  <a:lnTo>
                    <a:pt x="283" y="86"/>
                  </a:lnTo>
                  <a:lnTo>
                    <a:pt x="283" y="86"/>
                  </a:lnTo>
                  <a:lnTo>
                    <a:pt x="283" y="86"/>
                  </a:lnTo>
                  <a:lnTo>
                    <a:pt x="288" y="81"/>
                  </a:lnTo>
                  <a:lnTo>
                    <a:pt x="293" y="81"/>
                  </a:lnTo>
                  <a:lnTo>
                    <a:pt x="293" y="77"/>
                  </a:lnTo>
                  <a:lnTo>
                    <a:pt x="298" y="77"/>
                  </a:lnTo>
                  <a:lnTo>
                    <a:pt x="303" y="72"/>
                  </a:lnTo>
                  <a:lnTo>
                    <a:pt x="303" y="72"/>
                  </a:lnTo>
                  <a:lnTo>
                    <a:pt x="307" y="72"/>
                  </a:lnTo>
                  <a:lnTo>
                    <a:pt x="312" y="67"/>
                  </a:lnTo>
                  <a:lnTo>
                    <a:pt x="312" y="67"/>
                  </a:lnTo>
                  <a:lnTo>
                    <a:pt x="317" y="67"/>
                  </a:lnTo>
                  <a:lnTo>
                    <a:pt x="317" y="72"/>
                  </a:lnTo>
                  <a:lnTo>
                    <a:pt x="322" y="72"/>
                  </a:lnTo>
                  <a:lnTo>
                    <a:pt x="327" y="72"/>
                  </a:lnTo>
                  <a:lnTo>
                    <a:pt x="331" y="77"/>
                  </a:lnTo>
                  <a:lnTo>
                    <a:pt x="331" y="77"/>
                  </a:lnTo>
                  <a:lnTo>
                    <a:pt x="336" y="77"/>
                  </a:lnTo>
                  <a:lnTo>
                    <a:pt x="341" y="77"/>
                  </a:lnTo>
                  <a:lnTo>
                    <a:pt x="346" y="81"/>
                  </a:lnTo>
                  <a:lnTo>
                    <a:pt x="351" y="81"/>
                  </a:lnTo>
                  <a:lnTo>
                    <a:pt x="355" y="81"/>
                  </a:lnTo>
                  <a:lnTo>
                    <a:pt x="355" y="81"/>
                  </a:lnTo>
                  <a:lnTo>
                    <a:pt x="360" y="86"/>
                  </a:lnTo>
                  <a:lnTo>
                    <a:pt x="360" y="91"/>
                  </a:lnTo>
                  <a:lnTo>
                    <a:pt x="355" y="96"/>
                  </a:lnTo>
                  <a:lnTo>
                    <a:pt x="355" y="96"/>
                  </a:lnTo>
                  <a:lnTo>
                    <a:pt x="341" y="101"/>
                  </a:lnTo>
                  <a:lnTo>
                    <a:pt x="341" y="101"/>
                  </a:lnTo>
                  <a:lnTo>
                    <a:pt x="336" y="96"/>
                  </a:lnTo>
                  <a:lnTo>
                    <a:pt x="336" y="96"/>
                  </a:lnTo>
                  <a:lnTo>
                    <a:pt x="331" y="96"/>
                  </a:lnTo>
                  <a:lnTo>
                    <a:pt x="331" y="101"/>
                  </a:lnTo>
                  <a:lnTo>
                    <a:pt x="327" y="101"/>
                  </a:lnTo>
                  <a:lnTo>
                    <a:pt x="327" y="105"/>
                  </a:lnTo>
                  <a:lnTo>
                    <a:pt x="331" y="105"/>
                  </a:lnTo>
                  <a:lnTo>
                    <a:pt x="331" y="115"/>
                  </a:lnTo>
                  <a:lnTo>
                    <a:pt x="331" y="120"/>
                  </a:lnTo>
                  <a:lnTo>
                    <a:pt x="336" y="120"/>
                  </a:lnTo>
                  <a:lnTo>
                    <a:pt x="341" y="120"/>
                  </a:lnTo>
                  <a:lnTo>
                    <a:pt x="346" y="120"/>
                  </a:lnTo>
                  <a:lnTo>
                    <a:pt x="351" y="120"/>
                  </a:lnTo>
                  <a:lnTo>
                    <a:pt x="355" y="120"/>
                  </a:lnTo>
                  <a:lnTo>
                    <a:pt x="355" y="120"/>
                  </a:lnTo>
                  <a:lnTo>
                    <a:pt x="360" y="125"/>
                  </a:lnTo>
                  <a:lnTo>
                    <a:pt x="360" y="125"/>
                  </a:lnTo>
                  <a:lnTo>
                    <a:pt x="360" y="129"/>
                  </a:lnTo>
                  <a:lnTo>
                    <a:pt x="360" y="129"/>
                  </a:lnTo>
                  <a:lnTo>
                    <a:pt x="355" y="134"/>
                  </a:lnTo>
                  <a:lnTo>
                    <a:pt x="355" y="139"/>
                  </a:lnTo>
                  <a:lnTo>
                    <a:pt x="351" y="139"/>
                  </a:lnTo>
                  <a:lnTo>
                    <a:pt x="346" y="144"/>
                  </a:lnTo>
                  <a:lnTo>
                    <a:pt x="346" y="144"/>
                  </a:lnTo>
                  <a:lnTo>
                    <a:pt x="341" y="148"/>
                  </a:lnTo>
                  <a:lnTo>
                    <a:pt x="341" y="148"/>
                  </a:lnTo>
                  <a:lnTo>
                    <a:pt x="336" y="153"/>
                  </a:lnTo>
                  <a:lnTo>
                    <a:pt x="336" y="158"/>
                  </a:lnTo>
                  <a:lnTo>
                    <a:pt x="336" y="163"/>
                  </a:lnTo>
                  <a:lnTo>
                    <a:pt x="336" y="163"/>
                  </a:lnTo>
                  <a:lnTo>
                    <a:pt x="341" y="168"/>
                  </a:lnTo>
                  <a:lnTo>
                    <a:pt x="341" y="172"/>
                  </a:lnTo>
                  <a:lnTo>
                    <a:pt x="341" y="172"/>
                  </a:lnTo>
                  <a:lnTo>
                    <a:pt x="341" y="177"/>
                  </a:lnTo>
                  <a:lnTo>
                    <a:pt x="346" y="187"/>
                  </a:lnTo>
                  <a:lnTo>
                    <a:pt x="355" y="196"/>
                  </a:lnTo>
                  <a:lnTo>
                    <a:pt x="355" y="201"/>
                  </a:lnTo>
                  <a:lnTo>
                    <a:pt x="355" y="206"/>
                  </a:lnTo>
                  <a:lnTo>
                    <a:pt x="351" y="216"/>
                  </a:lnTo>
                  <a:lnTo>
                    <a:pt x="351" y="220"/>
                  </a:lnTo>
                  <a:lnTo>
                    <a:pt x="346" y="230"/>
                  </a:lnTo>
                  <a:lnTo>
                    <a:pt x="351" y="235"/>
                  </a:lnTo>
                  <a:lnTo>
                    <a:pt x="351" y="244"/>
                  </a:lnTo>
                  <a:lnTo>
                    <a:pt x="355" y="249"/>
                  </a:lnTo>
                  <a:lnTo>
                    <a:pt x="355" y="254"/>
                  </a:lnTo>
                  <a:lnTo>
                    <a:pt x="355" y="259"/>
                  </a:lnTo>
                  <a:lnTo>
                    <a:pt x="355" y="264"/>
                  </a:lnTo>
                  <a:lnTo>
                    <a:pt x="355" y="264"/>
                  </a:lnTo>
                  <a:lnTo>
                    <a:pt x="355" y="268"/>
                  </a:lnTo>
                  <a:lnTo>
                    <a:pt x="355" y="273"/>
                  </a:lnTo>
                  <a:lnTo>
                    <a:pt x="355" y="273"/>
                  </a:lnTo>
                  <a:lnTo>
                    <a:pt x="355" y="273"/>
                  </a:lnTo>
                  <a:lnTo>
                    <a:pt x="351" y="268"/>
                  </a:lnTo>
                  <a:lnTo>
                    <a:pt x="346" y="268"/>
                  </a:lnTo>
                  <a:lnTo>
                    <a:pt x="336" y="264"/>
                  </a:lnTo>
                  <a:lnTo>
                    <a:pt x="331" y="259"/>
                  </a:lnTo>
                  <a:lnTo>
                    <a:pt x="327" y="259"/>
                  </a:lnTo>
                  <a:lnTo>
                    <a:pt x="322" y="259"/>
                  </a:lnTo>
                  <a:lnTo>
                    <a:pt x="317" y="259"/>
                  </a:lnTo>
                  <a:lnTo>
                    <a:pt x="312" y="259"/>
                  </a:lnTo>
                  <a:lnTo>
                    <a:pt x="307" y="264"/>
                  </a:lnTo>
                  <a:lnTo>
                    <a:pt x="307" y="264"/>
                  </a:lnTo>
                  <a:lnTo>
                    <a:pt x="303" y="264"/>
                  </a:lnTo>
                  <a:lnTo>
                    <a:pt x="298" y="268"/>
                  </a:lnTo>
                  <a:lnTo>
                    <a:pt x="298" y="268"/>
                  </a:lnTo>
                  <a:lnTo>
                    <a:pt x="293" y="268"/>
                  </a:lnTo>
                  <a:lnTo>
                    <a:pt x="288" y="278"/>
                  </a:lnTo>
                  <a:lnTo>
                    <a:pt x="283" y="283"/>
                  </a:lnTo>
                  <a:lnTo>
                    <a:pt x="283" y="292"/>
                  </a:lnTo>
                  <a:lnTo>
                    <a:pt x="279" y="302"/>
                  </a:lnTo>
                  <a:lnTo>
                    <a:pt x="279" y="307"/>
                  </a:lnTo>
                  <a:lnTo>
                    <a:pt x="283" y="316"/>
                  </a:lnTo>
                  <a:lnTo>
                    <a:pt x="288" y="321"/>
                  </a:lnTo>
                  <a:lnTo>
                    <a:pt x="298" y="331"/>
                  </a:lnTo>
                  <a:lnTo>
                    <a:pt x="312" y="336"/>
                  </a:lnTo>
                  <a:lnTo>
                    <a:pt x="312" y="331"/>
                  </a:lnTo>
                  <a:lnTo>
                    <a:pt x="317" y="326"/>
                  </a:lnTo>
                  <a:lnTo>
                    <a:pt x="322" y="326"/>
                  </a:lnTo>
                  <a:lnTo>
                    <a:pt x="322" y="321"/>
                  </a:lnTo>
                  <a:lnTo>
                    <a:pt x="327" y="316"/>
                  </a:lnTo>
                  <a:lnTo>
                    <a:pt x="331" y="316"/>
                  </a:lnTo>
                  <a:lnTo>
                    <a:pt x="331" y="316"/>
                  </a:lnTo>
                  <a:lnTo>
                    <a:pt x="336" y="316"/>
                  </a:lnTo>
                  <a:lnTo>
                    <a:pt x="341" y="321"/>
                  </a:lnTo>
                  <a:lnTo>
                    <a:pt x="341" y="321"/>
                  </a:lnTo>
                  <a:lnTo>
                    <a:pt x="341" y="326"/>
                  </a:lnTo>
                  <a:lnTo>
                    <a:pt x="341" y="331"/>
                  </a:lnTo>
                  <a:lnTo>
                    <a:pt x="341" y="331"/>
                  </a:lnTo>
                  <a:lnTo>
                    <a:pt x="346" y="331"/>
                  </a:lnTo>
                  <a:lnTo>
                    <a:pt x="346" y="331"/>
                  </a:lnTo>
                  <a:lnTo>
                    <a:pt x="346" y="331"/>
                  </a:lnTo>
                  <a:lnTo>
                    <a:pt x="351" y="331"/>
                  </a:lnTo>
                  <a:lnTo>
                    <a:pt x="355" y="326"/>
                  </a:lnTo>
                  <a:lnTo>
                    <a:pt x="360" y="326"/>
                  </a:lnTo>
                  <a:lnTo>
                    <a:pt x="365" y="326"/>
                  </a:lnTo>
                  <a:lnTo>
                    <a:pt x="370" y="321"/>
                  </a:lnTo>
                  <a:lnTo>
                    <a:pt x="375" y="321"/>
                  </a:lnTo>
                  <a:lnTo>
                    <a:pt x="375" y="326"/>
                  </a:lnTo>
                  <a:lnTo>
                    <a:pt x="379" y="326"/>
                  </a:lnTo>
                  <a:lnTo>
                    <a:pt x="379" y="331"/>
                  </a:lnTo>
                  <a:lnTo>
                    <a:pt x="379" y="331"/>
                  </a:lnTo>
                  <a:lnTo>
                    <a:pt x="384" y="336"/>
                  </a:lnTo>
                  <a:lnTo>
                    <a:pt x="384" y="336"/>
                  </a:lnTo>
                  <a:lnTo>
                    <a:pt x="389" y="340"/>
                  </a:lnTo>
                  <a:lnTo>
                    <a:pt x="389" y="340"/>
                  </a:lnTo>
                  <a:lnTo>
                    <a:pt x="394" y="340"/>
                  </a:lnTo>
                  <a:lnTo>
                    <a:pt x="394" y="340"/>
                  </a:lnTo>
                  <a:lnTo>
                    <a:pt x="394" y="340"/>
                  </a:lnTo>
                  <a:lnTo>
                    <a:pt x="399" y="340"/>
                  </a:lnTo>
                  <a:lnTo>
                    <a:pt x="403" y="340"/>
                  </a:lnTo>
                  <a:lnTo>
                    <a:pt x="408" y="336"/>
                  </a:lnTo>
                  <a:lnTo>
                    <a:pt x="408" y="336"/>
                  </a:lnTo>
                  <a:lnTo>
                    <a:pt x="413" y="336"/>
                  </a:lnTo>
                  <a:lnTo>
                    <a:pt x="413" y="336"/>
                  </a:lnTo>
                  <a:lnTo>
                    <a:pt x="418" y="336"/>
                  </a:lnTo>
                  <a:lnTo>
                    <a:pt x="418" y="336"/>
                  </a:lnTo>
                  <a:lnTo>
                    <a:pt x="423" y="336"/>
                  </a:lnTo>
                  <a:lnTo>
                    <a:pt x="423" y="331"/>
                  </a:lnTo>
                  <a:lnTo>
                    <a:pt x="427" y="326"/>
                  </a:lnTo>
                  <a:lnTo>
                    <a:pt x="432" y="321"/>
                  </a:lnTo>
                  <a:lnTo>
                    <a:pt x="432" y="316"/>
                  </a:lnTo>
                  <a:lnTo>
                    <a:pt x="432" y="312"/>
                  </a:lnTo>
                  <a:lnTo>
                    <a:pt x="432" y="312"/>
                  </a:lnTo>
                  <a:lnTo>
                    <a:pt x="437" y="307"/>
                  </a:lnTo>
                  <a:lnTo>
                    <a:pt x="437" y="302"/>
                  </a:lnTo>
                  <a:lnTo>
                    <a:pt x="442" y="302"/>
                  </a:lnTo>
                  <a:lnTo>
                    <a:pt x="447" y="302"/>
                  </a:lnTo>
                  <a:lnTo>
                    <a:pt x="451" y="297"/>
                  </a:lnTo>
                  <a:lnTo>
                    <a:pt x="461" y="297"/>
                  </a:lnTo>
                  <a:lnTo>
                    <a:pt x="466" y="297"/>
                  </a:lnTo>
                  <a:lnTo>
                    <a:pt x="471" y="297"/>
                  </a:lnTo>
                  <a:lnTo>
                    <a:pt x="475" y="292"/>
                  </a:lnTo>
                  <a:lnTo>
                    <a:pt x="480" y="292"/>
                  </a:lnTo>
                  <a:lnTo>
                    <a:pt x="485" y="288"/>
                  </a:lnTo>
                  <a:lnTo>
                    <a:pt x="490" y="283"/>
                  </a:lnTo>
                  <a:lnTo>
                    <a:pt x="495" y="278"/>
                  </a:lnTo>
                  <a:lnTo>
                    <a:pt x="495" y="273"/>
                  </a:lnTo>
                  <a:lnTo>
                    <a:pt x="499" y="273"/>
                  </a:lnTo>
                  <a:lnTo>
                    <a:pt x="499" y="273"/>
                  </a:lnTo>
                  <a:lnTo>
                    <a:pt x="504" y="273"/>
                  </a:lnTo>
                  <a:lnTo>
                    <a:pt x="509" y="273"/>
                  </a:lnTo>
                  <a:lnTo>
                    <a:pt x="509" y="273"/>
                  </a:lnTo>
                  <a:lnTo>
                    <a:pt x="514" y="278"/>
                  </a:lnTo>
                  <a:lnTo>
                    <a:pt x="519" y="273"/>
                  </a:lnTo>
                  <a:lnTo>
                    <a:pt x="523" y="273"/>
                  </a:lnTo>
                  <a:lnTo>
                    <a:pt x="528" y="273"/>
                  </a:lnTo>
                  <a:lnTo>
                    <a:pt x="533" y="268"/>
                  </a:lnTo>
                  <a:lnTo>
                    <a:pt x="543" y="268"/>
                  </a:lnTo>
                  <a:lnTo>
                    <a:pt x="547" y="268"/>
                  </a:lnTo>
                  <a:lnTo>
                    <a:pt x="547" y="264"/>
                  </a:lnTo>
                  <a:lnTo>
                    <a:pt x="547" y="264"/>
                  </a:lnTo>
                  <a:lnTo>
                    <a:pt x="552" y="264"/>
                  </a:lnTo>
                  <a:lnTo>
                    <a:pt x="552" y="264"/>
                  </a:lnTo>
                  <a:lnTo>
                    <a:pt x="552" y="264"/>
                  </a:lnTo>
                  <a:lnTo>
                    <a:pt x="557" y="268"/>
                  </a:lnTo>
                  <a:lnTo>
                    <a:pt x="557" y="268"/>
                  </a:lnTo>
                  <a:lnTo>
                    <a:pt x="562" y="268"/>
                  </a:lnTo>
                  <a:lnTo>
                    <a:pt x="567" y="268"/>
                  </a:lnTo>
                  <a:lnTo>
                    <a:pt x="571" y="268"/>
                  </a:lnTo>
                  <a:lnTo>
                    <a:pt x="576" y="268"/>
                  </a:lnTo>
                  <a:lnTo>
                    <a:pt x="581" y="268"/>
                  </a:lnTo>
                  <a:lnTo>
                    <a:pt x="591" y="264"/>
                  </a:lnTo>
                  <a:lnTo>
                    <a:pt x="595" y="259"/>
                  </a:lnTo>
                  <a:lnTo>
                    <a:pt x="600" y="254"/>
                  </a:lnTo>
                  <a:lnTo>
                    <a:pt x="610" y="249"/>
                  </a:lnTo>
                  <a:lnTo>
                    <a:pt x="615" y="244"/>
                  </a:lnTo>
                  <a:lnTo>
                    <a:pt x="619" y="244"/>
                  </a:lnTo>
                  <a:lnTo>
                    <a:pt x="629" y="249"/>
                  </a:lnTo>
                  <a:lnTo>
                    <a:pt x="634" y="259"/>
                  </a:lnTo>
                  <a:lnTo>
                    <a:pt x="634" y="264"/>
                  </a:lnTo>
                  <a:lnTo>
                    <a:pt x="634" y="273"/>
                  </a:lnTo>
                  <a:lnTo>
                    <a:pt x="634" y="283"/>
                  </a:lnTo>
                  <a:lnTo>
                    <a:pt x="634" y="292"/>
                  </a:lnTo>
                  <a:lnTo>
                    <a:pt x="634" y="302"/>
                  </a:lnTo>
                  <a:lnTo>
                    <a:pt x="639" y="312"/>
                  </a:lnTo>
                  <a:lnTo>
                    <a:pt x="639" y="316"/>
                  </a:lnTo>
                  <a:lnTo>
                    <a:pt x="639" y="321"/>
                  </a:lnTo>
                  <a:lnTo>
                    <a:pt x="639" y="331"/>
                  </a:lnTo>
                  <a:lnTo>
                    <a:pt x="634" y="340"/>
                  </a:lnTo>
                  <a:lnTo>
                    <a:pt x="634" y="350"/>
                  </a:lnTo>
                  <a:lnTo>
                    <a:pt x="634" y="355"/>
                  </a:lnTo>
                  <a:lnTo>
                    <a:pt x="629" y="364"/>
                  </a:lnTo>
                  <a:lnTo>
                    <a:pt x="629" y="374"/>
                  </a:lnTo>
                  <a:lnTo>
                    <a:pt x="629" y="384"/>
                  </a:lnTo>
                  <a:lnTo>
                    <a:pt x="624" y="388"/>
                  </a:lnTo>
                  <a:lnTo>
                    <a:pt x="619" y="398"/>
                  </a:lnTo>
                  <a:lnTo>
                    <a:pt x="615" y="408"/>
                  </a:lnTo>
                  <a:lnTo>
                    <a:pt x="610" y="412"/>
                  </a:lnTo>
                  <a:lnTo>
                    <a:pt x="605" y="422"/>
                  </a:lnTo>
                  <a:lnTo>
                    <a:pt x="605" y="427"/>
                  </a:lnTo>
                  <a:lnTo>
                    <a:pt x="600" y="432"/>
                  </a:lnTo>
                  <a:lnTo>
                    <a:pt x="595" y="441"/>
                  </a:lnTo>
                  <a:lnTo>
                    <a:pt x="591" y="446"/>
                  </a:lnTo>
                  <a:lnTo>
                    <a:pt x="586" y="455"/>
                  </a:lnTo>
                  <a:lnTo>
                    <a:pt x="581" y="465"/>
                  </a:lnTo>
                  <a:lnTo>
                    <a:pt x="571" y="475"/>
                  </a:lnTo>
                  <a:lnTo>
                    <a:pt x="567" y="484"/>
                  </a:lnTo>
                  <a:lnTo>
                    <a:pt x="567" y="489"/>
                  </a:lnTo>
                  <a:lnTo>
                    <a:pt x="562" y="494"/>
                  </a:lnTo>
                  <a:lnTo>
                    <a:pt x="562" y="499"/>
                  </a:lnTo>
                  <a:lnTo>
                    <a:pt x="557" y="503"/>
                  </a:lnTo>
                  <a:lnTo>
                    <a:pt x="557" y="508"/>
                  </a:lnTo>
                  <a:lnTo>
                    <a:pt x="552" y="513"/>
                  </a:lnTo>
                  <a:lnTo>
                    <a:pt x="547" y="513"/>
                  </a:lnTo>
                  <a:lnTo>
                    <a:pt x="543" y="518"/>
                  </a:lnTo>
                  <a:lnTo>
                    <a:pt x="543" y="523"/>
                  </a:lnTo>
                  <a:lnTo>
                    <a:pt x="538" y="527"/>
                  </a:lnTo>
                  <a:lnTo>
                    <a:pt x="538" y="527"/>
                  </a:lnTo>
                  <a:lnTo>
                    <a:pt x="538" y="532"/>
                  </a:lnTo>
                  <a:lnTo>
                    <a:pt x="533" y="532"/>
                  </a:lnTo>
                  <a:lnTo>
                    <a:pt x="533" y="537"/>
                  </a:lnTo>
                  <a:lnTo>
                    <a:pt x="528" y="542"/>
                  </a:lnTo>
                  <a:lnTo>
                    <a:pt x="523" y="542"/>
                  </a:lnTo>
                  <a:lnTo>
                    <a:pt x="519" y="547"/>
                  </a:lnTo>
                  <a:lnTo>
                    <a:pt x="514" y="547"/>
                  </a:lnTo>
                  <a:lnTo>
                    <a:pt x="514" y="551"/>
                  </a:lnTo>
                  <a:lnTo>
                    <a:pt x="509" y="551"/>
                  </a:lnTo>
                  <a:lnTo>
                    <a:pt x="509" y="556"/>
                  </a:lnTo>
                  <a:lnTo>
                    <a:pt x="509" y="556"/>
                  </a:lnTo>
                  <a:lnTo>
                    <a:pt x="509" y="537"/>
                  </a:lnTo>
                  <a:lnTo>
                    <a:pt x="514" y="518"/>
                  </a:lnTo>
                  <a:lnTo>
                    <a:pt x="519" y="503"/>
                  </a:lnTo>
                  <a:lnTo>
                    <a:pt x="519" y="489"/>
                  </a:lnTo>
                  <a:lnTo>
                    <a:pt x="519" y="479"/>
                  </a:lnTo>
                  <a:lnTo>
                    <a:pt x="519" y="475"/>
                  </a:lnTo>
                  <a:lnTo>
                    <a:pt x="519" y="465"/>
                  </a:lnTo>
                  <a:lnTo>
                    <a:pt x="519" y="460"/>
                  </a:lnTo>
                  <a:lnTo>
                    <a:pt x="519" y="455"/>
                  </a:lnTo>
                  <a:lnTo>
                    <a:pt x="519" y="451"/>
                  </a:lnTo>
                  <a:lnTo>
                    <a:pt x="514" y="451"/>
                  </a:lnTo>
                  <a:lnTo>
                    <a:pt x="504" y="446"/>
                  </a:lnTo>
                  <a:lnTo>
                    <a:pt x="499" y="446"/>
                  </a:lnTo>
                  <a:lnTo>
                    <a:pt x="490" y="446"/>
                  </a:lnTo>
                  <a:lnTo>
                    <a:pt x="485" y="446"/>
                  </a:lnTo>
                  <a:lnTo>
                    <a:pt x="480" y="446"/>
                  </a:lnTo>
                  <a:lnTo>
                    <a:pt x="471" y="446"/>
                  </a:lnTo>
                  <a:lnTo>
                    <a:pt x="466" y="446"/>
                  </a:lnTo>
                  <a:lnTo>
                    <a:pt x="461" y="441"/>
                  </a:lnTo>
                  <a:lnTo>
                    <a:pt x="451" y="441"/>
                  </a:lnTo>
                  <a:lnTo>
                    <a:pt x="447" y="436"/>
                  </a:lnTo>
                  <a:lnTo>
                    <a:pt x="442" y="436"/>
                  </a:lnTo>
                  <a:lnTo>
                    <a:pt x="437" y="436"/>
                  </a:lnTo>
                  <a:lnTo>
                    <a:pt x="437" y="432"/>
                  </a:lnTo>
                  <a:lnTo>
                    <a:pt x="437" y="432"/>
                  </a:lnTo>
                  <a:lnTo>
                    <a:pt x="437" y="427"/>
                  </a:lnTo>
                  <a:lnTo>
                    <a:pt x="437" y="422"/>
                  </a:lnTo>
                  <a:lnTo>
                    <a:pt x="432" y="412"/>
                  </a:lnTo>
                  <a:lnTo>
                    <a:pt x="432" y="398"/>
                  </a:lnTo>
                  <a:lnTo>
                    <a:pt x="432" y="393"/>
                  </a:lnTo>
                  <a:lnTo>
                    <a:pt x="432" y="384"/>
                  </a:lnTo>
                  <a:lnTo>
                    <a:pt x="437" y="379"/>
                  </a:lnTo>
                  <a:lnTo>
                    <a:pt x="437" y="369"/>
                  </a:lnTo>
                  <a:lnTo>
                    <a:pt x="432" y="369"/>
                  </a:lnTo>
                  <a:lnTo>
                    <a:pt x="432" y="364"/>
                  </a:lnTo>
                  <a:lnTo>
                    <a:pt x="427" y="360"/>
                  </a:lnTo>
                  <a:lnTo>
                    <a:pt x="423" y="360"/>
                  </a:lnTo>
                  <a:lnTo>
                    <a:pt x="418" y="360"/>
                  </a:lnTo>
                  <a:lnTo>
                    <a:pt x="413" y="360"/>
                  </a:lnTo>
                  <a:lnTo>
                    <a:pt x="413" y="360"/>
                  </a:lnTo>
                  <a:lnTo>
                    <a:pt x="408" y="360"/>
                  </a:lnTo>
                  <a:lnTo>
                    <a:pt x="408" y="364"/>
                  </a:lnTo>
                  <a:lnTo>
                    <a:pt x="399" y="364"/>
                  </a:lnTo>
                  <a:lnTo>
                    <a:pt x="394" y="364"/>
                  </a:lnTo>
                  <a:lnTo>
                    <a:pt x="384" y="364"/>
                  </a:lnTo>
                  <a:lnTo>
                    <a:pt x="379" y="364"/>
                  </a:lnTo>
                  <a:lnTo>
                    <a:pt x="375" y="364"/>
                  </a:lnTo>
                  <a:lnTo>
                    <a:pt x="370" y="364"/>
                  </a:lnTo>
                  <a:lnTo>
                    <a:pt x="365" y="369"/>
                  </a:lnTo>
                  <a:lnTo>
                    <a:pt x="360" y="364"/>
                  </a:lnTo>
                  <a:lnTo>
                    <a:pt x="355" y="364"/>
                  </a:lnTo>
                  <a:lnTo>
                    <a:pt x="351" y="364"/>
                  </a:lnTo>
                  <a:lnTo>
                    <a:pt x="341" y="360"/>
                  </a:lnTo>
                  <a:lnTo>
                    <a:pt x="336" y="355"/>
                  </a:lnTo>
                  <a:lnTo>
                    <a:pt x="331" y="355"/>
                  </a:lnTo>
                  <a:lnTo>
                    <a:pt x="331" y="355"/>
                  </a:lnTo>
                  <a:lnTo>
                    <a:pt x="327" y="355"/>
                  </a:lnTo>
                  <a:lnTo>
                    <a:pt x="322" y="355"/>
                  </a:lnTo>
                  <a:lnTo>
                    <a:pt x="317" y="355"/>
                  </a:lnTo>
                  <a:lnTo>
                    <a:pt x="312" y="360"/>
                  </a:lnTo>
                  <a:lnTo>
                    <a:pt x="307" y="364"/>
                  </a:lnTo>
                  <a:lnTo>
                    <a:pt x="303" y="369"/>
                  </a:lnTo>
                  <a:lnTo>
                    <a:pt x="298" y="374"/>
                  </a:lnTo>
                  <a:lnTo>
                    <a:pt x="298" y="374"/>
                  </a:lnTo>
                  <a:lnTo>
                    <a:pt x="293" y="379"/>
                  </a:lnTo>
                  <a:lnTo>
                    <a:pt x="293" y="379"/>
                  </a:lnTo>
                  <a:lnTo>
                    <a:pt x="288" y="379"/>
                  </a:lnTo>
                  <a:lnTo>
                    <a:pt x="279" y="379"/>
                  </a:lnTo>
                  <a:lnTo>
                    <a:pt x="274" y="374"/>
                  </a:lnTo>
                  <a:lnTo>
                    <a:pt x="269" y="374"/>
                  </a:lnTo>
                  <a:lnTo>
                    <a:pt x="259" y="374"/>
                  </a:lnTo>
                  <a:lnTo>
                    <a:pt x="259" y="379"/>
                  </a:lnTo>
                  <a:lnTo>
                    <a:pt x="250" y="379"/>
                  </a:lnTo>
                  <a:lnTo>
                    <a:pt x="245" y="374"/>
                  </a:lnTo>
                  <a:lnTo>
                    <a:pt x="245" y="369"/>
                  </a:lnTo>
                  <a:lnTo>
                    <a:pt x="240" y="364"/>
                  </a:lnTo>
                  <a:lnTo>
                    <a:pt x="235" y="355"/>
                  </a:lnTo>
                  <a:lnTo>
                    <a:pt x="231" y="350"/>
                  </a:lnTo>
                  <a:lnTo>
                    <a:pt x="231" y="345"/>
                  </a:lnTo>
                  <a:lnTo>
                    <a:pt x="226" y="345"/>
                  </a:lnTo>
                  <a:lnTo>
                    <a:pt x="226" y="340"/>
                  </a:lnTo>
                  <a:lnTo>
                    <a:pt x="221" y="340"/>
                  </a:lnTo>
                  <a:lnTo>
                    <a:pt x="221" y="336"/>
                  </a:lnTo>
                  <a:lnTo>
                    <a:pt x="216" y="331"/>
                  </a:lnTo>
                  <a:lnTo>
                    <a:pt x="211" y="331"/>
                  </a:lnTo>
                  <a:lnTo>
                    <a:pt x="207" y="326"/>
                  </a:lnTo>
                  <a:lnTo>
                    <a:pt x="202" y="326"/>
                  </a:lnTo>
                  <a:lnTo>
                    <a:pt x="202" y="326"/>
                  </a:lnTo>
                  <a:lnTo>
                    <a:pt x="197" y="321"/>
                  </a:lnTo>
                  <a:lnTo>
                    <a:pt x="197" y="321"/>
                  </a:lnTo>
                  <a:lnTo>
                    <a:pt x="192" y="321"/>
                  </a:lnTo>
                  <a:lnTo>
                    <a:pt x="187" y="321"/>
                  </a:lnTo>
                  <a:lnTo>
                    <a:pt x="183" y="321"/>
                  </a:lnTo>
                  <a:lnTo>
                    <a:pt x="178" y="321"/>
                  </a:lnTo>
                  <a:lnTo>
                    <a:pt x="173" y="321"/>
                  </a:lnTo>
                  <a:lnTo>
                    <a:pt x="168" y="321"/>
                  </a:lnTo>
                  <a:lnTo>
                    <a:pt x="168" y="321"/>
                  </a:lnTo>
                  <a:lnTo>
                    <a:pt x="168" y="321"/>
                  </a:lnTo>
                  <a:lnTo>
                    <a:pt x="168" y="321"/>
                  </a:lnTo>
                  <a:lnTo>
                    <a:pt x="168" y="326"/>
                  </a:lnTo>
                  <a:lnTo>
                    <a:pt x="173" y="331"/>
                  </a:lnTo>
                  <a:lnTo>
                    <a:pt x="178" y="336"/>
                  </a:lnTo>
                  <a:lnTo>
                    <a:pt x="183" y="340"/>
                  </a:lnTo>
                  <a:lnTo>
                    <a:pt x="187" y="345"/>
                  </a:lnTo>
                  <a:lnTo>
                    <a:pt x="192" y="345"/>
                  </a:lnTo>
                  <a:lnTo>
                    <a:pt x="197" y="350"/>
                  </a:lnTo>
                  <a:lnTo>
                    <a:pt x="202" y="350"/>
                  </a:lnTo>
                  <a:lnTo>
                    <a:pt x="202" y="350"/>
                  </a:lnTo>
                  <a:lnTo>
                    <a:pt x="207" y="355"/>
                  </a:lnTo>
                  <a:lnTo>
                    <a:pt x="207" y="360"/>
                  </a:lnTo>
                  <a:lnTo>
                    <a:pt x="202" y="360"/>
                  </a:lnTo>
                  <a:lnTo>
                    <a:pt x="202" y="360"/>
                  </a:lnTo>
                  <a:lnTo>
                    <a:pt x="192" y="360"/>
                  </a:lnTo>
                  <a:lnTo>
                    <a:pt x="183" y="355"/>
                  </a:lnTo>
                  <a:lnTo>
                    <a:pt x="178" y="355"/>
                  </a:lnTo>
                  <a:lnTo>
                    <a:pt x="173" y="350"/>
                  </a:lnTo>
                  <a:lnTo>
                    <a:pt x="168" y="350"/>
                  </a:lnTo>
                  <a:lnTo>
                    <a:pt x="163" y="345"/>
                  </a:lnTo>
                  <a:lnTo>
                    <a:pt x="163" y="345"/>
                  </a:lnTo>
                  <a:lnTo>
                    <a:pt x="159" y="340"/>
                  </a:lnTo>
                  <a:lnTo>
                    <a:pt x="154" y="336"/>
                  </a:lnTo>
                  <a:lnTo>
                    <a:pt x="149" y="331"/>
                  </a:lnTo>
                  <a:lnTo>
                    <a:pt x="149" y="321"/>
                  </a:lnTo>
                  <a:lnTo>
                    <a:pt x="149" y="312"/>
                  </a:lnTo>
                  <a:lnTo>
                    <a:pt x="149" y="302"/>
                  </a:lnTo>
                  <a:lnTo>
                    <a:pt x="144" y="302"/>
                  </a:lnTo>
                  <a:lnTo>
                    <a:pt x="144" y="297"/>
                  </a:lnTo>
                  <a:lnTo>
                    <a:pt x="135" y="292"/>
                  </a:lnTo>
                  <a:lnTo>
                    <a:pt x="130" y="288"/>
                  </a:lnTo>
                  <a:lnTo>
                    <a:pt x="125" y="283"/>
                  </a:lnTo>
                  <a:lnTo>
                    <a:pt x="120" y="283"/>
                  </a:lnTo>
                  <a:lnTo>
                    <a:pt x="120" y="278"/>
                  </a:lnTo>
                  <a:lnTo>
                    <a:pt x="115" y="278"/>
                  </a:lnTo>
                  <a:lnTo>
                    <a:pt x="115" y="273"/>
                  </a:lnTo>
                  <a:lnTo>
                    <a:pt x="115" y="273"/>
                  </a:lnTo>
                  <a:lnTo>
                    <a:pt x="111" y="268"/>
                  </a:lnTo>
                  <a:lnTo>
                    <a:pt x="111" y="264"/>
                  </a:lnTo>
                  <a:lnTo>
                    <a:pt x="115" y="259"/>
                  </a:lnTo>
                  <a:lnTo>
                    <a:pt x="115" y="249"/>
                  </a:lnTo>
                  <a:lnTo>
                    <a:pt x="115" y="235"/>
                  </a:lnTo>
                  <a:lnTo>
                    <a:pt x="111" y="230"/>
                  </a:lnTo>
                  <a:lnTo>
                    <a:pt x="111" y="225"/>
                  </a:lnTo>
                  <a:lnTo>
                    <a:pt x="106" y="220"/>
                  </a:lnTo>
                  <a:lnTo>
                    <a:pt x="106" y="220"/>
                  </a:lnTo>
                  <a:lnTo>
                    <a:pt x="101" y="216"/>
                  </a:lnTo>
                  <a:lnTo>
                    <a:pt x="96" y="211"/>
                  </a:lnTo>
                  <a:lnTo>
                    <a:pt x="96" y="211"/>
                  </a:lnTo>
                  <a:lnTo>
                    <a:pt x="96" y="206"/>
                  </a:lnTo>
                  <a:lnTo>
                    <a:pt x="91" y="201"/>
                  </a:lnTo>
                  <a:lnTo>
                    <a:pt x="87" y="196"/>
                  </a:lnTo>
                  <a:lnTo>
                    <a:pt x="87" y="192"/>
                  </a:lnTo>
                  <a:lnTo>
                    <a:pt x="82" y="192"/>
                  </a:lnTo>
                  <a:lnTo>
                    <a:pt x="82" y="187"/>
                  </a:lnTo>
                  <a:lnTo>
                    <a:pt x="82" y="187"/>
                  </a:lnTo>
                  <a:lnTo>
                    <a:pt x="82" y="187"/>
                  </a:lnTo>
                  <a:lnTo>
                    <a:pt x="82" y="187"/>
                  </a:lnTo>
                  <a:lnTo>
                    <a:pt x="87" y="187"/>
                  </a:lnTo>
                  <a:lnTo>
                    <a:pt x="91" y="187"/>
                  </a:lnTo>
                  <a:lnTo>
                    <a:pt x="91" y="187"/>
                  </a:lnTo>
                  <a:lnTo>
                    <a:pt x="96" y="192"/>
                  </a:lnTo>
                  <a:lnTo>
                    <a:pt x="96" y="192"/>
                  </a:lnTo>
                  <a:lnTo>
                    <a:pt x="101" y="192"/>
                  </a:lnTo>
                  <a:lnTo>
                    <a:pt x="101" y="187"/>
                  </a:lnTo>
                  <a:lnTo>
                    <a:pt x="101" y="187"/>
                  </a:lnTo>
                  <a:lnTo>
                    <a:pt x="106" y="177"/>
                  </a:lnTo>
                  <a:lnTo>
                    <a:pt x="106" y="172"/>
                  </a:lnTo>
                  <a:lnTo>
                    <a:pt x="106" y="168"/>
                  </a:lnTo>
                  <a:lnTo>
                    <a:pt x="101" y="163"/>
                  </a:lnTo>
                  <a:lnTo>
                    <a:pt x="96" y="163"/>
                  </a:lnTo>
                  <a:lnTo>
                    <a:pt x="96" y="163"/>
                  </a:lnTo>
                  <a:lnTo>
                    <a:pt x="96" y="163"/>
                  </a:lnTo>
                  <a:lnTo>
                    <a:pt x="91" y="163"/>
                  </a:lnTo>
                  <a:lnTo>
                    <a:pt x="91" y="163"/>
                  </a:lnTo>
                  <a:lnTo>
                    <a:pt x="87" y="163"/>
                  </a:lnTo>
                  <a:lnTo>
                    <a:pt x="87" y="163"/>
                  </a:lnTo>
                  <a:lnTo>
                    <a:pt x="82" y="163"/>
                  </a:lnTo>
                  <a:lnTo>
                    <a:pt x="82" y="168"/>
                  </a:lnTo>
                  <a:lnTo>
                    <a:pt x="77" y="168"/>
                  </a:lnTo>
                  <a:lnTo>
                    <a:pt x="77" y="163"/>
                  </a:lnTo>
                  <a:lnTo>
                    <a:pt x="72" y="158"/>
                  </a:lnTo>
                  <a:lnTo>
                    <a:pt x="67" y="158"/>
                  </a:lnTo>
                  <a:lnTo>
                    <a:pt x="63" y="153"/>
                  </a:lnTo>
                  <a:lnTo>
                    <a:pt x="58" y="153"/>
                  </a:lnTo>
                  <a:lnTo>
                    <a:pt x="53" y="153"/>
                  </a:lnTo>
                  <a:lnTo>
                    <a:pt x="43" y="153"/>
                  </a:lnTo>
                  <a:lnTo>
                    <a:pt x="39" y="153"/>
                  </a:lnTo>
                  <a:lnTo>
                    <a:pt x="34" y="153"/>
                  </a:lnTo>
                  <a:lnTo>
                    <a:pt x="34" y="153"/>
                  </a:lnTo>
                  <a:lnTo>
                    <a:pt x="24" y="158"/>
                  </a:lnTo>
                  <a:lnTo>
                    <a:pt x="19" y="153"/>
                  </a:lnTo>
                  <a:lnTo>
                    <a:pt x="19" y="153"/>
                  </a:lnTo>
                  <a:lnTo>
                    <a:pt x="24" y="144"/>
                  </a:lnTo>
                  <a:lnTo>
                    <a:pt x="24" y="139"/>
                  </a:lnTo>
                  <a:lnTo>
                    <a:pt x="29" y="134"/>
                  </a:lnTo>
                  <a:lnTo>
                    <a:pt x="34" y="134"/>
                  </a:lnTo>
                  <a:lnTo>
                    <a:pt x="34" y="129"/>
                  </a:lnTo>
                  <a:lnTo>
                    <a:pt x="39" y="129"/>
                  </a:lnTo>
                  <a:lnTo>
                    <a:pt x="39" y="125"/>
                  </a:lnTo>
                  <a:lnTo>
                    <a:pt x="39" y="125"/>
                  </a:lnTo>
                  <a:lnTo>
                    <a:pt x="43" y="120"/>
                  </a:lnTo>
                  <a:lnTo>
                    <a:pt x="43" y="110"/>
                  </a:lnTo>
                  <a:lnTo>
                    <a:pt x="43" y="105"/>
                  </a:lnTo>
                  <a:lnTo>
                    <a:pt x="43" y="101"/>
                  </a:lnTo>
                  <a:lnTo>
                    <a:pt x="34" y="101"/>
                  </a:lnTo>
                  <a:lnTo>
                    <a:pt x="29" y="101"/>
                  </a:lnTo>
                  <a:lnTo>
                    <a:pt x="24" y="101"/>
                  </a:lnTo>
                  <a:lnTo>
                    <a:pt x="24" y="105"/>
                  </a:lnTo>
                  <a:lnTo>
                    <a:pt x="19" y="105"/>
                  </a:lnTo>
                  <a:lnTo>
                    <a:pt x="19" y="105"/>
                  </a:lnTo>
                  <a:lnTo>
                    <a:pt x="15" y="110"/>
                  </a:lnTo>
                  <a:lnTo>
                    <a:pt x="10" y="110"/>
                  </a:lnTo>
                  <a:lnTo>
                    <a:pt x="10" y="105"/>
                  </a:lnTo>
                  <a:lnTo>
                    <a:pt x="5" y="105"/>
                  </a:lnTo>
                  <a:lnTo>
                    <a:pt x="5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5" y="96"/>
                  </a:lnTo>
                  <a:lnTo>
                    <a:pt x="15" y="81"/>
                  </a:lnTo>
                  <a:lnTo>
                    <a:pt x="24" y="67"/>
                  </a:lnTo>
                  <a:lnTo>
                    <a:pt x="39" y="48"/>
                  </a:lnTo>
                  <a:lnTo>
                    <a:pt x="48" y="33"/>
                  </a:lnTo>
                  <a:lnTo>
                    <a:pt x="63" y="19"/>
                  </a:lnTo>
                  <a:lnTo>
                    <a:pt x="72" y="5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97560" y="2825640"/>
              <a:ext cx="109440" cy="84240"/>
            </a:xfrm>
            <a:custGeom>
              <a:avLst/>
              <a:gdLst/>
              <a:ahLst/>
              <a:rect l="l" t="t" r="r" b="b"/>
              <a:pathLst>
                <a:path w="130" h="67">
                  <a:moveTo>
                    <a:pt x="0" y="53"/>
                  </a:moveTo>
                  <a:lnTo>
                    <a:pt x="10" y="48"/>
                  </a:lnTo>
                  <a:lnTo>
                    <a:pt x="15" y="43"/>
                  </a:lnTo>
                  <a:lnTo>
                    <a:pt x="24" y="43"/>
                  </a:lnTo>
                  <a:lnTo>
                    <a:pt x="29" y="43"/>
                  </a:lnTo>
                  <a:lnTo>
                    <a:pt x="39" y="43"/>
                  </a:lnTo>
                  <a:lnTo>
                    <a:pt x="48" y="48"/>
                  </a:lnTo>
                  <a:lnTo>
                    <a:pt x="58" y="48"/>
                  </a:lnTo>
                  <a:lnTo>
                    <a:pt x="63" y="53"/>
                  </a:lnTo>
                  <a:lnTo>
                    <a:pt x="72" y="58"/>
                  </a:lnTo>
                  <a:lnTo>
                    <a:pt x="87" y="62"/>
                  </a:lnTo>
                  <a:lnTo>
                    <a:pt x="96" y="62"/>
                  </a:lnTo>
                  <a:lnTo>
                    <a:pt x="106" y="67"/>
                  </a:lnTo>
                  <a:lnTo>
                    <a:pt x="115" y="67"/>
                  </a:lnTo>
                  <a:lnTo>
                    <a:pt x="125" y="67"/>
                  </a:lnTo>
                  <a:lnTo>
                    <a:pt x="130" y="67"/>
                  </a:lnTo>
                  <a:lnTo>
                    <a:pt x="130" y="58"/>
                  </a:lnTo>
                  <a:lnTo>
                    <a:pt x="125" y="53"/>
                  </a:lnTo>
                  <a:lnTo>
                    <a:pt x="120" y="43"/>
                  </a:lnTo>
                  <a:lnTo>
                    <a:pt x="115" y="38"/>
                  </a:lnTo>
                  <a:lnTo>
                    <a:pt x="111" y="34"/>
                  </a:lnTo>
                  <a:lnTo>
                    <a:pt x="106" y="29"/>
                  </a:lnTo>
                  <a:lnTo>
                    <a:pt x="101" y="24"/>
                  </a:lnTo>
                  <a:lnTo>
                    <a:pt x="101" y="19"/>
                  </a:lnTo>
                  <a:lnTo>
                    <a:pt x="96" y="14"/>
                  </a:lnTo>
                  <a:lnTo>
                    <a:pt x="96" y="10"/>
                  </a:lnTo>
                  <a:lnTo>
                    <a:pt x="91" y="5"/>
                  </a:lnTo>
                  <a:lnTo>
                    <a:pt x="91" y="5"/>
                  </a:lnTo>
                  <a:lnTo>
                    <a:pt x="91" y="5"/>
                  </a:lnTo>
                  <a:lnTo>
                    <a:pt x="87" y="5"/>
                  </a:lnTo>
                  <a:lnTo>
                    <a:pt x="87" y="5"/>
                  </a:lnTo>
                  <a:lnTo>
                    <a:pt x="77" y="5"/>
                  </a:lnTo>
                  <a:lnTo>
                    <a:pt x="72" y="5"/>
                  </a:lnTo>
                  <a:lnTo>
                    <a:pt x="63" y="5"/>
                  </a:lnTo>
                  <a:lnTo>
                    <a:pt x="58" y="5"/>
                  </a:lnTo>
                  <a:lnTo>
                    <a:pt x="48" y="5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10" y="10"/>
                  </a:lnTo>
                  <a:lnTo>
                    <a:pt x="5" y="14"/>
                  </a:lnTo>
                  <a:lnTo>
                    <a:pt x="5" y="24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594400" y="2819160"/>
              <a:ext cx="20520" cy="414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0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4" y="5"/>
                  </a:lnTo>
                  <a:lnTo>
                    <a:pt x="24" y="10"/>
                  </a:lnTo>
                  <a:lnTo>
                    <a:pt x="24" y="15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5" y="29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530680" y="2744640"/>
              <a:ext cx="328680" cy="249120"/>
            </a:xfrm>
            <a:custGeom>
              <a:avLst/>
              <a:gdLst/>
              <a:ahLst/>
              <a:rect l="l" t="t" r="r" b="b"/>
              <a:pathLst>
                <a:path w="393" h="196">
                  <a:moveTo>
                    <a:pt x="393" y="196"/>
                  </a:moveTo>
                  <a:lnTo>
                    <a:pt x="388" y="196"/>
                  </a:lnTo>
                  <a:lnTo>
                    <a:pt x="384" y="196"/>
                  </a:lnTo>
                  <a:lnTo>
                    <a:pt x="379" y="196"/>
                  </a:lnTo>
                  <a:lnTo>
                    <a:pt x="374" y="192"/>
                  </a:lnTo>
                  <a:lnTo>
                    <a:pt x="364" y="192"/>
                  </a:lnTo>
                  <a:lnTo>
                    <a:pt x="360" y="182"/>
                  </a:lnTo>
                  <a:lnTo>
                    <a:pt x="355" y="177"/>
                  </a:lnTo>
                  <a:lnTo>
                    <a:pt x="350" y="168"/>
                  </a:lnTo>
                  <a:lnTo>
                    <a:pt x="345" y="163"/>
                  </a:lnTo>
                  <a:lnTo>
                    <a:pt x="340" y="158"/>
                  </a:lnTo>
                  <a:lnTo>
                    <a:pt x="340" y="153"/>
                  </a:lnTo>
                  <a:lnTo>
                    <a:pt x="336" y="153"/>
                  </a:lnTo>
                  <a:lnTo>
                    <a:pt x="331" y="153"/>
                  </a:lnTo>
                  <a:lnTo>
                    <a:pt x="326" y="153"/>
                  </a:lnTo>
                  <a:lnTo>
                    <a:pt x="326" y="153"/>
                  </a:lnTo>
                  <a:lnTo>
                    <a:pt x="321" y="153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312" y="139"/>
                  </a:lnTo>
                  <a:lnTo>
                    <a:pt x="307" y="134"/>
                  </a:lnTo>
                  <a:lnTo>
                    <a:pt x="307" y="124"/>
                  </a:lnTo>
                  <a:lnTo>
                    <a:pt x="302" y="120"/>
                  </a:lnTo>
                  <a:lnTo>
                    <a:pt x="297" y="110"/>
                  </a:lnTo>
                  <a:lnTo>
                    <a:pt x="292" y="105"/>
                  </a:lnTo>
                  <a:lnTo>
                    <a:pt x="288" y="96"/>
                  </a:lnTo>
                  <a:lnTo>
                    <a:pt x="283" y="91"/>
                  </a:lnTo>
                  <a:lnTo>
                    <a:pt x="273" y="86"/>
                  </a:lnTo>
                  <a:lnTo>
                    <a:pt x="268" y="86"/>
                  </a:lnTo>
                  <a:lnTo>
                    <a:pt x="259" y="81"/>
                  </a:lnTo>
                  <a:lnTo>
                    <a:pt x="249" y="81"/>
                  </a:lnTo>
                  <a:lnTo>
                    <a:pt x="240" y="81"/>
                  </a:lnTo>
                  <a:lnTo>
                    <a:pt x="225" y="76"/>
                  </a:lnTo>
                  <a:lnTo>
                    <a:pt x="216" y="76"/>
                  </a:lnTo>
                  <a:lnTo>
                    <a:pt x="211" y="72"/>
                  </a:lnTo>
                  <a:lnTo>
                    <a:pt x="206" y="72"/>
                  </a:lnTo>
                  <a:lnTo>
                    <a:pt x="206" y="67"/>
                  </a:lnTo>
                  <a:lnTo>
                    <a:pt x="206" y="67"/>
                  </a:lnTo>
                  <a:lnTo>
                    <a:pt x="211" y="62"/>
                  </a:lnTo>
                  <a:lnTo>
                    <a:pt x="211" y="57"/>
                  </a:lnTo>
                  <a:lnTo>
                    <a:pt x="206" y="52"/>
                  </a:lnTo>
                  <a:lnTo>
                    <a:pt x="206" y="43"/>
                  </a:lnTo>
                  <a:lnTo>
                    <a:pt x="206" y="43"/>
                  </a:lnTo>
                  <a:lnTo>
                    <a:pt x="206" y="43"/>
                  </a:lnTo>
                  <a:lnTo>
                    <a:pt x="201" y="33"/>
                  </a:lnTo>
                  <a:lnTo>
                    <a:pt x="201" y="28"/>
                  </a:lnTo>
                  <a:lnTo>
                    <a:pt x="196" y="33"/>
                  </a:lnTo>
                  <a:lnTo>
                    <a:pt x="196" y="38"/>
                  </a:lnTo>
                  <a:lnTo>
                    <a:pt x="192" y="43"/>
                  </a:lnTo>
                  <a:lnTo>
                    <a:pt x="187" y="48"/>
                  </a:lnTo>
                  <a:lnTo>
                    <a:pt x="187" y="52"/>
                  </a:lnTo>
                  <a:lnTo>
                    <a:pt x="182" y="57"/>
                  </a:lnTo>
                  <a:lnTo>
                    <a:pt x="177" y="67"/>
                  </a:lnTo>
                  <a:lnTo>
                    <a:pt x="172" y="67"/>
                  </a:lnTo>
                  <a:lnTo>
                    <a:pt x="168" y="72"/>
                  </a:lnTo>
                  <a:lnTo>
                    <a:pt x="163" y="72"/>
                  </a:lnTo>
                  <a:lnTo>
                    <a:pt x="163" y="72"/>
                  </a:lnTo>
                  <a:lnTo>
                    <a:pt x="158" y="72"/>
                  </a:lnTo>
                  <a:lnTo>
                    <a:pt x="158" y="72"/>
                  </a:lnTo>
                  <a:lnTo>
                    <a:pt x="153" y="67"/>
                  </a:lnTo>
                  <a:lnTo>
                    <a:pt x="148" y="67"/>
                  </a:lnTo>
                  <a:lnTo>
                    <a:pt x="148" y="62"/>
                  </a:lnTo>
                  <a:lnTo>
                    <a:pt x="144" y="57"/>
                  </a:lnTo>
                  <a:lnTo>
                    <a:pt x="139" y="57"/>
                  </a:lnTo>
                  <a:lnTo>
                    <a:pt x="134" y="52"/>
                  </a:lnTo>
                  <a:lnTo>
                    <a:pt x="134" y="48"/>
                  </a:lnTo>
                  <a:lnTo>
                    <a:pt x="129" y="43"/>
                  </a:lnTo>
                  <a:lnTo>
                    <a:pt x="124" y="38"/>
                  </a:lnTo>
                  <a:lnTo>
                    <a:pt x="120" y="33"/>
                  </a:lnTo>
                  <a:lnTo>
                    <a:pt x="115" y="28"/>
                  </a:lnTo>
                  <a:lnTo>
                    <a:pt x="110" y="28"/>
                  </a:lnTo>
                  <a:lnTo>
                    <a:pt x="105" y="28"/>
                  </a:lnTo>
                  <a:lnTo>
                    <a:pt x="100" y="28"/>
                  </a:lnTo>
                  <a:lnTo>
                    <a:pt x="96" y="24"/>
                  </a:lnTo>
                  <a:lnTo>
                    <a:pt x="91" y="24"/>
                  </a:lnTo>
                  <a:lnTo>
                    <a:pt x="81" y="24"/>
                  </a:lnTo>
                  <a:lnTo>
                    <a:pt x="72" y="24"/>
                  </a:lnTo>
                  <a:lnTo>
                    <a:pt x="67" y="24"/>
                  </a:lnTo>
                  <a:lnTo>
                    <a:pt x="62" y="24"/>
                  </a:lnTo>
                  <a:lnTo>
                    <a:pt x="57" y="24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48" y="19"/>
                  </a:lnTo>
                  <a:lnTo>
                    <a:pt x="43" y="24"/>
                  </a:lnTo>
                  <a:lnTo>
                    <a:pt x="38" y="24"/>
                  </a:lnTo>
                  <a:lnTo>
                    <a:pt x="28" y="24"/>
                  </a:lnTo>
                  <a:lnTo>
                    <a:pt x="24" y="24"/>
                  </a:lnTo>
                  <a:lnTo>
                    <a:pt x="14" y="24"/>
                  </a:lnTo>
                  <a:lnTo>
                    <a:pt x="9" y="19"/>
                  </a:lnTo>
                  <a:lnTo>
                    <a:pt x="4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19" y="9"/>
                  </a:lnTo>
                  <a:lnTo>
                    <a:pt x="33" y="4"/>
                  </a:lnTo>
                  <a:lnTo>
                    <a:pt x="48" y="4"/>
                  </a:lnTo>
                  <a:lnTo>
                    <a:pt x="62" y="0"/>
                  </a:lnTo>
                  <a:lnTo>
                    <a:pt x="76" y="0"/>
                  </a:lnTo>
                  <a:lnTo>
                    <a:pt x="91" y="0"/>
                  </a:lnTo>
                  <a:lnTo>
                    <a:pt x="105" y="0"/>
                  </a:lnTo>
                  <a:lnTo>
                    <a:pt x="124" y="4"/>
                  </a:lnTo>
                  <a:lnTo>
                    <a:pt x="139" y="4"/>
                  </a:lnTo>
                  <a:lnTo>
                    <a:pt x="153" y="4"/>
                  </a:lnTo>
                  <a:lnTo>
                    <a:pt x="168" y="9"/>
                  </a:lnTo>
                  <a:lnTo>
                    <a:pt x="182" y="14"/>
                  </a:lnTo>
                  <a:lnTo>
                    <a:pt x="196" y="14"/>
                  </a:lnTo>
                  <a:lnTo>
                    <a:pt x="211" y="19"/>
                  </a:lnTo>
                  <a:lnTo>
                    <a:pt x="220" y="28"/>
                  </a:lnTo>
                  <a:lnTo>
                    <a:pt x="235" y="33"/>
                  </a:lnTo>
                  <a:lnTo>
                    <a:pt x="244" y="38"/>
                  </a:lnTo>
                  <a:lnTo>
                    <a:pt x="254" y="43"/>
                  </a:lnTo>
                  <a:lnTo>
                    <a:pt x="268" y="52"/>
                  </a:lnTo>
                  <a:lnTo>
                    <a:pt x="278" y="62"/>
                  </a:lnTo>
                  <a:lnTo>
                    <a:pt x="292" y="72"/>
                  </a:lnTo>
                  <a:lnTo>
                    <a:pt x="307" y="81"/>
                  </a:lnTo>
                  <a:lnTo>
                    <a:pt x="316" y="91"/>
                  </a:lnTo>
                  <a:lnTo>
                    <a:pt x="331" y="100"/>
                  </a:lnTo>
                  <a:lnTo>
                    <a:pt x="340" y="110"/>
                  </a:lnTo>
                  <a:lnTo>
                    <a:pt x="350" y="124"/>
                  </a:lnTo>
                  <a:lnTo>
                    <a:pt x="360" y="134"/>
                  </a:lnTo>
                  <a:lnTo>
                    <a:pt x="369" y="148"/>
                  </a:lnTo>
                  <a:lnTo>
                    <a:pt x="379" y="158"/>
                  </a:lnTo>
                  <a:lnTo>
                    <a:pt x="384" y="172"/>
                  </a:lnTo>
                  <a:lnTo>
                    <a:pt x="388" y="182"/>
                  </a:lnTo>
                  <a:lnTo>
                    <a:pt x="393" y="196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622840" y="3157560"/>
              <a:ext cx="115920" cy="79200"/>
            </a:xfrm>
            <a:custGeom>
              <a:avLst/>
              <a:gdLst/>
              <a:ahLst/>
              <a:rect l="l" t="t" r="r" b="b"/>
              <a:pathLst>
                <a:path w="139" h="62">
                  <a:moveTo>
                    <a:pt x="5" y="62"/>
                  </a:moveTo>
                  <a:lnTo>
                    <a:pt x="0" y="62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5" y="53"/>
                  </a:lnTo>
                  <a:lnTo>
                    <a:pt x="10" y="48"/>
                  </a:lnTo>
                  <a:lnTo>
                    <a:pt x="14" y="43"/>
                  </a:lnTo>
                  <a:lnTo>
                    <a:pt x="19" y="38"/>
                  </a:lnTo>
                  <a:lnTo>
                    <a:pt x="29" y="38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8" y="38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48" y="43"/>
                  </a:lnTo>
                  <a:lnTo>
                    <a:pt x="48" y="43"/>
                  </a:lnTo>
                  <a:lnTo>
                    <a:pt x="53" y="43"/>
                  </a:lnTo>
                  <a:lnTo>
                    <a:pt x="62" y="43"/>
                  </a:lnTo>
                  <a:lnTo>
                    <a:pt x="67" y="43"/>
                  </a:lnTo>
                  <a:lnTo>
                    <a:pt x="67" y="43"/>
                  </a:lnTo>
                  <a:lnTo>
                    <a:pt x="72" y="43"/>
                  </a:lnTo>
                  <a:lnTo>
                    <a:pt x="72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3"/>
                  </a:lnTo>
                  <a:lnTo>
                    <a:pt x="82" y="33"/>
                  </a:lnTo>
                  <a:lnTo>
                    <a:pt x="86" y="33"/>
                  </a:lnTo>
                  <a:lnTo>
                    <a:pt x="86" y="33"/>
                  </a:lnTo>
                  <a:lnTo>
                    <a:pt x="86" y="38"/>
                  </a:lnTo>
                  <a:lnTo>
                    <a:pt x="91" y="43"/>
                  </a:lnTo>
                  <a:lnTo>
                    <a:pt x="91" y="38"/>
                  </a:lnTo>
                  <a:lnTo>
                    <a:pt x="96" y="33"/>
                  </a:lnTo>
                  <a:lnTo>
                    <a:pt x="101" y="24"/>
                  </a:lnTo>
                  <a:lnTo>
                    <a:pt x="106" y="19"/>
                  </a:lnTo>
                  <a:lnTo>
                    <a:pt x="106" y="14"/>
                  </a:lnTo>
                  <a:lnTo>
                    <a:pt x="110" y="14"/>
                  </a:lnTo>
                  <a:lnTo>
                    <a:pt x="110" y="9"/>
                  </a:lnTo>
                  <a:lnTo>
                    <a:pt x="115" y="9"/>
                  </a:lnTo>
                  <a:lnTo>
                    <a:pt x="115" y="5"/>
                  </a:lnTo>
                  <a:lnTo>
                    <a:pt x="120" y="5"/>
                  </a:lnTo>
                  <a:lnTo>
                    <a:pt x="125" y="0"/>
                  </a:lnTo>
                  <a:lnTo>
                    <a:pt x="134" y="0"/>
                  </a:lnTo>
                  <a:lnTo>
                    <a:pt x="139" y="5"/>
                  </a:lnTo>
                  <a:lnTo>
                    <a:pt x="139" y="9"/>
                  </a:lnTo>
                  <a:lnTo>
                    <a:pt x="134" y="14"/>
                  </a:lnTo>
                  <a:lnTo>
                    <a:pt x="130" y="19"/>
                  </a:lnTo>
                  <a:lnTo>
                    <a:pt x="125" y="19"/>
                  </a:lnTo>
                  <a:lnTo>
                    <a:pt x="125" y="24"/>
                  </a:lnTo>
                  <a:lnTo>
                    <a:pt x="115" y="29"/>
                  </a:lnTo>
                  <a:lnTo>
                    <a:pt x="115" y="29"/>
                  </a:lnTo>
                  <a:lnTo>
                    <a:pt x="110" y="29"/>
                  </a:lnTo>
                  <a:lnTo>
                    <a:pt x="110" y="29"/>
                  </a:lnTo>
                  <a:lnTo>
                    <a:pt x="106" y="33"/>
                  </a:lnTo>
                  <a:lnTo>
                    <a:pt x="106" y="33"/>
                  </a:lnTo>
                  <a:lnTo>
                    <a:pt x="106" y="33"/>
                  </a:lnTo>
                  <a:lnTo>
                    <a:pt x="101" y="33"/>
                  </a:lnTo>
                  <a:lnTo>
                    <a:pt x="101" y="38"/>
                  </a:lnTo>
                  <a:lnTo>
                    <a:pt x="96" y="38"/>
                  </a:lnTo>
                  <a:lnTo>
                    <a:pt x="91" y="43"/>
                  </a:lnTo>
                  <a:lnTo>
                    <a:pt x="91" y="43"/>
                  </a:lnTo>
                  <a:lnTo>
                    <a:pt x="86" y="48"/>
                  </a:lnTo>
                  <a:lnTo>
                    <a:pt x="82" y="48"/>
                  </a:lnTo>
                  <a:lnTo>
                    <a:pt x="82" y="48"/>
                  </a:lnTo>
                  <a:lnTo>
                    <a:pt x="77" y="53"/>
                  </a:lnTo>
                  <a:lnTo>
                    <a:pt x="72" y="53"/>
                  </a:lnTo>
                  <a:lnTo>
                    <a:pt x="72" y="57"/>
                  </a:lnTo>
                  <a:lnTo>
                    <a:pt x="67" y="57"/>
                  </a:lnTo>
                  <a:lnTo>
                    <a:pt x="62" y="57"/>
                  </a:lnTo>
                  <a:lnTo>
                    <a:pt x="62" y="62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3" y="62"/>
                  </a:lnTo>
                  <a:lnTo>
                    <a:pt x="48" y="62"/>
                  </a:lnTo>
                  <a:lnTo>
                    <a:pt x="43" y="62"/>
                  </a:lnTo>
                  <a:lnTo>
                    <a:pt x="38" y="57"/>
                  </a:lnTo>
                  <a:lnTo>
                    <a:pt x="43" y="53"/>
                  </a:lnTo>
                  <a:lnTo>
                    <a:pt x="43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38" y="48"/>
                  </a:lnTo>
                  <a:lnTo>
                    <a:pt x="34" y="48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24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4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5" y="62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416560" y="3506760"/>
              <a:ext cx="115920" cy="101520"/>
            </a:xfrm>
            <a:custGeom>
              <a:avLst/>
              <a:gdLst/>
              <a:ahLst/>
              <a:rect l="l" t="t" r="r" b="b"/>
              <a:pathLst>
                <a:path w="139" h="82">
                  <a:moveTo>
                    <a:pt x="29" y="5"/>
                  </a:moveTo>
                  <a:lnTo>
                    <a:pt x="34" y="5"/>
                  </a:lnTo>
                  <a:lnTo>
                    <a:pt x="39" y="5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2" y="10"/>
                  </a:lnTo>
                  <a:lnTo>
                    <a:pt x="77" y="15"/>
                  </a:lnTo>
                  <a:lnTo>
                    <a:pt x="77" y="15"/>
                  </a:lnTo>
                  <a:lnTo>
                    <a:pt x="82" y="19"/>
                  </a:lnTo>
                  <a:lnTo>
                    <a:pt x="82" y="19"/>
                  </a:lnTo>
                  <a:lnTo>
                    <a:pt x="82" y="24"/>
                  </a:lnTo>
                  <a:lnTo>
                    <a:pt x="82" y="29"/>
                  </a:lnTo>
                  <a:lnTo>
                    <a:pt x="82" y="34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82" y="48"/>
                  </a:lnTo>
                  <a:lnTo>
                    <a:pt x="82" y="48"/>
                  </a:lnTo>
                  <a:lnTo>
                    <a:pt x="87" y="53"/>
                  </a:lnTo>
                  <a:lnTo>
                    <a:pt x="87" y="53"/>
                  </a:lnTo>
                  <a:lnTo>
                    <a:pt x="96" y="58"/>
                  </a:lnTo>
                  <a:lnTo>
                    <a:pt x="101" y="58"/>
                  </a:lnTo>
                  <a:lnTo>
                    <a:pt x="111" y="58"/>
                  </a:lnTo>
                  <a:lnTo>
                    <a:pt x="115" y="63"/>
                  </a:lnTo>
                  <a:lnTo>
                    <a:pt x="125" y="63"/>
                  </a:lnTo>
                  <a:lnTo>
                    <a:pt x="130" y="67"/>
                  </a:lnTo>
                  <a:lnTo>
                    <a:pt x="135" y="67"/>
                  </a:lnTo>
                  <a:lnTo>
                    <a:pt x="135" y="67"/>
                  </a:lnTo>
                  <a:lnTo>
                    <a:pt x="139" y="67"/>
                  </a:lnTo>
                  <a:lnTo>
                    <a:pt x="139" y="67"/>
                  </a:lnTo>
                  <a:lnTo>
                    <a:pt x="135" y="67"/>
                  </a:lnTo>
                  <a:lnTo>
                    <a:pt x="130" y="67"/>
                  </a:lnTo>
                  <a:lnTo>
                    <a:pt x="125" y="72"/>
                  </a:lnTo>
                  <a:lnTo>
                    <a:pt x="120" y="77"/>
                  </a:lnTo>
                  <a:lnTo>
                    <a:pt x="120" y="82"/>
                  </a:lnTo>
                  <a:lnTo>
                    <a:pt x="115" y="82"/>
                  </a:lnTo>
                  <a:lnTo>
                    <a:pt x="111" y="82"/>
                  </a:lnTo>
                  <a:lnTo>
                    <a:pt x="106" y="82"/>
                  </a:lnTo>
                  <a:lnTo>
                    <a:pt x="101" y="82"/>
                  </a:lnTo>
                  <a:lnTo>
                    <a:pt x="96" y="82"/>
                  </a:lnTo>
                  <a:lnTo>
                    <a:pt x="91" y="77"/>
                  </a:lnTo>
                  <a:lnTo>
                    <a:pt x="82" y="72"/>
                  </a:lnTo>
                  <a:lnTo>
                    <a:pt x="72" y="72"/>
                  </a:lnTo>
                  <a:lnTo>
                    <a:pt x="67" y="67"/>
                  </a:lnTo>
                  <a:lnTo>
                    <a:pt x="58" y="63"/>
                  </a:lnTo>
                  <a:lnTo>
                    <a:pt x="53" y="63"/>
                  </a:lnTo>
                  <a:lnTo>
                    <a:pt x="48" y="58"/>
                  </a:lnTo>
                  <a:lnTo>
                    <a:pt x="43" y="53"/>
                  </a:lnTo>
                  <a:lnTo>
                    <a:pt x="39" y="48"/>
                  </a:lnTo>
                  <a:lnTo>
                    <a:pt x="34" y="48"/>
                  </a:lnTo>
                  <a:lnTo>
                    <a:pt x="29" y="43"/>
                  </a:lnTo>
                  <a:lnTo>
                    <a:pt x="24" y="43"/>
                  </a:lnTo>
                  <a:lnTo>
                    <a:pt x="19" y="39"/>
                  </a:lnTo>
                  <a:lnTo>
                    <a:pt x="15" y="39"/>
                  </a:lnTo>
                  <a:lnTo>
                    <a:pt x="10" y="34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10" y="19"/>
                  </a:lnTo>
                  <a:lnTo>
                    <a:pt x="15" y="15"/>
                  </a:lnTo>
                  <a:lnTo>
                    <a:pt x="19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10080" y="2892240"/>
              <a:ext cx="71640" cy="101520"/>
            </a:xfrm>
            <a:custGeom>
              <a:avLst/>
              <a:gdLst/>
              <a:ahLst/>
              <a:rect l="l" t="t" r="r" b="b"/>
              <a:pathLst>
                <a:path w="86" h="81">
                  <a:moveTo>
                    <a:pt x="0" y="43"/>
                  </a:moveTo>
                  <a:lnTo>
                    <a:pt x="9" y="14"/>
                  </a:lnTo>
                  <a:lnTo>
                    <a:pt x="28" y="0"/>
                  </a:lnTo>
                  <a:lnTo>
                    <a:pt x="57" y="0"/>
                  </a:lnTo>
                  <a:lnTo>
                    <a:pt x="76" y="14"/>
                  </a:lnTo>
                  <a:lnTo>
                    <a:pt x="86" y="43"/>
                  </a:lnTo>
                  <a:lnTo>
                    <a:pt x="76" y="67"/>
                  </a:lnTo>
                  <a:lnTo>
                    <a:pt x="57" y="81"/>
                  </a:lnTo>
                  <a:lnTo>
                    <a:pt x="28" y="81"/>
                  </a:lnTo>
                  <a:lnTo>
                    <a:pt x="9" y="67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64000" y="3176640"/>
              <a:ext cx="81000" cy="260280"/>
            </a:xfrm>
            <a:custGeom>
              <a:avLst/>
              <a:gdLst/>
              <a:ahLst/>
              <a:rect l="l" t="t" r="r" b="b"/>
              <a:pathLst>
                <a:path w="96" h="206">
                  <a:moveTo>
                    <a:pt x="96" y="43"/>
                  </a:moveTo>
                  <a:lnTo>
                    <a:pt x="33" y="206"/>
                  </a:lnTo>
                  <a:lnTo>
                    <a:pt x="0" y="163"/>
                  </a:lnTo>
                  <a:lnTo>
                    <a:pt x="67" y="0"/>
                  </a:lnTo>
                  <a:lnTo>
                    <a:pt x="96" y="43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421240" y="3000240"/>
              <a:ext cx="169920" cy="436680"/>
            </a:xfrm>
            <a:custGeom>
              <a:avLst/>
              <a:gdLst/>
              <a:ahLst/>
              <a:rect l="l" t="t" r="r" b="b"/>
              <a:pathLst>
                <a:path w="202" h="345">
                  <a:moveTo>
                    <a:pt x="0" y="0"/>
                  </a:moveTo>
                  <a:lnTo>
                    <a:pt x="0" y="139"/>
                  </a:lnTo>
                  <a:lnTo>
                    <a:pt x="29" y="182"/>
                  </a:lnTo>
                  <a:lnTo>
                    <a:pt x="82" y="345"/>
                  </a:lnTo>
                  <a:lnTo>
                    <a:pt x="134" y="345"/>
                  </a:lnTo>
                  <a:lnTo>
                    <a:pt x="62" y="130"/>
                  </a:lnTo>
                  <a:lnTo>
                    <a:pt x="62" y="53"/>
                  </a:lnTo>
                  <a:lnTo>
                    <a:pt x="202" y="106"/>
                  </a:lnTo>
                  <a:lnTo>
                    <a:pt x="202" y="72"/>
                  </a:lnTo>
                  <a:lnTo>
                    <a:pt x="4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715000" y="2892240"/>
              <a:ext cx="74520" cy="101520"/>
            </a:xfrm>
            <a:custGeom>
              <a:avLst/>
              <a:gdLst/>
              <a:ahLst/>
              <a:rect l="l" t="t" r="r" b="b"/>
              <a:pathLst>
                <a:path w="87" h="81">
                  <a:moveTo>
                    <a:pt x="87" y="43"/>
                  </a:moveTo>
                  <a:lnTo>
                    <a:pt x="77" y="14"/>
                  </a:lnTo>
                  <a:lnTo>
                    <a:pt x="58" y="0"/>
                  </a:lnTo>
                  <a:lnTo>
                    <a:pt x="29" y="0"/>
                  </a:lnTo>
                  <a:lnTo>
                    <a:pt x="10" y="14"/>
                  </a:lnTo>
                  <a:lnTo>
                    <a:pt x="0" y="43"/>
                  </a:lnTo>
                  <a:lnTo>
                    <a:pt x="10" y="67"/>
                  </a:lnTo>
                  <a:lnTo>
                    <a:pt x="29" y="81"/>
                  </a:lnTo>
                  <a:lnTo>
                    <a:pt x="58" y="81"/>
                  </a:lnTo>
                  <a:lnTo>
                    <a:pt x="77" y="67"/>
                  </a:lnTo>
                  <a:lnTo>
                    <a:pt x="87" y="43"/>
                  </a:lnTo>
                  <a:close/>
                </a:path>
              </a:pathLst>
            </a:custGeom>
            <a:solidFill>
              <a:srgbClr val="0066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751360" y="3176640"/>
              <a:ext cx="81000" cy="260280"/>
            </a:xfrm>
            <a:custGeom>
              <a:avLst/>
              <a:gdLst/>
              <a:ahLst/>
              <a:rect l="l" t="t" r="r" b="b"/>
              <a:pathLst>
                <a:path w="96" h="206">
                  <a:moveTo>
                    <a:pt x="0" y="43"/>
                  </a:moveTo>
                  <a:lnTo>
                    <a:pt x="62" y="206"/>
                  </a:lnTo>
                  <a:lnTo>
                    <a:pt x="96" y="163"/>
                  </a:lnTo>
                  <a:lnTo>
                    <a:pt x="28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66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607000" y="3000240"/>
              <a:ext cx="168480" cy="436680"/>
            </a:xfrm>
            <a:custGeom>
              <a:avLst/>
              <a:gdLst/>
              <a:ahLst/>
              <a:rect l="l" t="t" r="r" b="b"/>
              <a:pathLst>
                <a:path w="201" h="345">
                  <a:moveTo>
                    <a:pt x="201" y="0"/>
                  </a:moveTo>
                  <a:lnTo>
                    <a:pt x="201" y="139"/>
                  </a:lnTo>
                  <a:lnTo>
                    <a:pt x="173" y="182"/>
                  </a:lnTo>
                  <a:lnTo>
                    <a:pt x="120" y="345"/>
                  </a:lnTo>
                  <a:lnTo>
                    <a:pt x="67" y="345"/>
                  </a:lnTo>
                  <a:lnTo>
                    <a:pt x="139" y="130"/>
                  </a:lnTo>
                  <a:lnTo>
                    <a:pt x="139" y="53"/>
                  </a:lnTo>
                  <a:lnTo>
                    <a:pt x="0" y="106"/>
                  </a:lnTo>
                  <a:lnTo>
                    <a:pt x="0" y="72"/>
                  </a:lnTo>
                  <a:lnTo>
                    <a:pt x="158" y="0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066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4762440" y="4289400"/>
            <a:ext cx="965160" cy="1454040"/>
          </a:xfrm>
          <a:custGeom>
            <a:avLst/>
            <a:gdLst/>
            <a:ahLst/>
            <a:rect l="l" t="t" r="r" b="b"/>
            <a:pathLst>
              <a:path w="1416" h="1415">
                <a:moveTo>
                  <a:pt x="226" y="1415"/>
                </a:moveTo>
                <a:lnTo>
                  <a:pt x="1191" y="1415"/>
                </a:lnTo>
                <a:lnTo>
                  <a:pt x="1248" y="1410"/>
                </a:lnTo>
                <a:lnTo>
                  <a:pt x="1301" y="1386"/>
                </a:lnTo>
                <a:lnTo>
                  <a:pt x="1349" y="1347"/>
                </a:lnTo>
                <a:lnTo>
                  <a:pt x="1383" y="1304"/>
                </a:lnTo>
                <a:lnTo>
                  <a:pt x="1407" y="1247"/>
                </a:lnTo>
                <a:lnTo>
                  <a:pt x="1416" y="1189"/>
                </a:lnTo>
                <a:lnTo>
                  <a:pt x="1416" y="225"/>
                </a:lnTo>
                <a:lnTo>
                  <a:pt x="1407" y="167"/>
                </a:lnTo>
                <a:lnTo>
                  <a:pt x="1383" y="115"/>
                </a:lnTo>
                <a:lnTo>
                  <a:pt x="1349" y="67"/>
                </a:lnTo>
                <a:lnTo>
                  <a:pt x="1301" y="28"/>
                </a:lnTo>
                <a:lnTo>
                  <a:pt x="1248" y="9"/>
                </a:lnTo>
                <a:lnTo>
                  <a:pt x="1191" y="0"/>
                </a:lnTo>
                <a:lnTo>
                  <a:pt x="226" y="0"/>
                </a:lnTo>
                <a:lnTo>
                  <a:pt x="168" y="9"/>
                </a:lnTo>
                <a:lnTo>
                  <a:pt x="111" y="28"/>
                </a:lnTo>
                <a:lnTo>
                  <a:pt x="63" y="67"/>
                </a:lnTo>
                <a:lnTo>
                  <a:pt x="29" y="115"/>
                </a:lnTo>
                <a:lnTo>
                  <a:pt x="5" y="167"/>
                </a:lnTo>
                <a:lnTo>
                  <a:pt x="0" y="225"/>
                </a:lnTo>
                <a:lnTo>
                  <a:pt x="0" y="1189"/>
                </a:lnTo>
                <a:lnTo>
                  <a:pt x="5" y="1247"/>
                </a:lnTo>
                <a:lnTo>
                  <a:pt x="29" y="1304"/>
                </a:lnTo>
                <a:lnTo>
                  <a:pt x="63" y="1347"/>
                </a:lnTo>
                <a:lnTo>
                  <a:pt x="111" y="1386"/>
                </a:lnTo>
                <a:lnTo>
                  <a:pt x="168" y="1410"/>
                </a:lnTo>
                <a:lnTo>
                  <a:pt x="226" y="141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648320" y="4114800"/>
            <a:ext cx="1604880" cy="1598760"/>
          </a:xfrm>
          <a:custGeom>
            <a:avLst/>
            <a:gdLst/>
            <a:ahLst/>
            <a:rect l="l" t="t" r="r" b="b"/>
            <a:pathLst>
              <a:path w="1416" h="1415">
                <a:moveTo>
                  <a:pt x="226" y="1415"/>
                </a:moveTo>
                <a:lnTo>
                  <a:pt x="1191" y="1415"/>
                </a:lnTo>
                <a:lnTo>
                  <a:pt x="1248" y="1410"/>
                </a:lnTo>
                <a:lnTo>
                  <a:pt x="1301" y="1386"/>
                </a:lnTo>
                <a:lnTo>
                  <a:pt x="1349" y="1348"/>
                </a:lnTo>
                <a:lnTo>
                  <a:pt x="1383" y="1304"/>
                </a:lnTo>
                <a:lnTo>
                  <a:pt x="1407" y="1247"/>
                </a:lnTo>
                <a:lnTo>
                  <a:pt x="1416" y="1189"/>
                </a:lnTo>
                <a:lnTo>
                  <a:pt x="1416" y="225"/>
                </a:lnTo>
                <a:lnTo>
                  <a:pt x="1407" y="168"/>
                </a:lnTo>
                <a:lnTo>
                  <a:pt x="1383" y="115"/>
                </a:lnTo>
                <a:lnTo>
                  <a:pt x="1349" y="67"/>
                </a:lnTo>
                <a:lnTo>
                  <a:pt x="1301" y="28"/>
                </a:lnTo>
                <a:lnTo>
                  <a:pt x="1248" y="9"/>
                </a:lnTo>
                <a:lnTo>
                  <a:pt x="1191" y="0"/>
                </a:lnTo>
                <a:lnTo>
                  <a:pt x="226" y="0"/>
                </a:lnTo>
                <a:lnTo>
                  <a:pt x="168" y="9"/>
                </a:lnTo>
                <a:lnTo>
                  <a:pt x="111" y="28"/>
                </a:lnTo>
                <a:lnTo>
                  <a:pt x="63" y="67"/>
                </a:lnTo>
                <a:lnTo>
                  <a:pt x="29" y="115"/>
                </a:lnTo>
                <a:lnTo>
                  <a:pt x="5" y="168"/>
                </a:lnTo>
                <a:lnTo>
                  <a:pt x="0" y="225"/>
                </a:lnTo>
                <a:lnTo>
                  <a:pt x="0" y="1189"/>
                </a:lnTo>
                <a:lnTo>
                  <a:pt x="5" y="1247"/>
                </a:lnTo>
                <a:lnTo>
                  <a:pt x="29" y="1304"/>
                </a:lnTo>
                <a:lnTo>
                  <a:pt x="63" y="1348"/>
                </a:lnTo>
                <a:lnTo>
                  <a:pt x="111" y="1386"/>
                </a:lnTo>
                <a:lnTo>
                  <a:pt x="168" y="1410"/>
                </a:lnTo>
                <a:lnTo>
                  <a:pt x="226" y="1415"/>
                </a:lnTo>
                <a:close/>
              </a:path>
            </a:pathLst>
          </a:custGeom>
          <a:solidFill>
            <a:srgbClr val="f7fdc8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878000" y="4543560"/>
            <a:ext cx="113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2000"/>
                </a:solidFill>
                <a:latin typeface="Arial"/>
              </a:rPr>
              <a:t>Organizacion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29440" y="472608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2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824720" y="4937040"/>
            <a:ext cx="129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2000"/>
                </a:solidFill>
                <a:latin typeface="Arial"/>
              </a:rPr>
              <a:t>Gubernamental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762440" y="2133720"/>
            <a:ext cx="965160" cy="407880"/>
          </a:xfrm>
          <a:custGeom>
            <a:avLst/>
            <a:gdLst/>
            <a:ahLst/>
            <a:rect l="l" t="t" r="r" b="b"/>
            <a:pathLst>
              <a:path w="1416" h="398">
                <a:moveTo>
                  <a:pt x="197" y="398"/>
                </a:moveTo>
                <a:lnTo>
                  <a:pt x="1215" y="398"/>
                </a:lnTo>
                <a:lnTo>
                  <a:pt x="1268" y="389"/>
                </a:lnTo>
                <a:lnTo>
                  <a:pt x="1316" y="370"/>
                </a:lnTo>
                <a:lnTo>
                  <a:pt x="1359" y="336"/>
                </a:lnTo>
                <a:lnTo>
                  <a:pt x="1388" y="298"/>
                </a:lnTo>
                <a:lnTo>
                  <a:pt x="1407" y="250"/>
                </a:lnTo>
                <a:lnTo>
                  <a:pt x="1416" y="197"/>
                </a:lnTo>
                <a:lnTo>
                  <a:pt x="1407" y="149"/>
                </a:lnTo>
                <a:lnTo>
                  <a:pt x="1388" y="101"/>
                </a:lnTo>
                <a:lnTo>
                  <a:pt x="1359" y="58"/>
                </a:lnTo>
                <a:lnTo>
                  <a:pt x="1316" y="24"/>
                </a:lnTo>
                <a:lnTo>
                  <a:pt x="1268" y="5"/>
                </a:lnTo>
                <a:lnTo>
                  <a:pt x="1215" y="0"/>
                </a:lnTo>
                <a:lnTo>
                  <a:pt x="197" y="0"/>
                </a:lnTo>
                <a:lnTo>
                  <a:pt x="144" y="5"/>
                </a:lnTo>
                <a:lnTo>
                  <a:pt x="96" y="24"/>
                </a:lnTo>
                <a:lnTo>
                  <a:pt x="58" y="58"/>
                </a:lnTo>
                <a:lnTo>
                  <a:pt x="24" y="101"/>
                </a:lnTo>
                <a:lnTo>
                  <a:pt x="5" y="149"/>
                </a:lnTo>
                <a:lnTo>
                  <a:pt x="0" y="197"/>
                </a:lnTo>
                <a:lnTo>
                  <a:pt x="5" y="250"/>
                </a:lnTo>
                <a:lnTo>
                  <a:pt x="24" y="298"/>
                </a:lnTo>
                <a:lnTo>
                  <a:pt x="58" y="336"/>
                </a:lnTo>
                <a:lnTo>
                  <a:pt x="96" y="370"/>
                </a:lnTo>
                <a:lnTo>
                  <a:pt x="144" y="389"/>
                </a:lnTo>
                <a:lnTo>
                  <a:pt x="197" y="398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648320" y="1960560"/>
            <a:ext cx="1604880" cy="552600"/>
          </a:xfrm>
          <a:custGeom>
            <a:avLst/>
            <a:gdLst/>
            <a:ahLst/>
            <a:rect l="l" t="t" r="r" b="b"/>
            <a:pathLst>
              <a:path w="1416" h="399">
                <a:moveTo>
                  <a:pt x="197" y="399"/>
                </a:moveTo>
                <a:lnTo>
                  <a:pt x="1215" y="399"/>
                </a:lnTo>
                <a:lnTo>
                  <a:pt x="1268" y="389"/>
                </a:lnTo>
                <a:lnTo>
                  <a:pt x="1316" y="370"/>
                </a:lnTo>
                <a:lnTo>
                  <a:pt x="1359" y="336"/>
                </a:lnTo>
                <a:lnTo>
                  <a:pt x="1388" y="298"/>
                </a:lnTo>
                <a:lnTo>
                  <a:pt x="1407" y="250"/>
                </a:lnTo>
                <a:lnTo>
                  <a:pt x="1416" y="197"/>
                </a:lnTo>
                <a:lnTo>
                  <a:pt x="1407" y="149"/>
                </a:lnTo>
                <a:lnTo>
                  <a:pt x="1388" y="101"/>
                </a:lnTo>
                <a:lnTo>
                  <a:pt x="1359" y="58"/>
                </a:lnTo>
                <a:lnTo>
                  <a:pt x="1316" y="24"/>
                </a:lnTo>
                <a:lnTo>
                  <a:pt x="1268" y="5"/>
                </a:lnTo>
                <a:lnTo>
                  <a:pt x="1215" y="0"/>
                </a:lnTo>
                <a:lnTo>
                  <a:pt x="197" y="0"/>
                </a:lnTo>
                <a:lnTo>
                  <a:pt x="144" y="5"/>
                </a:lnTo>
                <a:lnTo>
                  <a:pt x="96" y="24"/>
                </a:lnTo>
                <a:lnTo>
                  <a:pt x="58" y="58"/>
                </a:lnTo>
                <a:lnTo>
                  <a:pt x="24" y="101"/>
                </a:lnTo>
                <a:lnTo>
                  <a:pt x="5" y="149"/>
                </a:lnTo>
                <a:lnTo>
                  <a:pt x="0" y="197"/>
                </a:lnTo>
                <a:lnTo>
                  <a:pt x="5" y="250"/>
                </a:lnTo>
                <a:lnTo>
                  <a:pt x="24" y="298"/>
                </a:lnTo>
                <a:lnTo>
                  <a:pt x="58" y="336"/>
                </a:lnTo>
                <a:lnTo>
                  <a:pt x="96" y="370"/>
                </a:lnTo>
                <a:lnTo>
                  <a:pt x="144" y="389"/>
                </a:lnTo>
                <a:lnTo>
                  <a:pt x="197" y="399"/>
                </a:lnTo>
                <a:close/>
              </a:path>
            </a:pathLst>
          </a:custGeom>
          <a:solidFill>
            <a:srgbClr val="f7fdc8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163480" y="2013120"/>
            <a:ext cx="6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2000"/>
                </a:solidFill>
                <a:latin typeface="Arial"/>
              </a:rPr>
              <a:t>TERC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60600" y="220824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2000"/>
                </a:solidFill>
                <a:latin typeface="Arial"/>
              </a:rPr>
              <a:t>SECTO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824840" y="4067280"/>
            <a:ext cx="878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2000"/>
                </a:solidFill>
                <a:latin typeface="Arial"/>
              </a:rPr>
              <a:t>De 20 a 200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2000"/>
                </a:solidFill>
                <a:latin typeface="Arial"/>
              </a:rPr>
              <a:t>Persona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40120" y="4083120"/>
            <a:ext cx="96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2000"/>
                </a:solidFill>
                <a:latin typeface="Arial"/>
              </a:rPr>
              <a:t>De 201 a 500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2000"/>
                </a:solidFill>
                <a:latin typeface="Arial"/>
              </a:rPr>
              <a:t>Persona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728000" y="4997520"/>
            <a:ext cx="1049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2000"/>
                </a:solidFill>
                <a:latin typeface="Arial"/>
              </a:rPr>
              <a:t>De 501 a 1000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2000"/>
                </a:solidFill>
                <a:latin typeface="Arial"/>
              </a:rPr>
              <a:t>Persona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941200" y="4997520"/>
            <a:ext cx="94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2000"/>
                </a:solidFill>
                <a:latin typeface="Arial"/>
              </a:rPr>
              <a:t>Más de 1000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2000"/>
                </a:solidFill>
                <a:latin typeface="Arial"/>
              </a:rPr>
              <a:t>Persona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retaría Técnica del Premio Nacional a la Calidad para el Sector Público</a:t>
            </a:r>
          </a:p>
        </p:txBody>
      </p:sp>
    </p:spTree>
  </p:cSld>
  <p:transition advTm="18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argentina" descr=""/>
          <p:cNvPicPr/>
          <p:nvPr/>
        </p:nvPicPr>
        <p:blipFill>
          <a:blip r:embed="rId1"/>
          <a:stretch/>
        </p:blipFill>
        <p:spPr>
          <a:xfrm>
            <a:off x="1155600" y="1447920"/>
            <a:ext cx="8234640" cy="3854160"/>
          </a:xfrm>
          <a:prstGeom prst="rect">
            <a:avLst/>
          </a:prstGeom>
          <a:ln w="0">
            <a:noFill/>
          </a:ln>
        </p:spPr>
      </p:pic>
      <p:grpSp>
        <p:nvGrpSpPr>
          <p:cNvPr id="651" name=""/>
          <p:cNvGrpSpPr/>
          <p:nvPr/>
        </p:nvGrpSpPr>
        <p:grpSpPr>
          <a:xfrm>
            <a:off x="7696080" y="456840"/>
            <a:ext cx="1533600" cy="847800"/>
            <a:chOff x="7696080" y="456840"/>
            <a:chExt cx="1533600" cy="847800"/>
          </a:xfrm>
        </p:grpSpPr>
        <p:grpSp>
          <p:nvGrpSpPr>
            <p:cNvPr id="652" name=""/>
            <p:cNvGrpSpPr/>
            <p:nvPr/>
          </p:nvGrpSpPr>
          <p:grpSpPr>
            <a:xfrm>
              <a:off x="8354880" y="591840"/>
              <a:ext cx="270000" cy="635040"/>
              <a:chOff x="8354880" y="591840"/>
              <a:chExt cx="270000" cy="635040"/>
            </a:xfrm>
          </p:grpSpPr>
          <p:sp>
            <p:nvSpPr>
              <p:cNvPr id="653" name=""/>
              <p:cNvSpPr/>
              <p:nvPr/>
            </p:nvSpPr>
            <p:spPr>
              <a:xfrm rot="16200000">
                <a:off x="8183520" y="771120"/>
                <a:ext cx="620640" cy="262080"/>
              </a:xfrm>
              <a:custGeom>
                <a:avLst/>
                <a:gdLst/>
                <a:ahLst/>
                <a:rect l="l" t="t" r="r" b="b"/>
                <a:pathLst>
                  <a:path w="1565" h="659">
                    <a:moveTo>
                      <a:pt x="1565" y="289"/>
                    </a:moveTo>
                    <a:lnTo>
                      <a:pt x="228" y="659"/>
                    </a:lnTo>
                    <a:lnTo>
                      <a:pt x="0" y="554"/>
                    </a:lnTo>
                    <a:lnTo>
                      <a:pt x="130" y="370"/>
                    </a:lnTo>
                    <a:lnTo>
                      <a:pt x="1469" y="0"/>
                    </a:lnTo>
                    <a:lnTo>
                      <a:pt x="1565" y="289"/>
                    </a:lnTo>
                    <a:close/>
                  </a:path>
                </a:pathLst>
              </a:custGeom>
              <a:solidFill>
                <a:srgbClr val="b2b2b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16200000">
                <a:off x="8175240" y="785160"/>
                <a:ext cx="621000" cy="262080"/>
              </a:xfrm>
              <a:custGeom>
                <a:avLst/>
                <a:gdLst/>
                <a:ahLst/>
                <a:rect l="l" t="t" r="r" b="b"/>
                <a:pathLst>
                  <a:path w="1564" h="659">
                    <a:moveTo>
                      <a:pt x="1564" y="289"/>
                    </a:moveTo>
                    <a:lnTo>
                      <a:pt x="227" y="659"/>
                    </a:lnTo>
                    <a:lnTo>
                      <a:pt x="0" y="553"/>
                    </a:lnTo>
                    <a:lnTo>
                      <a:pt x="128" y="370"/>
                    </a:lnTo>
                    <a:lnTo>
                      <a:pt x="1467" y="0"/>
                    </a:lnTo>
                    <a:lnTo>
                      <a:pt x="1564" y="289"/>
                    </a:lnTo>
                    <a:close/>
                  </a:path>
                </a:pathLst>
              </a:custGeom>
              <a:solidFill>
                <a:srgbClr val="ddddd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8005680" y="675720"/>
              <a:ext cx="255600" cy="628920"/>
              <a:chOff x="8005680" y="675720"/>
              <a:chExt cx="255600" cy="628920"/>
            </a:xfrm>
          </p:grpSpPr>
          <p:sp>
            <p:nvSpPr>
              <p:cNvPr id="656" name=""/>
              <p:cNvSpPr/>
              <p:nvPr/>
            </p:nvSpPr>
            <p:spPr>
              <a:xfrm rot="16200000">
                <a:off x="7826400" y="864720"/>
                <a:ext cx="623880" cy="245880"/>
              </a:xfrm>
              <a:custGeom>
                <a:avLst/>
                <a:gdLst/>
                <a:ahLst/>
                <a:rect l="l" t="t" r="r" b="b"/>
                <a:pathLst>
                  <a:path w="1573" h="616">
                    <a:moveTo>
                      <a:pt x="1573" y="323"/>
                    </a:moveTo>
                    <a:lnTo>
                      <a:pt x="222" y="0"/>
                    </a:lnTo>
                    <a:lnTo>
                      <a:pt x="0" y="115"/>
                    </a:lnTo>
                    <a:lnTo>
                      <a:pt x="136" y="292"/>
                    </a:lnTo>
                    <a:lnTo>
                      <a:pt x="1486" y="616"/>
                    </a:lnTo>
                    <a:lnTo>
                      <a:pt x="1573" y="323"/>
                    </a:lnTo>
                    <a:close/>
                  </a:path>
                </a:pathLst>
              </a:custGeom>
              <a:solidFill>
                <a:srgbClr val="b2b2b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6200000">
                <a:off x="7815960" y="870480"/>
                <a:ext cx="623880" cy="244440"/>
              </a:xfrm>
              <a:custGeom>
                <a:avLst/>
                <a:gdLst/>
                <a:ahLst/>
                <a:rect l="l" t="t" r="r" b="b"/>
                <a:pathLst>
                  <a:path w="1572" h="615">
                    <a:moveTo>
                      <a:pt x="1572" y="322"/>
                    </a:moveTo>
                    <a:lnTo>
                      <a:pt x="223" y="0"/>
                    </a:lnTo>
                    <a:lnTo>
                      <a:pt x="0" y="114"/>
                    </a:lnTo>
                    <a:lnTo>
                      <a:pt x="136" y="292"/>
                    </a:lnTo>
                    <a:lnTo>
                      <a:pt x="1486" y="615"/>
                    </a:lnTo>
                    <a:lnTo>
                      <a:pt x="1572" y="322"/>
                    </a:lnTo>
                    <a:close/>
                  </a:path>
                </a:pathLst>
              </a:custGeom>
              <a:solidFill>
                <a:srgbClr val="eaeae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 rot="16200000">
              <a:off x="8372880" y="138240"/>
              <a:ext cx="179640" cy="1533600"/>
            </a:xfrm>
            <a:custGeom>
              <a:avLst/>
              <a:gdLst/>
              <a:ahLst/>
              <a:rect l="l" t="t" r="r" b="b"/>
              <a:pathLst>
                <a:path w="452" h="3863">
                  <a:moveTo>
                    <a:pt x="0" y="100"/>
                  </a:moveTo>
                  <a:lnTo>
                    <a:pt x="201" y="0"/>
                  </a:lnTo>
                  <a:lnTo>
                    <a:pt x="452" y="100"/>
                  </a:lnTo>
                  <a:lnTo>
                    <a:pt x="452" y="3813"/>
                  </a:lnTo>
                  <a:lnTo>
                    <a:pt x="201" y="3863"/>
                  </a:lnTo>
                  <a:lnTo>
                    <a:pt x="0" y="3763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99663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16200000">
              <a:off x="8422200" y="187560"/>
              <a:ext cx="81000" cy="1533600"/>
            </a:xfrm>
            <a:custGeom>
              <a:avLst/>
              <a:gdLst/>
              <a:ahLst/>
              <a:rect l="l" t="t" r="r" b="b"/>
              <a:pathLst>
                <a:path w="201" h="3863">
                  <a:moveTo>
                    <a:pt x="0" y="100"/>
                  </a:moveTo>
                  <a:lnTo>
                    <a:pt x="201" y="0"/>
                  </a:lnTo>
                  <a:lnTo>
                    <a:pt x="201" y="3863"/>
                  </a:lnTo>
                  <a:lnTo>
                    <a:pt x="0" y="3763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6200000">
              <a:off x="8422200" y="187560"/>
              <a:ext cx="81000" cy="1533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6200000">
              <a:off x="8422200" y="187560"/>
              <a:ext cx="81000" cy="1533600"/>
            </a:xfrm>
            <a:custGeom>
              <a:avLst/>
              <a:gdLst/>
              <a:ahLst/>
              <a:rect l="l" t="t" r="r" b="b"/>
              <a:pathLst>
                <a:path w="201" h="3863">
                  <a:moveTo>
                    <a:pt x="0" y="100"/>
                  </a:moveTo>
                  <a:lnTo>
                    <a:pt x="201" y="0"/>
                  </a:lnTo>
                  <a:lnTo>
                    <a:pt x="201" y="3863"/>
                  </a:lnTo>
                  <a:lnTo>
                    <a:pt x="0" y="3763"/>
                  </a:lnTo>
                  <a:lnTo>
                    <a:pt x="0" y="10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16200000">
              <a:off x="8422200" y="187560"/>
              <a:ext cx="81000" cy="1533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6200000">
              <a:off x="8422200" y="187560"/>
              <a:ext cx="81000" cy="1533600"/>
            </a:xfrm>
            <a:custGeom>
              <a:avLst/>
              <a:gdLst/>
              <a:ahLst/>
              <a:rect l="l" t="t" r="r" b="b"/>
              <a:pathLst>
                <a:path w="201" h="3863">
                  <a:moveTo>
                    <a:pt x="0" y="100"/>
                  </a:moveTo>
                  <a:lnTo>
                    <a:pt x="201" y="0"/>
                  </a:lnTo>
                  <a:lnTo>
                    <a:pt x="201" y="3863"/>
                  </a:lnTo>
                  <a:lnTo>
                    <a:pt x="0" y="3763"/>
                  </a:lnTo>
                  <a:lnTo>
                    <a:pt x="0" y="10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7748640" y="666360"/>
              <a:ext cx="220680" cy="630360"/>
              <a:chOff x="7748640" y="666360"/>
              <a:chExt cx="220680" cy="630360"/>
            </a:xfrm>
          </p:grpSpPr>
          <p:sp>
            <p:nvSpPr>
              <p:cNvPr id="665" name=""/>
              <p:cNvSpPr/>
              <p:nvPr/>
            </p:nvSpPr>
            <p:spPr>
              <a:xfrm rot="16200000">
                <a:off x="7551720" y="879120"/>
                <a:ext cx="622440" cy="212760"/>
              </a:xfrm>
              <a:custGeom>
                <a:avLst/>
                <a:gdLst/>
                <a:ahLst/>
                <a:rect l="l" t="t" r="r" b="b"/>
                <a:pathLst>
                  <a:path w="1565" h="533">
                    <a:moveTo>
                      <a:pt x="1530" y="533"/>
                    </a:moveTo>
                    <a:lnTo>
                      <a:pt x="161" y="303"/>
                    </a:lnTo>
                    <a:lnTo>
                      <a:pt x="0" y="110"/>
                    </a:lnTo>
                    <a:lnTo>
                      <a:pt x="196" y="0"/>
                    </a:lnTo>
                    <a:lnTo>
                      <a:pt x="1565" y="230"/>
                    </a:lnTo>
                    <a:lnTo>
                      <a:pt x="1530" y="533"/>
                    </a:lnTo>
                    <a:close/>
                  </a:path>
                </a:pathLst>
              </a:custGeom>
              <a:solidFill>
                <a:srgbClr val="b2b2b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6200000">
                <a:off x="7543800" y="871200"/>
                <a:ext cx="620640" cy="210960"/>
              </a:xfrm>
              <a:custGeom>
                <a:avLst/>
                <a:gdLst/>
                <a:ahLst/>
                <a:rect l="l" t="t" r="r" b="b"/>
                <a:pathLst>
                  <a:path w="1565" h="533">
                    <a:moveTo>
                      <a:pt x="1530" y="533"/>
                    </a:moveTo>
                    <a:lnTo>
                      <a:pt x="161" y="303"/>
                    </a:lnTo>
                    <a:lnTo>
                      <a:pt x="0" y="110"/>
                    </a:lnTo>
                    <a:lnTo>
                      <a:pt x="196" y="0"/>
                    </a:lnTo>
                    <a:lnTo>
                      <a:pt x="1565" y="230"/>
                    </a:lnTo>
                    <a:lnTo>
                      <a:pt x="1530" y="53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7893000" y="456840"/>
              <a:ext cx="166680" cy="633240"/>
              <a:chOff x="7893000" y="456840"/>
              <a:chExt cx="166680" cy="633240"/>
            </a:xfrm>
          </p:grpSpPr>
          <p:sp>
            <p:nvSpPr>
              <p:cNvPr id="668" name=""/>
              <p:cNvSpPr/>
              <p:nvPr/>
            </p:nvSpPr>
            <p:spPr>
              <a:xfrm rot="16200000">
                <a:off x="7670880" y="701280"/>
                <a:ext cx="622080" cy="155520"/>
              </a:xfrm>
              <a:custGeom>
                <a:avLst/>
                <a:gdLst/>
                <a:ahLst/>
                <a:rect l="l" t="t" r="r" b="b"/>
                <a:pathLst>
                  <a:path w="1569" h="391">
                    <a:moveTo>
                      <a:pt x="3" y="391"/>
                    </a:moveTo>
                    <a:lnTo>
                      <a:pt x="1388" y="305"/>
                    </a:lnTo>
                    <a:lnTo>
                      <a:pt x="1569" y="131"/>
                    </a:lnTo>
                    <a:lnTo>
                      <a:pt x="1387" y="0"/>
                    </a:lnTo>
                    <a:lnTo>
                      <a:pt x="0" y="85"/>
                    </a:lnTo>
                    <a:lnTo>
                      <a:pt x="3" y="391"/>
                    </a:lnTo>
                    <a:close/>
                  </a:path>
                </a:pathLst>
              </a:custGeom>
              <a:solidFill>
                <a:srgbClr val="b2b2b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200000">
                <a:off x="7659720" y="690120"/>
                <a:ext cx="622080" cy="155520"/>
              </a:xfrm>
              <a:custGeom>
                <a:avLst/>
                <a:gdLst/>
                <a:ahLst/>
                <a:rect l="l" t="t" r="r" b="b"/>
                <a:pathLst>
                  <a:path w="1568" h="391">
                    <a:moveTo>
                      <a:pt x="3" y="391"/>
                    </a:moveTo>
                    <a:lnTo>
                      <a:pt x="1388" y="306"/>
                    </a:lnTo>
                    <a:lnTo>
                      <a:pt x="1568" y="131"/>
                    </a:lnTo>
                    <a:lnTo>
                      <a:pt x="1386" y="0"/>
                    </a:lnTo>
                    <a:lnTo>
                      <a:pt x="0" y="86"/>
                    </a:lnTo>
                    <a:lnTo>
                      <a:pt x="3" y="391"/>
                    </a:lnTo>
                    <a:close/>
                  </a:path>
                </a:pathLst>
              </a:custGeom>
              <a:solidFill>
                <a:srgbClr val="ddddd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8231040" y="496440"/>
              <a:ext cx="192240" cy="633600"/>
              <a:chOff x="8231040" y="496440"/>
              <a:chExt cx="192240" cy="633600"/>
            </a:xfrm>
          </p:grpSpPr>
          <p:sp>
            <p:nvSpPr>
              <p:cNvPr id="671" name=""/>
              <p:cNvSpPr/>
              <p:nvPr/>
            </p:nvSpPr>
            <p:spPr>
              <a:xfrm rot="16200000">
                <a:off x="8020800" y="727560"/>
                <a:ext cx="622440" cy="182520"/>
              </a:xfrm>
              <a:custGeom>
                <a:avLst/>
                <a:gdLst/>
                <a:ahLst/>
                <a:rect l="l" t="t" r="r" b="b"/>
                <a:pathLst>
                  <a:path w="1568" h="462">
                    <a:moveTo>
                      <a:pt x="17" y="0"/>
                    </a:moveTo>
                    <a:lnTo>
                      <a:pt x="1398" y="157"/>
                    </a:lnTo>
                    <a:lnTo>
                      <a:pt x="1568" y="342"/>
                    </a:lnTo>
                    <a:lnTo>
                      <a:pt x="1379" y="462"/>
                    </a:lnTo>
                    <a:lnTo>
                      <a:pt x="0" y="30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b2b2b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00000">
                <a:off x="8011800" y="715320"/>
                <a:ext cx="622440" cy="184320"/>
              </a:xfrm>
              <a:custGeom>
                <a:avLst/>
                <a:gdLst/>
                <a:ahLst/>
                <a:rect l="l" t="t" r="r" b="b"/>
                <a:pathLst>
                  <a:path w="1569" h="463">
                    <a:moveTo>
                      <a:pt x="18" y="0"/>
                    </a:moveTo>
                    <a:lnTo>
                      <a:pt x="1397" y="158"/>
                    </a:lnTo>
                    <a:lnTo>
                      <a:pt x="1569" y="342"/>
                    </a:lnTo>
                    <a:lnTo>
                      <a:pt x="1378" y="463"/>
                    </a:lnTo>
                    <a:lnTo>
                      <a:pt x="0" y="30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8f8f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3" name=""/>
          <p:cNvSpPr/>
          <p:nvPr/>
        </p:nvSpPr>
        <p:spPr>
          <a:xfrm>
            <a:off x="1295280" y="3352680"/>
            <a:ext cx="990720" cy="1067040"/>
          </a:xfrm>
          <a:prstGeom prst="irregularSeal1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819520" y="2133720"/>
            <a:ext cx="2209680" cy="1143000"/>
          </a:xfrm>
          <a:prstGeom prst="irregularSeal2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200400" y="3809880"/>
            <a:ext cx="1295280" cy="838440"/>
          </a:xfrm>
          <a:prstGeom prst="irregularSeal1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10080" y="4495680"/>
            <a:ext cx="533520" cy="381240"/>
          </a:xfrm>
          <a:prstGeom prst="irregularSeal1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retaría Técnica del Premio Nacional a la Calidad para el Sector Públic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254320" y="198360"/>
            <a:ext cx="60372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Organizaciones asistida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ducació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alu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unicipalidad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Vari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132520" y="3452760"/>
            <a:ext cx="1187280" cy="941400"/>
          </a:xfrm>
          <a:custGeom>
            <a:avLst/>
            <a:gdLst/>
            <a:ahLst/>
            <a:rect l="l" t="t" r="r" b="b"/>
            <a:pathLst>
              <a:path w="748" h="593">
                <a:moveTo>
                  <a:pt x="748" y="412"/>
                </a:moveTo>
                <a:lnTo>
                  <a:pt x="0" y="0"/>
                </a:lnTo>
                <a:lnTo>
                  <a:pt x="0" y="181"/>
                </a:lnTo>
                <a:lnTo>
                  <a:pt x="748" y="593"/>
                </a:lnTo>
                <a:lnTo>
                  <a:pt x="748" y="412"/>
                </a:lnTo>
                <a:close/>
              </a:path>
            </a:pathLst>
          </a:custGeom>
          <a:solidFill>
            <a:srgbClr val="674d32"/>
          </a:solidFill>
          <a:ln w="792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19800" y="3468600"/>
            <a:ext cx="1203480" cy="925560"/>
          </a:xfrm>
          <a:custGeom>
            <a:avLst/>
            <a:gdLst/>
            <a:ahLst/>
            <a:rect l="l" t="t" r="r" b="b"/>
            <a:pathLst>
              <a:path w="758" h="583">
                <a:moveTo>
                  <a:pt x="0" y="402"/>
                </a:moveTo>
                <a:lnTo>
                  <a:pt x="758" y="0"/>
                </a:lnTo>
                <a:lnTo>
                  <a:pt x="758" y="181"/>
                </a:lnTo>
                <a:lnTo>
                  <a:pt x="0" y="583"/>
                </a:lnTo>
                <a:lnTo>
                  <a:pt x="0" y="402"/>
                </a:lnTo>
                <a:close/>
              </a:path>
            </a:pathLst>
          </a:custGeom>
          <a:solidFill>
            <a:srgbClr val="674d32"/>
          </a:solidFill>
          <a:ln w="792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32520" y="3094200"/>
            <a:ext cx="2400120" cy="1012680"/>
          </a:xfrm>
          <a:custGeom>
            <a:avLst/>
            <a:gdLst/>
            <a:ahLst/>
            <a:rect l="l" t="t" r="r" b="b"/>
            <a:pathLst>
              <a:path w="1512" h="638">
                <a:moveTo>
                  <a:pt x="0" y="226"/>
                </a:moveTo>
                <a:lnTo>
                  <a:pt x="11" y="221"/>
                </a:lnTo>
                <a:lnTo>
                  <a:pt x="22" y="211"/>
                </a:lnTo>
                <a:lnTo>
                  <a:pt x="33" y="201"/>
                </a:lnTo>
                <a:lnTo>
                  <a:pt x="44" y="196"/>
                </a:lnTo>
                <a:lnTo>
                  <a:pt x="55" y="186"/>
                </a:lnTo>
                <a:lnTo>
                  <a:pt x="71" y="181"/>
                </a:lnTo>
                <a:lnTo>
                  <a:pt x="82" y="171"/>
                </a:lnTo>
                <a:lnTo>
                  <a:pt x="93" y="161"/>
                </a:lnTo>
                <a:lnTo>
                  <a:pt x="104" y="156"/>
                </a:lnTo>
                <a:lnTo>
                  <a:pt x="120" y="151"/>
                </a:lnTo>
                <a:lnTo>
                  <a:pt x="131" y="141"/>
                </a:lnTo>
                <a:lnTo>
                  <a:pt x="148" y="136"/>
                </a:lnTo>
                <a:lnTo>
                  <a:pt x="159" y="126"/>
                </a:lnTo>
                <a:lnTo>
                  <a:pt x="175" y="121"/>
                </a:lnTo>
                <a:lnTo>
                  <a:pt x="186" y="116"/>
                </a:lnTo>
                <a:lnTo>
                  <a:pt x="202" y="111"/>
                </a:lnTo>
                <a:lnTo>
                  <a:pt x="213" y="101"/>
                </a:lnTo>
                <a:lnTo>
                  <a:pt x="230" y="95"/>
                </a:lnTo>
                <a:lnTo>
                  <a:pt x="246" y="90"/>
                </a:lnTo>
                <a:lnTo>
                  <a:pt x="257" y="85"/>
                </a:lnTo>
                <a:lnTo>
                  <a:pt x="273" y="80"/>
                </a:lnTo>
                <a:lnTo>
                  <a:pt x="290" y="75"/>
                </a:lnTo>
                <a:lnTo>
                  <a:pt x="306" y="70"/>
                </a:lnTo>
                <a:lnTo>
                  <a:pt x="322" y="65"/>
                </a:lnTo>
                <a:lnTo>
                  <a:pt x="333" y="60"/>
                </a:lnTo>
                <a:lnTo>
                  <a:pt x="350" y="55"/>
                </a:lnTo>
                <a:lnTo>
                  <a:pt x="366" y="50"/>
                </a:lnTo>
                <a:lnTo>
                  <a:pt x="382" y="45"/>
                </a:lnTo>
                <a:lnTo>
                  <a:pt x="399" y="40"/>
                </a:lnTo>
                <a:lnTo>
                  <a:pt x="415" y="35"/>
                </a:lnTo>
                <a:lnTo>
                  <a:pt x="431" y="35"/>
                </a:lnTo>
                <a:lnTo>
                  <a:pt x="448" y="30"/>
                </a:lnTo>
                <a:lnTo>
                  <a:pt x="464" y="25"/>
                </a:lnTo>
                <a:lnTo>
                  <a:pt x="481" y="25"/>
                </a:lnTo>
                <a:lnTo>
                  <a:pt x="497" y="20"/>
                </a:lnTo>
                <a:lnTo>
                  <a:pt x="513" y="20"/>
                </a:lnTo>
                <a:lnTo>
                  <a:pt x="530" y="15"/>
                </a:lnTo>
                <a:lnTo>
                  <a:pt x="546" y="15"/>
                </a:lnTo>
                <a:lnTo>
                  <a:pt x="562" y="10"/>
                </a:lnTo>
                <a:lnTo>
                  <a:pt x="579" y="10"/>
                </a:lnTo>
                <a:lnTo>
                  <a:pt x="595" y="5"/>
                </a:lnTo>
                <a:lnTo>
                  <a:pt x="611" y="5"/>
                </a:lnTo>
                <a:lnTo>
                  <a:pt x="628" y="5"/>
                </a:lnTo>
                <a:lnTo>
                  <a:pt x="644" y="0"/>
                </a:lnTo>
                <a:lnTo>
                  <a:pt x="666" y="0"/>
                </a:lnTo>
                <a:lnTo>
                  <a:pt x="682" y="0"/>
                </a:lnTo>
                <a:lnTo>
                  <a:pt x="699" y="0"/>
                </a:lnTo>
                <a:lnTo>
                  <a:pt x="715" y="0"/>
                </a:lnTo>
                <a:lnTo>
                  <a:pt x="731" y="0"/>
                </a:lnTo>
                <a:lnTo>
                  <a:pt x="748" y="0"/>
                </a:lnTo>
                <a:lnTo>
                  <a:pt x="764" y="0"/>
                </a:lnTo>
                <a:lnTo>
                  <a:pt x="764" y="0"/>
                </a:lnTo>
                <a:lnTo>
                  <a:pt x="786" y="0"/>
                </a:lnTo>
                <a:lnTo>
                  <a:pt x="802" y="0"/>
                </a:lnTo>
                <a:lnTo>
                  <a:pt x="819" y="0"/>
                </a:lnTo>
                <a:lnTo>
                  <a:pt x="835" y="0"/>
                </a:lnTo>
                <a:lnTo>
                  <a:pt x="851" y="0"/>
                </a:lnTo>
                <a:lnTo>
                  <a:pt x="868" y="5"/>
                </a:lnTo>
                <a:lnTo>
                  <a:pt x="884" y="5"/>
                </a:lnTo>
                <a:lnTo>
                  <a:pt x="901" y="5"/>
                </a:lnTo>
                <a:lnTo>
                  <a:pt x="917" y="10"/>
                </a:lnTo>
                <a:lnTo>
                  <a:pt x="933" y="10"/>
                </a:lnTo>
                <a:lnTo>
                  <a:pt x="955" y="15"/>
                </a:lnTo>
                <a:lnTo>
                  <a:pt x="972" y="15"/>
                </a:lnTo>
                <a:lnTo>
                  <a:pt x="988" y="20"/>
                </a:lnTo>
                <a:lnTo>
                  <a:pt x="1004" y="20"/>
                </a:lnTo>
                <a:lnTo>
                  <a:pt x="1021" y="25"/>
                </a:lnTo>
                <a:lnTo>
                  <a:pt x="1037" y="25"/>
                </a:lnTo>
                <a:lnTo>
                  <a:pt x="1053" y="30"/>
                </a:lnTo>
                <a:lnTo>
                  <a:pt x="1070" y="35"/>
                </a:lnTo>
                <a:lnTo>
                  <a:pt x="1086" y="35"/>
                </a:lnTo>
                <a:lnTo>
                  <a:pt x="1102" y="40"/>
                </a:lnTo>
                <a:lnTo>
                  <a:pt x="1113" y="45"/>
                </a:lnTo>
                <a:lnTo>
                  <a:pt x="1130" y="50"/>
                </a:lnTo>
                <a:lnTo>
                  <a:pt x="1146" y="55"/>
                </a:lnTo>
                <a:lnTo>
                  <a:pt x="1162" y="60"/>
                </a:lnTo>
                <a:lnTo>
                  <a:pt x="1179" y="65"/>
                </a:lnTo>
                <a:lnTo>
                  <a:pt x="1195" y="70"/>
                </a:lnTo>
                <a:lnTo>
                  <a:pt x="1212" y="75"/>
                </a:lnTo>
                <a:lnTo>
                  <a:pt x="1222" y="80"/>
                </a:lnTo>
                <a:lnTo>
                  <a:pt x="1239" y="85"/>
                </a:lnTo>
                <a:lnTo>
                  <a:pt x="1255" y="90"/>
                </a:lnTo>
                <a:lnTo>
                  <a:pt x="1266" y="95"/>
                </a:lnTo>
                <a:lnTo>
                  <a:pt x="1282" y="101"/>
                </a:lnTo>
                <a:lnTo>
                  <a:pt x="1299" y="111"/>
                </a:lnTo>
                <a:lnTo>
                  <a:pt x="1310" y="116"/>
                </a:lnTo>
                <a:lnTo>
                  <a:pt x="1326" y="121"/>
                </a:lnTo>
                <a:lnTo>
                  <a:pt x="1337" y="126"/>
                </a:lnTo>
                <a:lnTo>
                  <a:pt x="1353" y="136"/>
                </a:lnTo>
                <a:lnTo>
                  <a:pt x="1364" y="141"/>
                </a:lnTo>
                <a:lnTo>
                  <a:pt x="1381" y="151"/>
                </a:lnTo>
                <a:lnTo>
                  <a:pt x="1392" y="156"/>
                </a:lnTo>
                <a:lnTo>
                  <a:pt x="1402" y="161"/>
                </a:lnTo>
                <a:lnTo>
                  <a:pt x="1419" y="171"/>
                </a:lnTo>
                <a:lnTo>
                  <a:pt x="1430" y="181"/>
                </a:lnTo>
                <a:lnTo>
                  <a:pt x="1441" y="186"/>
                </a:lnTo>
                <a:lnTo>
                  <a:pt x="1452" y="196"/>
                </a:lnTo>
                <a:lnTo>
                  <a:pt x="1468" y="201"/>
                </a:lnTo>
                <a:lnTo>
                  <a:pt x="1479" y="211"/>
                </a:lnTo>
                <a:lnTo>
                  <a:pt x="1490" y="221"/>
                </a:lnTo>
                <a:lnTo>
                  <a:pt x="1501" y="226"/>
                </a:lnTo>
                <a:lnTo>
                  <a:pt x="1512" y="236"/>
                </a:lnTo>
                <a:lnTo>
                  <a:pt x="748" y="638"/>
                </a:lnTo>
                <a:lnTo>
                  <a:pt x="0" y="226"/>
                </a:lnTo>
                <a:close/>
              </a:path>
            </a:pathLst>
          </a:custGeom>
          <a:solidFill>
            <a:srgbClr val="ce9964"/>
          </a:solidFill>
          <a:ln w="792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723080" y="4106880"/>
            <a:ext cx="155520" cy="735120"/>
          </a:xfrm>
          <a:custGeom>
            <a:avLst/>
            <a:gdLst/>
            <a:ahLst/>
            <a:rect l="l" t="t" r="r" b="b"/>
            <a:pathLst>
              <a:path w="98" h="463">
                <a:moveTo>
                  <a:pt x="98" y="0"/>
                </a:moveTo>
                <a:lnTo>
                  <a:pt x="98" y="11"/>
                </a:lnTo>
                <a:lnTo>
                  <a:pt x="98" y="26"/>
                </a:lnTo>
                <a:lnTo>
                  <a:pt x="98" y="36"/>
                </a:lnTo>
                <a:lnTo>
                  <a:pt x="92" y="46"/>
                </a:lnTo>
                <a:lnTo>
                  <a:pt x="92" y="56"/>
                </a:lnTo>
                <a:lnTo>
                  <a:pt x="92" y="71"/>
                </a:lnTo>
                <a:lnTo>
                  <a:pt x="87" y="81"/>
                </a:lnTo>
                <a:lnTo>
                  <a:pt x="87" y="91"/>
                </a:lnTo>
                <a:lnTo>
                  <a:pt x="87" y="101"/>
                </a:lnTo>
                <a:lnTo>
                  <a:pt x="81" y="111"/>
                </a:lnTo>
                <a:lnTo>
                  <a:pt x="76" y="126"/>
                </a:lnTo>
                <a:lnTo>
                  <a:pt x="76" y="136"/>
                </a:lnTo>
                <a:lnTo>
                  <a:pt x="71" y="146"/>
                </a:lnTo>
                <a:lnTo>
                  <a:pt x="71" y="146"/>
                </a:lnTo>
                <a:lnTo>
                  <a:pt x="65" y="156"/>
                </a:lnTo>
                <a:lnTo>
                  <a:pt x="65" y="166"/>
                </a:lnTo>
                <a:lnTo>
                  <a:pt x="60" y="176"/>
                </a:lnTo>
                <a:lnTo>
                  <a:pt x="54" y="192"/>
                </a:lnTo>
                <a:lnTo>
                  <a:pt x="49" y="202"/>
                </a:lnTo>
                <a:lnTo>
                  <a:pt x="43" y="212"/>
                </a:lnTo>
                <a:lnTo>
                  <a:pt x="38" y="222"/>
                </a:lnTo>
                <a:lnTo>
                  <a:pt x="32" y="232"/>
                </a:lnTo>
                <a:lnTo>
                  <a:pt x="27" y="242"/>
                </a:lnTo>
                <a:lnTo>
                  <a:pt x="16" y="252"/>
                </a:lnTo>
                <a:lnTo>
                  <a:pt x="11" y="262"/>
                </a:lnTo>
                <a:lnTo>
                  <a:pt x="5" y="272"/>
                </a:lnTo>
                <a:lnTo>
                  <a:pt x="0" y="282"/>
                </a:lnTo>
                <a:lnTo>
                  <a:pt x="0" y="463"/>
                </a:lnTo>
                <a:lnTo>
                  <a:pt x="5" y="453"/>
                </a:lnTo>
                <a:lnTo>
                  <a:pt x="11" y="443"/>
                </a:lnTo>
                <a:lnTo>
                  <a:pt x="16" y="433"/>
                </a:lnTo>
                <a:lnTo>
                  <a:pt x="27" y="423"/>
                </a:lnTo>
                <a:lnTo>
                  <a:pt x="32" y="413"/>
                </a:lnTo>
                <a:lnTo>
                  <a:pt x="38" y="403"/>
                </a:lnTo>
                <a:lnTo>
                  <a:pt x="43" y="393"/>
                </a:lnTo>
                <a:lnTo>
                  <a:pt x="49" y="383"/>
                </a:lnTo>
                <a:lnTo>
                  <a:pt x="54" y="373"/>
                </a:lnTo>
                <a:lnTo>
                  <a:pt x="60" y="357"/>
                </a:lnTo>
                <a:lnTo>
                  <a:pt x="65" y="347"/>
                </a:lnTo>
                <a:lnTo>
                  <a:pt x="65" y="337"/>
                </a:lnTo>
                <a:lnTo>
                  <a:pt x="71" y="327"/>
                </a:lnTo>
                <a:lnTo>
                  <a:pt x="71" y="327"/>
                </a:lnTo>
                <a:lnTo>
                  <a:pt x="76" y="317"/>
                </a:lnTo>
                <a:lnTo>
                  <a:pt x="76" y="307"/>
                </a:lnTo>
                <a:lnTo>
                  <a:pt x="81" y="292"/>
                </a:lnTo>
                <a:lnTo>
                  <a:pt x="87" y="282"/>
                </a:lnTo>
                <a:lnTo>
                  <a:pt x="87" y="272"/>
                </a:lnTo>
                <a:lnTo>
                  <a:pt x="87" y="262"/>
                </a:lnTo>
                <a:lnTo>
                  <a:pt x="92" y="252"/>
                </a:lnTo>
                <a:lnTo>
                  <a:pt x="92" y="237"/>
                </a:lnTo>
                <a:lnTo>
                  <a:pt x="92" y="227"/>
                </a:lnTo>
                <a:lnTo>
                  <a:pt x="98" y="217"/>
                </a:lnTo>
                <a:lnTo>
                  <a:pt x="98" y="207"/>
                </a:lnTo>
                <a:lnTo>
                  <a:pt x="98" y="192"/>
                </a:lnTo>
                <a:lnTo>
                  <a:pt x="98" y="181"/>
                </a:lnTo>
                <a:lnTo>
                  <a:pt x="98" y="0"/>
                </a:lnTo>
                <a:close/>
              </a:path>
            </a:pathLst>
          </a:custGeom>
          <a:solidFill>
            <a:srgbClr val="671a1a"/>
          </a:solidFill>
          <a:ln w="792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319800" y="4106880"/>
            <a:ext cx="1393920" cy="735120"/>
          </a:xfrm>
          <a:custGeom>
            <a:avLst/>
            <a:gdLst/>
            <a:ahLst/>
            <a:rect l="l" t="t" r="r" b="b"/>
            <a:pathLst>
              <a:path w="878" h="463">
                <a:moveTo>
                  <a:pt x="0" y="0"/>
                </a:moveTo>
                <a:lnTo>
                  <a:pt x="878" y="282"/>
                </a:lnTo>
                <a:lnTo>
                  <a:pt x="878" y="463"/>
                </a:lnTo>
                <a:lnTo>
                  <a:pt x="0" y="181"/>
                </a:lnTo>
                <a:lnTo>
                  <a:pt x="0" y="0"/>
                </a:lnTo>
                <a:close/>
              </a:path>
            </a:pathLst>
          </a:custGeom>
          <a:solidFill>
            <a:srgbClr val="671a1a"/>
          </a:solidFill>
          <a:ln w="792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319800" y="3468600"/>
            <a:ext cx="1558800" cy="1085760"/>
          </a:xfrm>
          <a:custGeom>
            <a:avLst/>
            <a:gdLst/>
            <a:ahLst/>
            <a:rect l="l" t="t" r="r" b="b"/>
            <a:pathLst>
              <a:path w="982" h="684">
                <a:moveTo>
                  <a:pt x="764" y="0"/>
                </a:moveTo>
                <a:lnTo>
                  <a:pt x="774" y="10"/>
                </a:lnTo>
                <a:lnTo>
                  <a:pt x="785" y="20"/>
                </a:lnTo>
                <a:lnTo>
                  <a:pt x="791" y="25"/>
                </a:lnTo>
                <a:lnTo>
                  <a:pt x="802" y="35"/>
                </a:lnTo>
                <a:lnTo>
                  <a:pt x="813" y="46"/>
                </a:lnTo>
                <a:lnTo>
                  <a:pt x="824" y="56"/>
                </a:lnTo>
                <a:lnTo>
                  <a:pt x="829" y="66"/>
                </a:lnTo>
                <a:lnTo>
                  <a:pt x="840" y="76"/>
                </a:lnTo>
                <a:lnTo>
                  <a:pt x="851" y="81"/>
                </a:lnTo>
                <a:lnTo>
                  <a:pt x="856" y="91"/>
                </a:lnTo>
                <a:lnTo>
                  <a:pt x="867" y="101"/>
                </a:lnTo>
                <a:lnTo>
                  <a:pt x="873" y="111"/>
                </a:lnTo>
                <a:lnTo>
                  <a:pt x="884" y="121"/>
                </a:lnTo>
                <a:lnTo>
                  <a:pt x="889" y="131"/>
                </a:lnTo>
                <a:lnTo>
                  <a:pt x="895" y="141"/>
                </a:lnTo>
                <a:lnTo>
                  <a:pt x="900" y="151"/>
                </a:lnTo>
                <a:lnTo>
                  <a:pt x="911" y="161"/>
                </a:lnTo>
                <a:lnTo>
                  <a:pt x="916" y="176"/>
                </a:lnTo>
                <a:lnTo>
                  <a:pt x="922" y="186"/>
                </a:lnTo>
                <a:lnTo>
                  <a:pt x="927" y="196"/>
                </a:lnTo>
                <a:lnTo>
                  <a:pt x="933" y="206"/>
                </a:lnTo>
                <a:lnTo>
                  <a:pt x="938" y="216"/>
                </a:lnTo>
                <a:lnTo>
                  <a:pt x="944" y="227"/>
                </a:lnTo>
                <a:lnTo>
                  <a:pt x="949" y="237"/>
                </a:lnTo>
                <a:lnTo>
                  <a:pt x="949" y="247"/>
                </a:lnTo>
                <a:lnTo>
                  <a:pt x="955" y="262"/>
                </a:lnTo>
                <a:lnTo>
                  <a:pt x="960" y="272"/>
                </a:lnTo>
                <a:lnTo>
                  <a:pt x="960" y="282"/>
                </a:lnTo>
                <a:lnTo>
                  <a:pt x="965" y="292"/>
                </a:lnTo>
                <a:lnTo>
                  <a:pt x="971" y="302"/>
                </a:lnTo>
                <a:lnTo>
                  <a:pt x="971" y="317"/>
                </a:lnTo>
                <a:lnTo>
                  <a:pt x="971" y="327"/>
                </a:lnTo>
                <a:lnTo>
                  <a:pt x="976" y="337"/>
                </a:lnTo>
                <a:lnTo>
                  <a:pt x="976" y="337"/>
                </a:lnTo>
                <a:lnTo>
                  <a:pt x="976" y="347"/>
                </a:lnTo>
                <a:lnTo>
                  <a:pt x="976" y="357"/>
                </a:lnTo>
                <a:lnTo>
                  <a:pt x="982" y="372"/>
                </a:lnTo>
                <a:lnTo>
                  <a:pt x="982" y="382"/>
                </a:lnTo>
                <a:lnTo>
                  <a:pt x="982" y="392"/>
                </a:lnTo>
                <a:lnTo>
                  <a:pt x="982" y="402"/>
                </a:lnTo>
                <a:lnTo>
                  <a:pt x="982" y="413"/>
                </a:lnTo>
                <a:lnTo>
                  <a:pt x="982" y="428"/>
                </a:lnTo>
                <a:lnTo>
                  <a:pt x="982" y="438"/>
                </a:lnTo>
                <a:lnTo>
                  <a:pt x="976" y="448"/>
                </a:lnTo>
                <a:lnTo>
                  <a:pt x="976" y="458"/>
                </a:lnTo>
                <a:lnTo>
                  <a:pt x="976" y="473"/>
                </a:lnTo>
                <a:lnTo>
                  <a:pt x="971" y="483"/>
                </a:lnTo>
                <a:lnTo>
                  <a:pt x="971" y="493"/>
                </a:lnTo>
                <a:lnTo>
                  <a:pt x="971" y="503"/>
                </a:lnTo>
                <a:lnTo>
                  <a:pt x="965" y="513"/>
                </a:lnTo>
                <a:lnTo>
                  <a:pt x="960" y="528"/>
                </a:lnTo>
                <a:lnTo>
                  <a:pt x="960" y="538"/>
                </a:lnTo>
                <a:lnTo>
                  <a:pt x="955" y="548"/>
                </a:lnTo>
                <a:lnTo>
                  <a:pt x="949" y="558"/>
                </a:lnTo>
                <a:lnTo>
                  <a:pt x="949" y="568"/>
                </a:lnTo>
                <a:lnTo>
                  <a:pt x="944" y="578"/>
                </a:lnTo>
                <a:lnTo>
                  <a:pt x="938" y="594"/>
                </a:lnTo>
                <a:lnTo>
                  <a:pt x="933" y="604"/>
                </a:lnTo>
                <a:lnTo>
                  <a:pt x="927" y="614"/>
                </a:lnTo>
                <a:lnTo>
                  <a:pt x="922" y="624"/>
                </a:lnTo>
                <a:lnTo>
                  <a:pt x="916" y="634"/>
                </a:lnTo>
                <a:lnTo>
                  <a:pt x="911" y="644"/>
                </a:lnTo>
                <a:lnTo>
                  <a:pt x="900" y="654"/>
                </a:lnTo>
                <a:lnTo>
                  <a:pt x="895" y="664"/>
                </a:lnTo>
                <a:lnTo>
                  <a:pt x="889" y="674"/>
                </a:lnTo>
                <a:lnTo>
                  <a:pt x="884" y="684"/>
                </a:lnTo>
                <a:lnTo>
                  <a:pt x="0" y="402"/>
                </a:lnTo>
                <a:lnTo>
                  <a:pt x="764" y="0"/>
                </a:lnTo>
                <a:close/>
              </a:path>
            </a:pathLst>
          </a:custGeom>
          <a:solidFill>
            <a:srgbClr val="cd3333"/>
          </a:solidFill>
          <a:ln w="792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588000" y="4554360"/>
            <a:ext cx="1135080" cy="846360"/>
          </a:xfrm>
          <a:custGeom>
            <a:avLst/>
            <a:gdLst/>
            <a:ahLst/>
            <a:rect l="l" t="t" r="r" b="b"/>
            <a:pathLst>
              <a:path w="715" h="533">
                <a:moveTo>
                  <a:pt x="715" y="0"/>
                </a:moveTo>
                <a:lnTo>
                  <a:pt x="704" y="10"/>
                </a:lnTo>
                <a:lnTo>
                  <a:pt x="698" y="20"/>
                </a:lnTo>
                <a:lnTo>
                  <a:pt x="687" y="30"/>
                </a:lnTo>
                <a:lnTo>
                  <a:pt x="682" y="40"/>
                </a:lnTo>
                <a:lnTo>
                  <a:pt x="671" y="50"/>
                </a:lnTo>
                <a:lnTo>
                  <a:pt x="660" y="60"/>
                </a:lnTo>
                <a:lnTo>
                  <a:pt x="655" y="70"/>
                </a:lnTo>
                <a:lnTo>
                  <a:pt x="644" y="80"/>
                </a:lnTo>
                <a:lnTo>
                  <a:pt x="633" y="86"/>
                </a:lnTo>
                <a:lnTo>
                  <a:pt x="622" y="96"/>
                </a:lnTo>
                <a:lnTo>
                  <a:pt x="616" y="106"/>
                </a:lnTo>
                <a:lnTo>
                  <a:pt x="605" y="116"/>
                </a:lnTo>
                <a:lnTo>
                  <a:pt x="595" y="121"/>
                </a:lnTo>
                <a:lnTo>
                  <a:pt x="584" y="131"/>
                </a:lnTo>
                <a:lnTo>
                  <a:pt x="573" y="141"/>
                </a:lnTo>
                <a:lnTo>
                  <a:pt x="562" y="151"/>
                </a:lnTo>
                <a:lnTo>
                  <a:pt x="551" y="156"/>
                </a:lnTo>
                <a:lnTo>
                  <a:pt x="535" y="166"/>
                </a:lnTo>
                <a:lnTo>
                  <a:pt x="524" y="171"/>
                </a:lnTo>
                <a:lnTo>
                  <a:pt x="513" y="181"/>
                </a:lnTo>
                <a:lnTo>
                  <a:pt x="502" y="186"/>
                </a:lnTo>
                <a:lnTo>
                  <a:pt x="485" y="196"/>
                </a:lnTo>
                <a:lnTo>
                  <a:pt x="475" y="201"/>
                </a:lnTo>
                <a:lnTo>
                  <a:pt x="464" y="211"/>
                </a:lnTo>
                <a:lnTo>
                  <a:pt x="447" y="216"/>
                </a:lnTo>
                <a:lnTo>
                  <a:pt x="436" y="226"/>
                </a:lnTo>
                <a:lnTo>
                  <a:pt x="420" y="231"/>
                </a:lnTo>
                <a:lnTo>
                  <a:pt x="409" y="236"/>
                </a:lnTo>
                <a:lnTo>
                  <a:pt x="393" y="246"/>
                </a:lnTo>
                <a:lnTo>
                  <a:pt x="382" y="251"/>
                </a:lnTo>
                <a:lnTo>
                  <a:pt x="365" y="256"/>
                </a:lnTo>
                <a:lnTo>
                  <a:pt x="349" y="261"/>
                </a:lnTo>
                <a:lnTo>
                  <a:pt x="338" y="272"/>
                </a:lnTo>
                <a:lnTo>
                  <a:pt x="322" y="277"/>
                </a:lnTo>
                <a:lnTo>
                  <a:pt x="305" y="282"/>
                </a:lnTo>
                <a:lnTo>
                  <a:pt x="295" y="287"/>
                </a:lnTo>
                <a:lnTo>
                  <a:pt x="278" y="292"/>
                </a:lnTo>
                <a:lnTo>
                  <a:pt x="262" y="297"/>
                </a:lnTo>
                <a:lnTo>
                  <a:pt x="245" y="302"/>
                </a:lnTo>
                <a:lnTo>
                  <a:pt x="229" y="307"/>
                </a:lnTo>
                <a:lnTo>
                  <a:pt x="213" y="312"/>
                </a:lnTo>
                <a:lnTo>
                  <a:pt x="196" y="312"/>
                </a:lnTo>
                <a:lnTo>
                  <a:pt x="185" y="317"/>
                </a:lnTo>
                <a:lnTo>
                  <a:pt x="169" y="322"/>
                </a:lnTo>
                <a:lnTo>
                  <a:pt x="153" y="327"/>
                </a:lnTo>
                <a:lnTo>
                  <a:pt x="136" y="332"/>
                </a:lnTo>
                <a:lnTo>
                  <a:pt x="120" y="332"/>
                </a:lnTo>
                <a:lnTo>
                  <a:pt x="104" y="337"/>
                </a:lnTo>
                <a:lnTo>
                  <a:pt x="87" y="337"/>
                </a:lnTo>
                <a:lnTo>
                  <a:pt x="71" y="342"/>
                </a:lnTo>
                <a:lnTo>
                  <a:pt x="55" y="342"/>
                </a:lnTo>
                <a:lnTo>
                  <a:pt x="38" y="347"/>
                </a:lnTo>
                <a:lnTo>
                  <a:pt x="16" y="347"/>
                </a:lnTo>
                <a:lnTo>
                  <a:pt x="0" y="352"/>
                </a:lnTo>
                <a:lnTo>
                  <a:pt x="0" y="533"/>
                </a:lnTo>
                <a:lnTo>
                  <a:pt x="16" y="528"/>
                </a:lnTo>
                <a:lnTo>
                  <a:pt x="38" y="528"/>
                </a:lnTo>
                <a:lnTo>
                  <a:pt x="55" y="523"/>
                </a:lnTo>
                <a:lnTo>
                  <a:pt x="71" y="523"/>
                </a:lnTo>
                <a:lnTo>
                  <a:pt x="87" y="518"/>
                </a:lnTo>
                <a:lnTo>
                  <a:pt x="104" y="518"/>
                </a:lnTo>
                <a:lnTo>
                  <a:pt x="120" y="513"/>
                </a:lnTo>
                <a:lnTo>
                  <a:pt x="136" y="513"/>
                </a:lnTo>
                <a:lnTo>
                  <a:pt x="153" y="508"/>
                </a:lnTo>
                <a:lnTo>
                  <a:pt x="169" y="503"/>
                </a:lnTo>
                <a:lnTo>
                  <a:pt x="185" y="498"/>
                </a:lnTo>
                <a:lnTo>
                  <a:pt x="196" y="493"/>
                </a:lnTo>
                <a:lnTo>
                  <a:pt x="213" y="493"/>
                </a:lnTo>
                <a:lnTo>
                  <a:pt x="229" y="488"/>
                </a:lnTo>
                <a:lnTo>
                  <a:pt x="245" y="483"/>
                </a:lnTo>
                <a:lnTo>
                  <a:pt x="262" y="478"/>
                </a:lnTo>
                <a:lnTo>
                  <a:pt x="278" y="473"/>
                </a:lnTo>
                <a:lnTo>
                  <a:pt x="295" y="468"/>
                </a:lnTo>
                <a:lnTo>
                  <a:pt x="305" y="463"/>
                </a:lnTo>
                <a:lnTo>
                  <a:pt x="322" y="458"/>
                </a:lnTo>
                <a:lnTo>
                  <a:pt x="338" y="453"/>
                </a:lnTo>
                <a:lnTo>
                  <a:pt x="349" y="442"/>
                </a:lnTo>
                <a:lnTo>
                  <a:pt x="365" y="437"/>
                </a:lnTo>
                <a:lnTo>
                  <a:pt x="382" y="432"/>
                </a:lnTo>
                <a:lnTo>
                  <a:pt x="393" y="427"/>
                </a:lnTo>
                <a:lnTo>
                  <a:pt x="409" y="417"/>
                </a:lnTo>
                <a:lnTo>
                  <a:pt x="420" y="412"/>
                </a:lnTo>
                <a:lnTo>
                  <a:pt x="436" y="407"/>
                </a:lnTo>
                <a:lnTo>
                  <a:pt x="447" y="397"/>
                </a:lnTo>
                <a:lnTo>
                  <a:pt x="464" y="392"/>
                </a:lnTo>
                <a:lnTo>
                  <a:pt x="475" y="382"/>
                </a:lnTo>
                <a:lnTo>
                  <a:pt x="485" y="377"/>
                </a:lnTo>
                <a:lnTo>
                  <a:pt x="502" y="367"/>
                </a:lnTo>
                <a:lnTo>
                  <a:pt x="513" y="362"/>
                </a:lnTo>
                <a:lnTo>
                  <a:pt x="524" y="352"/>
                </a:lnTo>
                <a:lnTo>
                  <a:pt x="535" y="347"/>
                </a:lnTo>
                <a:lnTo>
                  <a:pt x="551" y="337"/>
                </a:lnTo>
                <a:lnTo>
                  <a:pt x="562" y="332"/>
                </a:lnTo>
                <a:lnTo>
                  <a:pt x="573" y="322"/>
                </a:lnTo>
                <a:lnTo>
                  <a:pt x="584" y="312"/>
                </a:lnTo>
                <a:lnTo>
                  <a:pt x="595" y="302"/>
                </a:lnTo>
                <a:lnTo>
                  <a:pt x="605" y="297"/>
                </a:lnTo>
                <a:lnTo>
                  <a:pt x="616" y="287"/>
                </a:lnTo>
                <a:lnTo>
                  <a:pt x="622" y="277"/>
                </a:lnTo>
                <a:lnTo>
                  <a:pt x="633" y="267"/>
                </a:lnTo>
                <a:lnTo>
                  <a:pt x="644" y="261"/>
                </a:lnTo>
                <a:lnTo>
                  <a:pt x="655" y="251"/>
                </a:lnTo>
                <a:lnTo>
                  <a:pt x="660" y="241"/>
                </a:lnTo>
                <a:lnTo>
                  <a:pt x="671" y="231"/>
                </a:lnTo>
                <a:lnTo>
                  <a:pt x="682" y="221"/>
                </a:lnTo>
                <a:lnTo>
                  <a:pt x="687" y="211"/>
                </a:lnTo>
                <a:lnTo>
                  <a:pt x="698" y="201"/>
                </a:lnTo>
                <a:lnTo>
                  <a:pt x="704" y="191"/>
                </a:lnTo>
                <a:lnTo>
                  <a:pt x="715" y="181"/>
                </a:lnTo>
                <a:lnTo>
                  <a:pt x="715" y="0"/>
                </a:lnTo>
                <a:close/>
              </a:path>
            </a:pathLst>
          </a:custGeom>
          <a:solidFill>
            <a:srgbClr val="4d4019"/>
          </a:solidFill>
          <a:ln w="792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319800" y="4106880"/>
            <a:ext cx="268200" cy="1285920"/>
          </a:xfrm>
          <a:custGeom>
            <a:avLst/>
            <a:gdLst/>
            <a:ahLst/>
            <a:rect l="l" t="t" r="r" b="b"/>
            <a:pathLst>
              <a:path w="169" h="810">
                <a:moveTo>
                  <a:pt x="0" y="0"/>
                </a:moveTo>
                <a:lnTo>
                  <a:pt x="169" y="629"/>
                </a:lnTo>
                <a:lnTo>
                  <a:pt x="169" y="810"/>
                </a:lnTo>
                <a:lnTo>
                  <a:pt x="0" y="181"/>
                </a:lnTo>
                <a:lnTo>
                  <a:pt x="0" y="0"/>
                </a:lnTo>
                <a:close/>
              </a:path>
            </a:pathLst>
          </a:custGeom>
          <a:solidFill>
            <a:srgbClr val="4d4019"/>
          </a:solidFill>
          <a:ln w="792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19800" y="4106880"/>
            <a:ext cx="1403280" cy="1006560"/>
          </a:xfrm>
          <a:custGeom>
            <a:avLst/>
            <a:gdLst/>
            <a:ahLst/>
            <a:rect l="l" t="t" r="r" b="b"/>
            <a:pathLst>
              <a:path w="884" h="634">
                <a:moveTo>
                  <a:pt x="884" y="282"/>
                </a:moveTo>
                <a:lnTo>
                  <a:pt x="873" y="292"/>
                </a:lnTo>
                <a:lnTo>
                  <a:pt x="867" y="302"/>
                </a:lnTo>
                <a:lnTo>
                  <a:pt x="856" y="312"/>
                </a:lnTo>
                <a:lnTo>
                  <a:pt x="851" y="322"/>
                </a:lnTo>
                <a:lnTo>
                  <a:pt x="840" y="332"/>
                </a:lnTo>
                <a:lnTo>
                  <a:pt x="829" y="342"/>
                </a:lnTo>
                <a:lnTo>
                  <a:pt x="824" y="352"/>
                </a:lnTo>
                <a:lnTo>
                  <a:pt x="813" y="362"/>
                </a:lnTo>
                <a:lnTo>
                  <a:pt x="802" y="368"/>
                </a:lnTo>
                <a:lnTo>
                  <a:pt x="791" y="378"/>
                </a:lnTo>
                <a:lnTo>
                  <a:pt x="785" y="388"/>
                </a:lnTo>
                <a:lnTo>
                  <a:pt x="774" y="398"/>
                </a:lnTo>
                <a:lnTo>
                  <a:pt x="764" y="403"/>
                </a:lnTo>
                <a:lnTo>
                  <a:pt x="753" y="413"/>
                </a:lnTo>
                <a:lnTo>
                  <a:pt x="742" y="423"/>
                </a:lnTo>
                <a:lnTo>
                  <a:pt x="731" y="433"/>
                </a:lnTo>
                <a:lnTo>
                  <a:pt x="720" y="438"/>
                </a:lnTo>
                <a:lnTo>
                  <a:pt x="704" y="448"/>
                </a:lnTo>
                <a:lnTo>
                  <a:pt x="693" y="453"/>
                </a:lnTo>
                <a:lnTo>
                  <a:pt x="682" y="463"/>
                </a:lnTo>
                <a:lnTo>
                  <a:pt x="671" y="468"/>
                </a:lnTo>
                <a:lnTo>
                  <a:pt x="654" y="478"/>
                </a:lnTo>
                <a:lnTo>
                  <a:pt x="644" y="483"/>
                </a:lnTo>
                <a:lnTo>
                  <a:pt x="633" y="493"/>
                </a:lnTo>
                <a:lnTo>
                  <a:pt x="616" y="498"/>
                </a:lnTo>
                <a:lnTo>
                  <a:pt x="605" y="508"/>
                </a:lnTo>
                <a:lnTo>
                  <a:pt x="589" y="513"/>
                </a:lnTo>
                <a:lnTo>
                  <a:pt x="578" y="518"/>
                </a:lnTo>
                <a:lnTo>
                  <a:pt x="562" y="528"/>
                </a:lnTo>
                <a:lnTo>
                  <a:pt x="551" y="533"/>
                </a:lnTo>
                <a:lnTo>
                  <a:pt x="534" y="538"/>
                </a:lnTo>
                <a:lnTo>
                  <a:pt x="518" y="543"/>
                </a:lnTo>
                <a:lnTo>
                  <a:pt x="507" y="554"/>
                </a:lnTo>
                <a:lnTo>
                  <a:pt x="491" y="559"/>
                </a:lnTo>
                <a:lnTo>
                  <a:pt x="474" y="564"/>
                </a:lnTo>
                <a:lnTo>
                  <a:pt x="464" y="569"/>
                </a:lnTo>
                <a:lnTo>
                  <a:pt x="447" y="574"/>
                </a:lnTo>
                <a:lnTo>
                  <a:pt x="431" y="579"/>
                </a:lnTo>
                <a:lnTo>
                  <a:pt x="414" y="584"/>
                </a:lnTo>
                <a:lnTo>
                  <a:pt x="398" y="589"/>
                </a:lnTo>
                <a:lnTo>
                  <a:pt x="382" y="594"/>
                </a:lnTo>
                <a:lnTo>
                  <a:pt x="365" y="594"/>
                </a:lnTo>
                <a:lnTo>
                  <a:pt x="354" y="599"/>
                </a:lnTo>
                <a:lnTo>
                  <a:pt x="338" y="604"/>
                </a:lnTo>
                <a:lnTo>
                  <a:pt x="322" y="609"/>
                </a:lnTo>
                <a:lnTo>
                  <a:pt x="305" y="614"/>
                </a:lnTo>
                <a:lnTo>
                  <a:pt x="289" y="614"/>
                </a:lnTo>
                <a:lnTo>
                  <a:pt x="273" y="619"/>
                </a:lnTo>
                <a:lnTo>
                  <a:pt x="256" y="619"/>
                </a:lnTo>
                <a:lnTo>
                  <a:pt x="240" y="624"/>
                </a:lnTo>
                <a:lnTo>
                  <a:pt x="224" y="624"/>
                </a:lnTo>
                <a:lnTo>
                  <a:pt x="207" y="629"/>
                </a:lnTo>
                <a:lnTo>
                  <a:pt x="185" y="629"/>
                </a:lnTo>
                <a:lnTo>
                  <a:pt x="169" y="634"/>
                </a:lnTo>
                <a:lnTo>
                  <a:pt x="0" y="0"/>
                </a:lnTo>
                <a:lnTo>
                  <a:pt x="884" y="282"/>
                </a:lnTo>
                <a:close/>
              </a:path>
            </a:pathLst>
          </a:custGeom>
          <a:solidFill>
            <a:srgbClr val="9a7f32"/>
          </a:solidFill>
          <a:ln w="792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768920" y="4106880"/>
            <a:ext cx="1819080" cy="1309680"/>
          </a:xfrm>
          <a:custGeom>
            <a:avLst/>
            <a:gdLst/>
            <a:ahLst/>
            <a:rect l="l" t="t" r="r" b="b"/>
            <a:pathLst>
              <a:path w="1146" h="825">
                <a:moveTo>
                  <a:pt x="1146" y="634"/>
                </a:moveTo>
                <a:lnTo>
                  <a:pt x="1130" y="634"/>
                </a:lnTo>
                <a:lnTo>
                  <a:pt x="1113" y="639"/>
                </a:lnTo>
                <a:lnTo>
                  <a:pt x="1097" y="639"/>
                </a:lnTo>
                <a:lnTo>
                  <a:pt x="1080" y="639"/>
                </a:lnTo>
                <a:lnTo>
                  <a:pt x="1064" y="639"/>
                </a:lnTo>
                <a:lnTo>
                  <a:pt x="1048" y="639"/>
                </a:lnTo>
                <a:lnTo>
                  <a:pt x="1031" y="644"/>
                </a:lnTo>
                <a:lnTo>
                  <a:pt x="1015" y="644"/>
                </a:lnTo>
                <a:lnTo>
                  <a:pt x="993" y="644"/>
                </a:lnTo>
                <a:lnTo>
                  <a:pt x="977" y="644"/>
                </a:lnTo>
                <a:lnTo>
                  <a:pt x="960" y="644"/>
                </a:lnTo>
                <a:lnTo>
                  <a:pt x="944" y="644"/>
                </a:lnTo>
                <a:lnTo>
                  <a:pt x="928" y="644"/>
                </a:lnTo>
                <a:lnTo>
                  <a:pt x="911" y="639"/>
                </a:lnTo>
                <a:lnTo>
                  <a:pt x="895" y="639"/>
                </a:lnTo>
                <a:lnTo>
                  <a:pt x="873" y="639"/>
                </a:lnTo>
                <a:lnTo>
                  <a:pt x="857" y="639"/>
                </a:lnTo>
                <a:lnTo>
                  <a:pt x="840" y="639"/>
                </a:lnTo>
                <a:lnTo>
                  <a:pt x="824" y="634"/>
                </a:lnTo>
                <a:lnTo>
                  <a:pt x="808" y="634"/>
                </a:lnTo>
                <a:lnTo>
                  <a:pt x="791" y="629"/>
                </a:lnTo>
                <a:lnTo>
                  <a:pt x="775" y="629"/>
                </a:lnTo>
                <a:lnTo>
                  <a:pt x="759" y="624"/>
                </a:lnTo>
                <a:lnTo>
                  <a:pt x="742" y="624"/>
                </a:lnTo>
                <a:lnTo>
                  <a:pt x="726" y="619"/>
                </a:lnTo>
                <a:lnTo>
                  <a:pt x="726" y="619"/>
                </a:lnTo>
                <a:lnTo>
                  <a:pt x="710" y="619"/>
                </a:lnTo>
                <a:lnTo>
                  <a:pt x="693" y="614"/>
                </a:lnTo>
                <a:lnTo>
                  <a:pt x="677" y="614"/>
                </a:lnTo>
                <a:lnTo>
                  <a:pt x="660" y="609"/>
                </a:lnTo>
                <a:lnTo>
                  <a:pt x="644" y="604"/>
                </a:lnTo>
                <a:lnTo>
                  <a:pt x="628" y="599"/>
                </a:lnTo>
                <a:lnTo>
                  <a:pt x="611" y="594"/>
                </a:lnTo>
                <a:lnTo>
                  <a:pt x="595" y="594"/>
                </a:lnTo>
                <a:lnTo>
                  <a:pt x="579" y="589"/>
                </a:lnTo>
                <a:lnTo>
                  <a:pt x="562" y="584"/>
                </a:lnTo>
                <a:lnTo>
                  <a:pt x="551" y="579"/>
                </a:lnTo>
                <a:lnTo>
                  <a:pt x="535" y="574"/>
                </a:lnTo>
                <a:lnTo>
                  <a:pt x="519" y="569"/>
                </a:lnTo>
                <a:lnTo>
                  <a:pt x="502" y="564"/>
                </a:lnTo>
                <a:lnTo>
                  <a:pt x="486" y="559"/>
                </a:lnTo>
                <a:lnTo>
                  <a:pt x="475" y="554"/>
                </a:lnTo>
                <a:lnTo>
                  <a:pt x="459" y="543"/>
                </a:lnTo>
                <a:lnTo>
                  <a:pt x="442" y="538"/>
                </a:lnTo>
                <a:lnTo>
                  <a:pt x="431" y="533"/>
                </a:lnTo>
                <a:lnTo>
                  <a:pt x="415" y="528"/>
                </a:lnTo>
                <a:lnTo>
                  <a:pt x="404" y="518"/>
                </a:lnTo>
                <a:lnTo>
                  <a:pt x="388" y="513"/>
                </a:lnTo>
                <a:lnTo>
                  <a:pt x="377" y="508"/>
                </a:lnTo>
                <a:lnTo>
                  <a:pt x="360" y="498"/>
                </a:lnTo>
                <a:lnTo>
                  <a:pt x="349" y="493"/>
                </a:lnTo>
                <a:lnTo>
                  <a:pt x="333" y="483"/>
                </a:lnTo>
                <a:lnTo>
                  <a:pt x="322" y="478"/>
                </a:lnTo>
                <a:lnTo>
                  <a:pt x="311" y="468"/>
                </a:lnTo>
                <a:lnTo>
                  <a:pt x="300" y="463"/>
                </a:lnTo>
                <a:lnTo>
                  <a:pt x="284" y="453"/>
                </a:lnTo>
                <a:lnTo>
                  <a:pt x="273" y="448"/>
                </a:lnTo>
                <a:lnTo>
                  <a:pt x="262" y="438"/>
                </a:lnTo>
                <a:lnTo>
                  <a:pt x="251" y="433"/>
                </a:lnTo>
                <a:lnTo>
                  <a:pt x="240" y="423"/>
                </a:lnTo>
                <a:lnTo>
                  <a:pt x="229" y="413"/>
                </a:lnTo>
                <a:lnTo>
                  <a:pt x="219" y="403"/>
                </a:lnTo>
                <a:lnTo>
                  <a:pt x="208" y="398"/>
                </a:lnTo>
                <a:lnTo>
                  <a:pt x="197" y="388"/>
                </a:lnTo>
                <a:lnTo>
                  <a:pt x="186" y="378"/>
                </a:lnTo>
                <a:lnTo>
                  <a:pt x="175" y="368"/>
                </a:lnTo>
                <a:lnTo>
                  <a:pt x="164" y="362"/>
                </a:lnTo>
                <a:lnTo>
                  <a:pt x="159" y="352"/>
                </a:lnTo>
                <a:lnTo>
                  <a:pt x="148" y="342"/>
                </a:lnTo>
                <a:lnTo>
                  <a:pt x="137" y="332"/>
                </a:lnTo>
                <a:lnTo>
                  <a:pt x="131" y="322"/>
                </a:lnTo>
                <a:lnTo>
                  <a:pt x="120" y="312"/>
                </a:lnTo>
                <a:lnTo>
                  <a:pt x="115" y="302"/>
                </a:lnTo>
                <a:lnTo>
                  <a:pt x="104" y="292"/>
                </a:lnTo>
                <a:lnTo>
                  <a:pt x="99" y="282"/>
                </a:lnTo>
                <a:lnTo>
                  <a:pt x="93" y="272"/>
                </a:lnTo>
                <a:lnTo>
                  <a:pt x="93" y="272"/>
                </a:lnTo>
                <a:lnTo>
                  <a:pt x="82" y="262"/>
                </a:lnTo>
                <a:lnTo>
                  <a:pt x="77" y="252"/>
                </a:lnTo>
                <a:lnTo>
                  <a:pt x="71" y="242"/>
                </a:lnTo>
                <a:lnTo>
                  <a:pt x="66" y="232"/>
                </a:lnTo>
                <a:lnTo>
                  <a:pt x="60" y="222"/>
                </a:lnTo>
                <a:lnTo>
                  <a:pt x="55" y="212"/>
                </a:lnTo>
                <a:lnTo>
                  <a:pt x="49" y="202"/>
                </a:lnTo>
                <a:lnTo>
                  <a:pt x="44" y="192"/>
                </a:lnTo>
                <a:lnTo>
                  <a:pt x="39" y="176"/>
                </a:lnTo>
                <a:lnTo>
                  <a:pt x="33" y="166"/>
                </a:lnTo>
                <a:lnTo>
                  <a:pt x="28" y="156"/>
                </a:lnTo>
                <a:lnTo>
                  <a:pt x="22" y="146"/>
                </a:lnTo>
                <a:lnTo>
                  <a:pt x="22" y="136"/>
                </a:lnTo>
                <a:lnTo>
                  <a:pt x="17" y="126"/>
                </a:lnTo>
                <a:lnTo>
                  <a:pt x="11" y="111"/>
                </a:lnTo>
                <a:lnTo>
                  <a:pt x="11" y="101"/>
                </a:lnTo>
                <a:lnTo>
                  <a:pt x="6" y="91"/>
                </a:lnTo>
                <a:lnTo>
                  <a:pt x="6" y="81"/>
                </a:lnTo>
                <a:lnTo>
                  <a:pt x="6" y="71"/>
                </a:lnTo>
                <a:lnTo>
                  <a:pt x="0" y="56"/>
                </a:lnTo>
                <a:lnTo>
                  <a:pt x="0" y="46"/>
                </a:lnTo>
                <a:lnTo>
                  <a:pt x="0" y="36"/>
                </a:lnTo>
                <a:lnTo>
                  <a:pt x="0" y="26"/>
                </a:lnTo>
                <a:lnTo>
                  <a:pt x="0" y="11"/>
                </a:lnTo>
                <a:lnTo>
                  <a:pt x="0" y="0"/>
                </a:lnTo>
                <a:lnTo>
                  <a:pt x="0" y="181"/>
                </a:lnTo>
                <a:lnTo>
                  <a:pt x="0" y="192"/>
                </a:lnTo>
                <a:lnTo>
                  <a:pt x="0" y="207"/>
                </a:lnTo>
                <a:lnTo>
                  <a:pt x="0" y="217"/>
                </a:lnTo>
                <a:lnTo>
                  <a:pt x="0" y="227"/>
                </a:lnTo>
                <a:lnTo>
                  <a:pt x="0" y="237"/>
                </a:lnTo>
                <a:lnTo>
                  <a:pt x="6" y="252"/>
                </a:lnTo>
                <a:lnTo>
                  <a:pt x="6" y="262"/>
                </a:lnTo>
                <a:lnTo>
                  <a:pt x="6" y="272"/>
                </a:lnTo>
                <a:lnTo>
                  <a:pt x="11" y="282"/>
                </a:lnTo>
                <a:lnTo>
                  <a:pt x="11" y="292"/>
                </a:lnTo>
                <a:lnTo>
                  <a:pt x="17" y="307"/>
                </a:lnTo>
                <a:lnTo>
                  <a:pt x="22" y="317"/>
                </a:lnTo>
                <a:lnTo>
                  <a:pt x="22" y="327"/>
                </a:lnTo>
                <a:lnTo>
                  <a:pt x="28" y="337"/>
                </a:lnTo>
                <a:lnTo>
                  <a:pt x="33" y="347"/>
                </a:lnTo>
                <a:lnTo>
                  <a:pt x="39" y="357"/>
                </a:lnTo>
                <a:lnTo>
                  <a:pt x="44" y="373"/>
                </a:lnTo>
                <a:lnTo>
                  <a:pt x="49" y="383"/>
                </a:lnTo>
                <a:lnTo>
                  <a:pt x="55" y="393"/>
                </a:lnTo>
                <a:lnTo>
                  <a:pt x="60" y="403"/>
                </a:lnTo>
                <a:lnTo>
                  <a:pt x="66" y="413"/>
                </a:lnTo>
                <a:lnTo>
                  <a:pt x="71" y="423"/>
                </a:lnTo>
                <a:lnTo>
                  <a:pt x="77" y="433"/>
                </a:lnTo>
                <a:lnTo>
                  <a:pt x="82" y="443"/>
                </a:lnTo>
                <a:lnTo>
                  <a:pt x="93" y="453"/>
                </a:lnTo>
                <a:lnTo>
                  <a:pt x="93" y="453"/>
                </a:lnTo>
                <a:lnTo>
                  <a:pt x="99" y="463"/>
                </a:lnTo>
                <a:lnTo>
                  <a:pt x="104" y="473"/>
                </a:lnTo>
                <a:lnTo>
                  <a:pt x="115" y="483"/>
                </a:lnTo>
                <a:lnTo>
                  <a:pt x="120" y="493"/>
                </a:lnTo>
                <a:lnTo>
                  <a:pt x="131" y="503"/>
                </a:lnTo>
                <a:lnTo>
                  <a:pt x="137" y="513"/>
                </a:lnTo>
                <a:lnTo>
                  <a:pt x="148" y="523"/>
                </a:lnTo>
                <a:lnTo>
                  <a:pt x="159" y="533"/>
                </a:lnTo>
                <a:lnTo>
                  <a:pt x="164" y="543"/>
                </a:lnTo>
                <a:lnTo>
                  <a:pt x="175" y="549"/>
                </a:lnTo>
                <a:lnTo>
                  <a:pt x="186" y="559"/>
                </a:lnTo>
                <a:lnTo>
                  <a:pt x="197" y="569"/>
                </a:lnTo>
                <a:lnTo>
                  <a:pt x="208" y="579"/>
                </a:lnTo>
                <a:lnTo>
                  <a:pt x="219" y="584"/>
                </a:lnTo>
                <a:lnTo>
                  <a:pt x="229" y="594"/>
                </a:lnTo>
                <a:lnTo>
                  <a:pt x="240" y="604"/>
                </a:lnTo>
                <a:lnTo>
                  <a:pt x="251" y="614"/>
                </a:lnTo>
                <a:lnTo>
                  <a:pt x="262" y="619"/>
                </a:lnTo>
                <a:lnTo>
                  <a:pt x="273" y="629"/>
                </a:lnTo>
                <a:lnTo>
                  <a:pt x="284" y="634"/>
                </a:lnTo>
                <a:lnTo>
                  <a:pt x="300" y="644"/>
                </a:lnTo>
                <a:lnTo>
                  <a:pt x="311" y="649"/>
                </a:lnTo>
                <a:lnTo>
                  <a:pt x="322" y="659"/>
                </a:lnTo>
                <a:lnTo>
                  <a:pt x="333" y="664"/>
                </a:lnTo>
                <a:lnTo>
                  <a:pt x="349" y="674"/>
                </a:lnTo>
                <a:lnTo>
                  <a:pt x="360" y="679"/>
                </a:lnTo>
                <a:lnTo>
                  <a:pt x="377" y="689"/>
                </a:lnTo>
                <a:lnTo>
                  <a:pt x="388" y="694"/>
                </a:lnTo>
                <a:lnTo>
                  <a:pt x="404" y="699"/>
                </a:lnTo>
                <a:lnTo>
                  <a:pt x="415" y="709"/>
                </a:lnTo>
                <a:lnTo>
                  <a:pt x="431" y="714"/>
                </a:lnTo>
                <a:lnTo>
                  <a:pt x="442" y="719"/>
                </a:lnTo>
                <a:lnTo>
                  <a:pt x="459" y="724"/>
                </a:lnTo>
                <a:lnTo>
                  <a:pt x="475" y="735"/>
                </a:lnTo>
                <a:lnTo>
                  <a:pt x="486" y="740"/>
                </a:lnTo>
                <a:lnTo>
                  <a:pt x="502" y="745"/>
                </a:lnTo>
                <a:lnTo>
                  <a:pt x="519" y="750"/>
                </a:lnTo>
                <a:lnTo>
                  <a:pt x="535" y="755"/>
                </a:lnTo>
                <a:lnTo>
                  <a:pt x="551" y="760"/>
                </a:lnTo>
                <a:lnTo>
                  <a:pt x="562" y="765"/>
                </a:lnTo>
                <a:lnTo>
                  <a:pt x="579" y="770"/>
                </a:lnTo>
                <a:lnTo>
                  <a:pt x="595" y="775"/>
                </a:lnTo>
                <a:lnTo>
                  <a:pt x="611" y="775"/>
                </a:lnTo>
                <a:lnTo>
                  <a:pt x="628" y="780"/>
                </a:lnTo>
                <a:lnTo>
                  <a:pt x="644" y="785"/>
                </a:lnTo>
                <a:lnTo>
                  <a:pt x="660" y="790"/>
                </a:lnTo>
                <a:lnTo>
                  <a:pt x="677" y="795"/>
                </a:lnTo>
                <a:lnTo>
                  <a:pt x="693" y="795"/>
                </a:lnTo>
                <a:lnTo>
                  <a:pt x="710" y="800"/>
                </a:lnTo>
                <a:lnTo>
                  <a:pt x="726" y="800"/>
                </a:lnTo>
                <a:lnTo>
                  <a:pt x="726" y="800"/>
                </a:lnTo>
                <a:lnTo>
                  <a:pt x="742" y="805"/>
                </a:lnTo>
                <a:lnTo>
                  <a:pt x="759" y="805"/>
                </a:lnTo>
                <a:lnTo>
                  <a:pt x="775" y="810"/>
                </a:lnTo>
                <a:lnTo>
                  <a:pt x="791" y="810"/>
                </a:lnTo>
                <a:lnTo>
                  <a:pt x="808" y="815"/>
                </a:lnTo>
                <a:lnTo>
                  <a:pt x="824" y="815"/>
                </a:lnTo>
                <a:lnTo>
                  <a:pt x="840" y="820"/>
                </a:lnTo>
                <a:lnTo>
                  <a:pt x="857" y="820"/>
                </a:lnTo>
                <a:lnTo>
                  <a:pt x="873" y="820"/>
                </a:lnTo>
                <a:lnTo>
                  <a:pt x="895" y="820"/>
                </a:lnTo>
                <a:lnTo>
                  <a:pt x="911" y="820"/>
                </a:lnTo>
                <a:lnTo>
                  <a:pt x="928" y="825"/>
                </a:lnTo>
                <a:lnTo>
                  <a:pt x="944" y="825"/>
                </a:lnTo>
                <a:lnTo>
                  <a:pt x="960" y="825"/>
                </a:lnTo>
                <a:lnTo>
                  <a:pt x="977" y="825"/>
                </a:lnTo>
                <a:lnTo>
                  <a:pt x="993" y="825"/>
                </a:lnTo>
                <a:lnTo>
                  <a:pt x="1015" y="825"/>
                </a:lnTo>
                <a:lnTo>
                  <a:pt x="1031" y="825"/>
                </a:lnTo>
                <a:lnTo>
                  <a:pt x="1048" y="820"/>
                </a:lnTo>
                <a:lnTo>
                  <a:pt x="1064" y="820"/>
                </a:lnTo>
                <a:lnTo>
                  <a:pt x="1080" y="820"/>
                </a:lnTo>
                <a:lnTo>
                  <a:pt x="1097" y="820"/>
                </a:lnTo>
                <a:lnTo>
                  <a:pt x="1113" y="820"/>
                </a:lnTo>
                <a:lnTo>
                  <a:pt x="1130" y="815"/>
                </a:lnTo>
                <a:lnTo>
                  <a:pt x="1146" y="815"/>
                </a:lnTo>
                <a:lnTo>
                  <a:pt x="1146" y="634"/>
                </a:lnTo>
                <a:close/>
              </a:path>
            </a:pathLst>
          </a:custGeom>
          <a:solidFill>
            <a:srgbClr val="76503d"/>
          </a:solidFill>
          <a:ln w="792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768920" y="3452760"/>
            <a:ext cx="1819080" cy="1676520"/>
          </a:xfrm>
          <a:custGeom>
            <a:avLst/>
            <a:gdLst/>
            <a:ahLst/>
            <a:rect l="l" t="t" r="r" b="b"/>
            <a:pathLst>
              <a:path w="1146" h="1056">
                <a:moveTo>
                  <a:pt x="1146" y="1046"/>
                </a:moveTo>
                <a:lnTo>
                  <a:pt x="1130" y="1046"/>
                </a:lnTo>
                <a:lnTo>
                  <a:pt x="1113" y="1051"/>
                </a:lnTo>
                <a:lnTo>
                  <a:pt x="1097" y="1051"/>
                </a:lnTo>
                <a:lnTo>
                  <a:pt x="1080" y="1051"/>
                </a:lnTo>
                <a:lnTo>
                  <a:pt x="1064" y="1051"/>
                </a:lnTo>
                <a:lnTo>
                  <a:pt x="1048" y="1051"/>
                </a:lnTo>
                <a:lnTo>
                  <a:pt x="1031" y="1056"/>
                </a:lnTo>
                <a:lnTo>
                  <a:pt x="1015" y="1056"/>
                </a:lnTo>
                <a:lnTo>
                  <a:pt x="993" y="1056"/>
                </a:lnTo>
                <a:lnTo>
                  <a:pt x="977" y="1056"/>
                </a:lnTo>
                <a:lnTo>
                  <a:pt x="960" y="1056"/>
                </a:lnTo>
                <a:lnTo>
                  <a:pt x="944" y="1056"/>
                </a:lnTo>
                <a:lnTo>
                  <a:pt x="928" y="1056"/>
                </a:lnTo>
                <a:lnTo>
                  <a:pt x="911" y="1051"/>
                </a:lnTo>
                <a:lnTo>
                  <a:pt x="895" y="1051"/>
                </a:lnTo>
                <a:lnTo>
                  <a:pt x="873" y="1051"/>
                </a:lnTo>
                <a:lnTo>
                  <a:pt x="857" y="1051"/>
                </a:lnTo>
                <a:lnTo>
                  <a:pt x="840" y="1051"/>
                </a:lnTo>
                <a:lnTo>
                  <a:pt x="824" y="1046"/>
                </a:lnTo>
                <a:lnTo>
                  <a:pt x="808" y="1046"/>
                </a:lnTo>
                <a:lnTo>
                  <a:pt x="791" y="1041"/>
                </a:lnTo>
                <a:lnTo>
                  <a:pt x="775" y="1041"/>
                </a:lnTo>
                <a:lnTo>
                  <a:pt x="759" y="1036"/>
                </a:lnTo>
                <a:lnTo>
                  <a:pt x="742" y="1036"/>
                </a:lnTo>
                <a:lnTo>
                  <a:pt x="726" y="1031"/>
                </a:lnTo>
                <a:lnTo>
                  <a:pt x="710" y="1031"/>
                </a:lnTo>
                <a:lnTo>
                  <a:pt x="693" y="1026"/>
                </a:lnTo>
                <a:lnTo>
                  <a:pt x="677" y="1026"/>
                </a:lnTo>
                <a:lnTo>
                  <a:pt x="660" y="1021"/>
                </a:lnTo>
                <a:lnTo>
                  <a:pt x="644" y="1016"/>
                </a:lnTo>
                <a:lnTo>
                  <a:pt x="628" y="1011"/>
                </a:lnTo>
                <a:lnTo>
                  <a:pt x="611" y="1006"/>
                </a:lnTo>
                <a:lnTo>
                  <a:pt x="595" y="1006"/>
                </a:lnTo>
                <a:lnTo>
                  <a:pt x="579" y="1001"/>
                </a:lnTo>
                <a:lnTo>
                  <a:pt x="562" y="996"/>
                </a:lnTo>
                <a:lnTo>
                  <a:pt x="551" y="991"/>
                </a:lnTo>
                <a:lnTo>
                  <a:pt x="535" y="986"/>
                </a:lnTo>
                <a:lnTo>
                  <a:pt x="519" y="981"/>
                </a:lnTo>
                <a:lnTo>
                  <a:pt x="502" y="976"/>
                </a:lnTo>
                <a:lnTo>
                  <a:pt x="486" y="971"/>
                </a:lnTo>
                <a:lnTo>
                  <a:pt x="475" y="966"/>
                </a:lnTo>
                <a:lnTo>
                  <a:pt x="459" y="955"/>
                </a:lnTo>
                <a:lnTo>
                  <a:pt x="442" y="950"/>
                </a:lnTo>
                <a:lnTo>
                  <a:pt x="431" y="945"/>
                </a:lnTo>
                <a:lnTo>
                  <a:pt x="415" y="940"/>
                </a:lnTo>
                <a:lnTo>
                  <a:pt x="404" y="930"/>
                </a:lnTo>
                <a:lnTo>
                  <a:pt x="388" y="925"/>
                </a:lnTo>
                <a:lnTo>
                  <a:pt x="377" y="920"/>
                </a:lnTo>
                <a:lnTo>
                  <a:pt x="360" y="910"/>
                </a:lnTo>
                <a:lnTo>
                  <a:pt x="349" y="905"/>
                </a:lnTo>
                <a:lnTo>
                  <a:pt x="333" y="895"/>
                </a:lnTo>
                <a:lnTo>
                  <a:pt x="322" y="890"/>
                </a:lnTo>
                <a:lnTo>
                  <a:pt x="311" y="880"/>
                </a:lnTo>
                <a:lnTo>
                  <a:pt x="300" y="875"/>
                </a:lnTo>
                <a:lnTo>
                  <a:pt x="284" y="865"/>
                </a:lnTo>
                <a:lnTo>
                  <a:pt x="273" y="860"/>
                </a:lnTo>
                <a:lnTo>
                  <a:pt x="262" y="850"/>
                </a:lnTo>
                <a:lnTo>
                  <a:pt x="251" y="845"/>
                </a:lnTo>
                <a:lnTo>
                  <a:pt x="240" y="835"/>
                </a:lnTo>
                <a:lnTo>
                  <a:pt x="229" y="825"/>
                </a:lnTo>
                <a:lnTo>
                  <a:pt x="219" y="815"/>
                </a:lnTo>
                <a:lnTo>
                  <a:pt x="208" y="810"/>
                </a:lnTo>
                <a:lnTo>
                  <a:pt x="197" y="800"/>
                </a:lnTo>
                <a:lnTo>
                  <a:pt x="186" y="790"/>
                </a:lnTo>
                <a:lnTo>
                  <a:pt x="175" y="780"/>
                </a:lnTo>
                <a:lnTo>
                  <a:pt x="164" y="774"/>
                </a:lnTo>
                <a:lnTo>
                  <a:pt x="159" y="764"/>
                </a:lnTo>
                <a:lnTo>
                  <a:pt x="148" y="754"/>
                </a:lnTo>
                <a:lnTo>
                  <a:pt x="137" y="744"/>
                </a:lnTo>
                <a:lnTo>
                  <a:pt x="131" y="734"/>
                </a:lnTo>
                <a:lnTo>
                  <a:pt x="131" y="734"/>
                </a:lnTo>
                <a:lnTo>
                  <a:pt x="120" y="724"/>
                </a:lnTo>
                <a:lnTo>
                  <a:pt x="115" y="714"/>
                </a:lnTo>
                <a:lnTo>
                  <a:pt x="104" y="704"/>
                </a:lnTo>
                <a:lnTo>
                  <a:pt x="99" y="694"/>
                </a:lnTo>
                <a:lnTo>
                  <a:pt x="93" y="684"/>
                </a:lnTo>
                <a:lnTo>
                  <a:pt x="82" y="674"/>
                </a:lnTo>
                <a:lnTo>
                  <a:pt x="77" y="664"/>
                </a:lnTo>
                <a:lnTo>
                  <a:pt x="71" y="654"/>
                </a:lnTo>
                <a:lnTo>
                  <a:pt x="66" y="644"/>
                </a:lnTo>
                <a:lnTo>
                  <a:pt x="60" y="634"/>
                </a:lnTo>
                <a:lnTo>
                  <a:pt x="55" y="624"/>
                </a:lnTo>
                <a:lnTo>
                  <a:pt x="49" y="614"/>
                </a:lnTo>
                <a:lnTo>
                  <a:pt x="44" y="604"/>
                </a:lnTo>
                <a:lnTo>
                  <a:pt x="39" y="588"/>
                </a:lnTo>
                <a:lnTo>
                  <a:pt x="33" y="578"/>
                </a:lnTo>
                <a:lnTo>
                  <a:pt x="28" y="568"/>
                </a:lnTo>
                <a:lnTo>
                  <a:pt x="22" y="558"/>
                </a:lnTo>
                <a:lnTo>
                  <a:pt x="22" y="548"/>
                </a:lnTo>
                <a:lnTo>
                  <a:pt x="17" y="538"/>
                </a:lnTo>
                <a:lnTo>
                  <a:pt x="11" y="523"/>
                </a:lnTo>
                <a:lnTo>
                  <a:pt x="11" y="513"/>
                </a:lnTo>
                <a:lnTo>
                  <a:pt x="6" y="503"/>
                </a:lnTo>
                <a:lnTo>
                  <a:pt x="6" y="493"/>
                </a:lnTo>
                <a:lnTo>
                  <a:pt x="6" y="483"/>
                </a:lnTo>
                <a:lnTo>
                  <a:pt x="0" y="468"/>
                </a:lnTo>
                <a:lnTo>
                  <a:pt x="0" y="458"/>
                </a:lnTo>
                <a:lnTo>
                  <a:pt x="0" y="448"/>
                </a:lnTo>
                <a:lnTo>
                  <a:pt x="0" y="438"/>
                </a:lnTo>
                <a:lnTo>
                  <a:pt x="0" y="423"/>
                </a:lnTo>
                <a:lnTo>
                  <a:pt x="0" y="412"/>
                </a:lnTo>
                <a:lnTo>
                  <a:pt x="0" y="402"/>
                </a:lnTo>
                <a:lnTo>
                  <a:pt x="0" y="392"/>
                </a:lnTo>
                <a:lnTo>
                  <a:pt x="0" y="382"/>
                </a:lnTo>
                <a:lnTo>
                  <a:pt x="0" y="367"/>
                </a:lnTo>
                <a:lnTo>
                  <a:pt x="0" y="357"/>
                </a:lnTo>
                <a:lnTo>
                  <a:pt x="6" y="347"/>
                </a:lnTo>
                <a:lnTo>
                  <a:pt x="6" y="337"/>
                </a:lnTo>
                <a:lnTo>
                  <a:pt x="6" y="327"/>
                </a:lnTo>
                <a:lnTo>
                  <a:pt x="11" y="312"/>
                </a:lnTo>
                <a:lnTo>
                  <a:pt x="11" y="302"/>
                </a:lnTo>
                <a:lnTo>
                  <a:pt x="17" y="292"/>
                </a:lnTo>
                <a:lnTo>
                  <a:pt x="22" y="282"/>
                </a:lnTo>
                <a:lnTo>
                  <a:pt x="22" y="272"/>
                </a:lnTo>
                <a:lnTo>
                  <a:pt x="28" y="257"/>
                </a:lnTo>
                <a:lnTo>
                  <a:pt x="33" y="247"/>
                </a:lnTo>
                <a:lnTo>
                  <a:pt x="39" y="237"/>
                </a:lnTo>
                <a:lnTo>
                  <a:pt x="44" y="226"/>
                </a:lnTo>
                <a:lnTo>
                  <a:pt x="49" y="216"/>
                </a:lnTo>
                <a:lnTo>
                  <a:pt x="55" y="206"/>
                </a:lnTo>
                <a:lnTo>
                  <a:pt x="60" y="196"/>
                </a:lnTo>
                <a:lnTo>
                  <a:pt x="66" y="186"/>
                </a:lnTo>
                <a:lnTo>
                  <a:pt x="71" y="171"/>
                </a:lnTo>
                <a:lnTo>
                  <a:pt x="77" y="161"/>
                </a:lnTo>
                <a:lnTo>
                  <a:pt x="82" y="151"/>
                </a:lnTo>
                <a:lnTo>
                  <a:pt x="93" y="141"/>
                </a:lnTo>
                <a:lnTo>
                  <a:pt x="99" y="131"/>
                </a:lnTo>
                <a:lnTo>
                  <a:pt x="104" y="121"/>
                </a:lnTo>
                <a:lnTo>
                  <a:pt x="115" y="111"/>
                </a:lnTo>
                <a:lnTo>
                  <a:pt x="120" y="101"/>
                </a:lnTo>
                <a:lnTo>
                  <a:pt x="131" y="91"/>
                </a:lnTo>
                <a:lnTo>
                  <a:pt x="137" y="86"/>
                </a:lnTo>
                <a:lnTo>
                  <a:pt x="148" y="76"/>
                </a:lnTo>
                <a:lnTo>
                  <a:pt x="159" y="66"/>
                </a:lnTo>
                <a:lnTo>
                  <a:pt x="164" y="56"/>
                </a:lnTo>
                <a:lnTo>
                  <a:pt x="175" y="45"/>
                </a:lnTo>
                <a:lnTo>
                  <a:pt x="186" y="35"/>
                </a:lnTo>
                <a:lnTo>
                  <a:pt x="197" y="30"/>
                </a:lnTo>
                <a:lnTo>
                  <a:pt x="208" y="20"/>
                </a:lnTo>
                <a:lnTo>
                  <a:pt x="219" y="10"/>
                </a:lnTo>
                <a:lnTo>
                  <a:pt x="229" y="0"/>
                </a:lnTo>
                <a:lnTo>
                  <a:pt x="977" y="412"/>
                </a:lnTo>
                <a:lnTo>
                  <a:pt x="1146" y="1046"/>
                </a:lnTo>
                <a:close/>
              </a:path>
            </a:pathLst>
          </a:custGeom>
          <a:solidFill>
            <a:srgbClr val="eca07a"/>
          </a:solidFill>
          <a:ln w="792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550200" y="2508120"/>
            <a:ext cx="745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2000"/>
                </a:solidFill>
                <a:latin typeface="Times New Roman"/>
              </a:rPr>
              <a:t>28 %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259520" y="5156280"/>
            <a:ext cx="745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2000"/>
                </a:solidFill>
                <a:latin typeface="Times New Roman"/>
              </a:rPr>
              <a:t>39 %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453520" y="5129280"/>
            <a:ext cx="745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2000"/>
                </a:solidFill>
                <a:latin typeface="Times New Roman"/>
              </a:rPr>
              <a:t>15 %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8277480" y="3819600"/>
            <a:ext cx="745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2000"/>
                </a:solidFill>
                <a:latin typeface="Times New Roman"/>
              </a:rPr>
              <a:t>18 %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234040" y="2560680"/>
            <a:ext cx="120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02000"/>
                </a:solidFill>
                <a:latin typeface="Times New Roman"/>
              </a:rPr>
              <a:t>Educación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024040" y="3532320"/>
            <a:ext cx="1276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02000"/>
                </a:solidFill>
                <a:latin typeface="Times New Roman"/>
              </a:rPr>
              <a:t>Municipios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669800" y="5197320"/>
            <a:ext cx="653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02000"/>
                </a:solidFill>
                <a:latin typeface="Times New Roman"/>
              </a:rPr>
              <a:t>Salud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388320" y="5197320"/>
            <a:ext cx="758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02000"/>
                </a:solidFill>
                <a:latin typeface="Times New Roman"/>
              </a:rPr>
              <a:t>Varios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1542960" y="4438800"/>
            <a:ext cx="1162080" cy="16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retaría Técnica del Premio Nacional a la Calidad para el Sector Públic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39960" y="198360"/>
            <a:ext cx="867384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Organizaciones... (</a:t>
            </a: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detalle de</a:t>
            </a: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VARIOS</a:t>
            </a: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ientífico-Tecnológic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dministració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roducció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tr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13200" y="4210200"/>
            <a:ext cx="9720" cy="426960"/>
          </a:xfrm>
          <a:custGeom>
            <a:avLst/>
            <a:gdLst/>
            <a:ahLst/>
            <a:rect l="l" t="t" r="r" b="b"/>
            <a:pathLst>
              <a:path w="6" h="269">
                <a:moveTo>
                  <a:pt x="6" y="72"/>
                </a:moveTo>
                <a:lnTo>
                  <a:pt x="6" y="60"/>
                </a:lnTo>
                <a:lnTo>
                  <a:pt x="0" y="54"/>
                </a:lnTo>
                <a:lnTo>
                  <a:pt x="0" y="30"/>
                </a:lnTo>
                <a:lnTo>
                  <a:pt x="0" y="24"/>
                </a:lnTo>
                <a:lnTo>
                  <a:pt x="0" y="12"/>
                </a:lnTo>
                <a:lnTo>
                  <a:pt x="0" y="0"/>
                </a:lnTo>
                <a:lnTo>
                  <a:pt x="0" y="197"/>
                </a:lnTo>
                <a:lnTo>
                  <a:pt x="0" y="209"/>
                </a:lnTo>
                <a:lnTo>
                  <a:pt x="0" y="221"/>
                </a:lnTo>
                <a:lnTo>
                  <a:pt x="0" y="227"/>
                </a:lnTo>
                <a:lnTo>
                  <a:pt x="0" y="251"/>
                </a:lnTo>
                <a:lnTo>
                  <a:pt x="6" y="257"/>
                </a:lnTo>
                <a:lnTo>
                  <a:pt x="6" y="269"/>
                </a:lnTo>
                <a:lnTo>
                  <a:pt x="6" y="72"/>
                </a:lnTo>
                <a:close/>
              </a:path>
            </a:pathLst>
          </a:custGeom>
          <a:solidFill>
            <a:srgbClr val="76503d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822920" y="4210200"/>
            <a:ext cx="1546200" cy="426960"/>
          </a:xfrm>
          <a:custGeom>
            <a:avLst/>
            <a:gdLst/>
            <a:ahLst/>
            <a:rect l="l" t="t" r="r" b="b"/>
            <a:pathLst>
              <a:path w="974" h="269">
                <a:moveTo>
                  <a:pt x="974" y="0"/>
                </a:moveTo>
                <a:lnTo>
                  <a:pt x="0" y="72"/>
                </a:lnTo>
                <a:lnTo>
                  <a:pt x="0" y="269"/>
                </a:lnTo>
                <a:lnTo>
                  <a:pt x="974" y="197"/>
                </a:lnTo>
                <a:lnTo>
                  <a:pt x="974" y="0"/>
                </a:lnTo>
                <a:close/>
              </a:path>
            </a:pathLst>
          </a:custGeom>
          <a:solidFill>
            <a:srgbClr val="76503d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13200" y="3286080"/>
            <a:ext cx="1555920" cy="1038240"/>
          </a:xfrm>
          <a:custGeom>
            <a:avLst/>
            <a:gdLst/>
            <a:ahLst/>
            <a:rect l="l" t="t" r="r" b="b"/>
            <a:pathLst>
              <a:path w="980" h="654">
                <a:moveTo>
                  <a:pt x="6" y="654"/>
                </a:moveTo>
                <a:lnTo>
                  <a:pt x="6" y="642"/>
                </a:lnTo>
                <a:lnTo>
                  <a:pt x="0" y="624"/>
                </a:lnTo>
                <a:lnTo>
                  <a:pt x="0" y="612"/>
                </a:lnTo>
                <a:lnTo>
                  <a:pt x="0" y="606"/>
                </a:lnTo>
                <a:lnTo>
                  <a:pt x="0" y="594"/>
                </a:lnTo>
                <a:lnTo>
                  <a:pt x="0" y="576"/>
                </a:lnTo>
                <a:lnTo>
                  <a:pt x="0" y="564"/>
                </a:lnTo>
                <a:lnTo>
                  <a:pt x="0" y="552"/>
                </a:lnTo>
                <a:lnTo>
                  <a:pt x="0" y="534"/>
                </a:lnTo>
                <a:lnTo>
                  <a:pt x="6" y="522"/>
                </a:lnTo>
                <a:lnTo>
                  <a:pt x="6" y="510"/>
                </a:lnTo>
                <a:lnTo>
                  <a:pt x="13" y="492"/>
                </a:lnTo>
                <a:lnTo>
                  <a:pt x="13" y="480"/>
                </a:lnTo>
                <a:lnTo>
                  <a:pt x="19" y="474"/>
                </a:lnTo>
                <a:lnTo>
                  <a:pt x="19" y="462"/>
                </a:lnTo>
                <a:lnTo>
                  <a:pt x="26" y="444"/>
                </a:lnTo>
                <a:lnTo>
                  <a:pt x="32" y="432"/>
                </a:lnTo>
                <a:lnTo>
                  <a:pt x="39" y="420"/>
                </a:lnTo>
                <a:lnTo>
                  <a:pt x="45" y="402"/>
                </a:lnTo>
                <a:lnTo>
                  <a:pt x="52" y="396"/>
                </a:lnTo>
                <a:lnTo>
                  <a:pt x="58" y="384"/>
                </a:lnTo>
                <a:lnTo>
                  <a:pt x="65" y="372"/>
                </a:lnTo>
                <a:lnTo>
                  <a:pt x="78" y="354"/>
                </a:lnTo>
                <a:lnTo>
                  <a:pt x="84" y="348"/>
                </a:lnTo>
                <a:lnTo>
                  <a:pt x="91" y="336"/>
                </a:lnTo>
                <a:lnTo>
                  <a:pt x="104" y="318"/>
                </a:lnTo>
                <a:lnTo>
                  <a:pt x="110" y="306"/>
                </a:lnTo>
                <a:lnTo>
                  <a:pt x="123" y="300"/>
                </a:lnTo>
                <a:lnTo>
                  <a:pt x="136" y="282"/>
                </a:lnTo>
                <a:lnTo>
                  <a:pt x="149" y="276"/>
                </a:lnTo>
                <a:lnTo>
                  <a:pt x="156" y="264"/>
                </a:lnTo>
                <a:lnTo>
                  <a:pt x="169" y="258"/>
                </a:lnTo>
                <a:lnTo>
                  <a:pt x="188" y="240"/>
                </a:lnTo>
                <a:lnTo>
                  <a:pt x="195" y="234"/>
                </a:lnTo>
                <a:lnTo>
                  <a:pt x="208" y="222"/>
                </a:lnTo>
                <a:lnTo>
                  <a:pt x="227" y="210"/>
                </a:lnTo>
                <a:lnTo>
                  <a:pt x="240" y="198"/>
                </a:lnTo>
                <a:lnTo>
                  <a:pt x="253" y="192"/>
                </a:lnTo>
                <a:lnTo>
                  <a:pt x="260" y="186"/>
                </a:lnTo>
                <a:lnTo>
                  <a:pt x="286" y="168"/>
                </a:lnTo>
                <a:lnTo>
                  <a:pt x="299" y="162"/>
                </a:lnTo>
                <a:lnTo>
                  <a:pt x="312" y="156"/>
                </a:lnTo>
                <a:lnTo>
                  <a:pt x="337" y="144"/>
                </a:lnTo>
                <a:lnTo>
                  <a:pt x="350" y="138"/>
                </a:lnTo>
                <a:lnTo>
                  <a:pt x="363" y="126"/>
                </a:lnTo>
                <a:lnTo>
                  <a:pt x="376" y="120"/>
                </a:lnTo>
                <a:lnTo>
                  <a:pt x="402" y="108"/>
                </a:lnTo>
                <a:lnTo>
                  <a:pt x="415" y="102"/>
                </a:lnTo>
                <a:lnTo>
                  <a:pt x="428" y="96"/>
                </a:lnTo>
                <a:lnTo>
                  <a:pt x="461" y="90"/>
                </a:lnTo>
                <a:lnTo>
                  <a:pt x="474" y="84"/>
                </a:lnTo>
                <a:lnTo>
                  <a:pt x="487" y="78"/>
                </a:lnTo>
                <a:lnTo>
                  <a:pt x="519" y="66"/>
                </a:lnTo>
                <a:lnTo>
                  <a:pt x="532" y="60"/>
                </a:lnTo>
                <a:lnTo>
                  <a:pt x="552" y="60"/>
                </a:lnTo>
                <a:lnTo>
                  <a:pt x="565" y="54"/>
                </a:lnTo>
                <a:lnTo>
                  <a:pt x="597" y="48"/>
                </a:lnTo>
                <a:lnTo>
                  <a:pt x="610" y="42"/>
                </a:lnTo>
                <a:lnTo>
                  <a:pt x="630" y="36"/>
                </a:lnTo>
                <a:lnTo>
                  <a:pt x="662" y="30"/>
                </a:lnTo>
                <a:lnTo>
                  <a:pt x="675" y="30"/>
                </a:lnTo>
                <a:lnTo>
                  <a:pt x="695" y="24"/>
                </a:lnTo>
                <a:lnTo>
                  <a:pt x="708" y="24"/>
                </a:lnTo>
                <a:lnTo>
                  <a:pt x="740" y="18"/>
                </a:lnTo>
                <a:lnTo>
                  <a:pt x="760" y="12"/>
                </a:lnTo>
                <a:lnTo>
                  <a:pt x="773" y="12"/>
                </a:lnTo>
                <a:lnTo>
                  <a:pt x="812" y="6"/>
                </a:lnTo>
                <a:lnTo>
                  <a:pt x="825" y="6"/>
                </a:lnTo>
                <a:lnTo>
                  <a:pt x="844" y="6"/>
                </a:lnTo>
                <a:lnTo>
                  <a:pt x="877" y="0"/>
                </a:lnTo>
                <a:lnTo>
                  <a:pt x="896" y="0"/>
                </a:lnTo>
                <a:lnTo>
                  <a:pt x="909" y="0"/>
                </a:lnTo>
                <a:lnTo>
                  <a:pt x="929" y="0"/>
                </a:lnTo>
                <a:lnTo>
                  <a:pt x="961" y="0"/>
                </a:lnTo>
                <a:lnTo>
                  <a:pt x="980" y="0"/>
                </a:lnTo>
                <a:lnTo>
                  <a:pt x="980" y="582"/>
                </a:lnTo>
                <a:lnTo>
                  <a:pt x="6" y="654"/>
                </a:lnTo>
                <a:close/>
              </a:path>
            </a:pathLst>
          </a:custGeom>
          <a:solidFill>
            <a:srgbClr val="eca07a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875720" y="4210200"/>
            <a:ext cx="50760" cy="541080"/>
          </a:xfrm>
          <a:custGeom>
            <a:avLst/>
            <a:gdLst/>
            <a:ahLst/>
            <a:rect l="l" t="t" r="r" b="b"/>
            <a:pathLst>
              <a:path w="32" h="341">
                <a:moveTo>
                  <a:pt x="32" y="0"/>
                </a:moveTo>
                <a:lnTo>
                  <a:pt x="32" y="12"/>
                </a:lnTo>
                <a:lnTo>
                  <a:pt x="32" y="24"/>
                </a:lnTo>
                <a:lnTo>
                  <a:pt x="26" y="42"/>
                </a:lnTo>
                <a:lnTo>
                  <a:pt x="26" y="54"/>
                </a:lnTo>
                <a:lnTo>
                  <a:pt x="26" y="60"/>
                </a:lnTo>
                <a:lnTo>
                  <a:pt x="26" y="72"/>
                </a:lnTo>
                <a:lnTo>
                  <a:pt x="19" y="84"/>
                </a:lnTo>
                <a:lnTo>
                  <a:pt x="19" y="96"/>
                </a:lnTo>
                <a:lnTo>
                  <a:pt x="13" y="114"/>
                </a:lnTo>
                <a:lnTo>
                  <a:pt x="6" y="126"/>
                </a:lnTo>
                <a:lnTo>
                  <a:pt x="6" y="132"/>
                </a:lnTo>
                <a:lnTo>
                  <a:pt x="0" y="144"/>
                </a:lnTo>
                <a:lnTo>
                  <a:pt x="0" y="341"/>
                </a:lnTo>
                <a:lnTo>
                  <a:pt x="6" y="329"/>
                </a:lnTo>
                <a:lnTo>
                  <a:pt x="6" y="323"/>
                </a:lnTo>
                <a:lnTo>
                  <a:pt x="13" y="311"/>
                </a:lnTo>
                <a:lnTo>
                  <a:pt x="19" y="293"/>
                </a:lnTo>
                <a:lnTo>
                  <a:pt x="19" y="281"/>
                </a:lnTo>
                <a:lnTo>
                  <a:pt x="26" y="269"/>
                </a:lnTo>
                <a:lnTo>
                  <a:pt x="26" y="257"/>
                </a:lnTo>
                <a:lnTo>
                  <a:pt x="26" y="251"/>
                </a:lnTo>
                <a:lnTo>
                  <a:pt x="26" y="239"/>
                </a:lnTo>
                <a:lnTo>
                  <a:pt x="32" y="221"/>
                </a:lnTo>
                <a:lnTo>
                  <a:pt x="32" y="209"/>
                </a:lnTo>
                <a:lnTo>
                  <a:pt x="32" y="197"/>
                </a:lnTo>
                <a:lnTo>
                  <a:pt x="32" y="0"/>
                </a:lnTo>
                <a:close/>
              </a:path>
            </a:pathLst>
          </a:custGeom>
          <a:solidFill>
            <a:srgbClr val="674d32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369120" y="4210200"/>
            <a:ext cx="1506600" cy="531720"/>
          </a:xfrm>
          <a:custGeom>
            <a:avLst/>
            <a:gdLst/>
            <a:ahLst/>
            <a:rect l="l" t="t" r="r" b="b"/>
            <a:pathLst>
              <a:path w="949" h="335">
                <a:moveTo>
                  <a:pt x="0" y="0"/>
                </a:moveTo>
                <a:lnTo>
                  <a:pt x="949" y="138"/>
                </a:lnTo>
                <a:lnTo>
                  <a:pt x="949" y="335"/>
                </a:lnTo>
                <a:lnTo>
                  <a:pt x="0" y="197"/>
                </a:lnTo>
                <a:lnTo>
                  <a:pt x="0" y="0"/>
                </a:lnTo>
                <a:close/>
              </a:path>
            </a:pathLst>
          </a:custGeom>
          <a:solidFill>
            <a:srgbClr val="674d32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369120" y="3286080"/>
            <a:ext cx="1557360" cy="1152720"/>
          </a:xfrm>
          <a:custGeom>
            <a:avLst/>
            <a:gdLst/>
            <a:ahLst/>
            <a:rect l="l" t="t" r="r" b="b"/>
            <a:pathLst>
              <a:path w="981" h="726">
                <a:moveTo>
                  <a:pt x="0" y="0"/>
                </a:moveTo>
                <a:lnTo>
                  <a:pt x="13" y="0"/>
                </a:lnTo>
                <a:lnTo>
                  <a:pt x="52" y="0"/>
                </a:lnTo>
                <a:lnTo>
                  <a:pt x="65" y="0"/>
                </a:lnTo>
                <a:lnTo>
                  <a:pt x="85" y="0"/>
                </a:lnTo>
                <a:lnTo>
                  <a:pt x="117" y="0"/>
                </a:lnTo>
                <a:lnTo>
                  <a:pt x="137" y="6"/>
                </a:lnTo>
                <a:lnTo>
                  <a:pt x="150" y="6"/>
                </a:lnTo>
                <a:lnTo>
                  <a:pt x="189" y="12"/>
                </a:lnTo>
                <a:lnTo>
                  <a:pt x="202" y="12"/>
                </a:lnTo>
                <a:lnTo>
                  <a:pt x="221" y="12"/>
                </a:lnTo>
                <a:lnTo>
                  <a:pt x="254" y="18"/>
                </a:lnTo>
                <a:lnTo>
                  <a:pt x="267" y="24"/>
                </a:lnTo>
                <a:lnTo>
                  <a:pt x="286" y="24"/>
                </a:lnTo>
                <a:lnTo>
                  <a:pt x="319" y="30"/>
                </a:lnTo>
                <a:lnTo>
                  <a:pt x="332" y="36"/>
                </a:lnTo>
                <a:lnTo>
                  <a:pt x="351" y="36"/>
                </a:lnTo>
                <a:lnTo>
                  <a:pt x="384" y="48"/>
                </a:lnTo>
                <a:lnTo>
                  <a:pt x="397" y="48"/>
                </a:lnTo>
                <a:lnTo>
                  <a:pt x="416" y="54"/>
                </a:lnTo>
                <a:lnTo>
                  <a:pt x="442" y="60"/>
                </a:lnTo>
                <a:lnTo>
                  <a:pt x="462" y="66"/>
                </a:lnTo>
                <a:lnTo>
                  <a:pt x="475" y="72"/>
                </a:lnTo>
                <a:lnTo>
                  <a:pt x="507" y="84"/>
                </a:lnTo>
                <a:lnTo>
                  <a:pt x="520" y="90"/>
                </a:lnTo>
                <a:lnTo>
                  <a:pt x="533" y="90"/>
                </a:lnTo>
                <a:lnTo>
                  <a:pt x="559" y="102"/>
                </a:lnTo>
                <a:lnTo>
                  <a:pt x="579" y="108"/>
                </a:lnTo>
                <a:lnTo>
                  <a:pt x="592" y="114"/>
                </a:lnTo>
                <a:lnTo>
                  <a:pt x="618" y="126"/>
                </a:lnTo>
                <a:lnTo>
                  <a:pt x="631" y="138"/>
                </a:lnTo>
                <a:lnTo>
                  <a:pt x="643" y="144"/>
                </a:lnTo>
                <a:lnTo>
                  <a:pt x="669" y="156"/>
                </a:lnTo>
                <a:lnTo>
                  <a:pt x="682" y="162"/>
                </a:lnTo>
                <a:lnTo>
                  <a:pt x="695" y="168"/>
                </a:lnTo>
                <a:lnTo>
                  <a:pt x="715" y="186"/>
                </a:lnTo>
                <a:lnTo>
                  <a:pt x="728" y="192"/>
                </a:lnTo>
                <a:lnTo>
                  <a:pt x="741" y="198"/>
                </a:lnTo>
                <a:lnTo>
                  <a:pt x="760" y="216"/>
                </a:lnTo>
                <a:lnTo>
                  <a:pt x="773" y="222"/>
                </a:lnTo>
                <a:lnTo>
                  <a:pt x="780" y="234"/>
                </a:lnTo>
                <a:lnTo>
                  <a:pt x="799" y="246"/>
                </a:lnTo>
                <a:lnTo>
                  <a:pt x="812" y="258"/>
                </a:lnTo>
                <a:lnTo>
                  <a:pt x="819" y="264"/>
                </a:lnTo>
                <a:lnTo>
                  <a:pt x="838" y="282"/>
                </a:lnTo>
                <a:lnTo>
                  <a:pt x="851" y="288"/>
                </a:lnTo>
                <a:lnTo>
                  <a:pt x="858" y="300"/>
                </a:lnTo>
                <a:lnTo>
                  <a:pt x="871" y="318"/>
                </a:lnTo>
                <a:lnTo>
                  <a:pt x="877" y="330"/>
                </a:lnTo>
                <a:lnTo>
                  <a:pt x="890" y="336"/>
                </a:lnTo>
                <a:lnTo>
                  <a:pt x="903" y="354"/>
                </a:lnTo>
                <a:lnTo>
                  <a:pt x="910" y="366"/>
                </a:lnTo>
                <a:lnTo>
                  <a:pt x="916" y="372"/>
                </a:lnTo>
                <a:lnTo>
                  <a:pt x="929" y="396"/>
                </a:lnTo>
                <a:lnTo>
                  <a:pt x="929" y="402"/>
                </a:lnTo>
                <a:lnTo>
                  <a:pt x="936" y="414"/>
                </a:lnTo>
                <a:lnTo>
                  <a:pt x="949" y="432"/>
                </a:lnTo>
                <a:lnTo>
                  <a:pt x="949" y="444"/>
                </a:lnTo>
                <a:lnTo>
                  <a:pt x="955" y="450"/>
                </a:lnTo>
                <a:lnTo>
                  <a:pt x="962" y="474"/>
                </a:lnTo>
                <a:lnTo>
                  <a:pt x="962" y="480"/>
                </a:lnTo>
                <a:lnTo>
                  <a:pt x="968" y="492"/>
                </a:lnTo>
                <a:lnTo>
                  <a:pt x="975" y="510"/>
                </a:lnTo>
                <a:lnTo>
                  <a:pt x="975" y="522"/>
                </a:lnTo>
                <a:lnTo>
                  <a:pt x="975" y="534"/>
                </a:lnTo>
                <a:lnTo>
                  <a:pt x="981" y="552"/>
                </a:lnTo>
                <a:lnTo>
                  <a:pt x="981" y="564"/>
                </a:lnTo>
                <a:lnTo>
                  <a:pt x="981" y="576"/>
                </a:lnTo>
                <a:lnTo>
                  <a:pt x="981" y="594"/>
                </a:lnTo>
                <a:lnTo>
                  <a:pt x="981" y="606"/>
                </a:lnTo>
                <a:lnTo>
                  <a:pt x="981" y="612"/>
                </a:lnTo>
                <a:lnTo>
                  <a:pt x="975" y="636"/>
                </a:lnTo>
                <a:lnTo>
                  <a:pt x="975" y="642"/>
                </a:lnTo>
                <a:lnTo>
                  <a:pt x="975" y="654"/>
                </a:lnTo>
                <a:lnTo>
                  <a:pt x="968" y="678"/>
                </a:lnTo>
                <a:lnTo>
                  <a:pt x="962" y="684"/>
                </a:lnTo>
                <a:lnTo>
                  <a:pt x="962" y="696"/>
                </a:lnTo>
                <a:lnTo>
                  <a:pt x="955" y="714"/>
                </a:lnTo>
                <a:lnTo>
                  <a:pt x="949" y="726"/>
                </a:lnTo>
                <a:lnTo>
                  <a:pt x="0" y="582"/>
                </a:lnTo>
                <a:lnTo>
                  <a:pt x="0" y="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740640" y="4438800"/>
            <a:ext cx="1135080" cy="988920"/>
          </a:xfrm>
          <a:custGeom>
            <a:avLst/>
            <a:gdLst/>
            <a:ahLst/>
            <a:rect l="l" t="t" r="r" b="b"/>
            <a:pathLst>
              <a:path w="715" h="623">
                <a:moveTo>
                  <a:pt x="715" y="0"/>
                </a:moveTo>
                <a:lnTo>
                  <a:pt x="715" y="6"/>
                </a:lnTo>
                <a:lnTo>
                  <a:pt x="702" y="29"/>
                </a:lnTo>
                <a:lnTo>
                  <a:pt x="695" y="35"/>
                </a:lnTo>
                <a:lnTo>
                  <a:pt x="695" y="47"/>
                </a:lnTo>
                <a:lnTo>
                  <a:pt x="689" y="59"/>
                </a:lnTo>
                <a:lnTo>
                  <a:pt x="676" y="77"/>
                </a:lnTo>
                <a:lnTo>
                  <a:pt x="669" y="83"/>
                </a:lnTo>
                <a:lnTo>
                  <a:pt x="663" y="95"/>
                </a:lnTo>
                <a:lnTo>
                  <a:pt x="643" y="113"/>
                </a:lnTo>
                <a:lnTo>
                  <a:pt x="637" y="125"/>
                </a:lnTo>
                <a:lnTo>
                  <a:pt x="630" y="131"/>
                </a:lnTo>
                <a:lnTo>
                  <a:pt x="617" y="149"/>
                </a:lnTo>
                <a:lnTo>
                  <a:pt x="604" y="155"/>
                </a:lnTo>
                <a:lnTo>
                  <a:pt x="598" y="167"/>
                </a:lnTo>
                <a:lnTo>
                  <a:pt x="585" y="173"/>
                </a:lnTo>
                <a:lnTo>
                  <a:pt x="565" y="191"/>
                </a:lnTo>
                <a:lnTo>
                  <a:pt x="559" y="203"/>
                </a:lnTo>
                <a:lnTo>
                  <a:pt x="546" y="209"/>
                </a:lnTo>
                <a:lnTo>
                  <a:pt x="526" y="227"/>
                </a:lnTo>
                <a:lnTo>
                  <a:pt x="513" y="233"/>
                </a:lnTo>
                <a:lnTo>
                  <a:pt x="507" y="239"/>
                </a:lnTo>
                <a:lnTo>
                  <a:pt x="494" y="245"/>
                </a:lnTo>
                <a:lnTo>
                  <a:pt x="468" y="263"/>
                </a:lnTo>
                <a:lnTo>
                  <a:pt x="461" y="269"/>
                </a:lnTo>
                <a:lnTo>
                  <a:pt x="448" y="275"/>
                </a:lnTo>
                <a:lnTo>
                  <a:pt x="422" y="293"/>
                </a:lnTo>
                <a:lnTo>
                  <a:pt x="409" y="299"/>
                </a:lnTo>
                <a:lnTo>
                  <a:pt x="397" y="305"/>
                </a:lnTo>
                <a:lnTo>
                  <a:pt x="384" y="311"/>
                </a:lnTo>
                <a:lnTo>
                  <a:pt x="358" y="323"/>
                </a:lnTo>
                <a:lnTo>
                  <a:pt x="345" y="329"/>
                </a:lnTo>
                <a:lnTo>
                  <a:pt x="325" y="335"/>
                </a:lnTo>
                <a:lnTo>
                  <a:pt x="299" y="347"/>
                </a:lnTo>
                <a:lnTo>
                  <a:pt x="286" y="353"/>
                </a:lnTo>
                <a:lnTo>
                  <a:pt x="273" y="359"/>
                </a:lnTo>
                <a:lnTo>
                  <a:pt x="241" y="371"/>
                </a:lnTo>
                <a:lnTo>
                  <a:pt x="228" y="371"/>
                </a:lnTo>
                <a:lnTo>
                  <a:pt x="208" y="377"/>
                </a:lnTo>
                <a:lnTo>
                  <a:pt x="195" y="383"/>
                </a:lnTo>
                <a:lnTo>
                  <a:pt x="163" y="389"/>
                </a:lnTo>
                <a:lnTo>
                  <a:pt x="150" y="395"/>
                </a:lnTo>
                <a:lnTo>
                  <a:pt x="130" y="401"/>
                </a:lnTo>
                <a:lnTo>
                  <a:pt x="98" y="407"/>
                </a:lnTo>
                <a:lnTo>
                  <a:pt x="85" y="407"/>
                </a:lnTo>
                <a:lnTo>
                  <a:pt x="65" y="413"/>
                </a:lnTo>
                <a:lnTo>
                  <a:pt x="52" y="413"/>
                </a:lnTo>
                <a:lnTo>
                  <a:pt x="20" y="419"/>
                </a:lnTo>
                <a:lnTo>
                  <a:pt x="0" y="425"/>
                </a:lnTo>
                <a:lnTo>
                  <a:pt x="0" y="623"/>
                </a:lnTo>
                <a:lnTo>
                  <a:pt x="20" y="617"/>
                </a:lnTo>
                <a:lnTo>
                  <a:pt x="52" y="611"/>
                </a:lnTo>
                <a:lnTo>
                  <a:pt x="65" y="611"/>
                </a:lnTo>
                <a:lnTo>
                  <a:pt x="85" y="605"/>
                </a:lnTo>
                <a:lnTo>
                  <a:pt x="98" y="605"/>
                </a:lnTo>
                <a:lnTo>
                  <a:pt x="130" y="599"/>
                </a:lnTo>
                <a:lnTo>
                  <a:pt x="150" y="593"/>
                </a:lnTo>
                <a:lnTo>
                  <a:pt x="163" y="587"/>
                </a:lnTo>
                <a:lnTo>
                  <a:pt x="195" y="581"/>
                </a:lnTo>
                <a:lnTo>
                  <a:pt x="208" y="575"/>
                </a:lnTo>
                <a:lnTo>
                  <a:pt x="228" y="569"/>
                </a:lnTo>
                <a:lnTo>
                  <a:pt x="241" y="569"/>
                </a:lnTo>
                <a:lnTo>
                  <a:pt x="273" y="557"/>
                </a:lnTo>
                <a:lnTo>
                  <a:pt x="286" y="551"/>
                </a:lnTo>
                <a:lnTo>
                  <a:pt x="299" y="545"/>
                </a:lnTo>
                <a:lnTo>
                  <a:pt x="325" y="533"/>
                </a:lnTo>
                <a:lnTo>
                  <a:pt x="345" y="527"/>
                </a:lnTo>
                <a:lnTo>
                  <a:pt x="358" y="521"/>
                </a:lnTo>
                <a:lnTo>
                  <a:pt x="384" y="509"/>
                </a:lnTo>
                <a:lnTo>
                  <a:pt x="397" y="503"/>
                </a:lnTo>
                <a:lnTo>
                  <a:pt x="409" y="497"/>
                </a:lnTo>
                <a:lnTo>
                  <a:pt x="422" y="491"/>
                </a:lnTo>
                <a:lnTo>
                  <a:pt x="448" y="473"/>
                </a:lnTo>
                <a:lnTo>
                  <a:pt x="461" y="467"/>
                </a:lnTo>
                <a:lnTo>
                  <a:pt x="468" y="461"/>
                </a:lnTo>
                <a:lnTo>
                  <a:pt x="494" y="443"/>
                </a:lnTo>
                <a:lnTo>
                  <a:pt x="507" y="437"/>
                </a:lnTo>
                <a:lnTo>
                  <a:pt x="513" y="431"/>
                </a:lnTo>
                <a:lnTo>
                  <a:pt x="526" y="425"/>
                </a:lnTo>
                <a:lnTo>
                  <a:pt x="546" y="407"/>
                </a:lnTo>
                <a:lnTo>
                  <a:pt x="559" y="401"/>
                </a:lnTo>
                <a:lnTo>
                  <a:pt x="565" y="389"/>
                </a:lnTo>
                <a:lnTo>
                  <a:pt x="585" y="371"/>
                </a:lnTo>
                <a:lnTo>
                  <a:pt x="598" y="365"/>
                </a:lnTo>
                <a:lnTo>
                  <a:pt x="604" y="353"/>
                </a:lnTo>
                <a:lnTo>
                  <a:pt x="617" y="347"/>
                </a:lnTo>
                <a:lnTo>
                  <a:pt x="630" y="329"/>
                </a:lnTo>
                <a:lnTo>
                  <a:pt x="637" y="323"/>
                </a:lnTo>
                <a:lnTo>
                  <a:pt x="643" y="311"/>
                </a:lnTo>
                <a:lnTo>
                  <a:pt x="663" y="293"/>
                </a:lnTo>
                <a:lnTo>
                  <a:pt x="669" y="281"/>
                </a:lnTo>
                <a:lnTo>
                  <a:pt x="676" y="275"/>
                </a:lnTo>
                <a:lnTo>
                  <a:pt x="689" y="257"/>
                </a:lnTo>
                <a:lnTo>
                  <a:pt x="695" y="245"/>
                </a:lnTo>
                <a:lnTo>
                  <a:pt x="695" y="233"/>
                </a:lnTo>
                <a:lnTo>
                  <a:pt x="702" y="227"/>
                </a:lnTo>
                <a:lnTo>
                  <a:pt x="715" y="203"/>
                </a:lnTo>
                <a:lnTo>
                  <a:pt x="715" y="197"/>
                </a:lnTo>
                <a:lnTo>
                  <a:pt x="715" y="0"/>
                </a:lnTo>
                <a:close/>
              </a:path>
            </a:pathLst>
          </a:custGeom>
          <a:solidFill>
            <a:srgbClr val="671a1a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369120" y="4210200"/>
            <a:ext cx="371520" cy="1207800"/>
          </a:xfrm>
          <a:custGeom>
            <a:avLst/>
            <a:gdLst/>
            <a:ahLst/>
            <a:rect l="l" t="t" r="r" b="b"/>
            <a:pathLst>
              <a:path w="234" h="761">
                <a:moveTo>
                  <a:pt x="0" y="0"/>
                </a:moveTo>
                <a:lnTo>
                  <a:pt x="234" y="563"/>
                </a:lnTo>
                <a:lnTo>
                  <a:pt x="234" y="761"/>
                </a:lnTo>
                <a:lnTo>
                  <a:pt x="0" y="197"/>
                </a:lnTo>
                <a:lnTo>
                  <a:pt x="0" y="0"/>
                </a:lnTo>
                <a:close/>
              </a:path>
            </a:pathLst>
          </a:custGeom>
          <a:solidFill>
            <a:srgbClr val="671a1a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369120" y="4210200"/>
            <a:ext cx="1506600" cy="903240"/>
          </a:xfrm>
          <a:custGeom>
            <a:avLst/>
            <a:gdLst/>
            <a:ahLst/>
            <a:rect l="l" t="t" r="r" b="b"/>
            <a:pathLst>
              <a:path w="949" h="569">
                <a:moveTo>
                  <a:pt x="949" y="144"/>
                </a:moveTo>
                <a:lnTo>
                  <a:pt x="949" y="150"/>
                </a:lnTo>
                <a:lnTo>
                  <a:pt x="936" y="173"/>
                </a:lnTo>
                <a:lnTo>
                  <a:pt x="929" y="179"/>
                </a:lnTo>
                <a:lnTo>
                  <a:pt x="929" y="191"/>
                </a:lnTo>
                <a:lnTo>
                  <a:pt x="923" y="203"/>
                </a:lnTo>
                <a:lnTo>
                  <a:pt x="910" y="221"/>
                </a:lnTo>
                <a:lnTo>
                  <a:pt x="903" y="227"/>
                </a:lnTo>
                <a:lnTo>
                  <a:pt x="897" y="239"/>
                </a:lnTo>
                <a:lnTo>
                  <a:pt x="877" y="257"/>
                </a:lnTo>
                <a:lnTo>
                  <a:pt x="871" y="269"/>
                </a:lnTo>
                <a:lnTo>
                  <a:pt x="864" y="275"/>
                </a:lnTo>
                <a:lnTo>
                  <a:pt x="851" y="293"/>
                </a:lnTo>
                <a:lnTo>
                  <a:pt x="838" y="299"/>
                </a:lnTo>
                <a:lnTo>
                  <a:pt x="832" y="311"/>
                </a:lnTo>
                <a:lnTo>
                  <a:pt x="819" y="317"/>
                </a:lnTo>
                <a:lnTo>
                  <a:pt x="799" y="335"/>
                </a:lnTo>
                <a:lnTo>
                  <a:pt x="793" y="347"/>
                </a:lnTo>
                <a:lnTo>
                  <a:pt x="780" y="353"/>
                </a:lnTo>
                <a:lnTo>
                  <a:pt x="760" y="371"/>
                </a:lnTo>
                <a:lnTo>
                  <a:pt x="747" y="377"/>
                </a:lnTo>
                <a:lnTo>
                  <a:pt x="741" y="383"/>
                </a:lnTo>
                <a:lnTo>
                  <a:pt x="728" y="389"/>
                </a:lnTo>
                <a:lnTo>
                  <a:pt x="702" y="407"/>
                </a:lnTo>
                <a:lnTo>
                  <a:pt x="695" y="413"/>
                </a:lnTo>
                <a:lnTo>
                  <a:pt x="682" y="419"/>
                </a:lnTo>
                <a:lnTo>
                  <a:pt x="656" y="437"/>
                </a:lnTo>
                <a:lnTo>
                  <a:pt x="643" y="443"/>
                </a:lnTo>
                <a:lnTo>
                  <a:pt x="631" y="449"/>
                </a:lnTo>
                <a:lnTo>
                  <a:pt x="618" y="455"/>
                </a:lnTo>
                <a:lnTo>
                  <a:pt x="592" y="467"/>
                </a:lnTo>
                <a:lnTo>
                  <a:pt x="579" y="473"/>
                </a:lnTo>
                <a:lnTo>
                  <a:pt x="559" y="479"/>
                </a:lnTo>
                <a:lnTo>
                  <a:pt x="533" y="491"/>
                </a:lnTo>
                <a:lnTo>
                  <a:pt x="520" y="497"/>
                </a:lnTo>
                <a:lnTo>
                  <a:pt x="507" y="503"/>
                </a:lnTo>
                <a:lnTo>
                  <a:pt x="475" y="515"/>
                </a:lnTo>
                <a:lnTo>
                  <a:pt x="462" y="515"/>
                </a:lnTo>
                <a:lnTo>
                  <a:pt x="442" y="521"/>
                </a:lnTo>
                <a:lnTo>
                  <a:pt x="429" y="527"/>
                </a:lnTo>
                <a:lnTo>
                  <a:pt x="397" y="533"/>
                </a:lnTo>
                <a:lnTo>
                  <a:pt x="384" y="539"/>
                </a:lnTo>
                <a:lnTo>
                  <a:pt x="364" y="545"/>
                </a:lnTo>
                <a:lnTo>
                  <a:pt x="332" y="551"/>
                </a:lnTo>
                <a:lnTo>
                  <a:pt x="319" y="551"/>
                </a:lnTo>
                <a:lnTo>
                  <a:pt x="299" y="557"/>
                </a:lnTo>
                <a:lnTo>
                  <a:pt x="286" y="557"/>
                </a:lnTo>
                <a:lnTo>
                  <a:pt x="254" y="563"/>
                </a:lnTo>
                <a:lnTo>
                  <a:pt x="234" y="569"/>
                </a:lnTo>
                <a:lnTo>
                  <a:pt x="0" y="0"/>
                </a:lnTo>
                <a:lnTo>
                  <a:pt x="949" y="144"/>
                </a:lnTo>
                <a:close/>
              </a:path>
            </a:pathLst>
          </a:custGeom>
          <a:solidFill>
            <a:srgbClr val="cd3333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822920" y="4324320"/>
            <a:ext cx="1917720" cy="1131840"/>
          </a:xfrm>
          <a:custGeom>
            <a:avLst/>
            <a:gdLst/>
            <a:ahLst/>
            <a:rect l="l" t="t" r="r" b="b"/>
            <a:pathLst>
              <a:path w="1208" h="713">
                <a:moveTo>
                  <a:pt x="1208" y="497"/>
                </a:moveTo>
                <a:lnTo>
                  <a:pt x="1195" y="497"/>
                </a:lnTo>
                <a:lnTo>
                  <a:pt x="1163" y="503"/>
                </a:lnTo>
                <a:lnTo>
                  <a:pt x="1143" y="503"/>
                </a:lnTo>
                <a:lnTo>
                  <a:pt x="1124" y="509"/>
                </a:lnTo>
                <a:lnTo>
                  <a:pt x="1111" y="509"/>
                </a:lnTo>
                <a:lnTo>
                  <a:pt x="1078" y="509"/>
                </a:lnTo>
                <a:lnTo>
                  <a:pt x="1059" y="509"/>
                </a:lnTo>
                <a:lnTo>
                  <a:pt x="1039" y="515"/>
                </a:lnTo>
                <a:lnTo>
                  <a:pt x="1007" y="515"/>
                </a:lnTo>
                <a:lnTo>
                  <a:pt x="987" y="515"/>
                </a:lnTo>
                <a:lnTo>
                  <a:pt x="974" y="515"/>
                </a:lnTo>
                <a:lnTo>
                  <a:pt x="936" y="515"/>
                </a:lnTo>
                <a:lnTo>
                  <a:pt x="923" y="515"/>
                </a:lnTo>
                <a:lnTo>
                  <a:pt x="903" y="515"/>
                </a:lnTo>
                <a:lnTo>
                  <a:pt x="890" y="509"/>
                </a:lnTo>
                <a:lnTo>
                  <a:pt x="851" y="509"/>
                </a:lnTo>
                <a:lnTo>
                  <a:pt x="838" y="509"/>
                </a:lnTo>
                <a:lnTo>
                  <a:pt x="819" y="509"/>
                </a:lnTo>
                <a:lnTo>
                  <a:pt x="786" y="503"/>
                </a:lnTo>
                <a:lnTo>
                  <a:pt x="767" y="503"/>
                </a:lnTo>
                <a:lnTo>
                  <a:pt x="754" y="497"/>
                </a:lnTo>
                <a:lnTo>
                  <a:pt x="734" y="497"/>
                </a:lnTo>
                <a:lnTo>
                  <a:pt x="702" y="491"/>
                </a:lnTo>
                <a:lnTo>
                  <a:pt x="689" y="485"/>
                </a:lnTo>
                <a:lnTo>
                  <a:pt x="669" y="485"/>
                </a:lnTo>
                <a:lnTo>
                  <a:pt x="637" y="479"/>
                </a:lnTo>
                <a:lnTo>
                  <a:pt x="624" y="473"/>
                </a:lnTo>
                <a:lnTo>
                  <a:pt x="604" y="473"/>
                </a:lnTo>
                <a:lnTo>
                  <a:pt x="572" y="461"/>
                </a:lnTo>
                <a:lnTo>
                  <a:pt x="559" y="461"/>
                </a:lnTo>
                <a:lnTo>
                  <a:pt x="546" y="455"/>
                </a:lnTo>
                <a:lnTo>
                  <a:pt x="526" y="449"/>
                </a:lnTo>
                <a:lnTo>
                  <a:pt x="500" y="443"/>
                </a:lnTo>
                <a:lnTo>
                  <a:pt x="481" y="437"/>
                </a:lnTo>
                <a:lnTo>
                  <a:pt x="468" y="431"/>
                </a:lnTo>
                <a:lnTo>
                  <a:pt x="442" y="419"/>
                </a:lnTo>
                <a:lnTo>
                  <a:pt x="422" y="413"/>
                </a:lnTo>
                <a:lnTo>
                  <a:pt x="409" y="407"/>
                </a:lnTo>
                <a:lnTo>
                  <a:pt x="396" y="401"/>
                </a:lnTo>
                <a:lnTo>
                  <a:pt x="370" y="389"/>
                </a:lnTo>
                <a:lnTo>
                  <a:pt x="357" y="383"/>
                </a:lnTo>
                <a:lnTo>
                  <a:pt x="344" y="377"/>
                </a:lnTo>
                <a:lnTo>
                  <a:pt x="318" y="365"/>
                </a:lnTo>
                <a:lnTo>
                  <a:pt x="306" y="359"/>
                </a:lnTo>
                <a:lnTo>
                  <a:pt x="293" y="347"/>
                </a:lnTo>
                <a:lnTo>
                  <a:pt x="280" y="341"/>
                </a:lnTo>
                <a:lnTo>
                  <a:pt x="254" y="329"/>
                </a:lnTo>
                <a:lnTo>
                  <a:pt x="247" y="317"/>
                </a:lnTo>
                <a:lnTo>
                  <a:pt x="234" y="311"/>
                </a:lnTo>
                <a:lnTo>
                  <a:pt x="208" y="299"/>
                </a:lnTo>
                <a:lnTo>
                  <a:pt x="202" y="287"/>
                </a:lnTo>
                <a:lnTo>
                  <a:pt x="189" y="281"/>
                </a:lnTo>
                <a:lnTo>
                  <a:pt x="169" y="263"/>
                </a:lnTo>
                <a:lnTo>
                  <a:pt x="163" y="257"/>
                </a:lnTo>
                <a:lnTo>
                  <a:pt x="150" y="245"/>
                </a:lnTo>
                <a:lnTo>
                  <a:pt x="143" y="239"/>
                </a:lnTo>
                <a:lnTo>
                  <a:pt x="124" y="221"/>
                </a:lnTo>
                <a:lnTo>
                  <a:pt x="117" y="215"/>
                </a:lnTo>
                <a:lnTo>
                  <a:pt x="104" y="203"/>
                </a:lnTo>
                <a:lnTo>
                  <a:pt x="91" y="185"/>
                </a:lnTo>
                <a:lnTo>
                  <a:pt x="85" y="173"/>
                </a:lnTo>
                <a:lnTo>
                  <a:pt x="78" y="167"/>
                </a:lnTo>
                <a:lnTo>
                  <a:pt x="72" y="155"/>
                </a:lnTo>
                <a:lnTo>
                  <a:pt x="59" y="137"/>
                </a:lnTo>
                <a:lnTo>
                  <a:pt x="52" y="131"/>
                </a:lnTo>
                <a:lnTo>
                  <a:pt x="46" y="119"/>
                </a:lnTo>
                <a:lnTo>
                  <a:pt x="33" y="101"/>
                </a:lnTo>
                <a:lnTo>
                  <a:pt x="33" y="89"/>
                </a:lnTo>
                <a:lnTo>
                  <a:pt x="26" y="78"/>
                </a:lnTo>
                <a:lnTo>
                  <a:pt x="20" y="60"/>
                </a:lnTo>
                <a:lnTo>
                  <a:pt x="13" y="54"/>
                </a:lnTo>
                <a:lnTo>
                  <a:pt x="13" y="42"/>
                </a:lnTo>
                <a:lnTo>
                  <a:pt x="7" y="30"/>
                </a:lnTo>
                <a:lnTo>
                  <a:pt x="0" y="12"/>
                </a:lnTo>
                <a:lnTo>
                  <a:pt x="0" y="0"/>
                </a:lnTo>
                <a:lnTo>
                  <a:pt x="0" y="197"/>
                </a:lnTo>
                <a:lnTo>
                  <a:pt x="0" y="209"/>
                </a:lnTo>
                <a:lnTo>
                  <a:pt x="7" y="227"/>
                </a:lnTo>
                <a:lnTo>
                  <a:pt x="13" y="239"/>
                </a:lnTo>
                <a:lnTo>
                  <a:pt x="13" y="251"/>
                </a:lnTo>
                <a:lnTo>
                  <a:pt x="20" y="257"/>
                </a:lnTo>
                <a:lnTo>
                  <a:pt x="26" y="275"/>
                </a:lnTo>
                <a:lnTo>
                  <a:pt x="33" y="287"/>
                </a:lnTo>
                <a:lnTo>
                  <a:pt x="33" y="299"/>
                </a:lnTo>
                <a:lnTo>
                  <a:pt x="46" y="317"/>
                </a:lnTo>
                <a:lnTo>
                  <a:pt x="52" y="329"/>
                </a:lnTo>
                <a:lnTo>
                  <a:pt x="59" y="335"/>
                </a:lnTo>
                <a:lnTo>
                  <a:pt x="72" y="353"/>
                </a:lnTo>
                <a:lnTo>
                  <a:pt x="78" y="365"/>
                </a:lnTo>
                <a:lnTo>
                  <a:pt x="85" y="371"/>
                </a:lnTo>
                <a:lnTo>
                  <a:pt x="91" y="383"/>
                </a:lnTo>
                <a:lnTo>
                  <a:pt x="104" y="401"/>
                </a:lnTo>
                <a:lnTo>
                  <a:pt x="117" y="413"/>
                </a:lnTo>
                <a:lnTo>
                  <a:pt x="124" y="419"/>
                </a:lnTo>
                <a:lnTo>
                  <a:pt x="143" y="437"/>
                </a:lnTo>
                <a:lnTo>
                  <a:pt x="150" y="443"/>
                </a:lnTo>
                <a:lnTo>
                  <a:pt x="163" y="455"/>
                </a:lnTo>
                <a:lnTo>
                  <a:pt x="169" y="461"/>
                </a:lnTo>
                <a:lnTo>
                  <a:pt x="189" y="479"/>
                </a:lnTo>
                <a:lnTo>
                  <a:pt x="202" y="485"/>
                </a:lnTo>
                <a:lnTo>
                  <a:pt x="208" y="497"/>
                </a:lnTo>
                <a:lnTo>
                  <a:pt x="234" y="509"/>
                </a:lnTo>
                <a:lnTo>
                  <a:pt x="247" y="515"/>
                </a:lnTo>
                <a:lnTo>
                  <a:pt x="254" y="527"/>
                </a:lnTo>
                <a:lnTo>
                  <a:pt x="280" y="539"/>
                </a:lnTo>
                <a:lnTo>
                  <a:pt x="293" y="545"/>
                </a:lnTo>
                <a:lnTo>
                  <a:pt x="306" y="557"/>
                </a:lnTo>
                <a:lnTo>
                  <a:pt x="318" y="563"/>
                </a:lnTo>
                <a:lnTo>
                  <a:pt x="344" y="575"/>
                </a:lnTo>
                <a:lnTo>
                  <a:pt x="357" y="581"/>
                </a:lnTo>
                <a:lnTo>
                  <a:pt x="370" y="587"/>
                </a:lnTo>
                <a:lnTo>
                  <a:pt x="396" y="599"/>
                </a:lnTo>
                <a:lnTo>
                  <a:pt x="409" y="605"/>
                </a:lnTo>
                <a:lnTo>
                  <a:pt x="422" y="611"/>
                </a:lnTo>
                <a:lnTo>
                  <a:pt x="442" y="617"/>
                </a:lnTo>
                <a:lnTo>
                  <a:pt x="468" y="629"/>
                </a:lnTo>
                <a:lnTo>
                  <a:pt x="481" y="635"/>
                </a:lnTo>
                <a:lnTo>
                  <a:pt x="500" y="641"/>
                </a:lnTo>
                <a:lnTo>
                  <a:pt x="526" y="647"/>
                </a:lnTo>
                <a:lnTo>
                  <a:pt x="546" y="653"/>
                </a:lnTo>
                <a:lnTo>
                  <a:pt x="559" y="659"/>
                </a:lnTo>
                <a:lnTo>
                  <a:pt x="572" y="659"/>
                </a:lnTo>
                <a:lnTo>
                  <a:pt x="604" y="671"/>
                </a:lnTo>
                <a:lnTo>
                  <a:pt x="624" y="671"/>
                </a:lnTo>
                <a:lnTo>
                  <a:pt x="637" y="677"/>
                </a:lnTo>
                <a:lnTo>
                  <a:pt x="669" y="683"/>
                </a:lnTo>
                <a:lnTo>
                  <a:pt x="689" y="683"/>
                </a:lnTo>
                <a:lnTo>
                  <a:pt x="702" y="689"/>
                </a:lnTo>
                <a:lnTo>
                  <a:pt x="734" y="695"/>
                </a:lnTo>
                <a:lnTo>
                  <a:pt x="754" y="695"/>
                </a:lnTo>
                <a:lnTo>
                  <a:pt x="767" y="701"/>
                </a:lnTo>
                <a:lnTo>
                  <a:pt x="786" y="701"/>
                </a:lnTo>
                <a:lnTo>
                  <a:pt x="819" y="707"/>
                </a:lnTo>
                <a:lnTo>
                  <a:pt x="838" y="707"/>
                </a:lnTo>
                <a:lnTo>
                  <a:pt x="851" y="707"/>
                </a:lnTo>
                <a:lnTo>
                  <a:pt x="890" y="707"/>
                </a:lnTo>
                <a:lnTo>
                  <a:pt x="903" y="713"/>
                </a:lnTo>
                <a:lnTo>
                  <a:pt x="923" y="713"/>
                </a:lnTo>
                <a:lnTo>
                  <a:pt x="936" y="713"/>
                </a:lnTo>
                <a:lnTo>
                  <a:pt x="974" y="713"/>
                </a:lnTo>
                <a:lnTo>
                  <a:pt x="987" y="713"/>
                </a:lnTo>
                <a:lnTo>
                  <a:pt x="1007" y="713"/>
                </a:lnTo>
                <a:lnTo>
                  <a:pt x="1039" y="713"/>
                </a:lnTo>
                <a:lnTo>
                  <a:pt x="1059" y="707"/>
                </a:lnTo>
                <a:lnTo>
                  <a:pt x="1078" y="707"/>
                </a:lnTo>
                <a:lnTo>
                  <a:pt x="1111" y="707"/>
                </a:lnTo>
                <a:lnTo>
                  <a:pt x="1124" y="707"/>
                </a:lnTo>
                <a:lnTo>
                  <a:pt x="1143" y="701"/>
                </a:lnTo>
                <a:lnTo>
                  <a:pt x="1163" y="701"/>
                </a:lnTo>
                <a:lnTo>
                  <a:pt x="1195" y="695"/>
                </a:lnTo>
                <a:lnTo>
                  <a:pt x="1208" y="695"/>
                </a:lnTo>
                <a:lnTo>
                  <a:pt x="1208" y="497"/>
                </a:lnTo>
                <a:close/>
              </a:path>
            </a:pathLst>
          </a:custGeom>
          <a:solidFill>
            <a:srgbClr val="4d4019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822920" y="4210200"/>
            <a:ext cx="1917720" cy="931680"/>
          </a:xfrm>
          <a:custGeom>
            <a:avLst/>
            <a:gdLst/>
            <a:ahLst/>
            <a:rect l="l" t="t" r="r" b="b"/>
            <a:pathLst>
              <a:path w="1208" h="587">
                <a:moveTo>
                  <a:pt x="1208" y="569"/>
                </a:moveTo>
                <a:lnTo>
                  <a:pt x="1195" y="569"/>
                </a:lnTo>
                <a:lnTo>
                  <a:pt x="1163" y="575"/>
                </a:lnTo>
                <a:lnTo>
                  <a:pt x="1143" y="575"/>
                </a:lnTo>
                <a:lnTo>
                  <a:pt x="1124" y="581"/>
                </a:lnTo>
                <a:lnTo>
                  <a:pt x="1111" y="581"/>
                </a:lnTo>
                <a:lnTo>
                  <a:pt x="1078" y="581"/>
                </a:lnTo>
                <a:lnTo>
                  <a:pt x="1059" y="581"/>
                </a:lnTo>
                <a:lnTo>
                  <a:pt x="1039" y="587"/>
                </a:lnTo>
                <a:lnTo>
                  <a:pt x="1007" y="587"/>
                </a:lnTo>
                <a:lnTo>
                  <a:pt x="987" y="587"/>
                </a:lnTo>
                <a:lnTo>
                  <a:pt x="974" y="587"/>
                </a:lnTo>
                <a:lnTo>
                  <a:pt x="936" y="587"/>
                </a:lnTo>
                <a:lnTo>
                  <a:pt x="923" y="587"/>
                </a:lnTo>
                <a:lnTo>
                  <a:pt x="903" y="587"/>
                </a:lnTo>
                <a:lnTo>
                  <a:pt x="890" y="581"/>
                </a:lnTo>
                <a:lnTo>
                  <a:pt x="851" y="581"/>
                </a:lnTo>
                <a:lnTo>
                  <a:pt x="838" y="581"/>
                </a:lnTo>
                <a:lnTo>
                  <a:pt x="819" y="581"/>
                </a:lnTo>
                <a:lnTo>
                  <a:pt x="786" y="575"/>
                </a:lnTo>
                <a:lnTo>
                  <a:pt x="767" y="575"/>
                </a:lnTo>
                <a:lnTo>
                  <a:pt x="754" y="569"/>
                </a:lnTo>
                <a:lnTo>
                  <a:pt x="734" y="569"/>
                </a:lnTo>
                <a:lnTo>
                  <a:pt x="702" y="563"/>
                </a:lnTo>
                <a:lnTo>
                  <a:pt x="689" y="557"/>
                </a:lnTo>
                <a:lnTo>
                  <a:pt x="669" y="557"/>
                </a:lnTo>
                <a:lnTo>
                  <a:pt x="637" y="551"/>
                </a:lnTo>
                <a:lnTo>
                  <a:pt x="624" y="545"/>
                </a:lnTo>
                <a:lnTo>
                  <a:pt x="604" y="545"/>
                </a:lnTo>
                <a:lnTo>
                  <a:pt x="572" y="533"/>
                </a:lnTo>
                <a:lnTo>
                  <a:pt x="559" y="533"/>
                </a:lnTo>
                <a:lnTo>
                  <a:pt x="546" y="527"/>
                </a:lnTo>
                <a:lnTo>
                  <a:pt x="526" y="521"/>
                </a:lnTo>
                <a:lnTo>
                  <a:pt x="500" y="515"/>
                </a:lnTo>
                <a:lnTo>
                  <a:pt x="481" y="509"/>
                </a:lnTo>
                <a:lnTo>
                  <a:pt x="468" y="503"/>
                </a:lnTo>
                <a:lnTo>
                  <a:pt x="442" y="491"/>
                </a:lnTo>
                <a:lnTo>
                  <a:pt x="422" y="485"/>
                </a:lnTo>
                <a:lnTo>
                  <a:pt x="409" y="479"/>
                </a:lnTo>
                <a:lnTo>
                  <a:pt x="396" y="473"/>
                </a:lnTo>
                <a:lnTo>
                  <a:pt x="370" y="461"/>
                </a:lnTo>
                <a:lnTo>
                  <a:pt x="357" y="455"/>
                </a:lnTo>
                <a:lnTo>
                  <a:pt x="344" y="449"/>
                </a:lnTo>
                <a:lnTo>
                  <a:pt x="318" y="437"/>
                </a:lnTo>
                <a:lnTo>
                  <a:pt x="306" y="431"/>
                </a:lnTo>
                <a:lnTo>
                  <a:pt x="293" y="419"/>
                </a:lnTo>
                <a:lnTo>
                  <a:pt x="280" y="413"/>
                </a:lnTo>
                <a:lnTo>
                  <a:pt x="254" y="401"/>
                </a:lnTo>
                <a:lnTo>
                  <a:pt x="247" y="389"/>
                </a:lnTo>
                <a:lnTo>
                  <a:pt x="234" y="383"/>
                </a:lnTo>
                <a:lnTo>
                  <a:pt x="208" y="371"/>
                </a:lnTo>
                <a:lnTo>
                  <a:pt x="202" y="359"/>
                </a:lnTo>
                <a:lnTo>
                  <a:pt x="189" y="353"/>
                </a:lnTo>
                <a:lnTo>
                  <a:pt x="169" y="335"/>
                </a:lnTo>
                <a:lnTo>
                  <a:pt x="163" y="329"/>
                </a:lnTo>
                <a:lnTo>
                  <a:pt x="150" y="317"/>
                </a:lnTo>
                <a:lnTo>
                  <a:pt x="143" y="311"/>
                </a:lnTo>
                <a:lnTo>
                  <a:pt x="124" y="293"/>
                </a:lnTo>
                <a:lnTo>
                  <a:pt x="117" y="287"/>
                </a:lnTo>
                <a:lnTo>
                  <a:pt x="104" y="275"/>
                </a:lnTo>
                <a:lnTo>
                  <a:pt x="91" y="257"/>
                </a:lnTo>
                <a:lnTo>
                  <a:pt x="85" y="245"/>
                </a:lnTo>
                <a:lnTo>
                  <a:pt x="78" y="239"/>
                </a:lnTo>
                <a:lnTo>
                  <a:pt x="72" y="227"/>
                </a:lnTo>
                <a:lnTo>
                  <a:pt x="59" y="209"/>
                </a:lnTo>
                <a:lnTo>
                  <a:pt x="52" y="203"/>
                </a:lnTo>
                <a:lnTo>
                  <a:pt x="46" y="191"/>
                </a:lnTo>
                <a:lnTo>
                  <a:pt x="33" y="173"/>
                </a:lnTo>
                <a:lnTo>
                  <a:pt x="33" y="161"/>
                </a:lnTo>
                <a:lnTo>
                  <a:pt x="26" y="150"/>
                </a:lnTo>
                <a:lnTo>
                  <a:pt x="20" y="132"/>
                </a:lnTo>
                <a:lnTo>
                  <a:pt x="13" y="126"/>
                </a:lnTo>
                <a:lnTo>
                  <a:pt x="13" y="114"/>
                </a:lnTo>
                <a:lnTo>
                  <a:pt x="7" y="102"/>
                </a:lnTo>
                <a:lnTo>
                  <a:pt x="0" y="84"/>
                </a:lnTo>
                <a:lnTo>
                  <a:pt x="0" y="72"/>
                </a:lnTo>
                <a:lnTo>
                  <a:pt x="974" y="0"/>
                </a:lnTo>
                <a:lnTo>
                  <a:pt x="1208" y="569"/>
                </a:lnTo>
                <a:close/>
              </a:path>
            </a:pathLst>
          </a:custGeom>
          <a:solidFill>
            <a:srgbClr val="9a7f32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164080" y="5484960"/>
            <a:ext cx="68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17 %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8097480" y="2832120"/>
            <a:ext cx="68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29 %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365440" y="2838600"/>
            <a:ext cx="68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27 %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58960" y="5491080"/>
            <a:ext cx="68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27 %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858720" y="2903400"/>
            <a:ext cx="11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14800" y="5556240"/>
            <a:ext cx="129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Times New Roman"/>
              </a:rPr>
              <a:t>Investigación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760560" y="5556240"/>
            <a:ext cx="152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Times New Roman"/>
              </a:rPr>
              <a:t>Administración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714200" y="29034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Times New Roman"/>
              </a:rPr>
              <a:t>Otro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2584440" y="4057560"/>
            <a:ext cx="642960" cy="181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retaría Técnica del Premio Nacional a la Calidad para el Sector Públic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689200" y="-174960"/>
            <a:ext cx="5121360" cy="21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6633"/>
                </a:solidFill>
                <a:latin typeface="Times New Roman"/>
              </a:rPr>
              <a:t>Modelos de Calidad </a:t>
            </a:r>
            <a:br>
              <a:rPr sz="4400"/>
            </a:br>
            <a:r>
              <a:rPr b="1" lang="es-ES" sz="4400" spc="-1" strike="noStrike">
                <a:solidFill>
                  <a:srgbClr val="996633"/>
                </a:solidFill>
                <a:latin typeface="Times New Roman"/>
              </a:rPr>
              <a:t>para instituciones 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2952720" y="1672920"/>
            <a:ext cx="4651200" cy="4422600"/>
            <a:chOff x="2952720" y="1672920"/>
            <a:chExt cx="4651200" cy="4422600"/>
          </a:xfrm>
        </p:grpSpPr>
        <p:sp>
          <p:nvSpPr>
            <p:cNvPr id="723" name=""/>
            <p:cNvSpPr/>
            <p:nvPr/>
          </p:nvSpPr>
          <p:spPr>
            <a:xfrm>
              <a:off x="6099480" y="1887120"/>
              <a:ext cx="1351080" cy="1284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402000"/>
              </a:solidFill>
              <a:miter/>
            </a:ln>
            <a:effectLst>
              <a:outerShdw dist="107932" dir="2700000" blurRad="0" rotWithShape="0">
                <a:srgbClr val="a08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2000"/>
                  </a:solidFill>
                  <a:latin typeface="Arial"/>
                </a:rPr>
                <a:t>SALUD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16200000">
              <a:off x="4361040" y="2719080"/>
              <a:ext cx="166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402000"/>
                  </a:solidFill>
                  <a:latin typeface="Arial"/>
                </a:rPr>
                <a:t>PUBLICO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103200" y="4606920"/>
              <a:ext cx="1351080" cy="128484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402000"/>
              </a:solidFill>
              <a:miter/>
            </a:ln>
            <a:effectLst>
              <a:outerShdw dist="107932" dir="2700000" blurRad="0" rotWithShape="0">
                <a:srgbClr val="a08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02000"/>
                  </a:solidFill>
                  <a:latin typeface="Arial"/>
                </a:rPr>
                <a:t>FUERZAS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02000"/>
                  </a:solidFill>
                  <a:latin typeface="Arial"/>
                </a:rPr>
                <a:t>ARMADAS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02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02000"/>
                  </a:solidFill>
                  <a:latin typeface="Arial"/>
                </a:rPr>
                <a:t>SEGURIDAD </a:t>
              </a:r>
              <a:br>
                <a:rPr sz="1200"/>
              </a:br>
              <a:r>
                <a:rPr b="0" lang="es-MX" sz="1200" spc="-1" strike="noStrike">
                  <a:solidFill>
                    <a:srgbClr val="402000"/>
                  </a:solidFill>
                  <a:latin typeface="Arial"/>
                </a:rPr>
                <a:t>PRIVADA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178320" y="4606920"/>
              <a:ext cx="1351440" cy="1284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402000"/>
              </a:solidFill>
              <a:miter/>
            </a:ln>
            <a:effectLst>
              <a:outerShdw dist="107932" dir="2700000" blurRad="0" rotWithShape="0">
                <a:srgbClr val="a08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02000"/>
                  </a:solidFill>
                  <a:latin typeface="Arial"/>
                </a:rPr>
                <a:t>   </a:t>
              </a:r>
              <a:r>
                <a:rPr b="0" lang="es-MX" sz="1200" spc="-1" strike="noStrike">
                  <a:solidFill>
                    <a:srgbClr val="402000"/>
                  </a:solidFill>
                  <a:latin typeface="Arial"/>
                </a:rPr>
                <a:t>MUNICIPALIDAD  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02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02000"/>
                  </a:solidFill>
                  <a:latin typeface="Arial"/>
                </a:rPr>
                <a:t>  </a:t>
              </a:r>
              <a:r>
                <a:rPr b="0" lang="es-MX" sz="1200" spc="-1" strike="noStrike">
                  <a:solidFill>
                    <a:srgbClr val="402000"/>
                  </a:solidFill>
                  <a:latin typeface="Arial"/>
                </a:rPr>
                <a:t>ADMINISTRACION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02000"/>
                  </a:solidFill>
                  <a:latin typeface="Arial"/>
                </a:rPr>
                <a:t> </a:t>
              </a:r>
              <a:r>
                <a:rPr b="0" lang="es-MX" sz="1200" spc="-1" strike="noStrike">
                  <a:solidFill>
                    <a:srgbClr val="402000"/>
                  </a:solidFill>
                  <a:latin typeface="Arial"/>
                </a:rPr>
                <a:t>PRIVADA</a:t>
              </a:r>
              <a:r>
                <a:rPr b="0" lang="es-MX" sz="1400" spc="-1" strike="noStrike">
                  <a:solidFill>
                    <a:srgbClr val="402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103200" y="1887120"/>
              <a:ext cx="1351080" cy="1284480"/>
            </a:xfrm>
            <a:prstGeom prst="rect">
              <a:avLst/>
            </a:prstGeom>
            <a:solidFill>
              <a:srgbClr val="9ddfa6"/>
            </a:solidFill>
            <a:ln w="12600">
              <a:solidFill>
                <a:srgbClr val="402000"/>
              </a:solidFill>
              <a:miter/>
            </a:ln>
            <a:effectLst>
              <a:outerShdw dist="107932" dir="2700000" blurRad="0" rotWithShape="0">
                <a:srgbClr val="a08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2000"/>
                  </a:solidFill>
                  <a:latin typeface="Arial"/>
                </a:rPr>
                <a:t>EDUCACION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16200000">
              <a:off x="4174920" y="2238480"/>
              <a:ext cx="2178360" cy="1047240"/>
            </a:xfrm>
            <a:prstGeom prst="rightArrow">
              <a:avLst>
                <a:gd name="adj1" fmla="val 50000"/>
                <a:gd name="adj2" fmla="val 52002"/>
              </a:avLst>
            </a:prstGeom>
            <a:solidFill>
              <a:srgbClr val="fb0101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Arial"/>
                </a:rPr>
                <a:t>PRIVADO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16200000">
              <a:off x="4164120" y="4471920"/>
              <a:ext cx="2199600" cy="1047240"/>
            </a:xfrm>
            <a:prstGeom prst="leftArrow">
              <a:avLst>
                <a:gd name="adj1" fmla="val 50000"/>
                <a:gd name="adj2" fmla="val 52509"/>
              </a:avLst>
            </a:prstGeom>
            <a:solidFill>
              <a:srgbClr val="fb0101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Arial"/>
                </a:rPr>
                <a:t>PRIVADO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312520" y="3399840"/>
              <a:ext cx="2291400" cy="995760"/>
            </a:xfrm>
            <a:prstGeom prst="rightArrow">
              <a:avLst>
                <a:gd name="adj1" fmla="val 50000"/>
                <a:gd name="adj2" fmla="val 57529"/>
              </a:avLst>
            </a:prstGeom>
            <a:solidFill>
              <a:srgbClr val="33cc33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Arial"/>
                </a:rPr>
                <a:t>PÚBLICA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952720" y="3399840"/>
              <a:ext cx="2314080" cy="995760"/>
            </a:xfrm>
            <a:prstGeom prst="leftArrow">
              <a:avLst>
                <a:gd name="adj1" fmla="val 50000"/>
                <a:gd name="adj2" fmla="val 58098"/>
              </a:avLst>
            </a:prstGeom>
            <a:solidFill>
              <a:srgbClr val="33cc33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Arial"/>
                </a:rPr>
                <a:t>PÚBLICA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83400" y="3511800"/>
              <a:ext cx="762840" cy="747720"/>
            </a:xfrm>
            <a:prstGeom prst="ellipse">
              <a:avLst/>
            </a:prstGeom>
            <a:solidFill>
              <a:srgbClr val="402000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4816080" y="3678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fae2"/>
                </a:solidFill>
                <a:latin typeface="Arial"/>
              </a:rPr>
              <a:t>ONG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retaría Técnica del Premio Nacional a la Calidad para el Sector Público</a:t>
            </a:r>
          </a:p>
        </p:txBody>
      </p:sp>
    </p:spTree>
  </p:cSld>
  <p:transition advTm="18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9T12:20:16Z</dcterms:created>
  <dc:creator>CRIS.</dc:creator>
  <dc:description/>
  <dc:language>en-US</dc:language>
  <cp:lastModifiedBy>Dr. Marcelo Artana</cp:lastModifiedBy>
  <cp:lastPrinted>1999-05-03T17:24:26Z</cp:lastPrinted>
  <dcterms:modified xsi:type="dcterms:W3CDTF">2003-04-21T15:27:26Z</dcterms:modified>
  <cp:revision>165</cp:revision>
  <dc:subject/>
  <dc:title>PRESENTACION congreso internacional</dc:title>
</cp:coreProperties>
</file>