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4655-F7B8-4F39-812B-3BF5C62C9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96540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2191-7207-425D-AD2F-1FDB7B09F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6540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7080" y="396540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2247-BEBC-4180-8B96-3F0899DCB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240" y="12189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560" y="12189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96540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240" y="396540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7560" y="396540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D4F2-0CDF-49E9-9CE4-C848B5DD9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D6A7C-36F2-4D11-A5B0-BD86A221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05C6E-2328-49FA-B9AA-8D6361D7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6C30A-DC10-44CE-A3B9-4341A79D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F86B0-3B63-4E89-98FE-C18AF6B9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695E2-9BFD-4142-8ACF-F9CE85D3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BB96C-1FC7-4B19-BC85-6160391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6540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2A39-C1CA-4F46-90A7-4C6935D7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3961-1F16-48E3-81A5-44F09EE03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96540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1968C-6E49-47A7-9F91-78CF1A1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6540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CC341-3973-4D28-B46D-528457A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6540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E51FF-85E8-465A-9EF2-FB3A6C20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6540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96540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A2B3D-5AB5-42E9-A719-915822B9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12189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12189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6540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396540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396540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AB65B-AFEF-4204-A4CE-FC3F32EF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0FCB-82FE-4C1B-9058-39B44993B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55FF-9FE5-458B-A13C-17B3971C0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B899-D571-47AE-A174-86B386635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AB66-D695-4E0C-A7A4-27C9B1B7F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96540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30DA-6E5A-4199-811B-F07EDA356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7080" y="396540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81C5-B202-4EFC-B4F3-3E0E8277C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218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6540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93FD-0EEA-4C9B-96A6-89F242764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5334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10DC-A48D-437E-B462-3B490617778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5F3A-B97A-4856-A8B3-4A0CA37529B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4c2b"/>
                </a:solidFill>
                <a:latin typeface="Times New Roman"/>
              </a:rPr>
              <a:t>A.P.A.</a:t>
            </a:r>
            <a:br>
              <a:rPr sz="5200"/>
            </a:br>
            <a:r>
              <a:rPr b="0" lang="es-AR" sz="4600" spc="-1" strike="noStrike">
                <a:solidFill>
                  <a:srgbClr val="004c2b"/>
                </a:solidFill>
                <a:latin typeface="Times New Roman"/>
              </a:rPr>
              <a:t>ADVANCE  PRICING</a:t>
            </a:r>
            <a:br>
              <a:rPr sz="4600"/>
            </a:br>
            <a:r>
              <a:rPr b="0" lang="es-AR" sz="4600" spc="-1" strike="noStrike">
                <a:solidFill>
                  <a:srgbClr val="004c2b"/>
                </a:solidFill>
                <a:latin typeface="Times New Roman"/>
              </a:rPr>
              <a:t>ARRANGEMENTS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33"/>
                </a:solidFill>
                <a:latin typeface="Times New Roman"/>
              </a:rPr>
              <a:t>OC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33"/>
                </a:solidFill>
                <a:latin typeface="Times New Roman"/>
              </a:rPr>
              <a:t>Organización para la Cooperación y el Desarrollo Económic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33"/>
                </a:solidFill>
                <a:latin typeface="Times New Roman"/>
              </a:rPr>
              <a:t>SON UNA SUERTE DE NEGOCIACIÓN ENTRE EL CONTRIBUYENTE Y LA ADMINISTRACIÓN DONDE SE ACUERDAN LOS CRITERI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33"/>
                </a:solidFill>
                <a:latin typeface="Times New Roman"/>
              </a:rPr>
              <a:t>PUEDEN S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UNILATER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BILATERALES (DOS FISCOS Y SUS CONTRIBUYENT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33"/>
                </a:solidFill>
                <a:latin typeface="Times New Roman"/>
              </a:rPr>
              <a:t>SE DISTINGUE DE LA CONSULTA TRIBUTARIA PUES EN ESTE CASO LOS HECHOS PRESENTADOS SE CONSIDERAN COMO UN DATO Y EN EL APA SE PONEN A PRUEBA LOS HECHOS Y LA INFORMACIÓN PRESENTADA POR EL CONTRIBUYENTE. ADEMÁS LOS APA DEFINEN CRITERIOS PARA OPERACIONES RECURRENTES EN EL TIEMP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4c2b"/>
                </a:solidFill>
                <a:latin typeface="Times New Roman"/>
              </a:rPr>
              <a:t>¿ QUE SON LOS A.P.A.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ACUERDOS CON LA ADMINISTRACIÓN FISCAL QUE PRETENDEN RESOLVER POTENCIALES CONFLICTOS SOBRE LOS CRITERIOS DE DETERMINACIÓN DE LOS PRECIOS DE TRANSFERENCIA EN FORMA ANTICIPAD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PUEDEN CUBRIR TODAS LAS SITUACIONES DE LOS PT DE UN CONTRIBUYENTE O SÓLO UNA DETERMINADA CLASE DE OPERACIONE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SE APLICAN NORMALMENTE PARA EL FUTURO, PERO UN ACUERDO PODRÍA SER APLICADO HACÍA EL PASADO, A LOS AÑOS NO PRESCRIPTOS, SI LOS PRECIOS UTILIZADOS ESTUVIERAN BAJO INSPECCIÓN O HUBIERA DUDAS O CONTROVERSIA SOBRE SU NATURALEZA COMO PRECIOS "ENTRE PARTES INDEPENDIENTES"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4c2b"/>
                </a:solidFill>
                <a:latin typeface="Times New Roman"/>
              </a:rPr>
              <a:t>¿ CUAL ES EL PROCEDIMIENTO PARA LA APLICACIÓN DE LOS APA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333333"/>
                </a:solidFill>
                <a:latin typeface="Times New Roman"/>
              </a:rPr>
              <a:t>LO INICIA FORMALMENTE EL CONTRIBUYENTE, PRETENDIENDO REEMPLAZAR LOS MECANISMOS ADMINISTRATIVOS Y JUDICIALES TRADICIONALES, AL PROPONER EL MÉTODO DE DETERMINACIÓN QUE CONSIDERA MÁS ADECUADO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333333"/>
                </a:solidFill>
                <a:latin typeface="Times New Roman"/>
              </a:rPr>
              <a:t>EXISTE UN ALTO GRADO DE COLABORACIÓN DEL CONTRIBUYENTE, SUMINISTRANDO TODA LA INFORMACIÓN Y MEDIOS DE PRUEBA QUE SE REQUIERAN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333333"/>
                </a:solidFill>
                <a:latin typeface="Times New Roman"/>
              </a:rPr>
              <a:t>ACTUACIÓN DE LA ADMINISTRACIÓN PONIENDO A PRUEBA LOS HECHOS Y LA INFORMACIÓN PRESENTADA POR EL CONTRIBUYENTE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333333"/>
                </a:solidFill>
                <a:latin typeface="Times New Roman"/>
              </a:rPr>
              <a:t>POSIBILIDAD DEL CONTRIBUYENTE DE DESISTIR DEL PEDIDO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333333"/>
                </a:solidFill>
                <a:latin typeface="Times New Roman"/>
              </a:rPr>
              <a:t>RESOLUCIÓN DE LA ADMINISTRACIÓN, ACEPTANDO O DENEGANDO EL PEDIDO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4c2b"/>
                </a:solidFill>
                <a:latin typeface="Times New Roman"/>
              </a:rPr>
              <a:t>¿ CUALES SON SUS EFECTOS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EL CONTRIBUYENTE NO DEBE DETERMINAR AJUSTES, MIENTRAS DURE EL ACUERDO, EN TANTO APLIQUE LA MISMA METODOLOGÍ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LA FISCALIZACIÓN DEBE CONSISTIR EN EVALUAR EN QUÉ MEDIDA EL CONTRIBUYENTE ACTÚA EN FORMA CONSISTENTE CON EL AP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EL APA PUEDE SER CANCELADO EN FORMA RETROACTIVA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Times New Roman"/>
              </a:rPr>
              <a:t>EN CASOS DE FRAUD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Times New Roman"/>
              </a:rPr>
              <a:t>SI LA INFORMACIÓN CONSIDERADA A LOS EFECTOS DEL OTORGAMIENTO FUE INEXACTA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Times New Roman"/>
              </a:rPr>
              <a:t>SI EL CONTRIBUYENTE NO ACTÚA EN FORMA CONSISTENTE CON LO ACORDADO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SI LA PROPUESTA ES DENEGADA O EL CONTRIBUYENTE DESISTE DEL PEDIDO, LA ADMINISTRACIÓN DEBE DAR UN TRATO CONFIDENCIAL A LA INFORMACIÓN APORTAD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4c2b"/>
                </a:solidFill>
                <a:latin typeface="Times New Roman"/>
              </a:rPr>
              <a:t>¿CUÁLES SON LAS VENTAJAS DE LOS APA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ELIMINA INCERTIDUMBRE HACIENDO PREDECIBLE EL TRATAMIENTO DE OPERACIONES INTERNACIONALES. PODRÍA FAVORECER INVERSIONES Y EL DESARROLLO DE NEGOCI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CREA UN ESPÍRITU DE COLABORACIÓN ENTRE LA ADMINISTRACIÓN Y EL CONTRIBUYENTE, CREANDO LA OPORTUNIDAD DE INTERCAMBIAR INFORMACIÓN Y PERSPECTIVAS EN UN CLIMA DIFERENTE AL QUE SE PRESENTA EN UNA SITUACIÓN CONTENCIOS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EVITA COSTOSAS INSPECCIONES Y LITIGIOS TANTO PARA EL CONTRIBUYENTE COMO PARA EL FISC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33"/>
                </a:solidFill>
                <a:latin typeface="Times New Roman"/>
              </a:rPr>
              <a:t>APAs BILATERALES ELIMINAN LA POSIBILIDAD DE DOBLE TRIBUTACIÓN TANTO JURÍDICA COMO ECONÓMIC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4c2b"/>
                </a:solidFill>
                <a:latin typeface="Times New Roman"/>
              </a:rPr>
              <a:t>¿CUÁLES SON LAS DESVENTAJAS DE LOS APA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333333"/>
                </a:solidFill>
                <a:latin typeface="Times New Roman"/>
              </a:rPr>
              <a:t>SI EL APA ES UNILATERAL, NO RESUELVE EL RIESGO DE DOBLE IMPOSICIÓN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333333"/>
                </a:solidFill>
                <a:latin typeface="Times New Roman"/>
              </a:rPr>
              <a:t>EL ESFUERZO ADMINISTRATIVO PARA CONCLUIR UN APA TANTO POR PARTE DEL CONTRIBUYENTE COMO DEL FISCO PODRÍA SER MAYOR QUE EL QUE PODRÍA REQUERIR UNA INSPECCIÓN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333333"/>
                </a:solidFill>
                <a:latin typeface="Times New Roman"/>
              </a:rPr>
              <a:t>PRESERVACIÓN DE LA CONFIDENCIALIDAD, ESPECIALMENTE EN EL CASO DE DENEGACIÓN O DESISTIMIENTO PUEDE SER UN PROBLEMA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333333"/>
                </a:solidFill>
                <a:latin typeface="Times New Roman"/>
              </a:rPr>
              <a:t>PUBLICIDAD. ES NECESARIO DAR A PUBLICIDAD LOS APAs QUE SE CONCLUYAN. PERO ESTA PUBLICIDAD DEBE TENER UN EQUILIBRIO ENTRE EL INTERÉS GENERAL Y LA PRESERVACIÓN DE SECRETOS COMERCIALES Y LA POSICIÓN EN EL MERCADO DEL CONTRIBUYENTE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4:17:06Z</dcterms:created>
  <dc:creator>Soporte</dc:creator>
  <dc:description/>
  <dc:language>en-US</dc:language>
  <cp:lastModifiedBy>Soporte</cp:lastModifiedBy>
  <cp:lastPrinted>2003-05-08T14:28:18Z</cp:lastPrinted>
  <dcterms:modified xsi:type="dcterms:W3CDTF">2003-05-08T14:28:22Z</dcterms:modified>
  <cp:revision>10</cp:revision>
  <dc:subject/>
  <dc:title>A.P.A. ADVANCE PRICING ARRANGEMENTS</dc:title>
</cp:coreProperties>
</file>