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D61-1094-4048-821C-A76E745A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4AE-8492-4F0D-B5ED-58460546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8060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80600" y="39222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F4B-BC47-46D5-AC3F-8F95C7A8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19360" y="12952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53280" y="12952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19360" y="39222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53280" y="39222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639-986C-4B6F-8761-BC66EFD1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2C25-AD6E-4AAC-BC73-A892A616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9A4F-3159-4608-B192-7C7A0C77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C198-D8AB-4D29-BF73-BC69C12B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80600" y="12952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B285-69A3-4A92-9917-001363E5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E4DA-4AF2-4CCB-B144-28A6AAD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926D-EDDC-4005-9939-952F36B1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80600" y="12952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486A-C213-44A2-8D15-D9906128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AE6-8583-4533-963C-A9CBB68C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8060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80600" y="39222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8EB1-FC68-43C5-BCCE-498F723C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8060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C22F-62AD-432F-BB2B-240FEBB9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A1B6-7AF4-4D43-8672-97A8A966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8060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80600" y="39222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0381-748D-4708-B9DA-DE1099B9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19360" y="12952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353280" y="12952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19360" y="39222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353280" y="39222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2265-AE0B-4BA8-A3F2-3F8A2FAE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104-F9B4-483C-9F21-BE41632D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80600" y="12952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77B-372D-448F-893F-A7EA260D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AA3-3886-4852-9677-8C16D66A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939-17A8-4CD3-9AB7-2BD90931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80600" y="12952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062-5049-43A4-99B1-A84E6576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8060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0600" y="39222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B08-BF7B-4704-B69C-E1A4840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80600" y="12952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588-D72B-48D5-9E5F-112BB4EF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647640" cy="6713280"/>
            <a:chOff x="0" y="6840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72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2948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1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2932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3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09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197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769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17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15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3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48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3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389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32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19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20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293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1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291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32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0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196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767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15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17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28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484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30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387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30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195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424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57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1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5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24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4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1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41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17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54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30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3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40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06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52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21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14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38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09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385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2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098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290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61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09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08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22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574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21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478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24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289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1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38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07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384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09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28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69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49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64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62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19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62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31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51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2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49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22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38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397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56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28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5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381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58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094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570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382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9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1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840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0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07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33520" y="76320"/>
            <a:ext cx="191880" cy="9903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4920"/>
            <a:ext cx="5662440" cy="777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1"/>
          </p:nvPr>
        </p:nvSpPr>
        <p:spPr>
          <a:xfrm>
            <a:off x="7617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2"/>
          </p:nvPr>
        </p:nvSpPr>
        <p:spPr>
          <a:xfrm>
            <a:off x="3131640" y="6552720"/>
            <a:ext cx="3086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2BDA-7316-45C4-8C99-82004BD1855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3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0BCF-103B-4A03-9EDE-1E4A0C7B37C3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CUADRO 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MATERIAS SOBRE LAS QUE PUEDEN VERSAR LAS CONSULTAS TRIBUTARIA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219320" y="2130480"/>
            <a:ext cx="7009920" cy="3050640"/>
            <a:chOff x="1219320" y="2130480"/>
            <a:chExt cx="7009920" cy="3050640"/>
          </a:xfrm>
        </p:grpSpPr>
        <p:grpSp>
          <p:nvGrpSpPr>
            <p:cNvPr id="287" name=""/>
            <p:cNvGrpSpPr/>
            <p:nvPr/>
          </p:nvGrpSpPr>
          <p:grpSpPr>
            <a:xfrm>
              <a:off x="1222920" y="2134440"/>
              <a:ext cx="7001640" cy="3041280"/>
              <a:chOff x="1222920" y="2134440"/>
              <a:chExt cx="7001640" cy="30412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1222920" y="2134440"/>
                <a:ext cx="991800" cy="3041280"/>
                <a:chOff x="1222920" y="2134440"/>
                <a:chExt cx="991800" cy="30412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274040" y="2134440"/>
                  <a:ext cx="889200" cy="304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Holanda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222920" y="2134440"/>
                  <a:ext cx="991800" cy="304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2215080" y="2134440"/>
                <a:ext cx="6009480" cy="3041280"/>
                <a:chOff x="2215080" y="2134440"/>
                <a:chExt cx="6009480" cy="30412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266920" y="2134440"/>
                  <a:ext cx="5906160" cy="304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-Campo muy limitado. Las consultas tributarias no son instrumentos que puedan ser utilizados para innovar el ordenamiento tributario.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- Las consultas tributarias solo pueden formularse en materia de fiscalidad intencional: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n-US" sz="9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n-US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Holding Ruling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n-US" sz="9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n-US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Finance Ruling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n-US" sz="9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n-US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Royalty Rulings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n-US" sz="9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n-US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Foreign Permanent Establishment Financing Ruling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s-AR" sz="9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Cost – Plus Ruling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- No se pueden plantear consultas sobre cuestiones tributarias internas.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215080" y="2134440"/>
                  <a:ext cx="6009480" cy="304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1219320" y="2130480"/>
              <a:ext cx="7009920" cy="30506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imes New Roman"/>
              </a:rPr>
              <a:t>CUADRO I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EFECTOS DE LAS CONTESTACIONES A CONSULTAS TRIBUTARIA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143000" y="2892600"/>
            <a:ext cx="7206840" cy="1221840"/>
            <a:chOff x="1143000" y="2892600"/>
            <a:chExt cx="7206840" cy="1221840"/>
          </a:xfrm>
        </p:grpSpPr>
        <p:grpSp>
          <p:nvGrpSpPr>
            <p:cNvPr id="377" name=""/>
            <p:cNvGrpSpPr/>
            <p:nvPr/>
          </p:nvGrpSpPr>
          <p:grpSpPr>
            <a:xfrm>
              <a:off x="1146600" y="2896560"/>
              <a:ext cx="7198200" cy="1212480"/>
              <a:chOff x="1146600" y="2896560"/>
              <a:chExt cx="7198200" cy="12124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1146600" y="2896560"/>
                <a:ext cx="1234080" cy="1212480"/>
                <a:chOff x="1146600" y="2896560"/>
                <a:chExt cx="1234080" cy="12124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199160" y="2896560"/>
                  <a:ext cx="1127880" cy="12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Australia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146600" y="2896560"/>
                  <a:ext cx="1234080" cy="121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381040" y="2896560"/>
                <a:ext cx="5963760" cy="1212480"/>
                <a:chOff x="2381040" y="2896560"/>
                <a:chExt cx="5963760" cy="12124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433600" y="2896560"/>
                  <a:ext cx="5857920" cy="12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8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xisten dos tipos de rulings: public rulings (la iniciativa corresponde a la Administración) y las private rulings, que son solicitadas por los ciudadanos. 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8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Ambas normas vinculan a la Administración.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381040" y="2896560"/>
                  <a:ext cx="5963760" cy="121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4" name=""/>
            <p:cNvSpPr/>
            <p:nvPr/>
          </p:nvSpPr>
          <p:spPr>
            <a:xfrm>
              <a:off x="1143000" y="2892600"/>
              <a:ext cx="7206840" cy="12218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imes New Roman"/>
              </a:rPr>
              <a:t>CUADRO I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EFECTOS DE LAS CONTESTACIONES A CONSULTAS TRIBUTARIA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143000" y="2895480"/>
            <a:ext cx="7238520" cy="1371240"/>
            <a:chOff x="1143000" y="2895480"/>
            <a:chExt cx="7238520" cy="1371240"/>
          </a:xfrm>
        </p:grpSpPr>
        <p:grpSp>
          <p:nvGrpSpPr>
            <p:cNvPr id="387" name=""/>
            <p:cNvGrpSpPr/>
            <p:nvPr/>
          </p:nvGrpSpPr>
          <p:grpSpPr>
            <a:xfrm>
              <a:off x="1146600" y="2900160"/>
              <a:ext cx="7230240" cy="1360800"/>
              <a:chOff x="1146600" y="2900160"/>
              <a:chExt cx="7230240" cy="136080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1146600" y="2900160"/>
                <a:ext cx="1024200" cy="1360800"/>
                <a:chOff x="1146600" y="2900160"/>
                <a:chExt cx="1024200" cy="13608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199520" y="2900160"/>
                  <a:ext cx="918000" cy="136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Nueva Zelanda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146600" y="2900160"/>
                  <a:ext cx="1024200" cy="136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171160" y="2900160"/>
                <a:ext cx="6205680" cy="1360800"/>
                <a:chOff x="2171160" y="2900160"/>
                <a:chExt cx="6205680" cy="13608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224440" y="2900160"/>
                  <a:ext cx="6099120" cy="136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l sistema de consultas es el más completos de todos (origen junio 1982) 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xisten tres tipos de rulings: public rulings, private rulings y las product rulings (debe solicitarse expresamente, no se puede responder con una private rulings)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171160" y="2900160"/>
                  <a:ext cx="6205680" cy="136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4" name=""/>
            <p:cNvSpPr/>
            <p:nvPr/>
          </p:nvSpPr>
          <p:spPr>
            <a:xfrm>
              <a:off x="1143000" y="2895480"/>
              <a:ext cx="7238520" cy="13712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imes New Roman"/>
              </a:rPr>
              <a:t>CUADROII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REQUISITOS FORMALES DE LA PRESENTACIÓN DE CONSULTA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143000" y="2590920"/>
            <a:ext cx="7467120" cy="1783800"/>
            <a:chOff x="1143000" y="2590920"/>
            <a:chExt cx="7467120" cy="1783800"/>
          </a:xfrm>
        </p:grpSpPr>
        <p:grpSp>
          <p:nvGrpSpPr>
            <p:cNvPr id="397" name=""/>
            <p:cNvGrpSpPr/>
            <p:nvPr/>
          </p:nvGrpSpPr>
          <p:grpSpPr>
            <a:xfrm>
              <a:off x="1146960" y="2595240"/>
              <a:ext cx="7458480" cy="1774080"/>
              <a:chOff x="1146960" y="2595240"/>
              <a:chExt cx="7458480" cy="177408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146960" y="2595240"/>
                <a:ext cx="1056600" cy="1774080"/>
                <a:chOff x="1146960" y="2595240"/>
                <a:chExt cx="1056600" cy="17740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201680" y="2595240"/>
                  <a:ext cx="947160" cy="17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Holanda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46960" y="2595240"/>
                  <a:ext cx="1056600" cy="17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2203920" y="2595240"/>
                <a:ext cx="6401520" cy="1774080"/>
                <a:chOff x="2203920" y="2595240"/>
                <a:chExt cx="6401520" cy="17740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259000" y="2595240"/>
                  <a:ext cx="6291720" cy="17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No existe una norma que regule los requisitos formales y procedimentales que han de cumplir las solicitudes de consultas, exigiéndose la descripción con exactitud y ajustándose a la realidad de los hechos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as contestaciones a las consultas responden siempre a una estructura – tipo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as consultas se presentan en modelos standard existentes.  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03920" y="2595240"/>
                  <a:ext cx="6401520" cy="17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4" name=""/>
            <p:cNvSpPr/>
            <p:nvPr/>
          </p:nvSpPr>
          <p:spPr>
            <a:xfrm>
              <a:off x="1143000" y="2590920"/>
              <a:ext cx="7467120" cy="17838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imes New Roman"/>
              </a:rPr>
              <a:t>CUADROII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REQUISITOS FORMALES DE LA PRESENTACIÓN DE CONSULTA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403280" y="2065320"/>
            <a:ext cx="6902280" cy="3877920"/>
            <a:chOff x="1403280" y="2065320"/>
            <a:chExt cx="6902280" cy="3877920"/>
          </a:xfrm>
        </p:grpSpPr>
        <p:grpSp>
          <p:nvGrpSpPr>
            <p:cNvPr id="407" name=""/>
            <p:cNvGrpSpPr/>
            <p:nvPr/>
          </p:nvGrpSpPr>
          <p:grpSpPr>
            <a:xfrm>
              <a:off x="1406880" y="2071440"/>
              <a:ext cx="6894360" cy="3864960"/>
              <a:chOff x="1406880" y="2071440"/>
              <a:chExt cx="6894360" cy="386496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1406880" y="2071440"/>
                <a:ext cx="976680" cy="3864960"/>
                <a:chOff x="1406880" y="2071440"/>
                <a:chExt cx="976680" cy="38649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1457280" y="2071440"/>
                  <a:ext cx="875520" cy="38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USA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406880" y="2071440"/>
                  <a:ext cx="976680" cy="386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2383920" y="2071440"/>
                <a:ext cx="5917320" cy="3864960"/>
                <a:chOff x="2383920" y="2071440"/>
                <a:chExt cx="5917320" cy="38649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2434680" y="2071440"/>
                  <a:ext cx="5815800" cy="38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l procedimiento para la tramitación y resolución de las solicitudes de letter rulings se encuentra reglado en el Revenue Procedure (97-4), que especifica también  cuales son los datos que deben aportar quienes soliciten una letter rulings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Toda solicitud de letter ruling debe ir acompañada de una DDJJ en la que el solicitante afirma que ha examinado todos los documentos que presenta y que considera que los hechos descriptos son ciertos, correctos y completos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l solicitante de una letter ruling, tiene derecho a pedir en cualquier momento la colaboración de una reunión (conference) con un representante del IRS a fin de poder explicar los pormenores de la operación en consulta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Se puede pedir que la solicitud sea tramitada y resuelta con carácter urgente (expeditions handling)  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383920" y="2071440"/>
                  <a:ext cx="5917320" cy="386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4" name=""/>
            <p:cNvSpPr/>
            <p:nvPr/>
          </p:nvSpPr>
          <p:spPr>
            <a:xfrm>
              <a:off x="1403280" y="2065320"/>
              <a:ext cx="6902280" cy="38779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imes New Roman"/>
              </a:rPr>
              <a:t>CUADROII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REQUISITOS FORMALES DE LA PRESENTACIÓN DE CONSULTA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066680" y="1371600"/>
            <a:ext cx="7772040" cy="5257440"/>
            <a:chOff x="1066680" y="1371600"/>
            <a:chExt cx="7772040" cy="5257440"/>
          </a:xfrm>
        </p:grpSpPr>
        <p:grpSp>
          <p:nvGrpSpPr>
            <p:cNvPr id="417" name=""/>
            <p:cNvGrpSpPr/>
            <p:nvPr/>
          </p:nvGrpSpPr>
          <p:grpSpPr>
            <a:xfrm>
              <a:off x="1070640" y="1376640"/>
              <a:ext cx="7762680" cy="5246640"/>
              <a:chOff x="1070640" y="1376640"/>
              <a:chExt cx="7762680" cy="524664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1070640" y="1376640"/>
                <a:ext cx="1099440" cy="1149840"/>
                <a:chOff x="1070640" y="1376640"/>
                <a:chExt cx="1099440" cy="11498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127520" y="1376640"/>
                  <a:ext cx="985320" cy="114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Canadá 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070640" y="1376640"/>
                  <a:ext cx="1099440" cy="114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2170440" y="1376640"/>
                <a:ext cx="6662880" cy="1149840"/>
                <a:chOff x="2170440" y="1376640"/>
                <a:chExt cx="6662880" cy="11498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227680" y="1376640"/>
                  <a:ext cx="6548400" cy="114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a normativa establece los requisitos que deben cumplir las presentaciones del escrito de consulta (tasa para la obtención del ruling $481,60) 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170440" y="1376640"/>
                  <a:ext cx="6662880" cy="114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070640" y="2526840"/>
                <a:ext cx="1099440" cy="935280"/>
                <a:chOff x="1070640" y="2526840"/>
                <a:chExt cx="1099440" cy="935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127520" y="2526840"/>
                  <a:ext cx="985320" cy="93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Australia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070640" y="2526840"/>
                  <a:ext cx="1099440" cy="93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170440" y="2526840"/>
                <a:ext cx="6662880" cy="935280"/>
                <a:chOff x="2170440" y="2526840"/>
                <a:chExt cx="6662880" cy="9352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227680" y="2526840"/>
                  <a:ext cx="6548400" cy="93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Se establece en forma expresa los requisitos y formalidades de las consultas. 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170440" y="2526840"/>
                  <a:ext cx="6662880" cy="93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1070640" y="3462480"/>
                <a:ext cx="1099440" cy="1794960"/>
                <a:chOff x="1070640" y="3462480"/>
                <a:chExt cx="1099440" cy="17949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127520" y="3462480"/>
                  <a:ext cx="985320" cy="179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Italia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070640" y="3462480"/>
                  <a:ext cx="1099440" cy="179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2170440" y="3462480"/>
                <a:ext cx="6662880" cy="1794960"/>
                <a:chOff x="2170440" y="3462480"/>
                <a:chExt cx="6662880" cy="17949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227680" y="3462480"/>
                  <a:ext cx="6548400" cy="179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xiste una doble instancia para la tramitación y resolución de las consultas tributarias: una, ante el Ministerio de Finanzas. De no obtenerse respuesta dentro de los 60 días o de obtenerse una respuesta que no sea aceptada por el contribuyente, se podrá presentar ante el Comité Consultivo para la aplicación de normas antielusión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Se establece expresamente los datos y requisitos a ser presentados.  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170440" y="3462480"/>
                  <a:ext cx="6662880" cy="179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1070640" y="5258160"/>
                <a:ext cx="1099440" cy="1365120"/>
                <a:chOff x="1070640" y="5258160"/>
                <a:chExt cx="1099440" cy="1365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1127520" y="5258160"/>
                  <a:ext cx="985320" cy="13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Suecia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070640" y="5258160"/>
                  <a:ext cx="1099440" cy="13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170440" y="5258160"/>
                <a:ext cx="6662880" cy="1365120"/>
                <a:chOff x="2170440" y="5258160"/>
                <a:chExt cx="6662880" cy="1365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227680" y="5258160"/>
                  <a:ext cx="6548400" cy="13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Órgano encargado es el National Council for Advance Tax Rulings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a mayoría de las consultas no son admitidas por referirse a cuestiones que no puede tratar el consejo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170440" y="5258160"/>
                  <a:ext cx="6662880" cy="13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" name=""/>
            <p:cNvSpPr/>
            <p:nvPr/>
          </p:nvSpPr>
          <p:spPr>
            <a:xfrm>
              <a:off x="1066680" y="1371600"/>
              <a:ext cx="7772040" cy="52574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imes New Roman"/>
              </a:rPr>
              <a:t>CUADRO IV</a:t>
            </a:r>
            <a:br>
              <a:rPr sz="2800"/>
            </a:br>
            <a:r>
              <a:rPr b="0" lang="es-AR" sz="2400" spc="-1" strike="noStrike">
                <a:solidFill>
                  <a:srgbClr val="003366"/>
                </a:solidFill>
                <a:latin typeface="Times New Roman"/>
              </a:rPr>
              <a:t>POSIBILIDAD DE INTERPONER RECURSOS CONTRA LAS CONTESTACIONES A LAS CONSULTAS TRIBUTARIA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838080" y="1143000"/>
            <a:ext cx="8000640" cy="5638320"/>
            <a:chOff x="838080" y="1143000"/>
            <a:chExt cx="8000640" cy="5638320"/>
          </a:xfrm>
        </p:grpSpPr>
        <p:grpSp>
          <p:nvGrpSpPr>
            <p:cNvPr id="445" name=""/>
            <p:cNvGrpSpPr/>
            <p:nvPr/>
          </p:nvGrpSpPr>
          <p:grpSpPr>
            <a:xfrm>
              <a:off x="842040" y="1146960"/>
              <a:ext cx="7991640" cy="5629680"/>
              <a:chOff x="842040" y="1146960"/>
              <a:chExt cx="7991640" cy="562968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842040" y="1146960"/>
                <a:ext cx="2625480" cy="1501200"/>
                <a:chOff x="842040" y="1146960"/>
                <a:chExt cx="2625480" cy="15012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898920" y="1146960"/>
                  <a:ext cx="2511360" cy="15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Paíse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42040" y="1146960"/>
                  <a:ext cx="2625480" cy="15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3467880" y="1146960"/>
                <a:ext cx="2739960" cy="749880"/>
                <a:chOff x="3467880" y="1146960"/>
                <a:chExt cx="2739960" cy="7498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525120" y="1146960"/>
                  <a:ext cx="262548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Recurso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467880" y="1146960"/>
                  <a:ext cx="27399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6208200" y="1146960"/>
                <a:ext cx="2625480" cy="1501200"/>
                <a:chOff x="6208200" y="1146960"/>
                <a:chExt cx="2625480" cy="15012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265440" y="1146960"/>
                  <a:ext cx="2511000" cy="15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bservacione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208200" y="1146960"/>
                  <a:ext cx="2625480" cy="15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467880" y="1897200"/>
                <a:ext cx="1369800" cy="750600"/>
                <a:chOff x="3467880" y="1897200"/>
                <a:chExt cx="1369800" cy="7506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525120" y="1897200"/>
                  <a:ext cx="125496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SI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467880" y="1897200"/>
                  <a:ext cx="1369800" cy="75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838400" y="1897200"/>
                <a:ext cx="1369440" cy="750600"/>
                <a:chOff x="4838400" y="1897200"/>
                <a:chExt cx="1369440" cy="7506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895280" y="1897200"/>
                  <a:ext cx="125532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NO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838400" y="1897200"/>
                  <a:ext cx="1369440" cy="75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842040" y="2648520"/>
                <a:ext cx="2625480" cy="4128120"/>
                <a:chOff x="842040" y="2648520"/>
                <a:chExt cx="2625480" cy="41281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98920" y="2648520"/>
                  <a:ext cx="2511360" cy="412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-</a:t>
                  </a:r>
                  <a:r>
                    <a:rPr b="0" lang="es-AR" sz="9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  </a:t>
                  </a: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USA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-</a:t>
                  </a:r>
                  <a:r>
                    <a:rPr b="0" lang="es-AR" sz="9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  </a:t>
                  </a: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CANADA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-</a:t>
                  </a:r>
                  <a:r>
                    <a:rPr b="0" lang="es-AR" sz="9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  </a:t>
                  </a: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NUEVA ZELANDA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-</a:t>
                  </a:r>
                  <a:r>
                    <a:rPr b="0" lang="es-AR" sz="9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  </a:t>
                  </a: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AUSTRALIA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-</a:t>
                  </a:r>
                  <a:r>
                    <a:rPr b="0" lang="es-AR" sz="9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  </a:t>
                  </a: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HOLANDA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42040" y="2648520"/>
                  <a:ext cx="2625480" cy="412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3467880" y="2648520"/>
                <a:ext cx="1369800" cy="4128120"/>
                <a:chOff x="3467880" y="2648520"/>
                <a:chExt cx="1369800" cy="41281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3525120" y="2648520"/>
                  <a:ext cx="1254960" cy="412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467880" y="2648520"/>
                  <a:ext cx="1369800" cy="412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838400" y="2648520"/>
                <a:ext cx="1369440" cy="4128120"/>
                <a:chOff x="4838400" y="2648520"/>
                <a:chExt cx="1369440" cy="41281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4895280" y="2648520"/>
                  <a:ext cx="1255320" cy="412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838400" y="2648520"/>
                  <a:ext cx="1369440" cy="412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208200" y="2648520"/>
                <a:ext cx="2625480" cy="4128120"/>
                <a:chOff x="6208200" y="2648520"/>
                <a:chExt cx="2625480" cy="41281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265440" y="2648520"/>
                  <a:ext cx="2511000" cy="412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l sujeto que discrepe sólo puede recurrir contra el acto de liquidación que se basa en la contestación.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Idem.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s posible recurrir en forma administrativa o judicial.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4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Tal posibilidad no deriva de un derecho específicamente reconocido al efecto, sino del correspondiente derecho general a recurrir ante los tribunales de justicia.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208200" y="2648520"/>
                  <a:ext cx="2625480" cy="412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3" name=""/>
            <p:cNvSpPr/>
            <p:nvPr/>
          </p:nvSpPr>
          <p:spPr>
            <a:xfrm>
              <a:off x="838080" y="1143000"/>
              <a:ext cx="8000640" cy="56383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imes New Roman"/>
              </a:rPr>
              <a:t>APENDICE 4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ADVANCED RULLING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85800" y="1066680"/>
            <a:ext cx="8381520" cy="5636880"/>
            <a:chOff x="685800" y="1066680"/>
            <a:chExt cx="8381520" cy="5636880"/>
          </a:xfrm>
        </p:grpSpPr>
        <p:grpSp>
          <p:nvGrpSpPr>
            <p:cNvPr id="476" name=""/>
            <p:cNvGrpSpPr/>
            <p:nvPr/>
          </p:nvGrpSpPr>
          <p:grpSpPr>
            <a:xfrm>
              <a:off x="685800" y="1066680"/>
              <a:ext cx="1191960" cy="352440"/>
              <a:chOff x="685800" y="1066680"/>
              <a:chExt cx="1191960" cy="352440"/>
            </a:xfrm>
          </p:grpSpPr>
          <p:sp>
            <p:nvSpPr>
              <p:cNvPr id="477" name=""/>
              <p:cNvSpPr/>
              <p:nvPr/>
            </p:nvSpPr>
            <p:spPr>
              <a:xfrm>
                <a:off x="744480" y="1066680"/>
                <a:ext cx="107424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Concept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5800" y="1066680"/>
                <a:ext cx="119196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1878120" y="1066680"/>
              <a:ext cx="1066320" cy="352440"/>
              <a:chOff x="1878120" y="1066680"/>
              <a:chExt cx="1066320" cy="352440"/>
            </a:xfrm>
          </p:grpSpPr>
          <p:sp>
            <p:nvSpPr>
              <p:cNvPr id="480" name=""/>
              <p:cNvSpPr/>
              <p:nvPr/>
            </p:nvSpPr>
            <p:spPr>
              <a:xfrm>
                <a:off x="1926000" y="1066680"/>
                <a:ext cx="97020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Suecia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78120" y="1066680"/>
                <a:ext cx="106632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944800" y="1066680"/>
              <a:ext cx="1068120" cy="352440"/>
              <a:chOff x="2944800" y="1066680"/>
              <a:chExt cx="1068120" cy="352440"/>
            </a:xfrm>
          </p:grpSpPr>
          <p:sp>
            <p:nvSpPr>
              <p:cNvPr id="483" name=""/>
              <p:cNvSpPr/>
              <p:nvPr/>
            </p:nvSpPr>
            <p:spPr>
              <a:xfrm>
                <a:off x="2992320" y="1066680"/>
                <a:ext cx="9727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Países Bajo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944800" y="1066680"/>
                <a:ext cx="106812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4013280" y="1066680"/>
              <a:ext cx="1163160" cy="352440"/>
              <a:chOff x="4013280" y="1066680"/>
              <a:chExt cx="1163160" cy="352440"/>
            </a:xfrm>
          </p:grpSpPr>
          <p:sp>
            <p:nvSpPr>
              <p:cNvPr id="486" name=""/>
              <p:cNvSpPr/>
              <p:nvPr/>
            </p:nvSpPr>
            <p:spPr>
              <a:xfrm>
                <a:off x="4060800" y="1066680"/>
                <a:ext cx="106740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Francia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013280" y="1066680"/>
                <a:ext cx="116316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5176800" y="1066680"/>
              <a:ext cx="969480" cy="352440"/>
              <a:chOff x="5176800" y="1066680"/>
              <a:chExt cx="969480" cy="352440"/>
            </a:xfrm>
          </p:grpSpPr>
          <p:sp>
            <p:nvSpPr>
              <p:cNvPr id="489" name=""/>
              <p:cNvSpPr/>
              <p:nvPr/>
            </p:nvSpPr>
            <p:spPr>
              <a:xfrm>
                <a:off x="5224320" y="1066680"/>
                <a:ext cx="8737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Alemania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176800" y="1066680"/>
                <a:ext cx="96948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6146640" y="1066680"/>
              <a:ext cx="971280" cy="352440"/>
              <a:chOff x="6146640" y="1066680"/>
              <a:chExt cx="971280" cy="352440"/>
            </a:xfrm>
          </p:grpSpPr>
          <p:sp>
            <p:nvSpPr>
              <p:cNvPr id="492" name=""/>
              <p:cNvSpPr/>
              <p:nvPr/>
            </p:nvSpPr>
            <p:spPr>
              <a:xfrm>
                <a:off x="6194520" y="1066680"/>
                <a:ext cx="8755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USA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46640" y="1066680"/>
                <a:ext cx="97128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7118280" y="1066680"/>
              <a:ext cx="966600" cy="352440"/>
              <a:chOff x="7118280" y="1066680"/>
              <a:chExt cx="966600" cy="352440"/>
            </a:xfrm>
          </p:grpSpPr>
          <p:sp>
            <p:nvSpPr>
              <p:cNvPr id="495" name=""/>
              <p:cNvSpPr/>
              <p:nvPr/>
            </p:nvSpPr>
            <p:spPr>
              <a:xfrm>
                <a:off x="7166160" y="1066680"/>
                <a:ext cx="87120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Brasil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118280" y="1066680"/>
                <a:ext cx="96660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8085240" y="1066680"/>
              <a:ext cx="982080" cy="352440"/>
              <a:chOff x="8085240" y="1066680"/>
              <a:chExt cx="982080" cy="352440"/>
            </a:xfrm>
          </p:grpSpPr>
          <p:sp>
            <p:nvSpPr>
              <p:cNvPr id="498" name=""/>
              <p:cNvSpPr/>
              <p:nvPr/>
            </p:nvSpPr>
            <p:spPr>
              <a:xfrm>
                <a:off x="8133120" y="1066680"/>
                <a:ext cx="8863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Chile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085240" y="1066680"/>
                <a:ext cx="98208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685800" y="1419120"/>
              <a:ext cx="1191960" cy="634320"/>
              <a:chOff x="685800" y="1419120"/>
              <a:chExt cx="1191960" cy="634320"/>
            </a:xfrm>
          </p:grpSpPr>
          <p:sp>
            <p:nvSpPr>
              <p:cNvPr id="501" name=""/>
              <p:cNvSpPr/>
              <p:nvPr/>
            </p:nvSpPr>
            <p:spPr>
              <a:xfrm>
                <a:off x="744480" y="1419120"/>
                <a:ext cx="107424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1. Organismo emisor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85800" y="1419120"/>
                <a:ext cx="119196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1878120" y="1419120"/>
              <a:ext cx="1066320" cy="634320"/>
              <a:chOff x="1878120" y="1419120"/>
              <a:chExt cx="1066320" cy="634320"/>
            </a:xfrm>
          </p:grpSpPr>
          <p:sp>
            <p:nvSpPr>
              <p:cNvPr id="504" name=""/>
              <p:cNvSpPr/>
              <p:nvPr/>
            </p:nvSpPr>
            <p:spPr>
              <a:xfrm>
                <a:off x="1926000" y="1419120"/>
                <a:ext cx="97020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El Consejo de Resoluciones previas de impuesto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78120" y="1419120"/>
                <a:ext cx="106632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944800" y="1419120"/>
              <a:ext cx="1068120" cy="634320"/>
              <a:chOff x="2944800" y="1419120"/>
              <a:chExt cx="1068120" cy="634320"/>
            </a:xfrm>
          </p:grpSpPr>
          <p:sp>
            <p:nvSpPr>
              <p:cNvPr id="507" name=""/>
              <p:cNvSpPr/>
              <p:nvPr/>
            </p:nvSpPr>
            <p:spPr>
              <a:xfrm>
                <a:off x="2992320" y="1419120"/>
                <a:ext cx="97272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Organismo competente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44800" y="1419120"/>
                <a:ext cx="106812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4013280" y="1419120"/>
              <a:ext cx="1163160" cy="634320"/>
              <a:chOff x="4013280" y="1419120"/>
              <a:chExt cx="1163160" cy="634320"/>
            </a:xfrm>
          </p:grpSpPr>
          <p:sp>
            <p:nvSpPr>
              <p:cNvPr id="510" name=""/>
              <p:cNvSpPr/>
              <p:nvPr/>
            </p:nvSpPr>
            <p:spPr>
              <a:xfrm>
                <a:off x="4060800" y="1419120"/>
                <a:ext cx="106740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Organismo local o administración central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013280" y="1419120"/>
                <a:ext cx="116316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176800" y="1419120"/>
              <a:ext cx="969480" cy="634320"/>
              <a:chOff x="5176800" y="1419120"/>
              <a:chExt cx="969480" cy="634320"/>
            </a:xfrm>
          </p:grpSpPr>
          <p:sp>
            <p:nvSpPr>
              <p:cNvPr id="513" name=""/>
              <p:cNvSpPr/>
              <p:nvPr/>
            </p:nvSpPr>
            <p:spPr>
              <a:xfrm>
                <a:off x="5224320" y="1419120"/>
                <a:ext cx="87372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Organismo Competente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176800" y="1419120"/>
                <a:ext cx="96948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146640" y="1419120"/>
              <a:ext cx="971280" cy="634320"/>
              <a:chOff x="6146640" y="1419120"/>
              <a:chExt cx="971280" cy="634320"/>
            </a:xfrm>
          </p:grpSpPr>
          <p:sp>
            <p:nvSpPr>
              <p:cNvPr id="516" name=""/>
              <p:cNvSpPr/>
              <p:nvPr/>
            </p:nvSpPr>
            <p:spPr>
              <a:xfrm>
                <a:off x="6194520" y="1419120"/>
                <a:ext cx="87552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Organismo competente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146640" y="1419120"/>
                <a:ext cx="97128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118280" y="1419120"/>
              <a:ext cx="966600" cy="634320"/>
              <a:chOff x="7118280" y="1419120"/>
              <a:chExt cx="966600" cy="634320"/>
            </a:xfrm>
          </p:grpSpPr>
          <p:sp>
            <p:nvSpPr>
              <p:cNvPr id="519" name=""/>
              <p:cNvSpPr/>
              <p:nvPr/>
            </p:nvSpPr>
            <p:spPr>
              <a:xfrm>
                <a:off x="7166160" y="1419120"/>
                <a:ext cx="87120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Organismo competente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8280" y="1419120"/>
                <a:ext cx="96660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8085240" y="1419120"/>
              <a:ext cx="982080" cy="634320"/>
              <a:chOff x="8085240" y="1419120"/>
              <a:chExt cx="982080" cy="634320"/>
            </a:xfrm>
          </p:grpSpPr>
          <p:sp>
            <p:nvSpPr>
              <p:cNvPr id="522" name=""/>
              <p:cNvSpPr/>
              <p:nvPr/>
            </p:nvSpPr>
            <p:spPr>
              <a:xfrm>
                <a:off x="8133120" y="1419120"/>
                <a:ext cx="88632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Organismo competente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085240" y="1419120"/>
                <a:ext cx="98208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85800" y="2053440"/>
              <a:ext cx="1191960" cy="563040"/>
              <a:chOff x="685800" y="2053440"/>
              <a:chExt cx="1191960" cy="563040"/>
            </a:xfrm>
          </p:grpSpPr>
          <p:sp>
            <p:nvSpPr>
              <p:cNvPr id="525" name=""/>
              <p:cNvSpPr/>
              <p:nvPr/>
            </p:nvSpPr>
            <p:spPr>
              <a:xfrm>
                <a:off x="744480" y="2053440"/>
                <a:ext cx="107424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2. Derecho de obtener un A.R.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5800" y="2053440"/>
                <a:ext cx="1191960" cy="563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1878120" y="2053440"/>
              <a:ext cx="1066320" cy="563040"/>
              <a:chOff x="1878120" y="2053440"/>
              <a:chExt cx="1066320" cy="563040"/>
            </a:xfrm>
          </p:grpSpPr>
          <p:sp>
            <p:nvSpPr>
              <p:cNvPr id="528" name=""/>
              <p:cNvSpPr/>
              <p:nvPr/>
            </p:nvSpPr>
            <p:spPr>
              <a:xfrm>
                <a:off x="1926000" y="2053440"/>
                <a:ext cx="9702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ólo en cientos caso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78120" y="2053440"/>
                <a:ext cx="1066320" cy="563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2944800" y="2053440"/>
              <a:ext cx="1068120" cy="563040"/>
              <a:chOff x="2944800" y="2053440"/>
              <a:chExt cx="1068120" cy="563040"/>
            </a:xfrm>
          </p:grpSpPr>
          <p:sp>
            <p:nvSpPr>
              <p:cNvPr id="531" name=""/>
              <p:cNvSpPr/>
              <p:nvPr/>
            </p:nvSpPr>
            <p:spPr>
              <a:xfrm>
                <a:off x="2992320" y="2053440"/>
                <a:ext cx="97272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Existen excepcione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944800" y="2053440"/>
                <a:ext cx="1068120" cy="563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4013280" y="2053440"/>
              <a:ext cx="1163160" cy="563040"/>
              <a:chOff x="4013280" y="2053440"/>
              <a:chExt cx="1163160" cy="563040"/>
            </a:xfrm>
          </p:grpSpPr>
          <p:sp>
            <p:nvSpPr>
              <p:cNvPr id="534" name=""/>
              <p:cNvSpPr/>
              <p:nvPr/>
            </p:nvSpPr>
            <p:spPr>
              <a:xfrm>
                <a:off x="4060800" y="2053440"/>
                <a:ext cx="10674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ólo en ciertos caso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13280" y="2053440"/>
                <a:ext cx="1163160" cy="563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5176800" y="2053440"/>
              <a:ext cx="969480" cy="563040"/>
              <a:chOff x="5176800" y="2053440"/>
              <a:chExt cx="969480" cy="563040"/>
            </a:xfrm>
          </p:grpSpPr>
          <p:sp>
            <p:nvSpPr>
              <p:cNvPr id="537" name=""/>
              <p:cNvSpPr/>
              <p:nvPr/>
            </p:nvSpPr>
            <p:spPr>
              <a:xfrm>
                <a:off x="5224320" y="2053440"/>
                <a:ext cx="87372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ólo en ciertos caso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176800" y="2053440"/>
                <a:ext cx="969480" cy="563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6146640" y="2053440"/>
              <a:ext cx="971280" cy="563040"/>
              <a:chOff x="6146640" y="2053440"/>
              <a:chExt cx="971280" cy="563040"/>
            </a:xfrm>
          </p:grpSpPr>
          <p:sp>
            <p:nvSpPr>
              <p:cNvPr id="540" name=""/>
              <p:cNvSpPr/>
              <p:nvPr/>
            </p:nvSpPr>
            <p:spPr>
              <a:xfrm>
                <a:off x="6194520" y="2053440"/>
                <a:ext cx="87552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ólo en ciertos caso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146640" y="2053440"/>
                <a:ext cx="971280" cy="563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7118280" y="2053440"/>
              <a:ext cx="966600" cy="563040"/>
              <a:chOff x="7118280" y="2053440"/>
              <a:chExt cx="966600" cy="563040"/>
            </a:xfrm>
          </p:grpSpPr>
          <p:sp>
            <p:nvSpPr>
              <p:cNvPr id="543" name=""/>
              <p:cNvSpPr/>
              <p:nvPr/>
            </p:nvSpPr>
            <p:spPr>
              <a:xfrm>
                <a:off x="7166160" y="2053440"/>
                <a:ext cx="8712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ólo en ciertos caso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18280" y="2053440"/>
                <a:ext cx="966600" cy="563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8085240" y="2053440"/>
              <a:ext cx="982080" cy="563040"/>
              <a:chOff x="8085240" y="2053440"/>
              <a:chExt cx="982080" cy="563040"/>
            </a:xfrm>
          </p:grpSpPr>
          <p:sp>
            <p:nvSpPr>
              <p:cNvPr id="546" name=""/>
              <p:cNvSpPr/>
              <p:nvPr/>
            </p:nvSpPr>
            <p:spPr>
              <a:xfrm>
                <a:off x="8133120" y="2053440"/>
                <a:ext cx="88632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085240" y="2053440"/>
                <a:ext cx="982080" cy="563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685800" y="2616840"/>
              <a:ext cx="1191960" cy="492120"/>
              <a:chOff x="685800" y="2616840"/>
              <a:chExt cx="1191960" cy="492120"/>
            </a:xfrm>
          </p:grpSpPr>
          <p:sp>
            <p:nvSpPr>
              <p:cNvPr id="549" name=""/>
              <p:cNvSpPr/>
              <p:nvPr/>
            </p:nvSpPr>
            <p:spPr>
              <a:xfrm>
                <a:off x="744480" y="2616840"/>
                <a:ext cx="107424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2. Derecho de apelación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5800" y="2616840"/>
                <a:ext cx="119196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1878120" y="2616840"/>
              <a:ext cx="1066320" cy="492120"/>
              <a:chOff x="1878120" y="2616840"/>
              <a:chExt cx="1066320" cy="492120"/>
            </a:xfrm>
          </p:grpSpPr>
          <p:sp>
            <p:nvSpPr>
              <p:cNvPr id="552" name=""/>
              <p:cNvSpPr/>
              <p:nvPr/>
            </p:nvSpPr>
            <p:spPr>
              <a:xfrm>
                <a:off x="1926000" y="2616840"/>
                <a:ext cx="970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78120" y="2616840"/>
                <a:ext cx="106632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944800" y="2616840"/>
              <a:ext cx="1068120" cy="492120"/>
              <a:chOff x="2944800" y="2616840"/>
              <a:chExt cx="1068120" cy="492120"/>
            </a:xfrm>
          </p:grpSpPr>
          <p:sp>
            <p:nvSpPr>
              <p:cNvPr id="555" name=""/>
              <p:cNvSpPr/>
              <p:nvPr/>
            </p:nvSpPr>
            <p:spPr>
              <a:xfrm>
                <a:off x="2992320" y="2616840"/>
                <a:ext cx="9727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944800" y="2616840"/>
                <a:ext cx="106812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013280" y="2616840"/>
              <a:ext cx="1163160" cy="492120"/>
              <a:chOff x="4013280" y="2616840"/>
              <a:chExt cx="1163160" cy="492120"/>
            </a:xfrm>
          </p:grpSpPr>
          <p:sp>
            <p:nvSpPr>
              <p:cNvPr id="558" name=""/>
              <p:cNvSpPr/>
              <p:nvPr/>
            </p:nvSpPr>
            <p:spPr>
              <a:xfrm>
                <a:off x="4060800" y="2616840"/>
                <a:ext cx="10674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13280" y="2616840"/>
                <a:ext cx="116316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5176800" y="2616840"/>
              <a:ext cx="969480" cy="492120"/>
              <a:chOff x="5176800" y="2616840"/>
              <a:chExt cx="969480" cy="492120"/>
            </a:xfrm>
          </p:grpSpPr>
          <p:sp>
            <p:nvSpPr>
              <p:cNvPr id="561" name=""/>
              <p:cNvSpPr/>
              <p:nvPr/>
            </p:nvSpPr>
            <p:spPr>
              <a:xfrm>
                <a:off x="5224320" y="2616840"/>
                <a:ext cx="8737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176800" y="2616840"/>
                <a:ext cx="9694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146640" y="2616840"/>
              <a:ext cx="971280" cy="492120"/>
              <a:chOff x="6146640" y="2616840"/>
              <a:chExt cx="971280" cy="492120"/>
            </a:xfrm>
          </p:grpSpPr>
          <p:sp>
            <p:nvSpPr>
              <p:cNvPr id="564" name=""/>
              <p:cNvSpPr/>
              <p:nvPr/>
            </p:nvSpPr>
            <p:spPr>
              <a:xfrm>
                <a:off x="6194520" y="2616840"/>
                <a:ext cx="8755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146640" y="2616840"/>
                <a:ext cx="9712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7118280" y="2616840"/>
              <a:ext cx="966600" cy="492120"/>
              <a:chOff x="7118280" y="2616840"/>
              <a:chExt cx="966600" cy="492120"/>
            </a:xfrm>
          </p:grpSpPr>
          <p:sp>
            <p:nvSpPr>
              <p:cNvPr id="567" name=""/>
              <p:cNvSpPr/>
              <p:nvPr/>
            </p:nvSpPr>
            <p:spPr>
              <a:xfrm>
                <a:off x="7166160" y="2616840"/>
                <a:ext cx="871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118280" y="2616840"/>
                <a:ext cx="96660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8085240" y="2616840"/>
              <a:ext cx="982080" cy="492120"/>
              <a:chOff x="8085240" y="2616840"/>
              <a:chExt cx="982080" cy="492120"/>
            </a:xfrm>
          </p:grpSpPr>
          <p:sp>
            <p:nvSpPr>
              <p:cNvPr id="570" name=""/>
              <p:cNvSpPr/>
              <p:nvPr/>
            </p:nvSpPr>
            <p:spPr>
              <a:xfrm>
                <a:off x="8133120" y="2616840"/>
                <a:ext cx="8863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085240" y="2616840"/>
                <a:ext cx="9820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85800" y="3109320"/>
              <a:ext cx="1191960" cy="634320"/>
              <a:chOff x="685800" y="3109320"/>
              <a:chExt cx="1191960" cy="634320"/>
            </a:xfrm>
          </p:grpSpPr>
          <p:sp>
            <p:nvSpPr>
              <p:cNvPr id="573" name=""/>
              <p:cNvSpPr/>
              <p:nvPr/>
            </p:nvSpPr>
            <p:spPr>
              <a:xfrm>
                <a:off x="744480" y="3109320"/>
                <a:ext cx="107424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3. Acuerdos previos de precios (APA)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85800" y="3109320"/>
                <a:ext cx="119196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1878120" y="3109320"/>
              <a:ext cx="1066320" cy="634320"/>
              <a:chOff x="1878120" y="3109320"/>
              <a:chExt cx="1066320" cy="634320"/>
            </a:xfrm>
          </p:grpSpPr>
          <p:sp>
            <p:nvSpPr>
              <p:cNvPr id="576" name=""/>
              <p:cNvSpPr/>
              <p:nvPr/>
            </p:nvSpPr>
            <p:spPr>
              <a:xfrm>
                <a:off x="1926000" y="3109320"/>
                <a:ext cx="97020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 existen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78120" y="3109320"/>
                <a:ext cx="106632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44800" y="3109320"/>
              <a:ext cx="1068120" cy="634320"/>
              <a:chOff x="2944800" y="3109320"/>
              <a:chExt cx="1068120" cy="634320"/>
            </a:xfrm>
          </p:grpSpPr>
          <p:sp>
            <p:nvSpPr>
              <p:cNvPr id="579" name=""/>
              <p:cNvSpPr/>
              <p:nvPr/>
            </p:nvSpPr>
            <p:spPr>
              <a:xfrm>
                <a:off x="2992320" y="3109320"/>
                <a:ext cx="97272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44800" y="3109320"/>
                <a:ext cx="106812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4013280" y="3109320"/>
              <a:ext cx="1163160" cy="634320"/>
              <a:chOff x="4013280" y="3109320"/>
              <a:chExt cx="1163160" cy="634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060800" y="3109320"/>
                <a:ext cx="106740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13280" y="3109320"/>
                <a:ext cx="116316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176800" y="3109320"/>
              <a:ext cx="969480" cy="634320"/>
              <a:chOff x="5176800" y="3109320"/>
              <a:chExt cx="969480" cy="634320"/>
            </a:xfrm>
          </p:grpSpPr>
          <p:sp>
            <p:nvSpPr>
              <p:cNvPr id="585" name=""/>
              <p:cNvSpPr/>
              <p:nvPr/>
            </p:nvSpPr>
            <p:spPr>
              <a:xfrm>
                <a:off x="5224320" y="3109320"/>
                <a:ext cx="87372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76800" y="3109320"/>
                <a:ext cx="96948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6146640" y="3109320"/>
              <a:ext cx="971280" cy="634320"/>
              <a:chOff x="6146640" y="3109320"/>
              <a:chExt cx="971280" cy="634320"/>
            </a:xfrm>
          </p:grpSpPr>
          <p:sp>
            <p:nvSpPr>
              <p:cNvPr id="588" name=""/>
              <p:cNvSpPr/>
              <p:nvPr/>
            </p:nvSpPr>
            <p:spPr>
              <a:xfrm>
                <a:off x="6194520" y="3109320"/>
                <a:ext cx="87552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46640" y="3109320"/>
                <a:ext cx="97128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7118280" y="3109320"/>
              <a:ext cx="966600" cy="634320"/>
              <a:chOff x="7118280" y="3109320"/>
              <a:chExt cx="966600" cy="634320"/>
            </a:xfrm>
          </p:grpSpPr>
          <p:sp>
            <p:nvSpPr>
              <p:cNvPr id="591" name=""/>
              <p:cNvSpPr/>
              <p:nvPr/>
            </p:nvSpPr>
            <p:spPr>
              <a:xfrm>
                <a:off x="7166160" y="3109320"/>
                <a:ext cx="87120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18280" y="3109320"/>
                <a:ext cx="96660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8085240" y="3109320"/>
              <a:ext cx="982080" cy="634320"/>
              <a:chOff x="8085240" y="3109320"/>
              <a:chExt cx="982080" cy="634320"/>
            </a:xfrm>
          </p:grpSpPr>
          <p:sp>
            <p:nvSpPr>
              <p:cNvPr id="594" name=""/>
              <p:cNvSpPr/>
              <p:nvPr/>
            </p:nvSpPr>
            <p:spPr>
              <a:xfrm>
                <a:off x="8133120" y="3109320"/>
                <a:ext cx="88632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085240" y="3109320"/>
                <a:ext cx="982080" cy="63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685800" y="3743640"/>
              <a:ext cx="1191960" cy="352440"/>
              <a:chOff x="685800" y="3743640"/>
              <a:chExt cx="1191960" cy="352440"/>
            </a:xfrm>
          </p:grpSpPr>
          <p:sp>
            <p:nvSpPr>
              <p:cNvPr id="597" name=""/>
              <p:cNvSpPr/>
              <p:nvPr/>
            </p:nvSpPr>
            <p:spPr>
              <a:xfrm>
                <a:off x="744480" y="3743640"/>
                <a:ext cx="107424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4. Período de validez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5800" y="3743640"/>
                <a:ext cx="119196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1878120" y="3743640"/>
              <a:ext cx="1066320" cy="352440"/>
              <a:chOff x="1878120" y="3743640"/>
              <a:chExt cx="1066320" cy="352440"/>
            </a:xfrm>
          </p:grpSpPr>
          <p:sp>
            <p:nvSpPr>
              <p:cNvPr id="600" name=""/>
              <p:cNvSpPr/>
              <p:nvPr/>
            </p:nvSpPr>
            <p:spPr>
              <a:xfrm>
                <a:off x="1926000" y="3743640"/>
                <a:ext cx="97020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 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878120" y="3743640"/>
                <a:ext cx="106632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944800" y="3743640"/>
              <a:ext cx="1068120" cy="352440"/>
              <a:chOff x="2944800" y="3743640"/>
              <a:chExt cx="1068120" cy="352440"/>
            </a:xfrm>
          </p:grpSpPr>
          <p:sp>
            <p:nvSpPr>
              <p:cNvPr id="603" name=""/>
              <p:cNvSpPr/>
              <p:nvPr/>
            </p:nvSpPr>
            <p:spPr>
              <a:xfrm>
                <a:off x="2992320" y="3743640"/>
                <a:ext cx="9727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944800" y="3743640"/>
                <a:ext cx="106812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4013280" y="3743640"/>
              <a:ext cx="1163160" cy="352440"/>
              <a:chOff x="4013280" y="3743640"/>
              <a:chExt cx="1163160" cy="352440"/>
            </a:xfrm>
          </p:grpSpPr>
          <p:sp>
            <p:nvSpPr>
              <p:cNvPr id="606" name=""/>
              <p:cNvSpPr/>
              <p:nvPr/>
            </p:nvSpPr>
            <p:spPr>
              <a:xfrm>
                <a:off x="4060800" y="3743640"/>
                <a:ext cx="106740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013280" y="3743640"/>
                <a:ext cx="116316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5176800" y="3743640"/>
              <a:ext cx="969480" cy="352440"/>
              <a:chOff x="5176800" y="3743640"/>
              <a:chExt cx="969480" cy="352440"/>
            </a:xfrm>
          </p:grpSpPr>
          <p:sp>
            <p:nvSpPr>
              <p:cNvPr id="609" name=""/>
              <p:cNvSpPr/>
              <p:nvPr/>
            </p:nvSpPr>
            <p:spPr>
              <a:xfrm>
                <a:off x="5224320" y="3743640"/>
                <a:ext cx="8737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76800" y="3743640"/>
                <a:ext cx="96948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6146640" y="3743640"/>
              <a:ext cx="971280" cy="352440"/>
              <a:chOff x="6146640" y="3743640"/>
              <a:chExt cx="971280" cy="352440"/>
            </a:xfrm>
          </p:grpSpPr>
          <p:sp>
            <p:nvSpPr>
              <p:cNvPr id="612" name=""/>
              <p:cNvSpPr/>
              <p:nvPr/>
            </p:nvSpPr>
            <p:spPr>
              <a:xfrm>
                <a:off x="6194520" y="3743640"/>
                <a:ext cx="8755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146640" y="3743640"/>
                <a:ext cx="97128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7118280" y="3743640"/>
              <a:ext cx="966600" cy="352440"/>
              <a:chOff x="7118280" y="3743640"/>
              <a:chExt cx="966600" cy="352440"/>
            </a:xfrm>
          </p:grpSpPr>
          <p:sp>
            <p:nvSpPr>
              <p:cNvPr id="615" name=""/>
              <p:cNvSpPr/>
              <p:nvPr/>
            </p:nvSpPr>
            <p:spPr>
              <a:xfrm>
                <a:off x="7166160" y="3743640"/>
                <a:ext cx="87120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118280" y="3743640"/>
                <a:ext cx="96660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8085240" y="3743640"/>
              <a:ext cx="982080" cy="352440"/>
              <a:chOff x="8085240" y="3743640"/>
              <a:chExt cx="982080" cy="352440"/>
            </a:xfrm>
          </p:grpSpPr>
          <p:sp>
            <p:nvSpPr>
              <p:cNvPr id="618" name=""/>
              <p:cNvSpPr/>
              <p:nvPr/>
            </p:nvSpPr>
            <p:spPr>
              <a:xfrm>
                <a:off x="8133120" y="3743640"/>
                <a:ext cx="8863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085240" y="3743640"/>
                <a:ext cx="982080" cy="35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85800" y="4096440"/>
              <a:ext cx="1191960" cy="775440"/>
              <a:chOff x="685800" y="4096440"/>
              <a:chExt cx="1191960" cy="775440"/>
            </a:xfrm>
          </p:grpSpPr>
          <p:sp>
            <p:nvSpPr>
              <p:cNvPr id="621" name=""/>
              <p:cNvSpPr/>
              <p:nvPr/>
            </p:nvSpPr>
            <p:spPr>
              <a:xfrm>
                <a:off x="744480" y="4096440"/>
                <a:ext cx="1074240" cy="77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5. A.R. Comprende solamente interpretaciones de la ley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85800" y="4096440"/>
                <a:ext cx="1191960" cy="775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1878120" y="4096440"/>
              <a:ext cx="1066320" cy="775440"/>
              <a:chOff x="1878120" y="4096440"/>
              <a:chExt cx="1066320" cy="775440"/>
            </a:xfrm>
          </p:grpSpPr>
          <p:sp>
            <p:nvSpPr>
              <p:cNvPr id="624" name=""/>
              <p:cNvSpPr/>
              <p:nvPr/>
            </p:nvSpPr>
            <p:spPr>
              <a:xfrm>
                <a:off x="1926000" y="4096440"/>
                <a:ext cx="970200" cy="77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878120" y="4096440"/>
                <a:ext cx="1066320" cy="775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2944800" y="4096440"/>
              <a:ext cx="1068120" cy="775440"/>
              <a:chOff x="2944800" y="4096440"/>
              <a:chExt cx="1068120" cy="775440"/>
            </a:xfrm>
          </p:grpSpPr>
          <p:sp>
            <p:nvSpPr>
              <p:cNvPr id="627" name=""/>
              <p:cNvSpPr/>
              <p:nvPr/>
            </p:nvSpPr>
            <p:spPr>
              <a:xfrm>
                <a:off x="2992320" y="4096440"/>
                <a:ext cx="972720" cy="77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.  Además comprende situaciones de hech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944800" y="4096440"/>
                <a:ext cx="1068120" cy="775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4013280" y="4096440"/>
              <a:ext cx="1163160" cy="775440"/>
              <a:chOff x="4013280" y="4096440"/>
              <a:chExt cx="1163160" cy="775440"/>
            </a:xfrm>
          </p:grpSpPr>
          <p:sp>
            <p:nvSpPr>
              <p:cNvPr id="630" name=""/>
              <p:cNvSpPr/>
              <p:nvPr/>
            </p:nvSpPr>
            <p:spPr>
              <a:xfrm>
                <a:off x="4060800" y="4096440"/>
                <a:ext cx="1067400" cy="77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.  Además comprende situaciones de hech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013280" y="4096440"/>
                <a:ext cx="1163160" cy="775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5176800" y="4096440"/>
              <a:ext cx="969480" cy="775440"/>
              <a:chOff x="5176800" y="4096440"/>
              <a:chExt cx="969480" cy="77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5224320" y="4096440"/>
                <a:ext cx="873720" cy="77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.  Además comprende situaciones de hech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76800" y="4096440"/>
                <a:ext cx="969480" cy="775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6146640" y="4096440"/>
              <a:ext cx="971280" cy="775440"/>
              <a:chOff x="6146640" y="4096440"/>
              <a:chExt cx="971280" cy="775440"/>
            </a:xfrm>
          </p:grpSpPr>
          <p:sp>
            <p:nvSpPr>
              <p:cNvPr id="636" name=""/>
              <p:cNvSpPr/>
              <p:nvPr/>
            </p:nvSpPr>
            <p:spPr>
              <a:xfrm>
                <a:off x="6194520" y="4096440"/>
                <a:ext cx="875520" cy="77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.  Además comprende situaciones de hech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46640" y="4096440"/>
                <a:ext cx="971280" cy="775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7118280" y="4096440"/>
              <a:ext cx="966600" cy="775440"/>
              <a:chOff x="7118280" y="4096440"/>
              <a:chExt cx="966600" cy="775440"/>
            </a:xfrm>
          </p:grpSpPr>
          <p:sp>
            <p:nvSpPr>
              <p:cNvPr id="639" name=""/>
              <p:cNvSpPr/>
              <p:nvPr/>
            </p:nvSpPr>
            <p:spPr>
              <a:xfrm>
                <a:off x="7166160" y="4096440"/>
                <a:ext cx="871200" cy="77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.  Además comprende situaciones de hech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18280" y="4096440"/>
                <a:ext cx="966600" cy="775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8085240" y="4096440"/>
              <a:ext cx="982080" cy="775440"/>
              <a:chOff x="8085240" y="4096440"/>
              <a:chExt cx="982080" cy="775440"/>
            </a:xfrm>
          </p:grpSpPr>
          <p:sp>
            <p:nvSpPr>
              <p:cNvPr id="642" name=""/>
              <p:cNvSpPr/>
              <p:nvPr/>
            </p:nvSpPr>
            <p:spPr>
              <a:xfrm>
                <a:off x="8133120" y="4096440"/>
                <a:ext cx="886320" cy="77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.  Además comprende situaciones de hech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085240" y="4096440"/>
                <a:ext cx="982080" cy="775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685800" y="4871880"/>
              <a:ext cx="1191960" cy="774000"/>
              <a:chOff x="685800" y="4871880"/>
              <a:chExt cx="1191960" cy="774000"/>
            </a:xfrm>
          </p:grpSpPr>
          <p:sp>
            <p:nvSpPr>
              <p:cNvPr id="645" name=""/>
              <p:cNvSpPr/>
              <p:nvPr/>
            </p:nvSpPr>
            <p:spPr>
              <a:xfrm>
                <a:off x="744480" y="4871880"/>
                <a:ext cx="1074240" cy="77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6. Puede A.R. tratar asuntos de tributación internacional?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5800" y="4871880"/>
                <a:ext cx="1191960" cy="77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878120" y="4871880"/>
              <a:ext cx="1066320" cy="774000"/>
              <a:chOff x="1878120" y="4871880"/>
              <a:chExt cx="1066320" cy="774000"/>
            </a:xfrm>
          </p:grpSpPr>
          <p:sp>
            <p:nvSpPr>
              <p:cNvPr id="648" name=""/>
              <p:cNvSpPr/>
              <p:nvPr/>
            </p:nvSpPr>
            <p:spPr>
              <a:xfrm>
                <a:off x="1926000" y="4871880"/>
                <a:ext cx="970200" cy="77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878120" y="4871880"/>
                <a:ext cx="1066320" cy="77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2944800" y="4871880"/>
              <a:ext cx="1068120" cy="774000"/>
              <a:chOff x="2944800" y="4871880"/>
              <a:chExt cx="1068120" cy="774000"/>
            </a:xfrm>
          </p:grpSpPr>
          <p:sp>
            <p:nvSpPr>
              <p:cNvPr id="651" name=""/>
              <p:cNvSpPr/>
              <p:nvPr/>
            </p:nvSpPr>
            <p:spPr>
              <a:xfrm>
                <a:off x="2992320" y="4871880"/>
                <a:ext cx="972720" cy="77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. 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44800" y="4871880"/>
                <a:ext cx="1068120" cy="77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4013280" y="4871880"/>
              <a:ext cx="1163160" cy="774000"/>
              <a:chOff x="4013280" y="4871880"/>
              <a:chExt cx="1163160" cy="774000"/>
            </a:xfrm>
          </p:grpSpPr>
          <p:sp>
            <p:nvSpPr>
              <p:cNvPr id="654" name=""/>
              <p:cNvSpPr/>
              <p:nvPr/>
            </p:nvSpPr>
            <p:spPr>
              <a:xfrm>
                <a:off x="4060800" y="4871880"/>
                <a:ext cx="1067400" cy="77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013280" y="4871880"/>
                <a:ext cx="1163160" cy="77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5176800" y="4871880"/>
              <a:ext cx="969480" cy="774000"/>
              <a:chOff x="5176800" y="4871880"/>
              <a:chExt cx="969480" cy="774000"/>
            </a:xfrm>
          </p:grpSpPr>
          <p:sp>
            <p:nvSpPr>
              <p:cNvPr id="657" name=""/>
              <p:cNvSpPr/>
              <p:nvPr/>
            </p:nvSpPr>
            <p:spPr>
              <a:xfrm>
                <a:off x="5224320" y="4871880"/>
                <a:ext cx="873720" cy="77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176800" y="4871880"/>
                <a:ext cx="969480" cy="77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146640" y="4871880"/>
              <a:ext cx="971280" cy="774000"/>
              <a:chOff x="6146640" y="4871880"/>
              <a:chExt cx="971280" cy="774000"/>
            </a:xfrm>
          </p:grpSpPr>
          <p:sp>
            <p:nvSpPr>
              <p:cNvPr id="660" name=""/>
              <p:cNvSpPr/>
              <p:nvPr/>
            </p:nvSpPr>
            <p:spPr>
              <a:xfrm>
                <a:off x="6194520" y="4871880"/>
                <a:ext cx="875520" cy="77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146640" y="4871880"/>
                <a:ext cx="971280" cy="77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7118280" y="4871880"/>
              <a:ext cx="966600" cy="774000"/>
              <a:chOff x="7118280" y="4871880"/>
              <a:chExt cx="966600" cy="774000"/>
            </a:xfrm>
          </p:grpSpPr>
          <p:sp>
            <p:nvSpPr>
              <p:cNvPr id="663" name=""/>
              <p:cNvSpPr/>
              <p:nvPr/>
            </p:nvSpPr>
            <p:spPr>
              <a:xfrm>
                <a:off x="7166160" y="4871880"/>
                <a:ext cx="871200" cy="77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118280" y="4871880"/>
                <a:ext cx="966600" cy="77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8085240" y="4871880"/>
              <a:ext cx="982080" cy="774000"/>
              <a:chOff x="8085240" y="4871880"/>
              <a:chExt cx="982080" cy="774000"/>
            </a:xfrm>
          </p:grpSpPr>
          <p:sp>
            <p:nvSpPr>
              <p:cNvPr id="666" name=""/>
              <p:cNvSpPr/>
              <p:nvPr/>
            </p:nvSpPr>
            <p:spPr>
              <a:xfrm>
                <a:off x="8133120" y="4871880"/>
                <a:ext cx="886320" cy="77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085240" y="4871880"/>
                <a:ext cx="982080" cy="774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685800" y="5646240"/>
              <a:ext cx="1191960" cy="564840"/>
              <a:chOff x="685800" y="5646240"/>
              <a:chExt cx="1191960" cy="564840"/>
            </a:xfrm>
          </p:grpSpPr>
          <p:sp>
            <p:nvSpPr>
              <p:cNvPr id="669" name=""/>
              <p:cNvSpPr/>
              <p:nvPr/>
            </p:nvSpPr>
            <p:spPr>
              <a:xfrm>
                <a:off x="744480" y="5646240"/>
                <a:ext cx="107424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7. Está limitadas a campos precisos? 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85800" y="5646240"/>
                <a:ext cx="1191960" cy="564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878120" y="5646240"/>
              <a:ext cx="1066320" cy="564840"/>
              <a:chOff x="1878120" y="5646240"/>
              <a:chExt cx="1066320" cy="564840"/>
            </a:xfrm>
          </p:grpSpPr>
          <p:sp>
            <p:nvSpPr>
              <p:cNvPr id="672" name=""/>
              <p:cNvSpPr/>
              <p:nvPr/>
            </p:nvSpPr>
            <p:spPr>
              <a:xfrm>
                <a:off x="1926000" y="5646240"/>
                <a:ext cx="97020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, no hay exclusione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878120" y="5646240"/>
                <a:ext cx="1066320" cy="564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2944800" y="5646240"/>
              <a:ext cx="1068120" cy="564840"/>
              <a:chOff x="2944800" y="5646240"/>
              <a:chExt cx="1068120" cy="564840"/>
            </a:xfrm>
          </p:grpSpPr>
          <p:sp>
            <p:nvSpPr>
              <p:cNvPr id="675" name=""/>
              <p:cNvSpPr/>
              <p:nvPr/>
            </p:nvSpPr>
            <p:spPr>
              <a:xfrm>
                <a:off x="2992320" y="5646240"/>
                <a:ext cx="97272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944800" y="5646240"/>
                <a:ext cx="1068120" cy="564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4013280" y="5646240"/>
              <a:ext cx="1163160" cy="564840"/>
              <a:chOff x="4013280" y="5646240"/>
              <a:chExt cx="1163160" cy="564840"/>
            </a:xfrm>
          </p:grpSpPr>
          <p:sp>
            <p:nvSpPr>
              <p:cNvPr id="678" name=""/>
              <p:cNvSpPr/>
              <p:nvPr/>
            </p:nvSpPr>
            <p:spPr>
              <a:xfrm>
                <a:off x="4060800" y="5646240"/>
                <a:ext cx="106740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13280" y="5646240"/>
                <a:ext cx="1163160" cy="564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5176800" y="5646240"/>
              <a:ext cx="969480" cy="564840"/>
              <a:chOff x="5176800" y="5646240"/>
              <a:chExt cx="969480" cy="564840"/>
            </a:xfrm>
          </p:grpSpPr>
          <p:sp>
            <p:nvSpPr>
              <p:cNvPr id="681" name=""/>
              <p:cNvSpPr/>
              <p:nvPr/>
            </p:nvSpPr>
            <p:spPr>
              <a:xfrm>
                <a:off x="5224320" y="5646240"/>
                <a:ext cx="87372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176800" y="5646240"/>
                <a:ext cx="969480" cy="564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6146640" y="5646240"/>
              <a:ext cx="971280" cy="564840"/>
              <a:chOff x="6146640" y="5646240"/>
              <a:chExt cx="971280" cy="564840"/>
            </a:xfrm>
          </p:grpSpPr>
          <p:sp>
            <p:nvSpPr>
              <p:cNvPr id="684" name=""/>
              <p:cNvSpPr/>
              <p:nvPr/>
            </p:nvSpPr>
            <p:spPr>
              <a:xfrm>
                <a:off x="6194520" y="5646240"/>
                <a:ext cx="87552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146640" y="5646240"/>
                <a:ext cx="971280" cy="564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7118280" y="5646240"/>
              <a:ext cx="966600" cy="564840"/>
              <a:chOff x="7118280" y="5646240"/>
              <a:chExt cx="966600" cy="564840"/>
            </a:xfrm>
          </p:grpSpPr>
          <p:sp>
            <p:nvSpPr>
              <p:cNvPr id="687" name=""/>
              <p:cNvSpPr/>
              <p:nvPr/>
            </p:nvSpPr>
            <p:spPr>
              <a:xfrm>
                <a:off x="7166160" y="5646240"/>
                <a:ext cx="87120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, no hay exclusione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118280" y="5646240"/>
                <a:ext cx="966600" cy="564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8085240" y="5646240"/>
              <a:ext cx="982080" cy="564840"/>
              <a:chOff x="8085240" y="5646240"/>
              <a:chExt cx="982080" cy="564840"/>
            </a:xfrm>
          </p:grpSpPr>
          <p:sp>
            <p:nvSpPr>
              <p:cNvPr id="690" name=""/>
              <p:cNvSpPr/>
              <p:nvPr/>
            </p:nvSpPr>
            <p:spPr>
              <a:xfrm>
                <a:off x="8133120" y="5646240"/>
                <a:ext cx="88632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, no hay exclusiones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085240" y="5646240"/>
                <a:ext cx="982080" cy="564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85800" y="6211440"/>
              <a:ext cx="1191960" cy="492120"/>
              <a:chOff x="685800" y="6211440"/>
              <a:chExt cx="1191960" cy="492120"/>
            </a:xfrm>
          </p:grpSpPr>
          <p:sp>
            <p:nvSpPr>
              <p:cNvPr id="693" name=""/>
              <p:cNvSpPr/>
              <p:nvPr/>
            </p:nvSpPr>
            <p:spPr>
              <a:xfrm>
                <a:off x="744480" y="6211440"/>
                <a:ext cx="107424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3366"/>
                    </a:solidFill>
                    <a:uFillTx/>
                    <a:latin typeface="Arial"/>
                    <a:ea typeface="Arial"/>
                  </a:rPr>
                  <a:t>8. honorarios a pagar al fisc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85800" y="6211440"/>
                <a:ext cx="119196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1878120" y="6211440"/>
              <a:ext cx="1066320" cy="492120"/>
              <a:chOff x="1878120" y="6211440"/>
              <a:chExt cx="1066320" cy="492120"/>
            </a:xfrm>
          </p:grpSpPr>
          <p:sp>
            <p:nvSpPr>
              <p:cNvPr id="696" name=""/>
              <p:cNvSpPr/>
              <p:nvPr/>
            </p:nvSpPr>
            <p:spPr>
              <a:xfrm>
                <a:off x="1926000" y="6211440"/>
                <a:ext cx="970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878120" y="6211440"/>
                <a:ext cx="106632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2944800" y="6211440"/>
              <a:ext cx="1068120" cy="492120"/>
              <a:chOff x="2944800" y="6211440"/>
              <a:chExt cx="1068120" cy="492120"/>
            </a:xfrm>
          </p:grpSpPr>
          <p:sp>
            <p:nvSpPr>
              <p:cNvPr id="699" name=""/>
              <p:cNvSpPr/>
              <p:nvPr/>
            </p:nvSpPr>
            <p:spPr>
              <a:xfrm>
                <a:off x="2992320" y="6211440"/>
                <a:ext cx="9727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944800" y="6211440"/>
                <a:ext cx="106812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013280" y="6211440"/>
              <a:ext cx="1163160" cy="492120"/>
              <a:chOff x="4013280" y="6211440"/>
              <a:chExt cx="1163160" cy="492120"/>
            </a:xfrm>
          </p:grpSpPr>
          <p:sp>
            <p:nvSpPr>
              <p:cNvPr id="702" name=""/>
              <p:cNvSpPr/>
              <p:nvPr/>
            </p:nvSpPr>
            <p:spPr>
              <a:xfrm>
                <a:off x="4060800" y="6211440"/>
                <a:ext cx="10674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013280" y="6211440"/>
                <a:ext cx="116316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176800" y="6211440"/>
              <a:ext cx="969480" cy="492120"/>
              <a:chOff x="5176800" y="6211440"/>
              <a:chExt cx="969480" cy="492120"/>
            </a:xfrm>
          </p:grpSpPr>
          <p:sp>
            <p:nvSpPr>
              <p:cNvPr id="705" name=""/>
              <p:cNvSpPr/>
              <p:nvPr/>
            </p:nvSpPr>
            <p:spPr>
              <a:xfrm>
                <a:off x="5224320" y="6211440"/>
                <a:ext cx="8737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76800" y="6211440"/>
                <a:ext cx="9694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146640" y="6211440"/>
              <a:ext cx="971280" cy="492120"/>
              <a:chOff x="6146640" y="6211440"/>
              <a:chExt cx="971280" cy="492120"/>
            </a:xfrm>
          </p:grpSpPr>
          <p:sp>
            <p:nvSpPr>
              <p:cNvPr id="708" name=""/>
              <p:cNvSpPr/>
              <p:nvPr/>
            </p:nvSpPr>
            <p:spPr>
              <a:xfrm>
                <a:off x="6194520" y="6211440"/>
                <a:ext cx="8755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í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146640" y="6211440"/>
                <a:ext cx="9712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7118280" y="6211440"/>
              <a:ext cx="966600" cy="492120"/>
              <a:chOff x="7118280" y="6211440"/>
              <a:chExt cx="966600" cy="492120"/>
            </a:xfrm>
          </p:grpSpPr>
          <p:sp>
            <p:nvSpPr>
              <p:cNvPr id="711" name=""/>
              <p:cNvSpPr/>
              <p:nvPr/>
            </p:nvSpPr>
            <p:spPr>
              <a:xfrm>
                <a:off x="7166160" y="6211440"/>
                <a:ext cx="871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118280" y="6211440"/>
                <a:ext cx="96660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8085240" y="6211440"/>
              <a:ext cx="982080" cy="492120"/>
              <a:chOff x="8085240" y="6211440"/>
              <a:chExt cx="982080" cy="492120"/>
            </a:xfrm>
          </p:grpSpPr>
          <p:sp>
            <p:nvSpPr>
              <p:cNvPr id="714" name=""/>
              <p:cNvSpPr/>
              <p:nvPr/>
            </p:nvSpPr>
            <p:spPr>
              <a:xfrm>
                <a:off x="8133120" y="6211440"/>
                <a:ext cx="8863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o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85240" y="6211440"/>
                <a:ext cx="9820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CUADRO 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MATERIAS SOBRE LAS QUE PUEDEN VERSAR LAS CONSULTAS TRIBUTARIA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2120" y="1828800"/>
            <a:ext cx="8229240" cy="3657600"/>
            <a:chOff x="762120" y="1828800"/>
            <a:chExt cx="8229240" cy="3657600"/>
          </a:xfrm>
        </p:grpSpPr>
        <p:grpSp>
          <p:nvGrpSpPr>
            <p:cNvPr id="297" name=""/>
            <p:cNvGrpSpPr/>
            <p:nvPr/>
          </p:nvGrpSpPr>
          <p:grpSpPr>
            <a:xfrm>
              <a:off x="766440" y="1830600"/>
              <a:ext cx="8219520" cy="3653640"/>
              <a:chOff x="766440" y="1830600"/>
              <a:chExt cx="8219520" cy="36536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766440" y="1830600"/>
                <a:ext cx="833760" cy="3653640"/>
                <a:chOff x="766440" y="1830600"/>
                <a:chExt cx="833760" cy="36536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829440" y="1830600"/>
                  <a:ext cx="707040" cy="36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USA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66440" y="1830600"/>
                  <a:ext cx="833760" cy="365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600560" y="1830600"/>
                <a:ext cx="7385400" cy="3653640"/>
                <a:chOff x="1600560" y="1830600"/>
                <a:chExt cx="7385400" cy="36536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663560" y="1830600"/>
                  <a:ext cx="7258320" cy="36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- Departamento del Tesoro, Servicio Interno Impuestos (Internal Revenue Service), competentes para interpretar normas tributarias de carácter general o particular.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- Simple asistencia oral (oral advice) no vincula a las partes. Aprobación de disposiciones reglamentarias (treasurey regulations) 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- Tres tipos de reglamentos (regulations)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s-AR" sz="15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Destinados a desarrollar una ley (substantive o legislative regulations)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s-AR" sz="15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Destinados a interpretarla (interpretative regulations)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s-AR" sz="15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Persiguen describir las organizaciones a los procedimientos en una agencia (procedural regulations) 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- Entre ambos extremos existe una amplia variedad de instrumentos (Types of statements), entre las que se encuentran las disposiciones interpretativas (revenue rulings) y las consultas tributarias (letter rulings)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600560" y="1830600"/>
                  <a:ext cx="7385400" cy="365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762120" y="1828800"/>
              <a:ext cx="8229240" cy="36576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CUADRO 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MATERIAS SOBRE LAS QUE PUEDEN VERSAR LAS CONSULTAS TRIBUTARIA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62120" y="1523880"/>
            <a:ext cx="8229240" cy="4724640"/>
            <a:chOff x="762120" y="1523880"/>
            <a:chExt cx="8229240" cy="4724640"/>
          </a:xfrm>
        </p:grpSpPr>
        <p:grpSp>
          <p:nvGrpSpPr>
            <p:cNvPr id="307" name=""/>
            <p:cNvGrpSpPr/>
            <p:nvPr/>
          </p:nvGrpSpPr>
          <p:grpSpPr>
            <a:xfrm>
              <a:off x="766440" y="1526400"/>
              <a:ext cx="8219520" cy="4719240"/>
              <a:chOff x="766440" y="1526400"/>
              <a:chExt cx="8219520" cy="471924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766440" y="1526400"/>
                <a:ext cx="833760" cy="4719240"/>
                <a:chOff x="766440" y="1526400"/>
                <a:chExt cx="833760" cy="47192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29440" y="1526400"/>
                  <a:ext cx="707040" cy="47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USA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6440" y="1526400"/>
                  <a:ext cx="833760" cy="471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1600560" y="1526400"/>
                <a:ext cx="7385400" cy="4719240"/>
                <a:chOff x="1600560" y="1526400"/>
                <a:chExt cx="7385400" cy="47192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663560" y="1526400"/>
                  <a:ext cx="7258320" cy="47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- </a:t>
                  </a:r>
                  <a:r>
                    <a:rPr b="1" lang="es-AR" sz="1500" spc="-1" strike="noStrike" u="sng">
                      <a:solidFill>
                        <a:srgbClr val="003366"/>
                      </a:solidFill>
                      <a:uFillTx/>
                      <a:latin typeface="Arial"/>
                      <a:ea typeface="Times New Roman"/>
                    </a:rPr>
                    <a:t>Revenue Rulings: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Interpretación de normas tributarias que lleva a cabo el Servicio Interno de Impuestos. Se publican en el Internal Revenue Bulletin y son incluidos también en el Cumulative Bulletin.  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s-AR" sz="15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Se las suele denominar como junior regulations, cuya interpretación no  produce los mismos efectos que las interpretative regulations.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s-AR" sz="15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Los revenue rulings son los informal statement of position emanados del Servicio Interno de Impuestos. Los regulations son elaboradas por el Dto. del Tesoro, a través de un procedimiento formal de la ley de procedimiento administrativo.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s-AR" sz="15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500" spc="-1" strike="noStrike" u="sng">
                      <a:solidFill>
                        <a:srgbClr val="003366"/>
                      </a:solidFill>
                      <a:uFillTx/>
                      <a:latin typeface="Arial"/>
                      <a:ea typeface="Times New Roman"/>
                    </a:rPr>
                    <a:t>Letter rulings: 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Las resuelve el Internal Revenue Sirvice, habiendo alcanzado un grado notable de desarrollo para preparar las autoliquidaciones. Están a disposición del público en Internet. Son consultas de ciudadanos concretas, aplicándose sólo al sujeto que la formuló.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3366"/>
                      </a:solidFill>
                      <a:latin typeface="Wingdings"/>
                      <a:ea typeface="Wingdings"/>
                    </a:rPr>
                    <a:t></a:t>
                  </a:r>
                  <a:r>
                    <a:rPr b="0" lang="en-US" sz="15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n-US" sz="1500" spc="-1" strike="noStrike" u="sng">
                      <a:solidFill>
                        <a:srgbClr val="003366"/>
                      </a:solidFill>
                      <a:uFillTx/>
                      <a:latin typeface="Arial"/>
                      <a:ea typeface="Times New Roman"/>
                    </a:rPr>
                    <a:t>Determination letters y technical advice memoranda (TAM)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Se utilizan cuando el ciudadano formula una cuestión que está expresamente resuelta en una ley, en un tratado, en un reglamento, en un rulings o en una sentencia judicial.</a:t>
                  </a:r>
                  <a:endParaRPr b="0" lang="en-US" sz="15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600560" y="1526400"/>
                  <a:ext cx="7385400" cy="471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762120" y="1523880"/>
              <a:ext cx="8229240" cy="47246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CUADRO 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MATERIAS SOBRE LAS QUE PUEDEN VERSAR LAS CONSULTAS TRIBUTARIA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219320" y="2590920"/>
            <a:ext cx="7162200" cy="2057040"/>
            <a:chOff x="1219320" y="2590920"/>
            <a:chExt cx="7162200" cy="2057040"/>
          </a:xfrm>
        </p:grpSpPr>
        <p:grpSp>
          <p:nvGrpSpPr>
            <p:cNvPr id="317" name=""/>
            <p:cNvGrpSpPr/>
            <p:nvPr/>
          </p:nvGrpSpPr>
          <p:grpSpPr>
            <a:xfrm>
              <a:off x="1222920" y="2595240"/>
              <a:ext cx="7153920" cy="2047680"/>
              <a:chOff x="1222920" y="2595240"/>
              <a:chExt cx="7153920" cy="204768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1222920" y="2595240"/>
                <a:ext cx="1013400" cy="2047680"/>
                <a:chOff x="1222920" y="2595240"/>
                <a:chExt cx="1013400" cy="20476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275480" y="2595240"/>
                  <a:ext cx="908280" cy="20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Canadá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222920" y="2595240"/>
                  <a:ext cx="1013400" cy="204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236680" y="2595240"/>
                <a:ext cx="6140160" cy="2047680"/>
                <a:chOff x="2236680" y="2595240"/>
                <a:chExt cx="6140160" cy="20476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289600" y="2595240"/>
                  <a:ext cx="6034680" cy="20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Sistema de Rulings, vigente desde 1970. (rulings como sinónimo de advance rulings)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Technical interpretation: cuando se trate de interpretar el alcance de una disposición concreta de la ley del impuesto sobre la renta o bien cuando se trate de una hipotética transacción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as consultas no pueden ser hechas sobre casos hipotéticos (operaciones aún  no realizadas o completadas)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36680" y="2595240"/>
                  <a:ext cx="6140160" cy="204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1219320" y="2590920"/>
              <a:ext cx="7162200" cy="20570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CUADRO 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MATERIAS SOBRE LAS QUE PUEDEN VERSAR LAS CONSULTAS TRIBUTARIA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90720" y="2514600"/>
            <a:ext cx="7695720" cy="1599840"/>
            <a:chOff x="990720" y="2514600"/>
            <a:chExt cx="7695720" cy="1599840"/>
          </a:xfrm>
        </p:grpSpPr>
        <p:grpSp>
          <p:nvGrpSpPr>
            <p:cNvPr id="327" name=""/>
            <p:cNvGrpSpPr/>
            <p:nvPr/>
          </p:nvGrpSpPr>
          <p:grpSpPr>
            <a:xfrm>
              <a:off x="994680" y="2519280"/>
              <a:ext cx="7686360" cy="1589400"/>
              <a:chOff x="994680" y="2519280"/>
              <a:chExt cx="7686360" cy="158940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994680" y="2519280"/>
                <a:ext cx="1088640" cy="1589400"/>
                <a:chOff x="994680" y="2519280"/>
                <a:chExt cx="1088640" cy="15894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050840" y="2519280"/>
                  <a:ext cx="975960" cy="158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Australia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94680" y="2519280"/>
                  <a:ext cx="1088640" cy="158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083680" y="2519280"/>
                <a:ext cx="6597360" cy="1589400"/>
                <a:chOff x="2083680" y="2519280"/>
                <a:chExt cx="6597360" cy="15894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140560" y="2519280"/>
                  <a:ext cx="6483960" cy="158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Uno de los sistemas más completos y sofisticados (binding rulius systems)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os rulings se desarrollan para incrementar el grado de cumplimiento, que se complementan con un sistema de autoliquidación tributaria (self-assesment)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l sistema de consultas rige desde el 1/4/95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083680" y="2519280"/>
                  <a:ext cx="6597360" cy="158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" name=""/>
            <p:cNvSpPr/>
            <p:nvPr/>
          </p:nvSpPr>
          <p:spPr>
            <a:xfrm>
              <a:off x="990720" y="2514600"/>
              <a:ext cx="7695720" cy="15998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CUADRO 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MATERIAS SOBRE LAS QUE PUEDEN VERSAR LAS CONSULTAS TRIBUTARIA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2819520"/>
            <a:ext cx="6749640" cy="1602720"/>
            <a:chOff x="1403280" y="2819520"/>
            <a:chExt cx="6749640" cy="1602720"/>
          </a:xfrm>
        </p:grpSpPr>
        <p:grpSp>
          <p:nvGrpSpPr>
            <p:cNvPr id="337" name=""/>
            <p:cNvGrpSpPr/>
            <p:nvPr/>
          </p:nvGrpSpPr>
          <p:grpSpPr>
            <a:xfrm>
              <a:off x="1406880" y="2823480"/>
              <a:ext cx="6741360" cy="1594080"/>
              <a:chOff x="1406880" y="2823480"/>
              <a:chExt cx="6741360" cy="159408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1406880" y="2823480"/>
                <a:ext cx="954720" cy="1594080"/>
                <a:chOff x="1406880" y="2823480"/>
                <a:chExt cx="954720" cy="15940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456200" y="2823480"/>
                  <a:ext cx="855720" cy="159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Italia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406880" y="2823480"/>
                  <a:ext cx="954720" cy="159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361960" y="2823480"/>
                <a:ext cx="5786280" cy="1594080"/>
                <a:chOff x="2361960" y="2823480"/>
                <a:chExt cx="5786280" cy="15940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411640" y="2823480"/>
                  <a:ext cx="5686920" cy="159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l derecho de consulta fue introducido por ley del 30/12/91, inspirado en los rulings anglosajones (diritto de interpello)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as normas reglamentarias se dictaron recién en 1997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1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as materias objeto de consultas se hallan limitadas a ciertos supuestos expresamente legislados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361960" y="2823480"/>
                  <a:ext cx="5786280" cy="159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>
              <a:off x="1403280" y="2819520"/>
              <a:ext cx="6749640" cy="1602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imes New Roman"/>
              </a:rPr>
              <a:t>CUADRO I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EFECTOS DE LAS CONTESTACIONES A CONSULTAS TRIBUTARI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838080" y="2362320"/>
            <a:ext cx="7924680" cy="2666520"/>
            <a:chOff x="838080" y="2362320"/>
            <a:chExt cx="7924680" cy="2666520"/>
          </a:xfrm>
        </p:grpSpPr>
        <p:grpSp>
          <p:nvGrpSpPr>
            <p:cNvPr id="347" name=""/>
            <p:cNvGrpSpPr/>
            <p:nvPr/>
          </p:nvGrpSpPr>
          <p:grpSpPr>
            <a:xfrm>
              <a:off x="842040" y="2367000"/>
              <a:ext cx="7915680" cy="2656440"/>
              <a:chOff x="842040" y="2367000"/>
              <a:chExt cx="7915680" cy="26564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842040" y="2367000"/>
                <a:ext cx="1121400" cy="2656440"/>
                <a:chOff x="842040" y="2367000"/>
                <a:chExt cx="1121400" cy="2656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900000" y="2367000"/>
                  <a:ext cx="1005120" cy="265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Holanda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42040" y="2367000"/>
                  <a:ext cx="1121400" cy="265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963800" y="2367000"/>
                <a:ext cx="6793920" cy="2656440"/>
                <a:chOff x="1963800" y="2367000"/>
                <a:chExt cx="6793920" cy="26564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022120" y="2367000"/>
                  <a:ext cx="6677280" cy="265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n-US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os tribunales de justicia otorgan un especial valor a las contestaciones a consultas, estableciendo que estos principios se aplican con preferencia sobre las disposiciones contenidas en la ley.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(Beslissingen Nederlandse – BNB- 1977/284 y 1987/135)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as letter rulings producen efectos no sólo para el consultante sino para terceros. (Trib. Supremo, Sentencia 3/7/91)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Al efectuarse la consulta, se confirma que la operación se ajusta a los caracteres de la misma: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a contestación tiene validez por un período de 4 años y el consultante puede pedir que se amplíe el período de validez para otros cuatro años. 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963800" y="2367000"/>
                  <a:ext cx="6793920" cy="265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4" name=""/>
            <p:cNvSpPr/>
            <p:nvPr/>
          </p:nvSpPr>
          <p:spPr>
            <a:xfrm>
              <a:off x="838080" y="2362320"/>
              <a:ext cx="7924680" cy="26665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imes New Roman"/>
              </a:rPr>
              <a:t>CUADRO I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EFECTOS DE LAS CONTESTACIONES A CONSULTAS TRIBUTARIA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00200" y="2438280"/>
            <a:ext cx="6171840" cy="2666880"/>
            <a:chOff x="1600200" y="2438280"/>
            <a:chExt cx="6171840" cy="2666880"/>
          </a:xfrm>
        </p:grpSpPr>
        <p:grpSp>
          <p:nvGrpSpPr>
            <p:cNvPr id="357" name=""/>
            <p:cNvGrpSpPr/>
            <p:nvPr/>
          </p:nvGrpSpPr>
          <p:grpSpPr>
            <a:xfrm>
              <a:off x="1603440" y="2443680"/>
              <a:ext cx="6164640" cy="2654640"/>
              <a:chOff x="1603440" y="2443680"/>
              <a:chExt cx="6164640" cy="265464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1603440" y="2443680"/>
                <a:ext cx="873000" cy="2654640"/>
                <a:chOff x="1603440" y="2443680"/>
                <a:chExt cx="873000" cy="265464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648440" y="2443680"/>
                  <a:ext cx="782640" cy="26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USA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603440" y="2443680"/>
                  <a:ext cx="873000" cy="26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476800" y="2443680"/>
                <a:ext cx="5291280" cy="2654640"/>
                <a:chOff x="2476800" y="2443680"/>
                <a:chExt cx="5291280" cy="26546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522160" y="2443680"/>
                  <a:ext cx="5200560" cy="26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os efectos de las letter rulings alcanzan únicamente al sujeto que la solicitó y exclusivamente en relación con la operación a que se refiere la consulta, salvo que a través de la letter rulings se descrimine la situación de un contribuyente respecto de otro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Aunque son publicadas, no pueden ser usadas o citadas como un procedente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l criterio de la letter ruling puede ser modificado o revocado con efectos retroactivos, en los supuestos expresamente mencionados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476800" y="2443680"/>
                  <a:ext cx="5291280" cy="26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1600200" y="2438280"/>
              <a:ext cx="6171840" cy="26668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imes New Roman"/>
              </a:rPr>
              <a:t>CUADRO II</a:t>
            </a:r>
            <a:br>
              <a:rPr sz="2800"/>
            </a:br>
            <a:r>
              <a:rPr b="0" lang="es-AR" sz="2800" spc="-1" strike="noStrike">
                <a:solidFill>
                  <a:srgbClr val="003366"/>
                </a:solidFill>
                <a:latin typeface="Times New Roman"/>
              </a:rPr>
              <a:t>EFECTOS DE LAS CONTESTACIONES A CONSULTAS TRIBUTARIA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143000" y="2514600"/>
            <a:ext cx="7162560" cy="2666520"/>
            <a:chOff x="1143000" y="2514600"/>
            <a:chExt cx="7162560" cy="2666520"/>
          </a:xfrm>
        </p:grpSpPr>
        <p:grpSp>
          <p:nvGrpSpPr>
            <p:cNvPr id="367" name=""/>
            <p:cNvGrpSpPr/>
            <p:nvPr/>
          </p:nvGrpSpPr>
          <p:grpSpPr>
            <a:xfrm>
              <a:off x="1146600" y="2520000"/>
              <a:ext cx="7154280" cy="2654280"/>
              <a:chOff x="1146600" y="2520000"/>
              <a:chExt cx="7154280" cy="26542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146600" y="2520000"/>
                <a:ext cx="1013400" cy="2654280"/>
                <a:chOff x="1146600" y="2520000"/>
                <a:chExt cx="1013400" cy="26542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199160" y="2520000"/>
                  <a:ext cx="908280" cy="265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Canadá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146600" y="2520000"/>
                  <a:ext cx="1013400" cy="265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2160360" y="2520000"/>
                <a:ext cx="6140520" cy="2654280"/>
                <a:chOff x="2160360" y="2520000"/>
                <a:chExt cx="6140520" cy="26542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213280" y="2520000"/>
                  <a:ext cx="6035040" cy="265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Los advance rulings se aplican únicamente para el ciudadano que los solicitó y no están dotadas de la misma fuerza que las disposiciones normativas. 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l ciudadano no puede ampararse en una consulta  tributaria que contenga una interpelación errónea del derecho que perjudique a la propia Administración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AR" sz="1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En general, sus efectos tienen validez entre 6 y 12 meses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es-AR" sz="16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A diferencia de lo que ocurre con los advance rulings, las contestaciones que adoptan la forma de TECHNICAL INTERPRETATIONS no tiene efectos vinculantes.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160360" y="2520000"/>
                  <a:ext cx="6140520" cy="265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1143000" y="2514600"/>
              <a:ext cx="7162560" cy="26665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8:09:38Z</dcterms:created>
  <dc:creator>Soporte</dc:creator>
  <dc:description/>
  <dc:language>en-US</dc:language>
  <cp:lastModifiedBy>Soporte</cp:lastModifiedBy>
  <dcterms:modified xsi:type="dcterms:W3CDTF">2003-10-17T19:31:37Z</dcterms:modified>
  <cp:revision>8</cp:revision>
  <dc:subject/>
  <dc:title>CUADRO I MATERIAS SOBRE LAS QUE PUEDEN VERSAR LAS CONSULTAS TRIBUTARIAS </dc:title>
</cp:coreProperties>
</file>