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C9A7-A05D-4E54-B165-7823C61E5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4143960"/>
            <a:ext cx="8763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35D5-A446-42AD-B5E1-95F5877A6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8880" y="167616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414396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8880" y="414396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7343-8E3D-49F9-AD58-12CB54845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1400" y="167616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54200" y="167616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414396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1400" y="414396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54200" y="414396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B749-E3D6-47D4-AFA0-C728E92E6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C94DE-09C9-48F8-85B0-F6C0FB3F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964DD-DA1A-4003-8BB7-A6A15059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4AE1A-7B00-40A9-BA51-45F9EA72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8880" y="167616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473D3-97ED-4615-8DCA-0B15AEA1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C33D7-52C3-4485-9C54-62248E29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52280" y="76320"/>
            <a:ext cx="87631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4FD0F-0BBC-4290-A9DC-BE5665B1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8880" y="167616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414396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6ED19-31BA-47E2-8947-E0F2E4BE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DDF8-A3CE-473D-9EE5-16CC4BD7F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8880" y="167616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8880" y="414396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F7095-7A74-46CF-B72D-67994872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8880" y="167616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143960"/>
            <a:ext cx="8763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B0194-63C3-4C47-B5A0-95B98393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600" y="4143960"/>
            <a:ext cx="8763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71C6A-7843-4430-842D-452808DD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8880" y="167616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600" y="414396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8880" y="414396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B2448-35DA-40E1-842D-1D1C7FDF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91400" y="167616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4200" y="167616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600" y="414396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91400" y="414396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4200" y="414396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B1DF7-988A-4297-B901-1EDA135F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5EE4-C810-4F5F-81E8-0837AEB61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67616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CFBD-68E0-4926-A081-43A1460E0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BBED-0DD6-4B14-8F63-AF403BEF0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76320"/>
            <a:ext cx="87631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D13E-BDF8-4D8F-8114-4AFA4CF65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880" y="167616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414396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F992-3403-48FE-B2B8-49731B158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880" y="167616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8880" y="414396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2077-38ED-411C-AA08-722E4C829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8880" y="167616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43960"/>
            <a:ext cx="8763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A39A-8379-438E-9B1B-DAF217030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612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152280"/>
            <a:ext cx="8991360" cy="121932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38A3-8603-463D-9577-1E0E0FDD0FC0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657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657600"/>
            <a:ext cx="9144000" cy="144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600200"/>
            <a:ext cx="8839080" cy="16002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D041-93A7-4B9F-A7C3-F35B80AF3448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4800" spc="-1" strike="noStrike">
                <a:solidFill>
                  <a:srgbClr val="ffffff"/>
                </a:solidFill>
                <a:latin typeface="Times New Roman"/>
              </a:rPr>
              <a:t>ACUERDOS PREVIOS DE VALORACIÓN TRIBUTARIA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4400" spc="-1" strike="noStrike">
                <a:solidFill>
                  <a:srgbClr val="ffffff"/>
                </a:solidFill>
                <a:latin typeface="Times New Roman"/>
              </a:rPr>
              <a:t>EXPERIENCIA ESPAÑOLA</a:t>
            </a:r>
            <a:r>
              <a:rPr b="0" i="1" lang="es-AR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PRECIOS DE TRANSFERENCIA (LEY 43/95 Y REAL DTO 537/97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GENERALIZACIÓN DE LA FIGURA (LEY 1/98 DERECHOS Y GARANTIAS DEL CONTRIBUYENTE, ART 9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00"/>
                </a:solidFill>
                <a:latin typeface="Times New Roman"/>
              </a:rPr>
              <a:t>RENTAS, PRODUCTOS, BIENES, GASTOS Y DEMÁS ELEMENTOS DEL HECHO IMPONIBL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00"/>
                </a:solidFill>
                <a:latin typeface="Times New Roman"/>
              </a:rPr>
              <a:t>SE EXTIENDE A AQUELLOS CASOS EN QUE LA LEY DEL TRIBUTO ASÍ LO ESTABLEZCA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00"/>
                </a:solidFill>
                <a:latin typeface="Times New Roman"/>
              </a:rPr>
              <a:t>SE OFRECE LA POSIBILIDAD DE SU APLICACIÓN A EFECTOS  DEL INGRESO A CUENTA RELACIONADOS CON LAS RETRIBUCIONES DEL TRABAJO EN ESPECIE (REAL DECRETO 214/99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00"/>
                </a:solidFill>
                <a:latin typeface="Times New Roman"/>
              </a:rPr>
              <a:t>GASTOS DE DIRECCIÓN Y GASTOS GENERALES DE ADMINISTRACIÓN DEDUCIBLES (LEY 41/98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302600" y="10666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Continuació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4400" spc="-1" strike="noStrike">
                <a:solidFill>
                  <a:srgbClr val="ffffff"/>
                </a:solidFill>
                <a:latin typeface="Times New Roman"/>
              </a:rPr>
              <a:t>EXPERIENCIA ESPAÑOLA</a:t>
            </a:r>
            <a:r>
              <a:rPr b="0" i="1" lang="es-AR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00"/>
                </a:solidFill>
                <a:latin typeface="Times New Roman"/>
              </a:rPr>
              <a:t>INGRESO DE LA OBLIGACIÓN FISCAL EN FORMA ANTICIPADA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5720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00"/>
                </a:solidFill>
                <a:latin typeface="Times New Roman"/>
              </a:rPr>
              <a:t>INGRESOS A CUENT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BASE DE IMPOSICIÓN (VALOR NORMAL EN EL MERCADO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CUOTA A INGRESA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219320" y="2590920"/>
            <a:ext cx="6172200" cy="1752480"/>
            <a:chOff x="1219320" y="2590920"/>
            <a:chExt cx="6172200" cy="1752480"/>
          </a:xfrm>
        </p:grpSpPr>
        <p:sp>
          <p:nvSpPr>
            <p:cNvPr id="119" name=""/>
            <p:cNvSpPr/>
            <p:nvPr/>
          </p:nvSpPr>
          <p:spPr>
            <a:xfrm>
              <a:off x="1219320" y="2590920"/>
              <a:ext cx="1981080" cy="457200"/>
            </a:xfrm>
            <a:prstGeom prst="rect">
              <a:avLst/>
            </a:prstGeom>
            <a:solidFill>
              <a:srgbClr val="8bae6c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3300"/>
                  </a:solidFill>
                  <a:latin typeface="Times New Roman"/>
                </a:rPr>
                <a:t>CONTRIBUYENTE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3200400"/>
              <a:ext cx="1981080" cy="457200"/>
            </a:xfrm>
            <a:prstGeom prst="rect">
              <a:avLst/>
            </a:prstGeom>
            <a:solidFill>
              <a:srgbClr val="8bae6c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3300"/>
                  </a:solidFill>
                  <a:latin typeface="Times New Roman"/>
                </a:rPr>
                <a:t>TERCEROS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00400" y="2819520"/>
              <a:ext cx="137160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00400" y="3429000"/>
              <a:ext cx="137160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0400" y="4114800"/>
              <a:ext cx="137160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590920"/>
              <a:ext cx="2819520" cy="457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3300"/>
                  </a:solidFill>
                  <a:latin typeface="Times New Roman"/>
                </a:rPr>
                <a:t>PAGOS FRACCIONADOS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0" y="3200400"/>
              <a:ext cx="2819520" cy="457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3300"/>
                  </a:solidFill>
                  <a:latin typeface="Times New Roman"/>
                </a:rPr>
                <a:t>RETENCIONES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0" y="3886200"/>
              <a:ext cx="2819520" cy="457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3300"/>
                  </a:solidFill>
                  <a:latin typeface="Times New Roman"/>
                </a:rPr>
                <a:t>INGRESOS A CUENTA (X)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4000" spc="-1" strike="noStrike">
                <a:solidFill>
                  <a:srgbClr val="ffffff"/>
                </a:solidFill>
                <a:latin typeface="Times New Roman"/>
              </a:rPr>
              <a:t>ACUERDOS PREVIOS DE VALORACIÓN ESPAÑOLA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00"/>
                </a:solidFill>
                <a:latin typeface="Times New Roman"/>
              </a:rPr>
              <a:t>SU OBJETO CONSISTE EN LA VALORACIÓN DE LAS RENTAS SOMETIDAS AL IMPUESTO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00"/>
                </a:solidFill>
                <a:latin typeface="Times New Roman"/>
              </a:rPr>
              <a:t>VENTAJAS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ELIMINACIÓN DE INCERTIDUMBRE (MAYOR SEGURIDAD JURÍDICA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00"/>
                </a:solidFill>
                <a:latin typeface="Times New Roman"/>
              </a:rPr>
              <a:t>CUANTIFICACIÓN DE BAS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00"/>
                </a:solidFill>
                <a:latin typeface="Times New Roman"/>
              </a:rPr>
              <a:t>POSTERIOR COMPROBACIÓ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IMPORTANCIA DE LA REGULACIÓN LEGISLATIVA (REDUCIR LITIGIOSIDAD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ffff"/>
                </a:solidFill>
                <a:latin typeface="Times New Roman"/>
              </a:rPr>
              <a:t>PROCEDIMIENTO DE LA PROPUESTA DE VALORACIÓ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1752480"/>
            <a:ext cx="2362320" cy="838440"/>
          </a:xfrm>
          <a:prstGeom prst="rect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imes New Roman"/>
              </a:rPr>
              <a:t>Solicitud propuesta prelimina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2971800"/>
            <a:ext cx="2362320" cy="838080"/>
          </a:xfrm>
          <a:prstGeom prst="rect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imes New Roman"/>
              </a:rPr>
              <a:t>Análisis administració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4191120"/>
            <a:ext cx="2362320" cy="838080"/>
          </a:xfrm>
          <a:prstGeom prst="rect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imes New Roman"/>
              </a:rPr>
              <a:t>Respuesta administració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5410080"/>
            <a:ext cx="2361960" cy="533520"/>
          </a:xfrm>
          <a:prstGeom prst="rect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imes New Roman"/>
              </a:rPr>
              <a:t>No plantea propuest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5410080"/>
            <a:ext cx="2362320" cy="533520"/>
          </a:xfrm>
          <a:prstGeom prst="rect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imes New Roman"/>
              </a:rPr>
              <a:t>Plantea propuest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0" idx="2"/>
            <a:endCxn id="131" idx="0"/>
          </p:cNvCxnSpPr>
          <p:nvPr/>
        </p:nvCxnSpPr>
        <p:spPr>
          <a:xfrm>
            <a:off x="4152600" y="2590920"/>
            <a:ext cx="1080" cy="381600"/>
          </a:xfrm>
          <a:prstGeom prst="straightConnector1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1" idx="2"/>
            <a:endCxn id="132" idx="0"/>
          </p:cNvCxnSpPr>
          <p:nvPr/>
        </p:nvCxnSpPr>
        <p:spPr>
          <a:xfrm>
            <a:off x="4152600" y="3809520"/>
            <a:ext cx="1080" cy="381960"/>
          </a:xfrm>
          <a:prstGeom prst="straightConnector1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2" idx="2"/>
            <a:endCxn id="133" idx="0"/>
          </p:cNvCxnSpPr>
          <p:nvPr/>
        </p:nvCxnSpPr>
        <p:spPr>
          <a:xfrm rot="5400000">
            <a:off x="2971080" y="4228920"/>
            <a:ext cx="381600" cy="1981800"/>
          </a:xfrm>
          <a:prstGeom prst="bentConnector3">
            <a:avLst>
              <a:gd name="adj1" fmla="val 49952"/>
            </a:avLst>
          </a:prstGeom>
          <a:ln w="9360">
            <a:solidFill>
              <a:srgbClr val="0033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2" idx="2"/>
            <a:endCxn id="134" idx="0"/>
          </p:cNvCxnSpPr>
          <p:nvPr/>
        </p:nvCxnSpPr>
        <p:spPr>
          <a:xfrm flipH="1" rot="16200000">
            <a:off x="4952160" y="4228920"/>
            <a:ext cx="381600" cy="1981800"/>
          </a:xfrm>
          <a:prstGeom prst="bentConnector3">
            <a:avLst>
              <a:gd name="adj1" fmla="val 49952"/>
            </a:avLst>
          </a:prstGeom>
          <a:ln w="9360">
            <a:solidFill>
              <a:srgbClr val="0033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6172200" y="5943600"/>
            <a:ext cx="0" cy="4572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4680" y="1508040"/>
            <a:ext cx="286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imes New Roman"/>
              </a:rPr>
              <a:t>Contenido mínimo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imes New Roman"/>
              </a:rPr>
              <a:t>Presentación documento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76840" y="1447920"/>
            <a:ext cx="331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imes New Roman"/>
              </a:rPr>
              <a:t>Antes de la realización del hecho imponible o en los plazos establecidos en cada caso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ffff"/>
                </a:solidFill>
                <a:latin typeface="Times New Roman"/>
              </a:rPr>
              <a:t>PROCEDIMIENTO DE LA PROPUESTA DE VALORACIÓ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1828800"/>
            <a:ext cx="2743200" cy="609480"/>
          </a:xfrm>
          <a:prstGeom prst="rect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imes New Roman"/>
              </a:rPr>
              <a:t>Examen  documentación administració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743200"/>
            <a:ext cx="2743200" cy="609480"/>
          </a:xfrm>
          <a:prstGeom prst="rect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imes New Roman"/>
              </a:rPr>
              <a:t>Alegato y aporte de documentación adiciona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3733920"/>
            <a:ext cx="2743200" cy="533160"/>
          </a:xfrm>
          <a:prstGeom prst="rect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imes New Roman"/>
              </a:rPr>
              <a:t>Resolución propuest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4495680"/>
            <a:ext cx="2590560" cy="762120"/>
          </a:xfrm>
          <a:prstGeom prst="rect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imes New Roman"/>
              </a:rPr>
              <a:t>Propuesta desestimada por silencio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4495680"/>
            <a:ext cx="2590920" cy="762120"/>
          </a:xfrm>
          <a:prstGeom prst="rect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imes New Roman"/>
              </a:rPr>
              <a:t>Aceptación o rechazo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3" idx="2"/>
            <a:endCxn id="144" idx="0"/>
          </p:cNvCxnSpPr>
          <p:nvPr/>
        </p:nvCxnSpPr>
        <p:spPr>
          <a:xfrm>
            <a:off x="3276360" y="2437920"/>
            <a:ext cx="1080" cy="305640"/>
          </a:xfrm>
          <a:prstGeom prst="straightConnector1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4" idx="2"/>
            <a:endCxn id="145" idx="0"/>
          </p:cNvCxnSpPr>
          <p:nvPr/>
        </p:nvCxnSpPr>
        <p:spPr>
          <a:xfrm>
            <a:off x="3276360" y="3352320"/>
            <a:ext cx="1080" cy="381960"/>
          </a:xfrm>
          <a:prstGeom prst="straightConnector1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5" idx="1"/>
            <a:endCxn id="146" idx="0"/>
          </p:cNvCxnSpPr>
          <p:nvPr/>
        </p:nvCxnSpPr>
        <p:spPr>
          <a:xfrm flipV="1" rot="10800000">
            <a:off x="1599480" y="3999600"/>
            <a:ext cx="305640" cy="495720"/>
          </a:xfrm>
          <a:prstGeom prst="bentConnector2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5" idx="3"/>
            <a:endCxn id="147" idx="0"/>
          </p:cNvCxnSpPr>
          <p:nvPr/>
        </p:nvCxnSpPr>
        <p:spPr>
          <a:xfrm>
            <a:off x="4648320" y="4000320"/>
            <a:ext cx="305280" cy="495720"/>
          </a:xfrm>
          <a:prstGeom prst="bentConnector2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3276720" y="1447920"/>
            <a:ext cx="0" cy="3808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02600" y="10666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Continuació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1752480"/>
            <a:ext cx="33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imes New Roman"/>
              </a:rPr>
              <a:t>Facultad de requerir información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2666880"/>
            <a:ext cx="33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imes New Roman"/>
              </a:rPr>
              <a:t>Facultad de la administración de practicar prueba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4343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imes New Roman"/>
              </a:rPr>
              <a:t>La administración no transige a acuerdo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imes New Roman"/>
              </a:rPr>
              <a:t>Motivación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5791320"/>
            <a:ext cx="2361960" cy="609480"/>
          </a:xfrm>
          <a:prstGeom prst="rect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imes New Roman"/>
              </a:rPr>
              <a:t>No es susceptible a revisió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5791320"/>
            <a:ext cx="2362320" cy="609480"/>
          </a:xfrm>
          <a:prstGeom prst="rect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imes New Roman"/>
              </a:rPr>
              <a:t>Revisión liquidación valor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7" idx="2"/>
            <a:endCxn id="157" idx="0"/>
          </p:cNvCxnSpPr>
          <p:nvPr/>
        </p:nvCxnSpPr>
        <p:spPr>
          <a:xfrm rot="5400000">
            <a:off x="3980520" y="4819680"/>
            <a:ext cx="534240" cy="1410120"/>
          </a:xfrm>
          <a:prstGeom prst="bentConnector3">
            <a:avLst>
              <a:gd name="adj1" fmla="val 49966"/>
            </a:avLst>
          </a:prstGeom>
          <a:ln w="9360">
            <a:solidFill>
              <a:srgbClr val="0033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7" idx="2"/>
            <a:endCxn id="158" idx="0"/>
          </p:cNvCxnSpPr>
          <p:nvPr/>
        </p:nvCxnSpPr>
        <p:spPr>
          <a:xfrm flipH="1" rot="16200000">
            <a:off x="5391000" y="4819320"/>
            <a:ext cx="534240" cy="1410480"/>
          </a:xfrm>
          <a:prstGeom prst="bentConnector3">
            <a:avLst>
              <a:gd name="adj1" fmla="val 49966"/>
            </a:avLst>
          </a:prstGeom>
          <a:ln w="9360">
            <a:solidFill>
              <a:srgbClr val="00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ACTOS ADMINISTRATIVOS DE VALORACIÓN PREVIA, EN CUYO PROCEDIMIENTO DE ADOPCIÓN INTERVIENEN LA ADMINISTRACIÓN Y EL PARTICULAR SOLICITANTE, CUYO CONTENIDO ES VINCULANTE PARA AMBAS PARTE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AÚN CUANDO, DESDE UN PUNTO DE VISTA TÉCNICO JURÍDICO, NO PUEDEN INCLUIRSE EN EL PROCEDIMIENTO DE COMPROBACIÓN DE VALORES LLEVADOS A CABO POR LA ADMINISTRACIÓN, AMBOS PROCEDIMIENTOS GOZAN DE LA MISMA NATURALEZA, PUES TIENEN POR OBJETO LA DECLARACIÓN ADMINISTRATIVA SOBRE LA EXACTITUD Y CORRECCIÓN DE LA VALORACIÓ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600" spc="-1" strike="noStrike">
                <a:solidFill>
                  <a:srgbClr val="ffffff"/>
                </a:solidFill>
                <a:latin typeface="Times New Roman"/>
              </a:rPr>
              <a:t>ACUERDOS PREVIOS DE VALORACIÓN FUNDAMENTO Y NATURALEZA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3300"/>
                </a:solidFill>
                <a:latin typeface="Times New Roman"/>
              </a:rPr>
              <a:t>FACULTAD QUE LA NORMATIVA CONCEDE A LOS PARTICULARES PARA PRESENTAR UNA PROPUESTA SOBRE VALORACIÓN DE DIFERENTES ASPECTOS RELACIONADOS CON EL HECHO IMPONIBLE Y CON LA FINALIDAD QUE LA ADMINISTRACIÓN ACEPTE O NO DICHA VALORACIÓ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3300"/>
                </a:solidFill>
                <a:latin typeface="Times New Roman"/>
              </a:rPr>
              <a:t>SI LA PROPUESTA ES ADMITIDA, RESULTA VINCULANTE PARA AMBAS PARTES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UTILIZACIÓN DE LAS TÉCNICAS</a:t>
            </a:r>
            <a:br>
              <a:rPr sz="3200"/>
            </a:b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TRANSACCIONALES EN MATERIA TRIBUTARIA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3300"/>
                </a:solidFill>
                <a:latin typeface="Times New Roman"/>
              </a:rPr>
              <a:t>POSICIÓN TRADICIONAL DEL PROCEDIMIENTO DE GESTIÓN QUE NIEGA CARÁCTER CONVENCIONAL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00"/>
                </a:solidFill>
                <a:latin typeface="Times New Roman"/>
              </a:rPr>
              <a:t>INDISPONIBILIDAD DEL CRÉDITO TRIBUTARIO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00"/>
                </a:solidFill>
                <a:latin typeface="Times New Roman"/>
              </a:rPr>
              <a:t>CARÁCTER EX LEGE DE LA OBLIGACIÓN TRIBUTARIA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00"/>
                </a:solidFill>
                <a:latin typeface="Times New Roman"/>
              </a:rPr>
              <a:t>SOMETIDA A LA VOLUNTAD DE LA LEY Y NO DE LAS PARTES QUE INTERVENGAN EN ELLA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UTILIZACIÓN DE LAS TÉCNICAS</a:t>
            </a:r>
            <a:br>
              <a:rPr sz="3200"/>
            </a:b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TRANSACCIONALES EN MATERIA TRIBUTARIA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00"/>
                </a:solidFill>
                <a:latin typeface="Times New Roman"/>
              </a:rPr>
              <a:t>TESIS A FAVOR DE LA ADMISIÓN DE LA TRANSACCIÓ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LA INDISPONIBILIDAD NO ALCANZA A LA POSIBILIDAD DE QUE LA VOLUNTAD DEL ACREEDOR Y DEUDOR DE LA RELACIÓN INTERVENGA EN LA CUANTIFICACIÓ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SE DESPEJA LA INCERTIDUMBRE Y SE EVITAN CONFLICTOS POSTERIORE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SI EL PROCEDIMIENTO ES UNA GARANTÍA, EL PACTO O ACUERDO REDUNDARÁ EN BENEFICIO DE LA DEFENSA DE LOS DERECHOS DE LOS SUJETOS OBLIGADO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SE LOGRA UNA MAYOR PROTECCIÓN SOCIA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02600" y="10666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Continuació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POSTURAS EN TORNO A LA UBICACIÓN</a:t>
            </a:r>
            <a:br>
              <a:rPr sz="3200"/>
            </a:b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DE LOS ACUERDOS PREVIOS DE VALORACIÓN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3300"/>
                </a:solidFill>
                <a:latin typeface="Times New Roman"/>
              </a:rPr>
              <a:t>TESIS FAVORABLE A LAS TÉCNICAS TRANSACCIONALES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3300"/>
                </a:solidFill>
                <a:latin typeface="Times New Roman"/>
              </a:rPr>
              <a:t>EXISTENCIA DE RELACIÓN JURÍDICA INCIERTA.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3300"/>
                </a:solidFill>
                <a:latin typeface="Times New Roman"/>
              </a:rPr>
              <a:t>ACUERDOS ENTRE LOS INTERESADOS CON RECÍPROCAS CONCESIONES ENTRE LAS PARTES.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3300"/>
                </a:solidFill>
                <a:latin typeface="Times New Roman"/>
              </a:rPr>
              <a:t>ES CONVENCIONAL (SU FINALIDAD ES ALCANZAR UN ACUERDO O CONVENIO), TRANSACCIONAL (AMBAS PARTES DEBEN RENUNCIAR A SUS DERECHOS INICIALES) Y NEGOCIADO (FRUTO Y RESULTADO DE UNA NEGOCIACIÓN).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3300"/>
                </a:solidFill>
                <a:latin typeface="Times New Roman"/>
              </a:rPr>
              <a:t>PARA OTROS AUTORES, EXISTE UNA PROPUESTA QUE, DE SER EMPLEADA POR LA ADMINISTRACIÓN, RECIÉN TENDRÍA EL CARÁCTER DE TRANSACCIÓN.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302600" y="10666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Continuació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POSTURAS EN TORNO A LA UBICACIÓN</a:t>
            </a:r>
            <a:br>
              <a:rPr sz="3200"/>
            </a:b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DE LOS ACUERDOS PREVIOS DE VALORACIÓN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00"/>
                </a:solidFill>
                <a:latin typeface="Times New Roman"/>
              </a:rPr>
              <a:t>TESIS DESFAVORABLE A LAS TÉCNICAS TRANSACCIONALES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NO CONSTITUYE UNA VERDADERA TRANSACCIÓN ENTRE LAS PARTE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NO SE DISPONE DEL CRÉDITO TRIBUTARIO Y, POR LO TANTO, NO SE PUEDE CEDER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IMPLICA UN CONSENSO EN LA DETERMINACIÓN DE UN ELEMENTO LEGAL QUE PUEDE ESTAR ABIERTO A DIFERENTES INTERPRETACIONES (MORENO FERNANDEZ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NO HAY NEGOCIO TRANSACCIONAL SINO UN EJERCICIO ENFÁTICO DE LA AUTORIDAD ADMINISTRATIVA. (TULIO ROSEMBUJ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302600" y="10666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Continuació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POSTURAS EN TORNO A LA UBICACIÓN</a:t>
            </a:r>
            <a:br>
              <a:rPr sz="3200"/>
            </a:b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DE LOS ACUERDOS PREVIOS DE VALORACIÓN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00"/>
                </a:solidFill>
                <a:latin typeface="Times New Roman"/>
              </a:rPr>
              <a:t>TESIS DESFAVORABLE A LAS TÉCNICAS TRANSACCIONALES (continuación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AUTÉNTICO PROCEDIMIENTO ALTERNATIVO Y VOLUNTARIO A LA TRADICIONAL ACTUACIÓN DE VALORACIÓN (CENCERRADO MILLÁN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SE ENMARCA EN EL ÁMBITO DLE PROCEDIMIENTO DE GESTIÓN TRIBUTARIA (MORENO FERNANDEZ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PROCEDIMIENTO DE COMPROBACIÓN TRIBUTARIA, PRODUCIDO CON CARÁCTER PREVIO A LA REALIZACIÓN DE UN HECHO IMPONIBLE (FENELLÓS PUIGCERVER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302600" y="10666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Continuació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POSTURAS EN TORNO A LA UBICACIÓN</a:t>
            </a:r>
            <a:br>
              <a:rPr sz="3200"/>
            </a:b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DE LOS ACUERDOS PREVIOS DE VALORACIÓN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00"/>
                </a:solidFill>
                <a:latin typeface="Times New Roman"/>
              </a:rPr>
              <a:t>TESIS DESFAVORABLE A LAS TÉCNICAS TRANSACCIONALES (continuación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TIENE SIMILITUD CON EL RÉGIMEN DE CONSULTAS VINCULANTES (INICIATIVA DEL SUJETO PASIVO, CARÁCTER VINCULANTE PARA LAS PARTES) PERO SE DIFERENCIA EN QUE EL ACUERDO SE REFIERE A LA VALORACIÓN DE DETERMINADOS ELEMENTOS Y LAS CONSULTAS A LA CALIFICACIÓN DE LOS HECHO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00"/>
                </a:solidFill>
                <a:latin typeface="Times New Roman"/>
              </a:rPr>
              <a:t>NO CONSTITUYE UNA TÉCNICA DE RESOLUCIÓN DE CONFLICTOS SINO DE PREVENCIÓN DE LITIGIOS, ADELANTÁNDOSE LA FASE DE COMPROBACIÓN ADMINISTRATIVA A UN MOMENTO ANTERIOR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20:14Z</dcterms:created>
  <dc:creator>Soporte</dc:creator>
  <dc:description/>
  <dc:language>en-US</dc:language>
  <cp:lastModifiedBy>Soporte</cp:lastModifiedBy>
  <cp:lastPrinted>2003-05-08T13:43:52Z</cp:lastPrinted>
  <dcterms:modified xsi:type="dcterms:W3CDTF">2003-05-08T13:45:05Z</dcterms:modified>
  <cp:revision>8</cp:revision>
  <dc:subject/>
  <dc:title>Sin título de diapositiva</dc:title>
</cp:coreProperties>
</file>