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945-BC4B-4BD5-ABAD-353CBD25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CAF-F9F6-4CDA-88B9-10954E50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560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2EE-FA8D-4A49-A48A-D8C6248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972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86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972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86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437-5E1C-4316-9DD7-1058436E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5A201-4D4E-4A42-9837-7DB75DB2CE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A3A0-E2FB-4186-9588-17F7435497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DF682-DE12-41F3-A01C-3B81291195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3F43-0778-49CC-825D-9329241D9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8A2C3-0FA0-479D-9FF7-D06A961016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A342D-2A3C-4CC5-9858-AE40780C6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A7D5-7840-4733-BA89-255DB913B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AE2-DB9D-4389-A078-8DA51F7B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560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B8E98-D9BA-43A0-B1B5-435ABF7F5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4A4D-E156-4D2C-8BF2-1EDC5988E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D61F-41E6-4D82-BA9F-82A97D99B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560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2191-6534-4076-A48D-10FE0C51C2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972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86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972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86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8BAC8-BF1C-49DD-B8EA-975C4E0F2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EFC-80E5-4170-85D0-BA9230A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4CA-5990-4415-B7F7-0B8B0F43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183-5995-4937-A345-FC58EAAD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B94-DABC-432A-9133-9630A2E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B07-402D-4E29-A9A8-AEA9F26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5600" y="38390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139-2449-4C9E-B1E3-F024E08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3712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69A-5110-44D6-B891-20CE183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403-7FF0-4C2B-84D4-CB88AF2F5A5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9144000" cy="2540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540160"/>
              <a:ext cx="9144000" cy="43178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pic>
        <p:nvPicPr>
          <p:cNvPr id="54" name="grapes" descr=""/>
          <p:cNvPicPr/>
          <p:nvPr/>
        </p:nvPicPr>
        <p:blipFill>
          <a:blip r:embed="rId2"/>
          <a:stretch/>
        </p:blipFill>
        <p:spPr>
          <a:xfrm>
            <a:off x="258840" y="0"/>
            <a:ext cx="1079280" cy="50036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1028880" y="0"/>
            <a:ext cx="153360" cy="5735520"/>
            <a:chOff x="1028880" y="0"/>
            <a:chExt cx="153360" cy="5735520"/>
          </a:xfrm>
        </p:grpSpPr>
        <p:sp>
          <p:nvSpPr>
            <p:cNvPr id="56" name=""/>
            <p:cNvSpPr/>
            <p:nvPr/>
          </p:nvSpPr>
          <p:spPr>
            <a:xfrm>
              <a:off x="1028880" y="0"/>
              <a:ext cx="153360" cy="135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28880" y="1333440"/>
              <a:ext cx="153360" cy="440208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6324480"/>
            <a:ext cx="7392960" cy="533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4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F7B-A752-49B9-B9E5-953553C8E88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6600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660066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3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00ff"/>
                </a:solidFill>
                <a:latin typeface="Arial"/>
              </a:rPr>
              <a:t>CONSULTA</a:t>
            </a:r>
            <a:br>
              <a:rPr sz="4800"/>
            </a:br>
            <a:r>
              <a:rPr b="0" lang="es-ES_tradnl" sz="4800" spc="-1" strike="noStrike">
                <a:solidFill>
                  <a:srgbClr val="ff00ff"/>
                </a:solidFill>
                <a:latin typeface="Arial"/>
              </a:rPr>
              <a:t>TRIBUTARIA</a:t>
            </a:r>
            <a:endParaRPr b="0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0CDF-7EDA-4E52-B0D6-B9B2571F60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2. NATURALEZA DE LA ACTIVIDAD ADMINISTRATIVA DE RESOLUCIÓN DE CONSULTAS TRIBUTARIAS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9714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SE BASA EN LA POTESTAD QUE LA LEY LE HA ATRIBUÍDO DE MODO PREVIO, CUAL ES LA INTERPRETACIÓN JURÍDIC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FACULTAD DE ACLARAR LA NORMA DICTADA, DIRIGIDA A LA APLICACIÓN DEL DERECHO AL CASO CONCRET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EL PROCESO DE APLICACIÓN DE LA NORMA INCLUYE UN MOMENTO EN EL QUE SE INTERPRETA E INTEGRA LA NORMA JURÍDIC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6002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2.1. POTESTAD ATRIBUÍDA PARA LA RESOLUCIÓN DE CONSULTA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C82-CCD1-4B6B-8C11-1777B29771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2.1. POTESTAD ATRIBUÍDA PARA LA RESOLUCIÓN DE CONSULTAS. (Cont.)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LOS HECHOS JUEGAN UN PAPEL RELEVANTE, DE MANERA QUE LOS ELEMENTOS FÁCTICOS Y JURÍDICOS, INTERACTÚAN EL UNO SOBRE EL OTRO, CONDICIONANDO SU MUTUO ENTENDIMIENTO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18960" indent="-31896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LA INTERPRETACIÓN ES LA OPERACIÓN JURÍDICA BÁSICA, NO ES SÓLO UNA FASE DEL PROCESO SINO EL NÚCLEO MISMO DEL PROCESO APLICATIVO DE LA NORMA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18960" indent="-31896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LA CONSULTA TRIBUTARIA CONTIENE RASGOS DE LA INTERPRETACIÓN JURÍDICA DIRIGIDA A LA APLICACIÓN DE LA NORMA, EN LA MEDIDA QUE SE CONSTATA LA PRESENCIA DE UNA NORMA Y HECHOS CONCRETOS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18960" indent="-31896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LA INTERPRETACIÓN PARA LA RESOLUCIÓN DE CONSULTAS CONSTITUYE UNA POTESTAD AUTÓNOMA CON UNA ESPECÍFICA FINALIDAD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C10-330E-4451-9029-CEDAB7A018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2.2. PROCEDIMIENTO DE RESOLUCIÓN DE CONSULTAS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EL PROCEDIMIENTO DE CONSULTA TRIBUTARIA NO SE INCLUYE EN LOS DE GESTIÓN TRIBUTARIA, SINO EN EL DE COLABORACIÓN SOCIAL EN LA GESTIÓN TRIBUTARIA, COMO UNA MANIFESTACIÓN DEL DERECHO DE ASISTENCIA E INFORMACIÓN TRIBUTARI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EN EL SENO DE LA TRADICIONAL DISTINCIÓN DE LOS PROCEDIMIENTOS (DECLARATIVOS, EJECUTIVOS Y DE REVISIÓN), LA RESOLUCIÓN DE CONSULTAS TRIBUTARIAS SE INCLUYE ENTRE LOS DECLARATIVOS, POR SER AQUELLOS QUE TIENEN COMO FINALIDAD LA ELABORACIÓN DE UNA DECISIÓN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289-509F-4BBA-B3D7-BE97CBB2D7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3. NATURALEZA JURÍDICA DE LA CONTESTACIÓN A  UNA CONSULTA  TRIBUTARIA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S UN ACTO ADMINISTRATIVO, POR SER UNA DECLARACIÓN DE VOLUNTAD, DE DESEO, DE CONVENCIMIENTO, DE JUICIO REALIZADO POR UN SUJETO DE LA ADMINISTRACIÓN PÚBLICA EN EJERCICIO DE UNA POTESTAD ADMINISTRATIVA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CONTIENE UNA </a:t>
            </a:r>
            <a:r>
              <a:rPr b="1" lang="es-AR" sz="2400" spc="-1" strike="noStrike" u="sng">
                <a:solidFill>
                  <a:srgbClr val="660066"/>
                </a:solidFill>
                <a:uFillTx/>
                <a:latin typeface="Arial Narrow"/>
              </a:rPr>
              <a:t>DECLARACIÓN DE VOLUNTAD</a:t>
            </a:r>
            <a:r>
              <a:rPr b="1" lang="es-AR" sz="2400" spc="-1" strike="noStrike">
                <a:solidFill>
                  <a:srgbClr val="660066"/>
                </a:solidFill>
                <a:latin typeface="Arial Narrow"/>
              </a:rPr>
              <a:t> </a:t>
            </a: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(ACTO ADMINISTRATIVO QUE CREA UNA RELACIÓN JURÍDICA INDIVIDUALIZADA QUE MIDE DIRECTAMENTE EN SU POSICIÓN JURÍDICA PERSONAL) Y EXTERIORIZA UNA </a:t>
            </a:r>
            <a:r>
              <a:rPr b="1" lang="es-AR" sz="2400" spc="-1" strike="noStrike" u="sng">
                <a:solidFill>
                  <a:srgbClr val="660066"/>
                </a:solidFill>
                <a:uFillTx/>
                <a:latin typeface="Arial Narrow"/>
              </a:rPr>
              <a:t>DECLARACIÓN DE JUICIO</a:t>
            </a: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 (OPINIÓN DEL SENTIDO EN QUE DEBE INTERPRETARSE DETERMINADA NORMA RESPECTO A UN HECHO CONCRETO)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676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3.1. Acto Administrativo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427-1EF0-4408-98ED-D44353EBF8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3.2. REQUISITOS ESENCIALES DEL ACTO ADMINISTRATIVO. 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SUJETOS: PÚBLICO Y ÓRGANO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3" marL="16002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OBJETIVOS: OBJETO, CONTENIDO, CAUSA Y MOTIVACIÓN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lvl="3" marL="16002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FORMALES: FORMA Y PROCEDIMIENT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A12-E095-4153-9278-698EF719C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¿HACIA UN NUEVO MARCO DE INTERVENCIÓN DEL CONTRIBUYENTE?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PROCEDIMIENTO DE GESTIÓN EN EL DERECHO TRIBUTARIO FORMAL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PRIVATIZACIÓN DE LA GESTIÓN DE LOS TRIBUTOS (FERREIRO LAPTZA)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SUPERACIÓN DE LOS DEBERES DE COLABORACIÓN HACIA LA GESTIÓN DE LOS TRIBUTOS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AUMENTO DE LA DENOMINADA PRESIÓN FISCAL INDIRECT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PROTECCIÓN DEL CONTRIBUYENTE A TRAVÉS DE UN GRADO DE ASISTENCIA E INFORMACIÓN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070-38F6-4759-98E2-D68C67D80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00ff"/>
                </a:solidFill>
                <a:latin typeface="Arial"/>
              </a:rPr>
              <a:t>JUSTIFICACIÓN DE LA EXISTENCIA DE LA CONSULTA TRIBUTARIA</a:t>
            </a:r>
            <a:endParaRPr b="0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524D1-9480-4C7E-ACF5-D91AE93F0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1. PRINCIPIO DE SEGURIDAD JURÍDICA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CAMBIO EN LA ESTRUCTURA DEL PROCEDIMIENTO DE GESTIÓN TRIBUTARI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VARIEDAD DE MANIFESTACIONES QUE TRATAN DE EQUILIBRAR LAS POSICIONES DE LAS PARTES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LA SEGURIDAD JURÍDICA NO TIENE UN CONTENIDO ÚNICO, SINO EXTIENDE SUS EFECTOS POR TODO EL ORDENAMIENTO JURÍDIC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CERTIDUMBRE DEL DERECHO Y ELIMINACIÓN DE LA ARBITRARIEDAD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SE REFIERE A DOS MOMENTOS: CREACIÓN Y APLICACIÓN DE LA NORM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LA CERTEZA, REFUERZA EL EQUILIBRIO ENTRE LA ADMINISTRACIÓN Y EL OBLIGAD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8A7-5FDD-4D70-AC77-3F08ECBE5B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2. PRINCIPIO DE BUENA FE Y CONFIANZA LEGÍTIMA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JUSTIFICACIÓN DE QUE LAS CONTESTACIONES A CONSULTAS TENGAN CARÁCTER VINCULANTE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BUENA FE COMO PRINCIPIO GENERAL DEL DERECHO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XPECTATIVAS LEGÍTIMAS EN QUE SE PRODUCIRÁ UN DETERMINADO COMPORTAMIENTO EN LA OTRA PARTE, EN UNA RELACIÓN INTER-PARTES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L PRINCIPIO DE BUENA FE SUPONE PARA EL OBLIGADO QUE LA ADMINISTRACIÓN NO HA DE EJERCER SUS DERECHOS MÁS ALLÁ DE LOS LÍMITES DEL INTERÉS GENERAL Y DEL ORDENAMIENTO JURÍDICO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SU MANIFESTACIÓN PRINCIPAL ES LA CONFIANZA LEGÍTIMA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L PRINCIPIO DE BUENA FE NO ES EL FUNDAMENTO DE LA CONSULTA TRIBUTARIA, SINO DEL DE LA SEGURIDAD JURÍDICA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98C-D5C5-4CC2-901D-1694A5D25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00ff"/>
                </a:solidFill>
                <a:latin typeface="Arial"/>
              </a:rPr>
              <a:t>NATURALEZA JURÍDICA DE LA CONSULTA TRIBUTARIA</a:t>
            </a:r>
            <a:endParaRPr b="0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58C52-2819-4CF1-A4AB-287188582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1. DERECHO DEL ADMINISTRADO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DERECHO QUE EL ORDENAMIENTO JURÍDICO HA ATRIBUÍDO AL OBLIGADO TRIBUTARIO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L DERECHO DEL OBLIGADO CONSISTE EN CONSULTAR A LA ADMINISTRACIÓN, EN OBTENER UNA RESPUESTA, QUE LA MISMA SEA VINCULANTE Y QUE LIBERE DE RESPONSABILIDAD AL ADMINISTRADO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66"/>
                </a:solidFill>
                <a:latin typeface="Arial Narrow"/>
              </a:rPr>
              <a:t>EL OBLIGADO ES TITULAR DE UN DERECHO SUBJETIVO E INTERESES LEGÍTIMOS FRENTE A LA ADMINISTRACIÓN, DOTADOS DE UNA TUTELA JURÍDICA PLENA.</a:t>
            </a:r>
            <a:endParaRPr b="0" lang="en-US" sz="2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93640" y="573084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60066"/>
                </a:solidFill>
                <a:latin typeface="Times New Roman"/>
              </a:rPr>
              <a:t>FUNDAMENTACIÓN DE LA CONSULTA TRIBUTARIA COMO VERDADERO DERECHO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0C9-FE7C-4F51-859A-070634B81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1.1. DERECHO DE PETICIÓN Y CONSULTA TRIBUTARIA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0066"/>
                </a:solidFill>
                <a:latin typeface="Arial Narrow"/>
              </a:rPr>
              <a:t>DERECHO DE PETICIÓN COMO GARANTÍA JURÍDICA.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0066"/>
                </a:solidFill>
                <a:latin typeface="Arial Narrow"/>
              </a:rPr>
              <a:t>PUNTO DE CONTACTO DEL DERECHO DE CONSULTA CON EL DE PETICIÓN.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0066"/>
                </a:solidFill>
                <a:latin typeface="Arial Narrow"/>
              </a:rPr>
              <a:t>EL DERECHO DE PETICIÓN ES UN VEHÍCULO PARA SOLICITAR UNA INTERVENCIÓN DEL PODER PÚBLICO PIDIÉNDOLE LA SATISFACCIÓN DE UN INTERÉS PARTICULAR O GENERAL QUE NO IMPLICA UNA EXIGENCIA VINCULANTE PARA ESE PODER EN LO QUE HACE AL FONDO DE LA CUESTIÓN.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0066"/>
                </a:solidFill>
                <a:latin typeface="Arial Narrow"/>
              </a:rPr>
              <a:t>EXISTEN NOTABLES DIFERENCIAS ENTRE EL DERECHO DE PETICIÓN Y EL DE CONSULTA, PUES EL PRIMERO RESPONDE A LA PARTICIPACIÓN FUNCIONAL DEL ADMINISTRADO EN LA ADMINISTRACIÓN, DESDE UNA POSICIÓN EXTERIOR A ÉSTA.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60066"/>
                </a:solidFill>
                <a:latin typeface="Arial Narrow"/>
              </a:rPr>
              <a:t>LA DISPARIDAD ENTRE AMBOS INSTITUTOS SE DÁ EN:</a:t>
            </a:r>
            <a:endParaRPr b="0" lang="en-US" sz="2000" spc="-1" strike="noStrike">
              <a:solidFill>
                <a:srgbClr val="660066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0066"/>
                </a:solidFill>
                <a:latin typeface="Arial Narrow"/>
              </a:rPr>
              <a:t>FUNDAMENTO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0066"/>
                </a:solidFill>
                <a:latin typeface="Arial Narrow"/>
              </a:rPr>
              <a:t>PROCEDIMIENTO QUE DEBE DARSE PARA SU EJERCICIO.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0066"/>
                </a:solidFill>
                <a:latin typeface="Arial Narrow"/>
              </a:rPr>
              <a:t>EFECTOS</a:t>
            </a:r>
            <a:endParaRPr b="0" lang="en-US" sz="1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A7A-3214-4AAC-B89A-BEF09BDF5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ff"/>
                </a:solidFill>
                <a:latin typeface="Arial"/>
              </a:rPr>
              <a:t>1.2. DERECHO A SER INFORMADO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ES POSIBLE DISTINGUIR ENTRE EL DERECHO DE INFORMACIÓN ADMINISTRATIVA Y EL DE DERECHO TRIBUTARI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LA CONSULTA TRIBUTARIA TIENE RASGOS PROPIOS QUE LA INDIVIDUALIZAN RESPECTO DEL DERECHO DE INFORMACIÓN EN SENTIDO ESTRICTO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 Narrow"/>
              </a:rPr>
              <a:t>INFORMACIÓN Y ASISTENCIA TRIBUTARIA.</a:t>
            </a:r>
            <a:endParaRPr b="0" lang="en-US" sz="2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58C-FCBE-4E31-9139-B5C3AF25D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8:01:23Z</dcterms:created>
  <dc:creator>Soporte</dc:creator>
  <dc:description/>
  <dc:language>en-US</dc:language>
  <cp:lastModifiedBy>Soporte</cp:lastModifiedBy>
  <cp:lastPrinted>2003-05-07T19:18:03Z</cp:lastPrinted>
  <dcterms:modified xsi:type="dcterms:W3CDTF">2003-05-07T19:19:53Z</dcterms:modified>
  <cp:revision>9</cp:revision>
  <dc:subject/>
  <dc:title>Consulta Tributaria</dc:title>
</cp:coreProperties>
</file>