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7C2-9173-4894-8B68-D79904A7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D28-A5C7-49E4-A72B-19FE6C6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F03-1AFB-4905-A5B5-421A522B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F8C-9B31-47E6-9B4A-2BA783F1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FD15-4B44-49FF-8038-E0D6971E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0038-BE21-4891-A04E-00C2BA3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652-90EE-45BA-B468-24B111C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2BC-E75C-4AD4-9903-62ED9AD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C4DB-CF97-4C9A-A128-523DB8B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67EE-0478-4FD2-93ED-F1F307FC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1F61-221C-41CD-BCA9-918C5B0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C12-1928-4E84-9057-5F753D43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8E44-6180-4D9C-AB56-93FE89E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AE8D-DD3D-4564-86D5-A4938FA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637-F23A-4D90-81CD-B6DCFD51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C97-0B7D-4B41-9431-F466921F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A882-7CC9-4EDD-AD40-B11C7C32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0CB-61A5-4537-9FC0-F4B809A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AA2-682D-4406-8BD4-4DD7D04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F17-65BA-4436-B5A9-EF80B08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829-481E-4765-A9C5-6D4FAA69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88B-7DFE-4F61-9357-30BF31C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82B-FCB7-4E66-BBDE-B5E5605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1D4-E6C4-4138-8C3C-55D8311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934-60CD-463C-84CD-DE940C048E4F}" type="slidenum">
              <a:rPr b="0" lang="es-A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32A-7047-4886-B5D3-A50270EAC596}" type="slidenum">
              <a:rPr b="0" lang="es-A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CONSULTA VINCULAN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Times New Roman"/>
              </a:rPr>
              <a:t>NATURALEZA Y CARACTER  DEL A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Times New Roman"/>
              </a:rPr>
              <a:t>NUESTRA LEGISLAC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Times New Roman"/>
              </a:rPr>
              <a:t>OTRAS LEGISL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Times New Roman"/>
              </a:rPr>
              <a:t>PROPU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CONSULTA VINCULANTE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3623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Principio de la seguridad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visibilidad de la conducta: objetividad y cert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canismos de protección de la arbitr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Naturaleza de la cons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recho-privilegio del contribuy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transparencia: obligación de la administración</a:t>
            </a:r>
            <a:r>
              <a:rPr b="1" lang="es-ES_tradnl" sz="20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Acto administrativo o jurisdic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dministrativo: en ejercicio de la función y produce ef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jurisdiccional: interpreta el derec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1337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SULTA VINCULANTE 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NUESTRA LEGIS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55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rt. 8 del Dto. 618/9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55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rt. 12 del Dto. Reglamentario Ley proc. Tribu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55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olución General 858 AFIP: opt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sultantes y obje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secuencias de la respuesta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in vías recursiv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g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55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í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alta de vinculación del fis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nculación del contribuyente y efecto retroa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xclusión convenios de doble imposición y A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55000"/>
              </a:lnSpc>
              <a:spcBef>
                <a:spcPts val="125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usa Ciccone Hnnos.: carácter vinculante para la admin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55000"/>
              </a:lnSpc>
              <a:spcBef>
                <a:spcPts val="1125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usa ARHA SC: exime de intereses y san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20574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819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5053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SULTA VINCULANTE 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LEGISLACION COMPARA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in efectos vinculantes - Excep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o recurr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plicación del preced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riterio unificado y publicid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in cobro retroactivo, intereses y mul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g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SUE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sulta por entidades representativ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spuesta independiente: consejo para dictámenes prev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currible por ambas par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DINAMAR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MEX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SULTA VINCULANTE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PROPUES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puesta vinculante para el fi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ujetos legitim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os sujetos pas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osibles sujetos: proyectos de inver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ntidades representativ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o de la consul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ributos a cargo de la administr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terpretación de los convenios - A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portunidad de inter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rganos competentes para conste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24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lcance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Ley o Sentencia judi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spcBef>
                <a:spcPts val="224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mbio de criterio. Tribunal independ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SULTA VINCULANTE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PROPUES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inculación para el contribuyente: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lazo de respue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eterminad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ilencio de la administración: asegurar la respue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el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in vías recursivas. Excep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pelación y emisión por consejo independ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mplia: transparencia e igual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iterio fiscal unifi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ntre dependencias de la administr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ntre consultantes y no consulta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22:29:49Z</dcterms:created>
  <dc:creator>Christian G. Okulewicz</dc:creator>
  <dc:description/>
  <dc:language>en-US</dc:language>
  <cp:lastModifiedBy>.microsoft</cp:lastModifiedBy>
  <cp:lastPrinted>2003-03-16T14:33:23Z</cp:lastPrinted>
  <dcterms:modified xsi:type="dcterms:W3CDTF">2003-10-21T14:09:21Z</dcterms:modified>
  <cp:revision>247</cp:revision>
  <dc:subject/>
  <dc:title>IVA - Credito Fisc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Christian\Personal\EEC\IVA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