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1A1B-8E27-4AEE-8EEE-B403689FEA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914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60480" y="1447560"/>
            <a:ext cx="7012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60480" y="3954960"/>
            <a:ext cx="7012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C2DC5-249C-4BA7-8833-381E52D5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914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60480" y="1447560"/>
            <a:ext cx="3421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3640" y="1447560"/>
            <a:ext cx="3421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60480" y="3954960"/>
            <a:ext cx="3421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3640" y="3954960"/>
            <a:ext cx="3421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D024-E660-49F5-BB00-8191FA16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914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60480" y="1447560"/>
            <a:ext cx="2257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31440" y="1447560"/>
            <a:ext cx="2257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02040" y="1447560"/>
            <a:ext cx="2257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60480" y="3954960"/>
            <a:ext cx="2257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31440" y="3954960"/>
            <a:ext cx="2257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02040" y="3954960"/>
            <a:ext cx="2257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D31C8-069D-448D-BCEC-8A5224EEA3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7DB1B-B8F9-465B-81A2-C6556AA43C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914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60480" y="1447560"/>
            <a:ext cx="7012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88A25-AE83-436C-875A-E303596F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914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60480" y="1447560"/>
            <a:ext cx="7012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36A63-B335-4210-A207-C5FE3C88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914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60480" y="1447560"/>
            <a:ext cx="3421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53640" y="1447560"/>
            <a:ext cx="3421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0CFFA-FF59-436A-B222-415D4766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914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64731-BCAA-43E9-B42C-716806D9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861920" y="225000"/>
            <a:ext cx="701028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0EC79-C484-4723-ABAF-B8ADF3FD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914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60480" y="1447560"/>
            <a:ext cx="3421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53640" y="1447560"/>
            <a:ext cx="3421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60480" y="3954960"/>
            <a:ext cx="3421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467C6-33DB-40DB-921A-846C139E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914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60480" y="1447560"/>
            <a:ext cx="7012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0E2A-20FD-45F7-916E-1ABEBBF4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914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60480" y="1447560"/>
            <a:ext cx="3421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3640" y="1447560"/>
            <a:ext cx="3421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53640" y="3954960"/>
            <a:ext cx="3421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23CBC-A7D9-43CF-B88C-71BD7213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914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60480" y="1447560"/>
            <a:ext cx="3421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53640" y="1447560"/>
            <a:ext cx="3421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60480" y="3954960"/>
            <a:ext cx="7012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B147C-CCB0-488E-93F1-78BFBE9E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914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60480" y="1447560"/>
            <a:ext cx="7012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60480" y="3954960"/>
            <a:ext cx="7012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78396-E3E9-4EDE-BF6C-0A351E5C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914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60480" y="1447560"/>
            <a:ext cx="3421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53640" y="1447560"/>
            <a:ext cx="3421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60480" y="3954960"/>
            <a:ext cx="3421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53640" y="3954960"/>
            <a:ext cx="3421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8CAEE-111F-4A13-B67A-AC213530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914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60480" y="1447560"/>
            <a:ext cx="2257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31440" y="1447560"/>
            <a:ext cx="2257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02040" y="1447560"/>
            <a:ext cx="2257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60480" y="3954960"/>
            <a:ext cx="2257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231440" y="3954960"/>
            <a:ext cx="2257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02040" y="3954960"/>
            <a:ext cx="2257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5FFCF-75DC-4C35-9F6A-FE2CF63ED0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914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60480" y="1447560"/>
            <a:ext cx="7012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7F94-8D3B-4C46-BF99-F5946A97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914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60480" y="1447560"/>
            <a:ext cx="3421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3640" y="1447560"/>
            <a:ext cx="3421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2BE9-005E-4688-97CA-6DF2211E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914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E280-13B5-49D6-B2C8-79F5B975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61920" y="225000"/>
            <a:ext cx="701028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5FED-6870-4971-8176-DEE586F1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914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60480" y="1447560"/>
            <a:ext cx="3421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3640" y="1447560"/>
            <a:ext cx="3421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0480" y="3954960"/>
            <a:ext cx="3421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992D-FA0C-465A-9CDC-AA82BF4E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914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60480" y="1447560"/>
            <a:ext cx="3421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3640" y="1447560"/>
            <a:ext cx="3421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3640" y="3954960"/>
            <a:ext cx="3421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C351-E291-4F27-AB59-D996F10E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914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60480" y="1447560"/>
            <a:ext cx="3421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3640" y="1447560"/>
            <a:ext cx="3421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60480" y="3954960"/>
            <a:ext cx="7012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17C75-787D-4CA6-8E36-7C10E1C7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160" y="0"/>
            <a:ext cx="1619280" cy="6865920"/>
            <a:chOff x="-11160" y="0"/>
            <a:chExt cx="1619280" cy="6865920"/>
          </a:xfrm>
        </p:grpSpPr>
        <p:sp>
          <p:nvSpPr>
            <p:cNvPr id="1" name=""/>
            <p:cNvSpPr/>
            <p:nvPr/>
          </p:nvSpPr>
          <p:spPr>
            <a:xfrm rot="16200000">
              <a:off x="-2634120" y="2623320"/>
              <a:ext cx="6865920" cy="16192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250920" y="365040"/>
              <a:ext cx="109224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381880" y="6598080"/>
            <a:ext cx="5652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1F1C-29FF-4231-8A35-6C93762EE3CF}" type="slidenum">
              <a:rPr b="0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2"/>
          </p:nvPr>
        </p:nvSpPr>
        <p:spPr>
          <a:xfrm>
            <a:off x="-360" y="6659280"/>
            <a:ext cx="16002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D248-F077-4F94-931C-92CD3EE4B70F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1860480" y="1447560"/>
            <a:ext cx="7012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552600" indent="-551160">
              <a:spcBef>
                <a:spcPts val="22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200240" indent="-646200">
              <a:spcBef>
                <a:spcPts val="225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lvl="3" marL="1762200" indent="-560520">
              <a:spcBef>
                <a:spcPts val="2251"/>
              </a:spcBef>
              <a:buClr>
                <a:srgbClr val="0066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lvl="4" marL="2252520" indent="-488880">
              <a:spcBef>
                <a:spcPts val="2251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lvl="5" marL="2252520" indent="-488880">
              <a:spcBef>
                <a:spcPts val="2251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lvl="6" marL="2252520" indent="-488880">
              <a:spcBef>
                <a:spcPts val="2251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619600"/>
            <a:ext cx="1600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 association with Gleiss Lutz and Herbert Smith</a:t>
            </a: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333360" y="5003640"/>
            <a:ext cx="939960" cy="93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72720" y="2185560"/>
            <a:ext cx="700092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61800" y="365040"/>
            <a:ext cx="1092240" cy="320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62080" y="365040"/>
            <a:ext cx="1091880" cy="32076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0" y="0"/>
            <a:ext cx="1619280" cy="6865920"/>
            <a:chOff x="0" y="0"/>
            <a:chExt cx="1619280" cy="6865920"/>
          </a:xfrm>
        </p:grpSpPr>
        <p:sp>
          <p:nvSpPr>
            <p:cNvPr id="49" name=""/>
            <p:cNvSpPr/>
            <p:nvPr/>
          </p:nvSpPr>
          <p:spPr>
            <a:xfrm rot="16200000">
              <a:off x="-2622960" y="2623320"/>
              <a:ext cx="6865920" cy="16192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250920" y="365040"/>
              <a:ext cx="109224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2"/>
          <p:cNvSpPr>
            <a:spLocks noGrp="1"/>
          </p:cNvSpPr>
          <p:nvPr>
            <p:ph type="dt" idx="3"/>
          </p:nvPr>
        </p:nvSpPr>
        <p:spPr>
          <a:xfrm>
            <a:off x="-360" y="6659280"/>
            <a:ext cx="16002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12D9-8F70-4A70-BD61-C842ADAA2D57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8381880" y="6598080"/>
            <a:ext cx="5652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27A1-8558-4A5B-B0C5-3E104D9EB026}" type="slidenum">
              <a:rPr b="0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619600"/>
            <a:ext cx="1600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 association with Gleiss Lutz and Herbert Smith</a:t>
            </a: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33360" y="5003640"/>
            <a:ext cx="939960" cy="9399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1440" indent="0" algn="ctr">
              <a:spcBef>
                <a:spcPts val="174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554040" algn="ctr">
              <a:lnSpc>
                <a:spcPct val="95000"/>
              </a:lnSpc>
              <a:spcBef>
                <a:spcPts val="451"/>
              </a:spcBef>
              <a:spcAft>
                <a:spcPts val="113"/>
              </a:spcAft>
              <a:buClr>
                <a:srgbClr val="006699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3" marL="952560" indent="249120" algn="ctr">
              <a:lnSpc>
                <a:spcPct val="95000"/>
              </a:lnSpc>
              <a:spcBef>
                <a:spcPts val="400"/>
              </a:spcBef>
              <a:spcAft>
                <a:spcPts val="99"/>
              </a:spcAft>
              <a:buClr>
                <a:srgbClr val="00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lvl="4" marL="1763640" algn="ctr">
              <a:spcBef>
                <a:spcPts val="349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5" marL="1763640">
              <a:spcBef>
                <a:spcPts val="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6" marL="1763640">
              <a:spcBef>
                <a:spcPts val="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7640" y="1341000"/>
            <a:ext cx="700092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100" spc="-1" strike="noStrike">
                <a:solidFill>
                  <a:srgbClr val="006699"/>
                </a:solidFill>
                <a:latin typeface="Arial"/>
              </a:rPr>
              <a:t>RULINGS EN BELGICA Y PAISES BAJOS</a:t>
            </a:r>
            <a:endParaRPr b="1" lang="en-US" sz="4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72720" y="3443040"/>
            <a:ext cx="6998040" cy="2617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6699"/>
                </a:solidFill>
                <a:latin typeface="Arial"/>
              </a:rPr>
              <a:t>Código de conducta europea</a:t>
            </a:r>
            <a:endParaRPr b="1" lang="en-US" sz="30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Jacques Malherbe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E1AE7-A5D5-46C5-9B29-87F0DB6CE65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FC661E-94E2-443C-8890-67DB6F686E46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900" spc="-1" strike="noStrike">
                <a:solidFill>
                  <a:srgbClr val="006699"/>
                </a:solidFill>
                <a:latin typeface="Arial"/>
              </a:rPr>
              <a:t>Código de conducta</a:t>
            </a:r>
            <a:endParaRPr b="1" lang="en-US" sz="2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08000" y="1341000"/>
            <a:ext cx="701208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6699"/>
                </a:solidFill>
                <a:latin typeface="Arial"/>
              </a:rPr>
              <a:t>Crítica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6699"/>
                </a:solidFill>
                <a:latin typeface="Arial"/>
              </a:rPr>
              <a:t>Desde 2003 : 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6699"/>
                </a:solidFill>
                <a:latin typeface="Arial"/>
              </a:rPr>
              <a:t>ruling individualizado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8437-8F79-4D3C-98FD-26D41745E6D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DF378EB-6F57-4C3B-B16A-2AA17EEA0955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900" spc="-1" strike="noStrike">
                <a:solidFill>
                  <a:srgbClr val="006699"/>
                </a:solidFill>
                <a:latin typeface="Arial"/>
              </a:rPr>
              <a:t>Países Bajos</a:t>
            </a:r>
            <a:endParaRPr b="1" lang="en-US" sz="2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60480" y="1447560"/>
            <a:ext cx="7012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Código de conducta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Nuevo sistema 2001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Advance Tax Ruling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servicio Rotterdam grandes empresa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- exención de participación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- estructuras híbride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- establecimiento estable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Validez : 4 año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4B82-BDFA-44DE-933E-F0AABF28386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33A59AE-6B71-44FB-ADEE-22517FA1C9D1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900" spc="-1" strike="noStrike">
                <a:solidFill>
                  <a:srgbClr val="006699"/>
                </a:solidFill>
                <a:latin typeface="Arial"/>
              </a:rPr>
              <a:t>Advance Pricing Agreements</a:t>
            </a:r>
            <a:endParaRPr b="1" lang="en-US" sz="2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34920" y="981000"/>
            <a:ext cx="70117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 fontScale="99000"/>
          </a:bodyPr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Principio : arm’s length : ley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Servicio Rotterdam 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informacione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producto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transaccione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estructura del grupo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método de transfer pricing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transacciones comparable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mercado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Validez : 4 – 5 año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5CDDC-301C-4373-81A5-E83C1C7CD64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EDFAA55-B41F-44F6-A03A-2A95EA38A643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900" spc="-1" strike="noStrike">
                <a:solidFill>
                  <a:srgbClr val="006699"/>
                </a:solidFill>
                <a:latin typeface="Arial"/>
              </a:rPr>
              <a:t>Exclusiones</a:t>
            </a:r>
            <a:endParaRPr b="1" lang="en-US" sz="2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60480" y="1447560"/>
            <a:ext cx="7012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Contrario a buena fe internacional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Diferencias de calificación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Ahorro de impuesto 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único motivo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principal motivo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Redistribución de 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intereses en grupo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royaltie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(excepción : información a otro Estado)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1534-D002-425E-8DDA-45BDF595623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4169E0A-1E81-415F-B8C4-D3E65AD01A6F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549000"/>
            <a:ext cx="7010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900" spc="-1" strike="noStrike">
                <a:solidFill>
                  <a:srgbClr val="006699"/>
                </a:solidFill>
                <a:latin typeface="Arial"/>
              </a:rPr>
              <a:t>Cuestiones</a:t>
            </a:r>
            <a:endParaRPr b="1" lang="en-US" sz="2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8000" y="1557000"/>
            <a:ext cx="7012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Naturaleza juridica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Países Bajo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Contrato de comprobación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Bélgica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Acto administrativo individual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0CA1-BC9A-40EA-868D-544FA63FE05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7FCFE49-A137-4500-8B16-141A01ABB1D4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900" spc="-1" strike="noStrike">
                <a:solidFill>
                  <a:srgbClr val="006699"/>
                </a:solidFill>
                <a:latin typeface="Arial"/>
              </a:rPr>
              <a:t>Autoridad</a:t>
            </a:r>
            <a:endParaRPr b="1" lang="en-US" sz="2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60480" y="907920"/>
            <a:ext cx="7012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 fontScale="99000"/>
          </a:bodyPr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Países Bajos : seguridad</a:t>
            </a:r>
            <a:endParaRPr b="1" lang="en-US" sz="18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Confianza legitima</a:t>
            </a:r>
            <a:endParaRPr b="1" lang="en-US" sz="18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También si contrario a la ley</a:t>
            </a:r>
            <a:endParaRPr b="1" lang="en-US" sz="18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Bélgica : legalidad</a:t>
            </a:r>
            <a:endParaRPr b="1" lang="en-US" sz="18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No vincula si :</a:t>
            </a:r>
            <a:endParaRPr b="1" lang="en-US" sz="18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condiciones no pueden ser cumplidas</a:t>
            </a:r>
            <a:endParaRPr b="1" lang="en-US" sz="18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descripción incompleta</a:t>
            </a:r>
            <a:endParaRPr b="1" lang="en-US" sz="18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modificación del derecho </a:t>
            </a: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nacional </a:t>
            </a:r>
            <a:endParaRPr b="1" lang="en-US" sz="18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internacional</a:t>
            </a:r>
            <a:endParaRPr b="1" lang="en-US" sz="18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contrariedad al derecho</a:t>
            </a:r>
            <a:endParaRPr b="1" lang="en-US" sz="18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6699"/>
                </a:solidFill>
                <a:latin typeface="Arial"/>
              </a:rPr>
              <a:t>efectos esenciales modificados</a:t>
            </a:r>
            <a:endParaRPr b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D750-B27A-43AA-8D18-A9E56C12A3C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987B2C0-B150-4163-AD4A-F21F6F612FB6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900" spc="-1" strike="noStrike">
                <a:solidFill>
                  <a:srgbClr val="006699"/>
                </a:solidFill>
                <a:latin typeface="Arial"/>
              </a:rPr>
              <a:t>Historia</a:t>
            </a:r>
            <a:endParaRPr b="1" lang="en-US" sz="2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60480" y="1447560"/>
            <a:ext cx="7012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Rescriptum romano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USA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Letter ruling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Acceso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Advance ruling agreement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Mundo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IFA - Eilat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9D515-B81C-4119-8740-796EE2F94A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2010570-9425-40BA-BDA0-DC118F4D9EE5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4920" y="765000"/>
            <a:ext cx="70102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900" spc="-1" strike="noStrike">
                <a:solidFill>
                  <a:srgbClr val="006699"/>
                </a:solidFill>
                <a:latin typeface="Arial"/>
              </a:rPr>
              <a:t>Bélgica</a:t>
            </a:r>
            <a:endParaRPr b="1" lang="en-US" sz="2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34920" y="1844640"/>
            <a:ext cx="701172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Decisiones anticipada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Aplicación de la ley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a situación particular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operación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Que no tuvo aún consecuencias fiscale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87DE-EDE6-4DF0-ADEC-FC79967891F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6AEB349-6595-4F7A-914F-4D89C1D67BDA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4920" y="836280"/>
            <a:ext cx="7010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900" spc="-1" strike="noStrike">
                <a:solidFill>
                  <a:srgbClr val="006699"/>
                </a:solidFill>
                <a:latin typeface="Arial"/>
              </a:rPr>
              <a:t>Solicitud</a:t>
            </a:r>
            <a:endParaRPr b="1" lang="en-US" sz="2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34920" y="2060640"/>
            <a:ext cx="7011720" cy="356544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Adjuntar solicitud a otros Estado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decisiones 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Plazo : 3 mese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Validez : 5 año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B524-4885-40B3-B755-BDDE9D62370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CC5040E-6C9F-43B4-B444-1137C9731F84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900" spc="-1" strike="noStrike">
                <a:solidFill>
                  <a:srgbClr val="006699"/>
                </a:solidFill>
                <a:latin typeface="Arial"/>
              </a:rPr>
              <a:t>Exclusiones</a:t>
            </a:r>
            <a:endParaRPr b="1" lang="en-US" sz="2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8000" y="907920"/>
            <a:ext cx="7012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22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Idéntico a situación que :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6699"/>
                </a:solidFill>
                <a:latin typeface="Arial"/>
              </a:rPr>
              <a:t>produjo consecuencias fiscale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6699"/>
                </a:solidFill>
                <a:latin typeface="Arial"/>
              </a:rPr>
              <a:t>es objeto de recurso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2. 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Inapropriado :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6699"/>
                </a:solidFill>
                <a:latin typeface="Arial"/>
              </a:rPr>
              <a:t>impuesto fijo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2251"/>
              </a:spcBef>
              <a:buClr>
                <a:srgbClr val="0066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Recaudación 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552600" indent="0">
              <a:lnSpc>
                <a:spcPct val="90000"/>
              </a:lnSpc>
              <a:spcBef>
                <a:spcPts val="174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6699"/>
                </a:solidFill>
                <a:latin typeface="Arial"/>
              </a:rPr>
              <a:t>      </a:t>
            </a:r>
            <a:r>
              <a:rPr b="0" lang="fr-BE" sz="2000" spc="-1" strike="noStrike">
                <a:solidFill>
                  <a:srgbClr val="006699"/>
                </a:solidFill>
                <a:latin typeface="Arial"/>
              </a:rPr>
              <a:t>Procedimien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552600" indent="0">
              <a:lnSpc>
                <a:spcPct val="90000"/>
              </a:lnSpc>
              <a:spcBef>
                <a:spcPts val="174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4 .  Elementos esenciales en país refugi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552600" indent="0">
              <a:lnSpc>
                <a:spcPct val="90000"/>
              </a:lnSpc>
              <a:spcBef>
                <a:spcPts val="174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      </a:t>
            </a:r>
            <a:r>
              <a:rPr b="0" lang="fr-BE" sz="2000" spc="-1" strike="noStrike">
                <a:solidFill>
                  <a:srgbClr val="006699"/>
                </a:solidFill>
                <a:latin typeface="Arial"/>
              </a:rPr>
              <a:t>No cooperativo con OCD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552600" indent="0">
              <a:lnSpc>
                <a:spcPct val="90000"/>
              </a:lnSpc>
              <a:spcBef>
                <a:spcPts val="174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5. Carencia de sustancia económica en Bélgica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12F7-303B-4634-A797-CC203DE0023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8B4DB46-6BC0-4F56-9BD5-D6FE779F5761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701028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900" spc="-1" strike="noStrike">
                <a:solidFill>
                  <a:srgbClr val="006699"/>
                </a:solidFill>
                <a:latin typeface="Arial"/>
              </a:rPr>
              <a:t>Centros de distribución</a:t>
            </a:r>
            <a:endParaRPr b="1" lang="en-US" sz="2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34920" y="1052640"/>
            <a:ext cx="70117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 fontScale="95000"/>
          </a:bodyPr>
          <a:p>
            <a:pPr marL="36180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Actividade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1.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Comprar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Depositar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Transportar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2251"/>
              </a:spcBef>
              <a:buClr>
                <a:srgbClr val="0066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Recibir pedido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Mandar confirmacione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Mandar factura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Trámites 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bancario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aduanero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3. 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Compra para grupo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Administración de actividades autorizada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12AA-BF0F-4CD8-87F8-EA18FF51A4D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DC4B9FC-1E05-471B-8FAF-F2C284BE056C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900" spc="-1" strike="noStrike">
                <a:solidFill>
                  <a:srgbClr val="006699"/>
                </a:solidFill>
                <a:latin typeface="Arial"/>
              </a:rPr>
              <a:t>Centros de distribucion</a:t>
            </a:r>
            <a:endParaRPr b="1" lang="en-US" sz="2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60480" y="1447560"/>
            <a:ext cx="7012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6699"/>
                </a:solidFill>
                <a:latin typeface="Arial"/>
              </a:rPr>
              <a:t>Base imponible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6699"/>
                </a:solidFill>
                <a:latin typeface="Arial"/>
              </a:rPr>
              <a:t>5 % de gastos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6699"/>
                </a:solidFill>
                <a:latin typeface="Arial"/>
              </a:rPr>
              <a:t>Exceptos : precio de </a:t>
            </a:r>
            <a:r>
              <a:rPr b="1" lang="fr-BE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6699"/>
                </a:solidFill>
                <a:latin typeface="Arial"/>
              </a:rPr>
              <a:t>adquisición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6699"/>
                </a:solidFill>
                <a:latin typeface="Arial"/>
              </a:rPr>
              <a:t>servicios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B12C-0FE0-47D6-9A1D-A91E77E66EC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68CD884-53FE-4739-9658-F7043173B1C8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900" spc="-1" strike="noStrike">
                <a:solidFill>
                  <a:srgbClr val="006699"/>
                </a:solidFill>
                <a:latin typeface="Arial"/>
              </a:rPr>
              <a:t>Centros de servicios</a:t>
            </a:r>
            <a:endParaRPr b="1" lang="en-US" sz="2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60480" y="1447560"/>
            <a:ext cx="7012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Actividade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Servicios intelectuale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preparatorios o auxiliare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información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contribución pasiva a venta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contribución activa a venta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1B8D-097E-49A6-8165-2B3AB2B2601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3149ADC-C5D1-4391-BCA7-904124892F63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61920" y="225000"/>
            <a:ext cx="7010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900" spc="-1" strike="noStrike">
                <a:solidFill>
                  <a:srgbClr val="006699"/>
                </a:solidFill>
                <a:latin typeface="Arial"/>
              </a:rPr>
              <a:t>Centros de servicios</a:t>
            </a:r>
            <a:endParaRPr b="1" lang="en-US" sz="2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60480" y="1447560"/>
            <a:ext cx="7012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Base imponible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22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Cost plu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5 – 15 % de 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gastos de funcionamiento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excepto : 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gastos de personal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costo de servicio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2. 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Resale minu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Intervención activa en venta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 u="sng">
                <a:solidFill>
                  <a:srgbClr val="006699"/>
                </a:solidFill>
                <a:uFillTx/>
                <a:latin typeface="Arial"/>
              </a:rPr>
              <a:t>&lt;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 5 %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6699"/>
                </a:solidFill>
                <a:latin typeface="Arial"/>
              </a:rPr>
              <a:t>minimum : carga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4C00-4380-40CF-89EF-410F28D5636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5F82B8C-288D-415C-9E53-F78BCCF73688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07:43:41Z</dcterms:created>
  <dc:creator>Administrator</dc:creator>
  <dc:description/>
  <cp:keywords>templates stibbe presentation show slides</cp:keywords>
  <dc:language>en-US</dc:language>
  <cp:lastModifiedBy>Administrator</cp:lastModifiedBy>
  <cp:lastPrinted>2000-12-08T11:20:36Z</cp:lastPrinted>
  <dcterms:modified xsi:type="dcterms:W3CDTF">2003-10-17T10:39:26Z</dcterms:modified>
  <cp:revision>10</cp:revision>
  <dc:subject>Default presentation template for Stibbe</dc:subject>
  <dc:title>RULINGS EN BELGICA Y PAISES BAJ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2</vt:lpwstr>
  </property>
  <property fmtid="{D5CDD505-2E9C-101B-9397-08002B2CF9AE}" pid="3" name="_AdHocReviewCycleID">
    <vt:r8>-1401894002</vt:r8>
  </property>
  <property fmtid="{D5CDD505-2E9C-101B-9397-08002B2CF9AE}" pid="4" name="_AuthorEmail">
    <vt:lpwstr>Catherine.Ramaekers@Stibbe.com</vt:lpwstr>
  </property>
  <property fmtid="{D5CDD505-2E9C-101B-9397-08002B2CF9AE}" pid="5" name="_AuthorEmailDisplayName">
    <vt:lpwstr>Catherine Ramaekers</vt:lpwstr>
  </property>
  <property fmtid="{D5CDD505-2E9C-101B-9397-08002B2CF9AE}" pid="6" name="_EmailSubject">
    <vt:lpwstr/>
  </property>
</Properties>
</file>