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EACC-B8C0-41E4-8799-2A3D875646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D2E2-66F6-4853-A390-13506DA50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3F57-F8DF-42B6-999F-496119AF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ED4C-0993-4F99-A8C0-8646D0E2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C1DF-F1C1-412A-AE54-A534566677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CA3FC-BF30-49B8-A2B1-5F15F8E9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27099-51AA-4DBF-8321-8C2D38E3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3512D-8E2E-40FF-8ED2-08D611A8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BDC45-38FA-47BE-83EA-6FFF0BD0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ECE61-46B0-476F-A457-342F6532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6554-FE66-44AC-937E-6C873DD7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9CF30-48EA-4EFE-B23F-7015B69D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4FD8-E79C-45C3-BB62-2B75D6E9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8CA73-43B3-4E18-AF70-E9E4D57C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47959-EFD3-4D7C-B6B3-E5A4ACF3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DD2DD-A669-45A8-BB28-BB81CD0E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9057D-979A-4682-9237-8E8621EA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A65AC-95F4-44E5-94DC-8C66CDB8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3292-17B2-4790-A1C7-A3B0AE4E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E62C-F1C2-44A0-9BAC-1740DE99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4D68-4A33-4127-8BD8-3A98BBE6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4A02-CBFD-4B31-86EB-44F2F533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0732-771C-45CC-AEB9-BDD2D8A7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125A-2AA0-4213-A7EF-8236EDC1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B78E-3544-44E5-B10F-FBDFDCF0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D78-918C-4EE6-A0DF-CEFFC21A8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36F7-6116-4D55-9E31-00954B716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2133720"/>
            <a:ext cx="7848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Tema I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dministración Fiscal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El Instituto de la consulta vincul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r.Carlos María Fol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808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10° Congreso Tribu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.P.C.E.C.A.B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Legalidad y Seguridad Juríd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mportancia de la ley como vehículo generador de certeza (aspecto positivo del principio de seguridad jurídic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ol de la ley como mecanismo de defensa frente a las posibles arbitrariedades de los órganos del Estado (aspecto negativo del principio de seguridad jurídica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81D5-575D-49D9-9EED-9919C088F4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Consulta Tributar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 rules of the game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iminar la incertidumb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recho de información y asistenci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0408-E4ED-4182-B364-264AEAD684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Consulta Tributar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o Administrativ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te de una norma jurídic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eado por una voluntad estat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ctado en ejercicio de sus funciones administrativ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origina consecuencias jurídicas de alcance individu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9A5F-34A1-4DA0-870A-8042588408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Consulta Tributar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nculante para la A.T. (Art.166 MCTA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gnable por las vías recursivas ordinar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blicab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riterio aplicable al universo de contribuyentes en idéntica situación tributari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117A-DCF5-4CDF-8622-DB7F2930DF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Consulta Tributar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pliación legitimación activ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 objeto abarcativa de la integrida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entralización operativ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zo legal obligatorio de respuest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oneración sanciones civiles y penal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ncipio de gratuida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onsabilidad del Estado (Art. 43 C.C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2AAD-B41C-4701-9BA5-A20375A1E9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Consulta Tributar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lencio Administrativo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artarse solución general de la Ley Nº 19.549 (negativ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gislaciones de Colombia y Venezuel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t. 168 MCT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5FD3-D0EE-4A00-B61D-DBA2D7317F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0:53:01Z</dcterms:created>
  <dc:creator>José Antonio Cruz &amp; Mª Pilar Castellanos</dc:creator>
  <dc:description/>
  <dc:language>en-US</dc:language>
  <cp:lastModifiedBy>Carlos</cp:lastModifiedBy>
  <dcterms:modified xsi:type="dcterms:W3CDTF">2003-10-24T12:36:49Z</dcterms:modified>
  <cp:revision>35</cp:revision>
  <dc:subject/>
  <dc:title>Presentación de PowerPoint</dc:title>
</cp:coreProperties>
</file>