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462-D879-4808-968A-2E938C6A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889-74E0-47E1-B0FB-2DE1E75A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8D4-18C5-46F2-BDD6-64728A89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810-CFF2-4D1F-B487-6C2E4A8D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A65-3E49-46F5-90D6-C16C38A9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65D-6DD3-481C-B784-DE324069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F86-C517-40C7-BEAE-5F73DB35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FCD-9059-431F-9A75-128010C8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376-B82A-42F4-B1F9-F3A46789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48B-0FB8-421C-866C-E11D9AAB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A3A-0D38-42AD-8C4E-1622BF6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6DB-1C01-46E4-86AD-8F7AC043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37000"/>
            <a:ext cx="4400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inet Castro et Associ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re de l’Alliance Fi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F59B-8FB1-41A9-ABCB-9BF72F7D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68360" y="6308640"/>
            <a:ext cx="164628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784692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10°Congreso Tributario Nacional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Reformulación del principio de la fuente </a:t>
            </a:r>
            <a:br>
              <a:rPr sz="2400"/>
            </a:b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en el impuesto a la r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anuel C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vo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abinet Castro et Assoc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mbre de l’Alliance Fiscal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268280"/>
            <a:ext cx="7848720" cy="2016360"/>
          </a:xfrm>
          <a:prstGeom prst="rect">
            <a:avLst/>
          </a:prstGeom>
          <a:noFill/>
          <a:ln w="22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500800">
            <a:off x="971280" y="1557360"/>
            <a:ext cx="81900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19411800">
            <a:off x="7380000" y="1483920"/>
            <a:ext cx="7095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ó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026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alta de armonización de la definición de la base imponible origina una doble tributación, como asimismo da lugar a la duplicación de deducciones, que ne se pueden resolver con los convenios bilatera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jemplo 2 : los « stock options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iertos países gravan cuando se atribuy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tros países cuando se ejerce el derecho de atrib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so de doble impos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so de ausencia de imposició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ó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en solucione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ntro de la Unión Europe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yecto de directiva « Bénéfice Consolidé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iedad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nción de los pagos de intereses y dividendos entre sociedades vinculadas (Directiva modificada en el año 200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ciones muy parciales dentro de la OC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jemplo : Stock optio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Discussion draft « Cross border income tax issues arising from employee stock option plans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ciones bilaterales dentro de los convenios de doble i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ón del principio de la exención (exemp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900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o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ncia eligió distintos métodos según la naturaleza de la renta y de los sujetos tributari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osición territorial para las personas sujetas a impuestos sobre las soc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osición  mundial para el impuesto a la renta de las personas 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ó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181080" y="2349000"/>
            <a:ext cx="4859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 impuesto sobre sociedad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« IS »), tiene un ámbito estrictamente teritorial: sólo son imponibles en Francia las  operaciones que tienen lugar en el teritorio francés,  o que parten del mismo (exportaci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ncia aplica la exención unilater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58000" y="2612880"/>
            <a:ext cx="1884240" cy="218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886000" y="3621240"/>
            <a:ext cx="792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399440" y="3909960"/>
            <a:ext cx="79200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99080" y="2565360"/>
            <a:ext cx="2700360" cy="252108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495680"/>
            <a:ext cx="177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Imposi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Franc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4160" y="3618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ó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2391840"/>
            <a:ext cx="4316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e principio de teritorialidad también se aplica dentro del cuadro de los convenios destinados a eliminar la doble imposición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s sucursales no son imponibles en Franci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02560" y="3763800"/>
            <a:ext cx="1884240" cy="218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6730560" y="4772160"/>
            <a:ext cx="792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244000" y="5060880"/>
            <a:ext cx="79200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833400" cy="417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51960" y="332892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ccff"/>
                </a:solidFill>
                <a:latin typeface="Arial"/>
              </a:rPr>
              <a:t>Succu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ccff"/>
                </a:solidFill>
                <a:latin typeface="Arial"/>
              </a:rPr>
              <a:t>en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3716280"/>
            <a:ext cx="2700360" cy="252108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4760" y="541008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Imposi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Franc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148360" y="2276640"/>
            <a:ext cx="331128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98720" y="47689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ó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4020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sten algunas excepciones al principio de teritorialidad del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s filiales y sucursales ubicadas en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stados o teritorios con fiscalidad privilegiada son imponi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n 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51760" y="3114720"/>
            <a:ext cx="188424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940360" y="1989000"/>
            <a:ext cx="1319400" cy="124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46160" y="3255840"/>
            <a:ext cx="13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Sucursal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un paraí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1268280"/>
            <a:ext cx="3780000" cy="525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1814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Imposi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Franc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ó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62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tras exepciones al principio de teritorialida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gunos grupos de sociedades (sector industrial, petrolero) pueden acogerse a un sistema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onible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51760" y="3114720"/>
            <a:ext cx="1884240" cy="218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64000" y="1268280"/>
            <a:ext cx="3780000" cy="525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4560" y="5105520"/>
            <a:ext cx="136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Imposición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Franc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12000" y="5013360"/>
            <a:ext cx="831600" cy="415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588000" y="5661000"/>
            <a:ext cx="636840" cy="42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651640" y="3357720"/>
            <a:ext cx="752400" cy="37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020000" y="1989000"/>
            <a:ext cx="657000" cy="346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724360" y="4149720"/>
            <a:ext cx="714600" cy="500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012000" y="2492280"/>
            <a:ext cx="801720" cy="45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740720" y="5373720"/>
            <a:ext cx="6238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ó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108000" y="1600200"/>
            <a:ext cx="482616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el impuesto a la renta de las persona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Francia ha elegido una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osición mundia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s convenios de doble imposición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eve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 derecho exclusivo de gravar la renta o una exoner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mbién existe la posibilidad de repartir la imposición con una imputación de un crédito de impuesto calculado sobre el impuesto de retención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forán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19640" y="2133720"/>
            <a:ext cx="1336680" cy="668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885080" y="4100400"/>
            <a:ext cx="1003320" cy="669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03440" y="2897280"/>
            <a:ext cx="145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nta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to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4880" y="4941720"/>
            <a:ext cx="147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nta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puesto :(4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go neto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2708280"/>
            <a:ext cx="1368720" cy="10810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ó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026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alta de armonización en la definición de la base imponible origina una doble tributación, como asimismo da lugar a la duplicación de  deducciones,  que no se pueden resolver con los convenios bilatera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jemplo 1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Francia,el crédito tributario de un producto financiero pertenece al portador del título el día del pago del inter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talia, el mismo crédito tributario se reparte prorrata temporis entre los distinctos port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a diferencia de definición de la base imponible permitió multiplicar el crédito por impuesto extranjero y desgravarlo dos ve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9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éase el esquema de la página 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Arial"/>
              </a:rPr>
              <a:t>10°Congreso Tributario Nacional</a:t>
            </a:r>
            <a:br>
              <a:rPr sz="2000"/>
            </a:br>
            <a:r>
              <a:rPr b="0" i="1" lang="fr-FR" sz="2000" spc="-1" strike="noStrike">
                <a:solidFill>
                  <a:srgbClr val="990000"/>
                </a:solidFill>
                <a:latin typeface="Arial"/>
              </a:rPr>
              <a:t>Reformulación del principio de la fuente en el impuesto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846360" cy="56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3382920"/>
            <a:ext cx="46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2878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878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2878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3525840"/>
            <a:ext cx="3313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4000" y="3498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2662200"/>
            <a:ext cx="43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733840"/>
            <a:ext cx="2737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7280" y="23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8720" y="241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3600" y="2322360"/>
            <a:ext cx="36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 portador italiano tiene el títu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1 meses y lo vende un 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tes del ven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 inversor italiano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gravar 11/12 del 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 francés goza del 100% del 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l crédito tributario(C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e ha  dupli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56000" y="3860640"/>
            <a:ext cx="86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4:31:03Z</dcterms:created>
  <dc:creator>Delphine Charles-Péronne</dc:creator>
  <dc:description/>
  <dc:language>en-US</dc:language>
  <cp:lastModifiedBy>C.P.C.E.C.A.B.A.</cp:lastModifiedBy>
  <cp:lastPrinted>2003-10-22T21:14:39Z</cp:lastPrinted>
  <dcterms:modified xsi:type="dcterms:W3CDTF">2003-10-23T13:21:42Z</dcterms:modified>
  <cp:revision>37</cp:revision>
  <dc:subject/>
  <dc:title>10°Congreso Tributario Nacional Reformulacion del principio de la fuente en el impuesto a la renta</dc:title>
</cp:coreProperties>
</file>