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2E0-6CA2-42B6-BB04-9AF4FC1B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0BF-74CB-454E-A090-85175E1D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ED4-D15C-421E-BFB3-C32AA885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5D6-1E43-4A0C-A3E7-B7296F40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6F3-436C-418D-A5B0-E2E4807F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9D4-7572-4F6C-BC4E-3E438C90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DE1-FB61-457E-8C29-7A3EEC9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C08-0B81-4BC0-9FEE-8A7DA5AD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3F4-5C5C-464F-BBD1-F67E9E12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F1C-BC9B-4C9B-974A-4B8ADF7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E86-A197-420A-95EE-A7EB7C79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1AF-F12A-4976-8CAA-C60365B2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2C20-0204-4B7F-B91C-BA0EB6F70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ALORIZAC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IPIO DE LA FUENTE</a:t>
            </a:r>
            <a:endParaRPr b="0" lang="en-US" sz="5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8560" y="4572360"/>
            <a:ext cx="59277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osición del Relator Gen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. (C.E.) Angel Schin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685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 CONVENIOS O TRATADOS PARA PREVENIR LA DOBLE IMPOSICION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21840" y="1671840"/>
            <a:ext cx="63478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esfuerzos desde la Liga de las 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Conve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Modelo de la O.C.D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sus miem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ntro de la Comunidad Europ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los países de economías em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sión y/o elusión: Treaty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Son necesarios los trat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Son o no un mi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aben otras alternativas al esquema act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2768760"/>
            <a:ext cx="46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5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CION INTERNACIONA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STADES FISCALES: PROBLEMAS DE DELIM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CRISIS DE SUS FUNDAMENTOS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2068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El comercio electrónico ha exteriorizado la crisis del esquema distribucional vigente y del concepto de “establecimiento perman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La difusa distinción entre rentas activas y pa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La competencia fiscal noc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2768760"/>
            <a:ext cx="46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68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ITUACION EN PARTICULAR DE DETERMINADAS “RENTAS PASIV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282760"/>
            <a:ext cx="65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s de bienes inmue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768760"/>
            <a:ext cx="46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68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GRAN DILEMA DE UNA DISTRIBUCION EQUITATIVA Y DE APLICACIÓN RAZO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627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eo del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fundamentos teórico-con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2768760"/>
            <a:ext cx="46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03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ERENCIAS PARA E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977760"/>
            <a:ext cx="7848720" cy="56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o debe cambiar, pero no mu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“Inmovilismo” o Renov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ropuesta Kemmeren de un nuevo criterio de vinculación: el principio de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propuestas de otras bases para la distribución de Dale Pi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 de la base imponible erosionada (Base erosion approa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 del establecimiento permanente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 basado en el reintegro del impuesto 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fectiva imposición primaria en la fuente según la propuesta de Avi-Yon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valorización del pirncipioo de la fuente dentro del esquema del Modelo de la O.C.D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2768760"/>
            <a:ext cx="46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07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EVAMENTE EL DI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CION EQUITATIVA DE LA MATERIA IM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185200"/>
            <a:ext cx="655308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Dónde se crea la rique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ión entre la asignación de la riqueza a su creador y la distribución de la misma entre las 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2768760"/>
            <a:ext cx="46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73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05344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conclusiones de los ponentes al X Congreso Tribu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Fuente o domicil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rédito de impuesto o exen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Medidas unilaterales o C.D.I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volución del pensamiento en la doctrina   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2768760"/>
            <a:ext cx="46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84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ESTRAS OPINIONES Y 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1454760"/>
            <a:ext cx="655308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firmación de la vigencia de la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cia un nuevo 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vitalización del principio de la 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ubsistencia del principio de residencia unido a una exención condicionada de las rentas de fuente extranjera como un medio de luchar contra los paraís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D.I. para la distribución cualitativa y cuantitativa de la fuente y para la cooperación e intercambio de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ALORIZACION DEL PRINCIPIO DE LA FUEN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79246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tema elegido implica una tesis de por s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 tesis central de este informe de Relatoría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La distribución internacional de potestade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atisface los tradicionales principios de equidad y eficiencia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perjudicial para los países emergentes y en proceso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CONSECUENC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hace necesario buscar soluciones diferentes a las ensayadas hasta el m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676520"/>
            <a:ext cx="79246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yoría de los países aplica simultáneamente los criterios de la fuente y de la re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oble imposición internacional emergente es uno de los factores que más afecta al movimiento internacional de cap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ello, desde principios del siglo XX se ha intentado neutralizarla o minimiza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métodos y medidas para resolverla son varios. El más difundido y conflictivo es el d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crédito de im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aplicación de dichos medios y medidas se torna cada vez más comple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ALORIZACION DEL PRINCIPIO DE LA FUEN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POTESIS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762120"/>
            <a:ext cx="9144000" cy="4330440"/>
            <a:chOff x="0" y="762120"/>
            <a:chExt cx="9144000" cy="4330440"/>
          </a:xfrm>
        </p:grpSpPr>
        <p:sp>
          <p:nvSpPr>
            <p:cNvPr id="48" name=""/>
            <p:cNvSpPr/>
            <p:nvPr/>
          </p:nvSpPr>
          <p:spPr>
            <a:xfrm>
              <a:off x="914400" y="2895480"/>
              <a:ext cx="2149560" cy="916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r la naturaleza del instrumento jurídico (Medida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9240" y="2176560"/>
              <a:ext cx="2149560" cy="916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didas unilater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legislación del país del invers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3657600"/>
              <a:ext cx="2179440" cy="642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venios Bilater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05400" y="3056040"/>
              <a:ext cx="214956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elo O.C.D.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05400" y="3886200"/>
              <a:ext cx="214956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elo O.N.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05400" y="4724280"/>
              <a:ext cx="214956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t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7621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S MEDIOS Y MEDIDAS PARA PREVENIR O ATENUAR LA DOBLE IMPOSICION INTERNA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3"/>
              <a:endCxn id="50" idx="1"/>
            </p:cNvCxnSpPr>
            <p:nvPr/>
          </p:nvCxnSpPr>
          <p:spPr>
            <a:xfrm>
              <a:off x="3063960" y="3357360"/>
              <a:ext cx="442080" cy="69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8" idx="3"/>
              <a:endCxn id="49" idx="1"/>
            </p:cNvCxnSpPr>
            <p:nvPr/>
          </p:nvCxnSpPr>
          <p:spPr>
            <a:xfrm flipV="1">
              <a:off x="3063960" y="2638080"/>
              <a:ext cx="396000" cy="72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0" idx="3"/>
              <a:endCxn id="51" idx="1"/>
            </p:cNvCxnSpPr>
            <p:nvPr/>
          </p:nvCxnSpPr>
          <p:spPr>
            <a:xfrm flipV="1">
              <a:off x="5684760" y="3242520"/>
              <a:ext cx="621000" cy="80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0" idx="3"/>
              <a:endCxn id="53" idx="1"/>
            </p:cNvCxnSpPr>
            <p:nvPr/>
          </p:nvCxnSpPr>
          <p:spPr>
            <a:xfrm>
              <a:off x="5684760" y="4051440"/>
              <a:ext cx="621000" cy="86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0" idx="3"/>
            </p:cNvCxnSpPr>
            <p:nvPr/>
          </p:nvCxnSpPr>
          <p:spPr>
            <a:xfrm>
              <a:off x="5684760" y="4051080"/>
              <a:ext cx="564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12760" y="419040"/>
            <a:ext cx="8931240" cy="6433920"/>
            <a:chOff x="212760" y="419040"/>
            <a:chExt cx="8931240" cy="6433920"/>
          </a:xfrm>
        </p:grpSpPr>
        <p:sp>
          <p:nvSpPr>
            <p:cNvPr id="61" name=""/>
            <p:cNvSpPr/>
            <p:nvPr/>
          </p:nvSpPr>
          <p:spPr>
            <a:xfrm>
              <a:off x="212760" y="2506680"/>
              <a:ext cx="1905120" cy="916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r la forma de lograr el objetivo (Méto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555480"/>
              <a:ext cx="167652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ci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0360" y="419040"/>
              <a:ext cx="2362320" cy="642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étodo de deducción del impuesto 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37240" y="4114800"/>
              <a:ext cx="259092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n progresiv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84320" y="1676520"/>
              <a:ext cx="167652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mpor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3080" y="3657600"/>
              <a:ext cx="259092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70360" y="1219320"/>
              <a:ext cx="2362320" cy="1465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iferimiento de utilidades devengadas hasta su efectiva percepción (Tax defer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4320" y="4024440"/>
              <a:ext cx="167652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t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70360" y="2819520"/>
              <a:ext cx="2362320" cy="916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étodo de asignación directa o separación de fu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70360" y="3886200"/>
              <a:ext cx="2362320" cy="649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étodo de Exen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70360" y="5334120"/>
              <a:ext cx="2362320" cy="642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étodo de Crédito de Impue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37240" y="4572000"/>
              <a:ext cx="259092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n limit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37240" y="5029200"/>
              <a:ext cx="259092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 limit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37240" y="5486400"/>
              <a:ext cx="2590920" cy="642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putado o subyac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indire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37240" y="6210360"/>
              <a:ext cx="2606760" cy="642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or impuestos exoner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Tax sparing claus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943600" y="4800600"/>
              <a:ext cx="0" cy="53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43600" y="4800600"/>
              <a:ext cx="609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43600" y="6019920"/>
              <a:ext cx="0" cy="53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3600" y="6553080"/>
              <a:ext cx="609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8520" y="5638680"/>
              <a:ext cx="304560" cy="30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248520" y="5181480"/>
              <a:ext cx="263520" cy="45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971800" y="3200400"/>
              <a:ext cx="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71800" y="3200400"/>
              <a:ext cx="914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4191120"/>
              <a:ext cx="228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4419720"/>
              <a:ext cx="0" cy="121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71800" y="5638680"/>
              <a:ext cx="914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248520" y="3885840"/>
              <a:ext cx="304560" cy="30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48520" y="4191120"/>
              <a:ext cx="304560" cy="17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1828800"/>
              <a:ext cx="228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762120"/>
              <a:ext cx="228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143000" y="762120"/>
              <a:ext cx="0" cy="175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762120"/>
              <a:ext cx="838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3000" y="3429000"/>
              <a:ext cx="0" cy="76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3000" y="4191120"/>
              <a:ext cx="838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43000" y="1828800"/>
              <a:ext cx="838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1143000"/>
            <a:ext cx="792504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lección y justificación de los criterios de vinculación del hecho imponible. Momentos o criterios de vinculación del hecho im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riterio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riterios su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ci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838080"/>
            <a:ext cx="7924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ficación teórico-conceptual de los distintos criterios de vinculación en función de los principios de la trib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dad entre las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dad en función de la regla de la capacidad contribu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quidad horizontal dentro de un país: se satisface aplicando el criterio de la re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886200"/>
            <a:ext cx="7924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1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dad en función de la regla del 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fica razonablemente la imposición en la 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00600"/>
            <a:ext cx="7924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1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dad entre las 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5334120"/>
            <a:ext cx="75438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ribución razonable de potestade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licación de la regla de conexión económica o “economic allegian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609480"/>
            <a:ext cx="8001000" cy="57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ficiencia- Neutr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utralidad en la exportación de cap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utralidad en la importación de cap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istinción entre la N.E.C. y la N.I.C. es criticable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contradicción intríns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utralidad respecto de otr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utralidad en la exportación de capitales y trabajo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.E.C.T. (C.L.E.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utralidad en la importación de capitales y trabajo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.I.C.T. (C.L.I.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desmoronamiento del principio de equidad interindividual basado en la capacidad contributiva como elemento “granítico” de sustentación del sistema distribucional vi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685800"/>
            <a:ext cx="80010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ncipio soberano de cada país para establecer su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lítica 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beranía y territor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lat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acuerdos bi o multilat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as desde el 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tricciones a la independenci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one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sibilidad de conciliar los distintos tip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utralidad con los restantes prin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dificultades para la elección del criterio aprop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buClr>
                <a:srgbClr val="0033cc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16:43:03Z</dcterms:created>
  <dc:creator>a</dc:creator>
  <dc:description/>
  <dc:language>en-US</dc:language>
  <cp:lastModifiedBy>C.P.C.E.C.A.B.A.</cp:lastModifiedBy>
  <cp:lastPrinted>2003-10-22T20:32:39Z</cp:lastPrinted>
  <dcterms:modified xsi:type="dcterms:W3CDTF">2003-10-22T21:49:33Z</dcterms:modified>
  <cp:revision>11</cp:revision>
  <dc:subject/>
  <dc:title>REVALORIZACION DEL PRINCIPIO DE LA FUENTE</dc:title>
</cp:coreProperties>
</file>