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203-38F5-4709-8ED7-8D87F39B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70F-50CD-4296-9DFE-1205F01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C4B-2789-40A2-A480-516BE168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94C-28E7-473A-A297-21823021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1F28-645F-4202-B4DE-0E0A9985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F257-FC5A-4AF6-B4E6-DCBBA30A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EF07-C51D-44AC-93FF-6E0BDEC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0F74-08B7-4C16-AFE4-EDCADA0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677-7D74-4859-8BAF-CD502236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256C-2912-480E-939E-99C11C9A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B41-3D50-4DB1-95B8-FB98266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F88-7C51-4F17-8AD9-51573A99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A6CE-1082-41D6-B489-0557846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617-3744-45CF-8327-9FBB33A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7AB8-E9B2-4110-BCBC-DAB1D12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5873-2A74-4011-972A-F57D37C0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82F0-7926-4565-B6B3-8A9B9CF4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39F-D2D5-4484-AF27-F1C61FD8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527-B71C-42B7-86D7-C360FCF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2CB-915C-4FB0-A676-225157C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D24-B746-4D14-94DE-1D66F530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7CA-6302-41CE-BBE2-A09935E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A99-EFFE-4D31-AB33-4DB2BF9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B71-C236-4F25-8439-C47A4AB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2F99-7E53-45E5-BA36-66C74DDF3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FBD9-5C6D-4117-995D-19FEB6224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AR" sz="3200" spc="-1" strike="noStrike">
                <a:solidFill>
                  <a:srgbClr val="ffff00"/>
                </a:solidFill>
                <a:latin typeface="Times New Roman"/>
              </a:rPr>
              <a:t>º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ngreso Tributario del Consejo Profesional de Ciencias Econ</a:t>
            </a:r>
            <a:r>
              <a:rPr b="0" lang="es-AR" sz="3200" spc="-1" strike="noStrike">
                <a:solidFill>
                  <a:srgbClr val="ffff00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cas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uenos Aires, Argentina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 al 25 de Octubre de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0199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conomía Política de la Reforma Tributaria: Experiencia Latinoameric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019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Juan C. Gómez Sabaini Maximiliano Geff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4480" y="3029040"/>
            <a:ext cx="8915400" cy="799920"/>
            <a:chOff x="114480" y="3029040"/>
            <a:chExt cx="8915400" cy="799920"/>
          </a:xfrm>
        </p:grpSpPr>
        <p:sp>
          <p:nvSpPr>
            <p:cNvPr id="96" name=""/>
            <p:cNvSpPr/>
            <p:nvPr/>
          </p:nvSpPr>
          <p:spPr>
            <a:xfrm>
              <a:off x="114480" y="3029040"/>
              <a:ext cx="8915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14480" y="3029040"/>
              <a:ext cx="4572000" cy="671400"/>
              <a:chOff x="114480" y="3029040"/>
              <a:chExt cx="4572000" cy="671400"/>
            </a:xfrm>
          </p:grpSpPr>
          <p:sp>
            <p:nvSpPr>
              <p:cNvPr id="98" name=""/>
              <p:cNvSpPr/>
              <p:nvPr/>
            </p:nvSpPr>
            <p:spPr>
              <a:xfrm>
                <a:off x="114480" y="302904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480" y="3029040"/>
                <a:ext cx="45720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8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838440" cy="728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032280"/>
            <a:ext cx="662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3032280"/>
            <a:ext cx="6058080" cy="360"/>
            <a:chOff x="0" y="3032280"/>
            <a:chExt cx="6058080" cy="360"/>
          </a:xfrm>
        </p:grpSpPr>
        <p:sp>
          <p:nvSpPr>
            <p:cNvPr id="103" name=""/>
            <p:cNvSpPr/>
            <p:nvPr/>
          </p:nvSpPr>
          <p:spPr>
            <a:xfrm>
              <a:off x="0" y="3032280"/>
              <a:ext cx="60580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0" y="3032280"/>
              <a:ext cx="6058080" cy="360"/>
              <a:chOff x="0" y="3032280"/>
              <a:chExt cx="6058080" cy="360"/>
            </a:xfrm>
          </p:grpSpPr>
          <p:sp>
            <p:nvSpPr>
              <p:cNvPr id="105" name=""/>
              <p:cNvSpPr/>
              <p:nvPr/>
            </p:nvSpPr>
            <p:spPr>
              <a:xfrm>
                <a:off x="0" y="3032280"/>
                <a:ext cx="6058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3032280"/>
                <a:ext cx="6058080" cy="360"/>
                <a:chOff x="0" y="3032280"/>
                <a:chExt cx="6058080" cy="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32280"/>
                  <a:ext cx="60580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3032280"/>
                  <a:ext cx="60580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 van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de promo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a actividades do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cas sustentadas en incentiv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de promo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y de incentivos a las exportaciones (Z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niza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de las administraciones tributarias y aduaneras,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nque subs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un al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ivel de evas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e incumplimien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El diagnóstico indica que es necesario recuperar o aumentar la carga tributaria y ello plantea las siguientes opciones....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</a:rPr>
              <a:t>Punto y contrapunto..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mpliar las bases de los tributos más modernos como IVA y Renta, o aumentar las tasas de los mis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tenuar la regresividad del sistema tributario, o profundizar las inequ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ordinar la política tributaria a nivel regional, o competir entre los países por la búsqueda de recursos fis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cesidad de modernizar la estructura tribut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urar un mejor balance entre la tributa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directa e indire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ar los avances en el terreno de la  armoniza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talecer la coordina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entre las administraciones tributarias a nivel nacional y reg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tear una agenda de prioridades de aspectos crít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l de los incentivos y es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os tributarios a la invers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y exporta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r imposi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selectiva sobre bien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onizar la estructura de las bases im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r las acciones hacia el fortalecimiento de la imposi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a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ible evitar los impactos negativos de los impuestos técnicamente mal diseñ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esidad de consensuar las reformas técnicas con los actores so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l </a:t>
            </a: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tema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de ho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Por qué es importante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iscutir la economía política de la reforma tributari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nteracción entre la conveniencia técnica y la viabilidad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problemática política de la reforma: como consensuarla movilizando a los grupos que la apoyan y neutralizando a los que la rechaz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Actores involucr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Gobi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artidos polí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Grupos de po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Organismo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ntexto macro doméstico y ex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n general, los países de Latinoamérica  recaudan menos de lo que deberían para...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grar el equilibr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inanciar el desarrollo human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y los programas sociales y de infra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inanciar el ajuste y reconversión requeridos por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os tratados de integración regional (TLC, MERCOSUR, ALCA, etc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arga tributaria es menor de lo </a:t>
            </a: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641600"/>
            <a:ext cx="91440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... y el promedio regional está lejos de los países desarroll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ros problemas serios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qu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 en general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n mostrado progresos pero que están muy por detrás de las mejores práctic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con mucha discrecionalidad y falta de transpa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istemas que 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acerban la in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lgunos hechos estiliz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o en el nivel de la pres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tributaria, aunque reducido y con reformas continu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en el papel de los impuestos al comercio exterior debido a la apertura comer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rte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fasis en el fortalecimiento de la imposi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indirecta, especialmente en el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ás característica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de las bases imponibles por amplio 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o de exenciones y desgrav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c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de las tasas de los impuestos directos y aumento de las tasas del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rte peso en la imposición a las sociedades y escasa importancia de los impuestos que gravan a las personas fí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23:20:35Z</dcterms:created>
  <dc:creator>Administrator</dc:creator>
  <dc:description/>
  <dc:language>en-US</dc:language>
  <cp:lastModifiedBy>M03</cp:lastModifiedBy>
  <dcterms:modified xsi:type="dcterms:W3CDTF">2003-10-25T12:46:15Z</dcterms:modified>
  <cp:revision>20</cp:revision>
  <dc:subject/>
  <dc:title>Opciones de reforma tributaria para la región</dc:title>
</cp:coreProperties>
</file>