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BAD-8732-4188-93D3-F9AC1735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B7A-18EE-493B-8870-43FEB511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B5C-81B3-4116-BC43-C48D125F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E8E-24B5-4D48-8F6F-32D8D650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4A8-FC1D-45DC-ACD1-AB943D4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33A-CCFD-4658-9113-A47A2C0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E8F-9065-4AA7-9C95-334C91E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D08-92E8-42DF-A997-4946B60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561-BE98-477F-9B93-8A3490F6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312-508C-41D9-A3E1-72B2235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B5B-1F14-4469-85BD-A49D7AE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9B5-CE19-4B0E-8DCC-2FC7BD7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15DC-5EEB-4D0E-932A-93D0AE1CD4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DETERMINAR EL TOTAL D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I</a:t>
            </a:r>
            <a:r>
              <a:rPr b="1" lang="es-E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NGRESOS QU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RECIBEN </a:t>
            </a:r>
            <a:r>
              <a:rPr b="1" lang="es-ES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LAS PROVINCIAS</a:t>
            </a: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3352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SIGNACION DE RECURSOS MAS TRANSPA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05520" y="60199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TALES: EN PESOS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ORMA 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447920"/>
          <a:ext cx="76201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6201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3432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PORTES EN P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UESTA PARA LA ASIGNACION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838080"/>
          <a:ext cx="761976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61976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RECURSOS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 LAS PROVI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752480"/>
            <a:ext cx="35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CON AFECTACIÓN ESPECIFI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1143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ARTICIP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DERAL DE IMPU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9000" y="13716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ER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UTOMATIC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01788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NSFERENCIAS DE RECURSOS A 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PROVINCI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9000" y="32004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ER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NO AUTOMATIC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64000" y="246852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, TÉCNICA Y EDUCACIÓ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5867280"/>
            <a:ext cx="152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T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NCI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257800"/>
            <a:ext cx="381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SA DIFERENCIAL DEL COMBUSTIBLE EN LA ZONA PATAGONICA (Gasto Tributari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5791320"/>
            <a:ext cx="35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NDO FIDUCIARIO SUBSIDIO CONSUMO DE 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0080" y="27432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35472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GALI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048120"/>
            <a:ext cx="28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BAJO (PLAN JEFES DE HOG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8640" y="3429000"/>
            <a:ext cx="186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ESARR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L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SOCIAL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0440" y="37339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A Y PRODUCCIÓ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114800"/>
            <a:ext cx="20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RSIÓN Y SERVIC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4956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BLIGACIONES A CARGO DEL TE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(ASISTENCIA FINANCIERA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7139520" y="3452760"/>
            <a:ext cx="220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DE LA N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CREDITOS INTER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EXTERN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752480" y="1676520"/>
            <a:ext cx="609840" cy="121896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114800"/>
            <a:ext cx="838440" cy="17524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429000"/>
            <a:ext cx="53352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114800" y="1371240"/>
            <a:ext cx="380880" cy="1522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600200"/>
            <a:ext cx="380880" cy="30492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14800" y="5486400"/>
            <a:ext cx="380880" cy="3808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6019920"/>
            <a:ext cx="38088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6172200"/>
            <a:ext cx="380880" cy="30492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514600"/>
            <a:ext cx="3809880" cy="2362320"/>
          </a:xfrm>
          <a:prstGeom prst="bracePair">
            <a:avLst>
              <a:gd name="adj" fmla="val 8333"/>
            </a:avLst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43600" y="662940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*IMPORTES EN MILES DE P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85800" y="-2293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ENCIAS AUTO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410080" y="658332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MPORTES EN MILES DE P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ENCIAS AUTOMATICAS DE LIBRE DISPON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609480"/>
          <a:ext cx="76960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696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560920" y="6400800"/>
            <a:ext cx="358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MPORTES: EN MILES DE P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ENCIAS AUTOMATICAS CON AFECTACION ESPEC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838080"/>
          <a:ext cx="75438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5438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6621480"/>
            <a:ext cx="262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NPORTES EN MILES DE P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522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ENCIAS NO AUTOMA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69160" y="658332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PORTES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 MILES DE P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TRAS TRANS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762120"/>
          <a:ext cx="8001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8001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257800" y="6324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MPORTES EN P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ES POR TRANS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685800"/>
          <a:ext cx="80773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80773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762120" y="0"/>
            <a:ext cx="7772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O COEFICIENTE CORREGIDO CON  LEY 23.5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1600" y="990720"/>
          <a:ext cx="62485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24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2:41:35Z</dcterms:created>
  <dc:creator>JESSICA FANTI</dc:creator>
  <dc:description/>
  <dc:language>en-US</dc:language>
  <cp:lastModifiedBy>A500</cp:lastModifiedBy>
  <dcterms:modified xsi:type="dcterms:W3CDTF">2003-10-24T18:32:57Z</dcterms:modified>
  <cp:revision>27</cp:revision>
  <dc:subject/>
  <dc:title>PRESUPUESTO 2004 </dc:title>
</cp:coreProperties>
</file>