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2D9-B9B2-4270-BAB5-5612F52B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00B-84AB-4B70-BE3E-B0F06B48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202-4E1D-4A02-B105-A19D077F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A91-DFBC-4E30-8922-A40F811E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876A-083B-44EE-9F47-78077552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6E94-9BA1-49CC-AB4D-E9D82279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5F60-E473-4D05-8D81-8BFFFECA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D8C8-CDA1-43FE-86CE-0DE6362D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CE7F-AE6B-4C5B-96F5-2F2C1201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D7AF-92DF-4E65-9374-DEC03548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0D6F-93DF-4FC8-B396-930FAED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2D6-4F77-4DE0-8583-C861A5B2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B8DA-7694-4230-BABB-ACFD33C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8794-AB33-4B9B-94D0-4211F4AB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1CF6-A8C6-41C8-BCD2-0A95D9B4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21DF-9667-4B27-BB63-51CDC95D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C8F3-14EB-4816-A64F-4E2371DE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A51-E318-43A0-A7AD-5083FE6C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F7E-E4B3-4777-874A-F406EDA9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C03-9448-4627-81B5-5D8576C2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3C9-2AE8-4C7A-9C02-E08CEB42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315-CD77-4E2B-822D-2B7D1FD3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92E-95C3-4099-9DC7-6BF29CA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E0F-7BAA-41D0-8746-3AFB07D4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0E44-1363-4B1F-AF1E-F869067A8DC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71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BB28-E793-4816-A0AA-BF4165E0014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ERNESTO REZ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DIRECTOR D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INSTITUTO DE ECONOMIA Y FINANZ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rnerezk@eco.unc.edu.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FACULTAD DE CIENCIAS ECONOMICA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UNIVERSIDAD NACIONAL DE CORDOB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24 de Octubre de 2003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MANDATO CONSTITUCIONAL DE 199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Distribución secundaria  apuntará a grados equivalentes de desarrollo, calidad de vida e igualdad de oportunidade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LA IMPORTANCIA DE LA NIVELAC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Qué nivela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Nivelación de ingresos fiscales (i.e.Canadá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Nivelación de gasto público (i.e. Australia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[ BT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nj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-  B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]  P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ensación a la provincia i por el impuesto j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nj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tandard promedio nac.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el imp. j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ase tributaria del impuesto j en la provincia i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n,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bl. nacional y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bl. de la provincia i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ícuota promedio nacional para el imp. j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ESTA PROPUESTA SUGIER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Mantener transitoriamente, para la masa coparticipable actual, los porcentajes de distribución secundaria de la Ley 23548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Transformar el resto de la transferencias federales (incluídos fondos) en Otras Transferencia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ESTA PROPUESTA SUGIER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Reintroducir el </a:t>
            </a:r>
            <a:r>
              <a:rPr b="1" lang="es-ES_tradnl" sz="2800" spc="-1" strike="noStrike">
                <a:solidFill>
                  <a:srgbClr val="ffff66"/>
                </a:solidFill>
                <a:latin typeface="Arial Black"/>
              </a:rPr>
              <a:t>principio devolutivo</a:t>
            </a: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 en distrib. Secundaria, asignando 65% de Otras Transferencias en función de la población provinci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Reintroducir </a:t>
            </a:r>
            <a:r>
              <a:rPr b="1" lang="es-ES_tradnl" sz="2800" spc="-1" strike="noStrike">
                <a:solidFill>
                  <a:srgbClr val="ffff66"/>
                </a:solidFill>
                <a:latin typeface="Arial Black"/>
              </a:rPr>
              <a:t>criterios de eficiencia</a:t>
            </a: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 en distrib. Secundaria, asignando 20% de Otras Transferencias  en relación inversa al empleo público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ESTA PROPUESTA SUGIE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Introducir </a:t>
            </a:r>
            <a:r>
              <a:rPr b="1" lang="es-ES_tradnl" sz="2800" spc="-1" strike="noStrike">
                <a:solidFill>
                  <a:srgbClr val="ffff66"/>
                </a:solidFill>
                <a:latin typeface="Arial Black"/>
              </a:rPr>
              <a:t>principios de equidad</a:t>
            </a: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 en distrib. Secundaria, asignando hasta 15% de Otras Transferencias para nivelar deficiencias en recaudación potencial per cápita provinci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(modelo canadiens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ESTA PROPUESTA SUGIER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Crear </a:t>
            </a:r>
            <a:r>
              <a:rPr b="1" lang="es-ES_tradnl" sz="2800" spc="-1" strike="noStrike">
                <a:solidFill>
                  <a:srgbClr val="ffff66"/>
                </a:solidFill>
                <a:latin typeface="Arial Black"/>
              </a:rPr>
              <a:t>transferencias horizontales</a:t>
            </a: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 que  atenuen los desequilibrios, vía aportes de provincias ganadoras en la distribución secundaria en relación a valores referenciales (benchmark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ESTA PROPUESTA SUGIER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Introducir </a:t>
            </a:r>
            <a:r>
              <a:rPr b="1" lang="es-ES_tradnl" sz="2800" spc="-1" strike="noStrike">
                <a:solidFill>
                  <a:srgbClr val="ffff66"/>
                </a:solidFill>
                <a:latin typeface="Arial Black"/>
              </a:rPr>
              <a:t>criterios de nivelación</a:t>
            </a: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2800" spc="-1" strike="noStrike">
                <a:solidFill>
                  <a:srgbClr val="ffff66"/>
                </a:solidFill>
                <a:latin typeface="Arial Black"/>
              </a:rPr>
              <a:t>horizontal</a:t>
            </a: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 para compensar parcialmente los desequilibrios fiscales horizontales de las provincias perdedoras  (vía el aporte de las ganadoras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ESTA PROPUESTA SUGIER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Black"/>
              </a:rPr>
              <a:t>Otras Transferencias - Resum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65% POR POBLACION PROVINCIA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20% INVERSA DEL EMPLEO PUBLIC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15% NIVELACION  POR DIFERENCIA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N RECAUDACION PROVINCIAL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ER CAPITA (SALDO:  A FONDO DE 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TABILIZACION</a:t>
            </a: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ROVINCIAL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JERCICIO DE SIMULAC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caudación standard per cápita promedio nacional*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ño 1997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Impuesto sobre los Ingresos Brutos  $ 168,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Impuesto Inmobiliario                        $   51,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Black"/>
              </a:rPr>
              <a:t>(*) Se usaron promedios nacionales para la simulación. En Canadá se selecciona un conjunto de provincia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ARGENTINA ES UNA FEDERACION CON TRES NIVELES DE GOBIERN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LA CONSTITUCION DA PODERES AMPLIOS DE IMPOSICION Y DE GASTO A TODOS ELLO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EL NIVEL SUBNACIONAL INCLUYE 24 PROVINCIAS, UNA CIUDAD AUTONOMA Y MAS DE  1.100 MUNICIPALIDAD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JERCICIO DE SIMULAC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rov.    D.23548   Pobl.   Inv. Emp.  IIBB    Niv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B.Aires  2199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1632         66       174        -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órdob.   889         362         84        242       -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orrient. 372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110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51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65     91  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haco     500         116          55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133     3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.Ríos     489         137          53        177      -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Formosa 365           58          36          88     3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Jujuy      285           72          47          58     63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L.Pamp.  188           36          42        119     14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JERCICIO DE SIMULAC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rov.    D.23548   Pobl.   Inv. Emp.  IIBB    Niv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L.Rioja    207           34          28          87     21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Mendoz   418         189          70        181       -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Misiones 331         115          66          71     89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R. Negro 253           65          51        231       -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alta      384          126          70        132     36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. Fe       895         353          75        240       -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.Cruz    158           23           51        244      -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Tucum.   476        158           68          94     92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JERCICIO DE SIMULAC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rov.    IImob. Niv. Total  G-P   D-C s/5% Tota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B.Aires    57     -     3896  1,4%        -        3896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órd.       64     -     1335  -4,7%       -        133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orrient. 35    14     638   7,8%    -16,5      62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haco     34    16     718   2,4%       -          71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.Ríos     56     -       679  -8,0%     22,0      70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Formosa 30    10     506  -4,6%       -          506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Jujuy      33    10     477   7,7%    -12,0      465     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L.Pamp.  76     -      280 -10,3%     16,5      296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JERCICIO DE SIMULAC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rov.    IImob. Niv. Total  G-P   D-C s/5% Tota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L.Rioja    32       5    295   -8,8%    12,3      307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Misiones 29     21    621  17,8%   -67,4      554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Mendoza 48       5    680    3,6%       -         680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R.Negro  49       1    370   -8,5%    14,0      384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alta       35     17    633    6,9%   -11,2      621  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. Fe       64       -   1322   -2,8%       -       132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.Cruz     43       2   234  -23,9%    58,0      29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Tucum.   35     20   815   14,8%   -69,8      745          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 Black"/>
              </a:rPr>
              <a:t>REFLEXION FINAL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S RESULTADOS OBTENIDOS, INCLUYENDO LA ESTIMACIÓN DE LAS BASES TRIBUTARIAS NOCIONALES Y LA RECAUDACIÓN POTENCIAL DE LOS DOS PRINCIPALES IMPUESTOS PROVINCIALES, SI BIEN  PRELIMINARES, MUESTRA SIN EMBARGO QUE LA PROPUESTA RESULTARÍA FACTIBLE PARA ARGENTIN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ES ARGENTINA SOLO UNA FEDERACION ‘FORMAL’ 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MARCADA CONCENTRACION DE LA RECAUDACION EN EL NIVEL NACIONA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RELATIVAMENTE AMPLIA DESCENTRALIZACION DEL GASTO HACIA LAS PROVINCI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DESEQUILIBRIO VERTICAL -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(millones de pesos corriente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NACION        PROVINCI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INGRESOS       43.267,9              32.384,6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GASTOS           47.338,9             34.015,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UP/DEF.         - 4.071,0              - 1.630,7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INGRESOS TRIBUTARIOS PROVINCIALES PROPIOS COMO PORCENTAJE DE SUS RECURSOS -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B.AIRES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48,5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CORRIENTES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11,9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ORDOBA  34,5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SAN JUAN       11,7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ANTA FE  31,2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CHACO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10,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MENDOZA  23,6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SGO.ESTERO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8,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. RIOS       24,5    LA RIOJA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3,6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ALTA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20,9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FORMOSA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3,3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PROBLEMAS CON LA ACTUAL LEY DE COPARTICIPAC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promueve concentración de recaudación en el nivel nacion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no soluciona desequilibrios horizontale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no genera incentivos para aumentar recaudación propia provinci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promueve respondabilidad inversa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PROBLEMAS CON LA ACTUAL LEY DE COPARTICIPAC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genera alta dependencia de las transferencias federale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no se comporta adecuadamente frente a problemas del cicl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promueve endeudamiento subnacional y aumenta necesidades de ´bail out´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PROBLEMAS CON LA ACTUAL LEY DE COPARTICIPAC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los fondos específicos generan problemas de asimetría de información y de riesgo mor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promueve prácticas de  empleo que van contra una adecuada provisión de bienes y servicios público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NUEVA PROPUESTA DE ARREGLOS FISCALES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 Black"/>
              </a:rPr>
              <a:t>INTERJURISDICCIONALES PARA ARGENTIN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MANDATO CONSTITUCIONAL DE 199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Régimen garantizará remisión automática de fondo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Contemplará criterios objetivos de reparto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Distribución secundaria contemplará competencias, servicios y funcione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9:31:06Z</dcterms:created>
  <dc:creator>.</dc:creator>
  <dc:description/>
  <dc:language>en-US</dc:language>
  <cp:lastModifiedBy>z</cp:lastModifiedBy>
  <dcterms:modified xsi:type="dcterms:W3CDTF">2003-10-21T02:14:19Z</dcterms:modified>
  <cp:revision>87</cp:revision>
  <dc:subject/>
  <dc:title>FISCAL FEDERALISM IN ARGENTINA</dc:title>
</cp:coreProperties>
</file>