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2825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FAE-211A-4167-B407-9BF666EB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25E-0EA3-4EFE-B3E7-276D1917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78F-E043-48E6-9FBE-00B841C0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E96-F359-4F37-A14A-A3C10D2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346-A152-4D47-A881-D4A7FEA8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58B-52DA-4CCA-95A8-C714540C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758-7E65-4D5F-BCAC-F84197C8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DDE-F7E3-416D-8D67-15A00CD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FBB-A13A-41B5-8749-68106C4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681-811E-444A-B97B-07CBCA7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0E8-A054-4B07-A5EF-5EA9BF0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8D5-93DA-4043-98C3-15C515A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FCC-40B6-463A-B3D7-240185FF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difAFIPfONDO" descr=""/>
          <p:cNvPicPr/>
          <p:nvPr/>
        </p:nvPicPr>
        <p:blipFill>
          <a:blip r:embed="rId2"/>
          <a:stretch/>
        </p:blipFill>
        <p:spPr>
          <a:xfrm>
            <a:off x="900000" y="328680"/>
            <a:ext cx="9006120" cy="6300720"/>
          </a:xfrm>
          <a:prstGeom prst="rect">
            <a:avLst/>
          </a:prstGeom>
          <a:ln w="0">
            <a:noFill/>
          </a:ln>
        </p:spPr>
      </p:pic>
      <p:pic>
        <p:nvPicPr>
          <p:cNvPr id="6" name="BandaAFIP" descr=""/>
          <p:cNvPicPr/>
          <p:nvPr/>
        </p:nvPicPr>
        <p:blipFill>
          <a:blip r:embed="rId3"/>
          <a:stretch/>
        </p:blipFill>
        <p:spPr>
          <a:xfrm>
            <a:off x="0" y="0"/>
            <a:ext cx="990288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BandaAFIP2" descr=""/>
          <p:cNvPicPr/>
          <p:nvPr/>
        </p:nvPicPr>
        <p:blipFill>
          <a:blip r:embed="rId4"/>
          <a:stretch/>
        </p:blipFill>
        <p:spPr>
          <a:xfrm>
            <a:off x="0" y="6477120"/>
            <a:ext cx="99028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90612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BandaAFIP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1316160"/>
          </a:xfrm>
          <a:prstGeom prst="rect">
            <a:avLst/>
          </a:prstGeom>
          <a:ln w="0">
            <a:noFill/>
          </a:ln>
        </p:spPr>
      </p:pic>
      <p:pic>
        <p:nvPicPr>
          <p:cNvPr id="46" name="BandaAFIP2" descr=""/>
          <p:cNvPicPr/>
          <p:nvPr/>
        </p:nvPicPr>
        <p:blipFill>
          <a:blip r:embed="rId3"/>
          <a:stretch/>
        </p:blipFill>
        <p:spPr>
          <a:xfrm>
            <a:off x="3240" y="6286680"/>
            <a:ext cx="9902880" cy="57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8040" y="2895480"/>
            <a:ext cx="6293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Lineamientos Actu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Administración Tribu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5840" y="516564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Octubre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2520" y="150804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AF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86200" y="2362320"/>
            <a:ext cx="4273560" cy="1917720"/>
            <a:chOff x="3886200" y="2362320"/>
            <a:chExt cx="4273560" cy="1917720"/>
          </a:xfrm>
        </p:grpSpPr>
        <p:grpSp>
          <p:nvGrpSpPr>
            <p:cNvPr id="179" name=""/>
            <p:cNvGrpSpPr/>
            <p:nvPr/>
          </p:nvGrpSpPr>
          <p:grpSpPr>
            <a:xfrm>
              <a:off x="4826160" y="2908440"/>
              <a:ext cx="3333600" cy="1371600"/>
              <a:chOff x="4826160" y="2908440"/>
              <a:chExt cx="3333600" cy="1371600"/>
            </a:xfrm>
          </p:grpSpPr>
          <p:sp>
            <p:nvSpPr>
              <p:cNvPr id="180" name=""/>
              <p:cNvSpPr/>
              <p:nvPr/>
            </p:nvSpPr>
            <p:spPr>
              <a:xfrm>
                <a:off x="4826160" y="2908440"/>
                <a:ext cx="3333600" cy="1371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59800" y="3403800"/>
                <a:ext cx="291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4d32be"/>
                    </a:solidFill>
                    <a:latin typeface="Times New Roman"/>
                  </a:rPr>
                  <a:t>INSTITUCIONA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886200" y="2362320"/>
              <a:ext cx="1904760" cy="1066680"/>
              <a:chOff x="3886200" y="2362320"/>
              <a:chExt cx="1904760" cy="1066680"/>
            </a:xfrm>
          </p:grpSpPr>
          <p:sp>
            <p:nvSpPr>
              <p:cNvPr id="183" name=""/>
              <p:cNvSpPr/>
              <p:nvPr/>
            </p:nvSpPr>
            <p:spPr>
              <a:xfrm>
                <a:off x="3886200" y="2362320"/>
                <a:ext cx="1904760" cy="1066680"/>
              </a:xfrm>
              <a:prstGeom prst="ellipse">
                <a:avLst/>
              </a:prstGeom>
              <a:solidFill>
                <a:srgbClr val="442caa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41080" y="2629080"/>
                <a:ext cx="144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Desafí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3643920" y="4419720"/>
            <a:ext cx="3366360" cy="704160"/>
            <a:chOff x="3643920" y="4419720"/>
            <a:chExt cx="3366360" cy="704160"/>
          </a:xfrm>
        </p:grpSpPr>
        <p:grpSp>
          <p:nvGrpSpPr>
            <p:cNvPr id="186" name=""/>
            <p:cNvGrpSpPr/>
            <p:nvPr/>
          </p:nvGrpSpPr>
          <p:grpSpPr>
            <a:xfrm>
              <a:off x="6095880" y="4419720"/>
              <a:ext cx="914400" cy="533160"/>
              <a:chOff x="6095880" y="4419720"/>
              <a:chExt cx="914400" cy="533160"/>
            </a:xfrm>
          </p:grpSpPr>
          <p:sp>
            <p:nvSpPr>
              <p:cNvPr id="187" name=""/>
              <p:cNvSpPr/>
              <p:nvPr/>
            </p:nvSpPr>
            <p:spPr>
              <a:xfrm>
                <a:off x="7010280" y="4419720"/>
                <a:ext cx="0" cy="53316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095880" y="495288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643920" y="466416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Política de es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314440" y="4800600"/>
            <a:ext cx="4695840" cy="726480"/>
            <a:chOff x="2314440" y="4800600"/>
            <a:chExt cx="4695840" cy="726480"/>
          </a:xfrm>
        </p:grpSpPr>
        <p:grpSp>
          <p:nvGrpSpPr>
            <p:cNvPr id="191" name=""/>
            <p:cNvGrpSpPr/>
            <p:nvPr/>
          </p:nvGrpSpPr>
          <p:grpSpPr>
            <a:xfrm>
              <a:off x="6095880" y="4800600"/>
              <a:ext cx="914400" cy="546120"/>
              <a:chOff x="6095880" y="4800600"/>
              <a:chExt cx="914400" cy="54612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6095880" y="534672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10280" y="4800600"/>
                <a:ext cx="0" cy="5335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14440" y="5067360"/>
              <a:ext cx="378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Consolidar la agencia ú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13040" y="5181480"/>
            <a:ext cx="5997240" cy="726480"/>
            <a:chOff x="1013040" y="5181480"/>
            <a:chExt cx="5997240" cy="726480"/>
          </a:xfrm>
        </p:grpSpPr>
        <p:grpSp>
          <p:nvGrpSpPr>
            <p:cNvPr id="196" name=""/>
            <p:cNvGrpSpPr/>
            <p:nvPr/>
          </p:nvGrpSpPr>
          <p:grpSpPr>
            <a:xfrm>
              <a:off x="6095880" y="5181480"/>
              <a:ext cx="914400" cy="533520"/>
              <a:chOff x="6095880" y="5181480"/>
              <a:chExt cx="914400" cy="53352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6095880" y="571500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010280" y="5181480"/>
                <a:ext cx="0" cy="5335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013040" y="5448240"/>
              <a:ext cx="50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Fortalecer la capacidad sancionato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2280" y="1219320"/>
            <a:ext cx="2053080" cy="609480"/>
            <a:chOff x="152280" y="1219320"/>
            <a:chExt cx="2053080" cy="609480"/>
          </a:xfrm>
        </p:grpSpPr>
        <p:grpSp>
          <p:nvGrpSpPr>
            <p:cNvPr id="201" name=""/>
            <p:cNvGrpSpPr/>
            <p:nvPr/>
          </p:nvGrpSpPr>
          <p:grpSpPr>
            <a:xfrm>
              <a:off x="838080" y="1447920"/>
              <a:ext cx="1367280" cy="380880"/>
              <a:chOff x="838080" y="1447920"/>
              <a:chExt cx="136728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838080" y="1447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6720" y="1521000"/>
                <a:ext cx="1358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INSTITU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52280" y="12193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572000" y="2543040"/>
            <a:ext cx="43434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senso social y estabilidad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tribut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Autarquía presupuesta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Autonomí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Estabilidad en la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endición de cu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2514600"/>
            <a:ext cx="0" cy="274320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44600" y="1689120"/>
            <a:ext cx="2606760" cy="1300680"/>
            <a:chOff x="444600" y="1689120"/>
            <a:chExt cx="2606760" cy="1300680"/>
          </a:xfrm>
        </p:grpSpPr>
        <p:sp>
          <p:nvSpPr>
            <p:cNvPr id="209" name=""/>
            <p:cNvSpPr/>
            <p:nvPr/>
          </p:nvSpPr>
          <p:spPr>
            <a:xfrm>
              <a:off x="457200" y="1701720"/>
              <a:ext cx="0" cy="11178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281952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73080" y="2590920"/>
              <a:ext cx="207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Política de est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600" y="1689120"/>
              <a:ext cx="38088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4120" y="2525760"/>
            <a:ext cx="40384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lataforma informática ú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riesgo inte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ciones con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corporación de la seguridad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 de los 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2602080"/>
            <a:ext cx="0" cy="288432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4600" y="1689120"/>
            <a:ext cx="3816360" cy="1300680"/>
            <a:chOff x="444600" y="1689120"/>
            <a:chExt cx="3816360" cy="1300680"/>
          </a:xfrm>
        </p:grpSpPr>
        <p:sp>
          <p:nvSpPr>
            <p:cNvPr id="217" name=""/>
            <p:cNvSpPr/>
            <p:nvPr/>
          </p:nvSpPr>
          <p:spPr>
            <a:xfrm>
              <a:off x="457200" y="1701720"/>
              <a:ext cx="0" cy="11178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281952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71280" y="2590920"/>
              <a:ext cx="32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Consolidar la Agencia Un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4600" y="1689120"/>
              <a:ext cx="38088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52280" y="1219320"/>
            <a:ext cx="2053080" cy="609480"/>
            <a:chOff x="152280" y="1219320"/>
            <a:chExt cx="2053080" cy="609480"/>
          </a:xfrm>
        </p:grpSpPr>
        <p:grpSp>
          <p:nvGrpSpPr>
            <p:cNvPr id="222" name=""/>
            <p:cNvGrpSpPr/>
            <p:nvPr/>
          </p:nvGrpSpPr>
          <p:grpSpPr>
            <a:xfrm>
              <a:off x="838080" y="1447920"/>
              <a:ext cx="1367280" cy="380880"/>
              <a:chOff x="838080" y="1447920"/>
              <a:chExt cx="1367280" cy="380880"/>
            </a:xfrm>
          </p:grpSpPr>
          <p:sp>
            <p:nvSpPr>
              <p:cNvPr id="223" name=""/>
              <p:cNvSpPr/>
              <p:nvPr/>
            </p:nvSpPr>
            <p:spPr>
              <a:xfrm>
                <a:off x="838080" y="1447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6720" y="1521000"/>
                <a:ext cx="1358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INSTITU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52280" y="12193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2502000"/>
            <a:ext cx="40384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rategia penal 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uero Penal Tribu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Juzgados y Secretarías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ociación ilí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577960"/>
            <a:ext cx="0" cy="213372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44600" y="1689120"/>
            <a:ext cx="3334320" cy="1697040"/>
            <a:chOff x="444600" y="1689120"/>
            <a:chExt cx="3334320" cy="1697040"/>
          </a:xfrm>
        </p:grpSpPr>
        <p:sp>
          <p:nvSpPr>
            <p:cNvPr id="230" name=""/>
            <p:cNvSpPr/>
            <p:nvPr/>
          </p:nvSpPr>
          <p:spPr>
            <a:xfrm>
              <a:off x="457200" y="1701720"/>
              <a:ext cx="0" cy="11178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281952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2360" y="2590920"/>
              <a:ext cx="280656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Fortalecer la capacid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sancionato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4600" y="1689120"/>
              <a:ext cx="38088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2280" y="1219320"/>
            <a:ext cx="2053080" cy="609480"/>
            <a:chOff x="152280" y="1219320"/>
            <a:chExt cx="2053080" cy="609480"/>
          </a:xfrm>
        </p:grpSpPr>
        <p:grpSp>
          <p:nvGrpSpPr>
            <p:cNvPr id="235" name=""/>
            <p:cNvGrpSpPr/>
            <p:nvPr/>
          </p:nvGrpSpPr>
          <p:grpSpPr>
            <a:xfrm>
              <a:off x="838080" y="1447920"/>
              <a:ext cx="1367280" cy="380880"/>
              <a:chOff x="838080" y="1447920"/>
              <a:chExt cx="1367280" cy="380880"/>
            </a:xfrm>
          </p:grpSpPr>
          <p:sp>
            <p:nvSpPr>
              <p:cNvPr id="236" name=""/>
              <p:cNvSpPr/>
              <p:nvPr/>
            </p:nvSpPr>
            <p:spPr>
              <a:xfrm>
                <a:off x="838080" y="1447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6720" y="1521000"/>
                <a:ext cx="1358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INSTITU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52280" y="12193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581120" y="2209680"/>
            <a:ext cx="4336920" cy="1930680"/>
            <a:chOff x="1581120" y="2209680"/>
            <a:chExt cx="4336920" cy="1930680"/>
          </a:xfrm>
        </p:grpSpPr>
        <p:grpSp>
          <p:nvGrpSpPr>
            <p:cNvPr id="241" name=""/>
            <p:cNvGrpSpPr/>
            <p:nvPr/>
          </p:nvGrpSpPr>
          <p:grpSpPr>
            <a:xfrm>
              <a:off x="1581120" y="2768760"/>
              <a:ext cx="3333960" cy="1371600"/>
              <a:chOff x="1581120" y="2768760"/>
              <a:chExt cx="3333960" cy="1371600"/>
            </a:xfrm>
          </p:grpSpPr>
          <p:sp>
            <p:nvSpPr>
              <p:cNvPr id="242" name=""/>
              <p:cNvSpPr/>
              <p:nvPr/>
            </p:nvSpPr>
            <p:spPr>
              <a:xfrm>
                <a:off x="1581120" y="2768760"/>
                <a:ext cx="3333960" cy="1371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75160" y="3251520"/>
                <a:ext cx="271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4d32be"/>
                    </a:solidFill>
                    <a:latin typeface="Times New Roman"/>
                  </a:rPr>
                  <a:t>OPERACIONA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013280" y="2209680"/>
              <a:ext cx="1904760" cy="1066680"/>
              <a:chOff x="4013280" y="2209680"/>
              <a:chExt cx="1904760" cy="1066680"/>
            </a:xfrm>
          </p:grpSpPr>
          <p:sp>
            <p:nvSpPr>
              <p:cNvPr id="245" name=""/>
              <p:cNvSpPr/>
              <p:nvPr/>
            </p:nvSpPr>
            <p:spPr>
              <a:xfrm>
                <a:off x="4013280" y="2209680"/>
                <a:ext cx="1904760" cy="1066680"/>
              </a:xfrm>
              <a:prstGeom prst="ellipse">
                <a:avLst/>
              </a:prstGeom>
              <a:solidFill>
                <a:srgbClr val="442caa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68160" y="2476440"/>
                <a:ext cx="144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Desafí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1828800" y="4266720"/>
            <a:ext cx="4680360" cy="536400"/>
            <a:chOff x="1828800" y="4266720"/>
            <a:chExt cx="4680360" cy="536400"/>
          </a:xfrm>
        </p:grpSpPr>
        <p:sp>
          <p:nvSpPr>
            <p:cNvPr id="248" name=""/>
            <p:cNvSpPr/>
            <p:nvPr/>
          </p:nvSpPr>
          <p:spPr>
            <a:xfrm>
              <a:off x="2954160" y="4343400"/>
              <a:ext cx="35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Servicios al contribuy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28800" y="4266720"/>
              <a:ext cx="990720" cy="317880"/>
              <a:chOff x="1828800" y="4266720"/>
              <a:chExt cx="990720" cy="31788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1828800" y="4266720"/>
                <a:ext cx="0" cy="3049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28800" y="458460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1828800" y="4495320"/>
            <a:ext cx="5085720" cy="752400"/>
            <a:chOff x="1828800" y="4495320"/>
            <a:chExt cx="5085720" cy="752400"/>
          </a:xfrm>
        </p:grpSpPr>
        <p:sp>
          <p:nvSpPr>
            <p:cNvPr id="253" name=""/>
            <p:cNvSpPr/>
            <p:nvPr/>
          </p:nvSpPr>
          <p:spPr>
            <a:xfrm>
              <a:off x="2969640" y="4788000"/>
              <a:ext cx="39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Operaciones internacion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828800" y="4495320"/>
              <a:ext cx="990720" cy="559440"/>
              <a:chOff x="1828800" y="4495320"/>
              <a:chExt cx="990720" cy="559440"/>
            </a:xfrm>
          </p:grpSpPr>
          <p:sp>
            <p:nvSpPr>
              <p:cNvPr id="255" name=""/>
              <p:cNvSpPr/>
              <p:nvPr/>
            </p:nvSpPr>
            <p:spPr>
              <a:xfrm>
                <a:off x="1828800" y="505476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828800" y="4495320"/>
                <a:ext cx="0" cy="5461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828800" y="4939920"/>
            <a:ext cx="3824640" cy="777600"/>
            <a:chOff x="1828800" y="4939920"/>
            <a:chExt cx="3824640" cy="777600"/>
          </a:xfrm>
        </p:grpSpPr>
        <p:sp>
          <p:nvSpPr>
            <p:cNvPr id="258" name=""/>
            <p:cNvSpPr/>
            <p:nvPr/>
          </p:nvSpPr>
          <p:spPr>
            <a:xfrm>
              <a:off x="2970360" y="52578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Sociedades ficti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828800" y="4939920"/>
              <a:ext cx="990720" cy="559080"/>
              <a:chOff x="1828800" y="4939920"/>
              <a:chExt cx="990720" cy="559080"/>
            </a:xfrm>
          </p:grpSpPr>
          <p:sp>
            <p:nvSpPr>
              <p:cNvPr id="260" name=""/>
              <p:cNvSpPr/>
              <p:nvPr/>
            </p:nvSpPr>
            <p:spPr>
              <a:xfrm>
                <a:off x="1828800" y="549900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828800" y="4939920"/>
                <a:ext cx="0" cy="5461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1828800" y="5384520"/>
            <a:ext cx="3771720" cy="774360"/>
            <a:chOff x="1828800" y="5384520"/>
            <a:chExt cx="3771720" cy="774360"/>
          </a:xfrm>
        </p:grpSpPr>
        <p:sp>
          <p:nvSpPr>
            <p:cNvPr id="263" name=""/>
            <p:cNvSpPr/>
            <p:nvPr/>
          </p:nvSpPr>
          <p:spPr>
            <a:xfrm>
              <a:off x="2987640" y="5699160"/>
              <a:ext cx="26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Facturas apócrif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828800" y="5384520"/>
              <a:ext cx="990720" cy="546480"/>
              <a:chOff x="1828800" y="5384520"/>
              <a:chExt cx="990720" cy="546480"/>
            </a:xfrm>
          </p:grpSpPr>
          <p:sp>
            <p:nvSpPr>
              <p:cNvPr id="265" name=""/>
              <p:cNvSpPr/>
              <p:nvPr/>
            </p:nvSpPr>
            <p:spPr>
              <a:xfrm>
                <a:off x="1828800" y="593100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828800" y="5384520"/>
                <a:ext cx="0" cy="5461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52280" y="3276720"/>
            <a:ext cx="4800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jo desarrollo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moras en aplicaciones de tecnologí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3320" y="2514600"/>
            <a:ext cx="4797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rategia 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so masivo de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mpliación del Call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sulta estado de 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eralización de los medio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514600"/>
            <a:ext cx="0" cy="259092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6520" y="1231920"/>
            <a:ext cx="2125800" cy="569880"/>
            <a:chOff x="236520" y="1231920"/>
            <a:chExt cx="2125800" cy="569880"/>
          </a:xfrm>
        </p:grpSpPr>
        <p:grpSp>
          <p:nvGrpSpPr>
            <p:cNvPr id="271" name=""/>
            <p:cNvGrpSpPr/>
            <p:nvPr/>
          </p:nvGrpSpPr>
          <p:grpSpPr>
            <a:xfrm>
              <a:off x="236520" y="1420920"/>
              <a:ext cx="1363680" cy="380880"/>
              <a:chOff x="236520" y="1420920"/>
              <a:chExt cx="1363680" cy="380880"/>
            </a:xfrm>
          </p:grpSpPr>
          <p:sp>
            <p:nvSpPr>
              <p:cNvPr id="272" name=""/>
              <p:cNvSpPr/>
              <p:nvPr/>
            </p:nvSpPr>
            <p:spPr>
              <a:xfrm>
                <a:off x="247680" y="1420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520" y="1523880"/>
                <a:ext cx="128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OPER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914400" y="12319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0880" y="1879560"/>
            <a:ext cx="3678120" cy="1110240"/>
            <a:chOff x="380880" y="1879560"/>
            <a:chExt cx="3678120" cy="1110240"/>
          </a:xfrm>
        </p:grpSpPr>
        <p:sp>
          <p:nvSpPr>
            <p:cNvPr id="277" name=""/>
            <p:cNvSpPr/>
            <p:nvPr/>
          </p:nvSpPr>
          <p:spPr>
            <a:xfrm>
              <a:off x="380880" y="1879560"/>
              <a:ext cx="0" cy="93996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80880" y="2819520"/>
              <a:ext cx="60984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2590920"/>
              <a:ext cx="299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Servicios al contribuy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80880" y="1523880"/>
            <a:ext cx="3938760" cy="1110240"/>
            <a:chOff x="380880" y="1523880"/>
            <a:chExt cx="3938760" cy="1110240"/>
          </a:xfrm>
        </p:grpSpPr>
        <p:sp>
          <p:nvSpPr>
            <p:cNvPr id="281" name=""/>
            <p:cNvSpPr/>
            <p:nvPr/>
          </p:nvSpPr>
          <p:spPr>
            <a:xfrm>
              <a:off x="380880" y="1523880"/>
              <a:ext cx="0" cy="93996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80880" y="2463840"/>
              <a:ext cx="60984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2000" y="2235240"/>
              <a:ext cx="32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Operaciones internaci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55520" y="2689200"/>
            <a:ext cx="51055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iangulaciones sistemáti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ortantes sectores con operaciones intra-gru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ticencia inform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strumentos de medición física de baja confi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liferación de sociedades extranjeras sin domicilio fiscal en la argent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9640" y="2197080"/>
            <a:ext cx="47973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lan antieva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iscalización especi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la cadena de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uerdos con el I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ímenes de información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61040" y="2286000"/>
            <a:ext cx="0" cy="358128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36520" y="1231920"/>
            <a:ext cx="2125800" cy="569880"/>
            <a:chOff x="236520" y="1231920"/>
            <a:chExt cx="2125800" cy="569880"/>
          </a:xfrm>
        </p:grpSpPr>
        <p:grpSp>
          <p:nvGrpSpPr>
            <p:cNvPr id="289" name=""/>
            <p:cNvGrpSpPr/>
            <p:nvPr/>
          </p:nvGrpSpPr>
          <p:grpSpPr>
            <a:xfrm>
              <a:off x="236520" y="1420920"/>
              <a:ext cx="1363680" cy="380880"/>
              <a:chOff x="236520" y="1420920"/>
              <a:chExt cx="1363680" cy="380880"/>
            </a:xfrm>
          </p:grpSpPr>
          <p:sp>
            <p:nvSpPr>
              <p:cNvPr id="290" name=""/>
              <p:cNvSpPr/>
              <p:nvPr/>
            </p:nvSpPr>
            <p:spPr>
              <a:xfrm>
                <a:off x="247680" y="1420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6520" y="1523880"/>
                <a:ext cx="128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OPER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914400" y="12319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1040" y="2927520"/>
            <a:ext cx="4645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acen en 25 jurisdicciones disti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constituyen con $3.000.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tilizan testaferros o insol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clo de vida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atilidad de los domicil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32440" y="2184480"/>
            <a:ext cx="4797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istro único de personas 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ímenes de retención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s requisitos para operadores de comercio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PER (Sistema de perfil de riesg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 sistema de inscripción en 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2287440"/>
            <a:ext cx="0" cy="289404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0880" y="1523880"/>
            <a:ext cx="2949840" cy="1110240"/>
            <a:chOff x="380880" y="1523880"/>
            <a:chExt cx="2949840" cy="1110240"/>
          </a:xfrm>
        </p:grpSpPr>
        <p:sp>
          <p:nvSpPr>
            <p:cNvPr id="298" name=""/>
            <p:cNvSpPr/>
            <p:nvPr/>
          </p:nvSpPr>
          <p:spPr>
            <a:xfrm>
              <a:off x="380880" y="1523880"/>
              <a:ext cx="0" cy="93996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0880" y="2463840"/>
              <a:ext cx="60984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3800" y="223524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Sociedades ficti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6520" y="1231920"/>
            <a:ext cx="2125800" cy="569880"/>
            <a:chOff x="236520" y="1231920"/>
            <a:chExt cx="2125800" cy="569880"/>
          </a:xfrm>
        </p:grpSpPr>
        <p:grpSp>
          <p:nvGrpSpPr>
            <p:cNvPr id="302" name=""/>
            <p:cNvGrpSpPr/>
            <p:nvPr/>
          </p:nvGrpSpPr>
          <p:grpSpPr>
            <a:xfrm>
              <a:off x="236520" y="1420920"/>
              <a:ext cx="1363680" cy="380880"/>
              <a:chOff x="236520" y="1420920"/>
              <a:chExt cx="1363680" cy="380880"/>
            </a:xfrm>
          </p:grpSpPr>
          <p:sp>
            <p:nvSpPr>
              <p:cNvPr id="303" name=""/>
              <p:cNvSpPr/>
              <p:nvPr/>
            </p:nvSpPr>
            <p:spPr>
              <a:xfrm>
                <a:off x="247680" y="1420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36520" y="1523880"/>
                <a:ext cx="128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OPER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14400" y="12319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9040" y="2874960"/>
            <a:ext cx="4645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so generalizado a niv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trol dificult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se imponible ahue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43520" y="2184480"/>
            <a:ext cx="479736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plotación de 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uimiento horizontal de usinas y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 régimen de fac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ociación ilí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83080" y="2249640"/>
            <a:ext cx="0" cy="205740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0880" y="1523880"/>
            <a:ext cx="2953080" cy="1110240"/>
            <a:chOff x="380880" y="1523880"/>
            <a:chExt cx="2953080" cy="1110240"/>
          </a:xfrm>
        </p:grpSpPr>
        <p:sp>
          <p:nvSpPr>
            <p:cNvPr id="311" name=""/>
            <p:cNvSpPr/>
            <p:nvPr/>
          </p:nvSpPr>
          <p:spPr>
            <a:xfrm>
              <a:off x="380880" y="1523880"/>
              <a:ext cx="0" cy="93996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0880" y="2463840"/>
              <a:ext cx="60984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63800" y="223524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Facturas Apócrif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36520" y="1231920"/>
            <a:ext cx="2125800" cy="569880"/>
            <a:chOff x="236520" y="1231920"/>
            <a:chExt cx="2125800" cy="569880"/>
          </a:xfrm>
        </p:grpSpPr>
        <p:grpSp>
          <p:nvGrpSpPr>
            <p:cNvPr id="315" name=""/>
            <p:cNvGrpSpPr/>
            <p:nvPr/>
          </p:nvGrpSpPr>
          <p:grpSpPr>
            <a:xfrm>
              <a:off x="236520" y="1420920"/>
              <a:ext cx="1363680" cy="380880"/>
              <a:chOff x="236520" y="1420920"/>
              <a:chExt cx="1363680" cy="380880"/>
            </a:xfrm>
          </p:grpSpPr>
          <p:sp>
            <p:nvSpPr>
              <p:cNvPr id="316" name=""/>
              <p:cNvSpPr/>
              <p:nvPr/>
            </p:nvSpPr>
            <p:spPr>
              <a:xfrm>
                <a:off x="247680" y="142092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6520" y="1523880"/>
                <a:ext cx="128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OPER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914400" y="123192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906120" cy="6553080"/>
          </a:xfrm>
          <a:prstGeom prst="rect">
            <a:avLst/>
          </a:prstGeom>
          <a:ln w="0">
            <a:noFill/>
          </a:ln>
        </p:spPr>
      </p:pic>
      <p:pic>
        <p:nvPicPr>
          <p:cNvPr id="320" name="BandaAFIP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1316160"/>
          </a:xfrm>
          <a:prstGeom prst="rect">
            <a:avLst/>
          </a:prstGeom>
          <a:ln w="0">
            <a:noFill/>
          </a:ln>
        </p:spPr>
      </p:pic>
      <p:pic>
        <p:nvPicPr>
          <p:cNvPr id="321" name="BandaAFIP2" descr=""/>
          <p:cNvPicPr/>
          <p:nvPr/>
        </p:nvPicPr>
        <p:blipFill>
          <a:blip r:embed="rId3"/>
          <a:stretch/>
        </p:blipFill>
        <p:spPr>
          <a:xfrm>
            <a:off x="3240" y="6286680"/>
            <a:ext cx="9902880" cy="5713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38040" y="2895480"/>
            <a:ext cx="6293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Lineamientos Actu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99"/>
                </a:solidFill>
                <a:latin typeface="Times New Roman"/>
              </a:rPr>
              <a:t>Administración Tribu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5840" y="516564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Octubre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2520" y="150804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AF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581120" y="3708360"/>
            <a:ext cx="3333960" cy="1371600"/>
            <a:chOff x="1581120" y="3708360"/>
            <a:chExt cx="3333960" cy="1371600"/>
          </a:xfrm>
        </p:grpSpPr>
        <p:sp>
          <p:nvSpPr>
            <p:cNvPr id="51" name=""/>
            <p:cNvSpPr/>
            <p:nvPr/>
          </p:nvSpPr>
          <p:spPr>
            <a:xfrm>
              <a:off x="1581120" y="3708360"/>
              <a:ext cx="333396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75160" y="419112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4d32be"/>
                  </a:solidFill>
                  <a:latin typeface="Times New Roman"/>
                </a:rPr>
                <a:t>OPERAC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06680" y="2298600"/>
            <a:ext cx="3333600" cy="1371600"/>
            <a:chOff x="1606680" y="2298600"/>
            <a:chExt cx="3333600" cy="1371600"/>
          </a:xfrm>
        </p:grpSpPr>
        <p:sp>
          <p:nvSpPr>
            <p:cNvPr id="54" name=""/>
            <p:cNvSpPr/>
            <p:nvPr/>
          </p:nvSpPr>
          <p:spPr>
            <a:xfrm>
              <a:off x="1606680" y="2298600"/>
              <a:ext cx="333360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82280" y="2666880"/>
              <a:ext cx="30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4d32be"/>
                  </a:solidFill>
                  <a:latin typeface="Times New Roman"/>
                </a:rPr>
                <a:t>INTERNAC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71960" y="2286000"/>
            <a:ext cx="3333960" cy="1371600"/>
            <a:chOff x="4971960" y="2286000"/>
            <a:chExt cx="3333960" cy="1371600"/>
          </a:xfrm>
        </p:grpSpPr>
        <p:sp>
          <p:nvSpPr>
            <p:cNvPr id="57" name=""/>
            <p:cNvSpPr/>
            <p:nvPr/>
          </p:nvSpPr>
          <p:spPr>
            <a:xfrm>
              <a:off x="4971960" y="2286000"/>
              <a:ext cx="333396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43360" y="2666880"/>
              <a:ext cx="21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4d32be"/>
                  </a:solidFill>
                  <a:latin typeface="Times New Roman"/>
                </a:rPr>
                <a:t>NAC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952880" y="3695760"/>
            <a:ext cx="3333960" cy="1371600"/>
            <a:chOff x="4952880" y="3695760"/>
            <a:chExt cx="3333960" cy="1371600"/>
          </a:xfrm>
        </p:grpSpPr>
        <p:sp>
          <p:nvSpPr>
            <p:cNvPr id="60" name=""/>
            <p:cNvSpPr/>
            <p:nvPr/>
          </p:nvSpPr>
          <p:spPr>
            <a:xfrm>
              <a:off x="4952880" y="3695760"/>
              <a:ext cx="333396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7240" y="419112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4d32be"/>
                  </a:solidFill>
                  <a:latin typeface="Times New Roman"/>
                </a:rPr>
                <a:t>INSTITUC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013280" y="3149640"/>
            <a:ext cx="1904760" cy="1066680"/>
            <a:chOff x="4013280" y="3149640"/>
            <a:chExt cx="1904760" cy="1066680"/>
          </a:xfrm>
        </p:grpSpPr>
        <p:sp>
          <p:nvSpPr>
            <p:cNvPr id="64" name=""/>
            <p:cNvSpPr/>
            <p:nvPr/>
          </p:nvSpPr>
          <p:spPr>
            <a:xfrm>
              <a:off x="4013280" y="3149640"/>
              <a:ext cx="1904760" cy="1066680"/>
            </a:xfrm>
            <a:prstGeom prst="ellipse">
              <a:avLst/>
            </a:prstGeom>
            <a:solidFill>
              <a:srgbClr val="442caa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8160" y="3416400"/>
              <a:ext cx="144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Times New Roman"/>
                </a:rPr>
                <a:t>Desafí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0240" y="257508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d32be"/>
                </a:solidFill>
                <a:uFillTx/>
                <a:latin typeface="Times New Roman"/>
              </a:rPr>
              <a:t>Evolución de la recaud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8991720" y="60199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18160" y="10800"/>
                </a:moveTo>
                <a:lnTo>
                  <a:pt x="32173" y="3794"/>
                </a:lnTo>
                <a:lnTo>
                  <a:pt x="3217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8080" y="3200400"/>
            <a:ext cx="1828800" cy="996840"/>
            <a:chOff x="838080" y="3200400"/>
            <a:chExt cx="1828800" cy="996840"/>
          </a:xfrm>
        </p:grpSpPr>
        <p:sp>
          <p:nvSpPr>
            <p:cNvPr id="328" name=""/>
            <p:cNvSpPr/>
            <p:nvPr/>
          </p:nvSpPr>
          <p:spPr>
            <a:xfrm>
              <a:off x="838080" y="3200400"/>
              <a:ext cx="1828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d32be"/>
                  </a:solidFill>
                  <a:latin typeface="Times New Roman"/>
                </a:rPr>
                <a:t>	</a:t>
              </a:r>
              <a:r>
                <a:rPr b="1" lang="es-ES_tradnl" sz="1400" spc="-1" strike="noStrike">
                  <a:solidFill>
                    <a:srgbClr val="4d32be"/>
                  </a:solidFill>
                  <a:latin typeface="Times New Roman"/>
                </a:rPr>
                <a:t>Na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3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d32be"/>
                  </a:solidFill>
                  <a:latin typeface="Times New Roman"/>
                </a:rPr>
                <a:t>	</a:t>
              </a:r>
              <a:r>
                <a:rPr b="1" lang="es-ES_tradnl" sz="1400" spc="-1" strike="noStrike">
                  <a:solidFill>
                    <a:srgbClr val="4d32be"/>
                  </a:solidFill>
                  <a:latin typeface="Times New Roman"/>
                </a:rPr>
                <a:t>Provi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3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d32be"/>
                  </a:solidFill>
                  <a:latin typeface="Times New Roman"/>
                </a:rPr>
                <a:t>(millones de $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90720" y="3606840"/>
              <a:ext cx="152280" cy="127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8080" y="3206880"/>
              <a:ext cx="1371600" cy="990360"/>
            </a:xfrm>
            <a:prstGeom prst="rect">
              <a:avLst/>
            </a:prstGeom>
            <a:noFill/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90720" y="3352680"/>
              <a:ext cx="152280" cy="127080"/>
            </a:xfrm>
            <a:prstGeom prst="rect">
              <a:avLst/>
            </a:prstGeom>
            <a:solidFill>
              <a:srgbClr val="442caa"/>
            </a:solidFill>
            <a:ln w="936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607120" y="2535120"/>
            <a:ext cx="2980800" cy="3684240"/>
            <a:chOff x="2607120" y="2535120"/>
            <a:chExt cx="2980800" cy="3684240"/>
          </a:xfrm>
        </p:grpSpPr>
        <p:grpSp>
          <p:nvGrpSpPr>
            <p:cNvPr id="333" name=""/>
            <p:cNvGrpSpPr/>
            <p:nvPr/>
          </p:nvGrpSpPr>
          <p:grpSpPr>
            <a:xfrm>
              <a:off x="2607120" y="5222880"/>
              <a:ext cx="1138320" cy="996480"/>
              <a:chOff x="2607120" y="5222880"/>
              <a:chExt cx="1138320" cy="996480"/>
            </a:xfrm>
          </p:grpSpPr>
          <p:sp>
            <p:nvSpPr>
              <p:cNvPr id="334" name=""/>
              <p:cNvSpPr/>
              <p:nvPr/>
            </p:nvSpPr>
            <p:spPr>
              <a:xfrm>
                <a:off x="2767680" y="52228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Total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07120" y="5638680"/>
                <a:ext cx="1086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. Prim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(% PBI)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679840" y="5676840"/>
              <a:ext cx="128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038480" y="2535120"/>
              <a:ext cx="1549440" cy="3621240"/>
              <a:chOff x="4038480" y="2535120"/>
              <a:chExt cx="1549440" cy="3621240"/>
            </a:xfrm>
          </p:grpSpPr>
          <p:sp>
            <p:nvSpPr>
              <p:cNvPr id="338" name=""/>
              <p:cNvSpPr/>
              <p:nvPr/>
            </p:nvSpPr>
            <p:spPr>
              <a:xfrm>
                <a:off x="4230360" y="4572000"/>
                <a:ext cx="1219320" cy="6094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30360" y="2895480"/>
                <a:ext cx="1219320" cy="1676520"/>
              </a:xfrm>
              <a:prstGeom prst="rect">
                <a:avLst/>
              </a:prstGeom>
              <a:solidFill>
                <a:srgbClr val="4d32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28000" y="253512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58960" y="357840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50.5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46000" y="469584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10.5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52760" y="5257800"/>
                <a:ext cx="101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61.07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05040" y="5788080"/>
                <a:ext cx="58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1,8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38480" y="5676840"/>
                <a:ext cx="15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5715000" y="2001960"/>
            <a:ext cx="1549440" cy="4154400"/>
            <a:chOff x="5715000" y="2001960"/>
            <a:chExt cx="1549440" cy="4154400"/>
          </a:xfrm>
        </p:grpSpPr>
        <p:sp>
          <p:nvSpPr>
            <p:cNvPr id="347" name=""/>
            <p:cNvSpPr/>
            <p:nvPr/>
          </p:nvSpPr>
          <p:spPr>
            <a:xfrm>
              <a:off x="5894640" y="4343400"/>
              <a:ext cx="1218960" cy="838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94640" y="2362320"/>
              <a:ext cx="1218960" cy="1981080"/>
            </a:xfrm>
            <a:prstGeom prst="rect">
              <a:avLst/>
            </a:prstGeom>
            <a:solidFill>
              <a:srgbClr val="4d3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1920" y="200196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2880" y="319716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70.8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22880" y="456876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3.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78880" y="525780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84.3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2640" y="5788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2,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15000" y="5676840"/>
              <a:ext cx="1549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365960" y="1620720"/>
            <a:ext cx="1549080" cy="4535640"/>
            <a:chOff x="7365960" y="1620720"/>
            <a:chExt cx="1549080" cy="4535640"/>
          </a:xfrm>
        </p:grpSpPr>
        <p:sp>
          <p:nvSpPr>
            <p:cNvPr id="356" name=""/>
            <p:cNvSpPr/>
            <p:nvPr/>
          </p:nvSpPr>
          <p:spPr>
            <a:xfrm>
              <a:off x="7519680" y="1981080"/>
              <a:ext cx="1219320" cy="2210040"/>
            </a:xfrm>
            <a:prstGeom prst="rect">
              <a:avLst/>
            </a:prstGeom>
            <a:solidFill>
              <a:srgbClr val="4d3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19680" y="4191120"/>
              <a:ext cx="1219320" cy="990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16960" y="162072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35320" y="281628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78.7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10120" y="441648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5.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4840" y="525780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94.0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37120" y="5788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3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65960" y="5676840"/>
              <a:ext cx="1549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3800" y="1270080"/>
            <a:ext cx="1352520" cy="380880"/>
            <a:chOff x="793800" y="1270080"/>
            <a:chExt cx="1352520" cy="380880"/>
          </a:xfrm>
        </p:grpSpPr>
        <p:sp>
          <p:nvSpPr>
            <p:cNvPr id="366" name=""/>
            <p:cNvSpPr/>
            <p:nvPr/>
          </p:nvSpPr>
          <p:spPr>
            <a:xfrm>
              <a:off x="793800" y="1270080"/>
              <a:ext cx="135252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93960" y="1330200"/>
              <a:ext cx="102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NAC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52280" y="1601640"/>
            <a:ext cx="1447920" cy="276480"/>
          </a:xfrm>
          <a:prstGeom prst="rect">
            <a:avLst/>
          </a:prstGeom>
          <a:solidFill>
            <a:srgbClr val="4d32be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DESAFIOS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04920" y="1371600"/>
            <a:ext cx="3380040" cy="1008360"/>
            <a:chOff x="304920" y="1371600"/>
            <a:chExt cx="3380040" cy="1008360"/>
          </a:xfrm>
        </p:grpSpPr>
        <p:sp>
          <p:nvSpPr>
            <p:cNvPr id="370" name=""/>
            <p:cNvSpPr/>
            <p:nvPr/>
          </p:nvSpPr>
          <p:spPr>
            <a:xfrm>
              <a:off x="304920" y="1371600"/>
              <a:ext cx="0" cy="83808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920" y="219708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760" y="198108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Desempeño fiscal oscil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920" y="1371600"/>
              <a:ext cx="45720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574560" y="1981080"/>
            <a:ext cx="8340840" cy="4102200"/>
            <a:chOff x="574560" y="1981080"/>
            <a:chExt cx="8340840" cy="4102200"/>
          </a:xfrm>
        </p:grpSpPr>
        <p:grpSp>
          <p:nvGrpSpPr>
            <p:cNvPr id="375" name=""/>
            <p:cNvGrpSpPr/>
            <p:nvPr/>
          </p:nvGrpSpPr>
          <p:grpSpPr>
            <a:xfrm>
              <a:off x="574560" y="1981080"/>
              <a:ext cx="8340840" cy="4102200"/>
              <a:chOff x="574560" y="1981080"/>
              <a:chExt cx="8340840" cy="4102200"/>
            </a:xfrm>
          </p:grpSpPr>
          <p:sp>
            <p:nvSpPr>
              <p:cNvPr id="376" name=""/>
              <p:cNvSpPr/>
              <p:nvPr/>
            </p:nvSpPr>
            <p:spPr>
              <a:xfrm>
                <a:off x="574560" y="1981080"/>
                <a:ext cx="8340840" cy="4102200"/>
              </a:xfrm>
              <a:prstGeom prst="rect">
                <a:avLst/>
              </a:prstGeom>
              <a:solidFill>
                <a:srgbClr val="dd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85760" y="2185920"/>
                <a:ext cx="7596360" cy="328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085760" y="5064120"/>
                <a:ext cx="75963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85760" y="4659480"/>
                <a:ext cx="7596360" cy="46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85760" y="4233960"/>
                <a:ext cx="75963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85760" y="3827520"/>
                <a:ext cx="75963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85760" y="3424320"/>
                <a:ext cx="75963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85760" y="3017880"/>
                <a:ext cx="75963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85760" y="2590920"/>
                <a:ext cx="7596360" cy="2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085760" y="2185920"/>
                <a:ext cx="75963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85760" y="2185920"/>
                <a:ext cx="7596360" cy="32846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85760" y="2185920"/>
                <a:ext cx="1800" cy="3284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85760" y="5470560"/>
                <a:ext cx="75963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1320" y="5342040"/>
                <a:ext cx="36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(60,0)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1320" y="4938840"/>
                <a:ext cx="36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(40,0)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1320" y="4533840"/>
                <a:ext cx="36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(20,0)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5920" y="4106880"/>
                <a:ext cx="229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2920" y="370044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2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2920" y="329400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4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2920" y="289080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6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2920" y="246384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8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3680" y="2057400"/>
                <a:ext cx="360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100,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47400" y="5641920"/>
                <a:ext cx="531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 TRIM 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95120" y="5641920"/>
                <a:ext cx="57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I TRIM 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41400" y="5641920"/>
                <a:ext cx="619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II TRIM 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91280" y="564192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V TRIM 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70320" y="5641920"/>
                <a:ext cx="531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 TRIM 0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16240" y="5641920"/>
                <a:ext cx="57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I TRIM 0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62520" y="5641920"/>
                <a:ext cx="619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II TRIM 0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13840" y="564192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V TRIM 0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02240" y="5641920"/>
                <a:ext cx="531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 TRIM 0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049960" y="5641920"/>
                <a:ext cx="57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Small Fonts"/>
                  </a:rPr>
                  <a:t>II TRIM 0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21360" y="38019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2,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5640" y="4019400"/>
                <a:ext cx="3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-12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79840" y="4019400"/>
                <a:ext cx="3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-1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70640" y="393372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-6,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122920" y="38512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-1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52880" y="380844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-1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53960" y="45529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3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34800" y="46846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9,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77120" y="4808520"/>
                <a:ext cx="35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20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47160" y="5106960"/>
                <a:ext cx="35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3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53640" y="5049720"/>
                <a:ext cx="35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33,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97120" y="443556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-6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94000" y="4137120"/>
                <a:ext cx="4001760" cy="782640"/>
              </a:xfrm>
              <a:custGeom>
                <a:avLst/>
                <a:gdLst/>
                <a:ahLst/>
                <a:rect l="l" t="t" r="r" b="b"/>
                <a:pathLst>
                  <a:path w="2521" h="452">
                    <a:moveTo>
                      <a:pt x="51" y="87"/>
                    </a:moveTo>
                    <a:cubicBezTo>
                      <a:pt x="95" y="89"/>
                      <a:pt x="204" y="76"/>
                      <a:pt x="319" y="83"/>
                    </a:cubicBezTo>
                    <a:cubicBezTo>
                      <a:pt x="388" y="82"/>
                      <a:pt x="402" y="78"/>
                      <a:pt x="467" y="83"/>
                    </a:cubicBezTo>
                    <a:cubicBezTo>
                      <a:pt x="532" y="88"/>
                      <a:pt x="666" y="108"/>
                      <a:pt x="711" y="115"/>
                    </a:cubicBezTo>
                    <a:cubicBezTo>
                      <a:pt x="756" y="122"/>
                      <a:pt x="731" y="125"/>
                      <a:pt x="739" y="127"/>
                    </a:cubicBezTo>
                    <a:cubicBezTo>
                      <a:pt x="747" y="129"/>
                      <a:pt x="740" y="127"/>
                      <a:pt x="759" y="127"/>
                    </a:cubicBezTo>
                    <a:cubicBezTo>
                      <a:pt x="778" y="127"/>
                      <a:pt x="818" y="123"/>
                      <a:pt x="851" y="127"/>
                    </a:cubicBezTo>
                    <a:cubicBezTo>
                      <a:pt x="884" y="131"/>
                      <a:pt x="919" y="144"/>
                      <a:pt x="959" y="151"/>
                    </a:cubicBezTo>
                    <a:cubicBezTo>
                      <a:pt x="998" y="161"/>
                      <a:pt x="1029" y="160"/>
                      <a:pt x="1091" y="167"/>
                    </a:cubicBezTo>
                    <a:cubicBezTo>
                      <a:pt x="1153" y="174"/>
                      <a:pt x="1258" y="184"/>
                      <a:pt x="1331" y="191"/>
                    </a:cubicBezTo>
                    <a:cubicBezTo>
                      <a:pt x="1402" y="198"/>
                      <a:pt x="1457" y="197"/>
                      <a:pt x="1527" y="207"/>
                    </a:cubicBezTo>
                    <a:cubicBezTo>
                      <a:pt x="1573" y="212"/>
                      <a:pt x="1537" y="203"/>
                      <a:pt x="1607" y="203"/>
                    </a:cubicBezTo>
                    <a:cubicBezTo>
                      <a:pt x="1675" y="200"/>
                      <a:pt x="1871" y="198"/>
                      <a:pt x="1935" y="191"/>
                    </a:cubicBezTo>
                    <a:cubicBezTo>
                      <a:pt x="1999" y="190"/>
                      <a:pt x="1969" y="168"/>
                      <a:pt x="1991" y="163"/>
                    </a:cubicBezTo>
                    <a:cubicBezTo>
                      <a:pt x="2012" y="155"/>
                      <a:pt x="2018" y="159"/>
                      <a:pt x="2063" y="143"/>
                    </a:cubicBezTo>
                    <a:cubicBezTo>
                      <a:pt x="2125" y="116"/>
                      <a:pt x="2197" y="80"/>
                      <a:pt x="2263" y="67"/>
                    </a:cubicBezTo>
                    <a:cubicBezTo>
                      <a:pt x="2290" y="62"/>
                      <a:pt x="2367" y="35"/>
                      <a:pt x="2367" y="35"/>
                    </a:cubicBezTo>
                    <a:cubicBezTo>
                      <a:pt x="2398" y="29"/>
                      <a:pt x="2521" y="0"/>
                      <a:pt x="2515" y="19"/>
                    </a:cubicBezTo>
                    <a:cubicBezTo>
                      <a:pt x="2509" y="38"/>
                      <a:pt x="2374" y="122"/>
                      <a:pt x="2331" y="151"/>
                    </a:cubicBezTo>
                    <a:cubicBezTo>
                      <a:pt x="2328" y="161"/>
                      <a:pt x="2269" y="187"/>
                      <a:pt x="2259" y="191"/>
                    </a:cubicBezTo>
                    <a:cubicBezTo>
                      <a:pt x="2244" y="198"/>
                      <a:pt x="2251" y="214"/>
                      <a:pt x="2235" y="219"/>
                    </a:cubicBezTo>
                    <a:cubicBezTo>
                      <a:pt x="2227" y="222"/>
                      <a:pt x="2207" y="243"/>
                      <a:pt x="2207" y="243"/>
                    </a:cubicBezTo>
                    <a:cubicBezTo>
                      <a:pt x="2152" y="298"/>
                      <a:pt x="2170" y="266"/>
                      <a:pt x="2127" y="295"/>
                    </a:cubicBezTo>
                    <a:cubicBezTo>
                      <a:pt x="2105" y="329"/>
                      <a:pt x="2072" y="333"/>
                      <a:pt x="2039" y="355"/>
                    </a:cubicBezTo>
                    <a:cubicBezTo>
                      <a:pt x="2016" y="374"/>
                      <a:pt x="1996" y="384"/>
                      <a:pt x="1981" y="395"/>
                    </a:cubicBezTo>
                    <a:cubicBezTo>
                      <a:pt x="1965" y="406"/>
                      <a:pt x="1952" y="414"/>
                      <a:pt x="1945" y="419"/>
                    </a:cubicBezTo>
                    <a:cubicBezTo>
                      <a:pt x="1938" y="424"/>
                      <a:pt x="1953" y="421"/>
                      <a:pt x="1939" y="425"/>
                    </a:cubicBezTo>
                    <a:cubicBezTo>
                      <a:pt x="1925" y="429"/>
                      <a:pt x="1903" y="439"/>
                      <a:pt x="1858" y="443"/>
                    </a:cubicBezTo>
                    <a:cubicBezTo>
                      <a:pt x="1813" y="447"/>
                      <a:pt x="1755" y="452"/>
                      <a:pt x="1667" y="447"/>
                    </a:cubicBezTo>
                    <a:cubicBezTo>
                      <a:pt x="1546" y="442"/>
                      <a:pt x="1447" y="428"/>
                      <a:pt x="1331" y="415"/>
                    </a:cubicBezTo>
                    <a:cubicBezTo>
                      <a:pt x="1251" y="404"/>
                      <a:pt x="1239" y="389"/>
                      <a:pt x="1192" y="377"/>
                    </a:cubicBezTo>
                    <a:cubicBezTo>
                      <a:pt x="1145" y="365"/>
                      <a:pt x="1084" y="349"/>
                      <a:pt x="1051" y="341"/>
                    </a:cubicBezTo>
                    <a:cubicBezTo>
                      <a:pt x="1018" y="333"/>
                      <a:pt x="1003" y="330"/>
                      <a:pt x="991" y="326"/>
                    </a:cubicBezTo>
                    <a:cubicBezTo>
                      <a:pt x="979" y="322"/>
                      <a:pt x="984" y="315"/>
                      <a:pt x="979" y="314"/>
                    </a:cubicBezTo>
                    <a:cubicBezTo>
                      <a:pt x="974" y="313"/>
                      <a:pt x="1018" y="333"/>
                      <a:pt x="963" y="319"/>
                    </a:cubicBezTo>
                    <a:cubicBezTo>
                      <a:pt x="868" y="271"/>
                      <a:pt x="755" y="252"/>
                      <a:pt x="651" y="231"/>
                    </a:cubicBezTo>
                    <a:cubicBezTo>
                      <a:pt x="588" y="218"/>
                      <a:pt x="531" y="194"/>
                      <a:pt x="467" y="183"/>
                    </a:cubicBezTo>
                    <a:cubicBezTo>
                      <a:pt x="416" y="176"/>
                      <a:pt x="382" y="174"/>
                      <a:pt x="351" y="171"/>
                    </a:cubicBezTo>
                    <a:cubicBezTo>
                      <a:pt x="323" y="167"/>
                      <a:pt x="311" y="162"/>
                      <a:pt x="299" y="159"/>
                    </a:cubicBezTo>
                    <a:cubicBezTo>
                      <a:pt x="287" y="156"/>
                      <a:pt x="293" y="158"/>
                      <a:pt x="279" y="155"/>
                    </a:cubicBezTo>
                    <a:cubicBezTo>
                      <a:pt x="238" y="132"/>
                      <a:pt x="251" y="147"/>
                      <a:pt x="215" y="139"/>
                    </a:cubicBezTo>
                    <a:cubicBezTo>
                      <a:pt x="198" y="131"/>
                      <a:pt x="205" y="141"/>
                      <a:pt x="175" y="135"/>
                    </a:cubicBezTo>
                    <a:cubicBezTo>
                      <a:pt x="145" y="129"/>
                      <a:pt x="64" y="111"/>
                      <a:pt x="35" y="103"/>
                    </a:cubicBezTo>
                    <a:cubicBezTo>
                      <a:pt x="0" y="94"/>
                      <a:pt x="3" y="106"/>
                      <a:pt x="3" y="87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71680" y="4273560"/>
                <a:ext cx="758880" cy="324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30560" y="4273560"/>
                <a:ext cx="757080" cy="10800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87640" y="4381560"/>
                <a:ext cx="758880" cy="10800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46520" y="4489560"/>
                <a:ext cx="758880" cy="324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505400" y="4169880"/>
                <a:ext cx="757080" cy="3193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81120" y="4133880"/>
                <a:ext cx="304920" cy="6660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36760" y="4211640"/>
                <a:ext cx="58680" cy="1080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95640" y="4211640"/>
                <a:ext cx="56880" cy="1080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52720" y="4319640"/>
                <a:ext cx="58680" cy="1062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11600" y="4425840"/>
                <a:ext cx="58680" cy="1080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70480" y="4425840"/>
                <a:ext cx="57240" cy="1080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27560" y="4105440"/>
                <a:ext cx="58680" cy="1062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71680" y="4317840"/>
                <a:ext cx="758880" cy="12708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230560" y="4444920"/>
                <a:ext cx="757080" cy="21456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87640" y="4659480"/>
                <a:ext cx="758880" cy="23472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46520" y="4894200"/>
                <a:ext cx="758880" cy="2088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505400" y="4362120"/>
                <a:ext cx="757080" cy="55260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5262480" y="4108320"/>
                <a:ext cx="300240" cy="25416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13000" y="4211640"/>
                <a:ext cx="117360" cy="214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37" y="0"/>
                    </a:moveTo>
                    <a:lnTo>
                      <a:pt x="74" y="37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171880" y="4340160"/>
                <a:ext cx="115560" cy="2113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7" y="0"/>
                    </a:moveTo>
                    <a:lnTo>
                      <a:pt x="73" y="36"/>
                    </a:lnTo>
                    <a:lnTo>
                      <a:pt x="37" y="73"/>
                    </a:lnTo>
                    <a:lnTo>
                      <a:pt x="0" y="3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30400" y="4551480"/>
                <a:ext cx="115920" cy="21420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6" y="0"/>
                    </a:moveTo>
                    <a:lnTo>
                      <a:pt x="73" y="37"/>
                    </a:lnTo>
                    <a:lnTo>
                      <a:pt x="36" y="73"/>
                    </a:lnTo>
                    <a:lnTo>
                      <a:pt x="0" y="3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87840" y="4788000"/>
                <a:ext cx="117360" cy="2109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37" y="0"/>
                    </a:moveTo>
                    <a:lnTo>
                      <a:pt x="74" y="37"/>
                    </a:lnTo>
                    <a:lnTo>
                      <a:pt x="37" y="73"/>
                    </a:lnTo>
                    <a:lnTo>
                      <a:pt x="0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46720" y="4808520"/>
                <a:ext cx="115920" cy="21420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0"/>
                    </a:moveTo>
                    <a:lnTo>
                      <a:pt x="73" y="37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05240" y="4254480"/>
                <a:ext cx="115920" cy="21420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6" y="0"/>
                    </a:moveTo>
                    <a:lnTo>
                      <a:pt x="73" y="37"/>
                    </a:lnTo>
                    <a:lnTo>
                      <a:pt x="36" y="74"/>
                    </a:lnTo>
                    <a:lnTo>
                      <a:pt x="0" y="3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1616760" y="4952880"/>
              <a:ext cx="598320" cy="368280"/>
            </a:xfrm>
            <a:prstGeom prst="rect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cc"/>
                  </a:solidFill>
                  <a:latin typeface="Times New Roman"/>
                </a:rPr>
                <a:t>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2040" y="3124080"/>
              <a:ext cx="1105920" cy="368280"/>
            </a:xfrm>
            <a:prstGeom prst="rect">
              <a:avLst/>
            </a:prstGeom>
            <a:noFill/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32be"/>
                  </a:solidFill>
                  <a:latin typeface="Times New Roman"/>
                </a:rPr>
                <a:t>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38280" y="3505320"/>
              <a:ext cx="381240" cy="83808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209680" y="4647960"/>
              <a:ext cx="685800" cy="5331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191480" y="137160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ción IVA bruto / consum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8839080" y="59436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029920" y="2502000"/>
            <a:ext cx="3511080" cy="2514600"/>
            <a:chOff x="5029920" y="2502000"/>
            <a:chExt cx="3511080" cy="2514600"/>
          </a:xfrm>
        </p:grpSpPr>
        <p:grpSp>
          <p:nvGrpSpPr>
            <p:cNvPr id="452" name=""/>
            <p:cNvGrpSpPr/>
            <p:nvPr/>
          </p:nvGrpSpPr>
          <p:grpSpPr>
            <a:xfrm>
              <a:off x="5445000" y="2502000"/>
              <a:ext cx="3096000" cy="1895400"/>
              <a:chOff x="5445000" y="2502000"/>
              <a:chExt cx="3096000" cy="1895400"/>
            </a:xfrm>
          </p:grpSpPr>
          <p:sp>
            <p:nvSpPr>
              <p:cNvPr id="453" name=""/>
              <p:cNvSpPr/>
              <p:nvPr/>
            </p:nvSpPr>
            <p:spPr>
              <a:xfrm>
                <a:off x="5692320" y="333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25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16280" y="27273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54,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92520" y="25020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68,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235360" y="3090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cc"/>
                    </a:solidFill>
                    <a:latin typeface="Small Fonts"/>
                  </a:rPr>
                  <a:t>36,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424280" y="396396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23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10080" y="396396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21,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53040" y="42145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8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662160" y="40478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4d32be"/>
                    </a:solidFill>
                    <a:latin typeface="Arial"/>
                  </a:rPr>
                  <a:t>17,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32480" y="2881080"/>
                <a:ext cx="2725560" cy="1269720"/>
              </a:xfrm>
              <a:custGeom>
                <a:avLst/>
                <a:gdLst/>
                <a:ahLst/>
                <a:rect l="l" t="t" r="r" b="b"/>
                <a:pathLst>
                  <a:path w="1717" h="734">
                    <a:moveTo>
                      <a:pt x="8" y="726"/>
                    </a:moveTo>
                    <a:cubicBezTo>
                      <a:pt x="35" y="708"/>
                      <a:pt x="57" y="686"/>
                      <a:pt x="80" y="663"/>
                    </a:cubicBezTo>
                    <a:cubicBezTo>
                      <a:pt x="84" y="659"/>
                      <a:pt x="93" y="661"/>
                      <a:pt x="98" y="657"/>
                    </a:cubicBezTo>
                    <a:cubicBezTo>
                      <a:pt x="110" y="649"/>
                      <a:pt x="110" y="644"/>
                      <a:pt x="122" y="636"/>
                    </a:cubicBezTo>
                    <a:cubicBezTo>
                      <a:pt x="128" y="632"/>
                      <a:pt x="140" y="615"/>
                      <a:pt x="140" y="615"/>
                    </a:cubicBezTo>
                    <a:cubicBezTo>
                      <a:pt x="157" y="590"/>
                      <a:pt x="205" y="575"/>
                      <a:pt x="230" y="558"/>
                    </a:cubicBezTo>
                    <a:cubicBezTo>
                      <a:pt x="251" y="527"/>
                      <a:pt x="281" y="496"/>
                      <a:pt x="314" y="480"/>
                    </a:cubicBezTo>
                    <a:cubicBezTo>
                      <a:pt x="326" y="474"/>
                      <a:pt x="338" y="468"/>
                      <a:pt x="350" y="462"/>
                    </a:cubicBezTo>
                    <a:cubicBezTo>
                      <a:pt x="356" y="458"/>
                      <a:pt x="368" y="450"/>
                      <a:pt x="368" y="450"/>
                    </a:cubicBezTo>
                    <a:cubicBezTo>
                      <a:pt x="380" y="433"/>
                      <a:pt x="422" y="406"/>
                      <a:pt x="443" y="399"/>
                    </a:cubicBezTo>
                    <a:cubicBezTo>
                      <a:pt x="457" y="385"/>
                      <a:pt x="486" y="361"/>
                      <a:pt x="506" y="354"/>
                    </a:cubicBezTo>
                    <a:cubicBezTo>
                      <a:pt x="539" y="321"/>
                      <a:pt x="582" y="291"/>
                      <a:pt x="623" y="270"/>
                    </a:cubicBezTo>
                    <a:cubicBezTo>
                      <a:pt x="637" y="263"/>
                      <a:pt x="641" y="248"/>
                      <a:pt x="656" y="243"/>
                    </a:cubicBezTo>
                    <a:cubicBezTo>
                      <a:pt x="665" y="234"/>
                      <a:pt x="671" y="229"/>
                      <a:pt x="683" y="225"/>
                    </a:cubicBezTo>
                    <a:cubicBezTo>
                      <a:pt x="704" y="204"/>
                      <a:pt x="738" y="176"/>
                      <a:pt x="764" y="162"/>
                    </a:cubicBezTo>
                    <a:cubicBezTo>
                      <a:pt x="782" y="152"/>
                      <a:pt x="806" y="153"/>
                      <a:pt x="824" y="144"/>
                    </a:cubicBezTo>
                    <a:cubicBezTo>
                      <a:pt x="862" y="125"/>
                      <a:pt x="901" y="115"/>
                      <a:pt x="941" y="102"/>
                    </a:cubicBezTo>
                    <a:cubicBezTo>
                      <a:pt x="954" y="98"/>
                      <a:pt x="965" y="90"/>
                      <a:pt x="977" y="84"/>
                    </a:cubicBezTo>
                    <a:cubicBezTo>
                      <a:pt x="996" y="76"/>
                      <a:pt x="1015" y="75"/>
                      <a:pt x="1034" y="69"/>
                    </a:cubicBezTo>
                    <a:cubicBezTo>
                      <a:pt x="1076" y="56"/>
                      <a:pt x="1114" y="35"/>
                      <a:pt x="1157" y="24"/>
                    </a:cubicBezTo>
                    <a:cubicBezTo>
                      <a:pt x="1174" y="20"/>
                      <a:pt x="1186" y="11"/>
                      <a:pt x="1202" y="6"/>
                    </a:cubicBezTo>
                    <a:cubicBezTo>
                      <a:pt x="1208" y="4"/>
                      <a:pt x="1220" y="0"/>
                      <a:pt x="1220" y="0"/>
                    </a:cubicBezTo>
                    <a:cubicBezTo>
                      <a:pt x="1238" y="6"/>
                      <a:pt x="1256" y="3"/>
                      <a:pt x="1274" y="9"/>
                    </a:cubicBezTo>
                    <a:cubicBezTo>
                      <a:pt x="1289" y="21"/>
                      <a:pt x="1304" y="29"/>
                      <a:pt x="1319" y="39"/>
                    </a:cubicBezTo>
                    <a:cubicBezTo>
                      <a:pt x="1330" y="55"/>
                      <a:pt x="1338" y="70"/>
                      <a:pt x="1355" y="81"/>
                    </a:cubicBezTo>
                    <a:cubicBezTo>
                      <a:pt x="1364" y="94"/>
                      <a:pt x="1371" y="99"/>
                      <a:pt x="1385" y="108"/>
                    </a:cubicBezTo>
                    <a:cubicBezTo>
                      <a:pt x="1391" y="112"/>
                      <a:pt x="1397" y="116"/>
                      <a:pt x="1403" y="120"/>
                    </a:cubicBezTo>
                    <a:cubicBezTo>
                      <a:pt x="1406" y="122"/>
                      <a:pt x="1412" y="126"/>
                      <a:pt x="1412" y="126"/>
                    </a:cubicBezTo>
                    <a:cubicBezTo>
                      <a:pt x="1424" y="144"/>
                      <a:pt x="1451" y="159"/>
                      <a:pt x="1469" y="171"/>
                    </a:cubicBezTo>
                    <a:cubicBezTo>
                      <a:pt x="1483" y="192"/>
                      <a:pt x="1527" y="223"/>
                      <a:pt x="1550" y="231"/>
                    </a:cubicBezTo>
                    <a:cubicBezTo>
                      <a:pt x="1560" y="245"/>
                      <a:pt x="1572" y="254"/>
                      <a:pt x="1586" y="264"/>
                    </a:cubicBezTo>
                    <a:cubicBezTo>
                      <a:pt x="1595" y="277"/>
                      <a:pt x="1606" y="283"/>
                      <a:pt x="1616" y="294"/>
                    </a:cubicBezTo>
                    <a:cubicBezTo>
                      <a:pt x="1642" y="323"/>
                      <a:pt x="1616" y="304"/>
                      <a:pt x="1637" y="318"/>
                    </a:cubicBezTo>
                    <a:cubicBezTo>
                      <a:pt x="1645" y="330"/>
                      <a:pt x="1658" y="340"/>
                      <a:pt x="1670" y="348"/>
                    </a:cubicBezTo>
                    <a:cubicBezTo>
                      <a:pt x="1674" y="354"/>
                      <a:pt x="1681" y="357"/>
                      <a:pt x="1685" y="363"/>
                    </a:cubicBezTo>
                    <a:cubicBezTo>
                      <a:pt x="1688" y="368"/>
                      <a:pt x="1687" y="376"/>
                      <a:pt x="1691" y="381"/>
                    </a:cubicBezTo>
                    <a:cubicBezTo>
                      <a:pt x="1693" y="384"/>
                      <a:pt x="1695" y="387"/>
                      <a:pt x="1697" y="390"/>
                    </a:cubicBezTo>
                    <a:cubicBezTo>
                      <a:pt x="1700" y="403"/>
                      <a:pt x="1706" y="411"/>
                      <a:pt x="1709" y="423"/>
                    </a:cubicBezTo>
                    <a:cubicBezTo>
                      <a:pt x="1711" y="433"/>
                      <a:pt x="1715" y="453"/>
                      <a:pt x="1715" y="453"/>
                    </a:cubicBezTo>
                    <a:cubicBezTo>
                      <a:pt x="1714" y="463"/>
                      <a:pt x="1717" y="523"/>
                      <a:pt x="1700" y="534"/>
                    </a:cubicBezTo>
                    <a:cubicBezTo>
                      <a:pt x="1686" y="543"/>
                      <a:pt x="1662" y="544"/>
                      <a:pt x="1646" y="546"/>
                    </a:cubicBezTo>
                    <a:cubicBezTo>
                      <a:pt x="1572" y="542"/>
                      <a:pt x="1502" y="539"/>
                      <a:pt x="1427" y="537"/>
                    </a:cubicBezTo>
                    <a:cubicBezTo>
                      <a:pt x="1389" y="531"/>
                      <a:pt x="1349" y="537"/>
                      <a:pt x="1310" y="534"/>
                    </a:cubicBezTo>
                    <a:cubicBezTo>
                      <a:pt x="1264" y="535"/>
                      <a:pt x="1218" y="534"/>
                      <a:pt x="1172" y="537"/>
                    </a:cubicBezTo>
                    <a:cubicBezTo>
                      <a:pt x="1157" y="538"/>
                      <a:pt x="1142" y="549"/>
                      <a:pt x="1127" y="552"/>
                    </a:cubicBezTo>
                    <a:cubicBezTo>
                      <a:pt x="1094" y="559"/>
                      <a:pt x="1117" y="555"/>
                      <a:pt x="1058" y="558"/>
                    </a:cubicBezTo>
                    <a:cubicBezTo>
                      <a:pt x="995" y="579"/>
                      <a:pt x="930" y="574"/>
                      <a:pt x="866" y="588"/>
                    </a:cubicBezTo>
                    <a:cubicBezTo>
                      <a:pt x="822" y="597"/>
                      <a:pt x="778" y="602"/>
                      <a:pt x="734" y="609"/>
                    </a:cubicBezTo>
                    <a:cubicBezTo>
                      <a:pt x="712" y="613"/>
                      <a:pt x="692" y="620"/>
                      <a:pt x="671" y="627"/>
                    </a:cubicBezTo>
                    <a:cubicBezTo>
                      <a:pt x="643" y="636"/>
                      <a:pt x="602" y="635"/>
                      <a:pt x="575" y="636"/>
                    </a:cubicBezTo>
                    <a:cubicBezTo>
                      <a:pt x="534" y="656"/>
                      <a:pt x="491" y="661"/>
                      <a:pt x="446" y="666"/>
                    </a:cubicBezTo>
                    <a:cubicBezTo>
                      <a:pt x="428" y="671"/>
                      <a:pt x="411" y="673"/>
                      <a:pt x="392" y="675"/>
                    </a:cubicBezTo>
                    <a:cubicBezTo>
                      <a:pt x="353" y="688"/>
                      <a:pt x="316" y="690"/>
                      <a:pt x="275" y="696"/>
                    </a:cubicBezTo>
                    <a:cubicBezTo>
                      <a:pt x="234" y="702"/>
                      <a:pt x="194" y="713"/>
                      <a:pt x="152" y="717"/>
                    </a:cubicBezTo>
                    <a:cubicBezTo>
                      <a:pt x="95" y="722"/>
                      <a:pt x="132" y="718"/>
                      <a:pt x="59" y="723"/>
                    </a:cubicBezTo>
                    <a:cubicBezTo>
                      <a:pt x="59" y="723"/>
                      <a:pt x="0" y="734"/>
                      <a:pt x="8" y="726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979960" y="3918960"/>
                <a:ext cx="758880" cy="17100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738840" y="3790800"/>
                <a:ext cx="757080" cy="12816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95920" y="3790800"/>
                <a:ext cx="758880" cy="2016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45040" y="4027320"/>
                <a:ext cx="58680" cy="10620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03920" y="3855960"/>
                <a:ext cx="57240" cy="10584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61000" y="3728880"/>
                <a:ext cx="59040" cy="10764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219880" y="3747960"/>
                <a:ext cx="58680" cy="107640"/>
              </a:xfrm>
              <a:prstGeom prst="rect">
                <a:avLst/>
              </a:prstGeom>
              <a:solidFill>
                <a:srgbClr val="4d32be"/>
              </a:solidFill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979960" y="3154320"/>
                <a:ext cx="758880" cy="59328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738840" y="2855880"/>
                <a:ext cx="757080" cy="29808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495920" y="2855880"/>
                <a:ext cx="758880" cy="68040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21280" y="3644640"/>
                <a:ext cx="117360" cy="2109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37" y="0"/>
                    </a:moveTo>
                    <a:lnTo>
                      <a:pt x="74" y="36"/>
                    </a:lnTo>
                    <a:lnTo>
                      <a:pt x="37" y="73"/>
                    </a:lnTo>
                    <a:lnTo>
                      <a:pt x="0" y="3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80160" y="3047760"/>
                <a:ext cx="115920" cy="2109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7" y="0"/>
                    </a:moveTo>
                    <a:lnTo>
                      <a:pt x="73" y="37"/>
                    </a:lnTo>
                    <a:lnTo>
                      <a:pt x="37" y="73"/>
                    </a:lnTo>
                    <a:lnTo>
                      <a:pt x="0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39040" y="2747880"/>
                <a:ext cx="115920" cy="21384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6" y="0"/>
                    </a:moveTo>
                    <a:lnTo>
                      <a:pt x="73" y="37"/>
                    </a:lnTo>
                    <a:lnTo>
                      <a:pt x="36" y="74"/>
                    </a:lnTo>
                    <a:lnTo>
                      <a:pt x="0" y="3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96120" y="3430440"/>
                <a:ext cx="117360" cy="21384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37" y="0"/>
                    </a:moveTo>
                    <a:lnTo>
                      <a:pt x="74" y="37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33cc"/>
              </a:solidFill>
              <a:ln w="11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459400" y="3759120"/>
                <a:ext cx="519120" cy="436320"/>
              </a:xfrm>
              <a:prstGeom prst="line">
                <a:avLst/>
              </a:prstGeom>
              <a:ln w="237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445000" y="4100400"/>
                <a:ext cx="533520" cy="5688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5029920" y="2552760"/>
              <a:ext cx="598320" cy="368280"/>
            </a:xfrm>
            <a:prstGeom prst="rect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cc"/>
                  </a:solidFill>
                  <a:latin typeface="Times New Roman"/>
                </a:rPr>
                <a:t>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38680" y="2895480"/>
              <a:ext cx="990720" cy="3812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98600" y="4648320"/>
              <a:ext cx="1105920" cy="368280"/>
            </a:xfrm>
            <a:prstGeom prst="rect">
              <a:avLst/>
            </a:prstGeom>
            <a:noFill/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32be"/>
                  </a:solidFill>
                  <a:latin typeface="Times New Roman"/>
                </a:rPr>
                <a:t>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934320" y="3885840"/>
              <a:ext cx="152280" cy="76212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55640" y="1206360"/>
            <a:ext cx="1352520" cy="380880"/>
            <a:chOff x="755640" y="1206360"/>
            <a:chExt cx="1352520" cy="380880"/>
          </a:xfrm>
        </p:grpSpPr>
        <p:sp>
          <p:nvSpPr>
            <p:cNvPr id="484" name=""/>
            <p:cNvSpPr/>
            <p:nvPr/>
          </p:nvSpPr>
          <p:spPr>
            <a:xfrm>
              <a:off x="755640" y="1206360"/>
              <a:ext cx="135252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55800" y="1266480"/>
              <a:ext cx="102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NAC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14480" y="1538280"/>
            <a:ext cx="1447560" cy="276480"/>
          </a:xfrm>
          <a:prstGeom prst="rect">
            <a:avLst/>
          </a:prstGeom>
          <a:solidFill>
            <a:srgbClr val="4d32be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DESAFIOS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66760" y="1308240"/>
            <a:ext cx="3384720" cy="1008360"/>
            <a:chOff x="266760" y="1308240"/>
            <a:chExt cx="3384720" cy="1008360"/>
          </a:xfrm>
        </p:grpSpPr>
        <p:sp>
          <p:nvSpPr>
            <p:cNvPr id="488" name=""/>
            <p:cNvSpPr/>
            <p:nvPr/>
          </p:nvSpPr>
          <p:spPr>
            <a:xfrm>
              <a:off x="266760" y="1308240"/>
              <a:ext cx="0" cy="83808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280" y="1917720"/>
              <a:ext cx="3067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Desempeño fiscal oscil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6760" y="1308240"/>
              <a:ext cx="45720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6760" y="213372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06680" y="2298600"/>
            <a:ext cx="4311360" cy="1917720"/>
            <a:chOff x="1606680" y="2298600"/>
            <a:chExt cx="4311360" cy="1917720"/>
          </a:xfrm>
        </p:grpSpPr>
        <p:sp>
          <p:nvSpPr>
            <p:cNvPr id="68" name=""/>
            <p:cNvSpPr/>
            <p:nvPr/>
          </p:nvSpPr>
          <p:spPr>
            <a:xfrm>
              <a:off x="1606680" y="2298600"/>
              <a:ext cx="333360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82280" y="2666880"/>
              <a:ext cx="30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4d32be"/>
                  </a:solidFill>
                  <a:latin typeface="Times New Roman"/>
                </a:rPr>
                <a:t>INTERNAC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13280" y="3149640"/>
              <a:ext cx="1904760" cy="1066680"/>
            </a:xfrm>
            <a:prstGeom prst="ellipse">
              <a:avLst/>
            </a:prstGeom>
            <a:solidFill>
              <a:srgbClr val="442caa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68160" y="3416400"/>
              <a:ext cx="144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Times New Roman"/>
                </a:rPr>
                <a:t>Desafí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828800" y="3670200"/>
            <a:ext cx="3105000" cy="1225080"/>
            <a:chOff x="1828800" y="3670200"/>
            <a:chExt cx="3105000" cy="1225080"/>
          </a:xfrm>
        </p:grpSpPr>
        <p:grpSp>
          <p:nvGrpSpPr>
            <p:cNvPr id="73" name=""/>
            <p:cNvGrpSpPr/>
            <p:nvPr/>
          </p:nvGrpSpPr>
          <p:grpSpPr>
            <a:xfrm>
              <a:off x="1828800" y="3670200"/>
              <a:ext cx="990720" cy="990720"/>
              <a:chOff x="1828800" y="3670200"/>
              <a:chExt cx="990720" cy="990720"/>
            </a:xfrm>
          </p:grpSpPr>
          <p:sp>
            <p:nvSpPr>
              <p:cNvPr id="74" name=""/>
              <p:cNvSpPr/>
              <p:nvPr/>
            </p:nvSpPr>
            <p:spPr>
              <a:xfrm>
                <a:off x="1828800" y="3670200"/>
                <a:ext cx="0" cy="9781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28800" y="466092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954880" y="443556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828800" y="4203720"/>
            <a:ext cx="5685120" cy="1208880"/>
            <a:chOff x="1828800" y="4203720"/>
            <a:chExt cx="5685120" cy="1208880"/>
          </a:xfrm>
        </p:grpSpPr>
        <p:sp>
          <p:nvSpPr>
            <p:cNvPr id="78" name=""/>
            <p:cNvSpPr/>
            <p:nvPr/>
          </p:nvSpPr>
          <p:spPr>
            <a:xfrm>
              <a:off x="2965320" y="4952880"/>
              <a:ext cx="454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Facilitación del comercio ext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828800" y="4203720"/>
              <a:ext cx="990720" cy="990720"/>
              <a:chOff x="1828800" y="4203720"/>
              <a:chExt cx="990720" cy="990720"/>
            </a:xfrm>
          </p:grpSpPr>
          <p:sp>
            <p:nvSpPr>
              <p:cNvPr id="80" name=""/>
              <p:cNvSpPr/>
              <p:nvPr/>
            </p:nvSpPr>
            <p:spPr>
              <a:xfrm>
                <a:off x="1828800" y="5194440"/>
                <a:ext cx="99072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4203720"/>
                <a:ext cx="0" cy="97776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2320920"/>
            <a:ext cx="4724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l 60 % de las transacciones de comercio exterior se hacen intra grupos econó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éxico tiene identificados 92 países de baja trib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EUU firmó acuerdos con países de baja tributación para identificar usuarios de tarjetas emitidas en ultramar para comprar en EEU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devolución del IVA comunitario generó fraude mill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02120" y="1854360"/>
            <a:ext cx="5257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egislación sobre operacione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araísos fisc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ecios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Baja 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Uso abusivo de tra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nsificación de fiscalizaciones sobre grandes grupos trans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cambio de información con otras administraciones trib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0640" y="1219320"/>
            <a:ext cx="2189520" cy="606600"/>
            <a:chOff x="80640" y="1219320"/>
            <a:chExt cx="2189520" cy="606600"/>
          </a:xfrm>
        </p:grpSpPr>
        <p:grpSp>
          <p:nvGrpSpPr>
            <p:cNvPr id="85" name=""/>
            <p:cNvGrpSpPr/>
            <p:nvPr/>
          </p:nvGrpSpPr>
          <p:grpSpPr>
            <a:xfrm>
              <a:off x="80640" y="1219320"/>
              <a:ext cx="1422720" cy="380880"/>
              <a:chOff x="80640" y="1219320"/>
              <a:chExt cx="142272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07640" y="1219320"/>
                <a:ext cx="135216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640" y="1271520"/>
                <a:ext cx="142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INTERN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822240" y="154944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851360" y="1790640"/>
            <a:ext cx="0" cy="388620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5040" y="1600200"/>
            <a:ext cx="2029320" cy="698760"/>
            <a:chOff x="365040" y="1600200"/>
            <a:chExt cx="2029320" cy="698760"/>
          </a:xfrm>
        </p:grpSpPr>
        <p:sp>
          <p:nvSpPr>
            <p:cNvPr id="91" name=""/>
            <p:cNvSpPr/>
            <p:nvPr/>
          </p:nvSpPr>
          <p:spPr>
            <a:xfrm>
              <a:off x="365040" y="1600200"/>
              <a:ext cx="0" cy="53352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040" y="2133720"/>
              <a:ext cx="38124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3880" y="190008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Global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2741760"/>
            <a:ext cx="51051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s países centrales reclaman mejorar la competitividad y acortar los tiempos de desadua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EUU anunció su política de “Puertos Seguros” que implica el  cumplimiento de requisitos especiales para poder acceder al mercado estadounid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987560"/>
            <a:ext cx="457200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ilitar el control en fron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ar controles ex-post en el mercad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mpliar las acciones conjuntas DGI/D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eralizar el uso del control satel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lementar scanners fijos y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67360" y="2133720"/>
            <a:ext cx="0" cy="327636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0640" y="1219320"/>
            <a:ext cx="2189520" cy="606600"/>
            <a:chOff x="80640" y="1219320"/>
            <a:chExt cx="2189520" cy="606600"/>
          </a:xfrm>
        </p:grpSpPr>
        <p:grpSp>
          <p:nvGrpSpPr>
            <p:cNvPr id="99" name=""/>
            <p:cNvGrpSpPr/>
            <p:nvPr/>
          </p:nvGrpSpPr>
          <p:grpSpPr>
            <a:xfrm>
              <a:off x="80640" y="1219320"/>
              <a:ext cx="1422720" cy="380880"/>
              <a:chOff x="80640" y="1219320"/>
              <a:chExt cx="1422720" cy="38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107640" y="1219320"/>
                <a:ext cx="135216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640" y="1271520"/>
                <a:ext cx="142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INTERN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822240" y="154944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65040" y="1600200"/>
            <a:ext cx="4359240" cy="881640"/>
            <a:chOff x="365040" y="1600200"/>
            <a:chExt cx="4359240" cy="881640"/>
          </a:xfrm>
        </p:grpSpPr>
        <p:sp>
          <p:nvSpPr>
            <p:cNvPr id="104" name=""/>
            <p:cNvSpPr/>
            <p:nvPr/>
          </p:nvSpPr>
          <p:spPr>
            <a:xfrm>
              <a:off x="365040" y="1600200"/>
              <a:ext cx="0" cy="6984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040" y="2298600"/>
              <a:ext cx="38124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440" y="2082960"/>
              <a:ext cx="40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Facilitación del comercio exte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013280" y="2286000"/>
            <a:ext cx="4292640" cy="1930320"/>
            <a:chOff x="4013280" y="2286000"/>
            <a:chExt cx="4292640" cy="1930320"/>
          </a:xfrm>
        </p:grpSpPr>
        <p:grpSp>
          <p:nvGrpSpPr>
            <p:cNvPr id="110" name=""/>
            <p:cNvGrpSpPr/>
            <p:nvPr/>
          </p:nvGrpSpPr>
          <p:grpSpPr>
            <a:xfrm>
              <a:off x="4971960" y="2286000"/>
              <a:ext cx="3333960" cy="1371600"/>
              <a:chOff x="4971960" y="2286000"/>
              <a:chExt cx="3333960" cy="1371600"/>
            </a:xfrm>
          </p:grpSpPr>
          <p:sp>
            <p:nvSpPr>
              <p:cNvPr id="111" name=""/>
              <p:cNvSpPr/>
              <p:nvPr/>
            </p:nvSpPr>
            <p:spPr>
              <a:xfrm>
                <a:off x="4971960" y="2286000"/>
                <a:ext cx="3333960" cy="1371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43360" y="2666880"/>
                <a:ext cx="21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4d32be"/>
                    </a:solidFill>
                    <a:latin typeface="Times New Roman"/>
                  </a:rPr>
                  <a:t>NACIONA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013280" y="3149640"/>
              <a:ext cx="1904760" cy="1066680"/>
              <a:chOff x="4013280" y="3149640"/>
              <a:chExt cx="1904760" cy="1066680"/>
            </a:xfrm>
          </p:grpSpPr>
          <p:sp>
            <p:nvSpPr>
              <p:cNvPr id="114" name=""/>
              <p:cNvSpPr/>
              <p:nvPr/>
            </p:nvSpPr>
            <p:spPr>
              <a:xfrm>
                <a:off x="4013280" y="3149640"/>
                <a:ext cx="1904760" cy="1066680"/>
              </a:xfrm>
              <a:prstGeom prst="ellipse">
                <a:avLst/>
              </a:prstGeom>
              <a:solidFill>
                <a:srgbClr val="442caa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68160" y="3416400"/>
                <a:ext cx="144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Desafí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817720" y="3657600"/>
            <a:ext cx="4573800" cy="1237680"/>
            <a:chOff x="2817720" y="3657600"/>
            <a:chExt cx="4573800" cy="1237680"/>
          </a:xfrm>
        </p:grpSpPr>
        <p:grpSp>
          <p:nvGrpSpPr>
            <p:cNvPr id="117" name=""/>
            <p:cNvGrpSpPr/>
            <p:nvPr/>
          </p:nvGrpSpPr>
          <p:grpSpPr>
            <a:xfrm>
              <a:off x="6477120" y="3657600"/>
              <a:ext cx="914400" cy="1066680"/>
              <a:chOff x="6477120" y="3657600"/>
              <a:chExt cx="914400" cy="1066680"/>
            </a:xfrm>
          </p:grpSpPr>
          <p:sp>
            <p:nvSpPr>
              <p:cNvPr id="118" name=""/>
              <p:cNvSpPr/>
              <p:nvPr/>
            </p:nvSpPr>
            <p:spPr>
              <a:xfrm>
                <a:off x="7391520" y="3657600"/>
                <a:ext cx="0" cy="106668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477120" y="472428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817720" y="4435560"/>
              <a:ext cx="36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Desempeño fiscal oscil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2240" y="4572000"/>
            <a:ext cx="5399280" cy="726480"/>
            <a:chOff x="1992240" y="4572000"/>
            <a:chExt cx="5399280" cy="726480"/>
          </a:xfrm>
        </p:grpSpPr>
        <p:grpSp>
          <p:nvGrpSpPr>
            <p:cNvPr id="122" name=""/>
            <p:cNvGrpSpPr/>
            <p:nvPr/>
          </p:nvGrpSpPr>
          <p:grpSpPr>
            <a:xfrm>
              <a:off x="6477120" y="4572000"/>
              <a:ext cx="914400" cy="546120"/>
              <a:chOff x="6477120" y="4572000"/>
              <a:chExt cx="914400" cy="54612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6477120" y="511812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1520" y="4572000"/>
                <a:ext cx="0" cy="5335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992240" y="4838760"/>
              <a:ext cx="43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Sistema de recaudación fede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37840" y="4952880"/>
            <a:ext cx="4153680" cy="726480"/>
            <a:chOff x="3237840" y="4952880"/>
            <a:chExt cx="4153680" cy="726480"/>
          </a:xfrm>
        </p:grpSpPr>
        <p:grpSp>
          <p:nvGrpSpPr>
            <p:cNvPr id="127" name=""/>
            <p:cNvGrpSpPr/>
            <p:nvPr/>
          </p:nvGrpSpPr>
          <p:grpSpPr>
            <a:xfrm>
              <a:off x="6477120" y="4952880"/>
              <a:ext cx="914400" cy="533520"/>
              <a:chOff x="6477120" y="4952880"/>
              <a:chExt cx="914400" cy="53352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6477120" y="5486400"/>
                <a:ext cx="914400" cy="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391520" y="4952880"/>
                <a:ext cx="0" cy="533520"/>
              </a:xfrm>
              <a:prstGeom prst="line">
                <a:avLst/>
              </a:prstGeom>
              <a:ln w="28440">
                <a:solidFill>
                  <a:srgbClr val="4d32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237840" y="5219640"/>
              <a:ext cx="31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4d32be"/>
                  </a:solidFill>
                  <a:latin typeface="Times New Roman"/>
                </a:rPr>
                <a:t>Baja cultura tributa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280" y="1270080"/>
            <a:ext cx="1994040" cy="608040"/>
            <a:chOff x="152280" y="1270080"/>
            <a:chExt cx="1994040" cy="608040"/>
          </a:xfrm>
        </p:grpSpPr>
        <p:grpSp>
          <p:nvGrpSpPr>
            <p:cNvPr id="132" name=""/>
            <p:cNvGrpSpPr/>
            <p:nvPr/>
          </p:nvGrpSpPr>
          <p:grpSpPr>
            <a:xfrm>
              <a:off x="793800" y="1270080"/>
              <a:ext cx="1352520" cy="380880"/>
              <a:chOff x="793800" y="1270080"/>
              <a:chExt cx="1352520" cy="380880"/>
            </a:xfrm>
          </p:grpSpPr>
          <p:sp>
            <p:nvSpPr>
              <p:cNvPr id="133" name=""/>
              <p:cNvSpPr/>
              <p:nvPr/>
            </p:nvSpPr>
            <p:spPr>
              <a:xfrm>
                <a:off x="793800" y="127008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93960" y="1330200"/>
                <a:ext cx="1023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N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52280" y="160164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4120" y="3124080"/>
            <a:ext cx="4111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tínuos alti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lta de solvencia intertemp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438280"/>
            <a:ext cx="479736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audación compatible con un superávit fiscal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uperación gradual del cumplimiento volu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5791320" y="5486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86320" y="5410080"/>
            <a:ext cx="26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volución de la Recau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5791320" y="59436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85600" y="5899320"/>
            <a:ext cx="32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lación IVA bruto / consum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590920"/>
            <a:ext cx="0" cy="205740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920" y="1371600"/>
            <a:ext cx="3380040" cy="1541880"/>
            <a:chOff x="304920" y="1371600"/>
            <a:chExt cx="3380040" cy="1541880"/>
          </a:xfrm>
        </p:grpSpPr>
        <p:sp>
          <p:nvSpPr>
            <p:cNvPr id="145" name=""/>
            <p:cNvSpPr/>
            <p:nvPr/>
          </p:nvSpPr>
          <p:spPr>
            <a:xfrm>
              <a:off x="304920" y="1371600"/>
              <a:ext cx="0" cy="13716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73060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760" y="251460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Desempeño fiscal oscil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1371600"/>
              <a:ext cx="45720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3179880"/>
            <a:ext cx="4645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aso desarrollo tecnológ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ja 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blemas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8400" y="2438280"/>
            <a:ext cx="4797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cualizar niveles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conectar base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uitificar” información provi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ferencia de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istencia financiera AF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590920"/>
            <a:ext cx="0" cy="243828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371600"/>
            <a:ext cx="4015080" cy="1526040"/>
            <a:chOff x="304920" y="1371600"/>
            <a:chExt cx="4015080" cy="1526040"/>
          </a:xfrm>
        </p:grpSpPr>
        <p:sp>
          <p:nvSpPr>
            <p:cNvPr id="154" name=""/>
            <p:cNvSpPr/>
            <p:nvPr/>
          </p:nvSpPr>
          <p:spPr>
            <a:xfrm>
              <a:off x="615960" y="2498760"/>
              <a:ext cx="370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Sistema de recaudación Fed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1371600"/>
              <a:ext cx="0" cy="13716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273060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1371600"/>
              <a:ext cx="45720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1520" y="1270080"/>
            <a:ext cx="1994040" cy="608040"/>
            <a:chOff x="101520" y="1270080"/>
            <a:chExt cx="1994040" cy="608040"/>
          </a:xfrm>
        </p:grpSpPr>
        <p:grpSp>
          <p:nvGrpSpPr>
            <p:cNvPr id="159" name=""/>
            <p:cNvGrpSpPr/>
            <p:nvPr/>
          </p:nvGrpSpPr>
          <p:grpSpPr>
            <a:xfrm>
              <a:off x="743040" y="1270080"/>
              <a:ext cx="1352520" cy="380880"/>
              <a:chOff x="743040" y="1270080"/>
              <a:chExt cx="1352520" cy="380880"/>
            </a:xfrm>
          </p:grpSpPr>
          <p:sp>
            <p:nvSpPr>
              <p:cNvPr id="160" name=""/>
              <p:cNvSpPr/>
              <p:nvPr/>
            </p:nvSpPr>
            <p:spPr>
              <a:xfrm>
                <a:off x="743040" y="1270080"/>
                <a:ext cx="135252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3200" y="1330200"/>
                <a:ext cx="1023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N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01520" y="1601640"/>
              <a:ext cx="144792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6400" y="3213000"/>
            <a:ext cx="3807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cumplimiento gener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aso compromiso 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tamiento cortoplac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9800" y="2425680"/>
            <a:ext cx="479772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spuesta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strucción de una nueva 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calización en las nuevas gen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corporación a la curr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esencia en la com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48160" y="2577960"/>
            <a:ext cx="0" cy="2146320"/>
          </a:xfrm>
          <a:prstGeom prst="line">
            <a:avLst/>
          </a:prstGeom>
          <a:ln w="38160">
            <a:solidFill>
              <a:srgbClr val="442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7080" y="2602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371600"/>
            <a:ext cx="3062520" cy="1526040"/>
            <a:chOff x="304920" y="1371600"/>
            <a:chExt cx="3062520" cy="1526040"/>
          </a:xfrm>
        </p:grpSpPr>
        <p:sp>
          <p:nvSpPr>
            <p:cNvPr id="168" name=""/>
            <p:cNvSpPr/>
            <p:nvPr/>
          </p:nvSpPr>
          <p:spPr>
            <a:xfrm>
              <a:off x="615600" y="2498760"/>
              <a:ext cx="27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4d32be"/>
                  </a:solidFill>
                  <a:uFillTx/>
                  <a:latin typeface="Times New Roman"/>
                </a:rPr>
                <a:t>Baja cultura tributar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920" y="1371600"/>
              <a:ext cx="0" cy="137160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2730600"/>
              <a:ext cx="380880" cy="0"/>
            </a:xfrm>
            <a:prstGeom prst="line">
              <a:avLst/>
            </a:prstGeom>
            <a:ln w="19080">
              <a:solidFill>
                <a:srgbClr val="4d32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1371600"/>
              <a:ext cx="457200" cy="0"/>
            </a:xfrm>
            <a:prstGeom prst="line">
              <a:avLst/>
            </a:prstGeom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4480" y="1270080"/>
            <a:ext cx="1993320" cy="608040"/>
            <a:chOff x="114480" y="1270080"/>
            <a:chExt cx="1993320" cy="608040"/>
          </a:xfrm>
        </p:grpSpPr>
        <p:grpSp>
          <p:nvGrpSpPr>
            <p:cNvPr id="173" name=""/>
            <p:cNvGrpSpPr/>
            <p:nvPr/>
          </p:nvGrpSpPr>
          <p:grpSpPr>
            <a:xfrm>
              <a:off x="755640" y="1270080"/>
              <a:ext cx="1352160" cy="380880"/>
              <a:chOff x="755640" y="1270080"/>
              <a:chExt cx="1352160" cy="380880"/>
            </a:xfrm>
          </p:grpSpPr>
          <p:sp>
            <p:nvSpPr>
              <p:cNvPr id="174" name=""/>
              <p:cNvSpPr/>
              <p:nvPr/>
            </p:nvSpPr>
            <p:spPr>
              <a:xfrm>
                <a:off x="755640" y="1270080"/>
                <a:ext cx="135216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55440" y="1330200"/>
                <a:ext cx="1023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NACION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4480" y="1601640"/>
              <a:ext cx="1447560" cy="276480"/>
            </a:xfrm>
            <a:prstGeom prst="rect">
              <a:avLst/>
            </a:prstGeom>
            <a:solidFill>
              <a:srgbClr val="4d32be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DESAFIOS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9:50:30Z</dcterms:created>
  <dc:creator>Gustavo Giorgi</dc:creator>
  <dc:description/>
  <dc:language>en-US</dc:language>
  <cp:lastModifiedBy>AFIP</cp:lastModifiedBy>
  <cp:lastPrinted>2003-10-22T20:25:18Z</cp:lastPrinted>
  <dcterms:modified xsi:type="dcterms:W3CDTF">2003-10-22T20:25:55Z</dcterms:modified>
  <cp:revision>296</cp:revision>
  <dc:subject/>
  <dc:title>No Slide Title</dc:title>
</cp:coreProperties>
</file>