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5C3-ED4B-4721-9587-F47941A4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88E-1FAE-4BB9-B487-9CF5229D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88B-4E9D-4C58-8F2D-119594FF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2EC-2DAD-4BE2-8327-46864414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9A8-8AF9-4DF3-8945-15D32D0D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34F-F48C-493D-9306-47C0644A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BDF-71B9-4130-951D-6831A92A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55E-D2A6-4593-99DE-F7757B28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C25-916E-4A86-9A08-6234C8C5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E8F-7DF7-49EE-84CC-07D72B0F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F95-C4E0-45F8-ABAC-476462B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115-4BC2-4320-9FB9-D0E789EA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69AD-BF91-49A8-9351-2918A24061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pymes20@buenosaires.gob.ar" TargetMode="External"/><Relationship Id="rId2" Type="http://schemas.openxmlformats.org/officeDocument/2006/relationships/hyperlink" Target="http://www.buenosaires.gob.ar/pymes20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yMEs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tenciá tus ventas a través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653" t="32579" r="46009" b="43651"/>
          <a:stretch/>
        </p:blipFill>
        <p:spPr>
          <a:xfrm>
            <a:off x="1403280" y="1282680"/>
            <a:ext cx="6553440" cy="2144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7777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36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i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SDE premiará a aquellos que hayan aplicado eficientemente las herramientas incorporadas a través del programa y hayan obtenido los resultados mas desta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531720"/>
            <a:ext cx="8893080" cy="1103400"/>
            <a:chOff x="0" y="531720"/>
            <a:chExt cx="8893080" cy="11034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5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ronograma y s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evé un llamado cada 2 meses en 4 o 5 puntos de la Ciudad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il - m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 - ju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osto- sept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ubre- nov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531720"/>
            <a:ext cx="8893080" cy="1103400"/>
            <a:chOff x="0" y="531720"/>
            <a:chExt cx="8893080" cy="11034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794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ymes20@buenosaires.gob.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 Info e in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uenosaires.gob.ar/pymes2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2268360" y="476280"/>
            <a:ext cx="4608720" cy="1509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7777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Programa consiste 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5912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acitación y asistencia técnica destinados a generar y/o fortalecer la estrategia PyME de promoción, marketing, comunicación y ventas a través de inter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0" y="531720"/>
            <a:ext cx="8893080" cy="1103400"/>
            <a:chOff x="0" y="531720"/>
            <a:chExt cx="8893080" cy="11034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32400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program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2840" y="1959120"/>
            <a:ext cx="6707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bilización y capac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920" y="531720"/>
            <a:ext cx="8893080" cy="1103400"/>
            <a:chOff x="34920" y="531720"/>
            <a:chExt cx="8893080" cy="11034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492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5892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3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ensibilización y capaci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ulo 1: Mejorando mi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o: ideas creativas que ayudan a v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nidos: cómo me presento ante lo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ulo 2: Comunicando mi producto o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en motores de búsqu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 web para vender más: SEM, mapas, estadísticas de sitios we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531720"/>
            <a:ext cx="8893080" cy="1103400"/>
            <a:chOff x="0" y="531720"/>
            <a:chExt cx="8893080" cy="11034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bilización y capacitación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ulo 3: Ventas en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 Commerce: ventas por el sitio y medios de p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ales: compras y ventas seg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ulo 4: Captando nuevos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rketing Digital: Cómo explicar mi producto o servicio - Empresas en Facebook, Twitter y Linkedin - Campañas vi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ail marketing: armado de emails atr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31720"/>
            <a:ext cx="8893080" cy="1103400"/>
            <a:chOff x="0" y="531720"/>
            <a:chExt cx="8893080" cy="11034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utodiagnó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un aplicativo online los participantes podrán realizar el ejercicio de identificar los principales elementos de su estrategia digital y evaluar el estado de desarrollo de la mi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 finalizar, el aplicativo generará diversos indicadores que servirán de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531720"/>
            <a:ext cx="8893080" cy="1103400"/>
            <a:chOff x="0" y="531720"/>
            <a:chExt cx="8893080" cy="11034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849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3 –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lan de 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yMEs recibirán por parte de especialistas un conjunto de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utorí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 instrumentos necesarios para el desarrollo de la estrategia eleg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531720"/>
            <a:ext cx="8893080" cy="1103400"/>
            <a:chOff x="0" y="531720"/>
            <a:chExt cx="8893080" cy="11034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405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oft gratu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ienes finalicen el programa tendrán acceso a un paquete de herramientas informáticas relacionadas a los 8 temas del programa PyMEs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herramientas permitirán a la PyME avanzar sobre las diferentes áreas de la temática de forma autónoma y evaluar así acciones futuras de su estrategi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531720"/>
            <a:ext cx="8893080" cy="1103400"/>
            <a:chOff x="0" y="531720"/>
            <a:chExt cx="8893080" cy="11034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Quiénes pueden particip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s jurídicas o físicas cuya actividad se desarrolle en el territorio de la CABA, y que reúna con las siguientes característ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a 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ncuentre factu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531720"/>
            <a:ext cx="8893080" cy="1103400"/>
            <a:chOff x="0" y="531720"/>
            <a:chExt cx="8893080" cy="11034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531720"/>
              <a:ext cx="111600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24000" y="1197000"/>
              <a:ext cx="856908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" descr=""/>
          <p:cNvPicPr/>
          <p:nvPr/>
        </p:nvPicPr>
        <p:blipFill>
          <a:blip r:embed="rId3"/>
          <a:srcRect l="2653" t="32579" r="46009" b="43651"/>
          <a:stretch/>
        </p:blipFill>
        <p:spPr>
          <a:xfrm>
            <a:off x="7201080" y="6221520"/>
            <a:ext cx="19429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6:17:38Z</dcterms:created>
  <dc:creator>Tomas Cwierz</dc:creator>
  <dc:description/>
  <dc:language>en-US</dc:language>
  <cp:lastModifiedBy>aiglesiasg</cp:lastModifiedBy>
  <dcterms:modified xsi:type="dcterms:W3CDTF">2013-04-22T14:41:27Z</dcterms:modified>
  <cp:revision>14</cp:revision>
  <dc:subject/>
  <dc:title>PyMEs 2.0</dc:title>
</cp:coreProperties>
</file>