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CF83-36CD-4E1E-BCE1-ADCF9EBA2B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C4B1-6970-4FB0-8C93-AA7D736898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B713-918D-45B1-9172-57DFF14927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E557-FF90-4631-B81D-F91982EB07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558F-C266-4759-A180-CA113A7A8B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D8C6-9DDA-4D36-B6F7-398E6705555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BC01-9F1C-423D-84DC-CB1477BA55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724C-5A0D-4190-86BD-BB41D6C5D5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E3FF-3AA5-47E1-9F12-86D7A9A377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033C-ABF6-4CEA-9D6B-3BA0E7499F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CFF0-7366-452B-B564-C08BCB7042A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CAF9-3E18-4259-B4F5-6FD61B7376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ECED-236E-4107-9819-D382688821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1895C-D95D-49B6-8D33-5DEC9E20A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8115D-F630-4EB4-A9AF-4E8B15BA2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9EB0D-AB44-43D1-91C7-036ED6B21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D68DB-4E19-4853-8739-8B8D47A83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7A542-1017-4F39-A931-62261B2E4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8669A-C3FF-4E29-91DC-262F3F9AC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3AC93-F0ED-4774-8E4C-CD76FFAFA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AA29F-B35B-4404-9259-FA8984147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3DEE0-BDBE-4467-818E-C296102A5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1EFD4-8C88-4039-8BDD-0A2E7CBA9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44F87-4856-4EB5-9CE3-B3E2DD4A1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D1A50-18F9-45DB-9057-06B36FA42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934A9-1059-4128-89A7-A3CF2C0CB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4682B-887F-4D8F-8051-9F5901D51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A34E9-9EC5-4256-8873-F9738BA7B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85403-3A86-49A4-96D3-30F35C4C1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95300-6241-404D-B823-08E0C96BF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B0AF97-E70C-4587-A586-AFD69FBC8E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09919-B513-4988-A9AB-1C111403C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71CD04-968D-4B93-A390-7D5A4B5AB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1B3A8-C9B5-4567-88A9-796D6CBFC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8694CC-C221-4425-B3B4-7D4D24E76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91B13-0CBA-4465-AA31-97972B322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121FF-315C-45FC-B8C0-24CACD212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FF86C-49AC-4847-8E82-134A6EDD0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6CBB4-E690-40AC-B943-AA7189C67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3EBCC-2E25-4747-8C70-EEC53F506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012FA-4774-4EBD-AEE5-C28DEEF07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4FBDCD-471B-4762-BE59-30AEE68665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5C08FF-A7F5-432A-B95B-E4EAF5FBE3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8E1E6D-D996-42AB-B15B-3D4F006073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8E063F-5C92-4603-84FA-66864E8416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300FE-7D10-4D90-83D6-255642357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A4C26-E243-424F-81F2-5A77BD288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745CA-526B-4679-831C-41A780C26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BF89D-72AC-4C6B-B89D-A66F75A9B1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54BA6E-475C-4FD6-9B41-9B6A3B7C7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8F927-CD01-40EC-B573-4EE3AB04C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A2889-5D02-4463-A0AA-68509EB82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4A4EC7-15F2-4E38-BAAA-42AC16167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9D4876-D7C5-426C-82B0-C0D6770A7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CD6A4A-B8D0-4B40-B27E-FD3D54AE9C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3FCD6E-7381-46E3-8550-79240BDD82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E64009-CC2B-4914-9A74-6110244A17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7FF88-8B4E-4A37-8893-D72EA8B46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8E6A6-22D3-40CE-B7F3-9D55FE446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28CFD-BDDD-4013-9EBC-E6EAA20A3F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3DC4D2-4125-46F5-A9A3-C074B1FE84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129817-2C4C-455D-A3B0-4C87939E8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BC6938-D5E3-4B2A-B07A-A045F3A7A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F6EEA-E50E-4ACD-AD85-319C733CAB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0F579-15B6-4DA1-B714-93A34A891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92ABC-C3F7-4319-9B94-7EE000A74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D4FF42-7C06-4C75-80AE-34747F5F6F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67374B-CB89-4A76-997D-E0D1CAAC55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EA8A3-D18B-479A-973B-B4E5B2071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7AE401-5BA0-4DEB-8938-FBF46FE15F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357560-B66F-414D-8562-8B57FDA7F0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535C4B-F2B3-4944-8EBC-C88C814969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DABDD8-42D2-405A-B655-28C8AAD11D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923550-A942-4E1D-B50B-E03D60D7C1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AC8099-C999-4954-9D03-C5651A9ABB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02A7E0-1299-4BA0-B23B-ACE6ADB5D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3274C-E892-4D4A-A3FB-7A5D4B7C7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5CFA74-6CFF-403C-AF0D-744C64209F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97A86-3842-4CA1-A98B-4A9351B56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D0734-F67B-430D-92D0-611DD590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3BBC22-F58D-4386-BEE7-33F2584F0C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821E35-A9EE-40A7-8350-F4688ED16F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A8F71B-03C1-44E1-AD0C-2132C2376E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89FED1-204F-4B28-B5BD-9B8CA54E42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66D668-28E3-463A-B73C-BCB839B1D8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7BA86C-116E-4848-BC25-6195611BBD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46114A-4BDD-41F8-8C09-AFEAE91DC1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23E30A-A818-4140-9B96-CE31015787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A7957E-3268-4D59-ABE0-0D0233B6C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543921-E7EE-4453-8C39-FFB535B168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5ADAA-B993-4552-8EB9-A5268EA03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448F6B-2E82-4A7A-857D-1418079E7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F0C869-EFDD-49B2-907F-33B4E1F517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D00A9-17CC-4053-90E2-F684D2B319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B956C7-89AE-4C6E-8739-EB15A07A7A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F1F8F3-B198-4392-8380-879A77495A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0A93D1-8AAB-4D0D-8529-55C4BCCDDE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F17792-4741-494D-98A8-1DB0173BBB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312778-0F3A-49C5-9AB9-9823AF78E8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1BB6C5-1860-4557-A95E-DE0956471B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A24992-DB9B-4CBB-9CDA-4CDCE9B8B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9EA84-3C77-49C1-B69D-4283907CB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AAEF89-0DB8-4A87-8CAC-032A80BD60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1D1F4F-2AAC-44EF-ACAB-18C9F8F45C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9606E-EF22-443A-AB71-15AEC37BF2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C9007-64DB-4963-BEF3-1EBFA1AAF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221BC-5AC0-45B9-9B56-0C4FAF1D23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E5223D-C96D-4651-B3C4-FFC24884F6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7DB1CD-9A4B-415D-8C1A-8293D51AC5D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0484-0238-44E2-89FA-D5FEF997696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3082-FDEF-402D-8DC2-33A4A2CB9571}"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4BE0-10AC-4A0C-A67F-F07BC3B7E50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E46D-4D99-45B1-B497-31A05B86678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DF88-7FA0-48B8-B260-6566CF4532C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A8E6-E670-4D31-AD07-807283FE746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38DC-328B-468D-B395-F89292BA3BE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2E9A-F99A-4671-8EEC-D84E5BF06A8A}"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nfoleg.mecon.gov.ar/infolegInternet/verNorma.do?id=803"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15960" y="1749600"/>
            <a:ext cx="82789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700" spc="-1" strike="noStrike">
              <a:solidFill>
                <a:srgbClr val="464646"/>
              </a:solidFill>
              <a:latin typeface="Lucida Sans Unicode"/>
            </a:endParaRPr>
          </a:p>
        </p:txBody>
      </p:sp>
    </p:spTree>
  </p:cSld>
  <p:transition>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377"/>
                                        </p:tgtEl>
                                        <p:attrNameLst>
                                          <p:attrName>style.visibility</p:attrName>
                                        </p:attrNameLst>
                                      </p:cBhvr>
                                      <p:to>
                                        <p:strVal val="visible"/>
                                      </p:to>
                                    </p:set>
                                    <p:anim calcmode="lin" valueType="num">
                                      <p:cBhvr additive="repl">
                                        <p:cTn id="7" dur="500" fill="hold"/>
                                        <p:tgtEl>
                                          <p:spTgt spid="3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3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3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9">
                                  <p:stCondLst>
                                    <p:cond delay="0"/>
                                  </p:stCondLst>
                                  <p:childTnLst>
                                    <p:anim calcmode="lin" valueType="num">
                                      <p:cBhvr additive="repl">
                                        <p:cTn id="14" dur="500" fill="hold"/>
                                        <p:tgtEl>
                                          <p:spTgt spid="377"/>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 dur="500" fill="hold"/>
                                        <p:tgtEl>
                                          <p:spTgt spid="377"/>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 dur="500" fill="hold"/>
                                        <p:tgtEl>
                                          <p:spTgt spid="377"/>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 dur="500" fill="hold"/>
                                        <p:tgtEl>
                                          <p:spTgt spid="377"/>
                                        </p:tgtEl>
                                        <p:attrNameLst>
                                          <p:attrName>ppt_y</p:attrName>
                                        </p:attrNameLst>
                                      </p:cBhvr>
                                      <p:tavLst>
                                        <p:tav tm="0">
                                          <p:val>
                                            <p:strVal val="#ppt_y"/>
                                          </p:val>
                                        </p:tav>
                                        <p:tav tm="100000">
                                          <p:val>
                                            <p:strVal val="#ppt_y"/>
                                          </p:val>
                                        </p:tav>
                                      </p:tavLst>
                                    </p:anim>
                                    <p:set>
                                      <p:cBhvr>
                                        <p:cTn id="18"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OBLIGACION DEL DEPOSITARIO</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rt. 217. - El depositario de objetos embargados a la orden judicial deberá presentarlos dentro del día siguientes al de la intimación judicial.</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No podrá eludir la entrega invocando el derecho de retenció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Si no lo hiciere, el juez remitirá los antecedentes al tribunal penal competente, pudiendo asimismo ordenar la detención del depositario hasta el momento en que dicho tribunal comenzare a actuar.</a:t>
            </a:r>
            <a:endParaRPr b="0" lang="en-US" sz="2300" spc="-1" strike="noStrike">
              <a:solidFill>
                <a:srgbClr val="000000"/>
              </a:solidFill>
              <a:latin typeface="Lucida Sans Unicode"/>
            </a:endParaRPr>
          </a:p>
        </p:txBody>
      </p:sp>
      <p:pic>
        <p:nvPicPr>
          <p:cNvPr id="396"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PRIORIDAD DEL PRIMER EMBARGANT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rt. 218. - El acreedor que ha obtenido el embargo de bienes de su deudor, no afectados a créditos privilegiados, tendrá derecho a cobrar íntegramente su crédito, intereses y costas, con preferencia a otros acreedores, salvo en el caso de concurso.</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Los embargos posteriores afectarán únicamente el sobrante que quedare después de pagados los créditos que hayan obtenido embargos anterior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BIENES INEMBARGABLES</a:t>
            </a:r>
            <a:endParaRPr b="0" lang="en-US" sz="23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rt. 219. - No se trabará nunca embargo:</a:t>
            </a:r>
            <a:endParaRPr b="0" lang="en-US" sz="23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En el lecho cotidiano del deudor, de su mujer e hijos, en las ropas y muebles de su indispensable uso, ni en los instrumentos necesarios para la profesión, arte u oficio que ejerza.</a:t>
            </a:r>
            <a:endParaRPr b="0" lang="en-US" sz="23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Sobre los sepulcros, salvo que el crédito corresponda a su precio de venta, construcción o suministro de materiales.</a:t>
            </a:r>
            <a:endParaRPr b="0" lang="en-US" sz="23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En los demás bienes exceptuados de embargo por ley.</a:t>
            </a:r>
            <a:endParaRPr b="0" lang="en-US" sz="23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Ningún otro bien quedará exceptuado</a:t>
            </a:r>
            <a:endParaRPr b="0" lang="en-US" sz="2300" spc="-1" strike="noStrike">
              <a:solidFill>
                <a:srgbClr val="000000"/>
              </a:solidFill>
              <a:latin typeface="Lucida Sans Unicode"/>
            </a:endParaRPr>
          </a:p>
        </p:txBody>
      </p:sp>
      <p:pic>
        <p:nvPicPr>
          <p:cNvPr id="400"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rtículo 12.-Las cuestiones profesionales derivadas de actuaciones judiciales, que no se encuentran expresamente regladas en los artículos precedentes, serán resueltas, en cuanto ello sea posible, por extensión de las disposiciones que contempla la ley 12.997 (decreto - ley 30.439/44) y reformas o reglamentaciones posteriores.</a:t>
            </a:r>
            <a:endParaRPr b="0" lang="en-US" sz="2700" spc="-1" strike="noStrike">
              <a:solidFill>
                <a:srgbClr val="000000"/>
              </a:solidFill>
              <a:latin typeface="Lucida Sans Unicode"/>
            </a:endParaRPr>
          </a:p>
        </p:txBody>
      </p:sp>
      <p:pic>
        <p:nvPicPr>
          <p:cNvPr id="380"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Lucida Sans Unicode"/>
              </a:rPr>
              <a:t>ARTICULO 49. – </a:t>
            </a:r>
            <a:r>
              <a:rPr b="0" lang="es-ES" sz="2700" spc="-1" strike="noStrike">
                <a:solidFill>
                  <a:srgbClr val="000000"/>
                </a:solidFill>
                <a:latin typeface="Lucida Sans Unicode"/>
              </a:rPr>
              <a:t>Todo honorario regulado judicialmente deberá pagarse por la parte condenada en costas, dentro de los treinta (30) días de notificado el auto regulatorio firme, si no se fijare un plazo menor.</a:t>
            </a:r>
            <a:endParaRPr b="0" lang="en-US" sz="2700" spc="-1" strike="noStrike">
              <a:solidFill>
                <a:srgbClr val="000000"/>
              </a:solidFill>
              <a:latin typeface="Lucida Sans Unicode"/>
            </a:endParaRPr>
          </a:p>
        </p:txBody>
      </p:sp>
      <p:pic>
        <p:nvPicPr>
          <p:cNvPr id="382"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Lucida Sans Unicode"/>
              </a:rPr>
              <a:t>ARTICULO 61. – </a:t>
            </a:r>
            <a:r>
              <a:rPr b="0" lang="es-ES" sz="2300" spc="-1" strike="noStrike">
                <a:solidFill>
                  <a:srgbClr val="000000"/>
                </a:solidFill>
                <a:latin typeface="Lucida Sans Unicode"/>
              </a:rPr>
              <a:t>Las deudas de honorarios, pactados o por regulación judicial firme, cuando hubiere mora del deudor, serán actualizadas hasta la fecha de entrada en vigencia de la ley de convertibilidad 23.928, de acuerdo con el índice de precios al por mayor, nivel general, publicados por el Instituto Nacional de Estadística y Censos. Las sumas actualizadas devengarán un interés del seis por ciento (6 %) anual. A partir de la fecha antes indicada, esas deudas devengarán intereses equivalentes a la tasa pasiva promedio que publique el Banco Central de la República Argentina. </a:t>
            </a:r>
            <a:r>
              <a:rPr b="0" i="1" lang="es-ES" sz="2300" spc="-1" strike="noStrike">
                <a:solidFill>
                  <a:srgbClr val="000000"/>
                </a:solidFill>
                <a:latin typeface="Lucida Sans Unicode"/>
              </a:rPr>
              <a:t>(Artículo sustituido por art. 12 de la </a:t>
            </a:r>
            <a:r>
              <a:rPr b="0" lang="es-ES" sz="2300" spc="-1" strike="noStrike" u="sng">
                <a:solidFill>
                  <a:srgbClr val="ff8119"/>
                </a:solidFill>
                <a:uFillTx/>
                <a:latin typeface="Lucida Sans Unicode"/>
                <a:hlinkClick r:id="rId1"/>
              </a:rPr>
              <a:t>Ley N° 24.432</a:t>
            </a:r>
            <a:r>
              <a:rPr b="0" i="1" lang="es-ES" sz="2300" spc="-1" strike="noStrike">
                <a:solidFill>
                  <a:srgbClr val="000000"/>
                </a:solidFill>
                <a:latin typeface="Lucida Sans Unicode"/>
              </a:rPr>
              <a:t> B.O. 10/1/1995.)</a:t>
            </a:r>
            <a:endParaRPr b="0" lang="en-US" sz="2300" spc="-1" strike="noStrike">
              <a:solidFill>
                <a:srgbClr val="000000"/>
              </a:solidFill>
              <a:latin typeface="Lucida Sans Unicode"/>
            </a:endParaRPr>
          </a:p>
        </p:txBody>
      </p:sp>
      <p:pic>
        <p:nvPicPr>
          <p:cNvPr id="384" name="Rectang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aja y Banc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réditos por Vent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Otros crédit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Bienes de Cambi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version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Bienes de us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tangi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Art. 198. - Las medidas precautorias se decretarán y cumplirán sin audiencia de la otra parte. Ningún incidente planteado por el destinatario de la medida podrá detener su cumplimiento.</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Si el afectado no hubiese tomado conocimiento de las medidas con motivo de su ejecución, se le notificarán personalmente o por cédula dentro de los TRES (3) días. Quien hubiese obtenido la medida será responsable de los perjuicios que irrogare la demora. </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Art. 233. - Lo dispuesto en este capítulo respecto del embargo preventivo es aplicable al embargo ejecutivo, al ejecutorio, y a las demás medidas cautelares, en lo pertinente.</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FORMA DE LA TRAB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rt. 213. - En los casos en que deba efectuarse el embargo, se trabará en la forma prescripta para el juicio ejecutivo. Se limitará a los bienes necesarios para cubrir el crédito que se reclama y las cost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Mientras no se dispusiere el secuestro o la administración judicial de lo embargado, el deudor podrá continuar en el uso normal de la cosa.</a:t>
            </a:r>
            <a:endParaRPr b="0" lang="en-US" sz="2700" spc="-1" strike="noStrike">
              <a:solidFill>
                <a:srgbClr val="000000"/>
              </a:solidFill>
              <a:latin typeface="Lucida Sans Unicode"/>
            </a:endParaRPr>
          </a:p>
        </p:txBody>
      </p:sp>
      <p:pic>
        <p:nvPicPr>
          <p:cNvPr id="390"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MANDAMIENTO</a:t>
            </a:r>
            <a:endParaRPr b="0" lang="en-US" sz="23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rt. 214. - En el mandamiento se incluirá siempre la autorización para que los funcionarios encargados de ejecutarlo soliciten el auxilio de la fuerza pública y el allanamiento de domicilio en caso de resistencia, y se dejará constancia de la habilitación de día y hora y del lugar.</a:t>
            </a:r>
            <a:endParaRPr b="0" lang="en-US" sz="23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Contendrá, asimismo, la prevención de que el embargado deberá abstenerse de cualquier acto respecto de los bienes objeto de la medida, que pudiere causar la disminución de la garantía del crédito, bajo apercibimiento de las sanciones penales que correspondieren.</a:t>
            </a:r>
            <a:endParaRPr b="0" lang="en-US" sz="23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2 Título" descr=""/>
          <p:cNvPicPr/>
          <p:nvPr/>
        </p:nvPicPr>
        <p:blipFill>
          <a:blip r:embed="rId1"/>
          <a:stretch/>
        </p:blipFill>
        <p:spPr>
          <a:xfrm>
            <a:off x="347760" y="328680"/>
            <a:ext cx="8497800" cy="115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SUSPENSIO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rt. 215. - Los funcionarios encargados de la ejecución del embargo sólo podrán suspenderlo cuando el deudor entregue la suma expresada en el mandamiento.</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DEPOSITO</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rt. 216. - Si los bienes embargados fuesen muebles, serán depositados a la orden judicial; pero si se tratase de los de la casa en que vive el embargado y fuesen susceptibles de embargo, aquél será constituído en depositario de ellos, salvo que, por circunstancias especiales, no fuese posibl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4T12:48:12Z</dcterms:created>
  <dc:creator>contadoramgarcia@gmail.com</dc:creator>
  <dc:description/>
  <dc:language>en-US</dc:language>
  <cp:lastModifiedBy>jvilloldo</cp:lastModifiedBy>
  <dcterms:modified xsi:type="dcterms:W3CDTF">2012-10-29T17:45:12Z</dcterms:modified>
  <cp:revision>44</cp:revision>
  <dc:subject/>
  <dc:title>Ejecución de honorarios</dc:title>
</cp:coreProperties>
</file>