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2492-16E9-4A66-BA99-F1208CA5D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625B-AC29-4724-8A94-9E335E397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98F7-E819-49F8-82DD-F6AD3D02A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6721-348F-4DA0-938E-68CE67C06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96CE-E6E6-45EB-8D0E-D6BB40ACD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B056-AC13-4C59-BB28-D2E0449B3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E0C4-F873-4E05-9C7C-792D5E3CB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F5CB-ADCE-4994-814A-7AE4F1A20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986C-0289-4804-AD1E-58D63B325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2714-55B9-4AAD-A7E4-A2FA3EFE2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4EA4-C007-4FEB-A9C3-325CAFBF4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EBCD-B822-4DBE-ADBE-962D6D69B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d6d6"/>
            </a:gs>
            <a:gs pos="100000">
              <a:srgbClr val="e5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787BE-0CA3-4F47-AEA4-72366CFEE37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d6d6"/>
            </a:gs>
            <a:gs pos="100000">
              <a:srgbClr val="e5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360" y="3224160"/>
            <a:ext cx="9144000" cy="16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Verdana"/>
              </a:rPr>
              <a:t>Ley del Emprendedor Porteño</a:t>
            </a:r>
            <a:br>
              <a:rPr sz="4000"/>
            </a:b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es-ES" sz="2300" spc="-1" strike="noStrike">
                <a:solidFill>
                  <a:srgbClr val="000000"/>
                </a:solidFill>
                <a:latin typeface="Verdana"/>
              </a:rPr>
              <a:t>Promoción para las nuevas empresas de la Ciudad -</a:t>
            </a:r>
            <a:r>
              <a:rPr b="1" lang="es-ES" sz="26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600"/>
            </a:br>
            <a:br>
              <a:rPr sz="2600"/>
            </a:b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Julio 2012</a:t>
            </a:r>
            <a:br>
              <a:rPr sz="26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76720" y="5719680"/>
            <a:ext cx="5616360" cy="10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alibri"/>
              </a:rPr>
              <a:t>Subsecretaría de Desarrollo Económico</a:t>
            </a:r>
            <a:br>
              <a:rPr sz="1600"/>
            </a:br>
            <a:r>
              <a:rPr b="1" lang="es-MX" sz="1600" spc="-1" strike="noStrike">
                <a:solidFill>
                  <a:srgbClr val="000000"/>
                </a:solidFill>
                <a:latin typeface="Calibri"/>
              </a:rPr>
              <a:t>Ministerio de Desarrollo Económ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Ley del Emprendedor"/>
          <p:cNvPicPr/>
          <p:nvPr/>
        </p:nvPicPr>
        <p:blipFill>
          <a:blip r:embed="rId1"/>
          <a:stretch/>
        </p:blipFill>
        <p:spPr>
          <a:xfrm>
            <a:off x="324000" y="189000"/>
            <a:ext cx="2187360" cy="23032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11120" y="6021360"/>
            <a:ext cx="2289240" cy="68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d6d6"/>
            </a:gs>
            <a:gs pos="100000">
              <a:srgbClr val="e5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4140360" y="189000"/>
          <a:ext cx="3821040" cy="659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189000"/>
                    <a:ext cx="3821040" cy="6597720"/>
                  </a:xfrm>
                  <a:prstGeom prst="rect">
                    <a:avLst/>
                  </a:prstGeom>
                  <a:ln w="93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539640" y="907920"/>
            <a:ext cx="3384720" cy="28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3333ff"/>
                </a:solidFill>
                <a:latin typeface="Arial"/>
              </a:rPr>
              <a:t>e-mail</a:t>
            </a:r>
            <a:r>
              <a:rPr b="1" lang="es-AR" sz="3600" spc="-1" strike="noStrike">
                <a:solidFill>
                  <a:srgbClr val="3333ff"/>
                </a:solidFill>
                <a:latin typeface="Arial"/>
              </a:rPr>
              <a:t> confirmando la recepción de la solicit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2436600">
            <a:off x="2484000" y="4149360"/>
            <a:ext cx="1008000" cy="576360"/>
          </a:xfrm>
          <a:custGeom>
            <a:avLst/>
            <a:gdLst>
              <a:gd name="textAreaLeft" fmla="*/ 157320 w 1008000"/>
              <a:gd name="textAreaRight" fmla="*/ 882000 w 100800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505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d6d6"/>
            </a:gs>
            <a:gs pos="100000">
              <a:srgbClr val="e5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5" name=""/>
            <p:cNvSpPr/>
            <p:nvPr/>
          </p:nvSpPr>
          <p:spPr>
            <a:xfrm>
              <a:off x="971640" y="620640"/>
              <a:ext cx="7437240" cy="55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000000"/>
                  </a:solidFill>
                  <a:latin typeface="Arial"/>
                </a:rPr>
                <a:t>Muchas Gracias!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2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200" spc="-1" strike="noStrike">
                  <a:solidFill>
                    <a:srgbClr val="000000"/>
                  </a:solidFill>
                  <a:latin typeface="Arial"/>
                </a:rPr>
                <a:t>Subsecretaría de Desarrollo Económico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200" spc="-1" strike="noStrike">
                  <a:solidFill>
                    <a:srgbClr val="000000"/>
                  </a:solidFill>
                  <a:latin typeface="Arial"/>
                </a:rPr>
                <a:t>Ministerio de Desarrollo Económico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200" spc="-1" strike="noStrike">
                  <a:solidFill>
                    <a:srgbClr val="000000"/>
                  </a:solidFill>
                  <a:latin typeface="Arial"/>
                </a:rPr>
                <a:t>Gobierno de la Ciudad de Buenos Aire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AR" sz="2100" spc="-1" strike="noStrike">
                  <a:solidFill>
                    <a:srgbClr val="000000"/>
                  </a:solidFill>
                  <a:latin typeface="Arial"/>
                </a:rPr>
                <a:t>Av. Roque Sáenz Peña 832 (4º Piso)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AR" sz="2100" spc="-1" strike="noStrike">
                  <a:solidFill>
                    <a:srgbClr val="000000"/>
                  </a:solidFill>
                  <a:latin typeface="Arial"/>
                </a:rPr>
                <a:t>Teléfono: 4131 – 5908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200" spc="-1" strike="noStrike" u="sng">
                  <a:solidFill>
                    <a:srgbClr val="3333ff"/>
                  </a:solidFill>
                  <a:uFillTx/>
                  <a:latin typeface="Arial"/>
                </a:rPr>
                <a:t>www.buenosaires.gob.ar/produccio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200" spc="-1" strike="noStrike" u="sng">
                  <a:solidFill>
                    <a:srgbClr val="3333ff"/>
                  </a:solidFill>
                  <a:uFillTx/>
                  <a:latin typeface="Arial"/>
                </a:rPr>
                <a:t>leyemprendedor@buenosaires.gob.a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6524640"/>
              <a:ext cx="91440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820000" y="0"/>
              <a:ext cx="0" cy="685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d6d6"/>
            </a:gs>
            <a:gs pos="100000">
              <a:srgbClr val="e5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4952880"/>
            <a:ext cx="830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9280" y="22860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Obje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8000" y="1031760"/>
            <a:ext cx="89298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 algn="just">
              <a:lnSpc>
                <a:spcPct val="200000"/>
              </a:lnSpc>
              <a:buClr>
                <a:srgbClr val="ff5050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ahoma"/>
              </a:rPr>
              <a:t>Favorecer la creación de nuevas empresas en la CAB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 algn="just">
              <a:lnSpc>
                <a:spcPct val="200000"/>
              </a:lnSpc>
              <a:buClr>
                <a:srgbClr val="ff5050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000000"/>
                </a:solidFill>
                <a:latin typeface="Tahoma"/>
              </a:rPr>
              <a:t>Incentivar la transformación en empresas de parte de los titulares de emprendimientos que aún operan como socios monotributist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 algn="just">
              <a:lnSpc>
                <a:spcPct val="200000"/>
              </a:lnSpc>
              <a:buClr>
                <a:srgbClr val="ff5050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000000"/>
                </a:solidFill>
                <a:latin typeface="Tahoma"/>
              </a:rPr>
              <a:t>Disminuir la tasa de mortalidad de los nuevos negocios y emprendimient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 algn="just">
              <a:lnSpc>
                <a:spcPct val="200000"/>
              </a:lnSpc>
              <a:buClr>
                <a:srgbClr val="ff5050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000000"/>
                </a:solidFill>
                <a:latin typeface="Tahoma"/>
              </a:rPr>
              <a:t>Incentivar la regularización de la situación tributaria, laboral y habilitatoria de las nuevas pym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32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7240">
            <a:solidFill>
              <a:srgbClr val="ff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d6d6"/>
            </a:gs>
            <a:gs pos="100000">
              <a:srgbClr val="e5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4952880"/>
            <a:ext cx="830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52280"/>
            <a:ext cx="914400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276120" indent="-2761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AR" sz="3200" spc="-1" strike="noStrike">
                <a:solidFill>
                  <a:srgbClr val="000000"/>
                </a:solidFill>
                <a:latin typeface="Tahoma"/>
              </a:rPr>
              <a:t>Benefic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881360"/>
            <a:ext cx="8893080" cy="316548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a eximición de pago del Impuesto a los Ingresos Brutos a nuevas empresas durante el primer año de permanencia en el Régime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y 50% en el segundo. 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32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7240">
            <a:solidFill>
              <a:srgbClr val="ff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d6d6"/>
            </a:gs>
            <a:gs pos="100000">
              <a:srgbClr val="e5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4952880"/>
            <a:ext cx="830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0920" y="18900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quisi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-36360" y="907920"/>
            <a:ext cx="9144000" cy="54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 algn="just">
              <a:lnSpc>
                <a:spcPct val="250000"/>
              </a:lnSpc>
              <a:buClr>
                <a:srgbClr val="ff5050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Verdana"/>
              </a:rPr>
              <a:t>Haberse inscripto en Ingresos Brutos con posterioridad al 11/02/2012, y no superar los 12 meses de antigüedad al momento de solicitar la adhesión al Régim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 algn="just">
              <a:lnSpc>
                <a:spcPct val="250000"/>
              </a:lnSpc>
              <a:buClr>
                <a:srgbClr val="ff5050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Estar inscripto como contribuyente local.</a:t>
            </a:r>
            <a:r>
              <a:rPr b="1" lang="es-A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 algn="just">
              <a:lnSpc>
                <a:spcPct val="250000"/>
              </a:lnSpc>
              <a:buClr>
                <a:srgbClr val="ff5050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Tener una facturación neta anual máxima de $ 1.000.000*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 algn="just">
              <a:lnSpc>
                <a:spcPct val="250000"/>
              </a:lnSpc>
              <a:buClr>
                <a:srgbClr val="ff5050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Tener al menos dos empleados en relación de dependenc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 algn="just">
              <a:lnSpc>
                <a:spcPct val="250000"/>
              </a:lnSpc>
              <a:buClr>
                <a:srgbClr val="ff5050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Verdana"/>
              </a:rPr>
              <a:t>Haber iniciado trámite de habilitación ante la AG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17440" y="6434280"/>
            <a:ext cx="85136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*  Este valor se irá ajustando anualmente a propuesta del Ministerio de Desarrollo Económico, a través de la Ley Tarif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32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7240">
            <a:solidFill>
              <a:srgbClr val="ff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d6d6"/>
            </a:gs>
            <a:gs pos="100000">
              <a:srgbClr val="e5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4952880"/>
            <a:ext cx="830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2360" y="260280"/>
            <a:ext cx="889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Ventajas del Régi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0920" y="1628640"/>
            <a:ext cx="8754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Verdana"/>
              </a:rPr>
              <a:t>No genera costos adicionales de administración para la empresa: se accede vía web, el beneficio finaliza de manera automática, no hay expediente físico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2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7240">
            <a:solidFill>
              <a:srgbClr val="ff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d6d6"/>
            </a:gs>
            <a:gs pos="100000">
              <a:srgbClr val="e5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4952880"/>
            <a:ext cx="830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4360" y="1012680"/>
            <a:ext cx="885528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276120" indent="-276120" algn="just">
              <a:lnSpc>
                <a:spcPct val="180000"/>
              </a:lnSpc>
              <a:buClr>
                <a:srgbClr val="ff5050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ahoma"/>
              </a:rPr>
              <a:t>La solicitud de adhesión se realiza a través de un formulario      on-line en: </a:t>
            </a:r>
            <a:r>
              <a:rPr b="1" lang="es-AR" sz="2000" spc="-1" strike="noStrike" u="sng">
                <a:solidFill>
                  <a:srgbClr val="3333ff"/>
                </a:solidFill>
                <a:uFillTx/>
                <a:latin typeface="Tahoma"/>
              </a:rPr>
              <a:t>www.buenosaires.gob.ar/leyemprende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6120" indent="-276120" algn="just">
              <a:lnSpc>
                <a:spcPct val="180000"/>
              </a:lnSpc>
              <a:buClr>
                <a:srgbClr val="ff5050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ahoma"/>
              </a:rPr>
              <a:t>La Subsecretaría de Desarrollo Económico remite a AGIP las solicitudes ingresadas de manera quince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6120" indent="-276120" algn="just">
              <a:lnSpc>
                <a:spcPct val="180000"/>
              </a:lnSpc>
              <a:buClr>
                <a:srgbClr val="ff5050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ahoma"/>
              </a:rPr>
              <a:t>En un plazo de 15 días hábiles, la AGIP evalúa las presentaciones y se expide mediante resolución, aprobando o denegando las solicitud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6120" indent="-276120" algn="just">
              <a:lnSpc>
                <a:spcPct val="180000"/>
              </a:lnSpc>
              <a:buClr>
                <a:srgbClr val="ff5050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ahoma"/>
              </a:rPr>
              <a:t>La exención comenzará a regir a partir de la fecha de publicación en el Boletín Oficial de la resolución correspondiente. Los beneficiarios serán incorporados al padrón de exento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44280"/>
            <a:ext cx="914400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276120" indent="-2761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AR" sz="3200" spc="-1" strike="noStrike">
                <a:solidFill>
                  <a:srgbClr val="000000"/>
                </a:solidFill>
                <a:latin typeface="Tahoma"/>
              </a:rPr>
              <a:t>Procedi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32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57240">
            <a:solidFill>
              <a:srgbClr val="ff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d6d6"/>
            </a:gs>
            <a:gs pos="100000">
              <a:srgbClr val="e5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971640" y="896760"/>
          <a:ext cx="7583400" cy="591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896760"/>
                    <a:ext cx="7583400" cy="5916960"/>
                  </a:xfrm>
                  <a:prstGeom prst="rect">
                    <a:avLst/>
                  </a:prstGeom>
                  <a:ln w="93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2340000" y="4365720"/>
            <a:ext cx="1800360" cy="1224000"/>
          </a:xfrm>
          <a:prstGeom prst="ellipse">
            <a:avLst/>
          </a:prstGeom>
          <a:noFill/>
          <a:ln w="572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3492360" y="5300640"/>
            <a:ext cx="552600" cy="6494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915120" y="-12600"/>
            <a:ext cx="7756560" cy="7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 u="sng">
                <a:solidFill>
                  <a:srgbClr val="3333ff"/>
                </a:solidFill>
                <a:uFillTx/>
                <a:latin typeface="Arial"/>
              </a:rPr>
              <a:t>www.buenosaires.gob.ar/leyemprended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79280" y="333360"/>
            <a:ext cx="720720" cy="485640"/>
          </a:xfrm>
          <a:custGeom>
            <a:avLst/>
            <a:gdLst>
              <a:gd name="textAreaLeft" fmla="*/ 112320 w 720720"/>
              <a:gd name="textAreaRight" fmla="*/ 630720 w 7207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505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d6d6"/>
            </a:gs>
            <a:gs pos="100000">
              <a:srgbClr val="e5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172040" y="244440"/>
          <a:ext cx="3784680" cy="649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72040" y="244440"/>
                    <a:ext cx="3784680" cy="6497640"/>
                  </a:xfrm>
                  <a:prstGeom prst="rect">
                    <a:avLst/>
                  </a:prstGeom>
                  <a:ln w="93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184320" y="835200"/>
            <a:ext cx="3916080" cy="27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 u="sng">
                <a:solidFill>
                  <a:srgbClr val="3333ff"/>
                </a:solidFill>
                <a:uFillTx/>
                <a:latin typeface="Arial"/>
              </a:rPr>
              <a:t>Formul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3500" spc="-1" strike="noStrike">
                <a:solidFill>
                  <a:srgbClr val="3333ff"/>
                </a:solidFill>
                <a:latin typeface="Arial"/>
              </a:rPr>
              <a:t>con carácter de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3500" spc="-1" strike="noStrike">
                <a:solidFill>
                  <a:srgbClr val="3333ff"/>
                </a:solidFill>
                <a:latin typeface="Arial"/>
              </a:rPr>
              <a:t>declaración jurada</a:t>
            </a:r>
            <a:r>
              <a:rPr b="0" i="1" lang="es-AR" sz="3000" spc="-1" strike="noStrike">
                <a:solidFill>
                  <a:srgbClr val="3333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2436600">
            <a:off x="2484360" y="4005000"/>
            <a:ext cx="1008000" cy="576000"/>
          </a:xfrm>
          <a:custGeom>
            <a:avLst/>
            <a:gdLst>
              <a:gd name="textAreaLeft" fmla="*/ 157320 w 1008000"/>
              <a:gd name="textAreaRight" fmla="*/ 882000 w 1008000"/>
              <a:gd name="textAreaTop" fmla="*/ 144000 h 576000"/>
              <a:gd name="textAreaBottom" fmla="*/ 432000 h 57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505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d6d6"/>
            </a:gs>
            <a:gs pos="100000">
              <a:srgbClr val="e5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539640" y="2077920"/>
          <a:ext cx="8244000" cy="466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077920"/>
                    <a:ext cx="8244000" cy="4664160"/>
                  </a:xfrm>
                  <a:prstGeom prst="rect">
                    <a:avLst/>
                  </a:prstGeom>
                  <a:ln w="93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611280" y="260280"/>
            <a:ext cx="66247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3333ff"/>
                </a:solidFill>
                <a:latin typeface="Arial"/>
              </a:rPr>
              <a:t>leyenda de salida luego de completar formul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5400000">
            <a:off x="5760000" y="1232640"/>
            <a:ext cx="647640" cy="576360"/>
          </a:xfrm>
          <a:custGeom>
            <a:avLst/>
            <a:gdLst>
              <a:gd name="textAreaLeft" fmla="*/ 101160 w 647640"/>
              <a:gd name="textAreaRight" fmla="*/ 567000 w 64764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505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9T13:35:24Z</dcterms:created>
  <dc:creator>Santi</dc:creator>
  <dc:description/>
  <dc:language>en-US</dc:language>
  <cp:lastModifiedBy>olopez</cp:lastModifiedBy>
  <dcterms:modified xsi:type="dcterms:W3CDTF">2012-07-11T18:15:09Z</dcterms:modified>
  <cp:revision>47</cp:revision>
  <dc:subject/>
  <dc:title>Diapositiva 1</dc:title>
</cp:coreProperties>
</file>