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AFE8-DE75-4B7E-913D-CA7A8E1A67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2366-EACC-42A9-B60F-D71BA141691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BA5-D98B-4D75-98C1-E74EEC0F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A45-A46B-474C-A322-95DBE4C5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71E-405B-4C7B-9047-FCFA1DB7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E64-5141-4510-9A17-2A9F8D76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B98E-37A1-4F02-8A74-0EA844FD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C3CA-CAAC-4D99-BF7F-F250174C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DCBA-00BF-4C41-A97D-7A52C966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FA48-A64E-48A0-A117-B5D0EB53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88D4-3914-4475-B646-F24BB77F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978D-CFAD-4A4B-AE31-DBE4B79A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5D56-4595-4383-9037-94C3BFE9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741-A695-4419-B314-BCCBE63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87AD-F7DF-4D39-AAAB-B057F77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047C-9599-404A-89A2-8AA5B0D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4A76-087A-451E-A5E6-1779A5BE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4846-2299-4C8E-99E1-ED5A1AB8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ABF8-D587-42A3-A8A4-93240863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1BC-78A2-4F57-9FB4-D85A63A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AD8-1A47-417D-9CA5-EFE387FE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714-A5C2-4D82-AE81-745D6892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DE4-FFC7-4506-9FDE-C490E9F0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79C-3DE5-4FA1-A067-0B3D6B30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3BC-8E6C-4B33-BB1A-600BD6E5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478-FA6E-4FAB-ABAB-A6D70F2C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3C0A-9552-423D-96C1-5B5ABF1439A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053B-4857-4557-A725-B9D3419EB6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EBF8-1A2E-4C34-A27E-D7443C6F9DD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0190-5FE0-427E-943A-AD2B4D0F9F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yamilabgruneiro@hotmail.com" TargetMode="External"/><Relationship Id="rId2" Type="http://schemas.openxmlformats.org/officeDocument/2006/relationships/hyperlink" Target="mailto:yamilabgruneiro@hotmail.com" TargetMode="External"/><Relationship Id="rId3" Type="http://schemas.openxmlformats.org/officeDocument/2006/relationships/hyperlink" Target="mailto:estudioz@ciudad.com.ar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80600" y="2311560"/>
            <a:ext cx="7293240" cy="104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10253f"/>
                </a:solidFill>
                <a:latin typeface="Century Gothic"/>
              </a:rPr>
              <a:t>COMISION ADMINISTRACION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10253f"/>
                </a:solidFill>
                <a:latin typeface="Century Gothic"/>
              </a:rPr>
              <a:t>DE R</a:t>
            </a:r>
            <a:r>
              <a:rPr b="1" lang="es-ES_tradnl" sz="3300" spc="-1" strike="noStrike">
                <a:solidFill>
                  <a:srgbClr val="10253f"/>
                </a:solidFill>
                <a:latin typeface="Century Gothic"/>
              </a:rPr>
              <a:t>ECURSOS  HUMANO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7 Marcador de pie de página"/>
          <p:cNvSpPr/>
          <p:nvPr/>
        </p:nvSpPr>
        <p:spPr>
          <a:xfrm>
            <a:off x="468360" y="5732640"/>
            <a:ext cx="792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Junio de 20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med"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28"/>
          <p:cNvSpPr/>
          <p:nvPr/>
        </p:nvSpPr>
        <p:spPr>
          <a:xfrm>
            <a:off x="1428840" y="2214720"/>
            <a:ext cx="7245360" cy="2869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Seguridad Social Nove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Actualidad sobre  aportes y contribu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Noveda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28"/>
          <p:cNvSpPr/>
          <p:nvPr/>
        </p:nvSpPr>
        <p:spPr>
          <a:xfrm>
            <a:off x="1428840" y="2214720"/>
            <a:ext cx="7245360" cy="34351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spectos Teóricos-Práct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Convenio Empleados de Comercio 130/75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Marco legal vigent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Casos prácticos de las Liquidaciones de haberes, distintos tipos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57" name="6 CuadroTexto"/>
          <p:cNvSpPr/>
          <p:nvPr/>
        </p:nvSpPr>
        <p:spPr>
          <a:xfrm>
            <a:off x="1332000" y="1643040"/>
            <a:ext cx="74167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man Old Style"/>
              </a:rPr>
              <a:t>Convenio Empleados de Comercio 130/75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Sus principales artícul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Principales características de acuerdos anteriores y actuales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61" name="6 Rectángulo"/>
          <p:cNvSpPr/>
          <p:nvPr/>
        </p:nvSpPr>
        <p:spPr>
          <a:xfrm>
            <a:off x="1390680" y="1844640"/>
            <a:ext cx="7429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cance (art 2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rabajadores, empleados u obreros en comercio o actividades civiles con fines de luc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dministrativos en actividad industrial – agropecua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68" name="6 Rectángulo"/>
          <p:cNvSpPr/>
          <p:nvPr/>
        </p:nvSpPr>
        <p:spPr>
          <a:xfrm>
            <a:off x="1403280" y="2019240"/>
            <a:ext cx="72867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ategorías (art 5-10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estranza y servi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dministra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uxil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uxiliar especializ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384200" y="2001960"/>
            <a:ext cx="72914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dicionales de Remuneracio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esentismo (art. 40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Doceava parte de la remuneración del 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tigüeda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1% por cada año de antigüe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umentos No Remunera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384200" y="1911240"/>
            <a:ext cx="736452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Licencia por vacaciones (art 7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man Old Style"/>
              </a:rPr>
              <a:t>Plazos y condiciones según L.C.T. 207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Bookman Old Style"/>
              </a:rPr>
              <a:t>En los casos de que se trate de cónyuges e hijos menores de 18 años, que trabajen en el mismo o distinto establecimiento, se les propondrá que gocen su período de licencia en fechas coincidentes, siempre que ello no perjudique notoriamente el normal desenvolvimiento del o de los establecimiento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man Old Style"/>
              </a:rPr>
              <a:t>-En todos los casos, se comunicará a los interesados la fecha en que gozarán las vacaciones con 60 días de anticipació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Día del Empleados de Comercio (art 7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Bookman Old Style"/>
              </a:rPr>
              <a:t>26 de septiembre de cada año,  Considerado para su liquidación como feriado nac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925360"/>
            <a:ext cx="4103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cccc"/>
                </a:solidFill>
                <a:latin typeface="Arial"/>
              </a:rPr>
              <a:t>Exposición</a:t>
            </a:r>
            <a:br>
              <a:rPr sz="1200"/>
            </a:b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Dra. C.P.  Yamila Gruñeiro</a:t>
            </a:r>
            <a:br>
              <a:rPr sz="1200"/>
            </a:b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Dra. C.P.  Patricia Micó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3cccc"/>
                </a:solidFill>
                <a:latin typeface="Arial"/>
              </a:rPr>
              <a:t>Colaboración</a:t>
            </a:r>
            <a:br>
              <a:rPr sz="1200"/>
            </a:br>
            <a:r>
              <a:rPr b="1" lang="en-US" sz="12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Dra. C.P. Roxana Pavesa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3cccc"/>
                </a:solidFill>
                <a:latin typeface="Arial"/>
              </a:rPr>
              <a:t>Exposición y Coordinación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Dr. C.P. Antonio Omar Molina</a:t>
            </a:r>
            <a:r>
              <a:rPr b="1" lang="en-US" sz="1200" spc="-1" strike="noStrike">
                <a:solidFill>
                  <a:srgbClr val="10253f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7416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quidación de haberes con aplicación del Convenio Empleados de Comercio 130/7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7 Marcador de pie de página"/>
          <p:cNvSpPr/>
          <p:nvPr/>
        </p:nvSpPr>
        <p:spPr>
          <a:xfrm>
            <a:off x="75564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6" descr="MPj04226110000[1]"/>
          <p:cNvPicPr/>
          <p:nvPr/>
        </p:nvPicPr>
        <p:blipFill>
          <a:blip r:embed="rId1"/>
          <a:stretch/>
        </p:blipFill>
        <p:spPr>
          <a:xfrm>
            <a:off x="5003640" y="2708280"/>
            <a:ext cx="3745080" cy="3529080"/>
          </a:xfrm>
          <a:prstGeom prst="rect">
            <a:avLst/>
          </a:prstGeom>
          <a:ln w="0">
            <a:noFill/>
          </a:ln>
        </p:spPr>
      </p:pic>
      <p:pic>
        <p:nvPicPr>
          <p:cNvPr id="104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85" name="6 Rectángulo"/>
          <p:cNvSpPr/>
          <p:nvPr/>
        </p:nvSpPr>
        <p:spPr>
          <a:xfrm>
            <a:off x="1403280" y="1916280"/>
            <a:ext cx="72867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Aportes Sindicales Obligatorios (art. 1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man Old Style"/>
              </a:rPr>
              <a:t>FAECyS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 (Federación Arg.de Empleados de Comercio y Servicios)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0,5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man Old Style"/>
              </a:rPr>
              <a:t>SEC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 (Sindicato de Empleados de Comercio)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Afiliación al sindicato </a:t>
            </a:r>
            <a:r>
              <a:rPr b="1" lang="es-ES" sz="1600" spc="-1" strike="noStrike">
                <a:solidFill>
                  <a:srgbClr val="000000"/>
                </a:solidFill>
                <a:latin typeface="Bookman Old Style"/>
              </a:rPr>
              <a:t>optativa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$15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Bookman Old Style"/>
              </a:rPr>
              <a:t>(abona el empleado en forma direct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92" name="6 Rectángulo"/>
          <p:cNvSpPr/>
          <p:nvPr/>
        </p:nvSpPr>
        <p:spPr>
          <a:xfrm>
            <a:off x="1332000" y="1676520"/>
            <a:ext cx="763272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icencias y Permisos Especiales (art 77 a 9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Licencia por Matrimonio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12 días corri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Trámites prematrimoniales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1 dí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Casamiento de hijos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1 dí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Enfermedad de Cónyuge, padres e hijos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30 días sin goce de remuneraciones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allecimiento de padres, cónyuges o hermanos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4 días corri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Licencia por mudanza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2 días corridos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Licencia por examen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20 días máx. 4 días por exam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99" name="6 Rectángulo"/>
          <p:cNvSpPr/>
          <p:nvPr/>
        </p:nvSpPr>
        <p:spPr>
          <a:xfrm>
            <a:off x="1042920" y="1643040"/>
            <a:ext cx="7632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Bookman Old Style"/>
              </a:rPr>
              <a:t>SINDICATO DE EMPLEADOS DE COMERCIO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Bookman Old Style"/>
              </a:rPr>
              <a:t>Acuerdo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cuerdo Colectivo Junio 2010 (incorporación partir de Julio 2011 al salario remunerativo en 5 cuota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cuerdo Colectivo Junio 2011 (se incorporará al salario remunerativo a partir del mes de abril 201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06" name="6 Rectángulo"/>
          <p:cNvSpPr/>
          <p:nvPr/>
        </p:nvSpPr>
        <p:spPr>
          <a:xfrm>
            <a:off x="1071720" y="1595520"/>
            <a:ext cx="764352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Acuerdo Colectivo Empleados de Comerc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Junio 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Bookman Old Style"/>
              </a:rPr>
              <a:t>Incremento “No Remunerativo” del 30% sobre el sueldo básico según categoría de convenio a Noviembre 2011, en forma escalonada. Que se expresará en el recibo de sueldos con el siguiente concepto: “Acuerdo Colectivo Junio 2011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Bookman Old Style"/>
              </a:rPr>
              <a:t>15% a partir de Mayo 2011 + Presentismo Art. 4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Bookman Old Style"/>
              </a:rPr>
              <a:t>8% a partir de Septiembre 2011 + Presentismo Art. 4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Bookman Old Style"/>
              </a:rPr>
              <a:t>7% a partir de Diciembre 2011 + Presentismo Art. 4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13" name="6 Rectángulo"/>
          <p:cNvSpPr/>
          <p:nvPr/>
        </p:nvSpPr>
        <p:spPr>
          <a:xfrm>
            <a:off x="1392120" y="1557360"/>
            <a:ext cx="735660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Acuerdo Colectivo Empleados de Comerc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Acuerdo Mayo 2012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Resolucion 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Resolución 829 13-06-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Bookman Old Style"/>
              </a:rPr>
              <a:t>Incremento “No Remunerativo” del 24% sobre el sueldo básico según categoría de convenio a Abril 2012, en forma escalonada. Que se expresará en el recibo de sueldos con el siguiente concepto: “Acuerdo Mayo 2012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Bookman Old Style"/>
              </a:rPr>
              <a:t>15% a partir de Mayo 2012 + Presentismo Art. 4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Bookman Old Style"/>
              </a:rPr>
              <a:t>9% a partir de Noviembre 2012 + Presentismo Art. 4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Bookman Old Style"/>
              </a:rPr>
              <a:t>Pasando a formar parte del salario en Mayo de 201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20" name="6 Rectángulo"/>
          <p:cNvSpPr/>
          <p:nvPr/>
        </p:nvSpPr>
        <p:spPr>
          <a:xfrm>
            <a:off x="1287360" y="1557360"/>
            <a:ext cx="76773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Aplicable al pago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Bookman Old Style"/>
              </a:rPr>
              <a:t>Adicionales fijos (Excepto Antigüe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Bookman Old Style"/>
              </a:rPr>
              <a:t>Enfermedades inculp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Bookman Old Style"/>
              </a:rPr>
              <a:t>Vacaciones anuales devengadas a partir del año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Bookman Old Style"/>
              </a:rPr>
              <a:t>Sueldo anual complementario (SA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Bookman Old Style"/>
              </a:rPr>
              <a:t>Horas extr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Bookman Old Style"/>
              </a:rPr>
              <a:t>Feriados nacio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260360" y="1544760"/>
            <a:ext cx="73440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Casos Especi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Licencia por Matern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s sumas no remunerativas que debieran percibir al tiempo de     inicio y transcurso de tal licencia, se convertirán desde ese momento en sumas remunerativ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Licencia por Incapacidad Laboral Temporaria derivada de accidentes de trabajo o enfermedades profesiona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remuneración de dicho período se calcularán teniendo en cuenta las sumas no remunerativas</a:t>
            </a:r>
            <a:r>
              <a:rPr b="0" lang="es-ES_tradnl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332000" y="1562040"/>
            <a:ext cx="73832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Aportes y Contribucio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porte obra social 3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porte por única vez $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porte del trabajador al SEC 2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porte a FAECyS 0.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porte cuota sindical para afili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ntribución INACAP ($20.29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116000" y="1557360"/>
            <a:ext cx="739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Otras contribuciones a cargo del emplead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eguro de Retir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3,5% sobre las remuneracion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eguro de Vida Mercantil (art. 97), Cubre muerte, Incapacidad Total y Permanente, Indemnizaciones Adicionales por accidente, Anticipo de Capital por Enfermedades Graves y Trasplantes.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43" name="6 CuadroTexto"/>
          <p:cNvSpPr/>
          <p:nvPr/>
        </p:nvSpPr>
        <p:spPr>
          <a:xfrm>
            <a:off x="1116000" y="1643040"/>
            <a:ext cx="727236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onvenio Empleados de Comercio 130/75 – Prác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iquidación mayo y junio de un empleado categoría Vendedor B – part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iquidación mayo y junio de un empleado categoría Administrativo B – full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27"/>
          <p:cNvSpPr/>
          <p:nvPr/>
        </p:nvSpPr>
        <p:spPr>
          <a:xfrm>
            <a:off x="1403280" y="1557360"/>
            <a:ext cx="72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Bookman Old Style"/>
              </a:rPr>
              <a:t>ESQUEMA GLOBAL DEL TALL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1428840" y="2214720"/>
            <a:ext cx="7245360" cy="34351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spectos Formales  de la Relación labo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Seguridad Social Nove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Actualidad sobre  aportes y contribu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Noveda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spectos Teóricos-Práct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Convenio Empleados de Comercio 130/75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Marco legal vigent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Casos prácticos de las Liquidaciones de haberes, distintos tipos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Otros conceptos Relacionados con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43040" y="1628640"/>
          <a:ext cx="815004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3040" y="1628640"/>
                    <a:ext cx="81500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9040" y="1557360"/>
          <a:ext cx="8204040" cy="453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557360"/>
                    <a:ext cx="82040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755640" y="1557360"/>
          <a:ext cx="8005680" cy="439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557360"/>
                    <a:ext cx="80056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26920" y="1557360"/>
          <a:ext cx="7432920" cy="480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557360"/>
                    <a:ext cx="743292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venio Empleados de Comercio 130/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92280" y="855720"/>
          <a:ext cx="7759440" cy="51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2280" y="855720"/>
                    <a:ext cx="775944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8"/>
          <p:cNvSpPr/>
          <p:nvPr/>
        </p:nvSpPr>
        <p:spPr>
          <a:xfrm>
            <a:off x="1428840" y="2214720"/>
            <a:ext cx="7245360" cy="34351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Otros conceptos Relacionados con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66"/>
                </a:solidFill>
                <a:latin typeface="Calibri"/>
              </a:rPr>
              <a:t>Impuestos a las Ganancias  4º Categoría, esquema para su calculo y reten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16000" y="2276640"/>
            <a:ext cx="1727280" cy="3889080"/>
          </a:xfrm>
          <a:prstGeom prst="rect">
            <a:avLst/>
          </a:prstGeom>
          <a:solidFill>
            <a:srgbClr val="3366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258920" y="1486080"/>
            <a:ext cx="68817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ceptos Básicos para liquidación de retención de Ganancias 4ta categor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2421000"/>
            <a:ext cx="136836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Conceptos remunerativos y no remunerativ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1332000" y="4365720"/>
            <a:ext cx="136836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Beneficios sociales (Art. 100 Ley 2026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2278080"/>
            <a:ext cx="2664000" cy="3887640"/>
          </a:xfrm>
          <a:prstGeom prst="rect">
            <a:avLst/>
          </a:prstGeom>
          <a:gradFill rotWithShape="0">
            <a:gsLst>
              <a:gs pos="0">
                <a:srgbClr val="175e5e">
                  <a:alpha val="22352"/>
                </a:srgbClr>
              </a:gs>
              <a:gs pos="50000">
                <a:srgbClr val="33cccc">
                  <a:alpha val="33333"/>
                </a:srgbClr>
              </a:gs>
              <a:gs pos="100000">
                <a:srgbClr val="175e5e">
                  <a:alpha val="2235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Aportes Jubilatorios. Ley 26.425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Aportes al sindicato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Descuentos destinados a Obras Sociales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Cuotas o abonos médico asistencial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Seguro de vida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Gastos de sepelio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Gastos de movilidad, viáticos y representació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Donacion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Aportes a sociedades de garantía recíproca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Aportes a planes de seguro de retiro privados. Ley 26.425. Derogado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Descuentos obligatorios establecidos por ley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Honorarios anuales de servicios de asistencia sanitaria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Intereses créditos hipotecario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Servicio doméstico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1805400" y="371628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cc"/>
                </a:solidFill>
                <a:latin typeface="Garamon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2719440" y="3645000"/>
            <a:ext cx="4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Garamon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5672160" y="3651120"/>
            <a:ext cx="4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Garamon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2278080"/>
            <a:ext cx="1081080" cy="3887640"/>
          </a:xfrm>
          <a:prstGeom prst="rect">
            <a:avLst/>
          </a:prstGeom>
          <a:gradFill rotWithShape="0">
            <a:gsLst>
              <a:gs pos="0">
                <a:srgbClr val="175e5e">
                  <a:alpha val="22352"/>
                </a:srgbClr>
              </a:gs>
              <a:gs pos="50000">
                <a:srgbClr val="33cccc">
                  <a:alpha val="33333"/>
                </a:srgbClr>
              </a:gs>
              <a:gs pos="100000">
                <a:srgbClr val="175e5e">
                  <a:alpha val="2235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Verdana"/>
              </a:rPr>
              <a:t>Deducción especi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Verdana"/>
              </a:rPr>
              <a:t>Ganancia no impon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Verdana"/>
              </a:rPr>
              <a:t>Cargas de familia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7112160" y="3724200"/>
            <a:ext cx="4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cc"/>
                </a:solidFill>
                <a:latin typeface="Garamond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7524720" y="3500280"/>
            <a:ext cx="1295280" cy="1081080"/>
          </a:xfrm>
          <a:prstGeom prst="rect">
            <a:avLst/>
          </a:prstGeom>
          <a:gradFill rotWithShape="0">
            <a:gsLst>
              <a:gs pos="0">
                <a:srgbClr val="175e5e">
                  <a:alpha val="22352"/>
                </a:srgbClr>
              </a:gs>
              <a:gs pos="50000">
                <a:srgbClr val="33cccc">
                  <a:alpha val="33333"/>
                </a:srgbClr>
              </a:gs>
              <a:gs pos="100000">
                <a:srgbClr val="175e5e">
                  <a:alpha val="2235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cc"/>
                </a:solidFill>
                <a:latin typeface="Verdana"/>
              </a:rPr>
              <a:t>Ganancia Neta sujeta a impues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7832880" y="4516560"/>
            <a:ext cx="4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cc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7451640" y="5229360"/>
            <a:ext cx="1297080" cy="431640"/>
          </a:xfrm>
          <a:prstGeom prst="rect">
            <a:avLst/>
          </a:prstGeom>
          <a:gradFill rotWithShape="0">
            <a:gsLst>
              <a:gs pos="0">
                <a:srgbClr val="175e5e">
                  <a:alpha val="22352"/>
                </a:srgbClr>
              </a:gs>
              <a:gs pos="50000">
                <a:srgbClr val="33cccc">
                  <a:alpha val="33333"/>
                </a:srgbClr>
              </a:gs>
              <a:gs pos="100000">
                <a:srgbClr val="175e5e">
                  <a:alpha val="2235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cc"/>
                </a:solidFill>
                <a:latin typeface="Verdana"/>
              </a:rPr>
              <a:t>Alícuo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60360" y="1131840"/>
            <a:ext cx="741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Verdana"/>
              </a:rPr>
              <a:t>Aspectos práct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331640" y="1988640"/>
            <a:ext cx="73659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Art. 100 - (Texto s/ley 24475 - BO: 31/3/1995) Aclárase que los distintos conceptos que bajo la denominación de beneficios sociales y/o vales de combustibles, extensión o autorización de uso de tarjetas de compra y/o crédito, vivienda, viajes de recreo o descanso, pago de gastos de educación del grupo familiar u otros conceptos similares, sean otorgados por el empleador o a través de terceros a favor de sus dependientes o empleados, se encuentran alcanzados por el impuesto a las ganancias, aun cuando los mismos no revistan carácter remuneratorio a los fines de los aportes y contribuciones al Sistema Nacional Integrado de Jubilaciones y Pensiones o regímenes provinciales o municipales análogo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Exclúyese de las disposiciones del párrafo anterior a la provisión de ropa de trabajo o de cualquier otro elemento vinculado a la indumentaria y al equipamiento del trabajador para uso exclusivo en el lugar de trabajo y al otorgamiento o pago de cursos de capacitación o especialización en la medida que los mismos resulten indispensables para el desempeño y desarrollo de la carrera del empleado o dependiente dentro de la empres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726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TABLA Art. 9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332000" y="2305080"/>
            <a:ext cx="7343640" cy="2419200"/>
          </a:xfrm>
          <a:prstGeom prst="rect">
            <a:avLst/>
          </a:prstGeom>
          <a:ln w="0">
            <a:noFill/>
          </a:ln>
        </p:spPr>
      </p:pic>
      <p:pic>
        <p:nvPicPr>
          <p:cNvPr id="307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68360" y="33336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Verdana"/>
              </a:rPr>
              <a:t>Aspectos práct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735200" y="2170080"/>
            <a:ext cx="2908080" cy="26989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3709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TABLA DE DEDUC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4968720" y="1628640"/>
            <a:ext cx="37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LIM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342040" y="2198520"/>
            <a:ext cx="3117600" cy="1159200"/>
          </a:xfrm>
          <a:prstGeom prst="rect">
            <a:avLst/>
          </a:prstGeom>
          <a:ln w="0">
            <a:noFill/>
          </a:ln>
        </p:spPr>
      </p:pic>
      <p:pic>
        <p:nvPicPr>
          <p:cNvPr id="313" name="4 Imagen" descr="http://www.consejo.org.ar/images/logohomeTransp.gif"/>
          <p:cNvPicPr/>
          <p:nvPr/>
        </p:nvPicPr>
        <p:blipFill>
          <a:blip r:embed="rId3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932360" y="1557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28"/>
          <p:cNvSpPr/>
          <p:nvPr/>
        </p:nvSpPr>
        <p:spPr>
          <a:xfrm>
            <a:off x="1428840" y="2214720"/>
            <a:ext cx="7245360" cy="34351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spectos Formales  de la Relación labo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"/>
          <p:cNvSpPr/>
          <p:nvPr/>
        </p:nvSpPr>
        <p:spPr>
          <a:xfrm>
            <a:off x="1476360" y="1630440"/>
            <a:ext cx="7056360" cy="790560"/>
          </a:xfrm>
          <a:prstGeom prst="rect">
            <a:avLst/>
          </a:prstGeom>
          <a:noFill/>
          <a:ln w="936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250920" y="1341360"/>
            <a:ext cx="8642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3333cc"/>
                </a:solidFill>
                <a:latin typeface="Calibri"/>
              </a:rPr>
              <a:t>¡ </a:t>
            </a:r>
            <a:r>
              <a:rPr b="1" lang="es-AR" sz="4800" spc="-1" strike="noStrike">
                <a:solidFill>
                  <a:srgbClr val="3333cc"/>
                </a:solidFill>
                <a:latin typeface="Book Antiqua"/>
              </a:rPr>
              <a:t>Muchas gracias</a:t>
            </a:r>
            <a:r>
              <a:rPr b="1" lang="es-AR" sz="6600" spc="-1" strike="noStrike">
                <a:solidFill>
                  <a:srgbClr val="3333cc"/>
                </a:solidFill>
                <a:latin typeface="Calibri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788000" y="2852640"/>
            <a:ext cx="4105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Verdana"/>
              </a:rPr>
              <a:t>Mail de contacto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Century Gothic"/>
                <a:hlinkClick r:id="rId1"/>
              </a:rPr>
              <a:t>yamilabgruneiro@hotmail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Century Gothic"/>
                <a:hlinkClick r:id="rId2"/>
              </a:rPr>
              <a:t>micopatricia@yahoo.com.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Century Gothic"/>
                <a:hlinkClick r:id="rId3"/>
              </a:rPr>
              <a:t>estudioz@ciudad.com.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7 Marcador de pie de página"/>
          <p:cNvSpPr/>
          <p:nvPr/>
        </p:nvSpPr>
        <p:spPr>
          <a:xfrm>
            <a:off x="75564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5 Título"/>
          <p:cNvSpPr/>
          <p:nvPr/>
        </p:nvSpPr>
        <p:spPr>
          <a:xfrm>
            <a:off x="539640" y="2852640"/>
            <a:ext cx="41036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Calibri"/>
              </a:rPr>
              <a:t>Exposició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. C.P.  Yamila Gruñeir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. C.P.  Patricia Micó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33cccc"/>
                </a:solidFill>
                <a:latin typeface="Calibri"/>
              </a:rPr>
              <a:t>Exposición y Coordinació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. C.P. Antonio Omar Molina</a:t>
            </a: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4 Imagen" descr="http://www.consejo.org.ar/images/logohomeTransp.gif"/>
          <p:cNvPicPr/>
          <p:nvPr/>
        </p:nvPicPr>
        <p:blipFill>
          <a:blip r:embed="rId4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332000" y="1125360"/>
            <a:ext cx="73659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OBLIGACIONES DEL EMPLE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5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AL INICIO DE LA RELACION LABO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Inscripción ante la AFIP como emplead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Realización del encuadre sindical / identificar convenio colectivo de trabajo del empleador, en función de la actividad en la que se desempeñe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Inscripción en el sindicato y en la Obra Social – . Nro de Obra Social: </a:t>
            </a:r>
            <a:r>
              <a:rPr b="0" lang="es-AR" sz="1400" spc="-1" strike="noStrike">
                <a:solidFill>
                  <a:srgbClr val="ff3300"/>
                </a:solidFill>
                <a:latin typeface="Calibri"/>
              </a:rPr>
              <a:t>12620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ntratación de un Seguro para Riesgos de Trabaj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tratación del Seguro de Vida Obligator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 algn="just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General - Decreto ley 1567/7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 algn="just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mercio - Art. 97 CCT 130/75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ntratación de un servicio de medicina laboral. Examen médico preocupacion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nfección del legajo con datos del empleado y sus familiar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5 Rectángulo"/>
          <p:cNvSpPr/>
          <p:nvPr/>
        </p:nvSpPr>
        <p:spPr>
          <a:xfrm>
            <a:off x="1835280" y="6237360"/>
            <a:ext cx="54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1332000" y="1125360"/>
            <a:ext cx="734364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OBLIGACIONES DEL EMPLE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5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AL INICIO DE LA RELACION LABORAL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(CONTINUAC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asificar puesto, categoría y pactar la remuner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argar datos del empleador en Mi Simplificació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nscripción en Mi Simplificación – Empleadores – Alta Tempran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arga de los datos familiares en Mi Simplificación – WEB AF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Apertura de cuentas bancarias para acreditación de haberes de los empleados (Resoluciones 644/97, 790/99 y 360/01 MTEyS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ntrega del contrato de trabajo al trabajador según la modalidad de contratación (plazo fij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ntrega de los elementos necesarios para el normal desarrollo de las tareas y su seguri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glamento Intern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nformar del tramite de la libreta sanitar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7164360" y="3213000"/>
            <a:ext cx="287280" cy="2174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8526" h="21600">
                <a:moveTo>
                  <a:pt x="0" y="0"/>
                </a:moveTo>
                <a:lnTo>
                  <a:pt x="28526" y="0"/>
                </a:lnTo>
                <a:lnTo>
                  <a:pt x="28526" y="21600"/>
                </a:lnTo>
                <a:lnTo>
                  <a:pt x="0" y="21600"/>
                </a:lnTo>
                <a:close/>
              </a:path>
              <a:path fill="lightenLess" w="28526" h="21600">
                <a:moveTo>
                  <a:pt x="0" y="0"/>
                </a:moveTo>
                <a:lnTo>
                  <a:pt x="28526" y="0"/>
                </a:lnTo>
                <a:lnTo>
                  <a:pt x="27126" y="1400"/>
                </a:lnTo>
                <a:lnTo>
                  <a:pt x="1400" y="1400"/>
                </a:lnTo>
                <a:close/>
              </a:path>
              <a:path fill="darken" w="28526" h="21600">
                <a:moveTo>
                  <a:pt x="28526" y="0"/>
                </a:moveTo>
                <a:lnTo>
                  <a:pt x="28526" y="21600"/>
                </a:lnTo>
                <a:lnTo>
                  <a:pt x="27126" y="20200"/>
                </a:lnTo>
                <a:lnTo>
                  <a:pt x="27126" y="1400"/>
                </a:lnTo>
                <a:close/>
              </a:path>
              <a:path fill="darkenLess" w="28526" h="21600">
                <a:moveTo>
                  <a:pt x="2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26" y="20200"/>
                </a:lnTo>
                <a:close/>
              </a:path>
              <a:path fill="lighten" w="2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26" h="21600">
                <a:moveTo>
                  <a:pt x="7257" y="3794"/>
                </a:moveTo>
                <a:lnTo>
                  <a:pt x="21270" y="10800"/>
                </a:lnTo>
                <a:lnTo>
                  <a:pt x="725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7 Rectángulo"/>
          <p:cNvSpPr/>
          <p:nvPr/>
        </p:nvSpPr>
        <p:spPr>
          <a:xfrm>
            <a:off x="2411280" y="6237360"/>
            <a:ext cx="48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93560" y="981000"/>
            <a:ext cx="7281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OBLIGACIONES DEL EMPLE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50000"/>
              </a:lnSpc>
              <a:spcBef>
                <a:spcPts val="451"/>
              </a:spcBef>
              <a:buClr>
                <a:srgbClr val="00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DOCUMENTACION A ADJUNTAR EN EL LEGAJ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Declaración de Domicil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Declaración de Beneficiarios del Seguro de Vida Colectivo Obligator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Fotocopia DNI del empleado y sus familiares (esposo/esposa, hijo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nstancia de CUIL del empleado y sus familia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Fotocopia de Partidas de Nacimiento de hijos, certificado o libreta de matrimoni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mprobantes respaldatorios de títulos Secundarios, Terciarios, Universitarios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Formulario PS.2.61 “Notificación del Régimen de Asignaciones Familiares - SUAF”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Nota del Banco acreditando CBU correspondient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Formulario F572 DJ deducciones Ganancias 4ta Categorí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77840" indent="-533160" algn="just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Formulario F649 de Ganancias de trabajos anteri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7 Rectángulo"/>
          <p:cNvSpPr/>
          <p:nvPr/>
        </p:nvSpPr>
        <p:spPr>
          <a:xfrm>
            <a:off x="2050920" y="623736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Mayo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332000" y="22050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27" name="6 CuadroTexto"/>
          <p:cNvSpPr/>
          <p:nvPr/>
        </p:nvSpPr>
        <p:spPr>
          <a:xfrm>
            <a:off x="1785960" y="16430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1125360"/>
            <a:ext cx="73440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Verdana"/>
              </a:rPr>
              <a:t>OBLIGACIONES DEL EMPLEAD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00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DURANTE LA RELACION LABO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0033cc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iquidación de habe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0033cc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Presentación de Formulario 931 en AF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0033cc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Pago de Cargas Sociales – F931 </a:t>
            </a:r>
            <a:r>
              <a:rPr b="1" lang="es-ES_tradnl" sz="1400" spc="-1" strike="noStrike">
                <a:solidFill>
                  <a:srgbClr val="0033cc"/>
                </a:solidFill>
                <a:latin typeface="Calibri"/>
              </a:rPr>
              <a:t>Incluye pago Seguro de Vida Colect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0033cc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onfección, presentación y pago de boletas sindic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468440" indent="-419040" algn="just">
              <a:lnSpc>
                <a:spcPct val="105000"/>
              </a:lnSpc>
              <a:spcBef>
                <a:spcPts val="524"/>
              </a:spcBef>
              <a:buClr>
                <a:srgbClr val="0033cc"/>
              </a:buClr>
              <a:buSzPct val="11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SEC                    www.sec.org.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468440" indent="-419040" algn="just">
              <a:lnSpc>
                <a:spcPct val="105000"/>
              </a:lnSpc>
              <a:spcBef>
                <a:spcPts val="524"/>
              </a:spcBef>
              <a:buClr>
                <a:srgbClr val="0033cc"/>
              </a:buClr>
              <a:buSzPct val="11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AECyS               www.faecys.org.a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468440" indent="-419040" algn="just">
              <a:lnSpc>
                <a:spcPct val="105000"/>
              </a:lnSpc>
              <a:spcBef>
                <a:spcPts val="524"/>
              </a:spcBef>
              <a:buClr>
                <a:srgbClr val="0033cc"/>
              </a:buClr>
              <a:buSzPct val="11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LA ESTRELLA       www.laestrellaretiro.com.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468440" indent="-419040" algn="just">
              <a:lnSpc>
                <a:spcPct val="105000"/>
              </a:lnSpc>
              <a:spcBef>
                <a:spcPts val="524"/>
              </a:spcBef>
              <a:buClr>
                <a:srgbClr val="0033cc"/>
              </a:buClr>
              <a:buSzPct val="11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NACAP               www.inacap.org.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0033cc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beres registrales (Rúbrica de libros) - Libro Ley Art 52 L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403280" y="1630440"/>
            <a:ext cx="2592360" cy="359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portes del trabaj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Jubilacione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11   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Ley 1903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3    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Obra Soci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3    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Sindicato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2    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FAECyS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0,5 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500" spc="-1" strike="noStrike">
                <a:solidFill>
                  <a:srgbClr val="000000"/>
                </a:solidFill>
                <a:latin typeface="Verdana"/>
              </a:rPr>
              <a:t>________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Total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           19,5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138560" y="1628640"/>
            <a:ext cx="4537080" cy="360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ribución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Jubilacione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10.17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SSJyP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                1.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Obra Social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6.0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Salario familiar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4.44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do. Nac. de Empleo        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                0.89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ART* y Fdo. Hipoacusi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 ¿? 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Seguro de Vida Obligatorio (S.V.O.)               $2.46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Seguro de Retiro La Estrella                  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  3.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Seguro de Vida Mercantil Art. 97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¿? %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1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s-AR" sz="1200" spc="-1" strike="noStrike" u="sng">
                <a:solidFill>
                  <a:srgbClr val="000000"/>
                </a:solidFill>
                <a:uFillTx/>
                <a:latin typeface="Verdana"/>
              </a:rPr>
              <a:t>INACAP: costo por empleado                        $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20,29</a:t>
            </a: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Total Mínimo (sin ART ni INACAP)     26,50%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5516640"/>
            <a:ext cx="864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*ART: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El aporte a la ART se conviene entre la Empresa y la aseguradora. El fondo de hipoacusia es de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$ 0.6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por cada trabajad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*Sindicato de Empleados de Comercio Optativo: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valor $15.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7 Rectángulo"/>
          <p:cNvSpPr/>
          <p:nvPr/>
        </p:nvSpPr>
        <p:spPr>
          <a:xfrm>
            <a:off x="2268360" y="6237360"/>
            <a:ext cx="48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Agosto de 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84360" y="115920"/>
            <a:ext cx="8207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1:34:39Z</dcterms:created>
  <dc:creator>.</dc:creator>
  <dc:description/>
  <dc:language>en-US</dc:language>
  <cp:lastModifiedBy>CPCECABA</cp:lastModifiedBy>
  <dcterms:modified xsi:type="dcterms:W3CDTF">2012-06-18T21:02:28Z</dcterms:modified>
  <cp:revision>186</cp:revision>
  <dc:subject/>
  <dc:title>Diapositiva 1</dc:title>
</cp:coreProperties>
</file>