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3237-7285-49B7-AF20-85796A81B6F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5508-78CE-47F4-A50C-669FD9EFA154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971-845D-4564-8910-F4B113E9760E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4D2-630A-4B4C-A645-DF53D9CCA193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FB5F-1D24-40B6-819B-65DB3CE88FE2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5D80-D924-4975-B5AA-569A190018E1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C830-210A-4A67-A109-FDECAC82A302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04BF-D6D8-4F17-BC7D-0FB107EE6C6C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27C6-FB58-4080-803D-B7D32CEAE3DF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AB9F-4ADC-4834-B9F2-5C56563CAAD1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8BE9-824F-4F16-8718-3A5BC3717E53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5237-ED54-43C7-8B29-401C56E22AA6}" type="slidenum">
              <a:rPr b="0" lang="es-ES" sz="12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611280" y="380880"/>
            <a:ext cx="4933800" cy="3416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360600" y="5541840"/>
            <a:ext cx="138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451-85CB-4378-A9F1-4ACB2EA7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8912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" y="3947760"/>
            <a:ext cx="8912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23C-89B5-4132-9DA8-C7A66863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200" y="3947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0160" y="3947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BC7-9FBD-4D5A-890D-AD5C280C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6760" y="1598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19960" y="1598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" y="3947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6760" y="3947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19960" y="3947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1B3-9199-4890-B588-A5B9132E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099E-866E-4668-954F-5923E892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93200" y="1598760"/>
            <a:ext cx="89125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41D7-2161-430D-9977-D88A62E0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89125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BF32-86E7-4401-9E62-BC35A2C6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A69D-E082-4222-A937-8626FF60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13C6-4F85-494E-BEE2-12BA249F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93200" y="272520"/>
            <a:ext cx="8912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3CD2-A8E4-4FC0-9A47-AF3189E5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3200" y="3947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ACB4-6F44-46A4-B60A-29C7B5DC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3200" y="1598760"/>
            <a:ext cx="891252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7AD-77F1-4270-BFF3-7608B48A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60160" y="3947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8C89-DBA8-4FB1-811D-492CC9B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3200" y="3947760"/>
            <a:ext cx="8912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0A00-8C0B-44BF-B9D5-1D2775B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8912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3200" y="3947760"/>
            <a:ext cx="8912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CBDF-D2E9-4FAE-98C5-C451BB34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3200" y="3947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0160" y="3947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E704-A11F-468F-AC52-34E14263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06760" y="1598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19960" y="1598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3200" y="3947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06760" y="3947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519960" y="3947760"/>
            <a:ext cx="2869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65F0-590C-4C50-A8F0-909CC923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89125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98F-2098-4479-97E2-70B12AC1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5E9-FDBA-46C1-A597-0DE28142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643-7785-4542-B1A1-B8D2BF57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3200" y="272520"/>
            <a:ext cx="8912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3E3-450D-45E2-8CA4-E8B25F28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3200" y="3947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CC1-884D-4FB1-A373-2EBBA698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0160" y="3947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523-7BEF-4163-BA31-FFE5575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320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0160" y="1598760"/>
            <a:ext cx="4349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" y="3947760"/>
            <a:ext cx="8912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D75-884D-4417-9716-85BAF5AE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3600" cy="6856560"/>
            <a:chOff x="0" y="0"/>
            <a:chExt cx="99036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21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903600" cy="6856560"/>
              <a:chOff x="0" y="0"/>
              <a:chExt cx="990360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9021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90180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90180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90180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90180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90180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90180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90180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90180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90180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90180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90180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90180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90180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90180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90180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90180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90180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90180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901440" cy="1658880"/>
                <a:chOff x="0" y="0"/>
                <a:chExt cx="990144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898880" y="0"/>
                  <a:ext cx="723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127040" y="0"/>
                  <a:ext cx="26640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382560" y="0"/>
                  <a:ext cx="41256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672280" y="0"/>
                  <a:ext cx="60660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950120" y="0"/>
                  <a:ext cx="7736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227960" y="0"/>
                  <a:ext cx="92844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525960" y="0"/>
                  <a:ext cx="11037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8324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487120" y="0"/>
                  <a:ext cx="26640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6075720" y="0"/>
                  <a:ext cx="41256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570720" y="0"/>
                  <a:ext cx="61704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117560" y="0"/>
                  <a:ext cx="77184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704000" y="0"/>
                  <a:ext cx="92988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8199360" y="0"/>
                  <a:ext cx="11037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746200" y="76320"/>
                  <a:ext cx="115524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901440" cy="772920"/>
                <a:chOff x="0" y="885960"/>
                <a:chExt cx="990144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52596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9303480" y="885960"/>
                  <a:ext cx="59796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53600" y="1649520"/>
                <a:ext cx="8942040" cy="5207040"/>
                <a:chOff x="453600" y="1649520"/>
                <a:chExt cx="894204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898520" y="1649520"/>
                  <a:ext cx="723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703680" y="1649520"/>
                  <a:ext cx="68940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630520" y="1649520"/>
                  <a:ext cx="116388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505880" y="1649520"/>
                  <a:ext cx="177264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3600" y="1649520"/>
                  <a:ext cx="226836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486760" y="1649520"/>
                  <a:ext cx="69120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6075360" y="1649520"/>
                  <a:ext cx="116388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572160" y="1649520"/>
                  <a:ext cx="17812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113600" y="1649520"/>
                  <a:ext cx="228204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21564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63008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108180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52452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705800" y="1649520"/>
                <a:ext cx="21956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02600" y="1649520"/>
                <a:ext cx="169884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49800" y="1649520"/>
                <a:ext cx="115200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306720" y="1649520"/>
                <a:ext cx="59508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200" y="272520"/>
            <a:ext cx="891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93560" y="6241680"/>
            <a:ext cx="2308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384360" y="6241680"/>
            <a:ext cx="3136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7099200" y="6241680"/>
            <a:ext cx="2308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EBD3-73EA-4C4D-8CCF-26A0ACE04286}" type="slidenum">
              <a:rPr b="0" lang="es-E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93200" y="1598760"/>
            <a:ext cx="89125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903600" cy="6856560"/>
            <a:chOff x="0" y="0"/>
            <a:chExt cx="990360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9021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903600" cy="6856560"/>
              <a:chOff x="0" y="0"/>
              <a:chExt cx="990360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9021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90180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90180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90180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90180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90180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90180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90180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90180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90180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90180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90180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90180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90180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90180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90180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90180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90180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90180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90180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901440" cy="1658880"/>
                <a:chOff x="0" y="0"/>
                <a:chExt cx="990144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898880" y="0"/>
                  <a:ext cx="723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127040" y="0"/>
                  <a:ext cx="26640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82560" y="0"/>
                  <a:ext cx="41256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672280" y="0"/>
                  <a:ext cx="60660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50120" y="0"/>
                  <a:ext cx="7736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7960" y="0"/>
                  <a:ext cx="92844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25960" y="0"/>
                  <a:ext cx="11037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8324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487120" y="0"/>
                  <a:ext cx="26640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075720" y="0"/>
                  <a:ext cx="41256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570720" y="0"/>
                  <a:ext cx="61704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117560" y="0"/>
                  <a:ext cx="77184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704000" y="0"/>
                  <a:ext cx="92988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199360" y="0"/>
                  <a:ext cx="11037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746200" y="76320"/>
                  <a:ext cx="115524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901440" cy="772920"/>
                <a:chOff x="0" y="885960"/>
                <a:chExt cx="990144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52596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303480" y="885960"/>
                  <a:ext cx="59796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53600" y="1649520"/>
                <a:ext cx="8942040" cy="5207040"/>
                <a:chOff x="453600" y="1649520"/>
                <a:chExt cx="894204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898520" y="1649520"/>
                  <a:ext cx="723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703680" y="1649520"/>
                  <a:ext cx="68940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630520" y="1649520"/>
                  <a:ext cx="116388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505880" y="1649520"/>
                  <a:ext cx="177264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3600" y="1649520"/>
                  <a:ext cx="226836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486760" y="1649520"/>
                  <a:ext cx="69120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075360" y="1649520"/>
                  <a:ext cx="116388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72160" y="1649520"/>
                  <a:ext cx="17812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113600" y="1649520"/>
                  <a:ext cx="228204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21564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63008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08180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52452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05800" y="1649520"/>
                <a:ext cx="21956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02600" y="1649520"/>
                <a:ext cx="169884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749800" y="1649520"/>
                <a:ext cx="115200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306720" y="1649520"/>
                <a:ext cx="59508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3200" y="1920960"/>
            <a:ext cx="89125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93560" y="6241680"/>
            <a:ext cx="2308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384360" y="6241680"/>
            <a:ext cx="3136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099200" y="6241680"/>
            <a:ext cx="2308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5762-5D75-41FB-8BC2-8CE153A97E57}" type="slidenum">
              <a:rPr b="0" lang="es-E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631800" y="981000"/>
            <a:ext cx="8712360" cy="36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  <a:ea typeface="Arial"/>
              </a:rPr>
              <a:t>CONSEJO PROFESIONAL DE CIENCIAS ECONÓMICA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  <a:ea typeface="Arial"/>
              </a:rPr>
              <a:t>DE LA CIUDAD AUTÓNOMA DE BUENOS AIR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  <a:ea typeface="Arial"/>
              </a:rPr>
              <a:t>ANÁLISIS MARGINA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  <a:ea typeface="Arial"/>
              </a:rPr>
              <a:t>Decisiones vinculadas con la capacidad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ahoma"/>
                <a:ea typeface="Arial"/>
              </a:rPr>
              <a:t>Prof. C. P. Victorio Di Stefano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304560" y="189000"/>
            <a:ext cx="929628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4" marL="2057400" indent="-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Influencia de la capacidad de produc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gual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¿ Equilibrio?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)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enor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xiste Capacidad Ocios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)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ayor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versión / Terceriz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ceptar limit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)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stos y precios diferenci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)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ercerización o Selección del artículo más rent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88520" y="260280"/>
            <a:ext cx="9109080" cy="64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S Y PRECIOS DIFERENCI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OS VARIABL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 5 por unid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OS FIJ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$ 20000  por m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n habitual de producción       5000 unidad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dad                                              6000 unidades        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o de venta habitu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 12 por unid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O VARIAB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O FIJ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4    ( $ 20000 / 5000 u 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RECIMIENTO: Comprarnos 500 u. Adicionales a $ 8 c/u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ICIO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greso diferencial mayor al Costo diferenc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istencia de capacidad ocios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rcado diferenciad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344520" y="4869000"/>
            <a:ext cx="905976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344520" y="5229360"/>
            <a:ext cx="905976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415800" y="3068640"/>
            <a:ext cx="906012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04280" y="333360"/>
            <a:ext cx="9193320" cy="57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aeaea"/>
                </a:solidFill>
                <a:uFillTx/>
                <a:latin typeface="Arial"/>
              </a:rPr>
              <a:t>Selección del artículo más rentable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Artículos    Precios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    Cantidad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     Horas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Hor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de venta           Mat. Prima    Hombre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Máqui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20.0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   1.0 kg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0.5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     0.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30.0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   2.0 kg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0.4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     0.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29.0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   1.5 kg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0.6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       0.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aeaea"/>
                </a:solidFill>
                <a:uFillTx/>
                <a:latin typeface="Arial"/>
              </a:rPr>
              <a:t>PRECIOS</a:t>
            </a:r>
            <a:r>
              <a:rPr b="1" lang="es-ES_tradnl" sz="24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Materia Prima $ 10 por kil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Mano de Obra  $   3 por hora homb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Carga Fabril Variable $ 5 por hora máqui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Gastos variables comerciales 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A $1.0  B $1.5  C $2.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56204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04640" y="115920"/>
            <a:ext cx="9228240" cy="633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eaeaea"/>
                </a:solidFill>
                <a:uFillTx/>
                <a:latin typeface="Arial"/>
              </a:rPr>
              <a:t>Selección del artículo más rentable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Costos unitarios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Materias Primas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              10.0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20.0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15.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Mano de Obra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  1.5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1.2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1.8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Carga Fab. Variab.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                 2.5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1.0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1.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Gs. Variab. Cciales.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                                1.0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1.5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2.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Total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   15.0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23.7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1" lang="es-ES_tradnl" sz="1800" spc="-1" strike="noStrike" u="sng">
                <a:solidFill>
                  <a:srgbClr val="eaeaea"/>
                </a:solidFill>
                <a:uFillTx/>
                <a:latin typeface="Arial"/>
              </a:rPr>
              <a:t>20.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Precio de venta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   20.0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30.0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eaeaea"/>
                </a:solidFill>
                <a:latin typeface="Arial"/>
              </a:rPr>
              <a:t>29.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Contribución marginal por unidad                   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0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   6.3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8.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Contribución marginal por kilo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0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   3.15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5.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Contribución marginal por hora hombre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10.0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15.75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14.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Contribución marginal por hora máquina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10.0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Arial"/>
              </a:rPr>
              <a:t>31.5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29.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 u="sng">
                <a:solidFill>
                  <a:srgbClr val="eaeaea"/>
                </a:solidFill>
                <a:uFillTx/>
                <a:latin typeface="Arial"/>
              </a:rPr>
              <a:t>Ejemplo: Horas máquina disponibles 384      Demanda: A 1000 u., B 500 u., C 600 u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Mezcla más rentable:</a:t>
            </a: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1º B 500 u. a 0.2 hs. máq. = 100 hs.  Vs. 384 resto 284 h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2º C 600 u. a 0.3 hs. máq. = 180 hs.  Vs. 284 resto 104 h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es-ES_tradnl" sz="1600" spc="-1" strike="noStrike">
                <a:solidFill>
                  <a:srgbClr val="eaeaea"/>
                </a:solidFill>
                <a:latin typeface="Arial"/>
              </a:rPr>
              <a:t>3º A 104 hs. máq.  / 0,5 hs. X U. = 208 unidades   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04280" y="259920"/>
            <a:ext cx="9193320" cy="581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ER O COMPR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IONES; ACTIVIDADES; OPERACIONES; PRODUCTOS O SERVICI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ALUACION MATEMATIC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COMPR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variable de producció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Alternativa A 18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fijo de producció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Alternativa B 24  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total de producció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Alternativa C 30  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stos variables de ven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stos fijos de ven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total Prod. y vent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4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Comment 4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488880"/>
            <a:ext cx="990612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O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04280" y="1628280"/>
            <a:ext cx="9193320" cy="42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ABLES (Valuación de existencia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ROL DE GESTION (Medición de eficienc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MA DE DECISIONES (Fijación de  precios de venta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Comment 4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04640" y="574200"/>
            <a:ext cx="9133200" cy="566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6778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lvl="1" marL="6778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3333cc"/>
                </a:solidFill>
                <a:uFillTx/>
                <a:latin typeface="Arial"/>
              </a:rPr>
              <a:t>Análisis marginal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lvl="1" marL="6778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marL="380880" indent="-380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Costos para tomar decisione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80880" indent="-380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Comment 3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03080" y="1773360"/>
            <a:ext cx="889452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DICIONE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RTO PLAZ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XIMIZACION DEL LUCR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3" marL="156204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Comment 4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03080" y="1413000"/>
            <a:ext cx="889452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OMA DE DECIS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erre de segmentos no rentab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corporación de nuevos segment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ción de productos más rentab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ceriz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stos y precios diferenci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ecios de ven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unto de equilib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Comment 4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15440" y="620280"/>
            <a:ext cx="9193320" cy="545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 DE DECIS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FORMACION A PREPAR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ificar los costos y gastos por varia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os Variabl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os Fij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borar adecuados estados de resultad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 segmento de la empres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981080" indent="-228600">
              <a:lnSpc>
                <a:spcPct val="10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ínea de Produc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4" marL="1981080" indent="-228600">
              <a:lnSpc>
                <a:spcPct val="10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al de distribu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4" marL="1981080" indent="-228600">
              <a:lnSpc>
                <a:spcPct val="10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a de v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4" marL="1981080" indent="-228600">
              <a:lnSpc>
                <a:spcPct val="10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dad de negoc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rando la contribución margin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Comment 4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4280" y="1125360"/>
            <a:ext cx="9193320" cy="494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533520" indent="-533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TRIBUCION MARGI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itaria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ecio de venta - Costos variab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tal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ntas - Costos variab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stos fijos + Resultad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Comment 4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04280" y="692280"/>
            <a:ext cx="9193320" cy="40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DO DE RESULTADOS (Tradicional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Cost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tilidad Bru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8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st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tilidad ne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3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56204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Comment 4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04280" y="475920"/>
            <a:ext cx="9085320" cy="547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ESTADO DE RESULTADOS (Adecuad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   B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C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0000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4000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1000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5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- Costos y gs. Variable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0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3200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1150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9350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. marginal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5000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800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( 150)  5650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-Costos y gastos fij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000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950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700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265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4000    (150) ( 850)  3000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56204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0" y="6512040"/>
            <a:ext cx="1828800" cy="307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ictorio Di Stefano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9:21:55Z</dcterms:created>
  <dc:creator>Elizabeth Götz</dc:creator>
  <dc:description/>
  <dc:language>en-US</dc:language>
  <cp:lastModifiedBy>CPCEACABA</cp:lastModifiedBy>
  <dcterms:modified xsi:type="dcterms:W3CDTF">2011-11-14T17:36:07Z</dcterms:modified>
  <cp:revision>92</cp:revision>
  <dc:subject/>
  <dc:title>Sin título de diapositiva</dc:title>
</cp:coreProperties>
</file>