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D49A-8B92-4B8D-9A4B-6A6E8A8B2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76C7-45D6-4D43-A6DF-98BB1E28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52F5-7BC1-45EC-885F-9FFB59912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BE26-94F2-4AEA-A36A-C092A37F8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82DF-4FC6-4727-90B6-53A01728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4F70-6046-4894-9751-60007149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8B9D-C00B-4D99-A450-3E6E3544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F274-2D38-44A5-A91A-489D64A2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1294-E7BE-49FF-8C61-E201361E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9F69-EF42-4B6E-A42E-A5B68676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9A0B-D8AD-4AC3-A202-4FCB3F20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C0EE-6CA0-49C1-8B64-0416E2A3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09FC-8FEC-41A4-96EE-D404D838C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10760" y="471600"/>
            <a:ext cx="329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LAN DE MARKETING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80560" y="1146240"/>
            <a:ext cx="632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eño del plan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 plan de market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42920" y="1413000"/>
            <a:ext cx="792360" cy="430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1413000"/>
            <a:ext cx="79236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508720" y="1413000"/>
            <a:ext cx="79200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67640" y="1413000"/>
            <a:ext cx="79200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92280"/>
            <a:ext cx="1943280" cy="28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bjetivos del 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12000" y="2492280"/>
            <a:ext cx="194292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12000" y="2924280"/>
            <a:ext cx="1942920" cy="288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76360" y="2924280"/>
            <a:ext cx="194328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trategia de segment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12000" y="3357720"/>
            <a:ext cx="1942920" cy="288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76360" y="3429000"/>
            <a:ext cx="1943280" cy="28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trategia de posiciona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12000" y="3789360"/>
            <a:ext cx="194292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76360" y="3860640"/>
            <a:ext cx="194328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trategias operativ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76360" y="2060640"/>
            <a:ext cx="194328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agnóst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2060640"/>
            <a:ext cx="1942920" cy="288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48360" y="4581360"/>
            <a:ext cx="79200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84720" y="4508640"/>
            <a:ext cx="792360" cy="1008000"/>
          </a:xfrm>
          <a:custGeom>
            <a:avLst/>
            <a:gdLst>
              <a:gd name="textAreaLeft" fmla="*/ 38520 w 792360"/>
              <a:gd name="textAreaRight" fmla="*/ 753840 w 792360"/>
              <a:gd name="textAreaTop" fmla="*/ 38520 h 1008000"/>
              <a:gd name="textAreaBottom" fmla="*/ 969480 h 1008000"/>
            </a:gdLst>
            <a:ahLst/>
            <a:rect l="textAreaLeft" t="textAreaTop" r="textAreaRight" b="textAreaBottom"/>
            <a:pathLst>
              <a:path w="21600" h="27476">
                <a:moveTo>
                  <a:pt x="3600" y="0"/>
                </a:moveTo>
                <a:arcTo wR="3600" hR="3600" stAng="16200000" swAng="-5400000"/>
                <a:lnTo>
                  <a:pt x="0" y="23876"/>
                </a:lnTo>
                <a:arcTo wR="3600" hR="3600" stAng="10800000" swAng="-5400000"/>
                <a:lnTo>
                  <a:pt x="18000" y="274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93080" y="4508640"/>
            <a:ext cx="792000" cy="1008000"/>
          </a:xfrm>
          <a:custGeom>
            <a:avLst/>
            <a:gdLst>
              <a:gd name="textAreaLeft" fmla="*/ 38520 w 792000"/>
              <a:gd name="textAreaRight" fmla="*/ 753480 w 792000"/>
              <a:gd name="textAreaTop" fmla="*/ 38520 h 1008000"/>
              <a:gd name="textAreaBottom" fmla="*/ 969480 h 1008000"/>
            </a:gdLst>
            <a:ahLst/>
            <a:rect l="textAreaLeft" t="textAreaTop" r="textAreaRight" b="textAreaBottom"/>
            <a:pathLst>
              <a:path w="21600" h="27488">
                <a:moveTo>
                  <a:pt x="3600" y="0"/>
                </a:moveTo>
                <a:arcTo wR="3600" hR="3600" stAng="16200000" swAng="-5400000"/>
                <a:lnTo>
                  <a:pt x="0" y="23888"/>
                </a:lnTo>
                <a:arcTo wR="3600" hR="3600" stAng="10800000" swAng="-5400000"/>
                <a:lnTo>
                  <a:pt x="18000" y="274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101080" y="4437000"/>
            <a:ext cx="79200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56360" y="6568920"/>
            <a:ext cx="194472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76360" y="6568920"/>
            <a:ext cx="1943280" cy="28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guimiento – control 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360" y="6165720"/>
            <a:ext cx="194292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56360" y="5805360"/>
            <a:ext cx="194292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23840" y="1387440"/>
            <a:ext cx="703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álisi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68560" y="1314360"/>
            <a:ext cx="66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áli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ter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55840" y="4149720"/>
            <a:ext cx="839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24200" y="4772160"/>
            <a:ext cx="1387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03280" y="184464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19640" y="184464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03280" y="1989000"/>
            <a:ext cx="201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11280" y="1989000"/>
            <a:ext cx="0" cy="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11280" y="278136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11280" y="3213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11280" y="371628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1280" y="4292640"/>
            <a:ext cx="360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10920" y="5661000"/>
            <a:ext cx="360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144000" y="429264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47640" y="4411800"/>
            <a:ext cx="792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11280" y="4076640"/>
            <a:ext cx="0" cy="1443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76360" y="4508640"/>
            <a:ext cx="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4292640"/>
            <a:ext cx="4248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5661000"/>
            <a:ext cx="4248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4292640"/>
            <a:ext cx="0" cy="136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4000" y="5661000"/>
            <a:ext cx="71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95640" y="4292640"/>
            <a:ext cx="2447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43280" y="4292640"/>
            <a:ext cx="0" cy="136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144000" y="4292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11280" y="234936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00360" y="4437000"/>
            <a:ext cx="792000" cy="1008000"/>
          </a:xfrm>
          <a:custGeom>
            <a:avLst/>
            <a:gdLst>
              <a:gd name="textAreaLeft" fmla="*/ 38520 w 792000"/>
              <a:gd name="textAreaRight" fmla="*/ 753480 w 792000"/>
              <a:gd name="textAreaTop" fmla="*/ 38520 h 1008000"/>
              <a:gd name="textAreaBottom" fmla="*/ 969480 h 1008000"/>
            </a:gdLst>
            <a:ahLst/>
            <a:rect l="textAreaLeft" t="textAreaTop" r="textAreaRight" b="textAreaBottom"/>
            <a:pathLst>
              <a:path w="21600" h="27488">
                <a:moveTo>
                  <a:pt x="3600" y="0"/>
                </a:moveTo>
                <a:arcTo wR="3600" hR="3600" stAng="16200000" swAng="-5400000"/>
                <a:lnTo>
                  <a:pt x="0" y="23888"/>
                </a:lnTo>
                <a:arcTo wR="3600" hR="3600" stAng="10800000" swAng="-5400000"/>
                <a:lnTo>
                  <a:pt x="18000" y="274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76360" y="4437000"/>
            <a:ext cx="792000" cy="1008000"/>
          </a:xfrm>
          <a:custGeom>
            <a:avLst/>
            <a:gdLst>
              <a:gd name="textAreaLeft" fmla="*/ 38520 w 792000"/>
              <a:gd name="textAreaRight" fmla="*/ 753480 w 792000"/>
              <a:gd name="textAreaTop" fmla="*/ 38520 h 1008000"/>
              <a:gd name="textAreaBottom" fmla="*/ 969480 h 1008000"/>
            </a:gdLst>
            <a:ahLst/>
            <a:rect l="textAreaLeft" t="textAreaTop" r="textAreaRight" b="textAreaBottom"/>
            <a:pathLst>
              <a:path w="21600" h="27488">
                <a:moveTo>
                  <a:pt x="3600" y="0"/>
                </a:moveTo>
                <a:arcTo wR="3600" hR="3600" stAng="16200000" swAng="-5400000"/>
                <a:lnTo>
                  <a:pt x="0" y="23888"/>
                </a:lnTo>
                <a:arcTo wR="3600" hR="3600" stAng="10800000" swAng="-5400000"/>
                <a:lnTo>
                  <a:pt x="18000" y="274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084640"/>
            <a:ext cx="79200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4437000"/>
            <a:ext cx="79200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80000" y="4508640"/>
            <a:ext cx="79200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76720" y="4292640"/>
            <a:ext cx="3959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36000" y="4292640"/>
            <a:ext cx="0" cy="136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76720" y="4292640"/>
            <a:ext cx="0" cy="136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76720" y="5661000"/>
            <a:ext cx="3888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885080" y="5661000"/>
            <a:ext cx="1150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101080" y="5157720"/>
            <a:ext cx="79200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48360" y="5157720"/>
            <a:ext cx="79200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76360" y="5805360"/>
            <a:ext cx="1943280" cy="28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esupues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76360" y="6165720"/>
            <a:ext cx="1943280" cy="28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grama de ac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4424400"/>
            <a:ext cx="8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ferta d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rvici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5084640"/>
            <a:ext cx="790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4927680"/>
            <a:ext cx="768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alid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76360" y="43513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76360" y="442440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"/>
              </a:rPr>
              <a:t>Comunica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"/>
              </a:rPr>
              <a:t>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"/>
              </a:rPr>
              <a:t>Honorari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"/>
              </a:rPr>
              <a:t>Lug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4495680"/>
            <a:ext cx="79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51840" y="4424400"/>
            <a:ext cx="70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port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ísicos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ces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80000" y="4495680"/>
            <a:ext cx="79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32920" y="4495680"/>
            <a:ext cx="62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80000" y="5072040"/>
            <a:ext cx="79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80000" y="5072040"/>
            <a:ext cx="52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35640" y="4653000"/>
            <a:ext cx="288720" cy="288720"/>
          </a:xfrm>
          <a:prstGeom prst="ellipse">
            <a:avLst/>
          </a:prstGeom>
          <a:solidFill>
            <a:srgbClr val="f8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72360" y="4797360"/>
            <a:ext cx="288720" cy="289080"/>
          </a:xfrm>
          <a:prstGeom prst="ellipse">
            <a:avLst/>
          </a:prstGeom>
          <a:solidFill>
            <a:srgbClr val="f8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80360" y="4797360"/>
            <a:ext cx="288720" cy="289080"/>
          </a:xfrm>
          <a:prstGeom prst="ellipse">
            <a:avLst/>
          </a:prstGeom>
          <a:solidFill>
            <a:srgbClr val="f8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88360" y="5229360"/>
            <a:ext cx="289080" cy="288720"/>
          </a:xfrm>
          <a:prstGeom prst="ellipse">
            <a:avLst/>
          </a:prstGeom>
          <a:solidFill>
            <a:srgbClr val="f8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8360" y="4508640"/>
            <a:ext cx="289080" cy="288720"/>
          </a:xfrm>
          <a:prstGeom prst="ellipse">
            <a:avLst/>
          </a:prstGeom>
          <a:solidFill>
            <a:srgbClr val="f8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35640" y="5157720"/>
            <a:ext cx="288720" cy="289080"/>
          </a:xfrm>
          <a:prstGeom prst="ellipse">
            <a:avLst/>
          </a:prstGeom>
          <a:solidFill>
            <a:srgbClr val="f8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258920" y="4653000"/>
            <a:ext cx="21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58920" y="5229360"/>
            <a:ext cx="21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00000" y="479736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68360" y="486900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492000" y="4724280"/>
            <a:ext cx="28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92360" y="522936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140360" y="486900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948360" y="4076640"/>
            <a:ext cx="0" cy="2160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11280" y="5661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0000" y="5084640"/>
            <a:ext cx="792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recimie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16000" y="595008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16000" y="59500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16000" y="63086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6000" y="67420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177336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101080" y="177336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1916280"/>
            <a:ext cx="223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948360" y="191628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948360" y="234936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48360" y="278136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948360" y="321300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948360" y="3645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940360" y="479736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940360" y="537372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77080" y="501336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85080" y="472428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885080" y="530064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80000" y="49417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459640" y="4797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164360" y="566064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101080" y="59500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532720" y="5950080"/>
            <a:ext cx="0" cy="71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101080" y="666900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101080" y="630864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LAN DE MARKETING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03640" y="1125360"/>
            <a:ext cx="28764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3429000"/>
            <a:ext cx="28728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71640" y="1125360"/>
            <a:ext cx="28764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58920" y="1484280"/>
            <a:ext cx="28728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93080" y="1197000"/>
            <a:ext cx="28728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00360" y="1484280"/>
            <a:ext cx="1584360" cy="424980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4249800"/>
              <a:gd name="textAreaBottom" fmla="*/ 4172760 h 4249800"/>
            </a:gdLst>
            <a:ahLst/>
            <a:rect l="textAreaLeft" t="textAreaTop" r="textAreaRight" b="textAreaBottom"/>
            <a:pathLst>
              <a:path w="21600" h="57930">
                <a:moveTo>
                  <a:pt x="3600" y="0"/>
                </a:moveTo>
                <a:arcTo wR="3600" hR="3600" stAng="16200000" swAng="-5400000"/>
                <a:lnTo>
                  <a:pt x="0" y="54330"/>
                </a:lnTo>
                <a:arcTo wR="3600" hR="3600" stAng="10800000" swAng="-5400000"/>
                <a:lnTo>
                  <a:pt x="18000" y="579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03640" y="1484280"/>
            <a:ext cx="1584360" cy="424980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4249800"/>
              <a:gd name="textAreaBottom" fmla="*/ 4172760 h 4249800"/>
            </a:gdLst>
            <a:ahLst/>
            <a:rect l="textAreaLeft" t="textAreaTop" r="textAreaRight" b="textAreaBottom"/>
            <a:pathLst>
              <a:path w="21600" h="57930">
                <a:moveTo>
                  <a:pt x="3600" y="0"/>
                </a:moveTo>
                <a:arcTo wR="3600" hR="3600" stAng="16200000" swAng="-5400000"/>
                <a:lnTo>
                  <a:pt x="0" y="54330"/>
                </a:lnTo>
                <a:arcTo wR="3600" hR="3600" stAng="10800000" swAng="-5400000"/>
                <a:lnTo>
                  <a:pt x="18000" y="579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1484280"/>
            <a:ext cx="2016000" cy="187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3789360"/>
            <a:ext cx="1942920" cy="1944720"/>
          </a:xfrm>
          <a:custGeom>
            <a:avLst/>
            <a:gdLst>
              <a:gd name="textAreaLeft" fmla="*/ 94680 w 1942920"/>
              <a:gd name="textAreaRight" fmla="*/ 1848240 w 1942920"/>
              <a:gd name="textAreaTop" fmla="*/ 94680 h 1944720"/>
              <a:gd name="textAreaBottom" fmla="*/ 1850040 h 1944720"/>
            </a:gdLst>
            <a:ahLst/>
            <a:rect l="textAreaLeft" t="textAreaTop" r="textAreaRight" b="textAreaBottom"/>
            <a:pathLst>
              <a:path w="21600" h="21620">
                <a:moveTo>
                  <a:pt x="3600" y="0"/>
                </a:moveTo>
                <a:arcTo wR="3600" hR="3600" stAng="16200000" swAng="-5400000"/>
                <a:lnTo>
                  <a:pt x="0" y="18020"/>
                </a:lnTo>
                <a:arcTo wR="3600" hR="3600" stAng="10800000" swAng="-5400000"/>
                <a:lnTo>
                  <a:pt x="18000" y="216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93080" y="3860640"/>
            <a:ext cx="1942920" cy="180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20000" y="1484280"/>
            <a:ext cx="1942920" cy="1944720"/>
          </a:xfrm>
          <a:custGeom>
            <a:avLst/>
            <a:gdLst>
              <a:gd name="textAreaLeft" fmla="*/ 94680 w 1942920"/>
              <a:gd name="textAreaRight" fmla="*/ 1848240 w 1942920"/>
              <a:gd name="textAreaTop" fmla="*/ 94680 h 1944720"/>
              <a:gd name="textAreaBottom" fmla="*/ 1850040 h 1944720"/>
            </a:gdLst>
            <a:ahLst/>
            <a:rect l="textAreaLeft" t="textAreaTop" r="textAreaRight" b="textAreaBottom"/>
            <a:pathLst>
              <a:path w="21600" h="21620">
                <a:moveTo>
                  <a:pt x="3600" y="0"/>
                </a:moveTo>
                <a:arcTo wR="3600" hR="3600" stAng="16200000" swAng="-5400000"/>
                <a:lnTo>
                  <a:pt x="0" y="18020"/>
                </a:lnTo>
                <a:arcTo wR="3600" hR="3600" stAng="10800000" swAng="-5400000"/>
                <a:lnTo>
                  <a:pt x="18000" y="216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8360" y="14000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1125360"/>
            <a:ext cx="28728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020000" y="3573360"/>
            <a:ext cx="28728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1542960"/>
            <a:ext cx="1871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00360" y="1400040"/>
            <a:ext cx="1584360" cy="43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900" spc="-1" strike="noStrike">
                <a:solidFill>
                  <a:srgbClr val="000000"/>
                </a:solidFill>
                <a:latin typeface="Arial"/>
              </a:rPr>
              <a:t>Se aplican las variables del marketing tradiciona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900" spc="-1" strike="noStrike" u="sng">
                <a:solidFill>
                  <a:srgbClr val="000000"/>
                </a:solidFill>
                <a:uFillTx/>
                <a:latin typeface="Arial"/>
              </a:rPr>
              <a:t>Comunicaciones:</a:t>
            </a:r>
            <a:r>
              <a:rPr b="1" i="1" lang="es-ES" sz="900" spc="-1" strike="noStrike">
                <a:solidFill>
                  <a:srgbClr val="000000"/>
                </a:solidFill>
                <a:latin typeface="Arial"/>
              </a:rPr>
              <a:t> Se desarrollan los elementos controlables pero adaptables a intangibles.  ATL, BTL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900" spc="-1" strike="noStrike">
                <a:solidFill>
                  <a:srgbClr val="000000"/>
                </a:solidFill>
                <a:latin typeface="Arial"/>
              </a:rPr>
              <a:t>2.0 (medios) y mensajes (específico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900" spc="-1" strike="noStrike" u="sng">
                <a:solidFill>
                  <a:srgbClr val="000000"/>
                </a:solidFill>
                <a:uFillTx/>
                <a:latin typeface="Arial"/>
              </a:rPr>
              <a:t>Honorarios</a:t>
            </a:r>
            <a:r>
              <a:rPr b="1" i="1" lang="es-ES" sz="900" spc="-1" strike="noStrike">
                <a:solidFill>
                  <a:srgbClr val="000000"/>
                </a:solidFill>
                <a:latin typeface="Arial"/>
              </a:rPr>
              <a:t>: Única variable que genera ingresos. Requiere  coherencia asociado al mix. La estrategia debe reconocer 3 elementos: costos, competencia y valor para el client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900" spc="-1" strike="noStrike">
                <a:solidFill>
                  <a:srgbClr val="000000"/>
                </a:solidFill>
                <a:latin typeface="Arial"/>
              </a:rPr>
              <a:t>A diferencia de los bienes, es más difícil fijar los precios comparativos por ser los servicios heterogéne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900" spc="-1" strike="noStrike" u="sng">
                <a:solidFill>
                  <a:srgbClr val="000000"/>
                </a:solidFill>
                <a:uFillTx/>
                <a:latin typeface="Arial"/>
              </a:rPr>
              <a:t>Ubicación – Redes</a:t>
            </a:r>
            <a:r>
              <a:rPr b="1" i="1" lang="es-ES" sz="9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s-ES" sz="900" spc="-1" strike="noStrike" u="sng">
                <a:solidFill>
                  <a:srgbClr val="000000"/>
                </a:solidFill>
                <a:uFillTx/>
                <a:latin typeface="Arial"/>
              </a:rPr>
              <a:t>Multiservicios:</a:t>
            </a:r>
            <a:r>
              <a:rPr b="1" i="1" lang="es-ES" sz="900" spc="-1" strike="noStrike">
                <a:solidFill>
                  <a:srgbClr val="000000"/>
                </a:solidFill>
                <a:latin typeface="Arial"/>
              </a:rPr>
              <a:t>Adminis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900" spc="-1" strike="noStrike">
                <a:solidFill>
                  <a:srgbClr val="000000"/>
                </a:solidFill>
                <a:latin typeface="Arial"/>
              </a:rPr>
              <a:t>trar muchas oferta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900" spc="-1" strike="noStrike" u="sng">
                <a:solidFill>
                  <a:srgbClr val="000000"/>
                </a:solidFill>
                <a:uFillTx/>
                <a:latin typeface="Arial"/>
              </a:rPr>
              <a:t>Multilocalización:</a:t>
            </a:r>
            <a:r>
              <a:rPr b="1" i="1" lang="es-ES" sz="900" spc="-1" strike="noStrike">
                <a:solidFill>
                  <a:srgbClr val="000000"/>
                </a:solidFill>
                <a:latin typeface="Arial"/>
              </a:rPr>
              <a:t> Muchos lugares: es complejo delegar compe- tencias basadas en capi-tal intangibl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1542960"/>
            <a:ext cx="1584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8960" y="1542960"/>
            <a:ext cx="1956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900" spc="-1" strike="noStrike">
                <a:solidFill>
                  <a:srgbClr val="000000"/>
                </a:solidFill>
                <a:latin typeface="Arial"/>
              </a:rPr>
              <a:t>Es el servicio como producto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900" spc="-1" strike="noStrike">
                <a:solidFill>
                  <a:srgbClr val="000000"/>
                </a:solidFill>
                <a:latin typeface="Arial"/>
              </a:rPr>
              <a:t>Se conforma de un servici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900" spc="-1" strike="noStrike" u="sng">
                <a:solidFill>
                  <a:srgbClr val="000000"/>
                </a:solidFill>
                <a:uFillTx/>
                <a:latin typeface="Arial"/>
              </a:rPr>
              <a:t>esencial </a:t>
            </a:r>
            <a:r>
              <a:rPr b="1" i="1" lang="es-ES" sz="900" spc="-1" strike="noStrike">
                <a:solidFill>
                  <a:srgbClr val="000000"/>
                </a:solidFill>
                <a:latin typeface="Arial"/>
              </a:rPr>
              <a:t>(la razón de ser de 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900" spc="-1" strike="noStrike">
                <a:solidFill>
                  <a:srgbClr val="000000"/>
                </a:solidFill>
                <a:latin typeface="Arial"/>
              </a:rPr>
              <a:t>Demanda), más servicios </a:t>
            </a:r>
            <a:r>
              <a:rPr b="1" i="1" lang="es-ES" sz="900" spc="-1" strike="noStrike" u="sng">
                <a:solidFill>
                  <a:srgbClr val="000000"/>
                </a:solidFill>
                <a:uFillTx/>
                <a:latin typeface="Arial"/>
              </a:rPr>
              <a:t>fac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900" spc="-1" strike="noStrike" u="sng">
                <a:solidFill>
                  <a:srgbClr val="000000"/>
                </a:solidFill>
                <a:uFillTx/>
                <a:latin typeface="Arial"/>
              </a:rPr>
              <a:t>litadores</a:t>
            </a:r>
            <a:r>
              <a:rPr b="1" i="1" lang="es-ES" sz="900" spc="-1" strike="noStrike">
                <a:solidFill>
                  <a:srgbClr val="000000"/>
                </a:solidFill>
                <a:latin typeface="Arial"/>
              </a:rPr>
              <a:t> (necesarios) y de</a:t>
            </a:r>
            <a:r>
              <a:rPr b="1" i="1" lang="es-ES" sz="900" spc="-1" strike="noStrike" u="sng">
                <a:solidFill>
                  <a:srgbClr val="000000"/>
                </a:solidFill>
                <a:uFillTx/>
                <a:latin typeface="Arial"/>
              </a:rPr>
              <a:t> apo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900" spc="-1" strike="noStrike" u="sng">
                <a:solidFill>
                  <a:srgbClr val="000000"/>
                </a:solidFill>
                <a:uFillTx/>
                <a:latin typeface="Arial"/>
              </a:rPr>
              <a:t>yo</a:t>
            </a:r>
            <a:r>
              <a:rPr b="1" i="1" lang="es-ES" sz="900" spc="-1" strike="noStrike">
                <a:solidFill>
                  <a:srgbClr val="000000"/>
                </a:solidFill>
                <a:latin typeface="Arial"/>
              </a:rPr>
              <a:t> (para agregar más valor)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900" spc="-1" strike="noStrike">
                <a:solidFill>
                  <a:srgbClr val="000000"/>
                </a:solidFill>
                <a:latin typeface="Arial"/>
              </a:rPr>
              <a:t>En el contexto global de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900" spc="-1" strike="noStrike">
                <a:solidFill>
                  <a:srgbClr val="000000"/>
                </a:solidFill>
                <a:latin typeface="Arial"/>
              </a:rPr>
              <a:t>Servicio deben adicionarse l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900" spc="-1" strike="noStrike" u="sng">
                <a:solidFill>
                  <a:srgbClr val="000000"/>
                </a:solidFill>
                <a:uFillTx/>
                <a:latin typeface="Arial"/>
              </a:rPr>
              <a:t>participación </a:t>
            </a:r>
            <a:r>
              <a:rPr b="1" i="1" lang="es-ES" sz="900" spc="-1" strike="noStrike">
                <a:solidFill>
                  <a:srgbClr val="000000"/>
                </a:solidFill>
                <a:latin typeface="Arial"/>
              </a:rPr>
              <a:t>del cliente, 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900" spc="-1" strike="noStrike" u="sng">
                <a:solidFill>
                  <a:srgbClr val="000000"/>
                </a:solidFill>
                <a:uFillTx/>
                <a:latin typeface="Arial"/>
              </a:rPr>
              <a:t>accesibilidad</a:t>
            </a:r>
            <a:r>
              <a:rPr b="1" i="1" lang="es-ES" sz="900" spc="-1" strike="noStrike">
                <a:solidFill>
                  <a:srgbClr val="000000"/>
                </a:solidFill>
                <a:latin typeface="Arial"/>
              </a:rPr>
              <a:t> (espacio, horari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900" spc="-1" strike="noStrike">
                <a:solidFill>
                  <a:srgbClr val="000000"/>
                </a:solidFill>
                <a:latin typeface="Arial"/>
              </a:rPr>
              <a:t>cómodos) e </a:t>
            </a:r>
            <a:r>
              <a:rPr b="1" i="1" lang="es-ES" sz="900" spc="-1" strike="noStrike" u="sng">
                <a:solidFill>
                  <a:srgbClr val="000000"/>
                </a:solidFill>
                <a:uFillTx/>
                <a:latin typeface="Arial"/>
              </a:rPr>
              <a:t>Interacción</a:t>
            </a:r>
            <a:r>
              <a:rPr b="1" i="1" lang="es-E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900" spc="-1" strike="noStrike">
                <a:solidFill>
                  <a:srgbClr val="000000"/>
                </a:solidFill>
                <a:latin typeface="Arial"/>
              </a:rPr>
              <a:t>(respuesta puntual y oportun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76720" y="1542960"/>
            <a:ext cx="136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76720" y="1557360"/>
            <a:ext cx="1511280" cy="40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900" spc="-1" strike="noStrike" u="sng">
                <a:solidFill>
                  <a:srgbClr val="000000"/>
                </a:solidFill>
                <a:uFillTx/>
                <a:latin typeface="Arial"/>
              </a:rPr>
              <a:t>Evidencia física</a:t>
            </a:r>
            <a:r>
              <a:rPr b="1" i="1" lang="es-ES" sz="900" spc="-1" strike="noStrike">
                <a:solidFill>
                  <a:srgbClr val="000000"/>
                </a:solidFill>
                <a:latin typeface="Arial"/>
              </a:rPr>
              <a:t>: Dada las características, los soportes físicos generan evidenci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900" spc="-1" strike="noStrike">
                <a:solidFill>
                  <a:srgbClr val="000000"/>
                </a:solidFill>
                <a:latin typeface="Arial"/>
              </a:rPr>
              <a:t>tangibles de la calidad: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900" spc="-1" strike="noStrike">
                <a:solidFill>
                  <a:srgbClr val="000000"/>
                </a:solidFill>
                <a:latin typeface="Arial"/>
              </a:rPr>
              <a:t>tales el mobiliario, el equipo, los materiales impres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900" spc="-1" strike="noStrike" u="sng">
                <a:solidFill>
                  <a:srgbClr val="000000"/>
                </a:solidFill>
                <a:uFillTx/>
                <a:latin typeface="Arial"/>
              </a:rPr>
              <a:t>Procesos:</a:t>
            </a:r>
            <a:r>
              <a:rPr b="1" i="1" lang="es-ES" sz="900" spc="-1" strike="noStrike">
                <a:solidFill>
                  <a:srgbClr val="000000"/>
                </a:solidFill>
                <a:latin typeface="Arial"/>
              </a:rPr>
              <a:t> La manera y cómo el Estudio hace su trabajo requiere diseño e implemen -tación de procesos eficaces. El diagrama del servicio analiza la gestión a partir de definir 3 niveles de tareas (el cliente, la interacción y el trabajo profesional)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900" spc="-1" strike="noStrike" u="sng">
                <a:solidFill>
                  <a:srgbClr val="000000"/>
                </a:solidFill>
                <a:uFillTx/>
                <a:latin typeface="Arial"/>
              </a:rPr>
              <a:t>Personal: </a:t>
            </a:r>
            <a:r>
              <a:rPr b="1" i="1" lang="es-ES" sz="900" spc="-1" strike="noStrike">
                <a:solidFill>
                  <a:srgbClr val="000000"/>
                </a:solidFill>
                <a:latin typeface="Arial"/>
              </a:rPr>
              <a:t>El capital humano como recurso  vital, es un punto prioritario a evaluar en la percepción de la calidad del servicio. Se requiere a menudo u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900" spc="-1" strike="noStrike">
                <a:solidFill>
                  <a:srgbClr val="000000"/>
                </a:solidFill>
                <a:latin typeface="Arial"/>
              </a:rPr>
              <a:t>Intervención direct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020000" y="1197000"/>
            <a:ext cx="19429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Se recomienda gestionar el ciclo de vida del cliente, desde la captura hasta la situación de lealtad. Es clave evitar la </a:t>
            </a:r>
            <a:r>
              <a:rPr b="1" i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selección adversa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y cargar de </a:t>
            </a:r>
            <a:r>
              <a:rPr b="1" i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valor al cliente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para complicar la tarea de los competido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El valor de por vida apunta a una relación lo más extensa posible. Se puede actuar mediante bonos (beneficios)</a:t>
            </a:r>
            <a:r>
              <a:rPr b="1" i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 financieros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sociales,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individuales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estructural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010720" y="377676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236000" y="3848040"/>
            <a:ext cx="172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164360" y="3933720"/>
            <a:ext cx="180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Se instalan diversos tipos de acciones que derivan en crecimiento de ingreso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Intensivo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(penetración, desarrollo de mercados y de productos), </a:t>
            </a:r>
            <a:r>
              <a:rPr b="1" i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diversificado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(insertarse en nuevos mercados con nuevos productos) e</a:t>
            </a:r>
            <a:r>
              <a:rPr b="1" i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 integrado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(horizontal: fusiones, etc. 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vertical: eslabonamientos hacia atrás y hacia adelante)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3860640"/>
            <a:ext cx="20876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900" spc="-1" strike="noStrike" u="sng">
                <a:solidFill>
                  <a:srgbClr val="000000"/>
                </a:solidFill>
                <a:uFillTx/>
                <a:latin typeface="Arial"/>
              </a:rPr>
              <a:t>Marca</a:t>
            </a:r>
            <a:r>
              <a:rPr b="1" i="1" lang="es-ES" sz="900" spc="-1" strike="noStrike">
                <a:solidFill>
                  <a:srgbClr val="000000"/>
                </a:solidFill>
                <a:latin typeface="Arial"/>
              </a:rPr>
              <a:t>: Las elecciones que lo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900" spc="-1" strike="noStrike">
                <a:solidFill>
                  <a:srgbClr val="000000"/>
                </a:solidFill>
                <a:latin typeface="Arial"/>
              </a:rPr>
              <a:t>clientes hacen de los servicios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900" spc="-1" strike="noStrike">
                <a:solidFill>
                  <a:srgbClr val="000000"/>
                </a:solidFill>
                <a:latin typeface="Arial"/>
              </a:rPr>
              <a:t>reflejan la marca del Profesiona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900" spc="-1" strike="noStrike">
                <a:solidFill>
                  <a:srgbClr val="000000"/>
                </a:solidFill>
                <a:latin typeface="Arial"/>
              </a:rPr>
              <a:t>Es un lugar en su mente. El profesional es su propia mar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900" spc="-1" strike="noStrike">
                <a:solidFill>
                  <a:srgbClr val="000000"/>
                </a:solidFill>
                <a:latin typeface="Arial"/>
              </a:rPr>
              <a:t>y debe desarrollarl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900" spc="-1" strike="noStrike" u="sng">
                <a:solidFill>
                  <a:srgbClr val="000000"/>
                </a:solidFill>
                <a:uFillTx/>
                <a:latin typeface="Arial"/>
              </a:rPr>
              <a:t>Calidad</a:t>
            </a:r>
            <a:r>
              <a:rPr b="1" i="1" lang="es-ES" sz="900" spc="-1" strike="noStrike">
                <a:solidFill>
                  <a:srgbClr val="000000"/>
                </a:solidFill>
                <a:latin typeface="Arial"/>
              </a:rPr>
              <a:t>: Es lo que el cliente de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900" spc="-1" strike="noStrike">
                <a:solidFill>
                  <a:srgbClr val="000000"/>
                </a:solidFill>
                <a:latin typeface="Arial"/>
              </a:rPr>
              <a:t>sea. Tiene que ver con acort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900" spc="-1" strike="noStrike">
                <a:solidFill>
                  <a:srgbClr val="000000"/>
                </a:solidFill>
                <a:latin typeface="Arial"/>
              </a:rPr>
              <a:t>en lo posible  la brecha entr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900" spc="-1" strike="noStrike">
                <a:solidFill>
                  <a:srgbClr val="000000"/>
                </a:solidFill>
                <a:latin typeface="Arial"/>
              </a:rPr>
              <a:t>Servicio </a:t>
            </a:r>
            <a:r>
              <a:rPr b="1" i="1" lang="es-ES" sz="900" spc="-1" strike="noStrike" u="sng">
                <a:solidFill>
                  <a:srgbClr val="000000"/>
                </a:solidFill>
                <a:uFillTx/>
                <a:latin typeface="Arial"/>
              </a:rPr>
              <a:t>esperado y experimen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900" spc="-1" strike="noStrike" u="sng">
                <a:solidFill>
                  <a:srgbClr val="000000"/>
                </a:solidFill>
                <a:uFillTx/>
                <a:latin typeface="Arial"/>
              </a:rPr>
              <a:t>tado</a:t>
            </a:r>
            <a:r>
              <a:rPr b="1" i="1" lang="es-ES" sz="900" spc="-1" strike="noStrike">
                <a:solidFill>
                  <a:srgbClr val="000000"/>
                </a:solidFill>
                <a:latin typeface="Arial"/>
              </a:rPr>
              <a:t>. Se deben construir dimensiones:  </a:t>
            </a:r>
            <a:r>
              <a:rPr b="1" i="1" lang="es-ES" sz="900" spc="-1" strike="noStrike" u="sng">
                <a:solidFill>
                  <a:srgbClr val="000000"/>
                </a:solidFill>
                <a:uFillTx/>
                <a:latin typeface="Arial"/>
              </a:rPr>
              <a:t>Empatía,</a:t>
            </a:r>
            <a:r>
              <a:rPr b="1" i="1" lang="es-E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900" spc="-1" strike="noStrike" u="sng">
                <a:solidFill>
                  <a:srgbClr val="000000"/>
                </a:solidFill>
                <a:uFillTx/>
                <a:latin typeface="Arial"/>
              </a:rPr>
              <a:t>actitud responsiva, credibilidad</a:t>
            </a:r>
            <a:r>
              <a:rPr b="1" i="1" lang="es-ES" sz="9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3919680"/>
            <a:ext cx="66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84360" y="242100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11280" y="465300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84720" y="357336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59640" y="2492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59640" y="4653000"/>
            <a:ext cx="433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76360" y="335772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028000" y="3357720"/>
            <a:ext cx="0" cy="50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1T03:08:41Z</dcterms:created>
  <dc:creator>Jorge Gatto</dc:creator>
  <dc:description/>
  <dc:language>en-US</dc:language>
  <cp:lastModifiedBy>Jorge Gatto</cp:lastModifiedBy>
  <dcterms:modified xsi:type="dcterms:W3CDTF">2011-09-24T15:26:01Z</dcterms:modified>
  <cp:revision>30</cp:revision>
  <dc:subject/>
  <dc:title>Diapositiva 1</dc:title>
</cp:coreProperties>
</file>