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1392-C1C7-4369-A3FC-578E0C23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2382-55BB-4F2F-A786-DC2EED38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19C2-EDD9-421D-BDB0-702E62E1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F438-2BC3-4730-8046-25CD626F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1CC2-88E7-4E4E-8191-26EE5A46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ACBC-DF93-4AD2-B911-22802F2C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F66-7577-48FD-95C7-9747493D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BCB9-D06F-49AD-8BBD-AF5618FB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1B6-0858-411C-8236-AD0FC5A4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E679-8081-4542-BB0B-4F05AB2E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BDE1-D237-4807-9649-DF11BC2F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B5A4-AEB3-4E07-84BF-C9578A13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C1C7-851D-493C-BA5F-CD23E5A5499E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364000" y="6453360"/>
            <a:ext cx="3529080" cy="1443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7236000" y="6165720"/>
            <a:ext cx="1584000" cy="1447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AR" sz="4400" spc="-1" strike="noStrike">
                <a:solidFill>
                  <a:srgbClr val="000000"/>
                </a:solidFill>
                <a:latin typeface="Calibri"/>
              </a:rPr>
              <a:t>La Importancia de la Conversación Intern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2 Subtítulo"/>
          <p:cNvSpPr/>
          <p:nvPr/>
        </p:nvSpPr>
        <p:spPr>
          <a:xfrm>
            <a:off x="1258920" y="4292640"/>
            <a:ext cx="69134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898989"/>
                </a:solidFill>
                <a:latin typeface="Calibri"/>
              </a:rPr>
              <a:t>C.P.C.E.C.A.B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898989"/>
                </a:solidFill>
                <a:latin typeface="Calibri"/>
              </a:rPr>
              <a:t>18 de Agosto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5364000" y="6453360"/>
            <a:ext cx="3529080" cy="1443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236000" y="6165720"/>
            <a:ext cx="1584000" cy="1447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 Título"/>
          <p:cNvSpPr/>
          <p:nvPr/>
        </p:nvSpPr>
        <p:spPr>
          <a:xfrm>
            <a:off x="611280" y="549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Calibri"/>
              </a:rPr>
              <a:t>El diálogo de Voces en las       Relaciones Interpersona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2 Subtítulo"/>
          <p:cNvSpPr/>
          <p:nvPr/>
        </p:nvSpPr>
        <p:spPr>
          <a:xfrm>
            <a:off x="324000" y="1268280"/>
            <a:ext cx="835164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70c0"/>
                </a:solidFill>
                <a:latin typeface="Calibri"/>
                <a:ea typeface="Arial"/>
              </a:rPr>
              <a:t> “</a:t>
            </a:r>
            <a:r>
              <a:rPr b="1" lang="es-AR" sz="2400" spc="-1" strike="noStrike">
                <a:solidFill>
                  <a:srgbClr val="0070c0"/>
                </a:solidFill>
                <a:latin typeface="Calibri"/>
                <a:ea typeface="Arial"/>
              </a:rPr>
              <a:t>Dinámica de vínculos”           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término que se utiliza para designar el vínculo entre padres e hijos,  sobre el cuál se basan el resto de las relaciones que creamos con los otro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Cada vez que interactuamos con los demás, deberíamos estar decidiendo que responder y có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Muchas veces respondemos automáticamente sin saber desde dónde estamos respondiendo y  generalmente, ese lugar desde el cual respondemos, puede ser el que menos nos benefi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6 Flecha derecha"/>
          <p:cNvSpPr/>
          <p:nvPr/>
        </p:nvSpPr>
        <p:spPr>
          <a:xfrm>
            <a:off x="4097160" y="1628640"/>
            <a:ext cx="97956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364000" y="6453360"/>
            <a:ext cx="3529080" cy="1443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7236000" y="6165720"/>
            <a:ext cx="1584000" cy="1447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Dialogo Voz_patron relacional 2"/>
          <p:cNvPicPr/>
          <p:nvPr/>
        </p:nvPicPr>
        <p:blipFill>
          <a:blip r:embed="rId1"/>
          <a:stretch/>
        </p:blipFill>
        <p:spPr>
          <a:xfrm>
            <a:off x="324000" y="692280"/>
            <a:ext cx="8569080" cy="5921280"/>
          </a:xfrm>
          <a:prstGeom prst="rect">
            <a:avLst/>
          </a:prstGeom>
          <a:ln w="0">
            <a:noFill/>
          </a:ln>
        </p:spPr>
      </p:pic>
      <p:sp>
        <p:nvSpPr>
          <p:cNvPr id="121" name="1 Título"/>
          <p:cNvSpPr/>
          <p:nvPr/>
        </p:nvSpPr>
        <p:spPr>
          <a:xfrm>
            <a:off x="755640" y="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Calibri"/>
              </a:rPr>
              <a:t>Dinámica de Vínculo Bás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364000" y="6453360"/>
            <a:ext cx="3529080" cy="1443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7236000" y="6165720"/>
            <a:ext cx="1584000" cy="1447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348000" y="1197000"/>
            <a:ext cx="2087640" cy="100800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348000" y="1197000"/>
            <a:ext cx="20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inámica de Vínculo Neg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2771640" y="2205000"/>
            <a:ext cx="3745080" cy="647640"/>
          </a:xfrm>
          <a:prstGeom prst="rightArrow">
            <a:avLst>
              <a:gd name="adj1" fmla="val 50000"/>
              <a:gd name="adj2" fmla="val 144566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708360" y="234936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lej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3"/>
          <p:cNvSpPr/>
          <p:nvPr/>
        </p:nvSpPr>
        <p:spPr>
          <a:xfrm>
            <a:off x="2627280" y="2852640"/>
            <a:ext cx="3816360" cy="647640"/>
          </a:xfrm>
          <a:prstGeom prst="leftArrow">
            <a:avLst>
              <a:gd name="adj1" fmla="val 50000"/>
              <a:gd name="adj2" fmla="val 147318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419640" y="2997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oco Involuc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5"/>
          <p:cNvSpPr/>
          <p:nvPr/>
        </p:nvSpPr>
        <p:spPr>
          <a:xfrm>
            <a:off x="324000" y="2133720"/>
            <a:ext cx="1944360" cy="136656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611280" y="263700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3"/>
          <p:cNvSpPr/>
          <p:nvPr/>
        </p:nvSpPr>
        <p:spPr>
          <a:xfrm rot="3195000">
            <a:off x="1547640" y="3860640"/>
            <a:ext cx="2663640" cy="936720"/>
          </a:xfrm>
          <a:prstGeom prst="leftArrow">
            <a:avLst>
              <a:gd name="adj1" fmla="val 50000"/>
              <a:gd name="adj2" fmla="val 71090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4"/>
          <p:cNvSpPr/>
          <p:nvPr/>
        </p:nvSpPr>
        <p:spPr>
          <a:xfrm rot="8045400">
            <a:off x="4932000" y="3860280"/>
            <a:ext cx="2663640" cy="936720"/>
          </a:xfrm>
          <a:prstGeom prst="leftArrow">
            <a:avLst>
              <a:gd name="adj1" fmla="val 50000"/>
              <a:gd name="adj2" fmla="val 71090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25"/>
          <p:cNvSpPr/>
          <p:nvPr/>
        </p:nvSpPr>
        <p:spPr>
          <a:xfrm>
            <a:off x="3635280" y="5229360"/>
            <a:ext cx="1944720" cy="136656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6"/>
          <p:cNvSpPr/>
          <p:nvPr/>
        </p:nvSpPr>
        <p:spPr>
          <a:xfrm>
            <a:off x="6948360" y="2060640"/>
            <a:ext cx="1944720" cy="136692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7236000" y="25653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M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3995640" y="5661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Hi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9"/>
          <p:cNvSpPr/>
          <p:nvPr/>
        </p:nvSpPr>
        <p:spPr>
          <a:xfrm rot="13975200">
            <a:off x="1042560" y="4507920"/>
            <a:ext cx="2663640" cy="936720"/>
          </a:xfrm>
          <a:prstGeom prst="leftArrow">
            <a:avLst>
              <a:gd name="adj1" fmla="val 50000"/>
              <a:gd name="adj2" fmla="val 71090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0"/>
          <p:cNvSpPr/>
          <p:nvPr/>
        </p:nvSpPr>
        <p:spPr>
          <a:xfrm rot="18694800">
            <a:off x="5579640" y="4436640"/>
            <a:ext cx="2664000" cy="936720"/>
          </a:xfrm>
          <a:prstGeom prst="leftArrow">
            <a:avLst>
              <a:gd name="adj1" fmla="val 50000"/>
              <a:gd name="adj2" fmla="val 71099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1"/>
          <p:cNvSpPr/>
          <p:nvPr/>
        </p:nvSpPr>
        <p:spPr>
          <a:xfrm rot="3206400">
            <a:off x="2148480" y="431748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Frí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2"/>
          <p:cNvSpPr/>
          <p:nvPr/>
        </p:nvSpPr>
        <p:spPr>
          <a:xfrm rot="3093000">
            <a:off x="1356120" y="46782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is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3"/>
          <p:cNvSpPr/>
          <p:nvPr/>
        </p:nvSpPr>
        <p:spPr>
          <a:xfrm rot="18486600">
            <a:off x="6207840" y="446364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t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4"/>
          <p:cNvSpPr/>
          <p:nvPr/>
        </p:nvSpPr>
        <p:spPr>
          <a:xfrm rot="18871200">
            <a:off x="5194800" y="424152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mpromet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7"/>
          <p:cNvSpPr/>
          <p:nvPr/>
        </p:nvSpPr>
        <p:spPr>
          <a:xfrm>
            <a:off x="324000" y="5013360"/>
            <a:ext cx="1512720" cy="115092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8"/>
          <p:cNvSpPr/>
          <p:nvPr/>
        </p:nvSpPr>
        <p:spPr>
          <a:xfrm>
            <a:off x="324000" y="5084640"/>
            <a:ext cx="154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inámica de Vínculo Neg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1"/>
          <p:cNvSpPr/>
          <p:nvPr/>
        </p:nvSpPr>
        <p:spPr>
          <a:xfrm>
            <a:off x="7380360" y="4869000"/>
            <a:ext cx="1512720" cy="115092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2"/>
          <p:cNvSpPr/>
          <p:nvPr/>
        </p:nvSpPr>
        <p:spPr>
          <a:xfrm>
            <a:off x="7380360" y="4941720"/>
            <a:ext cx="154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inámica de Vínculo Posi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2 Título"/>
          <p:cNvSpPr/>
          <p:nvPr/>
        </p:nvSpPr>
        <p:spPr>
          <a:xfrm>
            <a:off x="0" y="0"/>
            <a:ext cx="91440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Calibri"/>
              </a:rPr>
              <a:t>Dinámica de Vínculos Positivos y Negativos en A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5364000" y="6453360"/>
            <a:ext cx="3529080" cy="1443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7236000" y="6165720"/>
            <a:ext cx="1584000" cy="1447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155" name="2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Calibri"/>
              </a:rPr>
              <a:t>Conciencia de los distintas                      Voces Involucr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5364000" y="6453360"/>
            <a:ext cx="3529080" cy="1443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7236000" y="6165720"/>
            <a:ext cx="1584000" cy="1447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160" name="2 Título"/>
          <p:cNvSpPr/>
          <p:nvPr/>
        </p:nvSpPr>
        <p:spPr>
          <a:xfrm>
            <a:off x="468360" y="-17136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Calibri"/>
              </a:rPr>
              <a:t>Proceso del Ego Consciente </a:t>
            </a:r>
            <a:br>
              <a:rPr sz="3600"/>
            </a:br>
            <a:r>
              <a:rPr b="1" lang="es-AR" sz="3600" spc="-1" strike="noStrike">
                <a:solidFill>
                  <a:srgbClr val="000000"/>
                </a:solidFill>
                <a:latin typeface="Calibri"/>
              </a:rPr>
              <a:t>en la Toma  de Decisi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0" y="981000"/>
            <a:ext cx="2771640" cy="1224000"/>
          </a:xfrm>
          <a:prstGeom prst="cloudCallout">
            <a:avLst>
              <a:gd name="adj1" fmla="val -14203"/>
              <a:gd name="adj2" fmla="val 130546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250920" y="1125360"/>
            <a:ext cx="2376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ma de Conscienc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Veo lo que está sucedie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2411280" y="1125360"/>
            <a:ext cx="2374920" cy="2951280"/>
          </a:xfrm>
          <a:prstGeom prst="cloudCallout">
            <a:avLst>
              <a:gd name="adj1" fmla="val -1805"/>
              <a:gd name="adj2" fmla="val 77166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2556000" y="1557360"/>
            <a:ext cx="2087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oces Desoí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Ohh! a quien le importa llegar, cuando  es genial sentir el vient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1"/>
          <p:cNvSpPr/>
          <p:nvPr/>
        </p:nvSpPr>
        <p:spPr>
          <a:xfrm>
            <a:off x="4500720" y="1341360"/>
            <a:ext cx="2447640" cy="1800360"/>
          </a:xfrm>
          <a:prstGeom prst="wedgeEllipseCallout">
            <a:avLst>
              <a:gd name="adj1" fmla="val -45328"/>
              <a:gd name="adj2" fmla="val 136685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4500720" y="1557360"/>
            <a:ext cx="2520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oces Primari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nda a la derecha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sta es la ruta más ráp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6948360" y="1197000"/>
            <a:ext cx="2195640" cy="2592360"/>
          </a:xfrm>
          <a:prstGeom prst="wedgeRoundRectCallout">
            <a:avLst>
              <a:gd name="adj1" fmla="val -104953"/>
              <a:gd name="adj2" fmla="val 86925"/>
              <a:gd name="adj3" fmla="val 16667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7020000" y="1268280"/>
            <a:ext cx="2124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ceso del Ego Consc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legaremos a la cena seguros, tomando la ruta lenta, así disfrutamos del paisa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5364000" y="6453360"/>
            <a:ext cx="3529080" cy="1443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236000" y="6165720"/>
            <a:ext cx="1584000" cy="1447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1 Título"/>
          <p:cNvSpPr/>
          <p:nvPr/>
        </p:nvSpPr>
        <p:spPr>
          <a:xfrm>
            <a:off x="457200" y="274680"/>
            <a:ext cx="82184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Calibri"/>
              </a:rPr>
              <a:t>Beneficios de la Toma de Decisiones desde el Ego Consci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2 Marcador de contenido"/>
          <p:cNvSpPr/>
          <p:nvPr/>
        </p:nvSpPr>
        <p:spPr>
          <a:xfrm>
            <a:off x="468360" y="1197000"/>
            <a:ext cx="82803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Sentimos, pensamos y obramos con conocimiento de nuestros actos y de su repercu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Tomamos conciencia de nuestros aspectos contrapue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registramos nuestros conflictos inter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definimos rumbo para ponernos en ac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Integramos el  “</a:t>
            </a:r>
            <a:r>
              <a:rPr b="0" i="1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siento”, "pienso”, “digo” y “hago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” y hacemos un balance int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Reconocemos  y aceptamos nuestros distintos aspectos para mejorar las relaciones con nosotros y con los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364000" y="6453360"/>
            <a:ext cx="3529080" cy="1443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7236000" y="6165720"/>
            <a:ext cx="1584000" cy="1447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Calibri"/>
              </a:rPr>
              <a:t>La importancia de la Conversación Inter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Marcador de contenido"/>
          <p:cNvSpPr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stra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conversación interna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cide en todos los aspectos de nuestro accionar, tanto de nuestra vida profesional como pers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 me fijo un propósito y tengo un plan, debo estar atento a la conversación interna para darme cuenta, si me encamina a llevarlo a cabo o,  si me sabote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ideal sería poder elegir la adecuada conversación interna que me encamine al logro de mis resul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Las empresas se construyen a través de conversaciones grupales y muchas veces lo acordado en una reunión, luego se diluye en los hechos, dado que la conversación interna de cada uno no acompañ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364000" y="6453360"/>
            <a:ext cx="3529080" cy="1443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236000" y="6165720"/>
            <a:ext cx="1584000" cy="1447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Calibri"/>
              </a:rPr>
              <a:t>La importancia de la Conversación Inter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 Marcador de contenido"/>
          <p:cNvSpPr/>
          <p:nvPr/>
        </p:nvSpPr>
        <p:spPr>
          <a:xfrm>
            <a:off x="539640" y="1484280"/>
            <a:ext cx="822960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te un conflicto o una crisis, tenemos una propensión a buscar las respuestas hacia fu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 veces estos conflictos o crisis tienen su origen en una  Conversación In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xisten varias formas de abordar y analizar la Conversación Interna.  Entre otras, la Programación Neurolingüística,  la Ontología del Lenguaje y el Diálogo de Vo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Nosotras nos vamos a referir a ésta última técnica, el Diálogo de Voz, desarrollado por Ph.D. Hal y Ph.D. Sidra St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5364000" y="6453360"/>
            <a:ext cx="3529080" cy="1443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7236000" y="6165720"/>
            <a:ext cx="1584000" cy="1447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 Título"/>
          <p:cNvSpPr/>
          <p:nvPr/>
        </p:nvSpPr>
        <p:spPr>
          <a:xfrm>
            <a:off x="468360" y="0"/>
            <a:ext cx="82915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Calibri"/>
              </a:rPr>
              <a:t>El Diálogo de Vo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 Marcador de contenido"/>
          <p:cNvSpPr/>
          <p:nvPr/>
        </p:nvSpPr>
        <p:spPr>
          <a:xfrm>
            <a:off x="395280" y="765000"/>
            <a:ext cx="84978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Sistema que permite acceder fácilmente a los distintos niveles de aspectos de la person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La toma de conciencia es un</a:t>
            </a:r>
            <a:r>
              <a:rPr b="0" i="1" lang="es-AR" sz="2400" spc="-1" strike="noStrike">
                <a:solidFill>
                  <a:srgbClr val="000000"/>
                </a:solidFill>
                <a:latin typeface="Calibri"/>
              </a:rPr>
              <a:t> “Proceso”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 que va evolucionando a lo largo de la vi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Darse cuenta de los distintos aspectos que conforman nuestra personalidad.  Ser testigos de nuestra vida sin  evaluar, juzgar, ni intentar controlar los resultados. Observar objetiv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Dar espacio para escuchar y experimentar  lo que las diferentes voces internas tienen para decir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Desarrollar un “ego consciente” que gestione la información recibida de las distintas voces para la toma real de decisiones conducentes en la vid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5364000" y="6453360"/>
            <a:ext cx="3529080" cy="1443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7236000" y="6165720"/>
            <a:ext cx="1584000" cy="1447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4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Calibri"/>
              </a:rPr>
              <a:t>Elementos clave del Diálogo de Vo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2 Marcador de contenido"/>
          <p:cNvSpPr/>
          <p:nvPr/>
        </p:nvSpPr>
        <p:spPr>
          <a:xfrm>
            <a:off x="539640" y="1197000"/>
            <a:ext cx="4402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Cada voz tiene su prop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Visión de la re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Experi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Recuerdos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Ideas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Características Físicas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5 Marcador de contenido"/>
          <p:cNvSpPr/>
          <p:nvPr/>
        </p:nvSpPr>
        <p:spPr>
          <a:xfrm>
            <a:off x="5003640" y="2492280"/>
            <a:ext cx="38134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Sent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Neces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Función espec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Estructura defin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4 Título"/>
          <p:cNvSpPr/>
          <p:nvPr/>
        </p:nvSpPr>
        <p:spPr>
          <a:xfrm>
            <a:off x="53964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Todas las voces </a:t>
            </a:r>
            <a:r>
              <a:rPr b="0" i="1" lang="es-AR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son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 necesarias en su justo equilibrio y a  esto apunta esta téc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5364000" y="6453360"/>
            <a:ext cx="3529080" cy="1443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7236000" y="6165720"/>
            <a:ext cx="1584000" cy="1447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 Título"/>
          <p:cNvSpPr/>
          <p:nvPr/>
        </p:nvSpPr>
        <p:spPr>
          <a:xfrm>
            <a:off x="45720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Calibri"/>
              </a:rPr>
              <a:t>Desarrollo de la Person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2 Marcador de contenido"/>
          <p:cNvSpPr/>
          <p:nvPr/>
        </p:nvSpPr>
        <p:spPr>
          <a:xfrm>
            <a:off x="468360" y="1312920"/>
            <a:ext cx="828036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Nacemos indefensos, dependientes y vulner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Venimos con características propias que nos hacen</a:t>
            </a:r>
            <a:r>
              <a:rPr b="1" i="1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 únicos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respecto de los dem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A lo largo de la vida vamos desarrollando un amplio espectro de vo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Aprendemos que hay conductas que complacen, y otras que displacen a nuestro ento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Ciertos aspectos de la personalidad se desarrollan altamente (voces primari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Otros aspectos son ignorados, negados o se ocultan profundamente (voces desoíd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5364000" y="6453360"/>
            <a:ext cx="3529080" cy="1443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7236000" y="6165720"/>
            <a:ext cx="1584000" cy="1447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 Título"/>
          <p:cNvSpPr/>
          <p:nvPr/>
        </p:nvSpPr>
        <p:spPr>
          <a:xfrm>
            <a:off x="468360" y="333360"/>
            <a:ext cx="80740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Calibri"/>
              </a:rPr>
              <a:t>Voces Prima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2 Marcador de contenido"/>
          <p:cNvSpPr/>
          <p:nvPr/>
        </p:nvSpPr>
        <p:spPr>
          <a:xfrm>
            <a:off x="539640" y="1125360"/>
            <a:ext cx="83520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Están normalmente al mando de nuestra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Las desarrollamos para protegernos, lograr aceptación y amor del entorno, y para lograr po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Nos son familiares, nos hacen sentir cómodos y segu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Se agrupan y funcionan de manera asoci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Estas voces están influidas por la cultura y las costumbres de la comu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5364000" y="6453360"/>
            <a:ext cx="3529080" cy="1443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7236000" y="6165720"/>
            <a:ext cx="1584000" cy="1447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1 Título"/>
          <p:cNvSpPr/>
          <p:nvPr/>
        </p:nvSpPr>
        <p:spPr>
          <a:xfrm>
            <a:off x="457200" y="274680"/>
            <a:ext cx="82915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Calibri"/>
              </a:rPr>
              <a:t>Voces Desoí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2 Marcador de contenido"/>
          <p:cNvSpPr/>
          <p:nvPr/>
        </p:nvSpPr>
        <p:spPr>
          <a:xfrm>
            <a:off x="468360" y="907920"/>
            <a:ext cx="82072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Generalmente son aspectos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negamos o rechazamos de nosotros y/o de los otr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o aquellos que sentimos que carecemos y por lo tanto admiramos mucho en los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Generalmente son opuestas a nuestras voces prima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Normalmente aparecen cuando actuamos en forma reactiva, y hasta a veces, nos toman por sorpresa  a nosotros mis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5364000" y="6453360"/>
            <a:ext cx="3529080" cy="1443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7236000" y="6165720"/>
            <a:ext cx="1584000" cy="1447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3203640" y="2133720"/>
            <a:ext cx="2736720" cy="2735280"/>
          </a:xfrm>
          <a:prstGeom prst="ellipse">
            <a:avLst/>
          </a:prstGeom>
          <a:solidFill>
            <a:srgbClr val="dc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6"/>
          <p:cNvSpPr/>
          <p:nvPr/>
        </p:nvSpPr>
        <p:spPr>
          <a:xfrm>
            <a:off x="2843280" y="2133720"/>
            <a:ext cx="1081080" cy="1150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843280" y="2349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fec-cion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8"/>
          <p:cNvSpPr/>
          <p:nvPr/>
        </p:nvSpPr>
        <p:spPr>
          <a:xfrm>
            <a:off x="3492360" y="3068640"/>
            <a:ext cx="1079640" cy="1081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492360" y="3429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mo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0"/>
          <p:cNvSpPr/>
          <p:nvPr/>
        </p:nvSpPr>
        <p:spPr>
          <a:xfrm>
            <a:off x="5508720" y="3429000"/>
            <a:ext cx="1009440" cy="1081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5580000" y="3573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cui-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2"/>
          <p:cNvSpPr/>
          <p:nvPr/>
        </p:nvSpPr>
        <p:spPr>
          <a:xfrm>
            <a:off x="4788000" y="1844640"/>
            <a:ext cx="936360" cy="1152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4643280" y="1989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-a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4"/>
          <p:cNvSpPr/>
          <p:nvPr/>
        </p:nvSpPr>
        <p:spPr>
          <a:xfrm>
            <a:off x="4356000" y="3068640"/>
            <a:ext cx="1079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4356000" y="33577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dre M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6"/>
          <p:cNvSpPr/>
          <p:nvPr/>
        </p:nvSpPr>
        <p:spPr>
          <a:xfrm>
            <a:off x="4788000" y="3860640"/>
            <a:ext cx="1079280" cy="1081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4859280" y="4149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e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8"/>
          <p:cNvSpPr/>
          <p:nvPr/>
        </p:nvSpPr>
        <p:spPr>
          <a:xfrm>
            <a:off x="3564000" y="1844640"/>
            <a:ext cx="1079280" cy="1079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3492360" y="220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ohem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0"/>
          <p:cNvSpPr/>
          <p:nvPr/>
        </p:nvSpPr>
        <p:spPr>
          <a:xfrm>
            <a:off x="2484360" y="3068640"/>
            <a:ext cx="1081080" cy="12254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2484360" y="3573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be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2"/>
          <p:cNvSpPr/>
          <p:nvPr/>
        </p:nvSpPr>
        <p:spPr>
          <a:xfrm>
            <a:off x="4138560" y="2349360"/>
            <a:ext cx="1009800" cy="10065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4140360" y="256536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la-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4"/>
          <p:cNvSpPr/>
          <p:nvPr/>
        </p:nvSpPr>
        <p:spPr>
          <a:xfrm>
            <a:off x="5148360" y="2565360"/>
            <a:ext cx="1079280" cy="1079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5219640" y="2924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í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6"/>
          <p:cNvSpPr/>
          <p:nvPr/>
        </p:nvSpPr>
        <p:spPr>
          <a:xfrm>
            <a:off x="4067280" y="4076640"/>
            <a:ext cx="1009440" cy="1081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7"/>
          <p:cNvSpPr/>
          <p:nvPr/>
        </p:nvSpPr>
        <p:spPr>
          <a:xfrm>
            <a:off x="3995640" y="4437000"/>
            <a:ext cx="12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8"/>
          <p:cNvSpPr/>
          <p:nvPr/>
        </p:nvSpPr>
        <p:spPr>
          <a:xfrm>
            <a:off x="3130560" y="4003560"/>
            <a:ext cx="1009800" cy="1008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3059280" y="4292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iña Ni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3T03:45:22Z</dcterms:created>
  <dc:creator>Laura</dc:creator>
  <dc:description/>
  <dc:language>en-US</dc:language>
  <cp:lastModifiedBy>mcalvarez</cp:lastModifiedBy>
  <dcterms:modified xsi:type="dcterms:W3CDTF">2011-08-25T23:33:24Z</dcterms:modified>
  <cp:revision>134</cp:revision>
  <dc:subject/>
  <dc:title>Diapositiva 1</dc:title>
</cp:coreProperties>
</file>