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D453-AE44-4952-B27D-9929DC071F7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FC4C-7881-43E0-8317-8C9412BD9BA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64B-A8BE-4FD3-BB58-05B25FB3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DDB-5FE6-47CD-9C53-B1055839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867-A056-4A86-BF0C-3AC510B5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A06-BAD1-4291-A25E-6D0396D8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A1AF-72AB-493E-9895-63C216AA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AE91-5E8C-490D-9609-E21C8373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CECB-1931-44D1-9EBF-14CDD2FE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BD8B-2A3A-403F-A0B2-CE268F82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81B8-2202-443E-B457-4418C129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9FF7-BE11-43AD-80F7-B868558F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9295-492E-4FD3-B943-1484F633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1FF-5EFF-46F0-862A-2F655E8F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DA3E-1F94-4A31-9652-6D1B5172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2BB-2BAC-4356-B5E1-BFABC22C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AAF3-D3D7-4082-89E8-581BFBCC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34B9-345D-4DFF-A556-1BE498CB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BD2D-BBAA-4B13-AC2A-87D1FBB3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655-2B19-4F59-A04F-B5706701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A9F-F328-46EB-B70A-7193D2F1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935-2B55-4FC0-8258-BF9CA743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63A-2567-4AA8-977E-48205FCD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016-0C2A-437A-B6B2-B485A9E1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DEB-6D31-4524-A6B1-F7F66926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6B6-7095-4552-984D-962889B8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2EC8-0F92-4886-8F97-77086B179AB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3732-EE8F-42BD-BA5F-08BC0D884DC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 importancia de los Órganos de Administración y gobierno en las Sociedades Comercial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46240" y="409536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. Hugo E. Belárdez Améndo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CLAS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840276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ahoma"/>
              </a:rPr>
              <a:t>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-  Ordinarias</a:t>
            </a: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xtraordinarias</a:t>
            </a: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ahoma"/>
              </a:rPr>
              <a:t>Especiales</a:t>
            </a: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= cuando se debe adoptar resolu-ciones que afecten los derechos de una cl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de acciones, se requiere consentimiento o ratificación de esta cl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Se rige por las normas de la asamblea ordina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68360" y="6381720"/>
            <a:ext cx="83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amblea ordin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dos cont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gana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moria e informe del sínd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ación, remoción, remuneración y responsabilidades de los directores, síndicos y miembros del consejo de vigila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mas de gestión que le corresponde resolver por disposición legal o estatuta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o de capital conforme al art. 188 de la ley 1955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mas diversos que sometan a su decisión el directorio, la sindicatura o el consejo de vigila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amblea Extraordin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30508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o de capital, salvo el supuesto del art. 188 de la ley 19550. Solo podrá delegar en el directorio la época de emisión, forma y condiciones de pa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ucción o reintegro de ca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cate, reembolso y amortización de ac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sión, transformación, disolución y escisión de la socie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mitación o suspensión del derecho de prefer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isión de bonos y debentures y su conversión en ac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voca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irectorio y sínd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os previstos por la l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 pedido del accionistas que representen por lo menos el 5 % del capital so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Juez o autoridad de contral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e la omisión de hacerlo los directores o sínd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vocatorias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ublicaciones            5 días en el Boletín Oficial, las sociedades que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refiere el art. 299 de la L.S.C. deben publicar además en el diari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 mayor circulación general del paí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n caso de segunda convocatoria deben hacerse publicaciones por 3 día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nticipación = de 10 a 30 dí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sambleas en segunda convocatoria = mínimo de 8 día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in publicación : Asambleas unánim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971800" y="198108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resentación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60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Tahoma"/>
              </a:rPr>
              <a:t>Los socios pueden ser representados en Asamble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333399"/>
                </a:solidFill>
                <a:uFillTx/>
                <a:latin typeface="Tahoma"/>
              </a:rPr>
              <a:t>Excepciones</a:t>
            </a:r>
            <a:r>
              <a:rPr b="1" lang="es-AR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Tahoma"/>
              </a:rPr>
              <a:t>Direct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Tahoma"/>
              </a:rPr>
              <a:t>Sínd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Tahoma"/>
              </a:rPr>
              <a:t>Miembros del Consejo de vigila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Tahoma"/>
              </a:rPr>
              <a:t>Ger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Tahoma"/>
              </a:rPr>
              <a:t>Demás empleados de la socie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68360" y="6381720"/>
            <a:ext cx="83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4360" y="6453360"/>
            <a:ext cx="83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uórum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60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333399"/>
                </a:solidFill>
                <a:uFillTx/>
                <a:latin typeface="Tahoma"/>
              </a:rPr>
              <a:t>Asambleas Ordinari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Primera convocatoria = mayoría de acciones con derecho a vo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Segunda Convocatoria: cualquiera sea el número de acciones pres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333399"/>
                </a:solidFill>
                <a:uFillTx/>
                <a:latin typeface="Tahoma"/>
              </a:rPr>
              <a:t>Asambleas Extraordinarias:</a:t>
            </a:r>
            <a:r>
              <a:rPr b="0" lang="es-MX" sz="2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-     Primera convocatoria = 60 % de acciones con derecho a voto, si el estatuto no fija quórum may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Segunda Convocatoria: 30 % de acciones con derecho a voto, si el estatuto no fija quórum mayor o menor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68360" y="6381720"/>
            <a:ext cx="83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4360" y="6597720"/>
            <a:ext cx="83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olucion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60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Impugnación = por ante el juez del domicilio de la sociedad dentro de los 3 días de clausurada la asambl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Sujeto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Accionistas que no votaron favorablem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Aus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Accionistas presentes que votaron favorablemente           si su voto es anulable por vicio de la volunt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Síndicos, directores, miembros del consejo de vigilancia o autoridad de contral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* Responsabilidad accionistas que votaron favorablemente decisiones nulas =       responden ilimitada y solidariamente de las consecuencias de las mism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333399"/>
                </a:solidFill>
                <a:latin typeface="Tahoma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6381720"/>
            <a:ext cx="83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84360" y="6597720"/>
            <a:ext cx="83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6227640" y="3500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3:20:56Z</dcterms:created>
  <dc:creator>Hugo E. Belárdez Améndola</dc:creator>
  <dc:description/>
  <dc:language>en-US</dc:language>
  <cp:lastModifiedBy>hbelardez</cp:lastModifiedBy>
  <dcterms:modified xsi:type="dcterms:W3CDTF">2011-08-05T16:31:58Z</dcterms:modified>
  <cp:revision>53</cp:revision>
  <dc:subject/>
  <dc:title>Asambleas</dc:title>
</cp:coreProperties>
</file>