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AB1-3BA2-4601-BE7E-B0E6FA39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345-898B-4AC3-AA04-1C926B42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360-2BAF-4EBF-BC86-8722BEBB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586-7FF7-472F-9BCB-655205AF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99F-C013-4304-A330-CD24E82C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097-FAD1-4175-ABD1-5ED6002B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8D1-60E1-4BD0-B236-6D0C03CC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244-EE81-4CCE-AF33-32CB1863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59960"/>
            <a:ext cx="822960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584-21C9-4E0E-BA4E-E2960693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741-B05E-43F6-80AC-7DFA7178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45E-8A11-4ECF-99DC-64DE8561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048-8095-467F-8957-E4C634FC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es-MX" sz="1000" spc="-1" strike="noStrike">
                <a:solidFill>
                  <a:srgbClr val="000000"/>
                </a:solidFill>
                <a:latin typeface="Constantia"/>
              </a:rPr>
              <a:t>OMÁN </a:t>
            </a:r>
            <a:r>
              <a:rPr b="1" lang="es-MX" sz="1200" spc="-1" strike="noStrike">
                <a:solidFill>
                  <a:srgbClr val="000000"/>
                </a:solidFill>
                <a:latin typeface="Constantia"/>
              </a:rPr>
              <a:t>H.</a:t>
            </a:r>
            <a:r>
              <a:rPr b="1" lang="es-MX" sz="1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s-MX" sz="1000" spc="-1" strike="noStrike">
                <a:solidFill>
                  <a:srgbClr val="000000"/>
                </a:solidFill>
                <a:latin typeface="Constantia"/>
              </a:rPr>
              <a:t>ER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95DA-29F9-45CD-9307-B3BD21031C97}" type="slidenum"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4617b"/>
                </a:solidFill>
                <a:latin typeface="Calibri"/>
              </a:rPr>
              <a:t>Funcionamiento del Directorio</a:t>
            </a:r>
            <a:br>
              <a:rPr sz="4800"/>
            </a:br>
            <a:r>
              <a:rPr b="1" lang="es-MX" sz="3600" spc="-1" strike="noStrike">
                <a:solidFill>
                  <a:srgbClr val="04617b"/>
                </a:solidFill>
                <a:latin typeface="Calibri"/>
              </a:rPr>
              <a:t>Obligaciones y responsabilidades</a:t>
            </a:r>
            <a:endParaRPr b="1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09 de agosto de 201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C.P.C.E.C.A.B.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OBLIGACIONES ORIENTADAS A LOS SOCIOS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3120" y="1515600"/>
            <a:ext cx="8445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buClr>
                <a:srgbClr val="ff99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rt. 30 - Sociedades por acciones solo pueden formar parte de sociedades por accion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ff99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rt. 31 - Limitación a participar en otras sociedades en exceso de sus reservas libres + el 50% del capital y reserva legal (excepto por dividendos en acciones o capitalizació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ff99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rt. 94 y 99 -  Notificar   causales   de   disolución. Ante causal de disolución solo pueden atender asuntos urgentes, debiendo adoptar medidas para su liquid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ff99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rt. 102 - Liquidación y disolu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ff99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rt. 183 - Actos cumplidos durante el período fundacional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buClr>
                <a:srgbClr val="ff99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xpresamente autorizados: responsabilidad solidaria hasta inscripció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buClr>
                <a:srgbClr val="ff99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NO autorizados: Responsabilidad solidaria aunque apruebe la asamble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ff99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rt. 215 - Registro de acciones y notificación a accionistas en caso de acciones escritur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REMUNERACIÓN EN EXCESO ART. 261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Supuestos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Ganancias reducidas o nu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Funciones técnico administrativas o 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comisiones espec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Condiciones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Punto en el orden del d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Aprobación por asamble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Asignación a quienes efectuaron las 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tareas espec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06208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25272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371628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41814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9880" y="4689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ATRIBUCIÓN DE RESPONSABILIDAD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268280"/>
            <a:ext cx="7920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istencia de d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utación al ejecutor del acto (cul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ducta anti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xo causal entre dicha conducta y sus ef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4724280"/>
            <a:ext cx="7704000" cy="1191240"/>
          </a:xfrm>
          <a:prstGeom prst="rect">
            <a:avLst/>
          </a:pr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reparación sólo procederá cuando exista “daño” y pueda ser “atribuido” como “consecuencia” de un acto “antijuríd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2709720"/>
            <a:ext cx="838836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13000"/>
            <a:ext cx="79930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responsabilidad es subjetiva, debiendo analizarse la  verdadera actuación de los involucrados (culp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No hay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responsabilidad”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culp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No hay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resarcimiento”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dañ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No es un régimen sancionatorio, no penaliza la conducta sino que procura únicamente la reparación del perjui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4028040" y="4332600"/>
            <a:ext cx="584280" cy="792000"/>
          </a:xfrm>
          <a:custGeom>
            <a:avLst/>
            <a:gdLst>
              <a:gd name="textAreaLeft" fmla="*/ 91080 w 584280"/>
              <a:gd name="textAreaRight" fmla="*/ 511560 w 5842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028040" y="2309040"/>
            <a:ext cx="584280" cy="792000"/>
          </a:xfrm>
          <a:custGeom>
            <a:avLst/>
            <a:gdLst>
              <a:gd name="textAreaLeft" fmla="*/ 91080 w 584280"/>
              <a:gd name="textAreaRight" fmla="*/ 511560 w 5842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Tipificación de conducta antijurídica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3120" y="1700280"/>
            <a:ext cx="8445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Deben”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obrar con  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lealtad y la diligencia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de un buen hombre de negoci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No deben”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violar las leyes ni el estatut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No deben”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cometer actos dolosos, abusar de las facultades, ni incurrir en culpa gra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"/>
          <p:cNvSpPr/>
          <p:nvPr/>
        </p:nvSpPr>
        <p:spPr>
          <a:xfrm>
            <a:off x="2053440" y="2781360"/>
            <a:ext cx="4746600" cy="3952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Responsables de mal desempeñ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2060640"/>
            <a:ext cx="504720" cy="576360"/>
          </a:xfrm>
          <a:prstGeom prst="downArrow">
            <a:avLst>
              <a:gd name="adj1" fmla="val 50000"/>
              <a:gd name="adj2" fmla="val 28549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50960" y="5084640"/>
            <a:ext cx="5973480" cy="113760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Responsables ilimitada y solidariamente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os daños y perjuicios  que resultaren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sus acciones u omis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1640" y="436572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759960"/>
            <a:ext cx="850716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PROHIBICIONES VINCULADAS AL CONCEPTO DE LEALTAD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3120" y="1700280"/>
            <a:ext cx="8445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Prohibición de votar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(art. 241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n asambleas en decisiones vinculadas  con la aprobación de sus actos de gestión ni en resoluciones atinentes a su responsabilidad o remoción con caus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Prohibición de contratar con la sociedad (art. 271)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salvo que sean de la actividad de la sociedad y en condiciones de mercad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n su defecto, aprobación del directorio o sindicatura (si no hay quorum), debiendo darse cuenta a la asamblea (Si no es aprobado por la asamblea es nulo, sin perjuicio de las responsabilidades de quienes interviniero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Interés contrario (art. 272):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deber de informar al Directorio y Síndico 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bstenerse de intervenir en la delibera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Actividades en competencia (art. 273)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salvo autorización expresa de la Asamble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0360" y="2133720"/>
            <a:ext cx="8388360" cy="27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ESQUEMA DE RESPONSABILIDAD SOCIETARIA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349360"/>
            <a:ext cx="842472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24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nción por mal desempeño – Art 2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nción de responsabilidad – Art 2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inción de responsabilidad respecto de la sociedad – Art 2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ión de responsabilidad – Art 276,277,278 y 2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ACCIÓN SOCIAL DE RESPONSABILIDAD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2932200" y="1611360"/>
            <a:ext cx="2701440" cy="3682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olución de Asamb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18400" y="3103560"/>
            <a:ext cx="2373840" cy="3682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moción Director/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94840" y="4103640"/>
            <a:ext cx="2840040" cy="3682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ión de respons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7800" y="5398920"/>
            <a:ext cx="2257920" cy="3682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alquier Accion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9960" y="1511280"/>
            <a:ext cx="1778040" cy="64260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ionista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opusie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4510080"/>
            <a:ext cx="2879640" cy="368280"/>
          </a:xfrm>
          <a:prstGeom prst="rect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eneficia a la soc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86240" y="245592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55840" y="2035080"/>
            <a:ext cx="397080" cy="368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97360" y="1625760"/>
            <a:ext cx="523800" cy="368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1800" y="354492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1800" y="4967280"/>
            <a:ext cx="15840" cy="317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940360" y="4532040"/>
            <a:ext cx="19447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12000" y="2671920"/>
            <a:ext cx="54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6760" y="1806480"/>
            <a:ext cx="0" cy="252108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36760" y="432756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336760" y="173520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549000" y="2720880"/>
            <a:ext cx="2592360" cy="642600"/>
          </a:xfrm>
          <a:prstGeom prst="rect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 meses para la promoción de la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4640" y="5407200"/>
            <a:ext cx="2808360" cy="368280"/>
          </a:xfrm>
          <a:prstGeom prst="rect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ncido plazo 3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53200" y="18064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2184480"/>
            <a:ext cx="1798560" cy="368280"/>
          </a:xfrm>
          <a:prstGeom prst="rect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875200"/>
            <a:ext cx="7993080" cy="550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n caso de quiebra o liquidación la acción de responsabilidad  será ejercida por el síndico o el liquidador y en su defecto por los acree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ACCIÓN INDIVIDUAL DE RESPONSABILIDAD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1789920" y="1652760"/>
            <a:ext cx="5353200" cy="70380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ionistas y terceros conservan siempre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iones individuales contra los dir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397320"/>
            <a:ext cx="2390760" cy="368280"/>
          </a:xfrm>
          <a:prstGeom prst="rect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eneficio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2684520"/>
            <a:ext cx="431640" cy="433440"/>
          </a:xfrm>
          <a:prstGeom prst="downArrow">
            <a:avLst>
              <a:gd name="adj1" fmla="val 50000"/>
              <a:gd name="adj2" fmla="val 25104"/>
            </a:avLst>
          </a:prstGeom>
          <a:solidFill>
            <a:srgbClr val="04617b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4052880"/>
            <a:ext cx="431640" cy="433440"/>
          </a:xfrm>
          <a:prstGeom prst="downArrow">
            <a:avLst>
              <a:gd name="adj1" fmla="val 50000"/>
              <a:gd name="adj2" fmla="val 25104"/>
            </a:avLst>
          </a:prstGeom>
          <a:solidFill>
            <a:srgbClr val="04617b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846680"/>
            <a:ext cx="2390760" cy="642600"/>
          </a:xfrm>
          <a:prstGeom prst="rect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juicio distinto al interés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ADMINISTRACIÓN Y REPRESENTACIÓN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773360"/>
            <a:ext cx="8136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Administrador: Funcionario con competencia en la gestión operativa de los negocios como también en la organización y dirección de la empresa y su representación ante terc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Función interna y exter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Condiciones para la validez del acto representativ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Que la sociedad actúe por intermedio del representante social instituido legal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Que el objeto del acto no sea notoriamente extraño al objet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280" y="1582560"/>
            <a:ext cx="6192720" cy="3682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Sujeto de derecho con el alcance fijado en la 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5106960"/>
            <a:ext cx="6192720" cy="3682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dministración y Re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976400"/>
            <a:ext cx="6192720" cy="64260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Lim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ley no ampara el ejercicio abusivo de los der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5492880"/>
            <a:ext cx="6192720" cy="642600"/>
          </a:xfrm>
          <a:prstGeom prst="rect">
            <a:avLst/>
          </a:prstGeom>
          <a:solidFill>
            <a:srgbClr val="0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Lim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ceder los límites de sus a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779560"/>
            <a:ext cx="431640" cy="433440"/>
          </a:xfrm>
          <a:prstGeom prst="downArrow">
            <a:avLst>
              <a:gd name="adj1" fmla="val 50000"/>
              <a:gd name="adj2" fmla="val 25104"/>
            </a:avLst>
          </a:prstGeom>
          <a:solidFill>
            <a:srgbClr val="04617b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72000" y="4507920"/>
            <a:ext cx="431640" cy="433080"/>
          </a:xfrm>
          <a:prstGeom prst="downArrow">
            <a:avLst>
              <a:gd name="adj1" fmla="val 50000"/>
              <a:gd name="adj2" fmla="val 25083"/>
            </a:avLst>
          </a:prstGeom>
          <a:solidFill>
            <a:srgbClr val="04617b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3357720"/>
            <a:ext cx="6337440" cy="64260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actuación de los representantes se atribuye directamente a las soci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6340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VÍNCULO ENTRE SOCIEDAD Y SU REPRESEN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DOCTRINA DEL ORGANO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Aspecto obje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onjunto de facultades, funciones y atribuciones que el ordenamiento legal le asigna y las partes acuerd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Aspecto subje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ersonas que lo integran y ejercen los atributos objetiv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Organizado de acuerdo con un orden normativo tal, que la voluntad del órgano será imputada a la socie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ASPECTOS ORGANIZATIVOS DE SU FUNCIONAMIENTO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5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Conformac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nstantia"/>
              </a:rPr>
              <a:t>Cantidad de miembro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nstantia"/>
              </a:rPr>
              <a:t>Elección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Duración en el carg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nstantia"/>
              </a:rPr>
              <a:t>Período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nstantia"/>
              </a:rPr>
              <a:t>Designación - renuncia - revocació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Domicil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Deliberacione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nstantia"/>
              </a:rPr>
              <a:t>Quórum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nstantia"/>
              </a:rPr>
              <a:t>Periodicidad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nstantia"/>
              </a:rPr>
              <a:t>Acta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Remunerac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Obligaciones fijadas por la LS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FRENTES EN QUE OPERAN LAS OBLIGACIONES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916280"/>
            <a:ext cx="8424720" cy="27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66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29304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bligacion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20560" y="2251080"/>
            <a:ext cx="133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Socieda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Socios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Tercer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43320" y="3065400"/>
            <a:ext cx="544320" cy="362160"/>
          </a:xfrm>
          <a:prstGeom prst="rightArrow">
            <a:avLst>
              <a:gd name="adj1" fmla="val 50000"/>
              <a:gd name="adj2" fmla="val 37575"/>
            </a:avLst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26600">
            <a:off x="2410920" y="3645000"/>
            <a:ext cx="505080" cy="358560"/>
          </a:xfrm>
          <a:prstGeom prst="rightArrow">
            <a:avLst>
              <a:gd name="adj1" fmla="val 50000"/>
              <a:gd name="adj2" fmla="val 35216"/>
            </a:avLst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9704000">
            <a:off x="2395440" y="2491920"/>
            <a:ext cx="505080" cy="360360"/>
          </a:xfrm>
          <a:prstGeom prst="rightArrow">
            <a:avLst>
              <a:gd name="adj1" fmla="val 50000"/>
              <a:gd name="adj2" fmla="val 35040"/>
            </a:avLst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226836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 puede actuar por si mi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mplir con estatuto, reglamento y disposiciones asamble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mplir con la 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OBLIGACIONES VINCULADAS CON LA ACTUACIÓN</a:t>
            </a:r>
            <a:br>
              <a:rPr sz="2400"/>
            </a:b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DE LOS CUERPOS COLEGIADOS</a:t>
            </a:r>
            <a:endParaRPr b="1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484280"/>
            <a:ext cx="835164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rt. 73 y 249 - Volcar en actas deliberaciones de órganos coleg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267 - Reunirse al menos cada 3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274 - Dejar constancia escrita de su oposición a lo resuelto por el Directorio a fin de quedar exento de respons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159, 236, 265 - Convocar a reunión de socios, acc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240 - Asistir a las asambl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rt. 242 - Presidir la asamblea de accionistas (Presid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251 – Impugnar asambleas por violación de la ley o estat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194 - Ofrecimiento del derecho de preferencia y acrecer ante aumentos de capital (excepto art. 1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275 - Llevar a cabo la acción social de responsabilidad contra los directores dispuesta por la asamb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OBLIGACIONES DE INFORMACIÓN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413000"/>
            <a:ext cx="828036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33 - Informar a otra sociedad cuando se detente más del 25% del capital social a fin que la asamblea tome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61 – Sistema contable con arreglo al Código de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62 - SRL del 299 y sociedades por acciones deben presentar ee.cc. anuales y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66 –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forme sobre estado actual de la soc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Opinar sobre proyección de las 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Otros aspectos sobre situación presente y fu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67 – Copias ee.cc. y Memoria deben estar a disposición de socios con 15 días de anticipación a su consideración por 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305 - Informar a la IGJ inclusión de la sociedad en art. 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5996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4617b"/>
                </a:solidFill>
                <a:latin typeface="Calibri"/>
              </a:rPr>
              <a:t>OBLIGACIONES ORIENTADAS A TERCEROS</a:t>
            </a:r>
            <a:endParaRPr b="1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3120" y="1530360"/>
            <a:ext cx="8445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ff99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scripciones registra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titu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ignación y cesación de administrado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umento y Reducción de capit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formación, fusión, escis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órroga, reconduc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ificaciones del estatu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mbio de sede o jurisdic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iquidación y disolu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32 - Nulidad de participaciones recíproc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224 – Prohibido distribuir intereses, dividendos anticipados o provisionales o resultantes de balances especiales (excepto art. 299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rt. 256, 222 - Constituir garantía por las funciones desempeñadas durante el plazo de prescripción, no pudiendo entregar acciones de la propia socied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3:57Z</dcterms:created>
  <dc:creator>roman berro</dc:creator>
  <dc:description/>
  <dc:language>en-US</dc:language>
  <cp:lastModifiedBy>hbelardez</cp:lastModifiedBy>
  <dcterms:modified xsi:type="dcterms:W3CDTF">2011-08-05T16:21:24Z</dcterms:modified>
  <cp:revision>17</cp:revision>
  <dc:subject/>
  <dc:title>Funcionamiento del Directorio Obligaciones y responsabilidades</dc:title>
</cp:coreProperties>
</file>