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C154-DEA6-421D-93F8-EEDB0FE19AF3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BA9E-FF3D-42B4-BF2F-BA7A8A3A121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58B-DBF1-4E45-AA1F-DC37DCCB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718-A92C-4908-B044-8BBC7B6E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41B-D507-415C-AFAC-8188A316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E73-E935-4338-917A-3AB1FFD7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EA0E-62E7-4464-B7F3-EC0CACE1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8634-6D96-46F4-81F1-574D8574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3D86-F4FA-49C9-A8B9-39234A7A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4C45-2646-430F-A702-7A664C66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4A2C-AB38-4ECA-9860-C9F28799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F597-27B8-4835-8FD4-AD209CE3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1849-0492-4454-B4D8-8B029EA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807-9611-40AC-8167-C85E8E7D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1730-4848-43EF-A06B-884A03F8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DBBC-20D9-4805-938C-1557A563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942C-3881-4907-96E1-218FD397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F30F-DA10-42A2-8793-46E0E005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C160-1110-4692-AEFE-D31A1A61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D75DA-49A8-44E7-ACE2-E0E42F4F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36FC-CECA-4AC5-AC6D-9F39C4E7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C2D7-48BB-47A8-A403-0EAFA4E8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2163-7B75-432F-9E82-814DFF51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4D9C-6CF3-418F-AD20-1E7D74E4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7DF-833F-4BBC-B54C-9A61F71B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3734C-8115-4821-B584-EEA6FAB4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933EF-2FCF-41EB-B87D-20B662B0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A171E-ECD6-4B2C-8020-5CB47257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75C98-611A-4525-97DD-9623302E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C56F0-E62B-4049-903E-6BECF38A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8F2F-EAEE-49D1-8C01-6CBF0B52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AFFD-04C7-4DB3-9225-2F466461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EE22F-D15B-4AE2-8773-9C6DE6E0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A984-43CB-401F-A99F-7D4E11C5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3FDA-52EA-4103-9AA9-CFD9DB22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DA2-3BC1-4BA9-9472-7467F3D0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1FDA-8024-4F00-AF48-F248299F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C0B6E-27DF-43FB-8ED9-0314F9A3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B798C-DD99-4537-90B2-3B44528F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6B7DE-AA3C-4192-9717-1FE6DF1A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E2F11-3591-44FC-99DD-F2AAC559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F2E4B-B7AE-4216-825D-6F657DA5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F8827-0669-4ABB-AC26-20525F76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5EBFA-491D-4B78-A699-A15000D5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827E0-FC3C-4328-BE1F-3380AFA4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C41-540A-48F5-81C3-FADBC57E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8D2-9F30-4500-91A9-84FF0F63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669-580E-4737-8929-7408CDB3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2A5-38A3-4023-B728-1D7272E7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4EC-F432-46AC-B894-E1A93935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11D4-4719-4A03-A01E-95852EBAB457}" type="datetime">
              <a:rPr b="0" lang="es-AR" sz="1200" spc="-1" strike="noStrike">
                <a:solidFill>
                  <a:srgbClr val="045c75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Times New Roman"/>
              </a:rPr>
              <a:t>Sistema de Registros, su autenticidad y integridad docu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C011-32E5-40F1-8DC9-95EBB4EA3B64}" type="slidenum">
              <a:rPr b="0" lang="es-A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F835-47A7-4548-B098-8DC49E6455C3}" type="datetime">
              <a:rPr b="0" lang="es-AR" sz="1200" spc="-1" strike="noStrike">
                <a:solidFill>
                  <a:srgbClr val="d1eaee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1eaee"/>
                </a:solidFill>
                <a:latin typeface="Times New Roman"/>
              </a:rPr>
              <a:t>Sistema de Registros, su autenticidad y integridad docu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E815-52EE-4CB1-BDBA-2CD1F92FE822}" type="slidenum">
              <a:rPr b="0" lang="es-A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CACC-1AA5-4A2B-B6F4-829DA8B67537}" type="datetime">
              <a:rPr b="0" lang="es-AR" sz="1200" spc="-1" strike="noStrike">
                <a:solidFill>
                  <a:srgbClr val="d1eaee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1eaee"/>
                </a:solidFill>
                <a:latin typeface="Times New Roman"/>
              </a:rPr>
              <a:t>Sistema de Registros, su autenticidad y integridad docu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11C7-16E2-4D63-BCA5-858B00F12910}" type="slidenum">
              <a:rPr b="0" lang="es-A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CA81-E21A-4162-8E38-842138FCE691}" type="datetime">
              <a:rPr b="0" lang="es-AR" sz="1200" spc="-1" strike="noStrike">
                <a:solidFill>
                  <a:srgbClr val="045c75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Times New Roman"/>
              </a:rPr>
              <a:t>Sistema de Registros, su autenticidad y integridad docu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B3B8-2305-4D47-9AFF-8E8209F57114}" type="slidenum">
              <a:rPr b="0" lang="es-A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463680" y="981000"/>
            <a:ext cx="8319960" cy="4035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bf5f9"/>
                </a:solidFill>
                <a:latin typeface="Constantia"/>
              </a:rPr>
              <a:t>Dra. Silvia Iglesia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0011-A32E-43A9-B253-127986F74917}" type="datetime">
              <a:rPr b="0" lang="es-AR" sz="1200" spc="-1" strike="noStrike">
                <a:solidFill>
                  <a:srgbClr val="d1eaee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449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1eaee"/>
                </a:solidFill>
                <a:latin typeface="Constantia"/>
              </a:rPr>
              <a:t>Sistema de Registros, su autenticidad y integridad documenta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GJ 07/2005 Tit.II Art. 280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Content Placeholder 3" descr=""/>
          <p:cNvPicPr/>
          <p:nvPr/>
        </p:nvPicPr>
        <p:blipFill>
          <a:blip r:embed="rId1"/>
          <a:stretch/>
        </p:blipFill>
        <p:spPr>
          <a:xfrm>
            <a:off x="384120" y="1901880"/>
            <a:ext cx="8375760" cy="4529160"/>
          </a:xfrm>
          <a:prstGeom prst="rect">
            <a:avLst/>
          </a:prstGeom>
          <a:ln w="0">
            <a:noFill/>
          </a:ln>
        </p:spPr>
      </p:pic>
      <p:sp>
        <p:nvSpPr>
          <p:cNvPr id="20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4CE5-405D-4E6E-91DF-943972AF2177}" type="datetime">
              <a:rPr b="0" lang="es-A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2050920" y="6356520"/>
            <a:ext cx="46087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Constantia"/>
              </a:rPr>
              <a:t>Sistema de Registros, su autenticidad y integridad documenta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Alc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Content Placeholder 3" descr=""/>
          <p:cNvPicPr/>
          <p:nvPr/>
        </p:nvPicPr>
        <p:blipFill>
          <a:blip r:embed="rId1"/>
          <a:stretch/>
        </p:blipFill>
        <p:spPr>
          <a:xfrm>
            <a:off x="433440" y="1920960"/>
            <a:ext cx="8277120" cy="4406760"/>
          </a:xfrm>
          <a:prstGeom prst="rect">
            <a:avLst/>
          </a:prstGeom>
          <a:ln w="0">
            <a:noFill/>
          </a:ln>
        </p:spPr>
      </p:pic>
      <p:sp>
        <p:nvSpPr>
          <p:cNvPr id="21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A17D-771F-4FC0-BE3D-3397A7E0ECCA}" type="datetime">
              <a:rPr b="0" lang="es-A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2666880" y="6356520"/>
            <a:ext cx="428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Constantia"/>
              </a:rPr>
              <a:t>Sistema de Registros, su autenticidad y integridad documenta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Medid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Content Placeholder 4" descr=""/>
          <p:cNvPicPr/>
          <p:nvPr/>
        </p:nvPicPr>
        <p:blipFill>
          <a:blip r:embed="rId1"/>
          <a:stretch/>
        </p:blipFill>
        <p:spPr>
          <a:xfrm>
            <a:off x="433440" y="1932120"/>
            <a:ext cx="8277120" cy="4395600"/>
          </a:xfrm>
          <a:prstGeom prst="rect">
            <a:avLst/>
          </a:prstGeom>
          <a:ln w="0">
            <a:noFill/>
          </a:ln>
        </p:spPr>
      </p:pic>
      <p:sp>
        <p:nvSpPr>
          <p:cNvPr id="216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6E76-43F8-42A4-9B3B-9F7DC6FFA4E1}" type="datetime">
              <a:rPr b="0" lang="es-A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Footer Placeholder 6"/>
          <p:cNvSpPr/>
          <p:nvPr/>
        </p:nvSpPr>
        <p:spPr>
          <a:xfrm>
            <a:off x="2666880" y="6356520"/>
            <a:ext cx="420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Constantia"/>
              </a:rPr>
              <a:t>Sistema de Registros, su autenticidad y integridad documenta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Medidas:</a:t>
            </a:r>
            <a:br>
              <a:rPr sz="4500"/>
            </a:b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ocedimientos 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ontrol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Content Placeholder 5" descr=""/>
          <p:cNvPicPr/>
          <p:nvPr/>
        </p:nvPicPr>
        <p:blipFill>
          <a:blip r:embed="rId1"/>
          <a:stretch/>
        </p:blipFill>
        <p:spPr>
          <a:xfrm>
            <a:off x="433440" y="1932120"/>
            <a:ext cx="8277120" cy="4395600"/>
          </a:xfrm>
          <a:prstGeom prst="rect">
            <a:avLst/>
          </a:prstGeom>
          <a:ln w="0">
            <a:noFill/>
          </a:ln>
        </p:spPr>
      </p:pic>
      <p:sp>
        <p:nvSpPr>
          <p:cNvPr id="2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DAE9-93D7-49CE-AF77-64557D125E1C}" type="datetime">
              <a:rPr b="0" lang="es-A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2666880" y="6356520"/>
            <a:ext cx="420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Constantia"/>
              </a:rPr>
              <a:t>Sistema de Registros, su autenticidad y integridad documenta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Medidas:</a:t>
            </a:r>
            <a:br>
              <a:rPr sz="4500"/>
            </a:b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ocedimientos 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ontrol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5" descr=""/>
          <p:cNvPicPr/>
          <p:nvPr/>
        </p:nvPicPr>
        <p:blipFill>
          <a:blip r:embed="rId1"/>
          <a:stretch/>
        </p:blipFill>
        <p:spPr>
          <a:xfrm>
            <a:off x="433440" y="1932120"/>
            <a:ext cx="8277120" cy="4395600"/>
          </a:xfrm>
          <a:prstGeom prst="rect">
            <a:avLst/>
          </a:prstGeom>
          <a:ln w="0">
            <a:noFill/>
          </a:ln>
        </p:spPr>
      </p:pic>
      <p:sp>
        <p:nvSpPr>
          <p:cNvPr id="2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C630-1EBF-4DFC-85A3-368946968EBA}" type="datetime">
              <a:rPr b="0" lang="es-A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666880" y="6356520"/>
            <a:ext cx="420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Constantia"/>
              </a:rPr>
              <a:t>Sistema de Registros, su autenticidad y integridad documenta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4:47:29Z</dcterms:created>
  <dc:creator>Sil</dc:creator>
  <dc:description/>
  <dc:language>en-US</dc:language>
  <cp:lastModifiedBy>Sil</cp:lastModifiedBy>
  <dcterms:modified xsi:type="dcterms:W3CDTF">2011-11-29T11:43:43Z</dcterms:modified>
  <cp:revision>9</cp:revision>
  <dc:subject/>
  <dc:title>PowerPoint Presentation</dc:title>
</cp:coreProperties>
</file>