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1B52960-836C-4C02-B151-71B256590A7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C0D968B-D5A7-47A8-B98D-B651BE8087E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645FB75-B8C5-4300-AA87-036D87D4E84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A14C432E-4C01-4734-8D27-408991BCE36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3794-49D9-410D-ABF5-2E361877A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63B5-33AC-40D1-9676-08CB90BCF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88F9-0D4D-45DD-ADE1-C8E7C0EFD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3862-859C-4E25-8DB4-0DFCE3E5A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D641-727A-4AED-A746-0603400C1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90E0-8FCC-4EE8-9D92-2FB7A64A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DA52-D884-4B7D-AAE5-07BFE6B7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6C5D-F35E-45CA-B61E-4579D5F5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FEEB-5855-4117-90D3-F7AEFAEA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FD92-6C3A-4D04-9ACD-168C8B8D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5DFE-9A38-4373-96B5-D9AAC46F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C522-FDCA-46FC-B603-DD390401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B3A5-E32B-4FA3-A308-644093B9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EEEB5-3778-4A91-B5D1-73305069E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A947-1A54-489E-846B-64D426E6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C61E-F023-42C2-BFE4-49173EDD9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FEEA-65B8-4E45-A795-097DF7417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5A52-FD62-47E3-8826-4EC7AA46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A080-64C7-48EE-BB87-BD71BB59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591B-634C-46C4-87E5-2E8C9236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EFC1-312B-43F9-89C2-8B3826139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99EC-51B4-46E7-B786-2AD616770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79B0-6EEB-406B-87F2-FDF8A538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71C1-94E1-4908-B57E-776F808C5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23F7-DEE3-439A-B9B3-A2087A5E1A7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CED98-4E10-493E-A371-2B93B2EA6E6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29F2-8E51-45DA-8B97-15E2E3208FB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2522520" y="3755880"/>
            <a:ext cx="647856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AR" sz="3200" spc="-1" strike="noStrike">
                <a:solidFill>
                  <a:srgbClr val="ffffff"/>
                </a:solidFill>
                <a:latin typeface="Times New Roman"/>
              </a:rPr>
              <a:t>Dr. Rodolfo Daniel  UICI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B12F-ECDF-4710-8474-7F6A22050D3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34280" y="3687840"/>
            <a:ext cx="91263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•  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DOCUMENTACIÓN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            es la forma que adopta la declaración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1)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 corporal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: papel, cinta magnetofónic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2)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 incorporal 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o inmaterial: electrónica o digital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136800" y="1460520"/>
            <a:ext cx="8216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•  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DOCUMENTO               es una declaración de voluntad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emanada de un aut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destinada a producir efectos jurídic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Line 13"/>
          <p:cNvSpPr/>
          <p:nvPr/>
        </p:nvSpPr>
        <p:spPr>
          <a:xfrm>
            <a:off x="2697120" y="1727280"/>
            <a:ext cx="866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Line 14"/>
          <p:cNvSpPr/>
          <p:nvPr/>
        </p:nvSpPr>
        <p:spPr>
          <a:xfrm>
            <a:off x="3460680" y="3921120"/>
            <a:ext cx="793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9A23C-E129-47E5-A32D-324EC77F484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230040" y="1413000"/>
            <a:ext cx="85330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la 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existencia del contrato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 (si la ley  impone la forma escrita, no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existe sin esa forma)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medio de prueba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 (cuando se requiere la forma escrita no se puede probar de otra manera). Hace a la 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eficacia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, del contrat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0" y="4618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66"/>
                </a:solidFill>
                <a:latin typeface="Tahoma"/>
              </a:rPr>
              <a:t>FUNCIONES DEL DOCUM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216000" y="4341960"/>
            <a:ext cx="8532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3)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la 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oponibilidad del contrato frente a terceros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 (la ley, a veces, pide forma escrita, fecha cierta, etc.)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4)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fijación del contenido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 de la declaración de voluntad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7851-36C0-436E-B943-96378C81D1A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0" y="549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66"/>
                </a:solidFill>
                <a:latin typeface="Tahoma"/>
              </a:rPr>
              <a:t>LA CONTRATACION ELECTRÓN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457200" y="182880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Es problemática, no por la declaración de voluntad, sino por el sustento incorporal de ést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468360" y="341316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La cuestión es: ¿</a:t>
            </a: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los bits ofrecen garantías suficientes para cumplir con las funciones?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-324000" y="484812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El Documento Electrónico           también tiene 2 elementos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                                                   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- declaración de volunta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- soporte : electrónico (bits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Line 8"/>
          <p:cNvSpPr/>
          <p:nvPr/>
        </p:nvSpPr>
        <p:spPr>
          <a:xfrm>
            <a:off x="3780000" y="5100480"/>
            <a:ext cx="647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54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59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264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E6CC-3C83-4F4F-A5E9-83143727E2E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0" y="333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66"/>
                </a:solidFill>
                <a:latin typeface="Tahoma"/>
              </a:rPr>
              <a:t>RELACIÓN  DOCUMENTO – FIR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457200" y="1341360"/>
            <a:ext cx="838188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FIRMA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                medio por el cual se vincula un documento  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con su autor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- El documento no firmado carece de evidencia clara de un autor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468360" y="3068640"/>
            <a:ext cx="838188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- Aunque existen: “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Documentos particulares no Firmados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por ej.: las claves,  los códigos,  el estampillado,  perforado, firma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mecanografiada,  el  membrete,  ticket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En la contratación de consumo son habituales (supermercado, transporte, etc.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-250920" y="55897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El documento electrónico también puede ser             firmado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no firmad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Line 9"/>
          <p:cNvSpPr/>
          <p:nvPr/>
        </p:nvSpPr>
        <p:spPr>
          <a:xfrm>
            <a:off x="1835280" y="1573200"/>
            <a:ext cx="93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Line 10"/>
          <p:cNvSpPr/>
          <p:nvPr/>
        </p:nvSpPr>
        <p:spPr>
          <a:xfrm>
            <a:off x="6154560" y="5805360"/>
            <a:ext cx="865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Line 11"/>
          <p:cNvSpPr/>
          <p:nvPr/>
        </p:nvSpPr>
        <p:spPr>
          <a:xfrm>
            <a:off x="6154560" y="5805360"/>
            <a:ext cx="86544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80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85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26500"/>
                            </p:stCondLst>
                            <p:childTnLst>
                              <p:par>
                                <p:cTn id="290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37000"/>
                            </p:stCondLst>
                            <p:childTnLst>
                              <p:par>
                                <p:cTn id="2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6EFC-9BBF-44E0-A979-14EEA2F0022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230040" y="1785960"/>
            <a:ext cx="8533080" cy="14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1)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Documento en átomos: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 declaración de voluntad asentada en forma escrit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2)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Documento electrónico: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   bit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0" y="606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66"/>
                </a:solidFill>
                <a:latin typeface="Tahoma"/>
              </a:rPr>
              <a:t>CLASIFICACIÓN DE LOS DOCUM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216000" y="3513240"/>
            <a:ext cx="892800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3)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Documento firmado: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 vincula directamente al documento con el autor porque hay una firma al pie (ológrafa o no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                                        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4)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Documento no firmado: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 hay una declaración de voluntad pero sin vinculación porque no está firmado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Se deben usar otros medios de prueba para comprobar la autorí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0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A056-C781-4D31-8121-C91CA8B22EB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457200" y="404640"/>
            <a:ext cx="83818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Requiere               “sistema confiable de atribución de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autoría”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En el mundo digital               se permite que el medio sea una 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  clave y no la firma ológraf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Line 15"/>
          <p:cNvSpPr/>
          <p:nvPr/>
        </p:nvSpPr>
        <p:spPr>
          <a:xfrm>
            <a:off x="1835280" y="636480"/>
            <a:ext cx="865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Line 18"/>
          <p:cNvSpPr/>
          <p:nvPr/>
        </p:nvSpPr>
        <p:spPr>
          <a:xfrm>
            <a:off x="3059280" y="1557360"/>
            <a:ext cx="93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468360" y="2638440"/>
            <a:ext cx="8381880" cy="34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cc66"/>
                </a:solidFill>
                <a:latin typeface="Tahoma"/>
              </a:rPr>
              <a:t>TIPOS DE FIRMA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- la firma ológraf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- la manual transformada en un sell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- la manual digitaliza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- la clave de una tarjeta de crédit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- la clave en la criptografí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AR" sz="2200" spc="-1" strike="noStrike">
                <a:solidFill>
                  <a:srgbClr val="ffcc66"/>
                </a:solidFill>
                <a:latin typeface="Tahoma"/>
              </a:rPr>
              <a:t>La  diferencia es la segurida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C27B-90C9-4CF5-B9F3-AA9E37F80F4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152280" y="404640"/>
            <a:ext cx="9144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cc66"/>
                </a:solidFill>
                <a:latin typeface="Tahoma"/>
                <a:ea typeface="Times New Roman"/>
              </a:rPr>
              <a:t>• </a:t>
            </a:r>
            <a:r>
              <a:rPr b="1" lang="es-AR" sz="2200" spc="-1" strike="noStrike">
                <a:solidFill>
                  <a:srgbClr val="ffcc66"/>
                </a:solidFill>
                <a:latin typeface="Tahoma"/>
                <a:ea typeface="Times New Roman"/>
              </a:rPr>
              <a:t>Diferencia entre Documento Electrónic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cc66"/>
                </a:solidFill>
                <a:latin typeface="Tahoma"/>
                <a:ea typeface="Times New Roman"/>
              </a:rPr>
              <a:t>	</a:t>
            </a:r>
            <a:r>
              <a:rPr b="1" lang="es-AR" sz="2200" spc="-1" strike="noStrike">
                <a:solidFill>
                  <a:srgbClr val="ffcc66"/>
                </a:solidFill>
                <a:latin typeface="Tahoma"/>
                <a:ea typeface="Times New Roman"/>
              </a:rPr>
              <a:t>y Documento Tradiciona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- Átomos                   posible comparar el documento original con 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la copi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                                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posible hacer pericias caligráficas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- Bit                N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228600" y="3860640"/>
            <a:ext cx="9144000" cy="23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cc66"/>
                </a:solidFill>
                <a:latin typeface="Tahoma"/>
              </a:rPr>
              <a:t>• </a:t>
            </a:r>
            <a:r>
              <a:rPr b="1" lang="es-AR" sz="2200" spc="-1" strike="noStrike">
                <a:solidFill>
                  <a:srgbClr val="ffcc66"/>
                </a:solidFill>
                <a:latin typeface="Tahoma"/>
              </a:rPr>
              <a:t>Documento Electrónico: original y duplicad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Hablando de bits, el original es igual al duplicad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Será original el que las partes en un contrato, o el legislador, así lo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dispusier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- Se suele designar como original al primero generad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Line 6"/>
          <p:cNvSpPr/>
          <p:nvPr/>
        </p:nvSpPr>
        <p:spPr>
          <a:xfrm>
            <a:off x="1476360" y="162864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Line 7"/>
          <p:cNvSpPr/>
          <p:nvPr/>
        </p:nvSpPr>
        <p:spPr>
          <a:xfrm>
            <a:off x="1476360" y="1628640"/>
            <a:ext cx="144000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Line 8"/>
          <p:cNvSpPr/>
          <p:nvPr/>
        </p:nvSpPr>
        <p:spPr>
          <a:xfrm>
            <a:off x="900000" y="3292560"/>
            <a:ext cx="1152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3E3B3-1FCD-45F0-B5CC-764894B54FA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468360" y="404640"/>
            <a:ext cx="8424720" cy="32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EL PROBLEMA DE LA CONSERVACIÓN DEL  DOCUMENTO ELECTRÓNIC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- Si bien es la impresión de que puede desaparecer en cualquier instant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-Actualmente el documento electrónico es la principal fuente de archivo de la cultura escrit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- En verdad, es más seguro y confiable que la forma escrit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468360" y="3843360"/>
            <a:ext cx="8424720" cy="22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VALOR PROBATORI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- Nada impide que el juez, dentro de sus facultades, admita estos documentos escrit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- Evaluará con la sana crític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- Se recurrirá a las pericias necesaria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0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3" nodeType="afterEffect" fill="hold" presetClass="entr" presetID="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B7548-55D4-4AA4-89CA-22DD6084A69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1143000" y="26028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cc66"/>
                </a:solidFill>
                <a:latin typeface="Tahoma"/>
              </a:rPr>
              <a:t>¿POR QUÉ TIENE EFECTOS JURÍDICOS  UN DOCUMENTO ELECTRÓNIC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304920" y="152388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0" y="1828800"/>
            <a:ext cx="4724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468360" y="1413000"/>
            <a:ext cx="8351640" cy="29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Encuentra causa en: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Tahoma"/>
              </a:rPr>
              <a:t>1) un CONTRATO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  en el que las partes otorgan validez a las 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futuras declaraciones electrónic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Tahoma"/>
              </a:rPr>
              <a:t>2) una LEY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  que establezca el principio de no discriminación,      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ej.  Uncitr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1405080" y="4765680"/>
            <a:ext cx="83516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ahoma"/>
              </a:rPr>
              <a:t>3) una SENTENCIA JUDICIAL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  que legitime el  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procedimien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ahoma"/>
              </a:rPr>
              <a:t>4) La  CONDUCTA ULTERIOR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  de las par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0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9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F6CE5-8B52-44EA-ADD8-E7E5312FDEB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1828800" y="3200400"/>
            <a:ext cx="52578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468360" y="1574640"/>
            <a:ext cx="8424720" cy="43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Exclusiones de las legislaciones a la aplicación del documento electrónic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P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or considerar que es inseguro se excluyen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- disposiciones por causa de  muert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- actos que requieren forma especial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- actos personalísimos en general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- actos jurídicos relativos al derecho de famili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1763640" y="30492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cc66"/>
                </a:solidFill>
                <a:latin typeface="Tahoma"/>
              </a:rPr>
              <a:t>¿ES SIEMPRE APLICABLE EL DOCUMENTO ELECTRÓNICO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60" nodeType="afterEffect" fill="hold" presetClass="entr" presetID="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142A-AAB4-4D9B-AB7A-F349C541C3D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0" y="1062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66"/>
                </a:solidFill>
                <a:latin typeface="Tahoma"/>
              </a:rPr>
              <a:t>Bienvenidos</a:t>
            </a:r>
            <a:br>
              <a:rPr sz="3600"/>
            </a:br>
            <a:r>
              <a:rPr b="0" lang="es-ES_tradnl" sz="3600" spc="-1" strike="noStrike">
                <a:solidFill>
                  <a:srgbClr val="ffcc66"/>
                </a:solidFill>
                <a:latin typeface="Tahoma"/>
              </a:rPr>
              <a:t>al mundo de las</a:t>
            </a:r>
            <a:r>
              <a:rPr b="1" lang="es-ES_tradnl" sz="3600" spc="-1" strike="noStrike">
                <a:solidFill>
                  <a:srgbClr val="ffcc66"/>
                </a:solidFill>
                <a:latin typeface="Tahoma"/>
              </a:rPr>
              <a:t> “Nuevas Tecnologías”</a:t>
            </a:r>
            <a:br>
              <a:rPr sz="3600"/>
            </a:br>
            <a:r>
              <a:rPr b="0" lang="es-ES_tradnl" sz="3600" spc="-1" strike="noStrike">
                <a:solidFill>
                  <a:srgbClr val="ffcc66"/>
                </a:solidFill>
                <a:latin typeface="Tahoma"/>
              </a:rPr>
              <a:t>y el</a:t>
            </a:r>
            <a:r>
              <a:rPr b="1" lang="es-ES_tradnl" sz="3600" spc="-1" strike="noStrike">
                <a:solidFill>
                  <a:srgbClr val="ffcc66"/>
                </a:solidFill>
                <a:latin typeface="Tahoma"/>
              </a:rPr>
              <a:t> “Derecho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332000" y="2386080"/>
            <a:ext cx="7149960" cy="40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AR" sz="2600" spc="-1" strike="noStrike">
                <a:solidFill>
                  <a:srgbClr val="ffffff"/>
                </a:solidFill>
                <a:latin typeface="Times New Roman"/>
              </a:rPr>
              <a:t>Protección de Datos Person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AR" sz="2600" spc="-1" strike="noStrike">
                <a:solidFill>
                  <a:srgbClr val="ffffff"/>
                </a:solidFill>
                <a:latin typeface="Times New Roman"/>
              </a:rPr>
              <a:t>Habeas Dat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AR" sz="2600" spc="-1" strike="noStrike">
                <a:solidFill>
                  <a:srgbClr val="ffffff"/>
                </a:solidFill>
                <a:latin typeface="Times New Roman"/>
              </a:rPr>
              <a:t>Firma Digit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AR" sz="2600" spc="-1" strike="noStrike">
                <a:solidFill>
                  <a:srgbClr val="ffffff"/>
                </a:solidFill>
                <a:latin typeface="Times New Roman"/>
              </a:rPr>
              <a:t>Documento Electrónic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AR" sz="2600" spc="-1" strike="noStrike">
                <a:solidFill>
                  <a:srgbClr val="ffffff"/>
                </a:solidFill>
                <a:latin typeface="Times New Roman"/>
              </a:rPr>
              <a:t>E-Commerc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AR" sz="2600" spc="-1" strike="noStrike">
                <a:solidFill>
                  <a:srgbClr val="ffffff"/>
                </a:solidFill>
                <a:latin typeface="Times New Roman"/>
              </a:rPr>
              <a:t>Gobierno Electrónic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- Voto Electrón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AR" sz="2600" spc="-1" strike="noStrike">
                <a:solidFill>
                  <a:srgbClr val="ffffff"/>
                </a:solidFill>
                <a:latin typeface="Times New Roman"/>
              </a:rPr>
              <a:t>Digestos Digital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C1A4-3C91-4C1E-91AC-E103707D1C1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0" y="4032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cc66"/>
                </a:solidFill>
                <a:latin typeface="Tahoma"/>
                <a:ea typeface="Times New Roman"/>
              </a:rPr>
              <a:t>LEY MODELO  de UNCIT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cc66"/>
                </a:solidFill>
                <a:latin typeface="Tahoma"/>
                <a:ea typeface="Times New Roman"/>
              </a:rPr>
              <a:t>Sobre Comercio electrónico (1996/7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  </a:t>
            </a:r>
            <a:r>
              <a:rPr b="0" lang="es-AR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rincipios 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304920" y="2502000"/>
            <a:ext cx="8839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cc66"/>
                </a:solidFill>
                <a:latin typeface="Tahoma"/>
                <a:ea typeface="Times New Roman"/>
              </a:rPr>
              <a:t> </a:t>
            </a:r>
            <a:r>
              <a:rPr b="1" lang="es-AR" sz="2200" spc="-1" strike="noStrike">
                <a:solidFill>
                  <a:srgbClr val="ffcc66"/>
                </a:solidFill>
                <a:latin typeface="Tahoma"/>
                <a:ea typeface="Times New Roman"/>
              </a:rPr>
              <a:t>NO DISCRIMINACION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cc66"/>
                </a:solidFill>
                <a:latin typeface="Tahoma"/>
                <a:ea typeface="Times New Roman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“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  <a:ea typeface="Times New Roman"/>
              </a:rPr>
              <a:t>no se le negará efectos jurídicos, validez o eficacia a una información solamente porque esté bajo la forma de mensaje electrónico” (art. 5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304920" y="4338720"/>
            <a:ext cx="81532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cc66"/>
                </a:solidFill>
                <a:latin typeface="Tahoma"/>
                <a:ea typeface="Tahoma"/>
              </a:rPr>
              <a:t> </a:t>
            </a:r>
            <a:r>
              <a:rPr b="1" lang="es-AR" sz="2200" spc="-1" strike="noStrike">
                <a:solidFill>
                  <a:srgbClr val="ffcc66"/>
                </a:solidFill>
                <a:latin typeface="Tahoma"/>
                <a:ea typeface="Tahoma"/>
              </a:rPr>
              <a:t>EQUIVALENCIA: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  <a:ea typeface="Tahoma"/>
              </a:rPr>
              <a:t> “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  <a:ea typeface="Tahoma"/>
              </a:rPr>
              <a:t>cuando la ley requiera que conste por escrito, este supuesto se considerará  suplido por un mensaje electrónico” (art. 6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8" nodeType="afterEffect" fill="hold" presetClass="entr" presetID="2" presetSubtype="4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1D3D-27CC-4153-A21F-E6347218173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468360" y="523800"/>
            <a:ext cx="8424720" cy="54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• 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ACEPTACIÓN DEL DOCUMENTO ELECTRÓNICO  EN LA ARGENTIN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1)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Contabilidad electrónica: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 art. 61 Ley de Sociedades 19.550 la acepta, previa autorización del R.P.C., salvo inventario y balanc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2)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Impuestos y aportes previsionale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3)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Registro electrónico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de acciones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 nominativas no endosables y escriturale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4)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Administración Pública: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 Ley 24.624 otorga pleno valor probatorio en los términos del art. 995 del CC, en el ámbito de la administración pública, a documentos redactados en primera generación en soporte electrónico u óptico indeleble a partir de originales de primera generación en cualquier otro soporte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" presetSubtype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64AA-4C79-4DF2-B691-3B58FE732FB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ahoma"/>
              </a:rPr>
              <a:t>Ley de Firma Digital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3207960"/>
            <a:ext cx="8713800" cy="16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FIRMA DIGITA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    “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Es el resultado de aplicar a un documento digital un procedimiento matemático que requiere información de exclusivo conocimiento del firmante, encontrándose bajo su absoluto control, susceptible de verificación por  terceras personas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762120" y="1341360"/>
            <a:ext cx="7626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Ley  25.506      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Dec. Reg.  2628/02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Reconoce la eficacia de: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Firma Electrónic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Firma Digita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Line 8"/>
          <p:cNvSpPr/>
          <p:nvPr/>
        </p:nvSpPr>
        <p:spPr>
          <a:xfrm>
            <a:off x="3924360" y="2276640"/>
            <a:ext cx="1368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Line 9"/>
          <p:cNvSpPr/>
          <p:nvPr/>
        </p:nvSpPr>
        <p:spPr>
          <a:xfrm>
            <a:off x="3924360" y="2276640"/>
            <a:ext cx="143964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10"/>
          <p:cNvSpPr/>
          <p:nvPr/>
        </p:nvSpPr>
        <p:spPr>
          <a:xfrm>
            <a:off x="250920" y="5008680"/>
            <a:ext cx="8713800" cy="16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FIRMA ELECTRÓNIC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    “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Es el conjunto de datos electrónicos integrados, ligados o asociados de manera lógica a otros  datos  electrónicos, utilizado  por el signatario como su medio de identificación, que carezca de alguno de los requisitos legales  para ser firma digital”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nodeType="clickEffect" fill="hold">
                      <p:stCondLst>
                        <p:cond delay="0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9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4" nodeType="afterEffect" fill="hold" presetClass="entr" presetID="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09" nodeType="afterEffect" fill="hold" presetClass="entr" presetID="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5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24" nodeType="afterEffect" fill="hold" presetClass="entr" presetID="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29" nodeType="afterEffect" fill="hold" presetClass="entr" presetID="2" presetSubtype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165F-83A7-44ED-82A4-8BE8F8D8E5D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457200" y="647640"/>
            <a:ext cx="838188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Diferencias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La firma digital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 se presume auténtic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En la firma electrónica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 la carga de la prueba que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en cabeza de quien la invoc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Text Box 13"/>
          <p:cNvSpPr/>
          <p:nvPr/>
        </p:nvSpPr>
        <p:spPr>
          <a:xfrm>
            <a:off x="468360" y="3152880"/>
            <a:ext cx="838188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cc66"/>
                </a:solidFill>
                <a:latin typeface="Tahoma"/>
              </a:rPr>
              <a:t>TÉCNICAS DE CIFRAD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Sobre una pequeña parte del “documento plano”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Se aplica una combinación de números o “algoritmo” ( 36 +280 ceros)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Esto genera un nuevo documento  o “Digesto”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A este se  le aplica la clave  privad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nodeType="clickEffect" fill="hold">
                      <p:stCondLst>
                        <p:cond delay="0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542" nodeType="afterEffect" fill="hold" presetClass="entr" presetID="2" presetSubtype="8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0DA18-0769-4446-A6BB-ACEFA30C99D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Text Box 2"/>
          <p:cNvSpPr/>
          <p:nvPr/>
        </p:nvSpPr>
        <p:spPr>
          <a:xfrm>
            <a:off x="0" y="115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66"/>
                </a:solidFill>
                <a:latin typeface="Tahoma"/>
              </a:rPr>
              <a:t>PRINCIP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23760" y="836640"/>
            <a:ext cx="9187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Tahoma"/>
              </a:rPr>
              <a:t>De  EQUIVALENC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Tahoma"/>
              </a:rPr>
              <a:t>Art. 3: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  <a:ea typeface="Tahoma"/>
              </a:rPr>
              <a:t> el requerimiento de firma manuscrita se cumple  con la firma digit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208080" y="2565360"/>
            <a:ext cx="8685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De PRESUNCIÓN DE AUTORÍ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Art. 7: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Se presume que la firma digital pertenece al titular del certificado 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digit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Iuris Tantu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179280" y="4941720"/>
            <a:ext cx="8685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De PRESUNCIÓN DE INTEGR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Art. 8: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si el procedimiento de verificación resultó correcto.               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Iuris Tantu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0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60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65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BB385-8B1C-4A9E-8482-5F05515B7B9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79280" y="1341360"/>
            <a:ext cx="8685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De PRESUNCIÓN DE ORÍ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Art.10: 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e presume enviado por el remitente el documento remitido en        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forma automática con firma digit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	</a:t>
            </a: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Iuris Tantu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179280" y="3828960"/>
            <a:ext cx="8685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1" lang="es-A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De NEUTRALIDAD TECN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a ley no impone procedimientos para firmar y verificar, serán los que determine la autoridad de aplicación, de acuerdo a estándares tecnológicos y reglas del ar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nodeType="clickEffect" fill="hold">
                      <p:stCondLst>
                        <p:cond delay="0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78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F0B74-5635-4AA5-B3EC-0B34CFB8957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1143000" y="62064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cc66"/>
                </a:solidFill>
                <a:latin typeface="Tahoma"/>
              </a:rPr>
              <a:t>REQUISITOS DE VALIDE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304920" y="152388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0" y="1828800"/>
            <a:ext cx="4724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12"/>
          <p:cNvSpPr/>
          <p:nvPr/>
        </p:nvSpPr>
        <p:spPr>
          <a:xfrm>
            <a:off x="468360" y="1879560"/>
            <a:ext cx="83516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1) Creada durante la vigencia del 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CERTIFICADO DIGITAL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2) Emitido por 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CERTIFICADOR LICENCIADO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 por la autoridad de aplicación (Jefatura de Gabinete de Ministros)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3) Verificado por el 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PROCEDIMIENTO DE VERIFICACIÓN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after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89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8689-B93A-4144-BD6B-9A746540CF0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Text Box 2"/>
          <p:cNvSpPr/>
          <p:nvPr/>
        </p:nvSpPr>
        <p:spPr>
          <a:xfrm>
            <a:off x="0" y="209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66"/>
                </a:solidFill>
                <a:latin typeface="Tahoma"/>
              </a:rPr>
              <a:t>INFRAESTRUCTURA DE FIRMA DIGI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" name="Picture 10" descr=""/>
          <p:cNvPicPr/>
          <p:nvPr/>
        </p:nvPicPr>
        <p:blipFill>
          <a:blip r:embed="rId1"/>
          <a:stretch/>
        </p:blipFill>
        <p:spPr>
          <a:xfrm>
            <a:off x="1619280" y="797040"/>
            <a:ext cx="5892840" cy="57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0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D48C5-7959-49C8-89BF-1CC69177967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Text Box 2"/>
          <p:cNvSpPr/>
          <p:nvPr/>
        </p:nvSpPr>
        <p:spPr>
          <a:xfrm>
            <a:off x="0" y="404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cc66"/>
                </a:solidFill>
                <a:latin typeface="Tahoma"/>
              </a:rPr>
              <a:t>LA FIRMA DIGITAL EN LA REPÚBLICA ARGENTI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Text Box 37"/>
          <p:cNvSpPr/>
          <p:nvPr/>
        </p:nvSpPr>
        <p:spPr>
          <a:xfrm>
            <a:off x="539640" y="1268280"/>
            <a:ext cx="8137800" cy="53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Han sancionado leyes: La Pampa, Tucumán, Mendoza, Tierra del Fuego, Jujuy, Formosa, Río Negro, Santa Fe y  Buenos Aires.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La Ciudad Autónoma de Buenos Aires ha instalado una implementación parcial dictando el Decreto 1079/2005 de “Uso de firma digital en el ámbito del Poder Ejecutivo de la Ciudad”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Provincia de San Lui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0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370F8-F010-43DA-A066-94B6086BB10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Text Box 2"/>
          <p:cNvSpPr/>
          <p:nvPr/>
        </p:nvSpPr>
        <p:spPr>
          <a:xfrm>
            <a:off x="0" y="4724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                                             </a:t>
            </a:r>
            <a:r>
              <a:rPr b="1" lang="es-MX" sz="2800" spc="-1" strike="noStrike">
                <a:solidFill>
                  <a:srgbClr val="ffffff"/>
                </a:solidFill>
                <a:latin typeface="Times New Roman"/>
              </a:rPr>
              <a:t>Dr. Rodolfo Daniel Uicic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0" y="5486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0" y="2174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0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20D4-896C-4A95-B8BD-6EFEE8A99D0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0" y="106200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cc66"/>
                </a:solidFill>
                <a:latin typeface="Tahoma"/>
              </a:rPr>
              <a:t>Bienvenidos</a:t>
            </a:r>
            <a:br>
              <a:rPr sz="3600"/>
            </a:br>
            <a:r>
              <a:rPr b="0" lang="es-ES_tradnl" sz="3600" spc="-1" strike="noStrike">
                <a:solidFill>
                  <a:srgbClr val="ffcc66"/>
                </a:solidFill>
                <a:latin typeface="Tahoma"/>
              </a:rPr>
              <a:t>al mundo de las</a:t>
            </a:r>
            <a:r>
              <a:rPr b="1" lang="es-ES_tradnl" sz="3600" spc="-1" strike="noStrike">
                <a:solidFill>
                  <a:srgbClr val="ffcc66"/>
                </a:solidFill>
                <a:latin typeface="Tahoma"/>
              </a:rPr>
              <a:t> “Nuevas Tecnologías”</a:t>
            </a:r>
            <a:br>
              <a:rPr sz="3600"/>
            </a:br>
            <a:r>
              <a:rPr b="0" lang="es-ES_tradnl" sz="3600" spc="-1" strike="noStrike">
                <a:solidFill>
                  <a:srgbClr val="ffcc66"/>
                </a:solidFill>
                <a:latin typeface="Tahoma"/>
              </a:rPr>
              <a:t>y el</a:t>
            </a:r>
            <a:r>
              <a:rPr b="1" lang="es-ES_tradnl" sz="3600" spc="-1" strike="noStrike">
                <a:solidFill>
                  <a:srgbClr val="ffcc66"/>
                </a:solidFill>
                <a:latin typeface="Tahoma"/>
              </a:rPr>
              <a:t> “Derecho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382760" y="2457360"/>
            <a:ext cx="7149960" cy="40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Times New Roman"/>
              </a:rPr>
              <a:t>- Contratos Informátic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Times New Roman"/>
              </a:rPr>
              <a:t>- Contratos Telemátic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AR" sz="26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Nombres de Domi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Times New Roman"/>
              </a:rPr>
              <a:t>- Responsabilidad Civil del Proveedor de Interne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Times New Roman"/>
              </a:rPr>
              <a:t>- Derecho Laboral y Nuevas Tecnología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Times New Roman"/>
              </a:rPr>
              <a:t>- Robo de Identidad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ffffff"/>
                </a:solidFill>
                <a:latin typeface="Times New Roman"/>
              </a:rPr>
              <a:t>- Delitos Informátic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C0CF7-D1F9-4642-9DB5-BCF0C0ACC95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1854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cc66"/>
                </a:solidFill>
                <a:latin typeface="Tahoma"/>
              </a:rPr>
              <a:t>El documento electrónico</a:t>
            </a:r>
            <a:br>
              <a:rPr sz="4000"/>
            </a:br>
            <a:r>
              <a:rPr b="0" lang="es-ES_tradnl" sz="4000" spc="-1" strike="noStrike">
                <a:solidFill>
                  <a:srgbClr val="ffcc66"/>
                </a:solidFill>
                <a:latin typeface="Tahoma"/>
              </a:rPr>
              <a:t>y la firma digital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FEEA-A7A5-4EB3-B0B8-C03D3B6E6E3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2"/>
          <p:cNvSpPr/>
          <p:nvPr/>
        </p:nvSpPr>
        <p:spPr>
          <a:xfrm>
            <a:off x="914400" y="1522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66"/>
                </a:solidFill>
                <a:latin typeface="Tahoma"/>
              </a:rPr>
              <a:t>COMERCIO ELECTRÓN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152280" y="404640"/>
            <a:ext cx="87631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¿Qué es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81080" y="16668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Tipos: P2P o C2C          $440.000.000     2009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B2B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B2C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$4.800.00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179280" y="2897280"/>
            <a:ext cx="9145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Ventajas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ahoma"/>
              </a:rPr>
              <a:t>- reduce cost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200" spc="-1" strike="noStrike">
                <a:solidFill>
                  <a:srgbClr val="ffffff"/>
                </a:solidFill>
                <a:latin typeface="Tahoma"/>
              </a:rPr>
              <a:t>evita intermedi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200" spc="-1" strike="noStrike">
                <a:solidFill>
                  <a:srgbClr val="ffffff"/>
                </a:solidFill>
                <a:latin typeface="Tahoma"/>
              </a:rPr>
              <a:t>evita desplazamient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200" spc="-1" strike="noStrike">
                <a:solidFill>
                  <a:srgbClr val="ffffff"/>
                </a:solidFill>
                <a:latin typeface="Tahoma"/>
              </a:rPr>
              <a:t>permite compara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200" spc="-1" strike="noStrike">
                <a:solidFill>
                  <a:srgbClr val="ffffff"/>
                </a:solidFill>
                <a:latin typeface="Tahoma"/>
              </a:rPr>
              <a:t>seguridad físic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179280" y="5187960"/>
            <a:ext cx="914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Inconvenientes: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Tahoma"/>
              </a:rPr>
              <a:t>- insegurida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0B03-7482-40E7-A731-B01F855C8BD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914400" y="15228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cc66"/>
                </a:solidFill>
                <a:latin typeface="Tahoma"/>
              </a:rPr>
              <a:t>EL DOCUMENTO ELECTRÓN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152280" y="293760"/>
            <a:ext cx="876312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•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Creencia               documento            debe ser escrit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autoría               firma ológraf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MX" sz="2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-181080" y="249228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Se confunde            la necesidad de identificar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           con la firma como modo de identific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-181080" y="3800520"/>
            <a:ext cx="9145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Regla universal                       escritura y firma ológraf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un modo fiabl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de atribución de autorí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Hicieron valer esta regla             presupuestos tecnológicos                 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      como el papel o la imprenta 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2084400" y="1052640"/>
            <a:ext cx="974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2540160" y="2744640"/>
            <a:ext cx="87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Line 8"/>
          <p:cNvSpPr/>
          <p:nvPr/>
        </p:nvSpPr>
        <p:spPr>
          <a:xfrm>
            <a:off x="3348000" y="401652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Line 9"/>
          <p:cNvSpPr/>
          <p:nvPr/>
        </p:nvSpPr>
        <p:spPr>
          <a:xfrm>
            <a:off x="3995640" y="5708520"/>
            <a:ext cx="905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10"/>
          <p:cNvSpPr/>
          <p:nvPr/>
        </p:nvSpPr>
        <p:spPr>
          <a:xfrm>
            <a:off x="4822920" y="1015920"/>
            <a:ext cx="828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11"/>
          <p:cNvSpPr/>
          <p:nvPr/>
        </p:nvSpPr>
        <p:spPr>
          <a:xfrm>
            <a:off x="4284720" y="1484280"/>
            <a:ext cx="1041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13"/>
          <p:cNvSpPr/>
          <p:nvPr/>
        </p:nvSpPr>
        <p:spPr>
          <a:xfrm>
            <a:off x="6948360" y="422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9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ADD5-C0AA-4D0E-8FB1-69DB751EA79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668160" y="1773360"/>
            <a:ext cx="8656920" cy="9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Tahoma"/>
              </a:rPr>
              <a:t>Cód. Civ.  Art.1012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“ La firma  de las partes es una condición esencial  para la existencia de todo  acto  bajo  forma  privada”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96720" y="3368520"/>
            <a:ext cx="10296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•   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Aún en pleno auge del documento escrito y firmad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modalidades complementarias: 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-  testig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-  Jurament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En la actualidad         nada impide modalidades complementaria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Line 11"/>
          <p:cNvSpPr/>
          <p:nvPr/>
        </p:nvSpPr>
        <p:spPr>
          <a:xfrm>
            <a:off x="3780000" y="3762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12"/>
          <p:cNvSpPr/>
          <p:nvPr/>
        </p:nvSpPr>
        <p:spPr>
          <a:xfrm>
            <a:off x="2946240" y="5634000"/>
            <a:ext cx="6890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17"/>
          <p:cNvSpPr/>
          <p:nvPr/>
        </p:nvSpPr>
        <p:spPr>
          <a:xfrm>
            <a:off x="625680" y="811080"/>
            <a:ext cx="617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Times New Roman"/>
              </a:rPr>
              <a:t>Códigos del  S.XIX              receptan esta reg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8"/>
          <p:cNvSpPr/>
          <p:nvPr/>
        </p:nvSpPr>
        <p:spPr>
          <a:xfrm>
            <a:off x="3419640" y="1052640"/>
            <a:ext cx="688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4B77-8EB3-424D-B3F8-5524ACADB2E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95280" y="2205000"/>
            <a:ext cx="102963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•   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La Tecnología          reemplaza:   -  papel x medios  electrónic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      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-  bits x átomos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                                     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¿Necesidad de cambio de reglas jurídicas?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Line 5"/>
          <p:cNvSpPr/>
          <p:nvPr/>
        </p:nvSpPr>
        <p:spPr>
          <a:xfrm>
            <a:off x="2627280" y="242892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Line 6"/>
          <p:cNvSpPr/>
          <p:nvPr/>
        </p:nvSpPr>
        <p:spPr>
          <a:xfrm>
            <a:off x="5796000" y="3429000"/>
            <a:ext cx="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D652-86F6-49CC-B998-3FD66E5EFB1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209400" y="452520"/>
            <a:ext cx="24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66"/>
                </a:solidFill>
                <a:latin typeface="Tahoma"/>
              </a:rPr>
              <a:t>DOCUM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250920" y="1722600"/>
            <a:ext cx="8713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Elementos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     a)  la 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docencia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 (doccere) = la capacidad de  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                interpretar y transmitir una 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Declaración de      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      Voluntad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, por ej.: signos de escritur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b)  el </a:t>
            </a:r>
            <a:r>
              <a:rPr b="1" lang="es-AR" sz="2200" spc="-1" strike="noStrike">
                <a:solidFill>
                  <a:srgbClr val="ffffff"/>
                </a:solidFill>
                <a:latin typeface="Tahoma"/>
              </a:rPr>
              <a:t>soporte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             - papel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</a:t>
            </a: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- cinta magnetofónic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268200" y="4618080"/>
            <a:ext cx="9199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La expansión de la regla del documento escrito            provocó          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dejar de distinguir los elementos               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y confundir el documento con el soporte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13"/>
          <p:cNvSpPr/>
          <p:nvPr/>
        </p:nvSpPr>
        <p:spPr>
          <a:xfrm>
            <a:off x="4356000" y="335772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15"/>
          <p:cNvSpPr/>
          <p:nvPr/>
        </p:nvSpPr>
        <p:spPr>
          <a:xfrm>
            <a:off x="6300720" y="490536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6" nodeType="afterEffect" fill="hold" presetClass="entr" presetID="17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9T14:30:23Z</dcterms:created>
  <dc:creator>pc</dc:creator>
  <dc:description/>
  <dc:language>en-US</dc:language>
  <cp:lastModifiedBy>CPCEACABA</cp:lastModifiedBy>
  <dcterms:modified xsi:type="dcterms:W3CDTF">2011-10-18T17:17:35Z</dcterms:modified>
  <cp:revision>93</cp:revision>
  <dc:subject/>
  <dc:title>Protección de los datos personales</dc:title>
</cp:coreProperties>
</file>