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8261-27C0-4C9F-911B-9FA303D7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CF0-7BBA-4B09-A42A-5658B165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EBD-4232-4E04-A093-14FA8901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D46-F446-4B74-9305-30AD6C2F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9B1D-CBA5-45D4-8839-D580C16C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93B3-820C-4857-9D56-B98F92F1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F6F2-6A05-4FBC-B7E7-D01B9E0A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429D-BCE9-4C12-8531-5941D846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5D52-BC4A-48CD-8CDF-AD63E581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AB68-09D1-45F9-B423-A032DFA7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5290-1FB5-42AF-A360-70223139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D9C-17FE-420C-AFE0-5F3AE72D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5AC8-A36B-4DD7-AF67-AE65CEE9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BD50-14C3-4E13-8C58-2276194C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579B-52E2-45C9-94FF-A593107E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4952-2822-467C-9DC6-8DF65ABE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8E82-51B1-4753-9D71-20509F0B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AAF-7F7A-48BE-9343-99FB0B01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894-AB94-43A6-AE27-0ABA05BD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626-EEF0-4E31-9280-3405ECD4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F0C-5565-4BBB-AAFF-13394034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7E1-8C4B-4BEA-9381-1D48422C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7B0-925D-46A1-95DA-667221BF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6E9-6451-4A3D-BD46-839B1F78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50CF-8B7E-4CFE-B8DB-E3D80B53F211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0C29-8526-4DEA-8E87-91621E7B6FF1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000160" y="1428840"/>
            <a:ext cx="5143680" cy="283608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ffff"/>
                </a:solidFill>
                <a:latin typeface="Arial"/>
              </a:rPr>
              <a:t>ADMINISTRACIÓN DE CONSORCIOS DE P.H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98560" y="5429160"/>
            <a:ext cx="7345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c. Santiago A. Pontori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539640" y="1582560"/>
            <a:ext cx="806472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5. De la Conservación de Ascens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osee Libr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última inspec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 intervinient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Responsable Técnic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Matrícul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539640" y="1312920"/>
            <a:ext cx="806472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6. De la Conservación de la Fach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ntigüedad del inmueble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orresponde?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resenta Certificado de Conservación Ley 257/99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Presenta Informe Técnico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l Informe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l Certificado de Conserva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571680" y="1697040"/>
            <a:ext cx="799920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Certificado de Edificio Segu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otorga Certificado de Edificio Seguro?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emisión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lazo en días otorgado por el profesional para efectuar las mejoras observad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392720"/>
          </a:xfrm>
          <a:prstGeom prst="rect">
            <a:avLst/>
          </a:prstGeom>
          <a:noFill/>
          <a:ln w="9360">
            <a:solidFill>
              <a:srgbClr val="ffe70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e701"/>
                </a:solidFill>
                <a:uFillTx/>
                <a:latin typeface="Tahoma"/>
              </a:rPr>
              <a:t>Reglament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Disposición N° 411/GCABA/DGD y PC/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égimen de certificación de edificio segu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Ordenanza N° 45593/CD/91 :Tanques de ag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bligatoriedad de limpieza semestral de tanques de agu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Decreto N° 2045/MCBA/93 : Limpieza de tanques de agu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glamentación y requisitos de habilit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Resolución N° 6/GCABA/APRA/11 : Tanques de agua – certific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isposición N° 3882 GCABA/DGD y PC/10 : Libro control sanit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rdenanza N° 40473/CD/84 : Matafueg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istro de fabricantes y recargad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isposición N° 2614/GCABA/DGDYPC/08 : Matafuegos – vida útil 20 añ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ey N° 161/99 : Ascensor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rdenanza N° 33677/MCBA/77: Calderas- seguro obligatorio – 36128/80 y 37470/8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rdenanza N° 36352/MCBA/80 : Empresas de desinsectación y desinfe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creto N° 8151/MCBA/80 : Reglamenta  – empresas de desinfe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ey N° 257/99 : Mantenimiento edili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creto N° 1233/GCABA/00 :Reglamenta – mantenimiento edilici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ertificado e Informe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isposición N° 3205/GCABA/DGDYPC/10: Reempadronamiento de Administr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isposición 186/10 : Curso de formación de Adm. de Cons. P.H. anual obligato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isposición 230/DGD y PC/10: Declaración jurada seguros vig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Ordenanza N° 41.768/78 :  Salidas de cocheras – semáforos obligatorios ( mas de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vehícul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Resolución COPIME N° HIST 1.1 – norma IRAM 2281 parte I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esta a tierra de sistemas eléctr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ey 3254 art. 9° : Libro de Firm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isposición 6013/09 : Seguridad Integral – ambiental , ART y 1423/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isposición 5331 :Presentac. Pól. Seguros (9/12/10) 45 días hábiles a partir de la contratación o renov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isposición 1875/11 : Cronogramas nuevos Vtos. y el certificado E. Seg. y de no Conform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isposición 2246/11 : Máscaras para incend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isposición 415/11 : Registro de Mantenedores, Fabricantes de Instalaciones fijas contra incend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isposición 2257/11 : Libro de Actas (Consorci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on rúbrica en Coord. de inspecciones ( área de fueg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S OBLIGA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900000" y="1484280"/>
            <a:ext cx="338472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Lib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dminist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muner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Órd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scens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ir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146560" y="1484280"/>
            <a:ext cx="381816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Rúb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. Prop. Inmue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nist.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ob. CA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. Público.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6 Cerrar llave"/>
          <p:cNvSpPr/>
          <p:nvPr/>
        </p:nvSpPr>
        <p:spPr>
          <a:xfrm>
            <a:off x="4427640" y="2133720"/>
            <a:ext cx="360360" cy="1150920"/>
          </a:xfrm>
          <a:custGeom>
            <a:avLst/>
            <a:gdLst>
              <a:gd name="textAreaLeft" fmla="*/ 0 w 360360"/>
              <a:gd name="textAreaRight" fmla="*/ 129960 w 360360"/>
              <a:gd name="textAreaTop" fmla="*/ 50040 h 1150920"/>
              <a:gd name="textAreaBottom" fmla="*/ 11008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9"/>
                  <a:pt x="10800" y="3017"/>
                </a:cubicBezTo>
                <a:lnTo>
                  <a:pt x="10800" y="3089"/>
                </a:lnTo>
                <a:cubicBezTo>
                  <a:pt x="10800" y="4598"/>
                  <a:pt x="16200" y="6106"/>
                  <a:pt x="21600" y="6106"/>
                </a:cubicBezTo>
                <a:cubicBezTo>
                  <a:pt x="16200" y="6106"/>
                  <a:pt x="10800" y="7615"/>
                  <a:pt x="10800" y="9123"/>
                </a:cubicBezTo>
                <a:lnTo>
                  <a:pt x="10800" y="18583"/>
                </a:lnTo>
                <a:cubicBezTo>
                  <a:pt x="10800" y="2009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7 Cerrar llave"/>
          <p:cNvSpPr/>
          <p:nvPr/>
        </p:nvSpPr>
        <p:spPr>
          <a:xfrm>
            <a:off x="4427640" y="3533760"/>
            <a:ext cx="360360" cy="1152720"/>
          </a:xfrm>
          <a:custGeom>
            <a:avLst/>
            <a:gdLst>
              <a:gd name="textAreaLeft" fmla="*/ 0 w 360360"/>
              <a:gd name="textAreaRight" fmla="*/ 129960 w 360360"/>
              <a:gd name="textAreaTop" fmla="*/ 50040 h 1152720"/>
              <a:gd name="textAreaBottom" fmla="*/ 11026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7"/>
                  <a:pt x="10800" y="3013"/>
                </a:cubicBezTo>
                <a:lnTo>
                  <a:pt x="10800" y="3093"/>
                </a:lnTo>
                <a:cubicBezTo>
                  <a:pt x="10800" y="4600"/>
                  <a:pt x="16200" y="6106"/>
                  <a:pt x="21600" y="6106"/>
                </a:cubicBezTo>
                <a:cubicBezTo>
                  <a:pt x="16200" y="6106"/>
                  <a:pt x="10800" y="7613"/>
                  <a:pt x="10800" y="9119"/>
                </a:cubicBezTo>
                <a:lnTo>
                  <a:pt x="10800" y="18587"/>
                </a:lnTo>
                <a:cubicBezTo>
                  <a:pt x="10800" y="2009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6" name="9 Conector recto de flecha"/>
          <p:cNvCxnSpPr/>
          <p:nvPr/>
        </p:nvCxnSpPr>
        <p:spPr>
          <a:xfrm>
            <a:off x="4233960" y="519588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97" name="10 Conector recto de flecha"/>
          <p:cNvCxnSpPr/>
          <p:nvPr/>
        </p:nvCxnSpPr>
        <p:spPr>
          <a:xfrm>
            <a:off x="4233960" y="586584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332000" y="30960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DE REGISTRO DE FIR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19280" y="1247760"/>
            <a:ext cx="77054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idad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is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t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c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ech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mbre y Apellid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oc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léfon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centu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omicilio constituid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d. Post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ertificado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ráct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11 Conector recto"/>
          <p:cNvSpPr/>
          <p:nvPr/>
        </p:nvSpPr>
        <p:spPr>
          <a:xfrm>
            <a:off x="250920" y="50133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36440" y="30960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CONTROL SANITARIO Y AGUA PO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41360" y="1197000"/>
            <a:ext cx="826128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mbre de la Empres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Registr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echa de limpieza de tanqu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del análisis del agua potable:    Apto / No ap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 del Administrador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lar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 del Director Técnic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lar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11 Conector recto"/>
          <p:cNvSpPr/>
          <p:nvPr/>
        </p:nvSpPr>
        <p:spPr>
          <a:xfrm>
            <a:off x="250920" y="50133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5 Conector recto"/>
          <p:cNvSpPr/>
          <p:nvPr/>
        </p:nvSpPr>
        <p:spPr>
          <a:xfrm>
            <a:off x="250920" y="32241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36440" y="30960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CONTROL DE SEGURIDAD EDIL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50920" y="1197000"/>
            <a:ext cx="864216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Datos del Administ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ombre y Apellido o Razón Social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RP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exhibe certificado en sector visible del edificio seg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. Nº 3205/DGDYPC/10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Datos del Profe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ombre y Apellid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N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L/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trícula Nº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gistro N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Encomienda Profesion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ejo Profesional al que pertenece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ítulo habilit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añía ART y/o Seguro de Accidentes Personales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Póliz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5 Conector recto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539640" y="274680"/>
            <a:ext cx="806472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1. De los Matafuegos y Protección Contra Incen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ntidad de Matafueg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mple con la dotación mínima según normativ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mple con el control periódico trimestral según norm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 proveedor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mple con Disposición 2614-DGDyPC/2008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mple con la Recarga Anual obligatoria según normas vigent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Se encuentran los extintores ubicados en espacios comunes, accesibles y visibl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Se verifica que la chapa baliza se adecúa al extinto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Posee nicho de incendi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l nicho está completo según normativ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539640" y="428760"/>
            <a:ext cx="80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2. De las Calde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osee caldera/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encuentran habilitada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Posee Seguro de R.C. para las misma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añía Asegurado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óliza Nº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encimien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l último Certificado de Verificación Periódic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encimiento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Profesional Certific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ítulo habilitante del Profesional Certific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ejo o Colegio Profesional habilitant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rícula N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xiste Planilla de Verificación de mantenimiento Periódic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539640" y="504720"/>
            <a:ext cx="8064720" cy="57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3. De la Limpieza de los Tan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osee Libro de Control Sanitario y Agua Potabl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encuentra en el edifici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stá firmado por el Director Técnic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Apertura ante Escribano Públ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 la última limpieza realizad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xhibe el Certificado según Resolución Nº 6/APRA/11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539640" y="774720"/>
            <a:ext cx="8064720" cy="52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4. De la Desinsec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Realiza Servicio de Desinsectació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 caso afirmativ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xhibe Certificado de Desinsectació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l Servici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azón Social de la Empres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8:58:38Z</dcterms:created>
  <dc:creator>Daniel Cirigliano</dc:creator>
  <dc:description/>
  <dc:language>en-US</dc:language>
  <cp:lastModifiedBy>akowalew</cp:lastModifiedBy>
  <dcterms:modified xsi:type="dcterms:W3CDTF">2011-09-27T21:28:30Z</dcterms:modified>
  <cp:revision>57</cp:revision>
  <dc:subject/>
  <dc:title>Diapositiva 1</dc:title>
</cp:coreProperties>
</file>