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DA2-4EDB-4354-AC9D-891BE871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1C2-86D6-48C0-B9D2-8241428F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481-9FE2-4B9C-B9D7-36F2F07F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AE1-EBC2-4B70-A6FB-DA8982A6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1A0-6B8E-4EFC-BA00-ACE493D0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853-A2E8-40A6-B2DA-EC8BD5E0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6E6-1A58-455F-B494-9DB32A28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AC0-9595-4BB6-8A1E-8DCEDFDC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D93-74EA-41CE-913A-A322BF87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449-39A7-4508-9F7D-CFF09091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A8E-AECC-48A7-A3C5-69C9CE04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B96-8E43-4B79-B4C4-0E70A6A1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1C1C-2B76-4A4B-9262-D3E05C738E4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isión Administración de Recursos Humanos - Mayo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ADAF-7B52-4621-8B94-73AE1BAFEE5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349000"/>
            <a:ext cx="4103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f81bd"/>
                </a:solidFill>
                <a:latin typeface="Calibri"/>
              </a:rPr>
              <a:t>Exposición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ra. C.P./L.A. Daniela Cabrera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ra. C.P.  Gimena Maglio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4f81bd"/>
                </a:solidFill>
                <a:latin typeface="Calibri"/>
              </a:rPr>
              <a:t>Colaboración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ra. C.P.  Yamila Gruñeiro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ra. C.P.  Patricia Micó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4f81bd"/>
                </a:solidFill>
                <a:latin typeface="Calibri"/>
              </a:rPr>
              <a:t>Exposición y Coordinación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Dr. C.P. Antonio Omar Molina</a:t>
            </a:r>
            <a:r>
              <a:rPr b="1" lang="es-ES" sz="16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09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Cómo liquidar haberes  con aplicación del Convenio 589/2010 Encargados de Edific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44" name="7 Marcador de pie de página"/>
          <p:cNvSpPr/>
          <p:nvPr/>
        </p:nvSpPr>
        <p:spPr>
          <a:xfrm>
            <a:off x="75564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Pj04226110000[1]"/>
          <p:cNvPicPr/>
          <p:nvPr/>
        </p:nvPicPr>
        <p:blipFill>
          <a:blip r:embed="rId3"/>
          <a:stretch/>
        </p:blipFill>
        <p:spPr>
          <a:xfrm>
            <a:off x="5003640" y="2492280"/>
            <a:ext cx="374508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90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iquidación final con justa causa Junio 20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2 Marcador de texto" descr=""/>
          <p:cNvPicPr/>
          <p:nvPr/>
        </p:nvPicPr>
        <p:blipFill>
          <a:blip r:embed="rId3"/>
          <a:stretch/>
        </p:blipFill>
        <p:spPr>
          <a:xfrm>
            <a:off x="1835280" y="1557360"/>
            <a:ext cx="510840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95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Liquidación final sin justa causa - Junio 20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2 Marcador de texto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532800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68360" y="1413000"/>
            <a:ext cx="8207280" cy="790560"/>
          </a:xfrm>
          <a:prstGeom prst="rect">
            <a:avLst/>
          </a:prstGeom>
          <a:noFill/>
          <a:ln w="936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50920" y="1197000"/>
            <a:ext cx="8642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3333cc"/>
                </a:solidFill>
                <a:latin typeface="Calibri"/>
              </a:rPr>
              <a:t>¡ Muchas gracia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788000" y="2852640"/>
            <a:ext cx="4105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Verdana"/>
              </a:rPr>
              <a:t>Mail de contacto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entury Gothic"/>
              </a:rPr>
              <a:t>sdanielac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0253f"/>
                </a:solidFill>
                <a:uFillTx/>
                <a:latin typeface="Century Gothic"/>
              </a:rPr>
              <a:t>gimena@mcmc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entury Gothic"/>
              </a:rPr>
              <a:t>yamilabgruneiro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Century Gothic"/>
              </a:rPr>
              <a:t>patricia@estudiogy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Verdana"/>
              </a:rPr>
              <a:t>estudioz@ciudad.com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7 Marcador de pie de página"/>
          <p:cNvSpPr/>
          <p:nvPr/>
        </p:nvSpPr>
        <p:spPr>
          <a:xfrm>
            <a:off x="75564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5 Título"/>
          <p:cNvSpPr/>
          <p:nvPr/>
        </p:nvSpPr>
        <p:spPr>
          <a:xfrm>
            <a:off x="539640" y="2852640"/>
            <a:ext cx="41036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Exposición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ra. C.P./L.A. Daniela Cabrer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ra. C.P.  Gimena Maglio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Colaboración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ra. C.P.  Yamila Gruñeir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ra. C.P.  Patricia Micó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4f81bd"/>
                </a:solidFill>
                <a:latin typeface="Calibri"/>
              </a:rPr>
              <a:t>Exposición y Coordinación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r. C.P. Antonio Omar Molina</a:t>
            </a:r>
            <a:r>
              <a:rPr b="1" lang="es-ES" sz="18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7"/>
          <p:cNvSpPr/>
          <p:nvPr/>
        </p:nvSpPr>
        <p:spPr>
          <a:xfrm>
            <a:off x="539640" y="1125360"/>
            <a:ext cx="800100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3399"/>
                </a:solidFill>
                <a:latin typeface="Calibri"/>
              </a:rPr>
              <a:t>ESQUEMA GLOBAL DEL TA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28"/>
          <p:cNvSpPr/>
          <p:nvPr/>
        </p:nvSpPr>
        <p:spPr>
          <a:xfrm>
            <a:off x="539640" y="1916280"/>
            <a:ext cx="8136000" cy="4105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cc"/>
                </a:solidFill>
                <a:latin typeface="Calibri"/>
              </a:rPr>
              <a:t>Aspectos formales de la Relación Labo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f497d"/>
                </a:solidFill>
                <a:latin typeface="Calibri"/>
              </a:rPr>
              <a:t>Alta Empleador al sistema – Alta emple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cc"/>
                </a:solidFill>
                <a:latin typeface="Calibri"/>
              </a:rPr>
              <a:t>Aspectos teóricos de la Remune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f497d"/>
                </a:solidFill>
                <a:latin typeface="Calibri"/>
              </a:rPr>
              <a:t>Convenio de 589/2010 - Conceptos fijos y variables remunerativos – Marco legal vigente – otros concept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3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cc"/>
                </a:solidFill>
                <a:latin typeface="Calibri"/>
              </a:rPr>
              <a:t>Aspectos Prácticos de la remune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34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f497d"/>
                </a:solidFill>
                <a:latin typeface="Calibri"/>
              </a:rPr>
              <a:t>Caso práctico de liquidación sobre Convenio de 589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f497d"/>
                </a:solidFill>
                <a:latin typeface="Calibri"/>
              </a:rPr>
              <a:t>Liquidación mens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f497d"/>
                </a:solidFill>
                <a:latin typeface="Calibri"/>
              </a:rPr>
              <a:t>S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f497d"/>
                </a:solidFill>
                <a:latin typeface="Calibri"/>
              </a:rPr>
              <a:t>Despido con justa ca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349"/>
              </a:spcBef>
              <a:buClr>
                <a:srgbClr val="1f497d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1f497d"/>
                </a:solidFill>
                <a:latin typeface="Calibri"/>
              </a:rPr>
              <a:t>Despido sin justa ca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539640" y="2852640"/>
            <a:ext cx="799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539640" y="1916280"/>
            <a:ext cx="7993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31"/>
          <p:cNvSpPr/>
          <p:nvPr/>
        </p:nvSpPr>
        <p:spPr>
          <a:xfrm>
            <a:off x="539640" y="4149720"/>
            <a:ext cx="7993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27"/>
          <p:cNvSpPr/>
          <p:nvPr/>
        </p:nvSpPr>
        <p:spPr>
          <a:xfrm>
            <a:off x="539640" y="1125360"/>
            <a:ext cx="8001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197000"/>
            <a:ext cx="76327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33399"/>
                </a:solidFill>
                <a:latin typeface="Arial"/>
              </a:rPr>
              <a:t>ENCARGADOS DE EDIFICIOS: Legislación Vig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Ley de propiedad Horizontal 13.5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Ley del Personal de Casas de Rentas y Propiedad Horizontal 12.9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alibri"/>
              </a:rPr>
              <a:t>CCT 589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Arial"/>
              </a:rPr>
              <a:t>LEY 12.981: Aspectos mas impor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Calibri"/>
              </a:rPr>
              <a:t>Art. 2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oda persona que trabaja en un inmueble, desempeñando en forma habitual y exclusiva, por cuenta del propietario y usufructuario, las tareas de cuidado, vigilancia y demás servicios accesorios del mismo, será considerado a  los efectos de esta ley, encargado de casa de renta.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Calibri"/>
              </a:rPr>
              <a:t>BENEFICIOS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alibri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Descanso no inferior a 12 hs (Dto.regl. de 21 a 7 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alibri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Descanso intermedio de 4 h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alibri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Descanso semanal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de 35 hs (e/sábado 13 hs y domingo 24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Calibri"/>
              </a:rPr>
              <a:t>Descanso anua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ías háb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12  con antigüedad 5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0  con antigüedad entre 5 y 10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4  con antigüedad entre 10 y 20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8  con antigüedad superior a 20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Queda prohibido el desempeño de la suplencia por la esposa e hijos del titular. (Art. 3, ultimo párrafo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59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Calibri"/>
              </a:rPr>
              <a:t>LEY 12.981: Aspectos mas importantes (continuaci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alibri"/>
              </a:rPr>
              <a:t>OBLIGACIONES</a:t>
            </a:r>
            <a:r>
              <a:rPr b="1" lang="es-ES_tradn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Del empleado: Art.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Del empleador: Art.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alibri"/>
              </a:rPr>
              <a:t>CAUSA DE CESANT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Condena Judic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Abandono del servic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Enfermedad contagios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Dolo o culp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alibri"/>
              </a:rPr>
              <a:t>ESTABILIDA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A partir de los 60 días laborado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Indemnización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3 meses de Preavis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1 mes de sueldo por cada año labora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Dto. Reglamentario. Si gozara de uso de habitación: 30 días de antelación para el desaloj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Calibri"/>
              </a:rPr>
              <a:t>ACCIDENTES O ENFERMEDAD INCULPAB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Derecho a la retribución integra de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3 meses con antigüedad hasta 5 añ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6 meses con mayor antigüe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27"/>
          <p:cNvSpPr/>
          <p:nvPr/>
        </p:nvSpPr>
        <p:spPr>
          <a:xfrm>
            <a:off x="539640" y="11970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Calibri"/>
              </a:rPr>
              <a:t>CCT 589/2010 – ENCARGADOS DE EDIFICIOS – PROP.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1f497d"/>
                </a:solidFill>
                <a:latin typeface="Calibri"/>
              </a:rPr>
              <a:t>VIGENCIA TEMPORAL: 2 año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1f497d"/>
                </a:solidFill>
                <a:latin typeface="Calibri"/>
              </a:rPr>
              <a:t>CLASIFICADOR DE EDIFICIO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1f497d"/>
                </a:solidFill>
                <a:latin typeface="Calibri"/>
              </a:rPr>
              <a:t>CLASIFICADOR DE EDIFICIOS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1f497d"/>
                </a:solidFill>
                <a:latin typeface="Calibri"/>
              </a:rPr>
              <a:t>CATEGORIA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1f497d"/>
                </a:solidFill>
                <a:latin typeface="Calibri"/>
              </a:rPr>
              <a:t>BONIFICACION POR ANTIGÜE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1f497d"/>
                </a:solidFill>
                <a:latin typeface="Calibri"/>
              </a:rPr>
              <a:t>LICENCIAS ESPECIAL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1f497d"/>
                </a:solidFill>
                <a:latin typeface="Calibri"/>
              </a:rPr>
              <a:t>Vacacione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1f497d"/>
                </a:solidFill>
                <a:latin typeface="Calibri"/>
              </a:rPr>
              <a:t>DIA DEL GREMI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Calibri"/>
              </a:rPr>
              <a:t>2 de Octubr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1f497d"/>
                </a:solidFill>
                <a:latin typeface="Calibri"/>
              </a:rPr>
              <a:t>FERIADOS NACIONAL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alibri"/>
              </a:rPr>
              <a:t>al 100% o descanso de 36 hs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1f497d"/>
                </a:solidFill>
                <a:latin typeface="Calibri"/>
              </a:rPr>
              <a:t>CONTRIBUCIONES Y APORTES MENSUAL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Calibri"/>
              </a:rPr>
              <a:t>CAJA DE PROTECCION A LA FAMILIA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Calibri"/>
              </a:rPr>
              <a:t>Empleador 1,5%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Calibri"/>
              </a:rPr>
              <a:t>Empleado 1%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Calibri"/>
              </a:rPr>
              <a:t>PROTECCION DE MATERNIDAD, VIDA, DESEMPLEO Y DISCAPACIDA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Calibri"/>
              </a:rPr>
              <a:t>Empleador 2,5%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Calibri"/>
              </a:rPr>
              <a:t>Empleado 1%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Calibri"/>
              </a:rPr>
              <a:t>SERVICIO DE CONCILIACION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Calibri"/>
              </a:rPr>
              <a:t>Empleador 0,5%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27"/>
          <p:cNvSpPr/>
          <p:nvPr/>
        </p:nvSpPr>
        <p:spPr>
          <a:xfrm>
            <a:off x="539640" y="11970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Calibri"/>
              </a:rPr>
              <a:t>ACUERDOS DE RECOMPOSICION SALARIAL ENCARGADOS DE EDIFICIOS – PROP.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Disp. 515/2010 (DNRT): Asig. no rem. Enero y Febrero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esol. 224/2011 (ST): Escalas salariales Marzo y Abril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Resol. 223/2011 (ST): Ultimo acuer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MAYO 2011: Incremento 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Agosto 2011: Incremento 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Octubre 2011: Incremento 7,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Vigilador nocturno sin vivienda: Básico $. 3.260.- a partir del 1º de marzo 2011 – Debe aplicarse los incrementos posterio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27"/>
          <p:cNvSpPr/>
          <p:nvPr/>
        </p:nvSpPr>
        <p:spPr>
          <a:xfrm>
            <a:off x="539640" y="119700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3399"/>
                </a:solidFill>
                <a:latin typeface="Calibri"/>
              </a:rPr>
              <a:t>ESQUEMA GLOBAL DEL TA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39640" y="1916280"/>
            <a:ext cx="7848720" cy="2520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3333cc"/>
                </a:solidFill>
                <a:latin typeface="Calibri"/>
              </a:rPr>
              <a:t>Aspectos Prácticos de la remune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80"/>
                </a:solidFill>
                <a:latin typeface="Calibri"/>
              </a:rPr>
              <a:t>Caso práctico de liquidación sobre Convenio 589/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80"/>
                </a:solidFill>
                <a:latin typeface="Calibri"/>
              </a:rPr>
              <a:t>Acuerdo V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80"/>
                </a:solidFill>
                <a:latin typeface="Calibri"/>
              </a:rPr>
              <a:t>Liquidación men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80"/>
                </a:solidFill>
                <a:latin typeface="Calibri"/>
              </a:rPr>
              <a:t>S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80"/>
                </a:solidFill>
                <a:latin typeface="Calibri"/>
              </a:rPr>
              <a:t>Despido con justa c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80"/>
                </a:solidFill>
                <a:latin typeface="Calibri"/>
              </a:rPr>
              <a:t>Despido sin justa ca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6280"/>
            <a:ext cx="784872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4621320"/>
            <a:ext cx="770580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3333cc"/>
                </a:solidFill>
                <a:uFillTx/>
                <a:latin typeface="Arial"/>
              </a:rPr>
              <a:t>DATOS DEL EJERC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mpleado: Juan Discr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echa de ingreso: 01/04/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tegoría: 2º categ. – Edificio con piscina y SUM. Cuenta con un pequeño jardín y ga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rario laboral: 7 a 12 hs y 16 a 20 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80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cibo Junio 20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2 Marcador de texto" descr=""/>
          <p:cNvPicPr/>
          <p:nvPr/>
        </p:nvPicPr>
        <p:blipFill>
          <a:blip r:embed="rId3"/>
          <a:stretch/>
        </p:blipFill>
        <p:spPr>
          <a:xfrm>
            <a:off x="1692360" y="1413000"/>
            <a:ext cx="4892760" cy="5068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 Imagen" descr="http://www.consejo.org.ar/images/logohomeTransp.gif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720720"/>
          </a:xfrm>
          <a:prstGeom prst="rect">
            <a:avLst/>
          </a:prstGeom>
          <a:ln w="0">
            <a:noFill/>
          </a:ln>
        </p:spPr>
      </p:pic>
      <p:sp>
        <p:nvSpPr>
          <p:cNvPr id="85" name="7 Marcador de pie de página"/>
          <p:cNvSpPr/>
          <p:nvPr/>
        </p:nvSpPr>
        <p:spPr>
          <a:xfrm>
            <a:off x="611280" y="6165720"/>
            <a:ext cx="792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253f"/>
                </a:solidFill>
                <a:latin typeface="Calibri"/>
              </a:rPr>
              <a:t>COMISION ADMINISTRACION DE RR. HH.    -    Junio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2200" y="2349360"/>
            <a:ext cx="779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Recibo 1º Aguinaldo - Junio 20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2 Marcador de texto" descr=""/>
          <p:cNvPicPr/>
          <p:nvPr/>
        </p:nvPicPr>
        <p:blipFill>
          <a:blip r:embed="rId3"/>
          <a:stretch/>
        </p:blipFill>
        <p:spPr>
          <a:xfrm>
            <a:off x="1619280" y="1484280"/>
            <a:ext cx="539892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1:34:39Z</dcterms:created>
  <dc:creator>.</dc:creator>
  <dc:description/>
  <dc:language>en-US</dc:language>
  <cp:lastModifiedBy>mcalvarez</cp:lastModifiedBy>
  <dcterms:modified xsi:type="dcterms:W3CDTF">2011-06-21T23:57:19Z</dcterms:modified>
  <cp:revision>126</cp:revision>
  <dc:subject/>
  <dc:title>Diapositiva 1</dc:title>
</cp:coreProperties>
</file>