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187-EC95-4B74-A1CB-1F0579E8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C3E-D4C6-48FD-B796-F7627A07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1A-7109-4F92-9CD3-2C947FAA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750-9EFC-42AC-B417-4F70975B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184-8802-41E3-89C9-AF2CFE22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254-8B1F-421B-80F9-7C3FE7F5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B2FA-3F71-4890-8BEC-57CE0EB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C3AC-B8D1-49CF-9678-4C2E899B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FCE4-9FA7-4B23-B442-949BAA41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3998-2DB2-49BD-B49E-BC6F2E2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D4BF-DDB5-4831-BEC9-5AB258D7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458-4893-4623-B8D1-C362B95C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129A-47AE-4572-88F6-4AC34A2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EEBB-F817-4680-AB78-17E3F45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D721-F181-4B49-AC74-D228938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C76-2946-4D34-85A9-CC880DFE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879E-EF5D-4CC9-89EA-B124AB33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8F0-58C3-4D4D-8AFF-21641CDD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6B4-CC4C-45E8-966C-36CDBA2D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67A9-8284-4F8F-A5AA-7BE1E7D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6C4-A2C6-4F64-B987-E8E52F9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945-6EDC-49F4-8FDA-BB710BE1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0D3-AD86-4B35-847D-B99FF1FF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A31-FB71-47D6-91CD-A1FF47D5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C7C7-AB94-4100-9BAF-D70F635514F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864-3FF0-478A-AAC3-8283AF5E7AF6}" type="slidenum"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420000"/>
                </a:solidFill>
                <a:latin typeface="Times New Roman"/>
              </a:rPr>
              <a:t>Autonomía Judicial de la Ciudad de Buenos Aires</a:t>
            </a:r>
            <a:r>
              <a:rPr b="0" lang="es-AR" sz="5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Una deuda con la Constitución y con la Soberanía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E6E1-CAF4-44F8-AEC3-B9FCCD3DFF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Glosas Marginales a Ley 24.588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iola el art. 129 de la Constitución 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fecta la soberanía del pueblo en ejercicio del poder constituy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 ha sido declarada in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iola igualdad ante la ley de los habitantes de la Ciu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95E-A4D6-410D-A493-32CDAADEA3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Glosas marginales a la Ley 24.588</a:t>
            </a: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gula aspectos que no guardan relación con los intereses del Estado Nacional en la Ciudad de Buenos A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or imperio del art. 75 inc. 12 CN nada impide otorgar posibilidades de aplicar derecho común a los jueces locales (divorcios, contratos), con la sola detracción de las competencias federales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586-A463-4E0B-93A8-AF8E7A845D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Constituyente de la Ciudad Autónoma (2/8/1996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lara no tener otros limites que los que surgen del art. 129 de la Constitución 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chaza por inconstitucional las limitaciones de la Ley Cafiero y su reforma por Ley 24.620 por limitativas de la autonomía pl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xhorta al Congreso Nacional a modificar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2EB-BC28-4314-B219-61F6F15722B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Organización del Poder Judicial CAB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t. 106 Constitución C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tribuye al Poder Judicial local las causas que versen sobre puntos regidos por la Constitución, convenios que celebre la Ciudad, por los códigos de fondo y por las leyes nacionales y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B51-5E39-4AFD-9013-8BE414CCFEF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Organización del Poder Judicial CABA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7: Orgánica del Poder Jud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31: Consejo de la Magist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54: Jurado de Enjuic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1 (luego Ley 1903) Ministerio Pu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189: Código Cont. Administr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12: Procedimiento Contra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145: Amp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90E-AC5D-4E89-A8A1-DD345379C7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Organización del Poder Judicial CAB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 acuerdo a los limites de la Ley 24.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stitución del Tribunal Superior de Justi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rganización de los fueros Contencioso Administrativo y Tributario y Contravencional y de F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796-130B-45F9-971E-19EEE66B0E1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Situación actual en la CAB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viv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JUSTICIA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JUSTICIA “NACION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JUSTICIA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orteños no tienen intervención exclusiva en la selección de magistrados de la Justici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B1F-3992-424F-9BDE-8C0C5F58DA8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STATUS JURIDICO DE LA CAB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vinc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iudad – Est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tatus espec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02C-4F12-4860-A62D-2166729342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REGIMEN ESPECIAL SURGIDO DE LA CONSTITUC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Basado en la autonomía plena con facultades propias (art. 129 C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riginada en el ejercicio del poder constituyente fruto de la soberanía pop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E64-EB0A-49A2-8CBD-205CD81F94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REGIMEN ESPECIAL CABA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ige diputados (art. 45 C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ige senadores (art. 54 C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ujeto de coparticipación federal (art. 75 inc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asible de intervención federal (art. 75 inc. 30 y 99 inc. 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uede conservar organismos de seguridad social (art. 125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683-872A-444E-B6CD-A15CDB8643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scenas del capitulo anteri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880: Capitalización de la Ciudad de Buenos A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1886: Ley 1893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eveía una justicia ordinaria para el ámbito de la Capital Federal separada de la nacional (art.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 administración de justicia en la Capital de la República, será desempeñada por las autoridades siguientes: alcaldes, jueces de paz, cámara de paz, jueces de mercado, jueces de 1ª instancia, cámara de apelaciones y demás funcionarios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A75-FE60-47C2-9E2B-245689731E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RETROCESO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EGATIVA A LA CABA DE COMPETENCIA ORIGINARIA DE LA CORTE SUPREM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TS. 116 Y117 CN no la incluy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FF6-92C3-41C7-8B3B-2BA86ED31D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AVANCE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VENIOS DE TRANS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1) Ley 25752 – Ley 597: Jueces locales entienden en tenencia, portacion y suministro de armas de uso civ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17-CCE0-41B2-A947-75AA7D5FDCC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AVANCE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venios de Trans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2) Ley 26.357 – Ley 2257: Lesiones en riña, abandono de personas, exhibiciones obscenas, amenazas, violación de domicilio, usurpación, dañ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9C1-6CF5-4EE5-8ACC-9AC8862473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AVANC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gislación originada en los conven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303: Código Procesal P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451: Régimen Procesal Penal Juve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62D-C8C7-4D07-99EF-85823051BE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DEUD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ibunales de Vecindad (Cl. Trans. 12 inc.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ibunales de Consu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Justicia de menor cuantía civil y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ibunal Electoral (actual TSJ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179-9D3E-4414-9866-7923EDDBE3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DESAFI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GRO DE CONSEN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SISTENCIAS JUD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VOLUNTAD Y DECISION POLI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251-0F94-4A6B-BDD5-73D3946F4F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FUNDAMENT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UMPLIMIENTO DEL MANDATO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0A8-7DF7-4F90-A814-270DAFF0D48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HERRAMIENTA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láusula Transitoria 13º Const. C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Faculta al Gobierno de la Ciudad para convenios de transferencia de los jueces nacionales conservando su inamovilidad y jerarqu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FA2-B30E-4BD5-BD7D-7909E440FEA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HERRAMIENTA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láusula Transitoria 13º Const. CA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ntempla la posibilidad de acuerdos en términos diferentes para una TRANSFERENCIA RACIONAL de la función judicial (transferir competenci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be contemplarse transferencia de partidas o reasignación recursos (75 inc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6309-D239-4237-A7D4-B55902634A4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420000"/>
                </a:solidFill>
                <a:latin typeface="Times New Roman"/>
              </a:rPr>
              <a:t>REALIDAD JURIDICA Y POLITICA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CIUDAD AUTONOMA DE BU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IRES ES EL VIGESIMO CUA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STADO DE LA FEDER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730-E6AD-4D8E-A137-7BBDBDD8BC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scenas del Capitulo Anterior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1950: Ley 13998 (reglamenta art. 94 de la Constitución Nacional de 1949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Integra a los jueces ordinarios de la Capital Federal al Poder Judicial de la 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la capital de la Republica, los jueces tienen carácter nacional” (art. 94 C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93C-A969-42D4-9FD9-F4A3886263C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IMPERATIVO ETIC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NACION HA PROPENDIDO Y PROPENDE A DAR TRATO IGUALITARIO A TODOS LOS ESTADOS SUBNACIONALES, EVITANDO DISCRIMINACIONES ODIOSAS QUE ALIENTEN LA IDEA DE QUE CONVIVEN EN SU SENO HIJOS E HIJASTR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SJ, Causa 5407/07, 14/09/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86C-5D83-4860-B2ED-71E8F3177AE9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scenas del capitulo anteri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1958: Decreto Ley 1285/58 (aun vig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rma de f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atifica situación an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rganiza Justicia Nacional tras restablecimiento de la Constitución de 18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CCF-0E9C-49AC-A405-DBA31F99AF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La Ciudad Autónoma. Génesi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forma Constitución Nacional 19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t. 129: La Ciudad de Buenos Aires tendrá un régimen de gobierno autónomo, con facultades propias de legislación y jurisdicción (…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A20-53AC-4D5D-A3DC-1C4973938D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La Ciudad Autónoma. Génesi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una ley garantizará los intereses del Estado Nacional, mientras la ciudad de Buenos Aires sea Capital de la Nació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CE7-5519-4A7A-A945-F5351B3BAD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l nacimiento de Osir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4.588 (Ley Cafiero)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que garantiza los intereses del Estado Nacional en la Ciudad de Buenos A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andada dictar por el art. 129 de la Constitución Nacional de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2FE-2136-4054-ABE1-199E353815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l nacimiento de Osir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4.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t. 8: La justicia nacional ordinaria de la Ciudad de Buenos Aires mantendrá su actual jurisdicción y competencia continuando a cargo del Poder Judicial de la 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(párrafo prime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D55-0615-4929-A7B1-7418901EA8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El nacimiento de Osiris</a:t>
            </a:r>
            <a:r>
              <a:rPr b="0" lang="es-AR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4.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t. 8 (párrafo segun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Ciudad de Buenos Aires tendrá facultades propias de jurisdicción en materia de vecindad, contravencional y de faltas, contencioso-administrativa y tributaria locales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Carlos Tambussi - Procuracion General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72C-F344-46FD-9207-6DF2CE7B4B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8:13:34Z</dcterms:created>
  <dc:creator>user</dc:creator>
  <dc:description/>
  <dc:language>en-US</dc:language>
  <cp:lastModifiedBy>user</cp:lastModifiedBy>
  <dcterms:modified xsi:type="dcterms:W3CDTF">2011-06-17T21:03:45Z</dcterms:modified>
  <cp:revision>10</cp:revision>
  <dc:subject/>
  <dc:title>Autonomia Judicial de la Ciudad de Buenos Aires </dc:title>
</cp:coreProperties>
</file>